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09B-00CA-4E3C-B99B-6962FEB1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233-85C8-453A-8A01-39F70BFA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42C-95E9-4BD1-B6B8-5606E621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AAF-F55F-4038-9E25-72B2CB0B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00B-B8A4-4194-B500-AF77847C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931-0702-4CF5-B42C-FF42215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F75-411F-49DC-8F95-834D1B9A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E2D-D26D-4197-A0FB-6666E900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6629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7D8-38D1-4DD3-A158-520DBEAE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C30-8739-4AE0-8C57-C6C8C33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19C-D86B-47A1-BEB4-9BA5165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141920"/>
            <a:ext cx="6629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F06-6BCA-4C18-9FAF-FFE0A354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0822-5D38-4CFB-AEA6-384CC06D4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762120"/>
            <a:ext cx="8153280" cy="228600"/>
          </a:xfrm>
          <a:prstGeom prst="roundRect">
            <a:avLst>
              <a:gd name="adj" fmla="val 16634"/>
            </a:avLst>
          </a:prstGeom>
          <a:gradFill rotWithShape="0">
            <a:gsLst>
              <a:gs pos="0">
                <a:srgbClr val="ff0000"/>
              </a:gs>
              <a:gs pos="100000">
                <a:srgbClr val="98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9080" bIns="19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sto MT"/>
              </a:rPr>
              <a:t>Section 3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New%20meatball" descr=""/>
          <p:cNvPicPr/>
          <p:nvPr/>
        </p:nvPicPr>
        <p:blipFill>
          <a:blip r:embed="rId2"/>
          <a:stretch/>
        </p:blipFill>
        <p:spPr>
          <a:xfrm>
            <a:off x="457200" y="115920"/>
            <a:ext cx="685800" cy="5698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696080" y="304920"/>
            <a:ext cx="916200" cy="31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PL and STEP-N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562720"/>
            <a:ext cx="19810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Darrol Houser J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p Supervis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et Propulsion Labora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#03-0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We Star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DAL VMC with a 32MP 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6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95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 meg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0 x 480 screen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FP (shop floor programm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We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hange in machine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the computer side with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D K6 2 400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98se (Windows XP Pro pe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meg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0 x 600 screen resolution (new adapter pe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seat Virtual Gibbs nlo (network license option pe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cap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s to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otherboard (OEM upgrad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meg r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72 pin 64 meg simm’s 4@ $29.99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Rom dr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Video adap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ours @ $78.00h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ning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multi-axi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gram time    105m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tup time         90m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un time           16.5m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-NC multi-axis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time     12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 time          90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time            23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4191120"/>
          <a:ext cx="2743200" cy="24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191120"/>
                    <a:ext cx="27432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486400" y="4191120"/>
          <a:ext cx="2743200" cy="24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191120"/>
                    <a:ext cx="27432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 For J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el fidelity #1 iss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-Plan, Who and W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itial origin location from ST-Plan to ST-Machine as viewed from the mach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orporating JPL’s machining strategies for consistent and repeatable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ing machine upgr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inued funding for develop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3:02:02Z</dcterms:created>
  <dc:creator>Darrol Houser</dc:creator>
  <dc:description/>
  <dc:language>en-US</dc:language>
  <cp:lastModifiedBy>hardwick</cp:lastModifiedBy>
  <dcterms:modified xsi:type="dcterms:W3CDTF">2003-04-01T16:46:01Z</dcterms:modified>
  <cp:revision>26</cp:revision>
  <dc:subject/>
  <dc:title>JPL and STEP-NC</dc:title>
</cp:coreProperties>
</file>