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88175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76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905-2B39-44F7-9EED-DB059FA238D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32040" y="44035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5928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5928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80920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2040" y="440352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25C-6BE2-4ACE-A4BE-84F4E0B0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01C-DADC-404F-A013-774FE930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A4D-961B-40E1-8813-E6A025A9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E41-9A0A-4640-9B49-5CC9EC36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B48-2D94-4EFA-ABE8-9B5FDABE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9F5-4BAE-4C68-B15E-487AE6BB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2ED-7F8A-4CC1-A89D-9640ADC7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890-80F3-43D6-BDA7-434876B6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3B1-29F2-4977-B240-8C61E940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F4F-3782-4115-82ED-FEB22CA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DFE-B901-4498-A3DC-967C398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2DE-31D0-4B72-AF17-EE83732F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47676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689E-E7A7-4F96-B49A-57B6AE9E9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97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97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7913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 PARAMETRIC  EVALUATOR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DVANCED  INTEGRATED MATHEMATICAL  SYSTEM</a:t>
            </a:r>
            <a:br>
              <a:rPr sz="4000"/>
            </a:br>
            <a:br>
              <a:rPr sz="28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Brief Overview &amp; NC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600" y="5932440"/>
            <a:ext cx="2100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m Me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eing Technical F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S, 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5160" y="49860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450720"/>
            <a:ext cx="3485880" cy="107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87600" y="5943600"/>
            <a:ext cx="477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Unpublished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rights reserved under the copyright laws by The Boeing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aper-1" descr=""/>
          <p:cNvPicPr/>
          <p:nvPr/>
        </p:nvPicPr>
        <p:blipFill>
          <a:blip r:embed="rId1"/>
          <a:srcRect l="571" t="564" r="571" b="2736"/>
          <a:stretch/>
        </p:blipFill>
        <p:spPr>
          <a:xfrm>
            <a:off x="457200" y="53352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49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DOW SURFACES ON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FUNCTIONAL OFFSET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aper-2" descr=""/>
          <p:cNvPicPr/>
          <p:nvPr/>
        </p:nvPicPr>
        <p:blipFill>
          <a:blip r:embed="rId1"/>
          <a:srcRect l="571" t="910" r="571" b="3914"/>
          <a:stretch/>
        </p:blipFill>
        <p:spPr>
          <a:xfrm>
            <a:off x="457200" y="720720"/>
            <a:ext cx="8229600" cy="5603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73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DOW SURFACES ON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 FUNCTIONAL OFFSET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onic-extension-1" descr=""/>
          <p:cNvPicPr/>
          <p:nvPr/>
        </p:nvPicPr>
        <p:blipFill>
          <a:blip r:embed="rId1"/>
          <a:srcRect l="1488" t="1479" r="2404" b="2412"/>
          <a:stretch/>
        </p:blipFill>
        <p:spPr>
          <a:xfrm>
            <a:off x="304920" y="38088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E CONTROLLED CONIC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DEPENDENT CURVE 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4200" y="3946680"/>
            <a:ext cx="28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ee-Point/Two-S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ic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 and Tan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os With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7320" y="4114800"/>
            <a:ext cx="249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 Surfac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m of Base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4600" y="5715000"/>
            <a:ext cx="168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op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imple-loft" descr=""/>
          <p:cNvPicPr/>
          <p:nvPr/>
        </p:nvPicPr>
        <p:blipFill>
          <a:blip r:embed="rId1"/>
          <a:srcRect l="1488" t="1479" r="2404" b="2389"/>
          <a:stretch/>
        </p:blipFill>
        <p:spPr>
          <a:xfrm>
            <a:off x="228600" y="1595520"/>
            <a:ext cx="7848720" cy="4957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3808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NTIONAL CONTROL-LINE LOFT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cedural Defin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1371600"/>
            <a:ext cx="26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ic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ee Point/Two S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4440" y="191304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 Curv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4560" y="55864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 Curv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36000" y="564660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pe Func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1960" y="284328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pe Func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2209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276720"/>
            <a:ext cx="5562360" cy="1904760"/>
          </a:xfrm>
          <a:custGeom>
            <a:avLst/>
            <a:gdLst/>
            <a:ahLst/>
            <a:rect l="l" t="t" r="r" b="b"/>
            <a:pathLst>
              <a:path w="3504" h="1200">
                <a:moveTo>
                  <a:pt x="0" y="1200"/>
                </a:moveTo>
                <a:cubicBezTo>
                  <a:pt x="1460" y="700"/>
                  <a:pt x="2920" y="200"/>
                  <a:pt x="35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800" y="59515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 Curv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63832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2960" y="36576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ic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 (Ty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143000" y="495288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781320" y="38098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4290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91120" y="5181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ntional Control-Line Loft Surface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mple For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- Conic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ilar for Conventional Loft Cubic, Rul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95160" y="304560"/>
            <a:ext cx="7763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AL SURFAC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62120" y="2209680"/>
                <a:ext cx="4305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z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z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3429000"/>
                <a:ext cx="2911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t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38080" y="4495680"/>
                <a:ext cx="5753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xz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711360" y="1766880"/>
            <a:ext cx="279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ic Curve (El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9718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icitly (ve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1292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ic Surface  (NOTE - Not Parametr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3367080"/>
            <a:ext cx="388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Defined by Simultaneous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Systems of Non-Linear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3120" y="228600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dentity Matrix Syst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5160" y="152280"/>
            <a:ext cx="7763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/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y/Limitless Curve &amp; Surface Definitions (Invent Your Own), but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Have this Flexibility and Still Maintain Contro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arametric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 of Standardization Without Change/Approxi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s a Single Generic Mathematical Representation for Cu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s a Single Generic Mathematical Representation for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m/Faces/Solids -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dvanced Integrated Mathematical System.  Generic Mathematical Operations System Based on PE Standardization, Plu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rface/Surface Inter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imum Distance from Point to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ve and Surface 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76240" y="590400"/>
            <a:ext cx="7524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ic Curve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14680" y="1801800"/>
          <a:ext cx="62388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801800"/>
                    <a:ext cx="6238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914400" y="3703680"/>
            <a:ext cx="7524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ic Surface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890800" y="5568840"/>
          <a:ext cx="3524400" cy="6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0" y="5568840"/>
                    <a:ext cx="352440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868560" y="2822400"/>
          <a:ext cx="1760760" cy="63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8560" y="2822400"/>
                    <a:ext cx="17607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62120" y="4707000"/>
          <a:ext cx="7954920" cy="93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707000"/>
                    <a:ext cx="79549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9880" y="1600200"/>
            <a:ext cx="213372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581280"/>
            <a:ext cx="1752840" cy="8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IMS 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06216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7280" y="380880"/>
            <a:ext cx="849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/P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DOWN-STREAM APPLICATIO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24280" y="274320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2697120"/>
            <a:ext cx="169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080" y="1523880"/>
            <a:ext cx="1466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43376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67280" y="4876920"/>
            <a:ext cx="18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2160" y="4876920"/>
            <a:ext cx="18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489096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5334120"/>
            <a:ext cx="12956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9720" y="5272200"/>
            <a:ext cx="119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5319720"/>
            <a:ext cx="12956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58520" y="5257800"/>
            <a:ext cx="119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5319720"/>
            <a:ext cx="12952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3640" y="5257800"/>
            <a:ext cx="119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489096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489096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600200"/>
            <a:ext cx="213372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1812960"/>
            <a:ext cx="169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wn-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3"/>
            <a:endCxn id="158" idx="1"/>
          </p:cNvCxnSpPr>
          <p:nvPr/>
        </p:nvCxnSpPr>
        <p:spPr>
          <a:xfrm>
            <a:off x="3200040" y="232380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6477120" y="1828800"/>
            <a:ext cx="14475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18288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920" y="3124080"/>
            <a:ext cx="346320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anced Curve &amp; Surface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tics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er Bea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ational Fluid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al CA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5160" y="380880"/>
            <a:ext cx="7763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- INTERNAL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DONNELL DOUGLAS CORPORATION (MDC)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Brief Hist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/PE Invented and Developed at MDC to Unify MDC’s CAD/CAM Systems Without Laborious and Error-Prone Redefinitions, Changes, Translations, Approximations, Etc. (CADD, CALL, MDCAPT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an Development in Early 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Production Implementation in 1975 with Bas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Production Curves and Surfaces Operational by 1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Into Corporate-Wide APT Systems in 1978 (C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Into All Major MDC CAD/CAM Systems by Early 198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Publicly Released Presentation; January 1984.  Tom Melson, CAM-I, Tucson, 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5160" y="609480"/>
            <a:ext cx="776304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- WITH CATI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re V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 Defined External to MDC in CATIA (Mid 1980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ing Product Definition into MDC’s CAD/CAM Systems for Processing (Analysis, Machining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IA Geometry not Directly Mappable to MDC Specific Mathematical Definitions.  Would Need Approxim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IA Geometry to become Applicable to AIMS/PE Base of MDC’s CAD/CAM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reement with Dassault Systemes for Software Development of CATIA PE, Access to CATIA Geometry Model and Specific Utility Procedures, All per MDC/AIMS Developed Spec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597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970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57913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5970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 Presentation of The Parametric Evaluator (PE) and Advanced Integrated Mathematical System (AIMS) is for Information Purposes.  It is Not an Endorsement of Any Specific Effort Regarding Automated-NC.  However, it Does Propose  the Use of the PE and Other AIMS Operating Concepts in All Automated-NC Eff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65160" y="49860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5160" y="690480"/>
            <a:ext cx="776304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- WITH CATIA (Cont.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re V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ssault Systemes Delivered Software per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 Transferred to, and Processed in, MDC’s CAD/CAM Systems using AIMS/PE with Dassault Systemes Software (CATIA PE) Callable Under the AIMS PE; i.e., CATIA Surfaces Viewed as Just Another Subtype in the AIMS P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ct Product Definition Processed in MDC’s CAD/CAM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Exact Mathematical Definition as Defined in CA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Translations or Approxi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same Software for Evaluation as CATIA.  Implies same Mathematical Algorithms and Same Procedures for Executing the Algorithms.  Thus, Exact Same Results of Eval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ed use of CATIA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5160" y="690480"/>
            <a:ext cx="776304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- WITH NORTH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 Defined both Internal and External to MDC (Mid 1980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DC Systems (CADD/CALL); Unique  Curves  and Surf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rop Systems (NCAD/NCAL); Unique Curves and Surf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t Exchange and Process Product Definition between MDC and North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h MDC and Northrop CAD/CAM systems are PE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 Transferred between MDC and Northrop and Processed in each others CAD/CAM Systems using PE Technology; Two way Transf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Translations or Approxim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ed use of PE Today between Boeing and Northrop Grum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76644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- WITH PROENGIN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sits to Parametric Technology in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Engineer Processed MDC’s Geometry Using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614160"/>
            <a:ext cx="9142560" cy="75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- WITH UNIGRAPHICS/PARASOLI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E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DC Transitioning to Commercial Modeler (198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 Amount of Legacy Geometry; Procedural and Para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graphics/Parasolid not PE-Based at tha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bined Effort between MDC and EDS (Early 1990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graphics and Parasolid to become PE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 Data Structures and Interfaces for Foreign Geometry using AIMS/PE Technology as a Gu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Geometry Functionality Released in Unigraphics V9 with AIMS PE 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MDC Legacy Procedural Surfaces Transferred to and Available in UG/Parasolid Without Translation or Approximation of the Mathematical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690480"/>
            <a:ext cx="800100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- WITH UNIGRAPHICS/PARASOLID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Unigraphics/Parasolid-AIMS used Extensively on Boeing &amp; Heritage MDC Products at Boeing/St. Louis and with Partners, Suppli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Surfaces Fully Functional in Unigraphics/Parasolid.  Foreign Surfaces and Unigraphics Native Surfaces can be Mixed with no Restrictions in a Parasolid Body Defin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/PE Delivered by EDS to Boeing Authorized Users with each Unigraphics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54800" cy="4741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228600"/>
            <a:ext cx="9144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GEOMETRY IN UNI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Without Translation or Approximation – AIMS/PE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6644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- WITH CATIA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eing/CATIA/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IA V5 &amp; AIMS are Extremely Compatibl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IA V5/AIMS Interface Workshop; Paris, June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 Interfaced with CATIA V5 and 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11334" descr=""/>
          <p:cNvPicPr/>
          <p:nvPr/>
        </p:nvPicPr>
        <p:blipFill>
          <a:blip r:embed="rId1"/>
          <a:stretch/>
        </p:blipFill>
        <p:spPr>
          <a:xfrm>
            <a:off x="85680" y="828720"/>
            <a:ext cx="8972640" cy="5877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-DEFINED PROCEDURAL SURFACES IN CATIA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ATIA V5/AIMS Interface Workshop - Paris/June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87280" y="380880"/>
            <a:ext cx="84931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ACCESS TO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i-Directional Communication &amp; Function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847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3627360"/>
            <a:ext cx="1752840" cy="8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IMS  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44798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24480" y="4923000"/>
            <a:ext cx="18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923000"/>
            <a:ext cx="18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49370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5380200"/>
            <a:ext cx="12956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6920" y="5318280"/>
            <a:ext cx="119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365800"/>
            <a:ext cx="12956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15720" y="5303880"/>
            <a:ext cx="119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5365800"/>
            <a:ext cx="12952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20840" y="5303880"/>
            <a:ext cx="1197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9370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49370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1758960"/>
            <a:ext cx="1752840" cy="128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D/Sol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2800" y="2813040"/>
            <a:ext cx="1736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52920" y="2727360"/>
            <a:ext cx="169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30481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1752480"/>
            <a:ext cx="457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1812960"/>
            <a:ext cx="320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752480"/>
            <a:ext cx="1981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919160"/>
            <a:ext cx="1981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79640" y="1828800"/>
            <a:ext cx="320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1752480"/>
            <a:ext cx="457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3"/>
            <a:endCxn id="223" idx="1"/>
          </p:cNvCxnSpPr>
          <p:nvPr/>
        </p:nvCxnSpPr>
        <p:spPr>
          <a:xfrm>
            <a:off x="3276720" y="240012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98680" y="3200400"/>
            <a:ext cx="34632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anced Curve &amp; Surface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tics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er Bea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ational Fluid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al CA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ddition to Standards, Not Instead of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ains Parametric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ization of Curves and Surfaces (Soli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ic Mathematical Operations Based on Standardization Provided by Parametric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s to Commercial CAD/Solids Model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bas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Exchang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ular Components/Plug-and-Play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be Used in CAD Systems Environment and Subsequent Down-Stream Applications.  Designed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iminate Translation and Approximation of Geometry/Solids Representation when Used in Down-Stream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ows Advanced Processes to be Defined in CAD Systems and Transferred to, and Used by, Down Stream Applications Exactly as Defined in CAD System, e.g., Metrology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ring High-Precision Complex Curves and Surfaces from the Defining System to Down-Stream Applications and Using them in those Applications without Change/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648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962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E and AIMS Type Processing of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jor Production Use since 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0" r="0" b="2469"/>
          <a:stretch/>
        </p:blipFill>
        <p:spPr>
          <a:xfrm>
            <a:off x="609480" y="838080"/>
            <a:ext cx="7925040" cy="5639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7632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OREIGN PROCEDURAL SURFACES IN CATIA V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Without Translation or Approximation - AIMS/PE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2120" y="930240"/>
            <a:ext cx="7696080" cy="5546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757160" y="1219320"/>
            <a:ext cx="3125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dural Offset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d by CA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190512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752480"/>
            <a:ext cx="1447560" cy="144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905120"/>
            <a:ext cx="9144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0480"/>
            <a:ext cx="91440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FFSET OF FOREIGN PROCEDURAL SURFACES IN CATIA V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IMS/PE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0480" y="0"/>
            <a:ext cx="9083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SHADOW SURFACE IN CATIA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IMS/PE Inter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-STREAM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Down-Stream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ational Fluid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-Based Down-Stream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for Use of Exact Mathematical Definitions from Defining System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 of All Critical Data from Defining Systems to Down-Stream Applications and New Data Back to Defining Systems  and Other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ic Mathematical Operations Based on PE.  Will use NURBS if Specific PE is not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onstrate STEP-NC Prototype Using STEP Tools, Inc., Software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/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 Model Containing a Generic Part with Complex Procedural Surfaces as Defined in CA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 Geometry Kernel and Application Program Interface (API) for Accessing the Model and Providing Parametric Evaluation of the Geo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685800" y="735120"/>
          <a:ext cx="7772400" cy="59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35120"/>
                    <a:ext cx="77724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IC PART WITH PROCEDURAL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994280" y="2261160"/>
            <a:ext cx="1892160" cy="459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ercial Metrology Softwar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54320" y="3073320"/>
            <a:ext cx="5099040" cy="22989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d6d6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63560" y="5943600"/>
            <a:ext cx="1384560" cy="6602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92760" y="5943600"/>
            <a:ext cx="1384560" cy="6602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7720" y="611676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IA V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19200" y="6039000"/>
            <a:ext cx="923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G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4880" y="1257480"/>
            <a:ext cx="1085040" cy="453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MMs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 H/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800" y="1263600"/>
            <a:ext cx="1028880" cy="453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C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5720" y="1263600"/>
            <a:ext cx="1002960" cy="453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A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9680" y="1258920"/>
            <a:ext cx="1781640" cy="453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TOGRA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3352680"/>
            <a:ext cx="4343400" cy="16002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MS METROLOGY 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D / SOLIDS MODE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GITAL MEASUREMENT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OSEST POINT 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MS MODEL,  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863800" y="4133880"/>
            <a:ext cx="3809880" cy="1030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6305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pplication Program Interface (API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8160" y="3654360"/>
            <a:ext cx="914400" cy="11430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terprise Process Capability 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1" idx="2"/>
            <a:endCxn id="262" idx="4"/>
          </p:cNvCxnSpPr>
          <p:nvPr/>
        </p:nvCxnSpPr>
        <p:spPr>
          <a:xfrm flipV="1" rot="10800000">
            <a:off x="1581840" y="4221720"/>
            <a:ext cx="672480" cy="3960"/>
          </a:xfrm>
          <a:prstGeom prst="bentConnector3">
            <a:avLst>
              <a:gd name="adj1" fmla="val 498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1" idx="4"/>
            <a:endCxn id="252" idx="0"/>
          </p:cNvCxnSpPr>
          <p:nvPr/>
        </p:nvCxnSpPr>
        <p:spPr>
          <a:xfrm rot="5400000">
            <a:off x="3293640" y="4433760"/>
            <a:ext cx="572040" cy="244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"/>
          <p:cNvCxnSpPr/>
          <p:nvPr/>
        </p:nvCxnSpPr>
        <p:spPr>
          <a:xfrm flipH="1" rot="16200000">
            <a:off x="5814000" y="4366800"/>
            <a:ext cx="572040" cy="2582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"/>
          <p:cNvCxnSpPr>
            <a:stCxn id="267" idx="0"/>
            <a:endCxn id="258" idx="2"/>
          </p:cNvCxnSpPr>
          <p:nvPr/>
        </p:nvCxnSpPr>
        <p:spPr>
          <a:xfrm flipV="1" rot="16200000">
            <a:off x="4406400" y="567720"/>
            <a:ext cx="427680" cy="27457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8" name=""/>
          <p:cNvCxnSpPr>
            <a:stCxn id="267" idx="0"/>
            <a:endCxn id="259" idx="2"/>
          </p:cNvCxnSpPr>
          <p:nvPr/>
        </p:nvCxnSpPr>
        <p:spPr>
          <a:xfrm flipV="1" rot="16200000">
            <a:off x="3385800" y="-453240"/>
            <a:ext cx="432360" cy="4782240"/>
          </a:xfrm>
          <a:prstGeom prst="bentConnector3">
            <a:avLst>
              <a:gd name="adj1" fmla="val 4741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"/>
          <p:cNvCxnSpPr>
            <a:stCxn id="267" idx="0"/>
            <a:endCxn id="257" idx="2"/>
          </p:cNvCxnSpPr>
          <p:nvPr/>
        </p:nvCxnSpPr>
        <p:spPr>
          <a:xfrm flipV="1" rot="16200000">
            <a:off x="5506560" y="1667880"/>
            <a:ext cx="427680" cy="54540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0" name=""/>
          <p:cNvCxnSpPr>
            <a:stCxn id="267" idx="0"/>
            <a:endCxn id="256" idx="2"/>
          </p:cNvCxnSpPr>
          <p:nvPr/>
        </p:nvCxnSpPr>
        <p:spPr>
          <a:xfrm flipH="1" flipV="1" rot="5400000">
            <a:off x="6508440" y="1204560"/>
            <a:ext cx="434160" cy="1465920"/>
          </a:xfrm>
          <a:prstGeom prst="bentConnector3">
            <a:avLst>
              <a:gd name="adj1" fmla="val 4904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ROLOGY &amp; CAD SYSTEMS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a AIMS-Met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50" idx="2"/>
            <a:endCxn id="251" idx="0"/>
          </p:cNvCxnSpPr>
          <p:nvPr/>
        </p:nvCxnSpPr>
        <p:spPr>
          <a:xfrm rot="5400000">
            <a:off x="5197320" y="2331000"/>
            <a:ext cx="348480" cy="1137240"/>
          </a:xfrm>
          <a:prstGeom prst="bentConnector3">
            <a:avLst>
              <a:gd name="adj1" fmla="val 4974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145120" y="2154240"/>
            <a:ext cx="1693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84520" y="3152880"/>
            <a:ext cx="74520" cy="74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81440" y="2267640"/>
            <a:ext cx="1682640" cy="459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32280" y="2160720"/>
            <a:ext cx="1506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4" idx="2"/>
            <a:endCxn id="251" idx="0"/>
          </p:cNvCxnSpPr>
          <p:nvPr/>
        </p:nvCxnSpPr>
        <p:spPr>
          <a:xfrm flipH="1" rot="16200000">
            <a:off x="4091760" y="2361960"/>
            <a:ext cx="342000" cy="1081800"/>
          </a:xfrm>
          <a:prstGeom prst="bentConnector3">
            <a:avLst>
              <a:gd name="adj1" fmla="val 46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7" name=""/>
          <p:cNvCxnSpPr>
            <a:stCxn id="259" idx="2"/>
            <a:endCxn id="275" idx="0"/>
          </p:cNvCxnSpPr>
          <p:nvPr/>
        </p:nvCxnSpPr>
        <p:spPr>
          <a:xfrm flipH="1" rot="16200000">
            <a:off x="2279520" y="653760"/>
            <a:ext cx="438840" cy="2575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7086600" y="2438280"/>
            <a:ext cx="685800" cy="53352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2895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ame Look &amp; Feel but with Added Functiona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6040" y="2819520"/>
            <a:ext cx="137160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8920" y="2819520"/>
            <a:ext cx="137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tistical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rts &amp;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43000" y="335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5943600"/>
            <a:ext cx="1384200" cy="6602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6039000"/>
            <a:ext cx="1218960" cy="5151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MS-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52" idx="0"/>
            <a:endCxn id="262" idx="3"/>
          </p:cNvCxnSpPr>
          <p:nvPr/>
        </p:nvCxnSpPr>
        <p:spPr>
          <a:xfrm flipV="1" rot="16200000">
            <a:off x="1167120" y="4754520"/>
            <a:ext cx="1146960" cy="1231200"/>
          </a:xfrm>
          <a:prstGeom prst="bentConnector3">
            <a:avLst>
              <a:gd name="adj1" fmla="val 243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3" idx="1"/>
            <a:endCxn id="252" idx="3"/>
          </p:cNvCxnSpPr>
          <p:nvPr/>
        </p:nvCxnSpPr>
        <p:spPr>
          <a:xfrm flipH="1">
            <a:off x="3047400" y="627336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83" idx="3"/>
            <a:endCxn id="253" idx="1"/>
          </p:cNvCxnSpPr>
          <p:nvPr/>
        </p:nvCxnSpPr>
        <p:spPr>
          <a:xfrm>
            <a:off x="5499000" y="6273360"/>
            <a:ext cx="11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8" name=""/>
          <p:cNvCxnSpPr>
            <a:stCxn id="251" idx="4"/>
            <a:endCxn id="283" idx="0"/>
          </p:cNvCxnSpPr>
          <p:nvPr/>
        </p:nvCxnSpPr>
        <p:spPr>
          <a:xfrm>
            <a:off x="4803480" y="537192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5160" y="456840"/>
            <a:ext cx="77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ATION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ve and Surfac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licitly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durally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arametric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ization of Curves and Surfaces without Changing the Mathematical Forms of the Existing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dvanced Integrated Mathemat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ief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S/PE in Down-Stream (After Design)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VE AND SURFAC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y Mathematical Ways to Represent Curves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RBS/Rational Parametric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ing but Mathematically Simple and Explicit (Parametric Formula).  One Size Fits All Approach - Can Compromise Purity and Exactness of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Limiting but Mathematically Complex.  Usually Many Systems of Non-Linear Equations all Interrelated to Produce Implicit Definition of Curve or Surface.  Captures Purity of  Shape; no Approximation.  Usually no Explicit Formula or Parameter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5160" y="533160"/>
            <a:ext cx="7763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LICIT FORMS -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Parametric Polynomial Curve - Powers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RBS Surf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041480" y="2147760"/>
                <a:ext cx="2628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a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b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c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66720" y="4648320"/>
                <a:ext cx="27180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w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w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181480" y="5783400"/>
                <a:ext cx="12636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u</m:t>
                        </m:r>
                        <m:r>
                          <m:t xml:space="preserve">≤</m:t>
                        </m:r>
                        <m:r>
                          <m:t xml:space="preserve">u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8129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055520" y="3054240"/>
                <a:ext cx="7858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362320" y="3124080"/>
                <a:ext cx="1384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737240" y="5257800"/>
                <a:ext cx="2438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ila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774360" y="3581280"/>
            <a:ext cx="319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Rational if D=1, Iden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ffset-1" descr=""/>
          <p:cNvPicPr/>
          <p:nvPr/>
        </p:nvPicPr>
        <p:blipFill>
          <a:blip r:embed="rId1"/>
          <a:srcRect l="1488" t="1479" r="2404" b="2412"/>
          <a:stretch/>
        </p:blipFill>
        <p:spPr>
          <a:xfrm>
            <a:off x="533520" y="299880"/>
            <a:ext cx="8001000" cy="6197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OFFSET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080" y="428148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5960" y="358128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se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5160" y="304560"/>
            <a:ext cx="7763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AL SURFAC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ant Offse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al Offse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1487520"/>
                <a:ext cx="1587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85800" y="2011320"/>
                <a:ext cx="5651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adian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adian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den>
                    </m:f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5800" y="2841480"/>
                <a:ext cx="54230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iant</m:t>
                    </m:r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62120" y="5867280"/>
                <a:ext cx="1587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85800" y="3782880"/>
                <a:ext cx="420372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den>
                        </m:f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2819520" y="5791320"/>
            <a:ext cx="472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 Space Functionalization of Offset, e.g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per n-to-1 in Specified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shadow-2" descr=""/>
          <p:cNvPicPr/>
          <p:nvPr/>
        </p:nvPicPr>
        <p:blipFill>
          <a:blip r:embed="rId1"/>
          <a:srcRect l="571" t="564" r="2404" b="2412"/>
          <a:stretch/>
        </p:blipFill>
        <p:spPr>
          <a:xfrm>
            <a:off x="457200" y="241200"/>
            <a:ext cx="8077320" cy="6256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42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 SHADOW SURFACE (PROCED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6440" y="1766880"/>
            <a:ext cx="23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structing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6520" y="4495680"/>
            <a:ext cx="22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ing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6960" y="35812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dow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3809880"/>
            <a:ext cx="13716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14:50:44Z</dcterms:created>
  <dc:creator>Tom Melson</dc:creator>
  <dc:description/>
  <cp:keywords>AIMS parametric Evaluator</cp:keywords>
  <dc:language>en-US</dc:language>
  <cp:lastModifiedBy>Thomas G Melson</cp:lastModifiedBy>
  <dcterms:modified xsi:type="dcterms:W3CDTF">2003-01-22T15:53:04Z</dcterms:modified>
  <cp:revision>258</cp:revision>
  <dc:subject/>
  <dc:title>AIMS-PE NC</dc:title>
</cp:coreProperties>
</file>