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992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684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336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992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684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524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84320" y="692280"/>
            <a:ext cx="87883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78840" y="657540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27ED79B-6746-4504-B9F8-C3DD7C1B6F17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0480" y="6583320"/>
            <a:ext cx="743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. Hard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stepnc-text-only" descr=""/>
          <p:cNvPicPr/>
          <p:nvPr/>
        </p:nvPicPr>
        <p:blipFill>
          <a:blip r:embed="rId2"/>
          <a:stretch/>
        </p:blipFill>
        <p:spPr>
          <a:xfrm>
            <a:off x="7180200" y="141120"/>
            <a:ext cx="171468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info@steptools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00120" y="577440"/>
            <a:ext cx="410220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Current status of the </a:t>
            </a:r>
            <a:br>
              <a:rPr sz="3200"/>
            </a:b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STEP-NC standa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4760" y="31104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9200" y="374760"/>
            <a:ext cx="2838600" cy="6146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289760" y="2320920"/>
            <a:ext cx="38278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Loffre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ir Dow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688"/>
                </a:solidFill>
                <a:uFillTx/>
                <a:latin typeface="Arial"/>
                <a:hlinkClick r:id="rId2"/>
              </a:rPr>
              <a:t>info@steptool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6 River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achine" descr=""/>
          <p:cNvPicPr/>
          <p:nvPr/>
        </p:nvPicPr>
        <p:blipFill>
          <a:blip r:embed="rId1"/>
          <a:stretch/>
        </p:blipFill>
        <p:spPr>
          <a:xfrm>
            <a:off x="325440" y="2003400"/>
            <a:ext cx="2413080" cy="1982880"/>
          </a:xfrm>
          <a:prstGeom prst="rect">
            <a:avLst/>
          </a:prstGeom>
          <a:ln w="0">
            <a:noFill/>
          </a:ln>
        </p:spPr>
      </p:pic>
      <p:pic>
        <p:nvPicPr>
          <p:cNvPr id="48" name="Bild11" descr=""/>
          <p:cNvPicPr/>
          <p:nvPr/>
        </p:nvPicPr>
        <p:blipFill>
          <a:blip r:embed="rId2"/>
          <a:stretch/>
        </p:blipFill>
        <p:spPr>
          <a:xfrm>
            <a:off x="196920" y="3997440"/>
            <a:ext cx="2819160" cy="2439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37440" y="1530360"/>
            <a:ext cx="2654280" cy="2655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657840" y="4186080"/>
            <a:ext cx="2235240" cy="1909800"/>
          </a:xfrm>
          <a:prstGeom prst="rect">
            <a:avLst/>
          </a:prstGeom>
          <a:ln w="0">
            <a:noFill/>
          </a:ln>
        </p:spPr>
      </p:pic>
      <p:pic>
        <p:nvPicPr>
          <p:cNvPr id="51" name="people-Dcp_1765" descr=""/>
          <p:cNvPicPr/>
          <p:nvPr/>
        </p:nvPicPr>
        <p:blipFill>
          <a:blip r:embed="rId5"/>
          <a:stretch/>
        </p:blipFill>
        <p:spPr>
          <a:xfrm>
            <a:off x="3021120" y="1365120"/>
            <a:ext cx="3252600" cy="2347920"/>
          </a:xfrm>
          <a:prstGeom prst="rect">
            <a:avLst/>
          </a:prstGeom>
          <a:ln w="0">
            <a:noFill/>
          </a:ln>
        </p:spPr>
      </p:pic>
      <p:pic>
        <p:nvPicPr>
          <p:cNvPr id="52" name="Bild11" descr=""/>
          <p:cNvPicPr/>
          <p:nvPr/>
        </p:nvPicPr>
        <p:blipFill>
          <a:blip r:embed="rId6"/>
          <a:stretch/>
        </p:blipFill>
        <p:spPr>
          <a:xfrm>
            <a:off x="3137040" y="3755880"/>
            <a:ext cx="1711080" cy="139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97120" y="1341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1800" spc="-1" strike="noStrike">
                <a:solidFill>
                  <a:srgbClr val="cf0e30"/>
                </a:solidFill>
                <a:latin typeface="Arial"/>
              </a:rPr>
              <a:t>cancelled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67360" y="98892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illing, Drilling,Tu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79000" y="13651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ild15" descr=""/>
          <p:cNvPicPr/>
          <p:nvPr/>
        </p:nvPicPr>
        <p:blipFill>
          <a:blip r:embed="rId7"/>
          <a:stretch/>
        </p:blipFill>
        <p:spPr>
          <a:xfrm>
            <a:off x="4965840" y="3811680"/>
            <a:ext cx="1542960" cy="2828880"/>
          </a:xfrm>
          <a:prstGeom prst="rect">
            <a:avLst/>
          </a:prstGeom>
          <a:ln w="0">
            <a:noFill/>
          </a:ln>
        </p:spPr>
      </p:pic>
      <p:pic>
        <p:nvPicPr>
          <p:cNvPr id="57" name="Bild14" descr=""/>
          <p:cNvPicPr/>
          <p:nvPr/>
        </p:nvPicPr>
        <p:blipFill>
          <a:blip r:embed="rId8"/>
          <a:stretch/>
        </p:blipFill>
        <p:spPr>
          <a:xfrm>
            <a:off x="3087720" y="5208480"/>
            <a:ext cx="181764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70360" y="2019240"/>
            <a:ext cx="4629240" cy="2975040"/>
          </a:xfrm>
          <a:prstGeom prst="rect">
            <a:avLst/>
          </a:prstGeom>
          <a:solidFill>
            <a:srgbClr val="63ff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ipment Models (AP-2X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32440" y="1874880"/>
            <a:ext cx="4070160" cy="264960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pection Data and Results (AP-21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36920" y="1782720"/>
            <a:ext cx="3668760" cy="22906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ufacturing Operations (AP-23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02320" y="1687680"/>
            <a:ext cx="3085920" cy="2001600"/>
          </a:xfrm>
          <a:prstGeom prst="rect">
            <a:avLst/>
          </a:prstGeom>
          <a:solidFill>
            <a:srgbClr val="63ff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ufacturing features &amp; tolerances (AP-2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48280" y="1550880"/>
            <a:ext cx="2338200" cy="151776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metric Toler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03 ed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995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Manufactu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93400" y="1660680"/>
            <a:ext cx="1125720" cy="82404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8640" y="1913040"/>
            <a:ext cx="244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es more th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0 Object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4560" y="3581280"/>
            <a:ext cx="307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pplications Inclu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ineering collab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y auto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-Mach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65320" y="5345280"/>
            <a:ext cx="746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re are many important relationships between the object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9316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2080" y="1669680"/>
            <a:ext cx="7769160" cy="41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64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11 Milling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FDIS Ball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12 Turning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rep for DIS ball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13 Wire EDM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rep for DIS ball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14 Sink EDM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rep for DIS ball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15? Inspection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rep for NW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16? Robotics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rep for NW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3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24 Manufacturing feat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dition Publish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38 Integrated C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rep for DIS ball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19 Inspection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rep for NW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40 Process Pla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D ball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48560" y="838080"/>
            <a:ext cx="3693600" cy="106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W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rt new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e on technical det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e on technical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D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h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11174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nd how to validate the other 14649 models in a pilot pro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ing is the most mature and some prep work has been done by Honeyw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DM we lack expe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ection and robotics are interesting but there is no model to t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nd how to integrate models with AP-23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urning to Edition 1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urning to Edition 2 (favored by STEP Tools)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urning into a another 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to do about the next leve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models for better pla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67840"/>
            <a:ext cx="27068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ment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07080" y="3457440"/>
            <a:ext cx="852840" cy="52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41920" y="3460680"/>
            <a:ext cx="1022040" cy="52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em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c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53520" y="3462480"/>
            <a:ext cx="960840" cy="52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55400" y="3459240"/>
            <a:ext cx="1238400" cy="52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84760" y="1535040"/>
            <a:ext cx="991800" cy="1389240"/>
          </a:xfrm>
          <a:prstGeom prst="flowChartMagneticDisk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4" idx="3"/>
            <a:endCxn id="75" idx="1"/>
          </p:cNvCxnSpPr>
          <p:nvPr/>
        </p:nvCxnSpPr>
        <p:spPr>
          <a:xfrm>
            <a:off x="2079360" y="3726000"/>
            <a:ext cx="843480" cy="3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5" idx="3"/>
            <a:endCxn id="76" idx="1"/>
          </p:cNvCxnSpPr>
          <p:nvPr/>
        </p:nvCxnSpPr>
        <p:spPr>
          <a:xfrm>
            <a:off x="3982680" y="3728520"/>
            <a:ext cx="8499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6" idx="3"/>
            <a:endCxn id="77" idx="1"/>
          </p:cNvCxnSpPr>
          <p:nvPr/>
        </p:nvCxnSpPr>
        <p:spPr>
          <a:xfrm flipV="1">
            <a:off x="5835240" y="3726720"/>
            <a:ext cx="90252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3166200" y="1914480"/>
            <a:ext cx="864000" cy="646920"/>
          </a:xfrm>
          <a:prstGeom prst="flowChartDocumen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PP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41800" y="2011320"/>
            <a:ext cx="560520" cy="331920"/>
          </a:xfrm>
          <a:prstGeom prst="rightArrow">
            <a:avLst>
              <a:gd name="adj1" fmla="val 50000"/>
              <a:gd name="adj2" fmla="val 4221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77" idx="2"/>
            <a:endCxn id="74" idx="2"/>
          </p:cNvCxnSpPr>
          <p:nvPr/>
        </p:nvCxnSpPr>
        <p:spPr>
          <a:xfrm flipV="1" rot="16200000">
            <a:off x="4503240" y="1132560"/>
            <a:ext cx="2520" cy="5742720"/>
          </a:xfrm>
          <a:prstGeom prst="bentConnector3">
            <a:avLst>
              <a:gd name="adj1" fmla="val -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2905560" y="4172040"/>
            <a:ext cx="357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arly feedback on quality of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1640" y="2957400"/>
            <a:ext cx="366840" cy="406440"/>
          </a:xfrm>
          <a:prstGeom prst="downArrow">
            <a:avLst>
              <a:gd name="adj1" fmla="val 50000"/>
              <a:gd name="adj2" fmla="val 2769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8415200">
            <a:off x="6053400" y="2808720"/>
            <a:ext cx="366840" cy="406440"/>
          </a:xfrm>
          <a:prstGeom prst="downArrow">
            <a:avLst>
              <a:gd name="adj1" fmla="val 50000"/>
              <a:gd name="adj2" fmla="val 2769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2431200">
            <a:off x="4119480" y="2832120"/>
            <a:ext cx="366840" cy="406440"/>
          </a:xfrm>
          <a:prstGeom prst="downArrow">
            <a:avLst>
              <a:gd name="adj1" fmla="val 50000"/>
              <a:gd name="adj2" fmla="val 2769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48320" y="2595600"/>
            <a:ext cx="968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PP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5040" y="5578560"/>
            <a:ext cx="76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y Integrated Product and Process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6212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 to STEP-N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6520" y="2654280"/>
            <a:ext cx="1756440" cy="3682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58160" y="2670120"/>
            <a:ext cx="855720" cy="337320"/>
          </a:xfrm>
          <a:prstGeom prst="rect">
            <a:avLst/>
          </a:prstGeom>
          <a:solidFill>
            <a:srgbClr val="ffcc8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3" idx="3"/>
            <a:endCxn id="95" idx="1"/>
          </p:cNvCxnSpPr>
          <p:nvPr/>
        </p:nvCxnSpPr>
        <p:spPr>
          <a:xfrm>
            <a:off x="2534760" y="2847960"/>
            <a:ext cx="123444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783600" y="3179880"/>
            <a:ext cx="12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% 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Lockhe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83120" y="317484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 faster using better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incinnati Mach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89000" y="2523960"/>
            <a:ext cx="1261080" cy="64260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5" idx="3"/>
            <a:endCxn id="92" idx="1"/>
          </p:cNvCxnSpPr>
          <p:nvPr/>
        </p:nvCxnSpPr>
        <p:spPr>
          <a:xfrm flipV="1">
            <a:off x="5070600" y="2847600"/>
            <a:ext cx="108648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036440" y="3132000"/>
            <a:ext cx="211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 fewer draw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Raythe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04680" y="1455840"/>
            <a:ext cx="170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ed For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lligent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57880" y="1601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34600" y="4116240"/>
            <a:ext cx="220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ed 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lligent Kinematics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avior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27800" y="424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96080" y="164628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8000" y="4186080"/>
            <a:ext cx="109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9:57:34Z</dcterms:created>
  <dc:creator>Martin Hardwick</dc:creator>
  <dc:description/>
  <dc:language>en-US</dc:language>
  <cp:lastModifiedBy>hardwick</cp:lastModifiedBy>
  <cp:lastPrinted>1996-02-28T13:41:35Z</cp:lastPrinted>
  <dcterms:modified xsi:type="dcterms:W3CDTF">2003-01-27T16:06:35Z</dcterms:modified>
  <cp:revision>703</cp:revision>
  <dc:subject/>
  <dc:title>STEP-NC: Digital Manufacturing using STEP</dc:title>
</cp:coreProperties>
</file>