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32888" cy="6846888"/>
  <p:notesSz cx="6997700" cy="9259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91920" y="2830320"/>
            <a:ext cx="774684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91920" y="283032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1640" y="283032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0920" y="122184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30280" y="122184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91920" y="283032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0920" y="283032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30280" y="283032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91920" y="1221840"/>
            <a:ext cx="7746840" cy="30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8400" y="254160"/>
            <a:ext cx="1336680" cy="61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91920" y="283032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1640" y="283032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91920" y="2830320"/>
            <a:ext cx="774684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22120" y="133200"/>
            <a:ext cx="2556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615360" y="246240"/>
            <a:ext cx="238896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4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ols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84320" y="689040"/>
            <a:ext cx="876276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155080" y="6551640"/>
            <a:ext cx="949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lide </a:t>
            </a:r>
            <a:fld id="{2787556C-5DE0-4370-9803-3E36A290A347}" type="slidenum">
              <a:rPr b="1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91920" y="1221840"/>
            <a:ext cx="774684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3828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94040" indent="-171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94040" indent="-171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94040" indent="-171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613320" y="6551640"/>
            <a:ext cx="1906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Copyright 2003 — STEP Tools, In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50760" y="1218960"/>
            <a:ext cx="5187960" cy="10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4000" spc="-1" strike="noStrike">
                <a:solidFill>
                  <a:srgbClr val="cf0e30"/>
                </a:solidFill>
                <a:latin typeface="Arial"/>
              </a:rPr>
              <a:t>AP-238 Direct</a:t>
            </a:r>
            <a:br>
              <a:rPr sz="4000"/>
            </a:br>
            <a:r>
              <a:rPr b="1" lang="en-US" sz="4000" spc="-1" strike="noStrike">
                <a:solidFill>
                  <a:srgbClr val="cf0e30"/>
                </a:solidFill>
                <a:latin typeface="Arial"/>
              </a:rPr>
              <a:t>Interfa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2960" y="309600"/>
            <a:ext cx="255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332600" y="5291280"/>
            <a:ext cx="382788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ols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6 River Street, Troy, NY 121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518) 687-2848 / (518) 687-4420 f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steptools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59040" y="2998800"/>
            <a:ext cx="517392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PL Demonstr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57600" y="4343400"/>
            <a:ext cx="517356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vid Loffre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ffredo@steptools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steptools_logo" descr=""/>
          <p:cNvPicPr/>
          <p:nvPr/>
        </p:nvPicPr>
        <p:blipFill>
          <a:blip r:embed="rId1"/>
          <a:stretch/>
        </p:blipFill>
        <p:spPr>
          <a:xfrm>
            <a:off x="304920" y="227160"/>
            <a:ext cx="2895480" cy="63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37558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IX Example (continue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91920" y="1222200"/>
            <a:ext cx="7746840" cy="41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ort wri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33520" y="1066680"/>
            <a:ext cx="8029440" cy="4953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eatures: 2 pres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[0] round hole (id #145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eature faces: #423 #42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ar 0 name=[hole depth] desc=[path feature component usag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inear path desc=[linear] ed_desc=[hole depth occurrenc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ar 1 name=[diameter] desc=[profile usag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osed circular profile desc=[boundary] ed_desc=[diameter occurrenc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ar 2 desc=[hole bottom usag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nrecongized aspect desc=[conical] ed_desc=[bottom condition occurrenc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eature depth: 2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eature orientat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-axis: 1 0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y-axis: 0 1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z-axis: 0 0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rigin: 100 40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ools: 1 pres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[0] type: 12.7000 mm TWIST_DRILL (id #32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ame: TL DRILL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ameter: 1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dge (flute) length: 21.18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dge radius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ircumference angle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335268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anced Calcul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91920" y="1222200"/>
            <a:ext cx="7746840" cy="14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perform geometric calculations more easil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itching axes and applying transforms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ating geometric bounding boxes and ext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ing parameters in preferred uni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437240" y="5683320"/>
            <a:ext cx="118656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Arial"/>
              </a:rPr>
              <a:t>Calcul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Arial"/>
              </a:rPr>
              <a:t>extent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Arial"/>
              </a:rPr>
              <a:t>mater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914400" y="3581280"/>
            <a:ext cx="0" cy="144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" y="5029200"/>
            <a:ext cx="137160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4191120"/>
            <a:ext cx="1828800" cy="1523880"/>
          </a:xfrm>
          <a:prstGeom prst="cube">
            <a:avLst>
              <a:gd name="adj" fmla="val 2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553080" y="502920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724280" y="3352680"/>
            <a:ext cx="3048120" cy="2667240"/>
          </a:xfrm>
          <a:prstGeom prst="cube">
            <a:avLst>
              <a:gd name="adj" fmla="val 25000"/>
            </a:avLst>
          </a:prstGeom>
          <a:noFill/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792400" y="3352680"/>
            <a:ext cx="6897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123880" y="4910040"/>
            <a:ext cx="11408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pi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914400" y="4572000"/>
            <a:ext cx="28195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04040" y="3733920"/>
            <a:ext cx="7812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Z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303560" y="5410080"/>
            <a:ext cx="793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290040" y="4724280"/>
            <a:ext cx="7812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67120" y="3693240"/>
            <a:ext cx="15919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Arial"/>
              </a:rPr>
              <a:t>Permuting ax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Arial"/>
              </a:rPr>
              <a:t>for sl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443600" y="4871880"/>
            <a:ext cx="896040" cy="473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9" idx="6"/>
            <a:endCxn id="241" idx="0"/>
          </p:cNvCxnSpPr>
          <p:nvPr/>
        </p:nvCxnSpPr>
        <p:spPr>
          <a:xfrm>
            <a:off x="2320920" y="5100120"/>
            <a:ext cx="1751760" cy="3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152360" y="4275000"/>
            <a:ext cx="1530360" cy="1238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4795920" y="3724200"/>
            <a:ext cx="3698640" cy="275436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2831040" y="4805280"/>
            <a:ext cx="97236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x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387680" y="4038480"/>
            <a:ext cx="3254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387680" y="4278240"/>
            <a:ext cx="3254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387680" y="4481640"/>
            <a:ext cx="3254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387680" y="4721400"/>
            <a:ext cx="3254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6200000">
            <a:off x="2933640" y="4959000"/>
            <a:ext cx="2590920" cy="291960"/>
          </a:xfrm>
          <a:prstGeom prst="rect">
            <a:avLst/>
          </a:prstGeom>
          <a:solidFill>
            <a:srgbClr val="ef91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cept Libr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7680" y="4937040"/>
            <a:ext cx="3254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387680" y="5176800"/>
            <a:ext cx="3254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387680" y="5380200"/>
            <a:ext cx="3254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387680" y="5619600"/>
            <a:ext cx="3254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387680" y="5835600"/>
            <a:ext cx="3254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387680" y="6075360"/>
            <a:ext cx="3254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387680" y="6278400"/>
            <a:ext cx="3254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343040" y="3581280"/>
            <a:ext cx="5774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235116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ing Forw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240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 API functions for the STEP-Manufacturing Application Protoco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ndation for next generation of manufacturing autom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cessary as we go for the next level of optimiz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I for machine independent CNC control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lling, Tur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pection, Robotic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334008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-238 Direct Interf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446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are building a library of STEP-NC access and calculation code to simplify programming directly against AP-238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use from detailed C++ applications or from lightweight COM/VB application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ed STIX, for STEP Index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 writing applications against AP-238 quickly and from different environment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ke care of most common access paths and calculation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ows more geometric calculation than possible with EXPX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ows for update path to modify AP-238 dat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56000" y="5121360"/>
            <a:ext cx="860040" cy="719640"/>
          </a:xfrm>
          <a:prstGeom prst="flowChartDocument">
            <a:avLst/>
          </a:prstGeom>
          <a:solidFill>
            <a:srgbClr val="66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-2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 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03560" y="4390920"/>
            <a:ext cx="1566720" cy="354240"/>
          </a:xfrm>
          <a:prstGeom prst="rect">
            <a:avLst/>
          </a:pr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ol Kit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7080" y="4032360"/>
            <a:ext cx="1579680" cy="353880"/>
          </a:xfrm>
          <a:prstGeom prst="rect">
            <a:avLst/>
          </a:pr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x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197080" y="3430440"/>
            <a:ext cx="1579680" cy="59868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02200" y="5121360"/>
            <a:ext cx="860040" cy="719640"/>
          </a:xfrm>
          <a:prstGeom prst="flowChartDocument">
            <a:avLst/>
          </a:prstGeom>
          <a:solidFill>
            <a:srgbClr val="66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-2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 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4403880"/>
            <a:ext cx="1566720" cy="353880"/>
          </a:xfrm>
          <a:prstGeom prst="rect">
            <a:avLst/>
          </a:pr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ol Kit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648320" y="3809880"/>
            <a:ext cx="1566720" cy="598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48320" y="3452760"/>
            <a:ext cx="1566720" cy="354240"/>
          </a:xfrm>
          <a:prstGeom prst="rect">
            <a:avLst/>
          </a:pr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ol Kit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41640" y="2503440"/>
            <a:ext cx="1178280" cy="719640"/>
          </a:xfrm>
          <a:prstGeom prst="flowChartDocument">
            <a:avLst/>
          </a:prstGeom>
          <a:solidFill>
            <a:srgbClr val="7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48320" y="1860480"/>
            <a:ext cx="1566720" cy="354240"/>
          </a:xfrm>
          <a:prstGeom prst="rect">
            <a:avLst/>
          </a:prstGeom>
          <a:solidFill>
            <a:srgbClr val="7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ol Kit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48320" y="1254240"/>
            <a:ext cx="1566720" cy="59832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9080" y="4411800"/>
            <a:ext cx="14342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-Develo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12320" y="3916440"/>
            <a:ext cx="13456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RESS-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16280" y="3390840"/>
            <a:ext cx="13107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B Part 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48680" y="1822320"/>
            <a:ext cx="655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36480" y="6364440"/>
            <a:ext cx="77853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3120" y="3809880"/>
            <a:ext cx="178308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-NC Develo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TIX, ST-Pla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-Machine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-ACIS/Parasol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-Develop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911320" y="5837400"/>
            <a:ext cx="0" cy="5396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70480" y="5821200"/>
            <a:ext cx="0" cy="540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>
            <a:stCxn id="52" idx="2"/>
            <a:endCxn id="51" idx="0"/>
          </p:cNvCxnSpPr>
          <p:nvPr/>
        </p:nvCxnSpPr>
        <p:spPr>
          <a:xfrm flipH="1">
            <a:off x="2985840" y="4754520"/>
            <a:ext cx="2160" cy="357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1" name=""/>
          <p:cNvCxnSpPr>
            <a:stCxn id="55" idx="0"/>
            <a:endCxn id="56" idx="2"/>
          </p:cNvCxnSpPr>
          <p:nvPr/>
        </p:nvCxnSpPr>
        <p:spPr>
          <a:xfrm flipV="1">
            <a:off x="5432040" y="4766400"/>
            <a:ext cx="1080" cy="345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"/>
          <p:cNvCxnSpPr>
            <a:stCxn id="58" idx="0"/>
            <a:endCxn id="59" idx="2"/>
          </p:cNvCxnSpPr>
          <p:nvPr/>
        </p:nvCxnSpPr>
        <p:spPr>
          <a:xfrm flipH="1" flipV="1">
            <a:off x="5430600" y="3195360"/>
            <a:ext cx="2160" cy="248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59" idx="0"/>
            <a:endCxn id="60" idx="2"/>
          </p:cNvCxnSpPr>
          <p:nvPr/>
        </p:nvCxnSpPr>
        <p:spPr>
          <a:xfrm flipV="1">
            <a:off x="5430960" y="2223720"/>
            <a:ext cx="2160" cy="270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 flipH="1">
            <a:off x="4223880" y="717480"/>
            <a:ext cx="11160" cy="56721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416320" y="806400"/>
            <a:ext cx="6570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89680" y="801720"/>
            <a:ext cx="6094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21320" y="2562120"/>
            <a:ext cx="20545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od for Prototyp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334008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-238 Direct Interf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1295280"/>
            <a:ext cx="3276720" cy="17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ables Upd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maller footpr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sier to maint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re sophisticated func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4038480"/>
            <a:ext cx="228600" cy="685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685800" y="2819520"/>
            <a:ext cx="7746840" cy="3657600"/>
            <a:chOff x="685800" y="2819520"/>
            <a:chExt cx="7746840" cy="3657600"/>
          </a:xfrm>
        </p:grpSpPr>
        <p:grpSp>
          <p:nvGrpSpPr>
            <p:cNvPr id="82" name=""/>
            <p:cNvGrpSpPr/>
            <p:nvPr/>
          </p:nvGrpSpPr>
          <p:grpSpPr>
            <a:xfrm>
              <a:off x="2209680" y="3429000"/>
              <a:ext cx="5943600" cy="3048120"/>
              <a:chOff x="2209680" y="3429000"/>
              <a:chExt cx="5943600" cy="3048120"/>
            </a:xfrm>
          </p:grpSpPr>
          <p:sp>
            <p:nvSpPr>
              <p:cNvPr id="83" name=""/>
              <p:cNvSpPr/>
              <p:nvPr/>
            </p:nvSpPr>
            <p:spPr>
              <a:xfrm>
                <a:off x="2209680" y="3429000"/>
                <a:ext cx="5943600" cy="304812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67676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286720" y="3809880"/>
                <a:ext cx="909360" cy="75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O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Shel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>
              <a:off x="685800" y="2819520"/>
              <a:ext cx="77468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lvl="1" marL="684360" indent="-228600">
                <a:lnSpc>
                  <a:spcPct val="90000"/>
                </a:lnSpc>
                <a:spcBef>
                  <a:spcPts val="675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rap with COM interface for lightweight applications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282420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IX — STEP Inde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222200"/>
            <a:ext cx="7746840" cy="41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 a direct interface to the AP-238 dat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72200" y="3581280"/>
            <a:ext cx="1752480" cy="2667240"/>
          </a:xfrm>
          <a:prstGeom prst="ellipse">
            <a:avLst/>
          </a:prstGeom>
          <a:solidFill>
            <a:srgbClr val="66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-2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94040" y="5846760"/>
            <a:ext cx="24386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044960" y="5867280"/>
            <a:ext cx="19623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ditional AIM 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3657600"/>
            <a:ext cx="1295280" cy="266688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685800" y="1643040"/>
            <a:ext cx="7746840" cy="3919680"/>
            <a:chOff x="685800" y="1643040"/>
            <a:chExt cx="7746840" cy="3919680"/>
          </a:xfrm>
        </p:grpSpPr>
        <p:grpSp>
          <p:nvGrpSpPr>
            <p:cNvPr id="93" name=""/>
            <p:cNvGrpSpPr/>
            <p:nvPr/>
          </p:nvGrpSpPr>
          <p:grpSpPr>
            <a:xfrm>
              <a:off x="4457880" y="3657600"/>
              <a:ext cx="1676160" cy="1905120"/>
              <a:chOff x="4457880" y="3657600"/>
              <a:chExt cx="1676160" cy="1905120"/>
            </a:xfrm>
          </p:grpSpPr>
          <p:sp>
            <p:nvSpPr>
              <p:cNvPr id="94" name=""/>
              <p:cNvSpPr/>
              <p:nvPr/>
            </p:nvSpPr>
            <p:spPr>
              <a:xfrm>
                <a:off x="4457880" y="5105520"/>
                <a:ext cx="1676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457880" y="4648320"/>
                <a:ext cx="1676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457880" y="4191120"/>
                <a:ext cx="1676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029200" y="3657600"/>
                <a:ext cx="533520" cy="1905120"/>
              </a:xfrm>
              <a:custGeom>
                <a:avLst/>
                <a:gdLst>
                  <a:gd name="textAreaLeft" fmla="*/ 25920 w 533520"/>
                  <a:gd name="textAreaRight" fmla="*/ 507600 w 533520"/>
                  <a:gd name="textAreaTop" fmla="*/ 25920 h 1905120"/>
                  <a:gd name="textAreaBottom" fmla="*/ 1879200 h 1905120"/>
                </a:gdLst>
                <a:ahLst/>
                <a:rect l="textAreaLeft" t="textAreaTop" r="textAreaRight" b="textAreaBottom"/>
                <a:pathLst>
                  <a:path w="21600" h="77093">
                    <a:moveTo>
                      <a:pt x="3600" y="0"/>
                    </a:moveTo>
                    <a:arcTo wR="3600" hR="3600" stAng="16200000" swAng="-5400000"/>
                    <a:lnTo>
                      <a:pt x="0" y="73493"/>
                    </a:lnTo>
                    <a:arcTo wR="3600" hR="3600" stAng="10800000" swAng="-5400000"/>
                    <a:lnTo>
                      <a:pt x="18000" y="7709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cc00"/>
              </a:solidFill>
              <a:ln w="255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67676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Inde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685800" y="1643040"/>
              <a:ext cx="774684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lvl="1" marL="684360" indent="-228600">
                <a:lnSpc>
                  <a:spcPct val="90000"/>
                </a:lnSpc>
                <a:spcBef>
                  <a:spcPts val="675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ad and build in-memory indices and backpointers on the AP-238 data for speed of processing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685800" y="2230560"/>
            <a:ext cx="7746840" cy="3332160"/>
            <a:chOff x="685800" y="2230560"/>
            <a:chExt cx="7746840" cy="3332160"/>
          </a:xfrm>
        </p:grpSpPr>
        <p:sp>
          <p:nvSpPr>
            <p:cNvPr id="100" name=""/>
            <p:cNvSpPr/>
            <p:nvPr/>
          </p:nvSpPr>
          <p:spPr>
            <a:xfrm>
              <a:off x="3581280" y="3657600"/>
              <a:ext cx="838440" cy="1905120"/>
            </a:xfrm>
            <a:custGeom>
              <a:avLst/>
              <a:gdLst>
                <a:gd name="textAreaLeft" fmla="*/ 40680 w 838440"/>
                <a:gd name="textAreaRight" fmla="*/ 797760 w 838440"/>
                <a:gd name="textAreaTop" fmla="*/ 40680 h 1905120"/>
                <a:gd name="textAreaBottom" fmla="*/ 1864440 h 1905120"/>
              </a:gdLst>
              <a:ahLst/>
              <a:rect l="textAreaLeft" t="textAreaTop" r="textAreaRight" b="textAreaBottom"/>
              <a:pathLst>
                <a:path w="21600" h="49068">
                  <a:moveTo>
                    <a:pt x="3600" y="0"/>
                  </a:moveTo>
                  <a:arcTo wR="3600" hR="3600" stAng="16200000" swAng="-5400000"/>
                  <a:lnTo>
                    <a:pt x="0" y="45468"/>
                  </a:lnTo>
                  <a:arcTo wR="3600" hR="3600" stAng="10800000" swAng="-5400000"/>
                  <a:lnTo>
                    <a:pt x="18000" y="490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TI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++  AP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85800" y="2230560"/>
              <a:ext cx="774684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lvl="1" marL="684360" indent="-228600">
                <a:lnSpc>
                  <a:spcPct val="90000"/>
                </a:lnSpc>
                <a:spcBef>
                  <a:spcPts val="675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implify use of AP-238 data by providing API to common access paths and calculations.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905120" y="3429000"/>
            <a:ext cx="6248160" cy="3048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268920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IX — Expan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157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inue to add value by expanding servi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geometric processing ability via ACIS/Parasolid kernel interfac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itional validation, creation, update, and other useful application servic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72200" y="3581280"/>
            <a:ext cx="1752480" cy="2667240"/>
          </a:xfrm>
          <a:prstGeom prst="ellipse">
            <a:avLst/>
          </a:prstGeom>
          <a:solidFill>
            <a:srgbClr val="66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-2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3657600"/>
            <a:ext cx="838080" cy="2286000"/>
          </a:xfrm>
          <a:custGeom>
            <a:avLst/>
            <a:gdLst>
              <a:gd name="textAreaLeft" fmla="*/ 40680 w 838080"/>
              <a:gd name="textAreaRight" fmla="*/ 797400 w 838080"/>
              <a:gd name="textAreaTop" fmla="*/ 40680 h 2286000"/>
              <a:gd name="textAreaBottom" fmla="*/ 2245320 h 2286000"/>
            </a:gdLst>
            <a:ahLst/>
            <a:rect l="textAreaLeft" t="textAreaTop" r="textAreaRight" b="textAreaBottom"/>
            <a:pathLst>
              <a:path w="21600" h="58902">
                <a:moveTo>
                  <a:pt x="3600" y="0"/>
                </a:moveTo>
                <a:arcTo wR="3600" hR="3600" stAng="16200000" swAng="-5400000"/>
                <a:lnTo>
                  <a:pt x="0" y="55302"/>
                </a:lnTo>
                <a:arcTo wR="3600" hR="3600" stAng="10800000" swAng="-5400000"/>
                <a:lnTo>
                  <a:pt x="18000" y="589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++  A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6200" y="4343400"/>
            <a:ext cx="22478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86200" y="3962520"/>
            <a:ext cx="22478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3657600"/>
            <a:ext cx="533520" cy="990720"/>
          </a:xfrm>
          <a:custGeom>
            <a:avLst/>
            <a:gdLst>
              <a:gd name="textAreaLeft" fmla="*/ 25920 w 533520"/>
              <a:gd name="textAreaRight" fmla="*/ 507600 w 533520"/>
              <a:gd name="textAreaTop" fmla="*/ 25920 h 990720"/>
              <a:gd name="textAreaBottom" fmla="*/ 964800 h 990720"/>
            </a:gdLst>
            <a:ahLst/>
            <a:rect l="textAreaLeft" t="textAreaTop" r="textAreaRight" b="textAreaBottom"/>
            <a:pathLst>
              <a:path w="21600" h="40098">
                <a:moveTo>
                  <a:pt x="3600" y="0"/>
                </a:moveTo>
                <a:arcTo wR="3600" hR="3600" stAng="16200000" swAng="-5400000"/>
                <a:lnTo>
                  <a:pt x="0" y="36498"/>
                </a:lnTo>
                <a:arcTo wR="3600" hR="3600" stAng="10800000" swAng="-5400000"/>
                <a:lnTo>
                  <a:pt x="18000" y="400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8120" y="6172200"/>
            <a:ext cx="31845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82160" y="3733920"/>
            <a:ext cx="7279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e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79320" y="5342040"/>
            <a:ext cx="1309320" cy="65052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79320" y="4808880"/>
            <a:ext cx="1311840" cy="37728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i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3657600"/>
            <a:ext cx="1295280" cy="266688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 flipV="1">
            <a:off x="3352680" y="3504960"/>
            <a:ext cx="99072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66880" y="320040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24080" y="3276720"/>
            <a:ext cx="1143000" cy="75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419120" y="419112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38240" y="4079880"/>
            <a:ext cx="304920" cy="152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85960" y="4308480"/>
            <a:ext cx="304560" cy="152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66840" y="4308480"/>
            <a:ext cx="304920" cy="152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97760" y="4495680"/>
            <a:ext cx="90936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tup inf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666880" y="50292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352680" y="4648320"/>
            <a:ext cx="106704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438280" y="4267080"/>
            <a:ext cx="457200" cy="609480"/>
            <a:chOff x="2438280" y="4267080"/>
            <a:chExt cx="457200" cy="609480"/>
          </a:xfrm>
        </p:grpSpPr>
        <p:sp>
          <p:nvSpPr>
            <p:cNvPr id="126" name=""/>
            <p:cNvSpPr/>
            <p:nvPr/>
          </p:nvSpPr>
          <p:spPr>
            <a:xfrm flipH="1">
              <a:off x="2438280" y="4267080"/>
              <a:ext cx="7632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160" y="4267080"/>
              <a:ext cx="7632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666880" y="4267080"/>
              <a:ext cx="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6019920" y="3429000"/>
            <a:ext cx="838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72200" y="6095880"/>
            <a:ext cx="838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029200" y="4952880"/>
            <a:ext cx="457200" cy="609480"/>
            <a:chOff x="5029200" y="4952880"/>
            <a:chExt cx="457200" cy="609480"/>
          </a:xfrm>
        </p:grpSpPr>
        <p:sp>
          <p:nvSpPr>
            <p:cNvPr id="132" name=""/>
            <p:cNvSpPr/>
            <p:nvPr/>
          </p:nvSpPr>
          <p:spPr>
            <a:xfrm flipH="1">
              <a:off x="5029200" y="4952880"/>
              <a:ext cx="7632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410080" y="4952880"/>
              <a:ext cx="7632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257800" y="4952880"/>
              <a:ext cx="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4419720" y="4267080"/>
            <a:ext cx="1600200" cy="6858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93200" y="5633640"/>
            <a:ext cx="2231280" cy="8298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93120" y="5334120"/>
            <a:ext cx="12139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h, Profil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per, Bot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19920" y="4648320"/>
            <a:ext cx="838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6934320" y="4343400"/>
            <a:ext cx="685800" cy="609480"/>
            <a:chOff x="6934320" y="4343400"/>
            <a:chExt cx="685800" cy="609480"/>
          </a:xfrm>
        </p:grpSpPr>
        <p:sp>
          <p:nvSpPr>
            <p:cNvPr id="140" name=""/>
            <p:cNvSpPr/>
            <p:nvPr/>
          </p:nvSpPr>
          <p:spPr>
            <a:xfrm>
              <a:off x="7315560" y="4419360"/>
              <a:ext cx="304560" cy="152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315560" y="4724280"/>
              <a:ext cx="304560" cy="152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934320" y="4343400"/>
              <a:ext cx="304920" cy="152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934320" y="4800600"/>
              <a:ext cx="304920" cy="152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010640" y="4572000"/>
              <a:ext cx="304920" cy="152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7580880" y="4267080"/>
            <a:ext cx="12596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ceme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ientati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ce geometry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62920" y="5943600"/>
            <a:ext cx="304560" cy="152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10280" y="6172200"/>
            <a:ext cx="304920" cy="152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391520" y="6172200"/>
            <a:ext cx="304560" cy="152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96800" y="5902200"/>
            <a:ext cx="1005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53720" y="3034440"/>
            <a:ext cx="1353240" cy="47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315680" y="3186720"/>
            <a:ext cx="1891800" cy="47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pie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99280" y="3955680"/>
            <a:ext cx="1732320" cy="47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42148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perties and Relationshi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199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ctions to access major concepts, relations, and parame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longer need to be an AIM expert to do something useful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en AIM experts will find this saves time.  Already traverses through the property definitions, reps, rep items, et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433080" y="4910760"/>
            <a:ext cx="3097800" cy="805320"/>
            <a:chOff x="433080" y="4910760"/>
            <a:chExt cx="3097800" cy="805320"/>
          </a:xfrm>
        </p:grpSpPr>
        <p:sp>
          <p:nvSpPr>
            <p:cNvPr id="156" name=""/>
            <p:cNvSpPr/>
            <p:nvPr/>
          </p:nvSpPr>
          <p:spPr>
            <a:xfrm flipH="1">
              <a:off x="1371600" y="5153040"/>
              <a:ext cx="53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801080" y="4910760"/>
              <a:ext cx="1729800" cy="4780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orkste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90720" y="5041800"/>
              <a:ext cx="304560" cy="152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38080" y="5270400"/>
              <a:ext cx="304920" cy="152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219320" y="5270400"/>
              <a:ext cx="304560" cy="152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80" y="5457960"/>
              <a:ext cx="153108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chining para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6934320" y="3124080"/>
            <a:ext cx="685800" cy="609480"/>
            <a:chOff x="6934320" y="3124080"/>
            <a:chExt cx="685800" cy="609480"/>
          </a:xfrm>
        </p:grpSpPr>
        <p:sp>
          <p:nvSpPr>
            <p:cNvPr id="163" name=""/>
            <p:cNvSpPr/>
            <p:nvPr/>
          </p:nvSpPr>
          <p:spPr>
            <a:xfrm>
              <a:off x="7315560" y="3200040"/>
              <a:ext cx="304560" cy="152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315560" y="3504960"/>
              <a:ext cx="304560" cy="152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34320" y="3124080"/>
              <a:ext cx="304920" cy="152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934320" y="3581280"/>
              <a:ext cx="304920" cy="152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010640" y="3352680"/>
              <a:ext cx="304920" cy="152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7605720" y="3146400"/>
            <a:ext cx="123372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ock, shap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terial,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257800" y="365760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1668240" y="6143760"/>
            <a:ext cx="5331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04200" y="5901480"/>
            <a:ext cx="1122480" cy="47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87360" y="6032520"/>
            <a:ext cx="304920" cy="152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35080" y="6261120"/>
            <a:ext cx="304920" cy="152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15960" y="6261120"/>
            <a:ext cx="304920" cy="152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4880" y="6448320"/>
            <a:ext cx="15829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ol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659040" y="3857760"/>
            <a:ext cx="587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 flipV="1">
            <a:off x="4724280" y="37339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6454800" y="37339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470232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Avoid Having to Learn Thi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33440" y="1696680"/>
            <a:ext cx="2219040" cy="118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e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lex instan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instanced_featu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round_h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66160" y="4098960"/>
            <a:ext cx="1353240" cy="45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pe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78960" y="4891320"/>
            <a:ext cx="1728360" cy="45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pe re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th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91120" y="3220560"/>
            <a:ext cx="1901880" cy="57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0"/>
            <a:endCxn id="183" idx="2"/>
          </p:cNvCxnSpPr>
          <p:nvPr/>
        </p:nvCxnSpPr>
        <p:spPr>
          <a:xfrm flipV="1">
            <a:off x="1542600" y="3940920"/>
            <a:ext cx="1080" cy="1515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5" name=""/>
          <p:cNvCxnSpPr>
            <a:stCxn id="181" idx="2"/>
            <a:endCxn id="182" idx="0"/>
          </p:cNvCxnSpPr>
          <p:nvPr/>
        </p:nvCxnSpPr>
        <p:spPr>
          <a:xfrm flipV="1" rot="10800000">
            <a:off x="1542240" y="4562280"/>
            <a:ext cx="1080" cy="32292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  <a:endCxn id="180" idx="2"/>
          </p:cNvCxnSpPr>
          <p:nvPr/>
        </p:nvCxnSpPr>
        <p:spPr>
          <a:xfrm flipV="1">
            <a:off x="1542600" y="2904840"/>
            <a:ext cx="1080" cy="17352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7" name=""/>
          <p:cNvSpPr/>
          <p:nvPr/>
        </p:nvSpPr>
        <p:spPr>
          <a:xfrm>
            <a:off x="695520" y="5784840"/>
            <a:ext cx="1696320" cy="45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xis_placement_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me = “orienta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" name=""/>
          <p:cNvCxnSpPr>
            <a:stCxn id="182" idx="2"/>
            <a:endCxn id="187" idx="0"/>
          </p:cNvCxnSpPr>
          <p:nvPr/>
        </p:nvCxnSpPr>
        <p:spPr>
          <a:xfrm>
            <a:off x="1542600" y="5354280"/>
            <a:ext cx="2520" cy="424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9" name=""/>
          <p:cNvSpPr/>
          <p:nvPr/>
        </p:nvSpPr>
        <p:spPr>
          <a:xfrm>
            <a:off x="4270680" y="2017080"/>
            <a:ext cx="2599920" cy="94428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Dep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th_feature_compon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= “linear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89160" y="4086360"/>
            <a:ext cx="1353240" cy="45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pe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601600" y="4878360"/>
            <a:ext cx="1728360" cy="45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pe re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th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84960" y="3340800"/>
            <a:ext cx="1970640" cy="33516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perty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90" idx="2"/>
            <a:endCxn id="191" idx="0"/>
          </p:cNvCxnSpPr>
          <p:nvPr/>
        </p:nvCxnSpPr>
        <p:spPr>
          <a:xfrm flipV="1" rot="10800000">
            <a:off x="6465240" y="4549320"/>
            <a:ext cx="1080" cy="32292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4" name=""/>
          <p:cNvCxnSpPr>
            <a:stCxn id="192" idx="0"/>
            <a:endCxn id="189" idx="2"/>
          </p:cNvCxnSpPr>
          <p:nvPr/>
        </p:nvCxnSpPr>
        <p:spPr>
          <a:xfrm flipV="1">
            <a:off x="5570280" y="2981160"/>
            <a:ext cx="1080" cy="3402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6802560" y="5450040"/>
            <a:ext cx="2109240" cy="639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ngth_measure_with_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me = “distanc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ue = 100 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503480" y="1909800"/>
            <a:ext cx="1272600" cy="82188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593480" y="3097440"/>
            <a:ext cx="1092600" cy="82188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7" idx="0"/>
            <a:endCxn id="196" idx="2"/>
          </p:cNvCxnSpPr>
          <p:nvPr/>
        </p:nvCxnSpPr>
        <p:spPr>
          <a:xfrm flipV="1">
            <a:off x="8140320" y="2752200"/>
            <a:ext cx="1080" cy="32472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" name=""/>
          <p:cNvCxnSpPr>
            <a:stCxn id="189" idx="3"/>
            <a:endCxn id="197" idx="1"/>
          </p:cNvCxnSpPr>
          <p:nvPr/>
        </p:nvCxnSpPr>
        <p:spPr>
          <a:xfrm>
            <a:off x="6892560" y="2488680"/>
            <a:ext cx="680040" cy="101988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991680" y="1136880"/>
            <a:ext cx="1260360" cy="45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pe def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lation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04720" y="2068200"/>
            <a:ext cx="824400" cy="57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p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200" idx="3"/>
            <a:endCxn id="189" idx="0"/>
          </p:cNvCxnSpPr>
          <p:nvPr/>
        </p:nvCxnSpPr>
        <p:spPr>
          <a:xfrm>
            <a:off x="5257440" y="1364760"/>
            <a:ext cx="313560" cy="63252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200" idx="1"/>
            <a:endCxn id="201" idx="0"/>
          </p:cNvCxnSpPr>
          <p:nvPr/>
        </p:nvCxnSpPr>
        <p:spPr>
          <a:xfrm flipV="1" rot="10800000">
            <a:off x="3617280" y="1364040"/>
            <a:ext cx="369000" cy="68364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201" idx="1"/>
            <a:endCxn id="183" idx="3"/>
          </p:cNvCxnSpPr>
          <p:nvPr/>
        </p:nvCxnSpPr>
        <p:spPr>
          <a:xfrm flipV="1" rot="10800000">
            <a:off x="2515320" y="2356920"/>
            <a:ext cx="670680" cy="115344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5" name=""/>
          <p:cNvSpPr/>
          <p:nvPr/>
        </p:nvSpPr>
        <p:spPr>
          <a:xfrm>
            <a:off x="3949920" y="4086360"/>
            <a:ext cx="1530000" cy="45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erty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057200" y="4878360"/>
            <a:ext cx="1312200" cy="45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rection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" name=""/>
          <p:cNvCxnSpPr>
            <a:stCxn id="205" idx="2"/>
            <a:endCxn id="206" idx="0"/>
          </p:cNvCxnSpPr>
          <p:nvPr/>
        </p:nvCxnSpPr>
        <p:spPr>
          <a:xfrm rot="5400000">
            <a:off x="4552200" y="4709520"/>
            <a:ext cx="322920" cy="2520"/>
          </a:xfrm>
          <a:prstGeom prst="bentConnector3">
            <a:avLst>
              <a:gd name="adj1" fmla="val 4966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8" name=""/>
          <p:cNvSpPr/>
          <p:nvPr/>
        </p:nvSpPr>
        <p:spPr>
          <a:xfrm>
            <a:off x="4299480" y="5662800"/>
            <a:ext cx="827640" cy="27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6" idx="2"/>
            <a:endCxn id="208" idx="0"/>
          </p:cNvCxnSpPr>
          <p:nvPr/>
        </p:nvCxnSpPr>
        <p:spPr>
          <a:xfrm>
            <a:off x="4712760" y="5341680"/>
            <a:ext cx="1080" cy="315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0" name=""/>
          <p:cNvSpPr/>
          <p:nvPr/>
        </p:nvSpPr>
        <p:spPr>
          <a:xfrm>
            <a:off x="6799320" y="6196320"/>
            <a:ext cx="1603080" cy="27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xis_placement_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191" idx="2"/>
            <a:endCxn id="195" idx="1"/>
          </p:cNvCxnSpPr>
          <p:nvPr/>
        </p:nvCxnSpPr>
        <p:spPr>
          <a:xfrm flipH="1" rot="16200000">
            <a:off x="6418440" y="5389200"/>
            <a:ext cx="429120" cy="33408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"/>
          <p:cNvCxnSpPr>
            <a:stCxn id="191" idx="2"/>
            <a:endCxn id="210" idx="1"/>
          </p:cNvCxnSpPr>
          <p:nvPr/>
        </p:nvCxnSpPr>
        <p:spPr>
          <a:xfrm flipH="1" rot="16200000">
            <a:off x="6136560" y="5671080"/>
            <a:ext cx="992880" cy="33408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"/>
          <p:cNvSpPr/>
          <p:nvPr/>
        </p:nvSpPr>
        <p:spPr>
          <a:xfrm>
            <a:off x="227160" y="990720"/>
            <a:ext cx="199728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nd Hole Dep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201456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IX Exam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75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 a simple 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 harness during develop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2666880"/>
            <a:ext cx="8029800" cy="3657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EP-NC Index Contents Report ------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rojects: 1 pres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[0] name = 1 (id #184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workplan = machining operations (id #7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tups: n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Workpieces: 2 pres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[0] name = 1 A A (id #171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hape = advanced_brep_shape_representation (id #63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hape length unit = millimet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ock = &lt;no-name&gt; A A (id #17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ock length unit = millimet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ock min/max X = 0 / 125  (12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ock min/max Y = 0 / 75  (7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ock min/max Z = 0 / 50  (5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[1] </a:t>
            </a:r>
            <a:r>
              <a:rPr b="0" i="1" lang="en-US" sz="1200" spc="-1" strike="noStrike">
                <a:solidFill>
                  <a:srgbClr val="000000"/>
                </a:solidFill>
                <a:latin typeface="Courier New"/>
              </a:rPr>
              <a:t>[ . . . the stock . . . 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49120" y="1077120"/>
            <a:ext cx="2847600" cy="1372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include "stix.h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in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ixNC stepnc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epnc.load (argv[1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epnc.dump_repor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37558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IX Example (continue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91920" y="1222200"/>
            <a:ext cx="7746840" cy="41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ort wri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3520" y="1066680"/>
            <a:ext cx="8029440" cy="5181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oot Workplan: workplan machining operations (id #75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 elem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tup = n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[0 - 1] workplan Drill-2 (id #76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 elem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tup = n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[0 - 1] workingstep drilling (#4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ent = Drill-2 (#7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scription = Drill-1-Micro-1-Hole-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peration type = Drilling (drilling_oper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roperty = security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roperty = retract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roperty = cutting dep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ool: type: 12.7000 mm TWIST_DRILL (id #32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ame: TL DRILL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ameter: 1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dge (flute) length: 21.18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dge radius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ircumference angle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echnology (#1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roperty = spin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roperty = cutsp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unctions (#1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roperty = coo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-process feature = round hole (#14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inal feature = round hole (#14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2T15:58:55Z</dcterms:created>
  <dc:creator>David Loffredo</dc:creator>
  <dc:description/>
  <dc:language>en-US</dc:language>
  <cp:lastModifiedBy>David Loffredo</cp:lastModifiedBy>
  <dcterms:modified xsi:type="dcterms:W3CDTF">2003-01-29T17:01:04Z</dcterms:modified>
  <cp:revision>200</cp:revision>
  <dc:subject/>
  <dc:title>STIX Interface</dc:title>
</cp:coreProperties>
</file>