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103-4469-42EB-B681-41D0AAE9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512-E68F-496E-BEE2-CF015F95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6B6-4C70-4BB1-A7B8-AEF31A44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83A-9D88-470D-88AC-7E3EF941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E45-2EB4-4A05-95C0-39883BF9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6A8-2290-4442-849F-02E5BE6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10E-214B-4BCA-85B7-6C16F411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398-CF45-4560-932F-657CA12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7AE-6BD6-46F5-BC65-60AA9C9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2BA-652A-45E3-B83B-84E01EC8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683-55EA-4E78-A436-511DB11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767-E1E3-4F7F-843F-F48294B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4DD8-F30C-4E32-AC9B-9F4321579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mac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C STEP-N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and Progres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hen-Han 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C Controller, Ph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of the phase 1 of OMAC controller project is to build a prototype OMAC controll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s 3-axis parts relia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TEP-NC tool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open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ca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ject is led by LCMS.  LCMS and Boeing are leading the effort to get government fu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1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art program that includes Toolpath and tool characteristics, any machine of proper capability must produce the correct p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ing overrides must be allowed and self adjusting and documenting.  User defined macros should be handled by the control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upport bi-directional data 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1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1600200"/>
          <a:ext cx="7467120" cy="4140000"/>
        </p:xfrm>
        <a:graphic>
          <a:graphicData uri="http://schemas.openxmlformats.org/drawingml/2006/table">
            <a:tbl>
              <a:tblPr/>
              <a:tblGrid>
                <a:gridCol w="3733560"/>
                <a:gridCol w="37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s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 D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 Spec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 H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ler C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Parts/C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746280" y="598500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dates to be determined in the next Orlando meeting (Feb 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 STEP-NC In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1600200"/>
          <a:ext cx="8305560" cy="4649760"/>
        </p:xfrm>
        <a:graphic>
          <a:graphicData uri="http://schemas.openxmlformats.org/drawingml/2006/table">
            <a:tbl>
              <a:tblPr/>
              <a:tblGrid>
                <a:gridCol w="1371600"/>
                <a:gridCol w="510516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tolerance in operation and Toolpa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r to SC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contact trajectories in Toolpa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r to SC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speed/feed trajectories in Toolpa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r to SC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sure GD&amp;T is fully suppor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support for machine tool configur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(AP24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rporate machine execution dat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it for inputs from OMA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SO STEP-NC In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600200"/>
          <a:ext cx="8305560" cy="4284720"/>
        </p:xfrm>
        <a:graphic>
          <a:graphicData uri="http://schemas.openxmlformats.org/drawingml/2006/table">
            <a:tbl>
              <a:tblPr/>
              <a:tblGrid>
                <a:gridCol w="1371600"/>
                <a:gridCol w="510516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sure AP238 covers probing operations and AP219 covers probing resul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date the ARM to cover timestam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user guide for toolpath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user guide for probing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user guide for logical construc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-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 user guide for simultaneous machining (merging lath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C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e Brown is working with OMAC HMI WG on defining the schema of the basic interface data of OMAC controll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vailable, the interface data will be utilized by the phase 1 OMAC controller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plan to extend the coverage for machine execution data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C STEP-NC 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complementary to other STEP-NC projects and our focus is on the machining side,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-bound data to and out-bound data from control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machining and inspection of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CAD/CAM, CNC, and machine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tral Hop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al Hopper is the neutral input data to the controller motion pla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competing standards of STEP-NC explicit toolpaths, CL data, and M&amp;G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extensive debates, we settled for the modern and flexible STEP-NC explicit toolpaths, with proposed extensions to cover SCL function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956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81480" y="2610000"/>
            <a:ext cx="13716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/Machining 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1560" y="3610080"/>
            <a:ext cx="13813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 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90840" y="4095720"/>
            <a:ext cx="13813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path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29440" y="4829040"/>
            <a:ext cx="13809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o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81480" y="5629320"/>
            <a:ext cx="3733560" cy="9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19440" y="5952960"/>
            <a:ext cx="91440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53080" y="5952960"/>
            <a:ext cx="91440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15160" y="5952960"/>
            <a:ext cx="91440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ting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067080" y="9334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71680" y="1386000"/>
            <a:ext cx="1143000" cy="54288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905120"/>
            <a:ext cx="1395360" cy="54288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-NC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8360" y="3400560"/>
            <a:ext cx="1895760" cy="54288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process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24480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24440" y="3848040"/>
            <a:ext cx="1143000" cy="54288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pa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3257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389556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72160" y="4172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34120" y="3685680"/>
            <a:ext cx="8474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29560" y="425772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440" y="4505400"/>
            <a:ext cx="1133640" cy="52380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6040" y="42577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067080" y="459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52720" y="4981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28760" y="3467160"/>
            <a:ext cx="1143000" cy="54288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62440" y="3943080"/>
            <a:ext cx="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62440" y="50482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62440" y="31525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62440" y="3152880"/>
            <a:ext cx="40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0840" y="4896000"/>
            <a:ext cx="13813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ing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4840" y="1919160"/>
            <a:ext cx="43200" cy="325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48040" y="517212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48040" y="21621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67440" y="409572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3960" y="1919160"/>
            <a:ext cx="33480" cy="442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574344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348160"/>
            <a:ext cx="1338120" cy="5619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 Too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00400" y="630540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52560" y="6024600"/>
            <a:ext cx="1333440" cy="54288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ability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647360" y="5638680"/>
            <a:ext cx="18108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47720" y="636264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62840" y="2685960"/>
            <a:ext cx="1457280" cy="54288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 Too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10320" y="322884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600960" y="2495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81560" y="2028960"/>
            <a:ext cx="2200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from Resourc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95760" y="4257360"/>
            <a:ext cx="1019520" cy="16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48040" y="2781360"/>
            <a:ext cx="13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43560" y="5029200"/>
            <a:ext cx="71424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124400" y="5486400"/>
            <a:ext cx="228600" cy="62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0980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ng-term goals for phase 2 &amp; 3 are advanced manufacturing feedback loops,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process simulation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-process probing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-process re-machining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process improvement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v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who we (OMAC STEP-NC) are and what we are f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ize past milestones and current activ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our technical views and future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Modular Architecture Controls (OMAC) is a non-profit user group (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omac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devoted to promote the open architecture technologies for control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EP-NC working group of OMAC (Sid Venkatesh) focuses on the interoperability and the interface with CAD/CAM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C STEP-NC has 2 active sub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/CAM Interoperability (Ram Ramana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/CNC Interoperability (Chen-Han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knowledge and expertise to realize the interoperability and tight integration using the OMAC con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e feasibility and benefits of building an OMAC controller with interoperable components and STEP-NC compatible data ex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 to keeping the results pub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users:  Boeing, DaimlerChrysler, General Dynamics, GM, Pratt &amp; Whitne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iers:  Alibre, Cincinnati Machine, DP Technology, EDS PLM, GE Fanuc, Gibbs &amp; Associates, MDSI, Okuma, Roy-G-Biv, Siemen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:  LCMS, NI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eet 1~2 times a year and teleconference 1 or more times a mo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l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intain frequent communications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committee me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AG Metrology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ICM (Super Model)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C HMI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T J7 (SCL) committ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Milest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subgroups – Feb 2002 annual meeting in Orl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the Value Proposition – May 20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the Framework Document – Sep 20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inputs to the ISO STEP-NC committees – Oct 20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type of GD&amp;T data – Ram Ramanathan, Ali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AC controller, phase 1 – Terry Gustafson, LC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 on inputs to ISO – Chen-Han Lee, EDS PL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OMAC HMI – Dave Brown, Roy-G-B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&amp;T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GD&amp;T project is to build a prototype CAD system that outputs AP214 data with GD&amp;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ject is led and funded by Ali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20:52:21Z</dcterms:created>
  <dc:creator>Chen-Han Lee</dc:creator>
  <dc:description/>
  <dc:language>en-US</dc:language>
  <cp:lastModifiedBy>Chen-Han Lee</cp:lastModifiedBy>
  <dcterms:modified xsi:type="dcterms:W3CDTF">2003-02-03T20:08:26Z</dcterms:modified>
  <cp:revision>6</cp:revision>
  <dc:subject/>
  <dc:title>OMAC STEP-NC WG</dc:title>
</cp:coreProperties>
</file>