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BE779-C0DF-45C4-BAA9-62710FF13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6280" y="367956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B240-176E-4C89-8353-2E2A88814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596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4E0F-FEEB-4866-8624-D129E34CC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716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70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62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716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70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D682-31B6-42DB-B25A-4DA7B0C06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2B21E-B0D1-42EC-B6F1-D138AC5A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9CDD3-3CFC-401E-B036-7AF1777B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5173F-B886-4A7B-B7CF-12D2D2EE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CE598-1CAE-4312-BEE6-19DCA071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20C47-1BAA-4773-A343-D352097D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4200" y="193320"/>
            <a:ext cx="800100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E2E88-1688-4CCF-9F41-379C5F29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A1CB6-43BB-4767-B5F5-30CD647E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590B-66F8-4A9C-B1F6-6677501F4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596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23B7F-FFDE-44A8-833A-9CCE5591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B1874-0C21-438D-8065-7982C595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6280" y="367956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A3349-D3F3-4FFF-8AE7-50762CD8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596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FD426-728C-4156-8AB9-815D7077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16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770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62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716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770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27A7B-CD3E-4518-A40D-71C90892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49DE-D662-40C9-A0E3-7630B6E33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1931-AA64-4585-B87D-9F21983B6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52EB-665B-4A9D-978A-B948AB69F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4200" y="193320"/>
            <a:ext cx="800100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9D76-A9EC-4770-A572-539BA223D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9797-3B62-4DC7-B1F9-B8F15A4CD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596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9CBA-06A3-4B38-AFB1-C171B8368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DBB0-FE91-481A-8840-FBF698B6F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  <a:p>
            <a:pPr lvl="4" marL="2093760" indent="-39816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  <a:p>
            <a:pPr lvl="5" marL="2093760" indent="-398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  <a:p>
            <a:pPr lvl="6" marL="2093760" indent="-3981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80AC-D407-4D38-AF1C-1B67A90296C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74560" y="903240"/>
            <a:ext cx="350856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5DE8-40D2-4671-ACB3-C2FB93E79364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27000" y="2141640"/>
            <a:ext cx="72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Tahoma"/>
              </a:rPr>
              <a:t>TRACEABILITY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23760" y="4527720"/>
            <a:ext cx="7170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ulio Garrido Campos         &amp;       the ISO SC4/WG3/T24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garri@uvigo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niversity of Vigo (Spa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23760" y="380484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nday, 10 – Tuesday, 11, March at Sandviken, Swede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2480" y="290520"/>
            <a:ext cx="74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O TC184/SC4 WG3/T24 STEP-Manufacturing, Spring 2008 Meeting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9680" y="5288040"/>
            <a:ext cx="1108080" cy="110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19120" y="914400"/>
            <a:ext cx="8013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Some” Traceability requirements for AP-238: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5400" y="2884320"/>
            <a:ext cx="97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4560" y="2998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1. Trace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2880" y="1231920"/>
            <a:ext cx="7721640" cy="2654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ata internally required (to be used on real-tim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For driv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Data used to compute and monitor the tool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For HM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Data to be displayed on controller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ccording to mode: automatic, manual, maintenanc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Safety and environment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Knowledge 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For shop floor, workcell management and mainte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Links with inventory, tools, pallets, calibra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Tools w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Resources and energy consum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63640" y="4254480"/>
            <a:ext cx="7696080" cy="2425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ata to Trace (data commonly saved in log bloc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Data for traceability is an extract of data collected during machining. </a:t>
            </a: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Export is done after machining; this is to speed up the exec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Trace of the program is saved for further execution including manual override and/or on line computations </a:t>
            </a: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(for instance: F &amp; S instead of input data AD, RD,…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pecific data to be collected and conditions for capture are a global and/or default commands. </a:t>
            </a: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This will decrease the size and improve read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data from the log books,  workingstep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Data locally collected during exe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Measures, Test condition 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19120" y="914400"/>
            <a:ext cx="834876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Current status of the Traceability proposal for AP-23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2. Traceability NC-Functions as SC4 Dallas meeting (October 2007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The AP-238 executable Unit of Functionality and nc-fun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Proposal: Traceability nc-fun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How the Traceability nc-functions work: an examp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3. Progress since SC4 Dallas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New data types for recorded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Redefinition of Block I fun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NIST proposa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Other com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Open iss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240" y="299880"/>
            <a:ext cx="45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2. Proposal: nc-functions as SC4 Da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19120" y="1066680"/>
            <a:ext cx="3946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1720" y="1141560"/>
            <a:ext cx="392904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Verdana"/>
              </a:rPr>
              <a:t>Executable model (AP-238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Verdana"/>
              </a:rPr>
              <a:t>(ABS) Program structure: Control flow for the machining pro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Verdana"/>
              </a:rPr>
              <a:t>(ABS) workingsteps: Program Steps that move the machine a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Verdana"/>
              </a:rPr>
              <a:t>(ABS) nc_functions: Program steps that </a:t>
            </a:r>
            <a:r>
              <a:rPr b="1" lang="es-ES" sz="1800" spc="-1" strike="noStrike">
                <a:solidFill>
                  <a:srgbClr val="336699"/>
                </a:solidFill>
                <a:latin typeface="Verdana"/>
              </a:rPr>
              <a:t>do not</a:t>
            </a:r>
            <a:r>
              <a:rPr b="1" lang="es-ES" sz="1600" spc="-1" strike="noStrike">
                <a:solidFill>
                  <a:srgbClr val="336699"/>
                </a:solidFill>
                <a:latin typeface="Verdana"/>
              </a:rPr>
              <a:t> move the machine a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400" y="6181560"/>
            <a:ext cx="812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11520" y="996840"/>
            <a:ext cx="4480200" cy="53532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24240" y="299880"/>
            <a:ext cx="45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2. Proposal: nc-functions as SC4 Da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857920" y="1866960"/>
            <a:ext cx="2716200" cy="3657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that do not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the machine A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14880" y="1865160"/>
            <a:ext cx="2716200" cy="365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That m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The machine Ax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0640" y="1862280"/>
            <a:ext cx="284976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For the mach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9120" y="874800"/>
            <a:ext cx="786132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AP 238: </a:t>
            </a:r>
            <a:r>
              <a:rPr b="1" lang="en-GB" sz="1400" spc="-1" strike="noStrike">
                <a:solidFill>
                  <a:srgbClr val="336699"/>
                </a:solidFill>
                <a:latin typeface="Verdana"/>
              </a:rPr>
              <a:t>Adding Traceability NC-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87480" y="1500120"/>
            <a:ext cx="15559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(ABS) execut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60480" y="2247840"/>
            <a:ext cx="1120680" cy="49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(AB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PROGRAM STRU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8" idx="2"/>
            <a:endCxn id="259" idx="0"/>
          </p:cNvCxnSpPr>
          <p:nvPr/>
        </p:nvCxnSpPr>
        <p:spPr>
          <a:xfrm rot="5400000">
            <a:off x="2742480" y="1425240"/>
            <a:ext cx="500760" cy="1145160"/>
          </a:xfrm>
          <a:prstGeom prst="bentConnector3">
            <a:avLst>
              <a:gd name="adj1" fmla="val 49784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6276960" y="2247840"/>
            <a:ext cx="1577880" cy="24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Verdana"/>
              </a:rPr>
              <a:t>(ABS) NC_fun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30640" y="2255760"/>
            <a:ext cx="1246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(ABS) WorkingSte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58" idx="2"/>
            <a:endCxn id="261" idx="0"/>
          </p:cNvCxnSpPr>
          <p:nvPr/>
        </p:nvCxnSpPr>
        <p:spPr>
          <a:xfrm flipH="1" rot="16200000">
            <a:off x="5065560" y="246960"/>
            <a:ext cx="500760" cy="3501360"/>
          </a:xfrm>
          <a:prstGeom prst="bentConnector3">
            <a:avLst>
              <a:gd name="adj1" fmla="val 4978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908520" y="3244680"/>
            <a:ext cx="198756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Machinning_workingste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08520" y="3618000"/>
            <a:ext cx="1987560" cy="24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Rapid_mov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08520" y="3992400"/>
            <a:ext cx="198756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Touch_prob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63600" y="3532320"/>
            <a:ext cx="198756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WORK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9" idx="2"/>
            <a:endCxn id="267" idx="1"/>
          </p:cNvCxnSpPr>
          <p:nvPr/>
        </p:nvCxnSpPr>
        <p:spPr>
          <a:xfrm rot="5400000">
            <a:off x="1386720" y="2622600"/>
            <a:ext cx="910440" cy="1157760"/>
          </a:xfrm>
          <a:prstGeom prst="bentConnector4">
            <a:avLst>
              <a:gd name="adj1" fmla="val 43077"/>
              <a:gd name="adj2" fmla="val 11978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470400" y="1820880"/>
            <a:ext cx="2505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58" idx="2"/>
            <a:endCxn id="262" idx="0"/>
          </p:cNvCxnSpPr>
          <p:nvPr/>
        </p:nvCxnSpPr>
        <p:spPr>
          <a:xfrm flipH="1" rot="16200000">
            <a:off x="3904920" y="1406880"/>
            <a:ext cx="508680" cy="11898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62" idx="2"/>
            <a:endCxn id="264" idx="1"/>
          </p:cNvCxnSpPr>
          <p:nvPr/>
        </p:nvCxnSpPr>
        <p:spPr>
          <a:xfrm rot="5400000">
            <a:off x="3898440" y="2512800"/>
            <a:ext cx="865800" cy="846720"/>
          </a:xfrm>
          <a:prstGeom prst="bentConnector4">
            <a:avLst>
              <a:gd name="adj1" fmla="val 42720"/>
              <a:gd name="adj2" fmla="val 12700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62" idx="2"/>
            <a:endCxn id="266" idx="1"/>
          </p:cNvCxnSpPr>
          <p:nvPr/>
        </p:nvCxnSpPr>
        <p:spPr>
          <a:xfrm rot="5400000">
            <a:off x="3524400" y="2886840"/>
            <a:ext cx="1613520" cy="846720"/>
          </a:xfrm>
          <a:prstGeom prst="bentConnector4">
            <a:avLst>
              <a:gd name="adj1" fmla="val 22517"/>
              <a:gd name="adj2" fmla="val 12700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1266840" y="3863880"/>
            <a:ext cx="198756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parall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66840" y="4200480"/>
            <a:ext cx="198756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If_stat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5400" y="4529160"/>
            <a:ext cx="198756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while_stat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59" idx="2"/>
            <a:endCxn id="273" idx="1"/>
          </p:cNvCxnSpPr>
          <p:nvPr/>
        </p:nvCxnSpPr>
        <p:spPr>
          <a:xfrm rot="5400000">
            <a:off x="1222560" y="2790000"/>
            <a:ext cx="1242000" cy="1154880"/>
          </a:xfrm>
          <a:prstGeom prst="bentConnector4">
            <a:avLst>
              <a:gd name="adj1" fmla="val 30791"/>
              <a:gd name="adj2" fmla="val 1198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59" idx="2"/>
            <a:endCxn id="274" idx="1"/>
          </p:cNvCxnSpPr>
          <p:nvPr/>
        </p:nvCxnSpPr>
        <p:spPr>
          <a:xfrm rot="5400000">
            <a:off x="1054440" y="2958120"/>
            <a:ext cx="1578600" cy="1154880"/>
          </a:xfrm>
          <a:prstGeom prst="bentConnector4">
            <a:avLst>
              <a:gd name="adj1" fmla="val 24224"/>
              <a:gd name="adj2" fmla="val 1198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59" idx="2"/>
            <a:endCxn id="275" idx="1"/>
          </p:cNvCxnSpPr>
          <p:nvPr/>
        </p:nvCxnSpPr>
        <p:spPr>
          <a:xfrm rot="5400000">
            <a:off x="889200" y="3121920"/>
            <a:ext cx="1907280" cy="1156320"/>
          </a:xfrm>
          <a:prstGeom prst="bentConnector4">
            <a:avLst>
              <a:gd name="adj1" fmla="val 19728"/>
              <a:gd name="adj2" fmla="val 11977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62" idx="2"/>
            <a:endCxn id="265" idx="1"/>
          </p:cNvCxnSpPr>
          <p:nvPr/>
        </p:nvCxnSpPr>
        <p:spPr>
          <a:xfrm rot="5400000">
            <a:off x="3710880" y="2700360"/>
            <a:ext cx="1240560" cy="846720"/>
          </a:xfrm>
          <a:prstGeom prst="bentConnector4">
            <a:avLst>
              <a:gd name="adj1" fmla="val 29172"/>
              <a:gd name="adj2" fmla="val 12700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6459480" y="2803680"/>
            <a:ext cx="1987560" cy="24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Display_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61280" y="3152880"/>
            <a:ext cx="198756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Program_S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61" idx="2"/>
            <a:endCxn id="280" idx="1"/>
          </p:cNvCxnSpPr>
          <p:nvPr/>
        </p:nvCxnSpPr>
        <p:spPr>
          <a:xfrm rot="5400000">
            <a:off x="6546600" y="2408760"/>
            <a:ext cx="431280" cy="607320"/>
          </a:xfrm>
          <a:prstGeom prst="bentConnector4">
            <a:avLst>
              <a:gd name="adj1" fmla="val 35421"/>
              <a:gd name="adj2" fmla="val 1376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1" idx="2"/>
            <a:endCxn id="281" idx="1"/>
          </p:cNvCxnSpPr>
          <p:nvPr/>
        </p:nvCxnSpPr>
        <p:spPr>
          <a:xfrm rot="5400000">
            <a:off x="6373080" y="2584440"/>
            <a:ext cx="780480" cy="605520"/>
          </a:xfrm>
          <a:prstGeom prst="bentConnector4">
            <a:avLst>
              <a:gd name="adj1" fmla="val 19104"/>
              <a:gd name="adj2" fmla="val 13777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6408720" y="3602160"/>
            <a:ext cx="2073240" cy="105984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raceability nc_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/>
          <p:nvPr/>
        </p:nvCxnSpPr>
        <p:spPr>
          <a:xfrm rot="5400000">
            <a:off x="5938920" y="2946960"/>
            <a:ext cx="1570680" cy="657720"/>
          </a:xfrm>
          <a:prstGeom prst="bentConnector4">
            <a:avLst>
              <a:gd name="adj1" fmla="val 9995"/>
              <a:gd name="adj2" fmla="val 1248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>
            <a:off x="630360" y="299880"/>
            <a:ext cx="46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2. Propos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: nc-functions as SC4 Da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519120" y="1066680"/>
            <a:ext cx="80136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8000"/>
          </a:bodyPr>
          <a:p>
            <a:pPr marL="61560" indent="-6156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99"/>
                </a:solidFill>
                <a:latin typeface="Verdana"/>
              </a:rPr>
              <a:t>Three Groups of Functions for data traceabilit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560" indent="-51120"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Verdana"/>
              </a:rPr>
              <a:t>Group 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5560" indent="-4104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6699"/>
                </a:solidFill>
                <a:latin typeface="Verdana"/>
              </a:rPr>
              <a:t>Blocking Functions</a:t>
            </a:r>
            <a:r>
              <a:rPr b="0" lang="en-GB" sz="1000" spc="-1" strike="noStrike">
                <a:solidFill>
                  <a:srgbClr val="336699"/>
                </a:solidFill>
                <a:latin typeface="Verdana"/>
              </a:rPr>
              <a:t>, take control of the program, collect a punctual or single value of data to be used in CNC calculations and return control to machining flow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560" indent="-51120"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Verdana"/>
              </a:rPr>
              <a:t>Group I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5560" indent="-4104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6699"/>
                </a:solidFill>
                <a:latin typeface="Verdana"/>
              </a:rPr>
              <a:t>Switching Functions</a:t>
            </a:r>
            <a:r>
              <a:rPr b="0" lang="en-GB" sz="1000" spc="-1" strike="noStrike">
                <a:solidFill>
                  <a:srgbClr val="336699"/>
                </a:solidFill>
                <a:latin typeface="Verdana"/>
              </a:rPr>
              <a:t>, activate data collection or event information for a period of time. A </a:t>
            </a:r>
            <a:r>
              <a:rPr b="1" lang="en-GB" sz="1000" spc="-1" strike="noStrike" u="sng">
                <a:solidFill>
                  <a:srgbClr val="336699"/>
                </a:solidFill>
                <a:uFillTx/>
                <a:latin typeface="Verdana"/>
              </a:rPr>
              <a:t>switching on</a:t>
            </a:r>
            <a:r>
              <a:rPr b="0" lang="en-GB" sz="1000" spc="-1" strike="noStrike">
                <a:solidFill>
                  <a:srgbClr val="336699"/>
                </a:solidFill>
                <a:latin typeface="Verdana"/>
              </a:rPr>
              <a:t> functions activates the data monitoring until the corresponding </a:t>
            </a:r>
            <a:r>
              <a:rPr b="1" lang="en-GB" sz="1000" spc="-1" strike="noStrike" u="sng">
                <a:solidFill>
                  <a:srgbClr val="336699"/>
                </a:solidFill>
                <a:uFillTx/>
                <a:latin typeface="Verdana"/>
              </a:rPr>
              <a:t>switching off</a:t>
            </a:r>
            <a:r>
              <a:rPr b="0" lang="en-GB" sz="1000" spc="-1" strike="noStrike">
                <a:solidFill>
                  <a:srgbClr val="336699"/>
                </a:solidFill>
                <a:latin typeface="Verdana"/>
              </a:rPr>
              <a:t> functions id found in the progr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560" indent="-51120"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Verdana"/>
              </a:rPr>
              <a:t>Group II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205560" indent="-4104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6699"/>
                </a:solidFill>
                <a:latin typeface="Verdana"/>
              </a:rPr>
              <a:t>Synchronous Functions</a:t>
            </a:r>
            <a:r>
              <a:rPr b="0" lang="en-GB" sz="1000" spc="-1" strike="noStrike">
                <a:solidFill>
                  <a:srgbClr val="336699"/>
                </a:solidFill>
                <a:latin typeface="Verdana"/>
              </a:rPr>
              <a:t>, continuously monitor data to trigger if a condition is fulfilled a series of actions grouped as a workpla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45000" y="3279600"/>
            <a:ext cx="1986120" cy="306720"/>
          </a:xfrm>
          <a:prstGeom prst="rect">
            <a:avLst/>
          </a:prstGeom>
          <a:solidFill>
            <a:srgbClr val="33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(ABS) nc_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10200" y="3718080"/>
            <a:ext cx="2282760" cy="80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Single Value trac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unctions (BLOCK 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4960" y="4589640"/>
            <a:ext cx="2274840" cy="890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switching (on/of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unctions (BLOCK 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08640" y="5545080"/>
            <a:ext cx="2384640" cy="88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synchro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switching (on/of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(With action)(BLOCK 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88" idx="1"/>
            <a:endCxn id="289" idx="1"/>
          </p:cNvCxnSpPr>
          <p:nvPr/>
        </p:nvCxnSpPr>
        <p:spPr>
          <a:xfrm flipH="1" flipV="1" rot="10800000">
            <a:off x="4535280" y="3433320"/>
            <a:ext cx="575280" cy="689760"/>
          </a:xfrm>
          <a:prstGeom prst="bentConnector3">
            <a:avLst>
              <a:gd name="adj1" fmla="val -38071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93" name=""/>
          <p:cNvCxnSpPr>
            <a:stCxn id="288" idx="1"/>
            <a:endCxn id="290" idx="1"/>
          </p:cNvCxnSpPr>
          <p:nvPr/>
        </p:nvCxnSpPr>
        <p:spPr>
          <a:xfrm flipH="1" flipV="1" rot="10800000">
            <a:off x="4534560" y="3433320"/>
            <a:ext cx="950040" cy="1602720"/>
          </a:xfrm>
          <a:prstGeom prst="bentConnector3">
            <a:avLst>
              <a:gd name="adj1" fmla="val -23047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94" name=""/>
          <p:cNvCxnSpPr>
            <a:stCxn id="288" idx="1"/>
            <a:endCxn id="291" idx="1"/>
          </p:cNvCxnSpPr>
          <p:nvPr/>
        </p:nvCxnSpPr>
        <p:spPr>
          <a:xfrm flipH="1" flipV="1" rot="10800000">
            <a:off x="4534560" y="3432240"/>
            <a:ext cx="1773720" cy="2553120"/>
          </a:xfrm>
          <a:prstGeom prst="bentConnector3">
            <a:avLst>
              <a:gd name="adj1" fmla="val -12342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624240" y="299880"/>
            <a:ext cx="45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2. Proposal: nc-functions as SC4 Da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19120" y="1066680"/>
            <a:ext cx="80136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99"/>
                </a:solidFill>
                <a:latin typeface="Verdana"/>
              </a:rPr>
              <a:t>Group I Func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98" idx="2"/>
            <a:endCxn id="299" idx="1"/>
          </p:cNvCxnSpPr>
          <p:nvPr/>
        </p:nvCxnSpPr>
        <p:spPr>
          <a:xfrm flipH="1" rot="16200000">
            <a:off x="1820880" y="2051640"/>
            <a:ext cx="1015200" cy="10897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2882880" y="2894040"/>
            <a:ext cx="14810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74960" y="3465360"/>
            <a:ext cx="1925640" cy="419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operato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81440" y="4040280"/>
            <a:ext cx="193968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x_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74960" y="4587840"/>
            <a:ext cx="196200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y_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298" idx="2"/>
            <a:endCxn id="300" idx="1"/>
          </p:cNvCxnSpPr>
          <p:nvPr/>
        </p:nvCxnSpPr>
        <p:spPr>
          <a:xfrm flipH="1" rot="16200000">
            <a:off x="1531080" y="2341440"/>
            <a:ext cx="1586880" cy="108180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4" name=""/>
          <p:cNvCxnSpPr>
            <a:stCxn id="298" idx="2"/>
            <a:endCxn id="301" idx="1"/>
          </p:cNvCxnSpPr>
          <p:nvPr/>
        </p:nvCxnSpPr>
        <p:spPr>
          <a:xfrm flipH="1" rot="16200000">
            <a:off x="1247760" y="2625480"/>
            <a:ext cx="2161080" cy="10879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298" idx="2"/>
            <a:endCxn id="302" idx="1"/>
          </p:cNvCxnSpPr>
          <p:nvPr/>
        </p:nvCxnSpPr>
        <p:spPr>
          <a:xfrm flipH="1" rot="16200000">
            <a:off x="969840" y="2902320"/>
            <a:ext cx="2709000" cy="108180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2878200" y="5214960"/>
            <a:ext cx="196200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z_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298" idx="2"/>
            <a:endCxn id="306" idx="1"/>
          </p:cNvCxnSpPr>
          <p:nvPr/>
        </p:nvCxnSpPr>
        <p:spPr>
          <a:xfrm flipH="1" rot="16200000">
            <a:off x="657720" y="3214440"/>
            <a:ext cx="3336120" cy="10846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98" name=""/>
          <p:cNvSpPr/>
          <p:nvPr/>
        </p:nvSpPr>
        <p:spPr>
          <a:xfrm>
            <a:off x="612720" y="1635120"/>
            <a:ext cx="2341440" cy="444600"/>
          </a:xfrm>
          <a:prstGeom prst="rect">
            <a:avLst/>
          </a:prstGeom>
          <a:solidFill>
            <a:srgbClr val="33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ABS) nc_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00840" y="2090880"/>
            <a:ext cx="2271600" cy="582480"/>
          </a:xfrm>
          <a:prstGeom prst="flowChartAlternateProcess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nc_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71880" y="1627200"/>
            <a:ext cx="22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Verdana"/>
              </a:rPr>
              <a:t>One Value Is Returned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stCxn id="299" idx="3"/>
            <a:endCxn id="308" idx="2"/>
          </p:cNvCxnSpPr>
          <p:nvPr/>
        </p:nvCxnSpPr>
        <p:spPr>
          <a:xfrm flipV="1">
            <a:off x="4373280" y="2672640"/>
            <a:ext cx="2764440" cy="430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311" name=""/>
          <p:cNvCxnSpPr>
            <a:stCxn id="300" idx="3"/>
            <a:endCxn id="308" idx="2"/>
          </p:cNvCxnSpPr>
          <p:nvPr/>
        </p:nvCxnSpPr>
        <p:spPr>
          <a:xfrm flipV="1">
            <a:off x="4809600" y="2672640"/>
            <a:ext cx="2328120" cy="1002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312" name=""/>
          <p:cNvCxnSpPr>
            <a:stCxn id="301" idx="3"/>
            <a:endCxn id="308" idx="2"/>
          </p:cNvCxnSpPr>
          <p:nvPr/>
        </p:nvCxnSpPr>
        <p:spPr>
          <a:xfrm flipV="1">
            <a:off x="4830480" y="2672640"/>
            <a:ext cx="2307240" cy="1577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313" name=""/>
          <p:cNvCxnSpPr>
            <a:stCxn id="302" idx="3"/>
            <a:endCxn id="308" idx="2"/>
          </p:cNvCxnSpPr>
          <p:nvPr/>
        </p:nvCxnSpPr>
        <p:spPr>
          <a:xfrm flipV="1">
            <a:off x="4846320" y="2673000"/>
            <a:ext cx="2291400" cy="212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314" name=""/>
          <p:cNvCxnSpPr>
            <a:stCxn id="306" idx="3"/>
            <a:endCxn id="308" idx="2"/>
          </p:cNvCxnSpPr>
          <p:nvPr/>
        </p:nvCxnSpPr>
        <p:spPr>
          <a:xfrm flipV="1">
            <a:off x="4849920" y="2673000"/>
            <a:ext cx="2288160" cy="2751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315" name=""/>
          <p:cNvSpPr/>
          <p:nvPr/>
        </p:nvSpPr>
        <p:spPr>
          <a:xfrm>
            <a:off x="626040" y="299880"/>
            <a:ext cx="45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2. Propos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 nc-functions as SC4 Da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45480" y="977760"/>
            <a:ext cx="19173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99"/>
                </a:solidFill>
                <a:latin typeface="Verdana"/>
              </a:rPr>
              <a:t>Program Sample with Group I Func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58720" y="1049400"/>
            <a:ext cx="6705720" cy="5688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24240" y="299880"/>
            <a:ext cx="45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2. Proposal: nc-functions as SC4 Da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71800" y="1028880"/>
            <a:ext cx="365760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99"/>
                </a:solidFill>
                <a:latin typeface="Verdana"/>
              </a:rPr>
              <a:t>Group II &amp; III Func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2200" y="1087560"/>
            <a:ext cx="2508120" cy="444240"/>
          </a:xfrm>
          <a:prstGeom prst="rect">
            <a:avLst/>
          </a:prstGeom>
          <a:solidFill>
            <a:srgbClr val="33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ABS) nc_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34960" y="1652760"/>
            <a:ext cx="6499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tart_measuring_maximum_deviation_position_along_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30280" y="4362480"/>
            <a:ext cx="658836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top_measuring_maximum_deviation_position_along_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320" idx="1"/>
            <a:endCxn id="321" idx="1"/>
          </p:cNvCxnSpPr>
          <p:nvPr/>
        </p:nvCxnSpPr>
        <p:spPr>
          <a:xfrm flipH="1" flipV="1" rot="10800000">
            <a:off x="582120" y="1308600"/>
            <a:ext cx="843840" cy="553320"/>
          </a:xfrm>
          <a:prstGeom prst="bentConnector3">
            <a:avLst>
              <a:gd name="adj1" fmla="val -259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20" idx="1"/>
            <a:endCxn id="322" idx="1"/>
          </p:cNvCxnSpPr>
          <p:nvPr/>
        </p:nvCxnSpPr>
        <p:spPr>
          <a:xfrm flipH="1" flipV="1" rot="10800000">
            <a:off x="581400" y="1309320"/>
            <a:ext cx="839160" cy="3263040"/>
          </a:xfrm>
          <a:prstGeom prst="bentConnector3">
            <a:avLst>
              <a:gd name="adj1" fmla="val -26094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4403880" y="2271600"/>
            <a:ext cx="1293480" cy="69084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Results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7" idx="2"/>
            <a:endCxn id="325" idx="1"/>
          </p:cNvCxnSpPr>
          <p:nvPr/>
        </p:nvCxnSpPr>
        <p:spPr>
          <a:xfrm flipH="1" rot="16200000">
            <a:off x="2894040" y="1108800"/>
            <a:ext cx="543600" cy="247572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oval" w="med"/>
          </a:ln>
        </p:spPr>
      </p:cxnSp>
      <p:sp>
        <p:nvSpPr>
          <p:cNvPr id="328" name=""/>
          <p:cNvSpPr/>
          <p:nvPr/>
        </p:nvSpPr>
        <p:spPr>
          <a:xfrm>
            <a:off x="1994040" y="2322360"/>
            <a:ext cx="234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maximum deviation values L[0:?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57680" y="3444840"/>
            <a:ext cx="133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threshold_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4240" y="3835440"/>
            <a:ext cx="81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26040" y="3538440"/>
            <a:ext cx="101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measured_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00680" y="3160800"/>
            <a:ext cx="123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measured_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06680" y="3598920"/>
            <a:ext cx="1755720" cy="28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ength_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03440" y="3962520"/>
            <a:ext cx="1756080" cy="28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work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71480" y="1655640"/>
            <a:ext cx="5144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7" idx="2"/>
            <a:endCxn id="333" idx="1"/>
          </p:cNvCxnSpPr>
          <p:nvPr/>
        </p:nvCxnSpPr>
        <p:spPr>
          <a:xfrm flipH="1" rot="16200000">
            <a:off x="1834200" y="2168280"/>
            <a:ext cx="1665720" cy="1478520"/>
          </a:xfrm>
          <a:prstGeom prst="bentConnector2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oval" w="med"/>
          </a:ln>
        </p:spPr>
      </p:cxnSp>
      <p:cxnSp>
        <p:nvCxnSpPr>
          <p:cNvPr id="336" name=""/>
          <p:cNvCxnSpPr>
            <a:stCxn id="327" idx="2"/>
            <a:endCxn id="334" idx="1"/>
          </p:cNvCxnSpPr>
          <p:nvPr/>
        </p:nvCxnSpPr>
        <p:spPr>
          <a:xfrm flipH="1" rot="16200000">
            <a:off x="1651680" y="2351520"/>
            <a:ext cx="2029320" cy="1475280"/>
          </a:xfrm>
          <a:prstGeom prst="bentConnector2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oval" w="med"/>
          </a:ln>
        </p:spPr>
      </p:cxnSp>
      <p:sp>
        <p:nvSpPr>
          <p:cNvPr id="337" name=""/>
          <p:cNvSpPr/>
          <p:nvPr/>
        </p:nvSpPr>
        <p:spPr>
          <a:xfrm>
            <a:off x="7121520" y="3595680"/>
            <a:ext cx="1755720" cy="28116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Bounded_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137360" y="4003560"/>
            <a:ext cx="1755720" cy="28116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tool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35400" y="2548080"/>
            <a:ext cx="514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2"/>
            <a:endCxn id="337" idx="1"/>
          </p:cNvCxnSpPr>
          <p:nvPr/>
        </p:nvCxnSpPr>
        <p:spPr>
          <a:xfrm flipH="1" rot="16200000">
            <a:off x="5872320" y="2487240"/>
            <a:ext cx="770400" cy="1729440"/>
          </a:xfrm>
          <a:prstGeom prst="bentConnector2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oval" w="med"/>
          </a:ln>
        </p:spPr>
      </p:cxnSp>
      <p:cxnSp>
        <p:nvCxnSpPr>
          <p:cNvPr id="341" name=""/>
          <p:cNvCxnSpPr>
            <a:stCxn id="339" idx="2"/>
            <a:endCxn id="338" idx="1"/>
          </p:cNvCxnSpPr>
          <p:nvPr/>
        </p:nvCxnSpPr>
        <p:spPr>
          <a:xfrm flipH="1" rot="16200000">
            <a:off x="5676120" y="2683440"/>
            <a:ext cx="1178640" cy="1745280"/>
          </a:xfrm>
          <a:prstGeom prst="bentConnector2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oval" w="med"/>
          </a:ln>
        </p:spPr>
      </p:cxnSp>
      <p:sp>
        <p:nvSpPr>
          <p:cNvPr id="342" name=""/>
          <p:cNvSpPr/>
          <p:nvPr/>
        </p:nvSpPr>
        <p:spPr>
          <a:xfrm>
            <a:off x="6033960" y="2319480"/>
            <a:ext cx="29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Verdana"/>
              </a:rPr>
              <a:t>Bounded Amount of Valu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Verdana"/>
              </a:rPr>
              <a:t>Returned  following the s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Verdana"/>
              </a:rPr>
              <a:t>Toolpath Parametrization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4240" y="299880"/>
            <a:ext cx="45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2. Proposal: nc-functions as SC4 Da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6200" y="5043240"/>
            <a:ext cx="831996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maximum_deviation_values L[0:?] is used to store in AP-238 a bounded curve, series of collected values (per toolpath and following the same parametrization as the corresponding workingstep toolpath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its_threshold_value is used only if  nc_function acts as a group III function to specify a threshold value for the comparing/triggering cond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its_actions is an alternative workplan (a series of actions) to be done in case the specified condition is fulfilled (just for group III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945480" y="1193760"/>
            <a:ext cx="194292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99"/>
                </a:solidFill>
                <a:latin typeface="Verdana"/>
              </a:rPr>
              <a:t>Program Sample with Group I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58720" y="982800"/>
            <a:ext cx="6438960" cy="5875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24240" y="299880"/>
            <a:ext cx="45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2. Proposal: nc-functions as SC4 Da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211880" y="1206360"/>
            <a:ext cx="16002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99"/>
                </a:solidFill>
                <a:latin typeface="Verdana"/>
              </a:rPr>
              <a:t>Program Sample with Group III Function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942840" y="957240"/>
            <a:ext cx="5991480" cy="57675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24240" y="299880"/>
            <a:ext cx="45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2. Proposal: nc-functions as SC4 Da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75800" y="1022400"/>
            <a:ext cx="80010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Traceability.</a:t>
            </a: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What is Traceability?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For what is it implemented?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How is it performed (activities)?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How must be implemented (some implementation issues)?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Why Traceability in AP238?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Traceability requirements for AP-238 </a:t>
            </a: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(some ones).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Current status of the Traceability proposal for AP-238.</a:t>
            </a: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Traceability nc_Functions as SC4 Dallas meeting.</a:t>
            </a: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-39528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The AP-238 executable Unit of Functionality and nc-functions.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-39528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Proposal: Traceability nc-functions.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-39528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How the Traceability nc-functions work: an example.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Some discussions &amp; progress since SC4 Dallas meeting.</a:t>
            </a: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-39528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New data types for recorded data.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-39528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Redefinition of Block I functions.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-39528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Other comments.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19120" y="1066680"/>
            <a:ext cx="3727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99"/>
                </a:solidFill>
                <a:latin typeface="Verdana"/>
              </a:rPr>
              <a:t>Complete Ap-238 nc-Functions Mode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334040" y="763560"/>
            <a:ext cx="4325760" cy="56912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214880" y="2917800"/>
            <a:ext cx="1968480" cy="2543040"/>
          </a:xfrm>
          <a:prstGeom prst="rect">
            <a:avLst/>
          </a:prstGeom>
          <a:noFill/>
          <a:ln cap="rnd" w="12600">
            <a:solidFill>
              <a:srgbClr val="33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16480" y="2193840"/>
            <a:ext cx="2578320" cy="3902040"/>
          </a:xfrm>
          <a:prstGeom prst="rect">
            <a:avLst/>
          </a:prstGeom>
          <a:noFill/>
          <a:ln cap="rnd" w="12600">
            <a:solidFill>
              <a:srgbClr val="33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4680" y="5641920"/>
            <a:ext cx="11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Verdana"/>
              </a:rPr>
              <a:t>Group II &amp;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Verdana"/>
              </a:rPr>
              <a:t>NC_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46440" y="5851440"/>
            <a:ext cx="4309920" cy="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440" y="3638520"/>
            <a:ext cx="11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Verdana"/>
              </a:rPr>
              <a:t>Group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99"/>
                </a:solidFill>
                <a:latin typeface="Verdana"/>
              </a:rPr>
              <a:t>NC_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71640" y="3855960"/>
            <a:ext cx="2271600" cy="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4240" y="299880"/>
            <a:ext cx="45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2. Proposal: nc-functions as SC4 Da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72800" y="1146240"/>
            <a:ext cx="28573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How nc_functions Work?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33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</a:rPr>
              <a:t>Configuration: requirements are translated into nc_functions in the AP238 executable.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33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</a:rPr>
              <a:t>nc_functions are automatically executed when they are found in the executable sequence.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Verdana"/>
              </a:rPr>
              <a:t>2.1 Data can support run-time.</a:t>
            </a:r>
            <a:endParaRPr b="0" lang="en-US" sz="10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Verdana"/>
              </a:rPr>
              <a:t>2.2 Data can be logged when machining finish</a:t>
            </a:r>
            <a:endParaRPr b="0" lang="en-US" sz="1000" spc="-1" strike="noStrike">
              <a:solidFill>
                <a:srgbClr val="336699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33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</a:rPr>
              <a:t>Logged data is used. </a:t>
            </a:r>
            <a:r>
              <a:rPr b="1" lang="en-US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624240" y="299880"/>
            <a:ext cx="45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2. Proposal: nc-functions as SC4 Da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030480" y="952560"/>
            <a:ext cx="5956200" cy="5724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5575320" y="3340080"/>
            <a:ext cx="495360" cy="368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29600" y="3022560"/>
            <a:ext cx="596880" cy="368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521560" y="5245200"/>
            <a:ext cx="596880" cy="368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4673520"/>
            <a:ext cx="495360" cy="368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19120" y="1066680"/>
            <a:ext cx="3946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9120" y="1073160"/>
            <a:ext cx="773892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Verdana"/>
              </a:rPr>
              <a:t>How the Traceability nc_functions work: An examp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Verdana"/>
              </a:rPr>
              <a:t>1. </a:t>
            </a:r>
            <a:r>
              <a:rPr b="1" lang="en-GB" sz="1000" spc="-1" strike="noStrike">
                <a:solidFill>
                  <a:srgbClr val="336699"/>
                </a:solidFill>
                <a:latin typeface="Verdana"/>
              </a:rPr>
              <a:t>Traceability requirements are specified by inserting nc_functions in the executable 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7400" y="6181560"/>
            <a:ext cx="812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368360" y="1765440"/>
            <a:ext cx="6361200" cy="48988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6200640" y="135000"/>
            <a:ext cx="735120" cy="431640"/>
          </a:xfrm>
          <a:prstGeom prst="rect">
            <a:avLst/>
          </a:prstGeom>
          <a:solidFill>
            <a:srgbClr val="66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Verdana"/>
              </a:rPr>
              <a:t>A0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101000" y="122400"/>
            <a:ext cx="757080" cy="433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Verdana"/>
              </a:rPr>
              <a:t>Acquisition                                   A0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34200" y="122400"/>
            <a:ext cx="747720" cy="42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Verdana"/>
              </a:rPr>
              <a:t>Analyze                                   A0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71" idx="3"/>
            <a:endCxn id="372" idx="1"/>
          </p:cNvCxnSpPr>
          <p:nvPr/>
        </p:nvCxnSpPr>
        <p:spPr>
          <a:xfrm flipV="1">
            <a:off x="6935400" y="339120"/>
            <a:ext cx="165960" cy="11880"/>
          </a:xfrm>
          <a:prstGeom prst="bentConnector3">
            <a:avLst>
              <a:gd name="adj1" fmla="val 4891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stCxn id="372" idx="3"/>
            <a:endCxn id="373" idx="1"/>
          </p:cNvCxnSpPr>
          <p:nvPr/>
        </p:nvCxnSpPr>
        <p:spPr>
          <a:xfrm flipV="1">
            <a:off x="7857720" y="335880"/>
            <a:ext cx="276840" cy="3960"/>
          </a:xfrm>
          <a:prstGeom prst="bentConnector3">
            <a:avLst>
              <a:gd name="adj1" fmla="val 493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2" idx="3"/>
            <a:endCxn id="373" idx="1"/>
          </p:cNvCxnSpPr>
          <p:nvPr/>
        </p:nvCxnSpPr>
        <p:spPr>
          <a:xfrm flipV="1">
            <a:off x="7857720" y="335880"/>
            <a:ext cx="276840" cy="3960"/>
          </a:xfrm>
          <a:prstGeom prst="bentConnector3">
            <a:avLst>
              <a:gd name="adj1" fmla="val 493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6019920" y="333360"/>
            <a:ext cx="18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24240" y="299880"/>
            <a:ext cx="45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2. Proposal: nc-functions as SC4 Da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519120" y="1066680"/>
            <a:ext cx="3946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9120" y="1073160"/>
            <a:ext cx="773892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7400" y="6181560"/>
            <a:ext cx="812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00640" y="135000"/>
            <a:ext cx="735120" cy="43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Verdana"/>
              </a:rPr>
              <a:t>A0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01000" y="122400"/>
            <a:ext cx="757080" cy="433080"/>
          </a:xfrm>
          <a:prstGeom prst="rect">
            <a:avLst/>
          </a:prstGeom>
          <a:solidFill>
            <a:srgbClr val="66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Verdana"/>
              </a:rPr>
              <a:t>Acquisition                                    A0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34200" y="122400"/>
            <a:ext cx="747720" cy="42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Verdana"/>
              </a:rPr>
              <a:t>A0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82" idx="3"/>
            <a:endCxn id="383" idx="1"/>
          </p:cNvCxnSpPr>
          <p:nvPr/>
        </p:nvCxnSpPr>
        <p:spPr>
          <a:xfrm flipV="1">
            <a:off x="6935400" y="339120"/>
            <a:ext cx="165960" cy="11880"/>
          </a:xfrm>
          <a:prstGeom prst="bentConnector3">
            <a:avLst>
              <a:gd name="adj1" fmla="val 4891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8880480" y="317520"/>
            <a:ext cx="1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83" idx="3"/>
            <a:endCxn id="384" idx="1"/>
          </p:cNvCxnSpPr>
          <p:nvPr/>
        </p:nvCxnSpPr>
        <p:spPr>
          <a:xfrm flipV="1">
            <a:off x="7857720" y="335880"/>
            <a:ext cx="276840" cy="3960"/>
          </a:xfrm>
          <a:prstGeom prst="bentConnector3">
            <a:avLst>
              <a:gd name="adj1" fmla="val 493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8" name=""/>
          <p:cNvCxnSpPr>
            <a:stCxn id="383" idx="3"/>
            <a:endCxn id="384" idx="1"/>
          </p:cNvCxnSpPr>
          <p:nvPr/>
        </p:nvCxnSpPr>
        <p:spPr>
          <a:xfrm flipV="1">
            <a:off x="7857720" y="335880"/>
            <a:ext cx="276840" cy="3960"/>
          </a:xfrm>
          <a:prstGeom prst="bentConnector3">
            <a:avLst>
              <a:gd name="adj1" fmla="val 493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9" name=""/>
          <p:cNvSpPr/>
          <p:nvPr/>
        </p:nvSpPr>
        <p:spPr>
          <a:xfrm>
            <a:off x="6019920" y="333360"/>
            <a:ext cx="18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4240" y="299880"/>
            <a:ext cx="45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2. Proposal: nc-functions as SC4 Da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5120" y="1073160"/>
            <a:ext cx="773892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58320" indent="-5832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Verdana"/>
              </a:rPr>
              <a:t>How the Traceability nc_functions work: An examp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99"/>
                </a:solidFill>
                <a:latin typeface="Verdana"/>
              </a:rPr>
              <a:t>2. Accessing the Data while machin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6000" indent="-48240"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Verdana"/>
              </a:rPr>
              <a:t>2.1 With Current Technolog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040" indent="-38520"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Verdana"/>
              </a:rPr>
              <a:t>nc_functions have to be translated to G&amp;M codes. Limitations: current CNC resources (Memory, file access mechanism, et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040" indent="-38520"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040" indent="-3852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040" indent="-3852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040" indent="-3852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040" indent="-3852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040" indent="-3852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040" indent="-3852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040" indent="-3852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040" indent="-3852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040" indent="-3852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040" indent="-3852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040" indent="-3852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040" indent="-3852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040" indent="-3852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040" indent="-3852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040" indent="-38520">
              <a:lnSpc>
                <a:spcPct val="100000"/>
              </a:lnSpc>
              <a:spcBef>
                <a:spcPts val="2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94040" indent="-38520"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Verdana"/>
              </a:rPr>
              <a:t>Through the HMI interface (Accessing to the PLC internal variables with, for instance OPC communication) (Experiments at NI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6000" indent="-48240"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6000" indent="-48240"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Verdana"/>
              </a:rPr>
              <a:t>2.2 With a AP-238 controller (TODAY, Simulation): The controller access its internal variables, computes the values, stores in memory. When mechanization ends (or when cycles ends), its writes the values to a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6000" indent="-48240"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14600" y="2273400"/>
            <a:ext cx="60199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100  $AC_TIMER[1] = 0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;RESET R[]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;R[1] WILL Hold the threshold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....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;START SINCHRONYZED ACTION threshold set for each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D=1 WHEN $R[1] &lt; $AC_TIMER[1] DO (ACTION: stop, alarm .. log d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1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RITE(“ERROR”,”LOGFILE”,”SEGMENT 1 TIME: “ &lt;&lt; $AC_TIMER[1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$AC_TIMER[1]= 0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1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RITE(“ERROR”,”LOGFILE”,”SEGMENT 1 TIME: “ &lt;&lt; $AC_TIMER[1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$AC_TIMER[1]= 0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1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…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NCEL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519120" y="1066680"/>
            <a:ext cx="3946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15920" y="2004840"/>
            <a:ext cx="5959440" cy="45849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519120" y="1073160"/>
            <a:ext cx="773892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Verdana"/>
              </a:rPr>
              <a:t>How the Traceability nc_functions work: An example</a:t>
            </a:r>
            <a:r>
              <a:rPr b="1" lang="en-GB" sz="1400" spc="-1" strike="noStrike">
                <a:solidFill>
                  <a:srgbClr val="336699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99"/>
                </a:solidFill>
                <a:latin typeface="Verdana"/>
              </a:rPr>
              <a:t>3. Review of Logged D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6181560"/>
            <a:ext cx="812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3963960" y="2571840"/>
            <a:ext cx="4919760" cy="37846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6200640" y="135000"/>
            <a:ext cx="735120" cy="43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Verdana"/>
              </a:rPr>
              <a:t>A0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01000" y="122400"/>
            <a:ext cx="757080" cy="433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Verdana"/>
              </a:rPr>
              <a:t>Acquisition                                  A0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134200" y="122400"/>
            <a:ext cx="747720" cy="428400"/>
          </a:xfrm>
          <a:prstGeom prst="rect">
            <a:avLst/>
          </a:prstGeom>
          <a:solidFill>
            <a:srgbClr val="66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Verdana"/>
              </a:rPr>
              <a:t>A0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>
            <a:stCxn id="398" idx="3"/>
            <a:endCxn id="399" idx="1"/>
          </p:cNvCxnSpPr>
          <p:nvPr/>
        </p:nvCxnSpPr>
        <p:spPr>
          <a:xfrm flipV="1">
            <a:off x="6935400" y="339120"/>
            <a:ext cx="165960" cy="11880"/>
          </a:xfrm>
          <a:prstGeom prst="bentConnector3">
            <a:avLst>
              <a:gd name="adj1" fmla="val 4891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99" idx="3"/>
            <a:endCxn id="400" idx="1"/>
          </p:cNvCxnSpPr>
          <p:nvPr/>
        </p:nvCxnSpPr>
        <p:spPr>
          <a:xfrm flipV="1">
            <a:off x="7857720" y="335880"/>
            <a:ext cx="276840" cy="3960"/>
          </a:xfrm>
          <a:prstGeom prst="bentConnector3">
            <a:avLst>
              <a:gd name="adj1" fmla="val 493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399" idx="3"/>
            <a:endCxn id="400" idx="1"/>
          </p:cNvCxnSpPr>
          <p:nvPr/>
        </p:nvCxnSpPr>
        <p:spPr>
          <a:xfrm flipV="1">
            <a:off x="7857720" y="335880"/>
            <a:ext cx="276840" cy="3960"/>
          </a:xfrm>
          <a:prstGeom prst="bentConnector3">
            <a:avLst>
              <a:gd name="adj1" fmla="val 493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6019920" y="333360"/>
            <a:ext cx="18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4240" y="299880"/>
            <a:ext cx="45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2. Proposal: nc-functions as SC4 Da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519120" y="914400"/>
            <a:ext cx="83358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lvl="1" marL="572040" indent="-21996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Logged Data FORMAT: a new </a:t>
            </a:r>
            <a:r>
              <a:rPr b="1" lang="en-GB" sz="1600" spc="-1" strike="noStrike">
                <a:solidFill>
                  <a:srgbClr val="336699"/>
                </a:solidFill>
                <a:latin typeface="Verdana"/>
              </a:rPr>
              <a:t>conformance class to define the traceability data structure.</a:t>
            </a:r>
            <a:r>
              <a:rPr b="0" lang="es-E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99"/>
                </a:solidFill>
                <a:latin typeface="Verdana"/>
              </a:rPr>
              <a:t>In this conformance class there will be workplans, workingsteps and tool paths. However, the toolpaths will trace the results of running the program.  For example, there might be a curve describing the measured x, y z deviations, a curve describing the spindle power consumption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7760" y="299880"/>
            <a:ext cx="55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3. Proposal: Progress since SC4 Dallas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366920" y="2629080"/>
            <a:ext cx="7170480" cy="41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519120" y="914400"/>
            <a:ext cx="83358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lvl="1" marL="163440" indent="-626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Block I nc_func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251280" indent="-5004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Block I nf_functions more like Block II: Most </a:t>
            </a: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Block I nc_function will become as block II to store data in the same 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51720" indent="-5004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Nc_fucntion to star/stop getting execution times of toolpath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51720" indent="-5004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Nc_fucntion to star/stop getting (along toolpath): operators invol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51720" indent="-5004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Nc_fucntion to star/stop getting (along toolpath): manual override interven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51720" indent="-5004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Nc_fucntion to star/stop getting (along toolpath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2520" indent="-50040">
              <a:lnSpc>
                <a:spcPct val="100000"/>
              </a:lnSpc>
              <a:spcBef>
                <a:spcPts val="437"/>
              </a:spcBef>
              <a:buClr>
                <a:srgbClr val="336699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Used tools Ident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2520" indent="-50040">
              <a:lnSpc>
                <a:spcPct val="100000"/>
              </a:lnSpc>
              <a:spcBef>
                <a:spcPts val="437"/>
              </a:spcBef>
              <a:buClr>
                <a:srgbClr val="336699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Used machines identification?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51280" indent="-5004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Still, may be some Block I nc_functions returning single values. But </a:t>
            </a: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nc_variables are too week. Need to define data types to hold the data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2520" indent="-50040">
              <a:lnSpc>
                <a:spcPct val="100000"/>
              </a:lnSpc>
              <a:spcBef>
                <a:spcPts val="437"/>
              </a:spcBef>
              <a:buClr>
                <a:srgbClr val="336699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Administrative data? Machine software version? Etc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2520" indent="-5004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More Block II nc_functions needed for advanced services (speed control optimization, …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An open mechanism to define new coming sensor/variables values as they will come in the futu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251280" indent="-5004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99"/>
                </a:solidFill>
                <a:latin typeface="Verdana"/>
              </a:rPr>
              <a:t>Start_monitoring_sensor_data_along_toolpath…..IS IT O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17760" y="299880"/>
            <a:ext cx="55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3. Proposal: Progress since SC4 Dallas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19120" y="914400"/>
            <a:ext cx="773892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marL="65160" indent="-6516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Verdana"/>
              </a:rPr>
              <a:t>Conclu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Verdana"/>
              </a:rPr>
              <a:t>NC-Functions seems to be a good mechanis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Verdana"/>
              </a:rPr>
              <a:t>To log data as standard format has to be defined a new Unit of functio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Verdana"/>
              </a:rPr>
              <a:t>Implementation Issu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17080" indent="-432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Verdana"/>
              </a:rPr>
              <a:t>Current technology is able to perform all proposed Nc-functions? some of them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17080" indent="-432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Verdana"/>
              </a:rPr>
              <a:t>Are there enough data types? We need mo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17080" indent="-43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Verdana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1400" y="29988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4. 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813960" y="1085400"/>
            <a:ext cx="80010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What is Traceability?</a:t>
            </a:r>
            <a:endParaRPr b="0" lang="en-US" sz="24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Verdana"/>
              </a:rPr>
              <a:t>The objective of Manufacturing Traceability is to provide all the relevant information about a manufacturing process.</a:t>
            </a:r>
            <a:r>
              <a:rPr b="0" lang="es-E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4699080" y="4451400"/>
            <a:ext cx="444492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862200" indent="-414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Which D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9480" indent="-37548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With what and where has been manufactured a piece?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raw material, coolant, tools, machine, softw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9480" indent="-37548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How/how well?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Tool paths, toll paths deviations, actual velocities,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trol ev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9480" indent="-37548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Who?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9480" indent="-37548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When?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manufacturing timing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60120" y="2778120"/>
            <a:ext cx="857880" cy="722160"/>
          </a:xfrm>
          <a:prstGeom prst="flowChartDocumen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88" idx="3"/>
            <a:endCxn id="90" idx="1"/>
          </p:cNvCxnSpPr>
          <p:nvPr/>
        </p:nvCxnSpPr>
        <p:spPr>
          <a:xfrm flipV="1">
            <a:off x="2738520" y="3133080"/>
            <a:ext cx="504000" cy="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3251160" y="2711520"/>
            <a:ext cx="1338480" cy="824040"/>
          </a:xfrm>
          <a:prstGeom prst="rect">
            <a:avLst/>
          </a:prstGeom>
          <a:solidFill>
            <a:srgbClr val="a3b2c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90" idx="3"/>
          </p:cNvCxnSpPr>
          <p:nvPr/>
        </p:nvCxnSpPr>
        <p:spPr>
          <a:xfrm flipV="1">
            <a:off x="4599000" y="3131280"/>
            <a:ext cx="41328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92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234200" y="2692440"/>
            <a:ext cx="1195560" cy="658800"/>
          </a:xfrm>
          <a:prstGeom prst="rect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93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202360" y="2692440"/>
            <a:ext cx="1195200" cy="658800"/>
          </a:xfrm>
          <a:prstGeom prst="rect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94" name=""/>
          <p:cNvSpPr/>
          <p:nvPr/>
        </p:nvSpPr>
        <p:spPr>
          <a:xfrm>
            <a:off x="3251160" y="3562200"/>
            <a:ext cx="1341360" cy="824040"/>
          </a:xfrm>
          <a:prstGeom prst="rect">
            <a:avLst/>
          </a:prstGeom>
          <a:solidFill>
            <a:srgbClr val="a3b2c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75160" y="3878280"/>
            <a:ext cx="792360" cy="495720"/>
          </a:xfrm>
          <a:prstGeom prst="flowChartDocumen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45080" y="3833640"/>
            <a:ext cx="792360" cy="495720"/>
          </a:xfrm>
          <a:prstGeom prst="flowChartDocumen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6160" y="3819600"/>
            <a:ext cx="792360" cy="495720"/>
          </a:xfrm>
          <a:prstGeom prst="flowChartDocumen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27600" y="3466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794640" y="34160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912080" y="34034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 flipV="1">
            <a:off x="4611240" y="4008240"/>
            <a:ext cx="4136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6426360" y="229860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99"/>
                </a:solidFill>
                <a:latin typeface="Verdana"/>
              </a:rPr>
              <a:t>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6269040" y="2692440"/>
            <a:ext cx="1195560" cy="658800"/>
          </a:xfrm>
          <a:prstGeom prst="rect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104" name=""/>
          <p:cNvSpPr/>
          <p:nvPr/>
        </p:nvSpPr>
        <p:spPr>
          <a:xfrm>
            <a:off x="574560" y="2998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1. Trace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83840" y="907560"/>
            <a:ext cx="849636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For What?</a:t>
            </a:r>
            <a:endParaRPr b="0" lang="en-US" sz="24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Verdana"/>
              </a:rPr>
              <a:t>For Quality analysis (and long term data analysis)</a:t>
            </a: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Verdana"/>
              </a:rPr>
              <a:t>To be able to investigate the origin of a manufacturing default (</a:t>
            </a:r>
            <a:r>
              <a:rPr b="1" i="1" lang="en-GB" sz="1600" spc="-1" strike="noStrike">
                <a:solidFill>
                  <a:srgbClr val="336699"/>
                </a:solidFill>
                <a:latin typeface="Verdana"/>
              </a:rPr>
              <a:t>TRACE</a:t>
            </a:r>
            <a:r>
              <a:rPr b="0" lang="en-GB" sz="1600" spc="-1" strike="noStrike">
                <a:solidFill>
                  <a:srgbClr val="336699"/>
                </a:solidFill>
                <a:latin typeface="Verdana"/>
              </a:rPr>
              <a:t>). </a:t>
            </a:r>
            <a:r>
              <a:rPr b="0" lang="en-GB" sz="1600" spc="-1" strike="noStrike">
                <a:solidFill>
                  <a:srgbClr val="ff3300"/>
                </a:solidFill>
                <a:latin typeface="Verdana"/>
              </a:rPr>
              <a:t>To answer questions like: </a:t>
            </a:r>
            <a:r>
              <a:rPr b="1" lang="en-GB" sz="1600" spc="-1" strike="noStrike">
                <a:solidFill>
                  <a:srgbClr val="ff3300"/>
                </a:solidFill>
                <a:latin typeface="Verdana"/>
              </a:rPr>
              <a:t>Why this feature is not ok?</a:t>
            </a: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Verdana"/>
              </a:rPr>
              <a:t>To be able to identify other pieces with the same fault (</a:t>
            </a:r>
            <a:r>
              <a:rPr b="1" i="1" lang="en-GB" sz="1600" spc="-1" strike="noStrike">
                <a:solidFill>
                  <a:srgbClr val="336699"/>
                </a:solidFill>
                <a:latin typeface="Verdana"/>
              </a:rPr>
              <a:t>TRACK</a:t>
            </a:r>
            <a:r>
              <a:rPr b="0" lang="en-GB" sz="1600" spc="-1" strike="noStrike">
                <a:solidFill>
                  <a:srgbClr val="336699"/>
                </a:solidFill>
                <a:latin typeface="Verdana"/>
              </a:rPr>
              <a:t>). </a:t>
            </a:r>
            <a:r>
              <a:rPr b="0" lang="en-GB" sz="1600" spc="-1" strike="noStrike">
                <a:solidFill>
                  <a:srgbClr val="ff3300"/>
                </a:solidFill>
                <a:latin typeface="Verdana"/>
              </a:rPr>
              <a:t>To answer questions like: </a:t>
            </a:r>
            <a:r>
              <a:rPr b="1" lang="en-GB" sz="1600" spc="-1" strike="noStrike">
                <a:solidFill>
                  <a:srgbClr val="ff3300"/>
                </a:solidFill>
                <a:latin typeface="Verdana"/>
              </a:rPr>
              <a:t>Which other pieces may have also the same default and should be review?</a:t>
            </a: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389480" y="2933640"/>
            <a:ext cx="1195200" cy="673200"/>
            <a:chOff x="4389480" y="2933640"/>
            <a:chExt cx="1195200" cy="673200"/>
          </a:xfrm>
        </p:grpSpPr>
        <p:pic>
          <p:nvPicPr>
            <p:cNvPr id="107" name="" descr=""/>
            <p:cNvPicPr/>
            <p:nvPr/>
          </p:nvPicPr>
          <p:blipFill>
            <a:blip r:embed="rId1">
              <a:alphaModFix amt="0"/>
            </a:blip>
            <a:stretch/>
          </p:blipFill>
          <p:spPr>
            <a:xfrm>
              <a:off x="4389480" y="2933640"/>
              <a:ext cx="1195200" cy="658800"/>
            </a:xfrm>
            <a:prstGeom prst="rect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</p:pic>
        <p:grpSp>
          <p:nvGrpSpPr>
            <p:cNvPr id="108" name=""/>
            <p:cNvGrpSpPr/>
            <p:nvPr/>
          </p:nvGrpSpPr>
          <p:grpSpPr>
            <a:xfrm>
              <a:off x="4673520" y="3111480"/>
              <a:ext cx="596880" cy="495360"/>
              <a:chOff x="4673520" y="3111480"/>
              <a:chExt cx="596880" cy="495360"/>
            </a:xfrm>
          </p:grpSpPr>
          <p:sp>
            <p:nvSpPr>
              <p:cNvPr id="109" name=""/>
              <p:cNvSpPr/>
              <p:nvPr/>
            </p:nvSpPr>
            <p:spPr>
              <a:xfrm>
                <a:off x="4708440" y="3117600"/>
                <a:ext cx="554760" cy="48240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4673520" y="3111480"/>
                <a:ext cx="596880" cy="49536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4653360" y="3555720"/>
            <a:ext cx="1950480" cy="948960"/>
            <a:chOff x="4653360" y="3555720"/>
            <a:chExt cx="1950480" cy="948960"/>
          </a:xfrm>
        </p:grpSpPr>
        <p:sp>
          <p:nvSpPr>
            <p:cNvPr id="112" name=""/>
            <p:cNvSpPr/>
            <p:nvPr/>
          </p:nvSpPr>
          <p:spPr>
            <a:xfrm flipV="1">
              <a:off x="5067360" y="355572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4653360" y="3857760"/>
              <a:ext cx="820080" cy="646920"/>
              <a:chOff x="4653360" y="3857760"/>
              <a:chExt cx="820080" cy="646920"/>
            </a:xfrm>
          </p:grpSpPr>
          <p:sp>
            <p:nvSpPr>
              <p:cNvPr id="114" name=""/>
              <p:cNvSpPr/>
              <p:nvPr/>
            </p:nvSpPr>
            <p:spPr>
              <a:xfrm>
                <a:off x="4681440" y="3857760"/>
                <a:ext cx="792000" cy="646920"/>
              </a:xfrm>
              <a:prstGeom prst="flowChartDocument">
                <a:avLst/>
              </a:prstGeom>
              <a:solidFill>
                <a:srgbClr val="a3b2c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27320" y="4191120"/>
                <a:ext cx="44460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75040" y="3936960"/>
                <a:ext cx="596880" cy="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775040" y="4064040"/>
                <a:ext cx="596880" cy="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775040" y="4318200"/>
                <a:ext cx="596880" cy="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53360" y="406548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ff3300"/>
                    </a:solidFill>
                    <a:latin typeface="Dotum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384880" y="40006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ff3300"/>
                  </a:solidFill>
                  <a:latin typeface="Tahoma"/>
                </a:rPr>
                <a:t>Trac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001960" y="4483080"/>
            <a:ext cx="7142040" cy="2247120"/>
            <a:chOff x="2001960" y="4483080"/>
            <a:chExt cx="7142040" cy="2247120"/>
          </a:xfrm>
        </p:grpSpPr>
        <p:grpSp>
          <p:nvGrpSpPr>
            <p:cNvPr id="122" name=""/>
            <p:cNvGrpSpPr/>
            <p:nvPr/>
          </p:nvGrpSpPr>
          <p:grpSpPr>
            <a:xfrm>
              <a:off x="2001960" y="5229360"/>
              <a:ext cx="1195200" cy="1500840"/>
              <a:chOff x="2001960" y="5229360"/>
              <a:chExt cx="1195200" cy="1500840"/>
            </a:xfrm>
          </p:grpSpPr>
          <p:pic>
            <p:nvPicPr>
              <p:cNvPr id="123" name="" descr=""/>
              <p:cNvPicPr/>
              <p:nvPr/>
            </p:nvPicPr>
            <p:blipFill>
              <a:blip r:embed="rId2">
                <a:alphaModFix amt="0"/>
              </a:blip>
              <a:stretch/>
            </p:blipFill>
            <p:spPr>
              <a:xfrm>
                <a:off x="2001960" y="6057720"/>
                <a:ext cx="1195200" cy="658440"/>
              </a:xfrm>
              <a:prstGeom prst="rect">
                <a:avLst/>
              </a:prstGeom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</p:pic>
          <p:sp>
            <p:nvSpPr>
              <p:cNvPr id="124" name=""/>
              <p:cNvSpPr/>
              <p:nvPr/>
            </p:nvSpPr>
            <p:spPr>
              <a:xfrm flipV="1">
                <a:off x="2603520" y="5892840"/>
                <a:ext cx="0" cy="29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2286000" y="6235200"/>
                <a:ext cx="596880" cy="495000"/>
                <a:chOff x="2286000" y="6235200"/>
                <a:chExt cx="596880" cy="495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320920" y="6241680"/>
                  <a:ext cx="554760" cy="48204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2286000" y="6235200"/>
                  <a:ext cx="596880" cy="49500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227680" y="5229360"/>
                <a:ext cx="820080" cy="646920"/>
                <a:chOff x="2227680" y="5229360"/>
                <a:chExt cx="820080" cy="6469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255760" y="5229360"/>
                  <a:ext cx="792000" cy="646920"/>
                </a:xfrm>
                <a:prstGeom prst="flowChartDocument">
                  <a:avLst/>
                </a:prstGeom>
                <a:solidFill>
                  <a:srgbClr val="a3b2c1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501640" y="5562720"/>
                  <a:ext cx="44460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49360" y="5308560"/>
                  <a:ext cx="596880" cy="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349360" y="5435640"/>
                  <a:ext cx="596880" cy="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349360" y="5689800"/>
                  <a:ext cx="596880" cy="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227680" y="5437080"/>
                  <a:ext cx="282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ff3300"/>
                      </a:solidFill>
                      <a:latin typeface="Dotum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5" name=""/>
            <p:cNvGrpSpPr/>
            <p:nvPr/>
          </p:nvGrpSpPr>
          <p:grpSpPr>
            <a:xfrm>
              <a:off x="3236760" y="5229360"/>
              <a:ext cx="1195560" cy="1487520"/>
              <a:chOff x="3236760" y="5229360"/>
              <a:chExt cx="1195560" cy="1487520"/>
            </a:xfrm>
          </p:grpSpPr>
          <p:pic>
            <p:nvPicPr>
              <p:cNvPr id="136" name="" descr=""/>
              <p:cNvPicPr/>
              <p:nvPr/>
            </p:nvPicPr>
            <p:blipFill>
              <a:blip r:embed="rId3">
                <a:alphaModFix amt="0"/>
              </a:blip>
              <a:stretch/>
            </p:blipFill>
            <p:spPr>
              <a:xfrm>
                <a:off x="3236760" y="6058080"/>
                <a:ext cx="1195560" cy="658800"/>
              </a:xfrm>
              <a:prstGeom prst="rect">
                <a:avLst/>
              </a:prstGeom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</p:pic>
          <p:sp>
            <p:nvSpPr>
              <p:cNvPr id="137" name=""/>
              <p:cNvSpPr/>
              <p:nvPr/>
            </p:nvSpPr>
            <p:spPr>
              <a:xfrm flipV="1">
                <a:off x="3838680" y="5892840"/>
                <a:ext cx="0" cy="29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90920" y="5229360"/>
                <a:ext cx="792000" cy="646920"/>
              </a:xfrm>
              <a:prstGeom prst="flowChartDocument">
                <a:avLst/>
              </a:prstGeom>
              <a:solidFill>
                <a:srgbClr val="a3b2c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84520" y="5308920"/>
                <a:ext cx="596880" cy="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84520" y="5436000"/>
                <a:ext cx="596880" cy="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84520" y="5689800"/>
                <a:ext cx="596880" cy="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84520" y="5562720"/>
                <a:ext cx="596880" cy="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4471920" y="5229360"/>
              <a:ext cx="1195560" cy="1487520"/>
              <a:chOff x="4471920" y="5229360"/>
              <a:chExt cx="1195560" cy="1487520"/>
            </a:xfrm>
          </p:grpSpPr>
          <p:pic>
            <p:nvPicPr>
              <p:cNvPr id="144" name="" descr=""/>
              <p:cNvPicPr/>
              <p:nvPr/>
            </p:nvPicPr>
            <p:blipFill>
              <a:blip r:embed="rId4">
                <a:alphaModFix amt="0"/>
              </a:blip>
              <a:stretch/>
            </p:blipFill>
            <p:spPr>
              <a:xfrm>
                <a:off x="4471920" y="6058080"/>
                <a:ext cx="1195560" cy="658800"/>
              </a:xfrm>
              <a:prstGeom prst="rect">
                <a:avLst/>
              </a:prstGeom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</p:pic>
          <p:sp>
            <p:nvSpPr>
              <p:cNvPr id="145" name=""/>
              <p:cNvSpPr/>
              <p:nvPr/>
            </p:nvSpPr>
            <p:spPr>
              <a:xfrm flipV="1">
                <a:off x="5073840" y="5892840"/>
                <a:ext cx="0" cy="29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726080" y="5229360"/>
                <a:ext cx="792000" cy="646920"/>
              </a:xfrm>
              <a:prstGeom prst="flowChartDocument">
                <a:avLst/>
              </a:prstGeom>
              <a:solidFill>
                <a:srgbClr val="a3b2c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19680" y="5308920"/>
                <a:ext cx="596880" cy="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819680" y="5436000"/>
                <a:ext cx="596880" cy="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819680" y="5689800"/>
                <a:ext cx="596880" cy="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819680" y="5562720"/>
                <a:ext cx="596880" cy="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942240" y="5229360"/>
              <a:ext cx="1195200" cy="1487520"/>
              <a:chOff x="6942240" y="5229360"/>
              <a:chExt cx="1195200" cy="1487520"/>
            </a:xfrm>
          </p:grpSpPr>
          <p:pic>
            <p:nvPicPr>
              <p:cNvPr id="152" name="" descr=""/>
              <p:cNvPicPr/>
              <p:nvPr/>
            </p:nvPicPr>
            <p:blipFill>
              <a:blip r:embed="rId5">
                <a:alphaModFix amt="0"/>
              </a:blip>
              <a:stretch/>
            </p:blipFill>
            <p:spPr>
              <a:xfrm>
                <a:off x="6942240" y="6058080"/>
                <a:ext cx="1195200" cy="658800"/>
              </a:xfrm>
              <a:prstGeom prst="rect">
                <a:avLst/>
              </a:prstGeom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</p:pic>
          <p:sp>
            <p:nvSpPr>
              <p:cNvPr id="153" name=""/>
              <p:cNvSpPr/>
              <p:nvPr/>
            </p:nvSpPr>
            <p:spPr>
              <a:xfrm flipV="1">
                <a:off x="7543800" y="5892840"/>
                <a:ext cx="0" cy="29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196040" y="5229360"/>
                <a:ext cx="791640" cy="646920"/>
              </a:xfrm>
              <a:prstGeom prst="flowChartDocument">
                <a:avLst/>
              </a:prstGeom>
              <a:solidFill>
                <a:srgbClr val="a3b2c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289640" y="5308920"/>
                <a:ext cx="596520" cy="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289640" y="5436000"/>
                <a:ext cx="596520" cy="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289640" y="5689800"/>
                <a:ext cx="596520" cy="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289640" y="5562720"/>
                <a:ext cx="596520" cy="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707080" y="5229360"/>
              <a:ext cx="1195200" cy="1500840"/>
              <a:chOff x="5707080" y="5229360"/>
              <a:chExt cx="1195200" cy="1500840"/>
            </a:xfrm>
          </p:grpSpPr>
          <p:pic>
            <p:nvPicPr>
              <p:cNvPr id="160" name="" descr=""/>
              <p:cNvPicPr/>
              <p:nvPr/>
            </p:nvPicPr>
            <p:blipFill>
              <a:blip r:embed="rId6">
                <a:alphaModFix amt="0"/>
              </a:blip>
              <a:stretch/>
            </p:blipFill>
            <p:spPr>
              <a:xfrm>
                <a:off x="5707080" y="6057720"/>
                <a:ext cx="1195200" cy="658440"/>
              </a:xfrm>
              <a:prstGeom prst="rect">
                <a:avLst/>
              </a:prstGeom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</p:pic>
          <p:sp>
            <p:nvSpPr>
              <p:cNvPr id="161" name=""/>
              <p:cNvSpPr/>
              <p:nvPr/>
            </p:nvSpPr>
            <p:spPr>
              <a:xfrm flipV="1">
                <a:off x="6308640" y="5892840"/>
                <a:ext cx="0" cy="29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5991120" y="6235200"/>
                <a:ext cx="596880" cy="495000"/>
                <a:chOff x="5991120" y="6235200"/>
                <a:chExt cx="596880" cy="495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026040" y="6241680"/>
                  <a:ext cx="554760" cy="48204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5991120" y="6235200"/>
                  <a:ext cx="596880" cy="49500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932800" y="5229360"/>
                <a:ext cx="820080" cy="646920"/>
                <a:chOff x="5932800" y="5229360"/>
                <a:chExt cx="820080" cy="6469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960880" y="5229360"/>
                  <a:ext cx="792000" cy="646920"/>
                </a:xfrm>
                <a:prstGeom prst="flowChartDocument">
                  <a:avLst/>
                </a:prstGeom>
                <a:solidFill>
                  <a:srgbClr val="a3b2c1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206760" y="5562720"/>
                  <a:ext cx="44460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054480" y="5308560"/>
                  <a:ext cx="596880" cy="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054480" y="5435640"/>
                  <a:ext cx="596880" cy="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54480" y="5689800"/>
                  <a:ext cx="596880" cy="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932800" y="5437080"/>
                  <a:ext cx="282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ff3300"/>
                      </a:solidFill>
                      <a:latin typeface="Dotum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2590920" y="4965840"/>
              <a:ext cx="49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90920" y="4965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22840" y="4978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41800" y="4978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73720" y="4978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43800" y="4965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41800" y="4483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24680" y="62355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ff3300"/>
                  </a:solidFill>
                  <a:latin typeface="Tahoma"/>
                </a:rPr>
                <a:t>Track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74560" y="2998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1. Trace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13960" y="1276200"/>
            <a:ext cx="800100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For What?</a:t>
            </a:r>
            <a:endParaRPr b="0" lang="en-US" sz="24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For knowledge capture and optimization (for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36699"/>
                </a:solidFill>
                <a:latin typeface="Verdana"/>
              </a:rPr>
              <a:t>re-design and re-planning)</a:t>
            </a: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  <a:p>
            <a:pPr lvl="3" marL="1693800" indent="-38736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Verdana"/>
              </a:rPr>
              <a:t>To answer questions like: </a:t>
            </a:r>
            <a:r>
              <a:rPr b="1" lang="en-GB" sz="1400" spc="-1" strike="noStrike">
                <a:solidFill>
                  <a:srgbClr val="ff3300"/>
                </a:solidFill>
                <a:latin typeface="Verdana"/>
              </a:rPr>
              <a:t>How log does it take to machine this feature?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894800" y="3035160"/>
            <a:ext cx="1195200" cy="658800"/>
          </a:xfrm>
          <a:prstGeom prst="rect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183" name=""/>
          <p:cNvSpPr/>
          <p:nvPr/>
        </p:nvSpPr>
        <p:spPr>
          <a:xfrm>
            <a:off x="8194680" y="3814920"/>
            <a:ext cx="792000" cy="495720"/>
          </a:xfrm>
          <a:prstGeom prst="flowChartDocumen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13680" y="405144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64640" y="2857680"/>
            <a:ext cx="7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Verdana"/>
              </a:rPr>
              <a:t>finished p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5200" y="341784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800" y="3139920"/>
            <a:ext cx="52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Verdana"/>
              </a:rPr>
              <a:t>AP-2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37760" y="3138480"/>
            <a:ext cx="52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Verdana"/>
              </a:rPr>
              <a:t>AP-2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02040" y="312120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AP-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44600" y="342432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05640" y="343044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94560" y="337356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3083040"/>
            <a:ext cx="1357560" cy="1021320"/>
          </a:xfrm>
          <a:prstGeom prst="flowChartAlternateProcess">
            <a:avLst/>
          </a:prstGeom>
          <a:solidFill>
            <a:srgbClr val="a3b2c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D/C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05400" y="3071880"/>
            <a:ext cx="1130400" cy="758160"/>
          </a:xfrm>
          <a:prstGeom prst="flowChartAlternateProcess">
            <a:avLst/>
          </a:prstGeom>
          <a:solidFill>
            <a:srgbClr val="a3b2c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51560" y="3052800"/>
            <a:ext cx="1130400" cy="758160"/>
          </a:xfrm>
          <a:prstGeom prst="flowChartAlternateProcess">
            <a:avLst/>
          </a:prstGeom>
          <a:solidFill>
            <a:srgbClr val="a3b2c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68760" y="3057480"/>
            <a:ext cx="1090440" cy="758520"/>
          </a:xfrm>
          <a:prstGeom prst="flowChartAlternateProcess">
            <a:avLst/>
          </a:prstGeom>
          <a:solidFill>
            <a:srgbClr val="a3b2c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9440" y="34178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01320" y="3164040"/>
            <a:ext cx="52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Verdana"/>
              </a:rPr>
              <a:t>AP-2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13680" y="373392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597880" y="4394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390840" y="5016240"/>
            <a:ext cx="52070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352680" y="3708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574280" y="5016600"/>
            <a:ext cx="179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574640" y="372060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50960" y="42037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3300"/>
                </a:solidFill>
                <a:latin typeface="Tahoma"/>
              </a:rPr>
              <a:t>Re-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417816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3300"/>
                </a:solidFill>
                <a:latin typeface="Tahoma"/>
              </a:rPr>
              <a:t>Re-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1560" y="5398920"/>
            <a:ext cx="763272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For Wha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To provide data for advanced “manufacturing”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rogrammed Monitor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ntelligent manufactur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4560" y="2998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1. Trace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13960" y="1276200"/>
            <a:ext cx="8001000" cy="52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How is it performed (activities)?</a:t>
            </a:r>
            <a:endParaRPr b="0" lang="en-US" sz="2400" spc="-1" strike="noStrike">
              <a:solidFill>
                <a:srgbClr val="336699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Verdana"/>
              </a:rPr>
              <a:t>Before manufacturing (Design phase).</a:t>
            </a: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Verdana"/>
              </a:rPr>
              <a:t>Definition/Configuration of what to trace, where, how.</a:t>
            </a: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Verdana"/>
              </a:rPr>
              <a:t>During Manufacturing (Shop floor phase).</a:t>
            </a: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Verdana"/>
              </a:rPr>
              <a:t>Data recording process (shop floor).</a:t>
            </a: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Verdana"/>
              </a:rPr>
              <a:t>establishment of the link between the traced data and the piece.</a:t>
            </a: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Verdana"/>
              </a:rPr>
              <a:t>After Manufacturing (Quality and re-design phase)</a:t>
            </a:r>
            <a:endParaRPr b="0" lang="en-US" sz="18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Verdana"/>
              </a:rPr>
              <a:t>Data communication.</a:t>
            </a: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Verdana"/>
              </a:rPr>
              <a:t>Data storage</a:t>
            </a: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Verdana"/>
              </a:rPr>
              <a:t>Data analysis, etc.</a:t>
            </a:r>
            <a:r>
              <a:rPr b="0" lang="es-ES" sz="16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74560" y="2998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1. Trace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19120" y="1066680"/>
            <a:ext cx="80136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Verdana"/>
              </a:rPr>
              <a:t>Activity Model, 3 main activit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81120" y="3422520"/>
            <a:ext cx="3891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52960" y="1558800"/>
            <a:ext cx="113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8680" y="4486320"/>
            <a:ext cx="2556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80040" y="4494240"/>
            <a:ext cx="25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73760" y="4494240"/>
            <a:ext cx="25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440" y="2792520"/>
            <a:ext cx="1589040" cy="998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Activity                                    A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62440" y="3814920"/>
            <a:ext cx="1589040" cy="9982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cquis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A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97480" y="4614840"/>
            <a:ext cx="1589400" cy="9986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A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3600" y="2852640"/>
            <a:ext cx="12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pec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endCxn id="217" idx="1"/>
          </p:cNvCxnSpPr>
          <p:nvPr/>
        </p:nvCxnSpPr>
        <p:spPr>
          <a:xfrm>
            <a:off x="1236600" y="3290400"/>
            <a:ext cx="286560" cy="2520"/>
          </a:xfrm>
          <a:prstGeom prst="bentConnector3">
            <a:avLst>
              <a:gd name="adj1" fmla="val 4993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endCxn id="218" idx="1"/>
          </p:cNvCxnSpPr>
          <p:nvPr/>
        </p:nvCxnSpPr>
        <p:spPr>
          <a:xfrm>
            <a:off x="3111480" y="3592080"/>
            <a:ext cx="751680" cy="723240"/>
          </a:xfrm>
          <a:prstGeom prst="bentConnector3">
            <a:avLst>
              <a:gd name="adj1" fmla="val 4988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2449440" y="4062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Set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96240" y="4896000"/>
            <a:ext cx="56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93000" y="5384880"/>
            <a:ext cx="56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02560" y="54435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Traceabilit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42320" y="444492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Traceability Au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81400" y="5079960"/>
            <a:ext cx="107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Col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/>
          <p:nvPr/>
        </p:nvCxnSpPr>
        <p:spPr>
          <a:xfrm>
            <a:off x="5463720" y="4293720"/>
            <a:ext cx="847080" cy="801000"/>
          </a:xfrm>
          <a:prstGeom prst="bentConnector3">
            <a:avLst>
              <a:gd name="adj1" fmla="val 4987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469800" y="171468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Before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(design pha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90840" y="260352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While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(shop floor pha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54680" y="3263760"/>
            <a:ext cx="2743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After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Verdana"/>
              </a:rPr>
              <a:t>(inspection, re-design, re-plann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4560" y="2998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1. Trace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13960" y="1085760"/>
            <a:ext cx="8001000" cy="52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Why Traceability in AP-238?</a:t>
            </a: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Verdana"/>
              </a:rPr>
              <a:t>A-</a:t>
            </a:r>
            <a:r>
              <a:rPr b="1" lang="en-GB" sz="16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36699"/>
                </a:solidFill>
                <a:latin typeface="Verdana"/>
              </a:rPr>
              <a:t>Many relevant data is just know by the process controller, so it has to provide this data. </a:t>
            </a: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3300"/>
                </a:solidFill>
                <a:latin typeface="Verdana"/>
              </a:rPr>
              <a:t>The CNC controller knows much of this data. The HMI+CNC controller knows all the data.  </a:t>
            </a: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Verdana"/>
              </a:rPr>
              <a:t>B-</a:t>
            </a:r>
            <a:r>
              <a:rPr b="1" lang="en-GB" sz="16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36699"/>
                </a:solidFill>
                <a:latin typeface="Verdana"/>
              </a:rPr>
              <a:t>In Client-supplier relationships, traceability data has to be understandable, trustable…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99"/>
                </a:solidFill>
                <a:latin typeface="Verdana"/>
              </a:rPr>
              <a:t>Understandable</a:t>
            </a: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.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In terms of format and meaning.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The contractor has to understand the requirements with out doubts.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The client has to understand the data by its own.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Verdana"/>
              </a:rPr>
              <a:t>Trustable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There shouldn’t be doubts about the recording process. 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Traceability activities must be performed as much automatically as possible (to guarantee there is no errors)</a:t>
            </a: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3300"/>
                </a:solidFill>
                <a:latin typeface="Verdana"/>
              </a:rPr>
              <a:t>Traceability DATA (requirements &amp; results) should be standard &amp; automatically understood:</a:t>
            </a:r>
            <a:endParaRPr b="0" lang="en-US" sz="16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Verdana"/>
              </a:rPr>
              <a:t>Automatically understood by controller.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Verdana"/>
              </a:rPr>
              <a:t>Understood by the analysis system (linked to an understandable specification of the machining process).</a:t>
            </a:r>
            <a:endParaRPr b="0" lang="en-US" sz="1400" spc="-1" strike="noStrike">
              <a:solidFill>
                <a:srgbClr val="336699"/>
              </a:solidFill>
              <a:latin typeface="Verdana"/>
            </a:endParaRPr>
          </a:p>
          <a:p>
            <a:pPr lvl="3" marL="1693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574560" y="2998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1. Trace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19120" y="914400"/>
            <a:ext cx="8013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Some” Traceability requirements for AP-23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75400" y="2884320"/>
            <a:ext cx="9720" cy="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3040" y="1308240"/>
            <a:ext cx="3187800" cy="23619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Based on STEP AP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Based on custom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Enable last minute adap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Done o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41800" y="1320840"/>
            <a:ext cx="3873600" cy="5334120"/>
          </a:xfrm>
          <a:prstGeom prst="rect">
            <a:avLst/>
          </a:prstGeom>
          <a:solidFill>
            <a:srgbClr val="a0c1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OUTPUT is an extract from internally collected data according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As required by custom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Prob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Quality insu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As required for shop floor management: for scheduling, MES, maintenance,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cheduling, du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Warnings and alarm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Corrective action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Enables traceability, archiving and SP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Administrativ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On machine measuremen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Quality st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Enable knowledge capture and optimis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Format “standard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4560" y="2998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1. Trace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2203560"/>
            <a:ext cx="1401480" cy="1067400"/>
          </a:xfrm>
          <a:prstGeom prst="rect">
            <a:avLst/>
          </a:prstGeom>
          <a:solidFill>
            <a:srgbClr val="a3b2c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8T10:24:33Z</dcterms:created>
  <dc:creator>http://www.epmtech.jotne.com</dc:creator>
  <dc:description/>
  <dc:language>en-US</dc:language>
  <cp:lastModifiedBy>Martin Hardwick</cp:lastModifiedBy>
  <cp:lastPrinted>2002-05-07T13:17:13Z</cp:lastPrinted>
  <dcterms:modified xsi:type="dcterms:W3CDTF">2008-03-04T16:53:02Z</dcterms:modified>
  <cp:revision>568</cp:revision>
  <dc:subject/>
  <dc:title>COMDEX NORDIC 2002</dc:title>
</cp:coreProperties>
</file>