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78B-6715-447D-9A19-51BA7491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9FF-446A-442C-8B20-6DD0A089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F6C-D679-4147-BF4D-70CDA1A7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61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340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85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61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340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C5F-6746-41C9-BFD0-6813096C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81A2-F5F9-4A2B-A46E-9DC0B8E3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ABB5-D07B-43F4-9D0F-CD0DF4F7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6A31-4C25-4CAA-8D98-5C3783AA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FB7E-C901-4EC3-9C21-C04E70D9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0FEB-A1B3-4505-B7CA-3CFF9792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8560" y="431280"/>
            <a:ext cx="84214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78B6-58EC-4147-A3FA-FA6957BE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33A3-6289-4FCF-BE12-2E24B5E7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ADE-9B69-4561-9EB3-BA20F3C7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BB2C-04AC-44E5-B077-341A6D8A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00E1-88E6-4182-9CF2-A0DE35AA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4DCA-D155-4D32-8C3F-E1082944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12DA-9C66-4F20-BC4D-06BDC38D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616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3400" y="19782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85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616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3400" y="4140000"/>
            <a:ext cx="27115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5B70-4D5C-42D8-BA83-DC492613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D4B-972D-41A5-A1B2-E0F9DA73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160-02B2-4443-A6C4-7770B8E7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646-5CC7-4A39-A779-1CA1003D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560" y="431280"/>
            <a:ext cx="84214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A83-056A-49C7-B428-312EA2C0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397-E97E-48A0-BC83-E834FAEA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41400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072-204A-4212-B4D4-3ADC18FE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856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978200"/>
            <a:ext cx="410940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8560" y="4140000"/>
            <a:ext cx="8421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70C-6B41-4E63-B3CF-E9432EC3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1978200"/>
            <a:ext cx="8421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476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62760" y="6207120"/>
            <a:ext cx="932040" cy="34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692000" y="618948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74200" y="618948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58560" y="6189480"/>
            <a:ext cx="53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/</a:t>
            </a:r>
            <a:fld id="{82CDFBEB-ACE3-4B96-A335-23C9C4A9972C}" type="slidenum">
              <a:rPr b="0" lang="en-US" sz="7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560" y="1832040"/>
            <a:ext cx="84214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1692000" y="618948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5"/>
          </p:nvPr>
        </p:nvSpPr>
        <p:spPr>
          <a:xfrm>
            <a:off x="574200" y="6189480"/>
            <a:ext cx="107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58560" y="6189480"/>
            <a:ext cx="5396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/</a:t>
            </a:r>
            <a:fld id="{9D3F3578-31B1-4210-BCCA-8B4466C3A6CC}" type="slidenum">
              <a:rPr b="0" lang="en-US" sz="7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862760" y="6207120"/>
            <a:ext cx="932040" cy="345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2826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3176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93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54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544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560" y="1832040"/>
            <a:ext cx="84214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Speed/Feed Optimization Demonstration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8560" y="2971440"/>
            <a:ext cx="84214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3-axis roughing of ”fishhead” compone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Bengt Olss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808080"/>
                </a:solidFill>
                <a:latin typeface="Arial"/>
              </a:rPr>
              <a:t>Sandvik Toolin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3860640"/>
            <a:ext cx="165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Leon X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808080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860640"/>
            <a:ext cx="187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Fred Pr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808080"/>
                </a:solidFill>
                <a:latin typeface="Arial"/>
              </a:rPr>
              <a:t>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869000"/>
            <a:ext cx="252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Sten-Åke Ekströ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808080"/>
                </a:solidFill>
                <a:latin typeface="Arial"/>
              </a:rPr>
              <a:t>Sandvik Corom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4920" y="4869000"/>
            <a:ext cx="252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Alain B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808080"/>
                </a:solidFill>
                <a:latin typeface="Arial"/>
              </a:rPr>
              <a:t>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4869000"/>
            <a:ext cx="2521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808080"/>
                </a:solidFill>
                <a:latin typeface="Arial"/>
              </a:rPr>
              <a:t>STEP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95280" y="1438200"/>
            <a:ext cx="4010040" cy="766800"/>
            <a:chOff x="395280" y="1438200"/>
            <a:chExt cx="4010040" cy="76680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95280" y="1438200"/>
              <a:ext cx="79848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97040" y="1444320"/>
              <a:ext cx="5018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633760" y="1515960"/>
              <a:ext cx="177156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22DB-03F9-4E77-8F37-558493F656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Step 1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Preparation of tool path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8560" y="1773360"/>
            <a:ext cx="842148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Bef>
                <a:spcPts val="524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236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Design by Airbus (CATI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524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Tool p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236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Tool selection and tool paths by Sandvik Coromant (NX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524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Cross section calcul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236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Simulation by Sandvik Coromant (VERICU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236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Cross section calculations by Boe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9307" t="12574" r="20345" b="0"/>
          <a:stretch/>
        </p:blipFill>
        <p:spPr>
          <a:xfrm>
            <a:off x="6084720" y="189000"/>
            <a:ext cx="2880000" cy="2851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58920" y="4917960"/>
            <a:ext cx="84214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99960" indent="-39996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All combined into one STEP-NC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23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by STEP Tools (STEP NC Explorer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AE3-1958-4B30-8323-F53D92471E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8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Step 2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Optimization for specific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machine and cutting tools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978200"/>
            <a:ext cx="8421480" cy="14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bine tool paths with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timized speed&amp;feed val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utting tools defined by Sandvik Corom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chine tool defined by Mori Seik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gorithms by Boe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9330" t="20376" r="9278" b="0"/>
          <a:stretch/>
        </p:blipFill>
        <p:spPr>
          <a:xfrm>
            <a:off x="5867280" y="3860640"/>
            <a:ext cx="2881440" cy="230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9695" r="0" b="0"/>
          <a:stretch/>
        </p:blipFill>
        <p:spPr>
          <a:xfrm>
            <a:off x="6443640" y="1557360"/>
            <a:ext cx="1224000" cy="165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07240" y="3284640"/>
            <a:ext cx="2841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Arial"/>
              </a:rPr>
              <a:t>machine limitations:</a:t>
            </a:r>
            <a:br>
              <a:rPr sz="1800"/>
            </a:br>
            <a:r>
              <a:rPr b="0" i="1" lang="sv-SE" sz="1800" spc="-1" strike="noStrike">
                <a:solidFill>
                  <a:srgbClr val="000000"/>
                </a:solidFill>
                <a:latin typeface="Arial"/>
              </a:rPr>
              <a:t>-power/torqu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08000" y="404640"/>
            <a:ext cx="3252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Arial"/>
              </a:rPr>
              <a:t>tool usage recommendations:</a:t>
            </a:r>
            <a:br>
              <a:rPr sz="1800"/>
            </a:br>
            <a:r>
              <a:rPr b="0" i="1" lang="sv-SE" sz="1800" spc="-1" strike="noStrike">
                <a:solidFill>
                  <a:srgbClr val="000000"/>
                </a:solidFill>
                <a:latin typeface="Arial"/>
              </a:rPr>
              <a:t>-chip thickness</a:t>
            </a:r>
            <a:br>
              <a:rPr sz="1800"/>
            </a:br>
            <a:r>
              <a:rPr b="0" i="1" lang="sv-SE" sz="1800" spc="-1" strike="noStrike">
                <a:solidFill>
                  <a:srgbClr val="000000"/>
                </a:solidFill>
                <a:latin typeface="Arial"/>
              </a:rPr>
              <a:t>-engagement</a:t>
            </a:r>
            <a:br>
              <a:rPr sz="1800"/>
            </a:br>
            <a:r>
              <a:rPr b="0" i="1" lang="sv-SE" sz="1800" spc="-1" strike="noStrike">
                <a:solidFill>
                  <a:srgbClr val="000000"/>
                </a:solidFill>
                <a:latin typeface="Arial"/>
              </a:rPr>
              <a:t>-cutting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3611520"/>
            <a:ext cx="842148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4600" indent="-1746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 combined into one STEP-NC 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01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by STEP Tools (STEP NC Explorer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Benefits with optimized path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01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Smooth performance =no over rides by operat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01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Consistant tool lif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01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Part qua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085-C911-4F9A-8B29-484E937446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2627400">
            <a:off x="6300360" y="188640"/>
            <a:ext cx="1200240" cy="2352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Step 3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Preparation of the actual cutting tools 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6880" y="1977840"/>
            <a:ext cx="842184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Assembly of the physical cutting to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3236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Current data” of actual tool (ISO133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44720" y="3716280"/>
            <a:ext cx="2879640" cy="2616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0" t="0" r="0" b="45748"/>
          <a:stretch/>
        </p:blipFill>
        <p:spPr>
          <a:xfrm>
            <a:off x="4932360" y="2349360"/>
            <a:ext cx="4211640" cy="16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0" t="54272" r="0" b="0"/>
          <a:stretch/>
        </p:blipFill>
        <p:spPr>
          <a:xfrm>
            <a:off x="4932360" y="4005360"/>
            <a:ext cx="4211640" cy="1395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6880" y="2986200"/>
            <a:ext cx="84218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99960" indent="-39996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Ready for STEP-NC machining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323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STEP NC Explorer by STEP Too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61D-BD57-440B-A8AB-EA18B2B0C1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Step 4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Manufacturing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8560" y="1628640"/>
            <a:ext cx="842148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CNC Machining at Sandvik Coromant</a:t>
            </a:r>
            <a:br>
              <a:rPr sz="2100"/>
            </a:b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(Mori Seiki NH8000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Spindle specification:</a:t>
            </a:r>
            <a:br>
              <a:rPr sz="1700"/>
            </a:b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1500" spc="-1" strike="noStrike">
                <a:solidFill>
                  <a:srgbClr val="000000"/>
                </a:solidFill>
                <a:latin typeface="Arial"/>
              </a:rPr>
              <a:t>-Coromant Capto C8 tool interface</a:t>
            </a:r>
            <a:br>
              <a:rPr sz="1500"/>
            </a:br>
            <a:r>
              <a:rPr b="0" lang="sv-SE" sz="1500" spc="-1" strike="noStrike">
                <a:solidFill>
                  <a:srgbClr val="000000"/>
                </a:solidFill>
                <a:latin typeface="Arial"/>
              </a:rPr>
              <a:t>   -25kW at 8,000rpm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Comparison between optimized vs. non-optimiz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Optimized program saves 6% cycle time</a:t>
            </a:r>
            <a:br>
              <a:rPr sz="1700"/>
            </a:b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(9 min 53 sec instead of 10 min 28 sec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CNC Machining moved to Boeing</a:t>
            </a:r>
            <a:br>
              <a:rPr sz="2100"/>
            </a:b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(Okuma MC-V402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Spindle specification:</a:t>
            </a:r>
            <a:br>
              <a:rPr sz="1700"/>
            </a:b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1500" spc="-1" strike="noStrike">
                <a:solidFill>
                  <a:srgbClr val="000000"/>
                </a:solidFill>
                <a:latin typeface="Arial"/>
              </a:rPr>
              <a:t>-HSK40 tool interface</a:t>
            </a:r>
            <a:br>
              <a:rPr sz="1500"/>
            </a:br>
            <a:r>
              <a:rPr b="0" lang="sv-SE" sz="1500" spc="-1" strike="noStrike">
                <a:solidFill>
                  <a:srgbClr val="000000"/>
                </a:solidFill>
                <a:latin typeface="Arial"/>
              </a:rPr>
              <a:t>   -11k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Optimized program takes 19 min 53 se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01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Part is manufactured without any problems from 1st pie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519280" cy="18907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940360" y="1484280"/>
            <a:ext cx="2519280" cy="4522680"/>
            <a:chOff x="5940360" y="1484280"/>
            <a:chExt cx="2519280" cy="452268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5940360" y="4076640"/>
              <a:ext cx="2487600" cy="19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084720" y="1484280"/>
              <a:ext cx="2374920" cy="2232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00720" y="1484280"/>
              <a:ext cx="1871640" cy="2232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A40-7D06-4C73-BEE7-7FD50287DD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Step 5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Inspection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8560" y="1557000"/>
            <a:ext cx="41338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CNC prob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96992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716360" y="1557360"/>
            <a:ext cx="4280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4600" indent="-1746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CMM prob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5157720"/>
            <a:ext cx="8421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4600" indent="-1746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How should we integrate the result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5BF-2E0B-4BF6-85A9-B96DDE3590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6880" y="1557360"/>
            <a:ext cx="842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4600" indent="-174600">
              <a:lnSpc>
                <a:spcPct val="10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00"/>
                </a:solidFill>
                <a:latin typeface="Arial"/>
              </a:rPr>
              <a:t>How should we integrate the result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Step 5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Inspection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4280" y="2060640"/>
            <a:ext cx="843444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Flatness tol__84712(PLANE_TOLERANCE_FEATURE_831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Name           Desc        Nominal         Actual      Deviation    Graphic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tol__84712           FLAT          0.050                          0.020   |---+*--|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Perpendicularity tol__86123(CYLINDRICAL_TOLERANCE_FEATURE_847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Name           Desc        Nominal         Actual      Deviation    Graphic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tol__86123           PERP          0.250                          0.002   |---*---|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Diameter tol_DIAMETER_86125(CYLINDRICAL_TOLERANCE_FEATURE_847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Name           Desc        Nominal         Actual      Deviation    Graphic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...METER_86125           DIAM         -0.050                         -0.085  *|---+---|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...METER_86125           DIAM          0.050                         -0.085  *|---+---|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monospaced for SAP"/>
              </a:rPr>
              <a:t>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0920" y="1988640"/>
            <a:ext cx="0" cy="403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604360" y="1988640"/>
            <a:ext cx="0" cy="403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905120"/>
            <a:ext cx="8353440" cy="168120"/>
          </a:xfrm>
          <a:custGeom>
            <a:avLst/>
            <a:gdLst/>
            <a:ahLst/>
            <a:rect l="l" t="t" r="r" b="b"/>
            <a:pathLst>
              <a:path w="5262" h="106">
                <a:moveTo>
                  <a:pt x="0" y="53"/>
                </a:moveTo>
                <a:cubicBezTo>
                  <a:pt x="7" y="26"/>
                  <a:pt x="15" y="0"/>
                  <a:pt x="726" y="7"/>
                </a:cubicBezTo>
                <a:cubicBezTo>
                  <a:pt x="1437" y="14"/>
                  <a:pt x="3508" y="90"/>
                  <a:pt x="4264" y="98"/>
                </a:cubicBezTo>
                <a:cubicBezTo>
                  <a:pt x="5020" y="106"/>
                  <a:pt x="5141" y="79"/>
                  <a:pt x="5262" y="53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5925960"/>
            <a:ext cx="8353440" cy="252720"/>
          </a:xfrm>
          <a:custGeom>
            <a:avLst/>
            <a:gdLst/>
            <a:ahLst/>
            <a:rect l="l" t="t" r="r" b="b"/>
            <a:pathLst>
              <a:path w="5262" h="159">
                <a:moveTo>
                  <a:pt x="0" y="60"/>
                </a:moveTo>
                <a:cubicBezTo>
                  <a:pt x="389" y="30"/>
                  <a:pt x="779" y="0"/>
                  <a:pt x="1452" y="15"/>
                </a:cubicBezTo>
                <a:cubicBezTo>
                  <a:pt x="2125" y="30"/>
                  <a:pt x="3402" y="143"/>
                  <a:pt x="4037" y="151"/>
                </a:cubicBezTo>
                <a:cubicBezTo>
                  <a:pt x="4672" y="159"/>
                  <a:pt x="4967" y="109"/>
                  <a:pt x="5262" y="6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70A-5FDD-4D8B-B13D-C66100DD90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Multi Task Machining Demonstration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One tool spindle, one lower turret and two workpiece spindle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3440" y="4292640"/>
            <a:ext cx="7488360" cy="1873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381440" y="4581360"/>
            <a:ext cx="538560" cy="720720"/>
            <a:chOff x="7381440" y="4581360"/>
            <a:chExt cx="538560" cy="720720"/>
          </a:xfrm>
        </p:grpSpPr>
        <p:sp>
          <p:nvSpPr>
            <p:cNvPr id="136" name=""/>
            <p:cNvSpPr/>
            <p:nvPr/>
          </p:nvSpPr>
          <p:spPr>
            <a:xfrm flipH="1">
              <a:off x="7603920" y="4605120"/>
              <a:ext cx="316080" cy="677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7381080" y="4581360"/>
              <a:ext cx="222120" cy="154080"/>
            </a:xfrm>
            <a:custGeom>
              <a:avLst/>
              <a:gdLst/>
              <a:ahLst/>
              <a:rect l="l" t="t" r="r" b="b"/>
              <a:pathLst>
                <a:path w="318" h="227">
                  <a:moveTo>
                    <a:pt x="0" y="0"/>
                  </a:moveTo>
                  <a:lnTo>
                    <a:pt x="318" y="0"/>
                  </a:lnTo>
                  <a:lnTo>
                    <a:pt x="318" y="136"/>
                  </a:lnTo>
                  <a:lnTo>
                    <a:pt x="182" y="136"/>
                  </a:lnTo>
                  <a:lnTo>
                    <a:pt x="182" y="227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7381080" y="5148000"/>
              <a:ext cx="222120" cy="154080"/>
            </a:xfrm>
            <a:custGeom>
              <a:avLst/>
              <a:gdLst/>
              <a:ahLst/>
              <a:rect l="l" t="t" r="r" b="b"/>
              <a:pathLst>
                <a:path w="318" h="227">
                  <a:moveTo>
                    <a:pt x="0" y="0"/>
                  </a:moveTo>
                  <a:lnTo>
                    <a:pt x="318" y="0"/>
                  </a:lnTo>
                  <a:lnTo>
                    <a:pt x="318" y="136"/>
                  </a:lnTo>
                  <a:lnTo>
                    <a:pt x="182" y="136"/>
                  </a:lnTo>
                  <a:lnTo>
                    <a:pt x="182" y="227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518160" y="4653000"/>
            <a:ext cx="1008000" cy="576360"/>
            <a:chOff x="6518160" y="4653000"/>
            <a:chExt cx="1008000" cy="576360"/>
          </a:xfrm>
        </p:grpSpPr>
        <p:grpSp>
          <p:nvGrpSpPr>
            <p:cNvPr id="140" name=""/>
            <p:cNvGrpSpPr/>
            <p:nvPr/>
          </p:nvGrpSpPr>
          <p:grpSpPr>
            <a:xfrm>
              <a:off x="6639120" y="4653000"/>
              <a:ext cx="828360" cy="576360"/>
              <a:chOff x="6639120" y="4653000"/>
              <a:chExt cx="828360" cy="57636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6933960" y="4653000"/>
                <a:ext cx="53316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639120" y="4726080"/>
                <a:ext cx="295200" cy="432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flipH="1">
              <a:off x="6518160" y="4942080"/>
              <a:ext cx="100800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268360" y="4622760"/>
            <a:ext cx="538200" cy="677880"/>
            <a:chOff x="2268360" y="4622760"/>
            <a:chExt cx="538200" cy="677880"/>
          </a:xfrm>
        </p:grpSpPr>
        <p:sp>
          <p:nvSpPr>
            <p:cNvPr id="145" name=""/>
            <p:cNvSpPr/>
            <p:nvPr/>
          </p:nvSpPr>
          <p:spPr>
            <a:xfrm>
              <a:off x="2268360" y="4622760"/>
              <a:ext cx="316080" cy="677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84440" y="4653000"/>
              <a:ext cx="222120" cy="154080"/>
            </a:xfrm>
            <a:custGeom>
              <a:avLst/>
              <a:gdLst/>
              <a:ahLst/>
              <a:rect l="l" t="t" r="r" b="b"/>
              <a:pathLst>
                <a:path w="318" h="227">
                  <a:moveTo>
                    <a:pt x="0" y="0"/>
                  </a:moveTo>
                  <a:lnTo>
                    <a:pt x="318" y="0"/>
                  </a:lnTo>
                  <a:lnTo>
                    <a:pt x="318" y="136"/>
                  </a:lnTo>
                  <a:lnTo>
                    <a:pt x="182" y="136"/>
                  </a:lnTo>
                  <a:lnTo>
                    <a:pt x="182" y="227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584440" y="5115960"/>
              <a:ext cx="222120" cy="154080"/>
            </a:xfrm>
            <a:custGeom>
              <a:avLst/>
              <a:gdLst/>
              <a:ahLst/>
              <a:rect l="l" t="t" r="r" b="b"/>
              <a:pathLst>
                <a:path w="318" h="227">
                  <a:moveTo>
                    <a:pt x="0" y="0"/>
                  </a:moveTo>
                  <a:lnTo>
                    <a:pt x="318" y="0"/>
                  </a:lnTo>
                  <a:lnTo>
                    <a:pt x="318" y="136"/>
                  </a:lnTo>
                  <a:lnTo>
                    <a:pt x="182" y="136"/>
                  </a:lnTo>
                  <a:lnTo>
                    <a:pt x="182" y="227"/>
                  </a:lnTo>
                  <a:lnTo>
                    <a:pt x="0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00360" y="5226120"/>
            <a:ext cx="1405440" cy="777960"/>
            <a:chOff x="4500360" y="5226120"/>
            <a:chExt cx="1405440" cy="777960"/>
          </a:xfrm>
        </p:grpSpPr>
        <p:sp>
          <p:nvSpPr>
            <p:cNvPr id="149" name=""/>
            <p:cNvSpPr/>
            <p:nvPr/>
          </p:nvSpPr>
          <p:spPr>
            <a:xfrm>
              <a:off x="4551480" y="5572440"/>
              <a:ext cx="126828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500360" y="5230800"/>
              <a:ext cx="316080" cy="344520"/>
              <a:chOff x="4500360" y="5230800"/>
              <a:chExt cx="316080" cy="344520"/>
            </a:xfrm>
          </p:grpSpPr>
          <p:sp>
            <p:nvSpPr>
              <p:cNvPr id="151" name=""/>
              <p:cNvSpPr/>
              <p:nvPr/>
            </p:nvSpPr>
            <p:spPr>
              <a:xfrm>
                <a:off x="4537440" y="5261040"/>
                <a:ext cx="271800" cy="230040"/>
              </a:xfrm>
              <a:custGeom>
                <a:avLst/>
                <a:gdLst/>
                <a:ahLst/>
                <a:rect l="l" t="t" r="r" b="b"/>
                <a:pathLst>
                  <a:path w="430" h="363">
                    <a:moveTo>
                      <a:pt x="45" y="363"/>
                    </a:moveTo>
                    <a:lnTo>
                      <a:pt x="45" y="227"/>
                    </a:lnTo>
                    <a:lnTo>
                      <a:pt x="0" y="91"/>
                    </a:lnTo>
                    <a:lnTo>
                      <a:pt x="136" y="0"/>
                    </a:lnTo>
                    <a:lnTo>
                      <a:pt x="272" y="0"/>
                    </a:lnTo>
                    <a:lnTo>
                      <a:pt x="430" y="158"/>
                    </a:lnTo>
                    <a:lnTo>
                      <a:pt x="430" y="363"/>
                    </a:lnTo>
                    <a:lnTo>
                      <a:pt x="45" y="363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4500000" y="5230800"/>
                <a:ext cx="143640" cy="114480"/>
              </a:xfrm>
              <a:prstGeom prst="parallelogram">
                <a:avLst>
                  <a:gd name="adj" fmla="val 14249"/>
                </a:avLst>
              </a:prstGeom>
              <a:solidFill>
                <a:srgbClr val="ffff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58320" y="5489280"/>
                <a:ext cx="258120" cy="860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554440" y="5226120"/>
              <a:ext cx="351360" cy="341280"/>
              <a:chOff x="5554440" y="5226120"/>
              <a:chExt cx="351360" cy="34128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5561280" y="5306040"/>
                <a:ext cx="267120" cy="176400"/>
              </a:xfrm>
              <a:custGeom>
                <a:avLst/>
                <a:gdLst/>
                <a:ahLst/>
                <a:rect l="l" t="t" r="r" b="b"/>
                <a:pathLst>
                  <a:path w="420" h="277">
                    <a:moveTo>
                      <a:pt x="35" y="277"/>
                    </a:moveTo>
                    <a:lnTo>
                      <a:pt x="0" y="81"/>
                    </a:lnTo>
                    <a:lnTo>
                      <a:pt x="99" y="0"/>
                    </a:lnTo>
                    <a:lnTo>
                      <a:pt x="417" y="225"/>
                    </a:lnTo>
                    <a:lnTo>
                      <a:pt x="420" y="277"/>
                    </a:lnTo>
                    <a:lnTo>
                      <a:pt x="35" y="277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358400">
                <a:off x="5698080" y="5278320"/>
                <a:ext cx="202320" cy="86400"/>
              </a:xfrm>
              <a:prstGeom prst="parallelogram">
                <a:avLst>
                  <a:gd name="adj" fmla="val 92637"/>
                </a:avLst>
              </a:prstGeom>
              <a:solidFill>
                <a:srgbClr val="ffff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5554080" y="5480640"/>
                <a:ext cx="259560" cy="86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865120" y="5504040"/>
            <a:ext cx="7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Lower</a:t>
            </a:r>
            <a:br>
              <a:rPr sz="1400"/>
            </a:b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 tur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66640" y="4714920"/>
            <a:ext cx="80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Sp 1</a:t>
            </a:r>
            <a:br>
              <a:rPr sz="1400"/>
            </a:b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Main</a:t>
            </a:r>
            <a:br>
              <a:rPr sz="1400"/>
            </a:b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10360" y="4680000"/>
            <a:ext cx="80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Sp 2</a:t>
            </a:r>
            <a:br>
              <a:rPr sz="1400"/>
            </a:b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Sub</a:t>
            </a:r>
            <a:br>
              <a:rPr sz="1400"/>
            </a:b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59080" y="43149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6880" y="42926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42000" y="465300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42000" y="520704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54080" y="56437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Capto 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1360" y="4627440"/>
            <a:ext cx="74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Auto</a:t>
            </a:r>
            <a:br>
              <a:rPr sz="1200"/>
            </a:b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68920" y="4630680"/>
            <a:ext cx="0" cy="5763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357440" y="48672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5000" y="5621400"/>
            <a:ext cx="676080" cy="337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Alt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56000" y="4581360"/>
            <a:ext cx="1079280" cy="649440"/>
            <a:chOff x="2556000" y="4581360"/>
            <a:chExt cx="1079280" cy="649440"/>
          </a:xfrm>
        </p:grpSpPr>
        <p:sp>
          <p:nvSpPr>
            <p:cNvPr id="171" name=""/>
            <p:cNvSpPr/>
            <p:nvPr/>
          </p:nvSpPr>
          <p:spPr>
            <a:xfrm>
              <a:off x="3635280" y="4653000"/>
              <a:ext cx="0" cy="5763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556000" y="4726080"/>
              <a:ext cx="1077480" cy="431640"/>
              <a:chOff x="2556000" y="4726080"/>
              <a:chExt cx="1077480" cy="431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698560" y="4726080"/>
                <a:ext cx="864720" cy="431640"/>
              </a:xfrm>
              <a:custGeom>
                <a:avLst/>
                <a:gdLst/>
                <a:ahLst/>
                <a:rect l="l" t="t" r="r" b="b"/>
                <a:pathLst>
                  <a:path w="545" h="272">
                    <a:moveTo>
                      <a:pt x="0" y="0"/>
                    </a:moveTo>
                    <a:lnTo>
                      <a:pt x="227" y="0"/>
                    </a:lnTo>
                    <a:lnTo>
                      <a:pt x="273" y="45"/>
                    </a:lnTo>
                    <a:lnTo>
                      <a:pt x="318" y="0"/>
                    </a:lnTo>
                    <a:lnTo>
                      <a:pt x="545" y="0"/>
                    </a:lnTo>
                    <a:lnTo>
                      <a:pt x="545" y="272"/>
                    </a:lnTo>
                    <a:lnTo>
                      <a:pt x="318" y="272"/>
                    </a:lnTo>
                    <a:lnTo>
                      <a:pt x="273" y="227"/>
                    </a:lnTo>
                    <a:lnTo>
                      <a:pt x="227" y="272"/>
                    </a:lnTo>
                    <a:lnTo>
                      <a:pt x="0" y="2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58920" y="472608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31640" y="479736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03280" y="472608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56000" y="4943520"/>
                <a:ext cx="10774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914560" y="4654440"/>
              <a:ext cx="637560" cy="47520"/>
            </a:xfrm>
            <a:custGeom>
              <a:avLst/>
              <a:gdLst/>
              <a:ahLst/>
              <a:rect l="l" t="t" r="r" b="b"/>
              <a:pathLst>
                <a:path w="402" h="30">
                  <a:moveTo>
                    <a:pt x="0" y="0"/>
                  </a:moveTo>
                  <a:lnTo>
                    <a:pt x="91" y="0"/>
                  </a:lnTo>
                  <a:lnTo>
                    <a:pt x="138" y="30"/>
                  </a:lnTo>
                  <a:lnTo>
                    <a:pt x="192" y="4"/>
                  </a:lnTo>
                  <a:lnTo>
                    <a:pt x="402" y="1"/>
                  </a:lnTo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14560" y="458136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916000" y="5183280"/>
              <a:ext cx="637920" cy="47520"/>
            </a:xfrm>
            <a:custGeom>
              <a:avLst/>
              <a:gdLst/>
              <a:ahLst/>
              <a:rect l="l" t="t" r="r" b="b"/>
              <a:pathLst>
                <a:path w="402" h="30">
                  <a:moveTo>
                    <a:pt x="0" y="0"/>
                  </a:moveTo>
                  <a:lnTo>
                    <a:pt x="91" y="0"/>
                  </a:lnTo>
                  <a:lnTo>
                    <a:pt x="138" y="30"/>
                  </a:lnTo>
                  <a:lnTo>
                    <a:pt x="192" y="4"/>
                  </a:lnTo>
                  <a:lnTo>
                    <a:pt x="402" y="1"/>
                  </a:lnTo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403280" y="429264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Two spind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413080" y="1557360"/>
            <a:ext cx="1036440" cy="1209600"/>
            <a:chOff x="2413080" y="1557360"/>
            <a:chExt cx="1036440" cy="1209600"/>
          </a:xfrm>
        </p:grpSpPr>
        <p:sp>
          <p:nvSpPr>
            <p:cNvPr id="183" name=""/>
            <p:cNvSpPr/>
            <p:nvPr/>
          </p:nvSpPr>
          <p:spPr>
            <a:xfrm>
              <a:off x="2413080" y="1615680"/>
              <a:ext cx="1036440" cy="1036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43120" y="1730160"/>
              <a:ext cx="576360" cy="80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58680" y="2536560"/>
              <a:ext cx="345240" cy="172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58680" y="1672920"/>
              <a:ext cx="345240" cy="5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57240" y="2132640"/>
              <a:ext cx="3452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31480" y="1557360"/>
              <a:ext cx="0" cy="120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825440" y="1393920"/>
            <a:ext cx="1465920" cy="1466280"/>
            <a:chOff x="4825440" y="1393920"/>
            <a:chExt cx="1465920" cy="1466280"/>
          </a:xfrm>
        </p:grpSpPr>
        <p:sp>
          <p:nvSpPr>
            <p:cNvPr id="190" name=""/>
            <p:cNvSpPr/>
            <p:nvPr/>
          </p:nvSpPr>
          <p:spPr>
            <a:xfrm rot="2700000">
              <a:off x="5040000" y="1608480"/>
              <a:ext cx="1036800" cy="1036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700000">
              <a:off x="5270400" y="1723320"/>
              <a:ext cx="576720" cy="806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700000">
              <a:off x="5039280" y="2386440"/>
              <a:ext cx="345240" cy="172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700000">
              <a:off x="5691600" y="1792440"/>
              <a:ext cx="345240" cy="5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36360" y="2003400"/>
              <a:ext cx="243000" cy="24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110560" y="1719360"/>
              <a:ext cx="855720" cy="85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303680" y="1393920"/>
            <a:ext cx="1465920" cy="1466280"/>
            <a:chOff x="7303680" y="1393920"/>
            <a:chExt cx="1465920" cy="1466280"/>
          </a:xfrm>
        </p:grpSpPr>
        <p:sp>
          <p:nvSpPr>
            <p:cNvPr id="197" name=""/>
            <p:cNvSpPr/>
            <p:nvPr/>
          </p:nvSpPr>
          <p:spPr>
            <a:xfrm rot="2700000">
              <a:off x="7518240" y="1608480"/>
              <a:ext cx="1036800" cy="1036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700000">
              <a:off x="7748640" y="1723320"/>
              <a:ext cx="576720" cy="80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700000">
              <a:off x="7517880" y="2386080"/>
              <a:ext cx="345240" cy="172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700000">
              <a:off x="8169840" y="1792440"/>
              <a:ext cx="345240" cy="5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14600" y="2003040"/>
              <a:ext cx="243360" cy="24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89160" y="1719360"/>
              <a:ext cx="855360" cy="85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550880" y="2203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V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7600" y="213192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V/H</a:t>
            </a:r>
            <a:br>
              <a:rPr sz="1600"/>
            </a:b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64240" y="2131920"/>
            <a:ext cx="86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V/H</a:t>
            </a:r>
            <a:br>
              <a:rPr sz="1600"/>
            </a:b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41080" y="2923920"/>
            <a:ext cx="346320" cy="925560"/>
            <a:chOff x="2341080" y="2923920"/>
            <a:chExt cx="346320" cy="925560"/>
          </a:xfrm>
        </p:grpSpPr>
        <p:grpSp>
          <p:nvGrpSpPr>
            <p:cNvPr id="207" name=""/>
            <p:cNvGrpSpPr/>
            <p:nvPr/>
          </p:nvGrpSpPr>
          <p:grpSpPr>
            <a:xfrm>
              <a:off x="2341080" y="3502800"/>
              <a:ext cx="318240" cy="346680"/>
              <a:chOff x="2341080" y="3502800"/>
              <a:chExt cx="318240" cy="346680"/>
            </a:xfrm>
          </p:grpSpPr>
          <p:sp>
            <p:nvSpPr>
              <p:cNvPr id="208" name=""/>
              <p:cNvSpPr/>
              <p:nvPr/>
            </p:nvSpPr>
            <p:spPr>
              <a:xfrm flipH="1" rot="10800000">
                <a:off x="2377800" y="3587400"/>
                <a:ext cx="273960" cy="231480"/>
              </a:xfrm>
              <a:custGeom>
                <a:avLst/>
                <a:gdLst/>
                <a:ahLst/>
                <a:rect l="l" t="t" r="r" b="b"/>
                <a:pathLst>
                  <a:path w="430" h="363">
                    <a:moveTo>
                      <a:pt x="45" y="363"/>
                    </a:moveTo>
                    <a:lnTo>
                      <a:pt x="45" y="227"/>
                    </a:lnTo>
                    <a:lnTo>
                      <a:pt x="0" y="91"/>
                    </a:lnTo>
                    <a:lnTo>
                      <a:pt x="136" y="0"/>
                    </a:lnTo>
                    <a:lnTo>
                      <a:pt x="272" y="0"/>
                    </a:lnTo>
                    <a:lnTo>
                      <a:pt x="430" y="158"/>
                    </a:lnTo>
                    <a:lnTo>
                      <a:pt x="430" y="363"/>
                    </a:lnTo>
                    <a:lnTo>
                      <a:pt x="45" y="363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0800000">
                <a:off x="2341080" y="3734280"/>
                <a:ext cx="144360" cy="115200"/>
              </a:xfrm>
              <a:prstGeom prst="parallelogram">
                <a:avLst>
                  <a:gd name="adj" fmla="val 14231"/>
                </a:avLst>
              </a:prstGeom>
              <a:solidFill>
                <a:srgbClr val="ffff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0800000">
                <a:off x="2399400" y="3502800"/>
                <a:ext cx="259920" cy="86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rot="10800000">
              <a:off x="2398320" y="3242160"/>
              <a:ext cx="259560" cy="260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rot="10800000">
              <a:off x="2369880" y="3039840"/>
              <a:ext cx="317520" cy="144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10800000">
              <a:off x="2369880" y="3184200"/>
              <a:ext cx="317520" cy="57960"/>
            </a:xfrm>
            <a:custGeom>
              <a:avLst/>
              <a:gdLst/>
              <a:ahLst/>
              <a:rect l="l" t="t" r="r" b="b"/>
              <a:pathLst>
                <a:path w="499" h="91">
                  <a:moveTo>
                    <a:pt x="0" y="90"/>
                  </a:moveTo>
                  <a:lnTo>
                    <a:pt x="45" y="0"/>
                  </a:lnTo>
                  <a:lnTo>
                    <a:pt x="454" y="0"/>
                  </a:lnTo>
                  <a:lnTo>
                    <a:pt x="499" y="9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rot="10800000">
              <a:off x="2427840" y="2923920"/>
              <a:ext cx="201600" cy="115920"/>
            </a:xfrm>
            <a:custGeom>
              <a:avLst/>
              <a:gdLst>
                <a:gd name="textAreaLeft" fmla="*/ 23040 w 201600"/>
                <a:gd name="textAreaRight" fmla="*/ 178560 w 201600"/>
                <a:gd name="textAreaTop" fmla="*/ 12960 h 115920"/>
                <a:gd name="textAreaBottom" fmla="*/ 102960 h 1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05" y="21600"/>
                  </a:lnTo>
                  <a:lnTo>
                    <a:pt x="1295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72240" y="2923920"/>
            <a:ext cx="380520" cy="916200"/>
            <a:chOff x="3072240" y="2923920"/>
            <a:chExt cx="380520" cy="916200"/>
          </a:xfrm>
        </p:grpSpPr>
        <p:grpSp>
          <p:nvGrpSpPr>
            <p:cNvPr id="216" name=""/>
            <p:cNvGrpSpPr/>
            <p:nvPr/>
          </p:nvGrpSpPr>
          <p:grpSpPr>
            <a:xfrm>
              <a:off x="3072240" y="3500640"/>
              <a:ext cx="351360" cy="339480"/>
              <a:chOff x="3072240" y="3500640"/>
              <a:chExt cx="351360" cy="339480"/>
            </a:xfrm>
          </p:grpSpPr>
          <p:sp>
            <p:nvSpPr>
              <p:cNvPr id="217" name=""/>
              <p:cNvSpPr/>
              <p:nvPr/>
            </p:nvSpPr>
            <p:spPr>
              <a:xfrm flipH="1" rot="10800000">
                <a:off x="3149280" y="3584880"/>
                <a:ext cx="266760" cy="175680"/>
              </a:xfrm>
              <a:custGeom>
                <a:avLst/>
                <a:gdLst/>
                <a:ahLst/>
                <a:rect l="l" t="t" r="r" b="b"/>
                <a:pathLst>
                  <a:path w="420" h="277">
                    <a:moveTo>
                      <a:pt x="35" y="277"/>
                    </a:moveTo>
                    <a:lnTo>
                      <a:pt x="0" y="81"/>
                    </a:lnTo>
                    <a:lnTo>
                      <a:pt x="99" y="0"/>
                    </a:lnTo>
                    <a:lnTo>
                      <a:pt x="417" y="225"/>
                    </a:lnTo>
                    <a:lnTo>
                      <a:pt x="420" y="277"/>
                    </a:lnTo>
                    <a:lnTo>
                      <a:pt x="35" y="277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8558400">
                <a:off x="3077280" y="3701520"/>
                <a:ext cx="201960" cy="86040"/>
              </a:xfrm>
              <a:prstGeom prst="parallelogram">
                <a:avLst>
                  <a:gd name="adj" fmla="val 92859"/>
                </a:avLst>
              </a:prstGeom>
              <a:solidFill>
                <a:srgbClr val="ffff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10800000">
                <a:off x="3164400" y="3500640"/>
                <a:ext cx="259200" cy="860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H="1" rot="10800000">
              <a:off x="3164400" y="3241080"/>
              <a:ext cx="259200" cy="259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10800000">
              <a:off x="3135240" y="3039480"/>
              <a:ext cx="317160" cy="144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rot="10800000">
              <a:off x="3135240" y="3183120"/>
              <a:ext cx="317160" cy="57600"/>
            </a:xfrm>
            <a:custGeom>
              <a:avLst/>
              <a:gdLst/>
              <a:ahLst/>
              <a:rect l="l" t="t" r="r" b="b"/>
              <a:pathLst>
                <a:path w="499" h="91">
                  <a:moveTo>
                    <a:pt x="0" y="90"/>
                  </a:moveTo>
                  <a:lnTo>
                    <a:pt x="45" y="0"/>
                  </a:lnTo>
                  <a:lnTo>
                    <a:pt x="454" y="0"/>
                  </a:lnTo>
                  <a:lnTo>
                    <a:pt x="499" y="9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rot="10800000">
              <a:off x="3193200" y="2923920"/>
              <a:ext cx="201240" cy="115560"/>
            </a:xfrm>
            <a:custGeom>
              <a:avLst/>
              <a:gdLst>
                <a:gd name="textAreaLeft" fmla="*/ 23040 w 201240"/>
                <a:gd name="textAreaRight" fmla="*/ 178200 w 201240"/>
                <a:gd name="textAreaTop" fmla="*/ 12960 h 115560"/>
                <a:gd name="textAreaBottom" fmla="*/ 102600 h 11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05" y="21600"/>
                  </a:lnTo>
                  <a:lnTo>
                    <a:pt x="1295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011200" y="3027960"/>
            <a:ext cx="741240" cy="756000"/>
            <a:chOff x="5011200" y="3027960"/>
            <a:chExt cx="741240" cy="756000"/>
          </a:xfrm>
        </p:grpSpPr>
        <p:sp>
          <p:nvSpPr>
            <p:cNvPr id="225" name=""/>
            <p:cNvSpPr/>
            <p:nvPr/>
          </p:nvSpPr>
          <p:spPr>
            <a:xfrm rot="13500000">
              <a:off x="5159880" y="3198240"/>
              <a:ext cx="301680" cy="545040"/>
            </a:xfrm>
            <a:custGeom>
              <a:avLst/>
              <a:gdLst/>
              <a:ahLst/>
              <a:rect l="l" t="t" r="r" b="b"/>
              <a:pathLst>
                <a:path w="477" h="860">
                  <a:moveTo>
                    <a:pt x="0" y="857"/>
                  </a:moveTo>
                  <a:lnTo>
                    <a:pt x="138" y="24"/>
                  </a:lnTo>
                  <a:lnTo>
                    <a:pt x="261" y="0"/>
                  </a:lnTo>
                  <a:lnTo>
                    <a:pt x="318" y="105"/>
                  </a:lnTo>
                  <a:lnTo>
                    <a:pt x="477" y="860"/>
                  </a:lnTo>
                  <a:lnTo>
                    <a:pt x="0" y="85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3500000">
              <a:off x="5391360" y="3159360"/>
              <a:ext cx="315720" cy="143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3500000">
              <a:off x="5540400" y="3081600"/>
              <a:ext cx="200520" cy="115200"/>
            </a:xfrm>
            <a:custGeom>
              <a:avLst/>
              <a:gdLst>
                <a:gd name="textAreaLeft" fmla="*/ 22680 w 200520"/>
                <a:gd name="textAreaRight" fmla="*/ 177840 w 200520"/>
                <a:gd name="textAreaTop" fmla="*/ 12960 h 115200"/>
                <a:gd name="textAreaBottom" fmla="*/ 102240 h 1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05" y="21600"/>
                  </a:lnTo>
                  <a:lnTo>
                    <a:pt x="1295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rot="16449000">
              <a:off x="5038920" y="3637080"/>
              <a:ext cx="201600" cy="85680"/>
            </a:xfrm>
            <a:prstGeom prst="parallelogram">
              <a:avLst>
                <a:gd name="adj" fmla="val 93083"/>
              </a:avLst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384800" y="3029400"/>
            <a:ext cx="704880" cy="706320"/>
            <a:chOff x="4384800" y="3029400"/>
            <a:chExt cx="704880" cy="706320"/>
          </a:xfrm>
        </p:grpSpPr>
        <p:sp>
          <p:nvSpPr>
            <p:cNvPr id="230" name=""/>
            <p:cNvSpPr/>
            <p:nvPr/>
          </p:nvSpPr>
          <p:spPr>
            <a:xfrm rot="13500000">
              <a:off x="4514400" y="3207960"/>
              <a:ext cx="302040" cy="492840"/>
            </a:xfrm>
            <a:custGeom>
              <a:avLst/>
              <a:gdLst/>
              <a:ahLst/>
              <a:rect l="l" t="t" r="r" b="b"/>
              <a:pathLst>
                <a:path w="477" h="777">
                  <a:moveTo>
                    <a:pt x="0" y="774"/>
                  </a:moveTo>
                  <a:lnTo>
                    <a:pt x="135" y="3"/>
                  </a:lnTo>
                  <a:lnTo>
                    <a:pt x="306" y="0"/>
                  </a:lnTo>
                  <a:lnTo>
                    <a:pt x="477" y="777"/>
                  </a:lnTo>
                  <a:lnTo>
                    <a:pt x="0" y="77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16417200">
              <a:off x="4435200" y="3583080"/>
              <a:ext cx="135720" cy="104400"/>
            </a:xfrm>
            <a:prstGeom prst="parallelogram">
              <a:avLst>
                <a:gd name="adj" fmla="val 22172"/>
              </a:avLst>
            </a:prstGeom>
            <a:solidFill>
              <a:srgbClr val="ff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3500000">
              <a:off x="4727880" y="3161160"/>
              <a:ext cx="316080" cy="144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3500000">
              <a:off x="4877280" y="3083400"/>
              <a:ext cx="200880" cy="115560"/>
            </a:xfrm>
            <a:custGeom>
              <a:avLst/>
              <a:gdLst>
                <a:gd name="textAreaLeft" fmla="*/ 22680 w 200880"/>
                <a:gd name="textAreaRight" fmla="*/ 178200 w 200880"/>
                <a:gd name="textAreaTop" fmla="*/ 12960 h 115560"/>
                <a:gd name="textAreaBottom" fmla="*/ 102600 h 11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05" y="21600"/>
                  </a:lnTo>
                  <a:lnTo>
                    <a:pt x="1295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485720" y="1508040"/>
            <a:ext cx="676080" cy="337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Alt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05080" y="1484280"/>
            <a:ext cx="676080" cy="337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Alt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26160" y="1484280"/>
            <a:ext cx="676080" cy="337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Alt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98880" y="1413000"/>
            <a:ext cx="2303640" cy="259236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1413000"/>
            <a:ext cx="2448000" cy="259236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18160" y="1413000"/>
            <a:ext cx="2303640" cy="259236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415640" y="2536560"/>
            <a:ext cx="1474560" cy="1496880"/>
            <a:chOff x="7415640" y="2536560"/>
            <a:chExt cx="1474560" cy="1496880"/>
          </a:xfrm>
        </p:grpSpPr>
        <p:grpSp>
          <p:nvGrpSpPr>
            <p:cNvPr id="241" name=""/>
            <p:cNvGrpSpPr/>
            <p:nvPr/>
          </p:nvGrpSpPr>
          <p:grpSpPr>
            <a:xfrm>
              <a:off x="7415640" y="2536560"/>
              <a:ext cx="1474560" cy="1483200"/>
              <a:chOff x="7415640" y="2536560"/>
              <a:chExt cx="1474560" cy="14832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7415640" y="2536560"/>
                <a:ext cx="1474560" cy="1483200"/>
                <a:chOff x="7415640" y="2536560"/>
                <a:chExt cx="1474560" cy="14832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667640" y="2845080"/>
                  <a:ext cx="911160" cy="84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7713720" y="3517920"/>
                  <a:ext cx="14040" cy="106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7698960" y="3450960"/>
                  <a:ext cx="28440" cy="666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>
                  <a:off x="7713720" y="3309840"/>
                  <a:ext cx="1440" cy="37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7713720" y="3189240"/>
                  <a:ext cx="106200" cy="1159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flipV="1">
                  <a:off x="7818480" y="3156120"/>
                  <a:ext cx="1440" cy="302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7819920" y="2990880"/>
                  <a:ext cx="252360" cy="160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075520" y="2989440"/>
                  <a:ext cx="25560" cy="61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8101080" y="2943000"/>
                  <a:ext cx="79200" cy="522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8280360" y="2890440"/>
                  <a:ext cx="123840" cy="810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405640" y="2889360"/>
                  <a:ext cx="42840" cy="11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451720" y="2898720"/>
                  <a:ext cx="34920" cy="302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489880" y="2928960"/>
                  <a:ext cx="44640" cy="7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534520" y="3009960"/>
                  <a:ext cx="23760" cy="7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8548200" y="3090960"/>
                  <a:ext cx="12600" cy="60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8439120" y="3152880"/>
                  <a:ext cx="109440" cy="7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8424360" y="3232440"/>
                  <a:ext cx="17640" cy="1015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8322840" y="3333960"/>
                  <a:ext cx="104760" cy="572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323200" y="3394080"/>
                  <a:ext cx="0" cy="38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8008560" y="3434040"/>
                  <a:ext cx="315720" cy="198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>
                  <a:off x="7977240" y="3622680"/>
                  <a:ext cx="31680" cy="158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7853040" y="3627720"/>
                  <a:ext cx="127080" cy="37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7823160" y="3655800"/>
                  <a:ext cx="30240" cy="11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7796160" y="3392640"/>
                  <a:ext cx="74520" cy="79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7872480" y="3305160"/>
                  <a:ext cx="136440" cy="907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7823160" y="3186000"/>
                  <a:ext cx="185760" cy="1141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7856640" y="3552480"/>
                  <a:ext cx="4680" cy="1047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V="1">
                  <a:off x="7858080" y="3533400"/>
                  <a:ext cx="19080" cy="190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877160" y="3390840"/>
                  <a:ext cx="0" cy="1378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7718400" y="3551400"/>
                  <a:ext cx="138240" cy="11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8000640" y="3271680"/>
                  <a:ext cx="4680" cy="270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flipV="1">
                  <a:off x="7913520" y="3198600"/>
                  <a:ext cx="90720" cy="730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flipV="1">
                  <a:off x="7815240" y="3148200"/>
                  <a:ext cx="100080" cy="475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075520" y="2989440"/>
                  <a:ext cx="138240" cy="619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218440" y="3052800"/>
                  <a:ext cx="82440" cy="98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304120" y="3151440"/>
                  <a:ext cx="33480" cy="824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339040" y="3241800"/>
                  <a:ext cx="12600" cy="1382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 flipV="1">
                  <a:off x="8280000" y="3205440"/>
                  <a:ext cx="58680" cy="331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flipV="1">
                  <a:off x="8194680" y="3198960"/>
                  <a:ext cx="85680" cy="9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8003880" y="3195720"/>
                  <a:ext cx="190440" cy="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flipV="1">
                  <a:off x="8413560" y="3129120"/>
                  <a:ext cx="28800" cy="1080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 flipV="1">
                  <a:off x="8346960" y="3024000"/>
                  <a:ext cx="68400" cy="1047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flipV="1">
                  <a:off x="8275680" y="2966760"/>
                  <a:ext cx="71280" cy="572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>
                  <a:off x="8175240" y="2936880"/>
                  <a:ext cx="96840" cy="302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0406600">
                  <a:off x="7667280" y="3348000"/>
                  <a:ext cx="141120" cy="98640"/>
                </a:xfrm>
                <a:prstGeom prst="parallelogram">
                  <a:avLst>
                    <a:gd name="adj" fmla="val 35766"/>
                  </a:avLst>
                </a:prstGeom>
                <a:solidFill>
                  <a:srgbClr val="ffff6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7686720" y="3403800"/>
                  <a:ext cx="100080" cy="38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 rot="5513400">
                  <a:off x="7432920" y="2956680"/>
                  <a:ext cx="635040" cy="138240"/>
                </a:xfrm>
                <a:prstGeom prst="parallelogram">
                  <a:avLst>
                    <a:gd name="adj" fmla="val 114844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487800">
                  <a:off x="7700400" y="3614400"/>
                  <a:ext cx="123840" cy="42840"/>
                </a:xfrm>
                <a:prstGeom prst="rect">
                  <a:avLst/>
                </a:prstGeom>
                <a:solidFill>
                  <a:srgbClr val="ffff66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19646400">
                  <a:off x="7505640" y="2707920"/>
                  <a:ext cx="74304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rot="5513400">
                  <a:off x="7427160" y="3157560"/>
                  <a:ext cx="400320" cy="168120"/>
                </a:xfrm>
                <a:prstGeom prst="parallelogram">
                  <a:avLst>
                    <a:gd name="adj" fmla="val 5952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rot="5513400">
                  <a:off x="7346160" y="3492360"/>
                  <a:ext cx="590400" cy="73080"/>
                </a:xfrm>
                <a:prstGeom prst="parallelogram">
                  <a:avLst>
                    <a:gd name="adj" fmla="val 20197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4320600">
                  <a:off x="7593120" y="3713040"/>
                  <a:ext cx="399960" cy="177840"/>
                </a:xfrm>
                <a:prstGeom prst="parallelogram">
                  <a:avLst>
                    <a:gd name="adj" fmla="val 5622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rot="5911800">
                  <a:off x="7433280" y="3474720"/>
                  <a:ext cx="263520" cy="26352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rot="8439600">
                  <a:off x="7914240" y="3644640"/>
                  <a:ext cx="145800" cy="92160"/>
                </a:xfrm>
                <a:prstGeom prst="parallelogram">
                  <a:avLst>
                    <a:gd name="adj" fmla="val 39551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rot="11622000">
                  <a:off x="7585560" y="3462120"/>
                  <a:ext cx="146160" cy="46080"/>
                </a:xfrm>
                <a:prstGeom prst="parallelogram">
                  <a:avLst>
                    <a:gd name="adj" fmla="val 7929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rot="12568200">
                  <a:off x="7593480" y="3487320"/>
                  <a:ext cx="146160" cy="86040"/>
                </a:xfrm>
                <a:prstGeom prst="parallelogram">
                  <a:avLst>
                    <a:gd name="adj" fmla="val 4246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19786800">
                  <a:off x="8260920" y="3329640"/>
                  <a:ext cx="401760" cy="181440"/>
                </a:xfrm>
                <a:prstGeom prst="parallelogram">
                  <a:avLst>
                    <a:gd name="adj" fmla="val 5535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flipV="1" rot="19568400">
                  <a:off x="8362080" y="3163680"/>
                  <a:ext cx="401760" cy="112680"/>
                </a:xfrm>
                <a:prstGeom prst="parallelogram">
                  <a:avLst>
                    <a:gd name="adj" fmla="val 8913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19568400">
                  <a:off x="8490600" y="2947680"/>
                  <a:ext cx="401760" cy="112680"/>
                </a:xfrm>
                <a:prstGeom prst="parallelogram">
                  <a:avLst>
                    <a:gd name="adj" fmla="val 8913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 rot="15083400">
                  <a:off x="8384760" y="2915280"/>
                  <a:ext cx="401400" cy="112320"/>
                </a:xfrm>
                <a:prstGeom prst="parallelogram">
                  <a:avLst>
                    <a:gd name="adj" fmla="val 8934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 rot="14296200">
                  <a:off x="8360280" y="2867040"/>
                  <a:ext cx="401760" cy="112680"/>
                </a:xfrm>
                <a:prstGeom prst="parallelogram">
                  <a:avLst>
                    <a:gd name="adj" fmla="val 8913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 rot="13415400">
                  <a:off x="8361720" y="2856600"/>
                  <a:ext cx="401400" cy="112680"/>
                </a:xfrm>
                <a:prstGeom prst="parallelogram">
                  <a:avLst>
                    <a:gd name="adj" fmla="val 89058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 rot="11541600">
                  <a:off x="8269920" y="2783520"/>
                  <a:ext cx="401760" cy="112680"/>
                </a:xfrm>
                <a:prstGeom prst="parallelogram">
                  <a:avLst>
                    <a:gd name="adj" fmla="val 8913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 rot="8866800">
                  <a:off x="8113320" y="2774520"/>
                  <a:ext cx="466560" cy="136440"/>
                </a:xfrm>
                <a:prstGeom prst="parallelogram">
                  <a:avLst>
                    <a:gd name="adj" fmla="val 85488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 rot="8866800">
                  <a:off x="7926120" y="2799720"/>
                  <a:ext cx="466560" cy="136440"/>
                </a:xfrm>
                <a:prstGeom prst="parallelogram">
                  <a:avLst>
                    <a:gd name="adj" fmla="val 85488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 rot="19687200">
                <a:off x="7951680" y="3466800"/>
                <a:ext cx="782640" cy="34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flipH="1" rot="5656200">
              <a:off x="7642800" y="3692160"/>
              <a:ext cx="399960" cy="263520"/>
            </a:xfrm>
            <a:prstGeom prst="parallelogram">
              <a:avLst>
                <a:gd name="adj" fmla="val 379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rcRect l="15156" t="0" r="19810" b="0"/>
          <a:stretch/>
        </p:blipFill>
        <p:spPr>
          <a:xfrm>
            <a:off x="34920" y="2637000"/>
            <a:ext cx="2016000" cy="164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3DB-CE61-4A9A-B38C-6E9A1C840C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085840" y="2744640"/>
            <a:ext cx="962280" cy="324000"/>
          </a:xfrm>
          <a:custGeom>
            <a:avLst/>
            <a:gdLst/>
            <a:ahLst/>
            <a:rect l="l" t="t" r="r" b="b"/>
            <a:pathLst>
              <a:path w="606" h="204">
                <a:moveTo>
                  <a:pt x="0" y="201"/>
                </a:moveTo>
                <a:lnTo>
                  <a:pt x="306" y="204"/>
                </a:lnTo>
                <a:lnTo>
                  <a:pt x="345" y="159"/>
                </a:lnTo>
                <a:lnTo>
                  <a:pt x="606" y="162"/>
                </a:lnTo>
                <a:lnTo>
                  <a:pt x="606" y="0"/>
                </a:lnTo>
                <a:lnTo>
                  <a:pt x="123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473360" y="3348360"/>
            <a:ext cx="1052280" cy="880920"/>
            <a:chOff x="4473360" y="3348360"/>
            <a:chExt cx="1052280" cy="880920"/>
          </a:xfrm>
        </p:grpSpPr>
        <p:sp>
          <p:nvSpPr>
            <p:cNvPr id="313" name=""/>
            <p:cNvSpPr/>
            <p:nvPr/>
          </p:nvSpPr>
          <p:spPr>
            <a:xfrm rot="3330000">
              <a:off x="4939560" y="3538440"/>
              <a:ext cx="604800" cy="272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3330000">
              <a:off x="4715280" y="3692520"/>
              <a:ext cx="604800" cy="272160"/>
            </a:xfrm>
            <a:custGeom>
              <a:avLst/>
              <a:gdLst>
                <a:gd name="textAreaLeft" fmla="*/ 132840 w 604800"/>
                <a:gd name="textAreaRight" fmla="*/ 471960 w 604800"/>
                <a:gd name="textAreaTop" fmla="*/ 59760 h 272160"/>
                <a:gd name="textAreaBottom" fmla="*/ 212400 h 27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3330000">
              <a:off x="4713840" y="3817800"/>
              <a:ext cx="54720" cy="393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3330000">
              <a:off x="4496400" y="4086000"/>
              <a:ext cx="119880" cy="119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924200" y="2998800"/>
            <a:ext cx="1263600" cy="831600"/>
            <a:chOff x="1924200" y="2998800"/>
            <a:chExt cx="1263600" cy="831600"/>
          </a:xfrm>
        </p:grpSpPr>
        <p:sp>
          <p:nvSpPr>
            <p:cNvPr id="318" name=""/>
            <p:cNvSpPr/>
            <p:nvPr/>
          </p:nvSpPr>
          <p:spPr>
            <a:xfrm>
              <a:off x="2079720" y="3137760"/>
              <a:ext cx="969480" cy="692640"/>
            </a:xfrm>
            <a:custGeom>
              <a:avLst/>
              <a:gdLst/>
              <a:ahLst/>
              <a:rect l="l" t="t" r="r" b="b"/>
              <a:pathLst>
                <a:path w="1270" h="907">
                  <a:moveTo>
                    <a:pt x="0" y="0"/>
                  </a:moveTo>
                  <a:lnTo>
                    <a:pt x="1270" y="0"/>
                  </a:lnTo>
                  <a:lnTo>
                    <a:pt x="1270" y="907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24200" y="35190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79720" y="3068280"/>
              <a:ext cx="969480" cy="69480"/>
            </a:xfrm>
            <a:custGeom>
              <a:avLst/>
              <a:gdLst/>
              <a:ahLst/>
              <a:rect l="l" t="t" r="r" b="b"/>
              <a:pathLst>
                <a:path w="1270" h="91">
                  <a:moveTo>
                    <a:pt x="0" y="0"/>
                  </a:moveTo>
                  <a:lnTo>
                    <a:pt x="1270" y="0"/>
                  </a:lnTo>
                  <a:lnTo>
                    <a:pt x="1270" y="91"/>
                  </a:lnTo>
                  <a:lnTo>
                    <a:pt x="0" y="91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64640" y="2998800"/>
              <a:ext cx="484560" cy="69480"/>
            </a:xfrm>
            <a:custGeom>
              <a:avLst/>
              <a:gdLst/>
              <a:ahLst/>
              <a:rect l="l" t="t" r="r" b="b"/>
              <a:pathLst>
                <a:path w="635" h="91">
                  <a:moveTo>
                    <a:pt x="0" y="91"/>
                  </a:moveTo>
                  <a:lnTo>
                    <a:pt x="635" y="91"/>
                  </a:lnTo>
                  <a:lnTo>
                    <a:pt x="635" y="0"/>
                  </a:lnTo>
                  <a:lnTo>
                    <a:pt x="91" y="0"/>
                  </a:lnTo>
                  <a:lnTo>
                    <a:pt x="0" y="91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540240" y="4221000"/>
            <a:ext cx="1263600" cy="761760"/>
            <a:chOff x="3540240" y="4221000"/>
            <a:chExt cx="1263600" cy="761760"/>
          </a:xfrm>
        </p:grpSpPr>
        <p:sp>
          <p:nvSpPr>
            <p:cNvPr id="323" name=""/>
            <p:cNvSpPr/>
            <p:nvPr/>
          </p:nvSpPr>
          <p:spPr>
            <a:xfrm>
              <a:off x="3695760" y="4290840"/>
              <a:ext cx="970200" cy="691920"/>
            </a:xfrm>
            <a:custGeom>
              <a:avLst/>
              <a:gdLst/>
              <a:ahLst/>
              <a:rect l="l" t="t" r="r" b="b"/>
              <a:pathLst>
                <a:path w="1270" h="907">
                  <a:moveTo>
                    <a:pt x="0" y="0"/>
                  </a:moveTo>
                  <a:lnTo>
                    <a:pt x="1270" y="0"/>
                  </a:lnTo>
                  <a:lnTo>
                    <a:pt x="1270" y="907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40240" y="46717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95760" y="4221000"/>
              <a:ext cx="970200" cy="69840"/>
            </a:xfrm>
            <a:custGeom>
              <a:avLst/>
              <a:gdLst/>
              <a:ahLst/>
              <a:rect l="l" t="t" r="r" b="b"/>
              <a:pathLst>
                <a:path w="1270" h="91">
                  <a:moveTo>
                    <a:pt x="0" y="0"/>
                  </a:moveTo>
                  <a:lnTo>
                    <a:pt x="1270" y="0"/>
                  </a:lnTo>
                  <a:lnTo>
                    <a:pt x="1270" y="91"/>
                  </a:lnTo>
                  <a:lnTo>
                    <a:pt x="0" y="91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68840" y="5541840"/>
            <a:ext cx="970200" cy="692280"/>
          </a:xfrm>
          <a:custGeom>
            <a:avLst/>
            <a:gdLst/>
            <a:ahLst/>
            <a:rect l="l" t="t" r="r" b="b"/>
            <a:pathLst>
              <a:path w="1270" h="907">
                <a:moveTo>
                  <a:pt x="0" y="0"/>
                </a:moveTo>
                <a:lnTo>
                  <a:pt x="1270" y="0"/>
                </a:lnTo>
                <a:lnTo>
                  <a:pt x="1270" y="907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3320" y="5923080"/>
            <a:ext cx="12636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68840" y="5472000"/>
            <a:ext cx="709560" cy="69840"/>
          </a:xfrm>
          <a:custGeom>
            <a:avLst/>
            <a:gdLst/>
            <a:ahLst/>
            <a:rect l="l" t="t" r="r" b="b"/>
            <a:pathLst>
              <a:path w="447" h="44">
                <a:moveTo>
                  <a:pt x="0" y="0"/>
                </a:moveTo>
                <a:lnTo>
                  <a:pt x="444" y="1"/>
                </a:lnTo>
                <a:lnTo>
                  <a:pt x="447" y="40"/>
                </a:lnTo>
                <a:lnTo>
                  <a:pt x="0" y="44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57480" y="29955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3068640"/>
            <a:ext cx="7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3480" y="28512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78160" y="30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135160" y="31370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5160" y="29192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54920" y="174312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1. Measure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08000" y="3362400"/>
            <a:ext cx="32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2. Probing and correction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    of tool length (x-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7800" y="4335480"/>
            <a:ext cx="159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3. Finishing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   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00000" y="2606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78160" y="2606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01560" y="33098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Finishing 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3003120" y="311148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97400" y="5270400"/>
            <a:ext cx="145476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Close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toler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28840" y="4335480"/>
            <a:ext cx="2057760" cy="1973160"/>
            <a:chOff x="528840" y="4335480"/>
            <a:chExt cx="2057760" cy="1973160"/>
          </a:xfrm>
        </p:grpSpPr>
        <p:sp>
          <p:nvSpPr>
            <p:cNvPr id="344" name=""/>
            <p:cNvSpPr/>
            <p:nvPr/>
          </p:nvSpPr>
          <p:spPr>
            <a:xfrm>
              <a:off x="684360" y="4940280"/>
              <a:ext cx="1584000" cy="1295640"/>
            </a:xfrm>
            <a:custGeom>
              <a:avLst/>
              <a:gdLst/>
              <a:ahLst/>
              <a:rect l="l" t="t" r="r" b="b"/>
              <a:pathLst>
                <a:path w="998" h="816">
                  <a:moveTo>
                    <a:pt x="0" y="0"/>
                  </a:moveTo>
                  <a:lnTo>
                    <a:pt x="998" y="0"/>
                  </a:lnTo>
                  <a:lnTo>
                    <a:pt x="998" y="816"/>
                  </a:lnTo>
                  <a:lnTo>
                    <a:pt x="91" y="816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0360" y="55879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1400" y="5300640"/>
              <a:ext cx="18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40 h7  0/ -0,0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4360" y="4867200"/>
              <a:ext cx="1584000" cy="73080"/>
            </a:xfrm>
            <a:custGeom>
              <a:avLst/>
              <a:gdLst/>
              <a:ahLst/>
              <a:rect l="l" t="t" r="r" b="b"/>
              <a:pathLst>
                <a:path w="998" h="46">
                  <a:moveTo>
                    <a:pt x="0" y="46"/>
                  </a:moveTo>
                  <a:lnTo>
                    <a:pt x="998" y="46"/>
                  </a:lnTo>
                  <a:lnTo>
                    <a:pt x="998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19000" y="6235920"/>
              <a:ext cx="1449360" cy="72720"/>
            </a:xfrm>
            <a:custGeom>
              <a:avLst/>
              <a:gdLst/>
              <a:ahLst/>
              <a:rect l="l" t="t" r="r" b="b"/>
              <a:pathLst>
                <a:path w="913" h="46">
                  <a:moveTo>
                    <a:pt x="3" y="45"/>
                  </a:moveTo>
                  <a:lnTo>
                    <a:pt x="913" y="46"/>
                  </a:lnTo>
                  <a:lnTo>
                    <a:pt x="913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0000" y="4651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900000" y="49399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8840" y="433548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0,0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50920" y="3133800"/>
            <a:ext cx="1800000" cy="1778040"/>
            <a:chOff x="250920" y="3133800"/>
            <a:chExt cx="1800000" cy="1778040"/>
          </a:xfrm>
        </p:grpSpPr>
        <p:sp>
          <p:nvSpPr>
            <p:cNvPr id="353" name=""/>
            <p:cNvSpPr/>
            <p:nvPr/>
          </p:nvSpPr>
          <p:spPr>
            <a:xfrm flipH="1">
              <a:off x="250920" y="313776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0920" y="3133800"/>
              <a:ext cx="0" cy="17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0920" y="491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522440" y="195912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Rough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11280" y="239076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933800" y="2030400"/>
            <a:ext cx="2810160" cy="1079640"/>
            <a:chOff x="4933800" y="2030400"/>
            <a:chExt cx="2810160" cy="1079640"/>
          </a:xfrm>
        </p:grpSpPr>
        <p:sp>
          <p:nvSpPr>
            <p:cNvPr id="359" name=""/>
            <p:cNvSpPr/>
            <p:nvPr/>
          </p:nvSpPr>
          <p:spPr>
            <a:xfrm>
              <a:off x="4970520" y="2529000"/>
              <a:ext cx="1439640" cy="509400"/>
            </a:xfrm>
            <a:custGeom>
              <a:avLst/>
              <a:gdLst/>
              <a:ahLst/>
              <a:rect l="l" t="t" r="r" b="b"/>
              <a:pathLst>
                <a:path w="907" h="321">
                  <a:moveTo>
                    <a:pt x="0" y="3"/>
                  </a:moveTo>
                  <a:lnTo>
                    <a:pt x="506" y="0"/>
                  </a:lnTo>
                  <a:lnTo>
                    <a:pt x="907" y="185"/>
                  </a:lnTo>
                  <a:lnTo>
                    <a:pt x="907" y="321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45240" y="2246400"/>
              <a:ext cx="952560" cy="576360"/>
            </a:xfrm>
            <a:custGeom>
              <a:avLst/>
              <a:gdLst/>
              <a:ahLst/>
              <a:rect l="l" t="t" r="r" b="b"/>
              <a:pathLst>
                <a:path w="600" h="363">
                  <a:moveTo>
                    <a:pt x="11" y="0"/>
                  </a:moveTo>
                  <a:cubicBezTo>
                    <a:pt x="9" y="29"/>
                    <a:pt x="0" y="81"/>
                    <a:pt x="0" y="172"/>
                  </a:cubicBezTo>
                  <a:cubicBezTo>
                    <a:pt x="16" y="291"/>
                    <a:pt x="36" y="336"/>
                    <a:pt x="237" y="363"/>
                  </a:cubicBezTo>
                  <a:cubicBezTo>
                    <a:pt x="418" y="363"/>
                    <a:pt x="600" y="363"/>
                    <a:pt x="600" y="363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970160" y="28227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5942160" y="2425680"/>
              <a:ext cx="215640" cy="216000"/>
              <a:chOff x="5942160" y="2425680"/>
              <a:chExt cx="215640" cy="216000"/>
            </a:xfrm>
          </p:grpSpPr>
          <p:sp>
            <p:nvSpPr>
              <p:cNvPr id="363" name=""/>
              <p:cNvSpPr/>
              <p:nvPr/>
            </p:nvSpPr>
            <p:spPr>
              <a:xfrm>
                <a:off x="5942160" y="25272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056280" y="242568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 flipV="1">
              <a:off x="5329080" y="2822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29080" y="2102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33800" y="2030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92720" y="251928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70520" y="282276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02520" y="21751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202520" y="28227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81800" y="2384640"/>
              <a:ext cx="36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sv-SE" sz="20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632040" y="1914120"/>
            <a:ext cx="528840" cy="1141560"/>
            <a:chOff x="3632040" y="1914120"/>
            <a:chExt cx="528840" cy="1141560"/>
          </a:xfrm>
        </p:grpSpPr>
        <p:grpSp>
          <p:nvGrpSpPr>
            <p:cNvPr id="374" name=""/>
            <p:cNvGrpSpPr/>
            <p:nvPr/>
          </p:nvGrpSpPr>
          <p:grpSpPr>
            <a:xfrm>
              <a:off x="3632040" y="2625840"/>
              <a:ext cx="487440" cy="429840"/>
              <a:chOff x="3632040" y="2625840"/>
              <a:chExt cx="487440" cy="429840"/>
            </a:xfrm>
          </p:grpSpPr>
          <p:sp>
            <p:nvSpPr>
              <p:cNvPr id="375" name=""/>
              <p:cNvSpPr/>
              <p:nvPr/>
            </p:nvSpPr>
            <p:spPr>
              <a:xfrm flipV="1">
                <a:off x="3735720" y="2730600"/>
                <a:ext cx="374040" cy="216720"/>
              </a:xfrm>
              <a:custGeom>
                <a:avLst/>
                <a:gdLst/>
                <a:ahLst/>
                <a:rect l="l" t="t" r="r" b="b"/>
                <a:pathLst>
                  <a:path w="420" h="277">
                    <a:moveTo>
                      <a:pt x="35" y="277"/>
                    </a:moveTo>
                    <a:lnTo>
                      <a:pt x="0" y="81"/>
                    </a:lnTo>
                    <a:lnTo>
                      <a:pt x="99" y="0"/>
                    </a:lnTo>
                    <a:lnTo>
                      <a:pt x="417" y="225"/>
                    </a:lnTo>
                    <a:lnTo>
                      <a:pt x="420" y="277"/>
                    </a:lnTo>
                    <a:lnTo>
                      <a:pt x="35" y="277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 rot="19358400">
                <a:off x="3634920" y="2874240"/>
                <a:ext cx="282960" cy="106200"/>
              </a:xfrm>
              <a:prstGeom prst="parallelogram">
                <a:avLst>
                  <a:gd name="adj" fmla="val 105404"/>
                </a:avLst>
              </a:prstGeom>
              <a:solidFill>
                <a:srgbClr val="ffff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756240" y="2625840"/>
                <a:ext cx="363240" cy="1065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 flipV="1">
              <a:off x="3756240" y="2305440"/>
              <a:ext cx="363240" cy="320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716280" y="2057040"/>
              <a:ext cx="444600" cy="177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716280" y="2234160"/>
              <a:ext cx="444600" cy="71280"/>
            </a:xfrm>
            <a:custGeom>
              <a:avLst/>
              <a:gdLst/>
              <a:ahLst/>
              <a:rect l="l" t="t" r="r" b="b"/>
              <a:pathLst>
                <a:path w="499" h="91">
                  <a:moveTo>
                    <a:pt x="0" y="90"/>
                  </a:moveTo>
                  <a:lnTo>
                    <a:pt x="45" y="0"/>
                  </a:lnTo>
                  <a:lnTo>
                    <a:pt x="454" y="0"/>
                  </a:lnTo>
                  <a:lnTo>
                    <a:pt x="499" y="9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797280" y="1914120"/>
              <a:ext cx="282240" cy="142560"/>
            </a:xfrm>
            <a:custGeom>
              <a:avLst/>
              <a:gdLst>
                <a:gd name="textAreaLeft" fmla="*/ 32040 w 282240"/>
                <a:gd name="textAreaRight" fmla="*/ 250200 w 282240"/>
                <a:gd name="textAreaTop" fmla="*/ 16200 h 142560"/>
                <a:gd name="textAreaBottom" fmla="*/ 12636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05" y="21600"/>
                  </a:lnTo>
                  <a:lnTo>
                    <a:pt x="1295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203880" y="4407120"/>
            <a:ext cx="528840" cy="1141560"/>
            <a:chOff x="6203880" y="4407120"/>
            <a:chExt cx="528840" cy="1141560"/>
          </a:xfrm>
        </p:grpSpPr>
        <p:grpSp>
          <p:nvGrpSpPr>
            <p:cNvPr id="383" name=""/>
            <p:cNvGrpSpPr/>
            <p:nvPr/>
          </p:nvGrpSpPr>
          <p:grpSpPr>
            <a:xfrm>
              <a:off x="6203880" y="5118840"/>
              <a:ext cx="487440" cy="429840"/>
              <a:chOff x="6203880" y="5118840"/>
              <a:chExt cx="487440" cy="42984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6307560" y="5223600"/>
                <a:ext cx="374040" cy="216720"/>
              </a:xfrm>
              <a:custGeom>
                <a:avLst/>
                <a:gdLst/>
                <a:ahLst/>
                <a:rect l="l" t="t" r="r" b="b"/>
                <a:pathLst>
                  <a:path w="420" h="277">
                    <a:moveTo>
                      <a:pt x="35" y="277"/>
                    </a:moveTo>
                    <a:lnTo>
                      <a:pt x="0" y="81"/>
                    </a:lnTo>
                    <a:lnTo>
                      <a:pt x="99" y="0"/>
                    </a:lnTo>
                    <a:lnTo>
                      <a:pt x="417" y="225"/>
                    </a:lnTo>
                    <a:lnTo>
                      <a:pt x="420" y="277"/>
                    </a:lnTo>
                    <a:lnTo>
                      <a:pt x="35" y="277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 rot="19358400">
                <a:off x="6206760" y="5367240"/>
                <a:ext cx="282960" cy="106200"/>
              </a:xfrm>
              <a:prstGeom prst="parallelogram">
                <a:avLst>
                  <a:gd name="adj" fmla="val 105404"/>
                </a:avLst>
              </a:prstGeom>
              <a:solidFill>
                <a:srgbClr val="ffff6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328080" y="5118840"/>
                <a:ext cx="363240" cy="1065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flipV="1">
              <a:off x="6328080" y="4798440"/>
              <a:ext cx="363240" cy="320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288120" y="4549680"/>
              <a:ext cx="444600" cy="177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288120" y="4726800"/>
              <a:ext cx="444600" cy="71280"/>
            </a:xfrm>
            <a:custGeom>
              <a:avLst/>
              <a:gdLst/>
              <a:ahLst/>
              <a:rect l="l" t="t" r="r" b="b"/>
              <a:pathLst>
                <a:path w="499" h="91">
                  <a:moveTo>
                    <a:pt x="0" y="90"/>
                  </a:moveTo>
                  <a:lnTo>
                    <a:pt x="45" y="0"/>
                  </a:lnTo>
                  <a:lnTo>
                    <a:pt x="454" y="0"/>
                  </a:lnTo>
                  <a:lnTo>
                    <a:pt x="499" y="9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369120" y="4407120"/>
              <a:ext cx="282240" cy="142560"/>
            </a:xfrm>
            <a:custGeom>
              <a:avLst/>
              <a:gdLst>
                <a:gd name="textAreaLeft" fmla="*/ 32040 w 282240"/>
                <a:gd name="textAreaRight" fmla="*/ 250200 w 282240"/>
                <a:gd name="textAreaTop" fmla="*/ 16200 h 142560"/>
                <a:gd name="textAreaBottom" fmla="*/ 12636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05" y="21600"/>
                  </a:lnTo>
                  <a:lnTo>
                    <a:pt x="1295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8560" y="431280"/>
            <a:ext cx="8421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08080"/>
                </a:solidFill>
                <a:latin typeface="Arial"/>
              </a:rPr>
              <a:t>Multi Task Machining Demonstration</a:t>
            </a:r>
            <a:br>
              <a:rPr sz="3200"/>
            </a:br>
            <a:r>
              <a:rPr b="0" lang="sv-SE" sz="2400" spc="-1" strike="noStrike">
                <a:solidFill>
                  <a:srgbClr val="808080"/>
                </a:solidFill>
                <a:latin typeface="Arial"/>
              </a:rPr>
              <a:t>Including CNC probing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gt Olsson, Sandvik Too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C80-2F6F-41C0-9FF6-C7D04D4ACA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10th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2:53:27Z</dcterms:created>
  <dc:creator>ds8735</dc:creator>
  <dc:description/>
  <dc:language>en-US</dc:language>
  <cp:lastModifiedBy>Bengt Olsson</cp:lastModifiedBy>
  <cp:lastPrinted>2004-02-19T14:59:58Z</cp:lastPrinted>
  <dcterms:modified xsi:type="dcterms:W3CDTF">2008-03-09T15:45:50Z</dcterms:modified>
  <cp:revision>743</cp:revision>
  <dc:subject/>
  <dc:title>Ingen bildrubrik</dc:title>
</cp:coreProperties>
</file>