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3200" cy="10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04000" cy="37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54520"/>
            <a:ext cx="49816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0724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507240"/>
            <a:ext cx="294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EAB-E983-43C5-8D5F-487BEFAE6B85}" type="slidenum">
              <a:rPr b="0" lang="sv-SE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04000" cy="3752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54520"/>
            <a:ext cx="52545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acts: Swe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rea: 450,000 km² (174,000 sq. mi.), third largest country in Western Eu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ests: 53%, Mountains: 17%,  Cultivated land: 8%,  Lakes and rivers: 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gest north-south distance: 1,574 km (978 mi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gest east-west distance: 499 km (310 mi.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pital Stockhol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pulation 9 million in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guages: Swedish; recognized minority languages: Sami (Lapp), Finnish, Meänkieli (Tornedalen Finnish), Yiddish, Romani Chib (a Gypsy language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of government: Constitutional monarchy, parliamentary democra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liament: The Riksdag, with 349 members in one chamb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igion: 82% belong to the Evangelical Lutheran Church of Swed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st important export goods: Paper products, electrical and computer equipment, motor vehicles, machinery, chemical products, pharmaceuticals, iron and steel, foodstuff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st important imported goods: Petroleum products, motor vehicles and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ccessories, machinery, electrical and computer equipment, foodstuffs, textile products, footwea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acts: Sandvi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ndviken was founded in 1862 at the same time as Sandvik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teel from the ironworks gave Sandvik a prominent position and placed Sandviken on the world map. Along with the success of the company, the community expanded considerab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day: Area: 1300 sq km or 502 sqmiles. Inhabitants: 37 00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ndviken is in the center of the county of Gästrikland, an area with many large export industries such as: Sandvik, Ovako Steel, Stora Enso, Korsnäs, Malaco LEAF, Ericsson, Kraft Sverige (Gevali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ndviken Big Band, our famous jazz-band that has toured in Europe and North America; bandy at the elite level; well-known cultural and leisure-time investm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04000" cy="3752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54520"/>
            <a:ext cx="49816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is a world-leader in three selected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oo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cialises in cemented carbide and high-speed steel tools for metalworking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ndvik Corom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art of this business area. Tooling is active in three areas, indexable tools – where you can find Sandvik Coromant, solid tools and blanks and wear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ining &amp; 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ncentrates on machinery, tools and service for rock exca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terials Technolo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cuses on products in advanced materials, special alloys, resistance materials — and stainless ste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has more than 95% of the sales and two thirds of production outside Swe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dvik Group operates in 130 countries across the world. In Europe and North America. In South America, Africa and the 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st. In Asia and Austra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s are active in many industries, including automotive and aerospace, mining and construction, chemical, oil and gas, power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p and paper, household appliances, electronics, medical technology and pharmaceut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wo thirds of the products are industrial consumption goods, and one third investment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04000" cy="3752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54520"/>
            <a:ext cx="498168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Due to accountancy restrictions we are not allowed to present financial figures regarding Sandvik Coromant. This can only be presented on Tooling or Group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dvik Coromant is represented in 130 countries. We have local co-operation with distributors, agents, machine tool manufacturers, machine tool suppliers, customers and universities all over the wor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andvik Coromant direct delivery system (DD) operates deliveries to end-users from our central warehouses in Netherlands, US and Singapore within 24 hou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vik Coromant have 3 central distribution centers (stocking points) in the Netherlands, Singapore and the 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20 productivity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are also building and planning application centers around the world, which gives us the opportunity to increase our customers as well as our own knowledge in differen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cts: Coromant in 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d office is in Sandviken. Locate e.g. management, central administration, product design and research and development. Number of employees: around 6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 Gimo, close by, is the production unit for standard products and the world’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rgest carbide insert manufacturing plant. Number of employees: around 16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ästberga in Stockholm is a major base for research and development in powder and grades. Number of employees: around 17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19C-92B4-4C12-A866-799148A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EBB-C9A4-4E9E-B1CF-F2CCE5B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6F9-50B0-40DD-BCF5-5D3ADCD6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1AE-8054-4A86-94F8-40C4867F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E36E-8BE0-4D7C-8BED-02574941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04E-B7B4-4D9E-A537-AB615EA0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BECF-0C9C-4C22-B8D0-74911CD3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297B-0273-47E8-B7AD-F838570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182-D77E-4C5E-ADFF-190D1FF2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569C-B50A-46CC-8A44-9AF6BCA7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2A4-F020-44CD-A524-FBC5863D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7B2-EAB8-4EAF-8381-DA24868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6F1-2531-4921-8D71-846E9B7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D497-114D-4F34-97D8-7B03A0A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EAFC-922C-4AF6-BA46-AFBCA6F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CD92-9E3C-4D55-A5B0-076C08C3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2E85-4B70-45E0-9B94-DDB9A8F0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B8A-BC8D-4DFC-87A2-C93B5E0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3F3-1B76-455D-BA0B-C253758E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5E5-47F5-4432-B47E-A311704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A5D-67E6-4C29-B3FD-D782F5B0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CB7-8B89-423A-8959-A39FF60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39C-6A0F-4511-ACC6-56A2223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EF9-FA64-4FD1-B94D-7CE13CE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476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7928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C385EBE7-D7F3-4E89-AF52-B7511C6D38D0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560" y="1832040"/>
            <a:ext cx="8421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107928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B30FB347-117C-4986-BDD9-42BC2E753E49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ms://qstream-wm.qbrick.com/01247/01247_3917_wis_l.wmv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665" t="0" r="0" b="881"/>
          <a:stretch/>
        </p:blipFill>
        <p:spPr>
          <a:xfrm>
            <a:off x="2522520" y="4414680"/>
            <a:ext cx="3548160" cy="1619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Welcome Sandviken in Swede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6324480"/>
            <a:ext cx="296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Sandvik Coromant Presentation 20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9280" y="2735280"/>
            <a:ext cx="1559160" cy="163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34000" y="2735280"/>
            <a:ext cx="295272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-4601" t="15801" r="-1642" b="15603"/>
          <a:stretch/>
        </p:blipFill>
        <p:spPr>
          <a:xfrm>
            <a:off x="4859280" y="1230480"/>
            <a:ext cx="3992760" cy="146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056360" y="4408560"/>
            <a:ext cx="1743120" cy="162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66840" y="2752560"/>
            <a:ext cx="2125440" cy="3281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143160" y="1230480"/>
            <a:ext cx="1295640" cy="1465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366840" y="1230480"/>
            <a:ext cx="2838240" cy="149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108840" y="4406760"/>
            <a:ext cx="919080" cy="162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02040" y="2093760"/>
            <a:ext cx="8431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7736040" y="2746440"/>
            <a:ext cx="1058760" cy="1612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722680" y="1084320"/>
            <a:ext cx="3605040" cy="360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989200">
            <a:off x="4040640" y="1126440"/>
            <a:ext cx="504720" cy="258480"/>
          </a:xfrm>
          <a:prstGeom prst="rightArrow">
            <a:avLst>
              <a:gd name="adj1" fmla="val 50000"/>
              <a:gd name="adj2" fmla="val 48816"/>
            </a:avLst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7812000"/>
          </a:gra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01760" y="958680"/>
            <a:ext cx="1790640" cy="5234040"/>
            <a:chOff x="2201760" y="958680"/>
            <a:chExt cx="1790640" cy="5234040"/>
          </a:xfrm>
        </p:grpSpPr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2201760" y="958680"/>
              <a:ext cx="1790640" cy="523404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</p:pic>
        <p:sp>
          <p:nvSpPr>
            <p:cNvPr id="107" name=""/>
            <p:cNvSpPr/>
            <p:nvPr/>
          </p:nvSpPr>
          <p:spPr>
            <a:xfrm>
              <a:off x="3065040" y="4021200"/>
              <a:ext cx="100080" cy="9828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7600" y="4276800"/>
              <a:ext cx="54000" cy="5364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92280" y="4651200"/>
              <a:ext cx="54000" cy="5400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3"/>
            <a:stretch/>
          </p:blipFill>
          <p:spPr>
            <a:xfrm>
              <a:off x="3277800" y="4295520"/>
              <a:ext cx="28116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873160" y="4667040"/>
              <a:ext cx="84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ästbe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5480" y="448308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ckho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62000" y="4348080"/>
              <a:ext cx="49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lan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00" y="4178160"/>
              <a:ext cx="36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im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4120" y="3840120"/>
              <a:ext cx="77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ndvik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7200" y="45054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6659640" y="260280"/>
            <a:ext cx="649080" cy="62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5"/>
          <a:stretch/>
        </p:blipFill>
        <p:spPr>
          <a:xfrm>
            <a:off x="7308720" y="189000"/>
            <a:ext cx="501840" cy="71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6"/>
          <a:stretch/>
        </p:blipFill>
        <p:spPr>
          <a:xfrm>
            <a:off x="7740720" y="358920"/>
            <a:ext cx="1217520" cy="40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3BF-6382-4D00-8083-FF1C3C446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rcRect l="14190" t="8706" r="0" b="13066"/>
          <a:stretch/>
        </p:blipFill>
        <p:spPr>
          <a:xfrm>
            <a:off x="-9360" y="1836720"/>
            <a:ext cx="3079440" cy="2171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152880" y="1895400"/>
            <a:ext cx="2806560" cy="211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14062" t="23559" r="0" b="13008"/>
          <a:stretch/>
        </p:blipFill>
        <p:spPr>
          <a:xfrm>
            <a:off x="6040440" y="1801800"/>
            <a:ext cx="3103560" cy="2206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562040"/>
            <a:ext cx="9144000" cy="3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The Sandvik Group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6324480"/>
            <a:ext cx="296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Sandvik Coromant Presentation 20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35040"/>
            <a:ext cx="3025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37280" y="1519200"/>
            <a:ext cx="3006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aterials Technolo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1519200"/>
            <a:ext cx="302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ning &amp; Constr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0240" y="4292280"/>
            <a:ext cx="7925040" cy="16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7,000 employees and representation in 130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oducts with high R&amp;D and added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lobal leader in selected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FCF-86E7-48B6-95F0-265A19CD51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327" t="936" r="1512" b="1058"/>
          <a:stretch/>
        </p:blipFill>
        <p:spPr>
          <a:xfrm>
            <a:off x="395280" y="981000"/>
            <a:ext cx="3587760" cy="5256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andvik Coromant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he world's leading producer of tools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for turning, milling and drilling.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56000" y="2276280"/>
            <a:ext cx="3889440" cy="32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spcAft>
                <a:spcPts val="1049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ployees: 7 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spcAft>
                <a:spcPts val="1049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resentation in 130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spcAft>
                <a:spcPts val="1049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central distribution cen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spcAft>
                <a:spcPts val="1049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 productivity cen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spcAft>
                <a:spcPts val="1049"/>
              </a:spcAft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Application cen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524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6324480"/>
            <a:ext cx="296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Sandvik Coromant Presentation 20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679-6071-4B50-862B-B172188B4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Faciliti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0000" y="1125360"/>
            <a:ext cx="84200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nference ro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Model factory set-up for ”solid model to solid part” demonstration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555920"/>
            <a:ext cx="271296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29080" y="3645000"/>
            <a:ext cx="2089080" cy="72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6114960" cy="18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77080" y="3573360"/>
            <a:ext cx="1832040" cy="259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949080" y="5805360"/>
            <a:ext cx="59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CM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004-B0CF-4585-B343-DE3DF34CD7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Practical Info for Monday, March 10</a:t>
            </a:r>
            <a:r>
              <a:rPr b="1" lang="sv-SE" sz="32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8560" y="1269720"/>
            <a:ext cx="8421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Other” agenda items during the me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0:00 – 10:2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ffee break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 (downstai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2:00 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Photo session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2:15 – 13:0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Lunch in the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Cafeteria (by the entrance)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(please leave coupon to cashier </a:t>
            </a:r>
            <a:r>
              <a:rPr b="0" lang="sv-SE" sz="1700" spc="-1" strike="noStrike" u="sng">
                <a:solidFill>
                  <a:srgbClr val="000000"/>
                </a:solidFill>
                <a:uFillTx/>
                <a:latin typeface="Arial"/>
              </a:rPr>
              <a:t>yellow for lunch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v-SE" sz="1700" spc="-1" strike="noStrike" u="sng">
                <a:solidFill>
                  <a:srgbClr val="000000"/>
                </a:solidFill>
                <a:uFillTx/>
                <a:latin typeface="Arial"/>
              </a:rPr>
              <a:t>blue for coffee/cake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4:30 – 14:5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ffee break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Wireless internet service available upon requ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249"/>
              </a:spcBef>
              <a:buNone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Social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7:00 Bus leaves office for Hotel Princess (time to change cloth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7:30 Bus continues to Högbo for ”adventurous outdoor activities” and din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22:00 Bus returns to Hotel Prin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49160" y="5799240"/>
            <a:ext cx="4010040" cy="766800"/>
            <a:chOff x="749160" y="5799240"/>
            <a:chExt cx="4010040" cy="766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749160" y="5799240"/>
              <a:ext cx="7984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050920" y="5805360"/>
              <a:ext cx="5018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2987640" y="5877000"/>
              <a:ext cx="17715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F43-AF23-4489-9853-E4598B0C36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Practical Info for Tuesday, March 11</a:t>
            </a:r>
            <a:r>
              <a:rPr b="1" lang="sv-SE" sz="32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8560" y="1125000"/>
            <a:ext cx="842148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At Chek 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tore luggage at hot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249"/>
              </a:spcBef>
              <a:buNone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Other” agenda items during the mee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08:0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The meeting st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0:00 – 10:2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ffee break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 (downstai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2:15 – 13:0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Lunch in the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Cafeteria (by the entrance)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(please leave cupon to cashier </a:t>
            </a:r>
            <a:r>
              <a:rPr b="0" lang="sv-SE" sz="1700" spc="-1" strike="noStrike" u="sng">
                <a:solidFill>
                  <a:srgbClr val="000000"/>
                </a:solidFill>
                <a:uFillTx/>
                <a:latin typeface="Arial"/>
              </a:rPr>
              <a:t>yellow for lunch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v-SE" sz="1700" spc="-1" strike="noStrike" u="sng">
                <a:solidFill>
                  <a:srgbClr val="000000"/>
                </a:solidFill>
                <a:uFillTx/>
                <a:latin typeface="Arial"/>
              </a:rPr>
              <a:t>blue for coffee/cake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4:30 – 14:5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ffee break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6:30 – 16:50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Light snack in </a:t>
            </a:r>
            <a:r>
              <a:rPr b="0" i="1" lang="sv-SE" sz="1700" spc="-1" strike="noStrike">
                <a:solidFill>
                  <a:srgbClr val="000000"/>
                </a:solidFill>
                <a:latin typeface="Arial"/>
              </a:rPr>
              <a:t>Productivity 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249"/>
              </a:spcBef>
              <a:buNone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Transportation to Stockhol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7:00 Bus leaves office for Hotel Princess to pick up lugg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7:15 Bus continues to Stockhol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19:00 Check-in at Comfort Hot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49160" y="5799240"/>
            <a:ext cx="4010040" cy="766800"/>
            <a:chOff x="749160" y="5799240"/>
            <a:chExt cx="4010040" cy="766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49160" y="5799240"/>
              <a:ext cx="7984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050920" y="5805360"/>
              <a:ext cx="5018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2987640" y="5877000"/>
              <a:ext cx="17715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372-ED93-4E44-9D76-C765ADC81B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Introduction to swenglish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38560" y="1412640"/>
            <a:ext cx="2736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 = 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1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 = 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100" spc="-1" strike="noStrike">
                <a:solidFill>
                  <a:srgbClr val="000000"/>
                </a:solidFill>
                <a:latin typeface="Arial"/>
              </a:rPr>
              <a:t>fart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 = speed, tra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100" spc="-1" strike="noStrike">
                <a:solidFill>
                  <a:srgbClr val="000000"/>
                </a:solidFill>
                <a:latin typeface="Arial"/>
              </a:rPr>
              <a:t>prick</a:t>
            </a: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 = d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0280" y="1570680"/>
            <a:ext cx="1593720" cy="41904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INF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4560" y="2301120"/>
            <a:ext cx="1593720" cy="419040"/>
          </a:xfrm>
          <a:custGeom>
            <a:avLst/>
            <a:gdLst>
              <a:gd name="textAreaLeft" fmla="*/ -360 w 1593720"/>
              <a:gd name="textAreaRight" fmla="*/ 1593720 w 15937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0" tIns="72000" bIns="72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UTF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95280" y="3429000"/>
            <a:ext cx="8353440" cy="2016000"/>
            <a:chOff x="395280" y="3429000"/>
            <a:chExt cx="8353440" cy="201600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4994" t="9988" r="11682" b="19926"/>
            <a:stretch/>
          </p:blipFill>
          <p:spPr>
            <a:xfrm>
              <a:off x="395280" y="3429000"/>
              <a:ext cx="3600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067280" y="3429000"/>
              <a:ext cx="46814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74600" indent="-17460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1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1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i="1" lang="sv-SE" sz="2100" spc="-1" strike="noStrike">
                  <a:solidFill>
                    <a:srgbClr val="000000"/>
                  </a:solidFill>
                  <a:latin typeface="Arial"/>
                </a:rPr>
                <a:t>Gripen Next Generation is an outstanding fighter. It takes off with a tremendous fart and dissapears in the sky like a prick.”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66920" y="566100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4600" indent="-174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Enjoy your stay in Sweden 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25B-D091-4E23-8A31-5FA9FB9909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Lunch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Monda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ft si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sh au gratin Florentin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pinach,hollandai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getarian: Quorn au gratin w/ rootcro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ght si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oked sausage w/ pork and barle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dill- creamed potato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posite side of cashi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lad: Today's speci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EDC-AABF-41DB-997F-DD21342A8B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Lunch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Tuesda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ft si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ied salted pork and onion-sau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getarian Jambalay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ght si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ambalaya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ice- and vegetablemix w/ spicy sausage and chicke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posite side of cashi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lad: Today's speci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F9F-A033-46A9-B8E3-06650DDA8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2:53:27Z</dcterms:created>
  <dc:creator>ds8735</dc:creator>
  <dc:description/>
  <dc:language>en-US</dc:language>
  <cp:lastModifiedBy>Bengt Olsson</cp:lastModifiedBy>
  <cp:lastPrinted>2004-02-19T14:59:58Z</cp:lastPrinted>
  <dcterms:modified xsi:type="dcterms:W3CDTF">2008-03-10T13:46:16Z</dcterms:modified>
  <cp:revision>737</cp:revision>
  <dc:subject/>
  <dc:title>Ingen bildrubrik</dc:title>
</cp:coreProperties>
</file>