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6A2782-B385-4CB7-B73F-979D46D4318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8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new language for the C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93640" y="914400"/>
            <a:ext cx="7943760" cy="5446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556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 The Tolerance 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18360" y="4268880"/>
            <a:ext cx="2511360" cy="949320"/>
          </a:xfrm>
          <a:prstGeom prst="wedgeEllipseCallout">
            <a:avLst>
              <a:gd name="adj1" fmla="val -44125"/>
              <a:gd name="adj2" fmla="val -892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k the face in the geometry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3760" y="5472000"/>
            <a:ext cx="2361960" cy="677160"/>
          </a:xfrm>
          <a:prstGeom prst="wedgeEllipseCallout">
            <a:avLst>
              <a:gd name="adj1" fmla="val -70157"/>
              <a:gd name="adj2" fmla="val -10695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value and any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0240" y="1737720"/>
            <a:ext cx="3124080" cy="949320"/>
          </a:xfrm>
          <a:prstGeom prst="wedgeEllipseCallout">
            <a:avLst>
              <a:gd name="adj1" fmla="val -56805"/>
              <a:gd name="adj2" fmla="val -7092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 between rotate, pan, and pick mode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91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Linear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reating a linear dimension, you must pick two faces from the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2320" y="2889360"/>
            <a:ext cx="6705720" cy="2566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6160" y="2059200"/>
            <a:ext cx="2057400" cy="1221480"/>
          </a:xfrm>
          <a:prstGeom prst="wedgeEllipseCallout">
            <a:avLst>
              <a:gd name="adj1" fmla="val 51430"/>
              <a:gd name="adj2" fmla="val 4784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on shows which face is being selected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120" y="5014080"/>
            <a:ext cx="1981440" cy="949320"/>
          </a:xfrm>
          <a:prstGeom prst="wedgeEllipseCallout">
            <a:avLst>
              <a:gd name="adj1" fmla="val 47111"/>
              <a:gd name="adj2" fmla="val -153449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on other “Use” button to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05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as STEP-NC or AP203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s STEP-NC AP238 using File | S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100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s AP203e2 u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| Export | Workpie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89160" y="2050920"/>
          <a:ext cx="2138400" cy="24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2050920"/>
                    <a:ext cx="213840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718160" y="1995480"/>
          <a:ext cx="3628800" cy="484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8160" y="1995480"/>
                    <a:ext cx="362880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117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5680" y="2673360"/>
            <a:ext cx="134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ture.s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37960" y="3130560"/>
            <a:ext cx="1209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nk.s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3400" y="3664080"/>
            <a:ext cx="1742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.s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3200" y="4197240"/>
            <a:ext cx="107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.s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8440" y="2368440"/>
            <a:ext cx="2819520" cy="2362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8920" y="907920"/>
            <a:ext cx="1433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83160" y="1682640"/>
            <a:ext cx="1488240" cy="59508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6160" y="1606680"/>
            <a:ext cx="1433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8400" y="5327640"/>
            <a:ext cx="1515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86840" y="3336840"/>
            <a:ext cx="1805760" cy="9356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c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90640" y="3359160"/>
            <a:ext cx="1619640" cy="9356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2920" y="2592360"/>
            <a:ext cx="1333800" cy="5450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6840" y="5327640"/>
            <a:ext cx="1805760" cy="9356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c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26360" y="4502160"/>
            <a:ext cx="1253520" cy="59508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19000" y="5259240"/>
            <a:ext cx="782640" cy="953640"/>
          </a:xfrm>
          <a:prstGeom prst="leftRightArrow">
            <a:avLst>
              <a:gd name="adj1" fmla="val 50000"/>
              <a:gd name="adj2" fmla="val 1990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0440" y="4754520"/>
            <a:ext cx="1518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8066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ISO 133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79320" y="907920"/>
            <a:ext cx="7466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062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13399 attributes for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79320" y="774720"/>
            <a:ext cx="74772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5356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compensation cor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12840" y="1189080"/>
            <a:ext cx="6558120" cy="5195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9280" y="2424240"/>
            <a:ext cx="3578040" cy="677160"/>
          </a:xfrm>
          <a:prstGeom prst="wedgeEllipseCallout">
            <a:avLst>
              <a:gd name="adj1" fmla="val -82162"/>
              <a:gd name="adj2" fmla="val -239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ion of 2mm fixes the 18 (20mm)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27440" y="3594240"/>
            <a:ext cx="4568760" cy="677160"/>
          </a:xfrm>
          <a:prstGeom prst="wedgeEllipseCallout">
            <a:avLst>
              <a:gd name="adj1" fmla="val -70388"/>
              <a:gd name="adj2" fmla="val 9813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ion of 3mm fixes the 18 (20) mm error and the 5 (4) mm er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36520" y="1670040"/>
            <a:ext cx="6710400" cy="4889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8097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offse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93920" y="5091120"/>
            <a:ext cx="2892600" cy="677160"/>
          </a:xfrm>
          <a:prstGeom prst="wedgeEllipseCallout">
            <a:avLst>
              <a:gd name="adj1" fmla="val -93949"/>
              <a:gd name="adj2" fmla="val -115564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T2 affects one linear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3480" y="2678040"/>
            <a:ext cx="2892240" cy="677160"/>
          </a:xfrm>
          <a:prstGeom prst="wedgeEllipseCallout">
            <a:avLst>
              <a:gd name="adj1" fmla="val -85615"/>
              <a:gd name="adj2" fmla="val -3454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T1 affects two linear tolera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280" y="831960"/>
            <a:ext cx="77468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ol property pane shows the tool wear compensation values programmed for each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92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ing the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1920" y="983880"/>
            <a:ext cx="774684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tolerance measures can be sta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correct the depths of face 1 and fac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need to make both faces in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need to correct face 1 then fac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79520" y="3692520"/>
            <a:ext cx="441972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98640" y="369252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0680" y="3962520"/>
            <a:ext cx="140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+0.1 -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1120" y="4226040"/>
            <a:ext cx="1600200" cy="1522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1120" y="3692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1320" y="3692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2080" y="3844800"/>
            <a:ext cx="1532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+0.05 -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79920" y="3692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0600" y="3692520"/>
            <a:ext cx="601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8320" y="4378320"/>
            <a:ext cx="0" cy="7621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4120" y="4378320"/>
            <a:ext cx="0" cy="7621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09400" y="4835520"/>
            <a:ext cx="65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6160" y="3692520"/>
            <a:ext cx="101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47120" y="2654280"/>
            <a:ext cx="255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d fac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936760" y="304164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48160" y="5364000"/>
            <a:ext cx="255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d fac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041640" y="4413240"/>
            <a:ext cx="762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37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ool c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9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the tolerances on the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which workingsteps are machining each 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EP-NC DLL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s the tools responsible for each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s an order for computing the compens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s a best value for each cor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lphaLcParenR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the user accept or modify each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352080"/>
            <a:ext cx="10555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EP-N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82320"/>
            <a:ext cx="8134200" cy="110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7716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steps apply operations to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 paths are machin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r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C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41640" y="2965320"/>
            <a:ext cx="4808160" cy="3083760"/>
            <a:chOff x="2141640" y="2965320"/>
            <a:chExt cx="4808160" cy="3083760"/>
          </a:xfrm>
        </p:grpSpPr>
        <p:cxnSp>
          <p:nvCxnSpPr>
            <p:cNvPr id="51" name=""/>
            <p:cNvCxnSpPr/>
            <p:nvPr/>
          </p:nvCxnSpPr>
          <p:spPr>
            <a:xfrm>
              <a:off x="2742840" y="3708000"/>
              <a:ext cx="8632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2" name=""/>
            <p:cNvCxnSpPr/>
            <p:nvPr/>
          </p:nvCxnSpPr>
          <p:spPr>
            <a:xfrm flipH="1">
              <a:off x="3603600" y="3708000"/>
              <a:ext cx="22500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>
              <a:off x="3603960" y="3708000"/>
              <a:ext cx="135792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4" name=""/>
            <p:cNvCxnSpPr/>
            <p:nvPr/>
          </p:nvCxnSpPr>
          <p:spPr>
            <a:xfrm>
              <a:off x="4962600" y="3708000"/>
              <a:ext cx="5680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" name=""/>
            <p:cNvCxnSpPr/>
            <p:nvPr/>
          </p:nvCxnSpPr>
          <p:spPr>
            <a:xfrm>
              <a:off x="2742480" y="3708000"/>
              <a:ext cx="278820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6" name=""/>
            <p:cNvCxnSpPr/>
            <p:nvPr/>
          </p:nvCxnSpPr>
          <p:spPr>
            <a:xfrm>
              <a:off x="3828600" y="3708000"/>
              <a:ext cx="17020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" name=""/>
            <p:cNvCxnSpPr/>
            <p:nvPr/>
          </p:nvCxnSpPr>
          <p:spPr>
            <a:xfrm flipH="1">
              <a:off x="3603600" y="3708720"/>
              <a:ext cx="2748600" cy="126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5529960" y="3708720"/>
              <a:ext cx="822960" cy="126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141640" y="2997720"/>
              <a:ext cx="842040" cy="61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3339360" y="2990880"/>
              <a:ext cx="78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4386960" y="3233880"/>
              <a:ext cx="1247760" cy="3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979960" y="2965320"/>
              <a:ext cx="96984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3246120" y="5020560"/>
              <a:ext cx="693000" cy="1028520"/>
              <a:chOff x="3246120" y="5020560"/>
              <a:chExt cx="693000" cy="1028520"/>
            </a:xfrm>
          </p:grpSpPr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6120" y="5020560"/>
                <a:ext cx="64332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5960" y="5843520"/>
                <a:ext cx="443160" cy="205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5231520" y="5083560"/>
              <a:ext cx="1010160" cy="749160"/>
              <a:chOff x="5231520" y="5083560"/>
              <a:chExt cx="1010160" cy="749160"/>
            </a:xfrm>
          </p:grpSpPr>
          <p:pic>
            <p:nvPicPr>
              <p:cNvPr id="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1520" y="5083560"/>
                <a:ext cx="799560" cy="7156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68" name=""/>
              <p:cNvGraphicFramePr/>
              <p:nvPr/>
            </p:nvGraphicFramePr>
            <p:xfrm>
              <a:off x="5657760" y="5665320"/>
              <a:ext cx="583920" cy="1674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6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657760" y="5665320"/>
                        <a:ext cx="583920" cy="16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0" name=""/>
            <p:cNvSpPr/>
            <p:nvPr/>
          </p:nvSpPr>
          <p:spPr>
            <a:xfrm>
              <a:off x="3677040" y="4181400"/>
              <a:ext cx="173268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-NC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369080" y="5272200"/>
            <a:ext cx="146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Too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90440" y="5272200"/>
            <a:ext cx="158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 Table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91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ing faces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46360" y="1136520"/>
            <a:ext cx="6329160" cy="5013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6160" y="4726800"/>
            <a:ext cx="2892240" cy="949320"/>
          </a:xfrm>
          <a:prstGeom prst="wedgeEllipseCallout">
            <a:avLst>
              <a:gd name="adj1" fmla="val 29412"/>
              <a:gd name="adj2" fmla="val -128125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gorithm finds closest faces using path geome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160" y="2195640"/>
            <a:ext cx="3200400" cy="677160"/>
          </a:xfrm>
          <a:prstGeom prst="wedgeEllipseCallout">
            <a:avLst>
              <a:gd name="adj1" fmla="val 6537"/>
              <a:gd name="adj2" fmla="val -15472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 system writes face data to STEP-NC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38800" y="4845240"/>
            <a:ext cx="2892600" cy="405000"/>
          </a:xfrm>
          <a:prstGeom prst="wedgeEllipseCallout">
            <a:avLst>
              <a:gd name="adj1" fmla="val -56578"/>
              <a:gd name="adj2" fmla="val -22504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user pic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136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1920" y="907560"/>
            <a:ext cx="7746840" cy="51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s made for: Bordeaux_20080116.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igh speed machining file for the fish 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part geometry, tolerances and tool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Bounded Curve 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938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rc’s are converted to lines (semantic lo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7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rc’s are converted to via’s to preserve 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,019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reference for same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14 K bytes Mastercam 9 (MC9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4 K bytes ISO 6983 (Heidenh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05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9320" y="679320"/>
            <a:ext cx="74772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11120" y="3154320"/>
            <a:ext cx="893880" cy="366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13720" y="3005280"/>
            <a:ext cx="892440" cy="64044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47840" y="3017880"/>
            <a:ext cx="653400" cy="7966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17640" y="2890800"/>
            <a:ext cx="982080" cy="9147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17640" y="1649520"/>
            <a:ext cx="994680" cy="7966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2040" y="4552920"/>
            <a:ext cx="1209600" cy="11379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0320" y="4694400"/>
            <a:ext cx="1338840" cy="640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960" y="5616720"/>
            <a:ext cx="1451520" cy="91476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31720" y="4552920"/>
            <a:ext cx="1211040" cy="11379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1" idx="3"/>
            <a:endCxn id="242" idx="1"/>
          </p:cNvCxnSpPr>
          <p:nvPr/>
        </p:nvCxnSpPr>
        <p:spPr>
          <a:xfrm flipV="1">
            <a:off x="2212920" y="3336480"/>
            <a:ext cx="100080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105440" y="3357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27520" y="335772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73560" y="49323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0400" y="5008680"/>
            <a:ext cx="10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40" y="1647720"/>
            <a:ext cx="2279520" cy="7966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TL/STEP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240" y="1708200"/>
            <a:ext cx="1338840" cy="640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7720" y="4033800"/>
            <a:ext cx="31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machining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 Speed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56" idx="1"/>
            <a:endCxn id="255" idx="3"/>
          </p:cNvCxnSpPr>
          <p:nvPr/>
        </p:nvCxnSpPr>
        <p:spPr>
          <a:xfrm flipH="1">
            <a:off x="2894760" y="2036880"/>
            <a:ext cx="7628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45" idx="1"/>
            <a:endCxn id="256" idx="3"/>
          </p:cNvCxnSpPr>
          <p:nvPr/>
        </p:nvCxnSpPr>
        <p:spPr>
          <a:xfrm flipH="1" flipV="1">
            <a:off x="5006520" y="2036520"/>
            <a:ext cx="1315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45" idx="2"/>
            <a:endCxn id="244" idx="0"/>
          </p:cNvCxnSpPr>
          <p:nvPr/>
        </p:nvCxnSpPr>
        <p:spPr>
          <a:xfrm flipH="1">
            <a:off x="6817680" y="2395080"/>
            <a:ext cx="684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2"/>
            <a:endCxn id="241" idx="0"/>
          </p:cNvCxnSpPr>
          <p:nvPr/>
        </p:nvCxnSpPr>
        <p:spPr>
          <a:xfrm>
            <a:off x="1751040" y="2394000"/>
            <a:ext cx="10080" cy="76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2"/>
            <a:endCxn id="247" idx="0"/>
          </p:cNvCxnSpPr>
          <p:nvPr/>
        </p:nvCxnSpPr>
        <p:spPr>
          <a:xfrm flipH="1">
            <a:off x="4404600" y="4408560"/>
            <a:ext cx="54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864960" y="5313240"/>
            <a:ext cx="1072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44" idx="2"/>
            <a:endCxn id="246" idx="0"/>
          </p:cNvCxnSpPr>
          <p:nvPr/>
        </p:nvCxnSpPr>
        <p:spPr>
          <a:xfrm>
            <a:off x="6818400" y="3820680"/>
            <a:ext cx="3888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4854240" y="1401840"/>
            <a:ext cx="26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7840" y="2814480"/>
            <a:ext cx="26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0720" y="2662200"/>
            <a:ext cx="26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65520" y="4411800"/>
            <a:ext cx="26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348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ed Speed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2760" y="3570120"/>
            <a:ext cx="1058760" cy="11379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0320" y="3711600"/>
            <a:ext cx="1338840" cy="6404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960" y="4633920"/>
            <a:ext cx="1451520" cy="914760"/>
          </a:xfrm>
          <a:prstGeom prst="rect">
            <a:avLst/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2800" y="3570120"/>
            <a:ext cx="1211040" cy="11379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173560" y="3949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60400" y="4025880"/>
            <a:ext cx="10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2280" y="5634000"/>
            <a:ext cx="460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machining requirements (sche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4960" y="4330800"/>
            <a:ext cx="1072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91920" y="984240"/>
            <a:ext cx="7746840" cy="131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imulator converts cross section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parameters taken from tool data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76600" y="2279520"/>
            <a:ext cx="1663920" cy="11124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80" idx="3"/>
            <a:endCxn id="272" idx="0"/>
          </p:cNvCxnSpPr>
          <p:nvPr/>
        </p:nvCxnSpPr>
        <p:spPr>
          <a:xfrm flipH="1">
            <a:off x="4400280" y="3346560"/>
            <a:ext cx="864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657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TEP-NC are becoming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/Speed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aved * cost of machining per h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life increase * cost of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 loop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program part * cost of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rashed detected * (cost of repairs + cost of scra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create new CAM program * number of programs that can be re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255600"/>
            <a:ext cx="5624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680" y="79848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1449360"/>
            <a:ext cx="0" cy="533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2680" y="1071720"/>
            <a:ext cx="12024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24320" y="2058840"/>
            <a:ext cx="19584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94520" y="15256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080" y="3043080"/>
            <a:ext cx="8870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7160" y="3043080"/>
            <a:ext cx="7848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18320" y="3043080"/>
            <a:ext cx="8517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2560" y="3043080"/>
            <a:ext cx="6721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62440" y="251316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817720"/>
            <a:ext cx="296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8177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6960" y="28177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1240" y="2513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84440" y="28177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5600" y="28177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3080" y="243684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54840" y="251316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30120" y="3043080"/>
            <a:ext cx="21733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38920" y="1449360"/>
            <a:ext cx="0" cy="533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08640" y="1071720"/>
            <a:ext cx="1100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1760" y="2058840"/>
            <a:ext cx="2410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4160" y="1525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59400" y="2208240"/>
            <a:ext cx="10634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rot="16200000">
            <a:off x="4520160" y="2170080"/>
            <a:ext cx="834840" cy="15210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41960" y="2360520"/>
            <a:ext cx="457200" cy="83520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56520" y="4030560"/>
            <a:ext cx="14752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9440" y="4030560"/>
            <a:ext cx="13518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27480" y="4030560"/>
            <a:ext cx="8762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19360" y="3805200"/>
            <a:ext cx="0" cy="1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59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3080" y="3805200"/>
            <a:ext cx="0" cy="1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59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0800" y="35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81800" y="3805200"/>
            <a:ext cx="0" cy="1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59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2817720"/>
            <a:ext cx="454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5840" y="3805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4440" y="3500280"/>
            <a:ext cx="3419640" cy="30492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7143840" y="3728880"/>
            <a:ext cx="758880" cy="3016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40720" y="4030560"/>
            <a:ext cx="6156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51160" y="4640400"/>
            <a:ext cx="1271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52600" y="5246640"/>
            <a:ext cx="1010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6200000">
            <a:off x="6764040" y="3955680"/>
            <a:ext cx="1365480" cy="4543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6382080" y="4184280"/>
            <a:ext cx="1974960" cy="6066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5965920" y="3992400"/>
            <a:ext cx="144144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82440" y="35002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560" y="5700600"/>
            <a:ext cx="25113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27360" y="5700600"/>
            <a:ext cx="20923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6360" y="5700600"/>
            <a:ext cx="25570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1440" y="5170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2400" y="5475240"/>
            <a:ext cx="524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2400" y="5475240"/>
            <a:ext cx="0" cy="1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59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98800" y="5170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6840" y="5475240"/>
            <a:ext cx="0" cy="1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59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34000" y="5475240"/>
            <a:ext cx="0" cy="1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59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200" y="5475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46000" y="129708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746360" y="228456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635360" y="4941720"/>
            <a:ext cx="758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7600" y="4738680"/>
            <a:ext cx="10105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240" y="114768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9240" y="213516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47160" y="47894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8200" y="6361200"/>
            <a:ext cx="1947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7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simulation and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CMM and C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cutter c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3117960"/>
            <a:ext cx="80200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since Dal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3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and export of AP-203 e2 files containing toleranc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assembly and disassembly of data for integrated data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ISO 13399 for physical tool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computation of tool compensation offsets using tolerance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ression using via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removal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/Speed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22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All Part Tolera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3640" y="914400"/>
            <a:ext cx="7943760" cy="5446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65120" y="4404600"/>
            <a:ext cx="2892600" cy="949320"/>
          </a:xfrm>
          <a:prstGeom prst="wedgeEllipseCallout">
            <a:avLst>
              <a:gd name="adj1" fmla="val -35902"/>
              <a:gd name="adj2" fmla="val 10629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Property Tab Shows All Tolerance and Surface Fini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55840" y="1433520"/>
            <a:ext cx="2892600" cy="677160"/>
          </a:xfrm>
          <a:prstGeom prst="wedgeEllipseCallout">
            <a:avLst>
              <a:gd name="adj1" fmla="val -63712"/>
              <a:gd name="adj2" fmla="val 14548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each one to blink tolerance 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9240" y="3490920"/>
            <a:ext cx="2133720" cy="677160"/>
          </a:xfrm>
          <a:prstGeom prst="wedgeEllipseCallout">
            <a:avLst>
              <a:gd name="adj1" fmla="val 16513"/>
              <a:gd name="adj2" fmla="val -16290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ight datum su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17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a Datum on the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he Probing | Define Datums menu entry to bring up the datum dialog bo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70040" y="2178000"/>
          <a:ext cx="572760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2178000"/>
                    <a:ext cx="57276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670040" y="4870440"/>
            <a:ext cx="59436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065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 The Datum 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5480" y="896760"/>
            <a:ext cx="8020080" cy="5497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4760" y="4260960"/>
            <a:ext cx="4876560" cy="1266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13440" y="4954680"/>
            <a:ext cx="2511360" cy="949320"/>
          </a:xfrm>
          <a:prstGeom prst="wedgeEllipseCallout">
            <a:avLst>
              <a:gd name="adj1" fmla="val -16949"/>
              <a:gd name="adj2" fmla="val -9075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k the face in the geometry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720" y="5700600"/>
            <a:ext cx="2511720" cy="677160"/>
          </a:xfrm>
          <a:prstGeom prst="wedgeEllipseCallout">
            <a:avLst>
              <a:gd name="adj1" fmla="val 19328"/>
              <a:gd name="adj2" fmla="val -9383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appropriate datum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0240" y="1737720"/>
            <a:ext cx="3124080" cy="949320"/>
          </a:xfrm>
          <a:prstGeom prst="wedgeEllipseCallout">
            <a:avLst>
              <a:gd name="adj1" fmla="val -56805"/>
              <a:gd name="adj2" fmla="val -7092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 between rotate, pan, and pick mode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670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a Tolerance on the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he Probing | Define Tolerance menu entry to bring up the tolerance dialo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63880" y="2203560"/>
          <a:ext cx="5002200" cy="42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2203560"/>
                    <a:ext cx="500220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937120" y="4861800"/>
            <a:ext cx="2743200" cy="949320"/>
          </a:xfrm>
          <a:prstGeom prst="wedgeEllipseCallout">
            <a:avLst>
              <a:gd name="adj1" fmla="val -85175"/>
              <a:gd name="adj2" fmla="val -93402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k tolerance or dimension type from th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13:02Z</dcterms:created>
  <dc:creator>Dave Loffredo</dc:creator>
  <dc:description/>
  <cp:keywords/>
  <dc:language>en-US</dc:language>
  <cp:lastModifiedBy>Martin Hardwick</cp:lastModifiedBy>
  <dcterms:modified xsi:type="dcterms:W3CDTF">2008-03-07T15:35:29Z</dcterms:modified>
  <cp:revision>23</cp:revision>
  <dc:subject>STEP-NC Explorer</dc:subject>
  <dc:title>Making and Viewing Tolerances</dc:title>
</cp:coreProperties>
</file>