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1F9-E11E-4C04-892B-904E62B5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F36-D780-4750-B75A-DFA892B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B53-C512-4A53-96DE-CDFB72EE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3F9-424B-47C7-A7AD-18532653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6B9-6369-48E1-9C37-BDF0F4F3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EE-CB06-4427-BE76-FE55AA8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B85-526C-4E2B-B3B5-D27518EB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F0F-CC7F-48E0-9FFF-BDB71375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5B6-915D-4FEB-8883-F2A9D101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609-8DBF-4799-BF9E-25D2CCE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64F-CB42-497B-880B-E4F388F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DF4-31D6-4A5C-8192-88E0A512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A71-ADFB-41B2-84BF-B6A5A22BC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ers Used in Machining Optim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raft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e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2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an Insert Type Cu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53" t="8421" r="1853" b="10771"/>
          <a:stretch/>
        </p:blipFill>
        <p:spPr>
          <a:xfrm>
            <a:off x="1066680" y="1447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802-522F-48CF-9BAC-0DE5EB3A2F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Constraint Parameter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maximum rotational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power (a power vs. speed curve, or a single value from the curve if the spindle rotational speed is deter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bending moment allowed at the gag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fee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1E8-A8B5-45CC-9BC8-95483F8C75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Constraint Parameter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radial force to the spindle front bearing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axial force to the spindle front bearing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spindle front bearing(s) to the spindle gag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etween the front bearing(s) and the rear bearing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4DA-B7DE-4B80-BCBB-E27F54CDA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Power vs. Spee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8001000" cy="40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E46-44FE-4F38-803D-5A6B0D0414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Paramete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mode (an integer for selecting a optimization formula, such as cutting force, tool life or other user defined form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ger identification number for each cutting path or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127-F419-4CB1-95D0-2A1A7C3C5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Paramete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speed selection (a flag, using the originally programmed speed or assigning a new sp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spindl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feed rate for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st feed rate to be optimized (feed rate below this value will not be optim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feed rate to be optimized (feed rate above this value will not be optim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C4E-F8E1-4C38-93D6-82F6DD5B29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Paramete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cutting” feed rate selection (a flag for selecting the programmed or the maximum allowed feed ra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ping option (a flag, whether to optimize a path (segment) if the ramping angle reaches a predefined li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ping angle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559-8319-47B6-A831-30592318FA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piec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atted text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refers to the workpiece material cutting property. See note be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901-F4E3-45D6-BA39-4A7B11C2E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Material Cutting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related, but different than the material physical properties (yield strength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the cutting edge geometry and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obtained from laboratory tests for a given cutting edge/workpiec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dustry standard for definitions, formulas and formats of cutting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EBE-275F-458D-A747-DB1FAFF929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(a flag, indicating metric or empir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 metric, all dimensions will be in mm, feed rate will be in mm/min, bending moment will be in Nm, and power will be in k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 empirical, all dimensions will be in inch, feed rate will be in inch/min, bending moment will be in lbf-inch, and power will be in h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DF0-736F-4997-9FE1-47BA70532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number (an integer number, called by the program at too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name (a text st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951-A059-4BCD-AEF7-5BD0E866AA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eter at fl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length (or gage length, cutter tip to gage 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l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t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x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r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3DE-0481-45CC-B0C7-FA52B063F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nk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nk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er diameter (ave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er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et-screw(s) (a fl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-screw distance (from  the center of the first set-screw to the tip of the hol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942-4D37-4CB2-890F-1AAC1C272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-type cutter (a flag to differentiate from solid cut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edg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edge helix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overlap (in axial dir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0F8-FAB0-45D3-92B3-0B171201DD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dge material (an integer variable (or a formatted text string) to represent High Speed Steel, Carbid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material (an integer variable (or a formatted text string) to represent High Speed Steel, Carbid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E2E-9B25-4558-8D07-90F9E9C9B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ng Cutter Parameter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rotational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surface speed (also depending on the workpiece material and cutting fl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chip load (feed per tooth, also depending on the workpiece mater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allowed deflection (also depending on the dimensional requirement of the part and the 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546-48F9-46FC-AE7E-68FC8BFEDA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 Milling C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204" t="5050" r="1204" b="9087"/>
          <a:stretch/>
        </p:blipFill>
        <p:spPr>
          <a:xfrm>
            <a:off x="990720" y="1371600"/>
            <a:ext cx="731520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283-1CB1-4028-9157-05970426CD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6:20:01Z</dcterms:created>
  <dc:creator>xlx2807</dc:creator>
  <dc:description/>
  <dc:language>en-US</dc:language>
  <cp:lastModifiedBy>Martin Hardwick</cp:lastModifiedBy>
  <dcterms:modified xsi:type="dcterms:W3CDTF">2007-12-20T18:41:26Z</dcterms:modified>
  <cp:revision>14</cp:revision>
  <dc:subject/>
  <dc:title>Machine</dc:title>
</cp:coreProperties>
</file>