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F261D4-96CA-4B13-B008-1C7FDA87B6BF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8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STEP-NC Explor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king and Viewing Tolera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622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All Part Tolera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3640" y="914400"/>
            <a:ext cx="7943760" cy="5446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5120" y="4404600"/>
            <a:ext cx="2892600" cy="949320"/>
          </a:xfrm>
          <a:prstGeom prst="wedgeEllipseCallout">
            <a:avLst>
              <a:gd name="adj1" fmla="val -35902"/>
              <a:gd name="adj2" fmla="val 10629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Property Tab Shows All Tolerance and Surface Fini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55840" y="1433520"/>
            <a:ext cx="2892600" cy="677160"/>
          </a:xfrm>
          <a:prstGeom prst="wedgeEllipseCallout">
            <a:avLst>
              <a:gd name="adj1" fmla="val -63712"/>
              <a:gd name="adj2" fmla="val 14548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each one to blink tolerance 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99240" y="3490920"/>
            <a:ext cx="2133720" cy="677160"/>
          </a:xfrm>
          <a:prstGeom prst="wedgeEllipseCallout">
            <a:avLst>
              <a:gd name="adj1" fmla="val 16513"/>
              <a:gd name="adj2" fmla="val -16290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ight datum su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17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a Datum on the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he Probing | Define Datums menu entry to bring up the datum dialog bo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70040" y="2178000"/>
          <a:ext cx="572760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2178000"/>
                    <a:ext cx="57276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70040" y="4870440"/>
            <a:ext cx="59436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065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 The Datum 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5480" y="896760"/>
            <a:ext cx="8020080" cy="549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4760" y="4260960"/>
            <a:ext cx="4876560" cy="1266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3440" y="4954680"/>
            <a:ext cx="2511360" cy="949320"/>
          </a:xfrm>
          <a:prstGeom prst="wedgeEllipseCallout">
            <a:avLst>
              <a:gd name="adj1" fmla="val -16949"/>
              <a:gd name="adj2" fmla="val -9075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k the face in the geometry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720" y="5700600"/>
            <a:ext cx="2511720" cy="677160"/>
          </a:xfrm>
          <a:prstGeom prst="wedgeEllipseCallout">
            <a:avLst>
              <a:gd name="adj1" fmla="val 19328"/>
              <a:gd name="adj2" fmla="val -9383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appropriate datum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0240" y="1737720"/>
            <a:ext cx="3124080" cy="949320"/>
          </a:xfrm>
          <a:prstGeom prst="wedgeEllipseCallout">
            <a:avLst>
              <a:gd name="adj1" fmla="val -56805"/>
              <a:gd name="adj2" fmla="val -7092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 between rotate, pan, and pick mode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670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a Tolerance on the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he Probing | Define Tolerance menu entry to bring up the tolerance dialo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2203560"/>
          <a:ext cx="5002200" cy="42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2203560"/>
                    <a:ext cx="500220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937120" y="4861800"/>
            <a:ext cx="2743200" cy="949320"/>
          </a:xfrm>
          <a:prstGeom prst="wedgeEllipseCallout">
            <a:avLst>
              <a:gd name="adj1" fmla="val -85175"/>
              <a:gd name="adj2" fmla="val -93402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k tolerance or dimension type from th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3640" y="914400"/>
            <a:ext cx="7943760" cy="5446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556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 The Tolerance 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18360" y="4268880"/>
            <a:ext cx="2511360" cy="949320"/>
          </a:xfrm>
          <a:prstGeom prst="wedgeEllipseCallout">
            <a:avLst>
              <a:gd name="adj1" fmla="val -44125"/>
              <a:gd name="adj2" fmla="val -892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k the face in the geometry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3760" y="5472000"/>
            <a:ext cx="2361960" cy="677160"/>
          </a:xfrm>
          <a:prstGeom prst="wedgeEllipseCallout">
            <a:avLst>
              <a:gd name="adj1" fmla="val -70157"/>
              <a:gd name="adj2" fmla="val -10695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value and any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0240" y="1737720"/>
            <a:ext cx="3124080" cy="949320"/>
          </a:xfrm>
          <a:prstGeom prst="wedgeEllipseCallout">
            <a:avLst>
              <a:gd name="adj1" fmla="val -56805"/>
              <a:gd name="adj2" fmla="val -70921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 between rotate, pan, and pick mode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591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Linear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reating a linear dimension, you must pick two faces from the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2320" y="2889360"/>
            <a:ext cx="6705720" cy="2566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6160" y="2059200"/>
            <a:ext cx="2057400" cy="1221480"/>
          </a:xfrm>
          <a:prstGeom prst="wedgeEllipseCallout">
            <a:avLst>
              <a:gd name="adj1" fmla="val 51430"/>
              <a:gd name="adj2" fmla="val 4784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on shows which face is being selected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2120" y="5014080"/>
            <a:ext cx="1981440" cy="949320"/>
          </a:xfrm>
          <a:prstGeom prst="wedgeEllipseCallout">
            <a:avLst>
              <a:gd name="adj1" fmla="val 47111"/>
              <a:gd name="adj2" fmla="val -153449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on other “Use” button to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305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as STEP-NC or AP203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s STEP-NC AP238 using File | S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100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s AP203e2 u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| Export | Workpie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89160" y="2050920"/>
          <a:ext cx="2138400" cy="24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2050920"/>
                    <a:ext cx="213840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718160" y="1995480"/>
          <a:ext cx="3628800" cy="484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8160" y="1995480"/>
                    <a:ext cx="362880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914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STEP-NC or AP203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a STEP-NC AP238 file using File | 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16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ad AP203e2, create a project (File | N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import the AP203e2 (File | Import | Workpie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70440" y="2759040"/>
          <a:ext cx="325440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0440" y="2759040"/>
                    <a:ext cx="325440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517760" y="2127240"/>
          <a:ext cx="2020680" cy="23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7760" y="2127240"/>
                    <a:ext cx="202068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13:02Z</dcterms:created>
  <dc:creator>Dave Loffredo</dc:creator>
  <dc:description/>
  <cp:keywords/>
  <dc:language>en-US</dc:language>
  <cp:lastModifiedBy>Dave Loffredo</cp:lastModifiedBy>
  <dcterms:modified xsi:type="dcterms:W3CDTF">2008-01-10T21:41:27Z</dcterms:modified>
  <cp:revision>18</cp:revision>
  <dc:subject>STEP-NC Explorer</dc:subject>
  <dc:title>Making and Viewing Tolerances</dc:title>
</cp:coreProperties>
</file>