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BD8A540-BF4D-49B6-A203-D3E6A0F4011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88520" y="6551640"/>
            <a:ext cx="952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STEP-NC Technical Iss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79720" y="2965320"/>
            <a:ext cx="4640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le size reduction for High Speed Machi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676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0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SM files contain many arc’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EP-NC representation for arc’s is verb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line segment requires one additional Cartesian point entity in a poly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arc requi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osite curve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xis2_placement ent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direction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Cartesian point 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t has to be repeated for every curve because of the parameterization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axis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section parameter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override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254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representation for bounded curve is very power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any types of entities to be included in the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, arc, b-spline, curve-on-surface,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legacy machining data today is ei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s of line segments – traditiona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s of line and arc segments – HSM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a more compressed method for representing legac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emantics are not helpful for this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Kinematics schema shows 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points define an 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oints (with two coincident) define a complete cir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705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6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EP schema for kinematics has via-ent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h goes via the given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propose enhancing the representation of tool path polylines to allow for two types of via-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_arc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urve to and from the via is an 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_helix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urve to and from the via is a helix 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052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_a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86760" y="984240"/>
            <a:ext cx="715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TY via_arc SUBTYPE_OF (cartesian_poi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7920" y="1822320"/>
            <a:ext cx="129564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2320" y="28130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746000" y="174636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3040" y="3117960"/>
            <a:ext cx="511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6600" y="1441440"/>
            <a:ext cx="452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6400" y="2050920"/>
            <a:ext cx="101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cw 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0440" y="1822320"/>
            <a:ext cx="129564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4840" y="28130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608520" y="174636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5560" y="3117960"/>
            <a:ext cx="511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39120" y="1441440"/>
            <a:ext cx="452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200" y="349884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1520" y="2508120"/>
            <a:ext cx="304920" cy="2286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1960" y="2584440"/>
            <a:ext cx="666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a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9520" y="3657600"/>
            <a:ext cx="459576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unded Curve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= composite_curve,trim.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= composite_curve.trim_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 = composite_curve.circle.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= composite_curve.circle.placement.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e = composite_curve.sense_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s = composite_curve.circle.pl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7160" y="3657600"/>
            <a:ext cx="345420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a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= polyline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a = polyline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= polyline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 = radius (start, via, 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= center (start, via, 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e = pdistance (sense, start, via) &l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istance (sense, via, 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s = toolpath_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120" y="5708520"/>
            <a:ext cx="889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(a, b, c) computes a circle center from three distinct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us (a, b, c) compute a circle radius from three distinct po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istance (sense, a, b) is the distance along the perimeter in the sense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641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case 1 – complete cir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18160" y="1746360"/>
            <a:ext cx="1295280" cy="1218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32560" y="273672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27280" y="3041640"/>
            <a:ext cx="113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200" y="3797280"/>
            <a:ext cx="183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72480" y="1670040"/>
            <a:ext cx="794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a ar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93720" y="3956040"/>
            <a:ext cx="389772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a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= polyline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a 1 = polyline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a 2 = polyline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= polyline[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 = distance (center (start, via 1, via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= center (start, via 1, via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e = pdistance (sense, start, via 1) &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istance (sense, via 2, e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698880" y="1898640"/>
            <a:ext cx="304920" cy="3049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93040" y="1946160"/>
            <a:ext cx="794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a ar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98440" y="1746360"/>
            <a:ext cx="1295640" cy="1218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12840" y="273672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07560" y="3041640"/>
            <a:ext cx="113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1320" y="984240"/>
            <a:ext cx="127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cw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3120" y="1670040"/>
            <a:ext cx="794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a arc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2279520"/>
            <a:ext cx="533520" cy="15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79160" y="1974960"/>
            <a:ext cx="304920" cy="3045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20" y="1946160"/>
            <a:ext cx="794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a arc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74040" y="984240"/>
            <a:ext cx="1145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w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7640" y="2279520"/>
            <a:ext cx="533520" cy="15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83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case 2 - Hel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1920" y="2057040"/>
            <a:ext cx="7746840" cy="26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a helix is an arc or complete circle where the z coordinate increases or decr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creasing or decreasing z coordinate is in the coordinate system defined by the axis of the arc/cir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more than one via_helix point then the z coordinate of each must be on the hel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5320" y="984240"/>
            <a:ext cx="739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TY via_helix SUBTYPE_OF (cartesian_poi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830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8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and last points of a polyline cannot be via’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nsecutive points are via’s then they must be of the same type (arc or helix) and be on the same a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a cannot have the same coordinates as the preceding or following poi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llegal for a single via to separate two regular points that are coincid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136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1920" y="907560"/>
            <a:ext cx="7746840" cy="51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s made for: Bordeaux_20080116.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igh speed machining file for the fish 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part geometry, tolerances and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Bounded Curve 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938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rc’s are converted to lines (semantic lo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7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rc’s are converted to via’s to preserve 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,019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reference for same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14 K bytes Mastercam 9 (MC9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4 K bytes ISO 6983 (Heidenh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13:02Z</dcterms:created>
  <dc:creator>Dave Loffredo</dc:creator>
  <dc:description/>
  <cp:keywords/>
  <dc:language>en-US</dc:language>
  <cp:lastModifiedBy>Martin Hardwick</cp:lastModifiedBy>
  <dcterms:modified xsi:type="dcterms:W3CDTF">2008-01-22T14:14:18Z</dcterms:modified>
  <cp:revision>23</cp:revision>
  <dc:subject>STEP-NC Explorer</dc:subject>
  <dc:title>Making and Viewing Tolerances</dc:title>
</cp:coreProperties>
</file>