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640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772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640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772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-360"/>
            <a:ext cx="6553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640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772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640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772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-360"/>
            <a:ext cx="6553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7812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81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353360" y="76320"/>
            <a:ext cx="1714320" cy="51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7812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81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391520" y="95400"/>
            <a:ext cx="1714320" cy="514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dwick@steptools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693396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-NC a new language for the CN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ardwick@steptool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8 687-2848 x 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572000"/>
            <a:ext cx="7621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4572000"/>
            <a:ext cx="76176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4038480"/>
            <a:ext cx="123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4040" y="2590920"/>
            <a:ext cx="12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ll co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4267080"/>
            <a:ext cx="685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760" y="4648320"/>
            <a:ext cx="111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5708520" cy="33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3760" y="1066320"/>
            <a:ext cx="3276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tercam 9 &amp; X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A (AP-22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99072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nu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iden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22160" y="4191120"/>
            <a:ext cx="842040" cy="457560"/>
          </a:xfrm>
          <a:prstGeom prst="rect">
            <a:avLst/>
          </a:prstGeom>
          <a:solidFill>
            <a:srgbClr val="fcd46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7480" y="5600880"/>
            <a:ext cx="876960" cy="457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9600" y="5640480"/>
            <a:ext cx="842040" cy="45756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7320" y="4638600"/>
            <a:ext cx="1298880" cy="147924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3"/>
            <a:endCxn id="219" idx="1"/>
          </p:cNvCxnSpPr>
          <p:nvPr/>
        </p:nvCxnSpPr>
        <p:spPr>
          <a:xfrm flipV="1">
            <a:off x="3420720" y="5382360"/>
            <a:ext cx="594360" cy="459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21" name=""/>
          <p:cNvCxnSpPr>
            <a:stCxn id="216" idx="3"/>
            <a:endCxn id="219" idx="0"/>
          </p:cNvCxnSpPr>
          <p:nvPr/>
        </p:nvCxnSpPr>
        <p:spPr>
          <a:xfrm>
            <a:off x="3392280" y="4432320"/>
            <a:ext cx="1284840" cy="19440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22" name=""/>
          <p:cNvCxnSpPr>
            <a:stCxn id="219" idx="3"/>
            <a:endCxn id="218" idx="1"/>
          </p:cNvCxnSpPr>
          <p:nvPr/>
        </p:nvCxnSpPr>
        <p:spPr>
          <a:xfrm>
            <a:off x="5338800" y="5382720"/>
            <a:ext cx="434160" cy="499320"/>
          </a:xfrm>
          <a:prstGeom prst="bentConnector3">
            <a:avLst>
              <a:gd name="adj1" fmla="val 49792"/>
            </a:avLst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"/>
          <p:cNvSpPr/>
          <p:nvPr/>
        </p:nvSpPr>
        <p:spPr>
          <a:xfrm>
            <a:off x="5831640" y="4194000"/>
            <a:ext cx="860400" cy="457560"/>
          </a:xfrm>
          <a:prstGeom prst="rect">
            <a:avLst/>
          </a:prstGeom>
          <a:solidFill>
            <a:srgbClr val="fcd46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9" idx="0"/>
            <a:endCxn id="223" idx="1"/>
          </p:cNvCxnSpPr>
          <p:nvPr/>
        </p:nvCxnSpPr>
        <p:spPr>
          <a:xfrm flipH="1" flipV="1" rot="5400000">
            <a:off x="5145480" y="3965760"/>
            <a:ext cx="191160" cy="11293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50000" y="4421160"/>
            <a:ext cx="842040" cy="457560"/>
          </a:xfrm>
          <a:prstGeom prst="rect">
            <a:avLst/>
          </a:prstGeom>
          <a:solidFill>
            <a:srgbClr val="ffc97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34360" y="4421160"/>
            <a:ext cx="876960" cy="457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87680" y="4421160"/>
            <a:ext cx="842040" cy="457560"/>
          </a:xfrm>
          <a:prstGeom prst="rect">
            <a:avLst/>
          </a:prstGeom>
          <a:solidFill>
            <a:srgbClr val="97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59080" y="3124080"/>
            <a:ext cx="3738600" cy="457560"/>
          </a:xfrm>
          <a:prstGeom prst="rect">
            <a:avLst/>
          </a:prstGeom>
          <a:gradFill rotWithShape="0">
            <a:gsLst>
              <a:gs pos="0">
                <a:srgbClr val="97b0ff"/>
              </a:gs>
              <a:gs pos="100000">
                <a:srgbClr val="ffcc81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5" idx="0"/>
            <a:endCxn id="228" idx="1"/>
          </p:cNvCxnSpPr>
          <p:nvPr/>
        </p:nvCxnSpPr>
        <p:spPr>
          <a:xfrm flipH="1" flipV="1" rot="5400000">
            <a:off x="1537200" y="3598920"/>
            <a:ext cx="1043640" cy="575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 flipH="1" flipV="1">
            <a:off x="3993840" y="3625200"/>
            <a:ext cx="2160" cy="78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1" name=""/>
          <p:cNvCxnSpPr>
            <a:stCxn id="228" idx="3"/>
            <a:endCxn id="227" idx="0"/>
          </p:cNvCxnSpPr>
          <p:nvPr/>
        </p:nvCxnSpPr>
        <p:spPr>
          <a:xfrm>
            <a:off x="6109920" y="3365280"/>
            <a:ext cx="499320" cy="1043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/>
          <p:nvPr/>
        </p:nvCxnSpPr>
        <p:spPr>
          <a:xfrm flipH="1" flipV="1">
            <a:off x="4527360" y="3625200"/>
            <a:ext cx="2160" cy="78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1760760" y="384336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3887640"/>
            <a:ext cx="625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9400" y="3887640"/>
            <a:ext cx="77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8360" y="3887640"/>
            <a:ext cx="64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04720" y="4910040"/>
            <a:ext cx="692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40280" y="4956120"/>
            <a:ext cx="50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5680" y="4956120"/>
            <a:ext cx="794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421160"/>
            <a:ext cx="1101600" cy="547920"/>
          </a:xfrm>
          <a:prstGeom prst="rightArrow">
            <a:avLst>
              <a:gd name="adj1" fmla="val 50000"/>
              <a:gd name="adj2" fmla="val 5026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-203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67360" y="4421160"/>
            <a:ext cx="801720" cy="547920"/>
          </a:xfrm>
          <a:prstGeom prst="rightArrow">
            <a:avLst>
              <a:gd name="adj1" fmla="val 50000"/>
              <a:gd name="adj2" fmla="val 3658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82960" y="5381640"/>
            <a:ext cx="555480" cy="547920"/>
          </a:xfrm>
          <a:prstGeom prst="rightArrow">
            <a:avLst>
              <a:gd name="adj1" fmla="val 50000"/>
              <a:gd name="adj2" fmla="val 2534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39720" y="5365800"/>
            <a:ext cx="13892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02000" y="5334120"/>
            <a:ext cx="25941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call to an interface in the d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8960" y="5611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819760" cy="33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49800" y="1444680"/>
            <a:ext cx="956520" cy="79668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53000" y="1444680"/>
            <a:ext cx="956520" cy="79668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26400" y="1444680"/>
            <a:ext cx="956520" cy="79668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5200" y="2360520"/>
            <a:ext cx="487440" cy="533520"/>
          </a:xfrm>
          <a:prstGeom prst="upDownArrow">
            <a:avLst>
              <a:gd name="adj1" fmla="val 50000"/>
              <a:gd name="adj2" fmla="val 2178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32280" y="2360520"/>
            <a:ext cx="487440" cy="533520"/>
          </a:xfrm>
          <a:prstGeom prst="upDownArrow">
            <a:avLst>
              <a:gd name="adj1" fmla="val 50000"/>
              <a:gd name="adj2" fmla="val 2178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83080" y="2360520"/>
            <a:ext cx="486000" cy="533520"/>
          </a:xfrm>
          <a:prstGeom prst="upDownArrow">
            <a:avLst>
              <a:gd name="adj1" fmla="val 50000"/>
              <a:gd name="adj2" fmla="val 218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78800" y="1560600"/>
            <a:ext cx="202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-Machine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11560" y="114300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114300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1143000"/>
            <a:ext cx="119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175360" cy="33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EP-NC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3720" y="990720"/>
            <a:ext cx="8145360" cy="215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programming paradigm for the C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steps apply operations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paths are machine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erances enable measurement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tom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rr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C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44880" y="3352680"/>
            <a:ext cx="4814280" cy="3090240"/>
            <a:chOff x="2144880" y="3352680"/>
            <a:chExt cx="4814280" cy="3090240"/>
          </a:xfrm>
        </p:grpSpPr>
        <p:cxnSp>
          <p:nvCxnSpPr>
            <p:cNvPr id="87" name=""/>
            <p:cNvCxnSpPr/>
            <p:nvPr/>
          </p:nvCxnSpPr>
          <p:spPr>
            <a:xfrm>
              <a:off x="2746440" y="4096800"/>
              <a:ext cx="864360" cy="1268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8" name=""/>
            <p:cNvCxnSpPr/>
            <p:nvPr/>
          </p:nvCxnSpPr>
          <p:spPr>
            <a:xfrm flipH="1">
              <a:off x="3609000" y="4096800"/>
              <a:ext cx="225360" cy="1268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9" name=""/>
            <p:cNvCxnSpPr/>
            <p:nvPr/>
          </p:nvCxnSpPr>
          <p:spPr>
            <a:xfrm flipH="1">
              <a:off x="3608640" y="4096800"/>
              <a:ext cx="1359720" cy="1268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0" name=""/>
            <p:cNvCxnSpPr/>
            <p:nvPr/>
          </p:nvCxnSpPr>
          <p:spPr>
            <a:xfrm>
              <a:off x="4969440" y="4096800"/>
              <a:ext cx="568800" cy="1268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1" name=""/>
            <p:cNvCxnSpPr/>
            <p:nvPr/>
          </p:nvCxnSpPr>
          <p:spPr>
            <a:xfrm>
              <a:off x="2746800" y="4096800"/>
              <a:ext cx="2791440" cy="1268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2" name=""/>
            <p:cNvCxnSpPr/>
            <p:nvPr/>
          </p:nvCxnSpPr>
          <p:spPr>
            <a:xfrm>
              <a:off x="3834000" y="4096800"/>
              <a:ext cx="1704240" cy="1268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3" name=""/>
            <p:cNvCxnSpPr/>
            <p:nvPr/>
          </p:nvCxnSpPr>
          <p:spPr>
            <a:xfrm flipH="1">
              <a:off x="3609000" y="4098240"/>
              <a:ext cx="2751840" cy="126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4" name=""/>
            <p:cNvCxnSpPr/>
            <p:nvPr/>
          </p:nvCxnSpPr>
          <p:spPr>
            <a:xfrm flipH="1">
              <a:off x="5537520" y="4098240"/>
              <a:ext cx="823680" cy="1266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2144880" y="3385440"/>
              <a:ext cx="843120" cy="6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3344040" y="3378240"/>
              <a:ext cx="7905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4393080" y="3621600"/>
              <a:ext cx="1249200" cy="3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988240" y="3352680"/>
              <a:ext cx="970920" cy="67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3250800" y="5412240"/>
              <a:ext cx="693360" cy="1030680"/>
              <a:chOff x="3250800" y="5412240"/>
              <a:chExt cx="693360" cy="1030680"/>
            </a:xfrm>
          </p:grpSpPr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50800" y="5412240"/>
                <a:ext cx="64404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0640" y="6237000"/>
                <a:ext cx="443520" cy="20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5238720" y="5475600"/>
              <a:ext cx="1011600" cy="750960"/>
              <a:chOff x="5238720" y="5475600"/>
              <a:chExt cx="1011600" cy="750960"/>
            </a:xfrm>
          </p:grpSpPr>
          <p:pic>
            <p:nvPicPr>
              <p:cNvPr id="1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8720" y="5475600"/>
                <a:ext cx="800640" cy="717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4" name=""/>
              <p:cNvGraphicFramePr/>
              <p:nvPr/>
            </p:nvGraphicFramePr>
            <p:xfrm>
              <a:off x="5665680" y="6058800"/>
              <a:ext cx="584640" cy="1677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665680" y="6058800"/>
                        <a:ext cx="584640" cy="16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6" name=""/>
            <p:cNvSpPr/>
            <p:nvPr/>
          </p:nvSpPr>
          <p:spPr>
            <a:xfrm>
              <a:off x="3682800" y="4571280"/>
              <a:ext cx="173340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-NC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370880" y="5664240"/>
            <a:ext cx="146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Tool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00160" y="5664240"/>
            <a:ext cx="158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 Table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8760" y="255600"/>
            <a:ext cx="5632560" cy="32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-NC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800280"/>
            <a:ext cx="8979120" cy="534024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4320" y="1452600"/>
            <a:ext cx="0" cy="533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7360" y="1073160"/>
            <a:ext cx="12024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9000" y="2062080"/>
            <a:ext cx="19584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9920" y="15289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800" y="3049560"/>
            <a:ext cx="887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680" y="3049560"/>
            <a:ext cx="784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3000" y="3049560"/>
            <a:ext cx="851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6520" y="3049560"/>
            <a:ext cx="672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67120" y="251784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822400"/>
            <a:ext cx="296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8224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98760" y="28224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5200" y="2517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87680" y="28224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0280" y="28224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89560" y="24415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1320" y="251784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9480" y="3049560"/>
            <a:ext cx="2173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8640" y="1452600"/>
            <a:ext cx="0" cy="533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18000" y="1073160"/>
            <a:ext cx="11001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1120" y="2062080"/>
            <a:ext cx="24109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24600" y="15289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565160" y="2212920"/>
            <a:ext cx="1065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rot="16200000">
            <a:off x="4526280" y="2174760"/>
            <a:ext cx="836640" cy="152244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9880" y="2365200"/>
            <a:ext cx="457200" cy="83664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0480" y="4038480"/>
            <a:ext cx="14752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34840" y="4038480"/>
            <a:ext cx="1351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34680" y="4038480"/>
            <a:ext cx="876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2600" y="381168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9560" y="381168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8720" y="350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9720" y="381168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822400"/>
            <a:ext cx="455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89080" y="3811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3506760"/>
            <a:ext cx="3424320" cy="30492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16200000">
            <a:off x="7153200" y="3735360"/>
            <a:ext cx="760320" cy="30312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51880" y="4038480"/>
            <a:ext cx="6156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63040" y="4648320"/>
            <a:ext cx="12711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64840" y="5256360"/>
            <a:ext cx="1010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rot="16200000">
            <a:off x="6771960" y="3963240"/>
            <a:ext cx="1368360" cy="4554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16200000">
            <a:off x="6391800" y="4191840"/>
            <a:ext cx="1978200" cy="6076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73480" y="4000320"/>
            <a:ext cx="144468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91800" y="3506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60" y="5711760"/>
            <a:ext cx="25113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37080" y="5711760"/>
            <a:ext cx="2092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1760" y="5711760"/>
            <a:ext cx="2557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59360" y="5180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3840" y="5484960"/>
            <a:ext cx="524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3840" y="548496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06720" y="518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1520" y="548496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43720" y="548496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6640" y="54849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749240" y="130032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749600" y="228924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1840" y="4951440"/>
            <a:ext cx="7603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6240" y="4748040"/>
            <a:ext cx="1010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0680" y="114948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0680" y="213840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2560" y="479916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29000" y="6372360"/>
            <a:ext cx="19483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Benef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simulation and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CMM and C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cutter compen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03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features since Dall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and export of AP-203 e2 files containing toleranc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assembly and disassembly of data for integrated data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ISO 13399 for physical tool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computation of tool compensation offsets using tolerance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ression using via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removal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/Speed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918560" cy="33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tional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67080" y="1176480"/>
            <a:ext cx="1079640" cy="830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87440" y="2057400"/>
            <a:ext cx="956520" cy="796680"/>
          </a:xfrm>
          <a:prstGeom prst="flowChartDocument">
            <a:avLst/>
          </a:prstGeom>
          <a:solidFill>
            <a:srgbClr val="fcd46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533920" y="3429000"/>
            <a:ext cx="1704960" cy="434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80960" y="4611600"/>
            <a:ext cx="956520" cy="796680"/>
          </a:xfrm>
          <a:prstGeom prst="flowChartDocument">
            <a:avLst/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3"/>
            <a:endCxn id="179" idx="0"/>
          </p:cNvCxnSpPr>
          <p:nvPr/>
        </p:nvCxnSpPr>
        <p:spPr>
          <a:xfrm>
            <a:off x="5346360" y="1591920"/>
            <a:ext cx="1019880" cy="4532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1" idx="1"/>
          </p:cNvCxnSpPr>
          <p:nvPr/>
        </p:nvCxnSpPr>
        <p:spPr>
          <a:xfrm flipV="1" rot="10800000">
            <a:off x="4662360" y="5013000"/>
            <a:ext cx="1192680" cy="2102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1368720" y="1409760"/>
            <a:ext cx="1607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68360" y="3200400"/>
            <a:ext cx="2975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, Feeds and Sp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5146560"/>
            <a:ext cx="2974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78" idx="3"/>
            <a:endCxn id="181" idx="3"/>
          </p:cNvCxnSpPr>
          <p:nvPr/>
        </p:nvCxnSpPr>
        <p:spPr>
          <a:xfrm>
            <a:off x="5346720" y="1591920"/>
            <a:ext cx="1518480" cy="3421800"/>
          </a:xfrm>
          <a:prstGeom prst="bentConnector3">
            <a:avLst>
              <a:gd name="adj1" fmla="val 14109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 rot="5400000">
            <a:off x="6041520" y="3022920"/>
            <a:ext cx="3775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2 Direct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708120" cy="99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52280" y="1333440"/>
            <a:ext cx="1019160" cy="816120"/>
          </a:xfrm>
          <a:prstGeom prst="rect">
            <a:avLst/>
          </a:prstGeom>
          <a:ln w="0">
            <a:noFill/>
          </a:ln>
        </p:spPr>
      </p:pic>
      <p:cxnSp>
        <p:nvCxnSpPr>
          <p:cNvPr id="191" name=""/>
          <p:cNvCxnSpPr>
            <a:stCxn id="179" idx="2"/>
            <a:endCxn id="180" idx="0"/>
          </p:cNvCxnSpPr>
          <p:nvPr/>
        </p:nvCxnSpPr>
        <p:spPr>
          <a:xfrm>
            <a:off x="6365520" y="2828520"/>
            <a:ext cx="20880" cy="60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2" name=""/>
          <p:cNvCxnSpPr>
            <a:stCxn id="180" idx="2"/>
            <a:endCxn id="181" idx="0"/>
          </p:cNvCxnSpPr>
          <p:nvPr/>
        </p:nvCxnSpPr>
        <p:spPr>
          <a:xfrm flipH="1">
            <a:off x="6358680" y="3863880"/>
            <a:ext cx="27720" cy="73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93" name=""/>
          <p:cNvGrpSpPr/>
          <p:nvPr/>
        </p:nvGrpSpPr>
        <p:grpSpPr>
          <a:xfrm>
            <a:off x="4191120" y="5257800"/>
            <a:ext cx="948960" cy="1409400"/>
            <a:chOff x="4191120" y="5257800"/>
            <a:chExt cx="948960" cy="140940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tretch/>
          </p:blipFill>
          <p:spPr>
            <a:xfrm>
              <a:off x="4191120" y="5257800"/>
              <a:ext cx="8812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4533120" y="6385320"/>
              <a:ext cx="606960" cy="28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152280" y="5181480"/>
            <a:ext cx="1038240" cy="658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867280" y="5689440"/>
            <a:ext cx="32767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Videos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steptools.com/librar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Axis mach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4015080" cy="33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Axis Mach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11:06:33Z</dcterms:created>
  <dc:creator>Martin Hardwick</dc:creator>
  <dc:description/>
  <dc:language>en-US</dc:language>
  <cp:lastModifiedBy>Martin Hardwick</cp:lastModifiedBy>
  <cp:lastPrinted>1999-01-21T19:28:48Z</cp:lastPrinted>
  <dcterms:modified xsi:type="dcterms:W3CDTF">2008-03-06T22:06:54Z</dcterms:modified>
  <cp:revision>74</cp:revision>
  <dc:subject/>
  <dc:title>49th ISO TC184/SC4 meeting Industry 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ist.gov/sc4</vt:lpwstr>
  </property>
  <property fmtid="{D5CDD505-2E9C-101B-9397-08002B2CF9AE}" pid="9" name="LinkColor">
    <vt:r8>16711782</vt:r8>
  </property>
  <property fmtid="{D5CDD505-2E9C-101B-9397-08002B2CF9AE}" pid="10" name="MailAddress">
    <vt:lpwstr>sc4sec@cme.nist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div826\subject\sc4\meetings\nola\Meetings\cplen\plen mtg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