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32888" cy="6846888"/>
  <p:notesSz cx="69977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0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3028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1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0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3028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8400" y="254160"/>
            <a:ext cx="1336680" cy="61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2120" y="133200"/>
            <a:ext cx="255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615360" y="246240"/>
            <a:ext cx="23889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4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4320" y="689040"/>
            <a:ext cx="876276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5080" y="6551640"/>
            <a:ext cx="94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BE03A1C-FFEC-4062-8BBD-EC34E9CDDBDD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613320" y="6551640"/>
            <a:ext cx="1906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Copyright 2008 — STEP Tools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760" y="1493640"/>
            <a:ext cx="518796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4000" spc="-1" strike="noStrike">
                <a:solidFill>
                  <a:srgbClr val="cf0e30"/>
                </a:solidFill>
                <a:latin typeface="Arial"/>
              </a:rPr>
              <a:t>STEP-NC Explor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2960" y="309600"/>
            <a:ext cx="25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32600" y="5291280"/>
            <a:ext cx="382788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 First Street, Troy, NY 121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8) 687-2848 / (518) 687-4420 f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steptool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59040" y="2998800"/>
            <a:ext cx="5173920" cy="12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etermining a resolution order for Linear Distance Toleran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27160"/>
            <a:ext cx="2895480" cy="63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24350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35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se 1 determine association between machining features and design toleranc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se 2 determine an ordering for tolerance correction (tolerance stack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se 3 recommend a best new value for each offs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se 4 allow the user to fine tune the recommended offs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se 5 use the new offsets to machine the par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08304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lerances in AP-23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1920" y="983880"/>
            <a:ext cx="7746840" cy="74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rt Properties pane shows the tolerances defined on the part in C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1440" y="1822320"/>
            <a:ext cx="6558120" cy="4778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892600" y="2043000"/>
            <a:ext cx="2892240" cy="677160"/>
          </a:xfrm>
          <a:prstGeom prst="wedgeEllipseCallout">
            <a:avLst>
              <a:gd name="adj1" fmla="val -63601"/>
              <a:gd name="adj2" fmla="val 145532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lerances defined for the workpie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37120" y="2805120"/>
            <a:ext cx="2892600" cy="677160"/>
          </a:xfrm>
          <a:prstGeom prst="wedgeEllipseCallout">
            <a:avLst>
              <a:gd name="adj1" fmla="val -35407"/>
              <a:gd name="adj2" fmla="val 143833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leranced faces are highligh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6160" y="5149800"/>
            <a:ext cx="2892240" cy="677160"/>
          </a:xfrm>
          <a:prstGeom prst="wedgeEllipseCallout">
            <a:avLst>
              <a:gd name="adj1" fmla="val 11291"/>
              <a:gd name="adj2" fmla="val -166310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wpiece and fixture can be toleranc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29782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ing in AP-23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91920" y="831960"/>
            <a:ext cx="7746840" cy="74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plan pane shows the faces machined by each tool p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2840" y="1746360"/>
            <a:ext cx="6176880" cy="4500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4176720"/>
            <a:ext cx="2892600" cy="677160"/>
          </a:xfrm>
          <a:prstGeom prst="wedgeEllipseCallout">
            <a:avLst>
              <a:gd name="adj1" fmla="val 23041"/>
              <a:gd name="adj2" fmla="val -206958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ingstep one selec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37120" y="2271600"/>
            <a:ext cx="2892600" cy="677160"/>
          </a:xfrm>
          <a:prstGeom prst="wedgeEllipseCallout">
            <a:avLst>
              <a:gd name="adj1" fmla="val -85662"/>
              <a:gd name="adj2" fmla="val 112962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tting tool for workingstep 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37120" y="3473640"/>
            <a:ext cx="2892600" cy="405000"/>
          </a:xfrm>
          <a:prstGeom prst="wedgeEllipseCallout">
            <a:avLst>
              <a:gd name="adj1" fmla="val -68328"/>
              <a:gd name="adj2" fmla="val 9990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ce being mach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36520" y="1670040"/>
            <a:ext cx="6710400" cy="4889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80972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offse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93920" y="5091120"/>
            <a:ext cx="2892600" cy="677160"/>
          </a:xfrm>
          <a:prstGeom prst="wedgeEllipseCallout">
            <a:avLst>
              <a:gd name="adj1" fmla="val -93949"/>
              <a:gd name="adj2" fmla="val -115564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 T2 affects one linear tolera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3480" y="2678040"/>
            <a:ext cx="2892240" cy="677160"/>
          </a:xfrm>
          <a:prstGeom prst="wedgeEllipseCallout">
            <a:avLst>
              <a:gd name="adj1" fmla="val -85615"/>
              <a:gd name="adj2" fmla="val -34541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 T1 affects two linear toleranc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2280" y="831960"/>
            <a:ext cx="774684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ool property pane shows the tool wear compensation values programmed for each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6925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ing the toler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91920" y="983880"/>
            <a:ext cx="7746840" cy="14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ance tolerance measures can be stack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an correct the depths of face 1 and face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need to make both faces in toler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need to correct face 1 then face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79520" y="3692520"/>
            <a:ext cx="4419720" cy="1447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98640" y="369252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0680" y="3962520"/>
            <a:ext cx="14061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 +0.1 -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1120" y="4226040"/>
            <a:ext cx="1600200" cy="15228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1120" y="3692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51320" y="3692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82080" y="3844800"/>
            <a:ext cx="1532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+0.05 -0.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79920" y="369252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0600" y="3692520"/>
            <a:ext cx="601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08320" y="4378320"/>
            <a:ext cx="0" cy="76212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94120" y="4378320"/>
            <a:ext cx="0" cy="76212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09400" y="4835520"/>
            <a:ext cx="651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26160" y="3692520"/>
            <a:ext cx="10188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47120" y="2654280"/>
            <a:ext cx="2552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d fac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936760" y="3041640"/>
            <a:ext cx="2286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48160" y="5364000"/>
            <a:ext cx="2552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d fac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041640" y="4413240"/>
            <a:ext cx="76212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51847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– 1 Associate faces to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46360" y="1136520"/>
            <a:ext cx="6329160" cy="5013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6160" y="4726800"/>
            <a:ext cx="2892240" cy="949320"/>
          </a:xfrm>
          <a:prstGeom prst="wedgeEllipseCallout">
            <a:avLst>
              <a:gd name="adj1" fmla="val 29412"/>
              <a:gd name="adj2" fmla="val -128125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gorithm finds closest faces using path geomet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6160" y="2195640"/>
            <a:ext cx="3200400" cy="677160"/>
          </a:xfrm>
          <a:prstGeom prst="wedgeEllipseCallout">
            <a:avLst>
              <a:gd name="adj1" fmla="val 6537"/>
              <a:gd name="adj2" fmla="val -154726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 system writes face data to STEP-NC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38800" y="4845240"/>
            <a:ext cx="2892600" cy="405000"/>
          </a:xfrm>
          <a:prstGeom prst="wedgeEllipseCallout">
            <a:avLst>
              <a:gd name="adj1" fmla="val -56578"/>
              <a:gd name="adj2" fmla="val -225041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 user pick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54864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Associate tolerances to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58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31960" y="984240"/>
            <a:ext cx="7014960" cy="5557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346560" y="1814400"/>
            <a:ext cx="2892240" cy="677160"/>
          </a:xfrm>
          <a:prstGeom prst="wedgeEllipseCallout">
            <a:avLst>
              <a:gd name="adj1" fmla="val -78148"/>
              <a:gd name="adj2" fmla="val 78476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 1 machines one face of this tole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98840" y="2728800"/>
            <a:ext cx="3429000" cy="677160"/>
          </a:xfrm>
          <a:prstGeom prst="wedgeEllipseCallout">
            <a:avLst>
              <a:gd name="adj1" fmla="val -79527"/>
              <a:gd name="adj2" fmla="val 15138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Tool 1 machines one face of this tole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78400" y="3592440"/>
            <a:ext cx="3579480" cy="677160"/>
          </a:xfrm>
          <a:prstGeom prst="wedgeEllipseCallout">
            <a:avLst>
              <a:gd name="adj1" fmla="val -82467"/>
              <a:gd name="adj2" fmla="val -75078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Tool 2 machines the other face of this tole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5062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Tolerances affected by each to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58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12840" y="1189080"/>
            <a:ext cx="6558120" cy="5195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959280" y="2344320"/>
            <a:ext cx="4568760" cy="835200"/>
          </a:xfrm>
          <a:prstGeom prst="wedgeEllipseCallout">
            <a:avLst>
              <a:gd name="adj1" fmla="val -73995"/>
              <a:gd name="adj2" fmla="val 52842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ear distance 18 +0.1 – 0.2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asured value = 20m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27440" y="3514320"/>
            <a:ext cx="4568760" cy="835200"/>
          </a:xfrm>
          <a:prstGeom prst="wedgeEllipseCallout">
            <a:avLst>
              <a:gd name="adj1" fmla="val -69898"/>
              <a:gd name="adj2" fmla="val -56634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ear distance 5 +0.05 – 0.01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asured value = 4m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5053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Corrections to offs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58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12840" y="1189080"/>
            <a:ext cx="6558120" cy="5195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59280" y="2424240"/>
            <a:ext cx="3578040" cy="677160"/>
          </a:xfrm>
          <a:prstGeom prst="wedgeEllipseCallout">
            <a:avLst>
              <a:gd name="adj1" fmla="val -82162"/>
              <a:gd name="adj2" fmla="val -2393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rection of 2mm fixes the 18 (20mm) e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27440" y="3594240"/>
            <a:ext cx="4568760" cy="677160"/>
          </a:xfrm>
          <a:prstGeom prst="wedgeEllipseCallout">
            <a:avLst>
              <a:gd name="adj1" fmla="val -70388"/>
              <a:gd name="adj2" fmla="val 98138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rection of 3mm fixes the 18 (20) mm error and the 5 (4) mm er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7:13:02Z</dcterms:created>
  <dc:creator>Dave Loffredo</dc:creator>
  <dc:description/>
  <cp:keywords/>
  <dc:language>en-US</dc:language>
  <cp:lastModifiedBy>Martin Hardwick</cp:lastModifiedBy>
  <dcterms:modified xsi:type="dcterms:W3CDTF">2008-02-27T23:28:04Z</dcterms:modified>
  <cp:revision>24</cp:revision>
  <dc:subject>STEP-NC Explorer</dc:subject>
  <dc:title>Making and Viewing Tolerances</dc:title>
</cp:coreProperties>
</file>