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4ADD-05A1-4DD3-B2AF-ED079A56D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41320" y="306360"/>
            <a:ext cx="5176800" cy="3882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C does not define any application item tag names , e . g . Axis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 oriented or hierarchical naming using slash or period  Axis.Label, et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ing a limited number of import/export file formats with broad industry support has been deemed preferable to having a separate language to describe formatting and analysis of the data. The None format allows data logging without physical file saving to allow monitoring for potential machine fa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8764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8764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8764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7276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7276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8764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8764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8764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3792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472760"/>
            <a:ext cx="3792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3520" y="367920"/>
            <a:ext cx="69217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472760"/>
            <a:ext cx="3792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88764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3792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88764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8764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88764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8764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88764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47276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47276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88764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88764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887640"/>
            <a:ext cx="250236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3792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72760"/>
            <a:ext cx="3792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367920"/>
            <a:ext cx="69217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72760"/>
            <a:ext cx="3792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8764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37926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8764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357840"/>
            <a:ext cx="6921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72760"/>
            <a:ext cx="3792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8764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367920"/>
            <a:ext cx="6921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4008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Garamond"/>
              </a:rPr>
              <a:t>NIST  •  Manufacturing Engineering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1744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81080" y="162000"/>
            <a:ext cx="134136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64008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Garamond"/>
              </a:rPr>
              <a:t>NIST  •  Manufacturing Engineering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8160" y="1525320"/>
            <a:ext cx="693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EP-NC Traceability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ilot Projec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60440" y="309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red Proctor, Mike McGlauflin and John Michaloski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IST Manufacturing Engineering Laboratory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367920"/>
            <a:ext cx="6921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PC-CNC Synchroniz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thod 2 used for this pilot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 built an OPC client in C++ that listens to CNC and reads out tagged dat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emens 840D NC code call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SG(OpenLogging(…)) to set up the OPC cli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SG(StartLogging) tells OPC client to begi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C code continues with machining, while OPC client logs the data according the configuration fil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lo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44920" y="307800"/>
            <a:ext cx="7005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dle power log plot, showing spikes in some co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log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99800" y="307800"/>
            <a:ext cx="581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dle power log plot, subset with clea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multiplotlag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91040" y="307800"/>
            <a:ext cx="4649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 path deviation and spindle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5360" y="1486080"/>
            <a:ext cx="8058240" cy="515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76240" y="216000"/>
            <a:ext cx="73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, OLE for Process Control (OPC) has emerged as a leading worldwide specification in enabling connectivity and interoperability of factory floor equi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367920"/>
            <a:ext cx="6921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NC OPC Tag Naming &amp; Mapp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5680"/>
            <a:ext cx="77724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C does not define any application item tag nam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MAC HMI Working Group has defined a list of CNC-related OPC tag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bject orientation is attained by a tag naming strategy – using slash or period – Axis.Label, Axis.Position  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rison of Commercial CNC OPC tag collections has been done at NIST against OMAC tag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some gaps which we hope to identify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31640" y="4727520"/>
          <a:ext cx="896652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727520"/>
                    <a:ext cx="896652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67920"/>
            <a:ext cx="6921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ata Logging Virtual Machin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predominant CNC machine tool programming language is RS274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st CNCs have their own programming language extension to RS274, known as User Macros or Subprograms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bprograms and Macros provide a layer of programming abstraction on top of the CNC, acting as a Virtual Machi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 Data Logging virtual machine will be specified as a set of subprogram calls that are implemented in the native CNC RS274 dialec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67920"/>
            <a:ext cx="6921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ata Logging Proces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NC with an OPC server provides OPC tagged dat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Logging OPC client is a separate application running in the background of the CNC computer or a remote computer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You specify a Data list that you wish to collect from the CNC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en one or more values change in the data list, the CNC OPC server will notify the OPC Client of the changes and the OPC Client can read these value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3080" y="4394160"/>
            <a:ext cx="86104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367920"/>
            <a:ext cx="6921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ata Logging Proces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Data Handler component manipulates the data according to a given configura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 a more concise data, configure the options of the data collection by defining a Filter. The default filter is to log all the data items whenever one change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Formatter provides support for saving the log to a Destination, such as Persistent Data Store, in some common data collection and analysis format. Typical formats include None, Text, Comma Separated Values (CSV), XML, or databas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Data Analysis can generate reports, fine tune or troubleshoot machining performance, analyze trends, or tie-in directly to the CNC and provide safeguarding machining operations – such as machine halting or feed rate override.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67920"/>
            <a:ext cx="6921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ethod 1: Explicit Nam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dDataItem(NAME , FILTERTYPE, value1 {, value2}) is implemented in the CNC Virtual Machine as a subprogram or macro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AME is one of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xi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xisLoad, SpindlePower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mdFeedrate, ActualFeedrat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mdSpindleSpeed, ActualSpindleSpeed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te, Mode, ProgramName, Block, LineNumber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ILTERTYPE is one of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adband: logs only if changes between values is greater than value1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hreshold: logs only if abs(value) &gt; value1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ange: logs if value is in [value1 , value2] rang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pendent: unmonitored, logs only if other values chang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quality: supervisory, logs only if value equals value1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equality: supervisory, logs only if value not equal to value1 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367920"/>
            <a:ext cx="6921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ethod 1: Explicit Nam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rtLogging(TYPE, FILENAME)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YPE defines the type of archival destination for the captured data, either NONE, TXT or CSV (text files), or DB (data base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LENAME defines the archival destination file name or other appropriate identifier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lem here is enumerating list of all potential data items. Possible solutions: use categories of data logging, such as axis position, axis dynamics, axis servo, progra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367920"/>
            <a:ext cx="6921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ethod 2: Deleg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Logging(TYPE, FILE, DATA, FILTER) references files that contain the explicit dat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YPE is one of NONE, TXT, CSV or D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LE is the destination file or identifier nam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is the file specifying the data to be captur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LTER is the file specifying the filter to be applie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Logging(“CSV”, “PartA”, “DataItems”,  “”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ssociated Start,Stop,CloseLogging() macr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4:11:35Z</dcterms:created>
  <dc:creator>Fred Proctor</dc:creator>
  <dc:description/>
  <dc:language>en-US</dc:language>
  <cp:lastModifiedBy>proctor</cp:lastModifiedBy>
  <dcterms:modified xsi:type="dcterms:W3CDTF">2008-03-06T18:43:53Z</dcterms:modified>
  <cp:revision>150</cp:revision>
  <dc:subject/>
  <dc:title>IOAC and PPE FY02 Program Plans</dc:title>
</cp:coreProperties>
</file>