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681120" y="6553080"/>
            <a:ext cx="77817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3657600"/>
                <a:tab algn="l" pos="7315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O TC184/SC4/WG3 Irving N000 2007-10-2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fld id="{8B94FFB0-2D44-4E43-B322-F34F9B75F7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" name="Object 9"/>
          <p:cNvGraphicFramePr/>
          <p:nvPr/>
        </p:nvGraphicFramePr>
        <p:xfrm>
          <a:off x="0" y="0"/>
          <a:ext cx="971640" cy="958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71640" cy="9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T24 – STEP-Manufacturing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am lea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tin Hardwi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dwick@steptools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u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iaki Sakamo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iaki_sakamoto@paw.hi-ho.ne.j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T24 – STEP-Manufacturing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omplishments since Ir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ssion of tool path data using via poi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ration of machining operations and tolerances for closed loop mach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-203 E2 to AP-238 data ex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T24 – STEP-Manufacturing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s for Sweden 2008-03-10 to 2008-03-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3-10: Speed – feed optim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3-11: Mold and Die, Trace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3-12: Closed loop mach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T24 – STEP-Manufacturing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s for 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-Manufacturing plans to meet in South Africa and Ko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erald Radack</dc:creator>
  <dc:description/>
  <dc:language>en-US</dc:language>
  <cp:lastModifiedBy>Martin Hardwick</cp:lastModifiedBy>
  <cp:lastPrinted>1999-06-02T13:49:47Z</cp:lastPrinted>
  <dcterms:modified xsi:type="dcterms:W3CDTF">2008-02-27T13:23:35Z</dcterms:modified>
  <cp:revision>157</cp:revision>
  <dc:subject/>
  <dc:title>WG3 Presentation to SC4 Opening Plenary</dc:title>
</cp:coreProperties>
</file>