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DA7D-2C54-4C0C-92BD-0DD8A255C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8DDA-C623-458D-ADCF-6EBB5302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2C3C-6E69-4CB0-BC74-88F0D36ED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57DA-5FB3-47C7-B85F-481136A4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6A0A-9918-4D90-847B-0EE00A65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63B8-F130-4F31-AC87-FD70C239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DF5B-18F9-4847-9EA6-D99EC769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3F33-1517-4933-A754-FC13FF0C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DFA8-CCE2-4EAD-80DB-979E8697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0B0E-E7B5-4965-8A23-6FE62CD3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0624-39A4-4469-931A-2681BC81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C539-BEFB-4EF5-B9E5-F4A0D9D2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725D-165B-421E-97C5-0EAB47D59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000" y="1739880"/>
            <a:ext cx="856440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meterization of the Cross-Sectional Area in Milling Opera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Draft, Rev 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on 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eing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10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oss-Sectional Area of Fish Head (Tool #1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822240" y="1600200"/>
          <a:ext cx="749772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1600200"/>
                    <a:ext cx="74977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of Digitized Cross-Sectional A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1880" y="1700280"/>
            <a:ext cx="81439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0  0  0  0  0  0  0  0  0  0  0  0  0  0  0  0  0  0  0  0  0  0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0  0  0  0  0  0  0  0  0  0  0  0  0  0  0  0  0  0  0  1  1  1 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0  0  0  0  0  0  0  0  0  0  0  0  0  0  0  0  0  1  1  1  1  1 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0  0  0  0  0  0  0  0  0  0  0  0  0  1 -1  1  1  1  1  1  1  1 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0  0  0  0  0  0  0  0  0  0  0  1  1  1  1  1  1  1  1  1  1  1 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0  0  0  0  0  0  0  0  0  0  0  1  1  1  1  1  1  1  1  1  1  1 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0  0  0  0  0  0  0  0  0  0  0  1  1  1  1  1  1  1  1  1  1  1 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0  0  0  0  0  0  0  0  0  0  1  1  1  1  1  1  1  1  1  1  1  1 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0  0  0  0  0  0  0  0  0  0  1  1  1  1  1  1  1  1 -1  1  1  1 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0  0  0  0  0  0  0  0  0  0  1  1  1  1  1  1  1  1  1  1  1  1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0  0  0  0  0  0  0  0  0  1  1  1  1  1  1  1  1  1  1  1  1  1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0  0  0  0  0  0  0  0  0  1  1  1  1  1 -1  1  1  1  1  1  1  1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0  0  0  0  0  0  0  0  1  1  1  1  1  1  1  1  1  1  1  1  1  0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0  0  0  0  0  0  0  0  1  1  1  1  1  1  1  1  1  1  1  1  1  0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0  0  0  0  0  0  0  1  1  1 -1  1  1  1  1  1  1  1  1  1  0  0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0  0  0  0  0  0  1  1  1  1  1  1  1  1  1  1  1  1  1  1  0  0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0  0  0  0  0  0  1  1  1  1  1  1  1  1  1  1  1  1 -1  0  0  0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0  0  0  0  0  1 -1  1  1  1  1  1  1  1  1  1  1  1  0  0  0  0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0  0  0  0  1  1  1  1  1  1  1  1  1  1  1  1  1  0  0  0  0  0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0  0  0  1  1  1  1  1  1  1  1  1  1  1 -1  1  1  0  0  0  0  0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0  0 -1  1  1  1  1  1  1  1  1  1  1  1  1  1  0  0  0  0  0  0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0  1  1  1  1  1  1  1  1  1  1  1  1  1  1  1  0  0  0  0  0  0  0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0  0  1  1  1  1  1  1  1  1  1  1  1 -1  1  1  0  0  0  0  0  0  0  0  0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0  0  0  1 -1  1  1  1  1  1  1  1  1  1  1  1  1  1  0  0  0  0  0  0  0  0  0  0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0  1  1  1  1  1  1  1  1  1  1  1  1  1  1  1  1  0  0  0  0  0  0  0  0  0  0  0  0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1  1  1  1  1  1  1  1  1  1  1  1  1  1  1 -1  1  0  0  0  0  0  0  0  0  0  0  0  0  0  0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1  1  1 -1  1  1  1  1  1  1  1  1  1  1  1  0  0  0  0  0  0  0  0  0  0  0  0  0  0  0  0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  0  0  0  0  0  0  0  0  0  0  0  0  0  0  0  0  0  0  0  0  0  1  1  1  1  1  1  1  1  0  0  0  0  0  0  0  0  0  0  0  0  0  0  0  0  0  0  0  0  0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7760" y="274320"/>
            <a:ext cx="856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ed Parameters for Cross-Sectional Area in Milling Op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5520" y="2238480"/>
            <a:ext cx="8794800" cy="39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aximum Axial Dep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aximum Radial Dep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 Offse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X Offset of Maximum AD/RD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 Offse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Y Offset of Maximum AD/RD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v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verage Radial Dep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RD av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X Offset of Average Radial Dep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ximum Radial and Axial Dept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38360" y="1306440"/>
            <a:ext cx="5792400" cy="5233680"/>
            <a:chOff x="738360" y="1306440"/>
            <a:chExt cx="5792400" cy="5233680"/>
          </a:xfrm>
        </p:grpSpPr>
        <p:sp>
          <p:nvSpPr>
            <p:cNvPr id="50" name=""/>
            <p:cNvSpPr/>
            <p:nvPr/>
          </p:nvSpPr>
          <p:spPr>
            <a:xfrm>
              <a:off x="1958040" y="1335240"/>
              <a:ext cx="3352680" cy="5204880"/>
            </a:xfrm>
            <a:custGeom>
              <a:avLst/>
              <a:gdLst>
                <a:gd name="textAreaLeft" fmla="*/ 345600 w 3352680"/>
                <a:gd name="textAreaRight" fmla="*/ 3007080 w 3352680"/>
                <a:gd name="textAreaTop" fmla="*/ 345600 h 5204880"/>
                <a:gd name="textAreaBottom" fmla="*/ 4859280 h 5204880"/>
              </a:gdLst>
              <a:ahLst/>
              <a:rect l="textAreaLeft" t="textAreaTop" r="textAreaRight" b="textAreaBottom"/>
              <a:pathLst>
                <a:path w="21600" h="33532">
                  <a:moveTo>
                    <a:pt x="7607" y="0"/>
                  </a:moveTo>
                  <a:arcTo wR="7607" hR="7607" stAng="16200000" swAng="-5400000"/>
                  <a:lnTo>
                    <a:pt x="0" y="25925"/>
                  </a:lnTo>
                  <a:arcTo wR="7607" hR="7607" stAng="10800000" swAng="-5400000"/>
                  <a:lnTo>
                    <a:pt x="13993" y="33532"/>
                  </a:lnTo>
                  <a:arcTo wR="7607" hR="7607" stAng="5400000" swAng="-5400000"/>
                  <a:lnTo>
                    <a:pt x="21600" y="7607"/>
                  </a:lnTo>
                  <a:arcTo wR="7607" hR="7607" stAng="0" swAng="-5400000"/>
                  <a:close/>
                </a:path>
              </a:pathLst>
            </a:custGeom>
            <a:solidFill>
              <a:srgbClr val="ffff99">
                <a:alpha val="6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8360" y="1306440"/>
              <a:ext cx="5792400" cy="1419480"/>
            </a:xfrm>
            <a:custGeom>
              <a:avLst/>
              <a:gdLst>
                <a:gd name="textAreaLeft" fmla="*/ 860760 w 5792400"/>
                <a:gd name="textAreaRight" fmla="*/ 4931640 w 5792400"/>
                <a:gd name="textAreaTop" fmla="*/ 210960 h 1419480"/>
                <a:gd name="textAreaBottom" fmla="*/ 1208520 h 141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72" y="21600"/>
                  </a:lnTo>
                  <a:lnTo>
                    <a:pt x="2628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V="1">
            <a:off x="1960560" y="2928960"/>
            <a:ext cx="0" cy="3649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60560" y="6543360"/>
            <a:ext cx="4032360" cy="34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2836400">
            <a:off x="3482640" y="3820680"/>
            <a:ext cx="1266840" cy="180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035160" y="3083040"/>
            <a:ext cx="2572920" cy="2342160"/>
            <a:chOff x="3035160" y="3083040"/>
            <a:chExt cx="2572920" cy="2342160"/>
          </a:xfrm>
        </p:grpSpPr>
        <p:sp>
          <p:nvSpPr>
            <p:cNvPr id="56" name=""/>
            <p:cNvSpPr/>
            <p:nvPr/>
          </p:nvSpPr>
          <p:spPr>
            <a:xfrm flipV="1">
              <a:off x="3035160" y="3083040"/>
              <a:ext cx="0" cy="231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035160" y="5402880"/>
              <a:ext cx="2572920" cy="22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3035160" y="5388120"/>
            <a:ext cx="0" cy="1190520"/>
          </a:xfrm>
          <a:prstGeom prst="line">
            <a:avLst/>
          </a:prstGeom>
          <a:ln w="25560">
            <a:solidFill>
              <a:srgbClr val="0000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73320" y="3621240"/>
            <a:ext cx="19987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56120" y="3621240"/>
            <a:ext cx="0" cy="1766880"/>
          </a:xfrm>
          <a:prstGeom prst="line">
            <a:avLst/>
          </a:prstGeom>
          <a:ln w="25560">
            <a:solidFill>
              <a:srgbClr val="0000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35160" y="3390840"/>
            <a:ext cx="1729080" cy="0"/>
          </a:xfrm>
          <a:prstGeom prst="line">
            <a:avLst/>
          </a:prstGeom>
          <a:ln w="25560">
            <a:solidFill>
              <a:srgbClr val="0000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764240" y="3198600"/>
            <a:ext cx="0" cy="21891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22400" y="5425920"/>
            <a:ext cx="1150920" cy="0"/>
          </a:xfrm>
          <a:prstGeom prst="line">
            <a:avLst/>
          </a:prstGeom>
          <a:ln w="25560">
            <a:solidFill>
              <a:srgbClr val="0000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880" y="1123920"/>
            <a:ext cx="5799240" cy="192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32440" y="4197240"/>
            <a:ext cx="1128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97400" y="3006720"/>
            <a:ext cx="1128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12920" y="5925960"/>
            <a:ext cx="112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4720" y="6002280"/>
            <a:ext cx="13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 (0,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60560" y="5003640"/>
            <a:ext cx="1128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12920" y="5464080"/>
            <a:ext cx="112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40640" y="6156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40080" y="2890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08800" y="5388120"/>
            <a:ext cx="1128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59160" y="3006720"/>
            <a:ext cx="1128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24320" y="1892160"/>
            <a:ext cx="380880" cy="381240"/>
          </a:xfrm>
          <a:prstGeom prst="flowChartSummingJunction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85480" y="18162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30520" y="1635120"/>
            <a:ext cx="341784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crete Radial Depths and Mid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38360" y="1306440"/>
            <a:ext cx="5792400" cy="5233680"/>
            <a:chOff x="738360" y="1306440"/>
            <a:chExt cx="5792400" cy="5233680"/>
          </a:xfrm>
        </p:grpSpPr>
        <p:sp>
          <p:nvSpPr>
            <p:cNvPr id="81" name=""/>
            <p:cNvSpPr/>
            <p:nvPr/>
          </p:nvSpPr>
          <p:spPr>
            <a:xfrm>
              <a:off x="1958040" y="1335240"/>
              <a:ext cx="3352680" cy="5204880"/>
            </a:xfrm>
            <a:custGeom>
              <a:avLst/>
              <a:gdLst>
                <a:gd name="textAreaLeft" fmla="*/ 345600 w 3352680"/>
                <a:gd name="textAreaRight" fmla="*/ 3007080 w 3352680"/>
                <a:gd name="textAreaTop" fmla="*/ 345600 h 5204880"/>
                <a:gd name="textAreaBottom" fmla="*/ 4859280 h 5204880"/>
              </a:gdLst>
              <a:ahLst/>
              <a:rect l="textAreaLeft" t="textAreaTop" r="textAreaRight" b="textAreaBottom"/>
              <a:pathLst>
                <a:path w="21600" h="33532">
                  <a:moveTo>
                    <a:pt x="7607" y="0"/>
                  </a:moveTo>
                  <a:arcTo wR="7607" hR="7607" stAng="16200000" swAng="-5400000"/>
                  <a:lnTo>
                    <a:pt x="0" y="25925"/>
                  </a:lnTo>
                  <a:arcTo wR="7607" hR="7607" stAng="10800000" swAng="-5400000"/>
                  <a:lnTo>
                    <a:pt x="13993" y="33532"/>
                  </a:lnTo>
                  <a:arcTo wR="7607" hR="7607" stAng="5400000" swAng="-5400000"/>
                  <a:lnTo>
                    <a:pt x="21600" y="7607"/>
                  </a:lnTo>
                  <a:arcTo wR="7607" hR="7607" stAng="0" swAng="-5400000"/>
                  <a:close/>
                </a:path>
              </a:pathLst>
            </a:custGeom>
            <a:solidFill>
              <a:srgbClr val="ffff99">
                <a:alpha val="6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8360" y="1306440"/>
              <a:ext cx="5792400" cy="1419480"/>
            </a:xfrm>
            <a:custGeom>
              <a:avLst/>
              <a:gdLst>
                <a:gd name="textAreaLeft" fmla="*/ 860760 w 5792400"/>
                <a:gd name="textAreaRight" fmla="*/ 4931640 w 5792400"/>
                <a:gd name="textAreaTop" fmla="*/ 210960 h 1419480"/>
                <a:gd name="textAreaBottom" fmla="*/ 1208520 h 141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72" y="21600"/>
                  </a:lnTo>
                  <a:lnTo>
                    <a:pt x="2628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 flipV="1">
            <a:off x="1960560" y="2928960"/>
            <a:ext cx="0" cy="3649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960560" y="6543360"/>
            <a:ext cx="4032360" cy="34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2836400">
            <a:off x="3482640" y="3820680"/>
            <a:ext cx="1266840" cy="180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1880" y="1123920"/>
            <a:ext cx="5799240" cy="192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73360" y="5272200"/>
            <a:ext cx="844560" cy="115920"/>
          </a:xfrm>
          <a:prstGeom prst="rect">
            <a:avLst/>
          </a:prstGeom>
          <a:solidFill>
            <a:srgbClr val="3366ff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24320" y="1892160"/>
            <a:ext cx="380880" cy="381240"/>
          </a:xfrm>
          <a:prstGeom prst="flowChartSummingJunction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5480" y="18162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4720" y="6002280"/>
            <a:ext cx="13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 (0,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89280" y="2852640"/>
            <a:ext cx="1535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R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40640" y="6156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40080" y="2890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41920" y="3390840"/>
            <a:ext cx="730080" cy="0"/>
          </a:xfrm>
          <a:prstGeom prst="line">
            <a:avLst/>
          </a:prstGeom>
          <a:ln w="25560">
            <a:solidFill>
              <a:srgbClr val="0000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841920" y="3198960"/>
            <a:ext cx="0" cy="3823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533840" y="3198960"/>
            <a:ext cx="0" cy="3823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11560" y="4695840"/>
            <a:ext cx="652680" cy="115920"/>
          </a:xfrm>
          <a:prstGeom prst="rect">
            <a:avLst/>
          </a:prstGeom>
          <a:solidFill>
            <a:srgbClr val="3366ff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65600" y="4927680"/>
            <a:ext cx="922320" cy="114120"/>
          </a:xfrm>
          <a:prstGeom prst="rect">
            <a:avLst/>
          </a:prstGeom>
          <a:solidFill>
            <a:srgbClr val="3366ff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05160" y="5157720"/>
            <a:ext cx="1190520" cy="115920"/>
          </a:xfrm>
          <a:prstGeom prst="rect">
            <a:avLst/>
          </a:prstGeom>
          <a:solidFill>
            <a:srgbClr val="3366ff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95640" y="4811760"/>
            <a:ext cx="730440" cy="115920"/>
          </a:xfrm>
          <a:prstGeom prst="rect">
            <a:avLst/>
          </a:prstGeom>
          <a:solidFill>
            <a:srgbClr val="3366ff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73320" y="5041800"/>
            <a:ext cx="1575000" cy="115920"/>
          </a:xfrm>
          <a:prstGeom prst="rect">
            <a:avLst/>
          </a:prstGeom>
          <a:solidFill>
            <a:srgbClr val="3366ff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26040" y="4005360"/>
            <a:ext cx="345960" cy="115920"/>
          </a:xfrm>
          <a:prstGeom prst="rect">
            <a:avLst/>
          </a:prstGeom>
          <a:solidFill>
            <a:srgbClr val="3366ff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64200" y="4235400"/>
            <a:ext cx="384120" cy="115920"/>
          </a:xfrm>
          <a:prstGeom prst="rect">
            <a:avLst/>
          </a:prstGeom>
          <a:solidFill>
            <a:srgbClr val="3366ff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64200" y="4351320"/>
            <a:ext cx="461880" cy="115920"/>
          </a:xfrm>
          <a:prstGeom prst="rect">
            <a:avLst/>
          </a:prstGeom>
          <a:solidFill>
            <a:srgbClr val="3366ff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87880" y="4465800"/>
            <a:ext cx="538200" cy="115560"/>
          </a:xfrm>
          <a:prstGeom prst="rect">
            <a:avLst/>
          </a:prstGeom>
          <a:solidFill>
            <a:srgbClr val="3366ff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49720" y="4581360"/>
            <a:ext cx="614520" cy="115920"/>
          </a:xfrm>
          <a:prstGeom prst="rect">
            <a:avLst/>
          </a:prstGeom>
          <a:solidFill>
            <a:srgbClr val="3366ff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26040" y="3889440"/>
            <a:ext cx="230040" cy="115920"/>
          </a:xfrm>
          <a:prstGeom prst="rect">
            <a:avLst/>
          </a:prstGeom>
          <a:solidFill>
            <a:srgbClr val="3366ff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87880" y="3774960"/>
            <a:ext cx="191880" cy="115920"/>
          </a:xfrm>
          <a:prstGeom prst="rect">
            <a:avLst/>
          </a:prstGeom>
          <a:solidFill>
            <a:srgbClr val="3366ff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11560" y="3659040"/>
            <a:ext cx="152640" cy="115920"/>
          </a:xfrm>
          <a:prstGeom prst="rect">
            <a:avLst/>
          </a:prstGeom>
          <a:solidFill>
            <a:srgbClr val="3366ff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4200" y="4119480"/>
            <a:ext cx="345960" cy="115920"/>
          </a:xfrm>
          <a:prstGeom prst="rect">
            <a:avLst/>
          </a:prstGeom>
          <a:solidFill>
            <a:srgbClr val="3366ff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71960" y="3544920"/>
            <a:ext cx="77760" cy="115920"/>
          </a:xfrm>
          <a:prstGeom prst="rect">
            <a:avLst/>
          </a:prstGeom>
          <a:solidFill>
            <a:srgbClr val="3366ff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11560" y="354492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87880" y="365904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03800" y="377496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1960" y="388944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79760" y="400536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17920" y="411948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56080" y="423540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435132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56080" y="4465800"/>
            <a:ext cx="0" cy="11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56080" y="458136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469584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41960" y="481176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26040" y="492768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19680" y="504180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81520" y="515772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95640" y="527220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60560" y="4389480"/>
            <a:ext cx="2535120" cy="0"/>
          </a:xfrm>
          <a:prstGeom prst="line">
            <a:avLst/>
          </a:prstGeom>
          <a:ln w="25560">
            <a:solidFill>
              <a:srgbClr val="0000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82840" y="3889440"/>
            <a:ext cx="1535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D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D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31840" y="-360"/>
            <a:ext cx="860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erage Radial Depth and Mid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38360" y="1306440"/>
            <a:ext cx="5792400" cy="5233680"/>
            <a:chOff x="738360" y="1306440"/>
            <a:chExt cx="5792400" cy="5233680"/>
          </a:xfrm>
        </p:grpSpPr>
        <p:sp>
          <p:nvSpPr>
            <p:cNvPr id="132" name=""/>
            <p:cNvSpPr/>
            <p:nvPr/>
          </p:nvSpPr>
          <p:spPr>
            <a:xfrm>
              <a:off x="1958040" y="1335240"/>
              <a:ext cx="3352680" cy="5204880"/>
            </a:xfrm>
            <a:custGeom>
              <a:avLst/>
              <a:gdLst>
                <a:gd name="textAreaLeft" fmla="*/ 345600 w 3352680"/>
                <a:gd name="textAreaRight" fmla="*/ 3007080 w 3352680"/>
                <a:gd name="textAreaTop" fmla="*/ 345600 h 5204880"/>
                <a:gd name="textAreaBottom" fmla="*/ 4859280 h 5204880"/>
              </a:gdLst>
              <a:ahLst/>
              <a:rect l="textAreaLeft" t="textAreaTop" r="textAreaRight" b="textAreaBottom"/>
              <a:pathLst>
                <a:path w="21600" h="33532">
                  <a:moveTo>
                    <a:pt x="7607" y="0"/>
                  </a:moveTo>
                  <a:arcTo wR="7607" hR="7607" stAng="16200000" swAng="-5400000"/>
                  <a:lnTo>
                    <a:pt x="0" y="25925"/>
                  </a:lnTo>
                  <a:arcTo wR="7607" hR="7607" stAng="10800000" swAng="-5400000"/>
                  <a:lnTo>
                    <a:pt x="13993" y="33532"/>
                  </a:lnTo>
                  <a:arcTo wR="7607" hR="7607" stAng="5400000" swAng="-5400000"/>
                  <a:lnTo>
                    <a:pt x="21600" y="7607"/>
                  </a:lnTo>
                  <a:arcTo wR="7607" hR="7607" stAng="0" swAng="-5400000"/>
                  <a:close/>
                </a:path>
              </a:pathLst>
            </a:custGeom>
            <a:solidFill>
              <a:srgbClr val="ffff99">
                <a:alpha val="6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8360" y="1306440"/>
              <a:ext cx="5792400" cy="1419480"/>
            </a:xfrm>
            <a:custGeom>
              <a:avLst/>
              <a:gdLst>
                <a:gd name="textAreaLeft" fmla="*/ 860760 w 5792400"/>
                <a:gd name="textAreaRight" fmla="*/ 4931640 w 5792400"/>
                <a:gd name="textAreaTop" fmla="*/ 210960 h 1419480"/>
                <a:gd name="textAreaBottom" fmla="*/ 1208520 h 141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72" y="21600"/>
                  </a:lnTo>
                  <a:lnTo>
                    <a:pt x="2628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flipV="1">
            <a:off x="1960560" y="2928960"/>
            <a:ext cx="0" cy="3649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960560" y="6543360"/>
            <a:ext cx="4032360" cy="34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2836400">
            <a:off x="3482640" y="3820680"/>
            <a:ext cx="1266840" cy="180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1880" y="1123920"/>
            <a:ext cx="5799240" cy="192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41920" y="3621240"/>
            <a:ext cx="691920" cy="1766880"/>
          </a:xfrm>
          <a:prstGeom prst="rect">
            <a:avLst/>
          </a:prstGeom>
          <a:solidFill>
            <a:srgbClr val="3366ff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60560" y="4543560"/>
            <a:ext cx="2227320" cy="0"/>
          </a:xfrm>
          <a:prstGeom prst="line">
            <a:avLst/>
          </a:prstGeom>
          <a:ln w="25560">
            <a:solidFill>
              <a:srgbClr val="0000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24320" y="1892160"/>
            <a:ext cx="380880" cy="381240"/>
          </a:xfrm>
          <a:prstGeom prst="flowChartSummingJunction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5480" y="18162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4720" y="6002280"/>
            <a:ext cx="13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 (0,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66920" y="4119480"/>
            <a:ext cx="1128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D Av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40640" y="6156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40080" y="2890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41920" y="3390840"/>
            <a:ext cx="730080" cy="0"/>
          </a:xfrm>
          <a:prstGeom prst="line">
            <a:avLst/>
          </a:prstGeom>
          <a:ln w="25560">
            <a:solidFill>
              <a:srgbClr val="0000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841920" y="3198960"/>
            <a:ext cx="0" cy="3823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3760" y="2852640"/>
            <a:ext cx="1128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v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533840" y="3198960"/>
            <a:ext cx="0" cy="3823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87880" y="3621240"/>
            <a:ext cx="0" cy="17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62480" y="3083040"/>
            <a:ext cx="372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v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(R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R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…+ R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/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62480" y="3697200"/>
            <a:ext cx="388152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D Av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D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R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D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R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D 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R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(R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R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… + R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31840" y="16488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Origin of Non-Cylindrical Cu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8360" y="1538280"/>
            <a:ext cx="5792760" cy="1419120"/>
          </a:xfrm>
          <a:custGeom>
            <a:avLst/>
            <a:gdLst>
              <a:gd name="textAreaLeft" fmla="*/ 860760 w 5792760"/>
              <a:gd name="textAreaRight" fmla="*/ 4932000 w 5792760"/>
              <a:gd name="textAreaTop" fmla="*/ 210600 h 1419120"/>
              <a:gd name="textAreaBottom" fmla="*/ 1208520 h 141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72" y="21600"/>
                </a:lnTo>
                <a:lnTo>
                  <a:pt x="2628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1880" y="1355760"/>
            <a:ext cx="5799240" cy="191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4720" y="6002280"/>
            <a:ext cx="13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 (0,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40640" y="6156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40080" y="3044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24320" y="2124000"/>
            <a:ext cx="380880" cy="381240"/>
          </a:xfrm>
          <a:prstGeom prst="flowChartSummingJunction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85480" y="20480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60560" y="3544920"/>
            <a:ext cx="3341520" cy="2457360"/>
          </a:xfrm>
          <a:custGeom>
            <a:avLst/>
            <a:gdLst>
              <a:gd name="textAreaLeft" fmla="*/ 666360 w 3341520"/>
              <a:gd name="textAreaRight" fmla="*/ 2675160 w 3341520"/>
              <a:gd name="textAreaTop" fmla="*/ 489960 h 2457360"/>
              <a:gd name="textAreaBottom" fmla="*/ 1967400 h 245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995" y="21600"/>
                </a:lnTo>
                <a:lnTo>
                  <a:pt x="4605" y="21600"/>
                </a:lnTo>
                <a:close/>
              </a:path>
            </a:pathLst>
          </a:custGeom>
          <a:solidFill>
            <a:srgbClr val="ffff99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60560" y="2968560"/>
            <a:ext cx="3341520" cy="576360"/>
          </a:xfrm>
          <a:prstGeom prst="rect">
            <a:avLst/>
          </a:prstGeom>
          <a:solidFill>
            <a:srgbClr val="ffff99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960560" y="3121200"/>
            <a:ext cx="0" cy="3457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960560" y="6543360"/>
            <a:ext cx="4032360" cy="34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0800000">
            <a:off x="2651040" y="6001920"/>
            <a:ext cx="1959120" cy="576360"/>
          </a:xfrm>
          <a:prstGeom prst="triangle">
            <a:avLst>
              <a:gd name="adj" fmla="val 50000"/>
            </a:avLst>
          </a:prstGeom>
          <a:solidFill>
            <a:srgbClr val="ffff99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459160" y="3583080"/>
            <a:ext cx="80640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573000" y="3544920"/>
            <a:ext cx="1306440" cy="24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22400" y="3929040"/>
            <a:ext cx="3417840" cy="0"/>
          </a:xfrm>
          <a:prstGeom prst="line">
            <a:avLst/>
          </a:prstGeom>
          <a:ln w="25560">
            <a:solidFill>
              <a:srgbClr val="0000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302080" y="3429000"/>
            <a:ext cx="0" cy="6523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54720" y="3659040"/>
            <a:ext cx="14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. Flute 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150720" y="6002280"/>
            <a:ext cx="42228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oss-Sectional Area of Fish Head (Tool #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74640" y="1600200"/>
          <a:ext cx="779292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4640" y="1600200"/>
                    <a:ext cx="7792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17:13:43Z</dcterms:created>
  <dc:creator>xlx2807</dc:creator>
  <dc:description/>
  <dc:language>en-US</dc:language>
  <cp:lastModifiedBy>Martin Hardwick</cp:lastModifiedBy>
  <dcterms:modified xsi:type="dcterms:W3CDTF">2007-12-11T19:20:08Z</dcterms:modified>
  <cp:revision>17</cp:revision>
  <dc:subject/>
  <dc:title>Slide 1</dc:title>
</cp:coreProperties>
</file>