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F4F-B2AF-4CC6-BA63-8E2603C8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460-6B0C-4418-A1B6-52B9BCA7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513-F594-43D4-B34D-84E9F720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5BE-0387-41B2-B165-4BDD6366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46A-FD72-4F9E-BBFB-6F722A5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DAD-AE33-48BA-8776-75A54E9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702-4B8C-483C-987C-67C9569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99A-885D-4A18-9C2F-66F8C73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B4F-6DAB-45DA-948E-41B2592E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E9B-E316-44F2-AFB5-1AD28CC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456-FC5E-4949-8588-B44F8EB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5E3-8201-49C7-A409-BDFF345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927-E41D-49E8-8473-33C52698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hyperlink" Target="file:///speed_feed_flow%5B1%5D.ppt" TargetMode="External"/><Relationship Id="rId8" Type="http://schemas.openxmlformats.org/officeDocument/2006/relationships/hyperlink" Target="file:///HSM_file_size%5B1%5D.ppt" TargetMode="External"/><Relationship Id="rId9" Type="http://schemas.openxmlformats.org/officeDocument/2006/relationships/hyperlink" Target="file:///speed_feed_flow%5B1%5D.ppt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 TC184 / SC4  WG3/T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495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SM machining in Bord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562720"/>
            <a:ext cx="8305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TEP AP238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mons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0-12 March 2008 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5562720"/>
            <a:ext cx="1828800" cy="34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86000" y="5562720"/>
            <a:ext cx="2303640" cy="68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48320" y="5562720"/>
            <a:ext cx="1224000" cy="45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943600" y="5562720"/>
            <a:ext cx="1158840" cy="51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8320" y="6078600"/>
            <a:ext cx="121896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5080" y="1676520"/>
            <a:ext cx="527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pat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nging in p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side 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use of VERI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isture and coo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tra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appli2cn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59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EP AP238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onstration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286000"/>
            <a:ext cx="2743200" cy="16938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44720" y="2286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宋体"/>
              </a:rPr>
              <a:t>BORD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29560" y="2536920"/>
            <a:ext cx="1109520" cy="1419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72320" y="3697200"/>
            <a:ext cx="882720" cy="2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29360" y="2333520"/>
            <a:ext cx="1158840" cy="515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11840" y="2865600"/>
            <a:ext cx="927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HSM 600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iTNC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36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D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80880"/>
            <a:ext cx="2743200" cy="1702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95800" y="380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760" y="668160"/>
            <a:ext cx="1009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C40</a:t>
            </a:r>
            <a:r>
              <a:rPr b="1" lang="fr-FR" sz="12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iTNC5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A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1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D=1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cc"/>
                </a:solidFill>
                <a:latin typeface="Arial"/>
                <a:ea typeface="宋体"/>
              </a:rPr>
              <a:t>RENIS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9920" y="406440"/>
            <a:ext cx="938160" cy="39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620120" y="482760"/>
            <a:ext cx="882360" cy="2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7486560" y="895320"/>
            <a:ext cx="1268640" cy="105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534520" y="406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004"/>
                </a:moveTo>
                <a:lnTo>
                  <a:pt x="4707" y="10004"/>
                </a:lnTo>
                <a:lnTo>
                  <a:pt x="5090" y="10370"/>
                </a:lnTo>
                <a:lnTo>
                  <a:pt x="14299" y="10370"/>
                </a:lnTo>
                <a:lnTo>
                  <a:pt x="14856" y="10927"/>
                </a:lnTo>
                <a:lnTo>
                  <a:pt x="14856" y="11475"/>
                </a:lnTo>
                <a:lnTo>
                  <a:pt x="16701" y="11475"/>
                </a:lnTo>
                <a:lnTo>
                  <a:pt x="17067" y="10927"/>
                </a:lnTo>
                <a:lnTo>
                  <a:pt x="17806" y="10927"/>
                </a:lnTo>
                <a:lnTo>
                  <a:pt x="17806" y="16079"/>
                </a:lnTo>
                <a:lnTo>
                  <a:pt x="17067" y="16079"/>
                </a:lnTo>
                <a:lnTo>
                  <a:pt x="16701" y="15531"/>
                </a:lnTo>
                <a:lnTo>
                  <a:pt x="14856" y="15531"/>
                </a:lnTo>
                <a:lnTo>
                  <a:pt x="14856" y="16811"/>
                </a:lnTo>
                <a:lnTo>
                  <a:pt x="5273" y="16811"/>
                </a:lnTo>
                <a:lnTo>
                  <a:pt x="5273" y="12581"/>
                </a:lnTo>
                <a:lnTo>
                  <a:pt x="5090" y="12581"/>
                </a:lnTo>
                <a:lnTo>
                  <a:pt x="4707" y="12946"/>
                </a:lnTo>
                <a:lnTo>
                  <a:pt x="3794" y="129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33526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10017"/>
                </a:moveTo>
                <a:lnTo>
                  <a:pt x="4707" y="10017"/>
                </a:lnTo>
                <a:lnTo>
                  <a:pt x="5090" y="10383"/>
                </a:lnTo>
                <a:lnTo>
                  <a:pt x="14299" y="10383"/>
                </a:lnTo>
                <a:lnTo>
                  <a:pt x="14856" y="10940"/>
                </a:lnTo>
                <a:lnTo>
                  <a:pt x="14856" y="11488"/>
                </a:lnTo>
                <a:lnTo>
                  <a:pt x="16701" y="11488"/>
                </a:lnTo>
                <a:lnTo>
                  <a:pt x="17067" y="10940"/>
                </a:lnTo>
                <a:lnTo>
                  <a:pt x="17806" y="10940"/>
                </a:lnTo>
                <a:lnTo>
                  <a:pt x="17806" y="16092"/>
                </a:lnTo>
                <a:lnTo>
                  <a:pt x="17067" y="16092"/>
                </a:lnTo>
                <a:lnTo>
                  <a:pt x="16701" y="15544"/>
                </a:lnTo>
                <a:lnTo>
                  <a:pt x="14856" y="15544"/>
                </a:lnTo>
                <a:lnTo>
                  <a:pt x="14856" y="16823"/>
                </a:lnTo>
                <a:lnTo>
                  <a:pt x="5273" y="16823"/>
                </a:lnTo>
                <a:lnTo>
                  <a:pt x="5273" y="12593"/>
                </a:lnTo>
                <a:lnTo>
                  <a:pt x="5090" y="12593"/>
                </a:lnTo>
                <a:lnTo>
                  <a:pt x="4707" y="12959"/>
                </a:lnTo>
                <a:lnTo>
                  <a:pt x="3794" y="12959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114800"/>
            <a:ext cx="266688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360" y="4114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CANIA - K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762120"/>
            <a:ext cx="2666880" cy="990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376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ED &amp;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114800"/>
            <a:ext cx="266688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720" y="41911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OSED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362320"/>
            <a:ext cx="2666880" cy="1447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9960" y="2438280"/>
            <a:ext cx="193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486400"/>
            <a:ext cx="266724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1480" y="5562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5486400"/>
            <a:ext cx="266688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55627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ST -  V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9" idx="3"/>
            <a:endCxn id="59" idx="1"/>
          </p:cNvCxnSpPr>
          <p:nvPr/>
        </p:nvCxnSpPr>
        <p:spPr>
          <a:xfrm flipV="1">
            <a:off x="5029200" y="1231200"/>
            <a:ext cx="991440" cy="26280"/>
          </a:xfrm>
          <a:prstGeom prst="bentConnector3">
            <a:avLst>
              <a:gd name="adj1" fmla="val 49981"/>
            </a:avLst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9" idx="3"/>
            <a:endCxn id="53" idx="1"/>
          </p:cNvCxnSpPr>
          <p:nvPr/>
        </p:nvCxnSpPr>
        <p:spPr>
          <a:xfrm>
            <a:off x="5028840" y="1257480"/>
            <a:ext cx="1067400" cy="1877040"/>
          </a:xfrm>
          <a:prstGeom prst="bentConnector3">
            <a:avLst>
              <a:gd name="adj1" fmla="val 50000"/>
            </a:avLst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3" idx="3"/>
            <a:endCxn id="53" idx="1"/>
          </p:cNvCxnSpPr>
          <p:nvPr/>
        </p:nvCxnSpPr>
        <p:spPr>
          <a:xfrm>
            <a:off x="4952520" y="3086280"/>
            <a:ext cx="1143720" cy="48240"/>
          </a:xfrm>
          <a:prstGeom prst="bentConnector3">
            <a:avLst>
              <a:gd name="adj1" fmla="val 50000"/>
            </a:avLst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1" idx="3"/>
            <a:endCxn id="67" idx="1"/>
          </p:cNvCxnSpPr>
          <p:nvPr/>
        </p:nvCxnSpPr>
        <p:spPr>
          <a:xfrm>
            <a:off x="4952520" y="4609800"/>
            <a:ext cx="1220040" cy="1080"/>
          </a:xfrm>
          <a:prstGeom prst="bentConnector2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5" idx="3"/>
            <a:endCxn id="77" idx="1"/>
          </p:cNvCxnSpPr>
          <p:nvPr/>
        </p:nvCxnSpPr>
        <p:spPr>
          <a:xfrm>
            <a:off x="4876920" y="5981400"/>
            <a:ext cx="1296000" cy="1080"/>
          </a:xfrm>
          <a:prstGeom prst="bentConnector2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84" name="">
            <a:hlinkClick r:id="rId7"/>
          </p:cNvPr>
          <p:cNvSpPr/>
          <p:nvPr/>
        </p:nvSpPr>
        <p:spPr>
          <a:xfrm>
            <a:off x="4572000" y="1447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8"/>
          </p:cNvPr>
          <p:cNvSpPr/>
          <p:nvPr/>
        </p:nvSpPr>
        <p:spPr>
          <a:xfrm>
            <a:off x="4495680" y="3429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8006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61722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9"/>
          </p:cNvPr>
          <p:cNvSpPr/>
          <p:nvPr/>
        </p:nvSpPr>
        <p:spPr>
          <a:xfrm>
            <a:off x="4495680" y="2819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505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9988"/>
                </a:moveTo>
                <a:lnTo>
                  <a:pt x="4707" y="9988"/>
                </a:lnTo>
                <a:lnTo>
                  <a:pt x="5090" y="10354"/>
                </a:lnTo>
                <a:lnTo>
                  <a:pt x="14299" y="10354"/>
                </a:lnTo>
                <a:lnTo>
                  <a:pt x="14856" y="10911"/>
                </a:lnTo>
                <a:lnTo>
                  <a:pt x="14856" y="11459"/>
                </a:lnTo>
                <a:lnTo>
                  <a:pt x="16701" y="11459"/>
                </a:lnTo>
                <a:lnTo>
                  <a:pt x="17067" y="10911"/>
                </a:lnTo>
                <a:lnTo>
                  <a:pt x="17806" y="10911"/>
                </a:lnTo>
                <a:lnTo>
                  <a:pt x="17806" y="16064"/>
                </a:lnTo>
                <a:lnTo>
                  <a:pt x="17067" y="16064"/>
                </a:lnTo>
                <a:lnTo>
                  <a:pt x="16701" y="15515"/>
                </a:lnTo>
                <a:lnTo>
                  <a:pt x="14856" y="15515"/>
                </a:lnTo>
                <a:lnTo>
                  <a:pt x="14856" y="16795"/>
                </a:lnTo>
                <a:lnTo>
                  <a:pt x="5273" y="16795"/>
                </a:lnTo>
                <a:lnTo>
                  <a:pt x="5273" y="12565"/>
                </a:lnTo>
                <a:lnTo>
                  <a:pt x="5090" y="12565"/>
                </a:lnTo>
                <a:lnTo>
                  <a:pt x="4707" y="12930"/>
                </a:lnTo>
                <a:lnTo>
                  <a:pt x="3794" y="1293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2151448" descr=""/>
          <p:cNvPicPr/>
          <p:nvPr/>
        </p:nvPicPr>
        <p:blipFill>
          <a:blip r:embed="rId10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0560" y="12193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宋体"/>
              </a:rPr>
              <a:t>BORD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7960" y="1370160"/>
            <a:ext cx="3254400" cy="1596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95480" y="3124080"/>
            <a:ext cx="1621080" cy="3136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  <a:ea typeface="宋体"/>
              </a:rPr>
              <a:t>MIK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cc99"/>
                </a:solidFill>
                <a:latin typeface="Arial"/>
                <a:ea typeface="宋体"/>
              </a:rPr>
              <a:t>HSM 600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  <a:ea typeface="宋体"/>
              </a:rPr>
              <a:t>HEIDENH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cc99"/>
                </a:solidFill>
                <a:latin typeface="Arial"/>
                <a:ea typeface="宋体"/>
              </a:rPr>
              <a:t>iTNC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cc99"/>
                </a:solidFill>
                <a:latin typeface="Arial"/>
                <a:ea typeface="宋体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cc99"/>
                </a:solidFill>
                <a:latin typeface="Arial"/>
                <a:ea typeface="宋体"/>
              </a:rPr>
              <a:t>29000 – 36000 r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  <a:ea typeface="宋体"/>
              </a:rPr>
              <a:t>D=16 R4    fin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  <a:ea typeface="宋体"/>
              </a:rPr>
              <a:t>D=12 R1.5 roug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  <a:ea typeface="宋体"/>
              </a:rPr>
              <a:t>EROW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99"/>
                </a:solidFill>
                <a:latin typeface="Arial"/>
                <a:ea typeface="宋体"/>
              </a:rPr>
              <a:t>320x320 pa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rut_bdx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14784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41320" y="3200400"/>
            <a:ext cx="212544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00400" y="4267080"/>
            <a:ext cx="247320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41320" y="4267080"/>
            <a:ext cx="151560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I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21514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09680" y="228600"/>
            <a:ext cx="1828800" cy="2438280"/>
          </a:xfrm>
          <a:prstGeom prst="rect">
            <a:avLst/>
          </a:prstGeom>
          <a:solidFill>
            <a:srgbClr val="00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28600"/>
            <a:ext cx="5181480" cy="4495680"/>
          </a:xfrm>
          <a:prstGeom prst="rect">
            <a:avLst/>
          </a:prstGeom>
          <a:solidFill>
            <a:srgbClr val="00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4120" y="304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  <a:ea typeface="宋体"/>
              </a:rPr>
              <a:t>BORD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90600" cy="811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27040" y="1447920"/>
            <a:ext cx="185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99"/>
                </a:solidFill>
                <a:latin typeface="Arial"/>
                <a:ea typeface="宋体"/>
              </a:rPr>
              <a:t>MIKR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99"/>
                </a:solidFill>
                <a:latin typeface="Arial"/>
                <a:ea typeface="宋体"/>
              </a:rPr>
              <a:t>HSM 600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99"/>
                </a:solidFill>
                <a:latin typeface="Arial"/>
                <a:ea typeface="宋体"/>
              </a:rPr>
              <a:t>iTNC5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99"/>
                </a:solidFill>
                <a:latin typeface="Arial"/>
                <a:ea typeface="宋体"/>
              </a:rPr>
              <a:t>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99"/>
                </a:solidFill>
                <a:latin typeface="Arial"/>
                <a:ea typeface="宋体"/>
              </a:rPr>
              <a:t>36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99"/>
                </a:solidFill>
                <a:latin typeface="Arial"/>
                <a:ea typeface="宋体"/>
              </a:rPr>
              <a:t>D=16 R4   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99"/>
                </a:solidFill>
                <a:latin typeface="Arial"/>
                <a:ea typeface="宋体"/>
              </a:rPr>
              <a:t>D=12 R1.5 roug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048120"/>
            <a:ext cx="1981080" cy="1523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124080"/>
            <a:ext cx="16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ERI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809880"/>
            <a:ext cx="83808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048120"/>
            <a:ext cx="1371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048120"/>
            <a:ext cx="12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238 </a:t>
            </a:r>
            <a:r>
              <a:rPr b="1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581280"/>
            <a:ext cx="45720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048120"/>
            <a:ext cx="16002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0481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1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EP AP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581280"/>
            <a:ext cx="45720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2151468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65920" y="3975120"/>
            <a:ext cx="1663560" cy="38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1219320"/>
            <a:ext cx="1371600" cy="129528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4320" y="3352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038480"/>
            <a:ext cx="312444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 explo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838080"/>
            <a:ext cx="1981080" cy="15242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9144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OLPATH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533520"/>
            <a:ext cx="1447920" cy="99036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tter loc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ug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523880"/>
            <a:ext cx="914400" cy="91440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5520" y="5357880"/>
            <a:ext cx="597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hart tracks the conversion of a MASTERCAM CL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in turn is converted into a tool centre processing fil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t was checked and used to machine the fish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MIKRON HSM600U with HEIDENHAIN iTNC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43000" y="4114800"/>
            <a:ext cx="2303640" cy="689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196560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861048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301"/>
                </a:moveTo>
                <a:lnTo>
                  <a:pt x="6509" y="7301"/>
                </a:lnTo>
                <a:lnTo>
                  <a:pt x="6892" y="7667"/>
                </a:lnTo>
                <a:lnTo>
                  <a:pt x="16100" y="7667"/>
                </a:lnTo>
                <a:lnTo>
                  <a:pt x="16657" y="8224"/>
                </a:lnTo>
                <a:lnTo>
                  <a:pt x="16657" y="8772"/>
                </a:lnTo>
                <a:lnTo>
                  <a:pt x="18503" y="8772"/>
                </a:lnTo>
                <a:lnTo>
                  <a:pt x="18868" y="8224"/>
                </a:lnTo>
                <a:lnTo>
                  <a:pt x="19608" y="8224"/>
                </a:lnTo>
                <a:lnTo>
                  <a:pt x="19608" y="13376"/>
                </a:lnTo>
                <a:lnTo>
                  <a:pt x="18868" y="13376"/>
                </a:lnTo>
                <a:lnTo>
                  <a:pt x="18503" y="12828"/>
                </a:lnTo>
                <a:lnTo>
                  <a:pt x="16657" y="12828"/>
                </a:lnTo>
                <a:lnTo>
                  <a:pt x="16657" y="14107"/>
                </a:lnTo>
                <a:lnTo>
                  <a:pt x="7075" y="14107"/>
                </a:lnTo>
                <a:lnTo>
                  <a:pt x="7075" y="9877"/>
                </a:lnTo>
                <a:lnTo>
                  <a:pt x="6892" y="9877"/>
                </a:lnTo>
                <a:lnTo>
                  <a:pt x="6509" y="10243"/>
                </a:lnTo>
                <a:lnTo>
                  <a:pt x="5595" y="10243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038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301"/>
                </a:moveTo>
                <a:lnTo>
                  <a:pt x="6500" y="7301"/>
                </a:lnTo>
                <a:lnTo>
                  <a:pt x="6883" y="7667"/>
                </a:lnTo>
                <a:lnTo>
                  <a:pt x="16092" y="7667"/>
                </a:lnTo>
                <a:lnTo>
                  <a:pt x="16649" y="8224"/>
                </a:lnTo>
                <a:lnTo>
                  <a:pt x="16649" y="8772"/>
                </a:lnTo>
                <a:lnTo>
                  <a:pt x="18494" y="8772"/>
                </a:lnTo>
                <a:lnTo>
                  <a:pt x="18860" y="8224"/>
                </a:lnTo>
                <a:lnTo>
                  <a:pt x="19599" y="8224"/>
                </a:lnTo>
                <a:lnTo>
                  <a:pt x="19599" y="13376"/>
                </a:lnTo>
                <a:lnTo>
                  <a:pt x="18860" y="13376"/>
                </a:lnTo>
                <a:lnTo>
                  <a:pt x="18494" y="12828"/>
                </a:lnTo>
                <a:lnTo>
                  <a:pt x="16649" y="12828"/>
                </a:lnTo>
                <a:lnTo>
                  <a:pt x="16649" y="14107"/>
                </a:lnTo>
                <a:lnTo>
                  <a:pt x="7066" y="14107"/>
                </a:lnTo>
                <a:lnTo>
                  <a:pt x="7066" y="9877"/>
                </a:lnTo>
                <a:lnTo>
                  <a:pt x="6883" y="9877"/>
                </a:lnTo>
                <a:lnTo>
                  <a:pt x="6500" y="10243"/>
                </a:lnTo>
                <a:lnTo>
                  <a:pt x="5586" y="10243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429000"/>
            <a:ext cx="457200" cy="38088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505320"/>
            <a:ext cx="457200" cy="38088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4876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301"/>
                </a:moveTo>
                <a:lnTo>
                  <a:pt x="6500" y="7301"/>
                </a:lnTo>
                <a:lnTo>
                  <a:pt x="6883" y="7667"/>
                </a:lnTo>
                <a:lnTo>
                  <a:pt x="16092" y="7667"/>
                </a:lnTo>
                <a:lnTo>
                  <a:pt x="16649" y="8224"/>
                </a:lnTo>
                <a:lnTo>
                  <a:pt x="16649" y="8772"/>
                </a:lnTo>
                <a:lnTo>
                  <a:pt x="18494" y="8772"/>
                </a:lnTo>
                <a:lnTo>
                  <a:pt x="18860" y="8224"/>
                </a:lnTo>
                <a:lnTo>
                  <a:pt x="19599" y="8224"/>
                </a:lnTo>
                <a:lnTo>
                  <a:pt x="19599" y="13376"/>
                </a:lnTo>
                <a:lnTo>
                  <a:pt x="18860" y="13376"/>
                </a:lnTo>
                <a:lnTo>
                  <a:pt x="18494" y="12828"/>
                </a:lnTo>
                <a:lnTo>
                  <a:pt x="16649" y="12828"/>
                </a:lnTo>
                <a:lnTo>
                  <a:pt x="16649" y="14107"/>
                </a:lnTo>
                <a:lnTo>
                  <a:pt x="7066" y="14107"/>
                </a:lnTo>
                <a:lnTo>
                  <a:pt x="7066" y="9877"/>
                </a:lnTo>
                <a:lnTo>
                  <a:pt x="6883" y="9877"/>
                </a:lnTo>
                <a:lnTo>
                  <a:pt x="6500" y="10243"/>
                </a:lnTo>
                <a:lnTo>
                  <a:pt x="5586" y="10243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1981080"/>
            <a:ext cx="457200" cy="38124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914400"/>
            <a:ext cx="457200" cy="380880"/>
          </a:xfrm>
          <a:prstGeom prst="flowChartMagneticDisk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.CL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5200" y="2055960"/>
            <a:ext cx="408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pallet EROWA 320x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lts on bottom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7280" y="923760"/>
            <a:ext cx="5067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g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½ axis up to 0.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D=12 R=1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 000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outside to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nge strategy for p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 = 2.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is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axis 1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D=16 R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 000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e(minimum) =0.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tical to 15 °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2151453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560" y="152388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g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ish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 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04:22Z</dcterms:created>
  <dc:creator>to37512</dc:creator>
  <dc:description/>
  <dc:language>en-US</dc:language>
  <cp:lastModifiedBy>to37512</cp:lastModifiedBy>
  <dcterms:modified xsi:type="dcterms:W3CDTF">2008-03-10T09:02:02Z</dcterms:modified>
  <cp:revision>223</cp:revision>
  <dc:subject/>
  <dc:title>Présentation PowerPoint</dc:title>
</cp:coreProperties>
</file>