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694-7B08-456C-AF5D-E3A0E281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455-3095-44B3-947E-ED80F2CA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D58-4C6E-4BE0-98D9-B94B2362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118-78B1-431D-BD14-7EB30C4E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4D5-B4E9-49FF-BD32-ED23B97E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E91-F75D-45E8-B296-9FFDC50D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401-A1A8-47EF-807C-78C95AD5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C76-F2BE-4D7C-845D-6235616F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7AD-06CD-4EA6-8167-900D7EBA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477-81B7-4EC2-A650-8640BC2E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802-BBC3-43B3-9772-4670BD49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9F5-48F4-48DC-9A20-5CC66BFD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253E-9DBD-4A0B-B3E3-7CFBF2D3B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15080" y="3160800"/>
            <a:ext cx="89100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20560" y="3011400"/>
            <a:ext cx="8895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6480" y="3024360"/>
            <a:ext cx="650160" cy="7992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28800" y="2895480"/>
            <a:ext cx="979200" cy="9169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8800" y="1652760"/>
            <a:ext cx="991800" cy="7992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52840" y="4560840"/>
            <a:ext cx="1206360" cy="11408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7160" y="4702320"/>
            <a:ext cx="1335960" cy="642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C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65160" y="5627520"/>
            <a:ext cx="144864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35680" y="4560840"/>
            <a:ext cx="1208160" cy="11408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1" idx="3"/>
            <a:endCxn id="42" idx="1"/>
          </p:cNvCxnSpPr>
          <p:nvPr/>
        </p:nvCxnSpPr>
        <p:spPr>
          <a:xfrm flipV="1">
            <a:off x="2206080" y="3332520"/>
            <a:ext cx="1014840" cy="1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4111560" y="33638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35800" y="33638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181480" y="4941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663640" y="50180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2720" y="1650960"/>
            <a:ext cx="2276640" cy="7992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STL/STEP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64080" y="1711440"/>
            <a:ext cx="1335960" cy="642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C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24560" y="404172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’s machin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 Speed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6" idx="1"/>
            <a:endCxn id="55" idx="3"/>
          </p:cNvCxnSpPr>
          <p:nvPr/>
        </p:nvCxnSpPr>
        <p:spPr>
          <a:xfrm flipH="1">
            <a:off x="2889360" y="2032560"/>
            <a:ext cx="77508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5" idx="1"/>
            <a:endCxn id="56" idx="3"/>
          </p:cNvCxnSpPr>
          <p:nvPr/>
        </p:nvCxnSpPr>
        <p:spPr>
          <a:xfrm flipH="1" flipV="1">
            <a:off x="5000040" y="2032560"/>
            <a:ext cx="1329120" cy="2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5" idx="2"/>
            <a:endCxn id="44" idx="0"/>
          </p:cNvCxnSpPr>
          <p:nvPr/>
        </p:nvCxnSpPr>
        <p:spPr>
          <a:xfrm flipH="1">
            <a:off x="6818400" y="2404800"/>
            <a:ext cx="6840" cy="49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5" idx="2"/>
            <a:endCxn id="41" idx="0"/>
          </p:cNvCxnSpPr>
          <p:nvPr/>
        </p:nvCxnSpPr>
        <p:spPr>
          <a:xfrm>
            <a:off x="1751040" y="2403000"/>
            <a:ext cx="9720" cy="75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7" idx="2"/>
            <a:endCxn id="47" idx="0"/>
          </p:cNvCxnSpPr>
          <p:nvPr/>
        </p:nvCxnSpPr>
        <p:spPr>
          <a:xfrm flipH="1">
            <a:off x="4404960" y="4410000"/>
            <a:ext cx="540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72160" y="5322960"/>
            <a:ext cx="1069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44" idx="2"/>
            <a:endCxn id="46" idx="0"/>
          </p:cNvCxnSpPr>
          <p:nvPr/>
        </p:nvCxnSpPr>
        <p:spPr>
          <a:xfrm>
            <a:off x="6818400" y="3812400"/>
            <a:ext cx="38160" cy="74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862160" y="1405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2160" y="28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2600" y="2666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3080" y="441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6:13:26Z</dcterms:created>
  <dc:creator>Martin Hardwick</dc:creator>
  <dc:description/>
  <dc:language>en-US</dc:language>
  <cp:lastModifiedBy>Martin Hardwick</cp:lastModifiedBy>
  <dcterms:modified xsi:type="dcterms:W3CDTF">2007-11-16T20:02:49Z</dcterms:modified>
  <cp:revision>15</cp:revision>
  <dc:subject/>
  <dc:title>Feed and Speed Optimization</dc:title>
</cp:coreProperties>
</file>