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20.jpeg" ContentType="image/jpeg"/>
  <Override PartName="/ppt/media/image21.png" ContentType="image/png"/>
  <Override PartName="/ppt/media/image4.png" ContentType="image/png"/>
  <Override PartName="/ppt/media/image18.jpeg" ContentType="image/jpeg"/>
  <Override PartName="/ppt/media/image16.wmf" ContentType="image/x-wmf"/>
  <Override PartName="/ppt/media/image15.png" ContentType="image/png"/>
  <Override PartName="/ppt/media/image5.jpeg" ContentType="image/jpeg"/>
  <Override PartName="/ppt/media/image1.png" ContentType="image/png"/>
  <Override PartName="/ppt/media/image2.png" ContentType="image/png"/>
  <Override PartName="/ppt/media/image9.wmf" ContentType="image/x-wmf"/>
  <Override PartName="/ppt/media/image14.png" ContentType="image/png"/>
  <Override PartName="/ppt/media/image11.wmf" ContentType="image/x-wmf"/>
  <Override PartName="/ppt/media/image3.png" ContentType="image/png"/>
  <Override PartName="/ppt/media/image17.jpeg" ContentType="image/jpeg"/>
  <Override PartName="/ppt/media/image6.wmf" ContentType="image/x-wmf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2913" cy="1000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1820-BD57-43B0-8336-C0968AAD1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8560" y="1978200"/>
            <a:ext cx="8421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8560" y="4140000"/>
            <a:ext cx="8421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EE32-22C6-45D1-8296-21008338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58560" y="19782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9782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58560" y="41400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41400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5213-4C5B-4E57-817D-540412648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58560" y="1978200"/>
            <a:ext cx="27115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6160" y="1978200"/>
            <a:ext cx="27115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3400" y="1978200"/>
            <a:ext cx="27115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58560" y="4140000"/>
            <a:ext cx="27115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6160" y="4140000"/>
            <a:ext cx="27115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3400" y="4140000"/>
            <a:ext cx="27115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F886-8B36-40C4-91C7-52E9FD129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44940-4FE4-4356-B302-87799E77A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8560" y="1978200"/>
            <a:ext cx="8421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56D8-B971-4F4A-B53B-8D8F3183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58560" y="1978200"/>
            <a:ext cx="8421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CE80-9A44-4CB1-8D70-2206DC8F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8560" y="1978200"/>
            <a:ext cx="4109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1978200"/>
            <a:ext cx="4109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DF30-E95E-494C-A75D-410B0154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FE69-709A-40B6-A90B-13C9A1EF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58560" y="431280"/>
            <a:ext cx="84214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4FA6-A5A7-48E2-9F98-6CCDAE77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8560" y="19782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1978200"/>
            <a:ext cx="4109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58560" y="41400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F25A-D3E8-4905-8063-8F6B7BD3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58560" y="1978200"/>
            <a:ext cx="8421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F09A-AE42-4E18-AFA0-8E8E6B2F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8560" y="1978200"/>
            <a:ext cx="4109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880" y="19782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880" y="41400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4F20-B324-468D-915E-9009302D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58560" y="19782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880" y="19782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58560" y="4140000"/>
            <a:ext cx="8421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F309-08CB-494A-A75E-E438E78B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8560" y="1978200"/>
            <a:ext cx="8421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8560" y="4140000"/>
            <a:ext cx="8421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8170-9992-455C-A890-AC6511E2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58560" y="19782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880" y="19782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58560" y="41400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880" y="41400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D20B-119E-4294-8050-6907ECE73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8560" y="1978200"/>
            <a:ext cx="27115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06160" y="1978200"/>
            <a:ext cx="27115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3400" y="1978200"/>
            <a:ext cx="27115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58560" y="4140000"/>
            <a:ext cx="27115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06160" y="4140000"/>
            <a:ext cx="27115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3400" y="4140000"/>
            <a:ext cx="27115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69D3-FC23-4043-BAE1-EFCA546F3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58560" y="1978200"/>
            <a:ext cx="8421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B2BE-3C84-453C-8090-EB7FEEBE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8560" y="1978200"/>
            <a:ext cx="4109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978200"/>
            <a:ext cx="4109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F715-6BB4-4742-BE75-417AA733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D4ED-0C14-4181-9AE9-55C37E4F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8560" y="431280"/>
            <a:ext cx="84214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56B1-BB41-4EFB-8C24-E548E171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8560" y="19782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978200"/>
            <a:ext cx="4109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8560" y="41400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3EE2-D67E-4168-9F33-8A57DBF2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8560" y="1978200"/>
            <a:ext cx="4109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9782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41400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991E-38B6-4986-8DAA-1C5A5332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8560" y="19782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9782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58560" y="4140000"/>
            <a:ext cx="8421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2317-0489-469B-A671-49F07B76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8560" y="1978200"/>
            <a:ext cx="8421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4600" indent="-174600">
              <a:spcBef>
                <a:spcPts val="524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01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7476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11284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11284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11284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62760" y="6207120"/>
            <a:ext cx="932040" cy="34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692000" y="6189480"/>
            <a:ext cx="28796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574200" y="6189480"/>
            <a:ext cx="10796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58560" y="6189480"/>
            <a:ext cx="5396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/</a:t>
            </a:r>
            <a:fld id="{E06B83B9-F68B-457D-B17C-F39C816DA102}" type="slidenum">
              <a:rPr b="0" lang="en-US" sz="7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560" y="1832040"/>
            <a:ext cx="84214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1692000" y="6189480"/>
            <a:ext cx="28796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5"/>
          </p:nvPr>
        </p:nvSpPr>
        <p:spPr>
          <a:xfrm>
            <a:off x="574200" y="6189480"/>
            <a:ext cx="10796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58560" y="6189480"/>
            <a:ext cx="5396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/</a:t>
            </a:r>
            <a:fld id="{CF22017C-1ADF-4C25-8A23-578B720A88EF}" type="slidenum">
              <a:rPr b="0" lang="en-US" sz="7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862760" y="6207120"/>
            <a:ext cx="932040" cy="3459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282600" indent="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3176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93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544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5544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5544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wmf"/><Relationship Id="rId10" Type="http://schemas.openxmlformats.org/officeDocument/2006/relationships/hyperlink" Target="C:\Documents and Settings\ds1862\Desktop\Fishhead demo\Dallas\Inspection\Sandvik\CMM probing\Sandvik CMM probing(full res).wmv" TargetMode="External"/><Relationship Id="rId11" Type="http://schemas.openxmlformats.org/officeDocument/2006/relationships/image" Target="../media/image10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1.wmf"/><Relationship Id="rId14" Type="http://schemas.openxmlformats.org/officeDocument/2006/relationships/image" Target="../media/image12.png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3.wmf"/><Relationship Id="rId17" Type="http://schemas.openxmlformats.org/officeDocument/2006/relationships/hyperlink" Target="C:\Documents and Settings\ds1862\Desktop\Fishhead demo\Dallas\Sandvik CNC edited(full res).wmv" TargetMode="External"/><Relationship Id="rId18" Type="http://schemas.openxmlformats.org/officeDocument/2006/relationships/image" Target="../media/image14.png"/><Relationship Id="rId19" Type="http://schemas.openxmlformats.org/officeDocument/2006/relationships/image" Target="../media/image15.png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16.wmf"/><Relationship Id="rId22" Type="http://schemas.openxmlformats.org/officeDocument/2006/relationships/image" Target="../media/image17.jpeg"/><Relationship Id="rId2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8.jpeg"/><Relationship Id="rId6" Type="http://schemas.openxmlformats.org/officeDocument/2006/relationships/image" Target="../media/image20.jpeg"/><Relationship Id="rId7" Type="http://schemas.openxmlformats.org/officeDocument/2006/relationships/image" Target="../media/image18.jpeg"/><Relationship Id="rId8" Type="http://schemas.openxmlformats.org/officeDocument/2006/relationships/image" Target="../media/image18.jpeg"/><Relationship Id="rId9" Type="http://schemas.openxmlformats.org/officeDocument/2006/relationships/image" Target="../media/image2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8560" y="1832040"/>
            <a:ext cx="84214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808080"/>
                </a:solidFill>
                <a:latin typeface="Arial"/>
              </a:rPr>
              <a:t>Integration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58560" y="2971440"/>
            <a:ext cx="842148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808080"/>
                </a:solidFill>
                <a:latin typeface="Arial"/>
              </a:rPr>
              <a:t>STEP (ISO10303) and ISO13399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808080"/>
                </a:solidFill>
                <a:latin typeface="Arial"/>
              </a:rPr>
              <a:t>Bengt Olsso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808080"/>
                </a:solidFill>
                <a:latin typeface="Arial"/>
              </a:rPr>
              <a:t>Sandvik Tooling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24000" y="1438200"/>
            <a:ext cx="4010040" cy="766800"/>
            <a:chOff x="324000" y="1438200"/>
            <a:chExt cx="4010040" cy="76680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324000" y="1438200"/>
              <a:ext cx="798480" cy="7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2"/>
            <a:stretch/>
          </p:blipFill>
          <p:spPr>
            <a:xfrm>
              <a:off x="1625760" y="1444320"/>
              <a:ext cx="50184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3"/>
            <a:stretch/>
          </p:blipFill>
          <p:spPr>
            <a:xfrm>
              <a:off x="2562480" y="1515960"/>
              <a:ext cx="1771560" cy="59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Bengt Olsson, Sandvik Too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E3B4-FE93-43D3-88B1-34B908A1CBC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>March 10th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0000" y="142920"/>
            <a:ext cx="842004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808080"/>
                </a:solidFill>
                <a:latin typeface="Arial"/>
              </a:rPr>
              <a:t>STEP</a:t>
            </a:r>
            <a:br>
              <a:rPr sz="3200"/>
            </a:br>
            <a:r>
              <a:rPr b="1" lang="sv-SE" sz="3200" spc="-1" strike="noStrike">
                <a:solidFill>
                  <a:srgbClr val="808080"/>
                </a:solidFill>
                <a:latin typeface="Arial"/>
              </a:rPr>
              <a:t>Manufacturing</a:t>
            </a:r>
            <a:br>
              <a:rPr sz="3200"/>
            </a:br>
            <a:r>
              <a:rPr b="0" lang="sv-SE" sz="2400" spc="-1" strike="noStrike">
                <a:solidFill>
                  <a:srgbClr val="808080"/>
                </a:solidFill>
                <a:latin typeface="Arial"/>
              </a:rPr>
              <a:t>Communication</a:t>
            </a:r>
            <a:br>
              <a:rPr sz="2400"/>
            </a:br>
            <a:r>
              <a:rPr b="0" lang="sv-SE" sz="2400" spc="-1" strike="noStrike">
                <a:solidFill>
                  <a:srgbClr val="808080"/>
                </a:solidFill>
                <a:latin typeface="Arial"/>
              </a:rPr>
              <a:t>example: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780000" y="404640"/>
            <a:ext cx="1584000" cy="1627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164360" y="2205000"/>
            <a:ext cx="163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Dimensional</a:t>
            </a:r>
            <a:br>
              <a:rPr sz="1600"/>
            </a:b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Insp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 rot="11187000">
            <a:off x="2360160" y="2147400"/>
            <a:ext cx="990720" cy="1447560"/>
          </a:xfrm>
          <a:custGeom>
            <a:avLst/>
            <a:gdLst/>
            <a:ahLst/>
            <a:rect l="l" t="t" r="r" b="b"/>
            <a:pathLst>
              <a:path w="581" h="54">
                <a:moveTo>
                  <a:pt x="581" y="26"/>
                </a:moveTo>
                <a:cubicBezTo>
                  <a:pt x="474" y="13"/>
                  <a:pt x="368" y="0"/>
                  <a:pt x="303" y="2"/>
                </a:cubicBezTo>
                <a:cubicBezTo>
                  <a:pt x="238" y="4"/>
                  <a:pt x="242" y="31"/>
                  <a:pt x="192" y="40"/>
                </a:cubicBezTo>
                <a:cubicBezTo>
                  <a:pt x="142" y="49"/>
                  <a:pt x="31" y="52"/>
                  <a:pt x="0" y="54"/>
                </a:cubicBezTo>
              </a:path>
            </a:pathLst>
          </a:custGeom>
          <a:noFill/>
          <a:ln w="9360">
            <a:solidFill>
              <a:srgbClr val="7878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913360" y="4360320"/>
            <a:ext cx="754200" cy="276120"/>
          </a:xfrm>
          <a:custGeom>
            <a:avLst/>
            <a:gdLst/>
            <a:ahLst/>
            <a:rect l="l" t="t" r="r" b="b"/>
            <a:pathLst>
              <a:path w="2332" h="384">
                <a:moveTo>
                  <a:pt x="0" y="0"/>
                </a:moveTo>
                <a:cubicBezTo>
                  <a:pt x="329" y="135"/>
                  <a:pt x="659" y="271"/>
                  <a:pt x="902" y="317"/>
                </a:cubicBezTo>
                <a:cubicBezTo>
                  <a:pt x="1145" y="363"/>
                  <a:pt x="1272" y="284"/>
                  <a:pt x="1459" y="279"/>
                </a:cubicBezTo>
                <a:cubicBezTo>
                  <a:pt x="1646" y="274"/>
                  <a:pt x="1880" y="271"/>
                  <a:pt x="2025" y="288"/>
                </a:cubicBezTo>
                <a:cubicBezTo>
                  <a:pt x="2170" y="305"/>
                  <a:pt x="2111" y="331"/>
                  <a:pt x="2332" y="384"/>
                </a:cubicBezTo>
              </a:path>
            </a:pathLst>
          </a:cu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00760" y="1846440"/>
            <a:ext cx="1452600" cy="841320"/>
          </a:xfrm>
          <a:custGeom>
            <a:avLst/>
            <a:gdLst/>
            <a:ahLst/>
            <a:rect l="l" t="t" r="r" b="b"/>
            <a:pathLst>
              <a:path w="595" h="364">
                <a:moveTo>
                  <a:pt x="0" y="364"/>
                </a:moveTo>
                <a:cubicBezTo>
                  <a:pt x="91" y="357"/>
                  <a:pt x="183" y="351"/>
                  <a:pt x="224" y="313"/>
                </a:cubicBezTo>
                <a:cubicBezTo>
                  <a:pt x="265" y="275"/>
                  <a:pt x="210" y="172"/>
                  <a:pt x="249" y="134"/>
                </a:cubicBezTo>
                <a:cubicBezTo>
                  <a:pt x="288" y="96"/>
                  <a:pt x="403" y="105"/>
                  <a:pt x="461" y="83"/>
                </a:cubicBezTo>
                <a:cubicBezTo>
                  <a:pt x="519" y="61"/>
                  <a:pt x="572" y="14"/>
                  <a:pt x="595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481720" y="4195800"/>
          <a:ext cx="712800" cy="78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81720" y="4195800"/>
                    <a:ext cx="71280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 flipH="1" rot="21271800">
            <a:off x="3938400" y="1700280"/>
            <a:ext cx="1857600" cy="928800"/>
          </a:xfrm>
          <a:custGeom>
            <a:avLst/>
            <a:gdLst/>
            <a:ahLst/>
            <a:rect l="l" t="t" r="r" b="b"/>
            <a:pathLst>
              <a:path w="1047" h="394">
                <a:moveTo>
                  <a:pt x="1047" y="394"/>
                </a:moveTo>
                <a:cubicBezTo>
                  <a:pt x="1004" y="293"/>
                  <a:pt x="962" y="192"/>
                  <a:pt x="850" y="173"/>
                </a:cubicBezTo>
                <a:cubicBezTo>
                  <a:pt x="738" y="154"/>
                  <a:pt x="509" y="262"/>
                  <a:pt x="375" y="279"/>
                </a:cubicBezTo>
                <a:cubicBezTo>
                  <a:pt x="241" y="296"/>
                  <a:pt x="88" y="320"/>
                  <a:pt x="44" y="274"/>
                </a:cubicBezTo>
                <a:cubicBezTo>
                  <a:pt x="0" y="228"/>
                  <a:pt x="100" y="50"/>
                  <a:pt x="111" y="0"/>
                </a:cubicBezTo>
              </a:path>
            </a:pathLst>
          </a:custGeom>
          <a:noFill/>
          <a:ln w="9360">
            <a:solidFill>
              <a:srgbClr val="84483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670200" y="2360520"/>
          <a:ext cx="806400" cy="82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70200" y="2360520"/>
                    <a:ext cx="8064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759120" y="2508120"/>
          <a:ext cx="2103480" cy="2121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759120" y="2508120"/>
                    <a:ext cx="2103480" cy="21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3924360" y="3141720"/>
            <a:ext cx="190512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9933"/>
                </a:solidFill>
                <a:latin typeface="Times New Roman"/>
              </a:rPr>
              <a:t>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9933"/>
                </a:solidFill>
                <a:latin typeface="Times New Roman"/>
              </a:rPr>
              <a:t>Fea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9933"/>
                </a:solidFill>
                <a:latin typeface="Times New Roman"/>
              </a:rPr>
              <a:t>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9933"/>
                </a:solidFill>
                <a:latin typeface="Times New Roman"/>
              </a:rPr>
              <a:t>Toler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64000" y="692280"/>
            <a:ext cx="16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for Cast P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489640" y="2424240"/>
          <a:ext cx="711000" cy="718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489640" y="2424240"/>
                    <a:ext cx="71100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353360" y="932040"/>
            <a:ext cx="1220760" cy="1247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438960" y="215100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2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2852640"/>
            <a:ext cx="1160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2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286080" y="3373560"/>
          <a:ext cx="465120" cy="695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286080" y="3373560"/>
                    <a:ext cx="46512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468360" y="321300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Design Inform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-geometry dimension and toleranc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4"/>
          <a:stretch/>
        </p:blipFill>
        <p:spPr>
          <a:xfrm>
            <a:off x="1042920" y="2276640"/>
            <a:ext cx="925560" cy="9680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520680" y="5589720"/>
            <a:ext cx="193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Process plans 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machined p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18240" y="4721400"/>
            <a:ext cx="554040" cy="706320"/>
          </a:xfrm>
          <a:custGeom>
            <a:avLst/>
            <a:gdLst/>
            <a:ahLst/>
            <a:rect l="l" t="t" r="r" b="b"/>
            <a:pathLst>
              <a:path w="104" h="350">
                <a:moveTo>
                  <a:pt x="67" y="0"/>
                </a:moveTo>
                <a:cubicBezTo>
                  <a:pt x="33" y="29"/>
                  <a:pt x="0" y="59"/>
                  <a:pt x="4" y="91"/>
                </a:cubicBezTo>
                <a:cubicBezTo>
                  <a:pt x="8" y="123"/>
                  <a:pt x="78" y="149"/>
                  <a:pt x="91" y="192"/>
                </a:cubicBezTo>
                <a:cubicBezTo>
                  <a:pt x="104" y="235"/>
                  <a:pt x="83" y="323"/>
                  <a:pt x="81" y="350"/>
                </a:cubicBezTo>
              </a:path>
            </a:pathLst>
          </a:custGeom>
          <a:noFill/>
          <a:ln w="936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610160" y="4361040"/>
          <a:ext cx="682560" cy="566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610160" y="4361040"/>
                    <a:ext cx="68256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4915080" y="504684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2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58280" y="3222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M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88000" y="4495680"/>
            <a:ext cx="23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Machine independent code for CNC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667560" y="3294000"/>
            <a:ext cx="1290600" cy="1150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804000" y="29973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N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29480" y="3979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238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48360" y="1557360"/>
            <a:ext cx="1160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9"/>
          <a:stretch/>
        </p:blipFill>
        <p:spPr>
          <a:xfrm>
            <a:off x="5003640" y="5373720"/>
            <a:ext cx="1524240" cy="101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"/>
          <p:cNvGraphicFramePr/>
          <p:nvPr/>
        </p:nvGraphicFramePr>
        <p:xfrm>
          <a:off x="3619440" y="4361040"/>
          <a:ext cx="770040" cy="7207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619440" y="4361040"/>
                    <a:ext cx="77004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1984320" y="5229360"/>
            <a:ext cx="181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33"/>
                </a:solidFill>
                <a:latin typeface="Arial"/>
              </a:rPr>
              <a:t>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33"/>
                </a:solidFill>
                <a:latin typeface="Arial"/>
              </a:rPr>
              <a:t>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33"/>
                </a:solidFill>
                <a:latin typeface="Arial"/>
              </a:rPr>
              <a:t>for Forged Par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2"/>
          <a:stretch/>
        </p:blipFill>
        <p:spPr>
          <a:xfrm>
            <a:off x="395280" y="4437000"/>
            <a:ext cx="1565280" cy="1584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781360" y="4818240"/>
            <a:ext cx="1006560" cy="512640"/>
          </a:xfrm>
          <a:custGeom>
            <a:avLst/>
            <a:gdLst/>
            <a:ahLst/>
            <a:rect l="l" t="t" r="r" b="b"/>
            <a:pathLst>
              <a:path w="706" h="268">
                <a:moveTo>
                  <a:pt x="706" y="0"/>
                </a:moveTo>
                <a:cubicBezTo>
                  <a:pt x="657" y="71"/>
                  <a:pt x="608" y="142"/>
                  <a:pt x="518" y="158"/>
                </a:cubicBezTo>
                <a:cubicBezTo>
                  <a:pt x="428" y="174"/>
                  <a:pt x="249" y="78"/>
                  <a:pt x="163" y="96"/>
                </a:cubicBezTo>
                <a:cubicBezTo>
                  <a:pt x="77" y="114"/>
                  <a:pt x="29" y="238"/>
                  <a:pt x="0" y="268"/>
                </a:cubicBezTo>
              </a:path>
            </a:pathLst>
          </a:custGeom>
          <a:noFill/>
          <a:ln w="93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81360" y="4970520"/>
            <a:ext cx="116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2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96760" y="193824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D/C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engt Olsson, Sandvik Too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CB0A-15C8-414A-8909-387BABA4737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rch 10th, 2008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808080"/>
                </a:solidFill>
                <a:latin typeface="Arial"/>
              </a:rPr>
              <a:t>Cutting Tool Information</a:t>
            </a: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t multiple levels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356000" y="1341360"/>
            <a:ext cx="4451400" cy="3654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619880" y="1568520"/>
            <a:ext cx="18950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tual &amp;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ufa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2043000"/>
            <a:ext cx="1090440" cy="1508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2043000"/>
            <a:ext cx="1090440" cy="3747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2349360"/>
            <a:ext cx="40338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171000" indent="-1710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Types of inform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171000" indent="-171000">
              <a:lnSpc>
                <a:spcPct val="10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ometrical ”catalog data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171000" indent="-171000">
              <a:lnSpc>
                <a:spcPct val="10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100" spc="-1" strike="noStrike">
                <a:solidFill>
                  <a:srgbClr val="000000"/>
                </a:solidFill>
                <a:latin typeface="Arial"/>
              </a:rPr>
              <a:t>Price and deliver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171000" indent="-171000">
              <a:lnSpc>
                <a:spcPct val="10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ol assembly inform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171000" indent="-171000">
              <a:lnSpc>
                <a:spcPct val="10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0240" indent="-1972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utting da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90240" indent="-1972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machining data calculation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90240" indent="-1972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1000" indent="-171000">
              <a:lnSpc>
                <a:spcPct val="10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0240" indent="-1972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olerance, time, cos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823080" y="1528920"/>
            <a:ext cx="1781280" cy="14619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873840" y="1571760"/>
            <a:ext cx="1692360" cy="137448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788000" y="2259000"/>
            <a:ext cx="1780920" cy="1461960"/>
            <a:chOff x="4788000" y="2259000"/>
            <a:chExt cx="1780920" cy="1461960"/>
          </a:xfrm>
        </p:grpSpPr>
        <p:pic>
          <p:nvPicPr>
            <p:cNvPr id="142" name="" descr=""/>
            <p:cNvPicPr/>
            <p:nvPr/>
          </p:nvPicPr>
          <p:blipFill>
            <a:blip r:embed="rId3"/>
            <a:stretch/>
          </p:blipFill>
          <p:spPr>
            <a:xfrm>
              <a:off x="4788000" y="2259000"/>
              <a:ext cx="178092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4920840" y="2342880"/>
              <a:ext cx="1238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40200" y="2298600"/>
              <a:ext cx="1692000" cy="1374120"/>
            </a:xfrm>
            <a:prstGeom prst="rect">
              <a:avLst/>
            </a:prstGeom>
            <a:noFill/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" name="" descr=""/>
            <p:cNvPicPr/>
            <p:nvPr/>
          </p:nvPicPr>
          <p:blipFill>
            <a:blip r:embed="rId4"/>
            <a:stretch/>
          </p:blipFill>
          <p:spPr>
            <a:xfrm>
              <a:off x="4984560" y="2874600"/>
              <a:ext cx="641160" cy="72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6391440" y="2103480"/>
            <a:ext cx="1780920" cy="14619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rcRect l="0" t="0" r="14273" b="0"/>
          <a:stretch/>
        </p:blipFill>
        <p:spPr>
          <a:xfrm>
            <a:off x="6994440" y="2192400"/>
            <a:ext cx="1081080" cy="1063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438960" y="2146320"/>
            <a:ext cx="1692360" cy="1374840"/>
          </a:xfrm>
          <a:prstGeom prst="rect">
            <a:avLst/>
          </a:prstGeom>
          <a:noFill/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5959440" y="2679840"/>
            <a:ext cx="1781280" cy="1461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004080" y="2716200"/>
            <a:ext cx="1692000" cy="13748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8"/>
          <a:stretch/>
        </p:blipFill>
        <p:spPr>
          <a:xfrm>
            <a:off x="5527800" y="3255840"/>
            <a:ext cx="1780920" cy="14623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659560" y="3340080"/>
            <a:ext cx="67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080" y="2771640"/>
            <a:ext cx="79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22840" y="2190600"/>
            <a:ext cx="100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chi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40440" y="1609560"/>
            <a:ext cx="1012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sp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196040" y="3030480"/>
            <a:ext cx="165240" cy="22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621560" y="2464920"/>
            <a:ext cx="146160" cy="203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8034480" y="1887480"/>
            <a:ext cx="15228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6896160" y="3330720"/>
            <a:ext cx="237960" cy="333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7358040" y="2754000"/>
            <a:ext cx="195120" cy="2761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7767720" y="2177640"/>
            <a:ext cx="209520" cy="2905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5931000" y="3554280"/>
            <a:ext cx="1079280" cy="9572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580000" y="3295800"/>
            <a:ext cx="1692360" cy="1374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48240" y="2222640"/>
            <a:ext cx="2171520" cy="3096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59400" y="2490840"/>
            <a:ext cx="1800000" cy="6141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0"/>
          <a:stretch/>
        </p:blipFill>
        <p:spPr>
          <a:xfrm>
            <a:off x="1908000" y="1538280"/>
            <a:ext cx="1335240" cy="493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333600" y="2055960"/>
            <a:ext cx="103356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67320" y="2328840"/>
            <a:ext cx="1019160" cy="2332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engt Olsson, Sandvik Too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DB35-3689-46B8-8FAA-53C054D39D9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rch 10th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808080"/>
                </a:solidFill>
                <a:latin typeface="Arial"/>
              </a:rPr>
              <a:t>Cutting Tool Information</a:t>
            </a: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br>
              <a:rPr sz="3200"/>
            </a:br>
            <a:r>
              <a:rPr b="0" lang="sv-SE" sz="2400" spc="-1" strike="noStrike">
                <a:solidFill>
                  <a:srgbClr val="808080"/>
                </a:solidFill>
                <a:latin typeface="Arial"/>
              </a:rPr>
              <a:t>Possible demands from AP238 (ISO10303-238)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58560" y="1978200"/>
            <a:ext cx="83898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4600" indent="-174600">
              <a:spcBef>
                <a:spcPts val="476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9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01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01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01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physical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76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9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01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magazin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76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9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01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01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76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900" spc="-1" strike="noStrike">
                <a:solidFill>
                  <a:srgbClr val="000000"/>
                </a:solidFill>
                <a:latin typeface="Arial"/>
              </a:rPr>
              <a:t>Proper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01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engt Olsson, Sandvik Too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1527-878D-4A41-89E5-962FD458E3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rch 10th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7T12:53:27Z</dcterms:created>
  <dc:creator>ds8735</dc:creator>
  <dc:description/>
  <dc:language>en-US</dc:language>
  <cp:lastModifiedBy>Bengt Olsson</cp:lastModifiedBy>
  <cp:lastPrinted>2004-02-19T14:59:58Z</cp:lastPrinted>
  <dcterms:modified xsi:type="dcterms:W3CDTF">2008-03-09T15:41:25Z</dcterms:modified>
  <cp:revision>738</cp:revision>
  <dc:subject/>
  <dc:title>Ingen bildrubrik</dc:title>
</cp:coreProperties>
</file>