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0971341-A2EC-4029-8B8F-1DD287EA77A9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7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31400" cy="684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46200" y="631440"/>
            <a:ext cx="5568840" cy="1647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EP-NC Plate Cutting and Marking Extension for AP238 E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43720" y="5291280"/>
            <a:ext cx="3827880" cy="1108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33640" y="4946760"/>
            <a:ext cx="731880" cy="161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4760" y="4718160"/>
            <a:ext cx="2439720" cy="183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34200" y="4724280"/>
            <a:ext cx="2422440" cy="1817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0515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Plasma Cutter / Laser Mar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2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 existing AP238 CNC interface to export codes for ESAB contr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unique codes, machine peculiarities, close contact with EB personel required to understand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ventions for setup and registration of the plate, coordinate system transformations for near/far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STEP-NC program for entire pl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plit into separate programs to cover near-side marking, far-side marking and cut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3760" y="4761000"/>
            <a:ext cx="167796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5840" y="6130800"/>
            <a:ext cx="182196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AB Near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6560" y="5632560"/>
            <a:ext cx="168624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AB Far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09560" y="6021360"/>
            <a:ext cx="194400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AB Plasma C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9" idx="2"/>
            <a:endCxn id="90" idx="3"/>
          </p:cNvCxnSpPr>
          <p:nvPr/>
        </p:nvCxnSpPr>
        <p:spPr>
          <a:xfrm rot="5400000">
            <a:off x="3952800" y="5628600"/>
            <a:ext cx="915120" cy="46584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9" idx="2"/>
            <a:endCxn id="92" idx="1"/>
          </p:cNvCxnSpPr>
          <p:nvPr/>
        </p:nvCxnSpPr>
        <p:spPr>
          <a:xfrm flipH="1" rot="16200000">
            <a:off x="4523400" y="5523120"/>
            <a:ext cx="805320" cy="56592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1" idx="3"/>
          </p:cNvCxnSpPr>
          <p:nvPr/>
        </p:nvCxnSpPr>
        <p:spPr>
          <a:xfrm rot="5400000">
            <a:off x="4134960" y="5311800"/>
            <a:ext cx="416520" cy="60048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552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Codes and Peculiar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me APT and ESAB codes are rather obsc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ample, marking the tex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-STEP11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APT:  MARK/ 45, 83, 84, 69, 80, 49, 49,  0,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presented as numbers corresponding to ASC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SAB Co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100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89D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81D0.37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82D271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8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STEP1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7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, there are machine peculiarities like ordering of codes, decimal points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75160" y="3098880"/>
            <a:ext cx="5072040" cy="227628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470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onset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2280" y="1222200"/>
            <a:ext cx="3797280" cy="26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9, 2007, Marked and cut the test part at EB Quonset Point fac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ing and cutting successful.   Minor issue discovered with ordering of an ESAB marking code, corrected on si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tor no substitute for the real thing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3240" y="984240"/>
            <a:ext cx="3759120" cy="281952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66840" y="4032360"/>
            <a:ext cx="6597720" cy="236844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219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s STEP-NC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49240" y="1730520"/>
            <a:ext cx="589680" cy="4176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6520" y="2432160"/>
            <a:ext cx="1096200" cy="4176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w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3600" y="1700280"/>
            <a:ext cx="130140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45200" y="1330200"/>
            <a:ext cx="1782000" cy="123264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-Code Nea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r Mark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6240" y="4371840"/>
            <a:ext cx="92952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05880" y="4402080"/>
            <a:ext cx="1074600" cy="4176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3600" y="4371840"/>
            <a:ext cx="130140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5640" y="4402080"/>
            <a:ext cx="1074600" cy="4176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3117960"/>
            <a:ext cx="84276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86240" y="5784840"/>
            <a:ext cx="447120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or other value ad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240" y="487044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04160" y="250812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851520" y="36507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65320" y="487044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9" idx="3"/>
            <a:endCxn id="104" idx="1"/>
          </p:cNvCxnSpPr>
          <p:nvPr/>
        </p:nvCxnSpPr>
        <p:spPr>
          <a:xfrm>
            <a:off x="1720440" y="1933200"/>
            <a:ext cx="9248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4" idx="3"/>
            <a:endCxn id="106" idx="1"/>
          </p:cNvCxnSpPr>
          <p:nvPr/>
        </p:nvCxnSpPr>
        <p:spPr>
          <a:xfrm>
            <a:off x="3242880" y="1933200"/>
            <a:ext cx="8960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6" idx="3"/>
            <a:endCxn id="107" idx="1"/>
          </p:cNvCxnSpPr>
          <p:nvPr/>
        </p:nvCxnSpPr>
        <p:spPr>
          <a:xfrm>
            <a:off x="5449680" y="1933200"/>
            <a:ext cx="702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3"/>
            <a:endCxn id="109" idx="1"/>
          </p:cNvCxnSpPr>
          <p:nvPr/>
        </p:nvCxnSpPr>
        <p:spPr>
          <a:xfrm>
            <a:off x="1720800" y="4605120"/>
            <a:ext cx="6818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9" idx="3"/>
            <a:endCxn id="110" idx="1"/>
          </p:cNvCxnSpPr>
          <p:nvPr/>
        </p:nvCxnSpPr>
        <p:spPr>
          <a:xfrm>
            <a:off x="3484080" y="4605120"/>
            <a:ext cx="6548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0" idx="3"/>
            <a:endCxn id="111" idx="1"/>
          </p:cNvCxnSpPr>
          <p:nvPr/>
        </p:nvCxnSpPr>
        <p:spPr>
          <a:xfrm>
            <a:off x="5449680" y="4605120"/>
            <a:ext cx="702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786240" y="1700280"/>
            <a:ext cx="92952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9" idx="2"/>
            <a:endCxn id="105" idx="1"/>
          </p:cNvCxnSpPr>
          <p:nvPr/>
        </p:nvCxnSpPr>
        <p:spPr>
          <a:xfrm flipH="1" rot="16200000">
            <a:off x="1586520" y="1830600"/>
            <a:ext cx="469080" cy="114048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47480" y="1060560"/>
            <a:ext cx="2032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Proc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120" y="3803760"/>
            <a:ext cx="2210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Proc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924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ons to the STEP-NC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680" y="79848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0760" y="3193920"/>
            <a:ext cx="2058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 point, tool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7280" y="288936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63560" y="4181400"/>
            <a:ext cx="32832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640" rIns="143640" tIns="89640" bIns="8964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 milling, side milling, drilling, </a:t>
            </a: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plate cutting, plate 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7760" y="1365120"/>
            <a:ext cx="10634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03880" y="387684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3760" y="2736720"/>
            <a:ext cx="152280" cy="15264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3000" y="1701720"/>
            <a:ext cx="2849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, if/then, parallel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46960" y="136692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5400" y="5889600"/>
            <a:ext cx="4983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 location trajectory, cutter contact trajectory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98960" y="5584680"/>
            <a:ext cx="0" cy="30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9320" y="3117960"/>
            <a:ext cx="29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640" rIns="143640" tIns="89640" bIns="8964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, plane, hole, region, </a:t>
            </a: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possible future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33840" y="281304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58960" y="1441440"/>
            <a:ext cx="9720" cy="990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2000" y="1136520"/>
            <a:ext cx="12024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34920" y="21877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53040" y="2894040"/>
            <a:ext cx="608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5680" y="317808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08720" y="1450800"/>
            <a:ext cx="0" cy="981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27280" y="1069920"/>
            <a:ext cx="12711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1360" y="2514600"/>
            <a:ext cx="24109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328640" y="2666880"/>
            <a:ext cx="1063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16200000">
            <a:off x="5721120" y="4069440"/>
            <a:ext cx="382680" cy="3049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30440" y="5784840"/>
            <a:ext cx="6156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66800" y="4718160"/>
            <a:ext cx="1926360" cy="42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44480" y="5251320"/>
            <a:ext cx="1010520" cy="42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6200000">
            <a:off x="5037120" y="4451040"/>
            <a:ext cx="16002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6200000">
            <a:off x="4773960" y="4713120"/>
            <a:ext cx="1973520" cy="60804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356360" y="4523400"/>
            <a:ext cx="1441440" cy="4554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18160" y="49467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517760" y="2743200"/>
            <a:ext cx="7603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025800" y="5472000"/>
            <a:ext cx="7603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59480" y="5270400"/>
            <a:ext cx="10105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7400" y="12128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7400" y="259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35440" y="532116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85800" y="984240"/>
            <a:ext cx="1254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s workpie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ck, fixt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r tool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9000" y="5861160"/>
            <a:ext cx="167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cf0e30"/>
                </a:solidFill>
                <a:latin typeface="Arial"/>
              </a:rPr>
              <a:t>possible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5000" y="4184640"/>
            <a:ext cx="1271160" cy="42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rot="16200000">
            <a:off x="5405040" y="4263120"/>
            <a:ext cx="986040" cy="38124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20200" y="3575160"/>
            <a:ext cx="2173320" cy="42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36" idx="2"/>
            <a:endCxn id="170" idx="1"/>
          </p:cNvCxnSpPr>
          <p:nvPr/>
        </p:nvCxnSpPr>
        <p:spPr>
          <a:xfrm flipH="1" rot="16200000">
            <a:off x="3535200" y="3242520"/>
            <a:ext cx="903960" cy="21528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72" name=""/>
          <p:cNvCxnSpPr>
            <a:stCxn id="150" idx="2"/>
            <a:endCxn id="170" idx="3"/>
          </p:cNvCxnSpPr>
          <p:nvPr/>
        </p:nvCxnSpPr>
        <p:spPr>
          <a:xfrm rot="5400000">
            <a:off x="6030000" y="3234240"/>
            <a:ext cx="857880" cy="27828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73" name=""/>
          <p:cNvSpPr/>
          <p:nvPr/>
        </p:nvSpPr>
        <p:spPr>
          <a:xfrm>
            <a:off x="2294280" y="2514600"/>
            <a:ext cx="19584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590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RM E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412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cutting_ope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marking_ope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explicit_text_-marking_ope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workpiece_id_-marking_ope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line_marking_-ope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_retract_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lead_strate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lead_lin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lead_tang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1840" y="1222200"/>
            <a:ext cx="3797280" cy="446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224 marking sub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cutting_techn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marking_techn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e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machine_fun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ing_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_tool (placehold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620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3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peration can specify explicit 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oolpath specifies a curve, technology parameters and machine state information can vary between th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84240" y="4260960"/>
            <a:ext cx="548640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93720" y="4718160"/>
            <a:ext cx="1067040" cy="3808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40120" y="4718160"/>
            <a:ext cx="3228840" cy="1143000"/>
          </a:xfrm>
          <a:custGeom>
            <a:avLst/>
            <a:gdLst/>
            <a:ahLst/>
            <a:rect l="l" t="t" r="r" b="b"/>
            <a:pathLst>
              <a:path w="2034" h="720">
                <a:moveTo>
                  <a:pt x="16" y="0"/>
                </a:moveTo>
                <a:lnTo>
                  <a:pt x="16" y="432"/>
                </a:lnTo>
                <a:cubicBezTo>
                  <a:pt x="23" y="535"/>
                  <a:pt x="0" y="573"/>
                  <a:pt x="56" y="621"/>
                </a:cubicBezTo>
                <a:cubicBezTo>
                  <a:pt x="112" y="669"/>
                  <a:pt x="79" y="704"/>
                  <a:pt x="352" y="720"/>
                </a:cubicBezTo>
                <a:lnTo>
                  <a:pt x="1696" y="720"/>
                </a:lnTo>
                <a:cubicBezTo>
                  <a:pt x="1967" y="708"/>
                  <a:pt x="1922" y="698"/>
                  <a:pt x="1978" y="650"/>
                </a:cubicBezTo>
                <a:cubicBezTo>
                  <a:pt x="2034" y="602"/>
                  <a:pt x="2023" y="540"/>
                  <a:pt x="2032" y="432"/>
                </a:cubicBezTo>
                <a:lnTo>
                  <a:pt x="2032" y="0"/>
                </a:lnTo>
                <a:lnTo>
                  <a:pt x="16" y="0"/>
                </a:lnTo>
                <a:close/>
              </a:path>
            </a:pathLst>
          </a:cu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1440" y="5175360"/>
            <a:ext cx="1066680" cy="3808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89160" y="5632560"/>
            <a:ext cx="1066680" cy="3808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4400" y="2592360"/>
            <a:ext cx="193932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tting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3040" y="4718160"/>
            <a:ext cx="358128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86040" y="4411800"/>
            <a:ext cx="3630600" cy="1406520"/>
          </a:xfrm>
          <a:custGeom>
            <a:avLst/>
            <a:gdLst/>
            <a:ahLst/>
            <a:rect l="l" t="t" r="r" b="b"/>
            <a:pathLst>
              <a:path w="2287" h="886">
                <a:moveTo>
                  <a:pt x="2287" y="187"/>
                </a:moveTo>
                <a:cubicBezTo>
                  <a:pt x="2266" y="250"/>
                  <a:pt x="2164" y="662"/>
                  <a:pt x="2085" y="756"/>
                </a:cubicBezTo>
                <a:cubicBezTo>
                  <a:pt x="2008" y="839"/>
                  <a:pt x="2044" y="875"/>
                  <a:pt x="1739" y="886"/>
                </a:cubicBezTo>
                <a:lnTo>
                  <a:pt x="263" y="879"/>
                </a:lnTo>
                <a:cubicBezTo>
                  <a:pt x="229" y="886"/>
                  <a:pt x="170" y="878"/>
                  <a:pt x="98" y="835"/>
                </a:cubicBezTo>
                <a:cubicBezTo>
                  <a:pt x="26" y="792"/>
                  <a:pt x="0" y="746"/>
                  <a:pt x="33" y="612"/>
                </a:cubicBezTo>
                <a:lnTo>
                  <a:pt x="263" y="0"/>
                </a:lnTo>
              </a:path>
            </a:pathLst>
          </a:custGeom>
          <a:noFill/>
          <a:ln w="38160">
            <a:solidFill>
              <a:srgbClr val="cf0e3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79960" y="2965320"/>
            <a:ext cx="124056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vel = 45d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3800" y="5126040"/>
            <a:ext cx="115524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vel = 0d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81400" y="3552840"/>
            <a:ext cx="1635840" cy="70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f =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ight sensor =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4" idx="3"/>
            <a:endCxn id="191" idx="0"/>
          </p:cNvCxnSpPr>
          <p:nvPr/>
        </p:nvCxnSpPr>
        <p:spPr>
          <a:xfrm>
            <a:off x="3129120" y="2779200"/>
            <a:ext cx="910080" cy="5756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3"/>
            <a:endCxn id="193" idx="0"/>
          </p:cNvCxnSpPr>
          <p:nvPr/>
        </p:nvCxnSpPr>
        <p:spPr>
          <a:xfrm>
            <a:off x="3128760" y="2779560"/>
            <a:ext cx="4902840" cy="1642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1" idx="3"/>
            <a:endCxn id="187" idx="1"/>
          </p:cNvCxnSpPr>
          <p:nvPr/>
        </p:nvCxnSpPr>
        <p:spPr>
          <a:xfrm flipV="1">
            <a:off x="4576320" y="3218760"/>
            <a:ext cx="505800" cy="322920"/>
          </a:xfrm>
          <a:prstGeom prst="bentConnector3">
            <a:avLst>
              <a:gd name="adj1" fmla="val 49643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3" idx="2"/>
            <a:endCxn id="188" idx="0"/>
          </p:cNvCxnSpPr>
          <p:nvPr/>
        </p:nvCxnSpPr>
        <p:spPr>
          <a:xfrm flipV="1" rot="10800000">
            <a:off x="8030520" y="4793760"/>
            <a:ext cx="1080" cy="3326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1" idx="3"/>
            <a:endCxn id="189" idx="1"/>
          </p:cNvCxnSpPr>
          <p:nvPr/>
        </p:nvCxnSpPr>
        <p:spPr>
          <a:xfrm>
            <a:off x="4576320" y="3541680"/>
            <a:ext cx="505800" cy="365760"/>
          </a:xfrm>
          <a:prstGeom prst="bentConnector3">
            <a:avLst>
              <a:gd name="adj1" fmla="val 49643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3" idx="1"/>
            <a:endCxn id="189" idx="3"/>
          </p:cNvCxnSpPr>
          <p:nvPr/>
        </p:nvCxnSpPr>
        <p:spPr>
          <a:xfrm rot="10800000">
            <a:off x="6716160" y="3906000"/>
            <a:ext cx="775080" cy="7023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4032360" y="3651120"/>
            <a:ext cx="304560" cy="9907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0"/>
                </a:moveTo>
                <a:cubicBezTo>
                  <a:pt x="16" y="152"/>
                  <a:pt x="32" y="304"/>
                  <a:pt x="48" y="336"/>
                </a:cubicBezTo>
                <a:cubicBezTo>
                  <a:pt x="64" y="368"/>
                  <a:pt x="72" y="144"/>
                  <a:pt x="96" y="192"/>
                </a:cubicBezTo>
                <a:cubicBezTo>
                  <a:pt x="120" y="240"/>
                  <a:pt x="156" y="432"/>
                  <a:pt x="192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0640" y="3354480"/>
            <a:ext cx="107388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94320" y="471816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816" y="0"/>
                </a:moveTo>
                <a:cubicBezTo>
                  <a:pt x="532" y="60"/>
                  <a:pt x="248" y="120"/>
                  <a:pt x="192" y="144"/>
                </a:cubicBezTo>
                <a:cubicBezTo>
                  <a:pt x="136" y="168"/>
                  <a:pt x="512" y="120"/>
                  <a:pt x="480" y="144"/>
                </a:cubicBezTo>
                <a:cubicBezTo>
                  <a:pt x="448" y="168"/>
                  <a:pt x="16" y="264"/>
                  <a:pt x="0" y="2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93400" y="4421160"/>
            <a:ext cx="107388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1193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-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08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peration can be associated with a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egies for lead in/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vel for entire profile?   Taper on featur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84240" y="4260960"/>
            <a:ext cx="548640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93720" y="4718160"/>
            <a:ext cx="1067040" cy="3808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40120" y="4718160"/>
            <a:ext cx="3228840" cy="1143000"/>
          </a:xfrm>
          <a:custGeom>
            <a:avLst/>
            <a:gdLst/>
            <a:ahLst/>
            <a:rect l="l" t="t" r="r" b="b"/>
            <a:pathLst>
              <a:path w="2034" h="720">
                <a:moveTo>
                  <a:pt x="16" y="0"/>
                </a:moveTo>
                <a:lnTo>
                  <a:pt x="16" y="432"/>
                </a:lnTo>
                <a:cubicBezTo>
                  <a:pt x="23" y="535"/>
                  <a:pt x="0" y="573"/>
                  <a:pt x="56" y="621"/>
                </a:cubicBezTo>
                <a:cubicBezTo>
                  <a:pt x="112" y="669"/>
                  <a:pt x="79" y="704"/>
                  <a:pt x="352" y="720"/>
                </a:cubicBezTo>
                <a:lnTo>
                  <a:pt x="1696" y="720"/>
                </a:lnTo>
                <a:cubicBezTo>
                  <a:pt x="1967" y="708"/>
                  <a:pt x="1922" y="698"/>
                  <a:pt x="1978" y="650"/>
                </a:cubicBezTo>
                <a:cubicBezTo>
                  <a:pt x="2034" y="602"/>
                  <a:pt x="2023" y="540"/>
                  <a:pt x="2032" y="432"/>
                </a:cubicBezTo>
                <a:lnTo>
                  <a:pt x="2032" y="0"/>
                </a:lnTo>
                <a:lnTo>
                  <a:pt x="16" y="0"/>
                </a:lnTo>
                <a:close/>
              </a:path>
            </a:pathLst>
          </a:cu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1440" y="5175360"/>
            <a:ext cx="1066680" cy="3808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9160" y="5632560"/>
            <a:ext cx="1066680" cy="3808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4400" y="2592360"/>
            <a:ext cx="193932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tting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03720" y="2077920"/>
            <a:ext cx="162792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ar lead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 = 2 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7" idx="3"/>
            <a:endCxn id="208" idx="2"/>
          </p:cNvCxnSpPr>
          <p:nvPr/>
        </p:nvCxnSpPr>
        <p:spPr>
          <a:xfrm flipV="1">
            <a:off x="3129120" y="2584080"/>
            <a:ext cx="4590000" cy="195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6903720" y="2965320"/>
            <a:ext cx="162792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ar lead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 = 1 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7" idx="3"/>
            <a:endCxn id="210" idx="0"/>
          </p:cNvCxnSpPr>
          <p:nvPr/>
        </p:nvCxnSpPr>
        <p:spPr>
          <a:xfrm>
            <a:off x="3129120" y="2779560"/>
            <a:ext cx="4590000" cy="1864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7396200" y="182232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d-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7200" y="34988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d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7960" y="4794120"/>
            <a:ext cx="75960" cy="76320"/>
          </a:xfrm>
          <a:prstGeom prst="ellipse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7240" y="2965320"/>
            <a:ext cx="990720" cy="1752840"/>
          </a:xfrm>
          <a:custGeom>
            <a:avLst/>
            <a:gdLst/>
            <a:ahLst/>
            <a:rect l="l" t="t" r="r" b="b"/>
            <a:pathLst>
              <a:path w="624" h="1104">
                <a:moveTo>
                  <a:pt x="0" y="0"/>
                </a:moveTo>
                <a:cubicBezTo>
                  <a:pt x="72" y="184"/>
                  <a:pt x="144" y="368"/>
                  <a:pt x="192" y="432"/>
                </a:cubicBezTo>
                <a:cubicBezTo>
                  <a:pt x="240" y="496"/>
                  <a:pt x="216" y="272"/>
                  <a:pt x="288" y="384"/>
                </a:cubicBezTo>
                <a:cubicBezTo>
                  <a:pt x="360" y="496"/>
                  <a:pt x="492" y="800"/>
                  <a:pt x="624" y="110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8400" y="372744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07" idx="3"/>
            <a:endCxn id="218" idx="1"/>
          </p:cNvCxnSpPr>
          <p:nvPr/>
        </p:nvCxnSpPr>
        <p:spPr>
          <a:xfrm>
            <a:off x="3129120" y="2779560"/>
            <a:ext cx="1953000" cy="440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079960" y="2965320"/>
            <a:ext cx="124056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vel = 45d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81400" y="3552840"/>
            <a:ext cx="1635840" cy="70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f =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ight sensor =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07" idx="3"/>
            <a:endCxn id="219" idx="1"/>
          </p:cNvCxnSpPr>
          <p:nvPr/>
        </p:nvCxnSpPr>
        <p:spPr>
          <a:xfrm>
            <a:off x="3129120" y="2779200"/>
            <a:ext cx="1953000" cy="11278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3390120" y="4870440"/>
            <a:ext cx="26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ature profile (from working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929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Issues for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7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of current APT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ness of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Toolpaths vs. Features and 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505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- A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31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capabilities we have s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BOTTOM  Bottom bevel pass on multi-pass ed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DUMMY   Dummy cycle to define part perime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FAR     Far side single-pass b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LAND    Land pass on multi-pass ed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NEAR    Near side single-pass b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PLABEL  Near side laser marked part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PLABELF Far side laser marked part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PLASMA  Straight cut pass. No bevels on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PMARK   Near side punchmarked/laser marked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PMARKF  Far side laser marked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STRGHT  Straight cut single pass entity on bevel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TEXT    Near side laser mark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TEXTF   Far side laser mark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/TOP     Top bevel pass on multi-pass ed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470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Plate ARM Ex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9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for cutting and marking from actual shipbuilding data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203 geometry for plate sha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IA APT to describe the marking and cutting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straight and bevel cuts, line and text ma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ed AP238 CC2 data to describe plate and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typed tools to drive ESAB plasma cutter and laser marking machines from AP238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 actual plate at EB Quonset Point fac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505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- A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07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capabilities we have not seen or te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CYCLE/BEVEL   GX3 style bevel p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CYCLE/LABEL   Old style part label (GX4 marker suppo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CYCLE/OXFUEL  Oxyfuel - GX3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CYCLE/TAB     Straight cut pass to cut ta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593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-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2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ness of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ed for laser marking and plasma cut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other parameters needed for laser cutting, oxyfuel cutting, water cutting, punch marking?  oth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 styles for marking, depth of markin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 marking of plat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to simplify nestin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distan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example to verify that plate material and thickness can be mode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857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– Toolpath vs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166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Toolpaths vs. Features and 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existing general profile and pocket features, text marking features (in aim, but not ar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ing bevels and tabs at the featur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 leads vs. lead strategie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79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75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 ARM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process improvement opportun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veling for small and/or detailed ed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 quality control (e.g bounce preven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 chain interoper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at second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e A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e increase in data qu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 of extended NC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olidation into cohesive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4760" y="831960"/>
            <a:ext cx="8299440" cy="566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7040" y="907920"/>
            <a:ext cx="2890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999-0001S1 3D MODEL with footprint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39760" y="1900080"/>
            <a:ext cx="228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9990002-STE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37120" y="5572080"/>
            <a:ext cx="228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9990002-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5880" y="2281320"/>
            <a:ext cx="455760" cy="531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937120" y="4492440"/>
            <a:ext cx="836640" cy="98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911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CATIA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38320" y="907920"/>
            <a:ext cx="7000920" cy="2965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58760" y="4038480"/>
            <a:ext cx="7159680" cy="273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1440" y="3270240"/>
            <a:ext cx="60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9990002-STEP2 with far side footprints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637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and Marking A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2036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 AP238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96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PT data to produce AP238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tools already developed for milling and turning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AP238 “extended nc function” instances for extra plate cutting APT data like head on/off, bevel angle, marking line 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ually extend AP238 to hold these in the operation technology descri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TEP geometry to the process to see in context of workpie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 location required moving geometry 100 yar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6111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238 Data for Plate Cutting and Bev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299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Manufacturing Preparatio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60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designed, cuts start right on ed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plasma cutting, lead ins and lead outs are required to avoid gouging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important for bevels to give cutting head time to traverse into position after pier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utilities to add lead ins and lead outs to the STEP-NC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, these are added by nesting systems like Optimation, Majestic, Sigmanest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ystems could read and write STEP-NC in the fu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367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Manufacturing Pre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07920" y="4032360"/>
          <a:ext cx="304812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4032360"/>
                    <a:ext cx="3048120" cy="21700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84240" y="984240"/>
            <a:ext cx="2971800" cy="2895480"/>
          </a:xfrm>
          <a:prstGeom prst="downArrowCallout">
            <a:avLst>
              <a:gd name="adj1" fmla="val 25661"/>
              <a:gd name="adj2" fmla="val 25659"/>
              <a:gd name="adj3" fmla="val 16667"/>
              <a:gd name="adj4" fmla="val 74306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0560" y="1060560"/>
          <a:ext cx="28191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0560" y="1060560"/>
                    <a:ext cx="2819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260960" y="1096920"/>
            <a:ext cx="3213360" cy="4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gential Entry/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718160" y="1746360"/>
            <a:ext cx="3860640" cy="447192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367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Manufacturing Pre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8120" y="3651120"/>
          <a:ext cx="2489400" cy="21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3651120"/>
                    <a:ext cx="2489400" cy="21942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50720" y="4260960"/>
          <a:ext cx="2819520" cy="19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720" y="4260960"/>
                    <a:ext cx="2819520" cy="19177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984240" y="888840"/>
            <a:ext cx="3124080" cy="2533680"/>
          </a:xfrm>
          <a:prstGeom prst="downArrowCallout">
            <a:avLst>
              <a:gd name="adj1" fmla="val 30828"/>
              <a:gd name="adj2" fmla="val 30826"/>
              <a:gd name="adj3" fmla="val 16667"/>
              <a:gd name="adj4" fmla="val 74306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0560" y="984240"/>
          <a:ext cx="2971800" cy="16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0560" y="984240"/>
                    <a:ext cx="297180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720320" y="1060560"/>
            <a:ext cx="1857240" cy="4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vel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556240" y="1822320"/>
            <a:ext cx="3146400" cy="410868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cp:keywords/>
  <dc:language>en-US</dc:language>
  <cp:lastModifiedBy>Dave Loffredo</cp:lastModifiedBy>
  <cp:lastPrinted>2001-08-16T01:33:48Z</cp:lastPrinted>
  <dcterms:modified xsi:type="dcterms:W3CDTF">2007-07-31T20:53:46Z</dcterms:modified>
  <cp:revision>829</cp:revision>
  <dc:subject/>
  <dc:title>STEP-NC Feature Harmonization</dc:title>
</cp:coreProperties>
</file>