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jpeg" ContentType="image/jpeg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19320" y="60912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99840" y="4398120"/>
            <a:ext cx="5598360" cy="41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376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3480" y="4397040"/>
            <a:ext cx="513072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33480" y="4354560"/>
            <a:ext cx="5129280" cy="416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F01B16D-F94B-4AE9-9A34-7970652BC37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7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Walkthroug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36920" y="4336920"/>
            <a:ext cx="1749600" cy="1370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36920" y="5478480"/>
            <a:ext cx="1749600" cy="4557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36920" y="4108320"/>
            <a:ext cx="1749600" cy="4572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6920" y="4870440"/>
            <a:ext cx="1749600" cy="45720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4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nd 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2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 features have been defined by AP-219 but have not yet been added to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features describe nominal form, with toleran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 operations describe measurement points with link to measured val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echnical barrier to adding AP-219 features, would further characterize the measurement poi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1280" y="3956040"/>
            <a:ext cx="138240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3"/>
            <a:endCxn id="151" idx="1"/>
          </p:cNvCxnSpPr>
          <p:nvPr/>
        </p:nvCxnSpPr>
        <p:spPr>
          <a:xfrm flipV="1">
            <a:off x="2444760" y="4174920"/>
            <a:ext cx="2148480" cy="103680"/>
          </a:xfrm>
          <a:prstGeom prst="curvedConnector5">
            <a:avLst>
              <a:gd name="adj1" fmla="val 44042"/>
              <a:gd name="adj2" fmla="val 193031"/>
              <a:gd name="adj3" fmla="val 44042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8" idx="3"/>
            <a:endCxn id="152" idx="2"/>
          </p:cNvCxnSpPr>
          <p:nvPr/>
        </p:nvCxnSpPr>
        <p:spPr>
          <a:xfrm flipV="1">
            <a:off x="2852280" y="5098320"/>
            <a:ext cx="1475640" cy="399240"/>
          </a:xfrm>
          <a:prstGeom prst="curvedConnector5">
            <a:avLst>
              <a:gd name="adj1" fmla="val 50268"/>
              <a:gd name="adj2" fmla="val 50000"/>
              <a:gd name="adj3" fmla="val 50268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60" idx="3"/>
            <a:endCxn id="152" idx="0"/>
          </p:cNvCxnSpPr>
          <p:nvPr/>
        </p:nvCxnSpPr>
        <p:spPr>
          <a:xfrm flipV="1">
            <a:off x="2700360" y="4860360"/>
            <a:ext cx="2512080" cy="484920"/>
          </a:xfrm>
          <a:prstGeom prst="curvedConnector5">
            <a:avLst>
              <a:gd name="adj1" fmla="val 32549"/>
              <a:gd name="adj2" fmla="val 72585"/>
              <a:gd name="adj3" fmla="val 32549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3"/>
            <a:endCxn id="152" idx="3"/>
          </p:cNvCxnSpPr>
          <p:nvPr/>
        </p:nvCxnSpPr>
        <p:spPr>
          <a:xfrm flipV="1">
            <a:off x="3157560" y="5270040"/>
            <a:ext cx="1435320" cy="532800"/>
          </a:xfrm>
          <a:prstGeom prst="curvedConnector2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604800" y="5022720"/>
            <a:ext cx="2703240" cy="1251720"/>
            <a:chOff x="604800" y="5022720"/>
            <a:chExt cx="2703240" cy="1251720"/>
          </a:xfrm>
        </p:grpSpPr>
        <p:sp>
          <p:nvSpPr>
            <p:cNvPr id="160" name=""/>
            <p:cNvSpPr/>
            <p:nvPr/>
          </p:nvSpPr>
          <p:spPr>
            <a:xfrm>
              <a:off x="604800" y="502272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6720" y="517536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9000" y="532764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1640" y="547992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3920" y="563256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1746360" y="4641480"/>
            <a:ext cx="0" cy="685800"/>
          </a:xfrm>
          <a:prstGeom prst="line">
            <a:avLst/>
          </a:prstGeom>
          <a:ln w="7632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0000" y="4521240"/>
            <a:ext cx="1311480" cy="118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u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7" idx="1"/>
            <a:endCxn id="152" idx="6"/>
          </p:cNvCxnSpPr>
          <p:nvPr/>
        </p:nvCxnSpPr>
        <p:spPr>
          <a:xfrm rot="10800000">
            <a:off x="6095160" y="5098320"/>
            <a:ext cx="832680" cy="16560"/>
          </a:xfrm>
          <a:prstGeom prst="curvedConnector5">
            <a:avLst>
              <a:gd name="adj1" fmla="val 50562"/>
              <a:gd name="adj2" fmla="val 48888"/>
              <a:gd name="adj3" fmla="val 50562"/>
            </a:avLst>
          </a:prstGeom>
          <a:ln w="57240">
            <a:solidFill>
              <a:srgbClr val="cf0e3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7577280" cy="544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99040" y="831960"/>
            <a:ext cx="3657600" cy="136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4760" y="831960"/>
            <a:ext cx="3873240" cy="155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Produc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Workpiece, PDM and Product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anufactu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Dimensions and 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easures and Par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6720" y="509904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Technolog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62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eart of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s containing a sequence of workingste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orkingstep associates an operation with a feature somewhere on the workpie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peration describes what to do (mill/drill/turn, toolpaths), tool requirements, strategies and parameter settings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formation than M and G codes.  Linked with geometric and technological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can be grouped and shared, e. g. tools, f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s specified in STEP geometry in part sp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shape and feature descriptions could be used by intelligent NC controllers for collision detection or even to calculate some tool mov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8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place, defines setup and main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control flow and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associates an operation and a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a workingstep does — plane mill, center drill, contour turning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or all technology-specific ext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detail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, feedrate and other technolo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 &amp; other machin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paths, plunge strategi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9" idx="2"/>
            <a:endCxn id="182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9" idx="2"/>
            <a:endCxn id="180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9" idx="2"/>
            <a:endCxn id="181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2" idx="2"/>
            <a:endCxn id="186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2" idx="2"/>
            <a:endCxn id="187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2" idx="2"/>
            <a:endCxn id="188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94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and Sequ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1" idx="2"/>
            <a:endCxn id="198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1" idx="2"/>
            <a:endCxn id="199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81" idx="2"/>
            <a:endCxn id="200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81" idx="2"/>
            <a:endCxn id="204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5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explicit control of the tool motion for an op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splines or other curves to describe motion and feed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path as machine independent motion of tool center point or tool contact po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describe path using old-style machine dependent motion of individual ax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84240" y="3803760"/>
          <a:ext cx="716292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803760"/>
                    <a:ext cx="716292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7577280" cy="5440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99040" y="83196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General Process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4760" y="831960"/>
            <a:ext cx="3873240" cy="155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Produc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Workpiece, PDM and Product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anufactu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Dimensions and 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easures and Par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36720" y="5099040"/>
            <a:ext cx="3657600" cy="136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46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39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trategy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ach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 and side milling, roughing and finis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form Mach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ouring, facing, grooving, threading and knur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800600" y="1212840"/>
          <a:ext cx="39924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212840"/>
                    <a:ext cx="39924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038480" y="2736720"/>
          <a:ext cx="4907160" cy="177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736720"/>
                    <a:ext cx="49071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851520" y="4718160"/>
            <a:ext cx="152640" cy="457200"/>
          </a:xfrm>
          <a:prstGeom prst="rect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5631840" y="5098680"/>
            <a:ext cx="990720" cy="129564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6851520" y="5099040"/>
            <a:ext cx="685800" cy="1295280"/>
          </a:xfrm>
          <a:prstGeom prst="can">
            <a:avLst>
              <a:gd name="adj" fmla="val 18134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700000">
            <a:off x="6851880" y="5098680"/>
            <a:ext cx="15228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848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and Turn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43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operation has an associated to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calls out required characteristic tool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link to product model for tool, including geomet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for some optimization by the controll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&amp;M codes just referenced tool #1, #2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an must make sure that #1 corresponds to the right th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 can not add any value to the proc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46760" y="1974960"/>
            <a:ext cx="1258920" cy="2641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394320" y="1517760"/>
            <a:ext cx="20955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242040" y="4532400"/>
            <a:ext cx="1749600" cy="13698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2040" y="5673600"/>
            <a:ext cx="1749600" cy="4557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2040" y="4303800"/>
            <a:ext cx="1749600" cy="4572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5065560"/>
            <a:ext cx="1749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8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uch Prob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5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has four prob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 Probing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be a single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Workpiece Probing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be for part ori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Length 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Radius 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tand alone, but workpiece probing most useful with associated feature and toler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66400" y="4151160"/>
            <a:ext cx="138240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3"/>
            <a:endCxn id="233" idx="1"/>
          </p:cNvCxnSpPr>
          <p:nvPr/>
        </p:nvCxnSpPr>
        <p:spPr>
          <a:xfrm flipV="1">
            <a:off x="4349880" y="4369680"/>
            <a:ext cx="2148480" cy="104040"/>
          </a:xfrm>
          <a:prstGeom prst="curvedConnector5">
            <a:avLst>
              <a:gd name="adj1" fmla="val 44042"/>
              <a:gd name="adj2" fmla="val 193055"/>
              <a:gd name="adj3" fmla="val 44042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40" idx="3"/>
            <a:endCxn id="234" idx="2"/>
          </p:cNvCxnSpPr>
          <p:nvPr/>
        </p:nvCxnSpPr>
        <p:spPr>
          <a:xfrm flipV="1">
            <a:off x="4757400" y="5293440"/>
            <a:ext cx="1485000" cy="39924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42" idx="3"/>
            <a:endCxn id="234" idx="0"/>
          </p:cNvCxnSpPr>
          <p:nvPr/>
        </p:nvCxnSpPr>
        <p:spPr>
          <a:xfrm flipV="1">
            <a:off x="4605480" y="5064840"/>
            <a:ext cx="2512080" cy="475560"/>
          </a:xfrm>
          <a:prstGeom prst="curvedConnector5">
            <a:avLst>
              <a:gd name="adj1" fmla="val 32549"/>
              <a:gd name="adj2" fmla="val 74015"/>
              <a:gd name="adj3" fmla="val 32549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4" idx="3"/>
            <a:endCxn id="234" idx="3"/>
          </p:cNvCxnSpPr>
          <p:nvPr/>
        </p:nvCxnSpPr>
        <p:spPr>
          <a:xfrm flipV="1">
            <a:off x="5062680" y="5455800"/>
            <a:ext cx="1435320" cy="542160"/>
          </a:xfrm>
          <a:prstGeom prst="curvedConnector2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grpSp>
        <p:nvGrpSpPr>
          <p:cNvPr id="245" name=""/>
          <p:cNvGrpSpPr/>
          <p:nvPr/>
        </p:nvGrpSpPr>
        <p:grpSpPr>
          <a:xfrm>
            <a:off x="2509560" y="5218200"/>
            <a:ext cx="2703960" cy="1251360"/>
            <a:chOff x="2509560" y="5218200"/>
            <a:chExt cx="2703960" cy="1251360"/>
          </a:xfrm>
        </p:grpSpPr>
        <p:sp>
          <p:nvSpPr>
            <p:cNvPr id="242" name=""/>
            <p:cNvSpPr/>
            <p:nvPr/>
          </p:nvSpPr>
          <p:spPr>
            <a:xfrm>
              <a:off x="2509560" y="521820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62200" y="537048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4480" y="552276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66760" y="567504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400" y="582768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3651120" y="4836600"/>
            <a:ext cx="0" cy="685800"/>
          </a:xfrm>
          <a:prstGeom prst="line">
            <a:avLst/>
          </a:prstGeom>
          <a:ln w="7632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720" y="3998880"/>
            <a:ext cx="114156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400" y="4761000"/>
            <a:ext cx="128628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37" idx="1"/>
          </p:cNvCxnSpPr>
          <p:nvPr/>
        </p:nvCxnSpPr>
        <p:spPr>
          <a:xfrm>
            <a:off x="1750680" y="4293720"/>
            <a:ext cx="1215000" cy="180360"/>
          </a:xfrm>
          <a:prstGeom prst="curvedConnector5">
            <a:avLst>
              <a:gd name="adj1" fmla="val 49911"/>
              <a:gd name="adj2" fmla="val 50000"/>
              <a:gd name="adj3" fmla="val 49911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3"/>
            <a:endCxn id="237" idx="1"/>
          </p:cNvCxnSpPr>
          <p:nvPr/>
        </p:nvCxnSpPr>
        <p:spPr>
          <a:xfrm flipV="1">
            <a:off x="1899720" y="4473360"/>
            <a:ext cx="1065960" cy="583200"/>
          </a:xfrm>
          <a:prstGeom prst="curvedConnector5">
            <a:avLst>
              <a:gd name="adj1" fmla="val 49898"/>
              <a:gd name="adj2" fmla="val 49969"/>
              <a:gd name="adj3" fmla="val 49898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7577280" cy="544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99040" y="83196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General Process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760" y="831960"/>
            <a:ext cx="3873240" cy="1559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 and Par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6720" y="509904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Technolog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05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 to determine whether a face meets a flatness tole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41440" y="2203560"/>
            <a:ext cx="6019920" cy="4305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17760" y="4934160"/>
            <a:ext cx="1600200" cy="1371600"/>
          </a:xfrm>
          <a:prstGeom prst="upArrowCallout">
            <a:avLst>
              <a:gd name="adj1" fmla="val 29169"/>
              <a:gd name="adj2" fmla="val 29167"/>
              <a:gd name="adj3" fmla="val 16667"/>
              <a:gd name="adj4" fmla="val 6666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0440" y="5373720"/>
            <a:ext cx="2057400" cy="1208160"/>
          </a:xfrm>
          <a:prstGeom prst="upArrowCallout">
            <a:avLst>
              <a:gd name="adj1" fmla="val 42577"/>
              <a:gd name="adj2" fmla="val 49527"/>
              <a:gd name="adj3" fmla="val 26972"/>
              <a:gd name="adj4" fmla="val 9405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0440" y="3356280"/>
            <a:ext cx="2757600" cy="640440"/>
          </a:xfrm>
          <a:prstGeom prst="leftArrowCallout">
            <a:avLst>
              <a:gd name="adj1" fmla="val 42791"/>
              <a:gd name="adj2" fmla="val 50000"/>
              <a:gd name="adj3" fmla="val 59005"/>
              <a:gd name="adj4" fmla="val 6667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ool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254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84240" y="843120"/>
            <a:ext cx="7772400" cy="55591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0720" y="1281240"/>
            <a:ext cx="2743200" cy="2301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txBody>
          <a:bodyPr lIns="91080" rIns="91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the status using the measured values and tolerances associated with fea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222800" y="3214800"/>
            <a:ext cx="22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91120" y="3039480"/>
            <a:ext cx="108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7880" y="4634640"/>
            <a:ext cx="46220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2240" y="3039840"/>
            <a:ext cx="1123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509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pulls together machining process, tool requirement, geometry, tolerances, and PD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process and tools described by ISO 14649 p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STEP PDM, Geometry, and Tolerances, and integrate so that features and all other data can be shared across 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3840" y="4038480"/>
            <a:ext cx="4550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STEP GD&amp;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 and Product Geome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mmon to all 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92280" y="1222200"/>
            <a:ext cx="3797280" cy="341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a published standard and available on ISO web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and 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 using CATIA, Pro/E and U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ed and Turned pa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parts and test pa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is easy to i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prototype in 4 wee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 2 by adding CAD geomet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36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ing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independent tool path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ision detection on the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 based program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 closed loop program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 term data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 with suppli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55840" y="4718160"/>
            <a:ext cx="4268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, Shape, and 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960" y="1365120"/>
            <a:ext cx="3645000" cy="1828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28404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piece is a STEP product description with owner, approvals, dates,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ck, fixtures also have full product descrip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9320" y="3346560"/>
            <a:ext cx="3559320" cy="276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89560" y="984240"/>
            <a:ext cx="4086000" cy="3000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8160" y="441324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piece uses same shape representations as AP203, AP214, AP224, and other 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with any CAD system that supports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3890880"/>
            <a:ext cx="5305320" cy="25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255080" y="5454720"/>
            <a:ext cx="122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7560" y="3886200"/>
            <a:ext cx="19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62320" y="2819520"/>
            <a:ext cx="168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6120" y="2666880"/>
            <a:ext cx="129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520" y="3886200"/>
            <a:ext cx="100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105520"/>
            <a:ext cx="1447560" cy="5839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192"/>
                </a:moveTo>
                <a:cubicBezTo>
                  <a:pt x="588" y="208"/>
                  <a:pt x="456" y="224"/>
                  <a:pt x="336" y="192"/>
                </a:cubicBezTo>
                <a:cubicBezTo>
                  <a:pt x="216" y="160"/>
                  <a:pt x="108" y="80"/>
                  <a:pt x="0" y="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17816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528" y="8"/>
                </a:moveTo>
                <a:cubicBezTo>
                  <a:pt x="452" y="4"/>
                  <a:pt x="376" y="0"/>
                  <a:pt x="288" y="8"/>
                </a:cubicBezTo>
                <a:cubicBezTo>
                  <a:pt x="200" y="16"/>
                  <a:pt x="100" y="36"/>
                  <a:pt x="0" y="56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295800"/>
            <a:ext cx="2998800" cy="1504800"/>
          </a:xfrm>
          <a:custGeom>
            <a:avLst/>
            <a:gdLst/>
            <a:ahLst/>
            <a:rect l="l" t="t" r="r" b="b"/>
            <a:pathLst>
              <a:path w="1889" h="948">
                <a:moveTo>
                  <a:pt x="1889" y="0"/>
                </a:moveTo>
                <a:cubicBezTo>
                  <a:pt x="1692" y="79"/>
                  <a:pt x="1020" y="320"/>
                  <a:pt x="705" y="478"/>
                </a:cubicBezTo>
                <a:cubicBezTo>
                  <a:pt x="390" y="636"/>
                  <a:pt x="180" y="797"/>
                  <a:pt x="0" y="948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198108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1248" y="0"/>
                </a:moveTo>
                <a:cubicBezTo>
                  <a:pt x="944" y="116"/>
                  <a:pt x="640" y="232"/>
                  <a:pt x="432" y="384"/>
                </a:cubicBezTo>
                <a:cubicBezTo>
                  <a:pt x="224" y="536"/>
                  <a:pt x="112" y="724"/>
                  <a:pt x="0" y="912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419720"/>
            <a:ext cx="990360" cy="546120"/>
          </a:xfrm>
          <a:custGeom>
            <a:avLst/>
            <a:gdLst/>
            <a:ahLst/>
            <a:rect l="l" t="t" r="r" b="b"/>
            <a:pathLst>
              <a:path w="624" h="344">
                <a:moveTo>
                  <a:pt x="0" y="8"/>
                </a:moveTo>
                <a:cubicBezTo>
                  <a:pt x="116" y="4"/>
                  <a:pt x="232" y="0"/>
                  <a:pt x="336" y="56"/>
                </a:cubicBezTo>
                <a:cubicBezTo>
                  <a:pt x="440" y="112"/>
                  <a:pt x="532" y="228"/>
                  <a:pt x="624" y="344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9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il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e, pocket, slot, step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 round and cham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s of repeated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132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 for freeform m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ound, knurl, gro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1920" y="1042560"/>
            <a:ext cx="7746840" cy="21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can have implicit and explicit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 feature shape is a parametric description using profiles and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rameters may have plus/minus, limits and fits, max/min limit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 feature shape links geometry faces to features for visualization, machining, simulation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952880"/>
            <a:ext cx="4496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3200" y="4876920"/>
          <a:ext cx="37879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876920"/>
                    <a:ext cx="37879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57200" y="3581280"/>
            <a:ext cx="3809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ound_hole is defined by a complete circular profile and a linear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581280"/>
            <a:ext cx="3809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s to the B-REP faces on the geometry that describe the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62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nd Fina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9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-238 model can document both final feature and process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feature is on final part, from upstream, possibly from an AP-224 or AP-240 application.   As such, some features might only define a volume when combined with the st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features are the features pointed to by workingstep. Specific to a workplan, need full volume limi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can also point to one or more final features that it contributes to.  Many workingsteps and process features may contribute to one final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495680"/>
            <a:ext cx="3429000" cy="1881360"/>
          </a:xfrm>
          <a:prstGeom prst="roundRect">
            <a:avLst>
              <a:gd name="adj" fmla="val 12255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0480" y="4557600"/>
            <a:ext cx="3317760" cy="1771920"/>
          </a:xfrm>
          <a:prstGeom prst="roundRect">
            <a:avLst>
              <a:gd name="adj" fmla="val 44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61920" y="4557600"/>
            <a:ext cx="3337200" cy="1771920"/>
            <a:chOff x="961920" y="4557600"/>
            <a:chExt cx="3337200" cy="1771920"/>
          </a:xfrm>
        </p:grpSpPr>
        <p:sp>
          <p:nvSpPr>
            <p:cNvPr id="86" name=""/>
            <p:cNvSpPr/>
            <p:nvPr/>
          </p:nvSpPr>
          <p:spPr>
            <a:xfrm>
              <a:off x="9619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27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57760" y="5886360"/>
              <a:ext cx="4413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74880" y="5872320"/>
              <a:ext cx="441000" cy="44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28600" y="4487760"/>
            <a:ext cx="2896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feature in </a:t>
            </a: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red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9320" y="5062680"/>
            <a:ext cx="3958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eatures describ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rill the corners (H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out center with large tool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remaining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smaller tool (FINAL 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s and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30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linear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distance along a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n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es, angle, diameter, radius, thickness, length, width, h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24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characteristics with datums as need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ity, circular runout, coaxiality, concentricity, cylindricity, flatness, line profile, parallelism, perpendicularity, position, roundness, straightness, surface profile, symmetry, total run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9000" y="4894200"/>
            <a:ext cx="1022400" cy="1022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44600" y="4657680"/>
            <a:ext cx="0" cy="146700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410080"/>
            <a:ext cx="14684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38160" y="5079600"/>
            <a:ext cx="77328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6035760"/>
            <a:ext cx="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95880" y="6026040"/>
            <a:ext cx="0" cy="28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6172200"/>
            <a:ext cx="1933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00280" y="4572000"/>
            <a:ext cx="20340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1200" y="4903920"/>
            <a:ext cx="579600" cy="95544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4724280"/>
            <a:ext cx="663480" cy="112248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6920" y="5873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40400" y="620712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345440" y="3668760"/>
            <a:ext cx="782640" cy="276120"/>
            <a:chOff x="7345440" y="3668760"/>
            <a:chExt cx="782640" cy="276120"/>
          </a:xfrm>
        </p:grpSpPr>
        <p:grpSp>
          <p:nvGrpSpPr>
            <p:cNvPr id="108" name=""/>
            <p:cNvGrpSpPr/>
            <p:nvPr/>
          </p:nvGrpSpPr>
          <p:grpSpPr>
            <a:xfrm>
              <a:off x="7345440" y="3668760"/>
              <a:ext cx="331920" cy="276120"/>
              <a:chOff x="7345440" y="3668760"/>
              <a:chExt cx="331920" cy="276120"/>
            </a:xfrm>
          </p:grpSpPr>
          <p:sp>
            <p:nvSpPr>
              <p:cNvPr id="109" name=""/>
              <p:cNvSpPr/>
              <p:nvPr/>
            </p:nvSpPr>
            <p:spPr>
              <a:xfrm>
                <a:off x="7345440" y="3668760"/>
                <a:ext cx="331920" cy="276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48040" y="3742560"/>
                <a:ext cx="137160" cy="137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345440" y="3668760"/>
              <a:ext cx="78264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7041960" y="3848040"/>
            <a:ext cx="277560" cy="24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172640" y="3571200"/>
            <a:ext cx="1065240" cy="1895400"/>
          </a:xfrm>
          <a:custGeom>
            <a:avLst/>
            <a:gdLst>
              <a:gd name="textAreaLeft" fmla="*/ 187920 w 1065240"/>
              <a:gd name="textAreaRight" fmla="*/ 877320 w 1065240"/>
              <a:gd name="textAreaTop" fmla="*/ 334440 h 1895400"/>
              <a:gd name="textAreaBottom" fmla="*/ 1560960 h 18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85" y="21600"/>
                </a:lnTo>
                <a:lnTo>
                  <a:pt x="371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519440"/>
            <a:ext cx="33800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58080" y="3870360"/>
            <a:ext cx="0" cy="123516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407360" y="369576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39120" y="375300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3840" y="4091040"/>
            <a:ext cx="69840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0" y="5475240"/>
            <a:ext cx="2200320" cy="809640"/>
          </a:xfrm>
          <a:custGeom>
            <a:avLst/>
            <a:gdLst/>
            <a:ahLst/>
            <a:rect l="l" t="t" r="r" b="b"/>
            <a:pathLst>
              <a:path w="1390" h="512">
                <a:moveTo>
                  <a:pt x="1390" y="17"/>
                </a:moveTo>
                <a:lnTo>
                  <a:pt x="1390" y="512"/>
                </a:lnTo>
                <a:lnTo>
                  <a:pt x="0" y="512"/>
                </a:lnTo>
                <a:lnTo>
                  <a:pt x="0" y="29"/>
                </a:lnTo>
                <a:lnTo>
                  <a:pt x="110" y="41"/>
                </a:lnTo>
                <a:lnTo>
                  <a:pt x="180" y="17"/>
                </a:lnTo>
                <a:lnTo>
                  <a:pt x="215" y="52"/>
                </a:lnTo>
                <a:lnTo>
                  <a:pt x="297" y="6"/>
                </a:lnTo>
                <a:lnTo>
                  <a:pt x="378" y="29"/>
                </a:lnTo>
                <a:lnTo>
                  <a:pt x="465" y="29"/>
                </a:lnTo>
                <a:lnTo>
                  <a:pt x="617" y="6"/>
                </a:lnTo>
                <a:lnTo>
                  <a:pt x="651" y="35"/>
                </a:lnTo>
                <a:lnTo>
                  <a:pt x="774" y="0"/>
                </a:lnTo>
                <a:lnTo>
                  <a:pt x="820" y="46"/>
                </a:lnTo>
                <a:lnTo>
                  <a:pt x="855" y="11"/>
                </a:lnTo>
                <a:lnTo>
                  <a:pt x="890" y="29"/>
                </a:lnTo>
                <a:lnTo>
                  <a:pt x="989" y="41"/>
                </a:lnTo>
                <a:lnTo>
                  <a:pt x="1001" y="6"/>
                </a:lnTo>
                <a:lnTo>
                  <a:pt x="1047" y="29"/>
                </a:lnTo>
                <a:lnTo>
                  <a:pt x="1129" y="23"/>
                </a:lnTo>
                <a:lnTo>
                  <a:pt x="1158" y="46"/>
                </a:lnTo>
                <a:lnTo>
                  <a:pt x="1233" y="23"/>
                </a:lnTo>
                <a:lnTo>
                  <a:pt x="1297" y="17"/>
                </a:lnTo>
                <a:lnTo>
                  <a:pt x="1390" y="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5027760"/>
            <a:ext cx="33192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96200" y="5095800"/>
            <a:ext cx="188640" cy="150840"/>
          </a:xfrm>
          <a:prstGeom prst="parallelogram">
            <a:avLst>
              <a:gd name="adj" fmla="val 3126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19880" y="5027760"/>
            <a:ext cx="78264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7960" y="5173560"/>
            <a:ext cx="27792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08520" y="5130720"/>
            <a:ext cx="1094760" cy="277560"/>
            <a:chOff x="3908520" y="5130720"/>
            <a:chExt cx="1094760" cy="277560"/>
          </a:xfrm>
        </p:grpSpPr>
        <p:sp>
          <p:nvSpPr>
            <p:cNvPr id="125" name=""/>
            <p:cNvSpPr/>
            <p:nvPr/>
          </p:nvSpPr>
          <p:spPr>
            <a:xfrm>
              <a:off x="4671000" y="5130720"/>
              <a:ext cx="3322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08520" y="5132160"/>
              <a:ext cx="783360" cy="276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08520" y="5132160"/>
              <a:ext cx="33228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83760" y="5177880"/>
              <a:ext cx="9180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069800" y="5177880"/>
              <a:ext cx="9144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280200" y="6384600"/>
            <a:ext cx="291960" cy="18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54760" y="5318280"/>
            <a:ext cx="322200" cy="17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981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 and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51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D&amp;T definitions are harmonized across all design and manufacturing A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across AP-214, AP-224, AP-240, and AP-203e2, which uses Modules 1050 and 1051.   Will also be going into AP-219 and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measure values and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shape and measure parameters can specify their units, as in all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 tolerances can be used for any quantity, not just lengths.   Now available for angles, sp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18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age: Features and 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5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geometric tolerances link to the workpiece through “shape aspec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re special types of shape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fer to explicit geometry (faces, etc) on 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key parameters with +/-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 or probing operations refer to fea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tolerances and datums can refer to fea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5160" y="4108320"/>
            <a:ext cx="138240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1080" y="4184640"/>
            <a:ext cx="11854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2520" y="4946760"/>
            <a:ext cx="3124440" cy="1477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51400" y="5403960"/>
            <a:ext cx="12862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2560" y="4108320"/>
            <a:ext cx="138528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ar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120" y="4260960"/>
            <a:ext cx="813600" cy="33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1"/>
            <a:endCxn id="143" idx="0"/>
          </p:cNvCxnSpPr>
          <p:nvPr/>
        </p:nvCxnSpPr>
        <p:spPr>
          <a:xfrm flipV="1" rot="10800000">
            <a:off x="5212800" y="4430520"/>
            <a:ext cx="419760" cy="59256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6" idx="1"/>
          </p:cNvCxnSpPr>
          <p:nvPr/>
        </p:nvCxnSpPr>
        <p:spPr>
          <a:xfrm flipV="1">
            <a:off x="2093400" y="4430520"/>
            <a:ext cx="491400" cy="172080"/>
          </a:xfrm>
          <a:prstGeom prst="curvedConnector5">
            <a:avLst>
              <a:gd name="adj1" fmla="val 49780"/>
              <a:gd name="adj2" fmla="val 49895"/>
              <a:gd name="adj3" fmla="val 49780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9" idx="3"/>
            <a:endCxn id="136" idx="2"/>
          </p:cNvCxnSpPr>
          <p:nvPr/>
        </p:nvCxnSpPr>
        <p:spPr>
          <a:xfrm flipV="1">
            <a:off x="2142720" y="4750920"/>
            <a:ext cx="1134360" cy="107064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3"/>
            <a:endCxn id="147" idx="1"/>
          </p:cNvCxnSpPr>
          <p:nvPr/>
        </p:nvCxnSpPr>
        <p:spPr>
          <a:xfrm>
            <a:off x="3968640" y="4430880"/>
            <a:ext cx="1664640" cy="1164240"/>
          </a:xfrm>
          <a:prstGeom prst="curvedConnector5">
            <a:avLst>
              <a:gd name="adj1" fmla="val 49989"/>
              <a:gd name="adj2" fmla="val 49984"/>
              <a:gd name="adj3" fmla="val 49989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5632560" y="555624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1"/>
            <a:endCxn id="140" idx="3"/>
          </p:cNvCxnSpPr>
          <p:nvPr/>
        </p:nvCxnSpPr>
        <p:spPr>
          <a:xfrm rot="10800000">
            <a:off x="7017480" y="4430160"/>
            <a:ext cx="443880" cy="3600"/>
          </a:xfrm>
          <a:prstGeom prst="curvedConnector5">
            <a:avLst>
              <a:gd name="adj1" fmla="val 50162"/>
              <a:gd name="adj2" fmla="val 44444"/>
              <a:gd name="adj3" fmla="val 50162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175360" y="502272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7-10-23T13:49:39Z</dcterms:modified>
  <cp:revision>749</cp:revision>
  <dc:subject/>
  <dc:title>STEP-NC Feature Harmonization</dc:title>
</cp:coreProperties>
</file>