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BF2-65AB-471F-8BEB-4F20790B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0E63-A781-421D-AE8A-DBDE9647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5137-E30B-4D9E-9390-C04F11B1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571-25F2-4477-9BBA-A80F7BC7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D6D0-DD57-4467-8558-2CD12B2E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FABE-FFCB-45B2-A859-EAC3E597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5E4B-F2B3-437B-81B6-66D26FDA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B51D-427E-403B-AA82-9803E7B3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0AA7-DA60-4135-A5A8-0C45BF8A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D7F-9D14-4D83-84EA-71BF54B4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DDE-1448-43E2-B44B-538BC8C2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15D0-1AB4-415E-A3B2-58969828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254D-C4A7-4927-9619-1D838F387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Sectional Area in Milling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n 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eing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-Section Vari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X-Y Plan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80988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 rot="16200000">
            <a:off x="1980720" y="2894760"/>
            <a:ext cx="2514600" cy="1143000"/>
          </a:xfrm>
          <a:prstGeom prst="flowChartManualInpu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4419720"/>
            <a:ext cx="685800" cy="685800"/>
          </a:xfrm>
          <a:prstGeom prst="ellipse">
            <a:avLst/>
          </a:prstGeom>
          <a:solidFill>
            <a:srgbClr val="ffff99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55200" y="57150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22096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209680"/>
            <a:ext cx="1138320" cy="259092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2590920"/>
              <a:gd name="textAreaBottom" fmla="*/ 25912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86728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4495680"/>
            <a:ext cx="685800" cy="685800"/>
          </a:xfrm>
          <a:prstGeom prst="ellipse">
            <a:avLst/>
          </a:prstGeom>
          <a:solidFill>
            <a:srgbClr val="ffff99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2209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209680"/>
            <a:ext cx="1143000" cy="2514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22096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90512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4419720"/>
            <a:ext cx="685800" cy="685800"/>
          </a:xfrm>
          <a:prstGeom prst="ellipse">
            <a:avLst/>
          </a:prstGeom>
          <a:solidFill>
            <a:srgbClr val="ffff99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92468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50440" y="57150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12600" y="57150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70000" y="57150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6089040" y="3049560"/>
            <a:ext cx="2581200" cy="911160"/>
          </a:xfrm>
          <a:prstGeom prst="flowChartPunchedTap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45160" y="2214720"/>
            <a:ext cx="986040" cy="2590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4495680"/>
            <a:ext cx="685800" cy="685800"/>
          </a:xfrm>
          <a:prstGeom prst="ellipse">
            <a:avLst/>
          </a:prstGeom>
          <a:solidFill>
            <a:srgbClr val="ffff99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-Section Vari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X-Z Plan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 rot="10800000">
            <a:off x="5637600" y="2665800"/>
            <a:ext cx="2057400" cy="1143000"/>
          </a:xfrm>
          <a:prstGeom prst="flowChartManualInpu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45720" y="2133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3048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1981080" y="4495320"/>
            <a:ext cx="1219320" cy="21337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057400" y="2285640"/>
            <a:ext cx="114300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124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209680"/>
            <a:ext cx="533520" cy="914400"/>
          </a:xfrm>
          <a:prstGeom prst="rect">
            <a:avLst/>
          </a:prstGeom>
          <a:solidFill>
            <a:srgbClr val="ffff99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84200" y="20574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286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2133720"/>
            <a:ext cx="533160" cy="914400"/>
          </a:xfrm>
          <a:prstGeom prst="rect">
            <a:avLst/>
          </a:prstGeom>
          <a:solidFill>
            <a:srgbClr val="ffff99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5410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5720" y="4419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4495680"/>
            <a:ext cx="533520" cy="914400"/>
          </a:xfrm>
          <a:prstGeom prst="rect">
            <a:avLst/>
          </a:prstGeom>
          <a:solidFill>
            <a:srgbClr val="ffff99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84200" y="449568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5880" y="4724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34000" y="5022720"/>
            <a:ext cx="2125800" cy="986040"/>
          </a:xfrm>
          <a:prstGeom prst="flowChartPunchedTap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355440" y="4756680"/>
            <a:ext cx="682560" cy="212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0880" y="4567320"/>
            <a:ext cx="533520" cy="914400"/>
          </a:xfrm>
          <a:prstGeom prst="rect">
            <a:avLst/>
          </a:prstGeom>
          <a:solidFill>
            <a:srgbClr val="ffff99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249880"/>
            <a:ext cx="3276720" cy="1141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2743200"/>
            <a:ext cx="2895480" cy="685800"/>
          </a:xfrm>
          <a:custGeom>
            <a:avLst/>
            <a:gdLst>
              <a:gd name="textAreaLeft" fmla="*/ 430200 w 2895480"/>
              <a:gd name="textAreaRight" fmla="*/ 2465280 w 2895480"/>
              <a:gd name="textAreaTop" fmla="*/ 101880 h 685800"/>
              <a:gd name="textAreaBottom" fmla="*/ 5839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72" y="21600"/>
                </a:lnTo>
                <a:lnTo>
                  <a:pt x="2628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1905120"/>
            <a:ext cx="28954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3429000"/>
            <a:ext cx="1600200" cy="2049480"/>
          </a:xfrm>
          <a:prstGeom prst="rect">
            <a:avLst/>
          </a:prstGeom>
          <a:solidFill>
            <a:srgbClr val="ffff00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1523880"/>
            <a:ext cx="1752480" cy="22860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58579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87120" y="36561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57680" y="4187880"/>
            <a:ext cx="129096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3600" y="5468760"/>
            <a:ext cx="3264120" cy="30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flipH="1" rot="10800000">
            <a:off x="4494600" y="4643280"/>
            <a:ext cx="2202120" cy="159408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ter with Corner Radi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1523880"/>
            <a:ext cx="1752480" cy="22860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1676520"/>
            <a:ext cx="380880" cy="380880"/>
          </a:xfrm>
          <a:prstGeom prst="flowChartSummingJunction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81080" y="16002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2666880"/>
            <a:ext cx="1676520" cy="2514600"/>
          </a:xfrm>
          <a:custGeom>
            <a:avLst/>
            <a:gdLst>
              <a:gd name="textAreaLeft" fmla="*/ 172800 w 1676520"/>
              <a:gd name="textAreaRight" fmla="*/ 1503720 w 1676520"/>
              <a:gd name="textAreaTop" fmla="*/ 172800 h 2514600"/>
              <a:gd name="textAreaBottom" fmla="*/ 2341800 h 2514600"/>
            </a:gdLst>
            <a:ahLst/>
            <a:rect l="textAreaLeft" t="textAreaTop" r="textAreaRight" b="textAreaBottom"/>
            <a:pathLst>
              <a:path w="21600" h="32395">
                <a:moveTo>
                  <a:pt x="7607" y="0"/>
                </a:moveTo>
                <a:arcTo wR="7607" hR="7607" stAng="16200000" swAng="-5400000"/>
                <a:lnTo>
                  <a:pt x="0" y="24788"/>
                </a:lnTo>
                <a:arcTo wR="7607" hR="7607" stAng="10800000" swAng="-5400000"/>
                <a:lnTo>
                  <a:pt x="13993" y="32395"/>
                </a:lnTo>
                <a:arcTo wR="7607" hR="7607" stAng="5400000" swAng="-5400000"/>
                <a:lnTo>
                  <a:pt x="21600" y="7607"/>
                </a:lnTo>
                <a:arcTo wR="7607" hR="7607" stAng="0" swAng="-5400000"/>
                <a:close/>
              </a:path>
            </a:pathLst>
          </a:custGeom>
          <a:solidFill>
            <a:srgbClr val="ffff9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2743200"/>
            <a:ext cx="2895480" cy="685800"/>
          </a:xfrm>
          <a:custGeom>
            <a:avLst/>
            <a:gdLst>
              <a:gd name="textAreaLeft" fmla="*/ 430200 w 2895480"/>
              <a:gd name="textAreaRight" fmla="*/ 2465280 w 2895480"/>
              <a:gd name="textAreaTop" fmla="*/ 101880 h 685800"/>
              <a:gd name="textAreaBottom" fmla="*/ 5839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72" y="21600"/>
                </a:lnTo>
                <a:lnTo>
                  <a:pt x="2628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19520" y="1905120"/>
            <a:ext cx="28954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30640" y="56293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 flipH="1" rot="10800000">
            <a:off x="4494600" y="4643280"/>
            <a:ext cx="2202120" cy="159408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- or 5-Axis Mach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070800" y="1444320"/>
            <a:ext cx="3152520" cy="3880800"/>
            <a:chOff x="3070800" y="1444320"/>
            <a:chExt cx="3152520" cy="3880800"/>
          </a:xfrm>
        </p:grpSpPr>
        <p:sp>
          <p:nvSpPr>
            <p:cNvPr id="182" name=""/>
            <p:cNvSpPr/>
            <p:nvPr/>
          </p:nvSpPr>
          <p:spPr>
            <a:xfrm rot="733200">
              <a:off x="4249080" y="1627200"/>
              <a:ext cx="1752480" cy="228600"/>
            </a:xfrm>
            <a:custGeom>
              <a:avLst/>
              <a:gdLst>
                <a:gd name="textAreaLeft" fmla="*/ 234720 w 1752480"/>
                <a:gd name="textAreaRight" fmla="*/ 1517760 w 1752480"/>
                <a:gd name="textAreaTop" fmla="*/ 39960 h 228600"/>
                <a:gd name="textAreaBottom" fmla="*/ 165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733200">
              <a:off x="3542400" y="2661480"/>
              <a:ext cx="1676520" cy="2514600"/>
            </a:xfrm>
            <a:custGeom>
              <a:avLst/>
              <a:gdLst>
                <a:gd name="textAreaLeft" fmla="*/ 172800 w 1676520"/>
                <a:gd name="textAreaRight" fmla="*/ 1503720 w 1676520"/>
                <a:gd name="textAreaTop" fmla="*/ 172800 h 2514600"/>
                <a:gd name="textAreaBottom" fmla="*/ 2341800 h 2514600"/>
              </a:gdLst>
              <a:ahLst/>
              <a:rect l="textAreaLeft" t="textAreaTop" r="textAreaRight" b="textAreaBottom"/>
              <a:pathLst>
                <a:path w="21600" h="32395">
                  <a:moveTo>
                    <a:pt x="7607" y="0"/>
                  </a:moveTo>
                  <a:arcTo wR="7607" hR="7607" stAng="16200000" swAng="-5400000"/>
                  <a:lnTo>
                    <a:pt x="0" y="24788"/>
                  </a:lnTo>
                  <a:arcTo wR="7607" hR="7607" stAng="10800000" swAng="-5400000"/>
                  <a:lnTo>
                    <a:pt x="13993" y="32395"/>
                  </a:lnTo>
                  <a:arcTo wR="7607" hR="7607" stAng="5400000" swAng="-5400000"/>
                  <a:lnTo>
                    <a:pt x="21600" y="7607"/>
                  </a:lnTo>
                  <a:arcTo wR="7607" hR="7607" stAng="0" swAng="-5400000"/>
                  <a:close/>
                </a:path>
              </a:pathLst>
            </a:custGeom>
            <a:solidFill>
              <a:srgbClr val="ffff99">
                <a:alpha val="6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733200">
              <a:off x="3110400" y="2756880"/>
              <a:ext cx="2895480" cy="685800"/>
            </a:xfrm>
            <a:custGeom>
              <a:avLst/>
              <a:gdLst>
                <a:gd name="textAreaLeft" fmla="*/ 430200 w 2895480"/>
                <a:gd name="textAreaRight" fmla="*/ 2465280 w 2895480"/>
                <a:gd name="textAreaTop" fmla="*/ 101880 h 685800"/>
                <a:gd name="textAreaBottom" fmla="*/ 5839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72" y="21600"/>
                  </a:lnTo>
                  <a:lnTo>
                    <a:pt x="2628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33200">
              <a:off x="3271680" y="1936080"/>
              <a:ext cx="289548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030640" y="56293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b (Down) Mi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4800600"/>
            <a:ext cx="327672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2743200"/>
            <a:ext cx="2895480" cy="685800"/>
          </a:xfrm>
          <a:custGeom>
            <a:avLst/>
            <a:gdLst>
              <a:gd name="textAreaLeft" fmla="*/ 430200 w 2895480"/>
              <a:gd name="textAreaRight" fmla="*/ 2465280 w 2895480"/>
              <a:gd name="textAreaTop" fmla="*/ 101880 h 685800"/>
              <a:gd name="textAreaBottom" fmla="*/ 5839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72" y="21600"/>
                </a:lnTo>
                <a:lnTo>
                  <a:pt x="2628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1905120"/>
            <a:ext cx="28954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429000"/>
            <a:ext cx="1600200" cy="2209680"/>
          </a:xfrm>
          <a:prstGeom prst="rect">
            <a:avLst/>
          </a:prstGeom>
          <a:solidFill>
            <a:srgbClr val="ffff00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1523880"/>
            <a:ext cx="1752480" cy="22860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5440" y="55627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1676520"/>
            <a:ext cx="380880" cy="380880"/>
          </a:xfrm>
          <a:prstGeom prst="flowChartSummingJunction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1080" y="16002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ntional (Up) Mi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800600"/>
            <a:ext cx="327672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743200"/>
            <a:ext cx="2895480" cy="685800"/>
          </a:xfrm>
          <a:custGeom>
            <a:avLst/>
            <a:gdLst>
              <a:gd name="textAreaLeft" fmla="*/ 430200 w 2895480"/>
              <a:gd name="textAreaRight" fmla="*/ 2465280 w 2895480"/>
              <a:gd name="textAreaTop" fmla="*/ 101880 h 685800"/>
              <a:gd name="textAreaBottom" fmla="*/ 5839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72" y="21600"/>
                </a:lnTo>
                <a:lnTo>
                  <a:pt x="2628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1905120"/>
            <a:ext cx="28954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3429000"/>
            <a:ext cx="1600200" cy="2209680"/>
          </a:xfrm>
          <a:prstGeom prst="rect">
            <a:avLst/>
          </a:prstGeom>
          <a:solidFill>
            <a:srgbClr val="ffff00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1523880"/>
            <a:ext cx="1752480" cy="22860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3600" y="55627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1676520"/>
            <a:ext cx="380880" cy="380880"/>
          </a:xfrm>
          <a:prstGeom prst="flowChartSummingJunction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1080" y="16002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nel Cutting (Slott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5029200"/>
            <a:ext cx="327636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2743200"/>
            <a:ext cx="2895480" cy="685800"/>
          </a:xfrm>
          <a:custGeom>
            <a:avLst/>
            <a:gdLst>
              <a:gd name="textAreaLeft" fmla="*/ 430200 w 2895480"/>
              <a:gd name="textAreaRight" fmla="*/ 2465280 w 2895480"/>
              <a:gd name="textAreaTop" fmla="*/ 101880 h 685800"/>
              <a:gd name="textAreaBottom" fmla="*/ 5839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72" y="21600"/>
                </a:lnTo>
                <a:lnTo>
                  <a:pt x="2628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1905120"/>
            <a:ext cx="28954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3429000"/>
            <a:ext cx="1600200" cy="2209680"/>
          </a:xfrm>
          <a:prstGeom prst="rect">
            <a:avLst/>
          </a:prstGeom>
          <a:solidFill>
            <a:srgbClr val="ffff00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1523880"/>
            <a:ext cx="1752480" cy="22860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70120" y="57913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1676520"/>
            <a:ext cx="380880" cy="380880"/>
          </a:xfrm>
          <a:prstGeom prst="flowChartSummingJunction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81080" y="16002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Immersion Cutting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5029200"/>
            <a:ext cx="76212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2743200"/>
            <a:ext cx="2895480" cy="685800"/>
          </a:xfrm>
          <a:custGeom>
            <a:avLst/>
            <a:gdLst>
              <a:gd name="textAreaLeft" fmla="*/ 430200 w 2895480"/>
              <a:gd name="textAreaRight" fmla="*/ 2465280 w 2895480"/>
              <a:gd name="textAreaTop" fmla="*/ 101880 h 685800"/>
              <a:gd name="textAreaBottom" fmla="*/ 5839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72" y="21600"/>
                </a:lnTo>
                <a:lnTo>
                  <a:pt x="2628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905120"/>
            <a:ext cx="28954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3429000"/>
            <a:ext cx="1600200" cy="2209680"/>
          </a:xfrm>
          <a:prstGeom prst="rect">
            <a:avLst/>
          </a:prstGeom>
          <a:solidFill>
            <a:srgbClr val="ffff00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1523880"/>
            <a:ext cx="1752480" cy="22860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8000" y="58672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1676520"/>
            <a:ext cx="380880" cy="380880"/>
          </a:xfrm>
          <a:prstGeom prst="flowChartSummingJunction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81080" y="16002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Immersion Cutting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4419720"/>
            <a:ext cx="37335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2743200"/>
            <a:ext cx="2895480" cy="685800"/>
          </a:xfrm>
          <a:custGeom>
            <a:avLst/>
            <a:gdLst>
              <a:gd name="textAreaLeft" fmla="*/ 430200 w 2895480"/>
              <a:gd name="textAreaRight" fmla="*/ 2465280 w 2895480"/>
              <a:gd name="textAreaTop" fmla="*/ 101880 h 685800"/>
              <a:gd name="textAreaBottom" fmla="*/ 5839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72" y="21600"/>
                </a:lnTo>
                <a:lnTo>
                  <a:pt x="2628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1905120"/>
            <a:ext cx="28954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3429000"/>
            <a:ext cx="1600200" cy="2209680"/>
          </a:xfrm>
          <a:prstGeom prst="rect">
            <a:avLst/>
          </a:prstGeom>
          <a:solidFill>
            <a:srgbClr val="ffff00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1523880"/>
            <a:ext cx="1752480" cy="22860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80000" y="47242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9920" y="1676520"/>
            <a:ext cx="380880" cy="380880"/>
          </a:xfrm>
          <a:prstGeom prst="flowChartSummingJunction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81080" y="16002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ting on a Non-Rectangular Sec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2743200"/>
            <a:ext cx="2895480" cy="685800"/>
          </a:xfrm>
          <a:custGeom>
            <a:avLst/>
            <a:gdLst>
              <a:gd name="textAreaLeft" fmla="*/ 430200 w 2895480"/>
              <a:gd name="textAreaRight" fmla="*/ 2465280 w 2895480"/>
              <a:gd name="textAreaTop" fmla="*/ 101880 h 685800"/>
              <a:gd name="textAreaBottom" fmla="*/ 5839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72" y="21600"/>
                </a:lnTo>
                <a:lnTo>
                  <a:pt x="2628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1905120"/>
            <a:ext cx="28954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1523880"/>
            <a:ext cx="1752480" cy="22860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2560" y="4643280"/>
            <a:ext cx="2732040" cy="1592280"/>
          </a:xfrm>
          <a:prstGeom prst="plus">
            <a:avLst>
              <a:gd name="adj" fmla="val 3581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92560" y="5629320"/>
            <a:ext cx="2732040" cy="68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3429000"/>
            <a:ext cx="1600200" cy="1897200"/>
          </a:xfrm>
          <a:prstGeom prst="rect">
            <a:avLst/>
          </a:prstGeom>
          <a:solidFill>
            <a:srgbClr val="ffff00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57816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1676520"/>
            <a:ext cx="380880" cy="380880"/>
          </a:xfrm>
          <a:prstGeom prst="flowChartSummingJunction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81080" y="16002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ting on a Non-Rectangular Sec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25640" y="5478480"/>
            <a:ext cx="2884680" cy="90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2743200"/>
            <a:ext cx="2895480" cy="685800"/>
          </a:xfrm>
          <a:custGeom>
            <a:avLst/>
            <a:gdLst>
              <a:gd name="textAreaLeft" fmla="*/ 430200 w 2895480"/>
              <a:gd name="textAreaRight" fmla="*/ 2465280 w 2895480"/>
              <a:gd name="textAreaTop" fmla="*/ 101880 h 685800"/>
              <a:gd name="textAreaBottom" fmla="*/ 5839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72" y="21600"/>
                </a:lnTo>
                <a:lnTo>
                  <a:pt x="2628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1905120"/>
            <a:ext cx="28954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1523880"/>
            <a:ext cx="1752480" cy="22860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43160" y="58579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81080" y="16002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2209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25640" y="4946760"/>
            <a:ext cx="1063800" cy="531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99160" y="4946760"/>
            <a:ext cx="911160" cy="531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3429000"/>
            <a:ext cx="1600200" cy="2200320"/>
          </a:xfrm>
          <a:prstGeom prst="rect">
            <a:avLst/>
          </a:prstGeom>
          <a:solidFill>
            <a:srgbClr val="ffff00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rot="10800000">
            <a:off x="4268880" y="4642920"/>
            <a:ext cx="1441440" cy="1670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ting on an Arbitrary S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1523880"/>
            <a:ext cx="1752480" cy="22860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1676520"/>
            <a:ext cx="380880" cy="380880"/>
          </a:xfrm>
          <a:prstGeom prst="flowChartSummingJunction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81080" y="16002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743200"/>
            <a:ext cx="2895480" cy="685800"/>
          </a:xfrm>
          <a:custGeom>
            <a:avLst/>
            <a:gdLst>
              <a:gd name="textAreaLeft" fmla="*/ 430200 w 2895480"/>
              <a:gd name="textAreaRight" fmla="*/ 2465280 w 2895480"/>
              <a:gd name="textAreaTop" fmla="*/ 101880 h 685800"/>
              <a:gd name="textAreaBottom" fmla="*/ 5839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72" y="21600"/>
                </a:lnTo>
                <a:lnTo>
                  <a:pt x="2628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1905120"/>
            <a:ext cx="28954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89520" y="57056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7720" y="3429000"/>
            <a:ext cx="1600200" cy="1897200"/>
          </a:xfrm>
          <a:prstGeom prst="rect">
            <a:avLst/>
          </a:prstGeom>
          <a:solidFill>
            <a:srgbClr val="ffff00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4:55:35Z</dcterms:created>
  <dc:creator>xlx2807</dc:creator>
  <dc:description/>
  <dc:language>en-US</dc:language>
  <cp:lastModifiedBy>xlx2807</cp:lastModifiedBy>
  <dcterms:modified xsi:type="dcterms:W3CDTF">2007-11-01T01:11:24Z</dcterms:modified>
  <cp:revision>11</cp:revision>
  <dc:subject/>
  <dc:title>Slide 1</dc:title>
</cp:coreProperties>
</file>