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40248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8800" y="40248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40248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0429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5800" y="64008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Garamond"/>
              </a:rPr>
              <a:t>NIST  •  Manufacturing Engineering Laboratory  •  Intelligent System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863720" cy="190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04920" y="5902200"/>
            <a:ext cx="2971800" cy="62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077320" y="6019920"/>
            <a:ext cx="380880" cy="25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Light"/>
              </a:rPr>
              <a:t>Intelligent Systems Di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Light"/>
              </a:rPr>
              <a:t>Manufacturing Engineering Laborat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7720" y="1980720"/>
            <a:ext cx="8167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NewRomanPS-BoldMT"/>
              </a:rPr>
              <a:t>DRAFT HiPP MODEL</a:t>
            </a:r>
            <a:br>
              <a:rPr sz="4000"/>
            </a:br>
            <a:r>
              <a:rPr b="1" lang="en-US" sz="2000" spc="-1" strike="noStrike">
                <a:solidFill>
                  <a:srgbClr val="3333cc"/>
                </a:solidFill>
                <a:latin typeface="TimesNewRomanPS-BoldMT"/>
              </a:rPr>
              <a:t>HiPP</a:t>
            </a:r>
            <a:r>
              <a:rPr b="1" lang="en-US" sz="1600" spc="-1" strike="noStrike">
                <a:solidFill>
                  <a:srgbClr val="3333cc"/>
                </a:solidFill>
                <a:latin typeface="TimesNewRomanPS-BoldMT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NewRomanPS-BoldMT"/>
              </a:rPr>
              <a:t>Hi</a:t>
            </a:r>
            <a:r>
              <a:rPr b="1" lang="en-US" sz="1600" spc="-1" strike="noStrike">
                <a:solidFill>
                  <a:srgbClr val="3333cc"/>
                </a:solidFill>
                <a:latin typeface="TimesNewRomanPS-BoldMT"/>
              </a:rPr>
              <a:t>gh-Level Dimensional Measurement </a:t>
            </a:r>
            <a:r>
              <a:rPr b="1" lang="en-US" sz="2000" spc="-1" strike="noStrike">
                <a:solidFill>
                  <a:srgbClr val="3333cc"/>
                </a:solidFill>
                <a:latin typeface="TimesNewRomanPS-BoldMT"/>
              </a:rPr>
              <a:t>P</a:t>
            </a:r>
            <a:r>
              <a:rPr b="1" lang="en-US" sz="1600" spc="-1" strike="noStrike">
                <a:solidFill>
                  <a:srgbClr val="3333cc"/>
                </a:solidFill>
                <a:latin typeface="TimesNewRomanPS-BoldMT"/>
              </a:rPr>
              <a:t>rocess </a:t>
            </a:r>
            <a:r>
              <a:rPr b="1" lang="en-US" sz="2000" spc="-1" strike="noStrike">
                <a:solidFill>
                  <a:srgbClr val="3333cc"/>
                </a:solidFill>
                <a:latin typeface="TimesNewRomanPS-BoldMT"/>
              </a:rPr>
              <a:t>P</a:t>
            </a:r>
            <a:r>
              <a:rPr b="1" lang="en-US" sz="1600" spc="-1" strike="noStrike">
                <a:solidFill>
                  <a:srgbClr val="3333cc"/>
                </a:solidFill>
                <a:latin typeface="TimesNewRomanPS-BoldMT"/>
              </a:rPr>
              <a:t>lan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41911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omas R. Kramer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Guest Researcher,  Knowledge Systems Group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ctober 31, 2007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mensions and toleranc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aid to be harmonized with other parts of STEP, including AP214 (automotive) and AP224 (machining features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ery similar to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rmonized with AP219 (?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sed on ANSI Y14.5 (?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mensional measurement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28 kinds of FEA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xonomy provided by Curtis Brow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raft HiPP model includes all DMIS featur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ual vs. nominal for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est way to model is not obviou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lags may suffice in the HiPP model to indicate whether nominal or actual is to be used (for output, constructions, etc.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ecution systems need to record both actual and nominal parameter values, but it may or may not be desirable to include both in the HiPP mode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F vs. FA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yet 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ecutable dimensional measurement process pla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ecution either generates a lower-level plan (e.g. a DMIS program) or controls machine to perform dimensional measuremen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imilar to executable machining process plan model already in AP238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s represented by a tree of entities with its root at a project (not by a single entity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unctionality is roughly equivalent to a DMIS input fi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5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bjective dimensional measurement pla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s what the objectives are (what features and tolerances to measure) and what to repor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oes not specify how to measur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6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thod to make executable plan from objective pla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tremely 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 parameter values to dm_workingsteps or other dm_executabl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ange (unordered) sets to (ordered) list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7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mensional measurement opera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perations are things like touch probing, scanning, setting datum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ve stubs have been added to AP238 for HiPP (dm_operation, coordinate_system_operation, datum_operation, point_measurement_operation, and algorithm_operation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iPP model needs additional dm_operations that are subtypes of the five listed abov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8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mensional measurement workingste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inks an operation with a featur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unctionality exists in DMIS under other nam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imilar to machining workingstep already in AP238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9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utput of measurement result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small amount existed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t a variable by performing a measurement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modified slightly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re needs to be done in the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0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u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 (full se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be adequate a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liminari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971800"/>
            <a:ext cx="784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iPP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581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-G diagram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g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tup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ecifies where the workpiece is in machine coordinat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so has operator instructions and restricted are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 to be able to create, locate, and transform coordinate system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iny amount 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re needs to be done in the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piec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cludes full nominal BREP description using STEP geometry and topology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little 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chines for dimensional measuremen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little added to AP238 for HiPP (gage and CMM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5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ols for dimensional measuremen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ludes probes, probe assemblies, extensions, holders, etc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had a small amount, which has been modified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MIS has a great de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re needs to be done in the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6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ategies for dimensional measurement opera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ub 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P238 has strategies for machining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MIS has an equivalent in the RMEAS command (others?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7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curacy requirement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ays how accurate the measurements are required to b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8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certaint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ludes uncertainty data and rules for using uncertainty in making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-tolerance/out-of-tolerance decision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yet 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19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ometry and topolog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ed to specify shape in designs and workpiece descriptions, possibly also for tool assembly descriptions, tool paths, forbidden zones, etc.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DMIS as text only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 (full brep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be adequate as is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0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chining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ed in HiPP so dimensional measurement can feed back to machining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s improvement by ISO14649 developer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eliminaries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dressing two audiences: DMSC and STEP-NC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MSC folk know dimensional measurement but need STEP informatio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-NC folk know machining and STEP but need information about dimensional measuremen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352680"/>
            <a:ext cx="7391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raft HiPP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rted with AP238 model (ARM) which already stubbed out data used from other STEP models (e.g. geo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ubbed out machining features and machining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ified existing model of probes and probing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material for Hi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ve both EXPRESS (text) and EXPRESS-G (graphical) versions of HiPP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sociation between geometry and dimensional measurement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ays what elements of geometry and topology correspond to a dimensional measurement featur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little exists in DMIS, but DMIS has no geometry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ed to AP238 for HiPP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sociation between machining features and dimensional measurement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 so that dimensional measurement can feed back directly to machining (when dimensional measurement is done during the machining process) or feed back to process planning for machining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s to be added to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low of control opera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exists in AP238 (but weakly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nly “if” for branching and “while” for looping (also has parallel, selective, and non-sequential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ample of weakness: does not seem to be possible to increment a counter while looping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richly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, IF (with ELSE), SELECT (with CASE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s to be improved in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ables (of various data types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weakl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variables may be only numeric (integer or real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variables may be: char (i.e. string), integer, long, real, double, boolean, or vector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5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ions and operator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has only boolean expressions and operator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nnot add, subtract, multiply, or divid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richly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 to add more to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6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has no function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, examples are: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ine (numeric argument, double return value) -- SI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bstring (character and integer arguments, character return value) -- SUBSTR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ross product (vector arguments and return value) -- VCROS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 to add to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7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oice of units (for length, time, speed, etc.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 (profusely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be adequate a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8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ministrative data (dates, approvals, security, etc.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a little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y be adequate a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29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ssages to operator (on operator’s console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TEX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y be adequate as 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0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 from operato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PROMP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be added to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eliminaries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676520"/>
            <a:ext cx="7391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 to draft HiPP model came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EXPRESS ARM (Dave Loffre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EF0 activity model (Shaw Fe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mensional Measurement Feature Taxonomy (Curtis Br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EXPRESS-G markup for HiPP (Curtis Br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port of HiPP meeting at NIST in April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MIS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238 (IS review ver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SO 14649 (2004 IS version, Parts 10, 11) semantics for AP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and for rotary table mo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re may be a rotary axis implemented by a rotary table, but AP238 has no commands to set a specific axis. The rotary table moves only as necessary to achieve a tool position and orientation.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be added to HiPP mode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tegration of dimensional measurement and machining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luded in draft HiPP model primarily by virtue of being able to produce a process plan with both types of operation in i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little was 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be a point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it a coordinate system to a workpiec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and for return to home posi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GOHOME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rable HiPP Functionality (3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igh-level language used to build HiPP information mod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 (meta-functionality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gh-level information modeling languages include EXPRESS, UML, and (maybe) XML schem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gh-level language enables automatic file format definition, automatic readers and writers, automatic generation of computer code for structures and access function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in AP238 (written in EXPRESS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cylindrical or cartesian coordinat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CART vs POL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t variable by reference to parameters of features (or other data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OBTAIN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lect various output devic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OPEN, WRITE, CLOSE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t the home posi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ome position is where the controlled point goes when a home command is give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FROM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5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and a sensor chang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 change happens automatically when a tool not in the spindle (or ram) is required to be used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SNSLC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6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librate a senso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CALIB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eliminaries (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terials for this presentation includ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irable functionality table (1 page, pdf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ossible functionality table (1 page, pdf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PRESS-G notation cheat sheet (1 page, pdf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iPP on color-coded EXPRESS-G diagrams (23 pages, pdf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Powerpoint document (66 slides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so availabl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iPP in EXPRESS text (includes some documentation of meaning), file “hippOnly.exp”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ming at two hours to present materials, plus time for ques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ease ask questions whenever you wish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7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t probing motion parameter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rameters include: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pproach distance (SNSE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rch distance (SNSE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tract distance  (SNSE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peed while measuring (FEDRA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cceleration while measuring (ACLRA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8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struct features by referencing other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pported by point-reducible and plane-reducible features (Table 8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5 types of construction (CONST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9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ndle multi-carriage machin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CRSLCT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0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t program execution mode (e.g. manual, prog, au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MODE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and use macr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MACRO, CALL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an “include” directiv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the sort of thing that would be dealt with in an AP, so 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equivalent may be possible with STEP Part 21 files using FOR_EXPORT and EXTERNAL_REFERENCE_FOR_COMPUT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wkward at best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INCLUD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raightforward text insertion (like C or C++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w sections of alien code in progra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DMIS/ON, DMIS/OFF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4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w selection of algo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LGDEF and SNSET for vision algorithm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GEOALG for fitting algorithm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NCERTALG and UNCERTSET for uncertainty decision rule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LIB for calibration algorithm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ATH for scanning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5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predefined QIS (quality information system) variabl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Table 5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6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and use boundaries for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OUND command applies to features and tolerances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ome features may optionally include a bound (e.g. cylinder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ome features have required bounds (e.g. spherical segments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is probably essential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eliminaries (4) - STEP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 is a high-level information modeling languag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PRESS is object-oriented (similar to C++ header files defining classes, types, enumerations -- but with no methods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complete EXPRESS document is called a schema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 works with a file format called Part 21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you have a schema, you have a file format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 can work with other file formats (e.g. XML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RESS-G is a graphical version of EXPRES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uses two types of model (ARM and AIM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RM is in terms of the domain being modeled and is reada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M is same meaning encoded using STEP integrated basic resources and is unintelligibl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ing only ARM in this presentation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7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and use mating feat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MATDEF, LOCATE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8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ecify conditions in which an error should be signalled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MIS has a few statements regarding th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19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predefined error conditions and error handling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ists in DMIS (ERROR, SILTCH function, SENSNOTOUCH function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20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a single command to measure and define a coordinate system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as in AP238 (workpiece_complete_probing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id not seem well-defined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as removed from HiPP mode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2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a “reaction plan” for handling error conditio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as suggested at NIST HiPP meeting as possible functionality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sible HiPP Functionality (2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acceptable pass/fail error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AP238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t in DMIS (different from INTOL/OUTOL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26665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 and Discuss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26665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4920" y="26665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g Ideas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e HiPP language for writing high-level dimensional measurement process plan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743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two kinds of HiP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bjective Plan: say only what the objectives are (what should be measured) not how to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ecutable Plan: say what the objectives are and how to do it (provide a computer-interpretable plan that can be execu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6483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able smoothly to develop an Executable Plan from an Objectiv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oth in the sam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g Ideas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a high-level information modeling language to define Hi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example: EXPRESS, UML, XML Schema (may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ts you work with concepts, not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ives a file format 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ables using tools that automatically: write software (e.g. C++ classes and class access functions), read file, writ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733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HiPP plans be interop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 able to read and understand plans on the basis of the standard alone, with no communication between sender and receiver other than a HiPP fil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user-defined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g Ideas (3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ake advantage of existing AP238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ready contains a large chunk of functionality needed in Hi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s at the same level of abstraction as a HiPP executable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ve HiPP be integrated with metal-cutting (milling and turning) so that dimensional measurement can be done concurrently with cu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 important capability for the near future (already done in some 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4:06:21Z</dcterms:created>
  <dc:creator>Fred Proctor</dc:creator>
  <dc:description/>
  <dc:language>en-US</dc:language>
  <cp:lastModifiedBy>Martin Hardwick</cp:lastModifiedBy>
  <cp:lastPrinted>2001-05-18T18:06:41Z</cp:lastPrinted>
  <dcterms:modified xsi:type="dcterms:W3CDTF">2007-10-30T16:15:53Z</dcterms:modified>
  <cp:revision>134</cp:revision>
  <dc:subject/>
  <dc:title>Open Architecture Control</dc:title>
</cp:coreProperties>
</file>