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856-1623-4D46-A1AC-96A193B6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B0F-5DE2-4A6A-B4C4-0A8959B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919-1FF1-429E-BD39-CEC8F8A4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82B-C1C3-4DAE-8598-39A8E198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2BB-CA63-42D3-949F-EE3018A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5A4-93C8-4653-9BAB-B17BDF3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DA7-4B69-457D-8C20-89DDDCB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91D-6F1F-4B3B-9A03-98960ACD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7E3-7B3E-4B25-9EE4-D51345E8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B4C-1E0A-4AD8-8763-3FCAEC2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D29-07C0-4EFE-A847-2E2350A6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416-9D7A-478C-9A2F-B3A27CB4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BE1-6630-412B-A43A-B01535517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5080" y="3160800"/>
            <a:ext cx="8910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20560" y="3011400"/>
            <a:ext cx="8895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6480" y="3024360"/>
            <a:ext cx="65016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8800" y="2895480"/>
            <a:ext cx="979200" cy="916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8800" y="1652760"/>
            <a:ext cx="99180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2840" y="4560840"/>
            <a:ext cx="1206360" cy="1140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7160" y="4702320"/>
            <a:ext cx="133596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65160" y="5627520"/>
            <a:ext cx="14486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35680" y="4560840"/>
            <a:ext cx="1208160" cy="1140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1" idx="3"/>
            <a:endCxn id="42" idx="1"/>
          </p:cNvCxnSpPr>
          <p:nvPr/>
        </p:nvCxnSpPr>
        <p:spPr>
          <a:xfrm flipV="1">
            <a:off x="2206080" y="3332520"/>
            <a:ext cx="1014840" cy="1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4111560" y="3363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5800" y="3363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181480" y="4941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663640" y="50180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2720" y="1650960"/>
            <a:ext cx="227664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TL/STEP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1711440"/>
            <a:ext cx="133596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4560" y="404172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machin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Speed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6" idx="1"/>
            <a:endCxn id="55" idx="3"/>
          </p:cNvCxnSpPr>
          <p:nvPr/>
        </p:nvCxnSpPr>
        <p:spPr>
          <a:xfrm flipH="1">
            <a:off x="2889360" y="2032560"/>
            <a:ext cx="775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5" idx="1"/>
            <a:endCxn id="56" idx="3"/>
          </p:cNvCxnSpPr>
          <p:nvPr/>
        </p:nvCxnSpPr>
        <p:spPr>
          <a:xfrm flipH="1" flipV="1">
            <a:off x="5000040" y="2032560"/>
            <a:ext cx="1329120" cy="2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2"/>
            <a:endCxn id="44" idx="0"/>
          </p:cNvCxnSpPr>
          <p:nvPr/>
        </p:nvCxnSpPr>
        <p:spPr>
          <a:xfrm flipH="1">
            <a:off x="6818400" y="2404800"/>
            <a:ext cx="684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5" idx="2"/>
            <a:endCxn id="41" idx="0"/>
          </p:cNvCxnSpPr>
          <p:nvPr/>
        </p:nvCxnSpPr>
        <p:spPr>
          <a:xfrm>
            <a:off x="1751040" y="2403000"/>
            <a:ext cx="9720" cy="75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2"/>
            <a:endCxn id="47" idx="0"/>
          </p:cNvCxnSpPr>
          <p:nvPr/>
        </p:nvCxnSpPr>
        <p:spPr>
          <a:xfrm flipH="1">
            <a:off x="4404960" y="4410000"/>
            <a:ext cx="54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72160" y="53229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44" idx="2"/>
            <a:endCxn id="46" idx="0"/>
          </p:cNvCxnSpPr>
          <p:nvPr/>
        </p:nvCxnSpPr>
        <p:spPr>
          <a:xfrm>
            <a:off x="6818400" y="3812400"/>
            <a:ext cx="38160" cy="7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862160" y="140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2160" y="28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2600" y="26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308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13:26Z</dcterms:created>
  <dc:creator>Martin Hardwick</dc:creator>
  <dc:description/>
  <dc:language>en-US</dc:language>
  <cp:lastModifiedBy>Martin Hardwick</cp:lastModifiedBy>
  <dcterms:modified xsi:type="dcterms:W3CDTF">2007-11-16T20:02:49Z</dcterms:modified>
  <cp:revision>15</cp:revision>
  <dc:subject/>
  <dc:title>Feed and Speed Optimization</dc:title>
</cp:coreProperties>
</file>