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1.wmf" ContentType="image/x-wmf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9.png" ContentType="image/png"/>
  <Override PartName="/ppt/media/image15.png" ContentType="image/png"/>
  <Override PartName="/ppt/media/image17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21.png" ContentType="image/png"/>
  <Override PartName="/ppt/media/image3.wmf" ContentType="image/x-wmf"/>
  <Override PartName="/ppt/media/image58.png" ContentType="image/png"/>
  <Override PartName="/ppt/media/image22.png" ContentType="image/png"/>
  <Override PartName="/ppt/media/image59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7.png" ContentType="image/png"/>
  <Override PartName="/ppt/media/image64.png" ContentType="image/png"/>
  <Override PartName="/ppt/media/image65.png" ContentType="image/png"/>
  <Override PartName="/ppt/media/image28.png" ContentType="image/png"/>
  <Override PartName="/ppt/media/image63.png" ContentType="image/png"/>
  <Override PartName="/ppt/media/image26.png" ContentType="image/png"/>
  <Override PartName="/ppt/media/image23.png" ContentType="image/png"/>
  <Override PartName="/ppt/media/image60.png" ContentType="image/png"/>
  <Override PartName="/ppt/media/image62.png" ContentType="image/png"/>
  <Override PartName="/ppt/media/image25.png" ContentType="image/png"/>
  <Override PartName="/ppt/media/image61.png" ContentType="image/png"/>
  <Override PartName="/ppt/media/image2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5.wmf" ContentType="image/x-wmf"/>
  <Override PartName="/ppt/media/image10.png" ContentType="image/png"/>
  <Override PartName="/ppt/media/image47.png" ContentType="image/png"/>
  <Override PartName="/ppt/media/image32.png" ContentType="image/png"/>
  <Override PartName="/ppt/media/image33.png" ContentType="image/png"/>
  <Override PartName="/ppt/media/image35.png" ContentType="image/png"/>
  <Override PartName="/ppt/media/image39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32888" cy="6846888"/>
  <p:notesSz cx="69977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0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028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1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0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028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416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15360" y="246240"/>
            <a:ext cx="23889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4320" y="689040"/>
            <a:ext cx="876276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5080" y="655164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439F16A-1ED5-4A56-903E-7256B97F2612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613320" y="6551640"/>
            <a:ext cx="190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Copyright 2007 — STEP Tools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760" y="669600"/>
            <a:ext cx="5187960" cy="21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Arial"/>
              </a:rPr>
              <a:t>Current Status of Dallas Demonstration</a:t>
            </a:r>
            <a:br>
              <a:rPr sz="4000"/>
            </a:br>
            <a:r>
              <a:rPr b="1" lang="en-US" sz="4000" spc="-1" strike="noStrike">
                <a:solidFill>
                  <a:srgbClr val="cf0e30"/>
                </a:solidFill>
                <a:latin typeface="Arial"/>
              </a:rPr>
              <a:t>Prepa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2960" y="309600"/>
            <a:ext cx="25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32600" y="5291280"/>
            <a:ext cx="38278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 First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227160"/>
            <a:ext cx="2895480" cy="6389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788000" y="3651120"/>
            <a:ext cx="2620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ober 17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3511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55640" y="755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1960" y="9079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755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79320" y="755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5640" y="755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5640" y="6793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79320" y="8319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3360" y="83196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79320" y="755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9316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42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ndvik data has been rough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oughing takes 12 minu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changes were made to th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T parser was changed so that each tool change makes a new workingstep even if the tool change is redund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T parser was changed to add approach and retract operations for UGS UDE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$UDE: &lt;&gt; MOVE BACK &lt;&gt;/TYPE=MAX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changes have been made to the conve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ual DMIS mode has been updated to include the measurement operations shown in FishheadToleranceSuggestionsIssueC.pp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79320" y="8319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79320" y="6793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55640" y="755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79320" y="755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3360" y="75564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55640" y="8319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79320" y="755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79320" y="8319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27040" y="755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3360" y="83196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6620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307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las_sandvik2.238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 latest AP-238 data (compressed XM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las_sandvik2_roughing.fanu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 Fanuc file used for the 3-axis rough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las_sandvik2_finishing.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 Heidenhain AC file used for the 5-axis finish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las_sandvik2_inspection.dm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 Manual Mode DMIS data the insp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03360" y="75564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55640" y="8319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55640" y="755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79320" y="755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55640" y="755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79320" y="8319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755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79320" y="755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55640" y="6793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5640" y="755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8111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9320" y="907920"/>
            <a:ext cx="7747200" cy="522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pection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we required to probe exactly the points given in  FishheadToleranceSuggestionsIssueC.pp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s used in current inspection plan were generated by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number of points was check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spection operations are normal to the faces to eliminate cosine errors but we do not have a code generat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to develop a new code generator that rotates the part in raw mode so that inspection movements use only one axi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ing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meaning of Manual Mod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re the key differences from CNC m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control the free space movements to avoid collission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9842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79320" y="8319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84240" y="755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55640" y="755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03360" y="83196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3360" y="83196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55640" y="755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79320" y="8319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79320" y="8319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55640" y="755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9270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ing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-6480" y="1822320"/>
          <a:ext cx="2514600" cy="6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1822320"/>
                    <a:ext cx="251460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-6480" y="3448080"/>
          <a:ext cx="259092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6480" y="3448080"/>
                    <a:ext cx="259092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584440" y="984240"/>
            <a:ext cx="6019920" cy="451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298440" y="2660760"/>
          <a:ext cx="1981080" cy="627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8440" y="2660760"/>
                    <a:ext cx="198108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746360" y="2050920"/>
            <a:ext cx="137160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746360" y="2736720"/>
            <a:ext cx="129528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746360" y="3498480"/>
            <a:ext cx="12952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260960" y="5708520"/>
            <a:ext cx="1714320" cy="542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6622920" y="5708520"/>
            <a:ext cx="1952640" cy="533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4794120" y="4870080"/>
            <a:ext cx="914400" cy="76212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6851160" y="3193920"/>
            <a:ext cx="304920" cy="243864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55640" y="8319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5640" y="8319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55640" y="755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55640" y="8319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55640" y="755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31960" y="83196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79320" y="755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55640" y="8319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55640" y="8319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55640" y="755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2288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ing data - Boe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889360" y="1746360"/>
            <a:ext cx="6019560" cy="451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374760" y="907920"/>
          <a:ext cx="3733560" cy="6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4760" y="907920"/>
                    <a:ext cx="37335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2050920" y="1670040"/>
            <a:ext cx="12956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31960" y="75564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907920" y="755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5640" y="755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55640" y="755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55640" y="755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55640" y="755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8319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55640" y="8319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55640" y="8319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9:53:37Z</dcterms:created>
  <dc:creator>David Loffredo</dc:creator>
  <dc:description/>
  <cp:keywords/>
  <dc:language>en-US</dc:language>
  <cp:lastModifiedBy>Martin Hardwick</cp:lastModifiedBy>
  <cp:lastPrinted>2001-08-16T01:33:48Z</cp:lastPrinted>
  <dcterms:modified xsi:type="dcterms:W3CDTF">2007-10-25T12:28:47Z</dcterms:modified>
  <cp:revision>759</cp:revision>
  <dc:subject/>
  <dc:title>STEP-NC Feature Harmonization</dc:title>
</cp:coreProperties>
</file>