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95C-ECC6-4B37-992C-918368FB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0A4-0738-45D5-B0A8-65C5DF5B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82E-B7DC-46A8-860F-3D5E6251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521-4082-4FDB-8B3B-344B9288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A4B-7839-47FF-AC6E-9802C86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67D-2F83-4D38-B5EF-EA23AA0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E3C-79F3-4335-BCF9-B0CCD32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82C-E8FA-4AB8-834B-54172F2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E4E-24D7-48D4-9A98-3D14043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6A2-CF30-4EBF-9A37-0B2B449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02B-8871-4D5D-A940-701A450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AA9-90FE-45C7-BE02-992F5B6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581-4680-47B9-8B45-E0EC2328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Conference C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dnesday November 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:30AM Eastern, 4:30PM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n results of the Dalla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goals for 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with HiP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policy for the STEP-NC Explorer and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for 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for next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should be in March about the time of the next SC4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AC meeting in Orl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4 meeting in Louis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s in Next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Auckland, 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TH,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T, Connecti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Harbin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next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and Spee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feeds and speeds for maximum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abi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ath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to inspect the fish head to improve the machining accuracy for the subsequent meeting/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15080" y="3160800"/>
            <a:ext cx="8910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0560" y="3011400"/>
            <a:ext cx="8895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6480" y="3024360"/>
            <a:ext cx="65016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8800" y="2895480"/>
            <a:ext cx="979200" cy="916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8800" y="1652760"/>
            <a:ext cx="99180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52840" y="4560840"/>
            <a:ext cx="12063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7160" y="470232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5160" y="5627520"/>
            <a:ext cx="14486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5680" y="4560840"/>
            <a:ext cx="12081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5" idx="3"/>
            <a:endCxn id="46" idx="1"/>
          </p:cNvCxnSpPr>
          <p:nvPr/>
        </p:nvCxnSpPr>
        <p:spPr>
          <a:xfrm flipV="1">
            <a:off x="2212920" y="3336480"/>
            <a:ext cx="1000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4111560" y="3363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363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181480" y="4941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63640" y="50180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650960"/>
            <a:ext cx="227664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TL/STEP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64080" y="171144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4560" y="404172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machin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Spee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1"/>
            <a:endCxn id="59" idx="3"/>
          </p:cNvCxnSpPr>
          <p:nvPr/>
        </p:nvCxnSpPr>
        <p:spPr>
          <a:xfrm flipH="1">
            <a:off x="2894760" y="2036880"/>
            <a:ext cx="762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1"/>
            <a:endCxn id="60" idx="3"/>
          </p:cNvCxnSpPr>
          <p:nvPr/>
        </p:nvCxnSpPr>
        <p:spPr>
          <a:xfrm flipH="1" flipV="1">
            <a:off x="5006520" y="2036520"/>
            <a:ext cx="1315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2"/>
            <a:endCxn id="48" idx="0"/>
          </p:cNvCxnSpPr>
          <p:nvPr/>
        </p:nvCxnSpPr>
        <p:spPr>
          <a:xfrm flipH="1">
            <a:off x="6817680" y="2395080"/>
            <a:ext cx="68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9" idx="2"/>
            <a:endCxn id="45" idx="0"/>
          </p:cNvCxnSpPr>
          <p:nvPr/>
        </p:nvCxnSpPr>
        <p:spPr>
          <a:xfrm>
            <a:off x="1751040" y="2394000"/>
            <a:ext cx="10080" cy="76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1" idx="2"/>
            <a:endCxn id="51" idx="0"/>
          </p:cNvCxnSpPr>
          <p:nvPr/>
        </p:nvCxnSpPr>
        <p:spPr>
          <a:xfrm flipH="1">
            <a:off x="4404600" y="4408560"/>
            <a:ext cx="54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872160" y="53229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8" idx="2"/>
            <a:endCxn id="50" idx="0"/>
          </p:cNvCxnSpPr>
          <p:nvPr/>
        </p:nvCxnSpPr>
        <p:spPr>
          <a:xfrm>
            <a:off x="6818400" y="3820680"/>
            <a:ext cx="3888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862160" y="140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2160" y="28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2600" y="26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308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 path attributes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 and feed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Depth 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idth (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oss sectional area (sometimes = d * 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the area (Y, Z) (standard must describe origin – tip of t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leranced spindle powe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2160" y="1682640"/>
            <a:ext cx="2140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eed/Feed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Adaptive control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456080"/>
            <a:ext cx="2577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Cross-Section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 path attributes 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or adaptiv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force vector as bounde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power scalar as bounde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calar as bound curve – standard must define measureme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emiss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ility and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Traceability model for AP-238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ime function for workingstep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ath deviation function for machining lag/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 to determine correlations between deviation error and machin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 indicates tool bending and feed/speed/power err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rrespondence indicates tool path err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to correct error in next round using five axis cutter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3880" y="34653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657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41148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23880" y="403812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1840" y="28954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ax deviation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66880" y="28195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800" y="47242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max deviatio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38280" y="41144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 to make the data and convert to Siemens 840D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T to machine the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Vigo in Spain to analyze the lo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with HiPP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obtain “real” AP-203 e2 file to define the toler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measurement goals for next round (M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closed loop machining in subsequent round (Ju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-NC Explorer and D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Distributio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on request to anyone that wants to test STEP-NC AP-23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aluation and research us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duction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ork-for-hire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from ftp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ct us to get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13:26Z</dcterms:created>
  <dc:creator>Martin Hardwick</dc:creator>
  <dc:description/>
  <dc:language>en-US</dc:language>
  <cp:lastModifiedBy>Martin Hardwick</cp:lastModifiedBy>
  <dcterms:modified xsi:type="dcterms:W3CDTF">2007-11-06T18:34:39Z</dcterms:modified>
  <cp:revision>14</cp:revision>
  <dc:subject/>
  <dc:title>Feed and Speed Optimization</dc:title>
</cp:coreProperties>
</file>