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3B5-E733-463E-98FB-09AE0E6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2A9-9070-4B69-AA6C-7E96D762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F21-6596-475A-986A-AE09AB99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79E-E377-4F4E-94E8-EED563E0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1A3-96CE-459B-9C26-BF9059DE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AB81-5408-49C5-BD7C-27B9C147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7B4-C43D-4DCA-BC1B-03279195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6DF-D31C-49B2-B9AA-E19C5DE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F7E-7E3E-4923-85E6-9F29E44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60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4CA-B603-4671-BCD5-6B728CA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265-1EC6-42D6-BBF6-9740B07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08-524E-4C28-8440-FA15C51A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9A68-DC7C-4E34-BE99-61EA975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0201-6645-4607-81A6-1A9D6C2C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D17-D22E-456F-9795-30780FC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9D7E-25C5-4571-8205-AF9D9F34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852-E19E-423D-9BC6-7AF4C299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B0D-130B-4BFC-A305-CE0EB942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108-6F83-43E2-BE01-2C6C14F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CEE-6C5E-49C9-989C-841D262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60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AC7-2349-4667-A488-8E7A4D3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7AB-B5D4-46E2-A04B-3E2CF4D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127-BBC7-46AF-BBB0-3181FE6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997-C842-433E-B9FB-2517BB59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81560"/>
            <a:ext cx="7925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202-089E-40BE-9314-E9511F502F1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8720" y="928800"/>
            <a:ext cx="799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DFF-701A-43AC-B0F2-78B0CEC5BD2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1776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aft ARM for traceability nc_fun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792440"/>
            <a:ext cx="324972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ngle Value trac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90640" y="3267000"/>
            <a:ext cx="324828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3360" y="4745160"/>
            <a:ext cx="344808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(With action)(BLOCK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5" idx="1"/>
            <a:endCxn id="86" idx="1"/>
          </p:cNvCxnSpPr>
          <p:nvPr/>
        </p:nvCxnSpPr>
        <p:spPr>
          <a:xfrm flipH="1" flipV="1" rot="10800000">
            <a:off x="591840" y="1369800"/>
            <a:ext cx="1027440" cy="1059480"/>
          </a:xfrm>
          <a:prstGeom prst="bentConnector3">
            <a:avLst>
              <a:gd name="adj1" fmla="val -2306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5" idx="1"/>
            <a:endCxn id="87" idx="1"/>
          </p:cNvCxnSpPr>
          <p:nvPr/>
        </p:nvCxnSpPr>
        <p:spPr>
          <a:xfrm flipH="1" flipV="1" rot="10800000">
            <a:off x="591840" y="1369800"/>
            <a:ext cx="2098800" cy="2534040"/>
          </a:xfrm>
          <a:prstGeom prst="bentConnector3">
            <a:avLst>
              <a:gd name="adj1" fmla="val -1128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5" idx="1"/>
            <a:endCxn id="88" idx="1"/>
          </p:cNvCxnSpPr>
          <p:nvPr/>
        </p:nvCxnSpPr>
        <p:spPr>
          <a:xfrm flipH="1" flipV="1" rot="10800000">
            <a:off x="591840" y="1369800"/>
            <a:ext cx="2981520" cy="4012200"/>
          </a:xfrm>
          <a:prstGeom prst="bentConnector3">
            <a:avLst>
              <a:gd name="adj1" fmla="val -794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. Single value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038320" y="182880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1"/>
            <a:endCxn id="96" idx="1"/>
          </p:cNvCxnSpPr>
          <p:nvPr/>
        </p:nvCxnSpPr>
        <p:spPr>
          <a:xfrm flipH="1" flipV="1" rot="10800000">
            <a:off x="2027880" y="2050560"/>
            <a:ext cx="1353240" cy="1029600"/>
          </a:xfrm>
          <a:prstGeom prst="bentConnector3">
            <a:avLst>
              <a:gd name="adj1" fmla="val -1617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3390840" y="287028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8880" y="288936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ime_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0120" y="29923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3"/>
            <a:endCxn id="98" idx="2"/>
          </p:cNvCxnSpPr>
          <p:nvPr/>
        </p:nvCxnSpPr>
        <p:spPr>
          <a:xfrm flipV="1">
            <a:off x="4881240" y="3072960"/>
            <a:ext cx="1569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0" name=""/>
          <p:cNvSpPr/>
          <p:nvPr/>
        </p:nvSpPr>
        <p:spPr>
          <a:xfrm>
            <a:off x="3382920" y="3441600"/>
            <a:ext cx="19256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ool_dat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89400" y="4016520"/>
            <a:ext cx="1939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machine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2920" y="4564080"/>
            <a:ext cx="19623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oolant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4" idx="1"/>
            <a:endCxn id="100" idx="1"/>
          </p:cNvCxnSpPr>
          <p:nvPr/>
        </p:nvCxnSpPr>
        <p:spPr>
          <a:xfrm flipH="1" flipV="1" rot="10800000">
            <a:off x="2027880" y="2049840"/>
            <a:ext cx="1345320" cy="160092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4" idx="1"/>
            <a:endCxn id="101" idx="1"/>
          </p:cNvCxnSpPr>
          <p:nvPr/>
        </p:nvCxnSpPr>
        <p:spPr>
          <a:xfrm flipH="1" flipV="1" rot="10800000">
            <a:off x="2028960" y="2050560"/>
            <a:ext cx="1351080" cy="2175840"/>
          </a:xfrm>
          <a:prstGeom prst="bentConnector3">
            <a:avLst>
              <a:gd name="adj1" fmla="val -1620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4" idx="1"/>
            <a:endCxn id="102" idx="1"/>
          </p:cNvCxnSpPr>
          <p:nvPr/>
        </p:nvCxnSpPr>
        <p:spPr>
          <a:xfrm flipH="1" flipV="1" rot="10800000">
            <a:off x="2027880" y="2049840"/>
            <a:ext cx="1345320" cy="272340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618240" y="344952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9480" y="3552840"/>
            <a:ext cx="16200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7" idx="2"/>
          </p:cNvCxnSpPr>
          <p:nvPr/>
        </p:nvCxnSpPr>
        <p:spPr>
          <a:xfrm flipV="1">
            <a:off x="5322600" y="3633120"/>
            <a:ext cx="1137240" cy="6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9" name=""/>
          <p:cNvSpPr/>
          <p:nvPr/>
        </p:nvSpPr>
        <p:spPr>
          <a:xfrm>
            <a:off x="6649920" y="403560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1160" y="4138560"/>
            <a:ext cx="1620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endCxn id="110" idx="2"/>
          </p:cNvCxnSpPr>
          <p:nvPr/>
        </p:nvCxnSpPr>
        <p:spPr>
          <a:xfrm flipV="1">
            <a:off x="5354280" y="421920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2" name=""/>
          <p:cNvSpPr/>
          <p:nvPr/>
        </p:nvSpPr>
        <p:spPr>
          <a:xfrm>
            <a:off x="6675480" y="4567320"/>
            <a:ext cx="14828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4670280"/>
            <a:ext cx="1620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endCxn id="113" idx="2"/>
          </p:cNvCxnSpPr>
          <p:nvPr/>
        </p:nvCxnSpPr>
        <p:spPr>
          <a:xfrm flipV="1">
            <a:off x="5379840" y="475092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5" name=""/>
          <p:cNvSpPr/>
          <p:nvPr/>
        </p:nvSpPr>
        <p:spPr>
          <a:xfrm>
            <a:off x="3386160" y="5191200"/>
            <a:ext cx="1962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operato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78720" y="519444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9960" y="529740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endCxn id="117" idx="2"/>
          </p:cNvCxnSpPr>
          <p:nvPr/>
        </p:nvCxnSpPr>
        <p:spPr>
          <a:xfrm flipV="1">
            <a:off x="5383080" y="5378040"/>
            <a:ext cx="113760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119" name=""/>
          <p:cNvCxnSpPr>
            <a:stCxn id="94" idx="1"/>
          </p:cNvCxnSpPr>
          <p:nvPr/>
        </p:nvCxnSpPr>
        <p:spPr>
          <a:xfrm flipH="1" flipV="1" rot="10800000">
            <a:off x="2028600" y="2049840"/>
            <a:ext cx="1350000" cy="3350520"/>
          </a:xfrm>
          <a:prstGeom prst="bentConnector4">
            <a:avLst>
              <a:gd name="adj1" fmla="val -16217"/>
              <a:gd name="adj2" fmla="val 100000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I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witching (on/off) function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92200" y="1440000"/>
            <a:ext cx="2508120" cy="444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4960" y="2592360"/>
            <a:ext cx="346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0280" y="493380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1"/>
            <a:endCxn id="122" idx="1"/>
          </p:cNvCxnSpPr>
          <p:nvPr/>
        </p:nvCxnSpPr>
        <p:spPr>
          <a:xfrm flipH="1" flipV="1" rot="10800000">
            <a:off x="582120" y="1661760"/>
            <a:ext cx="843840" cy="1140480"/>
          </a:xfrm>
          <a:prstGeom prst="bentConnector3">
            <a:avLst>
              <a:gd name="adj1" fmla="val -25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1"/>
            <a:endCxn id="123" idx="1"/>
          </p:cNvCxnSpPr>
          <p:nvPr/>
        </p:nvCxnSpPr>
        <p:spPr>
          <a:xfrm flipH="1" flipV="1" rot="10800000">
            <a:off x="581400" y="1661040"/>
            <a:ext cx="839160" cy="3482280"/>
          </a:xfrm>
          <a:prstGeom prst="bentConnector3">
            <a:avLst>
              <a:gd name="adj1" fmla="val -2609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31960" y="3765600"/>
            <a:ext cx="17668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0"/>
            <a:endCxn id="126" idx="2"/>
          </p:cNvCxnSpPr>
          <p:nvPr/>
        </p:nvCxnSpPr>
        <p:spPr>
          <a:xfrm flipV="1" rot="16200000">
            <a:off x="2072520" y="3836160"/>
            <a:ext cx="731160" cy="144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2" idx="2"/>
            <a:endCxn id="126" idx="0"/>
          </p:cNvCxnSpPr>
          <p:nvPr/>
        </p:nvCxnSpPr>
        <p:spPr>
          <a:xfrm rot="5400000">
            <a:off x="2072880" y="2663280"/>
            <a:ext cx="735120" cy="1450080"/>
          </a:xfrm>
          <a:prstGeom prst="bentConnector3">
            <a:avLst>
              <a:gd name="adj1" fmla="val 4987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1811520" y="340848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8000" y="428004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2" idx="3"/>
            <a:endCxn id="132" idx="1"/>
          </p:cNvCxnSpPr>
          <p:nvPr/>
        </p:nvCxnSpPr>
        <p:spPr>
          <a:xfrm>
            <a:off x="4905360" y="2801520"/>
            <a:ext cx="1729440" cy="252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643800" y="2457360"/>
            <a:ext cx="2136600" cy="69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VARIABLE/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6040" y="250020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sensor/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5" idx="2"/>
            <a:endCxn id="136" idx="1"/>
          </p:cNvCxnSpPr>
          <p:nvPr/>
        </p:nvCxnSpPr>
        <p:spPr>
          <a:xfrm flipH="1" rot="16200000">
            <a:off x="5047200" y="2076840"/>
            <a:ext cx="677160" cy="2513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6642000" y="3365640"/>
            <a:ext cx="215748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29760" y="33973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5320" y="3584520"/>
            <a:ext cx="16056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3360" y="2678040"/>
            <a:ext cx="5698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ceability nc_functions. BLOCK II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e Definition Samples (one function for sens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1200" y="183816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axial_depth_of_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440" y="4264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utting_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1"/>
            <a:endCxn id="141" idx="1"/>
          </p:cNvCxnSpPr>
          <p:nvPr/>
        </p:nvCxnSpPr>
        <p:spPr>
          <a:xfrm flipH="1" flipV="1" rot="10800000">
            <a:off x="581400" y="1369080"/>
            <a:ext cx="1089720" cy="678600"/>
          </a:xfrm>
          <a:prstGeom prst="bentConnector3">
            <a:avLst>
              <a:gd name="adj1" fmla="val -2009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0" idx="1"/>
            <a:endCxn id="142" idx="1"/>
          </p:cNvCxnSpPr>
          <p:nvPr/>
        </p:nvCxnSpPr>
        <p:spPr>
          <a:xfrm flipH="1" flipV="1" rot="10800000">
            <a:off x="581400" y="1369080"/>
            <a:ext cx="1065960" cy="3104280"/>
          </a:xfrm>
          <a:prstGeom prst="bentConnector3">
            <a:avLst>
              <a:gd name="adj1" fmla="val -2054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1" idx="2"/>
            <a:endCxn id="146" idx="1"/>
          </p:cNvCxnSpPr>
          <p:nvPr/>
        </p:nvCxnSpPr>
        <p:spPr>
          <a:xfrm flipH="1" rot="16200000">
            <a:off x="4678920" y="998280"/>
            <a:ext cx="961200" cy="349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6908760" y="292104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6840" y="29527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67640" y="532296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28040" y="5342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2" idx="2"/>
            <a:endCxn id="148" idx="1"/>
          </p:cNvCxnSpPr>
          <p:nvPr/>
        </p:nvCxnSpPr>
        <p:spPr>
          <a:xfrm flipH="1" rot="16200000">
            <a:off x="4608360" y="3470760"/>
            <a:ext cx="937440" cy="338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742080" y="31399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5920" y="5535720"/>
            <a:ext cx="16056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60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ceability nc_functions. BLOCK I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03320" y="1978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synch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3840" y="555624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synchr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4" idx="1"/>
            <a:endCxn id="155" idx="1"/>
          </p:cNvCxnSpPr>
          <p:nvPr/>
        </p:nvCxnSpPr>
        <p:spPr>
          <a:xfrm flipH="1" flipV="1" rot="10800000">
            <a:off x="582120" y="1369080"/>
            <a:ext cx="411840" cy="818280"/>
          </a:xfrm>
          <a:prstGeom prst="bentConnector3">
            <a:avLst>
              <a:gd name="adj1" fmla="val -5328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4" idx="1"/>
            <a:endCxn id="156" idx="1"/>
          </p:cNvCxnSpPr>
          <p:nvPr/>
        </p:nvCxnSpPr>
        <p:spPr>
          <a:xfrm flipH="1" flipV="1" rot="10800000">
            <a:off x="582120" y="1369800"/>
            <a:ext cx="432720" cy="4396320"/>
          </a:xfrm>
          <a:prstGeom prst="bentConnector3">
            <a:avLst>
              <a:gd name="adj1" fmla="val -50707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831960" y="4387680"/>
            <a:ext cx="17668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6" idx="0"/>
            <a:endCxn id="159" idx="2"/>
          </p:cNvCxnSpPr>
          <p:nvPr/>
        </p:nvCxnSpPr>
        <p:spPr>
          <a:xfrm flipV="1" rot="16200000">
            <a:off x="1869840" y="4662000"/>
            <a:ext cx="731160" cy="103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5" idx="2"/>
            <a:endCxn id="159" idx="0"/>
          </p:cNvCxnSpPr>
          <p:nvPr/>
        </p:nvCxnSpPr>
        <p:spPr>
          <a:xfrm rot="5400000">
            <a:off x="1238400" y="2883240"/>
            <a:ext cx="1972440" cy="1018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1785960" y="40305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9021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flipV="1">
            <a:off x="4486320" y="1360080"/>
            <a:ext cx="2085120" cy="828000"/>
          </a:xfrm>
          <a:prstGeom prst="bentConnector3">
            <a:avLst>
              <a:gd name="adj1" fmla="val 184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6711840" y="1919160"/>
            <a:ext cx="2025720" cy="54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boolean_expre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55" idx="3"/>
            <a:endCxn id="165" idx="1"/>
          </p:cNvCxnSpPr>
          <p:nvPr/>
        </p:nvCxnSpPr>
        <p:spPr>
          <a:xfrm>
            <a:off x="4473360" y="2187720"/>
            <a:ext cx="2238840" cy="3600"/>
          </a:xfrm>
          <a:prstGeom prst="bentConnector3">
            <a:avLst>
              <a:gd name="adj1" fmla="val 497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516280" y="21686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con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4560" y="3079800"/>
            <a:ext cx="7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9520" y="3135240"/>
            <a:ext cx="2508120" cy="44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Work_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55" idx="3"/>
            <a:endCxn id="169" idx="1"/>
          </p:cNvCxnSpPr>
          <p:nvPr/>
        </p:nvCxnSpPr>
        <p:spPr>
          <a:xfrm>
            <a:off x="4473720" y="2187720"/>
            <a:ext cx="1846800" cy="117072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6724800" y="1035000"/>
            <a:ext cx="223488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0680" y="10922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8120" y="127944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-1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40072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0:24:33Z</dcterms:created>
  <dc:creator>http://www.epmtech.jotne.com</dc:creator>
  <dc:description/>
  <dc:language>en-US</dc:language>
  <cp:lastModifiedBy>Martin Hardwick</cp:lastModifiedBy>
  <cp:lastPrinted>2002-05-07T13:17:13Z</cp:lastPrinted>
  <dcterms:modified xsi:type="dcterms:W3CDTF">2007-07-09T14:23:42Z</dcterms:modified>
  <cp:revision>470</cp:revision>
  <dc:subject/>
  <dc:title>COMDEX NORDIC 2002</dc:title>
</cp:coreProperties>
</file>