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4A912-4D08-4FD3-BC54-98DB9D9FB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0000" y="431280"/>
            <a:ext cx="842004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60000" y="1978200"/>
            <a:ext cx="842004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60000" y="4140000"/>
            <a:ext cx="842004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ED7C7-55EA-488E-B4FA-113952988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0000" y="431280"/>
            <a:ext cx="842004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60000" y="1978200"/>
            <a:ext cx="410868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600" y="1978200"/>
            <a:ext cx="410868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60000" y="4140000"/>
            <a:ext cx="410868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600" y="4140000"/>
            <a:ext cx="410868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5F7C9-95C0-4ADE-BB6C-5E1FDEDF3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0000" y="431280"/>
            <a:ext cx="842004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60000" y="1978200"/>
            <a:ext cx="271116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07240" y="1978200"/>
            <a:ext cx="271116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54120" y="1978200"/>
            <a:ext cx="271116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60000" y="4140000"/>
            <a:ext cx="271116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07240" y="4140000"/>
            <a:ext cx="271116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54120" y="4140000"/>
            <a:ext cx="271116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AEBAA-464D-4889-A78C-BCEA20902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17229-6809-480C-814B-A185126D1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60000" y="431280"/>
            <a:ext cx="842004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60000" y="1978200"/>
            <a:ext cx="842004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DD2D6-0116-44AA-9816-456C4636C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60000" y="431280"/>
            <a:ext cx="842004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60000" y="1978200"/>
            <a:ext cx="842004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F82D6-E6A9-4B75-AF59-78EF7AA1C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0000" y="431280"/>
            <a:ext cx="842004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60000" y="1978200"/>
            <a:ext cx="410868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600" y="1978200"/>
            <a:ext cx="410868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442AF-5B79-4ED9-B16A-0E8F93D1F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60000" y="431280"/>
            <a:ext cx="842004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3557C-A4E8-4E8E-B331-4475360B1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60000" y="431280"/>
            <a:ext cx="8420040" cy="500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A8BE0-1232-4B5C-B315-9B01B6D4E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60000" y="431280"/>
            <a:ext cx="842004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60000" y="1978200"/>
            <a:ext cx="410868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600" y="1978200"/>
            <a:ext cx="410868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60000" y="4140000"/>
            <a:ext cx="410868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18CD4-9ACC-49A3-A5A5-DF43FFB22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0000" y="431280"/>
            <a:ext cx="842004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60000" y="1978200"/>
            <a:ext cx="842004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8C1FA-CFC4-43FB-B4BD-8BA5D85AE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60000" y="431280"/>
            <a:ext cx="842004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60000" y="1978200"/>
            <a:ext cx="410868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600" y="1978200"/>
            <a:ext cx="410868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600" y="4140000"/>
            <a:ext cx="410868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33896-E3F3-4791-A355-4B92BCD5D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60000" y="431280"/>
            <a:ext cx="842004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60000" y="1978200"/>
            <a:ext cx="410868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600" y="1978200"/>
            <a:ext cx="410868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60000" y="4140000"/>
            <a:ext cx="842004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C23AE-C701-4EC5-8F1A-33AE54C1F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60000" y="431280"/>
            <a:ext cx="842004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60000" y="1978200"/>
            <a:ext cx="842004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60000" y="4140000"/>
            <a:ext cx="842004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24E6E-CBCF-4C6C-86CC-9E65E8476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60000" y="431280"/>
            <a:ext cx="842004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60000" y="1978200"/>
            <a:ext cx="410868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600" y="1978200"/>
            <a:ext cx="410868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60000" y="4140000"/>
            <a:ext cx="410868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600" y="4140000"/>
            <a:ext cx="410868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DF156-FA70-47F4-A054-03CE860F9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60000" y="431280"/>
            <a:ext cx="842004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60000" y="1978200"/>
            <a:ext cx="271116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07240" y="1978200"/>
            <a:ext cx="271116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54120" y="1978200"/>
            <a:ext cx="271116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360000" y="4140000"/>
            <a:ext cx="271116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07240" y="4140000"/>
            <a:ext cx="271116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54120" y="4140000"/>
            <a:ext cx="271116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09602-A083-41B5-9BB5-4673456A0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0000" y="431280"/>
            <a:ext cx="842004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60000" y="1978200"/>
            <a:ext cx="842004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2586B-3EC2-4B6C-B536-F3946B16A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0000" y="431280"/>
            <a:ext cx="842004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60000" y="1978200"/>
            <a:ext cx="410868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600" y="1978200"/>
            <a:ext cx="410868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47379-56F6-45A0-95A1-25356D8C7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0000" y="431280"/>
            <a:ext cx="842004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D8A78-AC27-4959-8D7F-BDDEE9EBD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0000" y="431280"/>
            <a:ext cx="8420040" cy="500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AA203-3902-4A8A-B043-A71163434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0000" y="431280"/>
            <a:ext cx="842004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60000" y="1978200"/>
            <a:ext cx="410868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600" y="1978200"/>
            <a:ext cx="410868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60000" y="4140000"/>
            <a:ext cx="410868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6BF9C-A927-4EBE-8958-F2BF61DAD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0000" y="431280"/>
            <a:ext cx="842004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60000" y="1978200"/>
            <a:ext cx="410868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600" y="1978200"/>
            <a:ext cx="410868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600" y="4140000"/>
            <a:ext cx="410868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F0931-8D82-40E4-9407-4AD560DBB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0000" y="431280"/>
            <a:ext cx="842004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60000" y="1978200"/>
            <a:ext cx="410868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600" y="1978200"/>
            <a:ext cx="410868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60000" y="4140000"/>
            <a:ext cx="842004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C243A-9551-4C25-9F2F-CC8550B6C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0000" y="431280"/>
            <a:ext cx="842004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60000" y="1978200"/>
            <a:ext cx="842004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4600" indent="-174600">
              <a:spcBef>
                <a:spcPts val="524"/>
              </a:spcBef>
              <a:buClr>
                <a:srgbClr val="ff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398520" indent="-20160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542880" indent="-131760">
              <a:spcBef>
                <a:spcPts val="524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693800" indent="-22860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2112840" indent="-2286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2112840" indent="-2286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2112840" indent="-2286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1079280" y="6211440"/>
            <a:ext cx="2881080" cy="3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7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808080"/>
                </a:solidFill>
                <a:latin typeface="Arial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dt" idx="2"/>
          </p:nvPr>
        </p:nvSpPr>
        <p:spPr>
          <a:xfrm>
            <a:off x="576360" y="6211440"/>
            <a:ext cx="1079280" cy="3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7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4E111-9670-44E4-9418-77C816A7FE96}" type="datetime">
              <a:rPr b="0" lang="en-US" sz="700" spc="-1" strike="noStrike">
                <a:solidFill>
                  <a:srgbClr val="808080"/>
                </a:solidFill>
                <a:latin typeface="Arial"/>
              </a:rPr>
              <a:t>07/30/26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60000" y="6211440"/>
            <a:ext cx="539640" cy="3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7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808080"/>
                </a:solidFill>
                <a:latin typeface="Arial"/>
              </a:rPr>
              <a:t>/</a:t>
            </a:r>
            <a:fld id="{289EA1A7-88F1-4879-BD42-EE83204CA6D2}" type="slidenum">
              <a:rPr b="0" lang="en-US" sz="7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62760" y="6207120"/>
            <a:ext cx="932040" cy="345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60000" y="1832040"/>
            <a:ext cx="84200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1079280" y="6211440"/>
            <a:ext cx="2881080" cy="3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7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808080"/>
                </a:solidFill>
                <a:latin typeface="Arial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5"/>
          </p:nvPr>
        </p:nvSpPr>
        <p:spPr>
          <a:xfrm>
            <a:off x="576360" y="6211440"/>
            <a:ext cx="1079280" cy="3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7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C837C-503C-4AE8-8944-E6F53321BA60}" type="datetime">
              <a:rPr b="0" lang="en-US" sz="700" spc="-1" strike="noStrike">
                <a:solidFill>
                  <a:srgbClr val="808080"/>
                </a:solidFill>
                <a:latin typeface="Arial"/>
              </a:rPr>
              <a:t>07/30/26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360000" y="6211440"/>
            <a:ext cx="539640" cy="3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7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808080"/>
                </a:solidFill>
                <a:latin typeface="Arial"/>
              </a:rPr>
              <a:t>/</a:t>
            </a:r>
            <a:fld id="{6C32F23D-DDBD-432D-837D-A8DE59A7059B}" type="slidenum">
              <a:rPr b="0" lang="en-US" sz="7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7862760" y="6207120"/>
            <a:ext cx="932040" cy="34596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1" marL="282600" indent="0"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411120" algn="ctr">
              <a:spcBef>
                <a:spcPts val="349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93600" algn="ctr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55440" algn="ctr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5544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5544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rcRect l="6212" t="0" r="22249" b="0"/>
          <a:stretch/>
        </p:blipFill>
        <p:spPr>
          <a:xfrm>
            <a:off x="0" y="0"/>
            <a:ext cx="9144000" cy="53658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60000" y="43920"/>
            <a:ext cx="842004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200" spc="-1" strike="noStrike">
                <a:solidFill>
                  <a:srgbClr val="ffffff"/>
                </a:solidFill>
                <a:latin typeface="Arial"/>
              </a:rPr>
              <a:t>STEP Manufacturing</a:t>
            </a:r>
            <a:br>
              <a:rPr sz="3200"/>
            </a:br>
            <a:r>
              <a:rPr b="1" lang="sv-SE" sz="3200" spc="-1" strike="noStrike">
                <a:solidFill>
                  <a:srgbClr val="ffffff"/>
                </a:solidFill>
                <a:latin typeface="Arial"/>
              </a:rPr>
              <a:t>TC184/SC4/T24</a:t>
            </a: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360000" y="1196640"/>
            <a:ext cx="8420040" cy="178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ff"/>
                </a:solidFill>
                <a:latin typeface="Arial"/>
              </a:rPr>
              <a:t>March 10-11, 2008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ff"/>
                </a:solidFill>
                <a:latin typeface="Arial"/>
              </a:rPr>
              <a:t>Sandvik Coromant Application Center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ff"/>
                </a:solidFill>
                <a:latin typeface="Arial"/>
              </a:rPr>
              <a:t>Sandviken, Sweden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6CF32-9268-4A4E-A415-4EEB72C47CA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60000" y="431280"/>
            <a:ext cx="842004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200" spc="-1" strike="noStrike">
                <a:solidFill>
                  <a:srgbClr val="808080"/>
                </a:solidFill>
                <a:latin typeface="Arial"/>
              </a:rPr>
              <a:t>Facilities</a:t>
            </a:r>
            <a:br>
              <a:rPr sz="3200"/>
            </a:br>
            <a:r>
              <a:rPr b="0" lang="sv-SE" sz="2400" spc="-1" strike="noStrike">
                <a:solidFill>
                  <a:srgbClr val="808080"/>
                </a:solidFill>
                <a:latin typeface="Arial"/>
              </a:rPr>
              <a:t>Productivity Center and adjacent Application Center</a:t>
            </a: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60000" y="1125360"/>
            <a:ext cx="8420040" cy="489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398520" indent="0">
              <a:spcBef>
                <a:spcPts val="425"/>
              </a:spcBef>
              <a:buNone/>
              <a:tabLst>
                <a:tab algn="l" pos="2424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398520" indent="0">
              <a:spcBef>
                <a:spcPts val="425"/>
              </a:spcBef>
              <a:buNone/>
              <a:tabLst>
                <a:tab algn="l" pos="2424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398520" indent="-201600"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2424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700" spc="-1" strike="noStrike">
                <a:solidFill>
                  <a:srgbClr val="000000"/>
                </a:solidFill>
                <a:latin typeface="Arial"/>
              </a:rPr>
              <a:t>Conference room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398520" indent="0">
              <a:spcBef>
                <a:spcPts val="425"/>
              </a:spcBef>
              <a:buNone/>
              <a:tabLst>
                <a:tab algn="l" pos="2424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398520" indent="0">
              <a:spcBef>
                <a:spcPts val="425"/>
              </a:spcBef>
              <a:buNone/>
              <a:tabLst>
                <a:tab algn="l" pos="2424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398520" indent="0">
              <a:spcBef>
                <a:spcPts val="425"/>
              </a:spcBef>
              <a:buNone/>
              <a:tabLst>
                <a:tab algn="l" pos="2424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398520" indent="0">
              <a:spcBef>
                <a:spcPts val="425"/>
              </a:spcBef>
              <a:buNone/>
              <a:tabLst>
                <a:tab algn="l" pos="2424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398520" indent="-201600"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2424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700" spc="-1" strike="noStrike">
                <a:solidFill>
                  <a:srgbClr val="000000"/>
                </a:solidFill>
                <a:latin typeface="Arial"/>
              </a:rPr>
              <a:t>Model factory set-up for ”solid model to solid part” demonstrations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627280" y="1555920"/>
            <a:ext cx="2712960" cy="15127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629080" y="3645000"/>
            <a:ext cx="2089080" cy="72684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468360" y="4365720"/>
            <a:ext cx="6114960" cy="18144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6589800" y="3860640"/>
            <a:ext cx="849240" cy="2313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82E0C-DDFC-4066-ADC4-E0523A32ADA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60000" y="431280"/>
            <a:ext cx="842004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Arial"/>
              </a:rPr>
              <a:t>Application Center</a:t>
            </a:r>
            <a:br>
              <a:rPr sz="3200"/>
            </a:b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Resources used so far</a:t>
            </a: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60000" y="1484280"/>
            <a:ext cx="8420040" cy="28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171000" indent="-171000">
              <a:spcBef>
                <a:spcPts val="524"/>
              </a:spcBef>
              <a:buClr>
                <a:srgbClr val="ff0000"/>
              </a:buClr>
              <a:buFont typeface="Wingdings" charset="2"/>
              <a:buChar char=""/>
              <a:tabLst>
                <a:tab algn="l" pos="2424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P203 </a:t>
            </a: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Tool paths (UGS NX5 software) </a:t>
            </a: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AP238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171000" indent="-171000">
              <a:spcBef>
                <a:spcPts val="524"/>
              </a:spcBef>
              <a:buClr>
                <a:srgbClr val="ff0000"/>
              </a:buClr>
              <a:buFont typeface="Wingdings" charset="2"/>
              <a:buChar char=""/>
              <a:tabLst>
                <a:tab algn="l" pos="2424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Verification of tool paths (Vericut v.6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171000" indent="-171000">
              <a:spcBef>
                <a:spcPts val="524"/>
              </a:spcBef>
              <a:buClr>
                <a:srgbClr val="ff0000"/>
              </a:buClr>
              <a:buFont typeface="Wingdings" charset="2"/>
              <a:buChar char=""/>
              <a:tabLst>
                <a:tab algn="l" pos="2424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NC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390240" indent="-197280"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2424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3-axis machining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(Mori Seiki NH8000 / Fanuc 180i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390240" indent="-197280"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2424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5-axis machining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(Hermle C40U Dynamic / Heidenhain iTNC530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390240" indent="-197280"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2424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probing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(Hermle C40U Dynamic / Heidenhain iTNC530 / Renishaw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71000" indent="-171000">
              <a:spcBef>
                <a:spcPts val="524"/>
              </a:spcBef>
              <a:buClr>
                <a:srgbClr val="ff0000"/>
              </a:buClr>
              <a:buFont typeface="Wingdings" charset="2"/>
              <a:buChar char=""/>
              <a:tabLst>
                <a:tab algn="l" pos="2424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MM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390240" indent="-197280"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2424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probing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(Zeiss Center Max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68360" y="4581360"/>
            <a:ext cx="2519280" cy="18907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3203640" y="4581360"/>
            <a:ext cx="2519280" cy="18907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5940360" y="3933720"/>
            <a:ext cx="1832040" cy="259236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540720" y="6138720"/>
            <a:ext cx="140436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v-SE" sz="1600" spc="-1" strike="noStrike">
                <a:solidFill>
                  <a:srgbClr val="000000"/>
                </a:solidFill>
                <a:latin typeface="Arial"/>
              </a:rPr>
              <a:t>3+1 axis CNC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277440" y="6165720"/>
            <a:ext cx="117288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v-SE" sz="1600" spc="-1" strike="noStrike">
                <a:solidFill>
                  <a:srgbClr val="000000"/>
                </a:solidFill>
                <a:latin typeface="Arial"/>
              </a:rPr>
              <a:t>5 axis CNC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012720" y="6165720"/>
            <a:ext cx="59832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v-SE" sz="1600" spc="-1" strike="noStrike">
                <a:solidFill>
                  <a:srgbClr val="000000"/>
                </a:solidFill>
                <a:latin typeface="Arial"/>
              </a:rPr>
              <a:t>CM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77E80-C2BF-4E46-9E41-DC7AA29381D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60000" y="431280"/>
            <a:ext cx="842004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Arial"/>
              </a:rPr>
              <a:t>Agenda?</a:t>
            </a:r>
            <a:br>
              <a:rPr sz="3200"/>
            </a:b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60000" y="1484280"/>
            <a:ext cx="8420040" cy="28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4600" indent="-174600">
              <a:spcBef>
                <a:spcPts val="524"/>
              </a:spcBef>
              <a:buClr>
                <a:srgbClr val="ff0000"/>
              </a:buClr>
              <a:buFont typeface="Wingdings" charset="2"/>
              <a:buChar char=""/>
              <a:tabLst>
                <a:tab algn="l" pos="2424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100" spc="-1" strike="noStrike">
                <a:solidFill>
                  <a:srgbClr val="000000"/>
                </a:solidFill>
                <a:latin typeface="Arial"/>
              </a:rPr>
              <a:t>1-2 days in Sandviken (March 10</a:t>
            </a:r>
            <a:r>
              <a:rPr b="0" lang="sv-SE" sz="21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sv-SE" sz="2100" spc="-1" strike="noStrike">
                <a:solidFill>
                  <a:srgbClr val="000000"/>
                </a:solidFill>
                <a:latin typeface="Arial"/>
              </a:rPr>
              <a:t> and/or 11</a:t>
            </a:r>
            <a:r>
              <a:rPr b="0" lang="sv-SE" sz="21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sv-SE" sz="21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398520" indent="-201600"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2424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700" spc="-1" strike="noStrike">
                <a:solidFill>
                  <a:srgbClr val="000000"/>
                </a:solidFill>
                <a:latin typeface="Arial"/>
              </a:rPr>
              <a:t>Sandvik Coroman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524"/>
              </a:spcBef>
              <a:buClr>
                <a:srgbClr val="ff0000"/>
              </a:buClr>
              <a:buFont typeface="Wingdings" charset="2"/>
              <a:buChar char=""/>
              <a:tabLst>
                <a:tab algn="l" pos="2424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100" spc="-1" strike="noStrike">
                <a:solidFill>
                  <a:srgbClr val="000000"/>
                </a:solidFill>
                <a:latin typeface="Arial"/>
              </a:rPr>
              <a:t>1-2 days in Stockholm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398520" indent="-201600"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2424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700" spc="-1" strike="noStrike">
                <a:solidFill>
                  <a:srgbClr val="000000"/>
                </a:solidFill>
                <a:latin typeface="Arial"/>
              </a:rPr>
              <a:t>Eurostep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398520" indent="-201600"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2424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700" spc="-1" strike="noStrike">
                <a:solidFill>
                  <a:srgbClr val="000000"/>
                </a:solidFill>
                <a:latin typeface="Arial"/>
              </a:rPr>
              <a:t>KTH?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398520" indent="-201600"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2424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700" spc="-1" strike="noStrike">
                <a:solidFill>
                  <a:srgbClr val="000000"/>
                </a:solidFill>
                <a:latin typeface="Arial"/>
              </a:rPr>
              <a:t>Scania?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74600" indent="0">
              <a:spcBef>
                <a:spcPts val="524"/>
              </a:spcBef>
              <a:buNone/>
              <a:tabLst>
                <a:tab algn="l" pos="2424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B99CB-4E57-4A35-A86D-2A7FB62B748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1T12:03:44Z</dcterms:created>
  <dc:creator>Bengt Olsson</dc:creator>
  <dc:description>011227 Uppdaterat standard font till Arial</dc:description>
  <dc:language>en-US</dc:language>
  <cp:lastModifiedBy>Bengt Olsson</cp:lastModifiedBy>
  <cp:lastPrinted>2005-01-31T17:19:56Z</cp:lastPrinted>
  <dcterms:modified xsi:type="dcterms:W3CDTF">2007-11-07T13:26:01Z</dcterms:modified>
  <cp:revision>13</cp:revision>
  <dc:subject/>
  <dc:title>Sandvik Coromant Application Center</dc:title>
</cp:coreProperties>
</file>