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2.png" ContentType="image/png"/>
  <Override PartName="/ppt/media/image7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11.png" ContentType="image/png"/>
  <Override PartName="/ppt/media/image19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2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6500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142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6500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4720" y="36500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6400" y="11426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7720" y="11426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6500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6400" y="36500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7720" y="36500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440" y="1142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24720" y="11426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1760" y="-360"/>
            <a:ext cx="65530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4720" y="11426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440" y="36500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142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4720" y="1142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24720" y="36500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4720" y="1142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440" y="36500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440" y="36500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4720" y="1142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440" y="36500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24720" y="36500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16400" y="11426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47720" y="11426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440" y="36500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16400" y="36500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47720" y="36500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4720" y="11426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-360"/>
            <a:ext cx="65530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4720" y="11426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6500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4720" y="1142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4720" y="36500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4720" y="1142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6500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142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0" y="0"/>
          <a:ext cx="781200" cy="69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78120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7353360" y="76320"/>
            <a:ext cx="1714320" cy="51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600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0" y="0"/>
          <a:ext cx="781200" cy="69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78120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7391520" y="95400"/>
            <a:ext cx="1714320" cy="51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18.wmf"/><Relationship Id="rId5" Type="http://schemas.openxmlformats.org/officeDocument/2006/relationships/image" Target="../media/image18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image" Target="../media/image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llas Participa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e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b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kheed Mart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 Dynamics Land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throp Grumm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neywe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ndvi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versity of New Zeal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83680" y="5883120"/>
            <a:ext cx="52344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llas Demonstration 11/01/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tp://www.steptools.com/private/Da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llas Goals (11/01/07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ion with AP-203 edition 2 so that the measurement tolerances can be obtained from CAD systems via direct expor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er level synthesis of the measurement results into tolerance specific metrics that can be stored in the AP-238 fi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roving accuracy by implementing new curve types particularly for machining the b-spline surfac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cal corrections to the procedure for making measu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dening the testing by encouraging others to implement the demonstr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llas Results (1 of 4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a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Integration with AP-203 edition 2 so that the measurement tolerances can be obtained from CAD systems via direct expor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ed  by reading an AP-224 file masquerading as an AP-203 e2 fi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testing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llas Results (2 of 4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cd4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d462"/>
                </a:solidFill>
                <a:latin typeface="Arial"/>
              </a:rPr>
              <a:t>Higher level synthesis of the measurement results into tolerance specific metrics that can be stored in the AP-238 fi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ificant progress has been ma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wn generation of DMIS d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le to use that data on a Zeiss CM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ong progress on developing the HiPP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a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Technical corrections to the procedure for making measu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abo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llas Results (3 of 4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Improving accuracy by implementing new curve types particularly for machining the b-spline surfac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progress for this demonstration but significant progress is being made behind the sce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90720" y="4876920"/>
            <a:ext cx="7924680" cy="7617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llas Results (4 of 4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cd4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d462"/>
                </a:solidFill>
                <a:latin typeface="Arial"/>
              </a:rPr>
              <a:t>Widening the testing by encouraging others to implement the demonst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participants in conference cal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developed at NIST, Boeing, Sandvik and New Zeal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ing at Sandvi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data in a single AP-238 fi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shown that any site can make AP-238 data for integrated machining and insp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to enabl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iversal acc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the STEP-NC Explorer for personal and research u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166080" cy="33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937200" y="4605480"/>
            <a:ext cx="2060280" cy="1880640"/>
            <a:chOff x="6937200" y="4605480"/>
            <a:chExt cx="2060280" cy="1880640"/>
          </a:xfrm>
        </p:grpSpPr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7394760" y="5260680"/>
              <a:ext cx="12020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6937200" y="4605480"/>
              <a:ext cx="20602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aster Machi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4038480" y="3581280"/>
            <a:ext cx="1449360" cy="1295640"/>
          </a:xfrm>
          <a:prstGeom prst="flowChartConnector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Better Qu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971640"/>
            <a:ext cx="6629400" cy="4755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Integrated Machining and Insp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66920" y="1825560"/>
            <a:ext cx="2593440" cy="2427120"/>
            <a:chOff x="1366920" y="1825560"/>
            <a:chExt cx="2593440" cy="2427120"/>
          </a:xfrm>
        </p:grpSpPr>
        <p:sp>
          <p:nvSpPr>
            <p:cNvPr id="145" name=""/>
            <p:cNvSpPr/>
            <p:nvPr/>
          </p:nvSpPr>
          <p:spPr>
            <a:xfrm>
              <a:off x="1366920" y="1825560"/>
              <a:ext cx="2593440" cy="74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ive Axis Cutter Compens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6" name="" descr=""/>
            <p:cNvPicPr/>
            <p:nvPr/>
          </p:nvPicPr>
          <p:blipFill>
            <a:blip r:embed="rId2"/>
            <a:stretch/>
          </p:blipFill>
          <p:spPr>
            <a:xfrm flipH="1">
              <a:off x="1671480" y="2512440"/>
              <a:ext cx="1814760" cy="174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" name=""/>
          <p:cNvGrpSpPr/>
          <p:nvPr/>
        </p:nvGrpSpPr>
        <p:grpSpPr>
          <a:xfrm>
            <a:off x="5640480" y="1825560"/>
            <a:ext cx="2593440" cy="2427120"/>
            <a:chOff x="5640480" y="1825560"/>
            <a:chExt cx="2593440" cy="2427120"/>
          </a:xfrm>
        </p:grpSpPr>
        <p:sp>
          <p:nvSpPr>
            <p:cNvPr id="148" name=""/>
            <p:cNvSpPr/>
            <p:nvPr/>
          </p:nvSpPr>
          <p:spPr>
            <a:xfrm>
              <a:off x="5640480" y="1825560"/>
              <a:ext cx="2593440" cy="74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eed and Speed Optimiz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9" name="" descr=""/>
            <p:cNvPicPr/>
            <p:nvPr/>
          </p:nvPicPr>
          <p:blipFill>
            <a:blip r:embed="rId3"/>
            <a:stretch/>
          </p:blipFill>
          <p:spPr>
            <a:xfrm>
              <a:off x="6021720" y="2512440"/>
              <a:ext cx="1815120" cy="174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0" name=""/>
          <p:cNvGrpSpPr/>
          <p:nvPr/>
        </p:nvGrpSpPr>
        <p:grpSpPr>
          <a:xfrm>
            <a:off x="5183280" y="4605480"/>
            <a:ext cx="1982160" cy="1880640"/>
            <a:chOff x="5183280" y="4605480"/>
            <a:chExt cx="1982160" cy="1880640"/>
          </a:xfrm>
        </p:grpSpPr>
        <p:sp>
          <p:nvSpPr>
            <p:cNvPr id="151" name=""/>
            <p:cNvSpPr/>
            <p:nvPr/>
          </p:nvSpPr>
          <p:spPr>
            <a:xfrm>
              <a:off x="5183280" y="4605480"/>
              <a:ext cx="1982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ess Scr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2" name="" descr=""/>
            <p:cNvPicPr/>
            <p:nvPr/>
          </p:nvPicPr>
          <p:blipFill>
            <a:blip r:embed="rId4"/>
            <a:stretch/>
          </p:blipFill>
          <p:spPr>
            <a:xfrm>
              <a:off x="5640480" y="5260680"/>
              <a:ext cx="1200600" cy="122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" name=""/>
          <p:cNvGrpSpPr/>
          <p:nvPr/>
        </p:nvGrpSpPr>
        <p:grpSpPr>
          <a:xfrm>
            <a:off x="527040" y="4573440"/>
            <a:ext cx="1755360" cy="1834920"/>
            <a:chOff x="527040" y="4573440"/>
            <a:chExt cx="1755360" cy="1834920"/>
          </a:xfrm>
        </p:grpSpPr>
        <p:sp>
          <p:nvSpPr>
            <p:cNvPr id="154" name=""/>
            <p:cNvSpPr/>
            <p:nvPr/>
          </p:nvSpPr>
          <p:spPr>
            <a:xfrm>
              <a:off x="527040" y="4573440"/>
              <a:ext cx="17553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xtended tool lif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5"/>
            <a:stretch/>
          </p:blipFill>
          <p:spPr>
            <a:xfrm flipH="1">
              <a:off x="756000" y="5184000"/>
              <a:ext cx="1202400" cy="122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6" name=""/>
          <p:cNvGrpSpPr/>
          <p:nvPr/>
        </p:nvGrpSpPr>
        <p:grpSpPr>
          <a:xfrm>
            <a:off x="1978200" y="4573440"/>
            <a:ext cx="2059920" cy="1834920"/>
            <a:chOff x="1978200" y="4573440"/>
            <a:chExt cx="2059920" cy="1834920"/>
          </a:xfrm>
        </p:grpSpPr>
        <p:sp>
          <p:nvSpPr>
            <p:cNvPr id="157" name=""/>
            <p:cNvSpPr/>
            <p:nvPr/>
          </p:nvSpPr>
          <p:spPr>
            <a:xfrm>
              <a:off x="1978200" y="4573440"/>
              <a:ext cx="20599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ess Programm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8" name="" descr=""/>
            <p:cNvPicPr/>
            <p:nvPr/>
          </p:nvPicPr>
          <p:blipFill>
            <a:blip r:embed="rId6"/>
            <a:stretch/>
          </p:blipFill>
          <p:spPr>
            <a:xfrm flipH="1">
              <a:off x="2435400" y="5184000"/>
              <a:ext cx="1201320" cy="1224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3520" y="1066680"/>
            <a:ext cx="7924680" cy="21337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exibility tes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 axis cutter compens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ed and speed optimiz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re machining and measur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ly chain tes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oper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part corr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-up verif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ision det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ve Axis machin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ugh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57080" y="833400"/>
            <a:ext cx="762984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spe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57080" y="757080"/>
            <a:ext cx="762984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152280"/>
            <a:ext cx="3678120" cy="3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leran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57080" y="833400"/>
            <a:ext cx="762984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666520" y="152280"/>
            <a:ext cx="3575160" cy="3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ilding the da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-6480" y="1825560"/>
          <a:ext cx="2517840" cy="6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480" y="1825560"/>
                    <a:ext cx="25178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-6480" y="3454560"/>
          <a:ext cx="2594160" cy="66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6480" y="3454560"/>
                    <a:ext cx="2594160" cy="66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2587680" y="985680"/>
            <a:ext cx="6029280" cy="452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298440" y="2665440"/>
          <a:ext cx="1984320" cy="628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8440" y="2665440"/>
                    <a:ext cx="198432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1749600" y="2054160"/>
            <a:ext cx="1373040" cy="459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749600" y="2741400"/>
            <a:ext cx="129672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749600" y="3504960"/>
            <a:ext cx="129672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>
            <a:off x="4267080" y="5719680"/>
            <a:ext cx="1716120" cy="542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9"/>
          <a:stretch/>
        </p:blipFill>
        <p:spPr>
          <a:xfrm>
            <a:off x="6632640" y="5719680"/>
            <a:ext cx="1955880" cy="533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flipV="1">
            <a:off x="4800600" y="4879800"/>
            <a:ext cx="915840" cy="763920"/>
          </a:xfrm>
          <a:prstGeom prst="line">
            <a:avLst/>
          </a:prstGeom>
          <a:ln w="255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6861240" y="3200040"/>
            <a:ext cx="304560" cy="2443320"/>
          </a:xfrm>
          <a:prstGeom prst="line">
            <a:avLst/>
          </a:prstGeom>
          <a:ln w="255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llas Demonstr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962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gh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on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on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ish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m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p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atn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pendicular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257800" y="8380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V="1">
            <a:off x="3048120" y="1523520"/>
            <a:ext cx="20574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257800" y="373392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971800" y="2133720"/>
            <a:ext cx="2133720" cy="228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93840" y="308916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5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06520" y="601992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llas Demonstration 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962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gh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on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on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ish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m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p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atn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pendicular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257800" y="8380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flipV="1">
            <a:off x="2362320" y="1523520"/>
            <a:ext cx="2743200" cy="129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0" y="3124080"/>
            <a:ext cx="2819520" cy="129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257800" y="373392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832000" y="3089160"/>
            <a:ext cx="15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17520" y="601992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.5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llas Demonstration 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962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gh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on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on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ish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m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p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atn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pendicular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514600" y="3352680"/>
            <a:ext cx="2666880" cy="1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257800" y="24004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11:06:33Z</dcterms:created>
  <dc:creator>Martin Hardwick</dc:creator>
  <dc:description/>
  <dc:language>en-US</dc:language>
  <cp:lastModifiedBy>Martin Hardwick</cp:lastModifiedBy>
  <cp:lastPrinted>1999-01-21T19:28:48Z</cp:lastPrinted>
  <dcterms:modified xsi:type="dcterms:W3CDTF">2007-11-05T19:13:05Z</dcterms:modified>
  <cp:revision>86</cp:revision>
  <dc:subject/>
  <dc:title>49th ISO TC184/SC4 meeting Industry Da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ist.gov/sc4</vt:lpwstr>
  </property>
  <property fmtid="{D5CDD505-2E9C-101B-9397-08002B2CF9AE}" pid="9" name="LinkColor">
    <vt:r8>16711782</vt:r8>
  </property>
  <property fmtid="{D5CDD505-2E9C-101B-9397-08002B2CF9AE}" pid="10" name="MailAddress">
    <vt:lpwstr>sc4sec@cme.nist.gov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div826\subject\sc4\meetings\nola\Meetings\cplen\plen mtg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