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Ibusuki N000 2007-06-2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3A0E5059-2832-43F5-84B0-EEC063C84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Func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uc announced support for STEP-NC in S30i series of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demonstration of interoperability for planning, machining and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Ibusu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new ARM model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 Inspection Process Planning (H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e cu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uc STEP-NC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patent for ISO 14649 on a CNC awarded to the SC1/Wg7 Conv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for Ibus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, 2007-07-02, 1300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preparation for Open Se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, 2007-07-03, 1300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toco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, 2007-07-04, 0800-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 inspection process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 cu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ging and casting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eminar - Thursday, 2007-07-05, 1030-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note by Professor Kisin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24 and AP-240 process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38 machining and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uc STEP-NC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eptools.com/library/stepnc/2007_ibusuk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5105520" y="2362320"/>
            <a:ext cx="3581280" cy="2076120"/>
            <a:chOff x="5105520" y="2362320"/>
            <a:chExt cx="3581280" cy="2076120"/>
          </a:xfrm>
        </p:grpSpPr>
        <p:sp>
          <p:nvSpPr>
            <p:cNvPr id="52" name=""/>
            <p:cNvSpPr/>
            <p:nvPr/>
          </p:nvSpPr>
          <p:spPr>
            <a:xfrm>
              <a:off x="5105520" y="2362320"/>
              <a:ext cx="3581280" cy="2057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35240" y="236232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Arial"/>
                </a:rPr>
                <a:t>BORDE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7238880" y="2666880"/>
              <a:ext cx="1447920" cy="17240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7164360" y="4076640"/>
              <a:ext cx="115092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148360" y="2421000"/>
              <a:ext cx="151452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945400" y="3005280"/>
              <a:ext cx="117288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HSM 600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iTNC5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36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D=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M&amp;H PS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357720" y="304920"/>
            <a:ext cx="1752480" cy="5486400"/>
            <a:chOff x="3357720" y="304920"/>
            <a:chExt cx="1752480" cy="5486400"/>
          </a:xfrm>
        </p:grpSpPr>
        <p:sp>
          <p:nvSpPr>
            <p:cNvPr id="59" name=""/>
            <p:cNvSpPr/>
            <p:nvPr/>
          </p:nvSpPr>
          <p:spPr>
            <a:xfrm>
              <a:off x="3357720" y="2514600"/>
              <a:ext cx="990720" cy="1600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=16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&amp;H PS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34040" y="304920"/>
              <a:ext cx="129528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n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7720" y="1143000"/>
              <a:ext cx="990720" cy="1219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6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ENISHA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7720" y="4419720"/>
              <a:ext cx="990720" cy="1371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40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*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2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ENISHA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72120" y="1219320"/>
              <a:ext cx="838080" cy="60948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« G »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72120" y="5181480"/>
              <a:ext cx="838080" cy="60984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« G »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40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72120" y="3276720"/>
              <a:ext cx="838080" cy="60948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« G »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05520" y="233280"/>
            <a:ext cx="3581280" cy="2129040"/>
            <a:chOff x="5105520" y="233280"/>
            <a:chExt cx="3581280" cy="2129040"/>
          </a:xfrm>
        </p:grpSpPr>
        <p:grpSp>
          <p:nvGrpSpPr>
            <p:cNvPr id="67" name=""/>
            <p:cNvGrpSpPr/>
            <p:nvPr/>
          </p:nvGrpSpPr>
          <p:grpSpPr>
            <a:xfrm>
              <a:off x="5105520" y="233280"/>
              <a:ext cx="3581280" cy="2129040"/>
              <a:chOff x="5105520" y="233280"/>
              <a:chExt cx="3581280" cy="21290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5105520" y="380880"/>
                <a:ext cx="3581280" cy="1981440"/>
                <a:chOff x="5105520" y="380880"/>
                <a:chExt cx="3581280" cy="198144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105520" y="380880"/>
                  <a:ext cx="3581280" cy="198144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250680" y="380880"/>
                  <a:ext cx="1271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00"/>
                      </a:solidFill>
                      <a:latin typeface="Arial"/>
                    </a:rPr>
                    <a:t>SANDVIK</a:t>
                  </a:r>
                  <a:r>
                    <a:rPr b="1" lang="fr-FR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870160" y="655560"/>
                  <a:ext cx="1148400" cy="16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ffffcc"/>
                      </a:solidFill>
                      <a:latin typeface="Arial"/>
                    </a:rPr>
                    <a:t>C40</a:t>
                  </a:r>
                  <a:r>
                    <a:rPr b="1" lang="fr-FR" sz="16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ffffcc"/>
                      </a:solidFill>
                      <a:latin typeface="Arial"/>
                    </a:rPr>
                    <a:t>iTNC530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ffffcc"/>
                      </a:solidFill>
                      <a:latin typeface="Arial"/>
                    </a:rPr>
                    <a:t>AC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ffffcc"/>
                      </a:solidFill>
                      <a:latin typeface="Arial"/>
                    </a:rPr>
                    <a:t>18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ffffcc"/>
                      </a:solidFill>
                      <a:latin typeface="Arial"/>
                    </a:rPr>
                    <a:t>D=16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ffffcc"/>
                      </a:solidFill>
                      <a:latin typeface="Arial"/>
                    </a:rPr>
                    <a:t>RENISHA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6360" y="233280"/>
                <a:ext cx="122400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4360" y="620640"/>
                <a:ext cx="1150920" cy="29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" name="" descr=""/>
            <p:cNvPicPr/>
            <p:nvPr/>
          </p:nvPicPr>
          <p:blipFill>
            <a:blip r:embed="rId6"/>
            <a:stretch/>
          </p:blipFill>
          <p:spPr>
            <a:xfrm>
              <a:off x="7020000" y="981000"/>
              <a:ext cx="1655640" cy="12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5105520" y="4419720"/>
            <a:ext cx="3581280" cy="1981080"/>
            <a:chOff x="5105520" y="4419720"/>
            <a:chExt cx="3581280" cy="1981080"/>
          </a:xfrm>
        </p:grpSpPr>
        <p:sp>
          <p:nvSpPr>
            <p:cNvPr id="76" name=""/>
            <p:cNvSpPr/>
            <p:nvPr/>
          </p:nvSpPr>
          <p:spPr>
            <a:xfrm>
              <a:off x="5105520" y="4419720"/>
              <a:ext cx="3581280" cy="1981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6934320" y="5029200"/>
              <a:ext cx="1752480" cy="1363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78" name=""/>
            <p:cNvSpPr/>
            <p:nvPr/>
          </p:nvSpPr>
          <p:spPr>
            <a:xfrm>
              <a:off x="5562720" y="4876920"/>
              <a:ext cx="137160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DMU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840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18000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D=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RENISH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8"/>
            <a:stretch/>
          </p:blipFill>
          <p:spPr>
            <a:xfrm>
              <a:off x="5219640" y="4495680"/>
              <a:ext cx="1143000" cy="3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4800600" y="304920"/>
            <a:ext cx="1295280" cy="5790960"/>
            <a:chOff x="4800600" y="304920"/>
            <a:chExt cx="1295280" cy="5790960"/>
          </a:xfrm>
        </p:grpSpPr>
        <p:sp>
          <p:nvSpPr>
            <p:cNvPr id="81" name=""/>
            <p:cNvSpPr/>
            <p:nvPr/>
          </p:nvSpPr>
          <p:spPr>
            <a:xfrm>
              <a:off x="4800600" y="304920"/>
              <a:ext cx="129528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81480" y="1295280"/>
              <a:ext cx="8377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cc"/>
                  </a:solidFill>
                  <a:latin typeface="Arial"/>
                </a:rPr>
                <a:t>VERIC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86040" y="5715000"/>
              <a:ext cx="304560" cy="38088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7006">
                  <a:moveTo>
                    <a:pt x="0" y="0"/>
                  </a:moveTo>
                  <a:lnTo>
                    <a:pt x="21600" y="0"/>
                  </a:lnTo>
                  <a:lnTo>
                    <a:pt x="21600" y="27006"/>
                  </a:lnTo>
                  <a:lnTo>
                    <a:pt x="0" y="27006"/>
                  </a:lnTo>
                  <a:close/>
                </a:path>
                <a:path fill="lightenLess" w="21600" h="2700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06">
                  <a:moveTo>
                    <a:pt x="21600" y="0"/>
                  </a:moveTo>
                  <a:lnTo>
                    <a:pt x="21600" y="27006"/>
                  </a:lnTo>
                  <a:lnTo>
                    <a:pt x="20200" y="25606"/>
                  </a:lnTo>
                  <a:lnTo>
                    <a:pt x="20200" y="1400"/>
                  </a:lnTo>
                  <a:close/>
                </a:path>
                <a:path fill="darkenLess" w="21600" h="27006">
                  <a:moveTo>
                    <a:pt x="21600" y="27006"/>
                  </a:moveTo>
                  <a:lnTo>
                    <a:pt x="0" y="27006"/>
                  </a:lnTo>
                  <a:lnTo>
                    <a:pt x="1400" y="25606"/>
                  </a:lnTo>
                  <a:lnTo>
                    <a:pt x="20200" y="25606"/>
                  </a:lnTo>
                  <a:close/>
                </a:path>
                <a:path fill="lighten" w="21600" h="27006">
                  <a:moveTo>
                    <a:pt x="0" y="2700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06"/>
                  </a:lnTo>
                  <a:close/>
                </a:path>
                <a:path fill="darken" w="21600" h="27006">
                  <a:moveTo>
                    <a:pt x="3794" y="10004"/>
                  </a:moveTo>
                  <a:lnTo>
                    <a:pt x="4707" y="10004"/>
                  </a:lnTo>
                  <a:lnTo>
                    <a:pt x="5090" y="10370"/>
                  </a:lnTo>
                  <a:lnTo>
                    <a:pt x="14299" y="10370"/>
                  </a:lnTo>
                  <a:lnTo>
                    <a:pt x="14856" y="10927"/>
                  </a:lnTo>
                  <a:lnTo>
                    <a:pt x="14856" y="11475"/>
                  </a:lnTo>
                  <a:lnTo>
                    <a:pt x="16701" y="11475"/>
                  </a:lnTo>
                  <a:lnTo>
                    <a:pt x="17067" y="10927"/>
                  </a:lnTo>
                  <a:lnTo>
                    <a:pt x="17806" y="10927"/>
                  </a:lnTo>
                  <a:lnTo>
                    <a:pt x="17806" y="16079"/>
                  </a:lnTo>
                  <a:lnTo>
                    <a:pt x="17067" y="16079"/>
                  </a:lnTo>
                  <a:lnTo>
                    <a:pt x="16701" y="15531"/>
                  </a:lnTo>
                  <a:lnTo>
                    <a:pt x="14856" y="15531"/>
                  </a:lnTo>
                  <a:lnTo>
                    <a:pt x="14856" y="16811"/>
                  </a:lnTo>
                  <a:lnTo>
                    <a:pt x="5273" y="16811"/>
                  </a:lnTo>
                  <a:lnTo>
                    <a:pt x="5273" y="12581"/>
                  </a:lnTo>
                  <a:lnTo>
                    <a:pt x="5090" y="12581"/>
                  </a:lnTo>
                  <a:lnTo>
                    <a:pt x="4707" y="12946"/>
                  </a:lnTo>
                  <a:lnTo>
                    <a:pt x="3794" y="12946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040" y="3809880"/>
              <a:ext cx="304560" cy="38124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81240"/>
                <a:gd name="textAreaBottom" fmla="*/ 361800 h 381240"/>
              </a:gdLst>
              <a:ahLst/>
              <a:rect l="textAreaLeft" t="textAreaTop" r="textAreaRight" b="textAreaBottom"/>
              <a:pathLst>
                <a:path w="21600" h="27032">
                  <a:moveTo>
                    <a:pt x="0" y="0"/>
                  </a:moveTo>
                  <a:lnTo>
                    <a:pt x="21600" y="0"/>
                  </a:lnTo>
                  <a:lnTo>
                    <a:pt x="21600" y="27032"/>
                  </a:lnTo>
                  <a:lnTo>
                    <a:pt x="0" y="27032"/>
                  </a:lnTo>
                  <a:close/>
                </a:path>
                <a:path fill="lightenLess" w="21600" h="2703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32">
                  <a:moveTo>
                    <a:pt x="21600" y="0"/>
                  </a:moveTo>
                  <a:lnTo>
                    <a:pt x="21600" y="27032"/>
                  </a:lnTo>
                  <a:lnTo>
                    <a:pt x="20200" y="25632"/>
                  </a:lnTo>
                  <a:lnTo>
                    <a:pt x="20200" y="1400"/>
                  </a:lnTo>
                  <a:close/>
                </a:path>
                <a:path fill="darkenLess" w="21600" h="27032">
                  <a:moveTo>
                    <a:pt x="21600" y="27032"/>
                  </a:moveTo>
                  <a:lnTo>
                    <a:pt x="0" y="27032"/>
                  </a:lnTo>
                  <a:lnTo>
                    <a:pt x="1400" y="25632"/>
                  </a:lnTo>
                  <a:lnTo>
                    <a:pt x="20200" y="25632"/>
                  </a:lnTo>
                  <a:close/>
                </a:path>
                <a:path fill="lighten" w="21600" h="27032">
                  <a:moveTo>
                    <a:pt x="0" y="2703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32"/>
                  </a:lnTo>
                  <a:close/>
                </a:path>
                <a:path fill="darken" w="21600" h="27032">
                  <a:moveTo>
                    <a:pt x="3794" y="10017"/>
                  </a:moveTo>
                  <a:lnTo>
                    <a:pt x="4707" y="10017"/>
                  </a:lnTo>
                  <a:lnTo>
                    <a:pt x="5090" y="10383"/>
                  </a:lnTo>
                  <a:lnTo>
                    <a:pt x="14299" y="10383"/>
                  </a:lnTo>
                  <a:lnTo>
                    <a:pt x="14856" y="10940"/>
                  </a:lnTo>
                  <a:lnTo>
                    <a:pt x="14856" y="11488"/>
                  </a:lnTo>
                  <a:lnTo>
                    <a:pt x="16701" y="11488"/>
                  </a:lnTo>
                  <a:lnTo>
                    <a:pt x="17067" y="10940"/>
                  </a:lnTo>
                  <a:lnTo>
                    <a:pt x="17806" y="10940"/>
                  </a:lnTo>
                  <a:lnTo>
                    <a:pt x="17806" y="16092"/>
                  </a:lnTo>
                  <a:lnTo>
                    <a:pt x="17067" y="16092"/>
                  </a:lnTo>
                  <a:lnTo>
                    <a:pt x="16701" y="15544"/>
                  </a:lnTo>
                  <a:lnTo>
                    <a:pt x="14856" y="15544"/>
                  </a:lnTo>
                  <a:lnTo>
                    <a:pt x="14856" y="16823"/>
                  </a:lnTo>
                  <a:lnTo>
                    <a:pt x="5273" y="16823"/>
                  </a:lnTo>
                  <a:lnTo>
                    <a:pt x="5273" y="12593"/>
                  </a:lnTo>
                  <a:lnTo>
                    <a:pt x="5090" y="12593"/>
                  </a:lnTo>
                  <a:lnTo>
                    <a:pt x="4707" y="12959"/>
                  </a:lnTo>
                  <a:lnTo>
                    <a:pt x="3794" y="12959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86040" y="1752480"/>
              <a:ext cx="304560" cy="38124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81240"/>
                <a:gd name="textAreaBottom" fmla="*/ 361800 h 381240"/>
              </a:gdLst>
              <a:ahLst/>
              <a:rect l="textAreaLeft" t="textAreaTop" r="textAreaRight" b="textAreaBottom"/>
              <a:pathLst>
                <a:path w="21600" h="27032">
                  <a:moveTo>
                    <a:pt x="0" y="0"/>
                  </a:moveTo>
                  <a:lnTo>
                    <a:pt x="21600" y="0"/>
                  </a:lnTo>
                  <a:lnTo>
                    <a:pt x="21600" y="27032"/>
                  </a:lnTo>
                  <a:lnTo>
                    <a:pt x="0" y="27032"/>
                  </a:lnTo>
                  <a:close/>
                </a:path>
                <a:path fill="lightenLess" w="21600" h="2703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32">
                  <a:moveTo>
                    <a:pt x="21600" y="0"/>
                  </a:moveTo>
                  <a:lnTo>
                    <a:pt x="21600" y="27032"/>
                  </a:lnTo>
                  <a:lnTo>
                    <a:pt x="20200" y="25632"/>
                  </a:lnTo>
                  <a:lnTo>
                    <a:pt x="20200" y="1400"/>
                  </a:lnTo>
                  <a:close/>
                </a:path>
                <a:path fill="darkenLess" w="21600" h="27032">
                  <a:moveTo>
                    <a:pt x="21600" y="27032"/>
                  </a:moveTo>
                  <a:lnTo>
                    <a:pt x="0" y="27032"/>
                  </a:lnTo>
                  <a:lnTo>
                    <a:pt x="1400" y="25632"/>
                  </a:lnTo>
                  <a:lnTo>
                    <a:pt x="20200" y="25632"/>
                  </a:lnTo>
                  <a:close/>
                </a:path>
                <a:path fill="lighten" w="21600" h="27032">
                  <a:moveTo>
                    <a:pt x="0" y="2703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32"/>
                  </a:lnTo>
                  <a:close/>
                </a:path>
                <a:path fill="darken" w="21600" h="27032">
                  <a:moveTo>
                    <a:pt x="3794" y="10017"/>
                  </a:moveTo>
                  <a:lnTo>
                    <a:pt x="4707" y="10017"/>
                  </a:lnTo>
                  <a:lnTo>
                    <a:pt x="5090" y="10383"/>
                  </a:lnTo>
                  <a:lnTo>
                    <a:pt x="14299" y="10383"/>
                  </a:lnTo>
                  <a:lnTo>
                    <a:pt x="14856" y="10940"/>
                  </a:lnTo>
                  <a:lnTo>
                    <a:pt x="14856" y="11488"/>
                  </a:lnTo>
                  <a:lnTo>
                    <a:pt x="16701" y="11488"/>
                  </a:lnTo>
                  <a:lnTo>
                    <a:pt x="17067" y="10940"/>
                  </a:lnTo>
                  <a:lnTo>
                    <a:pt x="17806" y="10940"/>
                  </a:lnTo>
                  <a:lnTo>
                    <a:pt x="17806" y="16092"/>
                  </a:lnTo>
                  <a:lnTo>
                    <a:pt x="17067" y="16092"/>
                  </a:lnTo>
                  <a:lnTo>
                    <a:pt x="16701" y="15544"/>
                  </a:lnTo>
                  <a:lnTo>
                    <a:pt x="14856" y="15544"/>
                  </a:lnTo>
                  <a:lnTo>
                    <a:pt x="14856" y="16823"/>
                  </a:lnTo>
                  <a:lnTo>
                    <a:pt x="5273" y="16823"/>
                  </a:lnTo>
                  <a:lnTo>
                    <a:pt x="5273" y="12593"/>
                  </a:lnTo>
                  <a:lnTo>
                    <a:pt x="5090" y="12593"/>
                  </a:lnTo>
                  <a:lnTo>
                    <a:pt x="4707" y="12959"/>
                  </a:lnTo>
                  <a:lnTo>
                    <a:pt x="3794" y="12959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81480" y="3352680"/>
              <a:ext cx="8377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cc"/>
                  </a:solidFill>
                  <a:latin typeface="Arial"/>
                </a:rPr>
                <a:t>VERIC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81480" y="5257800"/>
              <a:ext cx="8377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cc"/>
                  </a:solidFill>
                  <a:latin typeface="Arial"/>
                </a:rPr>
                <a:t>NCSimu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381880" y="533520"/>
            <a:ext cx="304920" cy="4343400"/>
            <a:chOff x="8381880" y="533520"/>
            <a:chExt cx="304920" cy="4343400"/>
          </a:xfrm>
        </p:grpSpPr>
        <p:sp>
          <p:nvSpPr>
            <p:cNvPr id="89" name=""/>
            <p:cNvSpPr/>
            <p:nvPr/>
          </p:nvSpPr>
          <p:spPr>
            <a:xfrm>
              <a:off x="8381880" y="533520"/>
              <a:ext cx="304920" cy="38088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6975">
                  <a:moveTo>
                    <a:pt x="0" y="0"/>
                  </a:moveTo>
                  <a:lnTo>
                    <a:pt x="21600" y="0"/>
                  </a:lnTo>
                  <a:lnTo>
                    <a:pt x="21600" y="26975"/>
                  </a:lnTo>
                  <a:lnTo>
                    <a:pt x="0" y="26975"/>
                  </a:lnTo>
                  <a:close/>
                </a:path>
                <a:path fill="lightenLess" w="21600" h="269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75">
                  <a:moveTo>
                    <a:pt x="21600" y="0"/>
                  </a:moveTo>
                  <a:lnTo>
                    <a:pt x="21600" y="26975"/>
                  </a:lnTo>
                  <a:lnTo>
                    <a:pt x="20200" y="25575"/>
                  </a:lnTo>
                  <a:lnTo>
                    <a:pt x="20200" y="1400"/>
                  </a:lnTo>
                  <a:close/>
                </a:path>
                <a:path fill="darkenLess" w="21600" h="26975">
                  <a:moveTo>
                    <a:pt x="21600" y="26975"/>
                  </a:moveTo>
                  <a:lnTo>
                    <a:pt x="0" y="26975"/>
                  </a:lnTo>
                  <a:lnTo>
                    <a:pt x="1400" y="25575"/>
                  </a:lnTo>
                  <a:lnTo>
                    <a:pt x="20200" y="25575"/>
                  </a:lnTo>
                  <a:close/>
                </a:path>
                <a:path fill="lighten" w="21600" h="26975">
                  <a:moveTo>
                    <a:pt x="0" y="269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75"/>
                  </a:lnTo>
                  <a:close/>
                </a:path>
                <a:path fill="darken" w="21600" h="26975">
                  <a:moveTo>
                    <a:pt x="3794" y="9988"/>
                  </a:moveTo>
                  <a:lnTo>
                    <a:pt x="4707" y="9988"/>
                  </a:lnTo>
                  <a:lnTo>
                    <a:pt x="5090" y="10354"/>
                  </a:lnTo>
                  <a:lnTo>
                    <a:pt x="14299" y="10354"/>
                  </a:lnTo>
                  <a:lnTo>
                    <a:pt x="14856" y="10911"/>
                  </a:lnTo>
                  <a:lnTo>
                    <a:pt x="14856" y="11459"/>
                  </a:lnTo>
                  <a:lnTo>
                    <a:pt x="16701" y="11459"/>
                  </a:lnTo>
                  <a:lnTo>
                    <a:pt x="17067" y="10911"/>
                  </a:lnTo>
                  <a:lnTo>
                    <a:pt x="17806" y="10911"/>
                  </a:lnTo>
                  <a:lnTo>
                    <a:pt x="17806" y="16064"/>
                  </a:lnTo>
                  <a:lnTo>
                    <a:pt x="17067" y="16064"/>
                  </a:lnTo>
                  <a:lnTo>
                    <a:pt x="16701" y="15515"/>
                  </a:lnTo>
                  <a:lnTo>
                    <a:pt x="14856" y="15515"/>
                  </a:lnTo>
                  <a:lnTo>
                    <a:pt x="14856" y="16795"/>
                  </a:lnTo>
                  <a:lnTo>
                    <a:pt x="5273" y="16795"/>
                  </a:lnTo>
                  <a:lnTo>
                    <a:pt x="5273" y="12565"/>
                  </a:lnTo>
                  <a:lnTo>
                    <a:pt x="5090" y="12565"/>
                  </a:lnTo>
                  <a:lnTo>
                    <a:pt x="4707" y="12930"/>
                  </a:lnTo>
                  <a:lnTo>
                    <a:pt x="3794" y="1293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1880" y="4495680"/>
              <a:ext cx="304920" cy="38124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1240"/>
                <a:gd name="textAreaBottom" fmla="*/ 361800 h 381240"/>
              </a:gdLst>
              <a:ahLst/>
              <a:rect l="textAreaLeft" t="textAreaTop" r="textAreaRight" b="textAreaBottom"/>
              <a:pathLst>
                <a:path w="21600" h="27000">
                  <a:moveTo>
                    <a:pt x="0" y="0"/>
                  </a:moveTo>
                  <a:lnTo>
                    <a:pt x="21600" y="0"/>
                  </a:lnTo>
                  <a:lnTo>
                    <a:pt x="21600" y="27000"/>
                  </a:lnTo>
                  <a:lnTo>
                    <a:pt x="0" y="27000"/>
                  </a:lnTo>
                  <a:close/>
                </a:path>
                <a:path fill="lightenLess" w="21600" h="270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00">
                  <a:moveTo>
                    <a:pt x="21600" y="0"/>
                  </a:moveTo>
                  <a:lnTo>
                    <a:pt x="21600" y="27000"/>
                  </a:lnTo>
                  <a:lnTo>
                    <a:pt x="20200" y="25600"/>
                  </a:lnTo>
                  <a:lnTo>
                    <a:pt x="20200" y="1400"/>
                  </a:lnTo>
                  <a:close/>
                </a:path>
                <a:path fill="darkenLess" w="21600" h="27000">
                  <a:moveTo>
                    <a:pt x="21600" y="27000"/>
                  </a:moveTo>
                  <a:lnTo>
                    <a:pt x="0" y="27000"/>
                  </a:lnTo>
                  <a:lnTo>
                    <a:pt x="1400" y="25600"/>
                  </a:lnTo>
                  <a:lnTo>
                    <a:pt x="20200" y="25600"/>
                  </a:lnTo>
                  <a:close/>
                </a:path>
                <a:path fill="lighten" w="21600" h="27000">
                  <a:moveTo>
                    <a:pt x="0" y="270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00"/>
                  </a:lnTo>
                  <a:close/>
                </a:path>
                <a:path fill="darken" w="21600" h="27000">
                  <a:moveTo>
                    <a:pt x="3794" y="10001"/>
                  </a:moveTo>
                  <a:lnTo>
                    <a:pt x="4707" y="10001"/>
                  </a:lnTo>
                  <a:lnTo>
                    <a:pt x="5090" y="10367"/>
                  </a:lnTo>
                  <a:lnTo>
                    <a:pt x="14299" y="10367"/>
                  </a:lnTo>
                  <a:lnTo>
                    <a:pt x="14856" y="10924"/>
                  </a:lnTo>
                  <a:lnTo>
                    <a:pt x="14856" y="11472"/>
                  </a:lnTo>
                  <a:lnTo>
                    <a:pt x="16701" y="11472"/>
                  </a:lnTo>
                  <a:lnTo>
                    <a:pt x="17067" y="10924"/>
                  </a:lnTo>
                  <a:lnTo>
                    <a:pt x="17806" y="10924"/>
                  </a:lnTo>
                  <a:lnTo>
                    <a:pt x="17806" y="16076"/>
                  </a:lnTo>
                  <a:lnTo>
                    <a:pt x="17067" y="16076"/>
                  </a:lnTo>
                  <a:lnTo>
                    <a:pt x="16701" y="15528"/>
                  </a:lnTo>
                  <a:lnTo>
                    <a:pt x="14856" y="15528"/>
                  </a:lnTo>
                  <a:lnTo>
                    <a:pt x="14856" y="16807"/>
                  </a:lnTo>
                  <a:lnTo>
                    <a:pt x="5273" y="16807"/>
                  </a:lnTo>
                  <a:lnTo>
                    <a:pt x="5273" y="12577"/>
                  </a:lnTo>
                  <a:lnTo>
                    <a:pt x="5090" y="12577"/>
                  </a:lnTo>
                  <a:lnTo>
                    <a:pt x="4707" y="12943"/>
                  </a:lnTo>
                  <a:lnTo>
                    <a:pt x="3794" y="12943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1880" y="2514600"/>
              <a:ext cx="304920" cy="38088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6975">
                  <a:moveTo>
                    <a:pt x="0" y="0"/>
                  </a:moveTo>
                  <a:lnTo>
                    <a:pt x="21600" y="0"/>
                  </a:lnTo>
                  <a:lnTo>
                    <a:pt x="21600" y="26975"/>
                  </a:lnTo>
                  <a:lnTo>
                    <a:pt x="0" y="26975"/>
                  </a:lnTo>
                  <a:close/>
                </a:path>
                <a:path fill="lightenLess" w="21600" h="269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75">
                  <a:moveTo>
                    <a:pt x="21600" y="0"/>
                  </a:moveTo>
                  <a:lnTo>
                    <a:pt x="21600" y="26975"/>
                  </a:lnTo>
                  <a:lnTo>
                    <a:pt x="20200" y="25575"/>
                  </a:lnTo>
                  <a:lnTo>
                    <a:pt x="20200" y="1400"/>
                  </a:lnTo>
                  <a:close/>
                </a:path>
                <a:path fill="darkenLess" w="21600" h="26975">
                  <a:moveTo>
                    <a:pt x="21600" y="26975"/>
                  </a:moveTo>
                  <a:lnTo>
                    <a:pt x="0" y="26975"/>
                  </a:lnTo>
                  <a:lnTo>
                    <a:pt x="1400" y="25575"/>
                  </a:lnTo>
                  <a:lnTo>
                    <a:pt x="20200" y="25575"/>
                  </a:lnTo>
                  <a:close/>
                </a:path>
                <a:path fill="lighten" w="21600" h="26975">
                  <a:moveTo>
                    <a:pt x="0" y="269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75"/>
                  </a:lnTo>
                  <a:close/>
                </a:path>
                <a:path fill="darken" w="21600" h="26975">
                  <a:moveTo>
                    <a:pt x="3794" y="9988"/>
                  </a:moveTo>
                  <a:lnTo>
                    <a:pt x="4707" y="9988"/>
                  </a:lnTo>
                  <a:lnTo>
                    <a:pt x="5090" y="10354"/>
                  </a:lnTo>
                  <a:lnTo>
                    <a:pt x="14299" y="10354"/>
                  </a:lnTo>
                  <a:lnTo>
                    <a:pt x="14856" y="10911"/>
                  </a:lnTo>
                  <a:lnTo>
                    <a:pt x="14856" y="11459"/>
                  </a:lnTo>
                  <a:lnTo>
                    <a:pt x="16701" y="11459"/>
                  </a:lnTo>
                  <a:lnTo>
                    <a:pt x="17067" y="10911"/>
                  </a:lnTo>
                  <a:lnTo>
                    <a:pt x="17806" y="10911"/>
                  </a:lnTo>
                  <a:lnTo>
                    <a:pt x="17806" y="16064"/>
                  </a:lnTo>
                  <a:lnTo>
                    <a:pt x="17067" y="16064"/>
                  </a:lnTo>
                  <a:lnTo>
                    <a:pt x="16701" y="15515"/>
                  </a:lnTo>
                  <a:lnTo>
                    <a:pt x="14856" y="15515"/>
                  </a:lnTo>
                  <a:lnTo>
                    <a:pt x="14856" y="16795"/>
                  </a:lnTo>
                  <a:lnTo>
                    <a:pt x="5273" y="16795"/>
                  </a:lnTo>
                  <a:lnTo>
                    <a:pt x="5273" y="12565"/>
                  </a:lnTo>
                  <a:lnTo>
                    <a:pt x="5090" y="12565"/>
                  </a:lnTo>
                  <a:lnTo>
                    <a:pt x="4707" y="12930"/>
                  </a:lnTo>
                  <a:lnTo>
                    <a:pt x="3794" y="1293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062080" y="304920"/>
            <a:ext cx="2654280" cy="6294240"/>
            <a:chOff x="2062080" y="304920"/>
            <a:chExt cx="2654280" cy="6294240"/>
          </a:xfrm>
        </p:grpSpPr>
        <p:sp>
          <p:nvSpPr>
            <p:cNvPr id="93" name=""/>
            <p:cNvSpPr/>
            <p:nvPr/>
          </p:nvSpPr>
          <p:spPr>
            <a:xfrm>
              <a:off x="2138400" y="4419720"/>
              <a:ext cx="990720" cy="1371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8400" y="1143000"/>
              <a:ext cx="990720" cy="2971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90680" y="5105520"/>
              <a:ext cx="68580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rob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62080" y="304920"/>
              <a:ext cx="13716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P238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90680" y="3429000"/>
              <a:ext cx="76212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rob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7880" y="4495680"/>
              <a:ext cx="762120" cy="53352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-n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1600200"/>
              <a:ext cx="762120" cy="53352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71800" y="3119400"/>
              <a:ext cx="304920" cy="38088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6975">
                  <a:moveTo>
                    <a:pt x="0" y="0"/>
                  </a:moveTo>
                  <a:lnTo>
                    <a:pt x="21600" y="0"/>
                  </a:lnTo>
                  <a:lnTo>
                    <a:pt x="21600" y="26975"/>
                  </a:lnTo>
                  <a:lnTo>
                    <a:pt x="0" y="26975"/>
                  </a:lnTo>
                  <a:close/>
                </a:path>
                <a:path fill="lightenLess" w="21600" h="269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75">
                  <a:moveTo>
                    <a:pt x="21600" y="0"/>
                  </a:moveTo>
                  <a:lnTo>
                    <a:pt x="21600" y="26975"/>
                  </a:lnTo>
                  <a:lnTo>
                    <a:pt x="20200" y="25575"/>
                  </a:lnTo>
                  <a:lnTo>
                    <a:pt x="20200" y="1400"/>
                  </a:lnTo>
                  <a:close/>
                </a:path>
                <a:path fill="darkenLess" w="21600" h="26975">
                  <a:moveTo>
                    <a:pt x="21600" y="26975"/>
                  </a:moveTo>
                  <a:lnTo>
                    <a:pt x="0" y="26975"/>
                  </a:lnTo>
                  <a:lnTo>
                    <a:pt x="1400" y="25575"/>
                  </a:lnTo>
                  <a:lnTo>
                    <a:pt x="20200" y="25575"/>
                  </a:lnTo>
                  <a:close/>
                </a:path>
                <a:path fill="lighten" w="21600" h="26975">
                  <a:moveTo>
                    <a:pt x="0" y="269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75"/>
                  </a:lnTo>
                  <a:close/>
                </a:path>
                <a:path fill="darken" w="21600" h="26975">
                  <a:moveTo>
                    <a:pt x="3794" y="9988"/>
                  </a:moveTo>
                  <a:lnTo>
                    <a:pt x="4707" y="9988"/>
                  </a:lnTo>
                  <a:lnTo>
                    <a:pt x="5090" y="10354"/>
                  </a:lnTo>
                  <a:lnTo>
                    <a:pt x="14299" y="10354"/>
                  </a:lnTo>
                  <a:lnTo>
                    <a:pt x="14856" y="10911"/>
                  </a:lnTo>
                  <a:lnTo>
                    <a:pt x="14856" y="11459"/>
                  </a:lnTo>
                  <a:lnTo>
                    <a:pt x="16701" y="11459"/>
                  </a:lnTo>
                  <a:lnTo>
                    <a:pt x="17067" y="10911"/>
                  </a:lnTo>
                  <a:lnTo>
                    <a:pt x="17806" y="10911"/>
                  </a:lnTo>
                  <a:lnTo>
                    <a:pt x="17806" y="16064"/>
                  </a:lnTo>
                  <a:lnTo>
                    <a:pt x="17067" y="16064"/>
                  </a:lnTo>
                  <a:lnTo>
                    <a:pt x="16701" y="15515"/>
                  </a:lnTo>
                  <a:lnTo>
                    <a:pt x="14856" y="15515"/>
                  </a:lnTo>
                  <a:lnTo>
                    <a:pt x="14856" y="16795"/>
                  </a:lnTo>
                  <a:lnTo>
                    <a:pt x="5273" y="16795"/>
                  </a:lnTo>
                  <a:lnTo>
                    <a:pt x="5273" y="12565"/>
                  </a:lnTo>
                  <a:lnTo>
                    <a:pt x="5090" y="12565"/>
                  </a:lnTo>
                  <a:lnTo>
                    <a:pt x="4707" y="12930"/>
                  </a:lnTo>
                  <a:lnTo>
                    <a:pt x="3794" y="1293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87640" y="2662200"/>
              <a:ext cx="304920" cy="38088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6975">
                  <a:moveTo>
                    <a:pt x="0" y="0"/>
                  </a:moveTo>
                  <a:lnTo>
                    <a:pt x="21600" y="0"/>
                  </a:lnTo>
                  <a:lnTo>
                    <a:pt x="21600" y="26975"/>
                  </a:lnTo>
                  <a:lnTo>
                    <a:pt x="0" y="26975"/>
                  </a:lnTo>
                  <a:close/>
                </a:path>
                <a:path fill="lightenLess" w="21600" h="269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75">
                  <a:moveTo>
                    <a:pt x="21600" y="0"/>
                  </a:moveTo>
                  <a:lnTo>
                    <a:pt x="21600" y="26975"/>
                  </a:lnTo>
                  <a:lnTo>
                    <a:pt x="20200" y="25575"/>
                  </a:lnTo>
                  <a:lnTo>
                    <a:pt x="20200" y="1400"/>
                  </a:lnTo>
                  <a:close/>
                </a:path>
                <a:path fill="darkenLess" w="21600" h="26975">
                  <a:moveTo>
                    <a:pt x="21600" y="26975"/>
                  </a:moveTo>
                  <a:lnTo>
                    <a:pt x="0" y="26975"/>
                  </a:lnTo>
                  <a:lnTo>
                    <a:pt x="1400" y="25575"/>
                  </a:lnTo>
                  <a:lnTo>
                    <a:pt x="20200" y="25575"/>
                  </a:lnTo>
                  <a:close/>
                </a:path>
                <a:path fill="lighten" w="21600" h="26975">
                  <a:moveTo>
                    <a:pt x="0" y="269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75"/>
                  </a:lnTo>
                  <a:close/>
                </a:path>
                <a:path fill="darken" w="21600" h="26975">
                  <a:moveTo>
                    <a:pt x="3794" y="9988"/>
                  </a:moveTo>
                  <a:lnTo>
                    <a:pt x="4707" y="9988"/>
                  </a:lnTo>
                  <a:lnTo>
                    <a:pt x="5090" y="10354"/>
                  </a:lnTo>
                  <a:lnTo>
                    <a:pt x="14299" y="10354"/>
                  </a:lnTo>
                  <a:lnTo>
                    <a:pt x="14856" y="10911"/>
                  </a:lnTo>
                  <a:lnTo>
                    <a:pt x="14856" y="11459"/>
                  </a:lnTo>
                  <a:lnTo>
                    <a:pt x="16701" y="11459"/>
                  </a:lnTo>
                  <a:lnTo>
                    <a:pt x="17067" y="10911"/>
                  </a:lnTo>
                  <a:lnTo>
                    <a:pt x="17806" y="10911"/>
                  </a:lnTo>
                  <a:lnTo>
                    <a:pt x="17806" y="16064"/>
                  </a:lnTo>
                  <a:lnTo>
                    <a:pt x="17067" y="16064"/>
                  </a:lnTo>
                  <a:lnTo>
                    <a:pt x="16701" y="15515"/>
                  </a:lnTo>
                  <a:lnTo>
                    <a:pt x="14856" y="15515"/>
                  </a:lnTo>
                  <a:lnTo>
                    <a:pt x="14856" y="16795"/>
                  </a:lnTo>
                  <a:lnTo>
                    <a:pt x="5273" y="16795"/>
                  </a:lnTo>
                  <a:lnTo>
                    <a:pt x="5273" y="12565"/>
                  </a:lnTo>
                  <a:lnTo>
                    <a:pt x="5090" y="12565"/>
                  </a:lnTo>
                  <a:lnTo>
                    <a:pt x="4707" y="12930"/>
                  </a:lnTo>
                  <a:lnTo>
                    <a:pt x="3794" y="1293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71800" y="2205000"/>
              <a:ext cx="304920" cy="38088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6975">
                  <a:moveTo>
                    <a:pt x="0" y="0"/>
                  </a:moveTo>
                  <a:lnTo>
                    <a:pt x="21600" y="0"/>
                  </a:lnTo>
                  <a:lnTo>
                    <a:pt x="21600" y="26975"/>
                  </a:lnTo>
                  <a:lnTo>
                    <a:pt x="0" y="26975"/>
                  </a:lnTo>
                  <a:close/>
                </a:path>
                <a:path fill="lightenLess" w="21600" h="269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75">
                  <a:moveTo>
                    <a:pt x="21600" y="0"/>
                  </a:moveTo>
                  <a:lnTo>
                    <a:pt x="21600" y="26975"/>
                  </a:lnTo>
                  <a:lnTo>
                    <a:pt x="20200" y="25575"/>
                  </a:lnTo>
                  <a:lnTo>
                    <a:pt x="20200" y="1400"/>
                  </a:lnTo>
                  <a:close/>
                </a:path>
                <a:path fill="darkenLess" w="21600" h="26975">
                  <a:moveTo>
                    <a:pt x="21600" y="26975"/>
                  </a:moveTo>
                  <a:lnTo>
                    <a:pt x="0" y="26975"/>
                  </a:lnTo>
                  <a:lnTo>
                    <a:pt x="1400" y="25575"/>
                  </a:lnTo>
                  <a:lnTo>
                    <a:pt x="20200" y="25575"/>
                  </a:lnTo>
                  <a:close/>
                </a:path>
                <a:path fill="lighten" w="21600" h="26975">
                  <a:moveTo>
                    <a:pt x="0" y="269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75"/>
                  </a:lnTo>
                  <a:close/>
                </a:path>
                <a:path fill="darken" w="21600" h="26975">
                  <a:moveTo>
                    <a:pt x="3794" y="9988"/>
                  </a:moveTo>
                  <a:lnTo>
                    <a:pt x="4707" y="9988"/>
                  </a:lnTo>
                  <a:lnTo>
                    <a:pt x="5090" y="10354"/>
                  </a:lnTo>
                  <a:lnTo>
                    <a:pt x="14299" y="10354"/>
                  </a:lnTo>
                  <a:lnTo>
                    <a:pt x="14856" y="10911"/>
                  </a:lnTo>
                  <a:lnTo>
                    <a:pt x="14856" y="11459"/>
                  </a:lnTo>
                  <a:lnTo>
                    <a:pt x="16701" y="11459"/>
                  </a:lnTo>
                  <a:lnTo>
                    <a:pt x="17067" y="10911"/>
                  </a:lnTo>
                  <a:lnTo>
                    <a:pt x="17806" y="10911"/>
                  </a:lnTo>
                  <a:lnTo>
                    <a:pt x="17806" y="16064"/>
                  </a:lnTo>
                  <a:lnTo>
                    <a:pt x="17067" y="16064"/>
                  </a:lnTo>
                  <a:lnTo>
                    <a:pt x="16701" y="15515"/>
                  </a:lnTo>
                  <a:lnTo>
                    <a:pt x="14856" y="15515"/>
                  </a:lnTo>
                  <a:lnTo>
                    <a:pt x="14856" y="16795"/>
                  </a:lnTo>
                  <a:lnTo>
                    <a:pt x="5273" y="16795"/>
                  </a:lnTo>
                  <a:lnTo>
                    <a:pt x="5273" y="12565"/>
                  </a:lnTo>
                  <a:lnTo>
                    <a:pt x="5090" y="12565"/>
                  </a:lnTo>
                  <a:lnTo>
                    <a:pt x="4707" y="12930"/>
                  </a:lnTo>
                  <a:lnTo>
                    <a:pt x="3794" y="1293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195640" y="5877000"/>
              <a:ext cx="2520720" cy="722160"/>
              <a:chOff x="2195640" y="5877000"/>
              <a:chExt cx="2520720" cy="7221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95640" y="5948280"/>
                <a:ext cx="29520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2514960" y="5877000"/>
                <a:ext cx="216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STEP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Tools, Inc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40000" y="6200640"/>
                <a:ext cx="2376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Arial"/>
                  </a:rPr>
                  <a:t>STEP Software for Worldwide Manufactu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228600" y="304920"/>
            <a:ext cx="2367000" cy="6298920"/>
            <a:chOff x="228600" y="304920"/>
            <a:chExt cx="2367000" cy="6298920"/>
          </a:xfrm>
        </p:grpSpPr>
        <p:grpSp>
          <p:nvGrpSpPr>
            <p:cNvPr id="108" name=""/>
            <p:cNvGrpSpPr/>
            <p:nvPr/>
          </p:nvGrpSpPr>
          <p:grpSpPr>
            <a:xfrm>
              <a:off x="228600" y="304920"/>
              <a:ext cx="1833480" cy="6298920"/>
              <a:chOff x="228600" y="304920"/>
              <a:chExt cx="1833480" cy="6298920"/>
            </a:xfrm>
          </p:grpSpPr>
          <p:sp>
            <p:nvSpPr>
              <p:cNvPr id="109" name=""/>
              <p:cNvSpPr/>
              <p:nvPr/>
            </p:nvSpPr>
            <p:spPr>
              <a:xfrm>
                <a:off x="843120" y="4572000"/>
                <a:ext cx="668160" cy="459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TE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5920" y="1143000"/>
                <a:ext cx="1523880" cy="39625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7000" y="1143000"/>
                <a:ext cx="1506600" cy="793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3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CATIA  </a:t>
                </a: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V5 R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8200" y="1905120"/>
                <a:ext cx="1066680" cy="205740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8560" y="2362320"/>
                <a:ext cx="103716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ATI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AT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ATPro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ATPro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8200" y="4800600"/>
                <a:ext cx="990720" cy="106668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19080" y="3886200"/>
                <a:ext cx="304920" cy="914400"/>
              </a:xfrm>
              <a:prstGeom prst="upDownArrow">
                <a:avLst>
                  <a:gd name="adj1" fmla="val 50000"/>
                  <a:gd name="adj2" fmla="val 59698"/>
                </a:avLst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1880" y="304920"/>
                <a:ext cx="16002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Tool pa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Comput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4520" y="5257800"/>
                <a:ext cx="83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TE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P2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23880" y="3581280"/>
                <a:ext cx="304920" cy="381240"/>
              </a:xfrm>
              <a:custGeom>
                <a:avLst/>
                <a:gdLst>
                  <a:gd name="textAreaLeft" fmla="*/ 19440 w 304920"/>
                  <a:gd name="textAreaRight" fmla="*/ 285480 w 304920"/>
                  <a:gd name="textAreaTop" fmla="*/ 19440 h 381240"/>
                  <a:gd name="textAreaBottom" fmla="*/ 361800 h 381240"/>
                </a:gdLst>
                <a:ahLst/>
                <a:rect l="textAreaLeft" t="textAreaTop" r="textAreaRight" b="textAreaBottom"/>
                <a:pathLst>
                  <a:path w="21600" h="270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7000"/>
                    </a:lnTo>
                    <a:lnTo>
                      <a:pt x="0" y="27000"/>
                    </a:lnTo>
                    <a:close/>
                  </a:path>
                  <a:path fill="lightenLess" w="21600" h="270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7000">
                    <a:moveTo>
                      <a:pt x="21600" y="0"/>
                    </a:moveTo>
                    <a:lnTo>
                      <a:pt x="21600" y="27000"/>
                    </a:lnTo>
                    <a:lnTo>
                      <a:pt x="20200" y="25600"/>
                    </a:lnTo>
                    <a:lnTo>
                      <a:pt x="20200" y="1400"/>
                    </a:lnTo>
                    <a:close/>
                  </a:path>
                  <a:path fill="darkenLess" w="21600" h="27000">
                    <a:moveTo>
                      <a:pt x="21600" y="27000"/>
                    </a:moveTo>
                    <a:lnTo>
                      <a:pt x="0" y="27000"/>
                    </a:lnTo>
                    <a:lnTo>
                      <a:pt x="1400" y="25600"/>
                    </a:lnTo>
                    <a:lnTo>
                      <a:pt x="20200" y="25600"/>
                    </a:lnTo>
                    <a:close/>
                  </a:path>
                  <a:path fill="lighten" w="21600" h="27000">
                    <a:moveTo>
                      <a:pt x="0" y="270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5600"/>
                    </a:lnTo>
                    <a:close/>
                  </a:path>
                  <a:path fill="darken" w="21600" h="27000">
                    <a:moveTo>
                      <a:pt x="3794" y="10001"/>
                    </a:moveTo>
                    <a:lnTo>
                      <a:pt x="4707" y="10001"/>
                    </a:lnTo>
                    <a:lnTo>
                      <a:pt x="5090" y="10367"/>
                    </a:lnTo>
                    <a:lnTo>
                      <a:pt x="14299" y="10367"/>
                    </a:lnTo>
                    <a:lnTo>
                      <a:pt x="14856" y="10924"/>
                    </a:lnTo>
                    <a:lnTo>
                      <a:pt x="14856" y="11472"/>
                    </a:lnTo>
                    <a:lnTo>
                      <a:pt x="16701" y="11472"/>
                    </a:lnTo>
                    <a:lnTo>
                      <a:pt x="17067" y="10924"/>
                    </a:lnTo>
                    <a:lnTo>
                      <a:pt x="17806" y="10924"/>
                    </a:lnTo>
                    <a:lnTo>
                      <a:pt x="17806" y="16076"/>
                    </a:lnTo>
                    <a:lnTo>
                      <a:pt x="17067" y="16076"/>
                    </a:lnTo>
                    <a:lnTo>
                      <a:pt x="16701" y="15528"/>
                    </a:lnTo>
                    <a:lnTo>
                      <a:pt x="14856" y="15528"/>
                    </a:lnTo>
                    <a:lnTo>
                      <a:pt x="14856" y="16807"/>
                    </a:lnTo>
                    <a:lnTo>
                      <a:pt x="5273" y="16807"/>
                    </a:lnTo>
                    <a:lnTo>
                      <a:pt x="5273" y="12577"/>
                    </a:lnTo>
                    <a:lnTo>
                      <a:pt x="5090" y="12577"/>
                    </a:lnTo>
                    <a:lnTo>
                      <a:pt x="4707" y="12943"/>
                    </a:lnTo>
                    <a:lnTo>
                      <a:pt x="3794" y="12943"/>
                    </a:lnTo>
                    <a:close/>
                  </a:path>
                </a:pathLst>
              </a:cu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5943600"/>
                <a:ext cx="1422360" cy="66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8600" y="5943600"/>
                <a:ext cx="182880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80" y="3429000"/>
                <a:ext cx="9144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523880" y="4038480"/>
                <a:ext cx="304920" cy="381240"/>
              </a:xfrm>
              <a:custGeom>
                <a:avLst/>
                <a:gdLst>
                  <a:gd name="textAreaLeft" fmla="*/ 19440 w 304920"/>
                  <a:gd name="textAreaRight" fmla="*/ 285480 w 304920"/>
                  <a:gd name="textAreaTop" fmla="*/ 19440 h 381240"/>
                  <a:gd name="textAreaBottom" fmla="*/ 361800 h 381240"/>
                </a:gdLst>
                <a:ahLst/>
                <a:rect l="textAreaLeft" t="textAreaTop" r="textAreaRight" b="textAreaBottom"/>
                <a:pathLst>
                  <a:path w="21600" h="270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7000"/>
                    </a:lnTo>
                    <a:lnTo>
                      <a:pt x="0" y="27000"/>
                    </a:lnTo>
                    <a:close/>
                  </a:path>
                  <a:path fill="lightenLess" w="21600" h="270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7000">
                    <a:moveTo>
                      <a:pt x="21600" y="0"/>
                    </a:moveTo>
                    <a:lnTo>
                      <a:pt x="21600" y="27000"/>
                    </a:lnTo>
                    <a:lnTo>
                      <a:pt x="20200" y="25600"/>
                    </a:lnTo>
                    <a:lnTo>
                      <a:pt x="20200" y="1400"/>
                    </a:lnTo>
                    <a:close/>
                  </a:path>
                  <a:path fill="darkenLess" w="21600" h="27000">
                    <a:moveTo>
                      <a:pt x="21600" y="27000"/>
                    </a:moveTo>
                    <a:lnTo>
                      <a:pt x="0" y="27000"/>
                    </a:lnTo>
                    <a:lnTo>
                      <a:pt x="1400" y="25600"/>
                    </a:lnTo>
                    <a:lnTo>
                      <a:pt x="20200" y="25600"/>
                    </a:lnTo>
                    <a:close/>
                  </a:path>
                  <a:path fill="lighten" w="21600" h="27000">
                    <a:moveTo>
                      <a:pt x="0" y="270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5600"/>
                    </a:lnTo>
                    <a:close/>
                  </a:path>
                  <a:path fill="darken" w="21600" h="27000">
                    <a:moveTo>
                      <a:pt x="3794" y="10001"/>
                    </a:moveTo>
                    <a:lnTo>
                      <a:pt x="4707" y="10001"/>
                    </a:lnTo>
                    <a:lnTo>
                      <a:pt x="5090" y="10367"/>
                    </a:lnTo>
                    <a:lnTo>
                      <a:pt x="14299" y="10367"/>
                    </a:lnTo>
                    <a:lnTo>
                      <a:pt x="14856" y="10924"/>
                    </a:lnTo>
                    <a:lnTo>
                      <a:pt x="14856" y="11472"/>
                    </a:lnTo>
                    <a:lnTo>
                      <a:pt x="16701" y="11472"/>
                    </a:lnTo>
                    <a:lnTo>
                      <a:pt x="17067" y="10924"/>
                    </a:lnTo>
                    <a:lnTo>
                      <a:pt x="17806" y="10924"/>
                    </a:lnTo>
                    <a:lnTo>
                      <a:pt x="17806" y="16076"/>
                    </a:lnTo>
                    <a:lnTo>
                      <a:pt x="17067" y="16076"/>
                    </a:lnTo>
                    <a:lnTo>
                      <a:pt x="16701" y="15528"/>
                    </a:lnTo>
                    <a:lnTo>
                      <a:pt x="14856" y="15528"/>
                    </a:lnTo>
                    <a:lnTo>
                      <a:pt x="14856" y="16807"/>
                    </a:lnTo>
                    <a:lnTo>
                      <a:pt x="5273" y="16807"/>
                    </a:lnTo>
                    <a:lnTo>
                      <a:pt x="5273" y="12577"/>
                    </a:lnTo>
                    <a:lnTo>
                      <a:pt x="5090" y="12577"/>
                    </a:lnTo>
                    <a:lnTo>
                      <a:pt x="4707" y="12943"/>
                    </a:lnTo>
                    <a:lnTo>
                      <a:pt x="3794" y="12943"/>
                    </a:lnTo>
                    <a:close/>
                  </a:path>
                </a:pathLst>
              </a:cu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604880" y="4495680"/>
              <a:ext cx="990720" cy="53352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L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=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81200" y="1600200"/>
              <a:ext cx="914400" cy="91440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L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=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Martin Hardwick</cp:lastModifiedBy>
  <cp:lastPrinted>1999-06-02T13:49:47Z</cp:lastPrinted>
  <dcterms:modified xsi:type="dcterms:W3CDTF">2007-07-02T06:48:28Z</dcterms:modified>
  <cp:revision>155</cp:revision>
  <dc:subject/>
  <dc:title>WG3 Presentation to SC4 Opening Plenary</dc:title>
</cp:coreProperties>
</file>