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F949844-C9A7-41EC-93D9-658CFBE2074C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7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31400" cy="684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27080" y="603000"/>
            <a:ext cx="5187960" cy="109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-238 Plate Cutting and Mark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43720" y="5291280"/>
            <a:ext cx="3827880" cy="1108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9040" y="1746360"/>
            <a:ext cx="5173920" cy="47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SRP Panel Pro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33640" y="4946760"/>
            <a:ext cx="731880" cy="161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4760" y="4718160"/>
            <a:ext cx="2439720" cy="1830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34200" y="4724280"/>
            <a:ext cx="2422440" cy="181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0515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Plasma Cutter / Laser Mar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2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 existing AP238 CNC interface to export codes for ESAB contr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unique codes, machine peculiarities, close contact with EB personnel required to understand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ventions for setup and registration of the plate, coordinate system transformations for near/far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STEP-NC program for entire pl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split into separate programs to cover near-side marking, far-side marking and cut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3760" y="4761000"/>
            <a:ext cx="167796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5840" y="6130800"/>
            <a:ext cx="182196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AB Near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56560" y="5632560"/>
            <a:ext cx="168624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AB Far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09560" y="6021360"/>
            <a:ext cx="1944000" cy="37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AB Plasma C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0" idx="2"/>
            <a:endCxn id="91" idx="3"/>
          </p:cNvCxnSpPr>
          <p:nvPr/>
        </p:nvCxnSpPr>
        <p:spPr>
          <a:xfrm rot="5400000">
            <a:off x="3952800" y="5628600"/>
            <a:ext cx="915120" cy="46584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0" idx="2"/>
            <a:endCxn id="93" idx="1"/>
          </p:cNvCxnSpPr>
          <p:nvPr/>
        </p:nvCxnSpPr>
        <p:spPr>
          <a:xfrm flipH="1" rot="16200000">
            <a:off x="4523400" y="5523120"/>
            <a:ext cx="805320" cy="56592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0" idx="2"/>
            <a:endCxn id="92" idx="3"/>
          </p:cNvCxnSpPr>
          <p:nvPr/>
        </p:nvCxnSpPr>
        <p:spPr>
          <a:xfrm rot="5400000">
            <a:off x="4134960" y="5311800"/>
            <a:ext cx="416520" cy="60048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552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Codes and Peculiar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me APT and ESAB codes are rather obsc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ample, marking the tex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-STEP11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APT:  MARK/ 45, 83, 84, 69, 80, 49, 49,  0,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presented as numbers corresponding to ASC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SAB Co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100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89D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81D0.37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82D271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8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STEP1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7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, there are machine peculiarities like ordering of codes, decimal points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75160" y="3098880"/>
            <a:ext cx="5072040" cy="227628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470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onset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222200"/>
            <a:ext cx="3797280" cy="26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9, 2007, Marked and cut the test part at EB Quonset Point fac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ing and cutting successful.   Minor issue discovered with ordering of an ESAB marking code, corrected on si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tor no substitute for the real thing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3240" y="984240"/>
            <a:ext cx="3759120" cy="281952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66840" y="4032360"/>
            <a:ext cx="6597720" cy="236844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219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s STEP-NC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240" y="1730520"/>
            <a:ext cx="589680" cy="4176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96520" y="2432160"/>
            <a:ext cx="1096200" cy="4176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w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600" y="1700280"/>
            <a:ext cx="130140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45200" y="1330200"/>
            <a:ext cx="1782000" cy="123264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-Code Nea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r Mark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6240" y="4371840"/>
            <a:ext cx="92952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05880" y="4402080"/>
            <a:ext cx="1074600" cy="4176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3600" y="4371840"/>
            <a:ext cx="130140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5640" y="4402080"/>
            <a:ext cx="1074600" cy="4176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117960"/>
            <a:ext cx="84276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86240" y="5784840"/>
            <a:ext cx="447120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or other value ad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240" y="487044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04160" y="250812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51520" y="36507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65320" y="487044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20" idx="3"/>
            <a:endCxn id="105" idx="1"/>
          </p:cNvCxnSpPr>
          <p:nvPr/>
        </p:nvCxnSpPr>
        <p:spPr>
          <a:xfrm>
            <a:off x="1720440" y="1933200"/>
            <a:ext cx="9248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5" idx="3"/>
            <a:endCxn id="107" idx="1"/>
          </p:cNvCxnSpPr>
          <p:nvPr/>
        </p:nvCxnSpPr>
        <p:spPr>
          <a:xfrm>
            <a:off x="3242880" y="1933200"/>
            <a:ext cx="8960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7" idx="3"/>
            <a:endCxn id="108" idx="1"/>
          </p:cNvCxnSpPr>
          <p:nvPr/>
        </p:nvCxnSpPr>
        <p:spPr>
          <a:xfrm>
            <a:off x="5449680" y="1933200"/>
            <a:ext cx="702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9" idx="3"/>
            <a:endCxn id="110" idx="1"/>
          </p:cNvCxnSpPr>
          <p:nvPr/>
        </p:nvCxnSpPr>
        <p:spPr>
          <a:xfrm>
            <a:off x="1720800" y="4605120"/>
            <a:ext cx="6818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0" idx="3"/>
            <a:endCxn id="111" idx="1"/>
          </p:cNvCxnSpPr>
          <p:nvPr/>
        </p:nvCxnSpPr>
        <p:spPr>
          <a:xfrm>
            <a:off x="3484080" y="4605120"/>
            <a:ext cx="6548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1" idx="3"/>
            <a:endCxn id="112" idx="1"/>
          </p:cNvCxnSpPr>
          <p:nvPr/>
        </p:nvCxnSpPr>
        <p:spPr>
          <a:xfrm>
            <a:off x="5449680" y="4605120"/>
            <a:ext cx="7023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786240" y="1700280"/>
            <a:ext cx="929520" cy="45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06" idx="1"/>
          </p:cNvCxnSpPr>
          <p:nvPr/>
        </p:nvCxnSpPr>
        <p:spPr>
          <a:xfrm flipH="1" rot="16200000">
            <a:off x="1586520" y="1830600"/>
            <a:ext cx="469080" cy="114048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47480" y="1060560"/>
            <a:ext cx="2032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Proc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7120" y="3803760"/>
            <a:ext cx="2210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Proc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79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0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 Cutting and Marking Parameters into STEP-NC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 technology descriptions for cutting and marking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esults of Northrop Grumman stu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process improvement opportun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veling for small and/or detailed ed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 quality control (e.g bounce preven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cutting and milling for b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at second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e A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ure port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352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Panel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7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STEP-NC for cutting and marking from actual shipbuilding data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203 geometry for plate sha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IA APT to describe the marking and cutting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straight and bevel cuts, line and text ma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type tools to drive ESAB plasma cutter and laser marking machines from AP238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 actual plate at EB Quonset Point fac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4760" y="831960"/>
            <a:ext cx="8299440" cy="566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7040" y="907920"/>
            <a:ext cx="2890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999-0001S1 3D MODEL with footprint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39760" y="1900080"/>
            <a:ext cx="228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9990002-STE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37120" y="5572080"/>
            <a:ext cx="228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9990002-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85880" y="2281320"/>
            <a:ext cx="455760" cy="531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937120" y="4492440"/>
            <a:ext cx="836640" cy="98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911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CATIA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38320" y="907920"/>
            <a:ext cx="7000920" cy="296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58760" y="4038480"/>
            <a:ext cx="7159680" cy="273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1440" y="3270240"/>
            <a:ext cx="60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9990002-STEP2 with far side footprints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637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and Marking A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2036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 AP238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2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PT data to produce AP238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tools already developed for milling and turning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AP238 “extended nc function” instances for extra plate cutting APT data like head on/off, bevel angle, marking line 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ually extend AP238 to hold these in the operation technology descri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esults of NGIT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TEP geometry to the process to see in context of workpie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 location required moving geometry 100 yar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6111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238 Data for Plate Cutting and Bev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299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Manufacturing Preparatio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60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designed, cuts start right on ed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plasma cutting, lead ins and lead outs are required to avoid gouging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important for bevels to give cutting head time to traverse into position after pier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utilities to add lead ins and lead outs to the STEP-NC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, these are added by nesting systems like Optimation, Majestic, Sigmanest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ystems can read and write STEP-NC in the fu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367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Manufacturing Pre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07920" y="4032360"/>
          <a:ext cx="304812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4032360"/>
                    <a:ext cx="3048120" cy="21700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984240" y="984240"/>
            <a:ext cx="2971800" cy="2895480"/>
          </a:xfrm>
          <a:prstGeom prst="downArrowCallout">
            <a:avLst>
              <a:gd name="adj1" fmla="val 25661"/>
              <a:gd name="adj2" fmla="val 25659"/>
              <a:gd name="adj3" fmla="val 16667"/>
              <a:gd name="adj4" fmla="val 74306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60560" y="1060560"/>
          <a:ext cx="28191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0560" y="1060560"/>
                    <a:ext cx="2819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260960" y="1096920"/>
            <a:ext cx="3213360" cy="4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gential Entry/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18160" y="1746360"/>
            <a:ext cx="3860640" cy="447192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367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Manufacturing Pre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8120" y="3651120"/>
          <a:ext cx="2489400" cy="21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3651120"/>
                    <a:ext cx="2489400" cy="21942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50720" y="4260960"/>
          <a:ext cx="2819520" cy="19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720" y="4260960"/>
                    <a:ext cx="2819520" cy="19177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984240" y="888840"/>
            <a:ext cx="3124080" cy="2533680"/>
          </a:xfrm>
          <a:prstGeom prst="downArrowCallout">
            <a:avLst>
              <a:gd name="adj1" fmla="val 30828"/>
              <a:gd name="adj2" fmla="val 30826"/>
              <a:gd name="adj3" fmla="val 16667"/>
              <a:gd name="adj4" fmla="val 74306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0560" y="984240"/>
          <a:ext cx="2971800" cy="16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0560" y="984240"/>
                    <a:ext cx="297180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720320" y="1060560"/>
            <a:ext cx="1857240" cy="4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vel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5556240" y="1822320"/>
            <a:ext cx="3146400" cy="410868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cp:keywords/>
  <dc:language>en-US</dc:language>
  <cp:lastModifiedBy>Martin Hardwick</cp:lastModifiedBy>
  <cp:lastPrinted>2001-08-16T01:33:48Z</cp:lastPrinted>
  <dcterms:modified xsi:type="dcterms:W3CDTF">2007-07-03T23:44:35Z</dcterms:modified>
  <cp:revision>815</cp:revision>
  <dc:subject/>
  <dc:title>STEP-NC Feature Harmonization</dc:title>
</cp:coreProperties>
</file>