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8.wmf" ContentType="image/x-wmf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C5C1-1E7B-4816-A023-3B98371B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23C6-DA42-4E84-B704-8EF75B88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AF07-B670-4EE4-AFA3-1B3EC45E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8677-DCD2-49F4-9374-01D29AB0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6E1D-0521-4C42-AE5E-D657290E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6907-B368-43A3-A5BA-E6CFF3A1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86FD-75EC-4B71-9BD2-6ECD46086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3A6F-58C9-42EA-BE3E-217D463C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5B09-C3D5-4E96-B3C9-04F4589A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7961-EA40-4718-9455-78A1E3B4E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7DDA-79D4-4F37-91F9-592F5749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C03E-D38B-4BBE-A2DE-9C475DCB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D51D-4E72-48CA-86D5-067A9A4C4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380360" y="5661000"/>
          <a:ext cx="1619280" cy="10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80360" y="5661000"/>
                    <a:ext cx="1619280" cy="10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74760" y="311040"/>
            <a:ext cx="745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42920" y="157248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eature based Process   Planning system                      using AP24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O1464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4031640"/>
            <a:ext cx="632484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ＭＳ ゴシック"/>
              </a:rPr>
              <a:t>2007-07-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 Unicode MS"/>
              </a:rPr>
              <a:t>C.Sakamoto</a:t>
            </a:r>
            <a:r>
              <a:rPr b="1" lang="en-US" sz="2800" spc="-1" strike="noStrike" baseline="30000">
                <a:solidFill>
                  <a:srgbClr val="333399"/>
                </a:solidFill>
                <a:latin typeface="Arial"/>
                <a:ea typeface="Arial Unicode MS"/>
              </a:rPr>
              <a:t>*1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 Unicode MS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 Unicode MS"/>
              </a:rPr>
              <a:t>T.Inouye</a:t>
            </a:r>
            <a:r>
              <a:rPr b="1" lang="en-US" sz="2800" spc="-1" strike="noStrike" baseline="30000">
                <a:solidFill>
                  <a:srgbClr val="333399"/>
                </a:solidFill>
                <a:latin typeface="Arial"/>
                <a:ea typeface="Arial Unicode MS"/>
              </a:rPr>
              <a:t>*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*1 Manufacturing Engineering Research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Arial Unicode MS"/>
              </a:rPr>
              <a:t>*2 Fujitsu Kyushu System Eng. L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79280" y="189000"/>
          <a:ext cx="2737080" cy="9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89000"/>
                    <a:ext cx="273708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908000" y="981000"/>
            <a:ext cx="6048720" cy="49611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332000" y="2852640"/>
            <a:ext cx="2592360" cy="1152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5867280" y="914400"/>
            <a:ext cx="1981440" cy="2743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71640" y="1844640"/>
            <a:ext cx="3066840" cy="1050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76720" y="907920"/>
            <a:ext cx="719280" cy="18734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00400" y="914400"/>
            <a:ext cx="1447920" cy="2590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116000" y="4495320"/>
            <a:ext cx="2160720" cy="228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4356000" y="3352680"/>
            <a:ext cx="596880" cy="363600"/>
          </a:xfrm>
          <a:prstGeom prst="line">
            <a:avLst/>
          </a:prstGeom>
          <a:ln w="4428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3352680"/>
            <a:ext cx="685800" cy="685800"/>
          </a:xfrm>
          <a:prstGeom prst="line">
            <a:avLst/>
          </a:prstGeom>
          <a:ln w="4428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580000" y="39337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067280" y="3645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00600" y="2133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6084360" y="907920"/>
            <a:ext cx="863640" cy="18734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952880" y="2514600"/>
            <a:ext cx="0" cy="838080"/>
          </a:xfrm>
          <a:prstGeom prst="line">
            <a:avLst/>
          </a:prstGeom>
          <a:ln w="4428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68360" y="1159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Pocket_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Closed_pocke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8000" y="170028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Pocket_1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pen_p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848720" y="40464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Pocket_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Open_p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43280" y="26028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Times New Roman"/>
              </a:rPr>
              <a:t>Slot_2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Slo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t Tee_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45720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Times New Roman"/>
              </a:rPr>
              <a:t>Slot_3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 Slot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Tee_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588000" y="333360"/>
            <a:ext cx="129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Times New Roman"/>
              </a:rPr>
              <a:t>Slot_1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Slo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Square_U_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08000" y="2637000"/>
            <a:ext cx="129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ff0000"/>
                </a:solidFill>
                <a:latin typeface="Times New Roman"/>
              </a:rPr>
              <a:t>Slot_4 </a:t>
            </a:r>
            <a:r>
              <a:rPr b="0" lang="ja-JP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ja-JP" sz="1200" spc="-1" strike="noStrike">
                <a:solidFill>
                  <a:srgbClr val="000000"/>
                </a:solidFill>
                <a:latin typeface="Times New Roman"/>
              </a:rPr>
              <a:t>Slo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 Square_U_pro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867280" y="5300640"/>
            <a:ext cx="914400" cy="380880"/>
          </a:xfrm>
          <a:prstGeom prst="wedgeRectCallout">
            <a:avLst>
              <a:gd name="adj1" fmla="val -96180"/>
              <a:gd name="adj2" fmla="val -15875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PLANE_7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835280" y="5516640"/>
            <a:ext cx="914400" cy="380880"/>
          </a:xfrm>
          <a:prstGeom prst="wedgeRectCallout">
            <a:avLst>
              <a:gd name="adj1" fmla="val 103300"/>
              <a:gd name="adj2" fmla="val -20541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PLANE_3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72200" y="4191120"/>
            <a:ext cx="914400" cy="380880"/>
          </a:xfrm>
          <a:prstGeom prst="wedgeRectCallout">
            <a:avLst>
              <a:gd name="adj1" fmla="val -4166"/>
              <a:gd name="adj2" fmla="val -150833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PLANE_5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6659640" y="3573000"/>
            <a:ext cx="1549440" cy="903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122480" y="1047600"/>
            <a:ext cx="2154240" cy="19497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692360" y="6093000"/>
            <a:ext cx="158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Hole_34 (SHOL)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e (20.0), Through</a:t>
            </a: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508720" y="47628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37 (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36450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36 (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980480" y="234324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35 (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2627280" y="4797000"/>
            <a:ext cx="1152720" cy="1295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7093080" y="2495520"/>
            <a:ext cx="963360" cy="357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940360" y="765000"/>
            <a:ext cx="135000" cy="1044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9280" y="407664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24 (2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1258920" y="3933720"/>
            <a:ext cx="1152360" cy="287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 flipV="1">
            <a:off x="3634920" y="5373720"/>
            <a:ext cx="73080" cy="719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332000" y="4653000"/>
            <a:ext cx="1727280" cy="1008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980480" y="52387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14 (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5724360" y="4797000"/>
            <a:ext cx="2408400" cy="593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24000" y="5516640"/>
            <a:ext cx="110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6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48000" y="189000"/>
            <a:ext cx="151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Hole_32 (SHOL)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e (25.0), Flat</a:t>
            </a: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51280" y="620640"/>
            <a:ext cx="1233360" cy="1341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796000" y="609300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33 (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 flipV="1">
            <a:off x="4716000" y="4652640"/>
            <a:ext cx="1079640" cy="1584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08000" y="115920"/>
            <a:ext cx="232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Hole_7 (BELL.SHOL.SHOL)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e (20.0), Bell mouth                Hole (16.0), Flat, </a:t>
            </a: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e (15.0), Con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132760" y="440064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8 (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76720" y="6093000"/>
            <a:ext cx="187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Hole_23 (THOL.SHOL)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e  (13.582, 1.8 deg)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e (10.0), Flat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1258920" y="3715920"/>
            <a:ext cx="1584360" cy="73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11280" y="1557360"/>
            <a:ext cx="914400" cy="380880"/>
          </a:xfrm>
          <a:prstGeom prst="wedgeRectCallout">
            <a:avLst>
              <a:gd name="adj1" fmla="val 100694"/>
              <a:gd name="adj2" fmla="val 19291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PLANE_4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5610240" cy="46576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5410080" y="5181480"/>
            <a:ext cx="914400" cy="381240"/>
          </a:xfrm>
          <a:prstGeom prst="wedgeRectCallout">
            <a:avLst>
              <a:gd name="adj1" fmla="val -84203"/>
              <a:gd name="adj2" fmla="val -220833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PLNE_6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3581280"/>
            <a:ext cx="914400" cy="381240"/>
          </a:xfrm>
          <a:prstGeom prst="wedgeRectCallout">
            <a:avLst>
              <a:gd name="adj1" fmla="val 135416"/>
              <a:gd name="adj2" fmla="val -10791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PLANE_2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1066680" y="4292280"/>
            <a:ext cx="1633680" cy="1498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52280" y="4724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22 (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1295280" y="3645000"/>
            <a:ext cx="900360" cy="1155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3276720" y="5084280"/>
            <a:ext cx="0" cy="792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 flipV="1">
            <a:off x="5651280" y="4365720"/>
            <a:ext cx="1368360" cy="1511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843280" y="5877000"/>
            <a:ext cx="223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Hole_21 (THOL.SHOL.SHOL)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e (13.582, 1.8 deg)          Hole (10.0), Flat                    Hole (  8.5),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4000" y="5805360"/>
            <a:ext cx="216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Hole_5 (THOL.SHOL.SHOL)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e(20.0), 90 deg              Hole(16.0)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e (14.2),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804000" y="5805360"/>
            <a:ext cx="21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Hole_13 (SHOL.SHOL)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e (16.0)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e (14.2),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924000" y="3165480"/>
            <a:ext cx="576360" cy="334800"/>
          </a:xfrm>
          <a:prstGeom prst="line">
            <a:avLst/>
          </a:prstGeom>
          <a:ln w="4428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00720" y="3165480"/>
            <a:ext cx="431640" cy="407880"/>
          </a:xfrm>
          <a:prstGeom prst="line">
            <a:avLst/>
          </a:prstGeom>
          <a:ln w="4428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88000" y="3429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564000" y="33577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348080" y="1946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4500720" y="2327400"/>
            <a:ext cx="0" cy="838080"/>
          </a:xfrm>
          <a:prstGeom prst="line">
            <a:avLst/>
          </a:prstGeom>
          <a:ln w="4428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547640" y="963720"/>
            <a:ext cx="5977080" cy="4800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 flipV="1">
            <a:off x="4427640" y="2852640"/>
            <a:ext cx="576000" cy="355680"/>
          </a:xfrm>
          <a:prstGeom prst="line">
            <a:avLst/>
          </a:prstGeom>
          <a:ln w="4428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 flipV="1">
            <a:off x="3995640" y="2708280"/>
            <a:ext cx="432000" cy="504720"/>
          </a:xfrm>
          <a:prstGeom prst="line">
            <a:avLst/>
          </a:prstGeom>
          <a:ln w="4428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932360" y="2492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35280" y="23493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284720" y="2133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4355640" y="3789000"/>
            <a:ext cx="576360" cy="2592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219320" y="2895480"/>
            <a:ext cx="1265040" cy="101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 flipV="1">
            <a:off x="6227640" y="3428640"/>
            <a:ext cx="1440000" cy="863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1640" y="836640"/>
            <a:ext cx="647640" cy="1800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5435280" y="4076280"/>
            <a:ext cx="1803240" cy="20955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219320" y="1828800"/>
            <a:ext cx="2631960" cy="1384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5076360" y="1844640"/>
            <a:ext cx="2590920" cy="1224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143000" y="1371600"/>
            <a:ext cx="2781360" cy="1552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5076720" y="404640"/>
            <a:ext cx="719280" cy="1224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787640" y="3789000"/>
            <a:ext cx="647640" cy="2303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219320" y="3357720"/>
            <a:ext cx="3136680" cy="2357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1219320" y="3284280"/>
            <a:ext cx="2847960" cy="19731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143000" y="2362320"/>
            <a:ext cx="1844640" cy="6350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5364000" y="2666880"/>
            <a:ext cx="2332080" cy="474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3780000" y="4797360"/>
            <a:ext cx="287280" cy="1224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6781680" y="3352320"/>
            <a:ext cx="1030320" cy="652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5435280" y="765000"/>
            <a:ext cx="576360" cy="719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84360" y="836640"/>
            <a:ext cx="1295640" cy="1440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7086600" y="2997360"/>
            <a:ext cx="581040" cy="2030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2590920" y="4941720"/>
            <a:ext cx="1260360" cy="1306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219320" y="3276720"/>
            <a:ext cx="904680" cy="7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692360" y="620640"/>
            <a:ext cx="2519280" cy="2448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348000" y="404640"/>
            <a:ext cx="1008000" cy="2160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5292360" y="3500280"/>
            <a:ext cx="2374920" cy="16574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4932000" y="1341360"/>
            <a:ext cx="2808360" cy="1656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4572000" y="692280"/>
            <a:ext cx="2664000" cy="2305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71640" y="4292640"/>
            <a:ext cx="914400" cy="380880"/>
          </a:xfrm>
          <a:prstGeom prst="wedgeRectCallout">
            <a:avLst>
              <a:gd name="adj1" fmla="val 146527"/>
              <a:gd name="adj2" fmla="val -16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PLANE_1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52280" y="3124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3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651640" y="2602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20 (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981080" y="62485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2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7596360" y="5013360"/>
            <a:ext cx="154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Hole_9   (SHOL.SHOL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Hole(17.0), Flat   Hole(13.0),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84360" y="115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10 (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52280" y="1219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11 (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148360" y="60930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12 (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300720" y="6165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16 (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740720" y="386064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17 (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28600" y="26668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18 (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979640" y="5493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19 (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867280" y="62064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4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52280" y="220968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27 (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3780000" y="152280"/>
            <a:ext cx="180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Hole_28 (SHOL.SHOL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Hole(10.5), Flat  Hole(  6.5),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28600" y="16765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29 (2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643280" y="6381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30 (2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20120" y="2514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31 (2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667640" y="1197000"/>
            <a:ext cx="14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Hole_40 (SHOL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Hole( 9.0), Thr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28600" y="55627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44 (4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934320" y="228600"/>
            <a:ext cx="152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Hole_41 (SHOL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Hole(7.5),  Through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28600" y="51055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45 (4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0920" y="228600"/>
            <a:ext cx="165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Hole_38 (SHOL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Hole(10.5), Through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5003640" y="3357720"/>
            <a:ext cx="2664000" cy="2735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667640" y="60213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39 (3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4427640" y="2492280"/>
            <a:ext cx="0" cy="720720"/>
          </a:xfrm>
          <a:prstGeom prst="line">
            <a:avLst/>
          </a:prstGeom>
          <a:ln w="4428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447920" y="3284280"/>
            <a:ext cx="3268440" cy="2811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772400" y="8380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42 (4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4859280" y="990720"/>
            <a:ext cx="2989440" cy="19335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38080" y="609588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43 (4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059280" y="6021360"/>
            <a:ext cx="172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Hole_15 (SHOL.SHOL)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e (14.0)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e (12.2), Con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667640" y="4149720"/>
            <a:ext cx="14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Hole_26   (SHOL.SHOL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Hole(11.0), Flat   Hole(  6.6),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667640" y="2852640"/>
            <a:ext cx="14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Hole_1   (SHOL.SHOL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Hole(41.0)   Hole(35.0), Thr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596360" y="1700280"/>
            <a:ext cx="154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Hole_25 (SHOL.SHOL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Hole(12.5), Flat  Hole(  7.5),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50920" y="2133720"/>
            <a:ext cx="8642160" cy="137304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4000" y="2276640"/>
            <a:ext cx="835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enerate Feature Depend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1881360" cy="34560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3203640" y="231840"/>
            <a:ext cx="1874880" cy="662616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5580000" y="260280"/>
            <a:ext cx="18860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250920" y="2133720"/>
            <a:ext cx="8642160" cy="137304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24000" y="2276640"/>
            <a:ext cx="835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d Properties of F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2075040" y="1255680"/>
          <a:ext cx="4993920" cy="4348080"/>
        </p:xfrm>
        <a:graphic>
          <a:graphicData uri="http://schemas.openxmlformats.org/drawingml/2006/table">
            <a:tbl>
              <a:tblPr/>
              <a:tblGrid>
                <a:gridCol w="852120"/>
                <a:gridCol w="1092240"/>
                <a:gridCol w="1181160"/>
                <a:gridCol w="1195200"/>
                <a:gridCol w="67320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  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urface Finis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eat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i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Botto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ocket_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Open_pock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▽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▽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ocket_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Open_pock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▽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▽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Pocket_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osed_pock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▽▽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▽▽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lot_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lo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 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quare_U_prof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lot_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lo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e_prof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▽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▽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lot_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lo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e_prof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▽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▽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lot_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lo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 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quare_U_profi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E_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lanar_fa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lready machin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E_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lanar_fa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lready machin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E_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lanar_fa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lready machin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E_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lanar_fa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lready machin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E_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lanar_fa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lready machin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E_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lanar_fa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lready machin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E_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lanar_fa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already machin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0" name=""/>
          <p:cNvSpPr/>
          <p:nvPr/>
        </p:nvSpPr>
        <p:spPr>
          <a:xfrm>
            <a:off x="1403280" y="549360"/>
            <a:ext cx="63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eature Specification (1/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1" name=""/>
          <p:cNvGraphicFramePr/>
          <p:nvPr/>
        </p:nvGraphicFramePr>
        <p:xfrm>
          <a:off x="2195640" y="907920"/>
          <a:ext cx="4537080" cy="5388120"/>
        </p:xfrm>
        <a:graphic>
          <a:graphicData uri="http://schemas.openxmlformats.org/drawingml/2006/table">
            <a:tbl>
              <a:tblPr/>
              <a:tblGrid>
                <a:gridCol w="741240"/>
                <a:gridCol w="731880"/>
                <a:gridCol w="654120"/>
                <a:gridCol w="771480"/>
                <a:gridCol w="826920"/>
                <a:gridCol w="81144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Botto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urfa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eat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D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ondi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inis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Us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ole_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HOL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1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Guide P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HOL.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5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hroug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ide  ▽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le_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ole_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le_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ole_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le_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ole_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ole_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H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deg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hre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TA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hrea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M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=2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Mete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H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4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hroug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le_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ole_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ole_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BELL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L Pull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H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6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l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ide ▽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H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5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onic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le_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ole_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ole_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H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7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l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H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3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hroug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le_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ole_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le_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ole_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le_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ole_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2" name=""/>
          <p:cNvSpPr/>
          <p:nvPr/>
        </p:nvSpPr>
        <p:spPr>
          <a:xfrm>
            <a:off x="1403280" y="333360"/>
            <a:ext cx="63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eature Specification (2/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3" name=""/>
          <p:cNvGraphicFramePr/>
          <p:nvPr/>
        </p:nvGraphicFramePr>
        <p:xfrm>
          <a:off x="2360520" y="866880"/>
          <a:ext cx="4422600" cy="5124240"/>
        </p:xfrm>
        <a:graphic>
          <a:graphicData uri="http://schemas.openxmlformats.org/drawingml/2006/table">
            <a:tbl>
              <a:tblPr/>
              <a:tblGrid>
                <a:gridCol w="719280"/>
                <a:gridCol w="718920"/>
                <a:gridCol w="635040"/>
                <a:gridCol w="749160"/>
                <a:gridCol w="774720"/>
                <a:gridCol w="82548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ole_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TA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hrea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M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=2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hre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H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4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hroug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Mete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le_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ole_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ole_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TA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hrea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M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=2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hre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H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.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hroug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Mete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le_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ole_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le_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ole_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le_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ole_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le_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ole_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le_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ole_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ole_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TA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hrea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T1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=1.33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hre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H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l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Tapere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H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8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hroug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ater Ho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le_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ole_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ole_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TA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hread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T1/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=1.33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hrea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H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l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(Tapere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le_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ole_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ole_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H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l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H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hroug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4" name=""/>
          <p:cNvSpPr/>
          <p:nvPr/>
        </p:nvSpPr>
        <p:spPr>
          <a:xfrm>
            <a:off x="1403280" y="260280"/>
            <a:ext cx="63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eature Specification (3/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2411280" y="620640"/>
          <a:ext cx="4295880" cy="6004080"/>
        </p:xfrm>
        <a:graphic>
          <a:graphicData uri="http://schemas.openxmlformats.org/drawingml/2006/table">
            <a:tbl>
              <a:tblPr/>
              <a:tblGrid>
                <a:gridCol w="719280"/>
                <a:gridCol w="718920"/>
                <a:gridCol w="546120"/>
                <a:gridCol w="749520"/>
                <a:gridCol w="774360"/>
                <a:gridCol w="787680"/>
              </a:tblGrid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ole_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H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1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l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H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.6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hroug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le_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ole_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ole_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H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l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H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hroug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le_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ole_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le_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ole_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le_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ole_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ole_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H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5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Fl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le_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ole_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ole_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H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0.0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hroug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ide ▽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Knock P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le_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ole_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le_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ole_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le_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Hole_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ole_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H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hroug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le_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ole_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le_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ole_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ole_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HO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.5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Throug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le_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ole_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le_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ole_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le_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ole_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ole_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Hole_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6" name=""/>
          <p:cNvSpPr/>
          <p:nvPr/>
        </p:nvSpPr>
        <p:spPr>
          <a:xfrm>
            <a:off x="1403280" y="115920"/>
            <a:ext cx="63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eature Specification (4/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2133720"/>
            <a:ext cx="8064360" cy="13730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2276640"/>
            <a:ext cx="799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pecification of Die and Mold P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250920" y="2133720"/>
            <a:ext cx="8642160" cy="137304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24000" y="2276640"/>
            <a:ext cx="835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et Machining Face (s)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amping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0920" y="1268280"/>
            <a:ext cx="49687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Macro Process Plan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2319480" y="728640"/>
            <a:ext cx="4505040" cy="540072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4211640" y="5300640"/>
            <a:ext cx="431640" cy="576360"/>
          </a:xfrm>
          <a:prstGeom prst="upArrow">
            <a:avLst>
              <a:gd name="adj1" fmla="val 50000"/>
              <a:gd name="adj2" fmla="val 333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284720" y="981000"/>
            <a:ext cx="504720" cy="720720"/>
          </a:xfrm>
          <a:prstGeom prst="downArrow">
            <a:avLst>
              <a:gd name="adj1" fmla="val 50000"/>
              <a:gd name="adj2" fmla="val 35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411280" y="2708280"/>
            <a:ext cx="289080" cy="431640"/>
          </a:xfrm>
          <a:custGeom>
            <a:avLst/>
            <a:gdLst>
              <a:gd name="textAreaLeft" fmla="*/ 38520 w 289080"/>
              <a:gd name="textAreaRight" fmla="*/ 250560 w 289080"/>
              <a:gd name="textAreaTop" fmla="*/ 75600 h 431640"/>
              <a:gd name="textAreaBottom" fmla="*/ 31320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443640" y="3933720"/>
            <a:ext cx="360360" cy="432000"/>
          </a:xfrm>
          <a:custGeom>
            <a:avLst/>
            <a:gdLst>
              <a:gd name="textAreaLeft" fmla="*/ 48240 w 360360"/>
              <a:gd name="textAreaRight" fmla="*/ 312120 w 360360"/>
              <a:gd name="textAreaTop" fmla="*/ 75600 h 432000"/>
              <a:gd name="textAreaBottom" fmla="*/ 3132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386248"/>
                <a:lnTo>
                  <a:pt x="8373" y="21009"/>
                </a:lnTo>
                <a:lnTo>
                  <a:pt x="0" y="17280"/>
                </a:lnTo>
                <a:lnTo>
                  <a:pt x="8373" y="12369"/>
                </a:lnTo>
                <a:lnTo>
                  <a:pt x="8373" y="14529"/>
                </a:lnTo>
                <a:arcTo wR="21600" hR="7560" stAng="2386248" swAng="-202881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500720" y="3259080"/>
            <a:ext cx="718920" cy="241200"/>
          </a:xfrm>
          <a:prstGeom prst="line">
            <a:avLst/>
          </a:prstGeom>
          <a:ln w="4428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500720" y="3259080"/>
            <a:ext cx="0" cy="746280"/>
          </a:xfrm>
          <a:prstGeom prst="line">
            <a:avLst/>
          </a:prstGeom>
          <a:ln w="4428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284720" y="3933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219640" y="3357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492360" y="3357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3851280" y="3259080"/>
            <a:ext cx="649440" cy="314280"/>
          </a:xfrm>
          <a:prstGeom prst="line">
            <a:avLst/>
          </a:prstGeom>
          <a:ln w="4428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132000" y="333360"/>
            <a:ext cx="46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Roughing Process-1 using table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79280" y="26028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st Machin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1585800" y="1638360"/>
            <a:ext cx="5972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3059280" y="765000"/>
            <a:ext cx="3346200" cy="58737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4356000" y="6021360"/>
            <a:ext cx="432000" cy="576360"/>
          </a:xfrm>
          <a:prstGeom prst="upArrow">
            <a:avLst>
              <a:gd name="adj1" fmla="val 50000"/>
              <a:gd name="adj2" fmla="val 333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572000" y="1052640"/>
            <a:ext cx="504720" cy="720720"/>
          </a:xfrm>
          <a:prstGeom prst="downArrow">
            <a:avLst>
              <a:gd name="adj1" fmla="val 50000"/>
              <a:gd name="adj2" fmla="val 35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059280" y="2997360"/>
            <a:ext cx="288720" cy="431640"/>
          </a:xfrm>
          <a:custGeom>
            <a:avLst/>
            <a:gdLst>
              <a:gd name="textAreaLeft" fmla="*/ 38520 w 288720"/>
              <a:gd name="textAreaRight" fmla="*/ 250200 w 288720"/>
              <a:gd name="textAreaTop" fmla="*/ 75600 h 431640"/>
              <a:gd name="textAreaBottom" fmla="*/ 31320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940360" y="3933720"/>
            <a:ext cx="360360" cy="432000"/>
          </a:xfrm>
          <a:custGeom>
            <a:avLst/>
            <a:gdLst>
              <a:gd name="textAreaLeft" fmla="*/ 48240 w 360360"/>
              <a:gd name="textAreaRight" fmla="*/ 312120 w 360360"/>
              <a:gd name="textAreaTop" fmla="*/ 75600 h 432000"/>
              <a:gd name="textAreaBottom" fmla="*/ 3132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386248"/>
                <a:lnTo>
                  <a:pt x="8373" y="21009"/>
                </a:lnTo>
                <a:lnTo>
                  <a:pt x="0" y="17280"/>
                </a:lnTo>
                <a:lnTo>
                  <a:pt x="8373" y="12369"/>
                </a:lnTo>
                <a:lnTo>
                  <a:pt x="8373" y="14529"/>
                </a:lnTo>
                <a:arcTo wR="21600" hR="7560" stAng="2386248" swAng="-202881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4500720" y="3141720"/>
            <a:ext cx="0" cy="642960"/>
          </a:xfrm>
          <a:prstGeom prst="line">
            <a:avLst/>
          </a:prstGeom>
          <a:ln w="4428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 flipV="1">
            <a:off x="3924000" y="3573360"/>
            <a:ext cx="576360" cy="216000"/>
          </a:xfrm>
          <a:prstGeom prst="line">
            <a:avLst/>
          </a:prstGeom>
          <a:ln w="4428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284720" y="27813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64000" y="33577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859280" y="328464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4500720" y="3499920"/>
            <a:ext cx="431640" cy="289080"/>
          </a:xfrm>
          <a:prstGeom prst="line">
            <a:avLst/>
          </a:prstGeom>
          <a:ln w="4428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987640" y="333360"/>
            <a:ext cx="489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Roughing Process-2 using table r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79280" y="26028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nd Machin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1581120" y="1643040"/>
            <a:ext cx="59832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2340000" y="765000"/>
            <a:ext cx="4505400" cy="540072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4211640" y="5300640"/>
            <a:ext cx="431640" cy="576360"/>
          </a:xfrm>
          <a:prstGeom prst="upArrow">
            <a:avLst>
              <a:gd name="adj1" fmla="val 50000"/>
              <a:gd name="adj2" fmla="val 333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284720" y="981000"/>
            <a:ext cx="504720" cy="720720"/>
          </a:xfrm>
          <a:prstGeom prst="downArrow">
            <a:avLst>
              <a:gd name="adj1" fmla="val 50000"/>
              <a:gd name="adj2" fmla="val 35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500720" y="3259080"/>
            <a:ext cx="718920" cy="241200"/>
          </a:xfrm>
          <a:prstGeom prst="line">
            <a:avLst/>
          </a:prstGeom>
          <a:ln w="4428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00720" y="3259080"/>
            <a:ext cx="0" cy="746280"/>
          </a:xfrm>
          <a:prstGeom prst="line">
            <a:avLst/>
          </a:prstGeom>
          <a:ln w="4428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284720" y="3933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219640" y="3357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492360" y="3357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3851280" y="3259080"/>
            <a:ext cx="649440" cy="314280"/>
          </a:xfrm>
          <a:prstGeom prst="line">
            <a:avLst/>
          </a:prstGeom>
          <a:ln w="4428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276720" y="260280"/>
            <a:ext cx="417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Finishing Process (no table rot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79280" y="26028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rd Machin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2319480" y="728640"/>
            <a:ext cx="4505040" cy="540072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4211640" y="5300640"/>
            <a:ext cx="431640" cy="576360"/>
          </a:xfrm>
          <a:prstGeom prst="upArrow">
            <a:avLst>
              <a:gd name="adj1" fmla="val 50000"/>
              <a:gd name="adj2" fmla="val 333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284720" y="981000"/>
            <a:ext cx="504720" cy="720720"/>
          </a:xfrm>
          <a:prstGeom prst="downArrow">
            <a:avLst>
              <a:gd name="adj1" fmla="val 50000"/>
              <a:gd name="adj2" fmla="val 35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500720" y="3259080"/>
            <a:ext cx="718920" cy="241200"/>
          </a:xfrm>
          <a:prstGeom prst="line">
            <a:avLst/>
          </a:prstGeom>
          <a:ln w="4428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500720" y="3259080"/>
            <a:ext cx="0" cy="746280"/>
          </a:xfrm>
          <a:prstGeom prst="line">
            <a:avLst/>
          </a:prstGeom>
          <a:ln w="4428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284720" y="3933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219640" y="3357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492360" y="3357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851280" y="3259080"/>
            <a:ext cx="649440" cy="314280"/>
          </a:xfrm>
          <a:prstGeom prst="line">
            <a:avLst/>
          </a:prstGeom>
          <a:ln w="4428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132000" y="333360"/>
            <a:ext cx="331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Finishing (no table rot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79280" y="260280"/>
            <a:ext cx="28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rd Machin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68360" y="27813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Pocket_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Closed_pocke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Side ▽▽▽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 ▽▽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164360" y="83664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Pocket_1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pen_pock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ide ▽▽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 ▽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26920" y="5805360"/>
            <a:ext cx="12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Pocket_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Open_pock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ide ▽▽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 ▽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164360" y="364500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Slot_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Tee_profile Side ▽▽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 ▽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84360" y="371628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Slot_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Slo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e_profile Side ▽▽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 ▽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H="1">
            <a:off x="4140360" y="1197000"/>
            <a:ext cx="3024000" cy="1152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6360" y="2924280"/>
            <a:ext cx="2664000" cy="288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1979640" y="4508280"/>
            <a:ext cx="2305080" cy="1584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1701720" y="3212640"/>
            <a:ext cx="1141560" cy="576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6011640" y="4005360"/>
            <a:ext cx="1081080" cy="144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11280" y="53737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3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39640" y="907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2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164360" y="58770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4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164360" y="1628640"/>
            <a:ext cx="1476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Hole_1   (SHOL.SHOL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Hole(41.0)   Hole(35.0), Through </a:t>
            </a: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Side </a:t>
            </a: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▽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5866920" y="2133720"/>
            <a:ext cx="1225800" cy="503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547640" y="1052640"/>
            <a:ext cx="1213200" cy="431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1619280" y="4437000"/>
            <a:ext cx="1212840" cy="1008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5867280" y="5589360"/>
            <a:ext cx="1441440" cy="431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08000" y="1557360"/>
            <a:ext cx="21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Hole_7 (BELL.SHOL.SHOL)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e (20.0), Bell mouth                Hole (16.0), Flat, </a:t>
            </a: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Side ▽▽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e (15.0), Con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050920" y="1916280"/>
            <a:ext cx="1368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076720" y="63817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8 (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H="1" flipV="1">
            <a:off x="5219640" y="5157720"/>
            <a:ext cx="216000" cy="1224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24000" y="4581360"/>
            <a:ext cx="158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Hole_34 (SHOL)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e (20.0), Through</a:t>
            </a: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Side ▽▽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164360" y="3141720"/>
            <a:ext cx="107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37 (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95280" y="2492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36 (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6000" y="486900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35 (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1692360" y="3789000"/>
            <a:ext cx="1079280" cy="863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5796000" y="4868640"/>
            <a:ext cx="1512720" cy="144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1476360" y="2133360"/>
            <a:ext cx="1295280" cy="431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5866920" y="3284640"/>
            <a:ext cx="12985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1590840" y="1647720"/>
            <a:ext cx="596232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250920" y="2133720"/>
            <a:ext cx="8642160" cy="137304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24000" y="2276640"/>
            <a:ext cx="835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sign Workingsteps for F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Machining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50920" y="1268280"/>
            <a:ext cx="49687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Macro Process Plan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5114880" y="115920"/>
            <a:ext cx="3911760" cy="662616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1403280" y="404640"/>
            <a:ext cx="3681360" cy="445644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059280" y="3141720"/>
            <a:ext cx="865080" cy="1009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5508720" y="2781360"/>
            <a:ext cx="3384360" cy="16556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924360" y="3500280"/>
            <a:ext cx="1584360" cy="730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0" y="404640"/>
            <a:ext cx="1428840" cy="39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908000" y="981000"/>
            <a:ext cx="6048720" cy="4961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32000" y="2852640"/>
            <a:ext cx="2592360" cy="1152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867280" y="914400"/>
            <a:ext cx="1981440" cy="2743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71640" y="1844640"/>
            <a:ext cx="3066840" cy="1050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076720" y="907920"/>
            <a:ext cx="719280" cy="187344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914400"/>
            <a:ext cx="1447920" cy="2590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116000" y="4495320"/>
            <a:ext cx="2160720" cy="228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952880" y="2895480"/>
            <a:ext cx="685800" cy="457200"/>
          </a:xfrm>
          <a:prstGeom prst="line">
            <a:avLst/>
          </a:prstGeom>
          <a:ln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3352680"/>
            <a:ext cx="685800" cy="685800"/>
          </a:xfrm>
          <a:prstGeom prst="line">
            <a:avLst/>
          </a:prstGeom>
          <a:ln w="4428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38680" y="39625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743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2133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6084360" y="907920"/>
            <a:ext cx="863640" cy="187344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952880" y="2514600"/>
            <a:ext cx="0" cy="838080"/>
          </a:xfrm>
          <a:prstGeom prst="line">
            <a:avLst/>
          </a:prstGeom>
          <a:ln w="4428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68360" y="1159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Pocket_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Closed_pocke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Side ▽▽▽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 ▽▽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08000" y="17002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Pocket_1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pen_pock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ide ▽▽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 ▽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848720" y="11592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Pocket_2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Open_pocke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ide ▽▽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 ▽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3280" y="1159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Slot_2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Tee_profile Side ▽▽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 ▽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57200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Slot_3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Slo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e_profile Side ▽▽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 ▽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88000" y="115920"/>
            <a:ext cx="129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Slot_1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o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quare_U_profile Side ▽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 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08000" y="263700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Slot_4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o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quare_U_profile Side ▽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tom 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5300640"/>
            <a:ext cx="914400" cy="380880"/>
          </a:xfrm>
          <a:prstGeom prst="wedgeRectCallout">
            <a:avLst>
              <a:gd name="adj1" fmla="val -96180"/>
              <a:gd name="adj2" fmla="val -15875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PLANE_6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35280" y="5516640"/>
            <a:ext cx="914400" cy="380880"/>
          </a:xfrm>
          <a:prstGeom prst="wedgeRectCallout">
            <a:avLst>
              <a:gd name="adj1" fmla="val 103300"/>
              <a:gd name="adj2" fmla="val -20541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PLANE_3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6659640" y="3573000"/>
            <a:ext cx="1549440" cy="903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22480" y="1047600"/>
            <a:ext cx="2154240" cy="19497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92360" y="6093000"/>
            <a:ext cx="158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Hole_34 (SHOL)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e (20.0), Through</a:t>
            </a: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Side ▽▽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508720" y="476280"/>
            <a:ext cx="107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37 (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36450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36 (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80480" y="234324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35 (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627280" y="4797000"/>
            <a:ext cx="1152720" cy="1295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7093080" y="2495520"/>
            <a:ext cx="963360" cy="3571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940360" y="765000"/>
            <a:ext cx="135000" cy="1044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407664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24 (2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258920" y="3933720"/>
            <a:ext cx="1152360" cy="287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634920" y="5373720"/>
            <a:ext cx="73080" cy="719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1332000" y="4653000"/>
            <a:ext cx="1727280" cy="1008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80480" y="523872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14 (1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5724360" y="4797000"/>
            <a:ext cx="2408400" cy="593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516640"/>
            <a:ext cx="110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6 (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48000" y="189000"/>
            <a:ext cx="151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Hole_32 (SHOL)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e (25.0), Flat</a:t>
            </a: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51280" y="620640"/>
            <a:ext cx="1233360" cy="1341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96000" y="609300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33 (3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4716000" y="4652640"/>
            <a:ext cx="1079640" cy="1584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8000" y="115920"/>
            <a:ext cx="232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Hole_7 (BELL.SHOL.SHOL)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e (20.0), Bell mouth                Hole (16.0), Flat, </a:t>
            </a: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Side ▽▽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e (15.0), Con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132760" y="440064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8 (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6093000"/>
            <a:ext cx="187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Hole_23 (TTAP.SHOL)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Thread  PT1/4, P=1.3368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e (10.0), Flat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258920" y="3715920"/>
            <a:ext cx="1584360" cy="73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11280" y="1557360"/>
            <a:ext cx="914400" cy="380880"/>
          </a:xfrm>
          <a:prstGeom prst="wedgeRectCallout">
            <a:avLst>
              <a:gd name="adj1" fmla="val 100694"/>
              <a:gd name="adj2" fmla="val 19291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PLANE_4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1428480" cy="398160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5219640" y="404640"/>
            <a:ext cx="3819600" cy="344808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3"/>
          <a:stretch/>
        </p:blipFill>
        <p:spPr>
          <a:xfrm>
            <a:off x="1692360" y="404640"/>
            <a:ext cx="3573360" cy="453708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3492360" y="2924280"/>
            <a:ext cx="648000" cy="6490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67280" y="1773360"/>
            <a:ext cx="2952720" cy="71892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067280" y="2133360"/>
            <a:ext cx="1800000" cy="9349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5278320" y="260280"/>
            <a:ext cx="3865680" cy="638172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1476360" y="260280"/>
            <a:ext cx="3754440" cy="44640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3492360" y="2924280"/>
            <a:ext cx="648000" cy="6490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012000" y="333360"/>
            <a:ext cx="2087280" cy="4316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4067280" y="549360"/>
            <a:ext cx="1944720" cy="2519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3"/>
          <a:stretch/>
        </p:blipFill>
        <p:spPr>
          <a:xfrm>
            <a:off x="108000" y="260280"/>
            <a:ext cx="134280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5140440" y="333360"/>
            <a:ext cx="4003560" cy="566892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1332000" y="333360"/>
            <a:ext cx="3809880" cy="459108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3348000" y="2997360"/>
            <a:ext cx="647640" cy="6490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724360" y="3429000"/>
            <a:ext cx="3024360" cy="64944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95640" y="3357720"/>
            <a:ext cx="1728720" cy="3585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3"/>
          <a:stretch/>
        </p:blipFill>
        <p:spPr>
          <a:xfrm>
            <a:off x="108000" y="260280"/>
            <a:ext cx="134280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1342800" cy="639900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2771640" y="115920"/>
            <a:ext cx="3372120" cy="65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1333440" cy="2276640"/>
          </a:xfrm>
          <a:prstGeom prst="rect">
            <a:avLst/>
          </a:prstGeom>
          <a:ln w="0">
            <a:noFill/>
          </a:ln>
        </p:spPr>
      </p:pic>
      <p:pic>
        <p:nvPicPr>
          <p:cNvPr id="511" name="" descr=""/>
          <p:cNvPicPr/>
          <p:nvPr/>
        </p:nvPicPr>
        <p:blipFill>
          <a:blip r:embed="rId2"/>
          <a:stretch/>
        </p:blipFill>
        <p:spPr>
          <a:xfrm>
            <a:off x="2557440" y="92160"/>
            <a:ext cx="4029120" cy="66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50920" y="2133720"/>
            <a:ext cx="8642160" cy="137304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24000" y="2276640"/>
            <a:ext cx="835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ix Operation Data for Working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d Sequence Workingstep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50920" y="1268280"/>
            <a:ext cx="49687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Micro Process Pl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0" y="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rocess Plan Data for the first process (1/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7777440" cy="64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0" y="0"/>
            <a:ext cx="52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rocess Plan Data for the second process (1/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85672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0" y="0"/>
            <a:ext cx="52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rocess Plan Data for the second process (2/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867564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0" y="0"/>
            <a:ext cx="52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rocess Plan Data for the second process (3/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880128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19280" y="981000"/>
            <a:ext cx="5610240" cy="4657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410080" y="5181480"/>
            <a:ext cx="914400" cy="381240"/>
          </a:xfrm>
          <a:prstGeom prst="wedgeRectCallout">
            <a:avLst>
              <a:gd name="adj1" fmla="val -84203"/>
              <a:gd name="adj2" fmla="val -220833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PLNE_5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3581280"/>
            <a:ext cx="914400" cy="381240"/>
          </a:xfrm>
          <a:prstGeom prst="wedgeRectCallout">
            <a:avLst>
              <a:gd name="adj1" fmla="val 135416"/>
              <a:gd name="adj2" fmla="val -10791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PLANE_2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066680" y="4292280"/>
            <a:ext cx="1633680" cy="1498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4724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22 (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1295280" y="3645000"/>
            <a:ext cx="900360" cy="11556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3276720" y="5084280"/>
            <a:ext cx="0" cy="792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5651280" y="4365720"/>
            <a:ext cx="1368360" cy="1511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43280" y="5877000"/>
            <a:ext cx="2233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Hole_21 (TTAP.SHOL.SHOL)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Thread  PT1/4, P=1.3368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e (10.0), Flat                    Hole (  8.5),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5805360"/>
            <a:ext cx="2160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Hole_5 (THOL.STAP.SHOL)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e(20.0), 90 deg            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Thread  M16, P=2.0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e (14.2),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04000" y="5805360"/>
            <a:ext cx="21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Hole_13 (STAP.SHOL)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Thread  M16, P=2.0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e (14.2),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924000" y="3165480"/>
            <a:ext cx="576360" cy="334800"/>
          </a:xfrm>
          <a:prstGeom prst="line">
            <a:avLst/>
          </a:prstGeom>
          <a:ln w="4428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3924000" y="2637000"/>
            <a:ext cx="576360" cy="528480"/>
          </a:xfrm>
          <a:prstGeom prst="line">
            <a:avLst/>
          </a:prstGeom>
          <a:ln w="4428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24210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92360" y="33577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48080" y="1946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500720" y="2327400"/>
            <a:ext cx="0" cy="838080"/>
          </a:xfrm>
          <a:prstGeom prst="line">
            <a:avLst/>
          </a:prstGeom>
          <a:ln w="4428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324000" y="333360"/>
            <a:ext cx="52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Process Plan Data for the third process (1/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775720" cy="32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179280" y="620640"/>
            <a:ext cx="4572000" cy="57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?xml version="1.0" encoding="x-sjis"?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?xml-stylesheet type="text/xsl" href="CamInterface.xsl"?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Features xmlns:dt="urn:schemas-microsoft-com:datatypes" xml:space="preserve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FEATURE&gt;CAM_INTERFACE&lt;/FEATUR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DEP_MACRO_MICRO_RELATIO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SHAPE_FILE&gt;Die and Mold Part.stp&lt;/SHAPE_FIL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FEATURE_FILE&gt;Die and Mold Part_Feature.stp&lt;/FEATURE_FIL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DEP_FILE&gt;Die and Mold Part.dep&lt;/DEP_FIL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MACRO_FILE&gt;Die and Mold Part.mac&lt;/MACRO_FIL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MICRO_FILE&gt;Die and Mold Part.mic&lt;/MICRO_FIL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/DEP_MACRO_MICRO_RELATIO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DEPENDENC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/DEPEND_FRE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/DEPENDENC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PROCES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no&gt;1&lt;/no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MACHINE_TOOL_ID&gt;B024215326-X001&lt;/MACHINE_TOOL_I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MACHINE_TOOL_TYPE&gt;Horizontal Milling Machine&lt;/MACHINE_TOOL_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MACHINE_TOOL_MAKER&gt;OKK&lt;/MACHINE_TOOL_MAK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MACHINE_TOOL_MODEL&gt;HM800S (HMC)&lt;/MACHINE_TOOL_MODE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RANGE&gt;500, 500, 500&lt;/RANG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CONTROL_AXIS&gt;3&lt;/CONTROL_AXI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SIMULTANEOUS_CONTROL_AXIS&gt;3&lt;/SIMULTANEOUS_CONTROL_AXIS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SHAFT_RPM&gt;1000&lt;/SHAFT_RP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TABLE_INDEX&gt;ON&lt;/TABLE_INDEX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POST_PROCESSOR&gt;A001&lt;/POST_PROCESSO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MAIN_PLANE&gt;B&lt;/MAIN_PLAN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CLAMP_DIRECTION&gt;Y-Y'&lt;/CLAMP_DIRECTIO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AVAILABLE_PLANE&gt;B,E,F&lt;/AVAILABLE_PLAN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CUT_SPEED_COMPENSATION&gt;1.0&lt;/CUT_SPEED_COMPENSATIO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FEED_RATE_COMPENSATION&gt;1.0&lt;/FEED_RATE_COMPENSATIO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CLAMP_TYPE&gt;-&lt;/CLAMP_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/HEAD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076720" y="692280"/>
            <a:ext cx="3745080" cy="29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? &lt;SEQ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DIRECTION&gt;B(0,0,-1)&lt;/DIRECTIO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FEATURE_TYPE name="hole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HOL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no&gt;1&lt;/no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name&gt;hole-26_1&lt;/na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ID&gt;#8333&lt;/I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TYPE&gt;straight_hole&lt;/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FACE_SIDE&gt;[#7352:face 160]&lt;/FACE_SID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FACE_BOTTOM&gt;[#7317:face 159]&lt;/FACE_BOTTO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DIAMETER&gt;11.000&lt;/DIAME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DEPTH&gt;6.500&lt;/DEPT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TAPER_TYPE&gt;-&lt;/TAPER_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TAPER_DIAMETER&gt;-&lt;/TAPER_DIAME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TAPER_ANGLE&gt;-&lt;/TAPER_ANGL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BOTTOM_CONDITION&gt;flat&lt;/BOTTOM_CONDITION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THREAD_TYPE&gt;-&lt;/THREAD_TYP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THREAD_PITCH&gt;-&lt;/THREAD_PITC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&lt;THREAD_DEPTH&gt;-&lt;/THREAD_DEPTH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24000" y="189000"/>
            <a:ext cx="52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XML Data for CAM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250920" y="2133720"/>
            <a:ext cx="8642160" cy="137304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24000" y="2276640"/>
            <a:ext cx="835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enerate NC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47640" y="963720"/>
            <a:ext cx="5977080" cy="48006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 flipV="1">
            <a:off x="4427640" y="2997360"/>
            <a:ext cx="360360" cy="210960"/>
          </a:xfrm>
          <a:prstGeom prst="line">
            <a:avLst/>
          </a:prstGeom>
          <a:ln w="4428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850920" y="2708280"/>
            <a:ext cx="576360" cy="504720"/>
          </a:xfrm>
          <a:prstGeom prst="line">
            <a:avLst/>
          </a:prstGeom>
          <a:ln w="4428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2924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35280" y="23493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91000" y="398304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355640" y="3789000"/>
            <a:ext cx="576360" cy="2592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2895480"/>
            <a:ext cx="1265040" cy="1018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6227640" y="3428640"/>
            <a:ext cx="1440000" cy="863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1640" y="836640"/>
            <a:ext cx="647640" cy="1800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5435280" y="4076280"/>
            <a:ext cx="1803240" cy="20955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1828800"/>
            <a:ext cx="2631960" cy="13842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076360" y="1844640"/>
            <a:ext cx="2590920" cy="1224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1371600"/>
            <a:ext cx="2781360" cy="1552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076720" y="404640"/>
            <a:ext cx="719280" cy="1224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4787640" y="3789000"/>
            <a:ext cx="647640" cy="2303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219320" y="3357720"/>
            <a:ext cx="3136680" cy="2357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219320" y="3284280"/>
            <a:ext cx="2847960" cy="19731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43000" y="2362320"/>
            <a:ext cx="1844640" cy="6350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364000" y="2666880"/>
            <a:ext cx="2332080" cy="474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3780000" y="4797360"/>
            <a:ext cx="287280" cy="1224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6781680" y="3352320"/>
            <a:ext cx="1030320" cy="6526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435280" y="765000"/>
            <a:ext cx="576360" cy="719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836640"/>
            <a:ext cx="1295640" cy="1440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7086600" y="2997360"/>
            <a:ext cx="581040" cy="2030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590920" y="4941720"/>
            <a:ext cx="1260360" cy="1306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3276720"/>
            <a:ext cx="904680" cy="7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92360" y="620640"/>
            <a:ext cx="2519280" cy="2448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48000" y="404640"/>
            <a:ext cx="1008000" cy="21607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5292360" y="3500280"/>
            <a:ext cx="2374920" cy="16574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932000" y="1341360"/>
            <a:ext cx="2808360" cy="1656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572000" y="692280"/>
            <a:ext cx="2664000" cy="23050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71640" y="4292640"/>
            <a:ext cx="914400" cy="380880"/>
          </a:xfrm>
          <a:prstGeom prst="wedgeRectCallout">
            <a:avLst>
              <a:gd name="adj1" fmla="val 146527"/>
              <a:gd name="adj2" fmla="val -16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[PLANE_1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3124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3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651640" y="2602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20 (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81080" y="62485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2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96360" y="5013360"/>
            <a:ext cx="154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Hole_9   (SHOL.SHOL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Hole(17.0), Flat   Hole(13.0),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1159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10 (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80" y="12193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11 (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148360" y="60930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12 (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00720" y="6165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16 (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40720" y="386064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17 (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26668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18 (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79640" y="5493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19 (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62064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4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220968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27 (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80000" y="152280"/>
            <a:ext cx="180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Hole_28 (SHOL.SHOL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Hole(10.5), Flat  Hole(  6.5),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16765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29 (2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43280" y="6381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30 (2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0120" y="2514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31 (2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67640" y="1197000"/>
            <a:ext cx="147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Hole_40 (SHOL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Hole( 9.0), Thr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55627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44 (4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34320" y="228600"/>
            <a:ext cx="152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Hole_41 (SHOL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Hole(7.5),  Through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51055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45 (4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228600"/>
            <a:ext cx="165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Hole_38 (SHOL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Hole(10.5), Through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5003640" y="3357720"/>
            <a:ext cx="2664000" cy="2735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67640" y="60213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Hole_39 (3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27640" y="3213000"/>
            <a:ext cx="0" cy="647640"/>
          </a:xfrm>
          <a:prstGeom prst="line">
            <a:avLst/>
          </a:prstGeom>
          <a:ln w="44280">
            <a:solidFill>
              <a:srgbClr val="0000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447920" y="3284280"/>
            <a:ext cx="3268440" cy="28112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772400" y="8380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42 (4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859280" y="990720"/>
            <a:ext cx="2989440" cy="19335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609588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le_43 (4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6021360"/>
            <a:ext cx="172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Hole_15 (STAP.SHOL)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Thread  M14, P=2.0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le (12.2), Con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667640" y="4149720"/>
            <a:ext cx="14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Hole_26   (SHOL.SHOL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Hole(11.0), Flat   Hole(  6.6),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7640" y="2852640"/>
            <a:ext cx="1476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Hole_1   (SHOL.SHOL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Hole(41.0)   Hole(35.0), Through </a:t>
            </a: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Side </a:t>
            </a: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▽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596360" y="1700280"/>
            <a:ext cx="1547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Times New Roman"/>
              </a:rPr>
              <a:t>Hole_25 (SHOL.SHOL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Hole(12.5), Flat  Hole(  7.5), Thr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50920" y="2133720"/>
            <a:ext cx="8642160" cy="13730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4000" y="2276640"/>
            <a:ext cx="835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reate Process Plan Dat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 Die and Mold P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1042920" y="692280"/>
          <a:ext cx="7058160" cy="30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692280"/>
                    <a:ext cx="7058160" cy="30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"/>
          <p:cNvSpPr/>
          <p:nvPr/>
        </p:nvSpPr>
        <p:spPr>
          <a:xfrm>
            <a:off x="250920" y="3860640"/>
            <a:ext cx="8713800" cy="280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2280" rIns="62280" tIns="56160" bIns="104760" anchor="t">
            <a:spAutoFit/>
          </a:bodyPr>
          <a:p>
            <a:pPr marL="65160" indent="-65160">
              <a:spcBef>
                <a:spcPts val="601"/>
              </a:spcBef>
              <a:spcAft>
                <a:spcPts val="601"/>
              </a:spcAft>
              <a:buClr>
                <a:srgbClr val="bbe0e3"/>
              </a:buClr>
              <a:buSzPct val="75000"/>
              <a:buFont typeface="Monotype Sorts" charset="2"/>
              <a:buChar char=""/>
              <a:tabLst>
                <a:tab algn="l" pos="128520"/>
                <a:tab algn="l" pos="619200"/>
                <a:tab algn="l" pos="1238400"/>
                <a:tab algn="l" pos="1857240"/>
                <a:tab algn="l" pos="2476440"/>
                <a:tab algn="l" pos="3095640"/>
                <a:tab algn="l" pos="3714840"/>
                <a:tab algn="l" pos="4334040"/>
                <a:tab algn="l" pos="4952880"/>
                <a:tab algn="l" pos="5572080"/>
                <a:tab algn="l" pos="6191280"/>
                <a:tab algn="l" pos="6810480"/>
                <a:tab algn="l" pos="7429680"/>
                <a:tab algn="l" pos="8048520"/>
                <a:tab algn="l" pos="8667720"/>
                <a:tab algn="l" pos="9286920"/>
                <a:tab algn="l" pos="9906120"/>
                <a:tab algn="l" pos="1052496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DEMExpert-Pla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is completely system independent, i.e. geometry definition is not depend on specific CAD system and also process planning is free from specific CAD syst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indent="-65160">
              <a:spcBef>
                <a:spcPts val="601"/>
              </a:spcBef>
              <a:spcAft>
                <a:spcPts val="601"/>
              </a:spcAft>
              <a:buClr>
                <a:srgbClr val="bbe0e3"/>
              </a:buClr>
              <a:buSzPct val="75000"/>
              <a:buFont typeface="Monotype Sorts" charset="2"/>
              <a:buChar char=""/>
              <a:tabLst>
                <a:tab algn="l" pos="128520"/>
                <a:tab algn="l" pos="619200"/>
                <a:tab algn="l" pos="1238400"/>
                <a:tab algn="l" pos="1857240"/>
                <a:tab algn="l" pos="2476440"/>
                <a:tab algn="l" pos="3095640"/>
                <a:tab algn="l" pos="3714840"/>
                <a:tab algn="l" pos="4334040"/>
                <a:tab algn="l" pos="4952880"/>
                <a:tab algn="l" pos="5572080"/>
                <a:tab algn="l" pos="6191280"/>
                <a:tab algn="l" pos="6810480"/>
                <a:tab algn="l" pos="7429680"/>
                <a:tab algn="l" pos="8048520"/>
                <a:tab algn="l" pos="8667720"/>
                <a:tab algn="l" pos="9286920"/>
                <a:tab algn="l" pos="9906120"/>
                <a:tab algn="l" pos="105249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st of the procedure logic does not depend on hard coding software. For example, feature recognition, feature dependency, mapping to AP240 etc are not hard coded but mapping between a source and a target schema. This means the system has flexibilit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indent="-65160">
              <a:spcBef>
                <a:spcPts val="601"/>
              </a:spcBef>
              <a:spcAft>
                <a:spcPts val="601"/>
              </a:spcAft>
              <a:buClr>
                <a:srgbClr val="bbe0e3"/>
              </a:buClr>
              <a:buSzPct val="75000"/>
              <a:buFont typeface="Monotype Sorts" charset="2"/>
              <a:buChar char=""/>
              <a:tabLst>
                <a:tab algn="l" pos="128520"/>
                <a:tab algn="l" pos="619200"/>
                <a:tab algn="l" pos="1238400"/>
                <a:tab algn="l" pos="1857240"/>
                <a:tab algn="l" pos="2476440"/>
                <a:tab algn="l" pos="3095640"/>
                <a:tab algn="l" pos="3714840"/>
                <a:tab algn="l" pos="4334040"/>
                <a:tab algn="l" pos="4952880"/>
                <a:tab algn="l" pos="5572080"/>
                <a:tab algn="l" pos="6191280"/>
                <a:tab algn="l" pos="6810480"/>
                <a:tab algn="l" pos="7429680"/>
                <a:tab algn="l" pos="8048520"/>
                <a:tab algn="l" pos="8667720"/>
                <a:tab algn="l" pos="9286920"/>
                <a:tab algn="l" pos="9906120"/>
                <a:tab algn="l" pos="105249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so the way of manufacturing depends on the data of Manufacturing Technology Database supplied by 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DEMExpert-DB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and completely independent from hard coding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5160" indent="-65160">
              <a:spcBef>
                <a:spcPts val="601"/>
              </a:spcBef>
              <a:spcAft>
                <a:spcPts val="601"/>
              </a:spcAft>
              <a:buClr>
                <a:srgbClr val="bbe0e3"/>
              </a:buClr>
              <a:buSzPct val="75000"/>
              <a:buFont typeface="Monotype Sorts" charset="2"/>
              <a:buChar char=""/>
              <a:tabLst>
                <a:tab algn="l" pos="128520"/>
                <a:tab algn="l" pos="619200"/>
                <a:tab algn="l" pos="1238400"/>
                <a:tab algn="l" pos="1857240"/>
                <a:tab algn="l" pos="2476440"/>
                <a:tab algn="l" pos="3095640"/>
                <a:tab algn="l" pos="3714840"/>
                <a:tab algn="l" pos="4334040"/>
                <a:tab algn="l" pos="4952880"/>
                <a:tab algn="l" pos="5572080"/>
                <a:tab algn="l" pos="6191280"/>
                <a:tab algn="l" pos="6810480"/>
                <a:tab algn="l" pos="7429680"/>
                <a:tab algn="l" pos="8048520"/>
                <a:tab algn="l" pos="8667720"/>
                <a:tab algn="l" pos="9286920"/>
                <a:tab algn="l" pos="9906120"/>
                <a:tab algn="l" pos="105249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s CAM Interface, both AP240 file and XML file with private tag are available for the convenience to connect with existing CAM system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189000"/>
            <a:ext cx="8856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19200"/>
                <a:tab algn="l" pos="1238400"/>
                <a:tab algn="l" pos="1857240"/>
                <a:tab algn="l" pos="2476440"/>
                <a:tab algn="l" pos="3095640"/>
                <a:tab algn="l" pos="3714840"/>
                <a:tab algn="l" pos="4334040"/>
                <a:tab algn="l" pos="4952880"/>
                <a:tab algn="l" pos="5572080"/>
                <a:tab algn="l" pos="6191280"/>
                <a:tab algn="l" pos="6810480"/>
                <a:tab algn="l" pos="7429680"/>
                <a:tab algn="l" pos="8048520"/>
                <a:tab algn="l" pos="8667720"/>
                <a:tab algn="l" pos="9286920"/>
                <a:tab algn="l" pos="9906120"/>
                <a:tab algn="l" pos="10524960"/>
              </a:tabLst>
            </a:pPr>
            <a:r>
              <a:rPr b="1" i="1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DEMExpert-Plan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Verdana"/>
              </a:rPr>
              <a:t> Computer Aided Process Plan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2514600" y="1981080"/>
          <a:ext cx="167652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981080"/>
                    <a:ext cx="16765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2195640" y="457200"/>
            <a:ext cx="6643440" cy="6248520"/>
          </a:xfrm>
          <a:prstGeom prst="rect">
            <a:avLst/>
          </a:prstGeom>
          <a:noFill/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441972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43280" y="5445000"/>
            <a:ext cx="1452600" cy="1150920"/>
          </a:xfrm>
          <a:prstGeom prst="flowChartMagneticDisk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 Interfac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ML Data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 on ISO 146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5280" y="5734080"/>
            <a:ext cx="1523880" cy="598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Gener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NC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56000" y="3357720"/>
            <a:ext cx="576000" cy="380880"/>
          </a:xfrm>
          <a:prstGeom prst="leftRightArrow">
            <a:avLst>
              <a:gd name="adj1" fmla="val 50000"/>
              <a:gd name="adj2" fmla="val 30106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2708280"/>
            <a:ext cx="609480" cy="311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076720" y="1413000"/>
            <a:ext cx="55908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4076640"/>
            <a:ext cx="1219320" cy="914400"/>
          </a:xfrm>
          <a:prstGeom prst="flowChartMagneticDisk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SO 698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248520" y="2057400"/>
            <a:ext cx="507960" cy="380880"/>
          </a:xfrm>
          <a:prstGeom prst="leftRightArrow">
            <a:avLst>
              <a:gd name="adj1" fmla="val 50000"/>
              <a:gd name="adj2" fmla="val 2654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5400000">
            <a:off x="7649640" y="5032440"/>
            <a:ext cx="358920" cy="6094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6858000" y="1143000"/>
          <a:ext cx="4064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1143000"/>
                    <a:ext cx="406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6012000" y="18900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「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Process Planning System</a:t>
            </a:r>
            <a:r>
              <a:rPr b="1" lang="zh-CN" sz="1200" spc="-1" strike="noStrike">
                <a:solidFill>
                  <a:srgbClr val="ff0000"/>
                </a:solidFill>
                <a:latin typeface="Arial"/>
              </a:rPr>
              <a:t>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15200" y="11430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Manual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629400" y="762120"/>
            <a:ext cx="50796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10280" y="762120"/>
            <a:ext cx="81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In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43800" y="762120"/>
            <a:ext cx="50796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24680" y="7621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53080" y="609480"/>
            <a:ext cx="213372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948360" y="5084640"/>
          <a:ext cx="4064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48360" y="5084640"/>
                    <a:ext cx="406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 rot="10800000">
            <a:off x="1980720" y="838080"/>
            <a:ext cx="40644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0800000">
            <a:off x="4190760" y="838080"/>
            <a:ext cx="33012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76720" y="5157720"/>
            <a:ext cx="60984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77080" y="2565360"/>
          <a:ext cx="40644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77080" y="2565360"/>
                    <a:ext cx="4064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556000" y="3789360"/>
          <a:ext cx="457200" cy="452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56000" y="3789360"/>
                    <a:ext cx="45720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 rot="10800000">
            <a:off x="826920" y="5084280"/>
            <a:ext cx="5335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1985040" y="5873040"/>
            <a:ext cx="533520" cy="465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457200"/>
            <a:ext cx="1447920" cy="990720"/>
          </a:xfrm>
          <a:prstGeom prst="flowChartMagneticDisk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D Geometry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P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AP203/21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38280" y="838080"/>
            <a:ext cx="167652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Recogn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Manufacturing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411280" y="549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333399"/>
                </a:solidFill>
                <a:latin typeface="Arial"/>
              </a:rPr>
              <a:t>[DEMExpert-Plan 1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63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399"/>
                </a:solidFill>
                <a:latin typeface="Arial"/>
              </a:rPr>
              <a:t>Overview of DEMExpert-Plan  and </a:t>
            </a:r>
            <a:r>
              <a:rPr b="1" lang="ja-JP" sz="1800" spc="-1" strike="noStrike">
                <a:solidFill>
                  <a:srgbClr val="333399"/>
                </a:solidFill>
                <a:latin typeface="Arial"/>
              </a:rPr>
              <a:t>DEMExpert-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48320" y="838080"/>
            <a:ext cx="167616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Feature 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19720" y="1828800"/>
            <a:ext cx="1676160" cy="814320"/>
          </a:xfrm>
          <a:prstGeom prst="flowChartMagneticDisk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tur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AP224/AP24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4000" y="5373720"/>
            <a:ext cx="166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333399"/>
                </a:solidFill>
                <a:latin typeface="Arial"/>
              </a:rPr>
              <a:t>[AlphaCAM:Licom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877080" y="1989000"/>
            <a:ext cx="1676520" cy="533520"/>
          </a:xfrm>
          <a:prstGeom prst="flowChartManualInpu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Add Tolerance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3124080"/>
            <a:ext cx="3352680" cy="838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Create Macro Process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Select Machine Tool for each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Decide Clamping Positions and Meth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Assign Manufacturing Features to each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3962520"/>
            <a:ext cx="3352680" cy="114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Generate Micro Process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reate Workingsteps for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reate Operation data for Working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utting tool, Technology, Machining_strateg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ishing_allowance, Depth_of_cut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equence Workingsteps of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304920" y="1523880"/>
          <a:ext cx="1600200" cy="1143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4920" y="1523880"/>
                    <a:ext cx="1600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7164360" y="5877000"/>
            <a:ext cx="1447920" cy="522360"/>
          </a:xfrm>
          <a:prstGeom prst="flowChartManualInpu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Create and Ed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093080" y="3141720"/>
            <a:ext cx="1600200" cy="1871640"/>
          </a:xfrm>
          <a:prstGeom prst="flowChartMagneticDisk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Database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Machining Technolog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Cutting Tools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Machine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Times New Roman"/>
              </a:rPr>
              <a:t>(ISO 146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87280" y="3284640"/>
            <a:ext cx="1295640" cy="598320"/>
          </a:xfrm>
          <a:prstGeom prst="flowChartManualInpu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Ed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Process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5486400"/>
            <a:ext cx="1371600" cy="1143000"/>
          </a:xfrm>
          <a:prstGeom prst="flowChartMagneticDisk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Plan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 AP240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SO 146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14479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cket with H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362320" y="1676520"/>
            <a:ext cx="6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29000" y="1676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e_s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1752480"/>
            <a:ext cx="0" cy="68580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666880" y="1905120"/>
            <a:ext cx="203400" cy="26496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3733560" y="1905120"/>
            <a:ext cx="152280" cy="53316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093080" y="5589720"/>
            <a:ext cx="17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333399"/>
                </a:solidFill>
                <a:latin typeface="Arial"/>
              </a:rPr>
              <a:t>[DEMExpert-DB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643280" y="549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333399"/>
                </a:solidFill>
                <a:latin typeface="Arial"/>
              </a:rPr>
              <a:t>[DEMExpert-Plan 2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732720" y="1773360"/>
            <a:ext cx="17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333399"/>
                </a:solidFill>
                <a:latin typeface="Arial"/>
              </a:rPr>
              <a:t>[DEMExpert-Plan 3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148360" y="285264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333399"/>
                </a:solidFill>
                <a:latin typeface="Arial"/>
              </a:rPr>
              <a:t>[DEMExpert-Plan 4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26920" y="2997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333399"/>
                </a:solidFill>
                <a:latin typeface="Arial"/>
              </a:rPr>
              <a:t>[DEMExpert-Plan 5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5157720"/>
            <a:ext cx="60948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59640" y="3500280"/>
            <a:ext cx="360360" cy="3812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50920" y="2133720"/>
            <a:ext cx="8642160" cy="1373040"/>
          </a:xfrm>
          <a:prstGeom prst="rect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4000" y="2276640"/>
            <a:ext cx="835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cognize Manufacturing Fea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11:50:11Z</dcterms:created>
  <dc:creator>sakamoto</dc:creator>
  <dc:description/>
  <dc:language>en-US</dc:language>
  <cp:lastModifiedBy>sakamoto</cp:lastModifiedBy>
  <dcterms:modified xsi:type="dcterms:W3CDTF">2007-07-04T23:07:31Z</dcterms:modified>
  <cp:revision>22</cp:revision>
  <dc:subject/>
  <dc:title>スライド 1</dc:title>
</cp:coreProperties>
</file>