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C483-92F5-441A-8131-B0A5E88C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B34-DC3A-4EB8-B739-4A0E30B4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BEB2-1646-4057-8223-0EDE6C43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4A3F-D5C3-4767-94C0-8B22B33BD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7553-918A-4254-A1C5-4B9172A2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B603-E025-4312-8FC1-A5FE3DEC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2C6-A365-4309-BFFC-1C8121E2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A5F4-0A1B-4DDB-A04E-EC99BA87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7FB5-D59F-4678-98D1-708A0E86A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11E7-ACCA-4C94-AA09-077C5253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FAD-1EE3-44EC-A121-D2B772601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E0C-71CF-41E7-B30D-D520CC04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9C46-63BC-4456-A488-D1FBE0B6D0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62080" y="304920"/>
            <a:ext cx="2514600" cy="6248160"/>
            <a:chOff x="2062080" y="304920"/>
            <a:chExt cx="2514600" cy="6248160"/>
          </a:xfrm>
        </p:grpSpPr>
        <p:sp>
          <p:nvSpPr>
            <p:cNvPr id="42" name=""/>
            <p:cNvSpPr/>
            <p:nvPr/>
          </p:nvSpPr>
          <p:spPr>
            <a:xfrm>
              <a:off x="2138040" y="4419720"/>
              <a:ext cx="990720" cy="1371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138040" y="1143000"/>
              <a:ext cx="990720" cy="2971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90680" y="5105520"/>
              <a:ext cx="685800" cy="5331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prob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062080" y="304920"/>
              <a:ext cx="137160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AP238 fi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gener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290680" y="5943600"/>
              <a:ext cx="2286000" cy="6094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STEP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7880" y="2819520"/>
              <a:ext cx="761760" cy="53316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290680" y="3429000"/>
              <a:ext cx="76176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prob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7880" y="4495680"/>
              <a:ext cx="76176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4-ni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47880" y="1371600"/>
              <a:ext cx="76176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P2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357720" y="304920"/>
            <a:ext cx="1752480" cy="5486400"/>
            <a:chOff x="3357720" y="304920"/>
            <a:chExt cx="1752480" cy="5486400"/>
          </a:xfrm>
        </p:grpSpPr>
        <p:sp>
          <p:nvSpPr>
            <p:cNvPr id="52" name=""/>
            <p:cNvSpPr/>
            <p:nvPr/>
          </p:nvSpPr>
          <p:spPr>
            <a:xfrm>
              <a:off x="3357720" y="2514600"/>
              <a:ext cx="990720" cy="1600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6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&amp;H PS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34040" y="304920"/>
              <a:ext cx="129528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nvers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57720" y="1143000"/>
              <a:ext cx="990720" cy="121932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6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ENISHA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357720" y="4419720"/>
              <a:ext cx="990720" cy="13716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40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B*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1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=12 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RENISHA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272120" y="1219320"/>
              <a:ext cx="838080" cy="60948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272120" y="5181480"/>
              <a:ext cx="838080" cy="60984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840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272120" y="3276720"/>
              <a:ext cx="838080" cy="60948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« G » 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iTNC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105520" y="380880"/>
            <a:ext cx="3581280" cy="1981440"/>
            <a:chOff x="5105520" y="380880"/>
            <a:chExt cx="3581280" cy="1981440"/>
          </a:xfrm>
        </p:grpSpPr>
        <p:sp>
          <p:nvSpPr>
            <p:cNvPr id="60" name=""/>
            <p:cNvSpPr/>
            <p:nvPr/>
          </p:nvSpPr>
          <p:spPr>
            <a:xfrm>
              <a:off x="5105520" y="380880"/>
              <a:ext cx="3581280" cy="198144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50680" y="380880"/>
              <a:ext cx="127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Arial"/>
                </a:rPr>
                <a:t>SANDVIK</a:t>
              </a:r>
              <a:r>
                <a:rPr b="1" lang="fr-FR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70160" y="655560"/>
              <a:ext cx="1148400" cy="16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C40</a:t>
              </a:r>
              <a:r>
                <a:rPr b="1" lang="fr-FR" sz="1600" spc="-1" strike="noStrike">
                  <a:solidFill>
                    <a:srgbClr val="ffffcc"/>
                  </a:solidFill>
                  <a:latin typeface="Symbol"/>
                  <a:ea typeface="Symbol"/>
                </a:rPr>
                <a:t>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iTNC530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AC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1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D=16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RENISH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5105520" y="4419720"/>
            <a:ext cx="3581280" cy="1981080"/>
            <a:chOff x="5105520" y="4419720"/>
            <a:chExt cx="3581280" cy="1981080"/>
          </a:xfrm>
        </p:grpSpPr>
        <p:sp>
          <p:nvSpPr>
            <p:cNvPr id="64" name=""/>
            <p:cNvSpPr/>
            <p:nvPr/>
          </p:nvSpPr>
          <p:spPr>
            <a:xfrm>
              <a:off x="5105520" y="4419720"/>
              <a:ext cx="3581280" cy="198108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441972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1"/>
            <a:stretch/>
          </p:blipFill>
          <p:spPr>
            <a:xfrm>
              <a:off x="6934320" y="5029200"/>
              <a:ext cx="1752480" cy="13636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sp>
          <p:nvSpPr>
            <p:cNvPr id="67" name=""/>
            <p:cNvSpPr/>
            <p:nvPr/>
          </p:nvSpPr>
          <p:spPr>
            <a:xfrm>
              <a:off x="5562720" y="4876920"/>
              <a:ext cx="1371600" cy="14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DMU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840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18000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D=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RENISH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05520" y="2362320"/>
            <a:ext cx="3581280" cy="2057400"/>
            <a:chOff x="5105520" y="2362320"/>
            <a:chExt cx="3581280" cy="2057400"/>
          </a:xfrm>
        </p:grpSpPr>
        <p:sp>
          <p:nvSpPr>
            <p:cNvPr id="69" name=""/>
            <p:cNvSpPr/>
            <p:nvPr/>
          </p:nvSpPr>
          <p:spPr>
            <a:xfrm>
              <a:off x="5105520" y="2362320"/>
              <a:ext cx="3581280" cy="205740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6120" y="2362320"/>
              <a:ext cx="148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Arial"/>
                </a:rPr>
                <a:t>BORDEAU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45400" y="2819520"/>
              <a:ext cx="1172880" cy="14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HSM 600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cc"/>
                  </a:solidFill>
                  <a:latin typeface="Arial"/>
                </a:rPr>
                <a:t>iTNC5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B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36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D=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cc"/>
                  </a:solidFill>
                  <a:latin typeface="Arial"/>
                </a:rPr>
                <a:t>M&amp;H PS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7238880" y="2666880"/>
              <a:ext cx="1447920" cy="17240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grpSp>
        <p:nvGrpSpPr>
          <p:cNvPr id="73" name=""/>
          <p:cNvGrpSpPr/>
          <p:nvPr/>
        </p:nvGrpSpPr>
        <p:grpSpPr>
          <a:xfrm>
            <a:off x="8388360" y="549360"/>
            <a:ext cx="304920" cy="4343400"/>
            <a:chOff x="8388360" y="549360"/>
            <a:chExt cx="304920" cy="4343400"/>
          </a:xfrm>
        </p:grpSpPr>
        <p:sp>
          <p:nvSpPr>
            <p:cNvPr id="74" name=""/>
            <p:cNvSpPr/>
            <p:nvPr/>
          </p:nvSpPr>
          <p:spPr>
            <a:xfrm>
              <a:off x="8388360" y="54936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388360" y="4511880"/>
              <a:ext cx="304920" cy="38088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6975">
                  <a:moveTo>
                    <a:pt x="0" y="0"/>
                  </a:moveTo>
                  <a:lnTo>
                    <a:pt x="21600" y="0"/>
                  </a:lnTo>
                  <a:lnTo>
                    <a:pt x="21600" y="26975"/>
                  </a:lnTo>
                  <a:lnTo>
                    <a:pt x="0" y="26975"/>
                  </a:lnTo>
                  <a:close/>
                </a:path>
                <a:path fill="lightenLess" w="21600" h="26975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6975">
                  <a:moveTo>
                    <a:pt x="21600" y="0"/>
                  </a:moveTo>
                  <a:lnTo>
                    <a:pt x="21600" y="26975"/>
                  </a:lnTo>
                  <a:lnTo>
                    <a:pt x="20200" y="25575"/>
                  </a:lnTo>
                  <a:lnTo>
                    <a:pt x="20200" y="1400"/>
                  </a:lnTo>
                  <a:close/>
                </a:path>
                <a:path fill="darkenLess" w="21600" h="26975">
                  <a:moveTo>
                    <a:pt x="21600" y="26975"/>
                  </a:moveTo>
                  <a:lnTo>
                    <a:pt x="0" y="26975"/>
                  </a:lnTo>
                  <a:lnTo>
                    <a:pt x="1400" y="25575"/>
                  </a:lnTo>
                  <a:lnTo>
                    <a:pt x="20200" y="25575"/>
                  </a:lnTo>
                  <a:close/>
                </a:path>
                <a:path fill="lighten" w="21600" h="26975">
                  <a:moveTo>
                    <a:pt x="0" y="26975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575"/>
                  </a:lnTo>
                  <a:close/>
                </a:path>
                <a:path fill="darken" w="21600" h="26975">
                  <a:moveTo>
                    <a:pt x="3794" y="9988"/>
                  </a:moveTo>
                  <a:lnTo>
                    <a:pt x="4707" y="9988"/>
                  </a:lnTo>
                  <a:lnTo>
                    <a:pt x="5090" y="10354"/>
                  </a:lnTo>
                  <a:lnTo>
                    <a:pt x="14299" y="10354"/>
                  </a:lnTo>
                  <a:lnTo>
                    <a:pt x="14856" y="10911"/>
                  </a:lnTo>
                  <a:lnTo>
                    <a:pt x="14856" y="11459"/>
                  </a:lnTo>
                  <a:lnTo>
                    <a:pt x="16701" y="11459"/>
                  </a:lnTo>
                  <a:lnTo>
                    <a:pt x="17067" y="10911"/>
                  </a:lnTo>
                  <a:lnTo>
                    <a:pt x="17806" y="10911"/>
                  </a:lnTo>
                  <a:lnTo>
                    <a:pt x="17806" y="16064"/>
                  </a:lnTo>
                  <a:lnTo>
                    <a:pt x="17067" y="16064"/>
                  </a:lnTo>
                  <a:lnTo>
                    <a:pt x="16701" y="15515"/>
                  </a:lnTo>
                  <a:lnTo>
                    <a:pt x="14856" y="15515"/>
                  </a:lnTo>
                  <a:lnTo>
                    <a:pt x="14856" y="16795"/>
                  </a:lnTo>
                  <a:lnTo>
                    <a:pt x="5273" y="16795"/>
                  </a:lnTo>
                  <a:lnTo>
                    <a:pt x="5273" y="12565"/>
                  </a:lnTo>
                  <a:lnTo>
                    <a:pt x="5090" y="12565"/>
                  </a:lnTo>
                  <a:lnTo>
                    <a:pt x="4707" y="12930"/>
                  </a:lnTo>
                  <a:lnTo>
                    <a:pt x="3794" y="1293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88360" y="2530440"/>
              <a:ext cx="304920" cy="38124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00">
                  <a:moveTo>
                    <a:pt x="0" y="0"/>
                  </a:moveTo>
                  <a:lnTo>
                    <a:pt x="21600" y="0"/>
                  </a:lnTo>
                  <a:lnTo>
                    <a:pt x="21600" y="27000"/>
                  </a:lnTo>
                  <a:lnTo>
                    <a:pt x="0" y="27000"/>
                  </a:lnTo>
                  <a:close/>
                </a:path>
                <a:path fill="lightenLess" w="21600" h="270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00">
                  <a:moveTo>
                    <a:pt x="21600" y="0"/>
                  </a:moveTo>
                  <a:lnTo>
                    <a:pt x="21600" y="27000"/>
                  </a:lnTo>
                  <a:lnTo>
                    <a:pt x="20200" y="25600"/>
                  </a:lnTo>
                  <a:lnTo>
                    <a:pt x="20200" y="1400"/>
                  </a:lnTo>
                  <a:close/>
                </a:path>
                <a:path fill="darkenLess" w="21600" h="27000">
                  <a:moveTo>
                    <a:pt x="21600" y="27000"/>
                  </a:moveTo>
                  <a:lnTo>
                    <a:pt x="0" y="27000"/>
                  </a:lnTo>
                  <a:lnTo>
                    <a:pt x="1400" y="25600"/>
                  </a:lnTo>
                  <a:lnTo>
                    <a:pt x="20200" y="25600"/>
                  </a:lnTo>
                  <a:close/>
                </a:path>
                <a:path fill="lighten" w="21600" h="27000">
                  <a:moveTo>
                    <a:pt x="0" y="270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00"/>
                  </a:lnTo>
                  <a:close/>
                </a:path>
                <a:path fill="darken" w="21600" h="27000">
                  <a:moveTo>
                    <a:pt x="3794" y="10001"/>
                  </a:moveTo>
                  <a:lnTo>
                    <a:pt x="4707" y="10001"/>
                  </a:lnTo>
                  <a:lnTo>
                    <a:pt x="5090" y="10367"/>
                  </a:lnTo>
                  <a:lnTo>
                    <a:pt x="14299" y="10367"/>
                  </a:lnTo>
                  <a:lnTo>
                    <a:pt x="14856" y="10924"/>
                  </a:lnTo>
                  <a:lnTo>
                    <a:pt x="14856" y="11472"/>
                  </a:lnTo>
                  <a:lnTo>
                    <a:pt x="16701" y="11472"/>
                  </a:lnTo>
                  <a:lnTo>
                    <a:pt x="17067" y="10924"/>
                  </a:lnTo>
                  <a:lnTo>
                    <a:pt x="17806" y="10924"/>
                  </a:lnTo>
                  <a:lnTo>
                    <a:pt x="17806" y="16076"/>
                  </a:lnTo>
                  <a:lnTo>
                    <a:pt x="17067" y="16076"/>
                  </a:lnTo>
                  <a:lnTo>
                    <a:pt x="16701" y="15528"/>
                  </a:lnTo>
                  <a:lnTo>
                    <a:pt x="14856" y="15528"/>
                  </a:lnTo>
                  <a:lnTo>
                    <a:pt x="14856" y="16807"/>
                  </a:lnTo>
                  <a:lnTo>
                    <a:pt x="5273" y="16807"/>
                  </a:lnTo>
                  <a:lnTo>
                    <a:pt x="5273" y="12577"/>
                  </a:lnTo>
                  <a:lnTo>
                    <a:pt x="5090" y="12577"/>
                  </a:lnTo>
                  <a:lnTo>
                    <a:pt x="4707" y="12943"/>
                  </a:lnTo>
                  <a:lnTo>
                    <a:pt x="3794" y="12943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4800600" y="304920"/>
            <a:ext cx="1295280" cy="5790960"/>
            <a:chOff x="4800600" y="304920"/>
            <a:chExt cx="1295280" cy="5790960"/>
          </a:xfrm>
        </p:grpSpPr>
        <p:sp>
          <p:nvSpPr>
            <p:cNvPr id="78" name=""/>
            <p:cNvSpPr/>
            <p:nvPr/>
          </p:nvSpPr>
          <p:spPr>
            <a:xfrm>
              <a:off x="4800600" y="304920"/>
              <a:ext cx="1295280" cy="609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81480" y="129528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VERIC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486040" y="5715000"/>
              <a:ext cx="304560" cy="38088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0880"/>
                <a:gd name="textAreaBottom" fmla="*/ 361440 h 380880"/>
              </a:gdLst>
              <a:ahLst/>
              <a:rect l="textAreaLeft" t="textAreaTop" r="textAreaRight" b="textAreaBottom"/>
              <a:pathLst>
                <a:path w="21600" h="27006">
                  <a:moveTo>
                    <a:pt x="0" y="0"/>
                  </a:moveTo>
                  <a:lnTo>
                    <a:pt x="21600" y="0"/>
                  </a:lnTo>
                  <a:lnTo>
                    <a:pt x="21600" y="27006"/>
                  </a:lnTo>
                  <a:lnTo>
                    <a:pt x="0" y="27006"/>
                  </a:lnTo>
                  <a:close/>
                </a:path>
                <a:path fill="lightenLess" w="21600" h="2700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06">
                  <a:moveTo>
                    <a:pt x="21600" y="0"/>
                  </a:moveTo>
                  <a:lnTo>
                    <a:pt x="21600" y="27006"/>
                  </a:lnTo>
                  <a:lnTo>
                    <a:pt x="20200" y="25606"/>
                  </a:lnTo>
                  <a:lnTo>
                    <a:pt x="20200" y="1400"/>
                  </a:lnTo>
                  <a:close/>
                </a:path>
                <a:path fill="darkenLess" w="21600" h="27006">
                  <a:moveTo>
                    <a:pt x="21600" y="27006"/>
                  </a:moveTo>
                  <a:lnTo>
                    <a:pt x="0" y="27006"/>
                  </a:lnTo>
                  <a:lnTo>
                    <a:pt x="1400" y="25606"/>
                  </a:lnTo>
                  <a:lnTo>
                    <a:pt x="20200" y="25606"/>
                  </a:lnTo>
                  <a:close/>
                </a:path>
                <a:path fill="lighten" w="21600" h="27006">
                  <a:moveTo>
                    <a:pt x="0" y="2700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06"/>
                  </a:lnTo>
                  <a:close/>
                </a:path>
                <a:path fill="darken" w="21600" h="27006">
                  <a:moveTo>
                    <a:pt x="3794" y="10004"/>
                  </a:moveTo>
                  <a:lnTo>
                    <a:pt x="4707" y="10004"/>
                  </a:lnTo>
                  <a:lnTo>
                    <a:pt x="5090" y="10370"/>
                  </a:lnTo>
                  <a:lnTo>
                    <a:pt x="14299" y="10370"/>
                  </a:lnTo>
                  <a:lnTo>
                    <a:pt x="14856" y="10927"/>
                  </a:lnTo>
                  <a:lnTo>
                    <a:pt x="14856" y="11475"/>
                  </a:lnTo>
                  <a:lnTo>
                    <a:pt x="16701" y="11475"/>
                  </a:lnTo>
                  <a:lnTo>
                    <a:pt x="17067" y="10927"/>
                  </a:lnTo>
                  <a:lnTo>
                    <a:pt x="17806" y="10927"/>
                  </a:lnTo>
                  <a:lnTo>
                    <a:pt x="17806" y="16079"/>
                  </a:lnTo>
                  <a:lnTo>
                    <a:pt x="17067" y="16079"/>
                  </a:lnTo>
                  <a:lnTo>
                    <a:pt x="16701" y="15531"/>
                  </a:lnTo>
                  <a:lnTo>
                    <a:pt x="14856" y="15531"/>
                  </a:lnTo>
                  <a:lnTo>
                    <a:pt x="14856" y="16811"/>
                  </a:lnTo>
                  <a:lnTo>
                    <a:pt x="5273" y="16811"/>
                  </a:lnTo>
                  <a:lnTo>
                    <a:pt x="5273" y="12581"/>
                  </a:lnTo>
                  <a:lnTo>
                    <a:pt x="5090" y="12581"/>
                  </a:lnTo>
                  <a:lnTo>
                    <a:pt x="4707" y="12946"/>
                  </a:lnTo>
                  <a:lnTo>
                    <a:pt x="3794" y="12946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486040" y="3809880"/>
              <a:ext cx="304560" cy="38124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32">
                  <a:moveTo>
                    <a:pt x="0" y="0"/>
                  </a:moveTo>
                  <a:lnTo>
                    <a:pt x="21600" y="0"/>
                  </a:lnTo>
                  <a:lnTo>
                    <a:pt x="21600" y="27032"/>
                  </a:lnTo>
                  <a:lnTo>
                    <a:pt x="0" y="27032"/>
                  </a:lnTo>
                  <a:close/>
                </a:path>
                <a:path fill="lightenLess" w="21600" h="2703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32">
                  <a:moveTo>
                    <a:pt x="21600" y="0"/>
                  </a:moveTo>
                  <a:lnTo>
                    <a:pt x="21600" y="27032"/>
                  </a:lnTo>
                  <a:lnTo>
                    <a:pt x="20200" y="25632"/>
                  </a:lnTo>
                  <a:lnTo>
                    <a:pt x="20200" y="1400"/>
                  </a:lnTo>
                  <a:close/>
                </a:path>
                <a:path fill="darkenLess" w="21600" h="27032">
                  <a:moveTo>
                    <a:pt x="21600" y="27032"/>
                  </a:moveTo>
                  <a:lnTo>
                    <a:pt x="0" y="27032"/>
                  </a:lnTo>
                  <a:lnTo>
                    <a:pt x="1400" y="25632"/>
                  </a:lnTo>
                  <a:lnTo>
                    <a:pt x="20200" y="25632"/>
                  </a:lnTo>
                  <a:close/>
                </a:path>
                <a:path fill="lighten" w="21600" h="27032">
                  <a:moveTo>
                    <a:pt x="0" y="2703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32"/>
                  </a:lnTo>
                  <a:close/>
                </a:path>
                <a:path fill="darken" w="21600" h="27032">
                  <a:moveTo>
                    <a:pt x="3794" y="10017"/>
                  </a:moveTo>
                  <a:lnTo>
                    <a:pt x="4707" y="10017"/>
                  </a:lnTo>
                  <a:lnTo>
                    <a:pt x="5090" y="10383"/>
                  </a:lnTo>
                  <a:lnTo>
                    <a:pt x="14299" y="10383"/>
                  </a:lnTo>
                  <a:lnTo>
                    <a:pt x="14856" y="10940"/>
                  </a:lnTo>
                  <a:lnTo>
                    <a:pt x="14856" y="11488"/>
                  </a:lnTo>
                  <a:lnTo>
                    <a:pt x="16701" y="11488"/>
                  </a:lnTo>
                  <a:lnTo>
                    <a:pt x="17067" y="10940"/>
                  </a:lnTo>
                  <a:lnTo>
                    <a:pt x="17806" y="10940"/>
                  </a:lnTo>
                  <a:lnTo>
                    <a:pt x="17806" y="16092"/>
                  </a:lnTo>
                  <a:lnTo>
                    <a:pt x="17067" y="16092"/>
                  </a:lnTo>
                  <a:lnTo>
                    <a:pt x="16701" y="15544"/>
                  </a:lnTo>
                  <a:lnTo>
                    <a:pt x="14856" y="15544"/>
                  </a:lnTo>
                  <a:lnTo>
                    <a:pt x="14856" y="16823"/>
                  </a:lnTo>
                  <a:lnTo>
                    <a:pt x="5273" y="16823"/>
                  </a:lnTo>
                  <a:lnTo>
                    <a:pt x="5273" y="12593"/>
                  </a:lnTo>
                  <a:lnTo>
                    <a:pt x="5090" y="12593"/>
                  </a:lnTo>
                  <a:lnTo>
                    <a:pt x="4707" y="12959"/>
                  </a:lnTo>
                  <a:lnTo>
                    <a:pt x="3794" y="1295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486040" y="1752480"/>
              <a:ext cx="304560" cy="38124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81240"/>
                <a:gd name="textAreaBottom" fmla="*/ 361800 h 381240"/>
              </a:gdLst>
              <a:ahLst/>
              <a:rect l="textAreaLeft" t="textAreaTop" r="textAreaRight" b="textAreaBottom"/>
              <a:pathLst>
                <a:path w="21600" h="27032">
                  <a:moveTo>
                    <a:pt x="0" y="0"/>
                  </a:moveTo>
                  <a:lnTo>
                    <a:pt x="21600" y="0"/>
                  </a:lnTo>
                  <a:lnTo>
                    <a:pt x="21600" y="27032"/>
                  </a:lnTo>
                  <a:lnTo>
                    <a:pt x="0" y="27032"/>
                  </a:lnTo>
                  <a:close/>
                </a:path>
                <a:path fill="lightenLess" w="21600" h="2703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7032">
                  <a:moveTo>
                    <a:pt x="21600" y="0"/>
                  </a:moveTo>
                  <a:lnTo>
                    <a:pt x="21600" y="27032"/>
                  </a:lnTo>
                  <a:lnTo>
                    <a:pt x="20200" y="25632"/>
                  </a:lnTo>
                  <a:lnTo>
                    <a:pt x="20200" y="1400"/>
                  </a:lnTo>
                  <a:close/>
                </a:path>
                <a:path fill="darkenLess" w="21600" h="27032">
                  <a:moveTo>
                    <a:pt x="21600" y="27032"/>
                  </a:moveTo>
                  <a:lnTo>
                    <a:pt x="0" y="27032"/>
                  </a:lnTo>
                  <a:lnTo>
                    <a:pt x="1400" y="25632"/>
                  </a:lnTo>
                  <a:lnTo>
                    <a:pt x="20200" y="25632"/>
                  </a:lnTo>
                  <a:close/>
                </a:path>
                <a:path fill="lighten" w="21600" h="27032">
                  <a:moveTo>
                    <a:pt x="0" y="2703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5632"/>
                  </a:lnTo>
                  <a:close/>
                </a:path>
                <a:path fill="darken" w="21600" h="27032">
                  <a:moveTo>
                    <a:pt x="3794" y="10017"/>
                  </a:moveTo>
                  <a:lnTo>
                    <a:pt x="4707" y="10017"/>
                  </a:lnTo>
                  <a:lnTo>
                    <a:pt x="5090" y="10383"/>
                  </a:lnTo>
                  <a:lnTo>
                    <a:pt x="14299" y="10383"/>
                  </a:lnTo>
                  <a:lnTo>
                    <a:pt x="14856" y="10940"/>
                  </a:lnTo>
                  <a:lnTo>
                    <a:pt x="14856" y="11488"/>
                  </a:lnTo>
                  <a:lnTo>
                    <a:pt x="16701" y="11488"/>
                  </a:lnTo>
                  <a:lnTo>
                    <a:pt x="17067" y="10940"/>
                  </a:lnTo>
                  <a:lnTo>
                    <a:pt x="17806" y="10940"/>
                  </a:lnTo>
                  <a:lnTo>
                    <a:pt x="17806" y="16092"/>
                  </a:lnTo>
                  <a:lnTo>
                    <a:pt x="17067" y="16092"/>
                  </a:lnTo>
                  <a:lnTo>
                    <a:pt x="16701" y="15544"/>
                  </a:lnTo>
                  <a:lnTo>
                    <a:pt x="14856" y="15544"/>
                  </a:lnTo>
                  <a:lnTo>
                    <a:pt x="14856" y="16823"/>
                  </a:lnTo>
                  <a:lnTo>
                    <a:pt x="5273" y="16823"/>
                  </a:lnTo>
                  <a:lnTo>
                    <a:pt x="5273" y="12593"/>
                  </a:lnTo>
                  <a:lnTo>
                    <a:pt x="5090" y="12593"/>
                  </a:lnTo>
                  <a:lnTo>
                    <a:pt x="4707" y="12959"/>
                  </a:lnTo>
                  <a:lnTo>
                    <a:pt x="3794" y="1295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81480" y="335268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VERIC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181480" y="5257800"/>
              <a:ext cx="83772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33cc"/>
                  </a:solidFill>
                  <a:latin typeface="Arial"/>
                </a:rPr>
                <a:t>NCSimu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" y="304920"/>
            <a:ext cx="2367000" cy="6298920"/>
            <a:chOff x="228600" y="304920"/>
            <a:chExt cx="2367000" cy="6298920"/>
          </a:xfrm>
        </p:grpSpPr>
        <p:sp>
          <p:nvSpPr>
            <p:cNvPr id="86" name=""/>
            <p:cNvSpPr/>
            <p:nvPr/>
          </p:nvSpPr>
          <p:spPr>
            <a:xfrm>
              <a:off x="1604880" y="4495680"/>
              <a:ext cx="990720" cy="53352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L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81200" y="1600200"/>
              <a:ext cx="914400" cy="914400"/>
            </a:xfrm>
            <a:prstGeom prst="flowChartMagneticDisk">
              <a:avLst/>
            </a:pr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CL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D=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H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228600" y="304920"/>
              <a:ext cx="1833480" cy="6298920"/>
              <a:chOff x="228600" y="304920"/>
              <a:chExt cx="1833480" cy="6298920"/>
            </a:xfrm>
          </p:grpSpPr>
          <p:sp>
            <p:nvSpPr>
              <p:cNvPr id="89" name=""/>
              <p:cNvSpPr/>
              <p:nvPr/>
            </p:nvSpPr>
            <p:spPr>
              <a:xfrm>
                <a:off x="843120" y="4572000"/>
                <a:ext cx="668160" cy="4590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TE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5920" y="1143000"/>
                <a:ext cx="1523880" cy="3962520"/>
              </a:xfrm>
              <a:prstGeom prst="rect">
                <a:avLst/>
              </a:prstGeom>
              <a:solidFill>
                <a:srgbClr val="ffcc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87000" y="1143000"/>
                <a:ext cx="1506600" cy="793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3D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00"/>
                    </a:solidFill>
                    <a:latin typeface="Arial"/>
                  </a:rPr>
                  <a:t>CATIA  </a:t>
                </a:r>
                <a:r>
                  <a:rPr b="1" lang="fr-FR" sz="1400" spc="-1" strike="noStrike">
                    <a:solidFill>
                      <a:srgbClr val="000000"/>
                    </a:solidFill>
                    <a:latin typeface="Arial"/>
                  </a:rPr>
                  <a:t>V5 R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38200" y="1905120"/>
                <a:ext cx="1066680" cy="205740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38560" y="2362320"/>
                <a:ext cx="103716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CATI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rodu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Arial"/>
                  </a:rPr>
                  <a:t>CATPro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38200" y="4800600"/>
                <a:ext cx="990720" cy="1066680"/>
              </a:xfrm>
              <a:prstGeom prst="flowChartMagneticDisk">
                <a:avLst/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919080" y="3886200"/>
                <a:ext cx="304920" cy="914400"/>
              </a:xfrm>
              <a:prstGeom prst="upDownArrow">
                <a:avLst>
                  <a:gd name="adj1" fmla="val 50000"/>
                  <a:gd name="adj2" fmla="val 59698"/>
                </a:avLst>
              </a:prstGeom>
              <a:solidFill>
                <a:srgbClr val="ccff6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61880" y="304920"/>
                <a:ext cx="1600200" cy="6094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Tool pa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Arial"/>
                  </a:rPr>
                  <a:t>Comput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14520" y="5257800"/>
                <a:ext cx="838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STE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000000"/>
                    </a:solidFill>
                    <a:latin typeface="Arial"/>
                  </a:rPr>
                  <a:t>AP2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447920" y="3886200"/>
                <a:ext cx="304560" cy="380880"/>
              </a:xfrm>
              <a:custGeom>
                <a:avLst/>
                <a:gdLst>
                  <a:gd name="textAreaLeft" fmla="*/ 19440 w 304560"/>
                  <a:gd name="textAreaRight" fmla="*/ 285120 w 304560"/>
                  <a:gd name="textAreaTop" fmla="*/ 19440 h 380880"/>
                  <a:gd name="textAreaBottom" fmla="*/ 361440 h 380880"/>
                </a:gdLst>
                <a:ahLst/>
                <a:rect l="textAreaLeft" t="textAreaTop" r="textAreaRight" b="textAreaBottom"/>
                <a:pathLst>
                  <a:path w="21600" h="27006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7006"/>
                    </a:lnTo>
                    <a:lnTo>
                      <a:pt x="0" y="27006"/>
                    </a:lnTo>
                    <a:close/>
                  </a:path>
                  <a:path fill="lightenLess" w="21600" h="27006">
                    <a:moveTo>
                      <a:pt x="0" y="0"/>
                    </a:moveTo>
                    <a:lnTo>
                      <a:pt x="21600" y="0"/>
                    </a:lnTo>
                    <a:lnTo>
                      <a:pt x="20200" y="1400"/>
                    </a:lnTo>
                    <a:lnTo>
                      <a:pt x="1400" y="1400"/>
                    </a:lnTo>
                    <a:close/>
                  </a:path>
                  <a:path fill="darken" w="21600" h="27006">
                    <a:moveTo>
                      <a:pt x="21600" y="0"/>
                    </a:moveTo>
                    <a:lnTo>
                      <a:pt x="21600" y="27006"/>
                    </a:lnTo>
                    <a:lnTo>
                      <a:pt x="20200" y="25606"/>
                    </a:lnTo>
                    <a:lnTo>
                      <a:pt x="20200" y="1400"/>
                    </a:lnTo>
                    <a:close/>
                  </a:path>
                  <a:path fill="darkenLess" w="21600" h="27006">
                    <a:moveTo>
                      <a:pt x="21600" y="27006"/>
                    </a:moveTo>
                    <a:lnTo>
                      <a:pt x="0" y="27006"/>
                    </a:lnTo>
                    <a:lnTo>
                      <a:pt x="1400" y="25606"/>
                    </a:lnTo>
                    <a:lnTo>
                      <a:pt x="20200" y="25606"/>
                    </a:lnTo>
                    <a:close/>
                  </a:path>
                  <a:path fill="lighten" w="21600" h="27006">
                    <a:moveTo>
                      <a:pt x="0" y="27006"/>
                    </a:moveTo>
                    <a:lnTo>
                      <a:pt x="0" y="0"/>
                    </a:lnTo>
                    <a:lnTo>
                      <a:pt x="1400" y="1400"/>
                    </a:lnTo>
                    <a:lnTo>
                      <a:pt x="1400" y="25606"/>
                    </a:lnTo>
                    <a:close/>
                  </a:path>
                  <a:path fill="darken" w="21600" h="27006">
                    <a:moveTo>
                      <a:pt x="3794" y="10004"/>
                    </a:moveTo>
                    <a:lnTo>
                      <a:pt x="4707" y="10004"/>
                    </a:lnTo>
                    <a:lnTo>
                      <a:pt x="5090" y="10370"/>
                    </a:lnTo>
                    <a:lnTo>
                      <a:pt x="14299" y="10370"/>
                    </a:lnTo>
                    <a:lnTo>
                      <a:pt x="14856" y="10927"/>
                    </a:lnTo>
                    <a:lnTo>
                      <a:pt x="14856" y="11475"/>
                    </a:lnTo>
                    <a:lnTo>
                      <a:pt x="16701" y="11475"/>
                    </a:lnTo>
                    <a:lnTo>
                      <a:pt x="17067" y="10927"/>
                    </a:lnTo>
                    <a:lnTo>
                      <a:pt x="17806" y="10927"/>
                    </a:lnTo>
                    <a:lnTo>
                      <a:pt x="17806" y="16079"/>
                    </a:lnTo>
                    <a:lnTo>
                      <a:pt x="17067" y="16079"/>
                    </a:lnTo>
                    <a:lnTo>
                      <a:pt x="16701" y="15531"/>
                    </a:lnTo>
                    <a:lnTo>
                      <a:pt x="14856" y="15531"/>
                    </a:lnTo>
                    <a:lnTo>
                      <a:pt x="14856" y="16811"/>
                    </a:lnTo>
                    <a:lnTo>
                      <a:pt x="5273" y="16811"/>
                    </a:lnTo>
                    <a:lnTo>
                      <a:pt x="5273" y="12581"/>
                    </a:lnTo>
                    <a:lnTo>
                      <a:pt x="5090" y="12581"/>
                    </a:lnTo>
                    <a:lnTo>
                      <a:pt x="4707" y="12946"/>
                    </a:lnTo>
                    <a:lnTo>
                      <a:pt x="3794" y="12946"/>
                    </a:ln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520" y="5943600"/>
                <a:ext cx="1422360" cy="660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28600" y="5943600"/>
                <a:ext cx="1828800" cy="344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6156360" y="233280"/>
            <a:ext cx="1224000" cy="453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164360" y="620640"/>
            <a:ext cx="1150920" cy="298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7020000" y="981000"/>
            <a:ext cx="1655640" cy="12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7164360" y="4076640"/>
            <a:ext cx="1150920" cy="298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5219640" y="4495680"/>
            <a:ext cx="1143000" cy="306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2268360" y="5950080"/>
            <a:ext cx="230364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13:35:40Z</dcterms:created>
  <dc:creator>TO37512</dc:creator>
  <dc:description/>
  <dc:language>en-US</dc:language>
  <cp:lastModifiedBy>Martin Hardwick</cp:lastModifiedBy>
  <dcterms:modified xsi:type="dcterms:W3CDTF">2007-06-25T21:15:18Z</dcterms:modified>
  <cp:revision>237</cp:revision>
  <dc:subject/>
  <dc:title>Présentation PowerPoint</dc:title>
</cp:coreProperties>
</file>