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14.png" ContentType="image/png"/>
  <Override PartName="/ppt/media/image9.wmf" ContentType="image/x-wmf"/>
  <Override PartName="/ppt/media/image8.png" ContentType="image/png"/>
  <Override PartName="/ppt/media/image13.png" ContentType="image/png"/>
  <Override PartName="/ppt/media/image2.png" ContentType="image/png"/>
  <Override PartName="/ppt/media/image31.jpeg" ContentType="image/jpeg"/>
  <Override PartName="/ppt/media/image10.wmf" ContentType="image/x-wmf"/>
  <Override PartName="/ppt/media/image25.png" ContentType="image/png"/>
  <Override PartName="/ppt/media/image19.jpeg" ContentType="image/jpeg"/>
  <Override PartName="/ppt/media/image6.wmf" ContentType="image/x-wmf"/>
  <Override PartName="/ppt/media/image11.png" ContentType="image/png"/>
  <Override PartName="/ppt/media/image12.png" ContentType="image/png"/>
  <Override PartName="/ppt/media/image30.png" ContentType="image/png"/>
  <Override PartName="/ppt/media/image5.png" ContentType="image/png"/>
  <Override PartName="/ppt/media/image7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1.wmf" ContentType="image/x-wmf"/>
  <Override PartName="/ppt/media/image15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1.png" ContentType="image/png"/>
  <Override PartName="/ppt/media/image22.wmf" ContentType="image/x-wmf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98400" cy="925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219320" y="60912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99840" y="4398120"/>
            <a:ext cx="5598360" cy="416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93760" y="70164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3480" y="4397040"/>
            <a:ext cx="5130720" cy="41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933480" y="4354560"/>
            <a:ext cx="5129280" cy="416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ctr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s slide represents the  highlights of AP224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list of items in each box represents a sample of what AP224 contai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summarize - AP224 contains everything found on a drawing of a pa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4068DFBC-106F-4576-9BFA-A6A64DE5AA79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7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Walkthroug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36920" y="4336920"/>
            <a:ext cx="1749600" cy="13701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36920" y="5478480"/>
            <a:ext cx="1749600" cy="4557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336920" y="4108320"/>
            <a:ext cx="1749600" cy="4572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36920" y="4870440"/>
            <a:ext cx="1749600" cy="457200"/>
          </a:xfrm>
          <a:prstGeom prst="ellipse">
            <a:avLst/>
          </a:prstGeom>
          <a:solidFill>
            <a:srgbClr val="dddddd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481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and Meas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23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pection features have been defined by AP-219 but have not yet been added to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rent features describe nominal form, with toleranc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ing operations describe measurement points with link to measured valu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technical barrier to adding AP-219 features, would further characterize the measurement poi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1280" y="3956040"/>
            <a:ext cx="138240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55" idx="3"/>
            <a:endCxn id="151" idx="1"/>
          </p:cNvCxnSpPr>
          <p:nvPr/>
        </p:nvCxnSpPr>
        <p:spPr>
          <a:xfrm flipV="1">
            <a:off x="2444760" y="4174920"/>
            <a:ext cx="2148480" cy="103680"/>
          </a:xfrm>
          <a:prstGeom prst="curvedConnector5">
            <a:avLst>
              <a:gd name="adj1" fmla="val 44042"/>
              <a:gd name="adj2" fmla="val 193031"/>
              <a:gd name="adj3" fmla="val 44042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8" idx="3"/>
            <a:endCxn id="152" idx="2"/>
          </p:cNvCxnSpPr>
          <p:nvPr/>
        </p:nvCxnSpPr>
        <p:spPr>
          <a:xfrm flipV="1">
            <a:off x="2852280" y="5098320"/>
            <a:ext cx="1475640" cy="399240"/>
          </a:xfrm>
          <a:prstGeom prst="curvedConnector5">
            <a:avLst>
              <a:gd name="adj1" fmla="val 50268"/>
              <a:gd name="adj2" fmla="val 50000"/>
              <a:gd name="adj3" fmla="val 50268"/>
            </a:avLst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60" idx="3"/>
            <a:endCxn id="152" idx="0"/>
          </p:cNvCxnSpPr>
          <p:nvPr/>
        </p:nvCxnSpPr>
        <p:spPr>
          <a:xfrm flipV="1">
            <a:off x="2700360" y="4860360"/>
            <a:ext cx="2512080" cy="484920"/>
          </a:xfrm>
          <a:prstGeom prst="curvedConnector5">
            <a:avLst>
              <a:gd name="adj1" fmla="val 32549"/>
              <a:gd name="adj2" fmla="val 72585"/>
              <a:gd name="adj3" fmla="val 32549"/>
            </a:avLst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62" idx="3"/>
            <a:endCxn id="152" idx="3"/>
          </p:cNvCxnSpPr>
          <p:nvPr/>
        </p:nvCxnSpPr>
        <p:spPr>
          <a:xfrm flipV="1">
            <a:off x="3157560" y="5270040"/>
            <a:ext cx="1435320" cy="532800"/>
          </a:xfrm>
          <a:prstGeom prst="curvedConnector2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grpSp>
        <p:nvGrpSpPr>
          <p:cNvPr id="163" name=""/>
          <p:cNvGrpSpPr/>
          <p:nvPr/>
        </p:nvGrpSpPr>
        <p:grpSpPr>
          <a:xfrm>
            <a:off x="604800" y="5022720"/>
            <a:ext cx="2703240" cy="1251720"/>
            <a:chOff x="604800" y="5022720"/>
            <a:chExt cx="2703240" cy="1251720"/>
          </a:xfrm>
        </p:grpSpPr>
        <p:sp>
          <p:nvSpPr>
            <p:cNvPr id="160" name=""/>
            <p:cNvSpPr/>
            <p:nvPr/>
          </p:nvSpPr>
          <p:spPr>
            <a:xfrm>
              <a:off x="604800" y="502272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6720" y="517536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09000" y="532764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1640" y="547992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213920" y="563256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 flipV="1">
            <a:off x="1746360" y="4641480"/>
            <a:ext cx="0" cy="685800"/>
          </a:xfrm>
          <a:prstGeom prst="line">
            <a:avLst/>
          </a:prstGeom>
          <a:ln w="7632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30000" y="4521240"/>
            <a:ext cx="1311480" cy="1181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lgDash"/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r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p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u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8" name=""/>
          <p:cNvCxnSpPr>
            <a:stCxn id="167" idx="1"/>
            <a:endCxn id="152" idx="6"/>
          </p:cNvCxnSpPr>
          <p:nvPr/>
        </p:nvCxnSpPr>
        <p:spPr>
          <a:xfrm rot="10800000">
            <a:off x="6095160" y="5098320"/>
            <a:ext cx="832680" cy="16560"/>
          </a:xfrm>
          <a:prstGeom prst="curvedConnector5">
            <a:avLst>
              <a:gd name="adj1" fmla="val 50562"/>
              <a:gd name="adj2" fmla="val 48888"/>
              <a:gd name="adj3" fmla="val 50562"/>
            </a:avLst>
          </a:prstGeom>
          <a:ln w="57240">
            <a:solidFill>
              <a:srgbClr val="cf0e30"/>
            </a:solidFill>
            <a:prstDash val="sysDot"/>
            <a:miter/>
            <a:tailEnd len="med" type="triangle" w="med"/>
          </a:ln>
        </p:spPr>
      </p:cxn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7577280" cy="5440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5099040" y="831960"/>
            <a:ext cx="3657600" cy="136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 Process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74760" y="831960"/>
            <a:ext cx="3873240" cy="155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Produc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Workpiece, PDM and Product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anufacturing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Dimensions and 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easures and Part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736720" y="5099040"/>
            <a:ext cx="3657600" cy="136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Technolog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ill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ill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urn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urn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62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heart of the STEP-NC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lans containing a sequence of workingste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workingstep associates an operation with a feature somewhere on the workpie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operation describes what to do (mill/drill/turn, toolpaths), tool requirements, strategies and parameter settings to us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formation than M and G codes.  Linked with geometric and technological inform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 can be grouped and shared, e. g. tools, fee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paths specified in STEP geometry in part sp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 shape and feature descriptions could be used by intelligent NC controllers for collision detection or even to calculate some tool mov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013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87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ing place, defines setup and main workpl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control flow and sequenc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associates an operation and a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s what a workingstep does — plane mill, center drill, contour turning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asis for all technology-specific ext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ies details li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indle, feedrate and other technology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lant &amp; other machine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paths, plunge strategie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28600" y="838080"/>
            <a:ext cx="4448160" cy="5634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68680" y="1563840"/>
            <a:ext cx="10468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9760" y="2271960"/>
            <a:ext cx="105732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800" y="2271600"/>
            <a:ext cx="879480" cy="46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27640" y="2271960"/>
            <a:ext cx="1135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79" idx="2"/>
            <a:endCxn id="182" idx="0"/>
          </p:cNvCxnSpPr>
          <p:nvPr/>
        </p:nvCxnSpPr>
        <p:spPr>
          <a:xfrm flipH="1" rot="16200000">
            <a:off x="2082600" y="2041200"/>
            <a:ext cx="4230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4" name=""/>
          <p:cNvCxnSpPr>
            <a:stCxn id="179" idx="2"/>
            <a:endCxn id="180" idx="0"/>
          </p:cNvCxnSpPr>
          <p:nvPr/>
        </p:nvCxnSpPr>
        <p:spPr>
          <a:xfrm flipH="1" rot="16200000">
            <a:off x="2803320" y="1319760"/>
            <a:ext cx="423000" cy="144684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5" name=""/>
          <p:cNvCxnSpPr>
            <a:stCxn id="179" idx="2"/>
            <a:endCxn id="181" idx="0"/>
          </p:cNvCxnSpPr>
          <p:nvPr/>
        </p:nvCxnSpPr>
        <p:spPr>
          <a:xfrm rot="5400000">
            <a:off x="1403280" y="1365120"/>
            <a:ext cx="423000" cy="13561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186" name=""/>
          <p:cNvSpPr/>
          <p:nvPr/>
        </p:nvSpPr>
        <p:spPr>
          <a:xfrm>
            <a:off x="2496600" y="3094200"/>
            <a:ext cx="19980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chining workingste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8040" y="3513600"/>
            <a:ext cx="146160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pid mov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496240" y="3932640"/>
            <a:ext cx="1265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uch prob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2" idx="2"/>
            <a:endCxn id="186" idx="1"/>
          </p:cNvCxnSpPr>
          <p:nvPr/>
        </p:nvCxnSpPr>
        <p:spPr>
          <a:xfrm flipH="1" rot="16200000">
            <a:off x="2049120" y="2784960"/>
            <a:ext cx="68004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987480" y="873360"/>
            <a:ext cx="2581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Execu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2" idx="2"/>
            <a:endCxn id="187" idx="1"/>
          </p:cNvCxnSpPr>
          <p:nvPr/>
        </p:nvCxnSpPr>
        <p:spPr>
          <a:xfrm flipH="1" rot="16200000">
            <a:off x="1839600" y="2994480"/>
            <a:ext cx="1099080" cy="18972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2" name=""/>
          <p:cNvCxnSpPr>
            <a:stCxn id="182" idx="2"/>
            <a:endCxn id="188" idx="1"/>
          </p:cNvCxnSpPr>
          <p:nvPr/>
        </p:nvCxnSpPr>
        <p:spPr>
          <a:xfrm flipH="1" rot="16200000">
            <a:off x="1629360" y="3204720"/>
            <a:ext cx="1518120" cy="18828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5181480" y="1296000"/>
            <a:ext cx="3657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do not move any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display message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4294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 and Sequen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80200" y="530244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flow for the machining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1828800"/>
            <a:ext cx="1219320" cy="533520"/>
          </a:xfrm>
          <a:custGeom>
            <a:avLst/>
            <a:gdLst/>
            <a:ahLst/>
            <a:rect l="l" t="t" r="r" b="b"/>
            <a:pathLst>
              <a:path w="528" h="336">
                <a:moveTo>
                  <a:pt x="528" y="0"/>
                </a:moveTo>
                <a:cubicBezTo>
                  <a:pt x="332" y="80"/>
                  <a:pt x="136" y="160"/>
                  <a:pt x="96" y="192"/>
                </a:cubicBezTo>
                <a:cubicBezTo>
                  <a:pt x="56" y="224"/>
                  <a:pt x="304" y="168"/>
                  <a:pt x="288" y="192"/>
                </a:cubicBezTo>
                <a:cubicBezTo>
                  <a:pt x="272" y="216"/>
                  <a:pt x="136" y="276"/>
                  <a:pt x="0" y="336"/>
                </a:cubicBezTo>
              </a:path>
            </a:pathLst>
          </a:custGeom>
          <a:noFill/>
          <a:ln w="255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19720" y="4876920"/>
            <a:ext cx="838080" cy="1523880"/>
          </a:xfrm>
          <a:custGeom>
            <a:avLst/>
            <a:gdLst>
              <a:gd name="textAreaLeft" fmla="*/ 0 w 838080"/>
              <a:gd name="textAreaRight" fmla="*/ 302760 w 838080"/>
              <a:gd name="textAreaTop" fmla="*/ 77040 h 1523880"/>
              <a:gd name="textAreaBottom" fmla="*/ 14468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48"/>
                  <a:pt x="10800" y="3496"/>
                </a:cubicBezTo>
                <a:lnTo>
                  <a:pt x="10800" y="7304"/>
                </a:lnTo>
                <a:cubicBezTo>
                  <a:pt x="10800" y="9052"/>
                  <a:pt x="16200" y="10800"/>
                  <a:pt x="21600" y="10800"/>
                </a:cubicBezTo>
                <a:cubicBezTo>
                  <a:pt x="16200" y="10800"/>
                  <a:pt x="10800" y="12548"/>
                  <a:pt x="10800" y="14296"/>
                </a:cubicBezTo>
                <a:lnTo>
                  <a:pt x="10800" y="18104"/>
                </a:lnTo>
                <a:cubicBezTo>
                  <a:pt x="10800" y="1985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378440" y="4961160"/>
            <a:ext cx="896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pl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8440" y="5364360"/>
            <a:ext cx="7574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5920" y="5767560"/>
            <a:ext cx="115668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81" idx="2"/>
            <a:endCxn id="198" idx="1"/>
          </p:cNvCxnSpPr>
          <p:nvPr/>
        </p:nvCxnSpPr>
        <p:spPr>
          <a:xfrm flipH="1" rot="16200000">
            <a:off x="-17640" y="3706200"/>
            <a:ext cx="23346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2" name=""/>
          <p:cNvCxnSpPr>
            <a:stCxn id="181" idx="2"/>
            <a:endCxn id="199" idx="1"/>
          </p:cNvCxnSpPr>
          <p:nvPr/>
        </p:nvCxnSpPr>
        <p:spPr>
          <a:xfrm flipH="1" rot="16200000">
            <a:off x="-219240" y="3907800"/>
            <a:ext cx="27378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203" name=""/>
          <p:cNvCxnSpPr>
            <a:stCxn id="181" idx="2"/>
            <a:endCxn id="200" idx="1"/>
          </p:cNvCxnSpPr>
          <p:nvPr/>
        </p:nvCxnSpPr>
        <p:spPr>
          <a:xfrm flipH="1" rot="16200000">
            <a:off x="-420840" y="4109400"/>
            <a:ext cx="31410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4" name=""/>
          <p:cNvSpPr/>
          <p:nvPr/>
        </p:nvSpPr>
        <p:spPr>
          <a:xfrm>
            <a:off x="1375920" y="6170760"/>
            <a:ext cx="1472040" cy="25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tIns="18360" bIns="183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ile_stat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81" idx="2"/>
            <a:endCxn id="204" idx="1"/>
          </p:cNvCxnSpPr>
          <p:nvPr/>
        </p:nvCxnSpPr>
        <p:spPr>
          <a:xfrm flipH="1" rot="16200000">
            <a:off x="-622440" y="4311000"/>
            <a:ext cx="3544200" cy="4262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5380200" y="3321360"/>
            <a:ext cx="3260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steps that m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chine a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2895480"/>
            <a:ext cx="838080" cy="1447920"/>
          </a:xfrm>
          <a:custGeom>
            <a:avLst/>
            <a:gdLst>
              <a:gd name="textAreaLeft" fmla="*/ 0 w 838080"/>
              <a:gd name="textAreaRight" fmla="*/ 302760 w 838080"/>
              <a:gd name="textAreaTop" fmla="*/ 81000 h 1447920"/>
              <a:gd name="textAreaBottom" fmla="*/ 136692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1"/>
                  <a:pt x="10800" y="3861"/>
                </a:cubicBezTo>
                <a:lnTo>
                  <a:pt x="10800" y="6939"/>
                </a:lnTo>
                <a:cubicBezTo>
                  <a:pt x="10800" y="8870"/>
                  <a:pt x="16200" y="10800"/>
                  <a:pt x="21600" y="10800"/>
                </a:cubicBezTo>
                <a:cubicBezTo>
                  <a:pt x="16200" y="10800"/>
                  <a:pt x="10800" y="12731"/>
                  <a:pt x="10800" y="14661"/>
                </a:cubicBezTo>
                <a:lnTo>
                  <a:pt x="10800" y="17739"/>
                </a:lnTo>
                <a:cubicBezTo>
                  <a:pt x="10800" y="1967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5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48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for explicit control of the tool motion for an oper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use splines or other curves to describe motion and feedra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scribe path as machine independent motion of tool center point or tool contact poin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also describe path using old-style machine dependent motion of individual ax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84240" y="3803760"/>
          <a:ext cx="7162920" cy="277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3803760"/>
                    <a:ext cx="7162920" cy="27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7577280" cy="54403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099040" y="831960"/>
            <a:ext cx="3657600" cy="136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General Process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4760" y="831960"/>
            <a:ext cx="3873240" cy="155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Produc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Workpiece, PDM and Product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anufacturing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Dimensions and 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easures and Part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736720" y="5099040"/>
            <a:ext cx="3657600" cy="136800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46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Descri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539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i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lling, boring, back boring, tapping/threa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y strategy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ach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e and side milling, roughing and finish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form Machi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 4, and 5axis mo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ouring, facing, grooving, threading and knurl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of strate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800600" y="1212840"/>
          <a:ext cx="399240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212840"/>
                    <a:ext cx="399240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4038480" y="2736720"/>
          <a:ext cx="4907160" cy="17701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736720"/>
                    <a:ext cx="4907160" cy="17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6851520" y="4718160"/>
            <a:ext cx="152640" cy="457200"/>
          </a:xfrm>
          <a:prstGeom prst="rect">
            <a:avLst/>
          </a:prstGeom>
          <a:solidFill>
            <a:srgbClr val="67676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400000">
            <a:off x="5631840" y="5098680"/>
            <a:ext cx="990720" cy="1295640"/>
          </a:xfrm>
          <a:prstGeom prst="can">
            <a:avLst>
              <a:gd name="adj" fmla="val 25000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5400000">
            <a:off x="6851520" y="5099040"/>
            <a:ext cx="685800" cy="1295280"/>
          </a:xfrm>
          <a:prstGeom prst="can">
            <a:avLst>
              <a:gd name="adj" fmla="val 18134"/>
            </a:avLst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2700000">
            <a:off x="6851880" y="5098680"/>
            <a:ext cx="152280" cy="152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848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ling and Turning Cutting To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437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operation has an associated too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calls out required characteristic tool parame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link to product model for tool, including geometr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tential for some optimization by the controll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&amp;M codes just referenced tool #1, #2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uman must make sure that #1 corresponds to the right thing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ler can not add any value to the proces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4946760" y="1974960"/>
            <a:ext cx="1258920" cy="26413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394320" y="1517760"/>
            <a:ext cx="20955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6242040" y="4532400"/>
            <a:ext cx="1749600" cy="13698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42040" y="5673600"/>
            <a:ext cx="1749600" cy="45576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242040" y="4303800"/>
            <a:ext cx="1749600" cy="457200"/>
          </a:xfrm>
          <a:prstGeom prst="ellipse">
            <a:avLst/>
          </a:prstGeom>
          <a:gradFill rotWithShape="0">
            <a:gsLst>
              <a:gs pos="0">
                <a:srgbClr val="eaeaea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6767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2040" y="5065560"/>
            <a:ext cx="1749600" cy="457200"/>
          </a:xfrm>
          <a:prstGeom prst="ellipse">
            <a:avLst/>
          </a:pr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83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uch Prob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5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has four probing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 Probing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be a single poi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Workpiece Probing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be for part ori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Length Prob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 Radius Prob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tand alone, but workpiece probing most useful with associated feature and toleranc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66400" y="4151160"/>
            <a:ext cx="138240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3"/>
            <a:endCxn id="233" idx="1"/>
          </p:cNvCxnSpPr>
          <p:nvPr/>
        </p:nvCxnSpPr>
        <p:spPr>
          <a:xfrm flipV="1">
            <a:off x="4349880" y="4369680"/>
            <a:ext cx="2148480" cy="104040"/>
          </a:xfrm>
          <a:prstGeom prst="curvedConnector5">
            <a:avLst>
              <a:gd name="adj1" fmla="val 44042"/>
              <a:gd name="adj2" fmla="val 193055"/>
              <a:gd name="adj3" fmla="val 44042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40" idx="3"/>
            <a:endCxn id="234" idx="2"/>
          </p:cNvCxnSpPr>
          <p:nvPr/>
        </p:nvCxnSpPr>
        <p:spPr>
          <a:xfrm flipV="1">
            <a:off x="4757400" y="5293440"/>
            <a:ext cx="1485000" cy="39924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42" idx="3"/>
            <a:endCxn id="234" idx="0"/>
          </p:cNvCxnSpPr>
          <p:nvPr/>
        </p:nvCxnSpPr>
        <p:spPr>
          <a:xfrm flipV="1">
            <a:off x="4605480" y="5064840"/>
            <a:ext cx="2512080" cy="475560"/>
          </a:xfrm>
          <a:prstGeom prst="curvedConnector5">
            <a:avLst>
              <a:gd name="adj1" fmla="val 32549"/>
              <a:gd name="adj2" fmla="val 74015"/>
              <a:gd name="adj3" fmla="val 32549"/>
            </a:avLst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4" idx="3"/>
            <a:endCxn id="234" idx="3"/>
          </p:cNvCxnSpPr>
          <p:nvPr/>
        </p:nvCxnSpPr>
        <p:spPr>
          <a:xfrm flipV="1">
            <a:off x="5062680" y="5455800"/>
            <a:ext cx="1435320" cy="542160"/>
          </a:xfrm>
          <a:prstGeom prst="curvedConnector2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</p:cxnSp>
      <p:grpSp>
        <p:nvGrpSpPr>
          <p:cNvPr id="245" name=""/>
          <p:cNvGrpSpPr/>
          <p:nvPr/>
        </p:nvGrpSpPr>
        <p:grpSpPr>
          <a:xfrm>
            <a:off x="2509560" y="5218200"/>
            <a:ext cx="2703960" cy="1251360"/>
            <a:chOff x="2509560" y="5218200"/>
            <a:chExt cx="2703960" cy="1251360"/>
          </a:xfrm>
        </p:grpSpPr>
        <p:sp>
          <p:nvSpPr>
            <p:cNvPr id="242" name=""/>
            <p:cNvSpPr/>
            <p:nvPr/>
          </p:nvSpPr>
          <p:spPr>
            <a:xfrm>
              <a:off x="2509560" y="521820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662200" y="537048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4480" y="552276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966760" y="567504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400" y="5827680"/>
              <a:ext cx="2094120" cy="641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76767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Workpiece Pro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 flipV="1">
            <a:off x="3651120" y="4836600"/>
            <a:ext cx="0" cy="685800"/>
          </a:xfrm>
          <a:prstGeom prst="line">
            <a:avLst/>
          </a:prstGeom>
          <a:ln w="7632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3720" y="3998880"/>
            <a:ext cx="114156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400" y="4761000"/>
            <a:ext cx="128628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9" idx="3"/>
            <a:endCxn id="237" idx="1"/>
          </p:cNvCxnSpPr>
          <p:nvPr/>
        </p:nvCxnSpPr>
        <p:spPr>
          <a:xfrm>
            <a:off x="1750680" y="4293720"/>
            <a:ext cx="1215000" cy="180360"/>
          </a:xfrm>
          <a:prstGeom prst="curvedConnector5">
            <a:avLst>
              <a:gd name="adj1" fmla="val 49911"/>
              <a:gd name="adj2" fmla="val 50000"/>
              <a:gd name="adj3" fmla="val 49911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0" idx="3"/>
            <a:endCxn id="237" idx="1"/>
          </p:cNvCxnSpPr>
          <p:nvPr/>
        </p:nvCxnSpPr>
        <p:spPr>
          <a:xfrm flipV="1">
            <a:off x="1899720" y="4473360"/>
            <a:ext cx="1065960" cy="583200"/>
          </a:xfrm>
          <a:prstGeom prst="curvedConnector5">
            <a:avLst>
              <a:gd name="adj1" fmla="val 49898"/>
              <a:gd name="adj2" fmla="val 49969"/>
              <a:gd name="adj3" fmla="val 49898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Units of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76160" y="907920"/>
            <a:ext cx="7577280" cy="5440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099040" y="831960"/>
            <a:ext cx="3657600" cy="136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General Process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760" y="831960"/>
            <a:ext cx="3873240" cy="15595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, PDM and Product 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ing 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 and Part Prope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36720" y="5099040"/>
            <a:ext cx="3657600" cy="136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09440" indent="-109440">
              <a:lnSpc>
                <a:spcPct val="90000"/>
              </a:lnSpc>
              <a:spcBef>
                <a:spcPts val="675"/>
              </a:spcBef>
              <a:buClr>
                <a:srgbClr val="676767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676767"/>
                </a:solidFill>
                <a:latin typeface="Arial"/>
              </a:rPr>
              <a:t>Technology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ill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Mill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urning Process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63680" indent="-176400">
              <a:lnSpc>
                <a:spcPct val="90000"/>
              </a:lnSpc>
              <a:spcBef>
                <a:spcPts val="524"/>
              </a:spcBef>
              <a:buClr>
                <a:srgbClr val="676767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Turning Cutting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3051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747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 to determine whether a face meets a flatness toler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1441440" y="2203560"/>
            <a:ext cx="6019920" cy="43052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517760" y="4934160"/>
            <a:ext cx="1600200" cy="1371600"/>
          </a:xfrm>
          <a:prstGeom prst="upArrowCallout">
            <a:avLst>
              <a:gd name="adj1" fmla="val 29169"/>
              <a:gd name="adj2" fmla="val 29167"/>
              <a:gd name="adj3" fmla="val 16667"/>
              <a:gd name="adj4" fmla="val 66660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70440" y="5373720"/>
            <a:ext cx="2057400" cy="1208160"/>
          </a:xfrm>
          <a:prstGeom prst="upArrowCallout">
            <a:avLst>
              <a:gd name="adj1" fmla="val 42577"/>
              <a:gd name="adj2" fmla="val 49527"/>
              <a:gd name="adj3" fmla="val 26972"/>
              <a:gd name="adj4" fmla="val 94054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piece 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0440" y="3356280"/>
            <a:ext cx="2757600" cy="640440"/>
          </a:xfrm>
          <a:prstGeom prst="leftArrowCallout">
            <a:avLst>
              <a:gd name="adj1" fmla="val 42791"/>
              <a:gd name="adj2" fmla="val 50000"/>
              <a:gd name="adj3" fmla="val 59005"/>
              <a:gd name="adj4" fmla="val 66673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ing To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Tool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254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984240" y="843120"/>
            <a:ext cx="7772400" cy="555912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0720" y="1281240"/>
            <a:ext cx="2743200" cy="2301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txBody>
          <a:bodyPr lIns="91080" rIns="9108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the status using the measured values and tolerances associated with featur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222800" y="3214800"/>
            <a:ext cx="220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91120" y="3039480"/>
            <a:ext cx="108360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87880" y="4634640"/>
            <a:ext cx="462204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Process Operation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ing Cutting Tool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From ISO 14649-1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2240" y="3039840"/>
            <a:ext cx="11232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ecu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509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6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pulls together machining process, tool requirement, geometry, tolerances, and PD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with process and tools described by ISO 14649 par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STEP PDM, Geometry, and Tolerances, and integrate so that features and all other data can be shared across A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73840" y="4038480"/>
            <a:ext cx="4550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mensions and Tolerance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STEP GD&amp;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DM and Product Geomet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f0e30"/>
                </a:solidFill>
                <a:latin typeface="Arial"/>
              </a:rPr>
              <a:t>Common to all A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232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Testing and Demons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15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testing and demonstrations covering AP-238 CC1, CC2, and CC3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nuary 2005 forum in Orlando for 5axis testing with cutter location paths, four data sources and two controls configured for different machine geomet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2005 Eastec demonstration of closed-loop tests with cutter contact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141640" y="3544920"/>
            <a:ext cx="4808160" cy="3083760"/>
            <a:chOff x="2141640" y="3544920"/>
            <a:chExt cx="4808160" cy="3083760"/>
          </a:xfrm>
        </p:grpSpPr>
        <p:cxnSp>
          <p:nvCxnSpPr>
            <p:cNvPr id="272" name=""/>
            <p:cNvCxnSpPr/>
            <p:nvPr/>
          </p:nvCxnSpPr>
          <p:spPr>
            <a:xfrm>
              <a:off x="2742840" y="4287600"/>
              <a:ext cx="8632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3" name=""/>
            <p:cNvCxnSpPr/>
            <p:nvPr/>
          </p:nvCxnSpPr>
          <p:spPr>
            <a:xfrm flipH="1">
              <a:off x="3603600" y="4287600"/>
              <a:ext cx="22500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4" name=""/>
            <p:cNvCxnSpPr/>
            <p:nvPr/>
          </p:nvCxnSpPr>
          <p:spPr>
            <a:xfrm flipH="1">
              <a:off x="3603960" y="4287600"/>
              <a:ext cx="135792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5" name=""/>
            <p:cNvCxnSpPr/>
            <p:nvPr/>
          </p:nvCxnSpPr>
          <p:spPr>
            <a:xfrm>
              <a:off x="4962600" y="4287600"/>
              <a:ext cx="5680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6" name=""/>
            <p:cNvCxnSpPr/>
            <p:nvPr/>
          </p:nvCxnSpPr>
          <p:spPr>
            <a:xfrm>
              <a:off x="2742480" y="4287600"/>
              <a:ext cx="278820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7" name=""/>
            <p:cNvCxnSpPr/>
            <p:nvPr/>
          </p:nvCxnSpPr>
          <p:spPr>
            <a:xfrm>
              <a:off x="3828600" y="4287600"/>
              <a:ext cx="1702080" cy="12657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8" name=""/>
            <p:cNvCxnSpPr/>
            <p:nvPr/>
          </p:nvCxnSpPr>
          <p:spPr>
            <a:xfrm flipH="1">
              <a:off x="3603600" y="4288320"/>
              <a:ext cx="2748600" cy="126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79" name=""/>
            <p:cNvCxnSpPr/>
            <p:nvPr/>
          </p:nvCxnSpPr>
          <p:spPr>
            <a:xfrm flipH="1">
              <a:off x="5529960" y="4288320"/>
              <a:ext cx="822960" cy="12646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pic>
          <p:nvPicPr>
            <p:cNvPr id="280" name="" descr=""/>
            <p:cNvPicPr/>
            <p:nvPr/>
          </p:nvPicPr>
          <p:blipFill>
            <a:blip r:embed="rId1"/>
            <a:stretch/>
          </p:blipFill>
          <p:spPr>
            <a:xfrm>
              <a:off x="2141640" y="3577320"/>
              <a:ext cx="842040" cy="61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3339360" y="3570480"/>
              <a:ext cx="789480" cy="60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3"/>
            <a:stretch/>
          </p:blipFill>
          <p:spPr>
            <a:xfrm>
              <a:off x="4386960" y="3813480"/>
              <a:ext cx="1247760" cy="31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" descr=""/>
            <p:cNvPicPr/>
            <p:nvPr/>
          </p:nvPicPr>
          <p:blipFill>
            <a:blip r:embed="rId4"/>
            <a:stretch/>
          </p:blipFill>
          <p:spPr>
            <a:xfrm>
              <a:off x="5979960" y="3544920"/>
              <a:ext cx="969840" cy="674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4" name=""/>
            <p:cNvGrpSpPr/>
            <p:nvPr/>
          </p:nvGrpSpPr>
          <p:grpSpPr>
            <a:xfrm>
              <a:off x="3246120" y="5600160"/>
              <a:ext cx="693000" cy="1028520"/>
              <a:chOff x="3246120" y="5600160"/>
              <a:chExt cx="693000" cy="1028520"/>
            </a:xfrm>
          </p:grpSpPr>
          <p:pic>
            <p:nvPicPr>
              <p:cNvPr id="28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246120" y="5600160"/>
                <a:ext cx="643320" cy="98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95960" y="6423120"/>
                <a:ext cx="443160" cy="205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7" name=""/>
            <p:cNvGrpSpPr/>
            <p:nvPr/>
          </p:nvGrpSpPr>
          <p:grpSpPr>
            <a:xfrm>
              <a:off x="5231520" y="5663160"/>
              <a:ext cx="1010160" cy="749160"/>
              <a:chOff x="5231520" y="5663160"/>
              <a:chExt cx="1010160" cy="749160"/>
            </a:xfrm>
          </p:grpSpPr>
          <p:pic>
            <p:nvPicPr>
              <p:cNvPr id="288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31520" y="5663160"/>
                <a:ext cx="799560" cy="7156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289" name=""/>
              <p:cNvGraphicFramePr/>
              <p:nvPr/>
            </p:nvGraphicFramePr>
            <p:xfrm>
              <a:off x="5657760" y="6244920"/>
              <a:ext cx="583920" cy="1674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90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657760" y="6244920"/>
                        <a:ext cx="583920" cy="167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91" name=""/>
            <p:cNvSpPr/>
            <p:nvPr/>
          </p:nvSpPr>
          <p:spPr>
            <a:xfrm>
              <a:off x="4065840" y="4762080"/>
              <a:ext cx="955440" cy="36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P-2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369080" y="5653080"/>
            <a:ext cx="1469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 Tool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90440" y="5653080"/>
            <a:ext cx="1581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C Table Ti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232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Testing and Demons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65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d test articles in 5-axis machining tests at Boeing and NIST using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S 979 circle/diamond/square with inverted c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entative aerospace part with 1-2degree inclines and tightly constrained positioning ho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80308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2322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Testing and Demonst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329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2006 Industry Day in Toulo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ve demonstration of 5-axis milling of aerospace test parts provided by Airb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ature-based roughing, and toolpath finish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099040" y="3422520"/>
            <a:ext cx="3632040" cy="272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0720" y="2965320"/>
            <a:ext cx="44960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729000" y="4413240"/>
            <a:ext cx="842040" cy="457560"/>
          </a:xfrm>
          <a:prstGeom prst="rect">
            <a:avLst/>
          </a:prstGeom>
          <a:solidFill>
            <a:srgbClr val="ffc97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05080" y="4413240"/>
            <a:ext cx="876960" cy="457560"/>
          </a:xfrm>
          <a:prstGeom prst="rect">
            <a:avLst/>
          </a:prstGeom>
          <a:solidFill>
            <a:srgbClr val="00968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020360" y="4413240"/>
            <a:ext cx="842040" cy="457560"/>
          </a:xfrm>
          <a:prstGeom prst="rect">
            <a:avLst/>
          </a:prstGeom>
          <a:solidFill>
            <a:srgbClr val="97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55840" y="3117960"/>
            <a:ext cx="3733920" cy="457560"/>
          </a:xfrm>
          <a:prstGeom prst="rect">
            <a:avLst/>
          </a:prstGeom>
          <a:gradFill rotWithShape="0">
            <a:gsLst>
              <a:gs pos="0">
                <a:srgbClr val="97b0ff"/>
              </a:gs>
              <a:gs pos="100000">
                <a:srgbClr val="ffcc81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d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301" idx="0"/>
            <a:endCxn id="304" idx="1"/>
          </p:cNvCxnSpPr>
          <p:nvPr/>
        </p:nvCxnSpPr>
        <p:spPr>
          <a:xfrm flipH="1" flipV="1" rot="5400000">
            <a:off x="1226160" y="3283200"/>
            <a:ext cx="1042200" cy="1192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6" name=""/>
          <p:cNvCxnSpPr/>
          <p:nvPr/>
        </p:nvCxnSpPr>
        <p:spPr>
          <a:xfrm flipH="1" flipV="1">
            <a:off x="5209920" y="3625200"/>
            <a:ext cx="2160" cy="78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307" name=""/>
          <p:cNvCxnSpPr>
            <a:stCxn id="304" idx="3"/>
            <a:endCxn id="303" idx="0"/>
          </p:cNvCxnSpPr>
          <p:nvPr/>
        </p:nvCxnSpPr>
        <p:spPr>
          <a:xfrm>
            <a:off x="6102360" y="3358800"/>
            <a:ext cx="1340640" cy="10422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8" name=""/>
          <p:cNvCxnSpPr/>
          <p:nvPr/>
        </p:nvCxnSpPr>
        <p:spPr>
          <a:xfrm flipH="1" flipV="1">
            <a:off x="5742720" y="3625200"/>
            <a:ext cx="2520" cy="78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2787120" y="4413240"/>
            <a:ext cx="1061280" cy="45756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0" name=""/>
          <p:cNvCxnSpPr/>
          <p:nvPr/>
        </p:nvCxnSpPr>
        <p:spPr>
          <a:xfrm flipH="1" flipV="1">
            <a:off x="3304800" y="3625200"/>
            <a:ext cx="2160" cy="788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1" name=""/>
          <p:cNvSpPr/>
          <p:nvPr/>
        </p:nvSpPr>
        <p:spPr>
          <a:xfrm>
            <a:off x="1139760" y="383688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56920" y="3879720"/>
            <a:ext cx="735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99720" y="3879720"/>
            <a:ext cx="6256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728680" y="3879720"/>
            <a:ext cx="779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420320" y="3879720"/>
            <a:ext cx="649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84080" y="4900680"/>
            <a:ext cx="6926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99880" y="4946760"/>
            <a:ext cx="5997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et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10280" y="4946760"/>
            <a:ext cx="50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38720" y="4946760"/>
            <a:ext cx="794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8760" y="4413240"/>
            <a:ext cx="801720" cy="547920"/>
          </a:xfrm>
          <a:prstGeom prst="rightArrow">
            <a:avLst>
              <a:gd name="adj1" fmla="val 50000"/>
              <a:gd name="adj2" fmla="val 3658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88800" y="4413240"/>
            <a:ext cx="801720" cy="547920"/>
          </a:xfrm>
          <a:prstGeom prst="rightArrow">
            <a:avLst>
              <a:gd name="adj1" fmla="val 50000"/>
              <a:gd name="adj2" fmla="val 3658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87240" y="4413240"/>
            <a:ext cx="801720" cy="547920"/>
          </a:xfrm>
          <a:prstGeom prst="rightArrow">
            <a:avLst>
              <a:gd name="adj1" fmla="val 50000"/>
              <a:gd name="adj2" fmla="val 3658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78280" y="5372280"/>
            <a:ext cx="555480" cy="548280"/>
          </a:xfrm>
          <a:prstGeom prst="rightArrow">
            <a:avLst>
              <a:gd name="adj1" fmla="val 50000"/>
              <a:gd name="adj2" fmla="val 25328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38280" y="5356080"/>
            <a:ext cx="1386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295880" y="5324400"/>
            <a:ext cx="2590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call to an interface in the d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429240" y="5600880"/>
            <a:ext cx="838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5760" y="298080"/>
            <a:ext cx="3008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445840" y="1441440"/>
            <a:ext cx="956520" cy="79668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747600" y="1441440"/>
            <a:ext cx="956520" cy="79668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19200" y="1441440"/>
            <a:ext cx="956520" cy="796680"/>
          </a:xfrm>
          <a:prstGeom prst="flowChartDocumen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631960" y="2355840"/>
            <a:ext cx="486000" cy="533520"/>
          </a:xfrm>
          <a:prstGeom prst="upDownArrow">
            <a:avLst>
              <a:gd name="adj1" fmla="val 50000"/>
              <a:gd name="adj2" fmla="val 218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27600" y="2355840"/>
            <a:ext cx="485640" cy="533520"/>
          </a:xfrm>
          <a:prstGeom prst="upDownArrow">
            <a:avLst>
              <a:gd name="adj1" fmla="val 50000"/>
              <a:gd name="adj2" fmla="val 218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75160" y="2355840"/>
            <a:ext cx="486000" cy="533520"/>
          </a:xfrm>
          <a:prstGeom prst="upDownArrow">
            <a:avLst>
              <a:gd name="adj1" fmla="val 50000"/>
              <a:gd name="adj2" fmla="val 21854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69440" y="1557360"/>
            <a:ext cx="202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2400" spc="-1" strike="noStrike" baseline="30000">
                <a:solidFill>
                  <a:srgbClr val="cf0e30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308320" y="1141560"/>
            <a:ext cx="1191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576600" y="11415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2720" y="11415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chi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15960" y="5369040"/>
            <a:ext cx="5410080" cy="685800"/>
          </a:xfrm>
          <a:prstGeom prst="ellipse">
            <a:avLst/>
          </a:prstGeom>
          <a:gradFill rotWithShape="0">
            <a:gsLst>
              <a:gs pos="0">
                <a:srgbClr val="97b0ff"/>
              </a:gs>
              <a:gs pos="100000">
                <a:srgbClr val="ffcc81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50560" y="221760"/>
            <a:ext cx="45702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 Architecture of the D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66400" y="5554800"/>
            <a:ext cx="2512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-203, AP-224, AP-238, AP-2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552720" y="5448240"/>
            <a:ext cx="2432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a (EXPR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876320" y="3956040"/>
            <a:ext cx="932040" cy="274320"/>
          </a:xfrm>
          <a:prstGeom prst="rect">
            <a:avLst/>
          </a:prstGeom>
          <a:solidFill>
            <a:srgbClr val="ffc97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pi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748040"/>
            <a:ext cx="5410440" cy="27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RESS programming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22080" y="3956040"/>
            <a:ext cx="1082880" cy="274320"/>
          </a:xfrm>
          <a:prstGeom prst="rect">
            <a:avLst/>
          </a:prstGeom>
          <a:solidFill>
            <a:srgbClr val="00968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orkingst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960640" y="3956040"/>
            <a:ext cx="784080" cy="274320"/>
          </a:xfrm>
          <a:prstGeom prst="rect">
            <a:avLst/>
          </a:prstGeom>
          <a:solidFill>
            <a:srgbClr val="00968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ol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99360" y="3956040"/>
            <a:ext cx="497520" cy="27432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561360" y="4675320"/>
            <a:ext cx="1753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ST-Developer</a:t>
            </a:r>
            <a:r>
              <a:rPr b="1" lang="en-US" sz="1800" spc="-1" strike="noStrike" baseline="30000">
                <a:solidFill>
                  <a:srgbClr val="cf0e30"/>
                </a:solidFill>
                <a:latin typeface="Arial"/>
                <a:ea typeface="Arial"/>
              </a:rPr>
              <a:t>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343400" y="4032360"/>
            <a:ext cx="464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3360" y="3122640"/>
            <a:ext cx="5410080" cy="274320"/>
          </a:xfrm>
          <a:prstGeom prst="rect">
            <a:avLst/>
          </a:prstGeom>
          <a:gradFill rotWithShape="0">
            <a:gsLst>
              <a:gs pos="0">
                <a:srgbClr val="97b0ff"/>
              </a:gs>
              <a:gs pos="100000">
                <a:srgbClr val="ffcc81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33960" y="2050920"/>
            <a:ext cx="1329480" cy="274320"/>
          </a:xfrm>
          <a:prstGeom prst="rect">
            <a:avLst/>
          </a:prstGeom>
          <a:solidFill>
            <a:srgbClr val="97b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d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30800" y="2050920"/>
            <a:ext cx="1415160" cy="274320"/>
          </a:xfrm>
          <a:prstGeom prst="rect">
            <a:avLst/>
          </a:prstGeom>
          <a:solidFill>
            <a:srgbClr val="ef91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ature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69400" y="2050920"/>
            <a:ext cx="1459080" cy="274320"/>
          </a:xfrm>
          <a:prstGeom prst="rect">
            <a:avLst/>
          </a:prstGeom>
          <a:solidFill>
            <a:srgbClr val="00968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cess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97600" y="2432160"/>
            <a:ext cx="1305360" cy="274320"/>
          </a:xfrm>
          <a:prstGeom prst="rect">
            <a:avLst/>
          </a:prstGeom>
          <a:solidFill>
            <a:srgbClr val="00968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ry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521520" y="2432160"/>
            <a:ext cx="1340280" cy="27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raser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757520" y="1593720"/>
            <a:ext cx="1168200" cy="274320"/>
          </a:xfrm>
          <a:prstGeom prst="rect">
            <a:avLst/>
          </a:prstGeom>
          <a:solidFill>
            <a:srgbClr val="ffc97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T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553080" y="3803760"/>
            <a:ext cx="22035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modules (generated 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46960" y="3041640"/>
            <a:ext cx="1904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 written 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546960" y="2050920"/>
            <a:ext cx="2133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aged code (ID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3720" y="4748040"/>
            <a:ext cx="462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6600" y="3147840"/>
            <a:ext cx="529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984240" y="357516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84240" y="433692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127240" y="433692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193920" y="433692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556240" y="433692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27240" y="357516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93920" y="3575160"/>
            <a:ext cx="38124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56240" y="3575160"/>
            <a:ext cx="38088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27480" y="1593720"/>
            <a:ext cx="1585800" cy="274320"/>
          </a:xfrm>
          <a:prstGeom prst="rect">
            <a:avLst/>
          </a:prstGeom>
          <a:solidFill>
            <a:srgbClr val="ffc97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622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ort and Ex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26200" y="1065240"/>
            <a:ext cx="3271680" cy="235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T-C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T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G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/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stercam 9 &amp; X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A (AP-22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370160" y="988920"/>
            <a:ext cx="2890800" cy="47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S274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nu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eme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D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u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iden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068920" y="3803760"/>
            <a:ext cx="842040" cy="457560"/>
          </a:xfrm>
          <a:prstGeom prst="rect">
            <a:avLst/>
          </a:prstGeom>
          <a:solidFill>
            <a:srgbClr val="fcd46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64960" y="5210280"/>
            <a:ext cx="876960" cy="457560"/>
          </a:xfrm>
          <a:prstGeom prst="rect">
            <a:avLst/>
          </a:prstGeom>
          <a:solidFill>
            <a:srgbClr val="00968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1680" y="5249880"/>
            <a:ext cx="842040" cy="457560"/>
          </a:xfrm>
          <a:prstGeom prst="rect">
            <a:avLst/>
          </a:prstGeom>
          <a:solidFill>
            <a:srgbClr val="33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573360" y="4249800"/>
            <a:ext cx="1297080" cy="1479240"/>
          </a:xfrm>
          <a:prstGeom prst="flowChartDocumen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ML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3"/>
            <a:endCxn id="376" idx="1"/>
          </p:cNvCxnSpPr>
          <p:nvPr/>
        </p:nvCxnSpPr>
        <p:spPr>
          <a:xfrm flipV="1">
            <a:off x="2968200" y="4993920"/>
            <a:ext cx="592920" cy="459360"/>
          </a:xfrm>
          <a:prstGeom prst="bentConnector3">
            <a:avLst>
              <a:gd name="adj1" fmla="val 49817"/>
            </a:avLst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78" name=""/>
          <p:cNvCxnSpPr>
            <a:stCxn id="373" idx="3"/>
            <a:endCxn id="376" idx="0"/>
          </p:cNvCxnSpPr>
          <p:nvPr/>
        </p:nvCxnSpPr>
        <p:spPr>
          <a:xfrm>
            <a:off x="2938320" y="4044960"/>
            <a:ext cx="1285200" cy="192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379" name=""/>
          <p:cNvCxnSpPr>
            <a:stCxn id="376" idx="3"/>
            <a:endCxn id="375" idx="1"/>
          </p:cNvCxnSpPr>
          <p:nvPr/>
        </p:nvCxnSpPr>
        <p:spPr>
          <a:xfrm>
            <a:off x="4883040" y="4993920"/>
            <a:ext cx="432720" cy="499320"/>
          </a:xfrm>
          <a:prstGeom prst="bentConnector3">
            <a:avLst>
              <a:gd name="adj1" fmla="val 49625"/>
            </a:avLst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380" name=""/>
          <p:cNvSpPr/>
          <p:nvPr/>
        </p:nvSpPr>
        <p:spPr>
          <a:xfrm>
            <a:off x="5373000" y="3807000"/>
            <a:ext cx="912240" cy="457560"/>
          </a:xfrm>
          <a:prstGeom prst="rect">
            <a:avLst/>
          </a:prstGeom>
          <a:solidFill>
            <a:srgbClr val="fcd462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D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stCxn id="376" idx="0"/>
            <a:endCxn id="380" idx="1"/>
          </p:cNvCxnSpPr>
          <p:nvPr/>
        </p:nvCxnSpPr>
        <p:spPr>
          <a:xfrm flipH="1" flipV="1" rot="5400000">
            <a:off x="4690800" y="3579480"/>
            <a:ext cx="189720" cy="112608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0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esting: Mold Mak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57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piece, Shape, and PD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8960" y="1365120"/>
            <a:ext cx="3645000" cy="1828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28404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piece is a STEP product description with owner, approvals, dates, materia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ck, fixtures also have full product descript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79320" y="3346560"/>
            <a:ext cx="3559320" cy="2765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489560" y="984240"/>
            <a:ext cx="4086000" cy="3000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718160" y="4413240"/>
            <a:ext cx="3809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piece uses same shape representations as AP203, AP214, AP224, and other A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with any CAD system that supports STE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esting : Turning Optim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6107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Testing : Plate Cutting and Beve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756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for Ibusuki ISO, July 200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760320" y="988920"/>
            <a:ext cx="7610400" cy="570384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>
            <a:off x="2967120" y="4564080"/>
            <a:ext cx="76176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184640" y="4564080"/>
            <a:ext cx="76212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1000" y="4030560"/>
            <a:ext cx="11210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b wid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000920" y="2967120"/>
            <a:ext cx="531720" cy="60804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392160" y="2585880"/>
            <a:ext cx="12855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ll cor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240600" y="4335480"/>
            <a:ext cx="684000" cy="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88680" y="4640400"/>
            <a:ext cx="112104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le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2280" y="1222200"/>
            <a:ext cx="3797280" cy="341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1160" indent="-281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38 a published standard and available on ISO websi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ing and Demonst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de using CATIA, Pro/E and UG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led and Turned pa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parts and test pa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-NC is easy to impl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c prototype in 4 week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7160" indent="-226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 2 by adding CAD geomet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369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hining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NC independent tool path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ision detection on the contr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 based program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ual closed loop programm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erprise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ng term data reten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hange with suppli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2355840" y="4718160"/>
            <a:ext cx="4268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00200" y="3890880"/>
            <a:ext cx="5305320" cy="2509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255080" y="5454720"/>
            <a:ext cx="1229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37560" y="3886200"/>
            <a:ext cx="1949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bore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ound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62320" y="2819520"/>
            <a:ext cx="1688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ough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56120" y="2666880"/>
            <a:ext cx="129672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cke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at bott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4520" y="3886200"/>
            <a:ext cx="100440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lot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91320" y="5105520"/>
            <a:ext cx="1447560" cy="583920"/>
          </a:xfrm>
          <a:custGeom>
            <a:avLst/>
            <a:gdLst/>
            <a:ahLst/>
            <a:rect l="l" t="t" r="r" b="b"/>
            <a:pathLst>
              <a:path w="720" h="224">
                <a:moveTo>
                  <a:pt x="720" y="192"/>
                </a:moveTo>
                <a:cubicBezTo>
                  <a:pt x="588" y="208"/>
                  <a:pt x="456" y="224"/>
                  <a:pt x="336" y="192"/>
                </a:cubicBezTo>
                <a:cubicBezTo>
                  <a:pt x="216" y="160"/>
                  <a:pt x="108" y="80"/>
                  <a:pt x="0" y="0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5880" y="4178160"/>
            <a:ext cx="838440" cy="88920"/>
          </a:xfrm>
          <a:custGeom>
            <a:avLst/>
            <a:gdLst/>
            <a:ahLst/>
            <a:rect l="l" t="t" r="r" b="b"/>
            <a:pathLst>
              <a:path w="528" h="56">
                <a:moveTo>
                  <a:pt x="528" y="8"/>
                </a:moveTo>
                <a:cubicBezTo>
                  <a:pt x="452" y="4"/>
                  <a:pt x="376" y="0"/>
                  <a:pt x="288" y="8"/>
                </a:cubicBezTo>
                <a:cubicBezTo>
                  <a:pt x="200" y="16"/>
                  <a:pt x="100" y="36"/>
                  <a:pt x="0" y="56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9880" y="3295800"/>
            <a:ext cx="2998800" cy="1504800"/>
          </a:xfrm>
          <a:custGeom>
            <a:avLst/>
            <a:gdLst/>
            <a:ahLst/>
            <a:rect l="l" t="t" r="r" b="b"/>
            <a:pathLst>
              <a:path w="1889" h="948">
                <a:moveTo>
                  <a:pt x="1889" y="0"/>
                </a:moveTo>
                <a:cubicBezTo>
                  <a:pt x="1692" y="79"/>
                  <a:pt x="1020" y="320"/>
                  <a:pt x="705" y="478"/>
                </a:cubicBezTo>
                <a:cubicBezTo>
                  <a:pt x="390" y="636"/>
                  <a:pt x="180" y="797"/>
                  <a:pt x="0" y="948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8120" y="3200400"/>
            <a:ext cx="1981080" cy="1447920"/>
          </a:xfrm>
          <a:custGeom>
            <a:avLst/>
            <a:gdLst/>
            <a:ahLst/>
            <a:rect l="l" t="t" r="r" b="b"/>
            <a:pathLst>
              <a:path w="1248" h="912">
                <a:moveTo>
                  <a:pt x="1248" y="0"/>
                </a:moveTo>
                <a:cubicBezTo>
                  <a:pt x="944" y="116"/>
                  <a:pt x="640" y="232"/>
                  <a:pt x="432" y="384"/>
                </a:cubicBezTo>
                <a:cubicBezTo>
                  <a:pt x="224" y="536"/>
                  <a:pt x="112" y="724"/>
                  <a:pt x="0" y="912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4419720"/>
            <a:ext cx="990360" cy="546120"/>
          </a:xfrm>
          <a:custGeom>
            <a:avLst/>
            <a:gdLst/>
            <a:ahLst/>
            <a:rect l="l" t="t" r="r" b="b"/>
            <a:pathLst>
              <a:path w="624" h="344">
                <a:moveTo>
                  <a:pt x="0" y="8"/>
                </a:moveTo>
                <a:cubicBezTo>
                  <a:pt x="116" y="4"/>
                  <a:pt x="232" y="0"/>
                  <a:pt x="336" y="56"/>
                </a:cubicBezTo>
                <a:cubicBezTo>
                  <a:pt x="440" y="112"/>
                  <a:pt x="532" y="228"/>
                  <a:pt x="624" y="344"/>
                </a:cubicBezTo>
              </a:path>
            </a:pathLst>
          </a:custGeom>
          <a:noFill/>
          <a:ln w="38160">
            <a:solidFill>
              <a:srgbClr val="cf0e3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198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5D mill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le, pocket, slot, step, et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t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dge round and cham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licate fea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tterns of repeated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1840" y="1221840"/>
            <a:ext cx="3797280" cy="132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ion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faces for freeform mil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ing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er round, knurl, gro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86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ing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15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can have implicit and explicit shap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cit feature shape is a parametric description using profiles and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rameters may have plus/minus, limits and fits, max/min limita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icit feature shape links geometry faces to features for visualization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4952880"/>
            <a:ext cx="4496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2743200" y="4876920"/>
          <a:ext cx="3787920" cy="14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876920"/>
                    <a:ext cx="37879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457200" y="3581280"/>
            <a:ext cx="3809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mplici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ound_hole is defined by a complete circular profile and a linear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00600" y="3581280"/>
            <a:ext cx="3809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plicit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ers to the B-REP faces on the geometry that describe the ho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9625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nd Final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297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AP-238 model can document both final feature and process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 feature is on final part, from upstream, possibly from an AP-224 or AP-240 application.   As such, some features might only define a volume when combined with the stoc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features are the features pointed to by workingstep. Specific to a workplan, need full volume limit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ingstep can also point to one or more final features that it contributes to.  Many workingsteps and process features may contribute to one final featur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495680"/>
            <a:ext cx="3429000" cy="1881360"/>
          </a:xfrm>
          <a:prstGeom prst="roundRect">
            <a:avLst>
              <a:gd name="adj" fmla="val 12255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0480" y="4557600"/>
            <a:ext cx="3317760" cy="1771920"/>
          </a:xfrm>
          <a:prstGeom prst="roundRect">
            <a:avLst>
              <a:gd name="adj" fmla="val 4473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961920" y="4557600"/>
            <a:ext cx="3337200" cy="1771920"/>
            <a:chOff x="961920" y="4557600"/>
            <a:chExt cx="3337200" cy="1771920"/>
          </a:xfrm>
        </p:grpSpPr>
        <p:sp>
          <p:nvSpPr>
            <p:cNvPr id="86" name=""/>
            <p:cNvSpPr/>
            <p:nvPr/>
          </p:nvSpPr>
          <p:spPr>
            <a:xfrm>
              <a:off x="961920" y="4557600"/>
              <a:ext cx="4431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52720" y="4557600"/>
              <a:ext cx="4431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57760" y="5886360"/>
              <a:ext cx="441360" cy="4431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74880" y="5872320"/>
              <a:ext cx="441000" cy="442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728600" y="4487760"/>
            <a:ext cx="2896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 feature in </a:t>
            </a:r>
            <a:r>
              <a:rPr b="0" lang="en-US" sz="1600" spc="-1" strike="noStrike">
                <a:solidFill>
                  <a:srgbClr val="cf0e30"/>
                </a:solidFill>
                <a:latin typeface="Arial"/>
              </a:rPr>
              <a:t>red (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29320" y="5062680"/>
            <a:ext cx="3958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 features describ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Drill the corners (HO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ll out center with large tool (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ill remaining mater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smaller tool (FINAL POCK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5638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s and Geometric Tolera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92280" y="1221840"/>
            <a:ext cx="3797280" cy="30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l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linear dist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 distance along a cur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cation defined by an ang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mensions defining s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rves, angle, diameter, radius, thickness, length, width, h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1840" y="1222200"/>
            <a:ext cx="3797280" cy="247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metric characteristics with datums as neede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gularity, circular runout, coaxiality, concentricity, cylindricity, flatness, line profile, parallelism, perpendicularity, position, roundness, straightness, surface profile, symmetry, total run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9000" y="4894200"/>
            <a:ext cx="1022400" cy="10224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44600" y="4657680"/>
            <a:ext cx="0" cy="146700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5410080"/>
            <a:ext cx="14684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938160" y="5079600"/>
            <a:ext cx="773280" cy="652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2320" y="6035760"/>
            <a:ext cx="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95880" y="6026040"/>
            <a:ext cx="0" cy="28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6172200"/>
            <a:ext cx="1933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600280" y="4572000"/>
            <a:ext cx="20340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81200" y="4903920"/>
            <a:ext cx="579600" cy="95544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4724280"/>
            <a:ext cx="663480" cy="1122480"/>
          </a:xfrm>
          <a:custGeom>
            <a:avLst/>
            <a:gdLst/>
            <a:ahLst/>
            <a:rect l="l" t="t" r="r" b="b"/>
            <a:pathLst>
              <a:path w="366" h="605">
                <a:moveTo>
                  <a:pt x="0" y="0"/>
                </a:moveTo>
                <a:cubicBezTo>
                  <a:pt x="125" y="83"/>
                  <a:pt x="250" y="167"/>
                  <a:pt x="308" y="268"/>
                </a:cubicBezTo>
                <a:cubicBezTo>
                  <a:pt x="366" y="369"/>
                  <a:pt x="337" y="531"/>
                  <a:pt x="349" y="60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6920" y="5873760"/>
            <a:ext cx="39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440400" y="6207120"/>
            <a:ext cx="0" cy="1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7345440" y="3668760"/>
            <a:ext cx="782640" cy="276120"/>
            <a:chOff x="7345440" y="3668760"/>
            <a:chExt cx="782640" cy="276120"/>
          </a:xfrm>
        </p:grpSpPr>
        <p:grpSp>
          <p:nvGrpSpPr>
            <p:cNvPr id="108" name=""/>
            <p:cNvGrpSpPr/>
            <p:nvPr/>
          </p:nvGrpSpPr>
          <p:grpSpPr>
            <a:xfrm>
              <a:off x="7345440" y="3668760"/>
              <a:ext cx="331920" cy="276120"/>
              <a:chOff x="7345440" y="3668760"/>
              <a:chExt cx="331920" cy="276120"/>
            </a:xfrm>
          </p:grpSpPr>
          <p:sp>
            <p:nvSpPr>
              <p:cNvPr id="109" name=""/>
              <p:cNvSpPr/>
              <p:nvPr/>
            </p:nvSpPr>
            <p:spPr>
              <a:xfrm>
                <a:off x="7345440" y="3668760"/>
                <a:ext cx="331920" cy="2761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080" rIns="9108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48040" y="3742560"/>
                <a:ext cx="137160" cy="137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7345440" y="3668760"/>
              <a:ext cx="78264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7041960" y="3848040"/>
            <a:ext cx="277560" cy="249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7172640" y="3571200"/>
            <a:ext cx="1065240" cy="1895400"/>
          </a:xfrm>
          <a:custGeom>
            <a:avLst/>
            <a:gdLst>
              <a:gd name="textAreaLeft" fmla="*/ 187920 w 1065240"/>
              <a:gd name="textAreaRight" fmla="*/ 877320 w 1065240"/>
              <a:gd name="textAreaTop" fmla="*/ 334440 h 1895400"/>
              <a:gd name="textAreaBottom" fmla="*/ 1560960 h 1895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85" y="21600"/>
                </a:lnTo>
                <a:lnTo>
                  <a:pt x="3715" y="21600"/>
                </a:lnTo>
                <a:close/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10080" y="4519440"/>
            <a:ext cx="3380040" cy="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58080" y="3870360"/>
            <a:ext cx="0" cy="1235160"/>
          </a:xfrm>
          <a:prstGeom prst="line">
            <a:avLst/>
          </a:prstGeom>
          <a:ln w="648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7407360" y="369576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7539120" y="3753000"/>
            <a:ext cx="92160" cy="183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03840" y="4091040"/>
            <a:ext cx="698400" cy="846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76800" y="5475240"/>
            <a:ext cx="2200320" cy="809640"/>
          </a:xfrm>
          <a:custGeom>
            <a:avLst/>
            <a:gdLst/>
            <a:ahLst/>
            <a:rect l="l" t="t" r="r" b="b"/>
            <a:pathLst>
              <a:path w="1390" h="512">
                <a:moveTo>
                  <a:pt x="1390" y="17"/>
                </a:moveTo>
                <a:lnTo>
                  <a:pt x="1390" y="512"/>
                </a:lnTo>
                <a:lnTo>
                  <a:pt x="0" y="512"/>
                </a:lnTo>
                <a:lnTo>
                  <a:pt x="0" y="29"/>
                </a:lnTo>
                <a:lnTo>
                  <a:pt x="110" y="41"/>
                </a:lnTo>
                <a:lnTo>
                  <a:pt x="180" y="17"/>
                </a:lnTo>
                <a:lnTo>
                  <a:pt x="215" y="52"/>
                </a:lnTo>
                <a:lnTo>
                  <a:pt x="297" y="6"/>
                </a:lnTo>
                <a:lnTo>
                  <a:pt x="378" y="29"/>
                </a:lnTo>
                <a:lnTo>
                  <a:pt x="465" y="29"/>
                </a:lnTo>
                <a:lnTo>
                  <a:pt x="617" y="6"/>
                </a:lnTo>
                <a:lnTo>
                  <a:pt x="651" y="35"/>
                </a:lnTo>
                <a:lnTo>
                  <a:pt x="774" y="0"/>
                </a:lnTo>
                <a:lnTo>
                  <a:pt x="820" y="46"/>
                </a:lnTo>
                <a:lnTo>
                  <a:pt x="855" y="11"/>
                </a:lnTo>
                <a:lnTo>
                  <a:pt x="890" y="29"/>
                </a:lnTo>
                <a:lnTo>
                  <a:pt x="989" y="41"/>
                </a:lnTo>
                <a:lnTo>
                  <a:pt x="1001" y="6"/>
                </a:lnTo>
                <a:lnTo>
                  <a:pt x="1047" y="29"/>
                </a:lnTo>
                <a:lnTo>
                  <a:pt x="1129" y="23"/>
                </a:lnTo>
                <a:lnTo>
                  <a:pt x="1158" y="46"/>
                </a:lnTo>
                <a:lnTo>
                  <a:pt x="1233" y="23"/>
                </a:lnTo>
                <a:lnTo>
                  <a:pt x="1297" y="17"/>
                </a:lnTo>
                <a:lnTo>
                  <a:pt x="1390" y="17"/>
                </a:lnTo>
                <a:close/>
              </a:path>
            </a:pathLst>
          </a:cu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19880" y="5027760"/>
            <a:ext cx="33192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96200" y="5095800"/>
            <a:ext cx="188640" cy="150840"/>
          </a:xfrm>
          <a:prstGeom prst="parallelogram">
            <a:avLst>
              <a:gd name="adj" fmla="val 31265"/>
            </a:avLst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19880" y="5027760"/>
            <a:ext cx="782640" cy="277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087960" y="5173560"/>
            <a:ext cx="27792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908520" y="5130720"/>
            <a:ext cx="1094760" cy="277560"/>
            <a:chOff x="3908520" y="5130720"/>
            <a:chExt cx="1094760" cy="277560"/>
          </a:xfrm>
        </p:grpSpPr>
        <p:sp>
          <p:nvSpPr>
            <p:cNvPr id="125" name=""/>
            <p:cNvSpPr/>
            <p:nvPr/>
          </p:nvSpPr>
          <p:spPr>
            <a:xfrm>
              <a:off x="4671000" y="5130720"/>
              <a:ext cx="3322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08520" y="5132160"/>
              <a:ext cx="783360" cy="276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08520" y="5132160"/>
              <a:ext cx="332280" cy="2761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83760" y="5177880"/>
              <a:ext cx="9180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069800" y="5177880"/>
              <a:ext cx="91440" cy="18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6280200" y="6384600"/>
            <a:ext cx="291960" cy="18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54760" y="5318280"/>
            <a:ext cx="322200" cy="172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9811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&amp;T and Meas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51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D&amp;T definitions are harmonized across all design and manufacturing AP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monized across AP-214, AP-224, AP-240, and AP-203e2, which uses Modules 1050 and 1051.   Will also be going into AP-219 and other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38 measure values and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shape and measure parameters can specify their units, as in all other AP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 tolerances can be used for any quantity, not just lengths.   Now available for angles, spee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181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age: Features and 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519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geometric tolerances link to the workpiece through “shape aspec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 are special types of shape asp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refer to explicit geometry (faces, etc) on workpie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describe key parameters with +/- tolera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chining or probing operations refer to fea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ometric tolerances and datums can refer to fea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5160" y="4108320"/>
            <a:ext cx="138240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 Ho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01080" y="4184640"/>
            <a:ext cx="11854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422520" y="4946760"/>
            <a:ext cx="3124440" cy="1477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851400" y="5403960"/>
            <a:ext cx="1286280" cy="82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und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ler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2560" y="4108320"/>
            <a:ext cx="1385280" cy="641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ar 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7120" y="4260960"/>
            <a:ext cx="813600" cy="33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7676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0" idx="1"/>
            <a:endCxn id="143" idx="0"/>
          </p:cNvCxnSpPr>
          <p:nvPr/>
        </p:nvCxnSpPr>
        <p:spPr>
          <a:xfrm flipV="1" rot="10800000">
            <a:off x="5212800" y="4430520"/>
            <a:ext cx="419760" cy="59256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7" idx="3"/>
            <a:endCxn id="136" idx="1"/>
          </p:cNvCxnSpPr>
          <p:nvPr/>
        </p:nvCxnSpPr>
        <p:spPr>
          <a:xfrm flipV="1">
            <a:off x="2093400" y="4430520"/>
            <a:ext cx="491400" cy="172080"/>
          </a:xfrm>
          <a:prstGeom prst="curvedConnector5">
            <a:avLst>
              <a:gd name="adj1" fmla="val 49780"/>
              <a:gd name="adj2" fmla="val 49895"/>
              <a:gd name="adj3" fmla="val 49780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9" idx="3"/>
            <a:endCxn id="136" idx="2"/>
          </p:cNvCxnSpPr>
          <p:nvPr/>
        </p:nvCxnSpPr>
        <p:spPr>
          <a:xfrm flipV="1">
            <a:off x="2142720" y="4750920"/>
            <a:ext cx="1134360" cy="1070640"/>
          </a:xfrm>
          <a:prstGeom prst="curvedConnector2">
            <a:avLst/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6" idx="3"/>
            <a:endCxn id="147" idx="1"/>
          </p:cNvCxnSpPr>
          <p:nvPr/>
        </p:nvCxnSpPr>
        <p:spPr>
          <a:xfrm>
            <a:off x="3968640" y="4430880"/>
            <a:ext cx="1664640" cy="1164240"/>
          </a:xfrm>
          <a:prstGeom prst="curvedConnector5">
            <a:avLst>
              <a:gd name="adj1" fmla="val 49989"/>
              <a:gd name="adj2" fmla="val 49984"/>
              <a:gd name="adj3" fmla="val 49989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5632560" y="555624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1"/>
            <a:endCxn id="140" idx="3"/>
          </p:cNvCxnSpPr>
          <p:nvPr/>
        </p:nvCxnSpPr>
        <p:spPr>
          <a:xfrm rot="10800000">
            <a:off x="7017480" y="4430160"/>
            <a:ext cx="443880" cy="3600"/>
          </a:xfrm>
          <a:prstGeom prst="curvedConnector5">
            <a:avLst>
              <a:gd name="adj1" fmla="val 50162"/>
              <a:gd name="adj2" fmla="val 44444"/>
              <a:gd name="adj3" fmla="val 50162"/>
            </a:avLst>
          </a:prstGeom>
          <a:ln w="57240">
            <a:solidFill>
              <a:srgbClr val="cf0e30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5175360" y="5022720"/>
            <a:ext cx="759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cp:keywords/>
  <dc:language>en-US</dc:language>
  <cp:lastModifiedBy>Martin Hardwick</cp:lastModifiedBy>
  <cp:lastPrinted>2001-08-16T01:33:48Z</cp:lastPrinted>
  <dcterms:modified xsi:type="dcterms:W3CDTF">2007-06-24T16:51:23Z</dcterms:modified>
  <cp:revision>746</cp:revision>
  <dc:subject/>
  <dc:title>STEP-NC Feature Harmonization</dc:title>
</cp:coreProperties>
</file>