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1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5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9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94920" y="5335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1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45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99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4920" y="5335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170080" indent="-241200">
              <a:spcBef>
                <a:spcPts val="700"/>
              </a:spcBef>
              <a:buClr>
                <a:srgbClr val="ffffff"/>
              </a:buClr>
              <a:buFont typeface="Times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170080" indent="-2412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170080" indent="-2412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23760" algn="ctr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49320" algn="ctr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74520" algn="ctr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100080" algn="ctr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10008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10008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john.horst@nist.go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03280" y="798120"/>
            <a:ext cx="670860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-level Measurement Process Planning (HIPP)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posal for Integration into AP238 ed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82880" y="4413240"/>
            <a:ext cx="696888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Ho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rology Interoperability Project Lead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National Institute of Standards and Technology (NIST) Gaithersburg, M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30480" y="6019920"/>
            <a:ext cx="392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ISO TC184/SC4 mee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July 2 - 5, 2007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◊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  Ibusuki, Jap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20320" y="272880"/>
            <a:ext cx="6907320" cy="14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98760" y="1641600"/>
            <a:ext cx="625608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came out of HIPP 2007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additional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of PP bound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on way 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 of metrology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ment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AP238 ed. 2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5880" y="618840"/>
            <a:ext cx="690732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98760" y="2358720"/>
            <a:ext cx="62560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PP will be progressed within the DMSC (Dimensional Metrology Standards Consortium)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dmisstandards.org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6926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47480" y="2298600"/>
            <a:ext cx="722628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p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easuremen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DEF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Propos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P238 HIPP 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5880" y="237960"/>
            <a:ext cx="6907320" cy="14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98760" y="1761840"/>
            <a:ext cx="625608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HIPP requirements for </a:t>
            </a: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outpu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f HIPP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a “local spec” like DMIS; bring as-is to I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 integration into ISO1464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 integration into AP21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 integration into STEPN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AIC for use in multiple STEP 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5880" y="618840"/>
            <a:ext cx="690732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98760" y="2358720"/>
            <a:ext cx="62560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HIPP requirements for </a:t>
            </a: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inpu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HIPP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a “local spec” using DML or I++DMS; bring as-is to I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P219 ed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 integration in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203 ed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6926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47480" y="2298600"/>
            <a:ext cx="722628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Op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asurement Require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DEF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Propos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P238 HIPP 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6926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asurement Requireme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47480" y="2878200"/>
            <a:ext cx="722628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gh-level Measurement Process Planning activity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5240" y="1766880"/>
            <a:ext cx="0" cy="4548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1766880"/>
            <a:ext cx="0" cy="4548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766880"/>
            <a:ext cx="0" cy="2890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3954600"/>
            <a:ext cx="1487520" cy="1133280"/>
          </a:xfrm>
          <a:prstGeom prst="rect">
            <a:avLst/>
          </a:prstGeom>
          <a:ln w="0">
            <a:noFill/>
          </a:ln>
        </p:spPr>
      </p:pic>
      <p:pic>
        <p:nvPicPr>
          <p:cNvPr id="195" name="CMM_Reporting" descr=""/>
          <p:cNvPicPr/>
          <p:nvPr/>
        </p:nvPicPr>
        <p:blipFill>
          <a:blip r:embed="rId2"/>
          <a:stretch/>
        </p:blipFill>
        <p:spPr>
          <a:xfrm>
            <a:off x="7951680" y="3079800"/>
            <a:ext cx="1192320" cy="900000"/>
          </a:xfrm>
          <a:prstGeom prst="rect">
            <a:avLst/>
          </a:prstGeom>
          <a:ln w="0">
            <a:noFill/>
          </a:ln>
        </p:spPr>
      </p:pic>
      <p:pic>
        <p:nvPicPr>
          <p:cNvPr id="196" name="mtxg_1" descr=""/>
          <p:cNvPicPr/>
          <p:nvPr/>
        </p:nvPicPr>
        <p:blipFill>
          <a:blip r:embed="rId3"/>
          <a:stretch/>
        </p:blipFill>
        <p:spPr>
          <a:xfrm>
            <a:off x="5613480" y="4917960"/>
            <a:ext cx="1423800" cy="1150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7858080" y="4003560"/>
            <a:ext cx="0" cy="140976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3409" descr=""/>
          <p:cNvPicPr/>
          <p:nvPr/>
        </p:nvPicPr>
        <p:blipFill>
          <a:blip r:embed="rId4"/>
          <a:stretch/>
        </p:blipFill>
        <p:spPr>
          <a:xfrm>
            <a:off x="8315280" y="5376960"/>
            <a:ext cx="828720" cy="1136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1529640" y="3340080"/>
            <a:ext cx="887400" cy="39384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89520" y="3384720"/>
            <a:ext cx="120348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44880" y="3422520"/>
            <a:ext cx="130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Inspection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41520" y="2801880"/>
            <a:ext cx="1255680" cy="95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60520" y="2742840"/>
            <a:ext cx="139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High-level 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rocess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145280" y="3460680"/>
            <a:ext cx="1496880" cy="580680"/>
            <a:chOff x="7145280" y="3460680"/>
            <a:chExt cx="1496880" cy="580680"/>
          </a:xfrm>
        </p:grpSpPr>
        <p:sp>
          <p:nvSpPr>
            <p:cNvPr id="205" name=""/>
            <p:cNvSpPr/>
            <p:nvPr/>
          </p:nvSpPr>
          <p:spPr>
            <a:xfrm>
              <a:off x="7238520" y="3469320"/>
              <a:ext cx="1310400" cy="55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45280" y="346068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Georgia"/>
                </a:rPr>
                <a:t>Report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Georgia"/>
                </a:rPr>
                <a:t>&amp;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41680" y="4395960"/>
            <a:ext cx="20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MM control comma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respo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I++ D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519880" y="4041720"/>
            <a:ext cx="2880" cy="1276560"/>
          </a:xfrm>
          <a:prstGeom prst="line">
            <a:avLst/>
          </a:prstGeom>
          <a:ln w="2844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3814920" y="5495760"/>
            <a:ext cx="1201680" cy="1124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818240" y="5329080"/>
            <a:ext cx="1406520" cy="110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40200" y="5335200"/>
            <a:ext cx="136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Coordinate measuring machines (CM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7880" y="3313080"/>
            <a:ext cx="1117800" cy="80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360" y="3417840"/>
            <a:ext cx="13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a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4720" y="3763800"/>
            <a:ext cx="1154160" cy="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24520" y="3037680"/>
            <a:ext cx="1584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DML, I++ DM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STEP AP2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8520" y="2767320"/>
            <a:ext cx="1252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t geometry, manuf info, featur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ler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P203e2, AP219, DML, I++D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56520" y="5392800"/>
            <a:ext cx="1203120" cy="76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11880" y="5346000"/>
            <a:ext cx="130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Quality device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97680" y="4194360"/>
            <a:ext cx="13748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lity measurement d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Q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93880" y="672840"/>
            <a:ext cx="81057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suremen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62080" y="1914480"/>
            <a:ext cx="22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914480"/>
            <a:ext cx="19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56000" y="191448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ec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191448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70600" y="4657680"/>
            <a:ext cx="2113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0520" y="2742840"/>
            <a:ext cx="139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High-level 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rocess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657600" y="3704760"/>
            <a:ext cx="1219320" cy="135756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59160" y="5006880"/>
            <a:ext cx="1255680" cy="95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78160" y="4947840"/>
            <a:ext cx="139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Low-level 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rocess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059280" y="3782880"/>
            <a:ext cx="2880" cy="11653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27120" y="3687120"/>
            <a:ext cx="13305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s.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P238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P219, I++D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27280" y="3556440"/>
            <a:ext cx="116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D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73962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asurement Requireme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47480" y="2878200"/>
            <a:ext cx="722628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gh-level Measurement Process Planning activity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ivities with in/out data in IDEF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ta and activities defined in separate vocabulary documen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6926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asurement Require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47480" y="2090880"/>
            <a:ext cx="72262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bjective HIP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d set of measurement features and toler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ecutable HIP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d list of measurement features and tolerances with other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6926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47480" y="2298600"/>
            <a:ext cx="722628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asurement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DEF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os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238 HIPP 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413160" y="2855880"/>
            <a:ext cx="2073240" cy="1278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form 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asurement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lanning (HIP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7400" y="272268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5520" y="2998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duction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97280" y="32558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atch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30920" y="5692680"/>
            <a:ext cx="23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mensional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sourc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31280" y="518940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asurement Knowledg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27520" y="4351320"/>
            <a:ext cx="21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xture Knowledg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33520" y="81756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andards for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76240" y="11224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asurement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94920" y="1427040"/>
            <a:ext cx="18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ampling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5480" y="180828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facturing Process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20120" y="211284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D&amp;T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3271680"/>
            <a:ext cx="187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igh-level Measurement Process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62440" y="29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2720" y="3181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52720" y="34671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3460680"/>
            <a:ext cx="584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4160" y="1131840"/>
            <a:ext cx="0" cy="171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55960" y="1440000"/>
            <a:ext cx="0" cy="1411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73560" y="1701720"/>
            <a:ext cx="0" cy="114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14920" y="2100240"/>
            <a:ext cx="0" cy="75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40440" y="2390760"/>
            <a:ext cx="0" cy="45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49600" y="413676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308480" y="4136760"/>
            <a:ext cx="0" cy="1168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033880" y="4146120"/>
            <a:ext cx="0" cy="281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55960" y="353232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iticality weigh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43360" y="3724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90640" y="378936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Quality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43360" y="3981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66080" y="236052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6560" y="265752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5880" y="0"/>
            <a:ext cx="76071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ment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63600" y="1206360"/>
            <a:ext cx="1100160" cy="118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 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4760" y="1100160"/>
            <a:ext cx="80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1840" y="2619360"/>
            <a:ext cx="88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000" y="18795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ch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76800" y="5261040"/>
            <a:ext cx="182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mensional 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ourc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73560" y="5199120"/>
            <a:ext cx="102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Knowled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05400" y="615960"/>
            <a:ext cx="14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for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9680" y="8478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8720" y="10335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mpling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72520" y="65736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ufacturing Process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99840" y="131904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D&amp;T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0" y="5238720"/>
            <a:ext cx="50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p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1000" y="1413000"/>
            <a:ext cx="273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1720" y="2030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9040" y="2855880"/>
            <a:ext cx="2039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13480" y="4684680"/>
            <a:ext cx="1255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83400" y="5845320"/>
            <a:ext cx="312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36760" y="3841560"/>
            <a:ext cx="0" cy="140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2438280"/>
            <a:ext cx="1111320" cy="1362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 Dimens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easurement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(option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21080" y="3200400"/>
            <a:ext cx="1141560" cy="1353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igh-level Measur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peration Plan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(option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49920" y="4264200"/>
            <a:ext cx="784080" cy="1085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velop Reaction Plan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(option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6720" y="5402160"/>
            <a:ext cx="799920" cy="1146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enerate Support Data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(option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106640" y="2293920"/>
            <a:ext cx="0" cy="55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7040" y="2293920"/>
            <a:ext cx="45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09520" y="2860560"/>
            <a:ext cx="0" cy="11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00160" y="4040280"/>
            <a:ext cx="324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2160" y="2038320"/>
            <a:ext cx="0" cy="221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5400" y="4259160"/>
            <a:ext cx="3336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73480" y="1790640"/>
            <a:ext cx="5416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75000" y="1790640"/>
            <a:ext cx="0" cy="80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78240" y="2595600"/>
            <a:ext cx="261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97760" y="15177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43080" y="1077840"/>
            <a:ext cx="0" cy="128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57280" y="831960"/>
            <a:ext cx="0" cy="38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3811680"/>
            <a:ext cx="0" cy="9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72080" y="4745160"/>
            <a:ext cx="17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0040" y="46846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5832360"/>
            <a:ext cx="155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514760" y="4547880"/>
            <a:ext cx="0" cy="6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22960" y="1531800"/>
            <a:ext cx="0" cy="164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57720" y="1292400"/>
            <a:ext cx="0" cy="1912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42000" y="976320"/>
            <a:ext cx="0" cy="21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2800" y="2393640"/>
            <a:ext cx="0" cy="26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82800" y="5041800"/>
            <a:ext cx="1360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160" y="14875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ality we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9560" y="1717560"/>
            <a:ext cx="284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76840" y="2898720"/>
            <a:ext cx="389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83120" y="2898720"/>
            <a:ext cx="0" cy="70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73400" y="3613320"/>
            <a:ext cx="238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11960" y="3794040"/>
            <a:ext cx="21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89880" y="4221000"/>
            <a:ext cx="80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06960" y="1784520"/>
            <a:ext cx="0" cy="162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26040" y="3413160"/>
            <a:ext cx="95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19880" y="3282840"/>
            <a:ext cx="177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-Level Measur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r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280" y="2087640"/>
            <a:ext cx="8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ality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65640" y="107172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83160" y="13557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5880" y="0"/>
            <a:ext cx="76071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level Process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89040" y="1517760"/>
            <a:ext cx="199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61200" y="3263760"/>
            <a:ext cx="765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-lev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-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00920" y="1717560"/>
            <a:ext cx="247680" cy="4287960"/>
          </a:xfrm>
          <a:custGeom>
            <a:avLst/>
            <a:gdLst>
              <a:gd name="textAreaLeft" fmla="*/ 0 w 247680"/>
              <a:gd name="textAreaRight" fmla="*/ 89280 w 247680"/>
              <a:gd name="textAreaTop" fmla="*/ 111600 h 4287960"/>
              <a:gd name="textAreaBottom" fmla="*/ 4176360 h 428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590920"/>
            <a:ext cx="34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Method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11360" y="2692440"/>
            <a:ext cx="1297080" cy="191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dentify Measur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09400" y="2416320"/>
            <a:ext cx="91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67360" y="5481720"/>
            <a:ext cx="127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surement  Knowled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6280" y="1236600"/>
            <a:ext cx="11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sur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97160" y="2813040"/>
            <a:ext cx="223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3784680"/>
            <a:ext cx="1262160" cy="1135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fine Accuracy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48120" y="2376360"/>
            <a:ext cx="24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51360" y="2397240"/>
            <a:ext cx="0" cy="198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61080" y="439416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60920" y="2733840"/>
            <a:ext cx="12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suremen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quir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90840" y="1741320"/>
            <a:ext cx="0" cy="95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05040" y="2333520"/>
            <a:ext cx="0" cy="366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594400" y="4903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01840" y="2924280"/>
            <a:ext cx="93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ti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01840" y="3191040"/>
            <a:ext cx="20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96200" y="4378320"/>
            <a:ext cx="834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59480" y="3894120"/>
            <a:ext cx="119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8680" y="3755880"/>
            <a:ext cx="96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24000" y="3443400"/>
            <a:ext cx="109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tch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01840" y="3578400"/>
            <a:ext cx="20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01840" y="3917880"/>
            <a:ext cx="20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32520" y="1755720"/>
            <a:ext cx="1261800" cy="1135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384960" y="2378160"/>
            <a:ext cx="941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53360" y="1897200"/>
            <a:ext cx="119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sur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5880" y="0"/>
            <a:ext cx="76071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Measurement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82040" y="3149640"/>
            <a:ext cx="122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sur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42360" y="2341440"/>
            <a:ext cx="160200" cy="2102040"/>
          </a:xfrm>
          <a:custGeom>
            <a:avLst/>
            <a:gdLst>
              <a:gd name="textAreaLeft" fmla="*/ 0 w 160200"/>
              <a:gd name="textAreaRight" fmla="*/ 57960 w 160200"/>
              <a:gd name="textAreaTop" fmla="*/ 54720 h 2102040"/>
              <a:gd name="textAreaBottom" fmla="*/ 2047320 h 21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7000" y="3255840"/>
            <a:ext cx="105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53880" y="1766880"/>
            <a:ext cx="111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7080" y="4267080"/>
            <a:ext cx="71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01840" y="4390920"/>
            <a:ext cx="20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33840" y="2571840"/>
            <a:ext cx="1125360" cy="118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lect 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etr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01400" y="1755720"/>
            <a:ext cx="80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29720" y="5900760"/>
            <a:ext cx="21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Knowledg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97880" y="2602080"/>
            <a:ext cx="11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Method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211560" y="3723840"/>
            <a:ext cx="0" cy="11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65680" y="3594240"/>
            <a:ext cx="1084320" cy="92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38320" y="2044800"/>
            <a:ext cx="247680" cy="3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70640" y="225108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95880" y="2739960"/>
            <a:ext cx="0" cy="13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95880" y="4044960"/>
            <a:ext cx="466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1720" y="2232000"/>
            <a:ext cx="15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Metr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41360" y="375588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sor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53240" y="4025880"/>
            <a:ext cx="153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914480" y="2530440"/>
            <a:ext cx="376200" cy="66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57760" y="2730600"/>
            <a:ext cx="35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7880" y="54468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9760" y="4919760"/>
            <a:ext cx="20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295960" y="4514400"/>
            <a:ext cx="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16600" y="5686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81360" y="1362240"/>
            <a:ext cx="1001520" cy="895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lect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76640" y="2254320"/>
            <a:ext cx="409320" cy="409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33680" y="1872720"/>
            <a:ext cx="257040" cy="390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62120" y="2635200"/>
            <a:ext cx="162000" cy="428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342880" y="2320920"/>
            <a:ext cx="276120" cy="27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33520" y="2311560"/>
            <a:ext cx="28584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90800" y="1787400"/>
            <a:ext cx="3540240" cy="6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3160" y="147960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ge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21480" y="3498840"/>
            <a:ext cx="88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36400" y="2986200"/>
            <a:ext cx="53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09880" y="2473200"/>
            <a:ext cx="276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990800" y="2635200"/>
            <a:ext cx="390600" cy="961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78600" y="294156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19800" y="3178080"/>
            <a:ext cx="0" cy="419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85880" y="241200"/>
            <a:ext cx="76071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Measureme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77120" y="1692360"/>
            <a:ext cx="284040" cy="2448000"/>
          </a:xfrm>
          <a:custGeom>
            <a:avLst/>
            <a:gdLst>
              <a:gd name="textAreaLeft" fmla="*/ 0 w 284040"/>
              <a:gd name="textAreaRight" fmla="*/ 102600 w 28404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704960" y="1374840"/>
            <a:ext cx="1297080" cy="118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tup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ixt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39400" y="5783400"/>
            <a:ext cx="21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Knowledg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559480" y="4398480"/>
            <a:ext cx="0" cy="1335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86480" y="4349880"/>
            <a:ext cx="1166760" cy="1154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 High-level Measurement 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09760" y="1685880"/>
            <a:ext cx="266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91800" y="5668920"/>
            <a:ext cx="17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ture Synthesi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54240" y="1301760"/>
            <a:ext cx="749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t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15080" y="2959200"/>
            <a:ext cx="1242720" cy="1449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velop Sampling Plan and Select Evaluation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228760" y="255240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5360" y="212076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5600" y="1430280"/>
            <a:ext cx="11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Resource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00040" y="2352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53120" y="3457440"/>
            <a:ext cx="1838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09960" y="1990800"/>
            <a:ext cx="476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52880" y="1990800"/>
            <a:ext cx="0" cy="9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62240" y="2943360"/>
            <a:ext cx="266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91480" y="2000160"/>
            <a:ext cx="0" cy="294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48560" y="493380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96040" y="3467160"/>
            <a:ext cx="0" cy="107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96040" y="4552920"/>
            <a:ext cx="200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22880" y="2954160"/>
            <a:ext cx="8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mpling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13720" y="4992840"/>
            <a:ext cx="10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-level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70560" y="4894200"/>
            <a:ext cx="91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ch Size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371840" y="40860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71840" y="4076640"/>
            <a:ext cx="552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5219640"/>
            <a:ext cx="2828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14520" y="236232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14520" y="3286080"/>
            <a:ext cx="19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3880" y="4809960"/>
            <a:ext cx="4972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42320" y="31352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-Level Measur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r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32240" y="2397240"/>
            <a:ext cx="1160280" cy="1209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rmine Features to be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89640" y="2487600"/>
            <a:ext cx="109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23880" y="3857760"/>
            <a:ext cx="3381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91080" y="2971800"/>
            <a:ext cx="10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95840" y="2981160"/>
            <a:ext cx="0" cy="61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91160" y="3610080"/>
            <a:ext cx="223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5880" y="241200"/>
            <a:ext cx="76071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High-Level Measurem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6926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47480" y="2298600"/>
            <a:ext cx="722628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Op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Measurement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DEF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posa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238 HIPP AR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6926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238 HIPP AR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47480" y="2090880"/>
            <a:ext cx="72262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bjective HIP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ensional metrology workingsteps with less de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ecutable HIP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ensional metrology workplan with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5880" y="911160"/>
            <a:ext cx="6926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238 HIPP AR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35240" y="2090880"/>
            <a:ext cx="723888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-machine or off-machine measurement uses the same data repres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surement and machining use the same structure and format, allowing easy integ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sure Features i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238 HIPP 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621036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rmonized between DMIS 5.1, AP219, and FBMe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el measure fea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ert attributes from AP219 Express or DMIS 5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lerances are separate entities -&gt; toleranced_length_measure had to 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3D features are unbounded; need means to specify total bounded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atures only ½ associative with geometry; need to add machining feature geometry associa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feature placement is in nominal part coord s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minal versus measured not in model; should it b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feature constraints in text, but should be put into Express ARM as WHERE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267680" y="209520"/>
            <a:ext cx="1030320" cy="1208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6080040" y="1606680"/>
            <a:ext cx="3063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rtis W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inciple Engine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NSA’s Kansas City 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erated by Honeywell FM&amp;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.O. Box 4191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ansas City, MO 641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16-997-35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brown@kcp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09120" y="1042920"/>
            <a:ext cx="8001000" cy="56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 Measure Fe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928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 DM Fe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5692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int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3428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gePt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45692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3428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41236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rcle Bi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41236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c Bi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41236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ParLn Bi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41236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lat CParLn Bi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41236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ound CParLn Bi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41236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llipse Bi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3428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Curve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3428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ne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41236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nd Line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412360" indent="-502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Bnd Line 2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1294920" y="88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asure Feature Taxonom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rmonized with DMIS 5.1, DML, AP219, FBMea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y Curtis W. Brown .  June 15,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5880" y="618840"/>
            <a:ext cx="690732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98760" y="2358720"/>
            <a:ext cx="62560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are w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tions: DMSC, AIAG MEPT, I++, IA.CMM, STEP (AP219), CM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09120" y="674280"/>
            <a:ext cx="800100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4080" indent="-303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uboid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S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ical FOS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ylindrical FOS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herical FOS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ymSurf FOS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170080" indent="-241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longCyl FOS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170080" indent="-241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ymPln FOS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170080" indent="-241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Pln FOS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roidal FOS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dSegmnt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ical RadSegmnt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ylindrical RadSegmnt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herical RadSegmnt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roidal RadSegmnt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vSurf Bi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lanar 3D Simple DM Fe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Surf 3D Simpl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09120" y="1006560"/>
            <a:ext cx="8001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90440" indent="-60948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site DM Fe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71680" indent="-50796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ound Composit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54080" indent="-50796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xial Compound Composit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54080" indent="-50796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nar Compound Composit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54080" indent="-50796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herical Compound Composit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471680" indent="-50796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e Pattern Composit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54080" indent="-50796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ial Pattern Composit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436840" indent="-50796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llel Axial Pattern Composit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436840" indent="-50796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al Axial Pattern Composit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54080" indent="-50796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herical Pattern Composit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54080" indent="-50796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ymSurf Pattern Composite DM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BMeas Measur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ture Tax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1600" y="3040200"/>
            <a:ext cx="95076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50360" y="1866960"/>
            <a:ext cx="7786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49" idx="3"/>
            <a:endCxn id="450" idx="1"/>
          </p:cNvCxnSpPr>
          <p:nvPr/>
        </p:nvCxnSpPr>
        <p:spPr>
          <a:xfrm flipV="1">
            <a:off x="1152360" y="2039400"/>
            <a:ext cx="191520" cy="1418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4064760" y="2571840"/>
            <a:ext cx="57456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F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4" idx="3"/>
            <a:endCxn id="452" idx="1"/>
          </p:cNvCxnSpPr>
          <p:nvPr/>
        </p:nvCxnSpPr>
        <p:spPr>
          <a:xfrm>
            <a:off x="3652920" y="2166480"/>
            <a:ext cx="405360" cy="57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5" name=""/>
          <p:cNvSpPr/>
          <p:nvPr/>
        </p:nvSpPr>
        <p:spPr>
          <a:xfrm>
            <a:off x="1597680" y="5153040"/>
            <a:ext cx="11066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Compo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49" idx="3"/>
            <a:endCxn id="455" idx="1"/>
          </p:cNvCxnSpPr>
          <p:nvPr/>
        </p:nvCxnSpPr>
        <p:spPr>
          <a:xfrm>
            <a:off x="1152360" y="3457080"/>
            <a:ext cx="439200" cy="186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7" name=""/>
          <p:cNvSpPr/>
          <p:nvPr/>
        </p:nvSpPr>
        <p:spPr>
          <a:xfrm>
            <a:off x="2358360" y="3727440"/>
            <a:ext cx="4298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0" idx="3"/>
            <a:endCxn id="457" idx="1"/>
          </p:cNvCxnSpPr>
          <p:nvPr/>
        </p:nvCxnSpPr>
        <p:spPr>
          <a:xfrm>
            <a:off x="2136600" y="2039400"/>
            <a:ext cx="216720" cy="1861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3141360" y="1285920"/>
            <a:ext cx="7210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Su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61" idx="3"/>
            <a:endCxn id="459" idx="1"/>
          </p:cNvCxnSpPr>
          <p:nvPr/>
        </p:nvCxnSpPr>
        <p:spPr>
          <a:xfrm flipV="1">
            <a:off x="2908440" y="1458360"/>
            <a:ext cx="226080" cy="565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3731040" y="368280"/>
            <a:ext cx="64332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2" idx="1"/>
            <a:endCxn id="450" idx="3"/>
          </p:cNvCxnSpPr>
          <p:nvPr/>
        </p:nvCxnSpPr>
        <p:spPr>
          <a:xfrm flipH="1">
            <a:off x="2136240" y="541440"/>
            <a:ext cx="1588320" cy="1499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4073400" y="2028960"/>
            <a:ext cx="8244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54" idx="3"/>
            <a:endCxn id="464" idx="1"/>
          </p:cNvCxnSpPr>
          <p:nvPr/>
        </p:nvCxnSpPr>
        <p:spPr>
          <a:xfrm>
            <a:off x="3652560" y="2166480"/>
            <a:ext cx="41508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5922360" y="3467160"/>
            <a:ext cx="10044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her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52" idx="3"/>
            <a:endCxn id="466" idx="1"/>
          </p:cNvCxnSpPr>
          <p:nvPr/>
        </p:nvCxnSpPr>
        <p:spPr>
          <a:xfrm>
            <a:off x="4646520" y="2744280"/>
            <a:ext cx="1269360" cy="896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7189560" y="2838600"/>
            <a:ext cx="11628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r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97840" y="2352600"/>
            <a:ext cx="8474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52" idx="3"/>
            <a:endCxn id="469" idx="1"/>
          </p:cNvCxnSpPr>
          <p:nvPr/>
        </p:nvCxnSpPr>
        <p:spPr>
          <a:xfrm flipV="1">
            <a:off x="4646160" y="2525400"/>
            <a:ext cx="25455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71" name=""/>
          <p:cNvCxnSpPr>
            <a:stCxn id="454" idx="3"/>
            <a:endCxn id="472" idx="1"/>
          </p:cNvCxnSpPr>
          <p:nvPr/>
        </p:nvCxnSpPr>
        <p:spPr>
          <a:xfrm flipV="1">
            <a:off x="3652560" y="1686960"/>
            <a:ext cx="415080" cy="479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4074120" y="1514520"/>
            <a:ext cx="90216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Su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52" idx="3"/>
            <a:endCxn id="468" idx="1"/>
          </p:cNvCxnSpPr>
          <p:nvPr/>
        </p:nvCxnSpPr>
        <p:spPr>
          <a:xfrm>
            <a:off x="4646160" y="2744280"/>
            <a:ext cx="2536200" cy="267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2949840" y="4600440"/>
            <a:ext cx="5760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57" idx="3"/>
            <a:endCxn id="474" idx="1"/>
          </p:cNvCxnSpPr>
          <p:nvPr/>
        </p:nvCxnSpPr>
        <p:spPr>
          <a:xfrm>
            <a:off x="2793600" y="3900240"/>
            <a:ext cx="150120" cy="873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5920920" y="3000240"/>
            <a:ext cx="9388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oi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52" idx="3"/>
            <a:endCxn id="476" idx="1"/>
          </p:cNvCxnSpPr>
          <p:nvPr/>
        </p:nvCxnSpPr>
        <p:spPr>
          <a:xfrm>
            <a:off x="4646520" y="2744280"/>
            <a:ext cx="1269360" cy="42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4064040" y="942840"/>
            <a:ext cx="11962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RadSegm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4" idx="3"/>
            <a:endCxn id="478" idx="1"/>
          </p:cNvCxnSpPr>
          <p:nvPr/>
        </p:nvCxnSpPr>
        <p:spPr>
          <a:xfrm flipV="1">
            <a:off x="3652920" y="1115280"/>
            <a:ext cx="405360" cy="1051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5807880" y="1076400"/>
            <a:ext cx="10044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her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8880" y="590400"/>
            <a:ext cx="11628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r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07160" y="123840"/>
            <a:ext cx="8474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7080" y="1562040"/>
            <a:ext cx="9388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oi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3"/>
            <a:endCxn id="482" idx="1"/>
          </p:cNvCxnSpPr>
          <p:nvPr/>
        </p:nvCxnSpPr>
        <p:spPr>
          <a:xfrm flipV="1">
            <a:off x="5267160" y="296280"/>
            <a:ext cx="534240" cy="819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85" name=""/>
          <p:cNvCxnSpPr>
            <a:stCxn id="478" idx="3"/>
            <a:endCxn id="481" idx="1"/>
          </p:cNvCxnSpPr>
          <p:nvPr/>
        </p:nvCxnSpPr>
        <p:spPr>
          <a:xfrm flipV="1">
            <a:off x="5267160" y="762840"/>
            <a:ext cx="524880" cy="353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86" name=""/>
          <p:cNvCxnSpPr>
            <a:stCxn id="478" idx="3"/>
            <a:endCxn id="483" idx="1"/>
          </p:cNvCxnSpPr>
          <p:nvPr/>
        </p:nvCxnSpPr>
        <p:spPr>
          <a:xfrm>
            <a:off x="5267160" y="1116000"/>
            <a:ext cx="524880" cy="619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87" name=""/>
          <p:cNvCxnSpPr>
            <a:stCxn id="478" idx="3"/>
            <a:endCxn id="480" idx="1"/>
          </p:cNvCxnSpPr>
          <p:nvPr/>
        </p:nvCxnSpPr>
        <p:spPr>
          <a:xfrm>
            <a:off x="5267160" y="1116000"/>
            <a:ext cx="534240" cy="133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3320280" y="5619600"/>
            <a:ext cx="115236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Comp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16280" y="6359400"/>
            <a:ext cx="768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a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25800" y="5467320"/>
            <a:ext cx="64476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x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stCxn id="455" idx="3"/>
            <a:endCxn id="488" idx="1"/>
          </p:cNvCxnSpPr>
          <p:nvPr/>
        </p:nvCxnSpPr>
        <p:spPr>
          <a:xfrm>
            <a:off x="2711520" y="5326200"/>
            <a:ext cx="603720" cy="467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92" name=""/>
          <p:cNvCxnSpPr>
            <a:stCxn id="488" idx="3"/>
            <a:endCxn id="490" idx="1"/>
          </p:cNvCxnSpPr>
          <p:nvPr/>
        </p:nvCxnSpPr>
        <p:spPr>
          <a:xfrm flipV="1">
            <a:off x="4478400" y="5639760"/>
            <a:ext cx="34200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93" name=""/>
          <p:cNvCxnSpPr>
            <a:stCxn id="488" idx="3"/>
            <a:endCxn id="489" idx="1"/>
          </p:cNvCxnSpPr>
          <p:nvPr/>
        </p:nvCxnSpPr>
        <p:spPr>
          <a:xfrm>
            <a:off x="4478400" y="5792400"/>
            <a:ext cx="132480" cy="740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5826600" y="2104920"/>
            <a:ext cx="9478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SymSu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52" idx="3"/>
            <a:endCxn id="494" idx="1"/>
          </p:cNvCxnSpPr>
          <p:nvPr/>
        </p:nvCxnSpPr>
        <p:spPr>
          <a:xfrm flipV="1">
            <a:off x="4646160" y="2277720"/>
            <a:ext cx="1173960" cy="467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312320" y="1438200"/>
            <a:ext cx="858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SymP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444440" y="571680"/>
            <a:ext cx="9954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ongC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47680" y="2048040"/>
            <a:ext cx="7894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P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3"/>
            <a:endCxn id="496" idx="1"/>
          </p:cNvCxnSpPr>
          <p:nvPr/>
        </p:nvCxnSpPr>
        <p:spPr>
          <a:xfrm flipV="1">
            <a:off x="6781680" y="1611000"/>
            <a:ext cx="524880" cy="667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00" name=""/>
          <p:cNvCxnSpPr>
            <a:stCxn id="498" idx="1"/>
            <a:endCxn id="496" idx="3"/>
          </p:cNvCxnSpPr>
          <p:nvPr/>
        </p:nvCxnSpPr>
        <p:spPr>
          <a:xfrm flipH="1" flipV="1">
            <a:off x="8176320" y="1610640"/>
            <a:ext cx="164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01" name=""/>
          <p:cNvCxnSpPr>
            <a:stCxn id="494" idx="3"/>
            <a:endCxn id="497" idx="1"/>
          </p:cNvCxnSpPr>
          <p:nvPr/>
        </p:nvCxnSpPr>
        <p:spPr>
          <a:xfrm flipV="1">
            <a:off x="6781680" y="744120"/>
            <a:ext cx="658080" cy="1534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5760720" y="5143680"/>
            <a:ext cx="83376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455" idx="3"/>
            <a:endCxn id="502" idx="1"/>
          </p:cNvCxnSpPr>
          <p:nvPr/>
        </p:nvCxnSpPr>
        <p:spPr>
          <a:xfrm flipV="1">
            <a:off x="2711160" y="5315760"/>
            <a:ext cx="3042360" cy="10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7055280" y="5734080"/>
            <a:ext cx="7894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P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502" idx="3"/>
            <a:endCxn id="504" idx="1"/>
          </p:cNvCxnSpPr>
          <p:nvPr/>
        </p:nvCxnSpPr>
        <p:spPr>
          <a:xfrm>
            <a:off x="6602040" y="5316120"/>
            <a:ext cx="446760" cy="591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6" name=""/>
          <p:cNvSpPr/>
          <p:nvPr/>
        </p:nvSpPr>
        <p:spPr>
          <a:xfrm>
            <a:off x="7189200" y="5286240"/>
            <a:ext cx="10044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her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502" idx="3"/>
            <a:endCxn id="506" idx="1"/>
          </p:cNvCxnSpPr>
          <p:nvPr/>
        </p:nvCxnSpPr>
        <p:spPr>
          <a:xfrm>
            <a:off x="6602400" y="5316120"/>
            <a:ext cx="580320" cy="143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2472840" y="1851120"/>
            <a:ext cx="4298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50" idx="3"/>
            <a:endCxn id="461" idx="1"/>
          </p:cNvCxnSpPr>
          <p:nvPr/>
        </p:nvCxnSpPr>
        <p:spPr>
          <a:xfrm flipV="1">
            <a:off x="2136600" y="2023560"/>
            <a:ext cx="331200" cy="16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9" name=""/>
          <p:cNvSpPr/>
          <p:nvPr/>
        </p:nvSpPr>
        <p:spPr>
          <a:xfrm>
            <a:off x="5217480" y="5924520"/>
            <a:ext cx="10044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her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88" idx="3"/>
            <a:endCxn id="509" idx="1"/>
          </p:cNvCxnSpPr>
          <p:nvPr/>
        </p:nvCxnSpPr>
        <p:spPr>
          <a:xfrm>
            <a:off x="4478040" y="5792400"/>
            <a:ext cx="73260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4970160" y="4314960"/>
            <a:ext cx="7102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3"/>
            <a:endCxn id="511" idx="1"/>
          </p:cNvCxnSpPr>
          <p:nvPr/>
        </p:nvCxnSpPr>
        <p:spPr>
          <a:xfrm>
            <a:off x="3681000" y="3976560"/>
            <a:ext cx="1281600" cy="511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940920" y="3295800"/>
            <a:ext cx="8794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G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457" idx="3"/>
            <a:endCxn id="514" idx="1"/>
          </p:cNvCxnSpPr>
          <p:nvPr/>
        </p:nvCxnSpPr>
        <p:spPr>
          <a:xfrm flipV="1">
            <a:off x="2793960" y="3468240"/>
            <a:ext cx="114048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16" name=""/>
          <p:cNvSpPr/>
          <p:nvPr/>
        </p:nvSpPr>
        <p:spPr>
          <a:xfrm>
            <a:off x="3092760" y="3067200"/>
            <a:ext cx="5076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457" idx="3"/>
            <a:endCxn id="516" idx="1"/>
          </p:cNvCxnSpPr>
          <p:nvPr/>
        </p:nvCxnSpPr>
        <p:spPr>
          <a:xfrm flipV="1">
            <a:off x="2793960" y="3239280"/>
            <a:ext cx="293040" cy="661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7493760" y="3429000"/>
            <a:ext cx="5302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20" idx="3"/>
            <a:endCxn id="518" idx="1"/>
          </p:cNvCxnSpPr>
          <p:nvPr/>
        </p:nvCxnSpPr>
        <p:spPr>
          <a:xfrm flipV="1">
            <a:off x="6951600" y="3602160"/>
            <a:ext cx="535680" cy="638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6054120" y="4067280"/>
            <a:ext cx="89172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CPar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3" idx="3"/>
            <a:endCxn id="520" idx="1"/>
          </p:cNvCxnSpPr>
          <p:nvPr/>
        </p:nvCxnSpPr>
        <p:spPr>
          <a:xfrm>
            <a:off x="3681000" y="3976560"/>
            <a:ext cx="2367720" cy="264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7511040" y="3924360"/>
            <a:ext cx="768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520" idx="3"/>
            <a:endCxn id="522" idx="1"/>
          </p:cNvCxnSpPr>
          <p:nvPr/>
        </p:nvCxnSpPr>
        <p:spPr>
          <a:xfrm flipV="1">
            <a:off x="6951240" y="4096440"/>
            <a:ext cx="554760" cy="143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4921920" y="3638520"/>
            <a:ext cx="768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Elli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13" idx="3"/>
            <a:endCxn id="524" idx="1"/>
          </p:cNvCxnSpPr>
          <p:nvPr/>
        </p:nvCxnSpPr>
        <p:spPr>
          <a:xfrm flipV="1">
            <a:off x="3681000" y="3811320"/>
            <a:ext cx="1234440" cy="165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6" name=""/>
          <p:cNvSpPr/>
          <p:nvPr/>
        </p:nvSpPr>
        <p:spPr>
          <a:xfrm>
            <a:off x="4664160" y="343080"/>
            <a:ext cx="81252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Edg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462" idx="3"/>
            <a:endCxn id="526" idx="1"/>
          </p:cNvCxnSpPr>
          <p:nvPr/>
        </p:nvCxnSpPr>
        <p:spPr>
          <a:xfrm flipV="1">
            <a:off x="4381200" y="515160"/>
            <a:ext cx="276840" cy="26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4406040" y="4838760"/>
            <a:ext cx="80172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UnB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474" idx="3"/>
            <a:endCxn id="528" idx="1"/>
          </p:cNvCxnSpPr>
          <p:nvPr/>
        </p:nvCxnSpPr>
        <p:spPr>
          <a:xfrm>
            <a:off x="3532320" y="4773240"/>
            <a:ext cx="869040" cy="238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0" name=""/>
          <p:cNvSpPr/>
          <p:nvPr/>
        </p:nvSpPr>
        <p:spPr>
          <a:xfrm>
            <a:off x="3844440" y="4381560"/>
            <a:ext cx="54252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B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474" idx="3"/>
            <a:endCxn id="530" idx="1"/>
          </p:cNvCxnSpPr>
          <p:nvPr/>
        </p:nvCxnSpPr>
        <p:spPr>
          <a:xfrm flipV="1">
            <a:off x="3531960" y="4553640"/>
            <a:ext cx="306720" cy="2199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3273120" y="1994040"/>
            <a:ext cx="37332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461" idx="3"/>
            <a:endCxn id="454" idx="1"/>
          </p:cNvCxnSpPr>
          <p:nvPr/>
        </p:nvCxnSpPr>
        <p:spPr>
          <a:xfrm>
            <a:off x="2908440" y="2023560"/>
            <a:ext cx="358920" cy="143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13" name=""/>
          <p:cNvSpPr/>
          <p:nvPr/>
        </p:nvSpPr>
        <p:spPr>
          <a:xfrm>
            <a:off x="3301920" y="3803760"/>
            <a:ext cx="37332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457" idx="3"/>
            <a:endCxn id="513" idx="1"/>
          </p:cNvCxnSpPr>
          <p:nvPr/>
        </p:nvCxnSpPr>
        <p:spPr>
          <a:xfrm>
            <a:off x="2793960" y="3900240"/>
            <a:ext cx="50256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3159000" y="2606760"/>
            <a:ext cx="768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a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461" idx="3"/>
            <a:endCxn id="534" idx="1"/>
          </p:cNvCxnSpPr>
          <p:nvPr/>
        </p:nvCxnSpPr>
        <p:spPr>
          <a:xfrm>
            <a:off x="2908080" y="2023560"/>
            <a:ext cx="244800" cy="756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6" name=""/>
          <p:cNvSpPr/>
          <p:nvPr/>
        </p:nvSpPr>
        <p:spPr>
          <a:xfrm>
            <a:off x="8143200" y="4362480"/>
            <a:ext cx="858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8" idx="3"/>
            <a:endCxn id="536" idx="1"/>
          </p:cNvCxnSpPr>
          <p:nvPr/>
        </p:nvCxnSpPr>
        <p:spPr>
          <a:xfrm flipV="1">
            <a:off x="7783200" y="4535280"/>
            <a:ext cx="353160" cy="343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132320" y="4705200"/>
            <a:ext cx="64476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Ax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02" idx="3"/>
            <a:endCxn id="538" idx="1"/>
          </p:cNvCxnSpPr>
          <p:nvPr/>
        </p:nvCxnSpPr>
        <p:spPr>
          <a:xfrm flipV="1">
            <a:off x="6602040" y="4877640"/>
            <a:ext cx="524160" cy="438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8189640" y="4848120"/>
            <a:ext cx="7574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38" idx="3"/>
            <a:endCxn id="540" idx="1"/>
          </p:cNvCxnSpPr>
          <p:nvPr/>
        </p:nvCxnSpPr>
        <p:spPr>
          <a:xfrm>
            <a:off x="7783200" y="4878000"/>
            <a:ext cx="400680" cy="143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94920" y="43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sure Definition Model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552920" y="5013360"/>
            <a:ext cx="1660680" cy="1179360"/>
            <a:chOff x="4552920" y="5013360"/>
            <a:chExt cx="1660680" cy="1179360"/>
          </a:xfrm>
        </p:grpSpPr>
        <p:sp>
          <p:nvSpPr>
            <p:cNvPr id="544" name=""/>
            <p:cNvSpPr/>
            <p:nvPr/>
          </p:nvSpPr>
          <p:spPr>
            <a:xfrm>
              <a:off x="4552920" y="5013360"/>
              <a:ext cx="1660680" cy="1179360"/>
            </a:xfrm>
            <a:custGeom>
              <a:avLst/>
              <a:gdLst/>
              <a:ahLst/>
              <a:rect l="l" t="t" r="r" b="b"/>
              <a:pathLst>
                <a:path w="1046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4" y="35"/>
                  </a:lnTo>
                  <a:lnTo>
                    <a:pt x="254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5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6" y="45"/>
                  </a:lnTo>
                  <a:lnTo>
                    <a:pt x="366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7" y="55"/>
                  </a:lnTo>
                  <a:lnTo>
                    <a:pt x="417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8" y="69"/>
                  </a:lnTo>
                  <a:lnTo>
                    <a:pt x="478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19" y="76"/>
                  </a:lnTo>
                  <a:lnTo>
                    <a:pt x="529" y="76"/>
                  </a:lnTo>
                  <a:lnTo>
                    <a:pt x="539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0" y="66"/>
                  </a:lnTo>
                  <a:lnTo>
                    <a:pt x="577" y="55"/>
                  </a:lnTo>
                  <a:lnTo>
                    <a:pt x="587" y="52"/>
                  </a:lnTo>
                  <a:lnTo>
                    <a:pt x="597" y="42"/>
                  </a:lnTo>
                  <a:lnTo>
                    <a:pt x="607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8" y="7"/>
                  </a:lnTo>
                  <a:lnTo>
                    <a:pt x="658" y="3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699" y="0"/>
                  </a:lnTo>
                  <a:lnTo>
                    <a:pt x="709" y="3"/>
                  </a:lnTo>
                  <a:lnTo>
                    <a:pt x="719" y="10"/>
                  </a:lnTo>
                  <a:lnTo>
                    <a:pt x="729" y="14"/>
                  </a:lnTo>
                  <a:lnTo>
                    <a:pt x="740" y="17"/>
                  </a:lnTo>
                  <a:lnTo>
                    <a:pt x="750" y="21"/>
                  </a:lnTo>
                  <a:lnTo>
                    <a:pt x="760" y="28"/>
                  </a:lnTo>
                  <a:lnTo>
                    <a:pt x="770" y="31"/>
                  </a:lnTo>
                  <a:lnTo>
                    <a:pt x="780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1" y="55"/>
                  </a:lnTo>
                  <a:lnTo>
                    <a:pt x="821" y="62"/>
                  </a:lnTo>
                  <a:lnTo>
                    <a:pt x="831" y="69"/>
                  </a:lnTo>
                  <a:lnTo>
                    <a:pt x="841" y="76"/>
                  </a:lnTo>
                  <a:lnTo>
                    <a:pt x="852" y="83"/>
                  </a:lnTo>
                  <a:lnTo>
                    <a:pt x="862" y="90"/>
                  </a:lnTo>
                  <a:lnTo>
                    <a:pt x="872" y="94"/>
                  </a:lnTo>
                  <a:lnTo>
                    <a:pt x="882" y="97"/>
                  </a:lnTo>
                  <a:lnTo>
                    <a:pt x="892" y="101"/>
                  </a:lnTo>
                  <a:lnTo>
                    <a:pt x="903" y="101"/>
                  </a:lnTo>
                  <a:lnTo>
                    <a:pt x="913" y="104"/>
                  </a:lnTo>
                  <a:lnTo>
                    <a:pt x="923" y="107"/>
                  </a:lnTo>
                  <a:lnTo>
                    <a:pt x="933" y="107"/>
                  </a:lnTo>
                  <a:lnTo>
                    <a:pt x="943" y="107"/>
                  </a:lnTo>
                  <a:lnTo>
                    <a:pt x="953" y="111"/>
                  </a:lnTo>
                  <a:lnTo>
                    <a:pt x="964" y="114"/>
                  </a:lnTo>
                  <a:lnTo>
                    <a:pt x="974" y="118"/>
                  </a:lnTo>
                  <a:lnTo>
                    <a:pt x="984" y="121"/>
                  </a:lnTo>
                  <a:lnTo>
                    <a:pt x="994" y="125"/>
                  </a:lnTo>
                  <a:lnTo>
                    <a:pt x="1004" y="135"/>
                  </a:lnTo>
                  <a:lnTo>
                    <a:pt x="1014" y="142"/>
                  </a:lnTo>
                  <a:lnTo>
                    <a:pt x="1025" y="153"/>
                  </a:lnTo>
                  <a:lnTo>
                    <a:pt x="1031" y="163"/>
                  </a:lnTo>
                  <a:lnTo>
                    <a:pt x="1038" y="173"/>
                  </a:lnTo>
                  <a:lnTo>
                    <a:pt x="1038" y="184"/>
                  </a:lnTo>
                  <a:lnTo>
                    <a:pt x="1045" y="194"/>
                  </a:lnTo>
                  <a:lnTo>
                    <a:pt x="1045" y="205"/>
                  </a:lnTo>
                  <a:lnTo>
                    <a:pt x="1045" y="215"/>
                  </a:lnTo>
                  <a:lnTo>
                    <a:pt x="1042" y="225"/>
                  </a:lnTo>
                  <a:lnTo>
                    <a:pt x="1035" y="236"/>
                  </a:lnTo>
                  <a:lnTo>
                    <a:pt x="1025" y="243"/>
                  </a:lnTo>
                  <a:lnTo>
                    <a:pt x="1018" y="253"/>
                  </a:lnTo>
                  <a:lnTo>
                    <a:pt x="1011" y="264"/>
                  </a:lnTo>
                  <a:lnTo>
                    <a:pt x="1004" y="274"/>
                  </a:lnTo>
                  <a:lnTo>
                    <a:pt x="998" y="284"/>
                  </a:lnTo>
                  <a:lnTo>
                    <a:pt x="991" y="295"/>
                  </a:lnTo>
                  <a:lnTo>
                    <a:pt x="984" y="305"/>
                  </a:lnTo>
                  <a:lnTo>
                    <a:pt x="977" y="316"/>
                  </a:lnTo>
                  <a:lnTo>
                    <a:pt x="970" y="326"/>
                  </a:lnTo>
                  <a:lnTo>
                    <a:pt x="967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0" y="368"/>
                  </a:lnTo>
                  <a:lnTo>
                    <a:pt x="957" y="378"/>
                  </a:lnTo>
                  <a:lnTo>
                    <a:pt x="957" y="388"/>
                  </a:lnTo>
                  <a:lnTo>
                    <a:pt x="957" y="399"/>
                  </a:lnTo>
                  <a:lnTo>
                    <a:pt x="957" y="409"/>
                  </a:lnTo>
                  <a:lnTo>
                    <a:pt x="957" y="420"/>
                  </a:lnTo>
                  <a:lnTo>
                    <a:pt x="957" y="430"/>
                  </a:lnTo>
                  <a:lnTo>
                    <a:pt x="960" y="440"/>
                  </a:lnTo>
                  <a:lnTo>
                    <a:pt x="967" y="451"/>
                  </a:lnTo>
                  <a:lnTo>
                    <a:pt x="970" y="461"/>
                  </a:lnTo>
                  <a:lnTo>
                    <a:pt x="974" y="472"/>
                  </a:lnTo>
                  <a:lnTo>
                    <a:pt x="977" y="482"/>
                  </a:lnTo>
                  <a:lnTo>
                    <a:pt x="977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7" y="555"/>
                  </a:lnTo>
                  <a:lnTo>
                    <a:pt x="974" y="565"/>
                  </a:lnTo>
                  <a:lnTo>
                    <a:pt x="970" y="576"/>
                  </a:lnTo>
                  <a:lnTo>
                    <a:pt x="964" y="586"/>
                  </a:lnTo>
                  <a:lnTo>
                    <a:pt x="953" y="593"/>
                  </a:lnTo>
                  <a:lnTo>
                    <a:pt x="943" y="600"/>
                  </a:lnTo>
                  <a:lnTo>
                    <a:pt x="933" y="603"/>
                  </a:lnTo>
                  <a:lnTo>
                    <a:pt x="923" y="610"/>
                  </a:lnTo>
                  <a:lnTo>
                    <a:pt x="913" y="614"/>
                  </a:lnTo>
                  <a:lnTo>
                    <a:pt x="903" y="617"/>
                  </a:lnTo>
                  <a:lnTo>
                    <a:pt x="892" y="621"/>
                  </a:lnTo>
                  <a:lnTo>
                    <a:pt x="882" y="624"/>
                  </a:lnTo>
                  <a:lnTo>
                    <a:pt x="872" y="624"/>
                  </a:lnTo>
                  <a:lnTo>
                    <a:pt x="862" y="624"/>
                  </a:lnTo>
                  <a:lnTo>
                    <a:pt x="852" y="624"/>
                  </a:lnTo>
                  <a:lnTo>
                    <a:pt x="841" y="624"/>
                  </a:lnTo>
                  <a:lnTo>
                    <a:pt x="831" y="624"/>
                  </a:lnTo>
                  <a:lnTo>
                    <a:pt x="821" y="624"/>
                  </a:lnTo>
                  <a:lnTo>
                    <a:pt x="811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0" y="617"/>
                  </a:lnTo>
                  <a:lnTo>
                    <a:pt x="770" y="614"/>
                  </a:lnTo>
                  <a:lnTo>
                    <a:pt x="760" y="610"/>
                  </a:lnTo>
                  <a:lnTo>
                    <a:pt x="750" y="603"/>
                  </a:lnTo>
                  <a:lnTo>
                    <a:pt x="740" y="600"/>
                  </a:lnTo>
                  <a:lnTo>
                    <a:pt x="729" y="596"/>
                  </a:lnTo>
                  <a:lnTo>
                    <a:pt x="719" y="596"/>
                  </a:lnTo>
                  <a:lnTo>
                    <a:pt x="709" y="596"/>
                  </a:lnTo>
                  <a:lnTo>
                    <a:pt x="699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8" y="596"/>
                  </a:lnTo>
                  <a:lnTo>
                    <a:pt x="658" y="603"/>
                  </a:lnTo>
                  <a:lnTo>
                    <a:pt x="648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7" y="635"/>
                  </a:lnTo>
                  <a:lnTo>
                    <a:pt x="597" y="641"/>
                  </a:lnTo>
                  <a:lnTo>
                    <a:pt x="587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6" y="669"/>
                  </a:lnTo>
                  <a:lnTo>
                    <a:pt x="546" y="676"/>
                  </a:lnTo>
                  <a:lnTo>
                    <a:pt x="536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5" y="704"/>
                  </a:lnTo>
                  <a:lnTo>
                    <a:pt x="485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4" y="728"/>
                  </a:lnTo>
                  <a:lnTo>
                    <a:pt x="434" y="735"/>
                  </a:lnTo>
                  <a:lnTo>
                    <a:pt x="424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3" y="742"/>
                  </a:lnTo>
                  <a:lnTo>
                    <a:pt x="373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2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1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1" y="555"/>
                  </a:lnTo>
                  <a:lnTo>
                    <a:pt x="258" y="544"/>
                  </a:lnTo>
                  <a:lnTo>
                    <a:pt x="254" y="534"/>
                  </a:lnTo>
                  <a:lnTo>
                    <a:pt x="251" y="524"/>
                  </a:lnTo>
                  <a:lnTo>
                    <a:pt x="244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3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1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98440" y="5119560"/>
              <a:ext cx="12499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ordin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ys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105680" y="3857760"/>
            <a:ext cx="1662120" cy="1179360"/>
            <a:chOff x="7105680" y="3857760"/>
            <a:chExt cx="1662120" cy="1179360"/>
          </a:xfrm>
        </p:grpSpPr>
        <p:sp>
          <p:nvSpPr>
            <p:cNvPr id="547" name=""/>
            <p:cNvSpPr/>
            <p:nvPr/>
          </p:nvSpPr>
          <p:spPr>
            <a:xfrm>
              <a:off x="7105680" y="3857760"/>
              <a:ext cx="1662120" cy="1179360"/>
            </a:xfrm>
            <a:custGeom>
              <a:avLst/>
              <a:gdLst/>
              <a:ahLst/>
              <a:rect l="l" t="t" r="r" b="b"/>
              <a:pathLst>
                <a:path w="1047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5" y="35"/>
                  </a:lnTo>
                  <a:lnTo>
                    <a:pt x="255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6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7" y="45"/>
                  </a:lnTo>
                  <a:lnTo>
                    <a:pt x="367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8" y="55"/>
                  </a:lnTo>
                  <a:lnTo>
                    <a:pt x="418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9" y="69"/>
                  </a:lnTo>
                  <a:lnTo>
                    <a:pt x="479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20" y="76"/>
                  </a:lnTo>
                  <a:lnTo>
                    <a:pt x="530" y="76"/>
                  </a:lnTo>
                  <a:lnTo>
                    <a:pt x="540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1" y="66"/>
                  </a:lnTo>
                  <a:lnTo>
                    <a:pt x="577" y="55"/>
                  </a:lnTo>
                  <a:lnTo>
                    <a:pt x="588" y="52"/>
                  </a:lnTo>
                  <a:lnTo>
                    <a:pt x="598" y="42"/>
                  </a:lnTo>
                  <a:lnTo>
                    <a:pt x="608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9" y="7"/>
                  </a:lnTo>
                  <a:lnTo>
                    <a:pt x="659" y="3"/>
                  </a:lnTo>
                  <a:lnTo>
                    <a:pt x="669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700" y="0"/>
                  </a:lnTo>
                  <a:lnTo>
                    <a:pt x="710" y="3"/>
                  </a:lnTo>
                  <a:lnTo>
                    <a:pt x="720" y="10"/>
                  </a:lnTo>
                  <a:lnTo>
                    <a:pt x="730" y="14"/>
                  </a:lnTo>
                  <a:lnTo>
                    <a:pt x="740" y="17"/>
                  </a:lnTo>
                  <a:lnTo>
                    <a:pt x="751" y="21"/>
                  </a:lnTo>
                  <a:lnTo>
                    <a:pt x="761" y="28"/>
                  </a:lnTo>
                  <a:lnTo>
                    <a:pt x="771" y="31"/>
                  </a:lnTo>
                  <a:lnTo>
                    <a:pt x="781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2" y="55"/>
                  </a:lnTo>
                  <a:lnTo>
                    <a:pt x="822" y="62"/>
                  </a:lnTo>
                  <a:lnTo>
                    <a:pt x="832" y="69"/>
                  </a:lnTo>
                  <a:lnTo>
                    <a:pt x="842" y="76"/>
                  </a:lnTo>
                  <a:lnTo>
                    <a:pt x="852" y="83"/>
                  </a:lnTo>
                  <a:lnTo>
                    <a:pt x="863" y="90"/>
                  </a:lnTo>
                  <a:lnTo>
                    <a:pt x="873" y="94"/>
                  </a:lnTo>
                  <a:lnTo>
                    <a:pt x="883" y="97"/>
                  </a:lnTo>
                  <a:lnTo>
                    <a:pt x="893" y="101"/>
                  </a:lnTo>
                  <a:lnTo>
                    <a:pt x="903" y="101"/>
                  </a:lnTo>
                  <a:lnTo>
                    <a:pt x="914" y="104"/>
                  </a:lnTo>
                  <a:lnTo>
                    <a:pt x="924" y="107"/>
                  </a:lnTo>
                  <a:lnTo>
                    <a:pt x="934" y="107"/>
                  </a:lnTo>
                  <a:lnTo>
                    <a:pt x="944" y="107"/>
                  </a:lnTo>
                  <a:lnTo>
                    <a:pt x="954" y="111"/>
                  </a:lnTo>
                  <a:lnTo>
                    <a:pt x="964" y="114"/>
                  </a:lnTo>
                  <a:lnTo>
                    <a:pt x="975" y="118"/>
                  </a:lnTo>
                  <a:lnTo>
                    <a:pt x="985" y="121"/>
                  </a:lnTo>
                  <a:lnTo>
                    <a:pt x="995" y="125"/>
                  </a:lnTo>
                  <a:lnTo>
                    <a:pt x="1005" y="135"/>
                  </a:lnTo>
                  <a:lnTo>
                    <a:pt x="1015" y="142"/>
                  </a:lnTo>
                  <a:lnTo>
                    <a:pt x="1026" y="153"/>
                  </a:lnTo>
                  <a:lnTo>
                    <a:pt x="1032" y="163"/>
                  </a:lnTo>
                  <a:lnTo>
                    <a:pt x="1039" y="173"/>
                  </a:lnTo>
                  <a:lnTo>
                    <a:pt x="1039" y="184"/>
                  </a:lnTo>
                  <a:lnTo>
                    <a:pt x="1046" y="194"/>
                  </a:lnTo>
                  <a:lnTo>
                    <a:pt x="1046" y="205"/>
                  </a:lnTo>
                  <a:lnTo>
                    <a:pt x="1046" y="215"/>
                  </a:lnTo>
                  <a:lnTo>
                    <a:pt x="1043" y="225"/>
                  </a:lnTo>
                  <a:lnTo>
                    <a:pt x="1036" y="236"/>
                  </a:lnTo>
                  <a:lnTo>
                    <a:pt x="1026" y="243"/>
                  </a:lnTo>
                  <a:lnTo>
                    <a:pt x="1019" y="253"/>
                  </a:lnTo>
                  <a:lnTo>
                    <a:pt x="1012" y="264"/>
                  </a:lnTo>
                  <a:lnTo>
                    <a:pt x="1005" y="274"/>
                  </a:lnTo>
                  <a:lnTo>
                    <a:pt x="998" y="284"/>
                  </a:lnTo>
                  <a:lnTo>
                    <a:pt x="992" y="295"/>
                  </a:lnTo>
                  <a:lnTo>
                    <a:pt x="985" y="305"/>
                  </a:lnTo>
                  <a:lnTo>
                    <a:pt x="978" y="316"/>
                  </a:lnTo>
                  <a:lnTo>
                    <a:pt x="971" y="326"/>
                  </a:lnTo>
                  <a:lnTo>
                    <a:pt x="968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1" y="368"/>
                  </a:lnTo>
                  <a:lnTo>
                    <a:pt x="958" y="378"/>
                  </a:lnTo>
                  <a:lnTo>
                    <a:pt x="958" y="388"/>
                  </a:lnTo>
                  <a:lnTo>
                    <a:pt x="958" y="399"/>
                  </a:lnTo>
                  <a:lnTo>
                    <a:pt x="958" y="409"/>
                  </a:lnTo>
                  <a:lnTo>
                    <a:pt x="958" y="420"/>
                  </a:lnTo>
                  <a:lnTo>
                    <a:pt x="958" y="430"/>
                  </a:lnTo>
                  <a:lnTo>
                    <a:pt x="961" y="440"/>
                  </a:lnTo>
                  <a:lnTo>
                    <a:pt x="968" y="451"/>
                  </a:lnTo>
                  <a:lnTo>
                    <a:pt x="971" y="461"/>
                  </a:lnTo>
                  <a:lnTo>
                    <a:pt x="975" y="472"/>
                  </a:lnTo>
                  <a:lnTo>
                    <a:pt x="978" y="482"/>
                  </a:lnTo>
                  <a:lnTo>
                    <a:pt x="978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8" y="555"/>
                  </a:lnTo>
                  <a:lnTo>
                    <a:pt x="975" y="565"/>
                  </a:lnTo>
                  <a:lnTo>
                    <a:pt x="971" y="576"/>
                  </a:lnTo>
                  <a:lnTo>
                    <a:pt x="964" y="586"/>
                  </a:lnTo>
                  <a:lnTo>
                    <a:pt x="954" y="593"/>
                  </a:lnTo>
                  <a:lnTo>
                    <a:pt x="944" y="600"/>
                  </a:lnTo>
                  <a:lnTo>
                    <a:pt x="934" y="603"/>
                  </a:lnTo>
                  <a:lnTo>
                    <a:pt x="924" y="610"/>
                  </a:lnTo>
                  <a:lnTo>
                    <a:pt x="914" y="614"/>
                  </a:lnTo>
                  <a:lnTo>
                    <a:pt x="903" y="617"/>
                  </a:lnTo>
                  <a:lnTo>
                    <a:pt x="893" y="621"/>
                  </a:lnTo>
                  <a:lnTo>
                    <a:pt x="883" y="624"/>
                  </a:lnTo>
                  <a:lnTo>
                    <a:pt x="873" y="624"/>
                  </a:lnTo>
                  <a:lnTo>
                    <a:pt x="863" y="624"/>
                  </a:lnTo>
                  <a:lnTo>
                    <a:pt x="852" y="624"/>
                  </a:lnTo>
                  <a:lnTo>
                    <a:pt x="842" y="624"/>
                  </a:lnTo>
                  <a:lnTo>
                    <a:pt x="832" y="624"/>
                  </a:lnTo>
                  <a:lnTo>
                    <a:pt x="822" y="624"/>
                  </a:lnTo>
                  <a:lnTo>
                    <a:pt x="812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1" y="617"/>
                  </a:lnTo>
                  <a:lnTo>
                    <a:pt x="771" y="614"/>
                  </a:lnTo>
                  <a:lnTo>
                    <a:pt x="761" y="610"/>
                  </a:lnTo>
                  <a:lnTo>
                    <a:pt x="751" y="603"/>
                  </a:lnTo>
                  <a:lnTo>
                    <a:pt x="740" y="600"/>
                  </a:lnTo>
                  <a:lnTo>
                    <a:pt x="730" y="596"/>
                  </a:lnTo>
                  <a:lnTo>
                    <a:pt x="720" y="596"/>
                  </a:lnTo>
                  <a:lnTo>
                    <a:pt x="710" y="596"/>
                  </a:lnTo>
                  <a:lnTo>
                    <a:pt x="700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9" y="596"/>
                  </a:lnTo>
                  <a:lnTo>
                    <a:pt x="659" y="603"/>
                  </a:lnTo>
                  <a:lnTo>
                    <a:pt x="649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8" y="635"/>
                  </a:lnTo>
                  <a:lnTo>
                    <a:pt x="598" y="641"/>
                  </a:lnTo>
                  <a:lnTo>
                    <a:pt x="588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7" y="669"/>
                  </a:lnTo>
                  <a:lnTo>
                    <a:pt x="547" y="676"/>
                  </a:lnTo>
                  <a:lnTo>
                    <a:pt x="537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6" y="704"/>
                  </a:lnTo>
                  <a:lnTo>
                    <a:pt x="486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5" y="728"/>
                  </a:lnTo>
                  <a:lnTo>
                    <a:pt x="435" y="735"/>
                  </a:lnTo>
                  <a:lnTo>
                    <a:pt x="425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4" y="742"/>
                  </a:lnTo>
                  <a:lnTo>
                    <a:pt x="374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3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2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2" y="555"/>
                  </a:lnTo>
                  <a:lnTo>
                    <a:pt x="258" y="544"/>
                  </a:lnTo>
                  <a:lnTo>
                    <a:pt x="255" y="534"/>
                  </a:lnTo>
                  <a:lnTo>
                    <a:pt x="251" y="524"/>
                  </a:lnTo>
                  <a:lnTo>
                    <a:pt x="245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4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2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12040" y="4010040"/>
              <a:ext cx="12178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097080" y="1347840"/>
            <a:ext cx="1662120" cy="1179360"/>
            <a:chOff x="3097080" y="1347840"/>
            <a:chExt cx="1662120" cy="1179360"/>
          </a:xfrm>
        </p:grpSpPr>
        <p:sp>
          <p:nvSpPr>
            <p:cNvPr id="550" name=""/>
            <p:cNvSpPr/>
            <p:nvPr/>
          </p:nvSpPr>
          <p:spPr>
            <a:xfrm>
              <a:off x="3097080" y="1347840"/>
              <a:ext cx="1662120" cy="1179360"/>
            </a:xfrm>
            <a:custGeom>
              <a:avLst/>
              <a:gdLst/>
              <a:ahLst/>
              <a:rect l="l" t="t" r="r" b="b"/>
              <a:pathLst>
                <a:path w="1047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5" y="35"/>
                  </a:lnTo>
                  <a:lnTo>
                    <a:pt x="255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6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7" y="45"/>
                  </a:lnTo>
                  <a:lnTo>
                    <a:pt x="367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8" y="55"/>
                  </a:lnTo>
                  <a:lnTo>
                    <a:pt x="418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9" y="69"/>
                  </a:lnTo>
                  <a:lnTo>
                    <a:pt x="479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20" y="76"/>
                  </a:lnTo>
                  <a:lnTo>
                    <a:pt x="530" y="76"/>
                  </a:lnTo>
                  <a:lnTo>
                    <a:pt x="540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1" y="66"/>
                  </a:lnTo>
                  <a:lnTo>
                    <a:pt x="577" y="55"/>
                  </a:lnTo>
                  <a:lnTo>
                    <a:pt x="588" y="52"/>
                  </a:lnTo>
                  <a:lnTo>
                    <a:pt x="598" y="42"/>
                  </a:lnTo>
                  <a:lnTo>
                    <a:pt x="608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9" y="7"/>
                  </a:lnTo>
                  <a:lnTo>
                    <a:pt x="659" y="3"/>
                  </a:lnTo>
                  <a:lnTo>
                    <a:pt x="669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700" y="0"/>
                  </a:lnTo>
                  <a:lnTo>
                    <a:pt x="710" y="3"/>
                  </a:lnTo>
                  <a:lnTo>
                    <a:pt x="720" y="10"/>
                  </a:lnTo>
                  <a:lnTo>
                    <a:pt x="730" y="14"/>
                  </a:lnTo>
                  <a:lnTo>
                    <a:pt x="740" y="17"/>
                  </a:lnTo>
                  <a:lnTo>
                    <a:pt x="751" y="21"/>
                  </a:lnTo>
                  <a:lnTo>
                    <a:pt x="761" y="28"/>
                  </a:lnTo>
                  <a:lnTo>
                    <a:pt x="771" y="31"/>
                  </a:lnTo>
                  <a:lnTo>
                    <a:pt x="781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2" y="55"/>
                  </a:lnTo>
                  <a:lnTo>
                    <a:pt x="822" y="62"/>
                  </a:lnTo>
                  <a:lnTo>
                    <a:pt x="832" y="69"/>
                  </a:lnTo>
                  <a:lnTo>
                    <a:pt x="842" y="76"/>
                  </a:lnTo>
                  <a:lnTo>
                    <a:pt x="852" y="83"/>
                  </a:lnTo>
                  <a:lnTo>
                    <a:pt x="863" y="90"/>
                  </a:lnTo>
                  <a:lnTo>
                    <a:pt x="873" y="94"/>
                  </a:lnTo>
                  <a:lnTo>
                    <a:pt x="883" y="97"/>
                  </a:lnTo>
                  <a:lnTo>
                    <a:pt x="893" y="101"/>
                  </a:lnTo>
                  <a:lnTo>
                    <a:pt x="903" y="101"/>
                  </a:lnTo>
                  <a:lnTo>
                    <a:pt x="914" y="104"/>
                  </a:lnTo>
                  <a:lnTo>
                    <a:pt x="924" y="107"/>
                  </a:lnTo>
                  <a:lnTo>
                    <a:pt x="934" y="107"/>
                  </a:lnTo>
                  <a:lnTo>
                    <a:pt x="944" y="107"/>
                  </a:lnTo>
                  <a:lnTo>
                    <a:pt x="954" y="111"/>
                  </a:lnTo>
                  <a:lnTo>
                    <a:pt x="964" y="114"/>
                  </a:lnTo>
                  <a:lnTo>
                    <a:pt x="975" y="118"/>
                  </a:lnTo>
                  <a:lnTo>
                    <a:pt x="985" y="121"/>
                  </a:lnTo>
                  <a:lnTo>
                    <a:pt x="995" y="125"/>
                  </a:lnTo>
                  <a:lnTo>
                    <a:pt x="1005" y="135"/>
                  </a:lnTo>
                  <a:lnTo>
                    <a:pt x="1015" y="142"/>
                  </a:lnTo>
                  <a:lnTo>
                    <a:pt x="1026" y="153"/>
                  </a:lnTo>
                  <a:lnTo>
                    <a:pt x="1032" y="163"/>
                  </a:lnTo>
                  <a:lnTo>
                    <a:pt x="1039" y="173"/>
                  </a:lnTo>
                  <a:lnTo>
                    <a:pt x="1039" y="184"/>
                  </a:lnTo>
                  <a:lnTo>
                    <a:pt x="1046" y="194"/>
                  </a:lnTo>
                  <a:lnTo>
                    <a:pt x="1046" y="205"/>
                  </a:lnTo>
                  <a:lnTo>
                    <a:pt x="1046" y="215"/>
                  </a:lnTo>
                  <a:lnTo>
                    <a:pt x="1043" y="225"/>
                  </a:lnTo>
                  <a:lnTo>
                    <a:pt x="1036" y="236"/>
                  </a:lnTo>
                  <a:lnTo>
                    <a:pt x="1026" y="243"/>
                  </a:lnTo>
                  <a:lnTo>
                    <a:pt x="1019" y="253"/>
                  </a:lnTo>
                  <a:lnTo>
                    <a:pt x="1012" y="264"/>
                  </a:lnTo>
                  <a:lnTo>
                    <a:pt x="1005" y="274"/>
                  </a:lnTo>
                  <a:lnTo>
                    <a:pt x="998" y="284"/>
                  </a:lnTo>
                  <a:lnTo>
                    <a:pt x="992" y="295"/>
                  </a:lnTo>
                  <a:lnTo>
                    <a:pt x="985" y="305"/>
                  </a:lnTo>
                  <a:lnTo>
                    <a:pt x="978" y="316"/>
                  </a:lnTo>
                  <a:lnTo>
                    <a:pt x="971" y="326"/>
                  </a:lnTo>
                  <a:lnTo>
                    <a:pt x="968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1" y="368"/>
                  </a:lnTo>
                  <a:lnTo>
                    <a:pt x="958" y="378"/>
                  </a:lnTo>
                  <a:lnTo>
                    <a:pt x="958" y="388"/>
                  </a:lnTo>
                  <a:lnTo>
                    <a:pt x="958" y="399"/>
                  </a:lnTo>
                  <a:lnTo>
                    <a:pt x="958" y="409"/>
                  </a:lnTo>
                  <a:lnTo>
                    <a:pt x="958" y="420"/>
                  </a:lnTo>
                  <a:lnTo>
                    <a:pt x="958" y="430"/>
                  </a:lnTo>
                  <a:lnTo>
                    <a:pt x="961" y="440"/>
                  </a:lnTo>
                  <a:lnTo>
                    <a:pt x="968" y="451"/>
                  </a:lnTo>
                  <a:lnTo>
                    <a:pt x="971" y="461"/>
                  </a:lnTo>
                  <a:lnTo>
                    <a:pt x="975" y="472"/>
                  </a:lnTo>
                  <a:lnTo>
                    <a:pt x="978" y="482"/>
                  </a:lnTo>
                  <a:lnTo>
                    <a:pt x="978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8" y="555"/>
                  </a:lnTo>
                  <a:lnTo>
                    <a:pt x="975" y="565"/>
                  </a:lnTo>
                  <a:lnTo>
                    <a:pt x="971" y="576"/>
                  </a:lnTo>
                  <a:lnTo>
                    <a:pt x="964" y="586"/>
                  </a:lnTo>
                  <a:lnTo>
                    <a:pt x="954" y="593"/>
                  </a:lnTo>
                  <a:lnTo>
                    <a:pt x="944" y="600"/>
                  </a:lnTo>
                  <a:lnTo>
                    <a:pt x="934" y="603"/>
                  </a:lnTo>
                  <a:lnTo>
                    <a:pt x="924" y="610"/>
                  </a:lnTo>
                  <a:lnTo>
                    <a:pt x="914" y="614"/>
                  </a:lnTo>
                  <a:lnTo>
                    <a:pt x="903" y="617"/>
                  </a:lnTo>
                  <a:lnTo>
                    <a:pt x="893" y="621"/>
                  </a:lnTo>
                  <a:lnTo>
                    <a:pt x="883" y="624"/>
                  </a:lnTo>
                  <a:lnTo>
                    <a:pt x="873" y="624"/>
                  </a:lnTo>
                  <a:lnTo>
                    <a:pt x="863" y="624"/>
                  </a:lnTo>
                  <a:lnTo>
                    <a:pt x="852" y="624"/>
                  </a:lnTo>
                  <a:lnTo>
                    <a:pt x="842" y="624"/>
                  </a:lnTo>
                  <a:lnTo>
                    <a:pt x="832" y="624"/>
                  </a:lnTo>
                  <a:lnTo>
                    <a:pt x="822" y="624"/>
                  </a:lnTo>
                  <a:lnTo>
                    <a:pt x="812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1" y="617"/>
                  </a:lnTo>
                  <a:lnTo>
                    <a:pt x="771" y="614"/>
                  </a:lnTo>
                  <a:lnTo>
                    <a:pt x="761" y="610"/>
                  </a:lnTo>
                  <a:lnTo>
                    <a:pt x="751" y="603"/>
                  </a:lnTo>
                  <a:lnTo>
                    <a:pt x="740" y="600"/>
                  </a:lnTo>
                  <a:lnTo>
                    <a:pt x="730" y="596"/>
                  </a:lnTo>
                  <a:lnTo>
                    <a:pt x="720" y="596"/>
                  </a:lnTo>
                  <a:lnTo>
                    <a:pt x="710" y="596"/>
                  </a:lnTo>
                  <a:lnTo>
                    <a:pt x="700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9" y="596"/>
                  </a:lnTo>
                  <a:lnTo>
                    <a:pt x="659" y="603"/>
                  </a:lnTo>
                  <a:lnTo>
                    <a:pt x="649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8" y="635"/>
                  </a:lnTo>
                  <a:lnTo>
                    <a:pt x="598" y="641"/>
                  </a:lnTo>
                  <a:lnTo>
                    <a:pt x="588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7" y="669"/>
                  </a:lnTo>
                  <a:lnTo>
                    <a:pt x="547" y="676"/>
                  </a:lnTo>
                  <a:lnTo>
                    <a:pt x="537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6" y="704"/>
                  </a:lnTo>
                  <a:lnTo>
                    <a:pt x="486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5" y="728"/>
                  </a:lnTo>
                  <a:lnTo>
                    <a:pt x="435" y="735"/>
                  </a:lnTo>
                  <a:lnTo>
                    <a:pt x="425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4" y="742"/>
                  </a:lnTo>
                  <a:lnTo>
                    <a:pt x="374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3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2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2" y="555"/>
                  </a:lnTo>
                  <a:lnTo>
                    <a:pt x="258" y="544"/>
                  </a:lnTo>
                  <a:lnTo>
                    <a:pt x="255" y="534"/>
                  </a:lnTo>
                  <a:lnTo>
                    <a:pt x="251" y="524"/>
                  </a:lnTo>
                  <a:lnTo>
                    <a:pt x="245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4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2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03520" y="1576080"/>
              <a:ext cx="1004400" cy="575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587840" y="3092400"/>
            <a:ext cx="1660320" cy="1179360"/>
            <a:chOff x="4587840" y="3092400"/>
            <a:chExt cx="1660320" cy="1179360"/>
          </a:xfrm>
        </p:grpSpPr>
        <p:sp>
          <p:nvSpPr>
            <p:cNvPr id="553" name=""/>
            <p:cNvSpPr/>
            <p:nvPr/>
          </p:nvSpPr>
          <p:spPr>
            <a:xfrm>
              <a:off x="4587840" y="3092400"/>
              <a:ext cx="1660320" cy="1179360"/>
            </a:xfrm>
            <a:custGeom>
              <a:avLst/>
              <a:gdLst/>
              <a:ahLst/>
              <a:rect l="l" t="t" r="r" b="b"/>
              <a:pathLst>
                <a:path w="1046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4" y="35"/>
                  </a:lnTo>
                  <a:lnTo>
                    <a:pt x="254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5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6" y="45"/>
                  </a:lnTo>
                  <a:lnTo>
                    <a:pt x="366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7" y="55"/>
                  </a:lnTo>
                  <a:lnTo>
                    <a:pt x="417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8" y="69"/>
                  </a:lnTo>
                  <a:lnTo>
                    <a:pt x="478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19" y="76"/>
                  </a:lnTo>
                  <a:lnTo>
                    <a:pt x="529" y="76"/>
                  </a:lnTo>
                  <a:lnTo>
                    <a:pt x="539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0" y="66"/>
                  </a:lnTo>
                  <a:lnTo>
                    <a:pt x="577" y="55"/>
                  </a:lnTo>
                  <a:lnTo>
                    <a:pt x="587" y="52"/>
                  </a:lnTo>
                  <a:lnTo>
                    <a:pt x="597" y="42"/>
                  </a:lnTo>
                  <a:lnTo>
                    <a:pt x="607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8" y="7"/>
                  </a:lnTo>
                  <a:lnTo>
                    <a:pt x="658" y="3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699" y="0"/>
                  </a:lnTo>
                  <a:lnTo>
                    <a:pt x="709" y="3"/>
                  </a:lnTo>
                  <a:lnTo>
                    <a:pt x="719" y="10"/>
                  </a:lnTo>
                  <a:lnTo>
                    <a:pt x="729" y="14"/>
                  </a:lnTo>
                  <a:lnTo>
                    <a:pt x="740" y="17"/>
                  </a:lnTo>
                  <a:lnTo>
                    <a:pt x="750" y="21"/>
                  </a:lnTo>
                  <a:lnTo>
                    <a:pt x="760" y="28"/>
                  </a:lnTo>
                  <a:lnTo>
                    <a:pt x="770" y="31"/>
                  </a:lnTo>
                  <a:lnTo>
                    <a:pt x="780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1" y="55"/>
                  </a:lnTo>
                  <a:lnTo>
                    <a:pt x="821" y="62"/>
                  </a:lnTo>
                  <a:lnTo>
                    <a:pt x="831" y="69"/>
                  </a:lnTo>
                  <a:lnTo>
                    <a:pt x="841" y="76"/>
                  </a:lnTo>
                  <a:lnTo>
                    <a:pt x="852" y="83"/>
                  </a:lnTo>
                  <a:lnTo>
                    <a:pt x="862" y="90"/>
                  </a:lnTo>
                  <a:lnTo>
                    <a:pt x="872" y="94"/>
                  </a:lnTo>
                  <a:lnTo>
                    <a:pt x="882" y="97"/>
                  </a:lnTo>
                  <a:lnTo>
                    <a:pt x="892" y="101"/>
                  </a:lnTo>
                  <a:lnTo>
                    <a:pt x="903" y="101"/>
                  </a:lnTo>
                  <a:lnTo>
                    <a:pt x="913" y="104"/>
                  </a:lnTo>
                  <a:lnTo>
                    <a:pt x="923" y="107"/>
                  </a:lnTo>
                  <a:lnTo>
                    <a:pt x="933" y="107"/>
                  </a:lnTo>
                  <a:lnTo>
                    <a:pt x="943" y="107"/>
                  </a:lnTo>
                  <a:lnTo>
                    <a:pt x="953" y="111"/>
                  </a:lnTo>
                  <a:lnTo>
                    <a:pt x="964" y="114"/>
                  </a:lnTo>
                  <a:lnTo>
                    <a:pt x="974" y="118"/>
                  </a:lnTo>
                  <a:lnTo>
                    <a:pt x="984" y="121"/>
                  </a:lnTo>
                  <a:lnTo>
                    <a:pt x="994" y="125"/>
                  </a:lnTo>
                  <a:lnTo>
                    <a:pt x="1004" y="135"/>
                  </a:lnTo>
                  <a:lnTo>
                    <a:pt x="1014" y="142"/>
                  </a:lnTo>
                  <a:lnTo>
                    <a:pt x="1025" y="153"/>
                  </a:lnTo>
                  <a:lnTo>
                    <a:pt x="1031" y="163"/>
                  </a:lnTo>
                  <a:lnTo>
                    <a:pt x="1038" y="173"/>
                  </a:lnTo>
                  <a:lnTo>
                    <a:pt x="1038" y="184"/>
                  </a:lnTo>
                  <a:lnTo>
                    <a:pt x="1045" y="194"/>
                  </a:lnTo>
                  <a:lnTo>
                    <a:pt x="1045" y="205"/>
                  </a:lnTo>
                  <a:lnTo>
                    <a:pt x="1045" y="215"/>
                  </a:lnTo>
                  <a:lnTo>
                    <a:pt x="1042" y="225"/>
                  </a:lnTo>
                  <a:lnTo>
                    <a:pt x="1035" y="236"/>
                  </a:lnTo>
                  <a:lnTo>
                    <a:pt x="1025" y="243"/>
                  </a:lnTo>
                  <a:lnTo>
                    <a:pt x="1018" y="253"/>
                  </a:lnTo>
                  <a:lnTo>
                    <a:pt x="1011" y="264"/>
                  </a:lnTo>
                  <a:lnTo>
                    <a:pt x="1004" y="274"/>
                  </a:lnTo>
                  <a:lnTo>
                    <a:pt x="998" y="284"/>
                  </a:lnTo>
                  <a:lnTo>
                    <a:pt x="991" y="295"/>
                  </a:lnTo>
                  <a:lnTo>
                    <a:pt x="984" y="305"/>
                  </a:lnTo>
                  <a:lnTo>
                    <a:pt x="977" y="316"/>
                  </a:lnTo>
                  <a:lnTo>
                    <a:pt x="970" y="326"/>
                  </a:lnTo>
                  <a:lnTo>
                    <a:pt x="967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0" y="368"/>
                  </a:lnTo>
                  <a:lnTo>
                    <a:pt x="957" y="378"/>
                  </a:lnTo>
                  <a:lnTo>
                    <a:pt x="957" y="388"/>
                  </a:lnTo>
                  <a:lnTo>
                    <a:pt x="957" y="399"/>
                  </a:lnTo>
                  <a:lnTo>
                    <a:pt x="957" y="409"/>
                  </a:lnTo>
                  <a:lnTo>
                    <a:pt x="957" y="420"/>
                  </a:lnTo>
                  <a:lnTo>
                    <a:pt x="957" y="430"/>
                  </a:lnTo>
                  <a:lnTo>
                    <a:pt x="960" y="440"/>
                  </a:lnTo>
                  <a:lnTo>
                    <a:pt x="967" y="451"/>
                  </a:lnTo>
                  <a:lnTo>
                    <a:pt x="970" y="461"/>
                  </a:lnTo>
                  <a:lnTo>
                    <a:pt x="974" y="472"/>
                  </a:lnTo>
                  <a:lnTo>
                    <a:pt x="977" y="482"/>
                  </a:lnTo>
                  <a:lnTo>
                    <a:pt x="977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7" y="555"/>
                  </a:lnTo>
                  <a:lnTo>
                    <a:pt x="974" y="565"/>
                  </a:lnTo>
                  <a:lnTo>
                    <a:pt x="970" y="576"/>
                  </a:lnTo>
                  <a:lnTo>
                    <a:pt x="964" y="586"/>
                  </a:lnTo>
                  <a:lnTo>
                    <a:pt x="953" y="593"/>
                  </a:lnTo>
                  <a:lnTo>
                    <a:pt x="943" y="600"/>
                  </a:lnTo>
                  <a:lnTo>
                    <a:pt x="933" y="603"/>
                  </a:lnTo>
                  <a:lnTo>
                    <a:pt x="923" y="610"/>
                  </a:lnTo>
                  <a:lnTo>
                    <a:pt x="913" y="614"/>
                  </a:lnTo>
                  <a:lnTo>
                    <a:pt x="903" y="617"/>
                  </a:lnTo>
                  <a:lnTo>
                    <a:pt x="892" y="621"/>
                  </a:lnTo>
                  <a:lnTo>
                    <a:pt x="882" y="624"/>
                  </a:lnTo>
                  <a:lnTo>
                    <a:pt x="872" y="624"/>
                  </a:lnTo>
                  <a:lnTo>
                    <a:pt x="862" y="624"/>
                  </a:lnTo>
                  <a:lnTo>
                    <a:pt x="852" y="624"/>
                  </a:lnTo>
                  <a:lnTo>
                    <a:pt x="841" y="624"/>
                  </a:lnTo>
                  <a:lnTo>
                    <a:pt x="831" y="624"/>
                  </a:lnTo>
                  <a:lnTo>
                    <a:pt x="821" y="624"/>
                  </a:lnTo>
                  <a:lnTo>
                    <a:pt x="811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0" y="617"/>
                  </a:lnTo>
                  <a:lnTo>
                    <a:pt x="770" y="614"/>
                  </a:lnTo>
                  <a:lnTo>
                    <a:pt x="760" y="610"/>
                  </a:lnTo>
                  <a:lnTo>
                    <a:pt x="750" y="603"/>
                  </a:lnTo>
                  <a:lnTo>
                    <a:pt x="740" y="600"/>
                  </a:lnTo>
                  <a:lnTo>
                    <a:pt x="729" y="596"/>
                  </a:lnTo>
                  <a:lnTo>
                    <a:pt x="719" y="596"/>
                  </a:lnTo>
                  <a:lnTo>
                    <a:pt x="709" y="596"/>
                  </a:lnTo>
                  <a:lnTo>
                    <a:pt x="699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8" y="596"/>
                  </a:lnTo>
                  <a:lnTo>
                    <a:pt x="658" y="603"/>
                  </a:lnTo>
                  <a:lnTo>
                    <a:pt x="648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7" y="635"/>
                  </a:lnTo>
                  <a:lnTo>
                    <a:pt x="597" y="641"/>
                  </a:lnTo>
                  <a:lnTo>
                    <a:pt x="587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6" y="669"/>
                  </a:lnTo>
                  <a:lnTo>
                    <a:pt x="546" y="676"/>
                  </a:lnTo>
                  <a:lnTo>
                    <a:pt x="536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5" y="704"/>
                  </a:lnTo>
                  <a:lnTo>
                    <a:pt x="485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4" y="728"/>
                  </a:lnTo>
                  <a:lnTo>
                    <a:pt x="434" y="735"/>
                  </a:lnTo>
                  <a:lnTo>
                    <a:pt x="424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3" y="742"/>
                  </a:lnTo>
                  <a:lnTo>
                    <a:pt x="373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2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1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1" y="555"/>
                  </a:lnTo>
                  <a:lnTo>
                    <a:pt x="258" y="544"/>
                  </a:lnTo>
                  <a:lnTo>
                    <a:pt x="254" y="534"/>
                  </a:lnTo>
                  <a:lnTo>
                    <a:pt x="251" y="524"/>
                  </a:lnTo>
                  <a:lnTo>
                    <a:pt x="244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3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1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04640" y="3316320"/>
              <a:ext cx="1114200" cy="575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479480" y="4086000"/>
            <a:ext cx="1726560" cy="1040760"/>
            <a:chOff x="4479480" y="4086000"/>
            <a:chExt cx="1726560" cy="1040760"/>
          </a:xfrm>
        </p:grpSpPr>
        <p:sp>
          <p:nvSpPr>
            <p:cNvPr id="556" name=""/>
            <p:cNvSpPr/>
            <p:nvPr/>
          </p:nvSpPr>
          <p:spPr>
            <a:xfrm>
              <a:off x="5275080" y="420228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700600" y="4086000"/>
              <a:ext cx="104760" cy="9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190840" y="4240080"/>
              <a:ext cx="8892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45200" y="4210200"/>
              <a:ext cx="8388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54520" y="498960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79480" y="4419720"/>
              <a:ext cx="92520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04560" y="490068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68840" y="4540320"/>
              <a:ext cx="637200" cy="302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706200" y="2251080"/>
            <a:ext cx="1981800" cy="1087920"/>
            <a:chOff x="3706200" y="2251080"/>
            <a:chExt cx="1981800" cy="1087920"/>
          </a:xfrm>
        </p:grpSpPr>
        <p:sp>
          <p:nvSpPr>
            <p:cNvPr id="565" name=""/>
            <p:cNvSpPr/>
            <p:nvPr/>
          </p:nvSpPr>
          <p:spPr>
            <a:xfrm>
              <a:off x="4583160" y="2327400"/>
              <a:ext cx="69840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4132440" y="2317680"/>
              <a:ext cx="76824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67200" y="317664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45000" y="226548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06200" y="2625840"/>
              <a:ext cx="92520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63720" y="311292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45800" y="225108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02400" y="2546280"/>
              <a:ext cx="88560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010280" y="1619280"/>
            <a:ext cx="1662120" cy="1179360"/>
            <a:chOff x="7010280" y="1619280"/>
            <a:chExt cx="1662120" cy="1179360"/>
          </a:xfrm>
        </p:grpSpPr>
        <p:sp>
          <p:nvSpPr>
            <p:cNvPr id="574" name=""/>
            <p:cNvSpPr/>
            <p:nvPr/>
          </p:nvSpPr>
          <p:spPr>
            <a:xfrm>
              <a:off x="7010280" y="1619280"/>
              <a:ext cx="1662120" cy="1179360"/>
            </a:xfrm>
            <a:custGeom>
              <a:avLst/>
              <a:gdLst/>
              <a:ahLst/>
              <a:rect l="l" t="t" r="r" b="b"/>
              <a:pathLst>
                <a:path w="1047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5" y="35"/>
                  </a:lnTo>
                  <a:lnTo>
                    <a:pt x="255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6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7" y="45"/>
                  </a:lnTo>
                  <a:lnTo>
                    <a:pt x="367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8" y="55"/>
                  </a:lnTo>
                  <a:lnTo>
                    <a:pt x="418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9" y="69"/>
                  </a:lnTo>
                  <a:lnTo>
                    <a:pt x="479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20" y="76"/>
                  </a:lnTo>
                  <a:lnTo>
                    <a:pt x="530" y="76"/>
                  </a:lnTo>
                  <a:lnTo>
                    <a:pt x="540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1" y="66"/>
                  </a:lnTo>
                  <a:lnTo>
                    <a:pt x="577" y="55"/>
                  </a:lnTo>
                  <a:lnTo>
                    <a:pt x="588" y="52"/>
                  </a:lnTo>
                  <a:lnTo>
                    <a:pt x="598" y="42"/>
                  </a:lnTo>
                  <a:lnTo>
                    <a:pt x="608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9" y="7"/>
                  </a:lnTo>
                  <a:lnTo>
                    <a:pt x="659" y="3"/>
                  </a:lnTo>
                  <a:lnTo>
                    <a:pt x="669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700" y="0"/>
                  </a:lnTo>
                  <a:lnTo>
                    <a:pt x="710" y="3"/>
                  </a:lnTo>
                  <a:lnTo>
                    <a:pt x="720" y="10"/>
                  </a:lnTo>
                  <a:lnTo>
                    <a:pt x="730" y="14"/>
                  </a:lnTo>
                  <a:lnTo>
                    <a:pt x="740" y="17"/>
                  </a:lnTo>
                  <a:lnTo>
                    <a:pt x="751" y="21"/>
                  </a:lnTo>
                  <a:lnTo>
                    <a:pt x="761" y="28"/>
                  </a:lnTo>
                  <a:lnTo>
                    <a:pt x="771" y="31"/>
                  </a:lnTo>
                  <a:lnTo>
                    <a:pt x="781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2" y="55"/>
                  </a:lnTo>
                  <a:lnTo>
                    <a:pt x="822" y="62"/>
                  </a:lnTo>
                  <a:lnTo>
                    <a:pt x="832" y="69"/>
                  </a:lnTo>
                  <a:lnTo>
                    <a:pt x="842" y="76"/>
                  </a:lnTo>
                  <a:lnTo>
                    <a:pt x="852" y="83"/>
                  </a:lnTo>
                  <a:lnTo>
                    <a:pt x="863" y="90"/>
                  </a:lnTo>
                  <a:lnTo>
                    <a:pt x="873" y="94"/>
                  </a:lnTo>
                  <a:lnTo>
                    <a:pt x="883" y="97"/>
                  </a:lnTo>
                  <a:lnTo>
                    <a:pt x="893" y="101"/>
                  </a:lnTo>
                  <a:lnTo>
                    <a:pt x="903" y="101"/>
                  </a:lnTo>
                  <a:lnTo>
                    <a:pt x="914" y="104"/>
                  </a:lnTo>
                  <a:lnTo>
                    <a:pt x="924" y="107"/>
                  </a:lnTo>
                  <a:lnTo>
                    <a:pt x="934" y="107"/>
                  </a:lnTo>
                  <a:lnTo>
                    <a:pt x="944" y="107"/>
                  </a:lnTo>
                  <a:lnTo>
                    <a:pt x="954" y="111"/>
                  </a:lnTo>
                  <a:lnTo>
                    <a:pt x="964" y="114"/>
                  </a:lnTo>
                  <a:lnTo>
                    <a:pt x="975" y="118"/>
                  </a:lnTo>
                  <a:lnTo>
                    <a:pt x="985" y="121"/>
                  </a:lnTo>
                  <a:lnTo>
                    <a:pt x="995" y="125"/>
                  </a:lnTo>
                  <a:lnTo>
                    <a:pt x="1005" y="135"/>
                  </a:lnTo>
                  <a:lnTo>
                    <a:pt x="1015" y="142"/>
                  </a:lnTo>
                  <a:lnTo>
                    <a:pt x="1026" y="153"/>
                  </a:lnTo>
                  <a:lnTo>
                    <a:pt x="1032" y="163"/>
                  </a:lnTo>
                  <a:lnTo>
                    <a:pt x="1039" y="173"/>
                  </a:lnTo>
                  <a:lnTo>
                    <a:pt x="1039" y="184"/>
                  </a:lnTo>
                  <a:lnTo>
                    <a:pt x="1046" y="194"/>
                  </a:lnTo>
                  <a:lnTo>
                    <a:pt x="1046" y="205"/>
                  </a:lnTo>
                  <a:lnTo>
                    <a:pt x="1046" y="215"/>
                  </a:lnTo>
                  <a:lnTo>
                    <a:pt x="1043" y="225"/>
                  </a:lnTo>
                  <a:lnTo>
                    <a:pt x="1036" y="236"/>
                  </a:lnTo>
                  <a:lnTo>
                    <a:pt x="1026" y="243"/>
                  </a:lnTo>
                  <a:lnTo>
                    <a:pt x="1019" y="253"/>
                  </a:lnTo>
                  <a:lnTo>
                    <a:pt x="1012" y="264"/>
                  </a:lnTo>
                  <a:lnTo>
                    <a:pt x="1005" y="274"/>
                  </a:lnTo>
                  <a:lnTo>
                    <a:pt x="998" y="284"/>
                  </a:lnTo>
                  <a:lnTo>
                    <a:pt x="992" y="295"/>
                  </a:lnTo>
                  <a:lnTo>
                    <a:pt x="985" y="305"/>
                  </a:lnTo>
                  <a:lnTo>
                    <a:pt x="978" y="316"/>
                  </a:lnTo>
                  <a:lnTo>
                    <a:pt x="971" y="326"/>
                  </a:lnTo>
                  <a:lnTo>
                    <a:pt x="968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1" y="368"/>
                  </a:lnTo>
                  <a:lnTo>
                    <a:pt x="958" y="378"/>
                  </a:lnTo>
                  <a:lnTo>
                    <a:pt x="958" y="388"/>
                  </a:lnTo>
                  <a:lnTo>
                    <a:pt x="958" y="399"/>
                  </a:lnTo>
                  <a:lnTo>
                    <a:pt x="958" y="409"/>
                  </a:lnTo>
                  <a:lnTo>
                    <a:pt x="958" y="420"/>
                  </a:lnTo>
                  <a:lnTo>
                    <a:pt x="958" y="430"/>
                  </a:lnTo>
                  <a:lnTo>
                    <a:pt x="961" y="440"/>
                  </a:lnTo>
                  <a:lnTo>
                    <a:pt x="968" y="451"/>
                  </a:lnTo>
                  <a:lnTo>
                    <a:pt x="971" y="461"/>
                  </a:lnTo>
                  <a:lnTo>
                    <a:pt x="975" y="472"/>
                  </a:lnTo>
                  <a:lnTo>
                    <a:pt x="978" y="482"/>
                  </a:lnTo>
                  <a:lnTo>
                    <a:pt x="978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8" y="555"/>
                  </a:lnTo>
                  <a:lnTo>
                    <a:pt x="975" y="565"/>
                  </a:lnTo>
                  <a:lnTo>
                    <a:pt x="971" y="576"/>
                  </a:lnTo>
                  <a:lnTo>
                    <a:pt x="964" y="586"/>
                  </a:lnTo>
                  <a:lnTo>
                    <a:pt x="954" y="593"/>
                  </a:lnTo>
                  <a:lnTo>
                    <a:pt x="944" y="600"/>
                  </a:lnTo>
                  <a:lnTo>
                    <a:pt x="934" y="603"/>
                  </a:lnTo>
                  <a:lnTo>
                    <a:pt x="924" y="610"/>
                  </a:lnTo>
                  <a:lnTo>
                    <a:pt x="914" y="614"/>
                  </a:lnTo>
                  <a:lnTo>
                    <a:pt x="903" y="617"/>
                  </a:lnTo>
                  <a:lnTo>
                    <a:pt x="893" y="621"/>
                  </a:lnTo>
                  <a:lnTo>
                    <a:pt x="883" y="624"/>
                  </a:lnTo>
                  <a:lnTo>
                    <a:pt x="873" y="624"/>
                  </a:lnTo>
                  <a:lnTo>
                    <a:pt x="863" y="624"/>
                  </a:lnTo>
                  <a:lnTo>
                    <a:pt x="852" y="624"/>
                  </a:lnTo>
                  <a:lnTo>
                    <a:pt x="842" y="624"/>
                  </a:lnTo>
                  <a:lnTo>
                    <a:pt x="832" y="624"/>
                  </a:lnTo>
                  <a:lnTo>
                    <a:pt x="822" y="624"/>
                  </a:lnTo>
                  <a:lnTo>
                    <a:pt x="812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1" y="617"/>
                  </a:lnTo>
                  <a:lnTo>
                    <a:pt x="771" y="614"/>
                  </a:lnTo>
                  <a:lnTo>
                    <a:pt x="761" y="610"/>
                  </a:lnTo>
                  <a:lnTo>
                    <a:pt x="751" y="603"/>
                  </a:lnTo>
                  <a:lnTo>
                    <a:pt x="740" y="600"/>
                  </a:lnTo>
                  <a:lnTo>
                    <a:pt x="730" y="596"/>
                  </a:lnTo>
                  <a:lnTo>
                    <a:pt x="720" y="596"/>
                  </a:lnTo>
                  <a:lnTo>
                    <a:pt x="710" y="596"/>
                  </a:lnTo>
                  <a:lnTo>
                    <a:pt x="700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9" y="596"/>
                  </a:lnTo>
                  <a:lnTo>
                    <a:pt x="659" y="603"/>
                  </a:lnTo>
                  <a:lnTo>
                    <a:pt x="649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8" y="635"/>
                  </a:lnTo>
                  <a:lnTo>
                    <a:pt x="598" y="641"/>
                  </a:lnTo>
                  <a:lnTo>
                    <a:pt x="588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7" y="669"/>
                  </a:lnTo>
                  <a:lnTo>
                    <a:pt x="547" y="676"/>
                  </a:lnTo>
                  <a:lnTo>
                    <a:pt x="537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6" y="704"/>
                  </a:lnTo>
                  <a:lnTo>
                    <a:pt x="486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5" y="728"/>
                  </a:lnTo>
                  <a:lnTo>
                    <a:pt x="435" y="735"/>
                  </a:lnTo>
                  <a:lnTo>
                    <a:pt x="425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4" y="742"/>
                  </a:lnTo>
                  <a:lnTo>
                    <a:pt x="374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3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2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2" y="555"/>
                  </a:lnTo>
                  <a:lnTo>
                    <a:pt x="258" y="544"/>
                  </a:lnTo>
                  <a:lnTo>
                    <a:pt x="255" y="534"/>
                  </a:lnTo>
                  <a:lnTo>
                    <a:pt x="251" y="524"/>
                  </a:lnTo>
                  <a:lnTo>
                    <a:pt x="245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4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2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6640" y="1771560"/>
              <a:ext cx="1217880" cy="575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en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781600" y="2014560"/>
            <a:ext cx="1890000" cy="1305000"/>
            <a:chOff x="5781600" y="2014560"/>
            <a:chExt cx="1890000" cy="1305000"/>
          </a:xfrm>
        </p:grpSpPr>
        <p:sp>
          <p:nvSpPr>
            <p:cNvPr id="577" name=""/>
            <p:cNvSpPr/>
            <p:nvPr/>
          </p:nvSpPr>
          <p:spPr>
            <a:xfrm>
              <a:off x="6993720" y="232884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781600" y="2317680"/>
              <a:ext cx="1378080" cy="7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6167520" y="2685600"/>
              <a:ext cx="124776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21440" y="323388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46400" y="2770200"/>
              <a:ext cx="925200" cy="51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67160" y="303228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85880" y="2014560"/>
              <a:ext cx="83664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s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08920" y="2281320"/>
              <a:ext cx="8388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031800" y="3500280"/>
            <a:ext cx="1563480" cy="1061280"/>
            <a:chOff x="6031800" y="3500280"/>
            <a:chExt cx="1563480" cy="1061280"/>
          </a:xfrm>
        </p:grpSpPr>
        <p:sp>
          <p:nvSpPr>
            <p:cNvPr id="586" name=""/>
            <p:cNvSpPr/>
            <p:nvPr/>
          </p:nvSpPr>
          <p:spPr>
            <a:xfrm>
              <a:off x="7221960" y="370980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6209640" y="3500280"/>
              <a:ext cx="119700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19640" y="3931920"/>
              <a:ext cx="990360" cy="43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92640" y="3909600"/>
              <a:ext cx="84240" cy="8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31800" y="4046400"/>
              <a:ext cx="92520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9560" y="377496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78840" y="3566880"/>
              <a:ext cx="945000" cy="302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ch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65600" y="392868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979640" y="5137200"/>
            <a:ext cx="1660320" cy="1179360"/>
            <a:chOff x="1979640" y="5137200"/>
            <a:chExt cx="1660320" cy="1179360"/>
          </a:xfrm>
        </p:grpSpPr>
        <p:sp>
          <p:nvSpPr>
            <p:cNvPr id="595" name=""/>
            <p:cNvSpPr/>
            <p:nvPr/>
          </p:nvSpPr>
          <p:spPr>
            <a:xfrm>
              <a:off x="1979640" y="5137200"/>
              <a:ext cx="1660320" cy="1179360"/>
            </a:xfrm>
            <a:custGeom>
              <a:avLst/>
              <a:gdLst/>
              <a:ahLst/>
              <a:rect l="l" t="t" r="r" b="b"/>
              <a:pathLst>
                <a:path w="1046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4" y="35"/>
                  </a:lnTo>
                  <a:lnTo>
                    <a:pt x="254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5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6" y="45"/>
                  </a:lnTo>
                  <a:lnTo>
                    <a:pt x="366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7" y="55"/>
                  </a:lnTo>
                  <a:lnTo>
                    <a:pt x="417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8" y="69"/>
                  </a:lnTo>
                  <a:lnTo>
                    <a:pt x="478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19" y="76"/>
                  </a:lnTo>
                  <a:lnTo>
                    <a:pt x="529" y="76"/>
                  </a:lnTo>
                  <a:lnTo>
                    <a:pt x="539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0" y="66"/>
                  </a:lnTo>
                  <a:lnTo>
                    <a:pt x="577" y="55"/>
                  </a:lnTo>
                  <a:lnTo>
                    <a:pt x="587" y="52"/>
                  </a:lnTo>
                  <a:lnTo>
                    <a:pt x="597" y="42"/>
                  </a:lnTo>
                  <a:lnTo>
                    <a:pt x="607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8" y="7"/>
                  </a:lnTo>
                  <a:lnTo>
                    <a:pt x="658" y="3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699" y="0"/>
                  </a:lnTo>
                  <a:lnTo>
                    <a:pt x="709" y="3"/>
                  </a:lnTo>
                  <a:lnTo>
                    <a:pt x="719" y="10"/>
                  </a:lnTo>
                  <a:lnTo>
                    <a:pt x="729" y="14"/>
                  </a:lnTo>
                  <a:lnTo>
                    <a:pt x="740" y="17"/>
                  </a:lnTo>
                  <a:lnTo>
                    <a:pt x="750" y="21"/>
                  </a:lnTo>
                  <a:lnTo>
                    <a:pt x="760" y="28"/>
                  </a:lnTo>
                  <a:lnTo>
                    <a:pt x="770" y="31"/>
                  </a:lnTo>
                  <a:lnTo>
                    <a:pt x="780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1" y="55"/>
                  </a:lnTo>
                  <a:lnTo>
                    <a:pt x="821" y="62"/>
                  </a:lnTo>
                  <a:lnTo>
                    <a:pt x="831" y="69"/>
                  </a:lnTo>
                  <a:lnTo>
                    <a:pt x="841" y="76"/>
                  </a:lnTo>
                  <a:lnTo>
                    <a:pt x="852" y="83"/>
                  </a:lnTo>
                  <a:lnTo>
                    <a:pt x="862" y="90"/>
                  </a:lnTo>
                  <a:lnTo>
                    <a:pt x="872" y="94"/>
                  </a:lnTo>
                  <a:lnTo>
                    <a:pt x="882" y="97"/>
                  </a:lnTo>
                  <a:lnTo>
                    <a:pt x="892" y="101"/>
                  </a:lnTo>
                  <a:lnTo>
                    <a:pt x="903" y="101"/>
                  </a:lnTo>
                  <a:lnTo>
                    <a:pt x="913" y="104"/>
                  </a:lnTo>
                  <a:lnTo>
                    <a:pt x="923" y="107"/>
                  </a:lnTo>
                  <a:lnTo>
                    <a:pt x="933" y="107"/>
                  </a:lnTo>
                  <a:lnTo>
                    <a:pt x="943" y="107"/>
                  </a:lnTo>
                  <a:lnTo>
                    <a:pt x="953" y="111"/>
                  </a:lnTo>
                  <a:lnTo>
                    <a:pt x="964" y="114"/>
                  </a:lnTo>
                  <a:lnTo>
                    <a:pt x="974" y="118"/>
                  </a:lnTo>
                  <a:lnTo>
                    <a:pt x="984" y="121"/>
                  </a:lnTo>
                  <a:lnTo>
                    <a:pt x="994" y="125"/>
                  </a:lnTo>
                  <a:lnTo>
                    <a:pt x="1004" y="135"/>
                  </a:lnTo>
                  <a:lnTo>
                    <a:pt x="1014" y="142"/>
                  </a:lnTo>
                  <a:lnTo>
                    <a:pt x="1025" y="153"/>
                  </a:lnTo>
                  <a:lnTo>
                    <a:pt x="1031" y="163"/>
                  </a:lnTo>
                  <a:lnTo>
                    <a:pt x="1038" y="173"/>
                  </a:lnTo>
                  <a:lnTo>
                    <a:pt x="1038" y="184"/>
                  </a:lnTo>
                  <a:lnTo>
                    <a:pt x="1045" y="194"/>
                  </a:lnTo>
                  <a:lnTo>
                    <a:pt x="1045" y="205"/>
                  </a:lnTo>
                  <a:lnTo>
                    <a:pt x="1045" y="215"/>
                  </a:lnTo>
                  <a:lnTo>
                    <a:pt x="1042" y="225"/>
                  </a:lnTo>
                  <a:lnTo>
                    <a:pt x="1035" y="236"/>
                  </a:lnTo>
                  <a:lnTo>
                    <a:pt x="1025" y="243"/>
                  </a:lnTo>
                  <a:lnTo>
                    <a:pt x="1018" y="253"/>
                  </a:lnTo>
                  <a:lnTo>
                    <a:pt x="1011" y="264"/>
                  </a:lnTo>
                  <a:lnTo>
                    <a:pt x="1004" y="274"/>
                  </a:lnTo>
                  <a:lnTo>
                    <a:pt x="998" y="284"/>
                  </a:lnTo>
                  <a:lnTo>
                    <a:pt x="991" y="295"/>
                  </a:lnTo>
                  <a:lnTo>
                    <a:pt x="984" y="305"/>
                  </a:lnTo>
                  <a:lnTo>
                    <a:pt x="977" y="316"/>
                  </a:lnTo>
                  <a:lnTo>
                    <a:pt x="970" y="326"/>
                  </a:lnTo>
                  <a:lnTo>
                    <a:pt x="967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0" y="368"/>
                  </a:lnTo>
                  <a:lnTo>
                    <a:pt x="957" y="378"/>
                  </a:lnTo>
                  <a:lnTo>
                    <a:pt x="957" y="388"/>
                  </a:lnTo>
                  <a:lnTo>
                    <a:pt x="957" y="399"/>
                  </a:lnTo>
                  <a:lnTo>
                    <a:pt x="957" y="409"/>
                  </a:lnTo>
                  <a:lnTo>
                    <a:pt x="957" y="420"/>
                  </a:lnTo>
                  <a:lnTo>
                    <a:pt x="957" y="430"/>
                  </a:lnTo>
                  <a:lnTo>
                    <a:pt x="960" y="440"/>
                  </a:lnTo>
                  <a:lnTo>
                    <a:pt x="967" y="451"/>
                  </a:lnTo>
                  <a:lnTo>
                    <a:pt x="970" y="461"/>
                  </a:lnTo>
                  <a:lnTo>
                    <a:pt x="974" y="472"/>
                  </a:lnTo>
                  <a:lnTo>
                    <a:pt x="977" y="482"/>
                  </a:lnTo>
                  <a:lnTo>
                    <a:pt x="977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7" y="555"/>
                  </a:lnTo>
                  <a:lnTo>
                    <a:pt x="974" y="565"/>
                  </a:lnTo>
                  <a:lnTo>
                    <a:pt x="970" y="576"/>
                  </a:lnTo>
                  <a:lnTo>
                    <a:pt x="964" y="586"/>
                  </a:lnTo>
                  <a:lnTo>
                    <a:pt x="953" y="593"/>
                  </a:lnTo>
                  <a:lnTo>
                    <a:pt x="943" y="600"/>
                  </a:lnTo>
                  <a:lnTo>
                    <a:pt x="933" y="603"/>
                  </a:lnTo>
                  <a:lnTo>
                    <a:pt x="923" y="610"/>
                  </a:lnTo>
                  <a:lnTo>
                    <a:pt x="913" y="614"/>
                  </a:lnTo>
                  <a:lnTo>
                    <a:pt x="903" y="617"/>
                  </a:lnTo>
                  <a:lnTo>
                    <a:pt x="892" y="621"/>
                  </a:lnTo>
                  <a:lnTo>
                    <a:pt x="882" y="624"/>
                  </a:lnTo>
                  <a:lnTo>
                    <a:pt x="872" y="624"/>
                  </a:lnTo>
                  <a:lnTo>
                    <a:pt x="862" y="624"/>
                  </a:lnTo>
                  <a:lnTo>
                    <a:pt x="852" y="624"/>
                  </a:lnTo>
                  <a:lnTo>
                    <a:pt x="841" y="624"/>
                  </a:lnTo>
                  <a:lnTo>
                    <a:pt x="831" y="624"/>
                  </a:lnTo>
                  <a:lnTo>
                    <a:pt x="821" y="624"/>
                  </a:lnTo>
                  <a:lnTo>
                    <a:pt x="811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0" y="617"/>
                  </a:lnTo>
                  <a:lnTo>
                    <a:pt x="770" y="614"/>
                  </a:lnTo>
                  <a:lnTo>
                    <a:pt x="760" y="610"/>
                  </a:lnTo>
                  <a:lnTo>
                    <a:pt x="750" y="603"/>
                  </a:lnTo>
                  <a:lnTo>
                    <a:pt x="740" y="600"/>
                  </a:lnTo>
                  <a:lnTo>
                    <a:pt x="729" y="596"/>
                  </a:lnTo>
                  <a:lnTo>
                    <a:pt x="719" y="596"/>
                  </a:lnTo>
                  <a:lnTo>
                    <a:pt x="709" y="596"/>
                  </a:lnTo>
                  <a:lnTo>
                    <a:pt x="699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8" y="596"/>
                  </a:lnTo>
                  <a:lnTo>
                    <a:pt x="658" y="603"/>
                  </a:lnTo>
                  <a:lnTo>
                    <a:pt x="648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7" y="635"/>
                  </a:lnTo>
                  <a:lnTo>
                    <a:pt x="597" y="641"/>
                  </a:lnTo>
                  <a:lnTo>
                    <a:pt x="587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6" y="669"/>
                  </a:lnTo>
                  <a:lnTo>
                    <a:pt x="546" y="676"/>
                  </a:lnTo>
                  <a:lnTo>
                    <a:pt x="536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5" y="704"/>
                  </a:lnTo>
                  <a:lnTo>
                    <a:pt x="485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4" y="728"/>
                  </a:lnTo>
                  <a:lnTo>
                    <a:pt x="434" y="735"/>
                  </a:lnTo>
                  <a:lnTo>
                    <a:pt x="424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3" y="742"/>
                  </a:lnTo>
                  <a:lnTo>
                    <a:pt x="373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2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1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1" y="555"/>
                  </a:lnTo>
                  <a:lnTo>
                    <a:pt x="258" y="544"/>
                  </a:lnTo>
                  <a:lnTo>
                    <a:pt x="254" y="534"/>
                  </a:lnTo>
                  <a:lnTo>
                    <a:pt x="251" y="524"/>
                  </a:lnTo>
                  <a:lnTo>
                    <a:pt x="244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3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1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94280" y="5224320"/>
              <a:ext cx="11613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23800" y="1471680"/>
            <a:ext cx="1662120" cy="1179360"/>
            <a:chOff x="523800" y="1471680"/>
            <a:chExt cx="1662120" cy="1179360"/>
          </a:xfrm>
        </p:grpSpPr>
        <p:sp>
          <p:nvSpPr>
            <p:cNvPr id="598" name=""/>
            <p:cNvSpPr/>
            <p:nvPr/>
          </p:nvSpPr>
          <p:spPr>
            <a:xfrm>
              <a:off x="523800" y="1471680"/>
              <a:ext cx="1662120" cy="1179360"/>
            </a:xfrm>
            <a:custGeom>
              <a:avLst/>
              <a:gdLst/>
              <a:ahLst/>
              <a:rect l="l" t="t" r="r" b="b"/>
              <a:pathLst>
                <a:path w="1047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5" y="35"/>
                  </a:lnTo>
                  <a:lnTo>
                    <a:pt x="255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6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7" y="45"/>
                  </a:lnTo>
                  <a:lnTo>
                    <a:pt x="367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8" y="55"/>
                  </a:lnTo>
                  <a:lnTo>
                    <a:pt x="418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9" y="69"/>
                  </a:lnTo>
                  <a:lnTo>
                    <a:pt x="479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20" y="76"/>
                  </a:lnTo>
                  <a:lnTo>
                    <a:pt x="530" y="76"/>
                  </a:lnTo>
                  <a:lnTo>
                    <a:pt x="540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1" y="66"/>
                  </a:lnTo>
                  <a:lnTo>
                    <a:pt x="577" y="55"/>
                  </a:lnTo>
                  <a:lnTo>
                    <a:pt x="588" y="52"/>
                  </a:lnTo>
                  <a:lnTo>
                    <a:pt x="598" y="42"/>
                  </a:lnTo>
                  <a:lnTo>
                    <a:pt x="608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9" y="7"/>
                  </a:lnTo>
                  <a:lnTo>
                    <a:pt x="659" y="3"/>
                  </a:lnTo>
                  <a:lnTo>
                    <a:pt x="669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700" y="0"/>
                  </a:lnTo>
                  <a:lnTo>
                    <a:pt x="710" y="3"/>
                  </a:lnTo>
                  <a:lnTo>
                    <a:pt x="720" y="10"/>
                  </a:lnTo>
                  <a:lnTo>
                    <a:pt x="730" y="14"/>
                  </a:lnTo>
                  <a:lnTo>
                    <a:pt x="740" y="17"/>
                  </a:lnTo>
                  <a:lnTo>
                    <a:pt x="751" y="21"/>
                  </a:lnTo>
                  <a:lnTo>
                    <a:pt x="761" y="28"/>
                  </a:lnTo>
                  <a:lnTo>
                    <a:pt x="771" y="31"/>
                  </a:lnTo>
                  <a:lnTo>
                    <a:pt x="781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2" y="55"/>
                  </a:lnTo>
                  <a:lnTo>
                    <a:pt x="822" y="62"/>
                  </a:lnTo>
                  <a:lnTo>
                    <a:pt x="832" y="69"/>
                  </a:lnTo>
                  <a:lnTo>
                    <a:pt x="842" y="76"/>
                  </a:lnTo>
                  <a:lnTo>
                    <a:pt x="852" y="83"/>
                  </a:lnTo>
                  <a:lnTo>
                    <a:pt x="863" y="90"/>
                  </a:lnTo>
                  <a:lnTo>
                    <a:pt x="873" y="94"/>
                  </a:lnTo>
                  <a:lnTo>
                    <a:pt x="883" y="97"/>
                  </a:lnTo>
                  <a:lnTo>
                    <a:pt x="893" y="101"/>
                  </a:lnTo>
                  <a:lnTo>
                    <a:pt x="903" y="101"/>
                  </a:lnTo>
                  <a:lnTo>
                    <a:pt x="914" y="104"/>
                  </a:lnTo>
                  <a:lnTo>
                    <a:pt x="924" y="107"/>
                  </a:lnTo>
                  <a:lnTo>
                    <a:pt x="934" y="107"/>
                  </a:lnTo>
                  <a:lnTo>
                    <a:pt x="944" y="107"/>
                  </a:lnTo>
                  <a:lnTo>
                    <a:pt x="954" y="111"/>
                  </a:lnTo>
                  <a:lnTo>
                    <a:pt x="964" y="114"/>
                  </a:lnTo>
                  <a:lnTo>
                    <a:pt x="975" y="118"/>
                  </a:lnTo>
                  <a:lnTo>
                    <a:pt x="985" y="121"/>
                  </a:lnTo>
                  <a:lnTo>
                    <a:pt x="995" y="125"/>
                  </a:lnTo>
                  <a:lnTo>
                    <a:pt x="1005" y="135"/>
                  </a:lnTo>
                  <a:lnTo>
                    <a:pt x="1015" y="142"/>
                  </a:lnTo>
                  <a:lnTo>
                    <a:pt x="1026" y="153"/>
                  </a:lnTo>
                  <a:lnTo>
                    <a:pt x="1032" y="163"/>
                  </a:lnTo>
                  <a:lnTo>
                    <a:pt x="1039" y="173"/>
                  </a:lnTo>
                  <a:lnTo>
                    <a:pt x="1039" y="184"/>
                  </a:lnTo>
                  <a:lnTo>
                    <a:pt x="1046" y="194"/>
                  </a:lnTo>
                  <a:lnTo>
                    <a:pt x="1046" y="205"/>
                  </a:lnTo>
                  <a:lnTo>
                    <a:pt x="1046" y="215"/>
                  </a:lnTo>
                  <a:lnTo>
                    <a:pt x="1043" y="225"/>
                  </a:lnTo>
                  <a:lnTo>
                    <a:pt x="1036" y="236"/>
                  </a:lnTo>
                  <a:lnTo>
                    <a:pt x="1026" y="243"/>
                  </a:lnTo>
                  <a:lnTo>
                    <a:pt x="1019" y="253"/>
                  </a:lnTo>
                  <a:lnTo>
                    <a:pt x="1012" y="264"/>
                  </a:lnTo>
                  <a:lnTo>
                    <a:pt x="1005" y="274"/>
                  </a:lnTo>
                  <a:lnTo>
                    <a:pt x="998" y="284"/>
                  </a:lnTo>
                  <a:lnTo>
                    <a:pt x="992" y="295"/>
                  </a:lnTo>
                  <a:lnTo>
                    <a:pt x="985" y="305"/>
                  </a:lnTo>
                  <a:lnTo>
                    <a:pt x="978" y="316"/>
                  </a:lnTo>
                  <a:lnTo>
                    <a:pt x="971" y="326"/>
                  </a:lnTo>
                  <a:lnTo>
                    <a:pt x="968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1" y="368"/>
                  </a:lnTo>
                  <a:lnTo>
                    <a:pt x="958" y="378"/>
                  </a:lnTo>
                  <a:lnTo>
                    <a:pt x="958" y="388"/>
                  </a:lnTo>
                  <a:lnTo>
                    <a:pt x="958" y="399"/>
                  </a:lnTo>
                  <a:lnTo>
                    <a:pt x="958" y="409"/>
                  </a:lnTo>
                  <a:lnTo>
                    <a:pt x="958" y="420"/>
                  </a:lnTo>
                  <a:lnTo>
                    <a:pt x="958" y="430"/>
                  </a:lnTo>
                  <a:lnTo>
                    <a:pt x="961" y="440"/>
                  </a:lnTo>
                  <a:lnTo>
                    <a:pt x="968" y="451"/>
                  </a:lnTo>
                  <a:lnTo>
                    <a:pt x="971" y="461"/>
                  </a:lnTo>
                  <a:lnTo>
                    <a:pt x="975" y="472"/>
                  </a:lnTo>
                  <a:lnTo>
                    <a:pt x="978" y="482"/>
                  </a:lnTo>
                  <a:lnTo>
                    <a:pt x="978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8" y="555"/>
                  </a:lnTo>
                  <a:lnTo>
                    <a:pt x="975" y="565"/>
                  </a:lnTo>
                  <a:lnTo>
                    <a:pt x="971" y="576"/>
                  </a:lnTo>
                  <a:lnTo>
                    <a:pt x="964" y="586"/>
                  </a:lnTo>
                  <a:lnTo>
                    <a:pt x="954" y="593"/>
                  </a:lnTo>
                  <a:lnTo>
                    <a:pt x="944" y="600"/>
                  </a:lnTo>
                  <a:lnTo>
                    <a:pt x="934" y="603"/>
                  </a:lnTo>
                  <a:lnTo>
                    <a:pt x="924" y="610"/>
                  </a:lnTo>
                  <a:lnTo>
                    <a:pt x="914" y="614"/>
                  </a:lnTo>
                  <a:lnTo>
                    <a:pt x="903" y="617"/>
                  </a:lnTo>
                  <a:lnTo>
                    <a:pt x="893" y="621"/>
                  </a:lnTo>
                  <a:lnTo>
                    <a:pt x="883" y="624"/>
                  </a:lnTo>
                  <a:lnTo>
                    <a:pt x="873" y="624"/>
                  </a:lnTo>
                  <a:lnTo>
                    <a:pt x="863" y="624"/>
                  </a:lnTo>
                  <a:lnTo>
                    <a:pt x="852" y="624"/>
                  </a:lnTo>
                  <a:lnTo>
                    <a:pt x="842" y="624"/>
                  </a:lnTo>
                  <a:lnTo>
                    <a:pt x="832" y="624"/>
                  </a:lnTo>
                  <a:lnTo>
                    <a:pt x="822" y="624"/>
                  </a:lnTo>
                  <a:lnTo>
                    <a:pt x="812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1" y="617"/>
                  </a:lnTo>
                  <a:lnTo>
                    <a:pt x="771" y="614"/>
                  </a:lnTo>
                  <a:lnTo>
                    <a:pt x="761" y="610"/>
                  </a:lnTo>
                  <a:lnTo>
                    <a:pt x="751" y="603"/>
                  </a:lnTo>
                  <a:lnTo>
                    <a:pt x="740" y="600"/>
                  </a:lnTo>
                  <a:lnTo>
                    <a:pt x="730" y="596"/>
                  </a:lnTo>
                  <a:lnTo>
                    <a:pt x="720" y="596"/>
                  </a:lnTo>
                  <a:lnTo>
                    <a:pt x="710" y="596"/>
                  </a:lnTo>
                  <a:lnTo>
                    <a:pt x="700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9" y="596"/>
                  </a:lnTo>
                  <a:lnTo>
                    <a:pt x="659" y="603"/>
                  </a:lnTo>
                  <a:lnTo>
                    <a:pt x="649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8" y="635"/>
                  </a:lnTo>
                  <a:lnTo>
                    <a:pt x="598" y="641"/>
                  </a:lnTo>
                  <a:lnTo>
                    <a:pt x="588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7" y="669"/>
                  </a:lnTo>
                  <a:lnTo>
                    <a:pt x="547" y="676"/>
                  </a:lnTo>
                  <a:lnTo>
                    <a:pt x="537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6" y="704"/>
                  </a:lnTo>
                  <a:lnTo>
                    <a:pt x="486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5" y="728"/>
                  </a:lnTo>
                  <a:lnTo>
                    <a:pt x="435" y="735"/>
                  </a:lnTo>
                  <a:lnTo>
                    <a:pt x="425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4" y="742"/>
                  </a:lnTo>
                  <a:lnTo>
                    <a:pt x="374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3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2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2" y="555"/>
                  </a:lnTo>
                  <a:lnTo>
                    <a:pt x="258" y="544"/>
                  </a:lnTo>
                  <a:lnTo>
                    <a:pt x="255" y="534"/>
                  </a:lnTo>
                  <a:lnTo>
                    <a:pt x="251" y="524"/>
                  </a:lnTo>
                  <a:lnTo>
                    <a:pt x="245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4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2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62200" y="1699920"/>
              <a:ext cx="11386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Toler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014560" y="3216240"/>
            <a:ext cx="1660320" cy="1179360"/>
            <a:chOff x="2014560" y="3216240"/>
            <a:chExt cx="1660320" cy="1179360"/>
          </a:xfrm>
        </p:grpSpPr>
        <p:sp>
          <p:nvSpPr>
            <p:cNvPr id="601" name=""/>
            <p:cNvSpPr/>
            <p:nvPr/>
          </p:nvSpPr>
          <p:spPr>
            <a:xfrm>
              <a:off x="2014560" y="3216240"/>
              <a:ext cx="1660320" cy="1179360"/>
            </a:xfrm>
            <a:custGeom>
              <a:avLst/>
              <a:gdLst/>
              <a:ahLst/>
              <a:rect l="l" t="t" r="r" b="b"/>
              <a:pathLst>
                <a:path w="1046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4" y="35"/>
                  </a:lnTo>
                  <a:lnTo>
                    <a:pt x="254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5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6" y="45"/>
                  </a:lnTo>
                  <a:lnTo>
                    <a:pt x="366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7" y="55"/>
                  </a:lnTo>
                  <a:lnTo>
                    <a:pt x="417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8" y="69"/>
                  </a:lnTo>
                  <a:lnTo>
                    <a:pt x="478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19" y="76"/>
                  </a:lnTo>
                  <a:lnTo>
                    <a:pt x="529" y="76"/>
                  </a:lnTo>
                  <a:lnTo>
                    <a:pt x="539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0" y="66"/>
                  </a:lnTo>
                  <a:lnTo>
                    <a:pt x="577" y="55"/>
                  </a:lnTo>
                  <a:lnTo>
                    <a:pt x="587" y="52"/>
                  </a:lnTo>
                  <a:lnTo>
                    <a:pt x="597" y="42"/>
                  </a:lnTo>
                  <a:lnTo>
                    <a:pt x="607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8" y="7"/>
                  </a:lnTo>
                  <a:lnTo>
                    <a:pt x="658" y="3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699" y="0"/>
                  </a:lnTo>
                  <a:lnTo>
                    <a:pt x="709" y="3"/>
                  </a:lnTo>
                  <a:lnTo>
                    <a:pt x="719" y="10"/>
                  </a:lnTo>
                  <a:lnTo>
                    <a:pt x="729" y="14"/>
                  </a:lnTo>
                  <a:lnTo>
                    <a:pt x="740" y="17"/>
                  </a:lnTo>
                  <a:lnTo>
                    <a:pt x="750" y="21"/>
                  </a:lnTo>
                  <a:lnTo>
                    <a:pt x="760" y="28"/>
                  </a:lnTo>
                  <a:lnTo>
                    <a:pt x="770" y="31"/>
                  </a:lnTo>
                  <a:lnTo>
                    <a:pt x="780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1" y="55"/>
                  </a:lnTo>
                  <a:lnTo>
                    <a:pt x="821" y="62"/>
                  </a:lnTo>
                  <a:lnTo>
                    <a:pt x="831" y="69"/>
                  </a:lnTo>
                  <a:lnTo>
                    <a:pt x="841" y="76"/>
                  </a:lnTo>
                  <a:lnTo>
                    <a:pt x="852" y="83"/>
                  </a:lnTo>
                  <a:lnTo>
                    <a:pt x="862" y="90"/>
                  </a:lnTo>
                  <a:lnTo>
                    <a:pt x="872" y="94"/>
                  </a:lnTo>
                  <a:lnTo>
                    <a:pt x="882" y="97"/>
                  </a:lnTo>
                  <a:lnTo>
                    <a:pt x="892" y="101"/>
                  </a:lnTo>
                  <a:lnTo>
                    <a:pt x="903" y="101"/>
                  </a:lnTo>
                  <a:lnTo>
                    <a:pt x="913" y="104"/>
                  </a:lnTo>
                  <a:lnTo>
                    <a:pt x="923" y="107"/>
                  </a:lnTo>
                  <a:lnTo>
                    <a:pt x="933" y="107"/>
                  </a:lnTo>
                  <a:lnTo>
                    <a:pt x="943" y="107"/>
                  </a:lnTo>
                  <a:lnTo>
                    <a:pt x="953" y="111"/>
                  </a:lnTo>
                  <a:lnTo>
                    <a:pt x="964" y="114"/>
                  </a:lnTo>
                  <a:lnTo>
                    <a:pt x="974" y="118"/>
                  </a:lnTo>
                  <a:lnTo>
                    <a:pt x="984" y="121"/>
                  </a:lnTo>
                  <a:lnTo>
                    <a:pt x="994" y="125"/>
                  </a:lnTo>
                  <a:lnTo>
                    <a:pt x="1004" y="135"/>
                  </a:lnTo>
                  <a:lnTo>
                    <a:pt x="1014" y="142"/>
                  </a:lnTo>
                  <a:lnTo>
                    <a:pt x="1025" y="153"/>
                  </a:lnTo>
                  <a:lnTo>
                    <a:pt x="1031" y="163"/>
                  </a:lnTo>
                  <a:lnTo>
                    <a:pt x="1038" y="173"/>
                  </a:lnTo>
                  <a:lnTo>
                    <a:pt x="1038" y="184"/>
                  </a:lnTo>
                  <a:lnTo>
                    <a:pt x="1045" y="194"/>
                  </a:lnTo>
                  <a:lnTo>
                    <a:pt x="1045" y="205"/>
                  </a:lnTo>
                  <a:lnTo>
                    <a:pt x="1045" y="215"/>
                  </a:lnTo>
                  <a:lnTo>
                    <a:pt x="1042" y="225"/>
                  </a:lnTo>
                  <a:lnTo>
                    <a:pt x="1035" y="236"/>
                  </a:lnTo>
                  <a:lnTo>
                    <a:pt x="1025" y="243"/>
                  </a:lnTo>
                  <a:lnTo>
                    <a:pt x="1018" y="253"/>
                  </a:lnTo>
                  <a:lnTo>
                    <a:pt x="1011" y="264"/>
                  </a:lnTo>
                  <a:lnTo>
                    <a:pt x="1004" y="274"/>
                  </a:lnTo>
                  <a:lnTo>
                    <a:pt x="998" y="284"/>
                  </a:lnTo>
                  <a:lnTo>
                    <a:pt x="991" y="295"/>
                  </a:lnTo>
                  <a:lnTo>
                    <a:pt x="984" y="305"/>
                  </a:lnTo>
                  <a:lnTo>
                    <a:pt x="977" y="316"/>
                  </a:lnTo>
                  <a:lnTo>
                    <a:pt x="970" y="326"/>
                  </a:lnTo>
                  <a:lnTo>
                    <a:pt x="967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0" y="368"/>
                  </a:lnTo>
                  <a:lnTo>
                    <a:pt x="957" y="378"/>
                  </a:lnTo>
                  <a:lnTo>
                    <a:pt x="957" y="388"/>
                  </a:lnTo>
                  <a:lnTo>
                    <a:pt x="957" y="399"/>
                  </a:lnTo>
                  <a:lnTo>
                    <a:pt x="957" y="409"/>
                  </a:lnTo>
                  <a:lnTo>
                    <a:pt x="957" y="420"/>
                  </a:lnTo>
                  <a:lnTo>
                    <a:pt x="957" y="430"/>
                  </a:lnTo>
                  <a:lnTo>
                    <a:pt x="960" y="440"/>
                  </a:lnTo>
                  <a:lnTo>
                    <a:pt x="967" y="451"/>
                  </a:lnTo>
                  <a:lnTo>
                    <a:pt x="970" y="461"/>
                  </a:lnTo>
                  <a:lnTo>
                    <a:pt x="974" y="472"/>
                  </a:lnTo>
                  <a:lnTo>
                    <a:pt x="977" y="482"/>
                  </a:lnTo>
                  <a:lnTo>
                    <a:pt x="977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7" y="555"/>
                  </a:lnTo>
                  <a:lnTo>
                    <a:pt x="974" y="565"/>
                  </a:lnTo>
                  <a:lnTo>
                    <a:pt x="970" y="576"/>
                  </a:lnTo>
                  <a:lnTo>
                    <a:pt x="964" y="586"/>
                  </a:lnTo>
                  <a:lnTo>
                    <a:pt x="953" y="593"/>
                  </a:lnTo>
                  <a:lnTo>
                    <a:pt x="943" y="600"/>
                  </a:lnTo>
                  <a:lnTo>
                    <a:pt x="933" y="603"/>
                  </a:lnTo>
                  <a:lnTo>
                    <a:pt x="923" y="610"/>
                  </a:lnTo>
                  <a:lnTo>
                    <a:pt x="913" y="614"/>
                  </a:lnTo>
                  <a:lnTo>
                    <a:pt x="903" y="617"/>
                  </a:lnTo>
                  <a:lnTo>
                    <a:pt x="892" y="621"/>
                  </a:lnTo>
                  <a:lnTo>
                    <a:pt x="882" y="624"/>
                  </a:lnTo>
                  <a:lnTo>
                    <a:pt x="872" y="624"/>
                  </a:lnTo>
                  <a:lnTo>
                    <a:pt x="862" y="624"/>
                  </a:lnTo>
                  <a:lnTo>
                    <a:pt x="852" y="624"/>
                  </a:lnTo>
                  <a:lnTo>
                    <a:pt x="841" y="624"/>
                  </a:lnTo>
                  <a:lnTo>
                    <a:pt x="831" y="624"/>
                  </a:lnTo>
                  <a:lnTo>
                    <a:pt x="821" y="624"/>
                  </a:lnTo>
                  <a:lnTo>
                    <a:pt x="811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0" y="617"/>
                  </a:lnTo>
                  <a:lnTo>
                    <a:pt x="770" y="614"/>
                  </a:lnTo>
                  <a:lnTo>
                    <a:pt x="760" y="610"/>
                  </a:lnTo>
                  <a:lnTo>
                    <a:pt x="750" y="603"/>
                  </a:lnTo>
                  <a:lnTo>
                    <a:pt x="740" y="600"/>
                  </a:lnTo>
                  <a:lnTo>
                    <a:pt x="729" y="596"/>
                  </a:lnTo>
                  <a:lnTo>
                    <a:pt x="719" y="596"/>
                  </a:lnTo>
                  <a:lnTo>
                    <a:pt x="709" y="596"/>
                  </a:lnTo>
                  <a:lnTo>
                    <a:pt x="699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8" y="596"/>
                  </a:lnTo>
                  <a:lnTo>
                    <a:pt x="658" y="603"/>
                  </a:lnTo>
                  <a:lnTo>
                    <a:pt x="648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7" y="635"/>
                  </a:lnTo>
                  <a:lnTo>
                    <a:pt x="597" y="641"/>
                  </a:lnTo>
                  <a:lnTo>
                    <a:pt x="587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6" y="669"/>
                  </a:lnTo>
                  <a:lnTo>
                    <a:pt x="546" y="676"/>
                  </a:lnTo>
                  <a:lnTo>
                    <a:pt x="536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5" y="704"/>
                  </a:lnTo>
                  <a:lnTo>
                    <a:pt x="485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4" y="728"/>
                  </a:lnTo>
                  <a:lnTo>
                    <a:pt x="434" y="735"/>
                  </a:lnTo>
                  <a:lnTo>
                    <a:pt x="424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3" y="742"/>
                  </a:lnTo>
                  <a:lnTo>
                    <a:pt x="373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2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1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1" y="555"/>
                  </a:lnTo>
                  <a:lnTo>
                    <a:pt x="258" y="544"/>
                  </a:lnTo>
                  <a:lnTo>
                    <a:pt x="254" y="534"/>
                  </a:lnTo>
                  <a:lnTo>
                    <a:pt x="251" y="524"/>
                  </a:lnTo>
                  <a:lnTo>
                    <a:pt x="244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3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1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319840" y="3440160"/>
              <a:ext cx="11386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Toler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882440" y="4209840"/>
            <a:ext cx="1703520" cy="1031040"/>
            <a:chOff x="1882440" y="4209840"/>
            <a:chExt cx="1703520" cy="1031040"/>
          </a:xfrm>
        </p:grpSpPr>
        <p:sp>
          <p:nvSpPr>
            <p:cNvPr id="604" name=""/>
            <p:cNvSpPr/>
            <p:nvPr/>
          </p:nvSpPr>
          <p:spPr>
            <a:xfrm>
              <a:off x="2701440" y="432576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3127320" y="4209840"/>
              <a:ext cx="104760" cy="9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617560" y="4363920"/>
              <a:ext cx="8892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71920" y="4334040"/>
              <a:ext cx="8388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81240" y="511344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82440" y="4543560"/>
              <a:ext cx="97380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41000" y="501480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40200" y="4664160"/>
              <a:ext cx="545760" cy="302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1109520" y="2374920"/>
            <a:ext cx="2049480" cy="1088280"/>
            <a:chOff x="1109520" y="2374920"/>
            <a:chExt cx="2049480" cy="1088280"/>
          </a:xfrm>
        </p:grpSpPr>
        <p:sp>
          <p:nvSpPr>
            <p:cNvPr id="613" name=""/>
            <p:cNvSpPr/>
            <p:nvPr/>
          </p:nvSpPr>
          <p:spPr>
            <a:xfrm>
              <a:off x="2009880" y="2451240"/>
              <a:ext cx="69840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1559160" y="2441160"/>
              <a:ext cx="768240" cy="88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94280" y="3300480"/>
              <a:ext cx="8388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71720" y="238932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09520" y="2749680"/>
              <a:ext cx="97380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90440" y="323712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72520" y="237492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200" y="2670120"/>
              <a:ext cx="97380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0" y="3838680"/>
            <a:ext cx="1662120" cy="1179360"/>
            <a:chOff x="0" y="3838680"/>
            <a:chExt cx="1662120" cy="1179360"/>
          </a:xfrm>
        </p:grpSpPr>
        <p:sp>
          <p:nvSpPr>
            <p:cNvPr id="622" name=""/>
            <p:cNvSpPr/>
            <p:nvPr/>
          </p:nvSpPr>
          <p:spPr>
            <a:xfrm>
              <a:off x="0" y="3838680"/>
              <a:ext cx="1662120" cy="1179360"/>
            </a:xfrm>
            <a:custGeom>
              <a:avLst/>
              <a:gdLst/>
              <a:ahLst/>
              <a:rect l="l" t="t" r="r" b="b"/>
              <a:pathLst>
                <a:path w="1047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5" y="35"/>
                  </a:lnTo>
                  <a:lnTo>
                    <a:pt x="255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6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7" y="45"/>
                  </a:lnTo>
                  <a:lnTo>
                    <a:pt x="367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8" y="55"/>
                  </a:lnTo>
                  <a:lnTo>
                    <a:pt x="418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9" y="69"/>
                  </a:lnTo>
                  <a:lnTo>
                    <a:pt x="479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20" y="76"/>
                  </a:lnTo>
                  <a:lnTo>
                    <a:pt x="530" y="76"/>
                  </a:lnTo>
                  <a:lnTo>
                    <a:pt x="540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1" y="66"/>
                  </a:lnTo>
                  <a:lnTo>
                    <a:pt x="577" y="55"/>
                  </a:lnTo>
                  <a:lnTo>
                    <a:pt x="588" y="52"/>
                  </a:lnTo>
                  <a:lnTo>
                    <a:pt x="598" y="42"/>
                  </a:lnTo>
                  <a:lnTo>
                    <a:pt x="608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9" y="7"/>
                  </a:lnTo>
                  <a:lnTo>
                    <a:pt x="659" y="3"/>
                  </a:lnTo>
                  <a:lnTo>
                    <a:pt x="669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700" y="0"/>
                  </a:lnTo>
                  <a:lnTo>
                    <a:pt x="710" y="3"/>
                  </a:lnTo>
                  <a:lnTo>
                    <a:pt x="720" y="10"/>
                  </a:lnTo>
                  <a:lnTo>
                    <a:pt x="730" y="14"/>
                  </a:lnTo>
                  <a:lnTo>
                    <a:pt x="740" y="17"/>
                  </a:lnTo>
                  <a:lnTo>
                    <a:pt x="751" y="21"/>
                  </a:lnTo>
                  <a:lnTo>
                    <a:pt x="761" y="28"/>
                  </a:lnTo>
                  <a:lnTo>
                    <a:pt x="771" y="31"/>
                  </a:lnTo>
                  <a:lnTo>
                    <a:pt x="781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2" y="55"/>
                  </a:lnTo>
                  <a:lnTo>
                    <a:pt x="822" y="62"/>
                  </a:lnTo>
                  <a:lnTo>
                    <a:pt x="832" y="69"/>
                  </a:lnTo>
                  <a:lnTo>
                    <a:pt x="842" y="76"/>
                  </a:lnTo>
                  <a:lnTo>
                    <a:pt x="852" y="83"/>
                  </a:lnTo>
                  <a:lnTo>
                    <a:pt x="863" y="90"/>
                  </a:lnTo>
                  <a:lnTo>
                    <a:pt x="873" y="94"/>
                  </a:lnTo>
                  <a:lnTo>
                    <a:pt x="883" y="97"/>
                  </a:lnTo>
                  <a:lnTo>
                    <a:pt x="893" y="101"/>
                  </a:lnTo>
                  <a:lnTo>
                    <a:pt x="903" y="101"/>
                  </a:lnTo>
                  <a:lnTo>
                    <a:pt x="914" y="104"/>
                  </a:lnTo>
                  <a:lnTo>
                    <a:pt x="924" y="107"/>
                  </a:lnTo>
                  <a:lnTo>
                    <a:pt x="934" y="107"/>
                  </a:lnTo>
                  <a:lnTo>
                    <a:pt x="944" y="107"/>
                  </a:lnTo>
                  <a:lnTo>
                    <a:pt x="954" y="111"/>
                  </a:lnTo>
                  <a:lnTo>
                    <a:pt x="964" y="114"/>
                  </a:lnTo>
                  <a:lnTo>
                    <a:pt x="975" y="118"/>
                  </a:lnTo>
                  <a:lnTo>
                    <a:pt x="985" y="121"/>
                  </a:lnTo>
                  <a:lnTo>
                    <a:pt x="995" y="125"/>
                  </a:lnTo>
                  <a:lnTo>
                    <a:pt x="1005" y="135"/>
                  </a:lnTo>
                  <a:lnTo>
                    <a:pt x="1015" y="142"/>
                  </a:lnTo>
                  <a:lnTo>
                    <a:pt x="1026" y="153"/>
                  </a:lnTo>
                  <a:lnTo>
                    <a:pt x="1032" y="163"/>
                  </a:lnTo>
                  <a:lnTo>
                    <a:pt x="1039" y="173"/>
                  </a:lnTo>
                  <a:lnTo>
                    <a:pt x="1039" y="184"/>
                  </a:lnTo>
                  <a:lnTo>
                    <a:pt x="1046" y="194"/>
                  </a:lnTo>
                  <a:lnTo>
                    <a:pt x="1046" y="205"/>
                  </a:lnTo>
                  <a:lnTo>
                    <a:pt x="1046" y="215"/>
                  </a:lnTo>
                  <a:lnTo>
                    <a:pt x="1043" y="225"/>
                  </a:lnTo>
                  <a:lnTo>
                    <a:pt x="1036" y="236"/>
                  </a:lnTo>
                  <a:lnTo>
                    <a:pt x="1026" y="243"/>
                  </a:lnTo>
                  <a:lnTo>
                    <a:pt x="1019" y="253"/>
                  </a:lnTo>
                  <a:lnTo>
                    <a:pt x="1012" y="264"/>
                  </a:lnTo>
                  <a:lnTo>
                    <a:pt x="1005" y="274"/>
                  </a:lnTo>
                  <a:lnTo>
                    <a:pt x="998" y="284"/>
                  </a:lnTo>
                  <a:lnTo>
                    <a:pt x="992" y="295"/>
                  </a:lnTo>
                  <a:lnTo>
                    <a:pt x="985" y="305"/>
                  </a:lnTo>
                  <a:lnTo>
                    <a:pt x="978" y="316"/>
                  </a:lnTo>
                  <a:lnTo>
                    <a:pt x="971" y="326"/>
                  </a:lnTo>
                  <a:lnTo>
                    <a:pt x="968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1" y="368"/>
                  </a:lnTo>
                  <a:lnTo>
                    <a:pt x="958" y="378"/>
                  </a:lnTo>
                  <a:lnTo>
                    <a:pt x="958" y="388"/>
                  </a:lnTo>
                  <a:lnTo>
                    <a:pt x="958" y="399"/>
                  </a:lnTo>
                  <a:lnTo>
                    <a:pt x="958" y="409"/>
                  </a:lnTo>
                  <a:lnTo>
                    <a:pt x="958" y="420"/>
                  </a:lnTo>
                  <a:lnTo>
                    <a:pt x="958" y="430"/>
                  </a:lnTo>
                  <a:lnTo>
                    <a:pt x="961" y="440"/>
                  </a:lnTo>
                  <a:lnTo>
                    <a:pt x="968" y="451"/>
                  </a:lnTo>
                  <a:lnTo>
                    <a:pt x="971" y="461"/>
                  </a:lnTo>
                  <a:lnTo>
                    <a:pt x="975" y="472"/>
                  </a:lnTo>
                  <a:lnTo>
                    <a:pt x="978" y="482"/>
                  </a:lnTo>
                  <a:lnTo>
                    <a:pt x="978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8" y="555"/>
                  </a:lnTo>
                  <a:lnTo>
                    <a:pt x="975" y="565"/>
                  </a:lnTo>
                  <a:lnTo>
                    <a:pt x="971" y="576"/>
                  </a:lnTo>
                  <a:lnTo>
                    <a:pt x="964" y="586"/>
                  </a:lnTo>
                  <a:lnTo>
                    <a:pt x="954" y="593"/>
                  </a:lnTo>
                  <a:lnTo>
                    <a:pt x="944" y="600"/>
                  </a:lnTo>
                  <a:lnTo>
                    <a:pt x="934" y="603"/>
                  </a:lnTo>
                  <a:lnTo>
                    <a:pt x="924" y="610"/>
                  </a:lnTo>
                  <a:lnTo>
                    <a:pt x="914" y="614"/>
                  </a:lnTo>
                  <a:lnTo>
                    <a:pt x="903" y="617"/>
                  </a:lnTo>
                  <a:lnTo>
                    <a:pt x="893" y="621"/>
                  </a:lnTo>
                  <a:lnTo>
                    <a:pt x="883" y="624"/>
                  </a:lnTo>
                  <a:lnTo>
                    <a:pt x="873" y="624"/>
                  </a:lnTo>
                  <a:lnTo>
                    <a:pt x="863" y="624"/>
                  </a:lnTo>
                  <a:lnTo>
                    <a:pt x="852" y="624"/>
                  </a:lnTo>
                  <a:lnTo>
                    <a:pt x="842" y="624"/>
                  </a:lnTo>
                  <a:lnTo>
                    <a:pt x="832" y="624"/>
                  </a:lnTo>
                  <a:lnTo>
                    <a:pt x="822" y="624"/>
                  </a:lnTo>
                  <a:lnTo>
                    <a:pt x="812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1" y="617"/>
                  </a:lnTo>
                  <a:lnTo>
                    <a:pt x="771" y="614"/>
                  </a:lnTo>
                  <a:lnTo>
                    <a:pt x="761" y="610"/>
                  </a:lnTo>
                  <a:lnTo>
                    <a:pt x="751" y="603"/>
                  </a:lnTo>
                  <a:lnTo>
                    <a:pt x="740" y="600"/>
                  </a:lnTo>
                  <a:lnTo>
                    <a:pt x="730" y="596"/>
                  </a:lnTo>
                  <a:lnTo>
                    <a:pt x="720" y="596"/>
                  </a:lnTo>
                  <a:lnTo>
                    <a:pt x="710" y="596"/>
                  </a:lnTo>
                  <a:lnTo>
                    <a:pt x="700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9" y="596"/>
                  </a:lnTo>
                  <a:lnTo>
                    <a:pt x="659" y="603"/>
                  </a:lnTo>
                  <a:lnTo>
                    <a:pt x="649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8" y="635"/>
                  </a:lnTo>
                  <a:lnTo>
                    <a:pt x="598" y="641"/>
                  </a:lnTo>
                  <a:lnTo>
                    <a:pt x="588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7" y="669"/>
                  </a:lnTo>
                  <a:lnTo>
                    <a:pt x="547" y="676"/>
                  </a:lnTo>
                  <a:lnTo>
                    <a:pt x="537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6" y="704"/>
                  </a:lnTo>
                  <a:lnTo>
                    <a:pt x="486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5" y="728"/>
                  </a:lnTo>
                  <a:lnTo>
                    <a:pt x="435" y="735"/>
                  </a:lnTo>
                  <a:lnTo>
                    <a:pt x="425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4" y="742"/>
                  </a:lnTo>
                  <a:lnTo>
                    <a:pt x="374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3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2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2" y="555"/>
                  </a:lnTo>
                  <a:lnTo>
                    <a:pt x="258" y="544"/>
                  </a:lnTo>
                  <a:lnTo>
                    <a:pt x="255" y="534"/>
                  </a:lnTo>
                  <a:lnTo>
                    <a:pt x="251" y="524"/>
                  </a:lnTo>
                  <a:lnTo>
                    <a:pt x="245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4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2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3480" y="4267080"/>
              <a:ext cx="113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Toler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002600" y="3576600"/>
            <a:ext cx="1676160" cy="1051920"/>
            <a:chOff x="1002600" y="3576600"/>
            <a:chExt cx="1676160" cy="1051920"/>
          </a:xfrm>
        </p:grpSpPr>
        <p:sp>
          <p:nvSpPr>
            <p:cNvPr id="625" name=""/>
            <p:cNvSpPr/>
            <p:nvPr/>
          </p:nvSpPr>
          <p:spPr>
            <a:xfrm>
              <a:off x="1002600" y="373860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349280" y="3681000"/>
              <a:ext cx="76536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1604880" y="4208400"/>
              <a:ext cx="82872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06600" y="420516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22080" y="4113360"/>
              <a:ext cx="97380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33240" y="413712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28600" y="3576600"/>
              <a:ext cx="1063800" cy="302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lera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89160" y="3948120"/>
              <a:ext cx="8388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918440" y="1730520"/>
            <a:ext cx="1252080" cy="515160"/>
            <a:chOff x="1918440" y="1730520"/>
            <a:chExt cx="1252080" cy="515160"/>
          </a:xfrm>
        </p:grpSpPr>
        <p:sp>
          <p:nvSpPr>
            <p:cNvPr id="634" name=""/>
            <p:cNvSpPr/>
            <p:nvPr/>
          </p:nvSpPr>
          <p:spPr>
            <a:xfrm>
              <a:off x="2196720" y="1730520"/>
              <a:ext cx="97380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076480" y="1914120"/>
              <a:ext cx="10382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50920" y="197640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18440" y="178452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385800" y="3463920"/>
            <a:ext cx="1251720" cy="515160"/>
            <a:chOff x="3385800" y="3463920"/>
            <a:chExt cx="1251720" cy="515160"/>
          </a:xfrm>
        </p:grpSpPr>
        <p:sp>
          <p:nvSpPr>
            <p:cNvPr id="639" name=""/>
            <p:cNvSpPr/>
            <p:nvPr/>
          </p:nvSpPr>
          <p:spPr>
            <a:xfrm>
              <a:off x="3663720" y="3463920"/>
              <a:ext cx="973800" cy="51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543480" y="3647880"/>
              <a:ext cx="10378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17920" y="371016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85800" y="351792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356640" y="5473800"/>
            <a:ext cx="1196280" cy="331560"/>
            <a:chOff x="3356640" y="5473800"/>
            <a:chExt cx="1196280" cy="331560"/>
          </a:xfrm>
        </p:grpSpPr>
        <p:sp>
          <p:nvSpPr>
            <p:cNvPr id="644" name=""/>
            <p:cNvSpPr/>
            <p:nvPr/>
          </p:nvSpPr>
          <p:spPr>
            <a:xfrm>
              <a:off x="3848040" y="5473800"/>
              <a:ext cx="545760" cy="302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3514680" y="5657400"/>
              <a:ext cx="10382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89480" y="5719680"/>
              <a:ext cx="8388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356640" y="552780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94920" y="43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sure Definition Model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736640" y="3803760"/>
            <a:ext cx="1660680" cy="1179360"/>
            <a:chOff x="1736640" y="3803760"/>
            <a:chExt cx="1660680" cy="1179360"/>
          </a:xfrm>
        </p:grpSpPr>
        <p:sp>
          <p:nvSpPr>
            <p:cNvPr id="650" name=""/>
            <p:cNvSpPr/>
            <p:nvPr/>
          </p:nvSpPr>
          <p:spPr>
            <a:xfrm>
              <a:off x="1736640" y="3803760"/>
              <a:ext cx="1660680" cy="1179360"/>
            </a:xfrm>
            <a:custGeom>
              <a:avLst/>
              <a:gdLst/>
              <a:ahLst/>
              <a:rect l="l" t="t" r="r" b="b"/>
              <a:pathLst>
                <a:path w="1046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4" y="35"/>
                  </a:lnTo>
                  <a:lnTo>
                    <a:pt x="254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5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6" y="45"/>
                  </a:lnTo>
                  <a:lnTo>
                    <a:pt x="366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7" y="55"/>
                  </a:lnTo>
                  <a:lnTo>
                    <a:pt x="417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8" y="69"/>
                  </a:lnTo>
                  <a:lnTo>
                    <a:pt x="478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19" y="76"/>
                  </a:lnTo>
                  <a:lnTo>
                    <a:pt x="529" y="76"/>
                  </a:lnTo>
                  <a:lnTo>
                    <a:pt x="539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0" y="66"/>
                  </a:lnTo>
                  <a:lnTo>
                    <a:pt x="577" y="55"/>
                  </a:lnTo>
                  <a:lnTo>
                    <a:pt x="587" y="52"/>
                  </a:lnTo>
                  <a:lnTo>
                    <a:pt x="597" y="42"/>
                  </a:lnTo>
                  <a:lnTo>
                    <a:pt x="607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8" y="7"/>
                  </a:lnTo>
                  <a:lnTo>
                    <a:pt x="658" y="3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699" y="0"/>
                  </a:lnTo>
                  <a:lnTo>
                    <a:pt x="709" y="3"/>
                  </a:lnTo>
                  <a:lnTo>
                    <a:pt x="719" y="10"/>
                  </a:lnTo>
                  <a:lnTo>
                    <a:pt x="729" y="14"/>
                  </a:lnTo>
                  <a:lnTo>
                    <a:pt x="740" y="17"/>
                  </a:lnTo>
                  <a:lnTo>
                    <a:pt x="750" y="21"/>
                  </a:lnTo>
                  <a:lnTo>
                    <a:pt x="760" y="28"/>
                  </a:lnTo>
                  <a:lnTo>
                    <a:pt x="770" y="31"/>
                  </a:lnTo>
                  <a:lnTo>
                    <a:pt x="780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1" y="55"/>
                  </a:lnTo>
                  <a:lnTo>
                    <a:pt x="821" y="62"/>
                  </a:lnTo>
                  <a:lnTo>
                    <a:pt x="831" y="69"/>
                  </a:lnTo>
                  <a:lnTo>
                    <a:pt x="841" y="76"/>
                  </a:lnTo>
                  <a:lnTo>
                    <a:pt x="852" y="83"/>
                  </a:lnTo>
                  <a:lnTo>
                    <a:pt x="862" y="90"/>
                  </a:lnTo>
                  <a:lnTo>
                    <a:pt x="872" y="94"/>
                  </a:lnTo>
                  <a:lnTo>
                    <a:pt x="882" y="97"/>
                  </a:lnTo>
                  <a:lnTo>
                    <a:pt x="892" y="101"/>
                  </a:lnTo>
                  <a:lnTo>
                    <a:pt x="903" y="101"/>
                  </a:lnTo>
                  <a:lnTo>
                    <a:pt x="913" y="104"/>
                  </a:lnTo>
                  <a:lnTo>
                    <a:pt x="923" y="107"/>
                  </a:lnTo>
                  <a:lnTo>
                    <a:pt x="933" y="107"/>
                  </a:lnTo>
                  <a:lnTo>
                    <a:pt x="943" y="107"/>
                  </a:lnTo>
                  <a:lnTo>
                    <a:pt x="953" y="111"/>
                  </a:lnTo>
                  <a:lnTo>
                    <a:pt x="964" y="114"/>
                  </a:lnTo>
                  <a:lnTo>
                    <a:pt x="974" y="118"/>
                  </a:lnTo>
                  <a:lnTo>
                    <a:pt x="984" y="121"/>
                  </a:lnTo>
                  <a:lnTo>
                    <a:pt x="994" y="125"/>
                  </a:lnTo>
                  <a:lnTo>
                    <a:pt x="1004" y="135"/>
                  </a:lnTo>
                  <a:lnTo>
                    <a:pt x="1014" y="142"/>
                  </a:lnTo>
                  <a:lnTo>
                    <a:pt x="1025" y="153"/>
                  </a:lnTo>
                  <a:lnTo>
                    <a:pt x="1031" y="163"/>
                  </a:lnTo>
                  <a:lnTo>
                    <a:pt x="1038" y="173"/>
                  </a:lnTo>
                  <a:lnTo>
                    <a:pt x="1038" y="184"/>
                  </a:lnTo>
                  <a:lnTo>
                    <a:pt x="1045" y="194"/>
                  </a:lnTo>
                  <a:lnTo>
                    <a:pt x="1045" y="205"/>
                  </a:lnTo>
                  <a:lnTo>
                    <a:pt x="1045" y="215"/>
                  </a:lnTo>
                  <a:lnTo>
                    <a:pt x="1042" y="225"/>
                  </a:lnTo>
                  <a:lnTo>
                    <a:pt x="1035" y="236"/>
                  </a:lnTo>
                  <a:lnTo>
                    <a:pt x="1025" y="243"/>
                  </a:lnTo>
                  <a:lnTo>
                    <a:pt x="1018" y="253"/>
                  </a:lnTo>
                  <a:lnTo>
                    <a:pt x="1011" y="264"/>
                  </a:lnTo>
                  <a:lnTo>
                    <a:pt x="1004" y="274"/>
                  </a:lnTo>
                  <a:lnTo>
                    <a:pt x="998" y="284"/>
                  </a:lnTo>
                  <a:lnTo>
                    <a:pt x="991" y="295"/>
                  </a:lnTo>
                  <a:lnTo>
                    <a:pt x="984" y="305"/>
                  </a:lnTo>
                  <a:lnTo>
                    <a:pt x="977" y="316"/>
                  </a:lnTo>
                  <a:lnTo>
                    <a:pt x="970" y="326"/>
                  </a:lnTo>
                  <a:lnTo>
                    <a:pt x="967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0" y="368"/>
                  </a:lnTo>
                  <a:lnTo>
                    <a:pt x="957" y="378"/>
                  </a:lnTo>
                  <a:lnTo>
                    <a:pt x="957" y="388"/>
                  </a:lnTo>
                  <a:lnTo>
                    <a:pt x="957" y="399"/>
                  </a:lnTo>
                  <a:lnTo>
                    <a:pt x="957" y="409"/>
                  </a:lnTo>
                  <a:lnTo>
                    <a:pt x="957" y="420"/>
                  </a:lnTo>
                  <a:lnTo>
                    <a:pt x="957" y="430"/>
                  </a:lnTo>
                  <a:lnTo>
                    <a:pt x="960" y="440"/>
                  </a:lnTo>
                  <a:lnTo>
                    <a:pt x="967" y="451"/>
                  </a:lnTo>
                  <a:lnTo>
                    <a:pt x="970" y="461"/>
                  </a:lnTo>
                  <a:lnTo>
                    <a:pt x="974" y="472"/>
                  </a:lnTo>
                  <a:lnTo>
                    <a:pt x="977" y="482"/>
                  </a:lnTo>
                  <a:lnTo>
                    <a:pt x="977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7" y="555"/>
                  </a:lnTo>
                  <a:lnTo>
                    <a:pt x="974" y="565"/>
                  </a:lnTo>
                  <a:lnTo>
                    <a:pt x="970" y="576"/>
                  </a:lnTo>
                  <a:lnTo>
                    <a:pt x="964" y="586"/>
                  </a:lnTo>
                  <a:lnTo>
                    <a:pt x="953" y="593"/>
                  </a:lnTo>
                  <a:lnTo>
                    <a:pt x="943" y="600"/>
                  </a:lnTo>
                  <a:lnTo>
                    <a:pt x="933" y="603"/>
                  </a:lnTo>
                  <a:lnTo>
                    <a:pt x="923" y="610"/>
                  </a:lnTo>
                  <a:lnTo>
                    <a:pt x="913" y="614"/>
                  </a:lnTo>
                  <a:lnTo>
                    <a:pt x="903" y="617"/>
                  </a:lnTo>
                  <a:lnTo>
                    <a:pt x="892" y="621"/>
                  </a:lnTo>
                  <a:lnTo>
                    <a:pt x="882" y="624"/>
                  </a:lnTo>
                  <a:lnTo>
                    <a:pt x="872" y="624"/>
                  </a:lnTo>
                  <a:lnTo>
                    <a:pt x="862" y="624"/>
                  </a:lnTo>
                  <a:lnTo>
                    <a:pt x="852" y="624"/>
                  </a:lnTo>
                  <a:lnTo>
                    <a:pt x="841" y="624"/>
                  </a:lnTo>
                  <a:lnTo>
                    <a:pt x="831" y="624"/>
                  </a:lnTo>
                  <a:lnTo>
                    <a:pt x="821" y="624"/>
                  </a:lnTo>
                  <a:lnTo>
                    <a:pt x="811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0" y="617"/>
                  </a:lnTo>
                  <a:lnTo>
                    <a:pt x="770" y="614"/>
                  </a:lnTo>
                  <a:lnTo>
                    <a:pt x="760" y="610"/>
                  </a:lnTo>
                  <a:lnTo>
                    <a:pt x="750" y="603"/>
                  </a:lnTo>
                  <a:lnTo>
                    <a:pt x="740" y="600"/>
                  </a:lnTo>
                  <a:lnTo>
                    <a:pt x="729" y="596"/>
                  </a:lnTo>
                  <a:lnTo>
                    <a:pt x="719" y="596"/>
                  </a:lnTo>
                  <a:lnTo>
                    <a:pt x="709" y="596"/>
                  </a:lnTo>
                  <a:lnTo>
                    <a:pt x="699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8" y="596"/>
                  </a:lnTo>
                  <a:lnTo>
                    <a:pt x="658" y="603"/>
                  </a:lnTo>
                  <a:lnTo>
                    <a:pt x="648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7" y="635"/>
                  </a:lnTo>
                  <a:lnTo>
                    <a:pt x="597" y="641"/>
                  </a:lnTo>
                  <a:lnTo>
                    <a:pt x="587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6" y="669"/>
                  </a:lnTo>
                  <a:lnTo>
                    <a:pt x="546" y="676"/>
                  </a:lnTo>
                  <a:lnTo>
                    <a:pt x="536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5" y="704"/>
                  </a:lnTo>
                  <a:lnTo>
                    <a:pt x="485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4" y="728"/>
                  </a:lnTo>
                  <a:lnTo>
                    <a:pt x="434" y="735"/>
                  </a:lnTo>
                  <a:lnTo>
                    <a:pt x="424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3" y="742"/>
                  </a:lnTo>
                  <a:lnTo>
                    <a:pt x="373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2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1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1" y="555"/>
                  </a:lnTo>
                  <a:lnTo>
                    <a:pt x="258" y="544"/>
                  </a:lnTo>
                  <a:lnTo>
                    <a:pt x="254" y="534"/>
                  </a:lnTo>
                  <a:lnTo>
                    <a:pt x="251" y="524"/>
                  </a:lnTo>
                  <a:lnTo>
                    <a:pt x="244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3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1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09360" y="4060800"/>
              <a:ext cx="1544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Tolerance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sp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4248000" y="5289480"/>
            <a:ext cx="1660680" cy="1179720"/>
            <a:chOff x="4248000" y="5289480"/>
            <a:chExt cx="1660680" cy="1179720"/>
          </a:xfrm>
        </p:grpSpPr>
        <p:sp>
          <p:nvSpPr>
            <p:cNvPr id="653" name=""/>
            <p:cNvSpPr/>
            <p:nvPr/>
          </p:nvSpPr>
          <p:spPr>
            <a:xfrm>
              <a:off x="4248000" y="5289480"/>
              <a:ext cx="1660680" cy="1179720"/>
            </a:xfrm>
            <a:custGeom>
              <a:avLst/>
              <a:gdLst/>
              <a:ahLst/>
              <a:rect l="l" t="t" r="r" b="b"/>
              <a:pathLst>
                <a:path w="1046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4" y="35"/>
                  </a:lnTo>
                  <a:lnTo>
                    <a:pt x="254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5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6" y="45"/>
                  </a:lnTo>
                  <a:lnTo>
                    <a:pt x="366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7" y="55"/>
                  </a:lnTo>
                  <a:lnTo>
                    <a:pt x="417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8" y="69"/>
                  </a:lnTo>
                  <a:lnTo>
                    <a:pt x="478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19" y="76"/>
                  </a:lnTo>
                  <a:lnTo>
                    <a:pt x="529" y="76"/>
                  </a:lnTo>
                  <a:lnTo>
                    <a:pt x="539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0" y="66"/>
                  </a:lnTo>
                  <a:lnTo>
                    <a:pt x="577" y="55"/>
                  </a:lnTo>
                  <a:lnTo>
                    <a:pt x="587" y="52"/>
                  </a:lnTo>
                  <a:lnTo>
                    <a:pt x="597" y="42"/>
                  </a:lnTo>
                  <a:lnTo>
                    <a:pt x="607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8" y="7"/>
                  </a:lnTo>
                  <a:lnTo>
                    <a:pt x="658" y="3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699" y="0"/>
                  </a:lnTo>
                  <a:lnTo>
                    <a:pt x="709" y="3"/>
                  </a:lnTo>
                  <a:lnTo>
                    <a:pt x="719" y="10"/>
                  </a:lnTo>
                  <a:lnTo>
                    <a:pt x="729" y="14"/>
                  </a:lnTo>
                  <a:lnTo>
                    <a:pt x="740" y="17"/>
                  </a:lnTo>
                  <a:lnTo>
                    <a:pt x="750" y="21"/>
                  </a:lnTo>
                  <a:lnTo>
                    <a:pt x="760" y="28"/>
                  </a:lnTo>
                  <a:lnTo>
                    <a:pt x="770" y="31"/>
                  </a:lnTo>
                  <a:lnTo>
                    <a:pt x="780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1" y="55"/>
                  </a:lnTo>
                  <a:lnTo>
                    <a:pt x="821" y="62"/>
                  </a:lnTo>
                  <a:lnTo>
                    <a:pt x="831" y="69"/>
                  </a:lnTo>
                  <a:lnTo>
                    <a:pt x="841" y="76"/>
                  </a:lnTo>
                  <a:lnTo>
                    <a:pt x="852" y="83"/>
                  </a:lnTo>
                  <a:lnTo>
                    <a:pt x="862" y="90"/>
                  </a:lnTo>
                  <a:lnTo>
                    <a:pt x="872" y="94"/>
                  </a:lnTo>
                  <a:lnTo>
                    <a:pt x="882" y="97"/>
                  </a:lnTo>
                  <a:lnTo>
                    <a:pt x="892" y="101"/>
                  </a:lnTo>
                  <a:lnTo>
                    <a:pt x="903" y="101"/>
                  </a:lnTo>
                  <a:lnTo>
                    <a:pt x="913" y="104"/>
                  </a:lnTo>
                  <a:lnTo>
                    <a:pt x="923" y="107"/>
                  </a:lnTo>
                  <a:lnTo>
                    <a:pt x="933" y="107"/>
                  </a:lnTo>
                  <a:lnTo>
                    <a:pt x="943" y="107"/>
                  </a:lnTo>
                  <a:lnTo>
                    <a:pt x="953" y="111"/>
                  </a:lnTo>
                  <a:lnTo>
                    <a:pt x="964" y="114"/>
                  </a:lnTo>
                  <a:lnTo>
                    <a:pt x="974" y="118"/>
                  </a:lnTo>
                  <a:lnTo>
                    <a:pt x="984" y="121"/>
                  </a:lnTo>
                  <a:lnTo>
                    <a:pt x="994" y="125"/>
                  </a:lnTo>
                  <a:lnTo>
                    <a:pt x="1004" y="135"/>
                  </a:lnTo>
                  <a:lnTo>
                    <a:pt x="1014" y="142"/>
                  </a:lnTo>
                  <a:lnTo>
                    <a:pt x="1025" y="153"/>
                  </a:lnTo>
                  <a:lnTo>
                    <a:pt x="1031" y="163"/>
                  </a:lnTo>
                  <a:lnTo>
                    <a:pt x="1038" y="173"/>
                  </a:lnTo>
                  <a:lnTo>
                    <a:pt x="1038" y="184"/>
                  </a:lnTo>
                  <a:lnTo>
                    <a:pt x="1045" y="194"/>
                  </a:lnTo>
                  <a:lnTo>
                    <a:pt x="1045" y="205"/>
                  </a:lnTo>
                  <a:lnTo>
                    <a:pt x="1045" y="215"/>
                  </a:lnTo>
                  <a:lnTo>
                    <a:pt x="1042" y="225"/>
                  </a:lnTo>
                  <a:lnTo>
                    <a:pt x="1035" y="236"/>
                  </a:lnTo>
                  <a:lnTo>
                    <a:pt x="1025" y="243"/>
                  </a:lnTo>
                  <a:lnTo>
                    <a:pt x="1018" y="253"/>
                  </a:lnTo>
                  <a:lnTo>
                    <a:pt x="1011" y="264"/>
                  </a:lnTo>
                  <a:lnTo>
                    <a:pt x="1004" y="274"/>
                  </a:lnTo>
                  <a:lnTo>
                    <a:pt x="998" y="284"/>
                  </a:lnTo>
                  <a:lnTo>
                    <a:pt x="991" y="295"/>
                  </a:lnTo>
                  <a:lnTo>
                    <a:pt x="984" y="305"/>
                  </a:lnTo>
                  <a:lnTo>
                    <a:pt x="977" y="316"/>
                  </a:lnTo>
                  <a:lnTo>
                    <a:pt x="970" y="326"/>
                  </a:lnTo>
                  <a:lnTo>
                    <a:pt x="967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0" y="368"/>
                  </a:lnTo>
                  <a:lnTo>
                    <a:pt x="957" y="378"/>
                  </a:lnTo>
                  <a:lnTo>
                    <a:pt x="957" y="388"/>
                  </a:lnTo>
                  <a:lnTo>
                    <a:pt x="957" y="399"/>
                  </a:lnTo>
                  <a:lnTo>
                    <a:pt x="957" y="409"/>
                  </a:lnTo>
                  <a:lnTo>
                    <a:pt x="957" y="420"/>
                  </a:lnTo>
                  <a:lnTo>
                    <a:pt x="957" y="430"/>
                  </a:lnTo>
                  <a:lnTo>
                    <a:pt x="960" y="440"/>
                  </a:lnTo>
                  <a:lnTo>
                    <a:pt x="967" y="451"/>
                  </a:lnTo>
                  <a:lnTo>
                    <a:pt x="970" y="461"/>
                  </a:lnTo>
                  <a:lnTo>
                    <a:pt x="974" y="472"/>
                  </a:lnTo>
                  <a:lnTo>
                    <a:pt x="977" y="482"/>
                  </a:lnTo>
                  <a:lnTo>
                    <a:pt x="977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7" y="555"/>
                  </a:lnTo>
                  <a:lnTo>
                    <a:pt x="974" y="565"/>
                  </a:lnTo>
                  <a:lnTo>
                    <a:pt x="970" y="576"/>
                  </a:lnTo>
                  <a:lnTo>
                    <a:pt x="964" y="586"/>
                  </a:lnTo>
                  <a:lnTo>
                    <a:pt x="953" y="593"/>
                  </a:lnTo>
                  <a:lnTo>
                    <a:pt x="943" y="600"/>
                  </a:lnTo>
                  <a:lnTo>
                    <a:pt x="933" y="603"/>
                  </a:lnTo>
                  <a:lnTo>
                    <a:pt x="923" y="610"/>
                  </a:lnTo>
                  <a:lnTo>
                    <a:pt x="913" y="614"/>
                  </a:lnTo>
                  <a:lnTo>
                    <a:pt x="903" y="617"/>
                  </a:lnTo>
                  <a:lnTo>
                    <a:pt x="892" y="621"/>
                  </a:lnTo>
                  <a:lnTo>
                    <a:pt x="882" y="624"/>
                  </a:lnTo>
                  <a:lnTo>
                    <a:pt x="872" y="624"/>
                  </a:lnTo>
                  <a:lnTo>
                    <a:pt x="862" y="624"/>
                  </a:lnTo>
                  <a:lnTo>
                    <a:pt x="852" y="624"/>
                  </a:lnTo>
                  <a:lnTo>
                    <a:pt x="841" y="624"/>
                  </a:lnTo>
                  <a:lnTo>
                    <a:pt x="831" y="624"/>
                  </a:lnTo>
                  <a:lnTo>
                    <a:pt x="821" y="624"/>
                  </a:lnTo>
                  <a:lnTo>
                    <a:pt x="811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0" y="617"/>
                  </a:lnTo>
                  <a:lnTo>
                    <a:pt x="770" y="614"/>
                  </a:lnTo>
                  <a:lnTo>
                    <a:pt x="760" y="610"/>
                  </a:lnTo>
                  <a:lnTo>
                    <a:pt x="750" y="603"/>
                  </a:lnTo>
                  <a:lnTo>
                    <a:pt x="740" y="600"/>
                  </a:lnTo>
                  <a:lnTo>
                    <a:pt x="729" y="596"/>
                  </a:lnTo>
                  <a:lnTo>
                    <a:pt x="719" y="596"/>
                  </a:lnTo>
                  <a:lnTo>
                    <a:pt x="709" y="596"/>
                  </a:lnTo>
                  <a:lnTo>
                    <a:pt x="699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8" y="596"/>
                  </a:lnTo>
                  <a:lnTo>
                    <a:pt x="658" y="603"/>
                  </a:lnTo>
                  <a:lnTo>
                    <a:pt x="648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7" y="635"/>
                  </a:lnTo>
                  <a:lnTo>
                    <a:pt x="597" y="641"/>
                  </a:lnTo>
                  <a:lnTo>
                    <a:pt x="587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6" y="669"/>
                  </a:lnTo>
                  <a:lnTo>
                    <a:pt x="546" y="676"/>
                  </a:lnTo>
                  <a:lnTo>
                    <a:pt x="536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5" y="704"/>
                  </a:lnTo>
                  <a:lnTo>
                    <a:pt x="485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4" y="728"/>
                  </a:lnTo>
                  <a:lnTo>
                    <a:pt x="434" y="735"/>
                  </a:lnTo>
                  <a:lnTo>
                    <a:pt x="424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3" y="742"/>
                  </a:lnTo>
                  <a:lnTo>
                    <a:pt x="373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2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1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1" y="555"/>
                  </a:lnTo>
                  <a:lnTo>
                    <a:pt x="258" y="544"/>
                  </a:lnTo>
                  <a:lnTo>
                    <a:pt x="254" y="534"/>
                  </a:lnTo>
                  <a:lnTo>
                    <a:pt x="251" y="524"/>
                  </a:lnTo>
                  <a:lnTo>
                    <a:pt x="244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3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1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42120" y="5595840"/>
              <a:ext cx="113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Toler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800760" y="4133880"/>
            <a:ext cx="1662120" cy="1179360"/>
            <a:chOff x="6800760" y="4133880"/>
            <a:chExt cx="1662120" cy="1179360"/>
          </a:xfrm>
        </p:grpSpPr>
        <p:sp>
          <p:nvSpPr>
            <p:cNvPr id="656" name=""/>
            <p:cNvSpPr/>
            <p:nvPr/>
          </p:nvSpPr>
          <p:spPr>
            <a:xfrm>
              <a:off x="6800760" y="4133880"/>
              <a:ext cx="1662120" cy="1179360"/>
            </a:xfrm>
            <a:custGeom>
              <a:avLst/>
              <a:gdLst/>
              <a:ahLst/>
              <a:rect l="l" t="t" r="r" b="b"/>
              <a:pathLst>
                <a:path w="1047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5" y="35"/>
                  </a:lnTo>
                  <a:lnTo>
                    <a:pt x="255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6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7" y="45"/>
                  </a:lnTo>
                  <a:lnTo>
                    <a:pt x="367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8" y="55"/>
                  </a:lnTo>
                  <a:lnTo>
                    <a:pt x="418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9" y="69"/>
                  </a:lnTo>
                  <a:lnTo>
                    <a:pt x="479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20" y="76"/>
                  </a:lnTo>
                  <a:lnTo>
                    <a:pt x="530" y="76"/>
                  </a:lnTo>
                  <a:lnTo>
                    <a:pt x="540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1" y="66"/>
                  </a:lnTo>
                  <a:lnTo>
                    <a:pt x="577" y="55"/>
                  </a:lnTo>
                  <a:lnTo>
                    <a:pt x="588" y="52"/>
                  </a:lnTo>
                  <a:lnTo>
                    <a:pt x="598" y="42"/>
                  </a:lnTo>
                  <a:lnTo>
                    <a:pt x="608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9" y="7"/>
                  </a:lnTo>
                  <a:lnTo>
                    <a:pt x="659" y="3"/>
                  </a:lnTo>
                  <a:lnTo>
                    <a:pt x="669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700" y="0"/>
                  </a:lnTo>
                  <a:lnTo>
                    <a:pt x="710" y="3"/>
                  </a:lnTo>
                  <a:lnTo>
                    <a:pt x="720" y="10"/>
                  </a:lnTo>
                  <a:lnTo>
                    <a:pt x="730" y="14"/>
                  </a:lnTo>
                  <a:lnTo>
                    <a:pt x="740" y="17"/>
                  </a:lnTo>
                  <a:lnTo>
                    <a:pt x="751" y="21"/>
                  </a:lnTo>
                  <a:lnTo>
                    <a:pt x="761" y="28"/>
                  </a:lnTo>
                  <a:lnTo>
                    <a:pt x="771" y="31"/>
                  </a:lnTo>
                  <a:lnTo>
                    <a:pt x="781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2" y="55"/>
                  </a:lnTo>
                  <a:lnTo>
                    <a:pt x="822" y="62"/>
                  </a:lnTo>
                  <a:lnTo>
                    <a:pt x="832" y="69"/>
                  </a:lnTo>
                  <a:lnTo>
                    <a:pt x="842" y="76"/>
                  </a:lnTo>
                  <a:lnTo>
                    <a:pt x="852" y="83"/>
                  </a:lnTo>
                  <a:lnTo>
                    <a:pt x="863" y="90"/>
                  </a:lnTo>
                  <a:lnTo>
                    <a:pt x="873" y="94"/>
                  </a:lnTo>
                  <a:lnTo>
                    <a:pt x="883" y="97"/>
                  </a:lnTo>
                  <a:lnTo>
                    <a:pt x="893" y="101"/>
                  </a:lnTo>
                  <a:lnTo>
                    <a:pt x="903" y="101"/>
                  </a:lnTo>
                  <a:lnTo>
                    <a:pt x="914" y="104"/>
                  </a:lnTo>
                  <a:lnTo>
                    <a:pt x="924" y="107"/>
                  </a:lnTo>
                  <a:lnTo>
                    <a:pt x="934" y="107"/>
                  </a:lnTo>
                  <a:lnTo>
                    <a:pt x="944" y="107"/>
                  </a:lnTo>
                  <a:lnTo>
                    <a:pt x="954" y="111"/>
                  </a:lnTo>
                  <a:lnTo>
                    <a:pt x="964" y="114"/>
                  </a:lnTo>
                  <a:lnTo>
                    <a:pt x="975" y="118"/>
                  </a:lnTo>
                  <a:lnTo>
                    <a:pt x="985" y="121"/>
                  </a:lnTo>
                  <a:lnTo>
                    <a:pt x="995" y="125"/>
                  </a:lnTo>
                  <a:lnTo>
                    <a:pt x="1005" y="135"/>
                  </a:lnTo>
                  <a:lnTo>
                    <a:pt x="1015" y="142"/>
                  </a:lnTo>
                  <a:lnTo>
                    <a:pt x="1026" y="153"/>
                  </a:lnTo>
                  <a:lnTo>
                    <a:pt x="1032" y="163"/>
                  </a:lnTo>
                  <a:lnTo>
                    <a:pt x="1039" y="173"/>
                  </a:lnTo>
                  <a:lnTo>
                    <a:pt x="1039" y="184"/>
                  </a:lnTo>
                  <a:lnTo>
                    <a:pt x="1046" y="194"/>
                  </a:lnTo>
                  <a:lnTo>
                    <a:pt x="1046" y="205"/>
                  </a:lnTo>
                  <a:lnTo>
                    <a:pt x="1046" y="215"/>
                  </a:lnTo>
                  <a:lnTo>
                    <a:pt x="1043" y="225"/>
                  </a:lnTo>
                  <a:lnTo>
                    <a:pt x="1036" y="236"/>
                  </a:lnTo>
                  <a:lnTo>
                    <a:pt x="1026" y="243"/>
                  </a:lnTo>
                  <a:lnTo>
                    <a:pt x="1019" y="253"/>
                  </a:lnTo>
                  <a:lnTo>
                    <a:pt x="1012" y="264"/>
                  </a:lnTo>
                  <a:lnTo>
                    <a:pt x="1005" y="274"/>
                  </a:lnTo>
                  <a:lnTo>
                    <a:pt x="998" y="284"/>
                  </a:lnTo>
                  <a:lnTo>
                    <a:pt x="992" y="295"/>
                  </a:lnTo>
                  <a:lnTo>
                    <a:pt x="985" y="305"/>
                  </a:lnTo>
                  <a:lnTo>
                    <a:pt x="978" y="316"/>
                  </a:lnTo>
                  <a:lnTo>
                    <a:pt x="971" y="326"/>
                  </a:lnTo>
                  <a:lnTo>
                    <a:pt x="968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1" y="368"/>
                  </a:lnTo>
                  <a:lnTo>
                    <a:pt x="958" y="378"/>
                  </a:lnTo>
                  <a:lnTo>
                    <a:pt x="958" y="388"/>
                  </a:lnTo>
                  <a:lnTo>
                    <a:pt x="958" y="399"/>
                  </a:lnTo>
                  <a:lnTo>
                    <a:pt x="958" y="409"/>
                  </a:lnTo>
                  <a:lnTo>
                    <a:pt x="958" y="420"/>
                  </a:lnTo>
                  <a:lnTo>
                    <a:pt x="958" y="430"/>
                  </a:lnTo>
                  <a:lnTo>
                    <a:pt x="961" y="440"/>
                  </a:lnTo>
                  <a:lnTo>
                    <a:pt x="968" y="451"/>
                  </a:lnTo>
                  <a:lnTo>
                    <a:pt x="971" y="461"/>
                  </a:lnTo>
                  <a:lnTo>
                    <a:pt x="975" y="472"/>
                  </a:lnTo>
                  <a:lnTo>
                    <a:pt x="978" y="482"/>
                  </a:lnTo>
                  <a:lnTo>
                    <a:pt x="978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8" y="555"/>
                  </a:lnTo>
                  <a:lnTo>
                    <a:pt x="975" y="565"/>
                  </a:lnTo>
                  <a:lnTo>
                    <a:pt x="971" y="576"/>
                  </a:lnTo>
                  <a:lnTo>
                    <a:pt x="964" y="586"/>
                  </a:lnTo>
                  <a:lnTo>
                    <a:pt x="954" y="593"/>
                  </a:lnTo>
                  <a:lnTo>
                    <a:pt x="944" y="600"/>
                  </a:lnTo>
                  <a:lnTo>
                    <a:pt x="934" y="603"/>
                  </a:lnTo>
                  <a:lnTo>
                    <a:pt x="924" y="610"/>
                  </a:lnTo>
                  <a:lnTo>
                    <a:pt x="914" y="614"/>
                  </a:lnTo>
                  <a:lnTo>
                    <a:pt x="903" y="617"/>
                  </a:lnTo>
                  <a:lnTo>
                    <a:pt x="893" y="621"/>
                  </a:lnTo>
                  <a:lnTo>
                    <a:pt x="883" y="624"/>
                  </a:lnTo>
                  <a:lnTo>
                    <a:pt x="873" y="624"/>
                  </a:lnTo>
                  <a:lnTo>
                    <a:pt x="863" y="624"/>
                  </a:lnTo>
                  <a:lnTo>
                    <a:pt x="852" y="624"/>
                  </a:lnTo>
                  <a:lnTo>
                    <a:pt x="842" y="624"/>
                  </a:lnTo>
                  <a:lnTo>
                    <a:pt x="832" y="624"/>
                  </a:lnTo>
                  <a:lnTo>
                    <a:pt x="822" y="624"/>
                  </a:lnTo>
                  <a:lnTo>
                    <a:pt x="812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1" y="617"/>
                  </a:lnTo>
                  <a:lnTo>
                    <a:pt x="771" y="614"/>
                  </a:lnTo>
                  <a:lnTo>
                    <a:pt x="761" y="610"/>
                  </a:lnTo>
                  <a:lnTo>
                    <a:pt x="751" y="603"/>
                  </a:lnTo>
                  <a:lnTo>
                    <a:pt x="740" y="600"/>
                  </a:lnTo>
                  <a:lnTo>
                    <a:pt x="730" y="596"/>
                  </a:lnTo>
                  <a:lnTo>
                    <a:pt x="720" y="596"/>
                  </a:lnTo>
                  <a:lnTo>
                    <a:pt x="710" y="596"/>
                  </a:lnTo>
                  <a:lnTo>
                    <a:pt x="700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9" y="596"/>
                  </a:lnTo>
                  <a:lnTo>
                    <a:pt x="659" y="603"/>
                  </a:lnTo>
                  <a:lnTo>
                    <a:pt x="649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8" y="635"/>
                  </a:lnTo>
                  <a:lnTo>
                    <a:pt x="598" y="641"/>
                  </a:lnTo>
                  <a:lnTo>
                    <a:pt x="588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7" y="669"/>
                  </a:lnTo>
                  <a:lnTo>
                    <a:pt x="547" y="676"/>
                  </a:lnTo>
                  <a:lnTo>
                    <a:pt x="537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6" y="704"/>
                  </a:lnTo>
                  <a:lnTo>
                    <a:pt x="486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5" y="728"/>
                  </a:lnTo>
                  <a:lnTo>
                    <a:pt x="435" y="735"/>
                  </a:lnTo>
                  <a:lnTo>
                    <a:pt x="425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4" y="742"/>
                  </a:lnTo>
                  <a:lnTo>
                    <a:pt x="374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3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2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2" y="555"/>
                  </a:lnTo>
                  <a:lnTo>
                    <a:pt x="258" y="544"/>
                  </a:lnTo>
                  <a:lnTo>
                    <a:pt x="255" y="534"/>
                  </a:lnTo>
                  <a:lnTo>
                    <a:pt x="251" y="524"/>
                  </a:lnTo>
                  <a:lnTo>
                    <a:pt x="245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4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2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28360" y="4286160"/>
              <a:ext cx="11613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867280" y="1143000"/>
            <a:ext cx="1660680" cy="1179360"/>
            <a:chOff x="5867280" y="1143000"/>
            <a:chExt cx="1660680" cy="1179360"/>
          </a:xfrm>
        </p:grpSpPr>
        <p:sp>
          <p:nvSpPr>
            <p:cNvPr id="659" name=""/>
            <p:cNvSpPr/>
            <p:nvPr/>
          </p:nvSpPr>
          <p:spPr>
            <a:xfrm>
              <a:off x="5867280" y="1143000"/>
              <a:ext cx="1660680" cy="1179360"/>
            </a:xfrm>
            <a:custGeom>
              <a:avLst/>
              <a:gdLst/>
              <a:ahLst/>
              <a:rect l="l" t="t" r="r" b="b"/>
              <a:pathLst>
                <a:path w="1046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4" y="35"/>
                  </a:lnTo>
                  <a:lnTo>
                    <a:pt x="254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5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6" y="45"/>
                  </a:lnTo>
                  <a:lnTo>
                    <a:pt x="366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7" y="55"/>
                  </a:lnTo>
                  <a:lnTo>
                    <a:pt x="417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8" y="69"/>
                  </a:lnTo>
                  <a:lnTo>
                    <a:pt x="478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19" y="76"/>
                  </a:lnTo>
                  <a:lnTo>
                    <a:pt x="529" y="76"/>
                  </a:lnTo>
                  <a:lnTo>
                    <a:pt x="539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0" y="66"/>
                  </a:lnTo>
                  <a:lnTo>
                    <a:pt x="577" y="55"/>
                  </a:lnTo>
                  <a:lnTo>
                    <a:pt x="587" y="52"/>
                  </a:lnTo>
                  <a:lnTo>
                    <a:pt x="597" y="42"/>
                  </a:lnTo>
                  <a:lnTo>
                    <a:pt x="607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8" y="7"/>
                  </a:lnTo>
                  <a:lnTo>
                    <a:pt x="658" y="3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699" y="0"/>
                  </a:lnTo>
                  <a:lnTo>
                    <a:pt x="709" y="3"/>
                  </a:lnTo>
                  <a:lnTo>
                    <a:pt x="719" y="10"/>
                  </a:lnTo>
                  <a:lnTo>
                    <a:pt x="729" y="14"/>
                  </a:lnTo>
                  <a:lnTo>
                    <a:pt x="740" y="17"/>
                  </a:lnTo>
                  <a:lnTo>
                    <a:pt x="750" y="21"/>
                  </a:lnTo>
                  <a:lnTo>
                    <a:pt x="760" y="28"/>
                  </a:lnTo>
                  <a:lnTo>
                    <a:pt x="770" y="31"/>
                  </a:lnTo>
                  <a:lnTo>
                    <a:pt x="780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1" y="55"/>
                  </a:lnTo>
                  <a:lnTo>
                    <a:pt x="821" y="62"/>
                  </a:lnTo>
                  <a:lnTo>
                    <a:pt x="831" y="69"/>
                  </a:lnTo>
                  <a:lnTo>
                    <a:pt x="841" y="76"/>
                  </a:lnTo>
                  <a:lnTo>
                    <a:pt x="852" y="83"/>
                  </a:lnTo>
                  <a:lnTo>
                    <a:pt x="862" y="90"/>
                  </a:lnTo>
                  <a:lnTo>
                    <a:pt x="872" y="94"/>
                  </a:lnTo>
                  <a:lnTo>
                    <a:pt x="882" y="97"/>
                  </a:lnTo>
                  <a:lnTo>
                    <a:pt x="892" y="101"/>
                  </a:lnTo>
                  <a:lnTo>
                    <a:pt x="903" y="101"/>
                  </a:lnTo>
                  <a:lnTo>
                    <a:pt x="913" y="104"/>
                  </a:lnTo>
                  <a:lnTo>
                    <a:pt x="923" y="107"/>
                  </a:lnTo>
                  <a:lnTo>
                    <a:pt x="933" y="107"/>
                  </a:lnTo>
                  <a:lnTo>
                    <a:pt x="943" y="107"/>
                  </a:lnTo>
                  <a:lnTo>
                    <a:pt x="953" y="111"/>
                  </a:lnTo>
                  <a:lnTo>
                    <a:pt x="964" y="114"/>
                  </a:lnTo>
                  <a:lnTo>
                    <a:pt x="974" y="118"/>
                  </a:lnTo>
                  <a:lnTo>
                    <a:pt x="984" y="121"/>
                  </a:lnTo>
                  <a:lnTo>
                    <a:pt x="994" y="125"/>
                  </a:lnTo>
                  <a:lnTo>
                    <a:pt x="1004" y="135"/>
                  </a:lnTo>
                  <a:lnTo>
                    <a:pt x="1014" y="142"/>
                  </a:lnTo>
                  <a:lnTo>
                    <a:pt x="1025" y="153"/>
                  </a:lnTo>
                  <a:lnTo>
                    <a:pt x="1031" y="163"/>
                  </a:lnTo>
                  <a:lnTo>
                    <a:pt x="1038" y="173"/>
                  </a:lnTo>
                  <a:lnTo>
                    <a:pt x="1038" y="184"/>
                  </a:lnTo>
                  <a:lnTo>
                    <a:pt x="1045" y="194"/>
                  </a:lnTo>
                  <a:lnTo>
                    <a:pt x="1045" y="205"/>
                  </a:lnTo>
                  <a:lnTo>
                    <a:pt x="1045" y="215"/>
                  </a:lnTo>
                  <a:lnTo>
                    <a:pt x="1042" y="225"/>
                  </a:lnTo>
                  <a:lnTo>
                    <a:pt x="1035" y="236"/>
                  </a:lnTo>
                  <a:lnTo>
                    <a:pt x="1025" y="243"/>
                  </a:lnTo>
                  <a:lnTo>
                    <a:pt x="1018" y="253"/>
                  </a:lnTo>
                  <a:lnTo>
                    <a:pt x="1011" y="264"/>
                  </a:lnTo>
                  <a:lnTo>
                    <a:pt x="1004" y="274"/>
                  </a:lnTo>
                  <a:lnTo>
                    <a:pt x="998" y="284"/>
                  </a:lnTo>
                  <a:lnTo>
                    <a:pt x="991" y="295"/>
                  </a:lnTo>
                  <a:lnTo>
                    <a:pt x="984" y="305"/>
                  </a:lnTo>
                  <a:lnTo>
                    <a:pt x="977" y="316"/>
                  </a:lnTo>
                  <a:lnTo>
                    <a:pt x="970" y="326"/>
                  </a:lnTo>
                  <a:lnTo>
                    <a:pt x="967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0" y="368"/>
                  </a:lnTo>
                  <a:lnTo>
                    <a:pt x="957" y="378"/>
                  </a:lnTo>
                  <a:lnTo>
                    <a:pt x="957" y="388"/>
                  </a:lnTo>
                  <a:lnTo>
                    <a:pt x="957" y="399"/>
                  </a:lnTo>
                  <a:lnTo>
                    <a:pt x="957" y="409"/>
                  </a:lnTo>
                  <a:lnTo>
                    <a:pt x="957" y="420"/>
                  </a:lnTo>
                  <a:lnTo>
                    <a:pt x="957" y="430"/>
                  </a:lnTo>
                  <a:lnTo>
                    <a:pt x="960" y="440"/>
                  </a:lnTo>
                  <a:lnTo>
                    <a:pt x="967" y="451"/>
                  </a:lnTo>
                  <a:lnTo>
                    <a:pt x="970" y="461"/>
                  </a:lnTo>
                  <a:lnTo>
                    <a:pt x="974" y="472"/>
                  </a:lnTo>
                  <a:lnTo>
                    <a:pt x="977" y="482"/>
                  </a:lnTo>
                  <a:lnTo>
                    <a:pt x="977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7" y="555"/>
                  </a:lnTo>
                  <a:lnTo>
                    <a:pt x="974" y="565"/>
                  </a:lnTo>
                  <a:lnTo>
                    <a:pt x="970" y="576"/>
                  </a:lnTo>
                  <a:lnTo>
                    <a:pt x="964" y="586"/>
                  </a:lnTo>
                  <a:lnTo>
                    <a:pt x="953" y="593"/>
                  </a:lnTo>
                  <a:lnTo>
                    <a:pt x="943" y="600"/>
                  </a:lnTo>
                  <a:lnTo>
                    <a:pt x="933" y="603"/>
                  </a:lnTo>
                  <a:lnTo>
                    <a:pt x="923" y="610"/>
                  </a:lnTo>
                  <a:lnTo>
                    <a:pt x="913" y="614"/>
                  </a:lnTo>
                  <a:lnTo>
                    <a:pt x="903" y="617"/>
                  </a:lnTo>
                  <a:lnTo>
                    <a:pt x="892" y="621"/>
                  </a:lnTo>
                  <a:lnTo>
                    <a:pt x="882" y="624"/>
                  </a:lnTo>
                  <a:lnTo>
                    <a:pt x="872" y="624"/>
                  </a:lnTo>
                  <a:lnTo>
                    <a:pt x="862" y="624"/>
                  </a:lnTo>
                  <a:lnTo>
                    <a:pt x="852" y="624"/>
                  </a:lnTo>
                  <a:lnTo>
                    <a:pt x="841" y="624"/>
                  </a:lnTo>
                  <a:lnTo>
                    <a:pt x="831" y="624"/>
                  </a:lnTo>
                  <a:lnTo>
                    <a:pt x="821" y="624"/>
                  </a:lnTo>
                  <a:lnTo>
                    <a:pt x="811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0" y="617"/>
                  </a:lnTo>
                  <a:lnTo>
                    <a:pt x="770" y="614"/>
                  </a:lnTo>
                  <a:lnTo>
                    <a:pt x="760" y="610"/>
                  </a:lnTo>
                  <a:lnTo>
                    <a:pt x="750" y="603"/>
                  </a:lnTo>
                  <a:lnTo>
                    <a:pt x="740" y="600"/>
                  </a:lnTo>
                  <a:lnTo>
                    <a:pt x="729" y="596"/>
                  </a:lnTo>
                  <a:lnTo>
                    <a:pt x="719" y="596"/>
                  </a:lnTo>
                  <a:lnTo>
                    <a:pt x="709" y="596"/>
                  </a:lnTo>
                  <a:lnTo>
                    <a:pt x="699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8" y="596"/>
                  </a:lnTo>
                  <a:lnTo>
                    <a:pt x="658" y="603"/>
                  </a:lnTo>
                  <a:lnTo>
                    <a:pt x="648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7" y="635"/>
                  </a:lnTo>
                  <a:lnTo>
                    <a:pt x="597" y="641"/>
                  </a:lnTo>
                  <a:lnTo>
                    <a:pt x="587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6" y="669"/>
                  </a:lnTo>
                  <a:lnTo>
                    <a:pt x="546" y="676"/>
                  </a:lnTo>
                  <a:lnTo>
                    <a:pt x="536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5" y="704"/>
                  </a:lnTo>
                  <a:lnTo>
                    <a:pt x="485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4" y="728"/>
                  </a:lnTo>
                  <a:lnTo>
                    <a:pt x="434" y="735"/>
                  </a:lnTo>
                  <a:lnTo>
                    <a:pt x="424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3" y="742"/>
                  </a:lnTo>
                  <a:lnTo>
                    <a:pt x="373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2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1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1" y="555"/>
                  </a:lnTo>
                  <a:lnTo>
                    <a:pt x="258" y="544"/>
                  </a:lnTo>
                  <a:lnTo>
                    <a:pt x="254" y="534"/>
                  </a:lnTo>
                  <a:lnTo>
                    <a:pt x="251" y="524"/>
                  </a:lnTo>
                  <a:lnTo>
                    <a:pt x="244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3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1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379560" y="1449360"/>
              <a:ext cx="810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2792520" y="1623960"/>
            <a:ext cx="1662120" cy="1179720"/>
            <a:chOff x="2792520" y="1623960"/>
            <a:chExt cx="1662120" cy="1179720"/>
          </a:xfrm>
        </p:grpSpPr>
        <p:sp>
          <p:nvSpPr>
            <p:cNvPr id="662" name=""/>
            <p:cNvSpPr/>
            <p:nvPr/>
          </p:nvSpPr>
          <p:spPr>
            <a:xfrm>
              <a:off x="2792520" y="1623960"/>
              <a:ext cx="1662120" cy="1179720"/>
            </a:xfrm>
            <a:custGeom>
              <a:avLst/>
              <a:gdLst/>
              <a:ahLst/>
              <a:rect l="l" t="t" r="r" b="b"/>
              <a:pathLst>
                <a:path w="1047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5" y="35"/>
                  </a:lnTo>
                  <a:lnTo>
                    <a:pt x="255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6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7" y="45"/>
                  </a:lnTo>
                  <a:lnTo>
                    <a:pt x="367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8" y="55"/>
                  </a:lnTo>
                  <a:lnTo>
                    <a:pt x="418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9" y="69"/>
                  </a:lnTo>
                  <a:lnTo>
                    <a:pt x="479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20" y="76"/>
                  </a:lnTo>
                  <a:lnTo>
                    <a:pt x="530" y="76"/>
                  </a:lnTo>
                  <a:lnTo>
                    <a:pt x="540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1" y="66"/>
                  </a:lnTo>
                  <a:lnTo>
                    <a:pt x="577" y="55"/>
                  </a:lnTo>
                  <a:lnTo>
                    <a:pt x="588" y="52"/>
                  </a:lnTo>
                  <a:lnTo>
                    <a:pt x="598" y="42"/>
                  </a:lnTo>
                  <a:lnTo>
                    <a:pt x="608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9" y="7"/>
                  </a:lnTo>
                  <a:lnTo>
                    <a:pt x="659" y="3"/>
                  </a:lnTo>
                  <a:lnTo>
                    <a:pt x="669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700" y="0"/>
                  </a:lnTo>
                  <a:lnTo>
                    <a:pt x="710" y="3"/>
                  </a:lnTo>
                  <a:lnTo>
                    <a:pt x="720" y="10"/>
                  </a:lnTo>
                  <a:lnTo>
                    <a:pt x="730" y="14"/>
                  </a:lnTo>
                  <a:lnTo>
                    <a:pt x="740" y="17"/>
                  </a:lnTo>
                  <a:lnTo>
                    <a:pt x="751" y="21"/>
                  </a:lnTo>
                  <a:lnTo>
                    <a:pt x="761" y="28"/>
                  </a:lnTo>
                  <a:lnTo>
                    <a:pt x="771" y="31"/>
                  </a:lnTo>
                  <a:lnTo>
                    <a:pt x="781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2" y="55"/>
                  </a:lnTo>
                  <a:lnTo>
                    <a:pt x="822" y="62"/>
                  </a:lnTo>
                  <a:lnTo>
                    <a:pt x="832" y="69"/>
                  </a:lnTo>
                  <a:lnTo>
                    <a:pt x="842" y="76"/>
                  </a:lnTo>
                  <a:lnTo>
                    <a:pt x="852" y="83"/>
                  </a:lnTo>
                  <a:lnTo>
                    <a:pt x="863" y="90"/>
                  </a:lnTo>
                  <a:lnTo>
                    <a:pt x="873" y="94"/>
                  </a:lnTo>
                  <a:lnTo>
                    <a:pt x="883" y="97"/>
                  </a:lnTo>
                  <a:lnTo>
                    <a:pt x="893" y="101"/>
                  </a:lnTo>
                  <a:lnTo>
                    <a:pt x="903" y="101"/>
                  </a:lnTo>
                  <a:lnTo>
                    <a:pt x="914" y="104"/>
                  </a:lnTo>
                  <a:lnTo>
                    <a:pt x="924" y="107"/>
                  </a:lnTo>
                  <a:lnTo>
                    <a:pt x="934" y="107"/>
                  </a:lnTo>
                  <a:lnTo>
                    <a:pt x="944" y="107"/>
                  </a:lnTo>
                  <a:lnTo>
                    <a:pt x="954" y="111"/>
                  </a:lnTo>
                  <a:lnTo>
                    <a:pt x="964" y="114"/>
                  </a:lnTo>
                  <a:lnTo>
                    <a:pt x="975" y="118"/>
                  </a:lnTo>
                  <a:lnTo>
                    <a:pt x="985" y="121"/>
                  </a:lnTo>
                  <a:lnTo>
                    <a:pt x="995" y="125"/>
                  </a:lnTo>
                  <a:lnTo>
                    <a:pt x="1005" y="135"/>
                  </a:lnTo>
                  <a:lnTo>
                    <a:pt x="1015" y="142"/>
                  </a:lnTo>
                  <a:lnTo>
                    <a:pt x="1026" y="153"/>
                  </a:lnTo>
                  <a:lnTo>
                    <a:pt x="1032" y="163"/>
                  </a:lnTo>
                  <a:lnTo>
                    <a:pt x="1039" y="173"/>
                  </a:lnTo>
                  <a:lnTo>
                    <a:pt x="1039" y="184"/>
                  </a:lnTo>
                  <a:lnTo>
                    <a:pt x="1046" y="194"/>
                  </a:lnTo>
                  <a:lnTo>
                    <a:pt x="1046" y="205"/>
                  </a:lnTo>
                  <a:lnTo>
                    <a:pt x="1046" y="215"/>
                  </a:lnTo>
                  <a:lnTo>
                    <a:pt x="1043" y="225"/>
                  </a:lnTo>
                  <a:lnTo>
                    <a:pt x="1036" y="236"/>
                  </a:lnTo>
                  <a:lnTo>
                    <a:pt x="1026" y="243"/>
                  </a:lnTo>
                  <a:lnTo>
                    <a:pt x="1019" y="253"/>
                  </a:lnTo>
                  <a:lnTo>
                    <a:pt x="1012" y="264"/>
                  </a:lnTo>
                  <a:lnTo>
                    <a:pt x="1005" y="274"/>
                  </a:lnTo>
                  <a:lnTo>
                    <a:pt x="998" y="284"/>
                  </a:lnTo>
                  <a:lnTo>
                    <a:pt x="992" y="295"/>
                  </a:lnTo>
                  <a:lnTo>
                    <a:pt x="985" y="305"/>
                  </a:lnTo>
                  <a:lnTo>
                    <a:pt x="978" y="316"/>
                  </a:lnTo>
                  <a:lnTo>
                    <a:pt x="971" y="326"/>
                  </a:lnTo>
                  <a:lnTo>
                    <a:pt x="968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1" y="368"/>
                  </a:lnTo>
                  <a:lnTo>
                    <a:pt x="958" y="378"/>
                  </a:lnTo>
                  <a:lnTo>
                    <a:pt x="958" y="388"/>
                  </a:lnTo>
                  <a:lnTo>
                    <a:pt x="958" y="399"/>
                  </a:lnTo>
                  <a:lnTo>
                    <a:pt x="958" y="409"/>
                  </a:lnTo>
                  <a:lnTo>
                    <a:pt x="958" y="420"/>
                  </a:lnTo>
                  <a:lnTo>
                    <a:pt x="958" y="430"/>
                  </a:lnTo>
                  <a:lnTo>
                    <a:pt x="961" y="440"/>
                  </a:lnTo>
                  <a:lnTo>
                    <a:pt x="968" y="451"/>
                  </a:lnTo>
                  <a:lnTo>
                    <a:pt x="971" y="461"/>
                  </a:lnTo>
                  <a:lnTo>
                    <a:pt x="975" y="472"/>
                  </a:lnTo>
                  <a:lnTo>
                    <a:pt x="978" y="482"/>
                  </a:lnTo>
                  <a:lnTo>
                    <a:pt x="978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8" y="555"/>
                  </a:lnTo>
                  <a:lnTo>
                    <a:pt x="975" y="565"/>
                  </a:lnTo>
                  <a:lnTo>
                    <a:pt x="971" y="576"/>
                  </a:lnTo>
                  <a:lnTo>
                    <a:pt x="964" y="586"/>
                  </a:lnTo>
                  <a:lnTo>
                    <a:pt x="954" y="593"/>
                  </a:lnTo>
                  <a:lnTo>
                    <a:pt x="944" y="600"/>
                  </a:lnTo>
                  <a:lnTo>
                    <a:pt x="934" y="603"/>
                  </a:lnTo>
                  <a:lnTo>
                    <a:pt x="924" y="610"/>
                  </a:lnTo>
                  <a:lnTo>
                    <a:pt x="914" y="614"/>
                  </a:lnTo>
                  <a:lnTo>
                    <a:pt x="903" y="617"/>
                  </a:lnTo>
                  <a:lnTo>
                    <a:pt x="893" y="621"/>
                  </a:lnTo>
                  <a:lnTo>
                    <a:pt x="883" y="624"/>
                  </a:lnTo>
                  <a:lnTo>
                    <a:pt x="873" y="624"/>
                  </a:lnTo>
                  <a:lnTo>
                    <a:pt x="863" y="624"/>
                  </a:lnTo>
                  <a:lnTo>
                    <a:pt x="852" y="624"/>
                  </a:lnTo>
                  <a:lnTo>
                    <a:pt x="842" y="624"/>
                  </a:lnTo>
                  <a:lnTo>
                    <a:pt x="832" y="624"/>
                  </a:lnTo>
                  <a:lnTo>
                    <a:pt x="822" y="624"/>
                  </a:lnTo>
                  <a:lnTo>
                    <a:pt x="812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1" y="617"/>
                  </a:lnTo>
                  <a:lnTo>
                    <a:pt x="771" y="614"/>
                  </a:lnTo>
                  <a:lnTo>
                    <a:pt x="761" y="610"/>
                  </a:lnTo>
                  <a:lnTo>
                    <a:pt x="751" y="603"/>
                  </a:lnTo>
                  <a:lnTo>
                    <a:pt x="740" y="600"/>
                  </a:lnTo>
                  <a:lnTo>
                    <a:pt x="730" y="596"/>
                  </a:lnTo>
                  <a:lnTo>
                    <a:pt x="720" y="596"/>
                  </a:lnTo>
                  <a:lnTo>
                    <a:pt x="710" y="596"/>
                  </a:lnTo>
                  <a:lnTo>
                    <a:pt x="700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9" y="596"/>
                  </a:lnTo>
                  <a:lnTo>
                    <a:pt x="659" y="603"/>
                  </a:lnTo>
                  <a:lnTo>
                    <a:pt x="649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8" y="635"/>
                  </a:lnTo>
                  <a:lnTo>
                    <a:pt x="598" y="641"/>
                  </a:lnTo>
                  <a:lnTo>
                    <a:pt x="588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7" y="669"/>
                  </a:lnTo>
                  <a:lnTo>
                    <a:pt x="547" y="676"/>
                  </a:lnTo>
                  <a:lnTo>
                    <a:pt x="537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6" y="704"/>
                  </a:lnTo>
                  <a:lnTo>
                    <a:pt x="486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5" y="728"/>
                  </a:lnTo>
                  <a:lnTo>
                    <a:pt x="435" y="735"/>
                  </a:lnTo>
                  <a:lnTo>
                    <a:pt x="425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4" y="742"/>
                  </a:lnTo>
                  <a:lnTo>
                    <a:pt x="374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3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2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2" y="555"/>
                  </a:lnTo>
                  <a:lnTo>
                    <a:pt x="258" y="544"/>
                  </a:lnTo>
                  <a:lnTo>
                    <a:pt x="255" y="534"/>
                  </a:lnTo>
                  <a:lnTo>
                    <a:pt x="251" y="524"/>
                  </a:lnTo>
                  <a:lnTo>
                    <a:pt x="245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4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2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98960" y="1852560"/>
              <a:ext cx="10044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73880" y="4795920"/>
            <a:ext cx="2106720" cy="1419840"/>
            <a:chOff x="5573880" y="4795920"/>
            <a:chExt cx="2106720" cy="1419840"/>
          </a:xfrm>
        </p:grpSpPr>
        <p:sp>
          <p:nvSpPr>
            <p:cNvPr id="665" name=""/>
            <p:cNvSpPr/>
            <p:nvPr/>
          </p:nvSpPr>
          <p:spPr>
            <a:xfrm>
              <a:off x="5573880" y="5362560"/>
              <a:ext cx="9036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223040" y="5284800"/>
              <a:ext cx="8892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832360" y="5896080"/>
              <a:ext cx="4366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627520" y="5024520"/>
              <a:ext cx="39708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43240" y="5345280"/>
              <a:ext cx="443160" cy="38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78360" y="587376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6068880" y="4836600"/>
              <a:ext cx="81756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79640" y="4888080"/>
              <a:ext cx="13230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 refer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26560" y="5661000"/>
              <a:ext cx="1454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referenced 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45400" y="4795920"/>
              <a:ext cx="8388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66480" y="598968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12640" y="488952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3858840" y="2233440"/>
            <a:ext cx="4324320" cy="2175120"/>
            <a:chOff x="3858840" y="2233440"/>
            <a:chExt cx="4324320" cy="2175120"/>
          </a:xfrm>
        </p:grpSpPr>
        <p:sp>
          <p:nvSpPr>
            <p:cNvPr id="678" name=""/>
            <p:cNvSpPr/>
            <p:nvPr/>
          </p:nvSpPr>
          <p:spPr>
            <a:xfrm>
              <a:off x="7513560" y="4162320"/>
              <a:ext cx="9072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5920" y="4129200"/>
              <a:ext cx="9036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64200" y="4327560"/>
              <a:ext cx="8892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316400" y="2386080"/>
              <a:ext cx="3324240" cy="81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92720" y="2614680"/>
              <a:ext cx="214920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4880" y="3473280"/>
              <a:ext cx="622080" cy="69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46680" y="3782880"/>
              <a:ext cx="1270080" cy="59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16400" y="253836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16400" y="230976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22840" y="3260880"/>
              <a:ext cx="1979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 have a second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578720" y="3186000"/>
              <a:ext cx="52560" cy="10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80720" y="3006720"/>
              <a:ext cx="1702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 have a terti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64120" y="2690640"/>
              <a:ext cx="1581120" cy="10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78680" y="3610080"/>
              <a:ext cx="12636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s a prim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87800" y="2614680"/>
              <a:ext cx="84240" cy="87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92000" y="246204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58840" y="269064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92000" y="223344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286160" y="2162160"/>
            <a:ext cx="4867560" cy="2027880"/>
            <a:chOff x="4286160" y="2162160"/>
            <a:chExt cx="4867560" cy="2027880"/>
          </a:xfrm>
        </p:grpSpPr>
        <p:sp>
          <p:nvSpPr>
            <p:cNvPr id="697" name=""/>
            <p:cNvSpPr/>
            <p:nvPr/>
          </p:nvSpPr>
          <p:spPr>
            <a:xfrm>
              <a:off x="4286160" y="2162160"/>
              <a:ext cx="9072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43400" y="2209680"/>
              <a:ext cx="3965400" cy="6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7942320" y="2901960"/>
              <a:ext cx="401760" cy="12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12080" y="409104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14880" y="2662200"/>
              <a:ext cx="22388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used has datum 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954200" y="396396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2193840" y="4668840"/>
            <a:ext cx="2494440" cy="1136520"/>
            <a:chOff x="2193840" y="4668840"/>
            <a:chExt cx="2494440" cy="1136520"/>
          </a:xfrm>
        </p:grpSpPr>
        <p:sp>
          <p:nvSpPr>
            <p:cNvPr id="704" name=""/>
            <p:cNvSpPr/>
            <p:nvPr/>
          </p:nvSpPr>
          <p:spPr>
            <a:xfrm>
              <a:off x="4205160" y="5724360"/>
              <a:ext cx="9072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4640" y="4668840"/>
              <a:ext cx="8892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95760" y="5691240"/>
              <a:ext cx="5508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3976200" y="4979880"/>
              <a:ext cx="568440" cy="4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43320" y="4718160"/>
              <a:ext cx="61740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68280" y="4799160"/>
              <a:ext cx="16200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implemented 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20800" y="4916520"/>
              <a:ext cx="52560" cy="53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67160" y="4844880"/>
              <a:ext cx="83880" cy="8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68680" y="5394240"/>
              <a:ext cx="84240" cy="87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93840" y="5448240"/>
              <a:ext cx="1714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tisfies a feature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99560" y="482292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398480" y="515304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268000" y="2324160"/>
            <a:ext cx="2043720" cy="1647000"/>
            <a:chOff x="2268000" y="2324160"/>
            <a:chExt cx="2043720" cy="1647000"/>
          </a:xfrm>
        </p:grpSpPr>
        <p:sp>
          <p:nvSpPr>
            <p:cNvPr id="717" name=""/>
            <p:cNvSpPr/>
            <p:nvPr/>
          </p:nvSpPr>
          <p:spPr>
            <a:xfrm>
              <a:off x="2557440" y="3011400"/>
              <a:ext cx="7920" cy="90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449520" y="2801880"/>
              <a:ext cx="9864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23960" y="3832200"/>
              <a:ext cx="9072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494160" y="2770200"/>
              <a:ext cx="9036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024000" y="3424320"/>
              <a:ext cx="43812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557440" y="2449080"/>
              <a:ext cx="5461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06800" y="239544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87480" y="3279600"/>
              <a:ext cx="1524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constrained 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68000" y="2824200"/>
              <a:ext cx="9968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tra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79280" y="232416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987640" y="3803760"/>
              <a:ext cx="84240" cy="87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26600" y="374508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2190600" y="1501920"/>
            <a:ext cx="928800" cy="954720"/>
            <a:chOff x="2190600" y="1501920"/>
            <a:chExt cx="928800" cy="954720"/>
          </a:xfrm>
        </p:grpSpPr>
        <p:grpSp>
          <p:nvGrpSpPr>
            <p:cNvPr id="730" name=""/>
            <p:cNvGrpSpPr/>
            <p:nvPr/>
          </p:nvGrpSpPr>
          <p:grpSpPr>
            <a:xfrm>
              <a:off x="2465280" y="1663560"/>
              <a:ext cx="615960" cy="115920"/>
              <a:chOff x="2465280" y="1663560"/>
              <a:chExt cx="615960" cy="115920"/>
            </a:xfrm>
          </p:grpSpPr>
          <p:sp>
            <p:nvSpPr>
              <p:cNvPr id="731" name=""/>
              <p:cNvSpPr/>
              <p:nvPr/>
            </p:nvSpPr>
            <p:spPr>
              <a:xfrm>
                <a:off x="2465280" y="1663560"/>
                <a:ext cx="26676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2" name=""/>
              <p:cNvGrpSpPr/>
              <p:nvPr/>
            </p:nvGrpSpPr>
            <p:grpSpPr>
              <a:xfrm>
                <a:off x="2745000" y="1698480"/>
                <a:ext cx="56880" cy="46080"/>
                <a:chOff x="2745000" y="1698480"/>
                <a:chExt cx="56880" cy="46080"/>
              </a:xfrm>
            </p:grpSpPr>
            <p:sp>
              <p:nvSpPr>
                <p:cNvPr id="733" name=""/>
                <p:cNvSpPr/>
                <p:nvPr/>
              </p:nvSpPr>
              <p:spPr>
                <a:xfrm flipV="1">
                  <a:off x="2745000" y="1698480"/>
                  <a:ext cx="21960" cy="2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73440" y="1711080"/>
                  <a:ext cx="0" cy="2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2779920" y="1720800"/>
                  <a:ext cx="21960" cy="2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2814840" y="1733400"/>
                <a:ext cx="26640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3029040" y="1751040"/>
              <a:ext cx="9036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411280" y="160812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34320" y="150192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2246400" y="2063880"/>
              <a:ext cx="582480" cy="191520"/>
              <a:chOff x="2246400" y="2063880"/>
              <a:chExt cx="582480" cy="19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2246400" y="2063880"/>
                <a:ext cx="25236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2" name=""/>
              <p:cNvGrpSpPr/>
              <p:nvPr/>
            </p:nvGrpSpPr>
            <p:grpSpPr>
              <a:xfrm>
                <a:off x="2511360" y="2125080"/>
                <a:ext cx="52560" cy="64440"/>
                <a:chOff x="2511360" y="2125080"/>
                <a:chExt cx="52560" cy="64440"/>
              </a:xfrm>
            </p:grpSpPr>
            <p:sp>
              <p:nvSpPr>
                <p:cNvPr id="743" name=""/>
                <p:cNvSpPr/>
                <p:nvPr/>
              </p:nvSpPr>
              <p:spPr>
                <a:xfrm flipV="1">
                  <a:off x="2511360" y="2125080"/>
                  <a:ext cx="20880" cy="2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538360" y="2138040"/>
                  <a:ext cx="0" cy="39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>
                  <a:off x="2544840" y="215964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2576520" y="2174760"/>
                <a:ext cx="25236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2190600" y="2022480"/>
              <a:ext cx="9072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4640" y="220356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34320" y="2230560"/>
              <a:ext cx="373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172400" y="1320840"/>
            <a:ext cx="2133000" cy="789120"/>
            <a:chOff x="4172400" y="1320840"/>
            <a:chExt cx="2133000" cy="789120"/>
          </a:xfrm>
        </p:grpSpPr>
        <p:sp>
          <p:nvSpPr>
            <p:cNvPr id="751" name=""/>
            <p:cNvSpPr/>
            <p:nvPr/>
          </p:nvSpPr>
          <p:spPr>
            <a:xfrm flipV="1">
              <a:off x="4335480" y="1380960"/>
              <a:ext cx="65412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02200" y="1393920"/>
              <a:ext cx="88272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72400" y="1320840"/>
              <a:ext cx="19296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 be designated 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81480" y="1739880"/>
              <a:ext cx="8892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448160" y="1928880"/>
              <a:ext cx="5540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26040" y="1947960"/>
              <a:ext cx="112248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32360" y="1724040"/>
              <a:ext cx="8424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419720" y="1905120"/>
              <a:ext cx="8388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48480" y="1776240"/>
              <a:ext cx="460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49240" y="172404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15040" y="2028960"/>
              <a:ext cx="9036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885960" y="1015920"/>
            <a:ext cx="1662120" cy="1179720"/>
            <a:chOff x="885960" y="1015920"/>
            <a:chExt cx="1662120" cy="1179720"/>
          </a:xfrm>
        </p:grpSpPr>
        <p:sp>
          <p:nvSpPr>
            <p:cNvPr id="763" name=""/>
            <p:cNvSpPr/>
            <p:nvPr/>
          </p:nvSpPr>
          <p:spPr>
            <a:xfrm>
              <a:off x="885960" y="1015920"/>
              <a:ext cx="1662120" cy="1179720"/>
            </a:xfrm>
            <a:custGeom>
              <a:avLst/>
              <a:gdLst/>
              <a:ahLst/>
              <a:rect l="l" t="t" r="r" b="b"/>
              <a:pathLst>
                <a:path w="1047" h="743">
                  <a:moveTo>
                    <a:pt x="136" y="187"/>
                  </a:moveTo>
                  <a:lnTo>
                    <a:pt x="139" y="177"/>
                  </a:lnTo>
                  <a:lnTo>
                    <a:pt x="143" y="166"/>
                  </a:lnTo>
                  <a:lnTo>
                    <a:pt x="149" y="156"/>
                  </a:lnTo>
                  <a:lnTo>
                    <a:pt x="153" y="146"/>
                  </a:lnTo>
                  <a:lnTo>
                    <a:pt x="156" y="135"/>
                  </a:lnTo>
                  <a:lnTo>
                    <a:pt x="163" y="125"/>
                  </a:lnTo>
                  <a:lnTo>
                    <a:pt x="170" y="114"/>
                  </a:lnTo>
                  <a:lnTo>
                    <a:pt x="173" y="104"/>
                  </a:lnTo>
                  <a:lnTo>
                    <a:pt x="180" y="94"/>
                  </a:lnTo>
                  <a:lnTo>
                    <a:pt x="187" y="83"/>
                  </a:lnTo>
                  <a:lnTo>
                    <a:pt x="197" y="76"/>
                  </a:lnTo>
                  <a:lnTo>
                    <a:pt x="204" y="66"/>
                  </a:lnTo>
                  <a:lnTo>
                    <a:pt x="214" y="62"/>
                  </a:lnTo>
                  <a:lnTo>
                    <a:pt x="224" y="52"/>
                  </a:lnTo>
                  <a:lnTo>
                    <a:pt x="234" y="42"/>
                  </a:lnTo>
                  <a:lnTo>
                    <a:pt x="245" y="35"/>
                  </a:lnTo>
                  <a:lnTo>
                    <a:pt x="255" y="35"/>
                  </a:lnTo>
                  <a:lnTo>
                    <a:pt x="265" y="31"/>
                  </a:lnTo>
                  <a:lnTo>
                    <a:pt x="275" y="31"/>
                  </a:lnTo>
                  <a:lnTo>
                    <a:pt x="285" y="31"/>
                  </a:lnTo>
                  <a:lnTo>
                    <a:pt x="295" y="31"/>
                  </a:lnTo>
                  <a:lnTo>
                    <a:pt x="306" y="31"/>
                  </a:lnTo>
                  <a:lnTo>
                    <a:pt x="316" y="31"/>
                  </a:lnTo>
                  <a:lnTo>
                    <a:pt x="326" y="35"/>
                  </a:lnTo>
                  <a:lnTo>
                    <a:pt x="336" y="38"/>
                  </a:lnTo>
                  <a:lnTo>
                    <a:pt x="346" y="42"/>
                  </a:lnTo>
                  <a:lnTo>
                    <a:pt x="357" y="45"/>
                  </a:lnTo>
                  <a:lnTo>
                    <a:pt x="367" y="49"/>
                  </a:lnTo>
                  <a:lnTo>
                    <a:pt x="377" y="49"/>
                  </a:lnTo>
                  <a:lnTo>
                    <a:pt x="387" y="52"/>
                  </a:lnTo>
                  <a:lnTo>
                    <a:pt x="397" y="55"/>
                  </a:lnTo>
                  <a:lnTo>
                    <a:pt x="408" y="55"/>
                  </a:lnTo>
                  <a:lnTo>
                    <a:pt x="418" y="59"/>
                  </a:lnTo>
                  <a:lnTo>
                    <a:pt x="428" y="62"/>
                  </a:lnTo>
                  <a:lnTo>
                    <a:pt x="438" y="62"/>
                  </a:lnTo>
                  <a:lnTo>
                    <a:pt x="448" y="66"/>
                  </a:lnTo>
                  <a:lnTo>
                    <a:pt x="458" y="69"/>
                  </a:lnTo>
                  <a:lnTo>
                    <a:pt x="469" y="69"/>
                  </a:lnTo>
                  <a:lnTo>
                    <a:pt x="479" y="69"/>
                  </a:lnTo>
                  <a:lnTo>
                    <a:pt x="489" y="73"/>
                  </a:lnTo>
                  <a:lnTo>
                    <a:pt x="499" y="76"/>
                  </a:lnTo>
                  <a:lnTo>
                    <a:pt x="509" y="76"/>
                  </a:lnTo>
                  <a:lnTo>
                    <a:pt x="520" y="76"/>
                  </a:lnTo>
                  <a:lnTo>
                    <a:pt x="530" y="76"/>
                  </a:lnTo>
                  <a:lnTo>
                    <a:pt x="540" y="76"/>
                  </a:lnTo>
                  <a:lnTo>
                    <a:pt x="550" y="76"/>
                  </a:lnTo>
                  <a:lnTo>
                    <a:pt x="560" y="73"/>
                  </a:lnTo>
                  <a:lnTo>
                    <a:pt x="571" y="66"/>
                  </a:lnTo>
                  <a:lnTo>
                    <a:pt x="577" y="55"/>
                  </a:lnTo>
                  <a:lnTo>
                    <a:pt x="588" y="52"/>
                  </a:lnTo>
                  <a:lnTo>
                    <a:pt x="598" y="42"/>
                  </a:lnTo>
                  <a:lnTo>
                    <a:pt x="608" y="35"/>
                  </a:lnTo>
                  <a:lnTo>
                    <a:pt x="618" y="28"/>
                  </a:lnTo>
                  <a:lnTo>
                    <a:pt x="628" y="21"/>
                  </a:lnTo>
                  <a:lnTo>
                    <a:pt x="638" y="14"/>
                  </a:lnTo>
                  <a:lnTo>
                    <a:pt x="649" y="7"/>
                  </a:lnTo>
                  <a:lnTo>
                    <a:pt x="659" y="3"/>
                  </a:lnTo>
                  <a:lnTo>
                    <a:pt x="669" y="0"/>
                  </a:lnTo>
                  <a:lnTo>
                    <a:pt x="679" y="0"/>
                  </a:lnTo>
                  <a:lnTo>
                    <a:pt x="689" y="0"/>
                  </a:lnTo>
                  <a:lnTo>
                    <a:pt x="700" y="0"/>
                  </a:lnTo>
                  <a:lnTo>
                    <a:pt x="710" y="3"/>
                  </a:lnTo>
                  <a:lnTo>
                    <a:pt x="720" y="10"/>
                  </a:lnTo>
                  <a:lnTo>
                    <a:pt x="730" y="14"/>
                  </a:lnTo>
                  <a:lnTo>
                    <a:pt x="740" y="17"/>
                  </a:lnTo>
                  <a:lnTo>
                    <a:pt x="751" y="21"/>
                  </a:lnTo>
                  <a:lnTo>
                    <a:pt x="761" y="28"/>
                  </a:lnTo>
                  <a:lnTo>
                    <a:pt x="771" y="31"/>
                  </a:lnTo>
                  <a:lnTo>
                    <a:pt x="781" y="38"/>
                  </a:lnTo>
                  <a:lnTo>
                    <a:pt x="791" y="45"/>
                  </a:lnTo>
                  <a:lnTo>
                    <a:pt x="801" y="49"/>
                  </a:lnTo>
                  <a:lnTo>
                    <a:pt x="812" y="55"/>
                  </a:lnTo>
                  <a:lnTo>
                    <a:pt x="822" y="62"/>
                  </a:lnTo>
                  <a:lnTo>
                    <a:pt x="832" y="69"/>
                  </a:lnTo>
                  <a:lnTo>
                    <a:pt x="842" y="76"/>
                  </a:lnTo>
                  <a:lnTo>
                    <a:pt x="852" y="83"/>
                  </a:lnTo>
                  <a:lnTo>
                    <a:pt x="863" y="90"/>
                  </a:lnTo>
                  <a:lnTo>
                    <a:pt x="873" y="94"/>
                  </a:lnTo>
                  <a:lnTo>
                    <a:pt x="883" y="97"/>
                  </a:lnTo>
                  <a:lnTo>
                    <a:pt x="893" y="101"/>
                  </a:lnTo>
                  <a:lnTo>
                    <a:pt x="903" y="101"/>
                  </a:lnTo>
                  <a:lnTo>
                    <a:pt x="914" y="104"/>
                  </a:lnTo>
                  <a:lnTo>
                    <a:pt x="924" y="107"/>
                  </a:lnTo>
                  <a:lnTo>
                    <a:pt x="934" y="107"/>
                  </a:lnTo>
                  <a:lnTo>
                    <a:pt x="944" y="107"/>
                  </a:lnTo>
                  <a:lnTo>
                    <a:pt x="954" y="111"/>
                  </a:lnTo>
                  <a:lnTo>
                    <a:pt x="964" y="114"/>
                  </a:lnTo>
                  <a:lnTo>
                    <a:pt x="975" y="118"/>
                  </a:lnTo>
                  <a:lnTo>
                    <a:pt x="985" y="121"/>
                  </a:lnTo>
                  <a:lnTo>
                    <a:pt x="995" y="125"/>
                  </a:lnTo>
                  <a:lnTo>
                    <a:pt x="1005" y="135"/>
                  </a:lnTo>
                  <a:lnTo>
                    <a:pt x="1015" y="142"/>
                  </a:lnTo>
                  <a:lnTo>
                    <a:pt x="1026" y="153"/>
                  </a:lnTo>
                  <a:lnTo>
                    <a:pt x="1032" y="163"/>
                  </a:lnTo>
                  <a:lnTo>
                    <a:pt x="1039" y="173"/>
                  </a:lnTo>
                  <a:lnTo>
                    <a:pt x="1039" y="184"/>
                  </a:lnTo>
                  <a:lnTo>
                    <a:pt x="1046" y="194"/>
                  </a:lnTo>
                  <a:lnTo>
                    <a:pt x="1046" y="205"/>
                  </a:lnTo>
                  <a:lnTo>
                    <a:pt x="1046" y="215"/>
                  </a:lnTo>
                  <a:lnTo>
                    <a:pt x="1043" y="225"/>
                  </a:lnTo>
                  <a:lnTo>
                    <a:pt x="1036" y="236"/>
                  </a:lnTo>
                  <a:lnTo>
                    <a:pt x="1026" y="243"/>
                  </a:lnTo>
                  <a:lnTo>
                    <a:pt x="1019" y="253"/>
                  </a:lnTo>
                  <a:lnTo>
                    <a:pt x="1012" y="264"/>
                  </a:lnTo>
                  <a:lnTo>
                    <a:pt x="1005" y="274"/>
                  </a:lnTo>
                  <a:lnTo>
                    <a:pt x="998" y="284"/>
                  </a:lnTo>
                  <a:lnTo>
                    <a:pt x="992" y="295"/>
                  </a:lnTo>
                  <a:lnTo>
                    <a:pt x="985" y="305"/>
                  </a:lnTo>
                  <a:lnTo>
                    <a:pt x="978" y="316"/>
                  </a:lnTo>
                  <a:lnTo>
                    <a:pt x="971" y="326"/>
                  </a:lnTo>
                  <a:lnTo>
                    <a:pt x="968" y="336"/>
                  </a:lnTo>
                  <a:lnTo>
                    <a:pt x="964" y="347"/>
                  </a:lnTo>
                  <a:lnTo>
                    <a:pt x="964" y="357"/>
                  </a:lnTo>
                  <a:lnTo>
                    <a:pt x="961" y="368"/>
                  </a:lnTo>
                  <a:lnTo>
                    <a:pt x="958" y="378"/>
                  </a:lnTo>
                  <a:lnTo>
                    <a:pt x="958" y="388"/>
                  </a:lnTo>
                  <a:lnTo>
                    <a:pt x="958" y="399"/>
                  </a:lnTo>
                  <a:lnTo>
                    <a:pt x="958" y="409"/>
                  </a:lnTo>
                  <a:lnTo>
                    <a:pt x="958" y="420"/>
                  </a:lnTo>
                  <a:lnTo>
                    <a:pt x="958" y="430"/>
                  </a:lnTo>
                  <a:lnTo>
                    <a:pt x="961" y="440"/>
                  </a:lnTo>
                  <a:lnTo>
                    <a:pt x="968" y="451"/>
                  </a:lnTo>
                  <a:lnTo>
                    <a:pt x="971" y="461"/>
                  </a:lnTo>
                  <a:lnTo>
                    <a:pt x="975" y="472"/>
                  </a:lnTo>
                  <a:lnTo>
                    <a:pt x="978" y="482"/>
                  </a:lnTo>
                  <a:lnTo>
                    <a:pt x="978" y="492"/>
                  </a:lnTo>
                  <a:lnTo>
                    <a:pt x="981" y="503"/>
                  </a:lnTo>
                  <a:lnTo>
                    <a:pt x="981" y="513"/>
                  </a:lnTo>
                  <a:lnTo>
                    <a:pt x="981" y="524"/>
                  </a:lnTo>
                  <a:lnTo>
                    <a:pt x="981" y="534"/>
                  </a:lnTo>
                  <a:lnTo>
                    <a:pt x="981" y="544"/>
                  </a:lnTo>
                  <a:lnTo>
                    <a:pt x="978" y="555"/>
                  </a:lnTo>
                  <a:lnTo>
                    <a:pt x="975" y="565"/>
                  </a:lnTo>
                  <a:lnTo>
                    <a:pt x="971" y="576"/>
                  </a:lnTo>
                  <a:lnTo>
                    <a:pt x="964" y="586"/>
                  </a:lnTo>
                  <a:lnTo>
                    <a:pt x="954" y="593"/>
                  </a:lnTo>
                  <a:lnTo>
                    <a:pt x="944" y="600"/>
                  </a:lnTo>
                  <a:lnTo>
                    <a:pt x="934" y="603"/>
                  </a:lnTo>
                  <a:lnTo>
                    <a:pt x="924" y="610"/>
                  </a:lnTo>
                  <a:lnTo>
                    <a:pt x="914" y="614"/>
                  </a:lnTo>
                  <a:lnTo>
                    <a:pt x="903" y="617"/>
                  </a:lnTo>
                  <a:lnTo>
                    <a:pt x="893" y="621"/>
                  </a:lnTo>
                  <a:lnTo>
                    <a:pt x="883" y="624"/>
                  </a:lnTo>
                  <a:lnTo>
                    <a:pt x="873" y="624"/>
                  </a:lnTo>
                  <a:lnTo>
                    <a:pt x="863" y="624"/>
                  </a:lnTo>
                  <a:lnTo>
                    <a:pt x="852" y="624"/>
                  </a:lnTo>
                  <a:lnTo>
                    <a:pt x="842" y="624"/>
                  </a:lnTo>
                  <a:lnTo>
                    <a:pt x="832" y="624"/>
                  </a:lnTo>
                  <a:lnTo>
                    <a:pt x="822" y="624"/>
                  </a:lnTo>
                  <a:lnTo>
                    <a:pt x="812" y="621"/>
                  </a:lnTo>
                  <a:lnTo>
                    <a:pt x="801" y="621"/>
                  </a:lnTo>
                  <a:lnTo>
                    <a:pt x="791" y="617"/>
                  </a:lnTo>
                  <a:lnTo>
                    <a:pt x="781" y="617"/>
                  </a:lnTo>
                  <a:lnTo>
                    <a:pt x="771" y="614"/>
                  </a:lnTo>
                  <a:lnTo>
                    <a:pt x="761" y="610"/>
                  </a:lnTo>
                  <a:lnTo>
                    <a:pt x="751" y="603"/>
                  </a:lnTo>
                  <a:lnTo>
                    <a:pt x="740" y="600"/>
                  </a:lnTo>
                  <a:lnTo>
                    <a:pt x="730" y="596"/>
                  </a:lnTo>
                  <a:lnTo>
                    <a:pt x="720" y="596"/>
                  </a:lnTo>
                  <a:lnTo>
                    <a:pt x="710" y="596"/>
                  </a:lnTo>
                  <a:lnTo>
                    <a:pt x="700" y="596"/>
                  </a:lnTo>
                  <a:lnTo>
                    <a:pt x="689" y="596"/>
                  </a:lnTo>
                  <a:lnTo>
                    <a:pt x="679" y="596"/>
                  </a:lnTo>
                  <a:lnTo>
                    <a:pt x="669" y="596"/>
                  </a:lnTo>
                  <a:lnTo>
                    <a:pt x="659" y="603"/>
                  </a:lnTo>
                  <a:lnTo>
                    <a:pt x="649" y="607"/>
                  </a:lnTo>
                  <a:lnTo>
                    <a:pt x="638" y="610"/>
                  </a:lnTo>
                  <a:lnTo>
                    <a:pt x="628" y="621"/>
                  </a:lnTo>
                  <a:lnTo>
                    <a:pt x="618" y="628"/>
                  </a:lnTo>
                  <a:lnTo>
                    <a:pt x="608" y="635"/>
                  </a:lnTo>
                  <a:lnTo>
                    <a:pt x="598" y="641"/>
                  </a:lnTo>
                  <a:lnTo>
                    <a:pt x="588" y="645"/>
                  </a:lnTo>
                  <a:lnTo>
                    <a:pt x="577" y="655"/>
                  </a:lnTo>
                  <a:lnTo>
                    <a:pt x="567" y="662"/>
                  </a:lnTo>
                  <a:lnTo>
                    <a:pt x="557" y="669"/>
                  </a:lnTo>
                  <a:lnTo>
                    <a:pt x="547" y="676"/>
                  </a:lnTo>
                  <a:lnTo>
                    <a:pt x="537" y="683"/>
                  </a:lnTo>
                  <a:lnTo>
                    <a:pt x="526" y="687"/>
                  </a:lnTo>
                  <a:lnTo>
                    <a:pt x="516" y="690"/>
                  </a:lnTo>
                  <a:lnTo>
                    <a:pt x="506" y="697"/>
                  </a:lnTo>
                  <a:lnTo>
                    <a:pt x="496" y="704"/>
                  </a:lnTo>
                  <a:lnTo>
                    <a:pt x="486" y="711"/>
                  </a:lnTo>
                  <a:lnTo>
                    <a:pt x="475" y="711"/>
                  </a:lnTo>
                  <a:lnTo>
                    <a:pt x="465" y="718"/>
                  </a:lnTo>
                  <a:lnTo>
                    <a:pt x="455" y="725"/>
                  </a:lnTo>
                  <a:lnTo>
                    <a:pt x="445" y="728"/>
                  </a:lnTo>
                  <a:lnTo>
                    <a:pt x="435" y="735"/>
                  </a:lnTo>
                  <a:lnTo>
                    <a:pt x="425" y="735"/>
                  </a:lnTo>
                  <a:lnTo>
                    <a:pt x="414" y="739"/>
                  </a:lnTo>
                  <a:lnTo>
                    <a:pt x="404" y="739"/>
                  </a:lnTo>
                  <a:lnTo>
                    <a:pt x="394" y="742"/>
                  </a:lnTo>
                  <a:lnTo>
                    <a:pt x="384" y="742"/>
                  </a:lnTo>
                  <a:lnTo>
                    <a:pt x="374" y="742"/>
                  </a:lnTo>
                  <a:lnTo>
                    <a:pt x="363" y="742"/>
                  </a:lnTo>
                  <a:lnTo>
                    <a:pt x="353" y="742"/>
                  </a:lnTo>
                  <a:lnTo>
                    <a:pt x="343" y="742"/>
                  </a:lnTo>
                  <a:lnTo>
                    <a:pt x="333" y="742"/>
                  </a:lnTo>
                  <a:lnTo>
                    <a:pt x="323" y="742"/>
                  </a:lnTo>
                  <a:lnTo>
                    <a:pt x="312" y="735"/>
                  </a:lnTo>
                  <a:lnTo>
                    <a:pt x="302" y="728"/>
                  </a:lnTo>
                  <a:lnTo>
                    <a:pt x="295" y="718"/>
                  </a:lnTo>
                  <a:lnTo>
                    <a:pt x="285" y="711"/>
                  </a:lnTo>
                  <a:lnTo>
                    <a:pt x="282" y="700"/>
                  </a:lnTo>
                  <a:lnTo>
                    <a:pt x="275" y="690"/>
                  </a:lnTo>
                  <a:lnTo>
                    <a:pt x="272" y="680"/>
                  </a:lnTo>
                  <a:lnTo>
                    <a:pt x="268" y="669"/>
                  </a:lnTo>
                  <a:lnTo>
                    <a:pt x="268" y="659"/>
                  </a:lnTo>
                  <a:lnTo>
                    <a:pt x="268" y="648"/>
                  </a:lnTo>
                  <a:lnTo>
                    <a:pt x="268" y="638"/>
                  </a:lnTo>
                  <a:lnTo>
                    <a:pt x="268" y="628"/>
                  </a:lnTo>
                  <a:lnTo>
                    <a:pt x="268" y="617"/>
                  </a:lnTo>
                  <a:lnTo>
                    <a:pt x="268" y="607"/>
                  </a:lnTo>
                  <a:lnTo>
                    <a:pt x="268" y="596"/>
                  </a:lnTo>
                  <a:lnTo>
                    <a:pt x="268" y="586"/>
                  </a:lnTo>
                  <a:lnTo>
                    <a:pt x="268" y="576"/>
                  </a:lnTo>
                  <a:lnTo>
                    <a:pt x="265" y="565"/>
                  </a:lnTo>
                  <a:lnTo>
                    <a:pt x="262" y="555"/>
                  </a:lnTo>
                  <a:lnTo>
                    <a:pt x="258" y="544"/>
                  </a:lnTo>
                  <a:lnTo>
                    <a:pt x="255" y="534"/>
                  </a:lnTo>
                  <a:lnTo>
                    <a:pt x="251" y="524"/>
                  </a:lnTo>
                  <a:lnTo>
                    <a:pt x="245" y="513"/>
                  </a:lnTo>
                  <a:lnTo>
                    <a:pt x="234" y="510"/>
                  </a:lnTo>
                  <a:lnTo>
                    <a:pt x="224" y="503"/>
                  </a:lnTo>
                  <a:lnTo>
                    <a:pt x="214" y="499"/>
                  </a:lnTo>
                  <a:lnTo>
                    <a:pt x="204" y="492"/>
                  </a:lnTo>
                  <a:lnTo>
                    <a:pt x="194" y="485"/>
                  </a:lnTo>
                  <a:lnTo>
                    <a:pt x="183" y="475"/>
                  </a:lnTo>
                  <a:lnTo>
                    <a:pt x="173" y="465"/>
                  </a:lnTo>
                  <a:lnTo>
                    <a:pt x="163" y="461"/>
                  </a:lnTo>
                  <a:lnTo>
                    <a:pt x="153" y="454"/>
                  </a:lnTo>
                  <a:lnTo>
                    <a:pt x="143" y="454"/>
                  </a:lnTo>
                  <a:lnTo>
                    <a:pt x="132" y="451"/>
                  </a:lnTo>
                  <a:lnTo>
                    <a:pt x="122" y="447"/>
                  </a:lnTo>
                  <a:lnTo>
                    <a:pt x="112" y="444"/>
                  </a:lnTo>
                  <a:lnTo>
                    <a:pt x="102" y="440"/>
                  </a:lnTo>
                  <a:lnTo>
                    <a:pt x="92" y="437"/>
                  </a:lnTo>
                  <a:lnTo>
                    <a:pt x="82" y="433"/>
                  </a:lnTo>
                  <a:lnTo>
                    <a:pt x="71" y="426"/>
                  </a:lnTo>
                  <a:lnTo>
                    <a:pt x="61" y="423"/>
                  </a:lnTo>
                  <a:lnTo>
                    <a:pt x="51" y="416"/>
                  </a:lnTo>
                  <a:lnTo>
                    <a:pt x="41" y="409"/>
                  </a:lnTo>
                  <a:lnTo>
                    <a:pt x="31" y="402"/>
                  </a:lnTo>
                  <a:lnTo>
                    <a:pt x="20" y="395"/>
                  </a:lnTo>
                  <a:lnTo>
                    <a:pt x="10" y="385"/>
                  </a:lnTo>
                  <a:lnTo>
                    <a:pt x="7" y="374"/>
                  </a:lnTo>
                  <a:lnTo>
                    <a:pt x="3" y="364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3"/>
                  </a:lnTo>
                  <a:lnTo>
                    <a:pt x="10" y="322"/>
                  </a:lnTo>
                  <a:lnTo>
                    <a:pt x="20" y="316"/>
                  </a:lnTo>
                  <a:lnTo>
                    <a:pt x="31" y="309"/>
                  </a:lnTo>
                  <a:lnTo>
                    <a:pt x="41" y="302"/>
                  </a:lnTo>
                  <a:lnTo>
                    <a:pt x="48" y="291"/>
                  </a:lnTo>
                  <a:lnTo>
                    <a:pt x="58" y="281"/>
                  </a:lnTo>
                  <a:lnTo>
                    <a:pt x="68" y="274"/>
                  </a:lnTo>
                  <a:lnTo>
                    <a:pt x="75" y="264"/>
                  </a:lnTo>
                  <a:lnTo>
                    <a:pt x="85" y="257"/>
                  </a:lnTo>
                  <a:lnTo>
                    <a:pt x="92" y="246"/>
                  </a:lnTo>
                  <a:lnTo>
                    <a:pt x="102" y="239"/>
                  </a:lnTo>
                  <a:lnTo>
                    <a:pt x="109" y="229"/>
                  </a:lnTo>
                  <a:lnTo>
                    <a:pt x="115" y="218"/>
                  </a:lnTo>
                  <a:lnTo>
                    <a:pt x="122" y="208"/>
                  </a:lnTo>
                  <a:lnTo>
                    <a:pt x="129" y="198"/>
                  </a:lnTo>
                  <a:lnTo>
                    <a:pt x="139" y="187"/>
                  </a:lnTo>
                  <a:lnTo>
                    <a:pt x="136" y="187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67280" y="1244520"/>
              <a:ext cx="856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sp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 flipH="1" flipV="1">
            <a:off x="2459160" y="1866600"/>
            <a:ext cx="466560" cy="1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23840" y="2211120"/>
            <a:ext cx="1589040" cy="1640160"/>
            <a:chOff x="123840" y="2211120"/>
            <a:chExt cx="1589040" cy="1640160"/>
          </a:xfrm>
        </p:grpSpPr>
        <p:sp>
          <p:nvSpPr>
            <p:cNvPr id="767" name=""/>
            <p:cNvSpPr/>
            <p:nvPr/>
          </p:nvSpPr>
          <p:spPr>
            <a:xfrm>
              <a:off x="123840" y="2681280"/>
              <a:ext cx="1589040" cy="1170000"/>
            </a:xfrm>
            <a:custGeom>
              <a:avLst/>
              <a:gdLst/>
              <a:ahLst/>
              <a:rect l="l" t="t" r="r" b="b"/>
              <a:pathLst>
                <a:path w="1001" h="737">
                  <a:moveTo>
                    <a:pt x="130" y="186"/>
                  </a:moveTo>
                  <a:lnTo>
                    <a:pt x="133" y="175"/>
                  </a:lnTo>
                  <a:lnTo>
                    <a:pt x="136" y="165"/>
                  </a:lnTo>
                  <a:lnTo>
                    <a:pt x="143" y="155"/>
                  </a:lnTo>
                  <a:lnTo>
                    <a:pt x="146" y="144"/>
                  </a:lnTo>
                  <a:lnTo>
                    <a:pt x="149" y="134"/>
                  </a:lnTo>
                  <a:lnTo>
                    <a:pt x="156" y="124"/>
                  </a:lnTo>
                  <a:lnTo>
                    <a:pt x="162" y="113"/>
                  </a:lnTo>
                  <a:lnTo>
                    <a:pt x="166" y="103"/>
                  </a:lnTo>
                  <a:lnTo>
                    <a:pt x="172" y="93"/>
                  </a:lnTo>
                  <a:lnTo>
                    <a:pt x="179" y="83"/>
                  </a:lnTo>
                  <a:lnTo>
                    <a:pt x="188" y="76"/>
                  </a:lnTo>
                  <a:lnTo>
                    <a:pt x="195" y="65"/>
                  </a:lnTo>
                  <a:lnTo>
                    <a:pt x="205" y="62"/>
                  </a:lnTo>
                  <a:lnTo>
                    <a:pt x="214" y="52"/>
                  </a:lnTo>
                  <a:lnTo>
                    <a:pt x="224" y="41"/>
                  </a:lnTo>
                  <a:lnTo>
                    <a:pt x="234" y="34"/>
                  </a:lnTo>
                  <a:lnTo>
                    <a:pt x="244" y="34"/>
                  </a:lnTo>
                  <a:lnTo>
                    <a:pt x="253" y="31"/>
                  </a:lnTo>
                  <a:lnTo>
                    <a:pt x="263" y="31"/>
                  </a:lnTo>
                  <a:lnTo>
                    <a:pt x="273" y="31"/>
                  </a:lnTo>
                  <a:lnTo>
                    <a:pt x="282" y="31"/>
                  </a:lnTo>
                  <a:lnTo>
                    <a:pt x="292" y="31"/>
                  </a:lnTo>
                  <a:lnTo>
                    <a:pt x="302" y="31"/>
                  </a:lnTo>
                  <a:lnTo>
                    <a:pt x="312" y="34"/>
                  </a:lnTo>
                  <a:lnTo>
                    <a:pt x="321" y="38"/>
                  </a:lnTo>
                  <a:lnTo>
                    <a:pt x="331" y="41"/>
                  </a:lnTo>
                  <a:lnTo>
                    <a:pt x="341" y="45"/>
                  </a:lnTo>
                  <a:lnTo>
                    <a:pt x="351" y="48"/>
                  </a:lnTo>
                  <a:lnTo>
                    <a:pt x="360" y="48"/>
                  </a:lnTo>
                  <a:lnTo>
                    <a:pt x="370" y="52"/>
                  </a:lnTo>
                  <a:lnTo>
                    <a:pt x="380" y="55"/>
                  </a:lnTo>
                  <a:lnTo>
                    <a:pt x="390" y="55"/>
                  </a:lnTo>
                  <a:lnTo>
                    <a:pt x="399" y="58"/>
                  </a:lnTo>
                  <a:lnTo>
                    <a:pt x="409" y="62"/>
                  </a:lnTo>
                  <a:lnTo>
                    <a:pt x="419" y="62"/>
                  </a:lnTo>
                  <a:lnTo>
                    <a:pt x="429" y="65"/>
                  </a:lnTo>
                  <a:lnTo>
                    <a:pt x="438" y="69"/>
                  </a:lnTo>
                  <a:lnTo>
                    <a:pt x="448" y="69"/>
                  </a:lnTo>
                  <a:lnTo>
                    <a:pt x="458" y="69"/>
                  </a:lnTo>
                  <a:lnTo>
                    <a:pt x="468" y="72"/>
                  </a:lnTo>
                  <a:lnTo>
                    <a:pt x="477" y="76"/>
                  </a:lnTo>
                  <a:lnTo>
                    <a:pt x="487" y="76"/>
                  </a:lnTo>
                  <a:lnTo>
                    <a:pt x="497" y="76"/>
                  </a:lnTo>
                  <a:lnTo>
                    <a:pt x="506" y="76"/>
                  </a:lnTo>
                  <a:lnTo>
                    <a:pt x="516" y="76"/>
                  </a:lnTo>
                  <a:lnTo>
                    <a:pt x="526" y="76"/>
                  </a:lnTo>
                  <a:lnTo>
                    <a:pt x="536" y="72"/>
                  </a:lnTo>
                  <a:lnTo>
                    <a:pt x="545" y="65"/>
                  </a:lnTo>
                  <a:lnTo>
                    <a:pt x="552" y="55"/>
                  </a:lnTo>
                  <a:lnTo>
                    <a:pt x="562" y="52"/>
                  </a:lnTo>
                  <a:lnTo>
                    <a:pt x="571" y="41"/>
                  </a:lnTo>
                  <a:lnTo>
                    <a:pt x="581" y="34"/>
                  </a:lnTo>
                  <a:lnTo>
                    <a:pt x="591" y="28"/>
                  </a:lnTo>
                  <a:lnTo>
                    <a:pt x="601" y="21"/>
                  </a:lnTo>
                  <a:lnTo>
                    <a:pt x="610" y="14"/>
                  </a:lnTo>
                  <a:lnTo>
                    <a:pt x="620" y="7"/>
                  </a:lnTo>
                  <a:lnTo>
                    <a:pt x="630" y="3"/>
                  </a:lnTo>
                  <a:lnTo>
                    <a:pt x="640" y="0"/>
                  </a:lnTo>
                  <a:lnTo>
                    <a:pt x="649" y="0"/>
                  </a:lnTo>
                  <a:lnTo>
                    <a:pt x="659" y="0"/>
                  </a:lnTo>
                  <a:lnTo>
                    <a:pt x="669" y="0"/>
                  </a:lnTo>
                  <a:lnTo>
                    <a:pt x="679" y="3"/>
                  </a:lnTo>
                  <a:lnTo>
                    <a:pt x="688" y="10"/>
                  </a:lnTo>
                  <a:lnTo>
                    <a:pt x="698" y="14"/>
                  </a:lnTo>
                  <a:lnTo>
                    <a:pt x="708" y="17"/>
                  </a:lnTo>
                  <a:lnTo>
                    <a:pt x="718" y="21"/>
                  </a:lnTo>
                  <a:lnTo>
                    <a:pt x="727" y="28"/>
                  </a:lnTo>
                  <a:lnTo>
                    <a:pt x="737" y="31"/>
                  </a:lnTo>
                  <a:lnTo>
                    <a:pt x="747" y="38"/>
                  </a:lnTo>
                  <a:lnTo>
                    <a:pt x="756" y="45"/>
                  </a:lnTo>
                  <a:lnTo>
                    <a:pt x="766" y="48"/>
                  </a:lnTo>
                  <a:lnTo>
                    <a:pt x="776" y="55"/>
                  </a:lnTo>
                  <a:lnTo>
                    <a:pt x="786" y="62"/>
                  </a:lnTo>
                  <a:lnTo>
                    <a:pt x="795" y="69"/>
                  </a:lnTo>
                  <a:lnTo>
                    <a:pt x="805" y="76"/>
                  </a:lnTo>
                  <a:lnTo>
                    <a:pt x="815" y="83"/>
                  </a:lnTo>
                  <a:lnTo>
                    <a:pt x="825" y="89"/>
                  </a:lnTo>
                  <a:lnTo>
                    <a:pt x="834" y="93"/>
                  </a:lnTo>
                  <a:lnTo>
                    <a:pt x="844" y="96"/>
                  </a:lnTo>
                  <a:lnTo>
                    <a:pt x="854" y="100"/>
                  </a:lnTo>
                  <a:lnTo>
                    <a:pt x="864" y="100"/>
                  </a:lnTo>
                  <a:lnTo>
                    <a:pt x="873" y="103"/>
                  </a:lnTo>
                  <a:lnTo>
                    <a:pt x="883" y="107"/>
                  </a:lnTo>
                  <a:lnTo>
                    <a:pt x="893" y="107"/>
                  </a:lnTo>
                  <a:lnTo>
                    <a:pt x="903" y="107"/>
                  </a:lnTo>
                  <a:lnTo>
                    <a:pt x="912" y="110"/>
                  </a:lnTo>
                  <a:lnTo>
                    <a:pt x="922" y="113"/>
                  </a:lnTo>
                  <a:lnTo>
                    <a:pt x="932" y="117"/>
                  </a:lnTo>
                  <a:lnTo>
                    <a:pt x="942" y="120"/>
                  </a:lnTo>
                  <a:lnTo>
                    <a:pt x="951" y="124"/>
                  </a:lnTo>
                  <a:lnTo>
                    <a:pt x="961" y="134"/>
                  </a:lnTo>
                  <a:lnTo>
                    <a:pt x="971" y="141"/>
                  </a:lnTo>
                  <a:lnTo>
                    <a:pt x="981" y="151"/>
                  </a:lnTo>
                  <a:lnTo>
                    <a:pt x="987" y="162"/>
                  </a:lnTo>
                  <a:lnTo>
                    <a:pt x="994" y="172"/>
                  </a:lnTo>
                  <a:lnTo>
                    <a:pt x="994" y="182"/>
                  </a:lnTo>
                  <a:lnTo>
                    <a:pt x="1000" y="193"/>
                  </a:lnTo>
                  <a:lnTo>
                    <a:pt x="1000" y="203"/>
                  </a:lnTo>
                  <a:lnTo>
                    <a:pt x="1000" y="213"/>
                  </a:lnTo>
                  <a:lnTo>
                    <a:pt x="997" y="224"/>
                  </a:lnTo>
                  <a:lnTo>
                    <a:pt x="990" y="234"/>
                  </a:lnTo>
                  <a:lnTo>
                    <a:pt x="981" y="241"/>
                  </a:lnTo>
                  <a:lnTo>
                    <a:pt x="974" y="251"/>
                  </a:lnTo>
                  <a:lnTo>
                    <a:pt x="968" y="261"/>
                  </a:lnTo>
                  <a:lnTo>
                    <a:pt x="961" y="272"/>
                  </a:lnTo>
                  <a:lnTo>
                    <a:pt x="955" y="282"/>
                  </a:lnTo>
                  <a:lnTo>
                    <a:pt x="948" y="292"/>
                  </a:lnTo>
                  <a:lnTo>
                    <a:pt x="942" y="303"/>
                  </a:lnTo>
                  <a:lnTo>
                    <a:pt x="935" y="313"/>
                  </a:lnTo>
                  <a:lnTo>
                    <a:pt x="929" y="323"/>
                  </a:lnTo>
                  <a:lnTo>
                    <a:pt x="925" y="334"/>
                  </a:lnTo>
                  <a:lnTo>
                    <a:pt x="922" y="344"/>
                  </a:lnTo>
                  <a:lnTo>
                    <a:pt x="922" y="354"/>
                  </a:lnTo>
                  <a:lnTo>
                    <a:pt x="919" y="365"/>
                  </a:lnTo>
                  <a:lnTo>
                    <a:pt x="916" y="375"/>
                  </a:lnTo>
                  <a:lnTo>
                    <a:pt x="916" y="385"/>
                  </a:lnTo>
                  <a:lnTo>
                    <a:pt x="916" y="396"/>
                  </a:lnTo>
                  <a:lnTo>
                    <a:pt x="916" y="406"/>
                  </a:lnTo>
                  <a:lnTo>
                    <a:pt x="916" y="416"/>
                  </a:lnTo>
                  <a:lnTo>
                    <a:pt x="916" y="426"/>
                  </a:lnTo>
                  <a:lnTo>
                    <a:pt x="919" y="437"/>
                  </a:lnTo>
                  <a:lnTo>
                    <a:pt x="925" y="447"/>
                  </a:lnTo>
                  <a:lnTo>
                    <a:pt x="929" y="457"/>
                  </a:lnTo>
                  <a:lnTo>
                    <a:pt x="932" y="468"/>
                  </a:lnTo>
                  <a:lnTo>
                    <a:pt x="935" y="478"/>
                  </a:lnTo>
                  <a:lnTo>
                    <a:pt x="935" y="488"/>
                  </a:lnTo>
                  <a:lnTo>
                    <a:pt x="938" y="499"/>
                  </a:lnTo>
                  <a:lnTo>
                    <a:pt x="938" y="509"/>
                  </a:lnTo>
                  <a:lnTo>
                    <a:pt x="938" y="519"/>
                  </a:lnTo>
                  <a:lnTo>
                    <a:pt x="938" y="530"/>
                  </a:lnTo>
                  <a:lnTo>
                    <a:pt x="938" y="540"/>
                  </a:lnTo>
                  <a:lnTo>
                    <a:pt x="935" y="550"/>
                  </a:lnTo>
                  <a:lnTo>
                    <a:pt x="932" y="561"/>
                  </a:lnTo>
                  <a:lnTo>
                    <a:pt x="929" y="571"/>
                  </a:lnTo>
                  <a:lnTo>
                    <a:pt x="922" y="581"/>
                  </a:lnTo>
                  <a:lnTo>
                    <a:pt x="912" y="588"/>
                  </a:lnTo>
                  <a:lnTo>
                    <a:pt x="903" y="595"/>
                  </a:lnTo>
                  <a:lnTo>
                    <a:pt x="893" y="598"/>
                  </a:lnTo>
                  <a:lnTo>
                    <a:pt x="883" y="605"/>
                  </a:lnTo>
                  <a:lnTo>
                    <a:pt x="873" y="609"/>
                  </a:lnTo>
                  <a:lnTo>
                    <a:pt x="864" y="612"/>
                  </a:lnTo>
                  <a:lnTo>
                    <a:pt x="854" y="616"/>
                  </a:lnTo>
                  <a:lnTo>
                    <a:pt x="844" y="619"/>
                  </a:lnTo>
                  <a:lnTo>
                    <a:pt x="834" y="619"/>
                  </a:lnTo>
                  <a:lnTo>
                    <a:pt x="825" y="619"/>
                  </a:lnTo>
                  <a:lnTo>
                    <a:pt x="815" y="619"/>
                  </a:lnTo>
                  <a:lnTo>
                    <a:pt x="805" y="619"/>
                  </a:lnTo>
                  <a:lnTo>
                    <a:pt x="795" y="619"/>
                  </a:lnTo>
                  <a:lnTo>
                    <a:pt x="786" y="619"/>
                  </a:lnTo>
                  <a:lnTo>
                    <a:pt x="776" y="616"/>
                  </a:lnTo>
                  <a:lnTo>
                    <a:pt x="766" y="616"/>
                  </a:lnTo>
                  <a:lnTo>
                    <a:pt x="756" y="612"/>
                  </a:lnTo>
                  <a:lnTo>
                    <a:pt x="747" y="612"/>
                  </a:lnTo>
                  <a:lnTo>
                    <a:pt x="737" y="609"/>
                  </a:lnTo>
                  <a:lnTo>
                    <a:pt x="727" y="605"/>
                  </a:lnTo>
                  <a:lnTo>
                    <a:pt x="718" y="598"/>
                  </a:lnTo>
                  <a:lnTo>
                    <a:pt x="708" y="595"/>
                  </a:lnTo>
                  <a:lnTo>
                    <a:pt x="698" y="592"/>
                  </a:lnTo>
                  <a:lnTo>
                    <a:pt x="688" y="592"/>
                  </a:lnTo>
                  <a:lnTo>
                    <a:pt x="679" y="592"/>
                  </a:lnTo>
                  <a:lnTo>
                    <a:pt x="669" y="592"/>
                  </a:lnTo>
                  <a:lnTo>
                    <a:pt x="659" y="592"/>
                  </a:lnTo>
                  <a:lnTo>
                    <a:pt x="649" y="592"/>
                  </a:lnTo>
                  <a:lnTo>
                    <a:pt x="640" y="592"/>
                  </a:lnTo>
                  <a:lnTo>
                    <a:pt x="630" y="598"/>
                  </a:lnTo>
                  <a:lnTo>
                    <a:pt x="620" y="602"/>
                  </a:lnTo>
                  <a:lnTo>
                    <a:pt x="610" y="605"/>
                  </a:lnTo>
                  <a:lnTo>
                    <a:pt x="601" y="616"/>
                  </a:lnTo>
                  <a:lnTo>
                    <a:pt x="591" y="623"/>
                  </a:lnTo>
                  <a:lnTo>
                    <a:pt x="581" y="629"/>
                  </a:lnTo>
                  <a:lnTo>
                    <a:pt x="571" y="636"/>
                  </a:lnTo>
                  <a:lnTo>
                    <a:pt x="562" y="640"/>
                  </a:lnTo>
                  <a:lnTo>
                    <a:pt x="552" y="650"/>
                  </a:lnTo>
                  <a:lnTo>
                    <a:pt x="542" y="657"/>
                  </a:lnTo>
                  <a:lnTo>
                    <a:pt x="532" y="664"/>
                  </a:lnTo>
                  <a:lnTo>
                    <a:pt x="523" y="671"/>
                  </a:lnTo>
                  <a:lnTo>
                    <a:pt x="513" y="678"/>
                  </a:lnTo>
                  <a:lnTo>
                    <a:pt x="503" y="681"/>
                  </a:lnTo>
                  <a:lnTo>
                    <a:pt x="494" y="684"/>
                  </a:lnTo>
                  <a:lnTo>
                    <a:pt x="484" y="691"/>
                  </a:lnTo>
                  <a:lnTo>
                    <a:pt x="474" y="698"/>
                  </a:lnTo>
                  <a:lnTo>
                    <a:pt x="464" y="705"/>
                  </a:lnTo>
                  <a:lnTo>
                    <a:pt x="455" y="705"/>
                  </a:lnTo>
                  <a:lnTo>
                    <a:pt x="445" y="712"/>
                  </a:lnTo>
                  <a:lnTo>
                    <a:pt x="435" y="719"/>
                  </a:lnTo>
                  <a:lnTo>
                    <a:pt x="425" y="722"/>
                  </a:lnTo>
                  <a:lnTo>
                    <a:pt x="416" y="729"/>
                  </a:lnTo>
                  <a:lnTo>
                    <a:pt x="406" y="729"/>
                  </a:lnTo>
                  <a:lnTo>
                    <a:pt x="396" y="733"/>
                  </a:lnTo>
                  <a:lnTo>
                    <a:pt x="386" y="733"/>
                  </a:lnTo>
                  <a:lnTo>
                    <a:pt x="377" y="736"/>
                  </a:lnTo>
                  <a:lnTo>
                    <a:pt x="367" y="736"/>
                  </a:lnTo>
                  <a:lnTo>
                    <a:pt x="357" y="736"/>
                  </a:lnTo>
                  <a:lnTo>
                    <a:pt x="347" y="736"/>
                  </a:lnTo>
                  <a:lnTo>
                    <a:pt x="338" y="736"/>
                  </a:lnTo>
                  <a:lnTo>
                    <a:pt x="328" y="736"/>
                  </a:lnTo>
                  <a:lnTo>
                    <a:pt x="318" y="736"/>
                  </a:lnTo>
                  <a:lnTo>
                    <a:pt x="308" y="736"/>
                  </a:lnTo>
                  <a:lnTo>
                    <a:pt x="299" y="729"/>
                  </a:lnTo>
                  <a:lnTo>
                    <a:pt x="289" y="722"/>
                  </a:lnTo>
                  <a:lnTo>
                    <a:pt x="282" y="712"/>
                  </a:lnTo>
                  <a:lnTo>
                    <a:pt x="273" y="705"/>
                  </a:lnTo>
                  <a:lnTo>
                    <a:pt x="269" y="695"/>
                  </a:lnTo>
                  <a:lnTo>
                    <a:pt x="263" y="684"/>
                  </a:lnTo>
                  <a:lnTo>
                    <a:pt x="260" y="674"/>
                  </a:lnTo>
                  <a:lnTo>
                    <a:pt x="256" y="664"/>
                  </a:lnTo>
                  <a:lnTo>
                    <a:pt x="256" y="653"/>
                  </a:lnTo>
                  <a:lnTo>
                    <a:pt x="256" y="643"/>
                  </a:lnTo>
                  <a:lnTo>
                    <a:pt x="256" y="633"/>
                  </a:lnTo>
                  <a:lnTo>
                    <a:pt x="256" y="623"/>
                  </a:lnTo>
                  <a:lnTo>
                    <a:pt x="256" y="612"/>
                  </a:lnTo>
                  <a:lnTo>
                    <a:pt x="256" y="602"/>
                  </a:lnTo>
                  <a:lnTo>
                    <a:pt x="256" y="592"/>
                  </a:lnTo>
                  <a:lnTo>
                    <a:pt x="256" y="581"/>
                  </a:lnTo>
                  <a:lnTo>
                    <a:pt x="256" y="571"/>
                  </a:lnTo>
                  <a:lnTo>
                    <a:pt x="253" y="561"/>
                  </a:lnTo>
                  <a:lnTo>
                    <a:pt x="250" y="550"/>
                  </a:lnTo>
                  <a:lnTo>
                    <a:pt x="247" y="540"/>
                  </a:lnTo>
                  <a:lnTo>
                    <a:pt x="244" y="530"/>
                  </a:lnTo>
                  <a:lnTo>
                    <a:pt x="240" y="519"/>
                  </a:lnTo>
                  <a:lnTo>
                    <a:pt x="234" y="509"/>
                  </a:lnTo>
                  <a:lnTo>
                    <a:pt x="224" y="506"/>
                  </a:lnTo>
                  <a:lnTo>
                    <a:pt x="214" y="499"/>
                  </a:lnTo>
                  <a:lnTo>
                    <a:pt x="205" y="495"/>
                  </a:lnTo>
                  <a:lnTo>
                    <a:pt x="195" y="488"/>
                  </a:lnTo>
                  <a:lnTo>
                    <a:pt x="185" y="481"/>
                  </a:lnTo>
                  <a:lnTo>
                    <a:pt x="175" y="471"/>
                  </a:lnTo>
                  <a:lnTo>
                    <a:pt x="166" y="461"/>
                  </a:lnTo>
                  <a:lnTo>
                    <a:pt x="156" y="457"/>
                  </a:lnTo>
                  <a:lnTo>
                    <a:pt x="146" y="451"/>
                  </a:lnTo>
                  <a:lnTo>
                    <a:pt x="136" y="451"/>
                  </a:lnTo>
                  <a:lnTo>
                    <a:pt x="127" y="447"/>
                  </a:lnTo>
                  <a:lnTo>
                    <a:pt x="117" y="444"/>
                  </a:lnTo>
                  <a:lnTo>
                    <a:pt x="107" y="440"/>
                  </a:lnTo>
                  <a:lnTo>
                    <a:pt x="97" y="437"/>
                  </a:lnTo>
                  <a:lnTo>
                    <a:pt x="88" y="433"/>
                  </a:lnTo>
                  <a:lnTo>
                    <a:pt x="78" y="430"/>
                  </a:lnTo>
                  <a:lnTo>
                    <a:pt x="68" y="423"/>
                  </a:lnTo>
                  <a:lnTo>
                    <a:pt x="58" y="420"/>
                  </a:lnTo>
                  <a:lnTo>
                    <a:pt x="49" y="413"/>
                  </a:lnTo>
                  <a:lnTo>
                    <a:pt x="39" y="406"/>
                  </a:lnTo>
                  <a:lnTo>
                    <a:pt x="29" y="399"/>
                  </a:lnTo>
                  <a:lnTo>
                    <a:pt x="19" y="392"/>
                  </a:lnTo>
                  <a:lnTo>
                    <a:pt x="10" y="382"/>
                  </a:lnTo>
                  <a:lnTo>
                    <a:pt x="6" y="371"/>
                  </a:lnTo>
                  <a:lnTo>
                    <a:pt x="3" y="361"/>
                  </a:lnTo>
                  <a:lnTo>
                    <a:pt x="0" y="351"/>
                  </a:lnTo>
                  <a:lnTo>
                    <a:pt x="0" y="340"/>
                  </a:lnTo>
                  <a:lnTo>
                    <a:pt x="0" y="330"/>
                  </a:lnTo>
                  <a:lnTo>
                    <a:pt x="10" y="320"/>
                  </a:lnTo>
                  <a:lnTo>
                    <a:pt x="19" y="313"/>
                  </a:lnTo>
                  <a:lnTo>
                    <a:pt x="29" y="306"/>
                  </a:lnTo>
                  <a:lnTo>
                    <a:pt x="39" y="299"/>
                  </a:lnTo>
                  <a:lnTo>
                    <a:pt x="45" y="289"/>
                  </a:lnTo>
                  <a:lnTo>
                    <a:pt x="55" y="279"/>
                  </a:lnTo>
                  <a:lnTo>
                    <a:pt x="65" y="272"/>
                  </a:lnTo>
                  <a:lnTo>
                    <a:pt x="71" y="261"/>
                  </a:lnTo>
                  <a:lnTo>
                    <a:pt x="81" y="255"/>
                  </a:lnTo>
                  <a:lnTo>
                    <a:pt x="88" y="244"/>
                  </a:lnTo>
                  <a:lnTo>
                    <a:pt x="97" y="237"/>
                  </a:lnTo>
                  <a:lnTo>
                    <a:pt x="104" y="227"/>
                  </a:lnTo>
                  <a:lnTo>
                    <a:pt x="110" y="217"/>
                  </a:lnTo>
                  <a:lnTo>
                    <a:pt x="117" y="206"/>
                  </a:lnTo>
                  <a:lnTo>
                    <a:pt x="123" y="196"/>
                  </a:lnTo>
                  <a:lnTo>
                    <a:pt x="133" y="186"/>
                  </a:lnTo>
                  <a:lnTo>
                    <a:pt x="130" y="186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9000" y="2873520"/>
              <a:ext cx="149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Topolog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ntity (e.g., 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1240920" y="2211120"/>
              <a:ext cx="184320" cy="496440"/>
              <a:chOff x="1240920" y="2211120"/>
              <a:chExt cx="184320" cy="496440"/>
            </a:xfrm>
          </p:grpSpPr>
          <p:sp>
            <p:nvSpPr>
              <p:cNvPr id="770" name=""/>
              <p:cNvSpPr/>
              <p:nvPr/>
            </p:nvSpPr>
            <p:spPr>
              <a:xfrm flipV="1">
                <a:off x="1318320" y="2211120"/>
                <a:ext cx="1069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316520" y="2468520"/>
                <a:ext cx="2952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1240920" y="2527920"/>
                <a:ext cx="10116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241280" y="2538720"/>
                <a:ext cx="37440" cy="5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1244880" y="2608200"/>
                <a:ext cx="3024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35080" y="231840"/>
            <a:ext cx="6926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238 HIPP AR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347480" y="1227240"/>
            <a:ext cx="722628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-existing probing ent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ose with defects were rem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piece_complete_probing entity seemingly not usable; due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aknesses and incompleteness on operation 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completeness of alignment o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d_offset value meaning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nnot assign surfaces for datum defin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89120" indent="-24300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tributes such as search and retract distances not provi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piece_complete_probing entity could be replaced by variant of DMIS DAT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uch_probing entity seemingly unusable, since it is a subtype of both workingstep and operation; not consistent with machining equival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0">
              <a:spcBef>
                <a:spcPts val="499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35080" y="231840"/>
            <a:ext cx="6926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238 HIPP AR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347480" y="1227240"/>
            <a:ext cx="722628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s more complete and precise (useful) definition of classes of resource…classes of measurement devices and classes of sens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 ARM, but specified in IDEF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ticality weighting of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c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211480" y="2725560"/>
            <a:ext cx="496260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Horst, N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john.horst@nist.go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* 301.975.34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ithersburg, 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5880" y="618840"/>
            <a:ext cx="690732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8760" y="2358720"/>
            <a:ext cx="62560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am I 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ST 2001: quick sp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00360" y="966960"/>
            <a:ext cx="5618160" cy="5638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58840" y="176040"/>
            <a:ext cx="69073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5880" y="618840"/>
            <a:ext cx="690732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8760" y="2358720"/>
            <a:ext cx="62560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am I 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ST 2001: quick sp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IS 2006: Process planning a hot top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65240" y="1766880"/>
            <a:ext cx="0" cy="4548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766880"/>
            <a:ext cx="0" cy="4548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766880"/>
            <a:ext cx="0" cy="2890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954600"/>
            <a:ext cx="1487520" cy="1133280"/>
          </a:xfrm>
          <a:prstGeom prst="rect">
            <a:avLst/>
          </a:prstGeom>
          <a:ln w="0">
            <a:noFill/>
          </a:ln>
        </p:spPr>
      </p:pic>
      <p:pic>
        <p:nvPicPr>
          <p:cNvPr id="95" name="CMM_Reporting" descr=""/>
          <p:cNvPicPr/>
          <p:nvPr/>
        </p:nvPicPr>
        <p:blipFill>
          <a:blip r:embed="rId2"/>
          <a:stretch/>
        </p:blipFill>
        <p:spPr>
          <a:xfrm>
            <a:off x="7951680" y="3079800"/>
            <a:ext cx="1192320" cy="900000"/>
          </a:xfrm>
          <a:prstGeom prst="rect">
            <a:avLst/>
          </a:prstGeom>
          <a:ln w="0">
            <a:noFill/>
          </a:ln>
        </p:spPr>
      </p:pic>
      <p:pic>
        <p:nvPicPr>
          <p:cNvPr id="96" name="mtxg_1" descr=""/>
          <p:cNvPicPr/>
          <p:nvPr/>
        </p:nvPicPr>
        <p:blipFill>
          <a:blip r:embed="rId3"/>
          <a:stretch/>
        </p:blipFill>
        <p:spPr>
          <a:xfrm>
            <a:off x="5613480" y="4917960"/>
            <a:ext cx="1423800" cy="115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7858080" y="4003560"/>
            <a:ext cx="0" cy="140976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3409" descr=""/>
          <p:cNvPicPr/>
          <p:nvPr/>
        </p:nvPicPr>
        <p:blipFill>
          <a:blip r:embed="rId4"/>
          <a:stretch/>
        </p:blipFill>
        <p:spPr>
          <a:xfrm>
            <a:off x="8315280" y="5376960"/>
            <a:ext cx="828720" cy="1136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1529640" y="3340080"/>
            <a:ext cx="887400" cy="39384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89520" y="3384720"/>
            <a:ext cx="120348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44880" y="3422520"/>
            <a:ext cx="130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Inspection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1520" y="2801880"/>
            <a:ext cx="1255680" cy="95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0520" y="2742840"/>
            <a:ext cx="139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High-level 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rocess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145280" y="3460680"/>
            <a:ext cx="1496880" cy="580680"/>
            <a:chOff x="7145280" y="3460680"/>
            <a:chExt cx="1496880" cy="580680"/>
          </a:xfrm>
        </p:grpSpPr>
        <p:sp>
          <p:nvSpPr>
            <p:cNvPr id="105" name=""/>
            <p:cNvSpPr/>
            <p:nvPr/>
          </p:nvSpPr>
          <p:spPr>
            <a:xfrm>
              <a:off x="7238520" y="3469320"/>
              <a:ext cx="1310400" cy="55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45280" y="346068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Georgia"/>
                </a:rPr>
                <a:t>Report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Georgia"/>
                </a:rPr>
                <a:t>&amp;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541680" y="4395960"/>
            <a:ext cx="20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MM control comma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respo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I++ D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19880" y="4041720"/>
            <a:ext cx="2880" cy="1276560"/>
          </a:xfrm>
          <a:prstGeom prst="line">
            <a:avLst/>
          </a:prstGeom>
          <a:ln w="2844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814920" y="5495760"/>
            <a:ext cx="1201680" cy="1124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18240" y="5329080"/>
            <a:ext cx="1406520" cy="110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40200" y="5335200"/>
            <a:ext cx="136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Coordinate measuring machines (CM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880" y="3313080"/>
            <a:ext cx="1117800" cy="80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6360" y="3417840"/>
            <a:ext cx="13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a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3763800"/>
            <a:ext cx="1154160" cy="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24520" y="3037680"/>
            <a:ext cx="1584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DML, I++ DM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STEP AP2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8520" y="2767320"/>
            <a:ext cx="1252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t geometry, manuf info, featur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ler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P203e2, AP219, DML, I++D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56520" y="5392800"/>
            <a:ext cx="1203120" cy="76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11880" y="5346000"/>
            <a:ext cx="130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Quality device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97680" y="4194360"/>
            <a:ext cx="13748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lity measurement d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Q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3880" y="672840"/>
            <a:ext cx="81057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62080" y="1914480"/>
            <a:ext cx="22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14480"/>
            <a:ext cx="19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91448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ec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91448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70600" y="4657680"/>
            <a:ext cx="2113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0520" y="2742840"/>
            <a:ext cx="139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High-level 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rocess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657600" y="3704760"/>
            <a:ext cx="1219320" cy="135756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59160" y="5006880"/>
            <a:ext cx="1255680" cy="95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78160" y="4947840"/>
            <a:ext cx="139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Low-level 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rocess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059280" y="3782880"/>
            <a:ext cx="2880" cy="11653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27120" y="3687120"/>
            <a:ext cx="13305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s.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P238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P219, I++D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27280" y="3556440"/>
            <a:ext cx="116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D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5880" y="618840"/>
            <a:ext cx="690732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8760" y="2358720"/>
            <a:ext cx="62560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am I 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ST 2001: quick sp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IS 2006: Process planning a hot top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PP 2007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 generation DM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636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65240" y="1766880"/>
            <a:ext cx="0" cy="4548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1766880"/>
            <a:ext cx="0" cy="4548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1766880"/>
            <a:ext cx="0" cy="2890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3954600"/>
            <a:ext cx="1487520" cy="1133280"/>
          </a:xfrm>
          <a:prstGeom prst="rect">
            <a:avLst/>
          </a:prstGeom>
          <a:ln w="0">
            <a:noFill/>
          </a:ln>
        </p:spPr>
      </p:pic>
      <p:pic>
        <p:nvPicPr>
          <p:cNvPr id="139" name="CMM_Reporting" descr=""/>
          <p:cNvPicPr/>
          <p:nvPr/>
        </p:nvPicPr>
        <p:blipFill>
          <a:blip r:embed="rId2"/>
          <a:stretch/>
        </p:blipFill>
        <p:spPr>
          <a:xfrm>
            <a:off x="7951680" y="3079800"/>
            <a:ext cx="1192320" cy="900000"/>
          </a:xfrm>
          <a:prstGeom prst="rect">
            <a:avLst/>
          </a:prstGeom>
          <a:ln w="0">
            <a:noFill/>
          </a:ln>
        </p:spPr>
      </p:pic>
      <p:pic>
        <p:nvPicPr>
          <p:cNvPr id="140" name="mtxg_1" descr=""/>
          <p:cNvPicPr/>
          <p:nvPr/>
        </p:nvPicPr>
        <p:blipFill>
          <a:blip r:embed="rId3"/>
          <a:stretch/>
        </p:blipFill>
        <p:spPr>
          <a:xfrm>
            <a:off x="5613480" y="4917960"/>
            <a:ext cx="1423800" cy="115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7858080" y="4003560"/>
            <a:ext cx="0" cy="140976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3409" descr=""/>
          <p:cNvPicPr/>
          <p:nvPr/>
        </p:nvPicPr>
        <p:blipFill>
          <a:blip r:embed="rId4"/>
          <a:stretch/>
        </p:blipFill>
        <p:spPr>
          <a:xfrm>
            <a:off x="8315280" y="5376960"/>
            <a:ext cx="828720" cy="1136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1529640" y="3340080"/>
            <a:ext cx="887400" cy="39384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89520" y="3384720"/>
            <a:ext cx="120348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44880" y="3422520"/>
            <a:ext cx="130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Inspection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2801880"/>
            <a:ext cx="1255680" cy="95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0520" y="2742840"/>
            <a:ext cx="139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High-level 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rocess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145280" y="3460680"/>
            <a:ext cx="1496880" cy="580680"/>
            <a:chOff x="7145280" y="3460680"/>
            <a:chExt cx="1496880" cy="580680"/>
          </a:xfrm>
        </p:grpSpPr>
        <p:sp>
          <p:nvSpPr>
            <p:cNvPr id="149" name=""/>
            <p:cNvSpPr/>
            <p:nvPr/>
          </p:nvSpPr>
          <p:spPr>
            <a:xfrm>
              <a:off x="7238520" y="3469320"/>
              <a:ext cx="1310400" cy="55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45280" y="346068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Georgia"/>
                </a:rPr>
                <a:t>Report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Georgia"/>
                </a:rPr>
                <a:t>&amp;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541680" y="4395960"/>
            <a:ext cx="20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MM control comma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respo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I++ D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519880" y="4041720"/>
            <a:ext cx="2880" cy="1276560"/>
          </a:xfrm>
          <a:prstGeom prst="line">
            <a:avLst/>
          </a:prstGeom>
          <a:ln w="2844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814920" y="5495760"/>
            <a:ext cx="1201680" cy="1124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18240" y="5329080"/>
            <a:ext cx="1406520" cy="110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40200" y="5335200"/>
            <a:ext cx="136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Coordinate measuring machines (CM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7880" y="3313080"/>
            <a:ext cx="1117800" cy="80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360" y="3417840"/>
            <a:ext cx="13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a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3763800"/>
            <a:ext cx="1154160" cy="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24520" y="3037680"/>
            <a:ext cx="1584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DML, I++ DM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STEP AP2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8520" y="2767320"/>
            <a:ext cx="1252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t geometry, manuf info, featur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ler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P203e2, AP219, DML, I++D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56520" y="5392800"/>
            <a:ext cx="1203120" cy="76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11880" y="5346000"/>
            <a:ext cx="130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Quality device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97680" y="4194360"/>
            <a:ext cx="13748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lity measurement d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Q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3880" y="672840"/>
            <a:ext cx="81057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62080" y="1914480"/>
            <a:ext cx="22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914480"/>
            <a:ext cx="19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191448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ec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191448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0600" y="4657680"/>
            <a:ext cx="2113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0520" y="2742840"/>
            <a:ext cx="139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High-level 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rocess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3704760"/>
            <a:ext cx="1219320" cy="135756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9160" y="5006880"/>
            <a:ext cx="1255680" cy="95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78160" y="4947840"/>
            <a:ext cx="139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Low-level 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process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59280" y="3782880"/>
            <a:ext cx="2880" cy="11653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27120" y="3687120"/>
            <a:ext cx="13305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s.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P238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P219, I++D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27280" y="3556440"/>
            <a:ext cx="116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D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7T16:05:13Z</dcterms:created>
  <dc:creator>Jim Albus, Rick Quintero, Debbie Russell</dc:creator>
  <dc:description/>
  <dc:language>en-US</dc:language>
  <cp:lastModifiedBy>horst</cp:lastModifiedBy>
  <cp:lastPrinted>2002-02-19T21:23:14Z</cp:lastPrinted>
  <dcterms:modified xsi:type="dcterms:W3CDTF">2007-07-04T00:27:57Z</dcterms:modified>
  <cp:revision>2461</cp:revision>
  <dc:subject/>
  <dc:title>Presentation</dc:title>
</cp:coreProperties>
</file>