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70080" indent="-241200">
              <a:spcBef>
                <a:spcPts val="700"/>
              </a:spcBef>
              <a:buClr>
                <a:srgbClr val="ffffff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7396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47480" y="2878200"/>
            <a:ext cx="7226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-level Measurement Process Planning activity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ivities with in/out data in IDEF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a and activities defined in separate vocabulary docume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7480" y="2090880"/>
            <a:ext cx="7226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d set of measurement features and toler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ecutabl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d list of measurement features and tolerances with other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413160" y="2855880"/>
            <a:ext cx="2073240" cy="127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form 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asurement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anning (HIP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7400" y="272268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5520" y="2998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ion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7280" y="32558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0920" y="5692680"/>
            <a:ext cx="23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ensional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ourc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1280" y="518940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surement Knowledg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7520" y="435132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xture Knowledg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520" y="8175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andards for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76240" y="11224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surement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4920" y="1427040"/>
            <a:ext cx="18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mpling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5480" y="18082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 Proces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20120" y="211284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D&amp;T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271680"/>
            <a:ext cx="187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igh-level Measurement Proces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2440" y="29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2720" y="318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52720" y="34671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460680"/>
            <a:ext cx="584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1131840"/>
            <a:ext cx="0" cy="171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5960" y="1440000"/>
            <a:ext cx="0" cy="1411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73560" y="1701720"/>
            <a:ext cx="0" cy="114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4920" y="2100240"/>
            <a:ext cx="0" cy="75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0440" y="2390760"/>
            <a:ext cx="0" cy="45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49600" y="413676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08480" y="4136760"/>
            <a:ext cx="0" cy="116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33880" y="4146120"/>
            <a:ext cx="0" cy="28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5960" y="35323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iticality weigh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3360" y="3724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0640" y="378936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43360" y="398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6080" y="23605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265752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63600" y="1206360"/>
            <a:ext cx="110016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4760" y="110016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840" y="261936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00" y="18795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800" y="5261040"/>
            <a:ext cx="182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mensional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ourc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73560" y="5199120"/>
            <a:ext cx="102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5400" y="61596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for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9680" y="8478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8720" y="10335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pling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72520" y="6573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facturing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9840" y="131904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D&amp;T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2000" y="5238720"/>
            <a:ext cx="5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p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1000" y="1413000"/>
            <a:ext cx="273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1720" y="2030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2855880"/>
            <a:ext cx="2039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13480" y="4684680"/>
            <a:ext cx="1255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83400" y="5845320"/>
            <a:ext cx="312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36760" y="3841560"/>
            <a:ext cx="0" cy="14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438280"/>
            <a:ext cx="1111320" cy="1362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Dimen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asurement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3200400"/>
            <a:ext cx="1141560" cy="1353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peration Plan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49920" y="4264200"/>
            <a:ext cx="784080" cy="1085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Reaction Plan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6720" y="5402160"/>
            <a:ext cx="799920" cy="11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enerate Support Data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06640" y="2293920"/>
            <a:ext cx="0" cy="5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7040" y="2293920"/>
            <a:ext cx="45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9520" y="2860560"/>
            <a:ext cx="0" cy="11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0160" y="4040280"/>
            <a:ext cx="324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2160" y="2038320"/>
            <a:ext cx="0" cy="221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5400" y="4259160"/>
            <a:ext cx="333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73480" y="1790640"/>
            <a:ext cx="5416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5000" y="1790640"/>
            <a:ext cx="0" cy="8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8240" y="259560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97760" y="15177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43080" y="1077840"/>
            <a:ext cx="0" cy="12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57280" y="831960"/>
            <a:ext cx="0" cy="38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811680"/>
            <a:ext cx="0" cy="9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72080" y="4745160"/>
            <a:ext cx="17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0040" y="4684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832360"/>
            <a:ext cx="155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14760" y="4547880"/>
            <a:ext cx="0" cy="6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22960" y="153180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7720" y="1292400"/>
            <a:ext cx="0" cy="1912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2000" y="976320"/>
            <a:ext cx="0" cy="21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82800" y="2393640"/>
            <a:ext cx="0" cy="26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82800" y="5041800"/>
            <a:ext cx="136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160" y="14875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ality we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9560" y="1717560"/>
            <a:ext cx="284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6840" y="2898720"/>
            <a:ext cx="389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83120" y="2898720"/>
            <a:ext cx="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73400" y="3613320"/>
            <a:ext cx="23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11960" y="3794040"/>
            <a:ext cx="21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89880" y="4221000"/>
            <a:ext cx="80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6960" y="1784520"/>
            <a:ext cx="0" cy="162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6040" y="3413160"/>
            <a:ext cx="95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19880" y="3282840"/>
            <a:ext cx="177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280" y="2087640"/>
            <a:ext cx="8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ality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5640" y="107172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83160" y="13557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level Process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89040" y="1517760"/>
            <a:ext cx="19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61200" y="3263760"/>
            <a:ext cx="765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-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00920" y="1717560"/>
            <a:ext cx="247680" cy="4287960"/>
          </a:xfrm>
          <a:custGeom>
            <a:avLst/>
            <a:gdLst>
              <a:gd name="textAreaLeft" fmla="*/ 0 w 247680"/>
              <a:gd name="textAreaRight" fmla="*/ 89280 w 247680"/>
              <a:gd name="textAreaTop" fmla="*/ 111600 h 4287960"/>
              <a:gd name="textAreaBottom" fmla="*/ 4176360 h 428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590920"/>
            <a:ext cx="34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Method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11360" y="2692440"/>
            <a:ext cx="1297080" cy="19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entify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09400" y="2416320"/>
            <a:ext cx="91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7360" y="5481720"/>
            <a:ext cx="127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 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6280" y="123660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2813040"/>
            <a:ext cx="22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3784680"/>
            <a:ext cx="1262160" cy="113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fine Accurac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8120" y="2376360"/>
            <a:ext cx="24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51360" y="2397240"/>
            <a:ext cx="0" cy="198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61080" y="43941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60920" y="2733840"/>
            <a:ext cx="12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i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90840" y="1741320"/>
            <a:ext cx="0" cy="95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5040" y="2333520"/>
            <a:ext cx="0" cy="366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94400" y="490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1840" y="2924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319104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96200" y="4378320"/>
            <a:ext cx="83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59480" y="3894120"/>
            <a:ext cx="119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8680" y="375588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24000" y="3443400"/>
            <a:ext cx="10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01840" y="357840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01840" y="391788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32520" y="1755720"/>
            <a:ext cx="1261800" cy="113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84960" y="2378160"/>
            <a:ext cx="941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53360" y="1897200"/>
            <a:ext cx="119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Measurement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040" y="314964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2360" y="2341440"/>
            <a:ext cx="160200" cy="2102040"/>
          </a:xfrm>
          <a:custGeom>
            <a:avLst/>
            <a:gdLst>
              <a:gd name="textAreaLeft" fmla="*/ 0 w 160200"/>
              <a:gd name="textAreaRight" fmla="*/ 57960 w 160200"/>
              <a:gd name="textAreaTop" fmla="*/ 54720 h 2102040"/>
              <a:gd name="textAreaBottom" fmla="*/ 2047320 h 21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7000" y="3255840"/>
            <a:ext cx="105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53880" y="176688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57080" y="426708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01840" y="439092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33840" y="2571840"/>
            <a:ext cx="112536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 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01400" y="175572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29720" y="590076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7880" y="260208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Method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211560" y="3723840"/>
            <a:ext cx="0" cy="11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65680" y="3594240"/>
            <a:ext cx="1084320" cy="92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8320" y="2044800"/>
            <a:ext cx="247680" cy="3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70640" y="22510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95880" y="2739960"/>
            <a:ext cx="0" cy="13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95880" y="4044960"/>
            <a:ext cx="466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1720" y="2232000"/>
            <a:ext cx="15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41360" y="375588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sor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53240" y="4025880"/>
            <a:ext cx="153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14480" y="2530440"/>
            <a:ext cx="376200" cy="66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7760" y="273060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7880" y="54468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9760" y="4919760"/>
            <a:ext cx="20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295960" y="4514400"/>
            <a:ext cx="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6600" y="568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81360" y="1362240"/>
            <a:ext cx="1001520" cy="895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76640" y="2254320"/>
            <a:ext cx="409320" cy="40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533680" y="1872720"/>
            <a:ext cx="25704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62120" y="2635200"/>
            <a:ext cx="162000" cy="428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42880" y="2320920"/>
            <a:ext cx="276120" cy="27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33520" y="2311560"/>
            <a:ext cx="28584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90800" y="1787400"/>
            <a:ext cx="3540240" cy="6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3160" y="147960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ge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1480" y="349884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6400" y="2986200"/>
            <a:ext cx="5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09880" y="2473200"/>
            <a:ext cx="27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90800" y="2635200"/>
            <a:ext cx="390600" cy="961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294156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9800" y="3178080"/>
            <a:ext cx="0" cy="419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5880" y="241200"/>
            <a:ext cx="76071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Measur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7120" y="1692360"/>
            <a:ext cx="284040" cy="2448000"/>
          </a:xfrm>
          <a:custGeom>
            <a:avLst/>
            <a:gdLst>
              <a:gd name="textAreaLeft" fmla="*/ 0 w 284040"/>
              <a:gd name="textAreaRight" fmla="*/ 102600 w 2840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04960" y="1374840"/>
            <a:ext cx="129708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tup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ix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39400" y="578340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559480" y="4398480"/>
            <a:ext cx="0" cy="1335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86480" y="4349880"/>
            <a:ext cx="1166760" cy="115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High-level Measurement 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9760" y="1685880"/>
            <a:ext cx="26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1800" y="566892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ture Synthesi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54240" y="1301760"/>
            <a:ext cx="74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15080" y="2959200"/>
            <a:ext cx="1242720" cy="14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Sampling Plan and Select Evalu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28760" y="255240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5360" y="212076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" y="1430280"/>
            <a:ext cx="11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Resource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0040" y="2352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53120" y="3457440"/>
            <a:ext cx="1838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09960" y="1990800"/>
            <a:ext cx="476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52880" y="1990800"/>
            <a:ext cx="0" cy="9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62240" y="2943360"/>
            <a:ext cx="26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91480" y="2000160"/>
            <a:ext cx="0" cy="294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48560" y="49338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96040" y="3467160"/>
            <a:ext cx="0" cy="107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6040" y="4552920"/>
            <a:ext cx="20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22880" y="2954160"/>
            <a:ext cx="8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pling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13720" y="4992840"/>
            <a:ext cx="10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0560" y="4894200"/>
            <a:ext cx="91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 Size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371840" y="40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71840" y="4076640"/>
            <a:ext cx="552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5219640"/>
            <a:ext cx="2828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14520" y="23623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4520" y="3286080"/>
            <a:ext cx="19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4809960"/>
            <a:ext cx="4972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42320" y="31352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32240" y="2397240"/>
            <a:ext cx="1160280" cy="1209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Features to be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89640" y="2487600"/>
            <a:ext cx="109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3857760"/>
            <a:ext cx="3381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91080" y="2971800"/>
            <a:ext cx="10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95840" y="2981160"/>
            <a:ext cx="0" cy="6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91160" y="3610080"/>
            <a:ext cx="22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5880" y="241200"/>
            <a:ext cx="76071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High-Level Measure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16:05:13Z</dcterms:created>
  <dc:creator>Jim Albus, Rick Quintero, Debbie Russell</dc:creator>
  <dc:description/>
  <dc:language>en-US</dc:language>
  <cp:lastModifiedBy>horst</cp:lastModifiedBy>
  <cp:lastPrinted>2002-02-19T21:23:14Z</cp:lastPrinted>
  <dcterms:modified xsi:type="dcterms:W3CDTF">2007-07-25T18:32:22Z</dcterms:modified>
  <cp:revision>2462</cp:revision>
  <dc:subject/>
  <dc:title>Presentation</dc:title>
</cp:coreProperties>
</file>