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B88-76A2-4F68-87AD-2BBF56A4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315-9550-49AC-B388-C731EC43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617-CCCD-41C0-BF8F-BDBB7A2D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5CF-EF1B-4DD0-8A1D-279E4B38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B81-7193-4A68-BE6C-31A9C3C1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95A-8C68-4528-A807-E67D65ED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860-F5AB-4034-A677-FC26C1E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526-6FD3-49E9-BF86-A7B8B4F9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2D5-9F73-4249-9A38-EBD1496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C19-E2CC-49F0-B39D-D413852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68C-7A01-414E-97B0-4A7F22A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B0C-95E1-4388-8AC3-A114510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762760"/>
            <a:ext cx="1714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/13/2007 12:06 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62760"/>
            <a:ext cx="21715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W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762760"/>
            <a:ext cx="160020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01D-D7A9-40A1-8651-7841FE266E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238e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26665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easurement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ed ISO 14649-10 for defin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ool – G17a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eeds it own p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1920" y="2130480"/>
            <a:ext cx="421632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2438280"/>
            <a:ext cx="1600200" cy="30492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asuring_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74320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895480"/>
            <a:ext cx="182880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uch_trigger_t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3200400"/>
            <a:ext cx="182880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ntact_scanner_t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505320"/>
            <a:ext cx="182880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on-contact_scanner_t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809880"/>
            <a:ext cx="182880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ther_t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27672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58128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388620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97180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743200"/>
            <a:ext cx="0" cy="9907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294920" y="3733920"/>
            <a:ext cx="31244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ing Tool SubTypes – G18a</a:t>
            </a: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eds it own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1600200" cy="30492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ugh_trigger_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piece – G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118120" cy="74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Features SubType – G23a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eds it own p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2133720" cy="30492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asurement_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895480"/>
            <a:ext cx="2362320" cy="30492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mensional_measurement_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1911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expand upon this at a later date as we need to consider the new DMIS features and simplify the AP219 via inheri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Parameters – G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5791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Project – G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564160" cy="7238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3352680"/>
            <a:ext cx="609840" cy="121932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105520"/>
            <a:ext cx="457200" cy="83808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6400800"/>
            <a:ext cx="1295280" cy="114300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8001000"/>
            <a:ext cx="1067040" cy="53352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step – G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6248160" cy="6118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8229600"/>
            <a:ext cx="1600200" cy="68580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nate_metrology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orking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590920"/>
            <a:ext cx="0" cy="6019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610480"/>
            <a:ext cx="6098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8229600"/>
            <a:ext cx="236232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asurement_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8381880"/>
            <a:ext cx="1447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3800" y="83059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ts_features L[0: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8534520"/>
            <a:ext cx="236232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nate_metrology_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8686800"/>
            <a:ext cx="1447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2000" y="86104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ts_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362320"/>
            <a:ext cx="1143000" cy="22860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uch Probing – G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5808600" cy="66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334120"/>
            <a:ext cx="1143000" cy="16761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029200"/>
            <a:ext cx="838440" cy="38088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666880"/>
            <a:ext cx="1371600" cy="30492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 – G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711680" cy="676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29200" y="6172200"/>
            <a:ext cx="1600200" cy="152388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asuring_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28640" y="4952880"/>
            <a:ext cx="2438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4952880"/>
            <a:ext cx="0" cy="12193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6248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7391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7772400"/>
            <a:ext cx="144756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asuring_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8534520"/>
            <a:ext cx="236232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nate_metrology_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7696080"/>
            <a:ext cx="0" cy="914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8610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76201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24280" y="769572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057400"/>
            <a:ext cx="838080" cy="22860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8534520"/>
            <a:ext cx="2057400" cy="228600"/>
          </a:xfrm>
          <a:prstGeom prst="roundRect">
            <a:avLst>
              <a:gd name="adj" fmla="val 50000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nate_metrology_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610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 SubType – G8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447920"/>
            <a:ext cx="2133720" cy="30456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ante_metrology_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– G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2200" y="2192400"/>
            <a:ext cx="4826160" cy="6451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876920" y="3809880"/>
            <a:ext cx="1600200" cy="83844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asuring_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3352680"/>
            <a:ext cx="4952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3526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181480"/>
            <a:ext cx="1218960" cy="83844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nate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etrology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7391520"/>
            <a:ext cx="1218960" cy="83808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xx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648320"/>
            <a:ext cx="0" cy="3200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784872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6386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67816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324480"/>
            <a:ext cx="1218960" cy="83844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gage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666880"/>
            <a:ext cx="914400" cy="38124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Functions – G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863960" cy="6946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05520" y="8153280"/>
            <a:ext cx="1600200" cy="68580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nate_metrology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achine_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70866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8610480"/>
            <a:ext cx="457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SubType – G1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47920"/>
            <a:ext cx="2133720" cy="304560"/>
          </a:xfrm>
          <a:prstGeom prst="rect">
            <a:avLst/>
          </a:prstGeom>
          <a:solidFill>
            <a:srgbClr val="ff99cc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ordiante_metrology_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4:36:08Z</dcterms:created>
  <dc:creator>Curtis Brown</dc:creator>
  <dc:description/>
  <dc:language>en-US</dc:language>
  <cp:lastModifiedBy>Curtis Brown</cp:lastModifiedBy>
  <dcterms:modified xsi:type="dcterms:W3CDTF">2007-06-13T17:09:26Z</dcterms:modified>
  <cp:revision>4</cp:revision>
  <dc:subject/>
  <dc:title>AP238e2</dc:title>
</cp:coreProperties>
</file>