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AF0-241A-4E8F-8FEF-E25861D9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878-AA55-4AF5-A200-6AABEBCC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D3A-ABE4-4B34-9B72-978FEEDD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303-CC9F-42E5-B7E0-0B28BC62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4E4-125F-4660-86D1-18D6DDFD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59C-F8F6-4800-83FE-A5CA68C0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100-B2CD-498A-960B-4972D72C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2EC-4DCF-407E-A253-08B19956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2FA-0B27-46CB-87E7-5BAC8CA3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5C0-9EF7-4C7E-80CF-66AAB8C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D0F-0A37-4C97-91B6-9B29B3C9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A65-786F-46A8-BA9D-C5DD634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A39E-76FC-44EC-B842-AF58930661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6629400" cy="891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629400" cy="89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228600"/>
          <a:ext cx="6629400" cy="891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629400" cy="89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28600" y="228600"/>
          <a:ext cx="6400800" cy="891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400800" cy="89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8600" y="228600"/>
          <a:ext cx="6400800" cy="891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400800" cy="89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228600"/>
          <a:ext cx="6400800" cy="891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400800" cy="89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04:02:43Z</dcterms:created>
  <dc:creator>sakamoto</dc:creator>
  <dc:description/>
  <dc:language>en-US</dc:language>
  <cp:lastModifiedBy>sakamoto</cp:lastModifiedBy>
  <dcterms:modified xsi:type="dcterms:W3CDTF">2005-07-13T04:08:57Z</dcterms:modified>
  <cp:revision>6</cp:revision>
  <dc:subject/>
  <dc:title>PowerPoint プレゼンテーション</dc:title>
</cp:coreProperties>
</file>