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04E-E7AA-4DF0-B67A-F5B4AD7D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8DB-199F-4CCA-8F76-A5F0974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F3D-1305-4E75-A9B0-372D7D5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0EC-1105-4BAA-A074-036682C4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080-29D9-4475-8D4E-6299E05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C28-6EBA-4FF4-9E89-BAA7EFDB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9D5-23D6-4EC9-9E4C-8ED82F7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4EE-60CD-4563-B380-8FF8E11D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408-3CCC-4EEF-8188-629534AE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0F3-76E4-4545-AC06-AE68CED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4E2-C410-4AB4-A2EC-0BC6C54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6EF-B949-4C85-8F55-7F6896F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2BE-4BE9-4ECB-B7B2-267E53C7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24 – STEP-Manufact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s in Func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AP-229 Forg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ISO 14649-110 Machine Too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on PDM for Digital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2007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T24 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meeting (Ibusuki Wednesday July 4th 10:30AM – Noon and Tokyo Friday July 6t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and Mold Part (2.5 ax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24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40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38 Mach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h head with geometric dimensional toleranc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bus and Bo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 meeting (October 2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vembe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Manufacturing PDM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9000" y="270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4480" y="3618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5592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3"/>
            <a:endCxn id="47" idx="1"/>
          </p:cNvCxnSpPr>
          <p:nvPr/>
        </p:nvCxnSpPr>
        <p:spPr>
          <a:xfrm flipV="1">
            <a:off x="1149480" y="2012400"/>
            <a:ext cx="1305360" cy="8751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13640" y="2743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0384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4200" y="3581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7" idx="3"/>
            <a:endCxn id="51" idx="1"/>
          </p:cNvCxnSpPr>
          <p:nvPr/>
        </p:nvCxnSpPr>
        <p:spPr>
          <a:xfrm>
            <a:off x="3146040" y="2013120"/>
            <a:ext cx="7563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6" idx="3"/>
            <a:endCxn id="50" idx="2"/>
          </p:cNvCxnSpPr>
          <p:nvPr/>
        </p:nvCxnSpPr>
        <p:spPr>
          <a:xfrm flipV="1">
            <a:off x="3180960" y="2195280"/>
            <a:ext cx="1067400" cy="16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066480" y="2743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9480" y="34290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3"/>
            <a:endCxn id="55" idx="1"/>
          </p:cNvCxnSpPr>
          <p:nvPr/>
        </p:nvCxnSpPr>
        <p:spPr>
          <a:xfrm flipV="1">
            <a:off x="4721400" y="3749400"/>
            <a:ext cx="1467360" cy="16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3"/>
            <a:endCxn id="55" idx="1"/>
          </p:cNvCxnSpPr>
          <p:nvPr/>
        </p:nvCxnSpPr>
        <p:spPr>
          <a:xfrm>
            <a:off x="4593960" y="2013120"/>
            <a:ext cx="1594440" cy="1737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8984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720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5" idx="3"/>
            <a:endCxn id="59" idx="2"/>
          </p:cNvCxnSpPr>
          <p:nvPr/>
        </p:nvCxnSpPr>
        <p:spPr>
          <a:xfrm flipV="1">
            <a:off x="6969240" y="3033000"/>
            <a:ext cx="12960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3"/>
            <a:endCxn id="59" idx="0"/>
          </p:cNvCxnSpPr>
          <p:nvPr/>
        </p:nvCxnSpPr>
        <p:spPr>
          <a:xfrm>
            <a:off x="6879960" y="2013120"/>
            <a:ext cx="1384920" cy="65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241400" y="358128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828800"/>
            <a:ext cx="81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1" idx="3"/>
            <a:endCxn id="58" idx="1"/>
          </p:cNvCxnSpPr>
          <p:nvPr/>
        </p:nvCxnSpPr>
        <p:spPr>
          <a:xfrm flipV="1">
            <a:off x="4721400" y="2012760"/>
            <a:ext cx="1467360" cy="175320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742640" y="281952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9080" y="4114800"/>
            <a:ext cx="398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 delivered on March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24 delivery by May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399 +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 delivery by 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/ISO 14649 deliver by Jun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simulation by June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8760" y="4815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8862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d and Die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53360" y="2932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6240" y="2971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49600" y="28195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1" idx="3"/>
            <a:endCxn id="72" idx="1"/>
          </p:cNvCxnSpPr>
          <p:nvPr/>
        </p:nvCxnSpPr>
        <p:spPr>
          <a:xfrm>
            <a:off x="1882800" y="3115800"/>
            <a:ext cx="2232720" cy="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4895640" y="3139200"/>
            <a:ext cx="2251800" cy="1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65200" y="22096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5200" y="33526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3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01680" y="2703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38560" y="684360"/>
            <a:ext cx="52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tolerance and size dimension for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 of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dull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0440" y="4572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 and Sandv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0" idx="2"/>
            <a:endCxn id="71" idx="0"/>
          </p:cNvCxnSpPr>
          <p:nvPr/>
        </p:nvCxnSpPr>
        <p:spPr>
          <a:xfrm>
            <a:off x="1463400" y="824040"/>
            <a:ext cx="3960" cy="21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4628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160" y="4114800"/>
            <a:ext cx="66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pan Machine tool and probing syste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st Japan and NIST feedback to air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pan and NIST tool requests to Sandv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irbus select dimensions and positions to be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lerance data to STE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T-CL to STE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-238 to NIST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chine and measure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deo for 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9720" y="1523880"/>
            <a:ext cx="190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tting tool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 head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71800" y="4572000"/>
            <a:ext cx="7621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572000"/>
            <a:ext cx="76176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8200" y="4038480"/>
            <a:ext cx="111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4040" y="2590920"/>
            <a:ext cx="12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34340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8760" y="4648320"/>
            <a:ext cx="111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Hardwick</cp:lastModifiedBy>
  <dcterms:modified xsi:type="dcterms:W3CDTF">2007-04-02T15:46:2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