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03BD-A684-4C1F-8B10-E3DD32DC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96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842-3A72-47D8-8776-B297071C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FA3-13A1-43B7-8BE1-4CBA19A5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031-5D3B-495E-BBA3-09E70CDB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1D5C-41F0-4412-857D-1FAB537A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34CD-447F-4B2B-BA52-4D0B5A3D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6B5A-B508-4897-824C-56850C19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8B4C-0D4A-433B-92D9-ADAD8025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9765-9B56-4893-BBE3-AF14CC1C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447920" y="206280"/>
            <a:ext cx="6858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ABCC-FDD3-4D64-B3B9-B1476974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7979-7601-4D94-868F-F7C85367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ED8B-F2CF-4D22-B67B-A93663F6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F471-E50E-4D9B-A6D0-A4EE8E73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FB3E-4E20-41AA-AFC3-193E200A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96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7BDD-5E7A-4794-B176-1054BEBE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FF63-41F8-4B76-813B-9B0541D2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306F-08C6-43FF-82C0-83AACEDB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FD03-C5DE-4E50-B0A4-E16E29DA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6A2-48AE-4A03-A000-5ED47018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15B-5744-470F-81E0-6CF78168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447920" y="206280"/>
            <a:ext cx="6858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EA6-598D-44A7-8840-56108135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F3CF-6D4F-4F6A-B03C-E3DDCB1D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3CC-DB27-47C8-A1EA-6DBA96B3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6D8-F136-45D5-9D76-CF53D4A1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360"/>
            <a:ext cx="9144000" cy="1028880"/>
          </a:xfrm>
          <a:prstGeom prst="rect">
            <a:avLst/>
          </a:prstGeom>
          <a:solidFill>
            <a:srgbClr val="1a1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0"/>
            <a:ext cx="7696080" cy="879480"/>
          </a:xfrm>
          <a:prstGeom prst="rect">
            <a:avLst/>
          </a:prstGeom>
          <a:solidFill>
            <a:srgbClr val="124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8760"/>
            <a:ext cx="9144000" cy="603360"/>
          </a:xfrm>
          <a:prstGeom prst="rect">
            <a:avLst/>
          </a:prstGeom>
          <a:gradFill rotWithShape="0">
            <a:gsLst>
              <a:gs pos="0">
                <a:srgbClr val="3167d3"/>
              </a:gs>
              <a:gs pos="100000">
                <a:srgbClr val="162f61"/>
              </a:gs>
            </a:gsLst>
            <a:lin ang="10800000"/>
          </a:gradFill>
          <a:ln w="9360">
            <a:solidFill>
              <a:srgbClr val="3167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228600" cy="5715000"/>
          </a:xfrm>
          <a:prstGeom prst="rect">
            <a:avLst/>
          </a:prstGeom>
          <a:gradFill rotWithShape="0">
            <a:gsLst>
              <a:gs pos="0">
                <a:srgbClr val="90b54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686800" y="0"/>
            <a:ext cx="76320" cy="609480"/>
          </a:xfrm>
          <a:prstGeom prst="rect">
            <a:avLst/>
          </a:prstGeom>
          <a:solidFill>
            <a:srgbClr val="90b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1a7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167d3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0b5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6a23c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1a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a1a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a1a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167d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67d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167d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67d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167d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16B2-BDC8-44E2-B749-D4C00B348F84}" type="slidenum">
              <a:rPr b="0" lang="en-US" sz="1400" spc="-1" strike="noStrike">
                <a:solidFill>
                  <a:srgbClr val="3167d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1447920" cy="1066680"/>
          </a:xfrm>
          <a:prstGeom prst="rect">
            <a:avLst/>
          </a:prstGeom>
          <a:solidFill>
            <a:srgbClr val="1a1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1035000"/>
            <a:ext cx="1447920" cy="228600"/>
          </a:xfrm>
          <a:prstGeom prst="rect">
            <a:avLst/>
          </a:prstGeom>
          <a:solidFill>
            <a:srgbClr val="316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81400" cy="148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5157720"/>
          </a:xfrm>
          <a:prstGeom prst="rect">
            <a:avLst/>
          </a:prstGeom>
          <a:solidFill>
            <a:srgbClr val="316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62160" y="0"/>
            <a:ext cx="2361960" cy="4952880"/>
          </a:xfrm>
          <a:prstGeom prst="rect">
            <a:avLst/>
          </a:prstGeom>
          <a:gradFill rotWithShape="0">
            <a:gsLst>
              <a:gs pos="0">
                <a:srgbClr val="3167d3"/>
              </a:gs>
              <a:gs pos="100000">
                <a:srgbClr val="234a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400480"/>
            <a:ext cx="8458200" cy="1104840"/>
          </a:xfrm>
          <a:prstGeom prst="rect">
            <a:avLst/>
          </a:prstGeom>
          <a:gradFill rotWithShape="0">
            <a:gsLst>
              <a:gs pos="0">
                <a:srgbClr val="3167d3"/>
              </a:gs>
              <a:gs pos="100000">
                <a:srgbClr val="1a1a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a1a7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1a7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a1a7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1a7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a1a7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C4EF-32DD-4D69-9A0F-F12DB3E6FEDC}" type="slidenum">
              <a:rPr b="0" lang="en-US" sz="1400" spc="-1" strike="noStrike">
                <a:solidFill>
                  <a:srgbClr val="1a1a7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76200" y="4941720"/>
            <a:ext cx="7867800" cy="217800"/>
          </a:xfrm>
          <a:prstGeom prst="rect">
            <a:avLst/>
          </a:prstGeom>
          <a:solidFill>
            <a:srgbClr val="f6a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04920"/>
            <a:ext cx="8534160" cy="4343400"/>
          </a:xfrm>
          <a:prstGeom prst="rect">
            <a:avLst/>
          </a:prstGeom>
          <a:noFill/>
          <a:ln w="9360">
            <a:solidFill>
              <a:srgbClr val="87a3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91520" y="914400"/>
            <a:ext cx="1600200" cy="1447920"/>
          </a:xfrm>
          <a:prstGeom prst="rect">
            <a:avLst/>
          </a:prstGeom>
          <a:noFill/>
          <a:ln w="9360">
            <a:solidFill>
              <a:srgbClr val="87a3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05920" y="0"/>
            <a:ext cx="75960" cy="1752480"/>
          </a:xfrm>
          <a:prstGeom prst="rect">
            <a:avLst/>
          </a:prstGeom>
          <a:solidFill>
            <a:srgbClr val="90b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9880" y="5334120"/>
            <a:ext cx="2667240" cy="58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6248520" y="5257800"/>
          <a:ext cx="289548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5257800"/>
                    <a:ext cx="28954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4508640"/>
            <a:ext cx="2971800" cy="1854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a1a7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0b54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7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6a23c"/>
              </a:buClr>
              <a:buSzPct val="6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7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a1a7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7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a1a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7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a1a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a7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eeman@scra.org" TargetMode="External"/><Relationship Id="rId2" Type="http://schemas.openxmlformats.org/officeDocument/2006/relationships/hyperlink" Target="mailto:slovensky@scra.org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mensional Toler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28440" y="37339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DS issue against AP224 &amp; AP24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7840" y="380880"/>
            <a:ext cx="1863360" cy="1067400"/>
          </a:xfrm>
          <a:prstGeom prst="rect">
            <a:avLst/>
          </a:prstGeom>
          <a:solidFill>
            <a:srgbClr val="f6a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1a70"/>
                </a:solidFill>
                <a:latin typeface="Arial"/>
              </a:rPr>
              <a:t>Dr. Bill Freeman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1a70"/>
                </a:solidFill>
                <a:latin typeface="Arial"/>
              </a:rPr>
              <a:t>(843) 760-3791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0b54d"/>
                </a:solidFill>
                <a:uFillTx/>
                <a:latin typeface="Arial"/>
                <a:hlinkClick r:id="rId1"/>
              </a:rPr>
              <a:t>freeman@scra.org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58520" y="380880"/>
            <a:ext cx="2014200" cy="1067400"/>
          </a:xfrm>
          <a:prstGeom prst="rect">
            <a:avLst/>
          </a:prstGeom>
          <a:solidFill>
            <a:srgbClr val="f6a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1a70"/>
                </a:solidFill>
                <a:latin typeface="Arial"/>
              </a:rPr>
              <a:t>Mr. Len Slovensky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1a70"/>
                </a:solidFill>
                <a:latin typeface="Arial"/>
              </a:rPr>
              <a:t>(513) 383-8311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0b54d"/>
                </a:solidFill>
                <a:uFillTx/>
                <a:latin typeface="Arial"/>
                <a:hlinkClick r:id="rId2"/>
              </a:rPr>
              <a:t>slovensky@scra.org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494240" y="1827360"/>
            <a:ext cx="3916440" cy="3527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D Tolerances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1840" y="1981080"/>
            <a:ext cx="213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P224 defines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Location toleranc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s having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rigin shape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nd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ermination shape.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6680" y="4154400"/>
            <a:ext cx="297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o get the correct toleranc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n applied direction would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need to be used.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6938640" y="5059080"/>
            <a:ext cx="119160" cy="493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24160" y="41608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rigin poin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402160" y="4606920"/>
            <a:ext cx="1428840" cy="38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56080" y="535320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4973760"/>
            <a:ext cx="6480" cy="1212840"/>
          </a:xfrm>
          <a:prstGeom prst="line">
            <a:avLst/>
          </a:prstGeom>
          <a:ln w="76320">
            <a:solidFill>
              <a:srgbClr val="3167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34800" y="562608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pplied directio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D Tolerances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672000" y="1101600"/>
            <a:ext cx="5079960" cy="6572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812160" y="2811600"/>
            <a:ext cx="213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Proposed new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Upward compatibl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600280" y="1581120"/>
            <a:ext cx="2811600" cy="1417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hal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1a7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Write informal proposition, that the origin and termination shapes are unambiguous measurable shapes.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a7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70"/>
                </a:solidFill>
                <a:latin typeface="Arial"/>
              </a:rPr>
              <a:t>Use datums in dimensional tolerancing</a:t>
            </a:r>
            <a:endParaRPr b="0" lang="en-US" sz="32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208400" y="1817640"/>
            <a:ext cx="4838760" cy="4487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ler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1840" y="1981080"/>
            <a:ext cx="213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P224 defines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Location toleranc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s having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rigin shape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nd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ermination shape.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76520" y="2285640"/>
            <a:ext cx="3200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581280"/>
            <a:ext cx="259056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1560" y="4611600"/>
            <a:ext cx="29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STEP tolerances are based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ff of a 2D application.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08400" y="1817640"/>
            <a:ext cx="4838760" cy="44877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D Toler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1840" y="1981080"/>
            <a:ext cx="213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P224 defines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Location toleranc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s having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rigin shape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nd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ermination shape.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676520" y="2189160"/>
            <a:ext cx="3076560" cy="78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3581280"/>
            <a:ext cx="2468520" cy="13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720" y="5326200"/>
            <a:ext cx="31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his is equivalent </a:t>
            </a:r>
            <a:br>
              <a:rPr sz="1800"/>
            </a:b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o establishing the Origin and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ermination shapes as point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27240"/>
            <a:ext cx="152640" cy="152280"/>
          </a:xfrm>
          <a:prstGeom prst="flowChartOr">
            <a:avLst/>
          </a:prstGeom>
          <a:solidFill>
            <a:srgbClr val="3167d3"/>
          </a:soli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92760" y="3625920"/>
            <a:ext cx="152280" cy="152280"/>
          </a:xfrm>
          <a:prstGeom prst="flowChartOr">
            <a:avLst/>
          </a:prstGeom>
          <a:solidFill>
            <a:srgbClr val="3167d3"/>
          </a:soli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8480" y="4154400"/>
            <a:ext cx="32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In a 2D environment shap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re viewed in flat planar view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354480" y="1835280"/>
            <a:ext cx="5449680" cy="4147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D Toler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1840" y="1981080"/>
            <a:ext cx="213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P224 defines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Location toleranc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s having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rigin shape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nd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ermination shape.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2971800"/>
            <a:ext cx="2550960" cy="177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581280"/>
            <a:ext cx="3106440" cy="1414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1080" y="5326200"/>
            <a:ext cx="37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If the origin and termination shap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re planar and parallel, there is no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Problem.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8120" y="4154400"/>
            <a:ext cx="30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In a 3D environment shap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re viewed in 3D view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305240" y="2197080"/>
            <a:ext cx="4017960" cy="3619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D Tolerances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1840" y="1981080"/>
            <a:ext cx="213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P224 defines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Location toleranc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s having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rigin shape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nd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ermination shape.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35200" y="3511440"/>
            <a:ext cx="1584360" cy="27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7102080" y="3340080"/>
            <a:ext cx="1165320" cy="15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8480" y="4154400"/>
            <a:ext cx="36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If the origin shape and terminatio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shape are not parallel plan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where is the Location toleranc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pplied?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63920" y="30528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rigin shap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6120" y="28526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ermination shap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608280" y="1793880"/>
            <a:ext cx="4791240" cy="43149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D Tolerances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1840" y="1981080"/>
            <a:ext cx="213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P224 defines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Location toleranc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s having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rigin shape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nd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ermination shape.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35200" y="3511440"/>
            <a:ext cx="1584360" cy="27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7102080" y="3340080"/>
            <a:ext cx="1165320" cy="15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7040" y="4154400"/>
            <a:ext cx="24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dd two new attribut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rigin poin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ermination poin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3920" y="30528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rigin shap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36120" y="28526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ermination shap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2360" y="5597640"/>
            <a:ext cx="1584360" cy="27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98640" y="51847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rigin poin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7516440" y="5591160"/>
            <a:ext cx="1165320" cy="15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61080" y="484992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468600" y="1347840"/>
            <a:ext cx="4805280" cy="43275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D Tolerances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1840" y="1981080"/>
            <a:ext cx="213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P224 defines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Location toleranc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s having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rigin shape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nd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ermination shape.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265720" y="5130720"/>
            <a:ext cx="833400" cy="87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6405120" y="4592520"/>
            <a:ext cx="1165320" cy="15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8840" y="4154400"/>
            <a:ext cx="29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he origin shape is a plan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he termination shape is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 cylindrical surface tha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defines a hole.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57680" y="57214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rigin shap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5760" y="388620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ermination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94320" y="169056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D Tolerances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1840" y="1981080"/>
            <a:ext cx="213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P224 defines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Location toleranc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s having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rigin shape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nd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ermination shape.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284800" y="5367240"/>
            <a:ext cx="833400" cy="87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8840" y="4154400"/>
            <a:ext cx="409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if a dimension between a tangent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n the hole and an edge, th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ranslated shape aspects wouldn't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indicate what is being dimensioned.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Nothing in the output entities indicates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it’s the tangent being looked for.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46280" y="62532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Which one?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008600" y="2028960"/>
            <a:ext cx="3916080" cy="35272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920" y="206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D Tolerances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1840" y="1981080"/>
            <a:ext cx="213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P224 defines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Location toleranc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s having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rigin shape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and a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ermination shape.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265720" y="5130720"/>
            <a:ext cx="833400" cy="87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6415200" y="4659480"/>
            <a:ext cx="1164960" cy="15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8120" y="4154400"/>
            <a:ext cx="323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By adding the new attributes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f origin point and terminatio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point a problem still exist.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Which one to use?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78680" y="42321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rigin shap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69920" y="561816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ermination 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442200" y="5241600"/>
            <a:ext cx="118800" cy="493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95320" y="44560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Origin poin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873680" y="4825800"/>
            <a:ext cx="1428840" cy="37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2360" y="556560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70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0:16:21Z</dcterms:created>
  <dc:creator>Len Slovensky</dc:creator>
  <dc:description/>
  <cp:keywords/>
  <dc:language>en-US</dc:language>
  <cp:lastModifiedBy>Len Slovensky</cp:lastModifiedBy>
  <dcterms:modified xsi:type="dcterms:W3CDTF">2007-03-26T15:38:45Z</dcterms:modified>
  <cp:revision>26</cp:revision>
  <dc:subject/>
  <dc:title>Forging Product Lifecycle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91033</vt:lpwstr>
  </property>
</Properties>
</file>