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E7C-C57E-4494-9066-9D409070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088-E77D-49D7-8B40-716592FA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16A-B2D2-487A-BA60-E48CEC9B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7BB-EE7E-43B5-BC12-2DAE7259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803-30D4-41F6-8B22-9489B583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700-E2E5-48C5-8C94-F14FF1A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D89-B735-4E3D-96D1-15466922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9C5-3B2C-41FB-8649-AB239496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B84-5D61-4CFF-B865-8CAA58AF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718-B40F-4897-8C0C-DA79EE4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AD4-EDB2-4D49-AD5B-1AD7A359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57B-3488-44E5-B08D-FCA13C7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592-ED3C-4D00-BE94-59FE0334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40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hine Tool Data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Catalogue Mod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640"/>
            <a:ext cx="76327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03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Engineering Research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users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 Tool Data Mode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9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Too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Tool Buil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Machine Tool Users and Machine Tool Bui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37000"/>
            <a:ext cx="8208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Usag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 Tool Data Mode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3789360"/>
            <a:ext cx="7128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y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Tool Builders provide this model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chine Tool Users as a computer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vel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 Tool Data Mode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ainly based on the NIS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SME B5/TC56 Model and Selec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240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New Items (Items on Environment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Machin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ng machine, Turning machine, Grinding machi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machine (Turning and Milling mach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P-lib approach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 ASME B5/TC56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351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1 Data types ......................................................................................................................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2 Generic Elements...........................................................................................................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3 Machining and Positioning Axes.....................................................................................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4 Work and Tool Spindles .................................................................................................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5 Tool Handling ..................................................................................................................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6 Workpiece Devices..........................................................................................................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7 Controller.......................................................................................................................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8 Sensors..........................................................................................................................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9 Environment....................................................................................................................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10 Installation .....................................................................................................................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11 Process coolant............................................................................................................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12 Auxiliary........................................................................................................................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13 Performance..................................................................................................................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1 Generic Elements ...........................................................................................................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2 Positioning accuracy and repeatability.............................................................................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3 Geometric Accuracy.......................................................................................................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4 Spindle Axis of Rotation ..................................................................................................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5 Diagonal Displacement ...................................................................................................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6 Circular Tests ................................................................................................................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7 Thermal .........................................................................................................................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8 Machine Compliance and Hysteresis...............................................................................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9 Machine performance as a measuring tool .....................................................................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10 CNC Performance.......................................................................................................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852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11 Subsystems Repeatability ..........................................................................................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12 Cutting Performance Tests ...............................................................................................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12.1 Spindle Idle Run Losses Test.....................................................................................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12.2 Chatter Limits Test.....................................................................................................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12.3 Full Torque Test.........................................................................................................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3.12.4 End Milling and Face Milling Deflection Test...............................................................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400" spc="-1" strike="noStrike">
                <a:solidFill>
                  <a:srgbClr val="000000"/>
                </a:solidFill>
                <a:latin typeface="Arial"/>
              </a:rPr>
              <a:t>2.14 Machine Errors.......................................................................................................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14.1 Errors in machine geometry ............................................................................................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 of ASME B5/TC56 Model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221000"/>
            <a:ext cx="8351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view of ASME B5/TC56 Mode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E B5/TC56 Model is mainly composed of Items  for Catalogue and Test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odel seems to be  too detail for machine tool  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 not think machine tool builders like to show this model data to machine tool us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240 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352000" cy="48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35200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5:19:02Z</dcterms:created>
  <dc:creator>sakamoto</dc:creator>
  <dc:description/>
  <dc:language>en-US</dc:language>
  <cp:lastModifiedBy>sakamoto</cp:lastModifiedBy>
  <dcterms:modified xsi:type="dcterms:W3CDTF">2007-03-27T12:22:12Z</dcterms:modified>
  <cp:revision>7</cp:revision>
  <dc:subject/>
  <dc:title>Development of  Machine Tool Data Model</dc:title>
</cp:coreProperties>
</file>