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1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98E-EAC1-49E4-A3A1-EF1BD0A5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37B-6501-4493-997D-C995AD5D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342-EB3F-403E-AAAA-3D4E530E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267-EE4C-4D9D-AF14-C3DD4440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3E7E-77F0-4030-B11D-B9983243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8440-FE06-41A8-AA7B-17A6F4B9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7F47-72CF-4000-9A64-68B6EA13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8F5C-812F-4548-8107-CC33B3CB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D274-3F70-4311-9ED6-E3FF19F5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47920" y="206280"/>
            <a:ext cx="6858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36E6-0FD4-451E-820B-0BAF709E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8F00-20BD-4733-AC93-B780A26F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C5A-CE3A-440C-8309-60F0E16A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D25F-7A17-4233-AD03-604C068B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6EA4-9225-42E1-9B91-8D6E7941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8E3D-81DA-4E59-8CCC-A18AC4D2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546C-FCF0-4A34-8A7E-4A16FD78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1382-7E32-49D9-B76E-6C2AE843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AFE-0903-410B-A458-DAB580D9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D65-6F04-47E6-A00C-6F12962C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F6B-BC74-43A3-B890-14657A9E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920" y="206280"/>
            <a:ext cx="6858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960-13C5-4983-8024-6D65C9A9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B53-1F4B-49D2-97D6-D62C27F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3D7-8401-4340-AAC5-966DB25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409-1275-48B2-A340-9CE4781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360"/>
            <a:ext cx="9144000" cy="102888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0"/>
            <a:ext cx="7696080" cy="879480"/>
          </a:xfrm>
          <a:prstGeom prst="rect">
            <a:avLst/>
          </a:prstGeom>
          <a:solidFill>
            <a:srgbClr val="124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8760"/>
            <a:ext cx="9144000" cy="603360"/>
          </a:xfrm>
          <a:prstGeom prst="rect">
            <a:avLst/>
          </a:prstGeom>
          <a:gradFill rotWithShape="0">
            <a:gsLst>
              <a:gs pos="0">
                <a:srgbClr val="3167d3"/>
              </a:gs>
              <a:gs pos="100000">
                <a:srgbClr val="162f61"/>
              </a:gs>
            </a:gsLst>
            <a:lin ang="10800000"/>
          </a:gradFill>
          <a:ln w="9360">
            <a:solidFill>
              <a:srgbClr val="3167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228600" cy="5715000"/>
          </a:xfrm>
          <a:prstGeom prst="rect">
            <a:avLst/>
          </a:prstGeom>
          <a:gradFill rotWithShape="0">
            <a:gsLst>
              <a:gs pos="0">
                <a:srgbClr val="90b54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86800" y="0"/>
            <a:ext cx="76320" cy="60948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167d3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0b5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6a23c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67d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67d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67d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67d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67d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8746-D198-4C8D-8BB9-2083F5FBA4B0}" type="slidenum">
              <a:rPr b="0" lang="en-US" sz="1400" spc="-1" strike="noStrike">
                <a:solidFill>
                  <a:srgbClr val="3167d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447920" cy="106668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035000"/>
            <a:ext cx="1447920" cy="228600"/>
          </a:xfrm>
          <a:prstGeom prst="rect">
            <a:avLst/>
          </a:prstGeom>
          <a:solidFill>
            <a:srgbClr val="316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157720"/>
          </a:xfrm>
          <a:prstGeom prst="rect">
            <a:avLst/>
          </a:prstGeom>
          <a:solidFill>
            <a:srgbClr val="316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62160" y="0"/>
            <a:ext cx="2361960" cy="4952880"/>
          </a:xfrm>
          <a:prstGeom prst="rect">
            <a:avLst/>
          </a:prstGeom>
          <a:gradFill rotWithShape="0">
            <a:gsLst>
              <a:gs pos="0">
                <a:srgbClr val="3167d3"/>
              </a:gs>
              <a:gs pos="100000">
                <a:srgbClr val="234a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400480"/>
            <a:ext cx="8458200" cy="1104840"/>
          </a:xfrm>
          <a:prstGeom prst="rect">
            <a:avLst/>
          </a:prstGeom>
          <a:gradFill rotWithShape="0">
            <a:gsLst>
              <a:gs pos="0">
                <a:srgbClr val="3167d3"/>
              </a:gs>
              <a:gs pos="100000">
                <a:srgbClr val="1a1a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1a7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1a7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1a7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EF25-2456-4A64-88A5-094CC4DDC96D}" type="slidenum">
              <a:rPr b="0" lang="en-US" sz="1400" spc="-1" strike="noStrike">
                <a:solidFill>
                  <a:srgbClr val="1a1a7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6200" y="4941720"/>
            <a:ext cx="7867800" cy="217800"/>
          </a:xfrm>
          <a:prstGeom prst="rect">
            <a:avLst/>
          </a:prstGeom>
          <a:solidFill>
            <a:srgbClr val="f6a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04920"/>
            <a:ext cx="8534160" cy="4343400"/>
          </a:xfrm>
          <a:prstGeom prst="rect">
            <a:avLst/>
          </a:prstGeom>
          <a:noFill/>
          <a:ln w="9360">
            <a:solidFill>
              <a:srgbClr val="87a3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914400"/>
            <a:ext cx="1600200" cy="1447920"/>
          </a:xfrm>
          <a:prstGeom prst="rect">
            <a:avLst/>
          </a:prstGeom>
          <a:noFill/>
          <a:ln w="9360">
            <a:solidFill>
              <a:srgbClr val="87a3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0"/>
            <a:ext cx="75960" cy="175248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9880" y="5334120"/>
            <a:ext cx="2667240" cy="58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6248520" y="5257800"/>
          <a:ext cx="289548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5257800"/>
                    <a:ext cx="2895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600200" y="4800600"/>
            <a:ext cx="1766880" cy="138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152280" y="3809880"/>
            <a:ext cx="171288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0b54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6a23c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eeman@scra.org" TargetMode="External"/><Relationship Id="rId2" Type="http://schemas.openxmlformats.org/officeDocument/2006/relationships/hyperlink" Target="mailto:slovensky@scra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ging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duct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ecycl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229 - Exchange of design and manufacturing product information for forged p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7840" y="380880"/>
            <a:ext cx="1863360" cy="1067400"/>
          </a:xfrm>
          <a:prstGeom prst="rect">
            <a:avLst/>
          </a:prstGeom>
          <a:solidFill>
            <a:srgbClr val="f6a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70"/>
                </a:solidFill>
                <a:latin typeface="Arial"/>
              </a:rPr>
              <a:t>Dr. Bill Freeman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70"/>
                </a:solidFill>
                <a:latin typeface="Arial"/>
              </a:rPr>
              <a:t>(843) 760-3791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0b54d"/>
                </a:solidFill>
                <a:uFillTx/>
                <a:latin typeface="Arial"/>
                <a:hlinkClick r:id="rId1"/>
              </a:rPr>
              <a:t>freeman@scra.org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8520" y="380880"/>
            <a:ext cx="2014200" cy="1067400"/>
          </a:xfrm>
          <a:prstGeom prst="rect">
            <a:avLst/>
          </a:prstGeom>
          <a:solidFill>
            <a:srgbClr val="f6a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70"/>
                </a:solidFill>
                <a:latin typeface="Arial"/>
              </a:rPr>
              <a:t>Mr. Len Slovensky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70"/>
                </a:solidFill>
                <a:latin typeface="Arial"/>
              </a:rPr>
              <a:t>(513) 383-8311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0b54d"/>
                </a:solidFill>
                <a:uFillTx/>
                <a:latin typeface="Arial"/>
                <a:hlinkClick r:id="rId2"/>
              </a:rPr>
              <a:t>slovensky@scra.org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Geometry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62880" y="2620800"/>
            <a:ext cx="6437160" cy="1387800"/>
            <a:chOff x="362880" y="2620800"/>
            <a:chExt cx="6437160" cy="1387800"/>
          </a:xfrm>
        </p:grpSpPr>
        <p:sp>
          <p:nvSpPr>
            <p:cNvPr id="254" name=""/>
            <p:cNvSpPr/>
            <p:nvPr/>
          </p:nvSpPr>
          <p:spPr>
            <a:xfrm rot="3418800">
              <a:off x="573480" y="28454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90b54d"/>
                </a:gs>
                <a:gs pos="100000">
                  <a:srgbClr val="425323"/>
                </a:gs>
              </a:gsLst>
              <a:lin ang="1980000"/>
            </a:gradFill>
            <a:ln w="93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537200" y="3017520"/>
              <a:ext cx="931680" cy="131760"/>
              <a:chOff x="1537200" y="3017520"/>
              <a:chExt cx="931680" cy="131760"/>
            </a:xfrm>
          </p:grpSpPr>
          <p:sp>
            <p:nvSpPr>
              <p:cNvPr id="256" name=""/>
              <p:cNvSpPr/>
              <p:nvPr/>
            </p:nvSpPr>
            <p:spPr>
              <a:xfrm>
                <a:off x="1537200" y="3017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626480" y="30186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27760" y="30196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03720" y="30607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 rot="3418800">
              <a:off x="2294640" y="2779560"/>
              <a:ext cx="924120" cy="1003680"/>
            </a:xfrm>
            <a:prstGeom prst="rect">
              <a:avLst/>
            </a:prstGeom>
            <a:solidFill>
              <a:srgbClr val="3167d3"/>
            </a:solidFill>
            <a:ln w="93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258720" y="3017520"/>
              <a:ext cx="931680" cy="131760"/>
              <a:chOff x="3258720" y="3017520"/>
              <a:chExt cx="931680" cy="131760"/>
            </a:xfrm>
          </p:grpSpPr>
          <p:sp>
            <p:nvSpPr>
              <p:cNvPr id="262" name=""/>
              <p:cNvSpPr/>
              <p:nvPr/>
            </p:nvSpPr>
            <p:spPr>
              <a:xfrm>
                <a:off x="3258720" y="3017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48000" y="30186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49280" y="30196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25240" y="30607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 rot="3418800">
              <a:off x="3944160" y="27795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90b54d"/>
                </a:gs>
                <a:gs pos="100000">
                  <a:srgbClr val="425323"/>
                </a:gs>
              </a:gsLst>
              <a:lin ang="1980000"/>
            </a:gradFill>
            <a:ln w="93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979880" y="3017520"/>
              <a:ext cx="1218240" cy="131760"/>
              <a:chOff x="4979880" y="3017520"/>
              <a:chExt cx="1218240" cy="131760"/>
            </a:xfrm>
          </p:grpSpPr>
          <p:sp>
            <p:nvSpPr>
              <p:cNvPr id="268" name=""/>
              <p:cNvSpPr/>
              <p:nvPr/>
            </p:nvSpPr>
            <p:spPr>
              <a:xfrm>
                <a:off x="4979880" y="30175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096520" y="30186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13440" y="30196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12800" y="30607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rot="3418800">
              <a:off x="5665320" y="2779560"/>
              <a:ext cx="924120" cy="1003680"/>
            </a:xfrm>
            <a:prstGeom prst="rect">
              <a:avLst/>
            </a:prstGeom>
            <a:solidFill>
              <a:srgbClr val="3167d3"/>
            </a:solidFill>
            <a:ln w="93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94440" y="3138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229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0112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238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2992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224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0608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240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670800" y="3017880"/>
            <a:ext cx="931320" cy="131760"/>
            <a:chOff x="6670800" y="3017880"/>
            <a:chExt cx="931320" cy="131760"/>
          </a:xfrm>
        </p:grpSpPr>
        <p:sp>
          <p:nvSpPr>
            <p:cNvPr id="278" name=""/>
            <p:cNvSpPr/>
            <p:nvPr/>
          </p:nvSpPr>
          <p:spPr>
            <a:xfrm>
              <a:off x="6670800" y="301788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60080" y="3018960"/>
              <a:ext cx="772560" cy="130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61000" y="302004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36600" y="306108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 rot="3418800">
            <a:off x="7355520" y="2778840"/>
            <a:ext cx="923760" cy="1004760"/>
          </a:xfrm>
          <a:prstGeom prst="rect">
            <a:avLst/>
          </a:prstGeom>
          <a:gradFill rotWithShape="0">
            <a:gsLst>
              <a:gs pos="0">
                <a:srgbClr val="90b54d"/>
              </a:gs>
              <a:gs pos="100000">
                <a:srgbClr val="425323"/>
              </a:gs>
            </a:gsLst>
            <a:lin ang="198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458840" y="3138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219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4876920"/>
            <a:ext cx="4495680" cy="9903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714a1b"/>
              </a:gs>
              <a:gs pos="50000">
                <a:srgbClr val="f6a23c"/>
              </a:gs>
              <a:gs pos="100000">
                <a:srgbClr val="714a1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part data harmonized acro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application protocol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1295280"/>
            <a:ext cx="4495680" cy="9907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714a1b"/>
              </a:gs>
              <a:gs pos="50000">
                <a:srgbClr val="f6a23c"/>
              </a:gs>
              <a:gs pos="100000">
                <a:srgbClr val="714a1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part data consistent with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TEP application protocol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152280"/>
            <a:ext cx="1752840" cy="1656000"/>
          </a:xfrm>
          <a:prstGeom prst="ellipse">
            <a:avLst/>
          </a:prstGeom>
          <a:gradFill rotWithShape="0">
            <a:gsLst>
              <a:gs pos="0">
                <a:srgbClr val="f6a23c"/>
              </a:gs>
              <a:gs pos="100000">
                <a:srgbClr val="a36b2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2200" y="8380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ed part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3048120"/>
            <a:ext cx="3124440" cy="3352680"/>
          </a:xfrm>
          <a:custGeom>
            <a:avLst/>
            <a:gdLst>
              <a:gd name="textAreaLeft" fmla="*/ 125640 w 3124440"/>
              <a:gd name="textAreaRight" fmla="*/ 2998800 w 3124440"/>
              <a:gd name="textAreaTop" fmla="*/ 125640 h 3352680"/>
              <a:gd name="textAreaBottom" fmla="*/ 3227040 h 3352680"/>
            </a:gdLst>
            <a:ahLst/>
            <a:rect l="textAreaLeft" t="textAreaTop" r="textAreaRight" b="textAreaBottom"/>
            <a:pathLst>
              <a:path w="21600" h="23178">
                <a:moveTo>
                  <a:pt x="2969" y="0"/>
                </a:moveTo>
                <a:arcTo wR="2969" hR="2969" stAng="16200000" swAng="-5400000"/>
                <a:lnTo>
                  <a:pt x="0" y="20209"/>
                </a:lnTo>
                <a:arcTo wR="2969" hR="2969" stAng="10800000" swAng="-5400000"/>
                <a:lnTo>
                  <a:pt x="18631" y="231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ntermediate shap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arting surfa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Forging plan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chining allow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terial element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terial structur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152280"/>
            <a:ext cx="1752840" cy="1656000"/>
          </a:xfrm>
          <a:prstGeom prst="ellipse">
            <a:avLst/>
          </a:prstGeom>
          <a:gradFill rotWithShape="0">
            <a:gsLst>
              <a:gs pos="0">
                <a:srgbClr val="90b54d"/>
              </a:gs>
              <a:gs pos="100000">
                <a:srgbClr val="5f78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7080" y="685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ed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267080" y="4572000"/>
            <a:ext cx="4800600" cy="21448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267080" y="2438280"/>
            <a:ext cx="4496040" cy="9907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714a1b"/>
              </a:gs>
              <a:gs pos="50000">
                <a:srgbClr val="f6a23c"/>
              </a:gs>
              <a:gs pos="100000">
                <a:srgbClr val="714a1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 tooling required for each 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ion.  Intermediate shap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d for each die tool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552720" y="3505320"/>
            <a:ext cx="30492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ed part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048120"/>
            <a:ext cx="3124440" cy="3352680"/>
          </a:xfrm>
          <a:custGeom>
            <a:avLst/>
            <a:gdLst>
              <a:gd name="textAreaLeft" fmla="*/ 125640 w 3124440"/>
              <a:gd name="textAreaRight" fmla="*/ 2998800 w 3124440"/>
              <a:gd name="textAreaTop" fmla="*/ 125640 h 3352680"/>
              <a:gd name="textAreaBottom" fmla="*/ 3227040 h 3352680"/>
            </a:gdLst>
            <a:ahLst/>
            <a:rect l="textAreaLeft" t="textAreaTop" r="textAreaRight" b="textAreaBottom"/>
            <a:pathLst>
              <a:path w="21600" h="23178">
                <a:moveTo>
                  <a:pt x="2969" y="0"/>
                </a:moveTo>
                <a:arcTo wR="2969" hR="2969" stAng="16200000" swAng="-5400000"/>
                <a:lnTo>
                  <a:pt x="0" y="20209"/>
                </a:lnTo>
                <a:arcTo wR="2969" hR="2969" stAng="10800000" swAng="-5400000"/>
                <a:lnTo>
                  <a:pt x="18631" y="231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ntermediate shap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arting surfa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Forging plan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chining allow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terial element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terial structur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2438280"/>
            <a:ext cx="4496040" cy="9907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714a1b"/>
              </a:gs>
              <a:gs pos="50000">
                <a:srgbClr val="f6a23c"/>
              </a:gs>
              <a:gs pos="100000">
                <a:srgbClr val="714a1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ed part features include: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ng line, flash, draft angl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5105520" cy="23241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flipH="1">
            <a:off x="6552720" y="3505320"/>
            <a:ext cx="30492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152280"/>
            <a:ext cx="1752840" cy="1656000"/>
          </a:xfrm>
          <a:prstGeom prst="ellipse">
            <a:avLst/>
          </a:prstGeom>
          <a:gradFill rotWithShape="0">
            <a:gsLst>
              <a:gs pos="0">
                <a:srgbClr val="90b54d"/>
              </a:gs>
              <a:gs pos="100000">
                <a:srgbClr val="5f78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7080" y="685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ed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ed part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3048120"/>
            <a:ext cx="3124440" cy="3352680"/>
          </a:xfrm>
          <a:custGeom>
            <a:avLst/>
            <a:gdLst>
              <a:gd name="textAreaLeft" fmla="*/ 125640 w 3124440"/>
              <a:gd name="textAreaRight" fmla="*/ 2998800 w 3124440"/>
              <a:gd name="textAreaTop" fmla="*/ 125640 h 3352680"/>
              <a:gd name="textAreaBottom" fmla="*/ 3227040 h 3352680"/>
            </a:gdLst>
            <a:ahLst/>
            <a:rect l="textAreaLeft" t="textAreaTop" r="textAreaRight" b="textAreaBottom"/>
            <a:pathLst>
              <a:path w="21600" h="23178">
                <a:moveTo>
                  <a:pt x="2969" y="0"/>
                </a:moveTo>
                <a:arcTo wR="2969" hR="2969" stAng="16200000" swAng="-5400000"/>
                <a:lnTo>
                  <a:pt x="0" y="20209"/>
                </a:lnTo>
                <a:arcTo wR="2969" hR="2969" stAng="10800000" swAng="-5400000"/>
                <a:lnTo>
                  <a:pt x="18631" y="231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ntermediate shap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arting surfa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Forging plan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chining allow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terial element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terial structur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91120" y="1219320"/>
            <a:ext cx="4495680" cy="9903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714a1b"/>
              </a:gs>
              <a:gs pos="50000">
                <a:srgbClr val="f6a23c"/>
              </a:gs>
              <a:gs pos="100000">
                <a:srgbClr val="714a1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hot impression dies are selected,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options are availabl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486400" y="2895480"/>
            <a:ext cx="2727360" cy="3962160"/>
            <a:chOff x="5486400" y="2895480"/>
            <a:chExt cx="2727360" cy="396216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486400" y="2899080"/>
              <a:ext cx="2727360" cy="39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539320" y="2895480"/>
              <a:ext cx="2113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a1a70"/>
                  </a:solidFill>
                  <a:latin typeface="Times New Roman"/>
                </a:rPr>
                <a:t>(a)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6781320" y="2362320"/>
            <a:ext cx="30492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52280"/>
            <a:ext cx="1752840" cy="1656000"/>
          </a:xfrm>
          <a:prstGeom prst="ellipse">
            <a:avLst/>
          </a:prstGeom>
          <a:gradFill rotWithShape="0">
            <a:gsLst>
              <a:gs pos="0">
                <a:srgbClr val="90b54d"/>
              </a:gs>
              <a:gs pos="100000">
                <a:srgbClr val="5f78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7080" y="685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ed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ing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3048120"/>
            <a:ext cx="3124440" cy="3352680"/>
          </a:xfrm>
          <a:custGeom>
            <a:avLst/>
            <a:gdLst>
              <a:gd name="textAreaLeft" fmla="*/ 125640 w 3124440"/>
              <a:gd name="textAreaRight" fmla="*/ 2998800 w 3124440"/>
              <a:gd name="textAreaTop" fmla="*/ 125640 h 3352680"/>
              <a:gd name="textAreaBottom" fmla="*/ 3227040 h 3352680"/>
            </a:gdLst>
            <a:ahLst/>
            <a:rect l="textAreaLeft" t="textAreaTop" r="textAreaRight" b="textAreaBottom"/>
            <a:pathLst>
              <a:path w="21600" h="23178">
                <a:moveTo>
                  <a:pt x="2969" y="0"/>
                </a:moveTo>
                <a:arcTo wR="2969" hR="2969" stAng="16200000" swAng="-5400000"/>
                <a:lnTo>
                  <a:pt x="0" y="20209"/>
                </a:lnTo>
                <a:arcTo wR="2969" hR="2969" stAng="10800000" swAng="-5400000"/>
                <a:lnTo>
                  <a:pt x="18631" y="231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ntermediate shap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arting surfa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Forging plan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91120" y="1219320"/>
            <a:ext cx="4495680" cy="9903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714a1b"/>
              </a:gs>
              <a:gs pos="50000">
                <a:srgbClr val="f6a23c"/>
              </a:gs>
              <a:gs pos="100000">
                <a:srgbClr val="714a1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ndard terminology for various features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 a typical impression-forging di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76320"/>
            <a:ext cx="1676520" cy="165564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0080" y="6094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648320" cy="21160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800600" y="4502160"/>
            <a:ext cx="3844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ing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91120" y="1219320"/>
            <a:ext cx="4495680" cy="9903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714a1b"/>
              </a:gs>
              <a:gs pos="50000">
                <a:srgbClr val="f6a23c"/>
              </a:gs>
              <a:gs pos="100000">
                <a:srgbClr val="714a1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oling definitions for differ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ging process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320" y="152280"/>
            <a:ext cx="167616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3760" y="685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581640" cy="1224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2667240" cy="1629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794200" y="37339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mpression di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47200" y="61722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Dies for Cog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2362320" cy="14734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993600" y="44197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Roll di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914400" y="5029200"/>
            <a:ext cx="2819520" cy="11494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450800" y="6248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Extrusion di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line part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3048120"/>
            <a:ext cx="3124440" cy="3352680"/>
          </a:xfrm>
          <a:custGeom>
            <a:avLst/>
            <a:gdLst>
              <a:gd name="textAreaLeft" fmla="*/ 125640 w 3124440"/>
              <a:gd name="textAreaRight" fmla="*/ 2998800 w 3124440"/>
              <a:gd name="textAreaTop" fmla="*/ 125640 h 3352680"/>
              <a:gd name="textAreaBottom" fmla="*/ 3227040 h 3352680"/>
            </a:gdLst>
            <a:ahLst/>
            <a:rect l="textAreaLeft" t="textAreaTop" r="textAreaRight" b="textAreaBottom"/>
            <a:pathLst>
              <a:path w="21600" h="23178">
                <a:moveTo>
                  <a:pt x="2969" y="0"/>
                </a:moveTo>
                <a:arcTo wR="2969" hR="2969" stAng="16200000" swAng="-5400000"/>
                <a:lnTo>
                  <a:pt x="0" y="20209"/>
                </a:lnTo>
                <a:arcTo wR="2969" hR="2969" stAng="10800000" swAng="-5400000"/>
                <a:lnTo>
                  <a:pt x="18631" y="231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Recommendations to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Change design of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For forgability: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1a70"/>
                </a:solidFill>
                <a:latin typeface="Arial"/>
              </a:rPr>
              <a:t>Modify shap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1a70"/>
                </a:solidFill>
                <a:latin typeface="Arial"/>
              </a:rPr>
              <a:t>Modify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1a70"/>
                </a:solidFill>
                <a:latin typeface="Arial"/>
              </a:rPr>
              <a:t>Recommend a feature b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1a70"/>
                </a:solidFill>
                <a:latin typeface="Arial"/>
              </a:rPr>
              <a:t>machined rather th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1a70"/>
                </a:solidFill>
                <a:latin typeface="Arial"/>
              </a:rPr>
              <a:t>forged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152280"/>
            <a:ext cx="1676520" cy="1600200"/>
          </a:xfrm>
          <a:prstGeom prst="ellipse">
            <a:avLst/>
          </a:prstGeom>
          <a:gradFill rotWithShape="0">
            <a:gsLst>
              <a:gs pos="0">
                <a:srgbClr val="fd778a"/>
              </a:gs>
              <a:gs pos="100000">
                <a:srgbClr val="7436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7440" y="685800"/>
            <a:ext cx="15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 line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029200" y="3517920"/>
            <a:ext cx="4114800" cy="3243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477120" y="1219320"/>
            <a:ext cx="2057400" cy="1814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3733920" y="1219320"/>
            <a:ext cx="22096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er Forging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29000" y="1371600"/>
            <a:ext cx="4572000" cy="4495680"/>
          </a:xfrm>
          <a:prstGeom prst="ellipse">
            <a:avLst/>
          </a:prstGeom>
          <a:gradFill rotWithShape="0">
            <a:gsLst>
              <a:gs pos="0">
                <a:srgbClr val="f6a23c"/>
              </a:gs>
              <a:gs pos="100000">
                <a:srgbClr val="a36b2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69600" y="1905120"/>
            <a:ext cx="321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Designed part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Forged part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Forged part with flash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Red line part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Tooling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3962520"/>
            <a:ext cx="1665000" cy="1655640"/>
          </a:xfrm>
          <a:prstGeom prst="ellipse">
            <a:avLst/>
          </a:prstGeom>
          <a:gradFill rotWithShape="0">
            <a:gsLst>
              <a:gs pos="0">
                <a:srgbClr val="7028c0"/>
              </a:gs>
              <a:gs pos="100000">
                <a:srgbClr val="4a1a7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60640" y="441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stome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m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9240" y="2057400"/>
            <a:ext cx="355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Customer Forging Requirements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re defined as properties of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 part.  These requirement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re directly attached to th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roduct data of a part,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regardless of the type: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design, forging, red line, o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ooling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320" y="152280"/>
            <a:ext cx="1665000" cy="1656000"/>
          </a:xfrm>
          <a:prstGeom prst="ellipse">
            <a:avLst/>
          </a:prstGeom>
          <a:gradFill rotWithShape="0">
            <a:gsLst>
              <a:gs pos="0">
                <a:srgbClr val="7028c0"/>
              </a:gs>
              <a:gs pos="100000">
                <a:srgbClr val="4a1a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2680" y="3808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stome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m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Forging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152280"/>
            <a:ext cx="1665360" cy="1656000"/>
          </a:xfrm>
          <a:prstGeom prst="ellipse">
            <a:avLst/>
          </a:prstGeom>
          <a:gradFill rotWithShape="0">
            <a:gsLst>
              <a:gs pos="0">
                <a:srgbClr val="7028c0"/>
              </a:gs>
              <a:gs pos="100000">
                <a:srgbClr val="4a1a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8640" y="3049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stome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m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19320"/>
            <a:ext cx="8686800" cy="54100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62f61"/>
              </a:gs>
              <a:gs pos="50000">
                <a:srgbClr val="3167d3"/>
              </a:gs>
              <a:gs pos="100000">
                <a:srgbClr val="162f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chanical stress requirements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analysis certific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if the chemical composition for the forging is met and certified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 hardn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hardness value of the material the customer will accept for th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ed part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chanical properties certific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if the mechanical properties for the forging are met and certified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ment specific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 or standard where the specification requirements for th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chanical property requirements are defined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sile strength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stress in uniaxial tension testing that a material will withstand prio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fracture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ield strength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ss at which a material exhibits a specified limiting permanent strain o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ormation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Forging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76320"/>
            <a:ext cx="1665360" cy="1655640"/>
          </a:xfrm>
          <a:prstGeom prst="ellipse">
            <a:avLst/>
          </a:prstGeom>
          <a:gradFill rotWithShape="0">
            <a:gsLst>
              <a:gs pos="0">
                <a:srgbClr val="7028c0"/>
              </a:gs>
              <a:gs pos="100000">
                <a:srgbClr val="4a1a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360" y="3049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stome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m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1828800"/>
            <a:ext cx="8686800" cy="40384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62f61"/>
              </a:gs>
              <a:gs pos="50000">
                <a:srgbClr val="3167d3"/>
              </a:gs>
              <a:gs pos="100000">
                <a:srgbClr val="162f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chanical stress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psi design str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design loads for mechanical properties for which the forged par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designed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 safety factor required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or of safety for the application loads for which the forged par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designed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str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mechanical properties with numerical data for which the forged par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designed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ing work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743200"/>
            <a:ext cx="2286000" cy="28954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62f61"/>
              </a:gs>
              <a:gs pos="100000">
                <a:srgbClr val="3167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743200"/>
            <a:ext cx="2210040" cy="289548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25323"/>
              </a:gs>
              <a:gs pos="100000">
                <a:srgbClr val="90b54d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81080"/>
            <a:ext cx="167652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323"/>
              </a:gs>
              <a:gs pos="100000">
                <a:srgbClr val="90b54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1981080"/>
            <a:ext cx="156672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2f61"/>
              </a:gs>
              <a:gs pos="100000">
                <a:srgbClr val="3167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1981080"/>
            <a:ext cx="152424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4a1b"/>
              </a:gs>
              <a:gs pos="100000">
                <a:srgbClr val="f6a23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D Drafting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743200"/>
            <a:ext cx="2209680" cy="28954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14a1b"/>
              </a:gs>
              <a:gs pos="100000">
                <a:srgbClr val="f6a23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2743200"/>
            <a:ext cx="2210040" cy="289548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0c0c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8954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a1a70"/>
                </a:solidFill>
                <a:latin typeface="Verdana"/>
              </a:rPr>
              <a:t>AP229 Forging PLM data</a:t>
            </a:r>
            <a:endParaRPr b="0" lang="en-US" sz="4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6600" y="4495680"/>
            <a:ext cx="15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7320" y="4572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6080" y="4572000"/>
            <a:ext cx="118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Forging &amp;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ool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60160" y="4572000"/>
            <a:ext cx="10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449e"/>
                </a:solidFill>
                <a:latin typeface="Arial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449e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449e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7160" y="3657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art Geometr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2040" y="3657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art Geometr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560" y="3657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Geometr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6720" y="3657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Geometr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Forging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665360" cy="1655640"/>
          </a:xfrm>
          <a:prstGeom prst="ellipse">
            <a:avLst/>
          </a:prstGeom>
          <a:gradFill rotWithShape="0">
            <a:gsLst>
              <a:gs pos="0">
                <a:srgbClr val="7028c0"/>
              </a:gs>
              <a:gs pos="100000">
                <a:srgbClr val="4a1a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6360" y="2286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stome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m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1676520"/>
            <a:ext cx="8610840" cy="44956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25323"/>
              </a:gs>
              <a:gs pos="50000">
                <a:srgbClr val="90b54d"/>
              </a:gs>
              <a:gs pos="100000">
                <a:srgbClr val="42532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rosion Service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osive environm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mospheric or ambient condition that has a erosive 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idic reaction to the forged part as designe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osive material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stance that has a erosive or acidic reaction to the forged par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designe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 valu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 of its acidity or alkalinity with units for which the forged par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s been designe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ng temperature with units that causes a corrosive reac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the forged part as designe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Forging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76320"/>
            <a:ext cx="1665360" cy="1655640"/>
          </a:xfrm>
          <a:prstGeom prst="ellipse">
            <a:avLst/>
          </a:prstGeom>
          <a:gradFill rotWithShape="0">
            <a:gsLst>
              <a:gs pos="0">
                <a:srgbClr val="7028c0"/>
              </a:gs>
              <a:gs pos="100000">
                <a:srgbClr val="4a1a7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6360" y="4572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stome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m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1828800"/>
            <a:ext cx="8534160" cy="42670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714a1b"/>
              </a:gs>
              <a:gs pos="50000">
                <a:srgbClr val="f6a23c"/>
              </a:gs>
              <a:gs pos="100000">
                <a:srgbClr val="714a1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vated temperature service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ximum cyclic temperatur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est designed operating temperature with units for periodic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for which the forging part is designe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ximum temperatur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est designed operating temperature with units for the in-servi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for the forging par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cyclic temperatur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est designed operating temperature with units for periodic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for which the forging part is designe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description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itions where elevated temperatures problematic to th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ging part as designe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Forging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52280"/>
            <a:ext cx="1665360" cy="1656000"/>
          </a:xfrm>
          <a:prstGeom prst="ellipse">
            <a:avLst/>
          </a:prstGeom>
          <a:gradFill rotWithShape="0">
            <a:gsLst>
              <a:gs pos="0">
                <a:srgbClr val="7028c0"/>
              </a:gs>
              <a:gs pos="100000">
                <a:srgbClr val="4a1a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360" y="3808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stome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m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1905120"/>
            <a:ext cx="8001000" cy="304776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3e4b6b"/>
              </a:gs>
              <a:gs pos="50000">
                <a:srgbClr val="87a3e9"/>
              </a:gs>
              <a:gs pos="100000">
                <a:srgbClr val="3e4b6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chining operations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tional machin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minal Automatic machine tool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nsiv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energy grind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ting points are shown on draw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105520"/>
            <a:ext cx="1676520" cy="16002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42480" y="55627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ol path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AP238)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5029200"/>
            <a:ext cx="1752840" cy="1655640"/>
          </a:xfrm>
          <a:prstGeom prst="ellipse">
            <a:avLst/>
          </a:prstGeom>
          <a:gradFill rotWithShape="0">
            <a:gsLst>
              <a:gs pos="0">
                <a:srgbClr val="90b54d"/>
              </a:gs>
              <a:gs pos="100000">
                <a:srgbClr val="5f78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168280" y="556272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chin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AP240)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stomer Forging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52280"/>
            <a:ext cx="1665360" cy="1656000"/>
          </a:xfrm>
          <a:prstGeom prst="ellipse">
            <a:avLst/>
          </a:prstGeom>
          <a:gradFill rotWithShape="0">
            <a:gsLst>
              <a:gs pos="0">
                <a:srgbClr val="7028c0"/>
              </a:gs>
              <a:gs pos="100000">
                <a:srgbClr val="4a1a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360" y="3808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stome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m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2286000"/>
            <a:ext cx="5410080" cy="228600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3e4b6b"/>
              </a:gs>
              <a:gs pos="50000">
                <a:srgbClr val="87a3e9"/>
              </a:gs>
              <a:gs pos="100000">
                <a:srgbClr val="3e4b6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nishing operations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int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ling, rubbing, paint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t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ging Process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2057400"/>
            <a:ext cx="7467480" cy="31240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25323"/>
              </a:gs>
              <a:gs pos="50000">
                <a:srgbClr val="90b54d"/>
              </a:gs>
              <a:gs pos="100000">
                <a:srgbClr val="42532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 plan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revision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ernate process 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code: confidential, secret, unclassified, etc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list of manufacturing processes to be performed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plan special instruction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g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2057400"/>
            <a:ext cx="7467480" cy="31240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25323"/>
              </a:gs>
              <a:gs pos="50000">
                <a:srgbClr val="90b54d"/>
              </a:gs>
              <a:gs pos="100000">
                <a:srgbClr val="42532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ging operation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ing activit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pection activit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 activit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ary operation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ary op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057400"/>
            <a:ext cx="7467480" cy="31240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25323"/>
              </a:gs>
              <a:gs pos="50000">
                <a:srgbClr val="90b54d"/>
              </a:gs>
              <a:gs pos="100000">
                <a:srgbClr val="42532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 trea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ing oper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face finish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ing oper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ging op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2057400"/>
            <a:ext cx="7467480" cy="411480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25323"/>
              </a:gs>
              <a:gs pos="50000">
                <a:srgbClr val="90b54d"/>
              </a:gs>
              <a:gs pos="100000">
                <a:srgbClr val="42532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 di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ession di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t upsett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l 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ng roll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tary swa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dial 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tary 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in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der 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en die For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143000"/>
            <a:ext cx="6934320" cy="17524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Cogging </a:t>
            </a:r>
            <a:br>
              <a:rPr sz="1800"/>
            </a:b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44211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ression die For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3962520" cy="13557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733920" y="4398840"/>
            <a:ext cx="5116320" cy="22845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80880" y="2057400"/>
            <a:ext cx="3276720" cy="259092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One impression die may have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multiple impressions to create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several intermediate shapes</a:t>
            </a:r>
            <a:br>
              <a:rPr sz="1400"/>
            </a:b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Allowable flash amount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Die temperature range (amount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Of pre-heat temperature for the die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209680"/>
            <a:ext cx="8686800" cy="3962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62f61"/>
              </a:gs>
              <a:gs pos="50000">
                <a:srgbClr val="3167d3"/>
              </a:gs>
              <a:gs pos="100000">
                <a:srgbClr val="162f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32280" y="2246400"/>
            <a:ext cx="451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2590920"/>
            <a:ext cx="761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D geometry is the Master Model used by forging product data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erform a structural Finite Element Analysis for simul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erform a macro process plan for machin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CNC tool paths for part manufactur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erform dimensional inspec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a macro process plan for forging operation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reate Request for Quote from customer to forging shop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ing geometry data as the core keeps all other data in synch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the part geometry to be the container for adding additional product data requirement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ding/Upset For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1143000"/>
            <a:ext cx="6934320" cy="17524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deal deformation of a solid cylindrical specimen compressed </a:t>
            </a:r>
            <a:br>
              <a:rPr sz="1800"/>
            </a:b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etween flat frictionless dies. </a:t>
            </a:r>
            <a:br>
              <a:rPr sz="1800"/>
            </a:b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024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ll For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7400" y="1219320"/>
            <a:ext cx="6553080" cy="2590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Multiple Roll forging dies are needed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to create multiple impressions 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of several intermediate shapes.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Allowable flash amount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Die temperature range (amount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Of pre-heat temperature for the die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86122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ng Roll For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57400" y="1219320"/>
            <a:ext cx="6553080" cy="2590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Multiple Roll forging dies are needed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to create multiple impressions 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of several intermediate shapes.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Allowable flash amount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Die temperature range (amount</a:t>
            </a:r>
            <a:br>
              <a:rPr sz="1400"/>
            </a:b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Arial"/>
              </a:rPr>
              <a:t>Of pre-heat temperature for the die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39304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tary For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1143000"/>
            <a:ext cx="6934320" cy="20574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he die is in contact with only a portion of the workpiece surfac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Used for forming bevel gears, wheels, and bearing rings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657600" y="3484440"/>
            <a:ext cx="51814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tary swag For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52480" y="1143000"/>
            <a:ext cx="6934320" cy="20574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46483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tr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52480" y="1143000"/>
            <a:ext cx="6934320" cy="17524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4572000" cy="1863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114800" y="4648320"/>
            <a:ext cx="458316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2480" y="1143000"/>
            <a:ext cx="6934320" cy="17524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66834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der for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152280"/>
            <a:ext cx="1676520" cy="165600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5200" y="53352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1143000"/>
            <a:ext cx="6934320" cy="17524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7240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ing PL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241600">
            <a:off x="1077480" y="20808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0f0f0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219320"/>
            <a:ext cx="1665360" cy="1655640"/>
          </a:xfrm>
          <a:prstGeom prst="ellipse">
            <a:avLst/>
          </a:prstGeom>
          <a:gradFill rotWithShape="0">
            <a:gsLst>
              <a:gs pos="0">
                <a:srgbClr val="7028c0"/>
              </a:gs>
              <a:gs pos="100000">
                <a:srgbClr val="4a1a7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2286000"/>
            <a:ext cx="1676160" cy="165564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038480"/>
            <a:ext cx="1676520" cy="1600200"/>
          </a:xfrm>
          <a:prstGeom prst="ellipse">
            <a:avLst/>
          </a:prstGeom>
          <a:gradFill rotWithShape="0">
            <a:gsLst>
              <a:gs pos="0">
                <a:srgbClr val="87a3e9"/>
              </a:gs>
              <a:gs pos="100000">
                <a:srgbClr val="596c9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657600"/>
            <a:ext cx="1752480" cy="1655640"/>
          </a:xfrm>
          <a:prstGeom prst="ellipse">
            <a:avLst/>
          </a:prstGeom>
          <a:gradFill rotWithShape="0">
            <a:gsLst>
              <a:gs pos="0">
                <a:srgbClr val="90b54d"/>
              </a:gs>
              <a:gs pos="100000">
                <a:srgbClr val="5f78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066680"/>
            <a:ext cx="1752480" cy="1656000"/>
          </a:xfrm>
          <a:prstGeom prst="ellipse">
            <a:avLst/>
          </a:prstGeom>
          <a:gradFill rotWithShape="0">
            <a:gsLst>
              <a:gs pos="0">
                <a:srgbClr val="d3d35f"/>
              </a:gs>
              <a:gs pos="100000">
                <a:srgbClr val="61612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2240" y="26668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08160" y="15238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stome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g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quireme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01720" y="167652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D drawing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72280" y="403848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FEA)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3160" y="44956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pec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AP219)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819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a23c"/>
                </a:solidFill>
                <a:latin typeface="Arial"/>
              </a:rPr>
              <a:t>Part Geometry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267080"/>
            <a:ext cx="1676160" cy="16002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89640" y="472428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chin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AP238)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4419720"/>
            <a:ext cx="1752840" cy="1655640"/>
          </a:xfrm>
          <a:prstGeom prst="ellipse">
            <a:avLst/>
          </a:prstGeom>
          <a:gradFill rotWithShape="0">
            <a:gsLst>
              <a:gs pos="0">
                <a:srgbClr val="90b54d"/>
              </a:gs>
              <a:gs pos="100000">
                <a:srgbClr val="5f78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33000" y="4952880"/>
            <a:ext cx="18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cro plann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machin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AP240)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095880"/>
            <a:ext cx="769608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714a1b"/>
              </a:gs>
              <a:gs pos="50000">
                <a:srgbClr val="f6a23c"/>
              </a:gs>
              <a:gs pos="100000">
                <a:srgbClr val="714a1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D Part Geometry core to all forging workflow data 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3120" cy="1981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553080" y="2362320"/>
            <a:ext cx="1676520" cy="16002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56120" y="281952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chin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AP238)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800600" y="5410080"/>
            <a:ext cx="259092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838080" y="4267080"/>
            <a:ext cx="1513080" cy="1511280"/>
            <a:chOff x="838080" y="4267080"/>
            <a:chExt cx="1513080" cy="1511280"/>
          </a:xfrm>
        </p:grpSpPr>
        <p:sp>
          <p:nvSpPr>
            <p:cNvPr id="152" name=""/>
            <p:cNvSpPr/>
            <p:nvPr/>
          </p:nvSpPr>
          <p:spPr>
            <a:xfrm>
              <a:off x="83808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0b54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87a3e9"/>
                </a:gs>
                <a:gs pos="100000">
                  <a:srgbClr val="aabee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37080" y="43657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d6129"/>
                </a:gs>
                <a:gs pos="50000">
                  <a:srgbClr val="90b54d"/>
                </a:gs>
                <a:gs pos="100000">
                  <a:srgbClr val="4d61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37080" y="43657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14e70"/>
                </a:gs>
                <a:gs pos="100000">
                  <a:srgbClr val="87a3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02960" y="44316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3e4b6b"/>
                </a:gs>
                <a:gs pos="100000">
                  <a:srgbClr val="87a3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Geometry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63760" y="255600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0c0c0"/>
              </a:gs>
              <a:gs pos="100000">
                <a:srgbClr val="e9e9e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229 contains geometry for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ultiple product data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Required to forge a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86320" y="4280040"/>
            <a:ext cx="1512720" cy="1511280"/>
            <a:chOff x="4486320" y="4280040"/>
            <a:chExt cx="1512720" cy="1511280"/>
          </a:xfrm>
        </p:grpSpPr>
        <p:sp>
          <p:nvSpPr>
            <p:cNvPr id="160" name=""/>
            <p:cNvSpPr/>
            <p:nvPr/>
          </p:nvSpPr>
          <p:spPr>
            <a:xfrm>
              <a:off x="448632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67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8632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3167d3"/>
                </a:gs>
                <a:gs pos="100000">
                  <a:srgbClr val="88a7e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8532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a3771"/>
                </a:gs>
                <a:gs pos="50000">
                  <a:srgbClr val="3167d3"/>
                </a:gs>
                <a:gs pos="100000">
                  <a:srgbClr val="1a37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532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73166"/>
                </a:gs>
                <a:gs pos="100000">
                  <a:srgbClr val="3167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51200" y="44445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162f61"/>
                </a:gs>
                <a:gs pos="100000">
                  <a:srgbClr val="3167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359400" y="4280040"/>
            <a:ext cx="1513080" cy="1511280"/>
            <a:chOff x="6359400" y="4280040"/>
            <a:chExt cx="1513080" cy="1511280"/>
          </a:xfrm>
        </p:grpSpPr>
        <p:sp>
          <p:nvSpPr>
            <p:cNvPr id="166" name=""/>
            <p:cNvSpPr/>
            <p:nvPr/>
          </p:nvSpPr>
          <p:spPr>
            <a:xfrm>
              <a:off x="635940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6a23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5940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6a23c"/>
                </a:gs>
                <a:gs pos="100000">
                  <a:srgbClr val="f8c0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58400" y="43786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845720"/>
                </a:gs>
                <a:gs pos="50000">
                  <a:srgbClr val="f6a23c"/>
                </a:gs>
                <a:gs pos="100000">
                  <a:srgbClr val="84572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58400" y="43786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774e1d"/>
                </a:gs>
                <a:gs pos="100000">
                  <a:srgbClr val="f6a23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24280" y="444456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714a1b"/>
                </a:gs>
                <a:gs pos="100000">
                  <a:srgbClr val="f6a2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687760" y="4280040"/>
            <a:ext cx="1512720" cy="1511280"/>
            <a:chOff x="2687760" y="4280040"/>
            <a:chExt cx="1512720" cy="1511280"/>
          </a:xfrm>
        </p:grpSpPr>
        <p:sp>
          <p:nvSpPr>
            <p:cNvPr id="172" name=""/>
            <p:cNvSpPr/>
            <p:nvPr/>
          </p:nvSpPr>
          <p:spPr>
            <a:xfrm>
              <a:off x="26877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0b54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877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90b54d"/>
                </a:gs>
                <a:gs pos="100000">
                  <a:srgbClr val="b0ca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8676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d6129"/>
                </a:gs>
                <a:gs pos="50000">
                  <a:srgbClr val="90b54d"/>
                </a:gs>
                <a:gs pos="100000">
                  <a:srgbClr val="4d61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8676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55725"/>
                </a:gs>
                <a:gs pos="100000">
                  <a:srgbClr val="90b5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52640" y="44445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425323"/>
                </a:gs>
                <a:gs pos="100000">
                  <a:srgbClr val="90b5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05120" y="19177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b54d"/>
              </a:gs>
              <a:gs pos="50000">
                <a:srgbClr val="e3ecd2"/>
              </a:gs>
              <a:gs pos="100000">
                <a:srgbClr val="90b54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a1a70"/>
                </a:solidFill>
                <a:latin typeface="Arial"/>
              </a:rPr>
              <a:t>Part Geometry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5880" y="4724280"/>
            <a:ext cx="8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7160" y="48006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0280" y="464832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ed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56320" y="48006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 lin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Geometry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18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59400" y="32767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540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3418800">
            <a:off x="1321920" y="2008080"/>
            <a:ext cx="923760" cy="1003320"/>
          </a:xfrm>
          <a:prstGeom prst="rect">
            <a:avLst/>
          </a:prstGeom>
          <a:gradFill rotWithShape="0">
            <a:gsLst>
              <a:gs pos="0">
                <a:srgbClr val="90b54d"/>
              </a:gs>
              <a:gs pos="100000">
                <a:srgbClr val="425323"/>
              </a:gs>
            </a:gsLst>
            <a:lin ang="198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286000" y="2179800"/>
            <a:ext cx="933120" cy="131760"/>
            <a:chOff x="2286000" y="2179800"/>
            <a:chExt cx="933120" cy="131760"/>
          </a:xfrm>
        </p:grpSpPr>
        <p:sp>
          <p:nvSpPr>
            <p:cNvPr id="190" name=""/>
            <p:cNvSpPr/>
            <p:nvPr/>
          </p:nvSpPr>
          <p:spPr>
            <a:xfrm>
              <a:off x="228600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7528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7764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5360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 rot="3418800">
            <a:off x="3043800" y="1940400"/>
            <a:ext cx="924120" cy="1005120"/>
          </a:xfrm>
          <a:prstGeom prst="rect">
            <a:avLst/>
          </a:prstGeom>
          <a:solidFill>
            <a:srgbClr val="3167d3"/>
          </a:soli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008600" y="2179800"/>
            <a:ext cx="931320" cy="131760"/>
            <a:chOff x="4008600" y="2179800"/>
            <a:chExt cx="931320" cy="131760"/>
          </a:xfrm>
        </p:grpSpPr>
        <p:sp>
          <p:nvSpPr>
            <p:cNvPr id="196" name=""/>
            <p:cNvSpPr/>
            <p:nvPr/>
          </p:nvSpPr>
          <p:spPr>
            <a:xfrm>
              <a:off x="4008600" y="217980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97880" y="2180880"/>
              <a:ext cx="772560" cy="130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98800" y="218196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440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 rot="3418800">
            <a:off x="4692960" y="1940760"/>
            <a:ext cx="924120" cy="1004760"/>
          </a:xfrm>
          <a:prstGeom prst="rect">
            <a:avLst/>
          </a:prstGeom>
          <a:gradFill rotWithShape="0">
            <a:gsLst>
              <a:gs pos="0">
                <a:srgbClr val="90b54d"/>
              </a:gs>
              <a:gs pos="100000">
                <a:srgbClr val="425323"/>
              </a:gs>
            </a:gsLst>
            <a:lin ang="198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729400" y="2179800"/>
            <a:ext cx="1218240" cy="131760"/>
            <a:chOff x="5729400" y="2179800"/>
            <a:chExt cx="1218240" cy="131760"/>
          </a:xfrm>
        </p:grpSpPr>
        <p:sp>
          <p:nvSpPr>
            <p:cNvPr id="202" name=""/>
            <p:cNvSpPr/>
            <p:nvPr/>
          </p:nvSpPr>
          <p:spPr>
            <a:xfrm>
              <a:off x="5729400" y="21798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46040" y="21808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62960" y="21819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2320" y="22230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 rot="3418800">
            <a:off x="6414480" y="1941480"/>
            <a:ext cx="924120" cy="1003320"/>
          </a:xfrm>
          <a:prstGeom prst="rect">
            <a:avLst/>
          </a:prstGeom>
          <a:solidFill>
            <a:srgbClr val="3167d3"/>
          </a:soli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98880" y="2133720"/>
            <a:ext cx="11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6600" y="220968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ed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97000" y="23004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0360" y="21337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 lin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3603600"/>
            <a:ext cx="1511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Product data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For finished forged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Part: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Geometry &amp; Topology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GD&amp;T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Machining features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95120" y="3657600"/>
            <a:ext cx="156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Product data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For forging the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Part: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Parting line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Draft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Machine allowance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21400" y="3657600"/>
            <a:ext cx="1541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Product data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For tooling to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Forge the part: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Impression die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Die material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Die characteristics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Die blocks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Part ejectors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Parting surface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Die draft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98640" y="3505320"/>
            <a:ext cx="1396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Product data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For part proposed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changes. Markup 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a1a70"/>
                </a:solidFill>
                <a:latin typeface="Arial"/>
              </a:rPr>
              <a:t>For change to: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Shape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a1a7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Geometry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1676520"/>
            <a:ext cx="4572000" cy="4495680"/>
          </a:xfrm>
          <a:prstGeom prst="ellipse">
            <a:avLst/>
          </a:prstGeom>
          <a:gradFill rotWithShape="0">
            <a:gsLst>
              <a:gs pos="0">
                <a:srgbClr val="f6a23c"/>
              </a:gs>
              <a:gs pos="100000">
                <a:srgbClr val="a36b2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36080" y="2898720"/>
            <a:ext cx="321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Designed part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Forged part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Forged part with flash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Red line part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Tooling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2000" y="22464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Contained in one fil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2666880"/>
            <a:ext cx="152388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429000" y="2971800"/>
            <a:ext cx="1752480" cy="1655640"/>
          </a:xfrm>
          <a:prstGeom prst="ellipse">
            <a:avLst/>
          </a:prstGeom>
          <a:gradFill rotWithShape="0">
            <a:gsLst>
              <a:gs pos="0">
                <a:srgbClr val="f6a23c"/>
              </a:gs>
              <a:gs pos="100000">
                <a:srgbClr val="a36b2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2666880"/>
            <a:ext cx="1752480" cy="1656000"/>
          </a:xfrm>
          <a:prstGeom prst="ellipse">
            <a:avLst/>
          </a:prstGeom>
          <a:gradFill rotWithShape="0">
            <a:gsLst>
              <a:gs pos="0">
                <a:srgbClr val="90b54d"/>
              </a:gs>
              <a:gs pos="100000">
                <a:srgbClr val="5f78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Geometry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31880" y="3581280"/>
            <a:ext cx="16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Designed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914400" cy="324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9144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783480" y="3276720"/>
            <a:ext cx="14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Forged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1143000"/>
            <a:ext cx="1676160" cy="1655640"/>
          </a:xfrm>
          <a:prstGeom prst="ellipse">
            <a:avLst/>
          </a:prstGeom>
          <a:gradFill rotWithShape="0">
            <a:gsLst>
              <a:gs pos="0">
                <a:srgbClr val="3167d3"/>
              </a:gs>
              <a:gs pos="100000">
                <a:srgbClr val="2044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4800600"/>
            <a:ext cx="1676160" cy="1600200"/>
          </a:xfrm>
          <a:prstGeom prst="ellipse">
            <a:avLst/>
          </a:prstGeom>
          <a:gradFill rotWithShape="0">
            <a:gsLst>
              <a:gs pos="0">
                <a:srgbClr val="fd778a"/>
              </a:gs>
              <a:gs pos="100000">
                <a:srgbClr val="7436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4952880"/>
            <a:ext cx="1676520" cy="16002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469240" y="4390560"/>
            <a:ext cx="1462320" cy="1067400"/>
            <a:chOff x="2469240" y="4390560"/>
            <a:chExt cx="1462320" cy="1067400"/>
          </a:xfrm>
        </p:grpSpPr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 rot="19923000">
              <a:off x="2491560" y="4938840"/>
              <a:ext cx="91440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4"/>
            <a:stretch/>
          </p:blipFill>
          <p:spPr>
            <a:xfrm rot="19923000">
              <a:off x="2994120" y="4586040"/>
              <a:ext cx="9144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1069560" y="5334120"/>
            <a:ext cx="15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 line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804200" y="4146840"/>
            <a:ext cx="1306440" cy="1307880"/>
            <a:chOff x="4804200" y="4146840"/>
            <a:chExt cx="1306440" cy="1307880"/>
          </a:xfrm>
        </p:grpSpPr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 rot="2920200">
              <a:off x="4770360" y="4435200"/>
              <a:ext cx="91440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 rot="2920200">
              <a:off x="5229720" y="4842000"/>
              <a:ext cx="9144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"/>
          <p:cNvSpPr/>
          <p:nvPr/>
        </p:nvSpPr>
        <p:spPr>
          <a:xfrm>
            <a:off x="6174360" y="548640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Forged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with flash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18200" y="2013480"/>
            <a:ext cx="1306440" cy="1307880"/>
            <a:chOff x="2518200" y="2013480"/>
            <a:chExt cx="1306440" cy="1307880"/>
          </a:xfrm>
        </p:grpSpPr>
        <p:pic>
          <p:nvPicPr>
            <p:cNvPr id="241" name="" descr=""/>
            <p:cNvPicPr/>
            <p:nvPr/>
          </p:nvPicPr>
          <p:blipFill>
            <a:blip r:embed="rId7"/>
            <a:stretch/>
          </p:blipFill>
          <p:spPr>
            <a:xfrm rot="2920200">
              <a:off x="2484360" y="2301840"/>
              <a:ext cx="91440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8"/>
            <a:stretch/>
          </p:blipFill>
          <p:spPr>
            <a:xfrm rot="2920200">
              <a:off x="2943720" y="2708640"/>
              <a:ext cx="9144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"/>
          <p:cNvSpPr/>
          <p:nvPr/>
        </p:nvSpPr>
        <p:spPr>
          <a:xfrm>
            <a:off x="1526400" y="1676520"/>
            <a:ext cx="10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46280" y="1560600"/>
            <a:ext cx="31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References to files containing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ther Forging data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943600" y="2286000"/>
            <a:ext cx="53352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47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part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52280"/>
            <a:ext cx="1752840" cy="1656000"/>
          </a:xfrm>
          <a:prstGeom prst="ellipse">
            <a:avLst/>
          </a:prstGeom>
          <a:gradFill rotWithShape="0">
            <a:gsLst>
              <a:gs pos="0">
                <a:srgbClr val="f6a23c"/>
              </a:gs>
              <a:gs pos="100000">
                <a:srgbClr val="a36b2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2200" y="8380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par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335480" y="2971800"/>
            <a:ext cx="4808520" cy="3789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38080" y="3124080"/>
            <a:ext cx="3124440" cy="3353040"/>
          </a:xfrm>
          <a:custGeom>
            <a:avLst/>
            <a:gdLst>
              <a:gd name="textAreaLeft" fmla="*/ 125640 w 3124440"/>
              <a:gd name="textAreaRight" fmla="*/ 2998800 w 3124440"/>
              <a:gd name="textAreaTop" fmla="*/ 125640 h 3353040"/>
              <a:gd name="textAreaBottom" fmla="*/ 3227400 h 3353040"/>
            </a:gdLst>
            <a:ahLst/>
            <a:rect l="textAreaLeft" t="textAreaTop" r="textAreaRight" b="textAreaBottom"/>
            <a:pathLst>
              <a:path w="21600" h="23180">
                <a:moveTo>
                  <a:pt x="2969" y="0"/>
                </a:moveTo>
                <a:arcTo wR="2969" hR="2969" stAng="16200000" swAng="-5400000"/>
                <a:lnTo>
                  <a:pt x="0" y="20211"/>
                </a:lnTo>
                <a:arcTo wR="2969" hR="2969" stAng="10800000" swAng="-5400000"/>
                <a:lnTo>
                  <a:pt x="18631" y="2318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opolog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Dimensional toleranc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Geometric Toleranc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art inform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Revis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0:16:21Z</dcterms:created>
  <dc:creator>Len Slovensky</dc:creator>
  <dc:description/>
  <cp:keywords/>
  <dc:language>en-US</dc:language>
  <cp:lastModifiedBy>Len Slovensky</cp:lastModifiedBy>
  <dcterms:modified xsi:type="dcterms:W3CDTF">2007-03-27T10:09:25Z</dcterms:modified>
  <cp:revision>23</cp:revision>
  <dc:subject/>
  <dc:title>Forging Product Lifecycle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91033</vt:lpwstr>
  </property>
</Properties>
</file>