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TC184/SC4/WG3 Funchal N000 2007-03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FF33C2AB-C9A9-4994-A707-1108DA5FA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7164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6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Hers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DIS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-NC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Func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29 Forgings Walth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-NC Edition 2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Func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2006-10-23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M for Digital 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&amp;T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2006-10-24, 080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29 Walk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SC1/Wg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Func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6-10-25, 103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SC1/Wg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 demon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, 2006-10-26, 080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ition of ISO 146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dtion of AP-2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14649-110 Machine Too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Martin Hardwick</cp:lastModifiedBy>
  <cp:lastPrinted>1999-06-02T13:49:47Z</cp:lastPrinted>
  <dcterms:modified xsi:type="dcterms:W3CDTF">2007-03-25T20:28:28Z</dcterms:modified>
  <cp:revision>152</cp:revision>
  <dc:subject/>
  <dc:title>WG3 Presentation to SC4 Opening Plenary</dc:title>
</cp:coreProperties>
</file>