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1DC1-D959-4779-8CE0-1953BBBF2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F6B2-7538-4177-AEF5-BBFF8CFAF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6A87-F175-4818-B30D-9ED05D4C1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A7F8-7290-48F7-B56E-7A1A6C7C2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D9FB-438D-41F6-9406-A73D99E9B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BDEA-A208-46A2-8AAF-DB7FAD456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48F4-3534-4F9F-B07E-8BD710DF7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05FF-B5E6-461F-892F-53B63247F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40B7-215F-47C3-B8D9-581231723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752A-BBDE-4E35-A72B-2DEA70948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04AC-927F-490E-B1B7-E7743B607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639E-FF14-4BE0-A8E1-165F2AC8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F401A-E70E-469F-A82C-FFB0D0FB81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e and store common PDM information for STEP Manufacturing AP’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ent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attrib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s for usage across the life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sh as EXPRESS model and XML Sch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on Backbone Ent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 revision/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 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wner – contact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val – date and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ty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ata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ata dest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le of usag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u shall not trash the previous AP’s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3 geometry shall not be changed by downstream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4 features &amp; GD&amp;T shall not be changed by downstream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stream PDM data shall not be chan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04240" y="5491080"/>
            <a:ext cx="9410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-2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74080" y="5491080"/>
            <a:ext cx="9410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-2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02880" y="5491080"/>
            <a:ext cx="9410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-2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27120" y="5491080"/>
            <a:ext cx="9410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-2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551000" y="5491080"/>
            <a:ext cx="9410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-2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7" idx="3"/>
            <a:endCxn id="48" idx="1"/>
          </p:cNvCxnSpPr>
          <p:nvPr/>
        </p:nvCxnSpPr>
        <p:spPr>
          <a:xfrm>
            <a:off x="1752480" y="567972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3" name=""/>
          <p:cNvCxnSpPr>
            <a:stCxn id="48" idx="3"/>
            <a:endCxn id="49" idx="1"/>
          </p:cNvCxnSpPr>
          <p:nvPr/>
        </p:nvCxnSpPr>
        <p:spPr>
          <a:xfrm>
            <a:off x="3622320" y="5679720"/>
            <a:ext cx="87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4" name=""/>
          <p:cNvCxnSpPr>
            <a:stCxn id="49" idx="3"/>
            <a:endCxn id="50" idx="1"/>
          </p:cNvCxnSpPr>
          <p:nvPr/>
        </p:nvCxnSpPr>
        <p:spPr>
          <a:xfrm>
            <a:off x="5451120" y="5679720"/>
            <a:ext cx="568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5" name=""/>
          <p:cNvCxnSpPr>
            <a:stCxn id="50" idx="3"/>
            <a:endCxn id="51" idx="1"/>
          </p:cNvCxnSpPr>
          <p:nvPr/>
        </p:nvCxnSpPr>
        <p:spPr>
          <a:xfrm>
            <a:off x="6975000" y="5679720"/>
            <a:ext cx="568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le of Usag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upstream application that changes data shall alert the downstream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metry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DM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upstream application shall create the new data as a new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le of Usage 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ownstream application may request changes to the upstream data by redlining/markup of the upstream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rule #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le of Usage #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ata path shall be docume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115080" y="569880"/>
            <a:ext cx="966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4600" y="1828800"/>
            <a:ext cx="7142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df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68840" y="838080"/>
            <a:ext cx="7142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df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29440" y="3313080"/>
            <a:ext cx="9410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3 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1800" y="3352680"/>
            <a:ext cx="9410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4 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29840" y="3389400"/>
            <a:ext cx="9410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0 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645880" y="3429000"/>
            <a:ext cx="9410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8 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"/>
          <p:cNvCxnSpPr>
            <a:stCxn id="65" idx="0"/>
            <a:endCxn id="63" idx="1"/>
          </p:cNvCxnSpPr>
          <p:nvPr/>
        </p:nvCxnSpPr>
        <p:spPr>
          <a:xfrm flipH="1" flipV="1" rot="5400000">
            <a:off x="1391040" y="1926000"/>
            <a:ext cx="1296000" cy="14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6" idx="0"/>
            <a:endCxn id="63" idx="2"/>
          </p:cNvCxnSpPr>
          <p:nvPr/>
        </p:nvCxnSpPr>
        <p:spPr>
          <a:xfrm flipH="1" flipV="1" rot="5400000">
            <a:off x="2493000" y="2703960"/>
            <a:ext cx="1148040" cy="150120"/>
          </a:xfrm>
          <a:prstGeom prst="bentConnector3">
            <a:avLst>
              <a:gd name="adj1" fmla="val 500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67" idx="0"/>
            <a:endCxn id="63" idx="2"/>
          </p:cNvCxnSpPr>
          <p:nvPr/>
        </p:nvCxnSpPr>
        <p:spPr>
          <a:xfrm flipV="1" rot="16200000">
            <a:off x="3228480" y="2117160"/>
            <a:ext cx="1185120" cy="1359720"/>
          </a:xfrm>
          <a:prstGeom prst="bentConnector3">
            <a:avLst>
              <a:gd name="adj1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"/>
          <p:cNvCxnSpPr>
            <a:stCxn id="68" idx="0"/>
            <a:endCxn id="63" idx="2"/>
          </p:cNvCxnSpPr>
          <p:nvPr/>
        </p:nvCxnSpPr>
        <p:spPr>
          <a:xfrm flipV="1" rot="16200000">
            <a:off x="4016880" y="1328760"/>
            <a:ext cx="1224720" cy="2975760"/>
          </a:xfrm>
          <a:prstGeom prst="bentConnector3">
            <a:avLst>
              <a:gd name="adj1" fmla="val 5004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63" idx="0"/>
            <a:endCxn id="62" idx="2"/>
          </p:cNvCxnSpPr>
          <p:nvPr/>
        </p:nvCxnSpPr>
        <p:spPr>
          <a:xfrm flipH="1" flipV="1" rot="5400000">
            <a:off x="2928600" y="1158480"/>
            <a:ext cx="883440" cy="457920"/>
          </a:xfrm>
          <a:prstGeom prst="bentConnector3">
            <a:avLst>
              <a:gd name="adj1" fmla="val 49979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4" name=""/>
          <p:cNvCxnSpPr>
            <a:stCxn id="64" idx="1"/>
            <a:endCxn id="62" idx="3"/>
          </p:cNvCxnSpPr>
          <p:nvPr/>
        </p:nvCxnSpPr>
        <p:spPr>
          <a:xfrm rot="10800000">
            <a:off x="4088520" y="758160"/>
            <a:ext cx="1474200" cy="2689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246080" y="3429000"/>
            <a:ext cx="9410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9 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75" idx="0"/>
            <a:endCxn id="63" idx="2"/>
          </p:cNvCxnSpPr>
          <p:nvPr/>
        </p:nvCxnSpPr>
        <p:spPr>
          <a:xfrm flipV="1" rot="16200000">
            <a:off x="4816800" y="528840"/>
            <a:ext cx="1224720" cy="4575960"/>
          </a:xfrm>
          <a:prstGeom prst="bentConnector3">
            <a:avLst>
              <a:gd name="adj1" fmla="val 5004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598680" y="4456080"/>
            <a:ext cx="389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document a red-line vers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document pat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115080" y="152280"/>
            <a:ext cx="966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84600" y="1258920"/>
            <a:ext cx="7142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df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568840" y="420840"/>
            <a:ext cx="7142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df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"/>
          <p:cNvCxnSpPr>
            <a:stCxn id="79" idx="0"/>
            <a:endCxn id="78" idx="2"/>
          </p:cNvCxnSpPr>
          <p:nvPr/>
        </p:nvCxnSpPr>
        <p:spPr>
          <a:xfrm flipH="1" flipV="1" rot="5400000">
            <a:off x="3004920" y="664560"/>
            <a:ext cx="731160" cy="4579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80" idx="1"/>
            <a:endCxn id="78" idx="3"/>
          </p:cNvCxnSpPr>
          <p:nvPr/>
        </p:nvCxnSpPr>
        <p:spPr>
          <a:xfrm rot="10800000">
            <a:off x="4088520" y="340560"/>
            <a:ext cx="1474200" cy="2689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921600" y="2401920"/>
            <a:ext cx="12780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3 -&gt; 2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 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902680" y="2401920"/>
            <a:ext cx="12780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3 -&gt; 2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036400" y="2401920"/>
            <a:ext cx="12780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4 -&gt; 2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 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69760" y="2401920"/>
            <a:ext cx="12780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4 -&gt; 2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>
            <a:stCxn id="83" idx="0"/>
            <a:endCxn id="79" idx="2"/>
          </p:cNvCxnSpPr>
          <p:nvPr/>
        </p:nvCxnSpPr>
        <p:spPr>
          <a:xfrm flipH="1" flipV="1" rot="5400000">
            <a:off x="1967400" y="1227600"/>
            <a:ext cx="767520" cy="1581840"/>
          </a:xfrm>
          <a:prstGeom prst="bentConnector3">
            <a:avLst>
              <a:gd name="adj1" fmla="val 50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84" idx="0"/>
            <a:endCxn id="79" idx="2"/>
          </p:cNvCxnSpPr>
          <p:nvPr/>
        </p:nvCxnSpPr>
        <p:spPr>
          <a:xfrm flipV="1" rot="16200000">
            <a:off x="2957760" y="1818000"/>
            <a:ext cx="767520" cy="400680"/>
          </a:xfrm>
          <a:prstGeom prst="bentConnector3">
            <a:avLst>
              <a:gd name="adj1" fmla="val 50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"/>
          <p:cNvCxnSpPr>
            <a:stCxn id="85" idx="0"/>
            <a:endCxn id="79" idx="2"/>
          </p:cNvCxnSpPr>
          <p:nvPr/>
        </p:nvCxnSpPr>
        <p:spPr>
          <a:xfrm flipV="1" rot="16200000">
            <a:off x="4024800" y="750960"/>
            <a:ext cx="767520" cy="2534400"/>
          </a:xfrm>
          <a:prstGeom prst="bentConnector3">
            <a:avLst>
              <a:gd name="adj1" fmla="val 50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86" idx="0"/>
            <a:endCxn id="79" idx="2"/>
          </p:cNvCxnSpPr>
          <p:nvPr/>
        </p:nvCxnSpPr>
        <p:spPr>
          <a:xfrm flipV="1" rot="16200000">
            <a:off x="5091480" y="-315720"/>
            <a:ext cx="767520" cy="4667760"/>
          </a:xfrm>
          <a:prstGeom prst="bentConnector3">
            <a:avLst>
              <a:gd name="adj1" fmla="val 50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1527840" y="4406760"/>
            <a:ext cx="2221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ort 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 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line/markup P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Flow 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67040" y="4065480"/>
            <a:ext cx="3835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P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c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wner (requi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val (option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/time (requi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 (option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ftware system (requi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 line (ac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 line (conseque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00680" y="3465360"/>
            <a:ext cx="662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  <a:endCxn id="83" idx="2"/>
          </p:cNvCxnSpPr>
          <p:nvPr/>
        </p:nvCxnSpPr>
        <p:spPr>
          <a:xfrm rot="10800000">
            <a:off x="1559880" y="3052080"/>
            <a:ext cx="633960" cy="602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93" idx="3"/>
            <a:endCxn id="84" idx="2"/>
          </p:cNvCxnSpPr>
          <p:nvPr/>
        </p:nvCxnSpPr>
        <p:spPr>
          <a:xfrm flipV="1">
            <a:off x="2869920" y="3052080"/>
            <a:ext cx="672120" cy="602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tin Hardwick</cp:lastModifiedBy>
  <dcterms:modified xsi:type="dcterms:W3CDTF">2007-03-30T10:28:02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