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433-4844-4862-B64B-0CF8B620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306-7326-4AF6-BFA7-FB023CA6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DFF-3FAF-487C-BBFA-11E306BB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040-5DF2-41AD-B35F-DE4E3EFD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E2D-5F1B-4CA4-AC4B-533566F1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4D1-1A0C-4929-B24C-CD15A72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AFF-4954-4B27-809D-10BBA7A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036-F8C5-4601-A316-44562D2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A7B-BF09-4F3C-8AF5-0AC6595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6D0-7019-4D1B-8631-919389D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9AE-47B3-4ED6-80A6-A630976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2AD-C3F8-4F82-AED1-334A80E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CB6-DDF6-404F-80EE-FB4620B84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990720"/>
          <a:ext cx="6257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990720"/>
                    <a:ext cx="6257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332000" y="2852640"/>
            <a:ext cx="2401920" cy="1338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867280" y="914400"/>
            <a:ext cx="1981440" cy="2743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844640"/>
            <a:ext cx="3066840" cy="1050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907920"/>
            <a:ext cx="561960" cy="1911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914400"/>
            <a:ext cx="1447920" cy="259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116000" y="4495320"/>
            <a:ext cx="216072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2895480"/>
            <a:ext cx="685800" cy="457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3352680"/>
            <a:ext cx="68580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95880" y="907920"/>
            <a:ext cx="852480" cy="175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952880" y="25146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15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losed_pock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ide ▽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1700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59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15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72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l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159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quare_U_profile Side 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2637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4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quare_U_profile Side 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300640"/>
            <a:ext cx="914400" cy="380880"/>
          </a:xfrm>
          <a:prstGeom prst="wedgeRectCallout">
            <a:avLst>
              <a:gd name="adj1" fmla="val -96180"/>
              <a:gd name="adj2" fmla="val -1587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5516640"/>
            <a:ext cx="914400" cy="380880"/>
          </a:xfrm>
          <a:prstGeom prst="wedgeRectCallout">
            <a:avLst>
              <a:gd name="adj1" fmla="val 103300"/>
              <a:gd name="adj2" fmla="val -2054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191120"/>
            <a:ext cx="914400" cy="380880"/>
          </a:xfrm>
          <a:prstGeom prst="wedgeRectCallout">
            <a:avLst>
              <a:gd name="adj1" fmla="val -4166"/>
              <a:gd name="adj2" fmla="val -15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2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03640" y="3573000"/>
            <a:ext cx="1405080" cy="90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557360"/>
            <a:ext cx="1992600" cy="1623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609300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4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Through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762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7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64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6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80480" y="23432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5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27280" y="4933800"/>
            <a:ext cx="1238400" cy="1159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142040" y="2495520"/>
            <a:ext cx="91440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765000"/>
            <a:ext cx="135000" cy="10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076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4 (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58920" y="4149720"/>
            <a:ext cx="115236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08360" y="5467320"/>
            <a:ext cx="81000" cy="625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332000" y="4797000"/>
            <a:ext cx="180000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0480" y="5238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4 (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797000"/>
            <a:ext cx="2192400" cy="59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516640"/>
            <a:ext cx="11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6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189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2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5.0), Flat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620640"/>
            <a:ext cx="123336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0" y="609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3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860720" y="4781520"/>
            <a:ext cx="934920" cy="145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5000"/>
            <a:ext cx="232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7 (BELL.SHOL.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Bell mouth                Hole (16.0), Flat,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5.0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32760" y="4400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8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6093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3 (T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PT1/4, P=1.3368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0.0), Flat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3789360"/>
            <a:ext cx="151920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5920"/>
            <a:ext cx="22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Part-B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447920" y="990720"/>
          <a:ext cx="60958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6095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410080" y="5181480"/>
            <a:ext cx="914400" cy="381240"/>
          </a:xfrm>
          <a:prstGeom prst="wedgeRectCallout">
            <a:avLst>
              <a:gd name="adj1" fmla="val -84203"/>
              <a:gd name="adj2" fmla="val -22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NE_5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581280"/>
            <a:ext cx="914400" cy="381240"/>
          </a:xfrm>
          <a:prstGeom prst="wedgeRectCallout">
            <a:avLst>
              <a:gd name="adj1" fmla="val 125175"/>
              <a:gd name="adj2" fmla="val -1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66680" y="4571640"/>
            <a:ext cx="160020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2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95280" y="4038120"/>
            <a:ext cx="762120" cy="762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181480"/>
            <a:ext cx="75960" cy="695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790960" y="4267080"/>
            <a:ext cx="1228680" cy="160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87700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1 (TTAP.S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PT1/4, P=1.3368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0.0), Flat                    Hole (  8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0536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5 (THOL.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(20.0), 90 deg    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6, P=2.0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805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3 (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6, P=2.0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924000" y="3165480"/>
            <a:ext cx="576360" cy="334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24000" y="2637000"/>
            <a:ext cx="576360" cy="5284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2421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8080" y="1946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00720" y="23274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Part-B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332000" y="981000"/>
          <a:ext cx="6324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81000"/>
                    <a:ext cx="6324480" cy="49593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V="1">
            <a:off x="4427640" y="2781360"/>
            <a:ext cx="649080" cy="42696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50920" y="2708280"/>
            <a:ext cx="576360" cy="50472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249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349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1000" y="398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284360" y="3860280"/>
            <a:ext cx="647640" cy="252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895480"/>
            <a:ext cx="99036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00360" y="3428640"/>
            <a:ext cx="136692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836640"/>
            <a:ext cx="152280" cy="1906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410080" y="4190760"/>
            <a:ext cx="1828800" cy="19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828800"/>
            <a:ext cx="2489040" cy="1528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952520" y="1844640"/>
            <a:ext cx="2714760" cy="1355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371600"/>
            <a:ext cx="259092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76560" y="404640"/>
            <a:ext cx="919080" cy="1271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800600" y="3962520"/>
            <a:ext cx="635040" cy="2130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19320" y="3505320"/>
            <a:ext cx="3047760" cy="2209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19320" y="3500280"/>
            <a:ext cx="2705040" cy="175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362320"/>
            <a:ext cx="160020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57440" y="2666880"/>
            <a:ext cx="243828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80000" y="5029200"/>
            <a:ext cx="33480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781680" y="3352320"/>
            <a:ext cx="1030320" cy="652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292720" y="765000"/>
            <a:ext cx="719280" cy="6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907920"/>
            <a:ext cx="1236960" cy="1606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86600" y="2997360"/>
            <a:ext cx="581040" cy="20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90920" y="5257800"/>
            <a:ext cx="1143000" cy="99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276720"/>
            <a:ext cx="5331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1125360"/>
            <a:ext cx="2851200" cy="2075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404640"/>
            <a:ext cx="843120" cy="2338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292360" y="3645000"/>
            <a:ext cx="2374920" cy="151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876560" y="1341360"/>
            <a:ext cx="2863800" cy="178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495680" y="692280"/>
            <a:ext cx="2740320" cy="243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292640"/>
            <a:ext cx="914400" cy="380880"/>
          </a:xfrm>
          <a:prstGeom prst="wedgeRectCallout">
            <a:avLst>
              <a:gd name="adj1" fmla="val 129861"/>
              <a:gd name="adj2" fmla="val -101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1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12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260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0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6248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501336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9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7.0), Flat   Hole(13.0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115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0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219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1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6093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2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6165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6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860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7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666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8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620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9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6206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09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7 (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15228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8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Flat  Hole(  6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9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6381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0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1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11970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0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 9.0), 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4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28600"/>
            <a:ext cx="152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1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7.5),  Through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5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206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8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Through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876920" y="3429000"/>
            <a:ext cx="2790720" cy="266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0213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9 (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3213000"/>
            <a:ext cx="0" cy="64764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7920" y="3505320"/>
            <a:ext cx="3200400" cy="2590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838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2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800240" y="990720"/>
            <a:ext cx="304812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60958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3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6021360"/>
            <a:ext cx="17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5 (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4, P=2.0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2.2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414972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6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1.0), Flat   Hole(  6.6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2852640"/>
            <a:ext cx="14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1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41.0)   Hole(35.0), Through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96360" y="170028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8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2.5), Flat  Hole(  7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000" y="11592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Part-B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4:28:58Z</dcterms:created>
  <dc:creator>sakamoto</dc:creator>
  <dc:description/>
  <dc:language>en-US</dc:language>
  <cp:lastModifiedBy>sakamoto</cp:lastModifiedBy>
  <dcterms:modified xsi:type="dcterms:W3CDTF">2006-10-25T14:30:14Z</dcterms:modified>
  <cp:revision>1</cp:revision>
  <dc:subject/>
  <dc:title>スライド 1</dc:title>
</cp:coreProperties>
</file>