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969-231D-4230-88C2-B0B19956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67956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35F-B656-489E-9C2B-75A84ABF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A1C-1531-4F90-B3D9-C93352C6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FA0-EC21-48B4-BB1E-267B2861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7CE2-B3B9-4AEA-ADCB-BB96D24A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EC50-E853-4EF7-8919-0657FA7E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D312-45FC-4708-B846-0B75650B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F70A-9175-41B6-A8A3-44E498DD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9DCF-D28A-4683-9CB3-27204CAE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193320"/>
            <a:ext cx="800100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4084-35C4-45ED-A0EA-E98BB7C7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9AFA-1DA4-4261-8FA4-E1FEEEA5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695-13CE-4298-86A6-76CFADB4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6EC0-EF32-4D05-8B38-1C3DEBF4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64F8-3D09-417A-B0BD-43F616C9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67956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AA9E-3E42-49A8-9497-00739CC2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5AF5-98A1-4F87-9817-9F825056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12032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679560"/>
            <a:ext cx="2576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A43B-8166-4921-89A8-E9FC302A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7F0-7AAA-465F-8522-34591A2C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9F3-8025-4633-87D7-4B4BF050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2E3-06AD-4697-AC6B-9C0C918A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193320"/>
            <a:ext cx="800100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C9A-1387-4D70-B3B6-67133C93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A5C-F990-4F69-88DA-EC513825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67956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750-FA89-4CCA-BA30-6E678D8D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120320"/>
            <a:ext cx="39042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679560"/>
            <a:ext cx="8001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5AA-3256-4B48-B7C4-67D9404F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181560"/>
            <a:ext cx="79250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D15C-F6C6-40D6-9910-3EE3E98DC97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58720" y="928800"/>
            <a:ext cx="799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11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DC5B-2B1F-438F-B136-75DCEA1DFCE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51776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raft ARM for traceability nc_func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592200" y="1147680"/>
            <a:ext cx="2508120" cy="4446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1792440"/>
            <a:ext cx="3249720" cy="127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ingle Value trace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functions (BLOCK 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89200" y="3267000"/>
            <a:ext cx="3249720" cy="127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witching (on/of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functions (BLOCK 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73360" y="4745160"/>
            <a:ext cx="3448080" cy="127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witching (on/of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fun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(With action)(BLOCK 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85" idx="1"/>
            <a:endCxn id="86" idx="1"/>
          </p:cNvCxnSpPr>
          <p:nvPr/>
        </p:nvCxnSpPr>
        <p:spPr>
          <a:xfrm flipH="1" flipV="1" rot="10800000">
            <a:off x="591840" y="1369800"/>
            <a:ext cx="1027440" cy="1059480"/>
          </a:xfrm>
          <a:prstGeom prst="bentConnector3">
            <a:avLst>
              <a:gd name="adj1" fmla="val -2306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85" idx="1"/>
            <a:endCxn id="87" idx="1"/>
          </p:cNvCxnSpPr>
          <p:nvPr/>
        </p:nvCxnSpPr>
        <p:spPr>
          <a:xfrm flipH="1" flipV="1" rot="10800000">
            <a:off x="591840" y="1369800"/>
            <a:ext cx="2097360" cy="2534040"/>
          </a:xfrm>
          <a:prstGeom prst="bentConnector3">
            <a:avLst>
              <a:gd name="adj1" fmla="val -11296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85" idx="1"/>
            <a:endCxn id="88" idx="1"/>
          </p:cNvCxnSpPr>
          <p:nvPr/>
        </p:nvCxnSpPr>
        <p:spPr>
          <a:xfrm flipH="1" flipV="1" rot="10800000">
            <a:off x="591840" y="1369800"/>
            <a:ext cx="2981520" cy="4012200"/>
          </a:xfrm>
          <a:prstGeom prst="bentConnector3">
            <a:avLst>
              <a:gd name="adj1" fmla="val -794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66280" y="112032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LOCK I. Single value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038320" y="1828800"/>
            <a:ext cx="2508120" cy="4446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1"/>
            <a:endCxn id="96" idx="1"/>
          </p:cNvCxnSpPr>
          <p:nvPr/>
        </p:nvCxnSpPr>
        <p:spPr>
          <a:xfrm flipH="1" flipV="1" rot="10800000">
            <a:off x="2027880" y="2050560"/>
            <a:ext cx="1353240" cy="1029600"/>
          </a:xfrm>
          <a:prstGeom prst="bentConnector3">
            <a:avLst>
              <a:gd name="adj1" fmla="val -16178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3390840" y="2870280"/>
            <a:ext cx="14810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08880" y="2889360"/>
            <a:ext cx="14810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time_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50120" y="2992320"/>
            <a:ext cx="16020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3"/>
            <a:endCxn id="98" idx="2"/>
          </p:cNvCxnSpPr>
          <p:nvPr/>
        </p:nvCxnSpPr>
        <p:spPr>
          <a:xfrm flipV="1">
            <a:off x="4881240" y="3072960"/>
            <a:ext cx="1569240" cy="72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100" name=""/>
          <p:cNvSpPr/>
          <p:nvPr/>
        </p:nvSpPr>
        <p:spPr>
          <a:xfrm>
            <a:off x="3382920" y="3441600"/>
            <a:ext cx="19256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tool_data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89400" y="4016520"/>
            <a:ext cx="193968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machine_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82920" y="4564080"/>
            <a:ext cx="196236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coolant_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94" idx="1"/>
            <a:endCxn id="100" idx="1"/>
          </p:cNvCxnSpPr>
          <p:nvPr/>
        </p:nvCxnSpPr>
        <p:spPr>
          <a:xfrm flipH="1" flipV="1" rot="10800000">
            <a:off x="2027880" y="2049840"/>
            <a:ext cx="1345320" cy="1600920"/>
          </a:xfrm>
          <a:prstGeom prst="bentConnector3">
            <a:avLst>
              <a:gd name="adj1" fmla="val -1627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94" idx="1"/>
            <a:endCxn id="101" idx="1"/>
          </p:cNvCxnSpPr>
          <p:nvPr/>
        </p:nvCxnSpPr>
        <p:spPr>
          <a:xfrm flipH="1" flipV="1" rot="10800000">
            <a:off x="2028960" y="2050560"/>
            <a:ext cx="1351080" cy="2175840"/>
          </a:xfrm>
          <a:prstGeom prst="bentConnector3">
            <a:avLst>
              <a:gd name="adj1" fmla="val -1620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4" idx="1"/>
            <a:endCxn id="102" idx="1"/>
          </p:cNvCxnSpPr>
          <p:nvPr/>
        </p:nvCxnSpPr>
        <p:spPr>
          <a:xfrm flipH="1" flipV="1" rot="10800000">
            <a:off x="2027880" y="2049840"/>
            <a:ext cx="1345320" cy="2723400"/>
          </a:xfrm>
          <a:prstGeom prst="bentConnector3">
            <a:avLst>
              <a:gd name="adj1" fmla="val -16274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618240" y="3449520"/>
            <a:ext cx="14810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erial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59480" y="3552840"/>
            <a:ext cx="160560" cy="1602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endCxn id="107" idx="2"/>
          </p:cNvCxnSpPr>
          <p:nvPr/>
        </p:nvCxnSpPr>
        <p:spPr>
          <a:xfrm flipV="1">
            <a:off x="5322600" y="3633120"/>
            <a:ext cx="1137240" cy="68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109" name=""/>
          <p:cNvSpPr/>
          <p:nvPr/>
        </p:nvSpPr>
        <p:spPr>
          <a:xfrm>
            <a:off x="6649920" y="4035600"/>
            <a:ext cx="148140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erial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91160" y="4138560"/>
            <a:ext cx="16056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endCxn id="110" idx="2"/>
          </p:cNvCxnSpPr>
          <p:nvPr/>
        </p:nvCxnSpPr>
        <p:spPr>
          <a:xfrm flipV="1">
            <a:off x="5354280" y="4219200"/>
            <a:ext cx="1137240" cy="72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112" name=""/>
          <p:cNvSpPr/>
          <p:nvPr/>
        </p:nvSpPr>
        <p:spPr>
          <a:xfrm>
            <a:off x="6675480" y="4567320"/>
            <a:ext cx="14810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erial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4670280"/>
            <a:ext cx="16020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endCxn id="113" idx="2"/>
          </p:cNvCxnSpPr>
          <p:nvPr/>
        </p:nvCxnSpPr>
        <p:spPr>
          <a:xfrm flipV="1">
            <a:off x="5379840" y="4750920"/>
            <a:ext cx="1137240" cy="72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115" name=""/>
          <p:cNvSpPr/>
          <p:nvPr/>
        </p:nvSpPr>
        <p:spPr>
          <a:xfrm>
            <a:off x="3386160" y="5191200"/>
            <a:ext cx="196200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operato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78720" y="5194440"/>
            <a:ext cx="14810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d_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19960" y="5297400"/>
            <a:ext cx="16020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endCxn id="117" idx="2"/>
          </p:cNvCxnSpPr>
          <p:nvPr/>
        </p:nvCxnSpPr>
        <p:spPr>
          <a:xfrm flipV="1">
            <a:off x="5383080" y="5378040"/>
            <a:ext cx="1137600" cy="72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cxnSp>
        <p:nvCxnSpPr>
          <p:cNvPr id="119" name=""/>
          <p:cNvCxnSpPr>
            <a:stCxn id="94" idx="1"/>
          </p:cNvCxnSpPr>
          <p:nvPr/>
        </p:nvCxnSpPr>
        <p:spPr>
          <a:xfrm flipH="1" flipV="1" rot="10800000">
            <a:off x="2028600" y="2049840"/>
            <a:ext cx="1350000" cy="3350520"/>
          </a:xfrm>
          <a:prstGeom prst="bentConnector4">
            <a:avLst>
              <a:gd name="adj1" fmla="val -16217"/>
              <a:gd name="adj2" fmla="val 100000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LOCK II.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witching (on/off) function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592200" y="1440000"/>
            <a:ext cx="2508120" cy="4442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4960" y="2592360"/>
            <a:ext cx="34610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tart_variable/sensor_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30280" y="4933800"/>
            <a:ext cx="3460680" cy="41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top_variable/sensor_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1" idx="1"/>
            <a:endCxn id="122" idx="1"/>
          </p:cNvCxnSpPr>
          <p:nvPr/>
        </p:nvCxnSpPr>
        <p:spPr>
          <a:xfrm flipH="1" flipV="1" rot="10800000">
            <a:off x="582120" y="1661760"/>
            <a:ext cx="843840" cy="1140480"/>
          </a:xfrm>
          <a:prstGeom prst="bentConnector3">
            <a:avLst>
              <a:gd name="adj1" fmla="val -259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" name=""/>
          <p:cNvCxnSpPr>
            <a:stCxn id="121" idx="1"/>
            <a:endCxn id="123" idx="1"/>
          </p:cNvCxnSpPr>
          <p:nvPr/>
        </p:nvCxnSpPr>
        <p:spPr>
          <a:xfrm flipH="1" flipV="1" rot="10800000">
            <a:off x="581400" y="1661040"/>
            <a:ext cx="839160" cy="3482280"/>
          </a:xfrm>
          <a:prstGeom prst="bentConnector3">
            <a:avLst>
              <a:gd name="adj1" fmla="val -26094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831960" y="3765600"/>
            <a:ext cx="176688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3" idx="0"/>
            <a:endCxn id="126" idx="2"/>
          </p:cNvCxnSpPr>
          <p:nvPr/>
        </p:nvCxnSpPr>
        <p:spPr>
          <a:xfrm flipV="1" rot="16200000">
            <a:off x="2072520" y="3836160"/>
            <a:ext cx="731160" cy="144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22" idx="2"/>
            <a:endCxn id="126" idx="0"/>
          </p:cNvCxnSpPr>
          <p:nvPr/>
        </p:nvCxnSpPr>
        <p:spPr>
          <a:xfrm rot="5400000">
            <a:off x="2072880" y="2663280"/>
            <a:ext cx="735120" cy="1450080"/>
          </a:xfrm>
          <a:prstGeom prst="bentConnector3">
            <a:avLst>
              <a:gd name="adj1" fmla="val 4987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1810080" y="3408480"/>
            <a:ext cx="103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function_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16200" y="4280040"/>
            <a:ext cx="103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function_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2" idx="3"/>
            <a:endCxn id="132" idx="1"/>
          </p:cNvCxnSpPr>
          <p:nvPr/>
        </p:nvCxnSpPr>
        <p:spPr>
          <a:xfrm>
            <a:off x="4905360" y="2801520"/>
            <a:ext cx="1729440" cy="2520"/>
          </a:xfrm>
          <a:prstGeom prst="bentConnector3">
            <a:avLst>
              <a:gd name="adj1" fmla="val 4994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643800" y="2457360"/>
            <a:ext cx="2136600" cy="69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VARIABLE/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DEN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16040" y="250020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sensor/vari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5" idx="2"/>
            <a:endCxn id="136" idx="1"/>
          </p:cNvCxnSpPr>
          <p:nvPr/>
        </p:nvCxnSpPr>
        <p:spPr>
          <a:xfrm flipH="1" rot="16200000">
            <a:off x="5047200" y="2076840"/>
            <a:ext cx="677160" cy="2513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6642000" y="3365640"/>
            <a:ext cx="21560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Bounded_cu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29760" y="339732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Maximum Deviation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5320" y="3584520"/>
            <a:ext cx="16056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3360" y="2678040"/>
            <a:ext cx="569880" cy="31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raceability nc_functions. BLOCK II. Sample Fun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399680"/>
            <a:ext cx="8001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Machining_Parameter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. Speeds: Cutting Speed, Spindle Speed and FeedRate Speed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. Depth of Cu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. Coolant Pressures, Level and Temperatur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. Positions (relative/absolute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.1 - Interpolated Positions by the CN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.2 - Positions as given by the encod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.3 – Axis 3D Displacements (tolerance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. Motor Currents or Powers (by Axis/Spindle/channe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. % of Drive Load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. Machine Forces and Torqu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Tool Monitoring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8. Tool Tip Temperature (Cutting Operation Temperatur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9. Tool Tip Vibration, A.E., tool sensor wea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Workpiec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0. Surface Finish (Roughness)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raceability nc_functions. BLOCK II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ternative Definition Samples (one function for sens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592200" y="1147680"/>
            <a:ext cx="2508120" cy="4446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81200" y="1838160"/>
            <a:ext cx="3460680" cy="41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axial_depth_of_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57440" y="4264200"/>
            <a:ext cx="346068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et_cutting_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2" idx="1"/>
            <a:endCxn id="143" idx="1"/>
          </p:cNvCxnSpPr>
          <p:nvPr/>
        </p:nvCxnSpPr>
        <p:spPr>
          <a:xfrm flipH="1" flipV="1" rot="10800000">
            <a:off x="581400" y="1369080"/>
            <a:ext cx="1089720" cy="678600"/>
          </a:xfrm>
          <a:prstGeom prst="bentConnector3">
            <a:avLst>
              <a:gd name="adj1" fmla="val -20092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42" idx="1"/>
            <a:endCxn id="144" idx="1"/>
          </p:cNvCxnSpPr>
          <p:nvPr/>
        </p:nvCxnSpPr>
        <p:spPr>
          <a:xfrm flipH="1" flipV="1" rot="10800000">
            <a:off x="581400" y="1369080"/>
            <a:ext cx="1065960" cy="3104280"/>
          </a:xfrm>
          <a:prstGeom prst="bentConnector3">
            <a:avLst>
              <a:gd name="adj1" fmla="val -2054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3" idx="2"/>
            <a:endCxn id="148" idx="1"/>
          </p:cNvCxnSpPr>
          <p:nvPr/>
        </p:nvCxnSpPr>
        <p:spPr>
          <a:xfrm flipH="1" rot="16200000">
            <a:off x="4678920" y="998280"/>
            <a:ext cx="961200" cy="3498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6908760" y="2921040"/>
            <a:ext cx="22352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Bounded_cu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6840" y="295272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Maximum Deviation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65840" y="5322960"/>
            <a:ext cx="22352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Bounded_cu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28040" y="5342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Maximum Deviation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4" idx="2"/>
            <a:endCxn id="150" idx="1"/>
          </p:cNvCxnSpPr>
          <p:nvPr/>
        </p:nvCxnSpPr>
        <p:spPr>
          <a:xfrm flipH="1" rot="16200000">
            <a:off x="4608360" y="3471480"/>
            <a:ext cx="937440" cy="3378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742080" y="3139920"/>
            <a:ext cx="16020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95920" y="5535720"/>
            <a:ext cx="160560" cy="1602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193320"/>
            <a:ext cx="8001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ceability nc_functions. BLOCK II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592200" y="1147680"/>
            <a:ext cx="2508120" cy="4446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ABS) nc_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03320" y="1978200"/>
            <a:ext cx="346068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tart_synchonized_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23840" y="5556240"/>
            <a:ext cx="346068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stop_synchronized_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6" idx="1"/>
            <a:endCxn id="157" idx="1"/>
          </p:cNvCxnSpPr>
          <p:nvPr/>
        </p:nvCxnSpPr>
        <p:spPr>
          <a:xfrm flipH="1" flipV="1" rot="10800000">
            <a:off x="582120" y="1369080"/>
            <a:ext cx="411840" cy="818280"/>
          </a:xfrm>
          <a:prstGeom prst="bentConnector3">
            <a:avLst>
              <a:gd name="adj1" fmla="val -5328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56" idx="1"/>
            <a:endCxn id="158" idx="1"/>
          </p:cNvCxnSpPr>
          <p:nvPr/>
        </p:nvCxnSpPr>
        <p:spPr>
          <a:xfrm flipH="1" flipV="1" rot="10800000">
            <a:off x="582120" y="1369800"/>
            <a:ext cx="432720" cy="4396320"/>
          </a:xfrm>
          <a:prstGeom prst="bentConnector3">
            <a:avLst>
              <a:gd name="adj1" fmla="val -50707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831960" y="4387680"/>
            <a:ext cx="1766880" cy="419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8" idx="0"/>
            <a:endCxn id="161" idx="2"/>
          </p:cNvCxnSpPr>
          <p:nvPr/>
        </p:nvCxnSpPr>
        <p:spPr>
          <a:xfrm flipV="1" rot="16200000">
            <a:off x="1869840" y="4662000"/>
            <a:ext cx="731160" cy="1038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157" idx="2"/>
            <a:endCxn id="161" idx="0"/>
          </p:cNvCxnSpPr>
          <p:nvPr/>
        </p:nvCxnSpPr>
        <p:spPr>
          <a:xfrm rot="5400000">
            <a:off x="1238400" y="2883240"/>
            <a:ext cx="1972440" cy="1018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1785240" y="403056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91360" y="490212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/>
          <p:nvPr/>
        </p:nvCxnSpPr>
        <p:spPr>
          <a:xfrm flipV="1">
            <a:off x="4486320" y="1360080"/>
            <a:ext cx="2085120" cy="828000"/>
          </a:xfrm>
          <a:prstGeom prst="bentConnector3">
            <a:avLst>
              <a:gd name="adj1" fmla="val 1849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711840" y="1919160"/>
            <a:ext cx="2025720" cy="542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boolean_expre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7" idx="3"/>
            <a:endCxn id="167" idx="1"/>
          </p:cNvCxnSpPr>
          <p:nvPr/>
        </p:nvCxnSpPr>
        <p:spPr>
          <a:xfrm>
            <a:off x="4473360" y="2187720"/>
            <a:ext cx="2238840" cy="3600"/>
          </a:xfrm>
          <a:prstGeom prst="bentConnector3">
            <a:avLst>
              <a:gd name="adj1" fmla="val 497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5516280" y="216864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con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83840" y="3079800"/>
            <a:ext cx="7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its_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7720" y="3135240"/>
            <a:ext cx="2508480" cy="44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Work_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57" idx="3"/>
            <a:endCxn id="171" idx="1"/>
          </p:cNvCxnSpPr>
          <p:nvPr/>
        </p:nvCxnSpPr>
        <p:spPr>
          <a:xfrm>
            <a:off x="4473720" y="2187720"/>
            <a:ext cx="1845360" cy="1170720"/>
          </a:xfrm>
          <a:prstGeom prst="bentConnector3">
            <a:avLst>
              <a:gd name="adj1" fmla="val 2124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6724800" y="1035000"/>
            <a:ext cx="223488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Bounded_cu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10680" y="10922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Maximum Deviation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8120" y="1279440"/>
            <a:ext cx="160200" cy="1605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8T10:24:33Z</dcterms:created>
  <dc:creator>http://www.epmtech.jotne.com</dc:creator>
  <dc:description/>
  <dc:language>en-US</dc:language>
  <cp:lastModifiedBy>Martin Hardwick</cp:lastModifiedBy>
  <cp:lastPrinted>2002-05-07T13:17:13Z</cp:lastPrinted>
  <dcterms:modified xsi:type="dcterms:W3CDTF">2007-03-28T13:55:42Z</dcterms:modified>
  <cp:revision>468</cp:revision>
  <dc:subject/>
  <dc:title>COMDEX NORDIC 2002</dc:title>
</cp:coreProperties>
</file>