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4E7-A39D-45C4-98B0-8C106986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816-3338-48AA-A06A-33A54A6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776-EA45-4BCE-B126-8F382CA0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79F-1D17-49FB-94CB-9D2346D2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C58-B0AC-4A06-A2C6-08AF910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50A-2F64-4B4C-B267-C1D25721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990-0D93-4B32-8CF4-40387A3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DF0-60BE-47B5-8249-853BFB52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2B1-75A8-42A2-AE27-A225FDAF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E2F-1FC0-420A-8351-D9B9132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274-B4A2-43C7-9CDE-619AF65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FFC-ACE8-46FD-9DBA-15F95562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7F4D-E1EE-4A0D-B386-E3AA15E9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 Demonst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meeting (Ibusuki Wednesday July 4th 10:30AM – Noon and Tokyo Friday July 6t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and Mold Part (2.5 ax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-224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-240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-238 Mach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h head with geometric dimensional tolerance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bus and Boe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d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s meeting (October 2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vembe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PDM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9000" y="270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4480" y="3618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5592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3" idx="3"/>
            <a:endCxn id="45" idx="1"/>
          </p:cNvCxnSpPr>
          <p:nvPr/>
        </p:nvCxnSpPr>
        <p:spPr>
          <a:xfrm flipV="1">
            <a:off x="1149480" y="2012400"/>
            <a:ext cx="1305360" cy="8751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313640" y="2743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0384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4200" y="3581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5" idx="3"/>
            <a:endCxn id="49" idx="1"/>
          </p:cNvCxnSpPr>
          <p:nvPr/>
        </p:nvCxnSpPr>
        <p:spPr>
          <a:xfrm>
            <a:off x="3146040" y="2013120"/>
            <a:ext cx="7563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3"/>
            <a:endCxn id="48" idx="2"/>
          </p:cNvCxnSpPr>
          <p:nvPr/>
        </p:nvCxnSpPr>
        <p:spPr>
          <a:xfrm flipV="1">
            <a:off x="3180960" y="2195280"/>
            <a:ext cx="1067400" cy="16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066480" y="2743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89480" y="34290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9" idx="3"/>
            <a:endCxn id="53" idx="1"/>
          </p:cNvCxnSpPr>
          <p:nvPr/>
        </p:nvCxnSpPr>
        <p:spPr>
          <a:xfrm flipV="1">
            <a:off x="4721400" y="3749400"/>
            <a:ext cx="1467360" cy="16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3"/>
            <a:endCxn id="53" idx="1"/>
          </p:cNvCxnSpPr>
          <p:nvPr/>
        </p:nvCxnSpPr>
        <p:spPr>
          <a:xfrm>
            <a:off x="4593960" y="2013120"/>
            <a:ext cx="1594440" cy="1737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8984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720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3" idx="3"/>
            <a:endCxn id="57" idx="2"/>
          </p:cNvCxnSpPr>
          <p:nvPr/>
        </p:nvCxnSpPr>
        <p:spPr>
          <a:xfrm flipV="1">
            <a:off x="6969240" y="3033000"/>
            <a:ext cx="12960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3"/>
            <a:endCxn id="57" idx="0"/>
          </p:cNvCxnSpPr>
          <p:nvPr/>
        </p:nvCxnSpPr>
        <p:spPr>
          <a:xfrm>
            <a:off x="6879960" y="2013120"/>
            <a:ext cx="1384920" cy="65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7241400" y="358128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5800" y="1828800"/>
            <a:ext cx="81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9" idx="3"/>
            <a:endCxn id="56" idx="1"/>
          </p:cNvCxnSpPr>
          <p:nvPr/>
        </p:nvCxnSpPr>
        <p:spPr>
          <a:xfrm flipV="1">
            <a:off x="4721400" y="2012760"/>
            <a:ext cx="1467360" cy="175320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742640" y="281952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9080" y="4114800"/>
            <a:ext cx="398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 delivered on March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24 delivery by May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399 +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40 delivery by 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/ISO 14649 deliver by Jun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simulation by June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58640" y="722160"/>
            <a:ext cx="52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Tools to host web/ftp site for data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Tools to set up e-mai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8760" y="4815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862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9120" y="5943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ference call 7AM USA, 1PM France, 8PM Japan (Airbus to h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1 h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d and Die demo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53360" y="29322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6240" y="2971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49600" y="28195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1" idx="3"/>
            <a:endCxn id="72" idx="1"/>
          </p:cNvCxnSpPr>
          <p:nvPr/>
        </p:nvCxnSpPr>
        <p:spPr>
          <a:xfrm>
            <a:off x="1882800" y="3115800"/>
            <a:ext cx="2232720" cy="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4895640" y="3139200"/>
            <a:ext cx="2251800" cy="1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65200" y="22096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T-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5200" y="33526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3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01680" y="2703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38560" y="684360"/>
            <a:ext cx="52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tolerance and size dimension for th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ness of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dull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0440" y="4572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 and Sandv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80" idx="2"/>
            <a:endCxn id="71" idx="0"/>
          </p:cNvCxnSpPr>
          <p:nvPr/>
        </p:nvCxnSpPr>
        <p:spPr>
          <a:xfrm>
            <a:off x="1463400" y="824040"/>
            <a:ext cx="3960" cy="21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4628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160" y="4114800"/>
            <a:ext cx="66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pan Machine tool and probing syste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st Japan and NIST feedback to air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pan and NIST tool requests to Sandv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irbus select dimensions and positions to be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lerance data to STEP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T-CL to STEP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-238 to NIST and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chine and measure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deo for 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9720" y="1523880"/>
            <a:ext cx="190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tting tool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 head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71800" y="4572000"/>
            <a:ext cx="7621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572000"/>
            <a:ext cx="76176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8200" y="4038480"/>
            <a:ext cx="111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4040" y="2590920"/>
            <a:ext cx="12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ll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34340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8760" y="4648320"/>
            <a:ext cx="111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Hardwick</cp:lastModifiedBy>
  <dcterms:modified xsi:type="dcterms:W3CDTF">2007-03-30T08:59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