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704215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7A0B-A878-40E6-9E6E-2E9C1A1ED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1880" y="1082160"/>
            <a:ext cx="8746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2240" y="2364840"/>
            <a:ext cx="8735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2240" y="4571640"/>
            <a:ext cx="8735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3E4-C8B8-43EA-A358-AA362ABF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1880" y="1082160"/>
            <a:ext cx="8746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2240" y="2364840"/>
            <a:ext cx="4262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364840"/>
            <a:ext cx="4262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2240" y="4571640"/>
            <a:ext cx="4262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571640"/>
            <a:ext cx="4262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43D7-81BA-476F-BED4-0864302B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1880" y="1082160"/>
            <a:ext cx="8746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2240" y="2364840"/>
            <a:ext cx="281268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46040" y="2364840"/>
            <a:ext cx="281268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9480" y="2364840"/>
            <a:ext cx="281268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2240" y="4571640"/>
            <a:ext cx="281268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46040" y="4571640"/>
            <a:ext cx="281268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99480" y="4571640"/>
            <a:ext cx="281268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79E-655B-43BF-AE31-BAD2DF3F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A0D54-7899-451F-8088-AA618ECD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1880" y="1082160"/>
            <a:ext cx="8746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2240" y="2364840"/>
            <a:ext cx="8735760" cy="42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7EA3-1106-4598-8DE7-34C79804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1880" y="1082160"/>
            <a:ext cx="8746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2240" y="2364840"/>
            <a:ext cx="87357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5773-D2B3-4F31-A433-8FB737F33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1880" y="1082160"/>
            <a:ext cx="8746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2240" y="2364840"/>
            <a:ext cx="42627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364840"/>
            <a:ext cx="42627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D6A9A-90CD-42CC-8685-EE0A00C4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1880" y="1082160"/>
            <a:ext cx="8746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A4875-6F86-42E6-9255-20D423B72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1880" y="1082160"/>
            <a:ext cx="87469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DEE4-D2B0-4A0C-8ACB-C58EB6AE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1880" y="1082160"/>
            <a:ext cx="8746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2240" y="2364840"/>
            <a:ext cx="4262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364840"/>
            <a:ext cx="42627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2240" y="4571640"/>
            <a:ext cx="4262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68D3-2F8A-4F40-BEE7-278EEED7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1880" y="1082160"/>
            <a:ext cx="8746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2240" y="2364840"/>
            <a:ext cx="8735760" cy="42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BA9-1139-4391-B88E-FC480693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1880" y="1082160"/>
            <a:ext cx="8746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2240" y="2364840"/>
            <a:ext cx="42627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364840"/>
            <a:ext cx="4262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571640"/>
            <a:ext cx="4262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8FB76-6521-40F8-80E8-63697DCA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1880" y="1082160"/>
            <a:ext cx="8746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2240" y="2364840"/>
            <a:ext cx="4262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364840"/>
            <a:ext cx="4262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2240" y="4571640"/>
            <a:ext cx="8735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1E72-AF20-4365-83DA-7FC49301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1880" y="1082160"/>
            <a:ext cx="8746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2240" y="2364840"/>
            <a:ext cx="8735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2240" y="4571640"/>
            <a:ext cx="8735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59A9-7C66-4AEB-85D5-8C18A23D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1880" y="1082160"/>
            <a:ext cx="8746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2240" y="2364840"/>
            <a:ext cx="4262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2364840"/>
            <a:ext cx="4262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2240" y="4571640"/>
            <a:ext cx="4262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571640"/>
            <a:ext cx="4262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A5533-DFF4-4C51-A00F-1692383DA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1880" y="1082160"/>
            <a:ext cx="8746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2240" y="2364840"/>
            <a:ext cx="281268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46040" y="2364840"/>
            <a:ext cx="281268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9480" y="2364840"/>
            <a:ext cx="281268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2240" y="4571640"/>
            <a:ext cx="281268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46040" y="4571640"/>
            <a:ext cx="281268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99480" y="4571640"/>
            <a:ext cx="281268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C9483-D54A-4D96-AEA7-AD028C1A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1880" y="1082160"/>
            <a:ext cx="8746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2240" y="2364840"/>
            <a:ext cx="87357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691D-53F5-45C8-BBC9-B23B5C25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1880" y="1082160"/>
            <a:ext cx="8746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2240" y="2364840"/>
            <a:ext cx="42627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2364840"/>
            <a:ext cx="42627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5E99-6396-4761-BD81-07B52EC0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1880" y="1082160"/>
            <a:ext cx="8746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830D-2CE2-4E52-9B20-19A86E723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1880" y="1082160"/>
            <a:ext cx="874692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EAF7-D728-4248-9060-8D98A456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1880" y="1082160"/>
            <a:ext cx="8746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2240" y="2364840"/>
            <a:ext cx="4262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2364840"/>
            <a:ext cx="42627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2240" y="4571640"/>
            <a:ext cx="4262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9CE4-6A57-4B42-9AFC-7A7591BC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1880" y="1082160"/>
            <a:ext cx="8746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2240" y="2364840"/>
            <a:ext cx="42627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2364840"/>
            <a:ext cx="4262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571640"/>
            <a:ext cx="4262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CBE-14CF-48A7-A8AA-F023643C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1880" y="1082160"/>
            <a:ext cx="8746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2240" y="2364840"/>
            <a:ext cx="4262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2364840"/>
            <a:ext cx="4262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2240" y="4571640"/>
            <a:ext cx="8735760" cy="20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2A5-2919-4E2B-A9BE-D92C6EE0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405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-61920"/>
            <a:ext cx="9144000" cy="7102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1880" y="1082160"/>
            <a:ext cx="8746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92240" y="2364840"/>
            <a:ext cx="8735760" cy="42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d8b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d8b0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d8b01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d8b01e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d8b01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8160" y="6752880"/>
            <a:ext cx="1905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752880"/>
            <a:ext cx="28958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200720" y="6752880"/>
            <a:ext cx="19047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2001-E552-4B27-BBE2-097FE0B0FCC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40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-61920"/>
            <a:ext cx="9144000" cy="7102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346120"/>
            <a:ext cx="777240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160" y="6740280"/>
            <a:ext cx="190512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740280"/>
            <a:ext cx="28958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7200720" y="6740280"/>
            <a:ext cx="190476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E53F-273C-4EA4-97C2-8E75DE2E8BBA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47720"/>
            <a:ext cx="8229240" cy="40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buClr>
                <a:srgbClr val="d8b01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buClr>
                <a:srgbClr val="d8b01e"/>
              </a:buClr>
              <a:buFont typeface="Arial"/>
              <a:buChar char="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buClr>
                <a:srgbClr val="d8b01e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23778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rology Interoperabilit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roject Team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MIPT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4536720"/>
            <a:ext cx="640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SO Conference Hershey, Pennsylvan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ctober 200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0153-A1CC-4CBA-99C6-61B67F1670C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76280" y="1789200"/>
            <a:ext cx="62485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9209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ject team consists of a broad base of global corporations and univers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87160" y="3673440"/>
            <a:ext cx="8251560" cy="23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s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d8b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requirements for plug and play metrology systems supported by a standards infrastructure to resolve interoperability iss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7D59-FC59-4E63-8349-56FCE46E00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371600" y="3063600"/>
            <a:ext cx="6564240" cy="21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8b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termine a Standards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d8b0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Gaps / Overl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d8b0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new specifications filling the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d8b0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monize new or existing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d8b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aborate with Global Standard Organiz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20400" y="1946160"/>
            <a:ext cx="160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ss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39F9-E8EC-47B0-8517-5355C6044E9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43800" y="6416640"/>
            <a:ext cx="1322280" cy="4381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749520" y="2590920"/>
            <a:ext cx="7569000" cy="368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aborative Engineering and Product Development Steering Committ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58440" y="3335400"/>
            <a:ext cx="416304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rology Interoperability Project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0880" y="4470480"/>
            <a:ext cx="2210760" cy="642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 Data Interfa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0840" y="4468680"/>
            <a:ext cx="2652480" cy="642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pection 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98480" y="4484520"/>
            <a:ext cx="2706120" cy="642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Report Form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51720" y="5688000"/>
            <a:ext cx="2288520" cy="642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cal Data Form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43280" y="5689440"/>
            <a:ext cx="1869480" cy="642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C data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4" idx="2"/>
            <a:endCxn id="95" idx="0"/>
          </p:cNvCxnSpPr>
          <p:nvPr/>
        </p:nvCxnSpPr>
        <p:spPr>
          <a:xfrm>
            <a:off x="4533840" y="2966760"/>
            <a:ext cx="7200" cy="36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95" idx="2"/>
            <a:endCxn id="96" idx="0"/>
          </p:cNvCxnSpPr>
          <p:nvPr/>
        </p:nvCxnSpPr>
        <p:spPr>
          <a:xfrm rot="5400000">
            <a:off x="2678040" y="2608920"/>
            <a:ext cx="759600" cy="2964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95" idx="2"/>
            <a:endCxn id="98" idx="0"/>
          </p:cNvCxnSpPr>
          <p:nvPr/>
        </p:nvCxnSpPr>
        <p:spPr>
          <a:xfrm flipH="1" rot="16200000">
            <a:off x="5658480" y="2592000"/>
            <a:ext cx="773640" cy="3012120"/>
          </a:xfrm>
          <a:prstGeom prst="bentConnector3">
            <a:avLst>
              <a:gd name="adj1" fmla="val 498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4" name=""/>
          <p:cNvCxnSpPr>
            <a:stCxn id="95" idx="2"/>
            <a:endCxn id="97" idx="0"/>
          </p:cNvCxnSpPr>
          <p:nvPr/>
        </p:nvCxnSpPr>
        <p:spPr>
          <a:xfrm flipH="1">
            <a:off x="4536360" y="3711240"/>
            <a:ext cx="3960" cy="757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5" name=""/>
          <p:cNvCxnSpPr>
            <a:stCxn id="95" idx="2"/>
            <a:endCxn id="100" idx="0"/>
          </p:cNvCxnSpPr>
          <p:nvPr/>
        </p:nvCxnSpPr>
        <p:spPr>
          <a:xfrm rot="5400000">
            <a:off x="2719440" y="3869280"/>
            <a:ext cx="1978560" cy="1662840"/>
          </a:xfrm>
          <a:prstGeom prst="bentConnector3">
            <a:avLst>
              <a:gd name="adj1" fmla="val 1876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95" idx="2"/>
            <a:endCxn id="99" idx="0"/>
          </p:cNvCxnSpPr>
          <p:nvPr/>
        </p:nvCxnSpPr>
        <p:spPr>
          <a:xfrm flipH="1" rot="16200000">
            <a:off x="4280040" y="3971520"/>
            <a:ext cx="1977120" cy="1456560"/>
          </a:xfrm>
          <a:prstGeom prst="bentConnector3">
            <a:avLst>
              <a:gd name="adj1" fmla="val 1910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7" name=""/>
          <p:cNvSpPr/>
          <p:nvPr/>
        </p:nvSpPr>
        <p:spPr>
          <a:xfrm>
            <a:off x="2135880" y="1488960"/>
            <a:ext cx="47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 Structure at AI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6A4B-C319-4E7C-A22C-46895F4C6A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42640" y="2838600"/>
            <a:ext cx="7620120" cy="46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d8b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le to quickly fill gaps in standards infrastructure compared to formal standards organiz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d8b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gnizant of leading edge technolo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d8b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 and supplier consen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503000" y="1692000"/>
            <a:ext cx="5506920" cy="5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 Do well.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6E5-B2E0-47A1-9ABE-4C4E0129809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71600" y="3295440"/>
            <a:ext cx="73152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d8b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mal standard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d8b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utomotive focus, lack broader base of US indus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76320" y="161568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 do not do well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E255-8CFD-423B-8F72-699456B0F0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1880" y="1509840"/>
            <a:ext cx="874692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Role Do We Play?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720" y="3292560"/>
            <a:ext cx="76960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d8b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ffort has met with partial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d8b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ingle effort by itself will meet today’s process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d8b0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standards organizations collabor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B1DB-53D7-47E8-AEB5-5825040E20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1880" y="1082160"/>
            <a:ext cx="874692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1235160"/>
            <a:ext cx="8763120" cy="5729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467480" y="4435560"/>
            <a:ext cx="22860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318080" y="434340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Q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249800" y="5784840"/>
            <a:ext cx="703080" cy="93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648320" y="3978360"/>
            <a:ext cx="60948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3978360"/>
            <a:ext cx="60984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4206960"/>
            <a:ext cx="60984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4435560"/>
            <a:ext cx="609840" cy="4572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C300-6F05-449F-9FC2-356D0DB1C9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7:59:41Z</dcterms:created>
  <dc:creator>lizp</dc:creator>
  <dc:description/>
  <dc:language>en-US</dc:language>
  <cp:lastModifiedBy>horst</cp:lastModifiedBy>
  <dcterms:modified xsi:type="dcterms:W3CDTF">2006-10-25T18:13:48Z</dcterms:modified>
  <cp:revision>52</cp:revision>
  <dc:subject/>
  <dc:title>Automotive Industry Action Group</dc:title>
</cp:coreProperties>
</file>