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6840" y="36936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6936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90880" y="36936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0666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6880" y="10666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6840" y="36936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36936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6880" y="36936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Garamon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Garamon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6936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90880" y="36936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6936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6936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6936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90880" y="36936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6680" y="10666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6880" y="106668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6936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6680" y="36936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6880" y="3693600"/>
            <a:ext cx="2723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0010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6840" y="36936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90880" y="369360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066680"/>
            <a:ext cx="4127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3693600"/>
            <a:ext cx="84582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41664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6840" y="106668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214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ccff"/>
                </a:solidFill>
                <a:latin typeface="AGaramond"/>
              </a:rPr>
              <a:t>NIST  •  Manufacturing Engineering Laboratory  •  Intelligent Systems Division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681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99"/>
            </a:solidFill>
            <a:miter/>
          </a:ln>
          <a:effectLst>
            <a:outerShdw dist="107932" dir="2700000" blurRad="0" rotWithShape="0">
              <a:srgbClr val="3333cc"/>
            </a:outerShdw>
          </a:effectLst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9144000" cy="6416640"/>
          </a:xfrm>
          <a:prstGeom prst="rect">
            <a:avLst/>
          </a:prstGeom>
          <a:gradFill rotWithShape="0">
            <a:gsLst>
              <a:gs pos="0">
                <a:srgbClr val="c5d3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sp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AGaramond"/>
              </a:rPr>
              <a:t>Click to edit the title text format</a:t>
            </a:r>
            <a:endParaRPr b="1" lang="en-US" sz="3800" spc="-1" strike="noStrike">
              <a:solidFill>
                <a:srgbClr val="000099"/>
              </a:solidFill>
              <a:latin typeface="AGaramond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2358" t="0" r="0" b="0"/>
          <a:stretch/>
        </p:blipFill>
        <p:spPr>
          <a:xfrm>
            <a:off x="7732800" y="5553000"/>
            <a:ext cx="1168200" cy="1219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05120" y="5675400"/>
            <a:ext cx="58672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46800" anchor="ctr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Futura Light"/>
              </a:rPr>
              <a:t>United States Department of Commerc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Futura Light"/>
              </a:rPr>
              <a:t>National Institute of Standards and Technology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Futura Light"/>
              </a:rPr>
              <a:t>Manufacturing Engineering Laboratory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Futura Light"/>
              </a:rPr>
              <a:t>Intelligent Systems Division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Futura Light"/>
              </a:rPr>
              <a:t> </a:t>
            </a: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28600" y="5672160"/>
            <a:ext cx="1981080" cy="731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Garamond"/>
              </a:rPr>
              <a:t>Click to edit the outline text format</a:t>
            </a:r>
            <a:endParaRPr b="0" lang="en-US" sz="2800" spc="-1" strike="noStrike">
              <a:solidFill>
                <a:srgbClr val="3333ff"/>
              </a:solidFill>
              <a:latin typeface="AGaramond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99"/>
                </a:solidFill>
                <a:latin typeface="AGaramond"/>
              </a:rPr>
              <a:t>NIST STEP NC Optimizer Slides</a:t>
            </a:r>
            <a:endParaRPr b="1" lang="en-US" sz="3800" spc="-1" strike="noStrike">
              <a:solidFill>
                <a:srgbClr val="000099"/>
              </a:solidFill>
              <a:latin typeface="A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002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5880" y="0"/>
            <a:ext cx="628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8458200" cy="65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1T13:31:15Z</dcterms:created>
  <dc:creator>NIST</dc:creator>
  <dc:description/>
  <dc:language>en-US</dc:language>
  <cp:lastModifiedBy>NIST</cp:lastModifiedBy>
  <dcterms:modified xsi:type="dcterms:W3CDTF">2006-10-11T14:45:55Z</dcterms:modified>
  <cp:revision>5</cp:revision>
  <dc:subject/>
  <dc:title>Slide 1</dc:title>
</cp:coreProperties>
</file>