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3A74-0D73-466A-91F0-CA25F4A5A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CCE9-90BC-4616-A3F2-EA25F31E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F9DB-5A72-4EF6-8AF0-DB65A5BE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5006-0BE7-4848-B1A4-E4B9F335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C77C-E3AB-4CDB-AA25-90D79341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614C-B147-4486-A054-1EC80940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778E-EBDC-4F99-80AB-918F028B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3471-50F8-4BBB-9DCC-8F2A5788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9EA4-3552-4F38-A00A-34AA8EEA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E55-4C19-4350-952E-ADBB6AAD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20C0-9F87-405A-A6AF-9338597D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82F-86D7-4655-8923-17A58D84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CAFB-9AA9-4F32-8E7D-6C3D8CE9E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brown@kcp.com" TargetMode="External"/><Relationship Id="rId2" Type="http://schemas.openxmlformats.org/officeDocument/2006/relationships/hyperlink" Target="mailto:kdsummerhays@metrosage.com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m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Requirements for the Representation &amp; Exchange of Piece Part Functional Geometrical &amp; Dimensional Tolerance 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4800240"/>
            <a:ext cx="3048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tis W. Brow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neywell Federal Manufacturing &amp; Techn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inciple Engin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ansas City, M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brown@kcp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52880" y="4800600"/>
            <a:ext cx="2743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m Summerh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roS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ical Dir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lcano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kdsummerhays@metrosag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er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ical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e Tolerancing (linear tolerance w.r.t. datum reference fr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ylindtr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Directed 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u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leranc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um Features &amp; Datum Reference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ler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met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on then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leranc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ar 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lindr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al Segments (non-size feature, less than 1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° of arc leng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lindrical Radial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roidial Radial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herical Radial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posite Parallel Planes (e.g., Slots, Tab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Groups (faces and/or other tolerance features grouped to accommodate a single profile toler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out Groups (faces and/or other tolerance features grouped to accommodate a single runout toler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ound (to support compound datu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ar Compound (two or more co-planar tolerance fea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ial Compound (two or more co-axial tolerance fea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5667480"/>
            <a:ext cx="8153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lerance features" may include one or many faces or other tolerance features; Tolerance features are not, in general, the same thing as design or manufacturing features, though there are significant overla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um Reference Fr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um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designate a tolerance feature (single or compound) as a datum fe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as a functional da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um Reference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cedence ordered set of datum features that define a datum reference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Condition Modifiers are appropriately applied to datum features within the datum reference fr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s determines a part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ler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oining Radial (arc is tangent with adjacent faces, resulting in a crescent moon tolerance zone sha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ed Linear (linear referenced from an orig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directed 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(e.g., diameter, wid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ler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etr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t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pendic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Run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face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face Fi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lerance Associ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ppropriate, associate Tolerance with their relevant reference tolerance features or datum reference fr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gn Tolerances to one or many Tolerance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tion then Pres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ropriate GD&amp;T annotation should be derived from the tolerance representation, verified, and then correctly presented to the us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should perform product data exchange from the representation (meaning), not the pres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5667480"/>
            <a:ext cx="81532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BTol (Feature-Based Tolerancing) is an example of a technology that augments a solid modeler with complete and unambiguous representation of a product’s tolerance defini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onsid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lerance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Surface (e.g., bsplin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ical Radial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olute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er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12:25:56Z</dcterms:created>
  <dc:creator>Curtis W. Brown</dc:creator>
  <dc:description/>
  <dc:language>en-US</dc:language>
  <cp:lastModifiedBy>Curtis W. Brown</cp:lastModifiedBy>
  <dcterms:modified xsi:type="dcterms:W3CDTF">2006-10-24T14:11:24Z</dcterms:modified>
  <cp:revision>4</cp:revision>
  <dc:subject/>
  <dc:title>Common Requirements for the Representation &amp; Exchange of Piece Part Functional Geometrical &amp; Dimensional Tolerance Definitions</dc:title>
</cp:coreProperties>
</file>