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O TC184/SC4/WG3 Hershey N000 2006-10-1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AFB41D83-EBBF-4F98-AAA0-93F5B6301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971640" cy="958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7164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Toul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(STEP-NC) sent to ISO for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(CMM) DIS ballo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ing with Ship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Industry Day meeting with Automo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-NC Demonstr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ing (Wednesda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ssion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ing (Friday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DIS Ballot Commen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6-11-23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update of all AP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update on ISO 13399 (cutting too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ting with Ship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6-11-24, 080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ew integration of AP-223 with AP-239 and AP-24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nstration of software tools for STEP-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AP-238 e2 and Tape laying for compo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Hersh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6-11-25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Implementors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Industry Day with Automotive Industry Action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6-11-26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 13399 Cutting Tool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-NC Feed and Speed Optim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 of future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-219 DIS Ballot Comment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New Issue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by TC184 that Robotics moves to SC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a good idea that we encou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24 needs to learn more about the ORiN schema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ion by TC184 to form a manufacturing steering committ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o be the new value of this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ll it be gover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24 is interested in hel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OUS IMS project for development of next generation manufacturing standar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able EU funding ($30M)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Edition 2 Ideas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ouring, 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e Laying for com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Martin Hardwick</cp:lastModifiedBy>
  <cp:lastPrinted>1999-06-02T13:49:47Z</cp:lastPrinted>
  <dcterms:modified xsi:type="dcterms:W3CDTF">2006-10-24T20:32:05Z</dcterms:modified>
  <cp:revision>153</cp:revision>
  <dc:subject/>
  <dc:title>WG3 Presentation to SC4 Opening Plenary</dc:title>
</cp:coreProperties>
</file>