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D26-BA70-4C0B-AB5D-04FD71836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969-758A-43DA-AA6B-36E62C1A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E24-6372-473E-8782-9DE8BCBC1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A78-D428-462F-A17C-4F12A016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4F8-92FD-4211-9BD2-17682B39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BD52-05CD-4532-8A38-D9139CBF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EB1D-EC8E-4F23-807B-8A45239A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5B3-A40B-4589-9A58-C44CD79D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1772-C5E5-45FC-AF9E-CE1542515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3B98-FD26-45BB-BB89-35365A0FD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A0A8-EF59-4136-AD5A-A0CD2365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561C-7A87-41E4-9062-48B30A8B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9F6F2-8C67-4FA1-B9FF-965DF4572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t in Masterc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815328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ion in Masterc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-238 in STEP-NC Explor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eds After Optim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wpie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ting Tool In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tin Hardwick</cp:lastModifiedBy>
  <dcterms:modified xsi:type="dcterms:W3CDTF">2006-11-03T17:58:37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