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wmf" ContentType="image/x-wmf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96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840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96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840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3000" y="23148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596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8400" y="105264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52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596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8400" y="376092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231480"/>
            <a:ext cx="69343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0560" y="376092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0560" y="105264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76092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90792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spcBef>
                <a:spcPts val="451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38360" indent="-266760">
              <a:spcBef>
                <a:spcPts val="451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8210520" y="260280"/>
            <a:ext cx="704880" cy="7048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812880" cy="64116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917640" y="629280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825480" y="6310440"/>
            <a:ext cx="185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Times New Roman"/>
              </a:rPr>
              <a:t>Hershey Joint Meeting</a:t>
            </a:r>
            <a:r>
              <a:rPr b="1" lang="en-US" sz="14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6948360" y="6237360"/>
            <a:ext cx="20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3333cc"/>
                </a:solidFill>
                <a:latin typeface="Times New Roman"/>
              </a:rPr>
              <a:t>S.H. Suh Oct 26, 2006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772400" y="38088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457200" y="457200"/>
            <a:ext cx="878040" cy="6951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SzPct val="55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SzPct val="50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-mfg.postech.ac.kr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7991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ershey Joint Meeting between </a:t>
            </a:r>
            <a:br>
              <a:rPr sz="32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ISO TC184/SC4/WG3/T24 &amp; ISO TC184/SC1/WG7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240" y="3499920"/>
            <a:ext cx="70167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2006. 10. 2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uk-Hwan Suh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onvener of ISO TC184/SC1/WG7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Center for Ubiquitous Manufacturing, </a:t>
            </a:r>
            <a:r>
              <a:rPr b="0" lang="ko-KR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u-mfg.postech.ac.k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OSTECH, Korea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shs@postech.ac.k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Virtual Machining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Virtual Machin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predicts an output of the machining process by simulating the actions of the machine tool in response to the part program and the environment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ased on data model, new systems such as virtual machining and virtual inspection can be developed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581040" y="5445000"/>
            <a:ext cx="21337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Machining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STECH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084720" y="3213000"/>
            <a:ext cx="2519640" cy="22129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6258600" y="5516640"/>
            <a:ext cx="22039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rtual Inspection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IST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3997440" y="3932280"/>
            <a:ext cx="1224000" cy="72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4097520" y="4148280"/>
            <a:ext cx="103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chine Tool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ta Mod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3132000" y="4148280"/>
            <a:ext cx="792360" cy="360360"/>
          </a:xfrm>
          <a:prstGeom prst="leftArrow">
            <a:avLst>
              <a:gd name="adj1" fmla="val 50000"/>
              <a:gd name="adj2" fmla="val 549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 rot="10800000">
            <a:off x="5292720" y="4149360"/>
            <a:ext cx="792000" cy="360360"/>
          </a:xfrm>
          <a:prstGeom prst="leftArrow">
            <a:avLst>
              <a:gd name="adj1" fmla="val 50000"/>
              <a:gd name="adj2" fmla="val 549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rcRect l="0" t="13032" r="21875" b="6516"/>
          <a:stretch/>
        </p:blipFill>
        <p:spPr>
          <a:xfrm>
            <a:off x="395280" y="3243240"/>
            <a:ext cx="2664000" cy="2130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8244000" y="6165720"/>
            <a:ext cx="576000" cy="287640"/>
          </a:xfrm>
          <a:custGeom>
            <a:avLst/>
            <a:gdLst>
              <a:gd name="textAreaLeft" fmla="*/ 18360 w 576000"/>
              <a:gd name="textAreaRight" fmla="*/ 557640 w 57600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3227" h="21600">
                <a:moveTo>
                  <a:pt x="0" y="0"/>
                </a:moveTo>
                <a:lnTo>
                  <a:pt x="43227" y="0"/>
                </a:lnTo>
                <a:lnTo>
                  <a:pt x="43227" y="21600"/>
                </a:lnTo>
                <a:lnTo>
                  <a:pt x="0" y="21600"/>
                </a:lnTo>
                <a:close/>
              </a:path>
              <a:path fill="lightenLess" w="43227" h="21600">
                <a:moveTo>
                  <a:pt x="0" y="0"/>
                </a:moveTo>
                <a:lnTo>
                  <a:pt x="43227" y="0"/>
                </a:lnTo>
                <a:lnTo>
                  <a:pt x="41827" y="1400"/>
                </a:lnTo>
                <a:lnTo>
                  <a:pt x="1400" y="1400"/>
                </a:lnTo>
                <a:close/>
              </a:path>
              <a:path fill="darken" w="43227" h="21600">
                <a:moveTo>
                  <a:pt x="43227" y="0"/>
                </a:moveTo>
                <a:lnTo>
                  <a:pt x="43227" y="21600"/>
                </a:lnTo>
                <a:lnTo>
                  <a:pt x="41827" y="20200"/>
                </a:lnTo>
                <a:lnTo>
                  <a:pt x="41827" y="1400"/>
                </a:lnTo>
                <a:close/>
              </a:path>
              <a:path fill="darkenLess" w="43227" h="21600">
                <a:moveTo>
                  <a:pt x="432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7" y="20200"/>
                </a:lnTo>
                <a:close/>
              </a:path>
              <a:path fill="lighten" w="432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27" h="21600">
                <a:moveTo>
                  <a:pt x="14607" y="10800"/>
                </a:moveTo>
                <a:lnTo>
                  <a:pt x="28620" y="3794"/>
                </a:lnTo>
                <a:lnTo>
                  <a:pt x="2862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iderations for data mod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unctiona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the functional characteristics of the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Comprehensiven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the general properties of machine tools with regardless of the machine tool type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xtensi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represent a new type of machine tools without adding or modifying existing data mode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nteroperabilit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Data model can be interoperable with existing standards such as STEP, STEP-NC and so 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2602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lated International Standards to be referenced for the Machine tools data mod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ISO TC3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e standards for interchangeability between components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Headstock, spindle, column, base, table, rotary table, etc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3836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50000"/>
              </a:lnSpc>
              <a:spcBef>
                <a:spcPts val="49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e standards for testing machine tool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est method, Test code, Test condition, etc.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SME B5 : Catalogue mod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raft B5.59-1: “Data Specification for Machine Tool Performance Tests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raft B5.59-2: “Data Specification for Properties of Machine Tools for Milling and Turning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OSTECH model: Functional model for complex machin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veloped for TurnSTEP, Type 3 STEP-NC system for turning developed by POSTEC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spcBef>
                <a:spcPts val="451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ainly for configuration (structure, kinematics) of machine tool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5" name=""/>
          <p:cNvGraphicFramePr/>
          <p:nvPr/>
        </p:nvGraphicFramePr>
        <p:xfrm>
          <a:off x="574560" y="981000"/>
          <a:ext cx="7932960" cy="507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4560" y="981000"/>
                    <a:ext cx="7932960" cy="50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11120" y="26028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verall data model for machine tool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63640" y="2276640"/>
            <a:ext cx="1008000" cy="288720"/>
          </a:xfrm>
          <a:prstGeom prst="rect">
            <a:avLst/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59280" y="422100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6246720" y="3429000"/>
            <a:ext cx="93672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2987640" y="2421000"/>
            <a:ext cx="86508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2987640" y="2997360"/>
            <a:ext cx="86508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6256440" y="278136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6280200" y="2276640"/>
            <a:ext cx="93672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07000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>
            <a:off x="7596360" y="256392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7596360" y="306864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7596360" y="3573360"/>
            <a:ext cx="93636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9" name=""/>
          <p:cNvSpPr/>
          <p:nvPr/>
        </p:nvSpPr>
        <p:spPr>
          <a:xfrm>
            <a:off x="2268360" y="1700280"/>
            <a:ext cx="100836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3760920" y="1690560"/>
            <a:ext cx="100800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5292720" y="1700280"/>
            <a:ext cx="100800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981000"/>
            <a:ext cx="100800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5372280"/>
            <a:ext cx="108108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5345280"/>
            <a:ext cx="131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Under development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68360" y="5803920"/>
            <a:ext cx="1081080" cy="36036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324000" y="5788080"/>
            <a:ext cx="131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From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PL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468360" y="4940280"/>
            <a:ext cx="1081080" cy="3603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324000" y="4919760"/>
            <a:ext cx="131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To be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eveloped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4967280" y="2276640"/>
            <a:ext cx="934920" cy="288720"/>
          </a:xfrm>
          <a:prstGeom prst="rect">
            <a:avLst/>
          </a:prstGeom>
          <a:noFill/>
          <a:ln w="2844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3708360" y="443700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6804000" y="2997360"/>
            <a:ext cx="432000" cy="14436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531" h="21600">
                <a:moveTo>
                  <a:pt x="0" y="0"/>
                </a:moveTo>
                <a:lnTo>
                  <a:pt x="64531" y="0"/>
                </a:lnTo>
                <a:lnTo>
                  <a:pt x="64531" y="21600"/>
                </a:lnTo>
                <a:lnTo>
                  <a:pt x="0" y="21600"/>
                </a:lnTo>
                <a:close/>
              </a:path>
              <a:path fill="lightenLess" w="64531" h="21600">
                <a:moveTo>
                  <a:pt x="0" y="0"/>
                </a:moveTo>
                <a:lnTo>
                  <a:pt x="64531" y="0"/>
                </a:lnTo>
                <a:lnTo>
                  <a:pt x="63131" y="1400"/>
                </a:lnTo>
                <a:lnTo>
                  <a:pt x="1400" y="1400"/>
                </a:lnTo>
                <a:close/>
              </a:path>
              <a:path fill="darken" w="64531" h="21600">
                <a:moveTo>
                  <a:pt x="64531" y="0"/>
                </a:moveTo>
                <a:lnTo>
                  <a:pt x="64531" y="21600"/>
                </a:lnTo>
                <a:lnTo>
                  <a:pt x="63131" y="20200"/>
                </a:lnTo>
                <a:lnTo>
                  <a:pt x="63131" y="1400"/>
                </a:lnTo>
                <a:close/>
              </a:path>
              <a:path fill="darkenLess" w="64531" h="21600">
                <a:moveTo>
                  <a:pt x="645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31" y="20200"/>
                </a:lnTo>
                <a:close/>
              </a:path>
              <a:path fill="lighten" w="645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531" h="21600">
                <a:moveTo>
                  <a:pt x="25259" y="3794"/>
                </a:moveTo>
                <a:lnTo>
                  <a:pt x="39272" y="10800"/>
                </a:lnTo>
                <a:lnTo>
                  <a:pt x="2525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>
            <a:off x="6804000" y="2492280"/>
            <a:ext cx="432000" cy="144720"/>
          </a:xfrm>
          <a:custGeom>
            <a:avLst/>
            <a:gdLst>
              <a:gd name="textAreaLeft" fmla="*/ 9360 w 432000"/>
              <a:gd name="textAreaRight" fmla="*/ 422640 w 432000"/>
              <a:gd name="textAreaTop" fmla="*/ 9360 h 144720"/>
              <a:gd name="textAreaBottom" fmla="*/ 135360 h 144720"/>
            </a:gdLst>
            <a:ahLst/>
            <a:rect l="textAreaLeft" t="textAreaTop" r="textAreaRight" b="textAreaBottom"/>
            <a:pathLst>
              <a:path w="64371" h="21600">
                <a:moveTo>
                  <a:pt x="0" y="0"/>
                </a:moveTo>
                <a:lnTo>
                  <a:pt x="64371" y="0"/>
                </a:lnTo>
                <a:lnTo>
                  <a:pt x="64371" y="21600"/>
                </a:lnTo>
                <a:lnTo>
                  <a:pt x="0" y="21600"/>
                </a:lnTo>
                <a:close/>
              </a:path>
              <a:path fill="lightenLess" w="64371" h="21600">
                <a:moveTo>
                  <a:pt x="0" y="0"/>
                </a:moveTo>
                <a:lnTo>
                  <a:pt x="64371" y="0"/>
                </a:lnTo>
                <a:lnTo>
                  <a:pt x="62971" y="1400"/>
                </a:lnTo>
                <a:lnTo>
                  <a:pt x="1400" y="1400"/>
                </a:lnTo>
                <a:close/>
              </a:path>
              <a:path fill="darken" w="64371" h="21600">
                <a:moveTo>
                  <a:pt x="64371" y="0"/>
                </a:moveTo>
                <a:lnTo>
                  <a:pt x="64371" y="21600"/>
                </a:lnTo>
                <a:lnTo>
                  <a:pt x="62971" y="20200"/>
                </a:lnTo>
                <a:lnTo>
                  <a:pt x="62971" y="1400"/>
                </a:lnTo>
                <a:close/>
              </a:path>
              <a:path fill="darkenLess" w="64371" h="21600">
                <a:moveTo>
                  <a:pt x="643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971" y="20200"/>
                </a:lnTo>
                <a:close/>
              </a:path>
              <a:path fill="lighten" w="643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371" h="21600">
                <a:moveTo>
                  <a:pt x="25179" y="3794"/>
                </a:moveTo>
                <a:lnTo>
                  <a:pt x="39192" y="10800"/>
                </a:lnTo>
                <a:lnTo>
                  <a:pt x="2517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>
            <a:off x="6732720" y="3645000"/>
            <a:ext cx="431640" cy="144360"/>
          </a:xfrm>
          <a:custGeom>
            <a:avLst/>
            <a:gdLst>
              <a:gd name="textAreaLeft" fmla="*/ 9360 w 431640"/>
              <a:gd name="textAreaRight" fmla="*/ 422280 w 431640"/>
              <a:gd name="textAreaTop" fmla="*/ 9360 h 144360"/>
              <a:gd name="textAreaBottom" fmla="*/ 135000 h 144360"/>
            </a:gdLst>
            <a:ahLst/>
            <a:rect l="textAreaLeft" t="textAreaTop" r="textAreaRight" b="textAreaBottom"/>
            <a:pathLst>
              <a:path w="64478" h="21600">
                <a:moveTo>
                  <a:pt x="0" y="0"/>
                </a:moveTo>
                <a:lnTo>
                  <a:pt x="64478" y="0"/>
                </a:lnTo>
                <a:lnTo>
                  <a:pt x="64478" y="21600"/>
                </a:lnTo>
                <a:lnTo>
                  <a:pt x="0" y="21600"/>
                </a:lnTo>
                <a:close/>
              </a:path>
              <a:path fill="lightenLess" w="64478" h="21600">
                <a:moveTo>
                  <a:pt x="0" y="0"/>
                </a:moveTo>
                <a:lnTo>
                  <a:pt x="64478" y="0"/>
                </a:lnTo>
                <a:lnTo>
                  <a:pt x="63078" y="1400"/>
                </a:lnTo>
                <a:lnTo>
                  <a:pt x="1400" y="1400"/>
                </a:lnTo>
                <a:close/>
              </a:path>
              <a:path fill="darken" w="64478" h="21600">
                <a:moveTo>
                  <a:pt x="64478" y="0"/>
                </a:moveTo>
                <a:lnTo>
                  <a:pt x="64478" y="21600"/>
                </a:lnTo>
                <a:lnTo>
                  <a:pt x="63078" y="20200"/>
                </a:lnTo>
                <a:lnTo>
                  <a:pt x="63078" y="1400"/>
                </a:lnTo>
                <a:close/>
              </a:path>
              <a:path fill="darkenLess" w="64478" h="21600">
                <a:moveTo>
                  <a:pt x="644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078" y="20200"/>
                </a:lnTo>
                <a:close/>
              </a:path>
              <a:path fill="lighten" w="644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478" h="21600">
                <a:moveTo>
                  <a:pt x="25232" y="3794"/>
                </a:moveTo>
                <a:lnTo>
                  <a:pt x="39245" y="10800"/>
                </a:lnTo>
                <a:lnTo>
                  <a:pt x="25232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>
            <a:off x="7956720" y="5950080"/>
            <a:ext cx="647640" cy="28728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8661" h="21600">
                <a:moveTo>
                  <a:pt x="0" y="0"/>
                </a:moveTo>
                <a:lnTo>
                  <a:pt x="48661" y="0"/>
                </a:lnTo>
                <a:lnTo>
                  <a:pt x="48661" y="21600"/>
                </a:lnTo>
                <a:lnTo>
                  <a:pt x="0" y="21600"/>
                </a:lnTo>
                <a:close/>
              </a:path>
              <a:path fill="lightenLess" w="48661" h="21600">
                <a:moveTo>
                  <a:pt x="0" y="0"/>
                </a:moveTo>
                <a:lnTo>
                  <a:pt x="48661" y="0"/>
                </a:lnTo>
                <a:lnTo>
                  <a:pt x="47261" y="1400"/>
                </a:lnTo>
                <a:lnTo>
                  <a:pt x="1400" y="1400"/>
                </a:lnTo>
                <a:close/>
              </a:path>
              <a:path fill="darken" w="48661" h="21600">
                <a:moveTo>
                  <a:pt x="48661" y="0"/>
                </a:moveTo>
                <a:lnTo>
                  <a:pt x="48661" y="21600"/>
                </a:lnTo>
                <a:lnTo>
                  <a:pt x="47261" y="20200"/>
                </a:lnTo>
                <a:lnTo>
                  <a:pt x="47261" y="1400"/>
                </a:lnTo>
                <a:close/>
              </a:path>
              <a:path fill="darkenLess" w="48661" h="21600">
                <a:moveTo>
                  <a:pt x="486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61" y="20200"/>
                </a:lnTo>
                <a:close/>
              </a:path>
              <a:path fill="lighten" w="486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61" h="21600">
                <a:moveTo>
                  <a:pt x="17324" y="3794"/>
                </a:moveTo>
                <a:lnTo>
                  <a:pt x="31337" y="10800"/>
                </a:lnTo>
                <a:lnTo>
                  <a:pt x="17324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684360" y="115920"/>
            <a:ext cx="767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chine tool data model : Composite Machine Too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>
            <a:off x="3995640" y="2284560"/>
            <a:ext cx="3168720" cy="792000"/>
          </a:xfrm>
          <a:custGeom>
            <a:avLst/>
            <a:gdLst/>
            <a:ahLst/>
            <a:rect l="l" t="t" r="r" b="b"/>
            <a:pathLst>
              <a:path w="1996" h="499">
                <a:moveTo>
                  <a:pt x="0" y="499"/>
                </a:moveTo>
                <a:lnTo>
                  <a:pt x="1134" y="499"/>
                </a:lnTo>
                <a:lnTo>
                  <a:pt x="1134" y="318"/>
                </a:lnTo>
                <a:lnTo>
                  <a:pt x="1996" y="318"/>
                </a:lnTo>
                <a:lnTo>
                  <a:pt x="1996" y="0"/>
                </a:lnTo>
                <a:lnTo>
                  <a:pt x="998" y="46"/>
                </a:lnTo>
                <a:lnTo>
                  <a:pt x="998" y="272"/>
                </a:lnTo>
                <a:lnTo>
                  <a:pt x="272" y="318"/>
                </a:lnTo>
                <a:lnTo>
                  <a:pt x="272" y="408"/>
                </a:lnTo>
                <a:lnTo>
                  <a:pt x="0" y="408"/>
                </a:lnTo>
                <a:lnTo>
                  <a:pt x="0" y="4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08400" y="907920"/>
          <a:ext cx="3911400" cy="56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8400" y="907920"/>
                    <a:ext cx="3911400" cy="56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7740720" y="5805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chine tool data model : Spindl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692360" y="1268280"/>
            <a:ext cx="5904000" cy="4326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7740720" y="5805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chine tool data model : Axis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1440" cy="3759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740720" y="5805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43000" y="189000"/>
            <a:ext cx="6934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Machine tool data model : Turre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1619280" y="966960"/>
            <a:ext cx="5688000" cy="53416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740720" y="5805360"/>
            <a:ext cx="647640" cy="360360"/>
          </a:xfrm>
          <a:custGeom>
            <a:avLst/>
            <a:gdLst>
              <a:gd name="textAreaLeft" fmla="*/ 23040 w 647640"/>
              <a:gd name="textAreaRight" fmla="*/ 624600 w 64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02" h="21600">
                <a:moveTo>
                  <a:pt x="0" y="0"/>
                </a:moveTo>
                <a:lnTo>
                  <a:pt x="38802" y="0"/>
                </a:lnTo>
                <a:lnTo>
                  <a:pt x="38802" y="21600"/>
                </a:lnTo>
                <a:lnTo>
                  <a:pt x="0" y="21600"/>
                </a:lnTo>
                <a:close/>
              </a:path>
              <a:path fill="lightenLess" w="38802" h="21600">
                <a:moveTo>
                  <a:pt x="0" y="0"/>
                </a:moveTo>
                <a:lnTo>
                  <a:pt x="38802" y="0"/>
                </a:lnTo>
                <a:lnTo>
                  <a:pt x="37402" y="1400"/>
                </a:lnTo>
                <a:lnTo>
                  <a:pt x="1400" y="1400"/>
                </a:lnTo>
                <a:close/>
              </a:path>
              <a:path fill="darken" w="38802" h="21600">
                <a:moveTo>
                  <a:pt x="38802" y="0"/>
                </a:moveTo>
                <a:lnTo>
                  <a:pt x="38802" y="21600"/>
                </a:lnTo>
                <a:lnTo>
                  <a:pt x="37402" y="20200"/>
                </a:lnTo>
                <a:lnTo>
                  <a:pt x="37402" y="1400"/>
                </a:lnTo>
                <a:close/>
              </a:path>
              <a:path fill="darkenLess" w="38802" h="21600">
                <a:moveTo>
                  <a:pt x="3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02" y="20200"/>
                </a:lnTo>
                <a:close/>
              </a:path>
              <a:path fill="lighten" w="3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02" h="21600">
                <a:moveTo>
                  <a:pt x="12395" y="10800"/>
                </a:moveTo>
                <a:lnTo>
                  <a:pt x="26408" y="3794"/>
                </a:lnTo>
                <a:lnTo>
                  <a:pt x="26408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ecution pla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160" y="1052640"/>
            <a:ext cx="79261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68360" y="2941560"/>
            <a:ext cx="8294760" cy="20718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826920" y="981000"/>
            <a:ext cx="8028000" cy="9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all for participation !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joint working group/authorship, etc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Status of ISO 14649 Part 17 : Rapid Prototyping for STEP-N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2006. 10. 2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Jean-Yves Hascoe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Ecole Centrale de Nant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31840"/>
            <a:ext cx="69343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genda for WG7 issu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362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Data Model Issu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 Rapid Prototyping Model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 EDM Data 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 2</a:t>
            </a:r>
            <a:r>
              <a:rPr b="1" lang="ko-KR" sz="2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Edition of ISO 1464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 3D data model for freeformed surfac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New International Projects Issu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 Next STEP-NC Project (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Ubi_Fast NC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FAMOU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 Machine Tool Data 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- UPLIFE Projec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all for “Active” Members willing to work together!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43000" y="37440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99"/>
                </a:solidFill>
                <a:latin typeface="Arial"/>
              </a:rPr>
              <a:t>Rapid Prototyping (J.Y. Hascoet) :</a:t>
            </a:r>
            <a:br>
              <a:rPr sz="2400"/>
            </a:br>
            <a:r>
              <a:rPr b="0" lang="ko-KR" sz="2400" spc="-1" strike="noStrike">
                <a:solidFill>
                  <a:srgbClr val="333399"/>
                </a:solidFill>
                <a:latin typeface="Arial"/>
              </a:rPr>
              <a:t>The Korea data interface for rapid prototyping in IMS STEP-NC project    [Pr Jee &amp; al]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143000" y="6553080"/>
            <a:ext cx="78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1143000"/>
            <a:ext cx="83818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1143000"/>
            <a:ext cx="762120" cy="3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1143000"/>
            <a:ext cx="3048120" cy="3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_part_geo_design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1600200" y="2209680"/>
            <a:ext cx="3124080" cy="3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_part_non_geo_design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3876840"/>
            <a:ext cx="3124080" cy="3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_part_Process_histo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1600200" y="6238800"/>
            <a:ext cx="3124080" cy="30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b_part_locally_control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4724280" y="1066680"/>
            <a:ext cx="4038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Information of the CAD geometr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Mass Properti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Geometric features designe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4724280" y="213372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- Surface roughn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Dimensional tolerance of the par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Types of post-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Types of materi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Types of colo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4724280" y="3809880"/>
            <a:ext cx="4419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Information of LM process worker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Elapsed time for LM process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Types of machines used for LM process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Cost expenditure for LM process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Information for a multi-part fabric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during one-time 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Information of two-dimensiona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(2D) sliced layer geometr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4876920" y="6032520"/>
            <a:ext cx="41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dvTimes"/>
              </a:rPr>
              <a:t>- A faceted polygonal model with properties locally controlled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12952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295280"/>
            <a:ext cx="0" cy="518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>
            <a:off x="1295280" y="4038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1295280" y="6477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37440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2P activities and STEP-NC / RP :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ustrial Applic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eeds specifics developments for additive processes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ew manufacturing_featur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design_exception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feature_definition_item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feature_profil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anufacturing_feature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anufacturing_part_properties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anufacturing_process_control_documentation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anufacturing_process_requirement_documents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measurement_limitations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part_administration_data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part_model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requisitions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54200" indent="-301680"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400" spc="-1" strike="noStrike">
                <a:solidFill>
                  <a:srgbClr val="000000"/>
                </a:solidFill>
                <a:latin typeface="굴림"/>
              </a:rPr>
              <a:t>shape_representation_for_machining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ew RP manufacturing_featu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New definition of base_shap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142640" y="374400"/>
            <a:ext cx="7101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MO2P activities and STEP-NC / RP : </a:t>
            </a:r>
            <a:br>
              <a:rPr sz="2400"/>
            </a:b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Needs and contribu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7520" y="1143000"/>
            <a:ext cx="45720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838080" y="1143000"/>
            <a:ext cx="228600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b_part_geo_design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>
            <a:off x="914400" y="2209680"/>
            <a:ext cx="220968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b_part_non_geo_design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3373560"/>
            <a:ext cx="220968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b_part_Process_history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5153040"/>
            <a:ext cx="2133720" cy="2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b_part_locally_control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>
            <a:off x="3124080" y="1100160"/>
            <a:ext cx="4038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AD geometry desig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Mass Properti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Geometric features design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2166840"/>
            <a:ext cx="3657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Surface roughn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Dimensional tolerance of the pa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ypes of post-proc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ypes of materi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ypes of col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3124080" y="3340080"/>
            <a:ext cx="3200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Information of LM process work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lapsed time for LM process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Types of machines used for LM process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Cost expenditure for LM process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Information for a multi-part fabr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ing one-time proces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Information of two-dimension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2D) sliced layer geometry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513252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A faceted polygonal model with properties locally controlled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476280" y="129528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1295280"/>
            <a:ext cx="1800" cy="407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>
            <a:off x="609480" y="2362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609480" y="35352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5391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6477120" y="251460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RP Data Ba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6513120" y="3903840"/>
            <a:ext cx="255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Work on cost Optim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5791320" y="4040280"/>
            <a:ext cx="76176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6515280" y="4202280"/>
            <a:ext cx="23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Arial"/>
              </a:rPr>
              <a:t>Multi-Process Approac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5800680" y="4373640"/>
            <a:ext cx="76212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6477120" y="143820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Transversal approach RP Data Ba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1619280"/>
            <a:ext cx="121896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>
            <a:off x="6513120" y="3478320"/>
            <a:ext cx="26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Work on Time Optimiz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3668760"/>
            <a:ext cx="76176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6496200" y="3706920"/>
            <a:ext cx="146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RP Data Bas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3840120"/>
            <a:ext cx="38088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876920" y="2685960"/>
            <a:ext cx="167616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4572000" y="2857680"/>
            <a:ext cx="1828800" cy="0"/>
          </a:xfrm>
          <a:prstGeom prst="line">
            <a:avLst/>
          </a:prstGeom>
          <a:ln cap="sq" w="1260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685960"/>
            <a:ext cx="0" cy="15264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1619280"/>
            <a:ext cx="0" cy="22860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6400800" y="1857240"/>
            <a:ext cx="15228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6058080" y="44308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Arial"/>
                <a:ea typeface="굴림"/>
              </a:rPr>
              <a:t>Optimization of the working area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>
            <a:off x="6400800" y="4373640"/>
            <a:ext cx="0" cy="22860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>
            <a:off x="6400800" y="4602240"/>
            <a:ext cx="152280" cy="0"/>
          </a:xfrm>
          <a:prstGeom prst="line">
            <a:avLst/>
          </a:prstGeom>
          <a:ln cap="sq"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6434280" y="1044720"/>
            <a:ext cx="267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0000"/>
                </a:solidFill>
                <a:latin typeface="Arial"/>
              </a:rPr>
              <a:t>New Manufacturing_featur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4822920" y="1251000"/>
            <a:ext cx="1666800" cy="0"/>
          </a:xfrm>
          <a:prstGeom prst="line">
            <a:avLst/>
          </a:prstGeom>
          <a:ln cap="sq" w="12600">
            <a:solidFill>
              <a:srgbClr val="ff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us of ISO STEP-NC Data mod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347840"/>
          <a:ext cx="8077320" cy="4313160"/>
        </p:xfrm>
        <a:graphic>
          <a:graphicData uri="http://schemas.openxmlformats.org/drawingml/2006/table">
            <a:tbl>
              <a:tblPr/>
              <a:tblGrid>
                <a:gridCol w="1415880"/>
                <a:gridCol w="4580280"/>
                <a:gridCol w="915840"/>
                <a:gridCol w="1165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O 1464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itle of docu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Ed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t 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verview &amp; fundamental princi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t 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eneral process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t 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ss data for mi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t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ss data for tu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t 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ss data for wire E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t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rocess data for sink ED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Part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Process data for inspec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Part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Process Data for rapid prototy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W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Part 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Machine tools for general pro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W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t 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utting Tools for mil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FD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Part 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Tools for tur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30312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Edition of ISO 14649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M (Part 13 &amp; Part 1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pection (Tentatively Part 1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id Prototyping (Tentatively Part 1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chine Tool (Tentatively Part 11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ement of the existing data mod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3D Data Model for free surface features and machining opera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i-directional information flow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Issues not accommodated in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di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all for participation to join in Task Force!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240" y="16761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333399"/>
                </a:solidFill>
                <a:latin typeface="Arial"/>
              </a:rPr>
              <a:t>Progress of ISO 14649 Part 110 : Machine tools for STEP-NC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2006. 10. 2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uk-Hwan Suh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Center for Ubiquitous Manufactur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POSTECH, Korea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hs@postech.ac.k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Specification  of Part 110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ARM: Requirement or Functional Model like Part 111 &amp; 121 compared with catalogue model ISO 1339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ASME B5.59-2 is a kind of the catalogue model for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굴림"/>
              </a:rPr>
              <a:t>ISO 14649 Part 110 is a kind of the requirement model for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Necessities addressed and unanimously agreed in ISO TC184/SC1 Beijing Meeting, October 200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elated with Machine Tool </a:t>
            </a:r>
            <a:r>
              <a:rPr b="0" i="1" lang="ko-KR" sz="1800" spc="-1" strike="noStrike">
                <a:solidFill>
                  <a:srgbClr val="000000"/>
                </a:solidFill>
                <a:latin typeface="굴림"/>
              </a:rPr>
              <a:t>(catalogue)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data model under development by ISO TC3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Need to be harmonized with ISO TC3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Joint Meeting between ISO TC184/SC1/WG7 and ISO TC39/SC2 held in Busan Korea, May 11, 200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6640" y="303120"/>
            <a:ext cx="7317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cope of ISO 14649 Part 110 : Machine tools for general proce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595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mpared with </a:t>
            </a:r>
            <a:r>
              <a:rPr b="0" i="1" lang="en-US" sz="1600" spc="-1" strike="noStrike">
                <a:solidFill>
                  <a:srgbClr val="000000"/>
                </a:solidFill>
                <a:latin typeface="굴림"/>
              </a:rPr>
              <a:t>product lifecycle data model for machine too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11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art 110 as “Small” data model compared with “Large” data model (</a:t>
            </a:r>
            <a:r>
              <a:rPr b="0" i="1" lang="en-US" sz="1400" spc="-1" strike="noStrike">
                <a:solidFill>
                  <a:srgbClr val="000000"/>
                </a:solidFill>
                <a:latin typeface="굴림"/>
              </a:rPr>
              <a:t>product lifecycle data model for machine tools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lnSpc>
                <a:spcPct val="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Scope &amp; main usag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General and functional requirement data model for machine tools to execute a STEP-NC part program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To Specify machine tool type and specification to execute STEP-NC part program, which can be used as a means for selecting actual machine tools to be used for executing the STEP-NC part program in the shop floor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Others usag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Digital manufacturing (STEP-Manufacturing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ocess planning / Machine programm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Virtual machi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Virtual NC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actory flow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Workspace design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erformance verification and tracking/process variability/quality contr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lug-and-play machine installation, self-identific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Machine intelligence (self-knowledge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1" marL="762120" indent="-30492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nterference between components of machine too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terference between chuck and tool holder in milling machin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-26676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13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Interference between spindle and turret in turning machining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lvl="2" marL="11811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5291280" y="3716280"/>
            <a:ext cx="576000" cy="289080"/>
          </a:xfrm>
          <a:custGeom>
            <a:avLst/>
            <a:gdLst>
              <a:gd name="textAreaLeft" fmla="*/ 18720 w 576000"/>
              <a:gd name="textAreaRight" fmla="*/ 557280 w 5760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12" h="21600">
                <a:moveTo>
                  <a:pt x="0" y="0"/>
                </a:moveTo>
                <a:lnTo>
                  <a:pt x="43012" y="0"/>
                </a:lnTo>
                <a:lnTo>
                  <a:pt x="43012" y="21600"/>
                </a:lnTo>
                <a:lnTo>
                  <a:pt x="0" y="21600"/>
                </a:lnTo>
                <a:close/>
              </a:path>
              <a:path fill="lightenLess" w="43012" h="21600">
                <a:moveTo>
                  <a:pt x="0" y="0"/>
                </a:moveTo>
                <a:lnTo>
                  <a:pt x="43012" y="0"/>
                </a:lnTo>
                <a:lnTo>
                  <a:pt x="41612" y="1400"/>
                </a:lnTo>
                <a:lnTo>
                  <a:pt x="1400" y="1400"/>
                </a:lnTo>
                <a:close/>
              </a:path>
              <a:path fill="darken" w="43012" h="21600">
                <a:moveTo>
                  <a:pt x="43012" y="0"/>
                </a:moveTo>
                <a:lnTo>
                  <a:pt x="43012" y="21600"/>
                </a:lnTo>
                <a:lnTo>
                  <a:pt x="41612" y="20200"/>
                </a:lnTo>
                <a:lnTo>
                  <a:pt x="41612" y="1400"/>
                </a:lnTo>
                <a:close/>
              </a:path>
              <a:path fill="darkenLess" w="43012" h="21600">
                <a:moveTo>
                  <a:pt x="430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12" y="20200"/>
                </a:lnTo>
                <a:close/>
              </a:path>
              <a:path fill="lighten" w="430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12" h="21600">
                <a:moveTo>
                  <a:pt x="14499" y="3794"/>
                </a:moveTo>
                <a:lnTo>
                  <a:pt x="28512" y="10800"/>
                </a:lnTo>
                <a:lnTo>
                  <a:pt x="14499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3564000" y="1844640"/>
            <a:ext cx="576360" cy="28908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43039" h="21600">
                <a:moveTo>
                  <a:pt x="0" y="0"/>
                </a:moveTo>
                <a:lnTo>
                  <a:pt x="43039" y="0"/>
                </a:lnTo>
                <a:lnTo>
                  <a:pt x="43039" y="21600"/>
                </a:lnTo>
                <a:lnTo>
                  <a:pt x="0" y="21600"/>
                </a:lnTo>
                <a:close/>
              </a:path>
              <a:path fill="lightenLess" w="43039" h="21600">
                <a:moveTo>
                  <a:pt x="0" y="0"/>
                </a:moveTo>
                <a:lnTo>
                  <a:pt x="43039" y="0"/>
                </a:lnTo>
                <a:lnTo>
                  <a:pt x="41639" y="1400"/>
                </a:lnTo>
                <a:lnTo>
                  <a:pt x="1400" y="1400"/>
                </a:lnTo>
                <a:close/>
              </a:path>
              <a:path fill="darken" w="43039" h="21600">
                <a:moveTo>
                  <a:pt x="43039" y="0"/>
                </a:moveTo>
                <a:lnTo>
                  <a:pt x="43039" y="21600"/>
                </a:lnTo>
                <a:lnTo>
                  <a:pt x="41639" y="20200"/>
                </a:lnTo>
                <a:lnTo>
                  <a:pt x="41639" y="1400"/>
                </a:lnTo>
                <a:close/>
              </a:path>
              <a:path fill="darkenLess" w="43039" h="21600">
                <a:moveTo>
                  <a:pt x="430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39" y="20200"/>
                </a:lnTo>
                <a:close/>
              </a:path>
              <a:path fill="lighten" w="430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39" h="21600">
                <a:moveTo>
                  <a:pt x="14513" y="3794"/>
                </a:moveTo>
                <a:lnTo>
                  <a:pt x="28526" y="10800"/>
                </a:lnTo>
                <a:lnTo>
                  <a:pt x="14513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8028000" y="5950080"/>
            <a:ext cx="576360" cy="288720"/>
          </a:xfrm>
          <a:custGeom>
            <a:avLst/>
            <a:gdLst>
              <a:gd name="textAreaLeft" fmla="*/ 18720 w 576360"/>
              <a:gd name="textAreaRight" fmla="*/ 557640 w 57636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25560" y="30312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lationship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duct lifecycle data model for machine tool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08000" y="1700280"/>
            <a:ext cx="5832720" cy="2808360"/>
          </a:xfrm>
          <a:custGeom>
            <a:avLst/>
            <a:gdLst/>
            <a:ahLst/>
            <a:rect l="l" t="t" r="r" b="b"/>
            <a:pathLst>
              <a:path w="3674" h="1769">
                <a:moveTo>
                  <a:pt x="0" y="0"/>
                </a:moveTo>
                <a:lnTo>
                  <a:pt x="0" y="1769"/>
                </a:lnTo>
                <a:lnTo>
                  <a:pt x="3674" y="1769"/>
                </a:lnTo>
                <a:lnTo>
                  <a:pt x="3674" y="590"/>
                </a:lnTo>
                <a:lnTo>
                  <a:pt x="1950" y="590"/>
                </a:lnTo>
                <a:lnTo>
                  <a:pt x="1950" y="318"/>
                </a:lnTo>
                <a:lnTo>
                  <a:pt x="952" y="318"/>
                </a:lnTo>
                <a:lnTo>
                  <a:pt x="952" y="0"/>
                </a:lnTo>
                <a:lnTo>
                  <a:pt x="0" y="0"/>
                </a:lnTo>
                <a:close/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1224000"/>
            <a:ext cx="1081080" cy="36036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197000"/>
            <a:ext cx="131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Covered by ISO 14649 Part 110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>
            <a:hlinkClick r:id="" action="ppaction://hlinkshowjump?jump=previousslide"/>
          </p:cNvPr>
          <p:cNvSpPr/>
          <p:nvPr/>
        </p:nvSpPr>
        <p:spPr>
          <a:xfrm>
            <a:off x="8317080" y="6165720"/>
            <a:ext cx="647640" cy="287640"/>
          </a:xfrm>
          <a:custGeom>
            <a:avLst/>
            <a:gdLst>
              <a:gd name="textAreaLeft" fmla="*/ 18360 w 647640"/>
              <a:gd name="textAreaRight" fmla="*/ 629280 w 64764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48600" h="21600">
                <a:moveTo>
                  <a:pt x="0" y="0"/>
                </a:moveTo>
                <a:lnTo>
                  <a:pt x="48600" y="0"/>
                </a:lnTo>
                <a:lnTo>
                  <a:pt x="48600" y="21600"/>
                </a:lnTo>
                <a:lnTo>
                  <a:pt x="0" y="21600"/>
                </a:lnTo>
                <a:close/>
              </a:path>
              <a:path fill="lightenLess" w="48600" h="21600">
                <a:moveTo>
                  <a:pt x="0" y="0"/>
                </a:moveTo>
                <a:lnTo>
                  <a:pt x="48600" y="0"/>
                </a:lnTo>
                <a:lnTo>
                  <a:pt x="47200" y="1400"/>
                </a:lnTo>
                <a:lnTo>
                  <a:pt x="1400" y="1400"/>
                </a:lnTo>
                <a:close/>
              </a:path>
              <a:path fill="darken" w="48600" h="21600">
                <a:moveTo>
                  <a:pt x="48600" y="0"/>
                </a:moveTo>
                <a:lnTo>
                  <a:pt x="48600" y="21600"/>
                </a:lnTo>
                <a:lnTo>
                  <a:pt x="47200" y="20200"/>
                </a:lnTo>
                <a:lnTo>
                  <a:pt x="47200" y="1400"/>
                </a:lnTo>
                <a:close/>
              </a:path>
              <a:path fill="darkenLess" w="48600" h="21600">
                <a:moveTo>
                  <a:pt x="48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0" y="20200"/>
                </a:lnTo>
                <a:close/>
              </a:path>
              <a:path fill="lighten" w="48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0" h="21600">
                <a:moveTo>
                  <a:pt x="17294" y="10800"/>
                </a:moveTo>
                <a:lnTo>
                  <a:pt x="31306" y="3794"/>
                </a:lnTo>
                <a:lnTo>
                  <a:pt x="31306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2062080" y="863640"/>
          <a:ext cx="5389560" cy="595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863640"/>
                    <a:ext cx="5389560" cy="59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3803" r="16832" b="4963"/>
          <a:stretch/>
        </p:blipFill>
        <p:spPr>
          <a:xfrm>
            <a:off x="5724360" y="907920"/>
            <a:ext cx="2544840" cy="1770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31480"/>
            <a:ext cx="6934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igital Manufacturing solution (e.g., Delmia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2200" y="2492280"/>
            <a:ext cx="8642520" cy="2737080"/>
          </a:xfrm>
          <a:prstGeom prst="rect">
            <a:avLst/>
          </a:prstGeom>
          <a:solidFill>
            <a:srgbClr val="cc99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14160" y="2788200"/>
            <a:ext cx="1267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oduct desig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238480" y="2788200"/>
            <a:ext cx="140904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ocess Plan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3853440" y="2788200"/>
            <a:ext cx="134064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Layout Plann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5439240" y="2788200"/>
            <a:ext cx="10324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Ergonomic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7001640" y="2788200"/>
            <a:ext cx="1576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Time Measure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535680" y="4369320"/>
            <a:ext cx="97308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roduc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673280" y="4369320"/>
            <a:ext cx="188604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Factory Flow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3804480" y="4369320"/>
            <a:ext cx="120024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C Simul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5116320" y="4369320"/>
            <a:ext cx="1469880" cy="2764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759000" y="4369320"/>
            <a:ext cx="20919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obotics &amp; PLC verif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1" name=""/>
          <p:cNvCxnSpPr>
            <a:stCxn id="111" idx="3"/>
            <a:endCxn id="112" idx="1"/>
          </p:cNvCxnSpPr>
          <p:nvPr/>
        </p:nvCxnSpPr>
        <p:spPr>
          <a:xfrm>
            <a:off x="1883880" y="2927160"/>
            <a:ext cx="34524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2" idx="3"/>
            <a:endCxn id="113" idx="1"/>
          </p:cNvCxnSpPr>
          <p:nvPr/>
        </p:nvCxnSpPr>
        <p:spPr>
          <a:xfrm>
            <a:off x="3657600" y="2927160"/>
            <a:ext cx="20232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3" idx="3"/>
            <a:endCxn id="114" idx="1"/>
          </p:cNvCxnSpPr>
          <p:nvPr/>
        </p:nvCxnSpPr>
        <p:spPr>
          <a:xfrm>
            <a:off x="5187960" y="2927160"/>
            <a:ext cx="24840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4" idx="3"/>
            <a:endCxn id="115" idx="1"/>
          </p:cNvCxnSpPr>
          <p:nvPr/>
        </p:nvCxnSpPr>
        <p:spPr>
          <a:xfrm>
            <a:off x="6474960" y="2927160"/>
            <a:ext cx="54540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5" idx="2"/>
            <a:endCxn id="120" idx="0"/>
          </p:cNvCxnSpPr>
          <p:nvPr/>
        </p:nvCxnSpPr>
        <p:spPr>
          <a:xfrm>
            <a:off x="7790040" y="3068280"/>
            <a:ext cx="16560" cy="129780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20" idx="1"/>
            <a:endCxn id="119" idx="3"/>
          </p:cNvCxnSpPr>
          <p:nvPr/>
        </p:nvCxnSpPr>
        <p:spPr>
          <a:xfrm flipH="1">
            <a:off x="6587640" y="4508280"/>
            <a:ext cx="14544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9" idx="1"/>
            <a:endCxn id="118" idx="3"/>
          </p:cNvCxnSpPr>
          <p:nvPr/>
        </p:nvCxnSpPr>
        <p:spPr>
          <a:xfrm flipH="1">
            <a:off x="5002920" y="4508280"/>
            <a:ext cx="11196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18" idx="1"/>
            <a:endCxn id="117" idx="3"/>
          </p:cNvCxnSpPr>
          <p:nvPr/>
        </p:nvCxnSpPr>
        <p:spPr>
          <a:xfrm flipH="1">
            <a:off x="3563640" y="4508280"/>
            <a:ext cx="24192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17" idx="1"/>
            <a:endCxn id="116" idx="3"/>
          </p:cNvCxnSpPr>
          <p:nvPr/>
        </p:nvCxnSpPr>
        <p:spPr>
          <a:xfrm flipH="1">
            <a:off x="1504080" y="4508280"/>
            <a:ext cx="164520" cy="1080"/>
          </a:xfrm>
          <a:prstGeom prst="straightConnector1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59280" y="3357720"/>
            <a:ext cx="1223640" cy="7207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3159360" y="3573360"/>
            <a:ext cx="1035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Machine Tool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Data Model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0" t="3693" r="16347" b="3999"/>
          <a:stretch/>
        </p:blipFill>
        <p:spPr>
          <a:xfrm>
            <a:off x="5076720" y="5300640"/>
            <a:ext cx="1598760" cy="1344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4120" y="4653000"/>
            <a:ext cx="125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Post processing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107320" y="4653000"/>
            <a:ext cx="1396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Virtual CAM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Virtual Inspectio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rcRect l="0" t="12661" r="0" b="0"/>
          <a:stretch/>
        </p:blipFill>
        <p:spPr>
          <a:xfrm>
            <a:off x="395280" y="5084640"/>
            <a:ext cx="4465800" cy="1617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550880" y="4653000"/>
            <a:ext cx="2274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Maintenance (MTTF, Utilization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68360" y="3068640"/>
            <a:ext cx="1225080" cy="1118880"/>
            <a:chOff x="468360" y="3068640"/>
            <a:chExt cx="1225080" cy="1118880"/>
          </a:xfrm>
        </p:grpSpPr>
        <p:sp>
          <p:nvSpPr>
            <p:cNvPr id="138" name=""/>
            <p:cNvSpPr/>
            <p:nvPr/>
          </p:nvSpPr>
          <p:spPr>
            <a:xfrm>
              <a:off x="468360" y="3589560"/>
              <a:ext cx="272520" cy="168120"/>
            </a:xfrm>
            <a:custGeom>
              <a:avLst/>
              <a:gdLst/>
              <a:ahLst/>
              <a:rect l="l" t="t" r="r" b="b"/>
              <a:pathLst>
                <a:path w="117" h="70">
                  <a:moveTo>
                    <a:pt x="0" y="70"/>
                  </a:moveTo>
                  <a:lnTo>
                    <a:pt x="117" y="9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3"/>
                  </a:lnTo>
                  <a:lnTo>
                    <a:pt x="76" y="9"/>
                  </a:lnTo>
                  <a:lnTo>
                    <a:pt x="76" y="19"/>
                  </a:lnTo>
                  <a:lnTo>
                    <a:pt x="38" y="38"/>
                  </a:lnTo>
                  <a:lnTo>
                    <a:pt x="38" y="34"/>
                  </a:lnTo>
                  <a:lnTo>
                    <a:pt x="38" y="30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1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1240" y="3711960"/>
              <a:ext cx="508320" cy="290520"/>
            </a:xfrm>
            <a:custGeom>
              <a:avLst/>
              <a:gdLst/>
              <a:ahLst/>
              <a:rect l="l" t="t" r="r" b="b"/>
              <a:pathLst>
                <a:path w="218" h="121">
                  <a:moveTo>
                    <a:pt x="218" y="121"/>
                  </a:moveTo>
                  <a:lnTo>
                    <a:pt x="218" y="115"/>
                  </a:lnTo>
                  <a:lnTo>
                    <a:pt x="0" y="0"/>
                  </a:lnTo>
                  <a:lnTo>
                    <a:pt x="0" y="6"/>
                  </a:lnTo>
                  <a:lnTo>
                    <a:pt x="218" y="1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2280" y="3711960"/>
              <a:ext cx="48960" cy="385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21" y="0"/>
                  </a:moveTo>
                  <a:lnTo>
                    <a:pt x="21" y="6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68360" y="3700080"/>
              <a:ext cx="634320" cy="343440"/>
            </a:xfrm>
            <a:custGeom>
              <a:avLst/>
              <a:gdLst/>
              <a:ahLst/>
              <a:rect l="l" t="t" r="r" b="b"/>
              <a:pathLst>
                <a:path w="272" h="143">
                  <a:moveTo>
                    <a:pt x="17" y="17"/>
                  </a:moveTo>
                  <a:lnTo>
                    <a:pt x="40" y="5"/>
                  </a:lnTo>
                  <a:lnTo>
                    <a:pt x="29" y="0"/>
                  </a:lnTo>
                  <a:lnTo>
                    <a:pt x="0" y="15"/>
                  </a:lnTo>
                  <a:lnTo>
                    <a:pt x="243" y="143"/>
                  </a:lnTo>
                  <a:lnTo>
                    <a:pt x="272" y="126"/>
                  </a:lnTo>
                  <a:lnTo>
                    <a:pt x="258" y="118"/>
                  </a:lnTo>
                  <a:lnTo>
                    <a:pt x="235" y="132"/>
                  </a:lnTo>
                  <a:lnTo>
                    <a:pt x="17" y="1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68360" y="3736080"/>
              <a:ext cx="566640" cy="32652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8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68360" y="3758040"/>
              <a:ext cx="566640" cy="429480"/>
            </a:xfrm>
            <a:custGeom>
              <a:avLst/>
              <a:gdLst/>
              <a:ahLst/>
              <a:rect l="l" t="t" r="r" b="b"/>
              <a:pathLst>
                <a:path w="243" h="179">
                  <a:moveTo>
                    <a:pt x="0" y="0"/>
                  </a:moveTo>
                  <a:lnTo>
                    <a:pt x="243" y="127"/>
                  </a:lnTo>
                  <a:lnTo>
                    <a:pt x="243" y="179"/>
                  </a:lnTo>
                  <a:lnTo>
                    <a:pt x="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6560" y="3635280"/>
              <a:ext cx="658080" cy="352800"/>
            </a:xfrm>
            <a:custGeom>
              <a:avLst/>
              <a:gdLst/>
              <a:ahLst/>
              <a:rect l="l" t="t" r="r" b="b"/>
              <a:pathLst>
                <a:path w="282" h="147">
                  <a:moveTo>
                    <a:pt x="38" y="0"/>
                  </a:moveTo>
                  <a:lnTo>
                    <a:pt x="0" y="19"/>
                  </a:lnTo>
                  <a:lnTo>
                    <a:pt x="243" y="147"/>
                  </a:lnTo>
                  <a:lnTo>
                    <a:pt x="282" y="12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35320" y="3676320"/>
              <a:ext cx="567360" cy="32652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4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76680" y="3635280"/>
              <a:ext cx="44280" cy="50400"/>
            </a:xfrm>
            <a:custGeom>
              <a:avLst/>
              <a:gdLst/>
              <a:ahLst/>
              <a:rect l="l" t="t" r="r" b="b"/>
              <a:pathLst>
                <a:path w="19" h="21">
                  <a:moveTo>
                    <a:pt x="0" y="0"/>
                  </a:moveTo>
                  <a:lnTo>
                    <a:pt x="19" y="11"/>
                  </a:lnTo>
                  <a:lnTo>
                    <a:pt x="19" y="21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76680" y="3440880"/>
              <a:ext cx="403560" cy="22104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7" y="92"/>
                  </a:moveTo>
                  <a:lnTo>
                    <a:pt x="0" y="81"/>
                  </a:lnTo>
                  <a:lnTo>
                    <a:pt x="153" y="0"/>
                  </a:lnTo>
                  <a:lnTo>
                    <a:pt x="173" y="10"/>
                  </a:lnTo>
                  <a:lnTo>
                    <a:pt x="17" y="9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21320" y="3465000"/>
              <a:ext cx="359280" cy="221040"/>
            </a:xfrm>
            <a:custGeom>
              <a:avLst/>
              <a:gdLst/>
              <a:ahLst/>
              <a:rect l="l" t="t" r="r" b="b"/>
              <a:pathLst>
                <a:path w="154" h="92">
                  <a:moveTo>
                    <a:pt x="0" y="82"/>
                  </a:moveTo>
                  <a:lnTo>
                    <a:pt x="0" y="92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58400" y="3229560"/>
              <a:ext cx="118800" cy="422280"/>
            </a:xfrm>
            <a:custGeom>
              <a:avLst/>
              <a:gdLst/>
              <a:ahLst/>
              <a:rect l="l" t="t" r="r" b="b"/>
              <a:pathLst>
                <a:path w="51" h="176">
                  <a:moveTo>
                    <a:pt x="0" y="0"/>
                  </a:moveTo>
                  <a:lnTo>
                    <a:pt x="51" y="27"/>
                  </a:lnTo>
                  <a:lnTo>
                    <a:pt x="51" y="176"/>
                  </a:lnTo>
                  <a:lnTo>
                    <a:pt x="2" y="1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39680" y="3068640"/>
              <a:ext cx="433800" cy="23544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0" y="65"/>
                  </a:moveTo>
                  <a:lnTo>
                    <a:pt x="40" y="52"/>
                  </a:lnTo>
                  <a:lnTo>
                    <a:pt x="0" y="31"/>
                  </a:lnTo>
                  <a:lnTo>
                    <a:pt x="59" y="0"/>
                  </a:lnTo>
                  <a:lnTo>
                    <a:pt x="186" y="67"/>
                  </a:lnTo>
                  <a:lnTo>
                    <a:pt x="128" y="98"/>
                  </a:lnTo>
                  <a:lnTo>
                    <a:pt x="88" y="79"/>
                  </a:lnTo>
                  <a:lnTo>
                    <a:pt x="59" y="94"/>
                  </a:lnTo>
                  <a:lnTo>
                    <a:pt x="10" y="67"/>
                  </a:lnTo>
                  <a:lnTo>
                    <a:pt x="10" y="6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44720" y="3143160"/>
              <a:ext cx="180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1263240" y="3868560"/>
              <a:ext cx="442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785160" y="3534120"/>
              <a:ext cx="14688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73840" y="3495960"/>
              <a:ext cx="219600" cy="11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32920" y="3294360"/>
              <a:ext cx="44280" cy="386280"/>
            </a:xfrm>
            <a:custGeom>
              <a:avLst/>
              <a:gdLst/>
              <a:ahLst/>
              <a:rect l="l" t="t" r="r" b="b"/>
              <a:pathLst>
                <a:path w="19" h="161">
                  <a:moveTo>
                    <a:pt x="0" y="0"/>
                  </a:moveTo>
                  <a:lnTo>
                    <a:pt x="0" y="151"/>
                  </a:lnTo>
                  <a:lnTo>
                    <a:pt x="19" y="161"/>
                  </a:lnTo>
                  <a:lnTo>
                    <a:pt x="19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77560" y="3304080"/>
              <a:ext cx="23040" cy="376560"/>
            </a:xfrm>
            <a:custGeom>
              <a:avLst/>
              <a:gdLst/>
              <a:ahLst/>
              <a:rect l="l" t="t" r="r" b="b"/>
              <a:pathLst>
                <a:path w="10" h="157">
                  <a:moveTo>
                    <a:pt x="0" y="6"/>
                  </a:moveTo>
                  <a:lnTo>
                    <a:pt x="10" y="0"/>
                  </a:lnTo>
                  <a:lnTo>
                    <a:pt x="10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32920" y="3279600"/>
              <a:ext cx="6768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19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6"/>
                  </a:lnTo>
                  <a:lnTo>
                    <a:pt x="19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7760" y="3243960"/>
              <a:ext cx="20880" cy="377280"/>
            </a:xfrm>
            <a:custGeom>
              <a:avLst/>
              <a:gdLst/>
              <a:ahLst/>
              <a:rect l="l" t="t" r="r" b="b"/>
              <a:pathLst>
                <a:path w="9" h="157">
                  <a:moveTo>
                    <a:pt x="0" y="6"/>
                  </a:moveTo>
                  <a:lnTo>
                    <a:pt x="9" y="0"/>
                  </a:lnTo>
                  <a:lnTo>
                    <a:pt x="9" y="153"/>
                  </a:lnTo>
                  <a:lnTo>
                    <a:pt x="0" y="15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16640" y="3229560"/>
              <a:ext cx="51120" cy="391320"/>
            </a:xfrm>
            <a:custGeom>
              <a:avLst/>
              <a:gdLst/>
              <a:ahLst/>
              <a:rect l="l" t="t" r="r" b="b"/>
              <a:pathLst>
                <a:path w="22" h="163">
                  <a:moveTo>
                    <a:pt x="0" y="0"/>
                  </a:moveTo>
                  <a:lnTo>
                    <a:pt x="0" y="153"/>
                  </a:lnTo>
                  <a:lnTo>
                    <a:pt x="22" y="163"/>
                  </a:lnTo>
                  <a:lnTo>
                    <a:pt x="22" y="12"/>
                  </a:lnTo>
                  <a:lnTo>
                    <a:pt x="2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21320" y="3219840"/>
              <a:ext cx="67680" cy="38520"/>
            </a:xfrm>
            <a:custGeom>
              <a:avLst/>
              <a:gdLst/>
              <a:ahLst/>
              <a:rect l="l" t="t" r="r" b="b"/>
              <a:pathLst>
                <a:path w="29" h="16">
                  <a:moveTo>
                    <a:pt x="20" y="16"/>
                  </a:moveTo>
                  <a:lnTo>
                    <a:pt x="29" y="10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132920" y="3722040"/>
              <a:ext cx="44280" cy="45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0" y="0"/>
                  </a:moveTo>
                  <a:lnTo>
                    <a:pt x="19" y="10"/>
                  </a:lnTo>
                  <a:lnTo>
                    <a:pt x="19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77560" y="3551400"/>
              <a:ext cx="359280" cy="216000"/>
            </a:xfrm>
            <a:custGeom>
              <a:avLst/>
              <a:gdLst/>
              <a:ahLst/>
              <a:rect l="l" t="t" r="r" b="b"/>
              <a:pathLst>
                <a:path w="154" h="90">
                  <a:moveTo>
                    <a:pt x="0" y="81"/>
                  </a:moveTo>
                  <a:lnTo>
                    <a:pt x="0" y="90"/>
                  </a:lnTo>
                  <a:lnTo>
                    <a:pt x="154" y="8"/>
                  </a:lnTo>
                  <a:lnTo>
                    <a:pt x="154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32920" y="3529800"/>
              <a:ext cx="403560" cy="216000"/>
            </a:xfrm>
            <a:custGeom>
              <a:avLst/>
              <a:gdLst/>
              <a:ahLst/>
              <a:rect l="l" t="t" r="r" b="b"/>
              <a:pathLst>
                <a:path w="173" h="90">
                  <a:moveTo>
                    <a:pt x="19" y="90"/>
                  </a:moveTo>
                  <a:lnTo>
                    <a:pt x="0" y="80"/>
                  </a:lnTo>
                  <a:lnTo>
                    <a:pt x="155" y="0"/>
                  </a:lnTo>
                  <a:lnTo>
                    <a:pt x="173" y="9"/>
                  </a:lnTo>
                  <a:lnTo>
                    <a:pt x="19" y="9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00600" y="3304080"/>
              <a:ext cx="252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177560" y="3303720"/>
              <a:ext cx="230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50760" y="3469680"/>
              <a:ext cx="294120" cy="141480"/>
            </a:xfrm>
            <a:custGeom>
              <a:avLst/>
              <a:gdLst/>
              <a:ahLst/>
              <a:rect l="l" t="t" r="r" b="b"/>
              <a:pathLst>
                <a:path w="126" h="59">
                  <a:moveTo>
                    <a:pt x="28" y="7"/>
                  </a:moveTo>
                  <a:lnTo>
                    <a:pt x="97" y="42"/>
                  </a:lnTo>
                  <a:lnTo>
                    <a:pt x="107" y="40"/>
                  </a:lnTo>
                  <a:lnTo>
                    <a:pt x="107" y="34"/>
                  </a:lnTo>
                  <a:lnTo>
                    <a:pt x="107" y="28"/>
                  </a:lnTo>
                  <a:lnTo>
                    <a:pt x="126" y="40"/>
                  </a:lnTo>
                  <a:lnTo>
                    <a:pt x="88" y="59"/>
                  </a:lnTo>
                  <a:lnTo>
                    <a:pt x="0" y="13"/>
                  </a:lnTo>
                  <a:lnTo>
                    <a:pt x="30" y="0"/>
                  </a:lnTo>
                  <a:lnTo>
                    <a:pt x="30" y="9"/>
                  </a:lnTo>
                  <a:lnTo>
                    <a:pt x="2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950760" y="3340080"/>
              <a:ext cx="205200" cy="271080"/>
            </a:xfrm>
            <a:custGeom>
              <a:avLst/>
              <a:gdLst/>
              <a:ahLst/>
              <a:rect l="l" t="t" r="r" b="b"/>
              <a:pathLst>
                <a:path w="88" h="113">
                  <a:moveTo>
                    <a:pt x="0" y="0"/>
                  </a:moveTo>
                  <a:lnTo>
                    <a:pt x="88" y="46"/>
                  </a:lnTo>
                  <a:lnTo>
                    <a:pt x="88" y="113"/>
                  </a:lnTo>
                  <a:lnTo>
                    <a:pt x="0" y="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156320" y="3400200"/>
              <a:ext cx="88560" cy="210960"/>
            </a:xfrm>
            <a:custGeom>
              <a:avLst/>
              <a:gdLst/>
              <a:ahLst/>
              <a:rect l="l" t="t" r="r" b="b"/>
              <a:pathLst>
                <a:path w="38" h="88">
                  <a:moveTo>
                    <a:pt x="0" y="21"/>
                  </a:moveTo>
                  <a:lnTo>
                    <a:pt x="38" y="0"/>
                  </a:lnTo>
                  <a:lnTo>
                    <a:pt x="38" y="69"/>
                  </a:lnTo>
                  <a:lnTo>
                    <a:pt x="0" y="8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50760" y="3304080"/>
              <a:ext cx="294120" cy="146160"/>
            </a:xfrm>
            <a:custGeom>
              <a:avLst/>
              <a:gdLst/>
              <a:ahLst/>
              <a:rect l="l" t="t" r="r" b="b"/>
              <a:pathLst>
                <a:path w="126" h="61">
                  <a:moveTo>
                    <a:pt x="28" y="11"/>
                  </a:moveTo>
                  <a:lnTo>
                    <a:pt x="97" y="46"/>
                  </a:lnTo>
                  <a:lnTo>
                    <a:pt x="107" y="40"/>
                  </a:lnTo>
                  <a:lnTo>
                    <a:pt x="107" y="36"/>
                  </a:lnTo>
                  <a:lnTo>
                    <a:pt x="107" y="30"/>
                  </a:lnTo>
                  <a:lnTo>
                    <a:pt x="126" y="40"/>
                  </a:lnTo>
                  <a:lnTo>
                    <a:pt x="88" y="61"/>
                  </a:lnTo>
                  <a:lnTo>
                    <a:pt x="0" y="15"/>
                  </a:lnTo>
                  <a:lnTo>
                    <a:pt x="30" y="0"/>
                  </a:lnTo>
                  <a:lnTo>
                    <a:pt x="30" y="11"/>
                  </a:lnTo>
                  <a:lnTo>
                    <a:pt x="28" y="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3840" y="3229560"/>
              <a:ext cx="252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95920" y="3635280"/>
              <a:ext cx="142200" cy="7164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2" y="30"/>
                  </a:moveTo>
                  <a:lnTo>
                    <a:pt x="61" y="19"/>
                  </a:lnTo>
                  <a:lnTo>
                    <a:pt x="21" y="0"/>
                  </a:lnTo>
                  <a:lnTo>
                    <a:pt x="0" y="9"/>
                  </a:lnTo>
                  <a:lnTo>
                    <a:pt x="42" y="3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95920" y="3652200"/>
              <a:ext cx="98280" cy="115200"/>
            </a:xfrm>
            <a:custGeom>
              <a:avLst/>
              <a:gdLst/>
              <a:ahLst/>
              <a:rect l="l" t="t" r="r" b="b"/>
              <a:pathLst>
                <a:path w="42" h="48">
                  <a:moveTo>
                    <a:pt x="42" y="23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1" y="23"/>
                  </a:lnTo>
                  <a:lnTo>
                    <a:pt x="21" y="33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42" y="48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8480" y="3229560"/>
              <a:ext cx="135360" cy="451080"/>
            </a:xfrm>
            <a:custGeom>
              <a:avLst/>
              <a:gdLst/>
              <a:ahLst/>
              <a:rect l="l" t="t" r="r" b="b"/>
              <a:pathLst>
                <a:path w="58" h="188">
                  <a:moveTo>
                    <a:pt x="0" y="31"/>
                  </a:moveTo>
                  <a:lnTo>
                    <a:pt x="0" y="188"/>
                  </a:lnTo>
                  <a:lnTo>
                    <a:pt x="58" y="157"/>
                  </a:lnTo>
                  <a:lnTo>
                    <a:pt x="5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4200" y="3606480"/>
              <a:ext cx="179280" cy="160920"/>
            </a:xfrm>
            <a:custGeom>
              <a:avLst/>
              <a:gdLst/>
              <a:ahLst/>
              <a:rect l="l" t="t" r="r" b="b"/>
              <a:pathLst>
                <a:path w="77" h="67">
                  <a:moveTo>
                    <a:pt x="77" y="0"/>
                  </a:moveTo>
                  <a:lnTo>
                    <a:pt x="0" y="42"/>
                  </a:lnTo>
                  <a:lnTo>
                    <a:pt x="0" y="67"/>
                  </a:lnTo>
                  <a:lnTo>
                    <a:pt x="77" y="2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45240" y="3258360"/>
              <a:ext cx="92880" cy="42228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0" y="0"/>
                  </a:moveTo>
                  <a:lnTo>
                    <a:pt x="0" y="157"/>
                  </a:lnTo>
                  <a:lnTo>
                    <a:pt x="40" y="176"/>
                  </a:lnTo>
                  <a:lnTo>
                    <a:pt x="4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1200600" y="3635280"/>
              <a:ext cx="44280" cy="1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5480" y="3611520"/>
              <a:ext cx="569160" cy="32652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249920" y="3611520"/>
              <a:ext cx="443520" cy="386280"/>
            </a:xfrm>
            <a:custGeom>
              <a:avLst/>
              <a:gdLst/>
              <a:ahLst/>
              <a:rect l="l" t="t" r="r" b="b"/>
              <a:pathLst>
                <a:path w="190" h="161">
                  <a:moveTo>
                    <a:pt x="25" y="161"/>
                  </a:moveTo>
                  <a:lnTo>
                    <a:pt x="190" y="71"/>
                  </a:lnTo>
                  <a:lnTo>
                    <a:pt x="190" y="0"/>
                  </a:lnTo>
                  <a:lnTo>
                    <a:pt x="0" y="10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35000" y="3892320"/>
              <a:ext cx="272880" cy="170280"/>
            </a:xfrm>
            <a:custGeom>
              <a:avLst/>
              <a:gdLst/>
              <a:ahLst/>
              <a:rect l="l" t="t" r="r" b="b"/>
              <a:pathLst>
                <a:path w="117" h="71">
                  <a:moveTo>
                    <a:pt x="0" y="71"/>
                  </a:moveTo>
                  <a:lnTo>
                    <a:pt x="117" y="10"/>
                  </a:lnTo>
                  <a:lnTo>
                    <a:pt x="117" y="0"/>
                  </a:lnTo>
                  <a:lnTo>
                    <a:pt x="86" y="15"/>
                  </a:lnTo>
                  <a:lnTo>
                    <a:pt x="86" y="6"/>
                  </a:lnTo>
                  <a:lnTo>
                    <a:pt x="77" y="10"/>
                  </a:lnTo>
                  <a:lnTo>
                    <a:pt x="77" y="19"/>
                  </a:lnTo>
                  <a:lnTo>
                    <a:pt x="38" y="40"/>
                  </a:lnTo>
                  <a:lnTo>
                    <a:pt x="38" y="34"/>
                  </a:lnTo>
                  <a:lnTo>
                    <a:pt x="38" y="31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0" y="63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35000" y="3916440"/>
              <a:ext cx="272880" cy="271080"/>
            </a:xfrm>
            <a:custGeom>
              <a:avLst/>
              <a:gdLst/>
              <a:ahLst/>
              <a:rect l="l" t="t" r="r" b="b"/>
              <a:pathLst>
                <a:path w="117" h="113">
                  <a:moveTo>
                    <a:pt x="0" y="61"/>
                  </a:moveTo>
                  <a:lnTo>
                    <a:pt x="117" y="0"/>
                  </a:lnTo>
                  <a:lnTo>
                    <a:pt x="117" y="49"/>
                  </a:lnTo>
                  <a:lnTo>
                    <a:pt x="0" y="113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45480" y="3565800"/>
              <a:ext cx="46440" cy="4572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10"/>
                  </a:moveTo>
                  <a:lnTo>
                    <a:pt x="20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480" y="3565800"/>
              <a:ext cx="613080" cy="326520"/>
            </a:xfrm>
            <a:custGeom>
              <a:avLst/>
              <a:gdLst/>
              <a:ahLst/>
              <a:rect l="l" t="t" r="r" b="b"/>
              <a:pathLst>
                <a:path w="263" h="136">
                  <a:moveTo>
                    <a:pt x="244" y="136"/>
                  </a:moveTo>
                  <a:lnTo>
                    <a:pt x="263" y="126"/>
                  </a:lnTo>
                  <a:lnTo>
                    <a:pt x="20" y="0"/>
                  </a:lnTo>
                  <a:lnTo>
                    <a:pt x="0" y="10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215000" y="3868560"/>
              <a:ext cx="43920" cy="4788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480" y="3589560"/>
              <a:ext cx="569160" cy="326520"/>
            </a:xfrm>
            <a:custGeom>
              <a:avLst/>
              <a:gdLst/>
              <a:ahLst/>
              <a:rect l="l" t="t" r="r" b="b"/>
              <a:pathLst>
                <a:path w="244" h="136">
                  <a:moveTo>
                    <a:pt x="244" y="136"/>
                  </a:moveTo>
                  <a:lnTo>
                    <a:pt x="244" y="126"/>
                  </a:lnTo>
                  <a:lnTo>
                    <a:pt x="0" y="0"/>
                  </a:lnTo>
                  <a:lnTo>
                    <a:pt x="0" y="9"/>
                  </a:lnTo>
                  <a:lnTo>
                    <a:pt x="244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39680" y="3450600"/>
              <a:ext cx="72360" cy="13860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31" y="0"/>
                  </a:moveTo>
                  <a:lnTo>
                    <a:pt x="31" y="40"/>
                  </a:lnTo>
                  <a:lnTo>
                    <a:pt x="0" y="58"/>
                  </a:lnTo>
                  <a:lnTo>
                    <a:pt x="0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27720" y="3390120"/>
              <a:ext cx="72360" cy="1342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29" y="0"/>
                  </a:moveTo>
                  <a:lnTo>
                    <a:pt x="29" y="40"/>
                  </a:lnTo>
                  <a:lnTo>
                    <a:pt x="0" y="56"/>
                  </a:lnTo>
                  <a:lnTo>
                    <a:pt x="0" y="16"/>
                  </a:lnTo>
                  <a:lnTo>
                    <a:pt x="31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27720" y="3390120"/>
              <a:ext cx="179640" cy="96120"/>
            </a:xfrm>
            <a:custGeom>
              <a:avLst/>
              <a:gdLst/>
              <a:ahLst/>
              <a:rect l="l" t="t" r="r" b="b"/>
              <a:pathLst>
                <a:path w="77" h="40">
                  <a:moveTo>
                    <a:pt x="0" y="16"/>
                  </a:moveTo>
                  <a:lnTo>
                    <a:pt x="50" y="40"/>
                  </a:lnTo>
                  <a:lnTo>
                    <a:pt x="77" y="25"/>
                  </a:lnTo>
                  <a:lnTo>
                    <a:pt x="29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27720" y="3429000"/>
              <a:ext cx="116640" cy="160560"/>
            </a:xfrm>
            <a:custGeom>
              <a:avLst/>
              <a:gdLst/>
              <a:ahLst/>
              <a:rect l="l" t="t" r="r" b="b"/>
              <a:pathLst>
                <a:path w="50" h="67">
                  <a:moveTo>
                    <a:pt x="0" y="0"/>
                  </a:moveTo>
                  <a:lnTo>
                    <a:pt x="0" y="40"/>
                  </a:lnTo>
                  <a:lnTo>
                    <a:pt x="50" y="67"/>
                  </a:lnTo>
                  <a:lnTo>
                    <a:pt x="5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62640" y="3621240"/>
              <a:ext cx="90720" cy="406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62640" y="3621240"/>
              <a:ext cx="90720" cy="406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2640" y="3621240"/>
              <a:ext cx="90720" cy="40680"/>
            </a:xfrm>
            <a:custGeom>
              <a:avLst/>
              <a:gdLst/>
              <a:ahLst/>
              <a:rect l="l" t="t" r="r" b="b"/>
              <a:pathLst>
                <a:path w="39" h="17">
                  <a:moveTo>
                    <a:pt x="39" y="8"/>
                  </a:moveTo>
                  <a:lnTo>
                    <a:pt x="37" y="6"/>
                  </a:lnTo>
                  <a:lnTo>
                    <a:pt x="37" y="4"/>
                  </a:lnTo>
                  <a:lnTo>
                    <a:pt x="35" y="4"/>
                  </a:lnTo>
                  <a:lnTo>
                    <a:pt x="33" y="2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6" y="17"/>
                  </a:lnTo>
                  <a:lnTo>
                    <a:pt x="20" y="17"/>
                  </a:lnTo>
                  <a:lnTo>
                    <a:pt x="23" y="17"/>
                  </a:lnTo>
                  <a:lnTo>
                    <a:pt x="27" y="15"/>
                  </a:lnTo>
                  <a:lnTo>
                    <a:pt x="29" y="15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7" y="11"/>
                  </a:lnTo>
                  <a:lnTo>
                    <a:pt x="37" y="10"/>
                  </a:lnTo>
                  <a:lnTo>
                    <a:pt x="39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62640" y="3621240"/>
              <a:ext cx="81720" cy="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62640" y="3580200"/>
              <a:ext cx="90720" cy="45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62640" y="3580200"/>
              <a:ext cx="90720" cy="45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90720" y="3597120"/>
              <a:ext cx="39600" cy="187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720" y="3597120"/>
              <a:ext cx="39600" cy="187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053720" y="3601440"/>
              <a:ext cx="25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962640" y="3601440"/>
              <a:ext cx="86760" cy="4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72000" y="3616200"/>
              <a:ext cx="9360" cy="4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95400" y="3621240"/>
              <a:ext cx="14040" cy="3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21320" y="3621240"/>
              <a:ext cx="13680" cy="3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39680" y="3616200"/>
              <a:ext cx="1368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90720" y="3597120"/>
              <a:ext cx="39600" cy="18720"/>
            </a:xfrm>
            <a:custGeom>
              <a:avLst/>
              <a:gdLst/>
              <a:ahLst/>
              <a:rect l="l" t="t" r="r" b="b"/>
              <a:pathLst>
                <a:path w="17" h="8">
                  <a:moveTo>
                    <a:pt x="17" y="4"/>
                  </a:moveTo>
                  <a:lnTo>
                    <a:pt x="17" y="2"/>
                  </a:lnTo>
                  <a:lnTo>
                    <a:pt x="15" y="2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6"/>
                  </a:lnTo>
                  <a:lnTo>
                    <a:pt x="6" y="8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7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62640" y="3580200"/>
              <a:ext cx="90720" cy="45000"/>
            </a:xfrm>
            <a:custGeom>
              <a:avLst/>
              <a:gdLst/>
              <a:ahLst/>
              <a:rect l="l" t="t" r="r" b="b"/>
              <a:pathLst>
                <a:path w="39" h="19">
                  <a:moveTo>
                    <a:pt x="39" y="9"/>
                  </a:moveTo>
                  <a:lnTo>
                    <a:pt x="37" y="7"/>
                  </a:lnTo>
                  <a:lnTo>
                    <a:pt x="37" y="5"/>
                  </a:lnTo>
                  <a:lnTo>
                    <a:pt x="35" y="5"/>
                  </a:lnTo>
                  <a:lnTo>
                    <a:pt x="33" y="4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3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5"/>
                  </a:lnTo>
                  <a:lnTo>
                    <a:pt x="2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6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3" y="15"/>
                  </a:lnTo>
                  <a:lnTo>
                    <a:pt x="35" y="15"/>
                  </a:lnTo>
                  <a:lnTo>
                    <a:pt x="37" y="13"/>
                  </a:lnTo>
                  <a:lnTo>
                    <a:pt x="37" y="11"/>
                  </a:lnTo>
                  <a:lnTo>
                    <a:pt x="39" y="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1030320" y="3580200"/>
              <a:ext cx="252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90720" y="3556440"/>
              <a:ext cx="39600" cy="5004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17" y="10"/>
                  </a:lnTo>
                  <a:lnTo>
                    <a:pt x="17" y="21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990720" y="3556080"/>
              <a:ext cx="252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2640" y="3601440"/>
              <a:ext cx="25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079640" y="3943080"/>
              <a:ext cx="44280" cy="4500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10"/>
                  </a:moveTo>
                  <a:lnTo>
                    <a:pt x="19" y="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19" y="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12280" y="3640320"/>
              <a:ext cx="44280" cy="4572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lnTo>
                    <a:pt x="19" y="0"/>
                  </a:lnTo>
                  <a:lnTo>
                    <a:pt x="0" y="9"/>
                  </a:lnTo>
                  <a:lnTo>
                    <a:pt x="0" y="19"/>
                  </a:lnTo>
                  <a:lnTo>
                    <a:pt x="19" y="9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2280" y="3661920"/>
              <a:ext cx="567360" cy="326160"/>
            </a:xfrm>
            <a:custGeom>
              <a:avLst/>
              <a:gdLst/>
              <a:ahLst/>
              <a:rect l="l" t="t" r="r" b="b"/>
              <a:pathLst>
                <a:path w="243" h="136">
                  <a:moveTo>
                    <a:pt x="243" y="136"/>
                  </a:moveTo>
                  <a:lnTo>
                    <a:pt x="243" y="127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2280" y="3640320"/>
              <a:ext cx="611640" cy="326520"/>
            </a:xfrm>
            <a:custGeom>
              <a:avLst/>
              <a:gdLst/>
              <a:ahLst/>
              <a:rect l="l" t="t" r="r" b="b"/>
              <a:pathLst>
                <a:path w="262" h="136">
                  <a:moveTo>
                    <a:pt x="243" y="136"/>
                  </a:moveTo>
                  <a:lnTo>
                    <a:pt x="262" y="126"/>
                  </a:lnTo>
                  <a:lnTo>
                    <a:pt x="19" y="0"/>
                  </a:lnTo>
                  <a:lnTo>
                    <a:pt x="0" y="9"/>
                  </a:lnTo>
                  <a:lnTo>
                    <a:pt x="243" y="13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41760" y="3755520"/>
              <a:ext cx="228600" cy="196560"/>
            </a:xfrm>
            <a:custGeom>
              <a:avLst/>
              <a:gdLst/>
              <a:ahLst/>
              <a:rect l="l" t="t" r="r" b="b"/>
              <a:pathLst>
                <a:path w="98" h="82">
                  <a:moveTo>
                    <a:pt x="0" y="51"/>
                  </a:moveTo>
                  <a:lnTo>
                    <a:pt x="0" y="82"/>
                  </a:lnTo>
                  <a:lnTo>
                    <a:pt x="15" y="74"/>
                  </a:lnTo>
                  <a:lnTo>
                    <a:pt x="9" y="72"/>
                  </a:lnTo>
                  <a:lnTo>
                    <a:pt x="9" y="63"/>
                  </a:lnTo>
                  <a:lnTo>
                    <a:pt x="88" y="23"/>
                  </a:lnTo>
                  <a:lnTo>
                    <a:pt x="98" y="26"/>
                  </a:lnTo>
                  <a:lnTo>
                    <a:pt x="9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60480" y="3863520"/>
              <a:ext cx="16200" cy="187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1" y="0"/>
                  </a:moveTo>
                  <a:lnTo>
                    <a:pt x="1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962280" y="3868200"/>
              <a:ext cx="140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962640" y="3863160"/>
              <a:ext cx="9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16640" y="3832560"/>
              <a:ext cx="18360" cy="18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2"/>
                  </a:moveTo>
                  <a:lnTo>
                    <a:pt x="2" y="0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1021320" y="3837240"/>
              <a:ext cx="136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21320" y="3837240"/>
              <a:ext cx="86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74600" y="3800880"/>
              <a:ext cx="23040" cy="165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4" y="2"/>
                  </a:moveTo>
                  <a:lnTo>
                    <a:pt x="4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6" y="2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 flipV="1">
              <a:off x="1084320" y="3805560"/>
              <a:ext cx="1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1079640" y="3805920"/>
              <a:ext cx="93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32920" y="3767760"/>
              <a:ext cx="18720" cy="2376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8" y="6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1137240" y="3771720"/>
              <a:ext cx="1404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1137600" y="3771720"/>
              <a:ext cx="9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3560" y="3611520"/>
              <a:ext cx="223560" cy="199080"/>
            </a:xfrm>
            <a:custGeom>
              <a:avLst/>
              <a:gdLst/>
              <a:ahLst/>
              <a:rect l="l" t="t" r="r" b="b"/>
              <a:pathLst>
                <a:path w="96" h="83">
                  <a:moveTo>
                    <a:pt x="0" y="52"/>
                  </a:moveTo>
                  <a:lnTo>
                    <a:pt x="0" y="83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10" y="63"/>
                  </a:lnTo>
                  <a:lnTo>
                    <a:pt x="86" y="21"/>
                  </a:lnTo>
                  <a:lnTo>
                    <a:pt x="96" y="27"/>
                  </a:lnTo>
                  <a:lnTo>
                    <a:pt x="96" y="0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1920" y="3717000"/>
              <a:ext cx="16200" cy="2376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2" y="2"/>
                  </a:move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7" y="6"/>
                  </a:lnTo>
                  <a:lnTo>
                    <a:pt x="7" y="2"/>
                  </a:lnTo>
                  <a:lnTo>
                    <a:pt x="3" y="4"/>
                  </a:lnTo>
                  <a:lnTo>
                    <a:pt x="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696960" y="3721680"/>
              <a:ext cx="1152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96600" y="3721680"/>
              <a:ext cx="18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5560" y="3686040"/>
              <a:ext cx="20880" cy="20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3" y="2"/>
                  </a:moveTo>
                  <a:lnTo>
                    <a:pt x="3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9" y="6"/>
                  </a:lnTo>
                  <a:lnTo>
                    <a:pt x="9" y="2"/>
                  </a:lnTo>
                  <a:lnTo>
                    <a:pt x="5" y="4"/>
                  </a:lnTo>
                  <a:lnTo>
                    <a:pt x="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752760" y="3690360"/>
              <a:ext cx="13680" cy="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749880" y="3690720"/>
              <a:ext cx="684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6400" y="3657240"/>
              <a:ext cx="18360" cy="18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811080" y="3661920"/>
              <a:ext cx="13680" cy="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810720" y="3656880"/>
              <a:ext cx="4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64720" y="3625560"/>
              <a:ext cx="18360" cy="194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2" y="0"/>
                  </a:moveTo>
                  <a:lnTo>
                    <a:pt x="2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4" y="2"/>
                  </a:lnTo>
                  <a:lnTo>
                    <a:pt x="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869400" y="3630240"/>
              <a:ext cx="13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869040" y="3625200"/>
              <a:ext cx="4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73560" y="3611520"/>
              <a:ext cx="496800" cy="266040"/>
            </a:xfrm>
            <a:custGeom>
              <a:avLst/>
              <a:gdLst/>
              <a:ahLst/>
              <a:rect l="l" t="t" r="r" b="b"/>
              <a:pathLst>
                <a:path w="213" h="111">
                  <a:moveTo>
                    <a:pt x="115" y="111"/>
                  </a:moveTo>
                  <a:lnTo>
                    <a:pt x="0" y="52"/>
                  </a:lnTo>
                  <a:lnTo>
                    <a:pt x="96" y="0"/>
                  </a:lnTo>
                  <a:lnTo>
                    <a:pt x="213" y="60"/>
                  </a:lnTo>
                  <a:lnTo>
                    <a:pt x="115" y="11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874080" y="3625560"/>
              <a:ext cx="272880" cy="14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869040" y="3625560"/>
              <a:ext cx="26820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 flipV="1">
              <a:off x="815760" y="3652200"/>
              <a:ext cx="272880" cy="14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810720" y="3656880"/>
              <a:ext cx="26820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757080" y="3686040"/>
              <a:ext cx="2728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750240" y="3690720"/>
              <a:ext cx="27072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699120" y="3717000"/>
              <a:ext cx="27288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96960" y="3721680"/>
              <a:ext cx="26568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73560" y="3736080"/>
              <a:ext cx="268200" cy="216000"/>
            </a:xfrm>
            <a:custGeom>
              <a:avLst/>
              <a:gdLst/>
              <a:ahLst/>
              <a:rect l="l" t="t" r="r" b="b"/>
              <a:pathLst>
                <a:path w="115" h="90">
                  <a:moveTo>
                    <a:pt x="0" y="31"/>
                  </a:moveTo>
                  <a:lnTo>
                    <a:pt x="0" y="0"/>
                  </a:lnTo>
                  <a:lnTo>
                    <a:pt x="115" y="59"/>
                  </a:lnTo>
                  <a:lnTo>
                    <a:pt x="115" y="9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76364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250" name=""/>
          <p:cNvCxnSpPr>
            <a:stCxn id="130" idx="3"/>
            <a:endCxn id="116" idx="0"/>
          </p:cNvCxnSpPr>
          <p:nvPr/>
        </p:nvCxnSpPr>
        <p:spPr>
          <a:xfrm rot="5400000">
            <a:off x="2202840" y="2897280"/>
            <a:ext cx="288000" cy="265032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1" name=""/>
          <p:cNvCxnSpPr>
            <a:stCxn id="130" idx="3"/>
            <a:endCxn id="117" idx="0"/>
          </p:cNvCxnSpPr>
          <p:nvPr/>
        </p:nvCxnSpPr>
        <p:spPr>
          <a:xfrm rot="5400000">
            <a:off x="2999520" y="3693960"/>
            <a:ext cx="288000" cy="105660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2" name=""/>
          <p:cNvCxnSpPr>
            <a:stCxn id="130" idx="3"/>
            <a:endCxn id="118" idx="0"/>
          </p:cNvCxnSpPr>
          <p:nvPr/>
        </p:nvCxnSpPr>
        <p:spPr>
          <a:xfrm flipH="1" rot="16200000">
            <a:off x="3894120" y="3855240"/>
            <a:ext cx="288000" cy="73404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3" name=""/>
          <p:cNvCxnSpPr>
            <a:stCxn id="130" idx="3"/>
            <a:endCxn id="119" idx="0"/>
          </p:cNvCxnSpPr>
          <p:nvPr/>
        </p:nvCxnSpPr>
        <p:spPr>
          <a:xfrm flipH="1" rot="16200000">
            <a:off x="4618080" y="3132000"/>
            <a:ext cx="288000" cy="2180160"/>
          </a:xfrm>
          <a:prstGeom prst="bentConnector3">
            <a:avLst>
              <a:gd name="adj1" fmla="val 4968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4" name=""/>
          <p:cNvCxnSpPr>
            <a:stCxn id="130" idx="1"/>
            <a:endCxn id="113" idx="2"/>
          </p:cNvCxnSpPr>
          <p:nvPr/>
        </p:nvCxnSpPr>
        <p:spPr>
          <a:xfrm flipH="1" flipV="1" rot="5400000">
            <a:off x="3953520" y="2786400"/>
            <a:ext cx="289440" cy="85320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55" name=""/>
          <p:cNvCxnSpPr>
            <a:stCxn id="130" idx="1"/>
            <a:endCxn id="112" idx="2"/>
          </p:cNvCxnSpPr>
          <p:nvPr/>
        </p:nvCxnSpPr>
        <p:spPr>
          <a:xfrm flipV="1" rot="16200000">
            <a:off x="3162960" y="2847960"/>
            <a:ext cx="289440" cy="729360"/>
          </a:xfrm>
          <a:prstGeom prst="bentConnector3">
            <a:avLst>
              <a:gd name="adj1" fmla="val 499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 rot="20055600">
            <a:off x="5003640" y="2349360"/>
            <a:ext cx="935280" cy="289080"/>
          </a:xfrm>
          <a:prstGeom prst="rightArrow">
            <a:avLst>
              <a:gd name="adj1" fmla="val 50000"/>
              <a:gd name="adj2" fmla="val 808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4288320" y="3230640"/>
            <a:ext cx="172260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Geometr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Kinematics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Performance &amp; Accuracy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624"/>
              </a:spcBef>
              <a:buClr>
                <a:srgbClr val="ff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굴림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 rot="3013800">
            <a:off x="4471200" y="4898160"/>
            <a:ext cx="922680" cy="288720"/>
          </a:xfrm>
          <a:prstGeom prst="rightArrow">
            <a:avLst>
              <a:gd name="adj1" fmla="val 50000"/>
              <a:gd name="adj2" fmla="val 798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 rot="5400000">
            <a:off x="2411640" y="4941000"/>
            <a:ext cx="287640" cy="289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7T02:20:39Z</dcterms:created>
  <dc:creator>harry</dc:creator>
  <dc:description/>
  <dc:language>en-US</dc:language>
  <cp:lastModifiedBy>user</cp:lastModifiedBy>
  <dcterms:modified xsi:type="dcterms:W3CDTF">2006-10-26T10:06:23Z</dcterms:modified>
  <cp:revision>778</cp:revision>
  <dc:subject/>
  <dc:title>슬라이드 1</dc:title>
</cp:coreProperties>
</file>