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wmf" ContentType="image/x-wmf"/>
  <Override PartName="/ppt/media/image12.jpeg" ContentType="image/jpeg"/>
  <Override PartName="/ppt/media/image11.jpeg" ContentType="image/jpeg"/>
  <Override PartName="/ppt/media/image9.jpeg" ContentType="image/jpeg"/>
  <Override PartName="/ppt/media/image7.wmf" ContentType="image/x-wmf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3374-DB3F-4331-91CD-6F0A4FB7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C682-BE44-4ACF-9726-A11DBCAA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CBD-EEFF-481C-8B2B-E8EDCA06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E73-806A-48A1-9F28-ED1341097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63B-7FFA-4D82-BB52-FA4C87D82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75F7-4646-4F16-8303-68FCA2AD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2EC-D3F3-44A5-B6B8-4A1BD4EF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AB9-C54A-4A56-8CEB-8D017B4D7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7CA6-F608-4080-B2CC-11B3E073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01D6-DC9D-482B-B50D-9A58864F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C21-D6D2-48F2-B6B8-92DBED40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4538-DF7B-4E23-B536-A9D2C665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75EB-C65B-4EDF-834D-6D8AA47AF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3648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common language for Quality Measure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3581280" y="2590920"/>
            <a:ext cx="21337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MD</a:t>
            </a:r>
            <a:endParaRPr b="0" lang="en-US" sz="18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057400" y="274320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zing the need - a Team was created to assess the practicability of creating a new standard for Quality Measurement Data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4137120"/>
            <a:ext cx="784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881440"/>
            <a:ext cx="12952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rib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028880"/>
            <a:ext cx="80773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E CONCLU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common Quality Measurement standard is feasible be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193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 Virtually every data element in every commercial Quality measurement schema the world-over is a pseudonym for another. E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8080" y="48625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Advancements in technology (Web services, XML) make it easy to stream standardized data into existing Reporting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5776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The scope of Quality measurement is limited, and the scope of QMD is limited to just Quality measurement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1447920"/>
            <a:ext cx="8077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MISSION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25909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reate a simple, flexible and generic XML Standard for the export of Variable, Attribute and Binary Quality Measurements, from any sourc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llmarks of a successful “Industrial” Quality Measurement Standard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3505320"/>
            <a:ext cx="769608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2960" y="299556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Inclusiv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with a low price of admission for even the “dumb” gages / data sources. . . But with capability for the most sophisticated quality enterpri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2960" y="4857840"/>
            <a:ext cx="683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Totally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NON-Proprietary,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Database-schema and Gage independent,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a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qually-applicable to Dairy farms or Aero-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2133720"/>
            <a:ext cx="6019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Expansive</a:t>
            </a:r>
            <a:r>
              <a:rPr b="0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ugh to accommodate every existing data collection enterprise. ( “No Enterprise left behind” 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33600" y="3962520"/>
            <a:ext cx="6019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300"/>
                </a:solidFill>
                <a:uFillTx/>
                <a:latin typeface="Arial"/>
              </a:rPr>
              <a:t>Extensi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s the need will arise to accommodate new data sources and without the need to go back to committee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023840"/>
            <a:ext cx="861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knew we needed more than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latitud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hand-off to a technical/ implementation team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295280" y="2362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 we began work on “a common lexicon”, and a flexible architectural framework that would enable the technical team to quickly develop the new Standard - and deliver true-to-in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00160" y="20908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We synthesized 600+ disparate data elements that had been servic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ens of thous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industrial customers in various data collection activities world-wide, into a much more concise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Data Dictionary”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95440" y="14050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oward enabling the Technical Implementation Team 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66236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We identified and distributed every essential data element into these newly-defined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Conformance Class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Catalog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6147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We described a new flexible and generic architecture, building upon the concepts of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Conformance Classes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Catalog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42840" y="5867280"/>
            <a:ext cx="1114560" cy="53352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4114800"/>
            <a:ext cx="176040" cy="1890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52640" y="445284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43600" y="5181480"/>
            <a:ext cx="176040" cy="187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09880" y="2514600"/>
            <a:ext cx="176040" cy="187200"/>
          </a:xfrm>
          <a:prstGeom prst="ellipse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28640" y="380988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358128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1400" y="3614760"/>
            <a:ext cx="17640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067280" y="4952880"/>
            <a:ext cx="174600" cy="18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09840" y="292896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347920" y="3005280"/>
            <a:ext cx="176040" cy="188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424240" y="357660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581280"/>
            <a:ext cx="176400" cy="187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77320" y="2286000"/>
            <a:ext cx="176040" cy="187200"/>
          </a:xfrm>
          <a:prstGeom prst="ellipse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6320" y="2319480"/>
            <a:ext cx="174600" cy="188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3040" y="241920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05120" y="2471760"/>
            <a:ext cx="17604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86400" y="4572000"/>
            <a:ext cx="174600" cy="18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2971800"/>
            <a:ext cx="17640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819520"/>
            <a:ext cx="176400" cy="188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35520" y="2865600"/>
            <a:ext cx="174600" cy="188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2133720"/>
            <a:ext cx="17640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2666880"/>
            <a:ext cx="176040" cy="187560"/>
          </a:xfrm>
          <a:prstGeom prst="ellipse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05720" y="220968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24480" y="2819520"/>
            <a:ext cx="17604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3352680"/>
            <a:ext cx="174600" cy="18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24480" y="449568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21400" y="3267000"/>
            <a:ext cx="176040" cy="1875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38880" y="3962520"/>
            <a:ext cx="174600" cy="18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14800" y="2319480"/>
            <a:ext cx="176400" cy="18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15000" y="2776680"/>
            <a:ext cx="176400" cy="188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70760" y="318276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86240" y="2819520"/>
            <a:ext cx="17640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624640" y="3335400"/>
            <a:ext cx="176040" cy="187200"/>
          </a:xfrm>
          <a:prstGeom prst="ellipse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380988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819520"/>
            <a:ext cx="174600" cy="188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010280" y="3429000"/>
            <a:ext cx="17640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53240" y="2395440"/>
            <a:ext cx="174600" cy="18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048120"/>
            <a:ext cx="176400" cy="18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05920" y="3276720"/>
            <a:ext cx="17604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35920" y="2624040"/>
            <a:ext cx="176040" cy="187560"/>
          </a:xfrm>
          <a:prstGeom prst="ellipse">
            <a:avLst/>
          </a:prstGeom>
          <a:solidFill>
            <a:srgbClr val="0000ff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109548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Identified and distributed every essential data element      into newly-defin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onformance Class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“Catalog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5972040" y="3733560"/>
            <a:ext cx="1447920" cy="533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00040" y="5248440"/>
            <a:ext cx="111456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09720" y="4632480"/>
            <a:ext cx="1114560" cy="53316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309760" y="4019400"/>
            <a:ext cx="1114560" cy="53352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33840" y="3403440"/>
            <a:ext cx="1114200" cy="53352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800000">
            <a:off x="6200640" y="4038480"/>
            <a:ext cx="144792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800000">
            <a:off x="6486480" y="4300560"/>
            <a:ext cx="144792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0800000">
            <a:off x="6786360" y="4572000"/>
            <a:ext cx="144756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038720" y="4824360"/>
            <a:ext cx="1447560" cy="53352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1447920"/>
            <a:ext cx="533160" cy="2570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7786440" y="1461600"/>
            <a:ext cx="533160" cy="2286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7201080" y="115560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81080"/>
            <a:ext cx="8305920" cy="472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014720" y="2066760"/>
            <a:ext cx="1447920" cy="60984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93884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elements will to belong to  Cata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100400" y="2257560"/>
            <a:ext cx="174600" cy="188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424240"/>
            <a:ext cx="17604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9880" y="2500200"/>
            <a:ext cx="259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219564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all data elements will to belong to a Conformance Cla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4952520" y="2576160"/>
            <a:ext cx="1752840" cy="259092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rot="10800000">
            <a:off x="4016160" y="4457520"/>
            <a:ext cx="1447560" cy="53316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343480" y="4762080"/>
            <a:ext cx="1371600" cy="381240"/>
          </a:xfrm>
          <a:prstGeom prst="line">
            <a:avLst/>
          </a:prstGeom>
          <a:ln w="158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0600" y="234792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83200" y="463536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64160" y="4648320"/>
            <a:ext cx="174600" cy="188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971800" y="4785840"/>
            <a:ext cx="1752480" cy="685800"/>
          </a:xfrm>
          <a:prstGeom prst="line">
            <a:avLst/>
          </a:prstGeom>
          <a:ln w="12600">
            <a:solidFill>
              <a:srgbClr val="00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10620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n Early Observation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67080" y="4481640"/>
            <a:ext cx="17640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76400" y="4595760"/>
            <a:ext cx="1371600" cy="533520"/>
          </a:xfrm>
          <a:prstGeom prst="line">
            <a:avLst/>
          </a:prstGeom>
          <a:ln w="1260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14760" y="5167440"/>
            <a:ext cx="32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. . An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belong to both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38480" y="4786200"/>
            <a:ext cx="174600" cy="18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2685960" y="4952880"/>
            <a:ext cx="1295640" cy="533520"/>
          </a:xfrm>
          <a:prstGeom prst="line">
            <a:avLst/>
          </a:prstGeom>
          <a:ln w="12600">
            <a:solidFill>
              <a:srgbClr val="00ff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43200" y="265248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95520" y="3462480"/>
            <a:ext cx="174600" cy="18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341460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3795840"/>
            <a:ext cx="17604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19200" y="1235160"/>
            <a:ext cx="388620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QMD Conformance Clas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Mandatory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ormance” requires that the Data Source b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apabl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exporting all elements belonging to that Class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Class contains all elements from the prior 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86280" y="1238400"/>
            <a:ext cx="41148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QMD Catalog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                              Optional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Catalog can associate with any Conformance Cla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us a gage provider of a Conf Class “5” or “3” or even “1” gage could offer his customers any complement of Catalogs A, B &amp; C etc, on request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52560" y="3533760"/>
            <a:ext cx="32004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95480" y="3762360"/>
            <a:ext cx="32004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4448160"/>
            <a:ext cx="32004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95480" y="5210280"/>
            <a:ext cx="31244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971800" y="4448160"/>
            <a:ext cx="312408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895480" y="4829040"/>
            <a:ext cx="312444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2895120" y="4219560"/>
            <a:ext cx="304812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2895480" y="3533760"/>
            <a:ext cx="3200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4219560"/>
            <a:ext cx="304812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4829040"/>
            <a:ext cx="31244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95120" y="3762360"/>
            <a:ext cx="31244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967360" y="3481200"/>
            <a:ext cx="1295280" cy="2709360"/>
            <a:chOff x="5967360" y="3481200"/>
            <a:chExt cx="1295280" cy="2709360"/>
          </a:xfrm>
        </p:grpSpPr>
        <p:sp>
          <p:nvSpPr>
            <p:cNvPr id="191" name=""/>
            <p:cNvSpPr/>
            <p:nvPr/>
          </p:nvSpPr>
          <p:spPr>
            <a:xfrm rot="10800000">
              <a:off x="5967360" y="3481200"/>
              <a:ext cx="1295280" cy="456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0800000">
              <a:off x="5967360" y="4242960"/>
              <a:ext cx="1295280" cy="456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10800000">
              <a:off x="5967360" y="5004720"/>
              <a:ext cx="1295280" cy="456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81840" y="35766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78600" y="433044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6280" y="506880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91200" y="578628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rot="10800000">
              <a:off x="5967360" y="5733720"/>
              <a:ext cx="1295280" cy="456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091200" y="5829120"/>
              <a:ext cx="457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971640" y="3290760"/>
            <a:ext cx="2004840" cy="3166920"/>
            <a:chOff x="971640" y="3290760"/>
            <a:chExt cx="2004840" cy="3166920"/>
          </a:xfrm>
        </p:grpSpPr>
        <p:sp>
          <p:nvSpPr>
            <p:cNvPr id="201" name=""/>
            <p:cNvSpPr/>
            <p:nvPr/>
          </p:nvSpPr>
          <p:spPr>
            <a:xfrm>
              <a:off x="1714320" y="3290760"/>
              <a:ext cx="1262160" cy="57636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58960" y="3460680"/>
              <a:ext cx="176040" cy="1890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35000" y="3649680"/>
              <a:ext cx="174600" cy="18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90520" y="3460680"/>
              <a:ext cx="17460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81000" y="34048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97040" y="5881680"/>
              <a:ext cx="1261800" cy="57600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49240" y="6038640"/>
              <a:ext cx="174600" cy="1890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41400" y="6027480"/>
              <a:ext cx="176400" cy="189000"/>
            </a:xfrm>
            <a:prstGeom prst="ellipse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23840" y="6227640"/>
              <a:ext cx="176400" cy="18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55760" y="6227640"/>
              <a:ext cx="174600" cy="187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11280" y="6038640"/>
              <a:ext cx="174600" cy="189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85880" y="6227640"/>
              <a:ext cx="176400" cy="18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079360" y="6038640"/>
              <a:ext cx="17640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71640" y="599112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98480" y="5238720"/>
              <a:ext cx="1262160" cy="57600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63640" y="5398920"/>
              <a:ext cx="176040" cy="1890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939680" y="5587920"/>
              <a:ext cx="174960" cy="1872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270160" y="5587920"/>
              <a:ext cx="174600" cy="1872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425680" y="5398920"/>
              <a:ext cx="176040" cy="1890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01720" y="5587920"/>
              <a:ext cx="174600" cy="1872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95560" y="5398920"/>
              <a:ext cx="17460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81000" y="53625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98480" y="4581360"/>
              <a:ext cx="1262160" cy="57636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39880" y="4748040"/>
              <a:ext cx="174600" cy="18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914480" y="4935240"/>
              <a:ext cx="176040" cy="1890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46400" y="4935240"/>
              <a:ext cx="174600" cy="1890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01920" y="4748040"/>
              <a:ext cx="174600" cy="1872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070000" y="4748040"/>
              <a:ext cx="176400" cy="18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76320" y="470376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00280" y="3933720"/>
              <a:ext cx="1261800" cy="576360"/>
            </a:xfrm>
            <a:prstGeom prst="cube">
              <a:avLst>
                <a:gd name="adj" fmla="val 25000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49240" y="4093920"/>
              <a:ext cx="176400" cy="18756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25640" y="4281480"/>
              <a:ext cx="174600" cy="1886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55760" y="4281480"/>
              <a:ext cx="176040" cy="18864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81160" y="4093920"/>
              <a:ext cx="174600" cy="187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81000" y="404784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263760" y="4943520"/>
            <a:ext cx="1371600" cy="1523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60440" y="3851280"/>
            <a:ext cx="1371600" cy="1523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06360" y="2733840"/>
            <a:ext cx="1371600" cy="152388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0800000">
            <a:off x="5511960" y="3876480"/>
            <a:ext cx="2133360" cy="68580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283360" y="3571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34960" y="280980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 (Ses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400480" y="416880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(Bod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68680" y="5235480"/>
            <a:ext cx="1143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  (Foo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39" idx="2"/>
            <a:endCxn id="238" idx="1"/>
          </p:cNvCxnSpPr>
          <p:nvPr/>
        </p:nvCxnSpPr>
        <p:spPr>
          <a:xfrm flipH="1" rot="16200000">
            <a:off x="1855440" y="4209120"/>
            <a:ext cx="440640" cy="36900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6" name=""/>
          <p:cNvCxnSpPr>
            <a:stCxn id="238" idx="2"/>
            <a:endCxn id="237" idx="1"/>
          </p:cNvCxnSpPr>
          <p:nvPr/>
        </p:nvCxnSpPr>
        <p:spPr>
          <a:xfrm flipH="1" rot="16200000">
            <a:off x="2897640" y="5339520"/>
            <a:ext cx="415080" cy="3178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247" name=""/>
          <p:cNvCxnSpPr>
            <a:endCxn id="239" idx="3"/>
          </p:cNvCxnSpPr>
          <p:nvPr/>
        </p:nvCxnSpPr>
        <p:spPr>
          <a:xfrm rot="10800000">
            <a:off x="2577960" y="3494880"/>
            <a:ext cx="2756520" cy="610560"/>
          </a:xfrm>
          <a:prstGeom prst="curvedConnector5">
            <a:avLst>
              <a:gd name="adj1" fmla="val 50000"/>
              <a:gd name="adj2" fmla="val 49970"/>
              <a:gd name="adj3" fmla="val 5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8" name=""/>
          <p:cNvCxnSpPr/>
          <p:nvPr/>
        </p:nvCxnSpPr>
        <p:spPr>
          <a:xfrm flipV="1" rot="10800000">
            <a:off x="3656880" y="4105080"/>
            <a:ext cx="17787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9" name=""/>
          <p:cNvCxnSpPr/>
          <p:nvPr/>
        </p:nvCxnSpPr>
        <p:spPr>
          <a:xfrm flipV="1" rot="10800000">
            <a:off x="4647600" y="4104360"/>
            <a:ext cx="775440" cy="1662840"/>
          </a:xfrm>
          <a:prstGeom prst="curvedConnector5">
            <a:avLst>
              <a:gd name="adj1" fmla="val 49976"/>
              <a:gd name="adj2" fmla="val 50000"/>
              <a:gd name="adj3" fmla="val 49976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1143000" y="18954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Catalogs &amp; Conformance Class elements can map to any Header, Measurement or Defect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95960" y="5694480"/>
            <a:ext cx="176040" cy="1886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40080" y="5894280"/>
            <a:ext cx="176400" cy="1875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28800" y="3648240"/>
            <a:ext cx="174600" cy="188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00200" y="3648240"/>
            <a:ext cx="176040" cy="18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19520" y="4867200"/>
            <a:ext cx="174600" cy="1875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90920" y="486720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048120" y="486720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029120"/>
            <a:ext cx="144792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81080" y="104292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otally Database and Schema Indep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2240" y="1082520"/>
            <a:ext cx="874692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bout AI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0" y="2438280"/>
            <a:ext cx="6324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lobally recognized trade assoc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,500 member compa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 full-time staff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olunte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dent Exec’s from Ford,GM, DaimlerChrys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461960" y="914400"/>
            <a:ext cx="6400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talog Names are Standard Tag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Traceability Catalo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at contain Standard “Strong Parent” element names li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ustomer I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That allow for user-defined Name-alias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Customer ID&gt; &lt;AKA “Customer Name”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nd user-defined look-up “values”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Mike Lowe&gt;, &lt;Bill Moor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95400" y="149076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54600" y="866880"/>
            <a:ext cx="84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Catalog “Strong Parent” elements can have an infinite number of “childre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12960" y="197316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07920" y="1378080"/>
            <a:ext cx="17640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98560" y="259704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12960" y="3230640"/>
            <a:ext cx="176040" cy="189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03240" y="3849840"/>
            <a:ext cx="176400" cy="18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0920" y="1274760"/>
            <a:ext cx="510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lt;“Customer Name”&gt;&lt;Mike Low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63840" y="1871640"/>
            <a:ext cx="287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Number&gt; &lt;12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250344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Address&gt; &lt; No.10 Main Stree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95400" y="314172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City&gt; &lt; Hackensac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16280" y="375120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Phone&gt; &lt; 867-5309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07920" y="4462560"/>
            <a:ext cx="176400" cy="187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70320" y="437184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e-Mail&gt; &lt; mike@dontcallme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905040" y="5110200"/>
            <a:ext cx="176040" cy="18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13120" y="502128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’s favorite color&gt; &lt; red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11280" y="5732640"/>
            <a:ext cx="761760" cy="152280"/>
          </a:xfrm>
          <a:custGeom>
            <a:avLst/>
            <a:gdLst/>
            <a:ahLst/>
            <a:rect l="l" t="t" r="r" b="b"/>
            <a:pathLst>
              <a:path w="1792" h="424">
                <a:moveTo>
                  <a:pt x="1048" y="312"/>
                </a:moveTo>
                <a:cubicBezTo>
                  <a:pt x="848" y="256"/>
                  <a:pt x="448" y="72"/>
                  <a:pt x="280" y="72"/>
                </a:cubicBezTo>
                <a:cubicBezTo>
                  <a:pt x="112" y="72"/>
                  <a:pt x="0" y="264"/>
                  <a:pt x="40" y="312"/>
                </a:cubicBezTo>
                <a:cubicBezTo>
                  <a:pt x="80" y="360"/>
                  <a:pt x="304" y="408"/>
                  <a:pt x="520" y="360"/>
                </a:cubicBezTo>
                <a:cubicBezTo>
                  <a:pt x="736" y="312"/>
                  <a:pt x="1128" y="48"/>
                  <a:pt x="1336" y="24"/>
                </a:cubicBezTo>
                <a:cubicBezTo>
                  <a:pt x="1544" y="0"/>
                  <a:pt x="1744" y="152"/>
                  <a:pt x="1768" y="216"/>
                </a:cubicBezTo>
                <a:cubicBezTo>
                  <a:pt x="1792" y="280"/>
                  <a:pt x="1600" y="392"/>
                  <a:pt x="1480" y="408"/>
                </a:cubicBezTo>
                <a:cubicBezTo>
                  <a:pt x="1360" y="424"/>
                  <a:pt x="1248" y="368"/>
                  <a:pt x="1048" y="312"/>
                </a:cubicBezTo>
                <a:close/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81200" y="5667480"/>
            <a:ext cx="72342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for TOTAL “extensibility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 users to create their own element names without asking a committ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elements are human readable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elements point to a single Standard Strong Parent element and conce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04920" y="5530680"/>
            <a:ext cx="8275680" cy="10605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057400" y="169560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ild elements point at their Strong Parent object ID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Parent elements point at Null Objec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4120" y="3854520"/>
            <a:ext cx="236196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387680"/>
            <a:ext cx="2666880" cy="580680"/>
          </a:xfrm>
          <a:prstGeom prst="rect">
            <a:avLst/>
          </a:prstGeom>
          <a:solidFill>
            <a:srgbClr val="ff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Catalog element can have unlimited val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14400" y="9334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Strong Parent elements are a very simple and powerful concep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895480" y="2400480"/>
            <a:ext cx="3497400" cy="1517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1519200" y="1909800"/>
            <a:ext cx="0" cy="38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427040" y="2441520"/>
            <a:ext cx="174600" cy="189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36760" y="1832040"/>
            <a:ext cx="176040" cy="1872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27040" y="3065400"/>
            <a:ext cx="174600" cy="189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27040" y="3699000"/>
            <a:ext cx="176400" cy="188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432080" y="4317840"/>
            <a:ext cx="176040" cy="187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568520" y="1743120"/>
            <a:ext cx="641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I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&lt;“Customer Name”&gt;&lt;Mike Low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&lt;Remark&gt;&lt;“his friends all call him Joe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163600" y="234000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Number&gt; &lt;123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792520" y="3000240"/>
            <a:ext cx="58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Address&gt; &lt; No.10 Main Street&gt;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&lt;Remark&gt;&lt;“he just moved there on the 1</a:t>
            </a:r>
            <a:r>
              <a:rPr b="0" i="1" lang="en-US" sz="1600" spc="-1" strike="noStrike" baseline="30000">
                <a:solidFill>
                  <a:srgbClr val="0000ff"/>
                </a:solidFill>
                <a:latin typeface="Arial"/>
              </a:rPr>
              <a:t>st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of the month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367000" y="361008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City&gt; &lt; Hackensack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49600" y="4245120"/>
            <a:ext cx="4894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Phone&gt; &lt; 867-5309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 &lt;Remark&gt;&lt;his phone number was a song lyric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36760" y="4930920"/>
            <a:ext cx="176040" cy="187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970360" y="4854600"/>
            <a:ext cx="443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 e-Mail&gt; &lt; mike@dontcallme.com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33520" y="5578560"/>
            <a:ext cx="176040" cy="187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741760" y="5489640"/>
            <a:ext cx="443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Customer’s favorite color&gt; &lt; red &gt; </a:t>
            </a:r>
            <a:r>
              <a:rPr b="0" i="1" lang="en-US" sz="1600" spc="-1" strike="noStrike">
                <a:solidFill>
                  <a:srgbClr val="0000ff"/>
                </a:solidFill>
                <a:latin typeface="Arial"/>
              </a:rPr>
              <a:t>&lt;Remark&gt;&lt;“I like red too”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62120" y="101916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ree text remarks can apply anywhe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971800" y="31240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In Summary. .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09480" y="1019160"/>
            <a:ext cx="7543800" cy="57038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609480" y="68580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Infinitely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Extensible XS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371680" y="966960"/>
            <a:ext cx="6553080" cy="88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80"/>
                </a:solidFill>
                <a:latin typeface="Arial"/>
                <a:ea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ments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xmln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rn:aiag:meqm:mea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xmlns:ctlg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rn:aiag:meqm:catalog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mentData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02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onformanceClassOn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68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Part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haracteristic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746338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haracteristic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d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4P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d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TraceabilityCatalog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Customer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53638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ke Low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Number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-123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Remark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is number used to uniquely identify the Customer in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.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Remark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Addres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0 Main Street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City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ackensack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Phon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“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8675309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E-Mail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ke@dontcallme.com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ustomer FavoriteColor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Customer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Location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iryFarm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cDonald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arn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 Barn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Detail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Na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tall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  <a:ea typeface="Times New Roman"/>
              </a:rPr>
              <a:t> 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sies Stall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tlg:Location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TraceabilityCatalog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onformanceClassTwo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Ti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4:03:56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Tim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Sample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SampleId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SubgroupSiz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9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SubgroupSiz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Nominal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9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NominalValu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LowerSpecLimit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.3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LowerSpecLimit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UpperSpecLimit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1.2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UpperSpecLimit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onformanceClassTwo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ConformanceClassOne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mentData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000" spc="-1" strike="noStrike">
                <a:solidFill>
                  <a:srgbClr val="800000"/>
                </a:solidFill>
                <a:latin typeface="Arial"/>
                <a:ea typeface="Times New Roman"/>
              </a:rPr>
              <a:t>Measurement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Times New Roman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9480" y="685800"/>
            <a:ext cx="57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Quality Measurement Data  - from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ANY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sour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14440" y="1386000"/>
            <a:ext cx="84582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QMD Statistics</a:t>
            </a: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jor consolidation of all data elements, currently supporting tens of thousands of customers i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2438280" y="35812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mm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7315200" y="2424240"/>
            <a:ext cx="144792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562720" y="2424240"/>
            <a:ext cx="144756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09880" y="2424240"/>
            <a:ext cx="144792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2424240"/>
            <a:ext cx="144756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2424240"/>
            <a:ext cx="1447920" cy="609480"/>
          </a:xfrm>
          <a:prstGeom prst="cube">
            <a:avLst>
              <a:gd name="adj" fmla="val 25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19520" y="1204920"/>
            <a:ext cx="3809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ve Conformanc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23 el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265284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meas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928880" y="26575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sic S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95760" y="263844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C with trace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29160" y="2533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hanced reporting / Attributes/Boole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329600" y="253368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tachments &amp;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152280" y="3124080"/>
            <a:ext cx="876312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 rot="10800000">
            <a:off x="647640" y="2247840"/>
            <a:ext cx="1214640" cy="5954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95280" y="990720"/>
            <a:ext cx="69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6 Generic Catalogs . . . 27 Strong Parent elements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2400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et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5715000"/>
            <a:ext cx="304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All Conformance Class elements are shown here also for complet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558720" y="2946240"/>
            <a:ext cx="8132760" cy="32544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 rot="10800000">
            <a:off x="2019240" y="2247840"/>
            <a:ext cx="1214640" cy="5954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0800000">
            <a:off x="3377880" y="2247840"/>
            <a:ext cx="1214280" cy="5954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0800000">
            <a:off x="4736880" y="2235240"/>
            <a:ext cx="1214280" cy="59544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0800000">
            <a:off x="6095880" y="2222280"/>
            <a:ext cx="1214640" cy="59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0800000">
            <a:off x="7441920" y="2222280"/>
            <a:ext cx="1214280" cy="595080"/>
          </a:xfrm>
          <a:prstGeom prst="foldedCorner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955880" y="240048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352680" y="24004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711680" y="23875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erived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095880" y="23749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353360" y="23749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22640" y="152388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illions of possibilities !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81040" y="1981080"/>
            <a:ext cx="8077320" cy="4391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6720" y="914400"/>
            <a:ext cx="87472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AIAG Board of Dir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1353960"/>
            <a:ext cx="777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73240" y="990720"/>
            <a:ext cx="32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Benefits derived from QMD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1447920"/>
            <a:ext cx="8229600" cy="54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s wasted resource, money and time in data integration task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directs these savings to value-added activities, enhancement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Solutions Providers and Gage manufacturers to redirect more energy on new develop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ges can communicate with more Reporting tools, making gages more usefu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tools can accept data from more sources, making reporting tools more usefu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s reap the benefits to focus more on core busin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ows almost everybody to claim conformance to at least one QMD conformance Class 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arks new competition among providers, to ascend to the next Conformance Class, and to provide more complete catalogs - generally raising the bar for industr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sures that customers know what they will receive when their gage or reporter states “QMD Conformance Class 3 + Catalogs A, B, and Z”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ps to any legacy database schema (by merit of mix and match, dropping unwanted elements, and allowing catalogs / data elements to associate alternatively to headers /measurements or foot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tilizes standard identifiable tags, yet allows customers to retain old familiar nam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s away from Gage dependencies and proprietary schemas that require separate technical suppor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0" y="118116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e               Bob                     Tom           Christine             Tom              Krishna               D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676520" y="685800"/>
            <a:ext cx="5867280" cy="398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ff"/>
                </a:solidFill>
                <a:latin typeface="Arial"/>
              </a:rPr>
              <a:t>Novi Quality Expo – Public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8686800" cy="651492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0" y="22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b Br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tuto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17524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m Kalk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429000" y="2571840"/>
            <a:ext cx="5715000" cy="428616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00680" cy="53341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0" y="22860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ram Yu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266688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ne Barrag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I-DataMy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1886040"/>
            <a:ext cx="6629400" cy="497196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2"/>
          <a:stretch/>
        </p:blipFill>
        <p:spPr>
          <a:xfrm>
            <a:off x="3200400" y="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3429000" y="649116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rishna Gadde - DC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429000" y="30492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m Stew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-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00200" y="295200"/>
            <a:ext cx="77436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252360" y="0"/>
            <a:ext cx="8763120" cy="67215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3352680" y="1219320"/>
            <a:ext cx="350532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Many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85840" y="6480"/>
            <a:ext cx="8686800" cy="68515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3276720" y="1371600"/>
            <a:ext cx="35049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ips for Integ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209680" y="297180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IST Test 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2819520"/>
            <a:ext cx="51814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ed on reducing cost &amp; complex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improving health, safety and qualit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 common best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2755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533520" y="1876320"/>
            <a:ext cx="6933960" cy="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04720" y="2610000"/>
            <a:ext cx="5105520" cy="0"/>
          </a:xfrm>
          <a:prstGeom prst="line">
            <a:avLst/>
          </a:prstGeom>
          <a:ln w="63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0" y="0"/>
            <a:ext cx="9144000" cy="4366800"/>
            <a:chOff x="0" y="0"/>
            <a:chExt cx="9144000" cy="436680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552840" y="2971800"/>
              <a:ext cx="1600200" cy="1066680"/>
            </a:xfrm>
            <a:prstGeom prst="rect">
              <a:avLst/>
            </a:prstGeom>
            <a:noFill/>
            <a:ln w="127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1590840" y="3267000"/>
              <a:ext cx="5948280" cy="1099800"/>
              <a:chOff x="1590840" y="3267000"/>
              <a:chExt cx="5948280" cy="1099800"/>
            </a:xfrm>
          </p:grpSpPr>
          <p:sp>
            <p:nvSpPr>
              <p:cNvPr id="384" name=""/>
              <p:cNvSpPr/>
              <p:nvPr/>
            </p:nvSpPr>
            <p:spPr>
              <a:xfrm>
                <a:off x="1590840" y="3267000"/>
                <a:ext cx="129528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 Source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743120" y="3419640"/>
                <a:ext cx="129564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 Source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95760" y="3571920"/>
                <a:ext cx="129528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 Source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048040" y="3724200"/>
                <a:ext cx="1295280" cy="642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ata Source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481720" y="32716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rget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34000" y="342432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rget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6640" y="357660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rget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938920" y="3728880"/>
                <a:ext cx="160020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Target(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81440" y="3276720"/>
                <a:ext cx="1143000" cy="398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cc33"/>
                    </a:solidFill>
                    <a:latin typeface="Arial"/>
                  </a:rPr>
                  <a:t>&lt;QMD&gt;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062520" y="3505320"/>
                <a:ext cx="685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924440" y="350532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5" name=""/>
          <p:cNvSpPr/>
          <p:nvPr/>
        </p:nvSpPr>
        <p:spPr>
          <a:xfrm>
            <a:off x="1295280" y="198108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common language for Quality Measure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91320" cy="348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6720" y="1143000"/>
            <a:ext cx="87472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king with other organizations globall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0" y="1371600"/>
            <a:ext cx="4952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IAG Steering Committ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362320"/>
            <a:ext cx="3809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ve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onic Commer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terials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cupational Health &amp; Saf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uck &amp; Heavy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 Focus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-1)"/>
                                      </p:to>
                                    </p:se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05080" y="364824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A common language for Quality Measurem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581280" y="2590920"/>
            <a:ext cx="213372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cc33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QMD</a:t>
            </a:r>
            <a:endParaRPr b="0" lang="en-US" sz="1800" spc="1" strike="noStrike">
              <a:ln w="0">
                <a:noFill/>
              </a:ln>
              <a:solidFill>
                <a:srgbClr val="33cc33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81080" y="2305080"/>
            <a:ext cx="641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7800" y="1219320"/>
            <a:ext cx="294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QMD -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00016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single standard existed to address Quality Measurement Data for Variable, Binary and Attribute measurements, across the whole of Industr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085760" y="300024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ryon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intimate with Quality Measurement Data recognizes the incredible waste and redundancy of constant data re-integ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23920" y="39369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No 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willing to give up any existing capability they already have, to embrace someone else’s  “least common denominator” data schem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833840" y="4724280"/>
            <a:ext cx="555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 matter what Standards organization endorses it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914400" y="2209680"/>
            <a:ext cx="762012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credible Was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ge and reporting solution provider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nsum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integrating data to suit limitless customer requiremen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ne source alone is supporting over 1500 separate parochial schem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22:49:19Z</dcterms:created>
  <dc:creator>JC</dc:creator>
  <dc:description/>
  <dc:language>en-US</dc:language>
  <cp:lastModifiedBy>DaimlerChrysler Corporation</cp:lastModifiedBy>
  <cp:lastPrinted>2006-03-27T12:38:06Z</cp:lastPrinted>
  <dcterms:modified xsi:type="dcterms:W3CDTF">2006-10-25T12:02:05Z</dcterms:modified>
  <cp:revision>384</cp:revision>
  <dc:subject/>
  <dc:title>Slide 1</dc:title>
</cp:coreProperties>
</file>