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wmf" ContentType="image/x-wmf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13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76092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056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76092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0560" y="376092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960" y="105264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8400" y="105264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76092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960" y="376092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8400" y="376092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0560" y="105264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굴림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231480"/>
            <a:ext cx="6934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0560" y="105264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376092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056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0560" y="376092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056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376092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376092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056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376092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0560" y="376092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5960" y="105264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8400" y="105264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520" y="376092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5960" y="376092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8400" y="376092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0560" y="105264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231480"/>
            <a:ext cx="6934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0560" y="105264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76092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0560" y="376092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056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76092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90792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굴림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spcBef>
                <a:spcPts val="451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3" marL="1638360" indent="-266760">
              <a:spcBef>
                <a:spcPts val="451"/>
              </a:spcBef>
              <a:buClr>
                <a:srgbClr val="000000"/>
              </a:buClr>
              <a:buSzPct val="5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SzPct val="5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SzPct val="5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SzPct val="5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8210520" y="26028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812880" cy="6411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17640" y="62928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822600" y="6364440"/>
            <a:ext cx="28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-Manufacturing Research Cent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6871680" y="6308640"/>
            <a:ext cx="186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.H. Suh (2006. 10.26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16761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굴림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57200" y="457200"/>
            <a:ext cx="878040" cy="695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349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SzPct val="55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SzPct val="50000"/>
              <a:buFont typeface="굴림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249"/>
              </a:spcBef>
              <a:buClr>
                <a:srgbClr val="000000"/>
              </a:buClr>
              <a:buSzPct val="5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249"/>
              </a:spcBef>
              <a:buClr>
                <a:srgbClr val="000000"/>
              </a:buClr>
              <a:buSzPct val="5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" Target="slide3.xm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16761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굴림"/>
              </a:rPr>
              <a:t>Status of ISO 14649 Part 110 : Machine tools for STEP-NC</a:t>
            </a:r>
            <a:endParaRPr b="0" lang="en-US" sz="32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2006. 10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Suk-Hwan Suh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Center for Ubiquitous Manufactur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POSTECH, Korea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shs@postech.ac.k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684360" y="115920"/>
            <a:ext cx="767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굴림"/>
              </a:rPr>
              <a:t>Machine tool data model : Composite Machine Too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3995640" y="2284560"/>
            <a:ext cx="3168720" cy="792000"/>
          </a:xfrm>
          <a:custGeom>
            <a:avLst/>
            <a:gdLst/>
            <a:ahLst/>
            <a:rect l="l" t="t" r="r" b="b"/>
            <a:pathLst>
              <a:path w="1996" h="499">
                <a:moveTo>
                  <a:pt x="0" y="499"/>
                </a:moveTo>
                <a:lnTo>
                  <a:pt x="1134" y="499"/>
                </a:lnTo>
                <a:lnTo>
                  <a:pt x="1134" y="318"/>
                </a:lnTo>
                <a:lnTo>
                  <a:pt x="1996" y="318"/>
                </a:lnTo>
                <a:lnTo>
                  <a:pt x="1996" y="0"/>
                </a:lnTo>
                <a:lnTo>
                  <a:pt x="998" y="46"/>
                </a:lnTo>
                <a:lnTo>
                  <a:pt x="998" y="272"/>
                </a:lnTo>
                <a:lnTo>
                  <a:pt x="272" y="318"/>
                </a:lnTo>
                <a:lnTo>
                  <a:pt x="272" y="408"/>
                </a:lnTo>
                <a:lnTo>
                  <a:pt x="0" y="408"/>
                </a:lnTo>
                <a:lnTo>
                  <a:pt x="0" y="4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408400" y="907920"/>
          <a:ext cx="3911400" cy="56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8400" y="907920"/>
                    <a:ext cx="3911400" cy="56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"/>
          <p:cNvSpPr/>
          <p:nvPr/>
        </p:nvSpPr>
        <p:spPr>
          <a:xfrm>
            <a:off x="7740720" y="5805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143000" y="189000"/>
            <a:ext cx="6934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굴림"/>
              </a:rPr>
              <a:t>Machine tool data model : Spindl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5904000" cy="43261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7740720" y="5805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143000" y="189000"/>
            <a:ext cx="6934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굴림"/>
              </a:rPr>
              <a:t>Machine tool data model : Axi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1440" cy="37591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740720" y="5805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143000" y="189000"/>
            <a:ext cx="6934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굴림"/>
              </a:rPr>
              <a:t>Machine tool data model : Turre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619280" y="966960"/>
            <a:ext cx="5688000" cy="53416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7740720" y="5805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굴림"/>
              </a:rPr>
              <a:t>Execution plan</a:t>
            </a:r>
            <a:endParaRPr b="0" lang="en-US" sz="28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160" y="1052640"/>
            <a:ext cx="79261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468360" y="2941560"/>
            <a:ext cx="8294760" cy="20718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826920" y="981000"/>
            <a:ext cx="8028000" cy="9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ll for participation !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joint working group/authorship, etc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굴림"/>
              </a:rPr>
              <a:t>Specification  of Part 110</a:t>
            </a:r>
            <a:endParaRPr b="0" lang="en-US" sz="28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ARM: Requirement or Functional Model like Part 111 &amp; 121 compared with catalogue model ISO 13399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ASME B5.59-2 is a kind of the catalogue model for machine tool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ISO 14649 Part 110 is a kind of the requirement model for machine tool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Necessities addressed and unanimously agreed in ISO TC184/SC1 Beijing Meeting, October 200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Related with Machine Tool </a:t>
            </a:r>
            <a:r>
              <a:rPr b="0" i="1" lang="ko-KR" sz="1800" spc="-1" strike="noStrike">
                <a:solidFill>
                  <a:srgbClr val="000000"/>
                </a:solidFill>
                <a:latin typeface="굴림"/>
              </a:rPr>
              <a:t>(catalogue)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data model under development by ISO TC39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Need to be harmonized with ISO TC39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Joint Meeting between ISO TC184/SC1/WG7 and ISO TC39/SC2 held in Busan Korea, May 11, 2006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26640" y="303120"/>
            <a:ext cx="7317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굴림"/>
              </a:rPr>
              <a:t>Scope of ISO 14649 Part 110 : Machine tools for general process</a:t>
            </a:r>
            <a:endParaRPr b="0" lang="en-US" sz="2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595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Compared with </a:t>
            </a:r>
            <a:r>
              <a:rPr b="0" i="1" lang="en-US" sz="1600" spc="-1" strike="noStrike">
                <a:solidFill>
                  <a:srgbClr val="000000"/>
                </a:solidFill>
                <a:latin typeface="굴림"/>
              </a:rPr>
              <a:t>product lifecycle data model for machine tool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11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Part 110 as “Small” data model compared with “Large” data model (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</a:rPr>
              <a:t>product lifecycle data model for machine tools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Scope &amp; main usag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General and functional requirement data model for machine tools to execute a STEP-NC part program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To Specify machine tool type and specification to execute STEP-NC part program, which can be used as a means for selecting actual machine tools to be used for executing the STEP-NC part program in the shop floor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0">
              <a:lnSpc>
                <a:spcPct val="3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Others usag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Digital manufacturing (STEP-Manufacturing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rocess planning / Machine programm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Virtual machin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Virtual NC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actory flow simul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orkspace design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Performance verification and tracking/process variability/quality contr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Plug-and-play machine installation, self-identific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achine intelligence (self-knowledge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nterference between components of machine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terference between chuck and tool holder in milling machining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terference between spindle and turret in turning machining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5291280" y="3716280"/>
            <a:ext cx="576000" cy="289080"/>
          </a:xfrm>
          <a:custGeom>
            <a:avLst/>
            <a:gdLst>
              <a:gd name="textAreaLeft" fmla="*/ 18720 w 576000"/>
              <a:gd name="textAreaRight" fmla="*/ 557280 w 576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3012" h="21600">
                <a:moveTo>
                  <a:pt x="0" y="0"/>
                </a:moveTo>
                <a:lnTo>
                  <a:pt x="43012" y="0"/>
                </a:lnTo>
                <a:lnTo>
                  <a:pt x="43012" y="21600"/>
                </a:lnTo>
                <a:lnTo>
                  <a:pt x="0" y="21600"/>
                </a:lnTo>
                <a:close/>
              </a:path>
              <a:path fill="lightenLess" w="43012" h="21600">
                <a:moveTo>
                  <a:pt x="0" y="0"/>
                </a:moveTo>
                <a:lnTo>
                  <a:pt x="43012" y="0"/>
                </a:lnTo>
                <a:lnTo>
                  <a:pt x="41612" y="1400"/>
                </a:lnTo>
                <a:lnTo>
                  <a:pt x="1400" y="1400"/>
                </a:lnTo>
                <a:close/>
              </a:path>
              <a:path fill="darken" w="43012" h="21600">
                <a:moveTo>
                  <a:pt x="43012" y="0"/>
                </a:moveTo>
                <a:lnTo>
                  <a:pt x="43012" y="21600"/>
                </a:lnTo>
                <a:lnTo>
                  <a:pt x="41612" y="20200"/>
                </a:lnTo>
                <a:lnTo>
                  <a:pt x="41612" y="1400"/>
                </a:lnTo>
                <a:close/>
              </a:path>
              <a:path fill="darkenLess" w="43012" h="21600">
                <a:moveTo>
                  <a:pt x="43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12" y="20200"/>
                </a:lnTo>
                <a:close/>
              </a:path>
              <a:path fill="lighten" w="43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12" h="21600">
                <a:moveTo>
                  <a:pt x="14499" y="3794"/>
                </a:moveTo>
                <a:lnTo>
                  <a:pt x="28512" y="10800"/>
                </a:lnTo>
                <a:lnTo>
                  <a:pt x="14499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3564000" y="1844640"/>
            <a:ext cx="576360" cy="289080"/>
          </a:xfrm>
          <a:custGeom>
            <a:avLst/>
            <a:gdLst>
              <a:gd name="textAreaLeft" fmla="*/ 18720 w 576360"/>
              <a:gd name="textAreaRight" fmla="*/ 557640 w 576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3039" h="21600">
                <a:moveTo>
                  <a:pt x="0" y="0"/>
                </a:moveTo>
                <a:lnTo>
                  <a:pt x="43039" y="0"/>
                </a:lnTo>
                <a:lnTo>
                  <a:pt x="43039" y="21600"/>
                </a:lnTo>
                <a:lnTo>
                  <a:pt x="0" y="21600"/>
                </a:lnTo>
                <a:close/>
              </a:path>
              <a:path fill="lightenLess" w="43039" h="21600">
                <a:moveTo>
                  <a:pt x="0" y="0"/>
                </a:moveTo>
                <a:lnTo>
                  <a:pt x="43039" y="0"/>
                </a:lnTo>
                <a:lnTo>
                  <a:pt x="41639" y="1400"/>
                </a:lnTo>
                <a:lnTo>
                  <a:pt x="1400" y="1400"/>
                </a:lnTo>
                <a:close/>
              </a:path>
              <a:path fill="darken" w="43039" h="21600">
                <a:moveTo>
                  <a:pt x="43039" y="0"/>
                </a:moveTo>
                <a:lnTo>
                  <a:pt x="43039" y="21600"/>
                </a:lnTo>
                <a:lnTo>
                  <a:pt x="41639" y="20200"/>
                </a:lnTo>
                <a:lnTo>
                  <a:pt x="41639" y="1400"/>
                </a:lnTo>
                <a:close/>
              </a:path>
              <a:path fill="darkenLess" w="43039" h="21600">
                <a:moveTo>
                  <a:pt x="43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39" y="20200"/>
                </a:lnTo>
                <a:close/>
              </a:path>
              <a:path fill="lighten" w="43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39" h="21600">
                <a:moveTo>
                  <a:pt x="14513" y="3794"/>
                </a:moveTo>
                <a:lnTo>
                  <a:pt x="28526" y="10800"/>
                </a:lnTo>
                <a:lnTo>
                  <a:pt x="14513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8028000" y="5950080"/>
            <a:ext cx="576360" cy="288720"/>
          </a:xfrm>
          <a:custGeom>
            <a:avLst/>
            <a:gdLst>
              <a:gd name="textAreaLeft" fmla="*/ 18720 w 576360"/>
              <a:gd name="textAreaRight" fmla="*/ 557640 w 576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25560" y="30312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굴림"/>
              </a:rPr>
              <a:t>Relationship with </a:t>
            </a:r>
            <a:r>
              <a:rPr b="0" i="1" lang="en-US" sz="2400" spc="-1" strike="noStrike">
                <a:solidFill>
                  <a:srgbClr val="333399"/>
                </a:solidFill>
                <a:latin typeface="굴림"/>
              </a:rPr>
              <a:t>product lifecycle data model for machine tools</a:t>
            </a:r>
            <a:endParaRPr b="0" lang="en-US" sz="2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1908000" y="1700280"/>
            <a:ext cx="5832720" cy="2808360"/>
          </a:xfrm>
          <a:custGeom>
            <a:avLst/>
            <a:gdLst/>
            <a:ahLst/>
            <a:rect l="l" t="t" r="r" b="b"/>
            <a:pathLst>
              <a:path w="3674" h="1769">
                <a:moveTo>
                  <a:pt x="0" y="0"/>
                </a:moveTo>
                <a:lnTo>
                  <a:pt x="0" y="1769"/>
                </a:lnTo>
                <a:lnTo>
                  <a:pt x="3674" y="1769"/>
                </a:lnTo>
                <a:lnTo>
                  <a:pt x="3674" y="590"/>
                </a:lnTo>
                <a:lnTo>
                  <a:pt x="1950" y="590"/>
                </a:lnTo>
                <a:lnTo>
                  <a:pt x="1950" y="318"/>
                </a:lnTo>
                <a:lnTo>
                  <a:pt x="952" y="318"/>
                </a:lnTo>
                <a:lnTo>
                  <a:pt x="952" y="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1224000"/>
            <a:ext cx="1081080" cy="3603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197000"/>
            <a:ext cx="131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vered by ISO 14649 Part 11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>
            <a:hlinkClick r:id="" action="ppaction://hlinkshowjump?jump=previousslide"/>
          </p:cNvPr>
          <p:cNvSpPr/>
          <p:nvPr/>
        </p:nvSpPr>
        <p:spPr>
          <a:xfrm>
            <a:off x="8317080" y="6165720"/>
            <a:ext cx="647640" cy="28764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10800"/>
                </a:moveTo>
                <a:lnTo>
                  <a:pt x="31306" y="3794"/>
                </a:lnTo>
                <a:lnTo>
                  <a:pt x="313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062080" y="863640"/>
          <a:ext cx="5389560" cy="59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080" y="863640"/>
                    <a:ext cx="538956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3803" r="16832" b="4963"/>
          <a:stretch/>
        </p:blipFill>
        <p:spPr>
          <a:xfrm>
            <a:off x="5724360" y="907920"/>
            <a:ext cx="2544840" cy="17701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굴림"/>
              </a:rPr>
              <a:t>Digital Manufacturing solution (e.g., Delmia)</a:t>
            </a:r>
            <a:endParaRPr b="0" lang="en-US" sz="24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322200" y="2492280"/>
            <a:ext cx="8642520" cy="273708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614160" y="2788200"/>
            <a:ext cx="12672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roduct desig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2238480" y="2788200"/>
            <a:ext cx="1409040" cy="2764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rocess Plann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3853440" y="2788200"/>
            <a:ext cx="1340640" cy="2764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ayout Plann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439240" y="2788200"/>
            <a:ext cx="10324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rgonomic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7001640" y="2788200"/>
            <a:ext cx="15768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 Measureme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535680" y="4369320"/>
            <a:ext cx="973080" cy="2764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rodu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1673280" y="4369320"/>
            <a:ext cx="1886040" cy="2764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actory Flow Simul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3804480" y="4369320"/>
            <a:ext cx="1200240" cy="2764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C Simul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5116320" y="4369320"/>
            <a:ext cx="1469880" cy="2764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6759000" y="4369320"/>
            <a:ext cx="2091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obotics &amp; PLC verif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13" name=""/>
          <p:cNvCxnSpPr>
            <a:stCxn id="103" idx="3"/>
            <a:endCxn id="104" idx="1"/>
          </p:cNvCxnSpPr>
          <p:nvPr/>
        </p:nvCxnSpPr>
        <p:spPr>
          <a:xfrm>
            <a:off x="1883880" y="2927160"/>
            <a:ext cx="345240" cy="108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4" idx="3"/>
            <a:endCxn id="105" idx="1"/>
          </p:cNvCxnSpPr>
          <p:nvPr/>
        </p:nvCxnSpPr>
        <p:spPr>
          <a:xfrm>
            <a:off x="3657600" y="2927160"/>
            <a:ext cx="202320" cy="108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05" idx="3"/>
            <a:endCxn id="106" idx="1"/>
          </p:cNvCxnSpPr>
          <p:nvPr/>
        </p:nvCxnSpPr>
        <p:spPr>
          <a:xfrm>
            <a:off x="5187960" y="2927160"/>
            <a:ext cx="248400" cy="108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6" idx="3"/>
            <a:endCxn id="107" idx="1"/>
          </p:cNvCxnSpPr>
          <p:nvPr/>
        </p:nvCxnSpPr>
        <p:spPr>
          <a:xfrm>
            <a:off x="6474960" y="2927160"/>
            <a:ext cx="545400" cy="108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7" idx="2"/>
            <a:endCxn id="112" idx="0"/>
          </p:cNvCxnSpPr>
          <p:nvPr/>
        </p:nvCxnSpPr>
        <p:spPr>
          <a:xfrm>
            <a:off x="7790040" y="3068280"/>
            <a:ext cx="16560" cy="129780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2" idx="1"/>
            <a:endCxn id="111" idx="3"/>
          </p:cNvCxnSpPr>
          <p:nvPr/>
        </p:nvCxnSpPr>
        <p:spPr>
          <a:xfrm flipH="1">
            <a:off x="6587640" y="4508280"/>
            <a:ext cx="145440" cy="108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1" idx="1"/>
            <a:endCxn id="110" idx="3"/>
          </p:cNvCxnSpPr>
          <p:nvPr/>
        </p:nvCxnSpPr>
        <p:spPr>
          <a:xfrm flipH="1">
            <a:off x="5002920" y="4508280"/>
            <a:ext cx="111960" cy="108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0" idx="1"/>
            <a:endCxn id="109" idx="3"/>
          </p:cNvCxnSpPr>
          <p:nvPr/>
        </p:nvCxnSpPr>
        <p:spPr>
          <a:xfrm flipH="1">
            <a:off x="3563640" y="4508280"/>
            <a:ext cx="241920" cy="108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09" idx="1"/>
            <a:endCxn id="108" idx="3"/>
          </p:cNvCxnSpPr>
          <p:nvPr/>
        </p:nvCxnSpPr>
        <p:spPr>
          <a:xfrm flipH="1">
            <a:off x="1504080" y="4508280"/>
            <a:ext cx="164520" cy="108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3059280" y="3357720"/>
            <a:ext cx="1223640" cy="7207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3159360" y="3573360"/>
            <a:ext cx="1035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chine Tool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ata Mod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0" t="3693" r="16347" b="3999"/>
          <a:stretch/>
        </p:blipFill>
        <p:spPr>
          <a:xfrm>
            <a:off x="5076720" y="5300640"/>
            <a:ext cx="1598760" cy="1344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84120" y="4653000"/>
            <a:ext cx="125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Post proces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5107320" y="4653000"/>
            <a:ext cx="1396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Virtual CA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Virtual Inspec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rcRect l="0" t="12661" r="0" b="0"/>
          <a:stretch/>
        </p:blipFill>
        <p:spPr>
          <a:xfrm>
            <a:off x="395280" y="5084640"/>
            <a:ext cx="4465800" cy="1617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50880" y="4653000"/>
            <a:ext cx="227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Maintenance (MTTF, Utilization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68360" y="3068640"/>
            <a:ext cx="1225080" cy="1118880"/>
            <a:chOff x="468360" y="3068640"/>
            <a:chExt cx="1225080" cy="1118880"/>
          </a:xfrm>
        </p:grpSpPr>
        <p:sp>
          <p:nvSpPr>
            <p:cNvPr id="130" name=""/>
            <p:cNvSpPr/>
            <p:nvPr/>
          </p:nvSpPr>
          <p:spPr>
            <a:xfrm>
              <a:off x="468360" y="3589560"/>
              <a:ext cx="272520" cy="168120"/>
            </a:xfrm>
            <a:custGeom>
              <a:avLst/>
              <a:gdLst/>
              <a:ahLst/>
              <a:rect l="l" t="t" r="r" b="b"/>
              <a:pathLst>
                <a:path w="117" h="70">
                  <a:moveTo>
                    <a:pt x="0" y="70"/>
                  </a:moveTo>
                  <a:lnTo>
                    <a:pt x="117" y="9"/>
                  </a:lnTo>
                  <a:lnTo>
                    <a:pt x="117" y="0"/>
                  </a:lnTo>
                  <a:lnTo>
                    <a:pt x="86" y="15"/>
                  </a:lnTo>
                  <a:lnTo>
                    <a:pt x="86" y="3"/>
                  </a:lnTo>
                  <a:lnTo>
                    <a:pt x="76" y="9"/>
                  </a:lnTo>
                  <a:lnTo>
                    <a:pt x="76" y="19"/>
                  </a:lnTo>
                  <a:lnTo>
                    <a:pt x="38" y="38"/>
                  </a:lnTo>
                  <a:lnTo>
                    <a:pt x="38" y="34"/>
                  </a:lnTo>
                  <a:lnTo>
                    <a:pt x="38" y="30"/>
                  </a:lnTo>
                  <a:lnTo>
                    <a:pt x="29" y="34"/>
                  </a:lnTo>
                  <a:lnTo>
                    <a:pt x="29" y="46"/>
                  </a:lnTo>
                  <a:lnTo>
                    <a:pt x="0" y="61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61240" y="3711960"/>
              <a:ext cx="508320" cy="290520"/>
            </a:xfrm>
            <a:custGeom>
              <a:avLst/>
              <a:gdLst/>
              <a:ahLst/>
              <a:rect l="l" t="t" r="r" b="b"/>
              <a:pathLst>
                <a:path w="218" h="121">
                  <a:moveTo>
                    <a:pt x="218" y="121"/>
                  </a:moveTo>
                  <a:lnTo>
                    <a:pt x="218" y="115"/>
                  </a:lnTo>
                  <a:lnTo>
                    <a:pt x="0" y="0"/>
                  </a:lnTo>
                  <a:lnTo>
                    <a:pt x="0" y="6"/>
                  </a:lnTo>
                  <a:lnTo>
                    <a:pt x="218" y="12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2280" y="3711960"/>
              <a:ext cx="48960" cy="385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1" y="0"/>
                  </a:moveTo>
                  <a:lnTo>
                    <a:pt x="21" y="6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8360" y="3700080"/>
              <a:ext cx="634320" cy="343440"/>
            </a:xfrm>
            <a:custGeom>
              <a:avLst/>
              <a:gdLst/>
              <a:ahLst/>
              <a:rect l="l" t="t" r="r" b="b"/>
              <a:pathLst>
                <a:path w="272" h="143">
                  <a:moveTo>
                    <a:pt x="17" y="17"/>
                  </a:moveTo>
                  <a:lnTo>
                    <a:pt x="40" y="5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243" y="143"/>
                  </a:lnTo>
                  <a:lnTo>
                    <a:pt x="272" y="126"/>
                  </a:lnTo>
                  <a:lnTo>
                    <a:pt x="258" y="118"/>
                  </a:lnTo>
                  <a:lnTo>
                    <a:pt x="235" y="132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8360" y="3736080"/>
              <a:ext cx="566640" cy="326520"/>
            </a:xfrm>
            <a:custGeom>
              <a:avLst/>
              <a:gdLst/>
              <a:ahLst/>
              <a:rect l="l" t="t" r="r" b="b"/>
              <a:pathLst>
                <a:path w="243" h="136">
                  <a:moveTo>
                    <a:pt x="243" y="136"/>
                  </a:moveTo>
                  <a:lnTo>
                    <a:pt x="243" y="128"/>
                  </a:lnTo>
                  <a:lnTo>
                    <a:pt x="0" y="0"/>
                  </a:lnTo>
                  <a:lnTo>
                    <a:pt x="0" y="9"/>
                  </a:lnTo>
                  <a:lnTo>
                    <a:pt x="243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8360" y="3758040"/>
              <a:ext cx="566640" cy="429480"/>
            </a:xfrm>
            <a:custGeom>
              <a:avLst/>
              <a:gdLst/>
              <a:ahLst/>
              <a:rect l="l" t="t" r="r" b="b"/>
              <a:pathLst>
                <a:path w="243" h="179">
                  <a:moveTo>
                    <a:pt x="0" y="0"/>
                  </a:moveTo>
                  <a:lnTo>
                    <a:pt x="243" y="127"/>
                  </a:lnTo>
                  <a:lnTo>
                    <a:pt x="243" y="179"/>
                  </a:lnTo>
                  <a:lnTo>
                    <a:pt x="0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6560" y="3635280"/>
              <a:ext cx="658080" cy="352800"/>
            </a:xfrm>
            <a:custGeom>
              <a:avLst/>
              <a:gdLst/>
              <a:ahLst/>
              <a:rect l="l" t="t" r="r" b="b"/>
              <a:pathLst>
                <a:path w="282" h="147">
                  <a:moveTo>
                    <a:pt x="38" y="0"/>
                  </a:moveTo>
                  <a:lnTo>
                    <a:pt x="0" y="19"/>
                  </a:lnTo>
                  <a:lnTo>
                    <a:pt x="243" y="147"/>
                  </a:lnTo>
                  <a:lnTo>
                    <a:pt x="282" y="12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5320" y="3676320"/>
              <a:ext cx="567360" cy="326520"/>
            </a:xfrm>
            <a:custGeom>
              <a:avLst/>
              <a:gdLst/>
              <a:ahLst/>
              <a:rect l="l" t="t" r="r" b="b"/>
              <a:pathLst>
                <a:path w="243" h="136">
                  <a:moveTo>
                    <a:pt x="243" y="136"/>
                  </a:moveTo>
                  <a:lnTo>
                    <a:pt x="243" y="124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43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76680" y="3635280"/>
              <a:ext cx="44280" cy="5040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0"/>
                  </a:moveTo>
                  <a:lnTo>
                    <a:pt x="19" y="11"/>
                  </a:lnTo>
                  <a:lnTo>
                    <a:pt x="19" y="21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76680" y="3440880"/>
              <a:ext cx="403560" cy="221040"/>
            </a:xfrm>
            <a:custGeom>
              <a:avLst/>
              <a:gdLst/>
              <a:ahLst/>
              <a:rect l="l" t="t" r="r" b="b"/>
              <a:pathLst>
                <a:path w="173" h="92">
                  <a:moveTo>
                    <a:pt x="17" y="92"/>
                  </a:moveTo>
                  <a:lnTo>
                    <a:pt x="0" y="81"/>
                  </a:lnTo>
                  <a:lnTo>
                    <a:pt x="153" y="0"/>
                  </a:lnTo>
                  <a:lnTo>
                    <a:pt x="173" y="10"/>
                  </a:lnTo>
                  <a:lnTo>
                    <a:pt x="17" y="9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021320" y="3465000"/>
              <a:ext cx="359280" cy="221040"/>
            </a:xfrm>
            <a:custGeom>
              <a:avLst/>
              <a:gdLst/>
              <a:ahLst/>
              <a:rect l="l" t="t" r="r" b="b"/>
              <a:pathLst>
                <a:path w="154" h="92">
                  <a:moveTo>
                    <a:pt x="0" y="82"/>
                  </a:moveTo>
                  <a:lnTo>
                    <a:pt x="0" y="92"/>
                  </a:lnTo>
                  <a:lnTo>
                    <a:pt x="154" y="8"/>
                  </a:lnTo>
                  <a:lnTo>
                    <a:pt x="154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58400" y="3229560"/>
              <a:ext cx="118800" cy="422280"/>
            </a:xfrm>
            <a:custGeom>
              <a:avLst/>
              <a:gdLst/>
              <a:ahLst/>
              <a:rect l="l" t="t" r="r" b="b"/>
              <a:pathLst>
                <a:path w="51" h="176">
                  <a:moveTo>
                    <a:pt x="0" y="0"/>
                  </a:moveTo>
                  <a:lnTo>
                    <a:pt x="51" y="27"/>
                  </a:lnTo>
                  <a:lnTo>
                    <a:pt x="51" y="176"/>
                  </a:lnTo>
                  <a:lnTo>
                    <a:pt x="2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39680" y="3068640"/>
              <a:ext cx="433800" cy="235440"/>
            </a:xfrm>
            <a:custGeom>
              <a:avLst/>
              <a:gdLst/>
              <a:ahLst/>
              <a:rect l="l" t="t" r="r" b="b"/>
              <a:pathLst>
                <a:path w="186" h="98">
                  <a:moveTo>
                    <a:pt x="10" y="65"/>
                  </a:moveTo>
                  <a:lnTo>
                    <a:pt x="40" y="52"/>
                  </a:lnTo>
                  <a:lnTo>
                    <a:pt x="0" y="31"/>
                  </a:lnTo>
                  <a:lnTo>
                    <a:pt x="59" y="0"/>
                  </a:lnTo>
                  <a:lnTo>
                    <a:pt x="186" y="67"/>
                  </a:lnTo>
                  <a:lnTo>
                    <a:pt x="128" y="98"/>
                  </a:lnTo>
                  <a:lnTo>
                    <a:pt x="88" y="79"/>
                  </a:lnTo>
                  <a:lnTo>
                    <a:pt x="59" y="94"/>
                  </a:lnTo>
                  <a:lnTo>
                    <a:pt x="10" y="67"/>
                  </a:lnTo>
                  <a:lnTo>
                    <a:pt x="10" y="6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44720" y="3143160"/>
              <a:ext cx="1800" cy="7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1263240" y="3868560"/>
              <a:ext cx="442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785160" y="3534120"/>
              <a:ext cx="146880" cy="7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73840" y="3495960"/>
              <a:ext cx="21960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132920" y="3294360"/>
              <a:ext cx="44280" cy="386280"/>
            </a:xfrm>
            <a:custGeom>
              <a:avLst/>
              <a:gdLst/>
              <a:ahLst/>
              <a:rect l="l" t="t" r="r" b="b"/>
              <a:pathLst>
                <a:path w="19" h="161">
                  <a:moveTo>
                    <a:pt x="0" y="0"/>
                  </a:moveTo>
                  <a:lnTo>
                    <a:pt x="0" y="151"/>
                  </a:lnTo>
                  <a:lnTo>
                    <a:pt x="19" y="161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77560" y="3304080"/>
              <a:ext cx="23040" cy="376560"/>
            </a:xfrm>
            <a:custGeom>
              <a:avLst/>
              <a:gdLst/>
              <a:ahLst/>
              <a:rect l="l" t="t" r="r" b="b"/>
              <a:pathLst>
                <a:path w="10" h="157">
                  <a:moveTo>
                    <a:pt x="0" y="6"/>
                  </a:moveTo>
                  <a:lnTo>
                    <a:pt x="10" y="0"/>
                  </a:lnTo>
                  <a:lnTo>
                    <a:pt x="10" y="153"/>
                  </a:lnTo>
                  <a:lnTo>
                    <a:pt x="0" y="15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32920" y="3279600"/>
              <a:ext cx="67680" cy="3852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19" y="16"/>
                  </a:moveTo>
                  <a:lnTo>
                    <a:pt x="29" y="10"/>
                  </a:lnTo>
                  <a:lnTo>
                    <a:pt x="10" y="0"/>
                  </a:lnTo>
                  <a:lnTo>
                    <a:pt x="0" y="6"/>
                  </a:lnTo>
                  <a:lnTo>
                    <a:pt x="19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67760" y="3243960"/>
              <a:ext cx="20880" cy="377280"/>
            </a:xfrm>
            <a:custGeom>
              <a:avLst/>
              <a:gdLst/>
              <a:ahLst/>
              <a:rect l="l" t="t" r="r" b="b"/>
              <a:pathLst>
                <a:path w="9" h="157">
                  <a:moveTo>
                    <a:pt x="0" y="6"/>
                  </a:moveTo>
                  <a:lnTo>
                    <a:pt x="9" y="0"/>
                  </a:lnTo>
                  <a:lnTo>
                    <a:pt x="9" y="153"/>
                  </a:lnTo>
                  <a:lnTo>
                    <a:pt x="0" y="15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16640" y="3229560"/>
              <a:ext cx="51120" cy="391320"/>
            </a:xfrm>
            <a:custGeom>
              <a:avLst/>
              <a:gdLst/>
              <a:ahLst/>
              <a:rect l="l" t="t" r="r" b="b"/>
              <a:pathLst>
                <a:path w="22" h="163">
                  <a:moveTo>
                    <a:pt x="0" y="0"/>
                  </a:moveTo>
                  <a:lnTo>
                    <a:pt x="0" y="153"/>
                  </a:lnTo>
                  <a:lnTo>
                    <a:pt x="22" y="163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21320" y="3219840"/>
              <a:ext cx="67680" cy="3852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0" y="16"/>
                  </a:moveTo>
                  <a:lnTo>
                    <a:pt x="29" y="1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132920" y="3722040"/>
              <a:ext cx="44280" cy="457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19" y="10"/>
                  </a:lnTo>
                  <a:lnTo>
                    <a:pt x="19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77560" y="3551400"/>
              <a:ext cx="359280" cy="216000"/>
            </a:xfrm>
            <a:custGeom>
              <a:avLst/>
              <a:gdLst/>
              <a:ahLst/>
              <a:rect l="l" t="t" r="r" b="b"/>
              <a:pathLst>
                <a:path w="154" h="90">
                  <a:moveTo>
                    <a:pt x="0" y="81"/>
                  </a:moveTo>
                  <a:lnTo>
                    <a:pt x="0" y="90"/>
                  </a:lnTo>
                  <a:lnTo>
                    <a:pt x="154" y="8"/>
                  </a:lnTo>
                  <a:lnTo>
                    <a:pt x="154" y="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32920" y="3529800"/>
              <a:ext cx="403560" cy="21600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9" y="90"/>
                  </a:moveTo>
                  <a:lnTo>
                    <a:pt x="0" y="80"/>
                  </a:lnTo>
                  <a:lnTo>
                    <a:pt x="155" y="0"/>
                  </a:lnTo>
                  <a:lnTo>
                    <a:pt x="173" y="9"/>
                  </a:lnTo>
                  <a:lnTo>
                    <a:pt x="19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00600" y="3304080"/>
              <a:ext cx="252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1177560" y="3303720"/>
              <a:ext cx="2304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50760" y="3469680"/>
              <a:ext cx="294120" cy="141480"/>
            </a:xfrm>
            <a:custGeom>
              <a:avLst/>
              <a:gdLst/>
              <a:ahLst/>
              <a:rect l="l" t="t" r="r" b="b"/>
              <a:pathLst>
                <a:path w="126" h="59">
                  <a:moveTo>
                    <a:pt x="28" y="7"/>
                  </a:moveTo>
                  <a:lnTo>
                    <a:pt x="97" y="42"/>
                  </a:lnTo>
                  <a:lnTo>
                    <a:pt x="107" y="40"/>
                  </a:lnTo>
                  <a:lnTo>
                    <a:pt x="107" y="34"/>
                  </a:lnTo>
                  <a:lnTo>
                    <a:pt x="107" y="28"/>
                  </a:lnTo>
                  <a:lnTo>
                    <a:pt x="126" y="40"/>
                  </a:lnTo>
                  <a:lnTo>
                    <a:pt x="88" y="59"/>
                  </a:lnTo>
                  <a:lnTo>
                    <a:pt x="0" y="13"/>
                  </a:lnTo>
                  <a:lnTo>
                    <a:pt x="30" y="0"/>
                  </a:lnTo>
                  <a:lnTo>
                    <a:pt x="30" y="9"/>
                  </a:lnTo>
                  <a:lnTo>
                    <a:pt x="2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50760" y="3340080"/>
              <a:ext cx="205200" cy="271080"/>
            </a:xfrm>
            <a:custGeom>
              <a:avLst/>
              <a:gdLst/>
              <a:ahLst/>
              <a:rect l="l" t="t" r="r" b="b"/>
              <a:pathLst>
                <a:path w="88" h="113">
                  <a:moveTo>
                    <a:pt x="0" y="0"/>
                  </a:moveTo>
                  <a:lnTo>
                    <a:pt x="88" y="46"/>
                  </a:lnTo>
                  <a:lnTo>
                    <a:pt x="88" y="113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156320" y="3400200"/>
              <a:ext cx="88560" cy="210960"/>
            </a:xfrm>
            <a:custGeom>
              <a:avLst/>
              <a:gdLst/>
              <a:ahLst/>
              <a:rect l="l" t="t" r="r" b="b"/>
              <a:pathLst>
                <a:path w="38" h="88">
                  <a:moveTo>
                    <a:pt x="0" y="21"/>
                  </a:moveTo>
                  <a:lnTo>
                    <a:pt x="38" y="0"/>
                  </a:lnTo>
                  <a:lnTo>
                    <a:pt x="38" y="69"/>
                  </a:lnTo>
                  <a:lnTo>
                    <a:pt x="0" y="8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50760" y="3304080"/>
              <a:ext cx="294120" cy="146160"/>
            </a:xfrm>
            <a:custGeom>
              <a:avLst/>
              <a:gdLst/>
              <a:ahLst/>
              <a:rect l="l" t="t" r="r" b="b"/>
              <a:pathLst>
                <a:path w="126" h="61">
                  <a:moveTo>
                    <a:pt x="28" y="11"/>
                  </a:moveTo>
                  <a:lnTo>
                    <a:pt x="97" y="46"/>
                  </a:lnTo>
                  <a:lnTo>
                    <a:pt x="107" y="40"/>
                  </a:lnTo>
                  <a:lnTo>
                    <a:pt x="107" y="36"/>
                  </a:lnTo>
                  <a:lnTo>
                    <a:pt x="107" y="30"/>
                  </a:lnTo>
                  <a:lnTo>
                    <a:pt x="126" y="40"/>
                  </a:lnTo>
                  <a:lnTo>
                    <a:pt x="88" y="61"/>
                  </a:lnTo>
                  <a:lnTo>
                    <a:pt x="0" y="15"/>
                  </a:lnTo>
                  <a:lnTo>
                    <a:pt x="30" y="0"/>
                  </a:lnTo>
                  <a:lnTo>
                    <a:pt x="30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73840" y="3229560"/>
              <a:ext cx="2520" cy="38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5920" y="3635280"/>
              <a:ext cx="142200" cy="7164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2" y="30"/>
                  </a:moveTo>
                  <a:lnTo>
                    <a:pt x="61" y="19"/>
                  </a:lnTo>
                  <a:lnTo>
                    <a:pt x="21" y="0"/>
                  </a:lnTo>
                  <a:lnTo>
                    <a:pt x="0" y="9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95920" y="3652200"/>
              <a:ext cx="98280" cy="11520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23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1" y="23"/>
                  </a:lnTo>
                  <a:lnTo>
                    <a:pt x="21" y="33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42" y="48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338480" y="3229560"/>
              <a:ext cx="135360" cy="451080"/>
            </a:xfrm>
            <a:custGeom>
              <a:avLst/>
              <a:gdLst/>
              <a:ahLst/>
              <a:rect l="l" t="t" r="r" b="b"/>
              <a:pathLst>
                <a:path w="58" h="188">
                  <a:moveTo>
                    <a:pt x="0" y="31"/>
                  </a:moveTo>
                  <a:lnTo>
                    <a:pt x="0" y="188"/>
                  </a:lnTo>
                  <a:lnTo>
                    <a:pt x="58" y="157"/>
                  </a:lnTo>
                  <a:lnTo>
                    <a:pt x="5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94200" y="3606480"/>
              <a:ext cx="179280" cy="160920"/>
            </a:xfrm>
            <a:custGeom>
              <a:avLst/>
              <a:gdLst/>
              <a:ahLst/>
              <a:rect l="l" t="t" r="r" b="b"/>
              <a:pathLst>
                <a:path w="77" h="67">
                  <a:moveTo>
                    <a:pt x="77" y="0"/>
                  </a:moveTo>
                  <a:lnTo>
                    <a:pt x="0" y="42"/>
                  </a:lnTo>
                  <a:lnTo>
                    <a:pt x="0" y="67"/>
                  </a:lnTo>
                  <a:lnTo>
                    <a:pt x="77" y="27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245240" y="3258360"/>
              <a:ext cx="92880" cy="422280"/>
            </a:xfrm>
            <a:custGeom>
              <a:avLst/>
              <a:gdLst/>
              <a:ahLst/>
              <a:rect l="l" t="t" r="r" b="b"/>
              <a:pathLst>
                <a:path w="40" h="176">
                  <a:moveTo>
                    <a:pt x="0" y="0"/>
                  </a:moveTo>
                  <a:lnTo>
                    <a:pt x="0" y="157"/>
                  </a:lnTo>
                  <a:lnTo>
                    <a:pt x="40" y="176"/>
                  </a:lnTo>
                  <a:lnTo>
                    <a:pt x="4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200600" y="3635280"/>
              <a:ext cx="44280" cy="1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5480" y="3611520"/>
              <a:ext cx="569160" cy="326520"/>
            </a:xfrm>
            <a:custGeom>
              <a:avLst/>
              <a:gdLst/>
              <a:ahLst/>
              <a:rect l="l" t="t" r="r" b="b"/>
              <a:pathLst>
                <a:path w="244" h="136">
                  <a:moveTo>
                    <a:pt x="244" y="136"/>
                  </a:moveTo>
                  <a:lnTo>
                    <a:pt x="244" y="127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44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249920" y="3611520"/>
              <a:ext cx="443520" cy="386280"/>
            </a:xfrm>
            <a:custGeom>
              <a:avLst/>
              <a:gdLst/>
              <a:ahLst/>
              <a:rect l="l" t="t" r="r" b="b"/>
              <a:pathLst>
                <a:path w="190" h="161">
                  <a:moveTo>
                    <a:pt x="25" y="161"/>
                  </a:moveTo>
                  <a:lnTo>
                    <a:pt x="190" y="71"/>
                  </a:lnTo>
                  <a:lnTo>
                    <a:pt x="190" y="0"/>
                  </a:lnTo>
                  <a:lnTo>
                    <a:pt x="0" y="1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35000" y="3892320"/>
              <a:ext cx="272880" cy="170280"/>
            </a:xfrm>
            <a:custGeom>
              <a:avLst/>
              <a:gdLst/>
              <a:ahLst/>
              <a:rect l="l" t="t" r="r" b="b"/>
              <a:pathLst>
                <a:path w="117" h="71">
                  <a:moveTo>
                    <a:pt x="0" y="71"/>
                  </a:moveTo>
                  <a:lnTo>
                    <a:pt x="117" y="10"/>
                  </a:lnTo>
                  <a:lnTo>
                    <a:pt x="117" y="0"/>
                  </a:lnTo>
                  <a:lnTo>
                    <a:pt x="86" y="15"/>
                  </a:lnTo>
                  <a:lnTo>
                    <a:pt x="86" y="6"/>
                  </a:lnTo>
                  <a:lnTo>
                    <a:pt x="77" y="10"/>
                  </a:lnTo>
                  <a:lnTo>
                    <a:pt x="77" y="19"/>
                  </a:lnTo>
                  <a:lnTo>
                    <a:pt x="38" y="40"/>
                  </a:lnTo>
                  <a:lnTo>
                    <a:pt x="38" y="34"/>
                  </a:lnTo>
                  <a:lnTo>
                    <a:pt x="38" y="31"/>
                  </a:lnTo>
                  <a:lnTo>
                    <a:pt x="29" y="34"/>
                  </a:lnTo>
                  <a:lnTo>
                    <a:pt x="29" y="46"/>
                  </a:lnTo>
                  <a:lnTo>
                    <a:pt x="0" y="63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035000" y="3916440"/>
              <a:ext cx="272880" cy="271080"/>
            </a:xfrm>
            <a:custGeom>
              <a:avLst/>
              <a:gdLst/>
              <a:ahLst/>
              <a:rect l="l" t="t" r="r" b="b"/>
              <a:pathLst>
                <a:path w="117" h="113">
                  <a:moveTo>
                    <a:pt x="0" y="61"/>
                  </a:moveTo>
                  <a:lnTo>
                    <a:pt x="117" y="0"/>
                  </a:lnTo>
                  <a:lnTo>
                    <a:pt x="117" y="49"/>
                  </a:lnTo>
                  <a:lnTo>
                    <a:pt x="0" y="113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5480" y="3565800"/>
              <a:ext cx="46440" cy="4572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20" y="10"/>
                  </a:moveTo>
                  <a:lnTo>
                    <a:pt x="20" y="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5480" y="3565800"/>
              <a:ext cx="613080" cy="326520"/>
            </a:xfrm>
            <a:custGeom>
              <a:avLst/>
              <a:gdLst/>
              <a:ahLst/>
              <a:rect l="l" t="t" r="r" b="b"/>
              <a:pathLst>
                <a:path w="263" h="136">
                  <a:moveTo>
                    <a:pt x="244" y="136"/>
                  </a:moveTo>
                  <a:lnTo>
                    <a:pt x="263" y="126"/>
                  </a:lnTo>
                  <a:lnTo>
                    <a:pt x="20" y="0"/>
                  </a:lnTo>
                  <a:lnTo>
                    <a:pt x="0" y="10"/>
                  </a:lnTo>
                  <a:lnTo>
                    <a:pt x="244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15000" y="3868560"/>
              <a:ext cx="43920" cy="478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9" y="10"/>
                  </a:moveTo>
                  <a:lnTo>
                    <a:pt x="19" y="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5480" y="3589560"/>
              <a:ext cx="569160" cy="326520"/>
            </a:xfrm>
            <a:custGeom>
              <a:avLst/>
              <a:gdLst/>
              <a:ahLst/>
              <a:rect l="l" t="t" r="r" b="b"/>
              <a:pathLst>
                <a:path w="244" h="136">
                  <a:moveTo>
                    <a:pt x="244" y="136"/>
                  </a:moveTo>
                  <a:lnTo>
                    <a:pt x="244" y="126"/>
                  </a:lnTo>
                  <a:lnTo>
                    <a:pt x="0" y="0"/>
                  </a:lnTo>
                  <a:lnTo>
                    <a:pt x="0" y="9"/>
                  </a:lnTo>
                  <a:lnTo>
                    <a:pt x="244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39680" y="3450600"/>
              <a:ext cx="72360" cy="138600"/>
            </a:xfrm>
            <a:custGeom>
              <a:avLst/>
              <a:gdLst/>
              <a:ahLst/>
              <a:rect l="l" t="t" r="r" b="b"/>
              <a:pathLst>
                <a:path w="31" h="58">
                  <a:moveTo>
                    <a:pt x="31" y="0"/>
                  </a:moveTo>
                  <a:lnTo>
                    <a:pt x="31" y="40"/>
                  </a:lnTo>
                  <a:lnTo>
                    <a:pt x="0" y="58"/>
                  </a:lnTo>
                  <a:lnTo>
                    <a:pt x="0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27720" y="3390120"/>
              <a:ext cx="72360" cy="13428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29" y="0"/>
                  </a:moveTo>
                  <a:lnTo>
                    <a:pt x="29" y="40"/>
                  </a:lnTo>
                  <a:lnTo>
                    <a:pt x="0" y="56"/>
                  </a:lnTo>
                  <a:lnTo>
                    <a:pt x="0" y="16"/>
                  </a:lnTo>
                  <a:lnTo>
                    <a:pt x="3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27720" y="3390120"/>
              <a:ext cx="179640" cy="9612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0" y="16"/>
                  </a:moveTo>
                  <a:lnTo>
                    <a:pt x="50" y="40"/>
                  </a:lnTo>
                  <a:lnTo>
                    <a:pt x="77" y="25"/>
                  </a:lnTo>
                  <a:lnTo>
                    <a:pt x="29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27720" y="3429000"/>
              <a:ext cx="116640" cy="160560"/>
            </a:xfrm>
            <a:custGeom>
              <a:avLst/>
              <a:gdLst/>
              <a:ahLst/>
              <a:rect l="l" t="t" r="r" b="b"/>
              <a:pathLst>
                <a:path w="50" h="67">
                  <a:moveTo>
                    <a:pt x="0" y="0"/>
                  </a:moveTo>
                  <a:lnTo>
                    <a:pt x="0" y="40"/>
                  </a:lnTo>
                  <a:lnTo>
                    <a:pt x="50" y="67"/>
                  </a:lnTo>
                  <a:lnTo>
                    <a:pt x="5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62640" y="3621240"/>
              <a:ext cx="90720" cy="4068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39" y="8"/>
                  </a:moveTo>
                  <a:lnTo>
                    <a:pt x="37" y="6"/>
                  </a:lnTo>
                  <a:lnTo>
                    <a:pt x="37" y="4"/>
                  </a:lnTo>
                  <a:lnTo>
                    <a:pt x="35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6" y="17"/>
                  </a:lnTo>
                  <a:lnTo>
                    <a:pt x="20" y="17"/>
                  </a:lnTo>
                  <a:lnTo>
                    <a:pt x="23" y="17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7" y="11"/>
                  </a:lnTo>
                  <a:lnTo>
                    <a:pt x="37" y="10"/>
                  </a:lnTo>
                  <a:lnTo>
                    <a:pt x="39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62640" y="3621240"/>
              <a:ext cx="90720" cy="4068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39" y="8"/>
                  </a:moveTo>
                  <a:lnTo>
                    <a:pt x="37" y="6"/>
                  </a:lnTo>
                  <a:lnTo>
                    <a:pt x="37" y="4"/>
                  </a:lnTo>
                  <a:lnTo>
                    <a:pt x="35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6" y="17"/>
                  </a:lnTo>
                  <a:lnTo>
                    <a:pt x="20" y="17"/>
                  </a:lnTo>
                  <a:lnTo>
                    <a:pt x="23" y="17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7" y="11"/>
                  </a:lnTo>
                  <a:lnTo>
                    <a:pt x="37" y="10"/>
                  </a:lnTo>
                  <a:lnTo>
                    <a:pt x="39" y="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62640" y="3621240"/>
              <a:ext cx="90720" cy="4068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39" y="8"/>
                  </a:moveTo>
                  <a:lnTo>
                    <a:pt x="37" y="6"/>
                  </a:lnTo>
                  <a:lnTo>
                    <a:pt x="37" y="4"/>
                  </a:lnTo>
                  <a:lnTo>
                    <a:pt x="35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6" y="17"/>
                  </a:lnTo>
                  <a:lnTo>
                    <a:pt x="20" y="17"/>
                  </a:lnTo>
                  <a:lnTo>
                    <a:pt x="23" y="17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7" y="11"/>
                  </a:lnTo>
                  <a:lnTo>
                    <a:pt x="37" y="10"/>
                  </a:lnTo>
                  <a:lnTo>
                    <a:pt x="39" y="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62640" y="3621240"/>
              <a:ext cx="81720" cy="1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62640" y="3580200"/>
              <a:ext cx="90720" cy="4500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39" y="9"/>
                  </a:moveTo>
                  <a:lnTo>
                    <a:pt x="37" y="7"/>
                  </a:lnTo>
                  <a:lnTo>
                    <a:pt x="37" y="5"/>
                  </a:lnTo>
                  <a:lnTo>
                    <a:pt x="35" y="5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6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7" y="13"/>
                  </a:lnTo>
                  <a:lnTo>
                    <a:pt x="37" y="11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62640" y="3580200"/>
              <a:ext cx="90720" cy="4500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39" y="9"/>
                  </a:moveTo>
                  <a:lnTo>
                    <a:pt x="37" y="7"/>
                  </a:lnTo>
                  <a:lnTo>
                    <a:pt x="37" y="5"/>
                  </a:lnTo>
                  <a:lnTo>
                    <a:pt x="35" y="5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6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7" y="13"/>
                  </a:lnTo>
                  <a:lnTo>
                    <a:pt x="37" y="11"/>
                  </a:lnTo>
                  <a:lnTo>
                    <a:pt x="39" y="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90720" y="3597120"/>
              <a:ext cx="39600" cy="1872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17" y="4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7" y="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90720" y="3597120"/>
              <a:ext cx="39600" cy="1872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17" y="4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7" y="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53720" y="3601440"/>
              <a:ext cx="2520" cy="3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62640" y="3601440"/>
              <a:ext cx="86760" cy="4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72000" y="3616200"/>
              <a:ext cx="9360" cy="4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95400" y="3621240"/>
              <a:ext cx="14040" cy="3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021320" y="3621240"/>
              <a:ext cx="136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039680" y="3616200"/>
              <a:ext cx="13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90720" y="3597120"/>
              <a:ext cx="39600" cy="1872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17" y="4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7" y="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62640" y="3580200"/>
              <a:ext cx="90720" cy="4500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39" y="9"/>
                  </a:moveTo>
                  <a:lnTo>
                    <a:pt x="37" y="7"/>
                  </a:lnTo>
                  <a:lnTo>
                    <a:pt x="37" y="5"/>
                  </a:lnTo>
                  <a:lnTo>
                    <a:pt x="35" y="5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6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7" y="13"/>
                  </a:lnTo>
                  <a:lnTo>
                    <a:pt x="37" y="11"/>
                  </a:lnTo>
                  <a:lnTo>
                    <a:pt x="39" y="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1030320" y="3580200"/>
              <a:ext cx="2520" cy="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990720" y="3556440"/>
              <a:ext cx="39600" cy="500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0"/>
                  </a:moveTo>
                  <a:lnTo>
                    <a:pt x="17" y="10"/>
                  </a:lnTo>
                  <a:lnTo>
                    <a:pt x="17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990720" y="3556080"/>
              <a:ext cx="252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62640" y="3601440"/>
              <a:ext cx="2520" cy="3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79640" y="3943080"/>
              <a:ext cx="44280" cy="450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10"/>
                  </a:moveTo>
                  <a:lnTo>
                    <a:pt x="19" y="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2280" y="3640320"/>
              <a:ext cx="44280" cy="457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9"/>
                  </a:moveTo>
                  <a:lnTo>
                    <a:pt x="19" y="0"/>
                  </a:lnTo>
                  <a:lnTo>
                    <a:pt x="0" y="9"/>
                  </a:lnTo>
                  <a:lnTo>
                    <a:pt x="0" y="19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2280" y="3661920"/>
              <a:ext cx="567360" cy="326160"/>
            </a:xfrm>
            <a:custGeom>
              <a:avLst/>
              <a:gdLst/>
              <a:ahLst/>
              <a:rect l="l" t="t" r="r" b="b"/>
              <a:pathLst>
                <a:path w="243" h="136">
                  <a:moveTo>
                    <a:pt x="243" y="136"/>
                  </a:moveTo>
                  <a:lnTo>
                    <a:pt x="243" y="127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43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2280" y="3640320"/>
              <a:ext cx="611640" cy="326520"/>
            </a:xfrm>
            <a:custGeom>
              <a:avLst/>
              <a:gdLst/>
              <a:ahLst/>
              <a:rect l="l" t="t" r="r" b="b"/>
              <a:pathLst>
                <a:path w="262" h="136">
                  <a:moveTo>
                    <a:pt x="243" y="136"/>
                  </a:moveTo>
                  <a:lnTo>
                    <a:pt x="262" y="126"/>
                  </a:lnTo>
                  <a:lnTo>
                    <a:pt x="19" y="0"/>
                  </a:lnTo>
                  <a:lnTo>
                    <a:pt x="0" y="9"/>
                  </a:lnTo>
                  <a:lnTo>
                    <a:pt x="243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41760" y="3755520"/>
              <a:ext cx="228600" cy="196560"/>
            </a:xfrm>
            <a:custGeom>
              <a:avLst/>
              <a:gdLst/>
              <a:ahLst/>
              <a:rect l="l" t="t" r="r" b="b"/>
              <a:pathLst>
                <a:path w="98" h="82">
                  <a:moveTo>
                    <a:pt x="0" y="51"/>
                  </a:moveTo>
                  <a:lnTo>
                    <a:pt x="0" y="82"/>
                  </a:lnTo>
                  <a:lnTo>
                    <a:pt x="15" y="74"/>
                  </a:lnTo>
                  <a:lnTo>
                    <a:pt x="9" y="72"/>
                  </a:lnTo>
                  <a:lnTo>
                    <a:pt x="9" y="63"/>
                  </a:lnTo>
                  <a:lnTo>
                    <a:pt x="88" y="23"/>
                  </a:lnTo>
                  <a:lnTo>
                    <a:pt x="98" y="26"/>
                  </a:lnTo>
                  <a:lnTo>
                    <a:pt x="98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60480" y="3863520"/>
              <a:ext cx="16200" cy="187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1" y="0"/>
                  </a:moveTo>
                  <a:lnTo>
                    <a:pt x="1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7" y="4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962280" y="3868200"/>
              <a:ext cx="140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962640" y="3863160"/>
              <a:ext cx="9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16640" y="3832560"/>
              <a:ext cx="18360" cy="187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2"/>
                  </a:moveTo>
                  <a:lnTo>
                    <a:pt x="2" y="0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8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1021320" y="3837240"/>
              <a:ext cx="1368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1021320" y="3837240"/>
              <a:ext cx="86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74600" y="3800880"/>
              <a:ext cx="23040" cy="165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4" y="2"/>
                  </a:moveTo>
                  <a:lnTo>
                    <a:pt x="4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1084320" y="3805560"/>
              <a:ext cx="13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1079640" y="3805920"/>
              <a:ext cx="93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132920" y="3767760"/>
              <a:ext cx="18720" cy="2376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2" y="2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8" y="6"/>
                  </a:lnTo>
                  <a:lnTo>
                    <a:pt x="8" y="2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1137240" y="3771720"/>
              <a:ext cx="140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1137600" y="3771720"/>
              <a:ext cx="9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73560" y="3611520"/>
              <a:ext cx="223560" cy="199080"/>
            </a:xfrm>
            <a:custGeom>
              <a:avLst/>
              <a:gdLst/>
              <a:ahLst/>
              <a:rect l="l" t="t" r="r" b="b"/>
              <a:pathLst>
                <a:path w="96" h="83">
                  <a:moveTo>
                    <a:pt x="0" y="52"/>
                  </a:moveTo>
                  <a:lnTo>
                    <a:pt x="0" y="83"/>
                  </a:lnTo>
                  <a:lnTo>
                    <a:pt x="13" y="75"/>
                  </a:lnTo>
                  <a:lnTo>
                    <a:pt x="10" y="73"/>
                  </a:lnTo>
                  <a:lnTo>
                    <a:pt x="10" y="63"/>
                  </a:lnTo>
                  <a:lnTo>
                    <a:pt x="86" y="21"/>
                  </a:lnTo>
                  <a:lnTo>
                    <a:pt x="96" y="27"/>
                  </a:lnTo>
                  <a:lnTo>
                    <a:pt x="96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1920" y="3717000"/>
              <a:ext cx="16200" cy="237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2" y="2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7" y="6"/>
                  </a:lnTo>
                  <a:lnTo>
                    <a:pt x="7" y="2"/>
                  </a:lnTo>
                  <a:lnTo>
                    <a:pt x="3" y="4"/>
                  </a:lnTo>
                  <a:lnTo>
                    <a:pt x="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696960" y="3721680"/>
              <a:ext cx="11520" cy="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696600" y="3721680"/>
              <a:ext cx="18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5560" y="3686040"/>
              <a:ext cx="20880" cy="208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2"/>
                  </a:moveTo>
                  <a:lnTo>
                    <a:pt x="3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9" y="6"/>
                  </a:lnTo>
                  <a:lnTo>
                    <a:pt x="9" y="2"/>
                  </a:lnTo>
                  <a:lnTo>
                    <a:pt x="5" y="4"/>
                  </a:lnTo>
                  <a:lnTo>
                    <a:pt x="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52760" y="3690360"/>
              <a:ext cx="13680" cy="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749880" y="3690720"/>
              <a:ext cx="684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06400" y="3657240"/>
              <a:ext cx="18360" cy="187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0"/>
                  </a:moveTo>
                  <a:lnTo>
                    <a:pt x="2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8" y="4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 flipV="1">
              <a:off x="811080" y="3661920"/>
              <a:ext cx="1368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 flipV="1">
              <a:off x="810720" y="3656880"/>
              <a:ext cx="4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64720" y="3625560"/>
              <a:ext cx="18360" cy="194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0"/>
                  </a:moveTo>
                  <a:lnTo>
                    <a:pt x="2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8" y="4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869400" y="3630240"/>
              <a:ext cx="13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869040" y="3625200"/>
              <a:ext cx="4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3560" y="3611520"/>
              <a:ext cx="496800" cy="266040"/>
            </a:xfrm>
            <a:custGeom>
              <a:avLst/>
              <a:gdLst/>
              <a:ahLst/>
              <a:rect l="l" t="t" r="r" b="b"/>
              <a:pathLst>
                <a:path w="213" h="111">
                  <a:moveTo>
                    <a:pt x="115" y="111"/>
                  </a:moveTo>
                  <a:lnTo>
                    <a:pt x="0" y="52"/>
                  </a:lnTo>
                  <a:lnTo>
                    <a:pt x="96" y="0"/>
                  </a:lnTo>
                  <a:lnTo>
                    <a:pt x="213" y="60"/>
                  </a:lnTo>
                  <a:lnTo>
                    <a:pt x="115" y="1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874080" y="3625560"/>
              <a:ext cx="272880" cy="14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869040" y="3625560"/>
              <a:ext cx="26820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815760" y="3652200"/>
              <a:ext cx="272880" cy="1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810720" y="3656880"/>
              <a:ext cx="26820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757080" y="3686040"/>
              <a:ext cx="27288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750240" y="3690720"/>
              <a:ext cx="2707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699120" y="3717000"/>
              <a:ext cx="27288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 flipV="1">
              <a:off x="696960" y="3721680"/>
              <a:ext cx="26568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3560" y="3736080"/>
              <a:ext cx="268200" cy="216000"/>
            </a:xfrm>
            <a:custGeom>
              <a:avLst/>
              <a:gdLst/>
              <a:ahLst/>
              <a:rect l="l" t="t" r="r" b="b"/>
              <a:pathLst>
                <a:path w="115" h="90">
                  <a:moveTo>
                    <a:pt x="0" y="31"/>
                  </a:moveTo>
                  <a:lnTo>
                    <a:pt x="0" y="0"/>
                  </a:lnTo>
                  <a:lnTo>
                    <a:pt x="115" y="59"/>
                  </a:lnTo>
                  <a:lnTo>
                    <a:pt x="115" y="9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763640" y="3716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42" name=""/>
          <p:cNvCxnSpPr>
            <a:stCxn id="122" idx="3"/>
            <a:endCxn id="108" idx="0"/>
          </p:cNvCxnSpPr>
          <p:nvPr/>
        </p:nvCxnSpPr>
        <p:spPr>
          <a:xfrm rot="5400000">
            <a:off x="2202840" y="2897280"/>
            <a:ext cx="288000" cy="2650320"/>
          </a:xfrm>
          <a:prstGeom prst="bentConnector3">
            <a:avLst>
              <a:gd name="adj1" fmla="val 49687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43" name=""/>
          <p:cNvCxnSpPr>
            <a:stCxn id="122" idx="3"/>
            <a:endCxn id="109" idx="0"/>
          </p:cNvCxnSpPr>
          <p:nvPr/>
        </p:nvCxnSpPr>
        <p:spPr>
          <a:xfrm rot="5400000">
            <a:off x="2999520" y="3693960"/>
            <a:ext cx="288000" cy="1056600"/>
          </a:xfrm>
          <a:prstGeom prst="bentConnector3">
            <a:avLst>
              <a:gd name="adj1" fmla="val 49687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44" name=""/>
          <p:cNvCxnSpPr>
            <a:stCxn id="122" idx="3"/>
            <a:endCxn id="110" idx="0"/>
          </p:cNvCxnSpPr>
          <p:nvPr/>
        </p:nvCxnSpPr>
        <p:spPr>
          <a:xfrm flipH="1" rot="16200000">
            <a:off x="3894120" y="3855240"/>
            <a:ext cx="288000" cy="734040"/>
          </a:xfrm>
          <a:prstGeom prst="bentConnector3">
            <a:avLst>
              <a:gd name="adj1" fmla="val 49687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45" name=""/>
          <p:cNvCxnSpPr>
            <a:stCxn id="122" idx="3"/>
            <a:endCxn id="111" idx="0"/>
          </p:cNvCxnSpPr>
          <p:nvPr/>
        </p:nvCxnSpPr>
        <p:spPr>
          <a:xfrm flipH="1" rot="16200000">
            <a:off x="4618080" y="3132000"/>
            <a:ext cx="288000" cy="2180160"/>
          </a:xfrm>
          <a:prstGeom prst="bentConnector3">
            <a:avLst>
              <a:gd name="adj1" fmla="val 49687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46" name=""/>
          <p:cNvCxnSpPr>
            <a:stCxn id="122" idx="1"/>
            <a:endCxn id="105" idx="2"/>
          </p:cNvCxnSpPr>
          <p:nvPr/>
        </p:nvCxnSpPr>
        <p:spPr>
          <a:xfrm flipH="1" flipV="1" rot="5400000">
            <a:off x="3953520" y="2786400"/>
            <a:ext cx="289440" cy="85320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47" name=""/>
          <p:cNvCxnSpPr>
            <a:stCxn id="122" idx="1"/>
            <a:endCxn id="104" idx="2"/>
          </p:cNvCxnSpPr>
          <p:nvPr/>
        </p:nvCxnSpPr>
        <p:spPr>
          <a:xfrm flipV="1" rot="16200000">
            <a:off x="3162960" y="2847960"/>
            <a:ext cx="289440" cy="72936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 rot="20055600">
            <a:off x="5003640" y="2349360"/>
            <a:ext cx="935280" cy="289080"/>
          </a:xfrm>
          <a:prstGeom prst="rightArrow">
            <a:avLst>
              <a:gd name="adj1" fmla="val 50000"/>
              <a:gd name="adj2" fmla="val 808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4288320" y="3230640"/>
            <a:ext cx="17226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ff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굴림"/>
              </a:rPr>
              <a:t>Geometr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buClr>
                <a:srgbClr val="ff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굴림"/>
              </a:rPr>
              <a:t>Kinemati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buClr>
                <a:srgbClr val="ff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굴림"/>
              </a:rPr>
              <a:t>Performance &amp; Accurac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buClr>
                <a:srgbClr val="ff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굴림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 rot="3013800">
            <a:off x="4471200" y="4898160"/>
            <a:ext cx="922680" cy="288720"/>
          </a:xfrm>
          <a:prstGeom prst="rightArrow">
            <a:avLst>
              <a:gd name="adj1" fmla="val 50000"/>
              <a:gd name="adj2" fmla="val 798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2411640" y="4941000"/>
            <a:ext cx="28764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굴림"/>
              </a:rPr>
              <a:t>Virtual Machining</a:t>
            </a:r>
            <a:endParaRPr b="0" lang="en-US" sz="28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Virtual Machin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predicts an output of the machining process by simulating the actions of the machine tool in response to the part program and the environment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ased on data model, new systems such as virtual machining and virtual inspection can be developed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581040" y="5445000"/>
            <a:ext cx="2133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chin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STECH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084720" y="3213000"/>
            <a:ext cx="2519640" cy="2212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258600" y="5516640"/>
            <a:ext cx="22039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Inspection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IST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3997440" y="3932280"/>
            <a:ext cx="1224000" cy="7207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4097520" y="4148280"/>
            <a:ext cx="1035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chine Tool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ata Mod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3132000" y="4148280"/>
            <a:ext cx="792360" cy="360360"/>
          </a:xfrm>
          <a:prstGeom prst="leftArrow">
            <a:avLst>
              <a:gd name="adj1" fmla="val 50000"/>
              <a:gd name="adj2" fmla="val 549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 rot="10800000">
            <a:off x="5292720" y="4149360"/>
            <a:ext cx="792000" cy="360360"/>
          </a:xfrm>
          <a:prstGeom prst="leftArrow">
            <a:avLst>
              <a:gd name="adj1" fmla="val 50000"/>
              <a:gd name="adj2" fmla="val 549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0" t="13032" r="21875" b="6516"/>
          <a:stretch/>
        </p:blipFill>
        <p:spPr>
          <a:xfrm>
            <a:off x="395280" y="3243240"/>
            <a:ext cx="2664000" cy="2130480"/>
          </a:xfrm>
          <a:prstGeom prst="rect">
            <a:avLst/>
          </a:prstGeom>
          <a:ln w="0">
            <a:noFill/>
          </a:ln>
        </p:spPr>
      </p:pic>
      <p:sp>
        <p:nvSpPr>
          <p:cNvPr id="262" name="">
            <a:hlinkClick r:id="rId3" action="ppaction://hlinksldjump"/>
          </p:cNvPr>
          <p:cNvSpPr/>
          <p:nvPr/>
        </p:nvSpPr>
        <p:spPr>
          <a:xfrm>
            <a:off x="8244000" y="6165720"/>
            <a:ext cx="576000" cy="287640"/>
          </a:xfrm>
          <a:custGeom>
            <a:avLst/>
            <a:gdLst>
              <a:gd name="textAreaLeft" fmla="*/ 18360 w 576000"/>
              <a:gd name="textAreaRight" fmla="*/ 557640 w 57600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43227" h="21600">
                <a:moveTo>
                  <a:pt x="0" y="0"/>
                </a:moveTo>
                <a:lnTo>
                  <a:pt x="43227" y="0"/>
                </a:lnTo>
                <a:lnTo>
                  <a:pt x="43227" y="21600"/>
                </a:lnTo>
                <a:lnTo>
                  <a:pt x="0" y="21600"/>
                </a:lnTo>
                <a:close/>
              </a:path>
              <a:path fill="lightenLess" w="43227" h="21600">
                <a:moveTo>
                  <a:pt x="0" y="0"/>
                </a:moveTo>
                <a:lnTo>
                  <a:pt x="43227" y="0"/>
                </a:lnTo>
                <a:lnTo>
                  <a:pt x="41827" y="1400"/>
                </a:lnTo>
                <a:lnTo>
                  <a:pt x="1400" y="1400"/>
                </a:lnTo>
                <a:close/>
              </a:path>
              <a:path fill="darken" w="43227" h="21600">
                <a:moveTo>
                  <a:pt x="43227" y="0"/>
                </a:moveTo>
                <a:lnTo>
                  <a:pt x="43227" y="21600"/>
                </a:lnTo>
                <a:lnTo>
                  <a:pt x="41827" y="20200"/>
                </a:lnTo>
                <a:lnTo>
                  <a:pt x="41827" y="1400"/>
                </a:lnTo>
                <a:close/>
              </a:path>
              <a:path fill="darkenLess" w="43227" h="21600">
                <a:moveTo>
                  <a:pt x="43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7" y="20200"/>
                </a:lnTo>
                <a:close/>
              </a:path>
              <a:path fill="lighten" w="43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27" h="21600">
                <a:moveTo>
                  <a:pt x="14607" y="10800"/>
                </a:moveTo>
                <a:lnTo>
                  <a:pt x="28620" y="3794"/>
                </a:lnTo>
                <a:lnTo>
                  <a:pt x="28620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굴림"/>
              </a:rPr>
              <a:t>Considerations for data model</a:t>
            </a:r>
            <a:endParaRPr b="0" lang="en-US" sz="28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unctionalit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Data model can represent the functional characteristics of the machine tool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omprehensiven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Data model can represent the general properties of machine tools with regardless of the machine tool type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Extensibilit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Data model can represent a new type of machine tools without adding or modifying existing data model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Interoperabilit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Data model can be interoperable with existing standards such as STEP, STEP-NC and so on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43000" y="26028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lated International Standards to be referenced for the Machine tools data model</a:t>
            </a:r>
            <a:endParaRPr b="0" lang="en-US" sz="20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ISO TC3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The standards for interchangeability between components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Headstock, spindle, column, base, table, rotary table, etc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3" marL="16383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50000"/>
              </a:lnSpc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The standards for testing machine tool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est method, Test code, Test condition, etc.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ASME B5 : Catalogue mod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raft B5.59-1: “Data Specification for Machine Tool Performance Tests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raft B5.59-2: “Data Specification for Properties of Machine Tools for Milling and Turning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POSTECH model: Functional model for complex machin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eveloped for TurnSTEP, Type 3 STEP-NC system for turning developed by POSTECH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Mainly for configuration (structure, kinematics) of machine tool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"/>
          <p:cNvGraphicFramePr/>
          <p:nvPr/>
        </p:nvGraphicFramePr>
        <p:xfrm>
          <a:off x="574560" y="981000"/>
          <a:ext cx="7932960" cy="50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560" y="981000"/>
                    <a:ext cx="793296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11120" y="26028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굴림"/>
              </a:rPr>
              <a:t>Overall data model for machine tools</a:t>
            </a:r>
            <a:endParaRPr b="0" lang="en-US" sz="2800" spc="-1" strike="noStrike">
              <a:solidFill>
                <a:srgbClr val="333399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>
            <a:off x="1763640" y="2276640"/>
            <a:ext cx="1008000" cy="2887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3059280" y="4221000"/>
            <a:ext cx="936360" cy="3603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6246720" y="3429000"/>
            <a:ext cx="936720" cy="3603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2987640" y="2421000"/>
            <a:ext cx="865080" cy="3603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2987640" y="2997360"/>
            <a:ext cx="865080" cy="3603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6256440" y="2781360"/>
            <a:ext cx="936360" cy="3603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6280200" y="2276640"/>
            <a:ext cx="936720" cy="3603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7596360" y="2070000"/>
            <a:ext cx="936360" cy="3603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7596360" y="2563920"/>
            <a:ext cx="936360" cy="3603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7596360" y="3068640"/>
            <a:ext cx="936360" cy="3603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7596360" y="3573360"/>
            <a:ext cx="936360" cy="3603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2268360" y="1700280"/>
            <a:ext cx="1008360" cy="360360"/>
          </a:xfrm>
          <a:prstGeom prst="rect">
            <a:avLst/>
          </a:prstGeom>
          <a:noFill/>
          <a:ln w="284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3760920" y="1690560"/>
            <a:ext cx="1008000" cy="360360"/>
          </a:xfrm>
          <a:prstGeom prst="rect">
            <a:avLst/>
          </a:prstGeom>
          <a:noFill/>
          <a:ln w="284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5292720" y="1700280"/>
            <a:ext cx="1008000" cy="360360"/>
          </a:xfrm>
          <a:prstGeom prst="rect">
            <a:avLst/>
          </a:prstGeom>
          <a:noFill/>
          <a:ln w="284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3564000" y="981000"/>
            <a:ext cx="1008000" cy="360360"/>
          </a:xfrm>
          <a:prstGeom prst="rect">
            <a:avLst/>
          </a:prstGeom>
          <a:noFill/>
          <a:ln w="284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468360" y="5372280"/>
            <a:ext cx="1081080" cy="3603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324000" y="5345280"/>
            <a:ext cx="131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Under developmen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468360" y="5803920"/>
            <a:ext cx="1081080" cy="360360"/>
          </a:xfrm>
          <a:prstGeom prst="rect">
            <a:avLst/>
          </a:prstGeom>
          <a:noFill/>
          <a:ln w="284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5788080"/>
            <a:ext cx="131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rom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468360" y="4940280"/>
            <a:ext cx="1081080" cy="36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324000" y="4919760"/>
            <a:ext cx="131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 be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velop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>
            <a:off x="4967280" y="2276640"/>
            <a:ext cx="934920" cy="288720"/>
          </a:xfrm>
          <a:prstGeom prst="rect">
            <a:avLst/>
          </a:prstGeom>
          <a:noFill/>
          <a:ln w="284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3708360" y="4437000"/>
            <a:ext cx="432000" cy="144360"/>
          </a:xfrm>
          <a:custGeom>
            <a:avLst/>
            <a:gdLst>
              <a:gd name="textAreaLeft" fmla="*/ 9360 w 432000"/>
              <a:gd name="textAreaRight" fmla="*/ 422640 w 43200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64531" h="21600">
                <a:moveTo>
                  <a:pt x="0" y="0"/>
                </a:moveTo>
                <a:lnTo>
                  <a:pt x="64531" y="0"/>
                </a:lnTo>
                <a:lnTo>
                  <a:pt x="64531" y="21600"/>
                </a:lnTo>
                <a:lnTo>
                  <a:pt x="0" y="21600"/>
                </a:lnTo>
                <a:close/>
              </a:path>
              <a:path fill="lightenLess" w="64531" h="21600">
                <a:moveTo>
                  <a:pt x="0" y="0"/>
                </a:moveTo>
                <a:lnTo>
                  <a:pt x="64531" y="0"/>
                </a:lnTo>
                <a:lnTo>
                  <a:pt x="63131" y="1400"/>
                </a:lnTo>
                <a:lnTo>
                  <a:pt x="1400" y="1400"/>
                </a:lnTo>
                <a:close/>
              </a:path>
              <a:path fill="darken" w="64531" h="21600">
                <a:moveTo>
                  <a:pt x="64531" y="0"/>
                </a:moveTo>
                <a:lnTo>
                  <a:pt x="64531" y="21600"/>
                </a:lnTo>
                <a:lnTo>
                  <a:pt x="63131" y="20200"/>
                </a:lnTo>
                <a:lnTo>
                  <a:pt x="63131" y="1400"/>
                </a:lnTo>
                <a:close/>
              </a:path>
              <a:path fill="darkenLess" w="64531" h="21600">
                <a:moveTo>
                  <a:pt x="6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31" y="20200"/>
                </a:lnTo>
                <a:close/>
              </a:path>
              <a:path fill="lighten" w="6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531" h="21600">
                <a:moveTo>
                  <a:pt x="25259" y="3794"/>
                </a:moveTo>
                <a:lnTo>
                  <a:pt x="39272" y="10800"/>
                </a:lnTo>
                <a:lnTo>
                  <a:pt x="25259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6804000" y="2997360"/>
            <a:ext cx="432000" cy="144360"/>
          </a:xfrm>
          <a:custGeom>
            <a:avLst/>
            <a:gdLst>
              <a:gd name="textAreaLeft" fmla="*/ 9360 w 432000"/>
              <a:gd name="textAreaRight" fmla="*/ 422640 w 43200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64531" h="21600">
                <a:moveTo>
                  <a:pt x="0" y="0"/>
                </a:moveTo>
                <a:lnTo>
                  <a:pt x="64531" y="0"/>
                </a:lnTo>
                <a:lnTo>
                  <a:pt x="64531" y="21600"/>
                </a:lnTo>
                <a:lnTo>
                  <a:pt x="0" y="21600"/>
                </a:lnTo>
                <a:close/>
              </a:path>
              <a:path fill="lightenLess" w="64531" h="21600">
                <a:moveTo>
                  <a:pt x="0" y="0"/>
                </a:moveTo>
                <a:lnTo>
                  <a:pt x="64531" y="0"/>
                </a:lnTo>
                <a:lnTo>
                  <a:pt x="63131" y="1400"/>
                </a:lnTo>
                <a:lnTo>
                  <a:pt x="1400" y="1400"/>
                </a:lnTo>
                <a:close/>
              </a:path>
              <a:path fill="darken" w="64531" h="21600">
                <a:moveTo>
                  <a:pt x="64531" y="0"/>
                </a:moveTo>
                <a:lnTo>
                  <a:pt x="64531" y="21600"/>
                </a:lnTo>
                <a:lnTo>
                  <a:pt x="63131" y="20200"/>
                </a:lnTo>
                <a:lnTo>
                  <a:pt x="63131" y="1400"/>
                </a:lnTo>
                <a:close/>
              </a:path>
              <a:path fill="darkenLess" w="64531" h="21600">
                <a:moveTo>
                  <a:pt x="6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31" y="20200"/>
                </a:lnTo>
                <a:close/>
              </a:path>
              <a:path fill="lighten" w="6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531" h="21600">
                <a:moveTo>
                  <a:pt x="25259" y="3794"/>
                </a:moveTo>
                <a:lnTo>
                  <a:pt x="39272" y="10800"/>
                </a:lnTo>
                <a:lnTo>
                  <a:pt x="25259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6804000" y="2492280"/>
            <a:ext cx="432000" cy="144720"/>
          </a:xfrm>
          <a:custGeom>
            <a:avLst/>
            <a:gdLst>
              <a:gd name="textAreaLeft" fmla="*/ 9360 w 432000"/>
              <a:gd name="textAreaRight" fmla="*/ 422640 w 43200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64371" h="21600">
                <a:moveTo>
                  <a:pt x="0" y="0"/>
                </a:moveTo>
                <a:lnTo>
                  <a:pt x="64371" y="0"/>
                </a:lnTo>
                <a:lnTo>
                  <a:pt x="64371" y="21600"/>
                </a:lnTo>
                <a:lnTo>
                  <a:pt x="0" y="21600"/>
                </a:lnTo>
                <a:close/>
              </a:path>
              <a:path fill="lightenLess" w="64371" h="21600">
                <a:moveTo>
                  <a:pt x="0" y="0"/>
                </a:moveTo>
                <a:lnTo>
                  <a:pt x="64371" y="0"/>
                </a:lnTo>
                <a:lnTo>
                  <a:pt x="62971" y="1400"/>
                </a:lnTo>
                <a:lnTo>
                  <a:pt x="1400" y="1400"/>
                </a:lnTo>
                <a:close/>
              </a:path>
              <a:path fill="darken" w="64371" h="21600">
                <a:moveTo>
                  <a:pt x="64371" y="0"/>
                </a:moveTo>
                <a:lnTo>
                  <a:pt x="64371" y="21600"/>
                </a:lnTo>
                <a:lnTo>
                  <a:pt x="62971" y="20200"/>
                </a:lnTo>
                <a:lnTo>
                  <a:pt x="62971" y="1400"/>
                </a:lnTo>
                <a:close/>
              </a:path>
              <a:path fill="darkenLess" w="64371" h="21600">
                <a:moveTo>
                  <a:pt x="64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971" y="20200"/>
                </a:lnTo>
                <a:close/>
              </a:path>
              <a:path fill="lighten" w="64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371" h="21600">
                <a:moveTo>
                  <a:pt x="25179" y="3794"/>
                </a:moveTo>
                <a:lnTo>
                  <a:pt x="39192" y="10800"/>
                </a:lnTo>
                <a:lnTo>
                  <a:pt x="25179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6732720" y="3645000"/>
            <a:ext cx="431640" cy="144360"/>
          </a:xfrm>
          <a:custGeom>
            <a:avLst/>
            <a:gdLst>
              <a:gd name="textAreaLeft" fmla="*/ 9360 w 431640"/>
              <a:gd name="textAreaRight" fmla="*/ 422280 w 43164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64478" h="21600">
                <a:moveTo>
                  <a:pt x="0" y="0"/>
                </a:moveTo>
                <a:lnTo>
                  <a:pt x="64478" y="0"/>
                </a:lnTo>
                <a:lnTo>
                  <a:pt x="64478" y="21600"/>
                </a:lnTo>
                <a:lnTo>
                  <a:pt x="0" y="21600"/>
                </a:lnTo>
                <a:close/>
              </a:path>
              <a:path fill="lightenLess" w="64478" h="21600">
                <a:moveTo>
                  <a:pt x="0" y="0"/>
                </a:moveTo>
                <a:lnTo>
                  <a:pt x="64478" y="0"/>
                </a:lnTo>
                <a:lnTo>
                  <a:pt x="63078" y="1400"/>
                </a:lnTo>
                <a:lnTo>
                  <a:pt x="1400" y="1400"/>
                </a:lnTo>
                <a:close/>
              </a:path>
              <a:path fill="darken" w="64478" h="21600">
                <a:moveTo>
                  <a:pt x="64478" y="0"/>
                </a:moveTo>
                <a:lnTo>
                  <a:pt x="64478" y="21600"/>
                </a:lnTo>
                <a:lnTo>
                  <a:pt x="63078" y="20200"/>
                </a:lnTo>
                <a:lnTo>
                  <a:pt x="63078" y="1400"/>
                </a:lnTo>
                <a:close/>
              </a:path>
              <a:path fill="darkenLess" w="64478" h="21600">
                <a:moveTo>
                  <a:pt x="64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078" y="20200"/>
                </a:lnTo>
                <a:close/>
              </a:path>
              <a:path fill="lighten" w="64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478" h="21600">
                <a:moveTo>
                  <a:pt x="25232" y="3794"/>
                </a:moveTo>
                <a:lnTo>
                  <a:pt x="39245" y="10800"/>
                </a:lnTo>
                <a:lnTo>
                  <a:pt x="25232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7956720" y="595008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3794"/>
                </a:moveTo>
                <a:lnTo>
                  <a:pt x="31337" y="10800"/>
                </a:lnTo>
                <a:lnTo>
                  <a:pt x="1732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17:55:50Z</dcterms:created>
  <dc:creator>정유정</dc:creator>
  <dc:description/>
  <dc:language>en-US</dc:language>
  <cp:lastModifiedBy>user</cp:lastModifiedBy>
  <dcterms:modified xsi:type="dcterms:W3CDTF">2006-10-25T02:17:56Z</dcterms:modified>
  <cp:revision>23</cp:revision>
  <dc:subject/>
  <dc:title>Status for ISO 14649 Part 110 : Machine tools</dc:title>
</cp:coreProperties>
</file>