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403092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4720" y="152352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24720" y="403092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6400" y="152352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7720" y="152352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403092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6400" y="403092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7720" y="403092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24720" y="152352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4720" y="152352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4720" y="152352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24720" y="403092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24720" y="152352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403092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52280" y="6434280"/>
            <a:ext cx="89154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Management  2006-06-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fld id="{820D439F-82BC-4455-9587-204C1BAC9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8540640" y="0"/>
          <a:ext cx="603360" cy="59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40640" y="0"/>
                    <a:ext cx="6033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0" y="0"/>
          <a:ext cx="781200" cy="695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0"/>
                    <a:ext cx="78120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ear 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duct Model for Gear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ludes all components – shafts, bearing, et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DMA 23900, based on AP 2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pports need for improved data exchange over current manual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lculation and analysis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uld be achieved by extension to AP 214/224, or by new 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eferable to get modular 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allback of implementation guide on existing AP2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arvesting proces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to confirm feasibility of AP214 ext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0T21:18:17Z</dcterms:created>
  <dc:creator>brittingham</dc:creator>
  <dc:description/>
  <dc:language>en-US</dc:language>
  <cp:lastModifiedBy>Administrator</cp:lastModifiedBy>
  <cp:lastPrinted>1999-01-21T19:28:48Z</cp:lastPrinted>
  <dcterms:modified xsi:type="dcterms:W3CDTF">2006-10-22T20:36:13Z</dcterms:modified>
  <cp:revision>312</cp:revision>
  <dc:subject/>
  <dc:title>8am clos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ist.gov/sc4</vt:lpwstr>
  </property>
  <property fmtid="{D5CDD505-2E9C-101B-9397-08002B2CF9AE}" pid="9" name="LinkColor">
    <vt:r8>16711782</vt:r8>
  </property>
  <property fmtid="{D5CDD505-2E9C-101B-9397-08002B2CF9AE}" pid="10" name="MailAddress">
    <vt:lpwstr>sc4sec@cme.nist.gov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G:\div826\subject\sc4\meetings\nola\Meetings\cplen\plen mtg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2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