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13D1F714-439B-42D4-926D-6A30356812F0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6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36520" y="679320"/>
            <a:ext cx="7763040" cy="16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Red: </a:t>
            </a: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OP</a:t>
            </a:r>
            <a:br>
              <a:rPr sz="4000"/>
            </a:br>
            <a:r>
              <a:rPr b="1" lang="en-US" sz="4000" spc="-1" strike="noStrike">
                <a:solidFill>
                  <a:srgbClr val="dced03"/>
                </a:solidFill>
                <a:latin typeface="Arial"/>
              </a:rPr>
              <a:t>Yellow: </a:t>
            </a:r>
            <a:r>
              <a:rPr b="1" lang="en-US" sz="4000" spc="-1" strike="noStrike">
                <a:solidFill>
                  <a:srgbClr val="dced0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dced03"/>
                </a:solidFill>
                <a:latin typeface="Arial"/>
              </a:rPr>
              <a:t>Proceed with Caution</a:t>
            </a:r>
            <a:br>
              <a:rPr sz="1600"/>
            </a:br>
            <a:r>
              <a:rPr b="1" lang="en-US" sz="4000" spc="-1" strike="noStrike">
                <a:solidFill>
                  <a:srgbClr val="009688"/>
                </a:solidFill>
                <a:latin typeface="Arial"/>
              </a:rPr>
              <a:t>Green: </a:t>
            </a:r>
            <a:r>
              <a:rPr b="1" lang="en-US" sz="4000" spc="-1" strike="noStrike">
                <a:solidFill>
                  <a:srgbClr val="009688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968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1172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79120" y="2889360"/>
            <a:ext cx="6819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AP-203 e2 Tolerances in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om an Idea by Sid Venkatesh of Boe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280" y="4565520"/>
            <a:ext cx="5077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 &amp; 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131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at detai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657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9320" y="1042560"/>
            <a:ext cx="7747200" cy="86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ve </a:t>
            </a:r>
            <a:r>
              <a:rPr b="1" lang="en-US" sz="2400" spc="-1" strike="noStrike">
                <a:solidFill>
                  <a:srgbClr val="009688"/>
                </a:solidFill>
                <a:latin typeface="Arial"/>
              </a:rPr>
              <a:t>gree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les, two 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r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les and one </a:t>
            </a:r>
            <a:r>
              <a:rPr b="1" lang="en-US" sz="2400" spc="-1" strike="noStrike">
                <a:solidFill>
                  <a:srgbClr val="dced03"/>
                </a:solidFill>
                <a:latin typeface="Arial"/>
              </a:rPr>
              <a:t>yello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cf0e3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Do not proc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31197" t="20803" r="2400" b="4801"/>
          <a:stretch/>
        </p:blipFill>
        <p:spPr>
          <a:xfrm>
            <a:off x="2355840" y="2203560"/>
            <a:ext cx="50608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90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91920" y="984240"/>
            <a:ext cx="7746840" cy="566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le to automate measurement process using stand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 e2 for design requir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for process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19 for results eval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 using existing data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 describes the part to be measured/check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T-CL describes the drilling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integrates them so that the quality of the operations can be measured against the features on the pa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asurement of 3 and 5 axis parts in context of assemb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process is very vis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you see is what you g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355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74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ct problems in placement or dimension of round h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cf0e3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Red 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cf0e30"/>
                </a:solidFill>
                <a:latin typeface="Arial"/>
              </a:rPr>
              <a:t>– STO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e is wro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9688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9688"/>
                </a:solidFill>
                <a:latin typeface="Arial"/>
              </a:rPr>
              <a:t>Green</a:t>
            </a:r>
            <a:r>
              <a:rPr b="1" lang="en-US" sz="1800" spc="-1" strike="noStrike">
                <a:solidFill>
                  <a:srgbClr val="00968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9688"/>
                </a:solidFill>
                <a:latin typeface="Arial"/>
              </a:rPr>
              <a:t>– G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ole is corr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dced03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dced03"/>
                </a:solidFill>
                <a:latin typeface="Arial"/>
              </a:rPr>
              <a:t>Yello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800" spc="-1" strike="noStrike">
                <a:solidFill>
                  <a:srgbClr val="dced03"/>
                </a:solidFill>
                <a:latin typeface="Arial"/>
              </a:rPr>
              <a:t>Proce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th ca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98640" y="3879720"/>
            <a:ext cx="4268880" cy="1828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 flipH="1">
            <a:off x="4793760" y="3346560"/>
            <a:ext cx="228600" cy="914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022720" y="4108320"/>
            <a:ext cx="1524240" cy="9907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84480" y="3422520"/>
            <a:ext cx="228600" cy="762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67160" y="3346560"/>
            <a:ext cx="2024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h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7760" y="5937120"/>
            <a:ext cx="5619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component in airframe assem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728880" y="988920"/>
            <a:ext cx="107820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16600" y="3967200"/>
            <a:ext cx="2101680" cy="673200"/>
          </a:xfrm>
          <a:prstGeom prst="rect">
            <a:avLst/>
          </a:prstGeom>
          <a:ln w="0">
            <a:noFill/>
          </a:ln>
        </p:spPr>
      </p:pic>
      <p:grpSp>
        <p:nvGrpSpPr>
          <p:cNvPr id="58" name=""/>
          <p:cNvGrpSpPr/>
          <p:nvPr/>
        </p:nvGrpSpPr>
        <p:grpSpPr>
          <a:xfrm>
            <a:off x="3646440" y="4030560"/>
            <a:ext cx="1379160" cy="1023840"/>
            <a:chOff x="3646440" y="4030560"/>
            <a:chExt cx="1379160" cy="1023840"/>
          </a:xfrm>
        </p:grpSpPr>
        <p:pic>
          <p:nvPicPr>
            <p:cNvPr id="59" name="" descr=""/>
            <p:cNvPicPr/>
            <p:nvPr/>
          </p:nvPicPr>
          <p:blipFill>
            <a:blip r:embed="rId3"/>
            <a:stretch/>
          </p:blipFill>
          <p:spPr>
            <a:xfrm>
              <a:off x="3646440" y="4030560"/>
              <a:ext cx="1091520" cy="978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60" name=""/>
            <p:cNvGraphicFramePr/>
            <p:nvPr/>
          </p:nvGraphicFramePr>
          <p:xfrm>
            <a:off x="4228560" y="4825440"/>
            <a:ext cx="797040" cy="2289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1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228560" y="4825440"/>
                      <a:ext cx="797040" cy="228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2" name=""/>
          <p:cNvSpPr/>
          <p:nvPr/>
        </p:nvSpPr>
        <p:spPr>
          <a:xfrm>
            <a:off x="1197720" y="1978200"/>
            <a:ext cx="2570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 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98680" y="2054160"/>
            <a:ext cx="21632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PT-CL dri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0600" y="4911840"/>
            <a:ext cx="3036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ssociate probe plan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lerances in AP-238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560" y="3270240"/>
            <a:ext cx="2518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Compare with CM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40280" y="4411800"/>
            <a:ext cx="684360" cy="379440"/>
          </a:xfrm>
          <a:prstGeom prst="leftRightArrow">
            <a:avLst>
              <a:gd name="adj1" fmla="val 50000"/>
              <a:gd name="adj2" fmla="val 35905"/>
            </a:avLst>
          </a:prstGeom>
          <a:solidFill>
            <a:srgbClr val="ef91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54080" y="4714920"/>
            <a:ext cx="944280" cy="7966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9920" y="3703680"/>
            <a:ext cx="944280" cy="79668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59" idx="1"/>
            <a:endCxn id="68" idx="3"/>
          </p:cNvCxnSpPr>
          <p:nvPr/>
        </p:nvCxnSpPr>
        <p:spPr>
          <a:xfrm rot="10800000">
            <a:off x="2021760" y="4102920"/>
            <a:ext cx="1629360" cy="4262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9" idx="1"/>
            <a:endCxn id="67" idx="3"/>
          </p:cNvCxnSpPr>
          <p:nvPr/>
        </p:nvCxnSpPr>
        <p:spPr>
          <a:xfrm flipV="1" rot="10800000">
            <a:off x="2005920" y="4528800"/>
            <a:ext cx="1645200" cy="5896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533160" y="5502240"/>
            <a:ext cx="2326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ed, green, yel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6280" y="4183200"/>
            <a:ext cx="8557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00280" y="1825560"/>
            <a:ext cx="532080" cy="212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489200" y="1825560"/>
            <a:ext cx="533160" cy="212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6680" y="254160"/>
            <a:ext cx="22510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1727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ia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5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3360" y="831960"/>
            <a:ext cx="815328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3338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Read AP-203 e2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36520" y="1060560"/>
            <a:ext cx="6791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0942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Read APT-CL drilling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12680" y="898560"/>
            <a:ext cx="71056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51134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Create probe plan for toleranc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55640" y="8319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660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easur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84240" y="984240"/>
            <a:ext cx="73152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760" y="254160"/>
            <a:ext cx="24400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5640" y="755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cp:keywords/>
  <dc:language>en-US</dc:language>
  <cp:lastModifiedBy>Martin Hardwick</cp:lastModifiedBy>
  <cp:lastPrinted>2001-08-16T01:33:48Z</cp:lastPrinted>
  <dcterms:modified xsi:type="dcterms:W3CDTF">2006-10-27T15:34:42Z</dcterms:modified>
  <cp:revision>688</cp:revision>
  <dc:subject/>
  <dc:title>STEP-NC Feature Harmonization</dc:title>
</cp:coreProperties>
</file>