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550A-2101-42E1-A266-62781C97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EE05-A00B-4AFF-99C6-6812ADAA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7369-BB76-4CAE-BD5A-4E2DC6403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4752-38E0-414F-AA88-68C3603DC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BD07-8D5B-4B0B-8A62-8F359755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CBC7-785F-4672-B1C7-2833C6B8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143-A2C8-4FE3-9F7D-ACD86459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B53D-2F62-4748-B0F1-B9A97CC8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616F-DE99-430F-910E-C5A3C6DF3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6CB5-A3E3-4433-87EC-DDE1AA22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D6DB-B72C-4FF2-8FD1-897D9F38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475-1F0F-497B-9792-C09C2F555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CE9C-D18F-49B2-9A35-4D085895D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image" Target="../media/image18.jpeg"/><Relationship Id="rId5" Type="http://schemas.openxmlformats.org/officeDocument/2006/relationships/image" Target="../media/image19.png"/><Relationship Id="rId6" Type="http://schemas.openxmlformats.org/officeDocument/2006/relationships/image" Target="../media/image20.jpeg"/><Relationship Id="rId7" Type="http://schemas.openxmlformats.org/officeDocument/2006/relationships/image" Target="../media/image15.wmf"/><Relationship Id="rId8" Type="http://schemas.openxmlformats.org/officeDocument/2006/relationships/image" Target="../media/image21.jpe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ISO 1339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Jonas Nordström/ Sandvik Coromant/Jonor 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lof Nyqvist/ K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ct 26 2006 Her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5300640"/>
            <a:ext cx="1582560" cy="1052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rot="1878600">
            <a:off x="2144880" y="3867120"/>
            <a:ext cx="4087800" cy="432000"/>
          </a:xfrm>
          <a:prstGeom prst="rightArrow">
            <a:avLst>
              <a:gd name="adj1" fmla="val 41176"/>
              <a:gd name="adj2" fmla="val 1302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9800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solid to so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722920" y="5157720"/>
            <a:ext cx="1944720" cy="110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539640" y="1557360"/>
            <a:ext cx="1728720" cy="13510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39640" y="3860640"/>
            <a:ext cx="1368360" cy="1284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5076720" y="1700280"/>
            <a:ext cx="2592360" cy="1781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1763640" y="4437000"/>
            <a:ext cx="1295640" cy="1025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2627280" y="2708280"/>
            <a:ext cx="2592360" cy="212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07640" y="3278160"/>
            <a:ext cx="141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Suppor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3937" b="0"/>
          <a:stretch/>
        </p:blipFill>
        <p:spPr>
          <a:xfrm>
            <a:off x="250920" y="1779480"/>
            <a:ext cx="1657080" cy="13622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547640" y="2852640"/>
            <a:ext cx="1081440" cy="401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6948360" y="1773360"/>
            <a:ext cx="1801800" cy="19746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4932360" y="1413000"/>
            <a:ext cx="1295280" cy="10126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" name=""/>
          <p:cNvSpPr/>
          <p:nvPr/>
        </p:nvSpPr>
        <p:spPr>
          <a:xfrm rot="2970600">
            <a:off x="5558040" y="3211920"/>
            <a:ext cx="2268720" cy="505080"/>
          </a:xfrm>
          <a:custGeom>
            <a:avLst/>
            <a:gdLst>
              <a:gd name="textAreaLeft" fmla="*/ 354240 w 2268720"/>
              <a:gd name="textAreaRight" fmla="*/ 2048040 w 2268720"/>
              <a:gd name="textAreaTop" fmla="*/ 142200 h 505080"/>
              <a:gd name="textAreaBottom" fmla="*/ 362880 h 505080"/>
            </a:gdLst>
            <a:ahLst/>
            <a:rect l="textAreaLeft" t="textAreaTop" r="textAreaRight" b="textAreaBottom"/>
            <a:pathLst>
              <a:path w="21600" h="21600">
                <a:moveTo>
                  <a:pt x="3375" y="6092"/>
                </a:moveTo>
                <a:lnTo>
                  <a:pt x="16775" y="6092"/>
                </a:lnTo>
                <a:lnTo>
                  <a:pt x="16775" y="0"/>
                </a:lnTo>
                <a:lnTo>
                  <a:pt x="21600" y="10800"/>
                </a:lnTo>
                <a:lnTo>
                  <a:pt x="16775" y="21600"/>
                </a:lnTo>
                <a:lnTo>
                  <a:pt x="16775" y="15508"/>
                </a:lnTo>
                <a:lnTo>
                  <a:pt x="3375" y="15508"/>
                </a:lnTo>
                <a:close/>
              </a:path>
              <a:path w="21600" h="21600">
                <a:moveTo>
                  <a:pt x="0" y="6092"/>
                </a:moveTo>
                <a:lnTo>
                  <a:pt x="675" y="6092"/>
                </a:lnTo>
                <a:lnTo>
                  <a:pt x="675" y="15508"/>
                </a:lnTo>
                <a:lnTo>
                  <a:pt x="0" y="15508"/>
                </a:lnTo>
                <a:close/>
              </a:path>
              <a:path w="21600" h="21600">
                <a:moveTo>
                  <a:pt x="1350" y="6092"/>
                </a:moveTo>
                <a:lnTo>
                  <a:pt x="2700" y="6092"/>
                </a:lnTo>
                <a:lnTo>
                  <a:pt x="2700" y="15508"/>
                </a:lnTo>
                <a:lnTo>
                  <a:pt x="1350" y="15508"/>
                </a:lnTo>
                <a:close/>
              </a:path>
            </a:pathLst>
          </a:custGeom>
          <a:gradFill rotWithShape="0">
            <a:gsLst>
              <a:gs pos="0">
                <a:srgbClr val="d0a653"/>
              </a:gs>
              <a:gs pos="100000">
                <a:srgbClr val="ffcc66"/>
              </a:gs>
            </a:gsLst>
            <a:lin ang="783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5">
            <a:lum bright="6000"/>
          </a:blip>
          <a:stretch/>
        </p:blipFill>
        <p:spPr>
          <a:xfrm>
            <a:off x="7020000" y="4365720"/>
            <a:ext cx="1655640" cy="931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803560" y="2997360"/>
            <a:ext cx="1448640" cy="642600"/>
          </a:xfrm>
          <a:prstGeom prst="rect">
            <a:avLst/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Custommer</a:t>
            </a:r>
            <a:br>
              <a:rPr sz="1800"/>
            </a:br>
            <a:r>
              <a:rPr b="1" i="1" lang="sv-SE" sz="1800" spc="-1" strike="noStrike">
                <a:solidFill>
                  <a:srgbClr val="000000"/>
                </a:solidFill>
                <a:latin typeface="Arial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568152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Workstation</a:t>
            </a:r>
            <a:br>
              <a:rPr sz="1800"/>
            </a:br>
            <a:r>
              <a:rPr b="1" lang="sv-SE" sz="1800" spc="-1" strike="noStrike">
                <a:solidFill>
                  <a:srgbClr val="ffffff"/>
                </a:solidFill>
                <a:latin typeface="Arial"/>
              </a:rPr>
              <a:t>CAD/C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00360" y="1698480"/>
            <a:ext cx="4572000" cy="3962520"/>
          </a:xfrm>
          <a:custGeom>
            <a:avLst/>
            <a:gdLst/>
            <a:ahLst/>
            <a:rect l="l" t="t" r="r" b="b"/>
            <a:pathLst>
              <a:path w="2816" h="2322">
                <a:moveTo>
                  <a:pt x="0" y="0"/>
                </a:moveTo>
                <a:cubicBezTo>
                  <a:pt x="191" y="5"/>
                  <a:pt x="388" y="103"/>
                  <a:pt x="603" y="219"/>
                </a:cubicBezTo>
                <a:cubicBezTo>
                  <a:pt x="818" y="335"/>
                  <a:pt x="937" y="419"/>
                  <a:pt x="1097" y="539"/>
                </a:cubicBezTo>
                <a:cubicBezTo>
                  <a:pt x="1257" y="659"/>
                  <a:pt x="1407" y="776"/>
                  <a:pt x="1627" y="996"/>
                </a:cubicBezTo>
                <a:cubicBezTo>
                  <a:pt x="1847" y="1216"/>
                  <a:pt x="1782" y="1170"/>
                  <a:pt x="2029" y="1472"/>
                </a:cubicBezTo>
                <a:cubicBezTo>
                  <a:pt x="2276" y="1774"/>
                  <a:pt x="2267" y="1758"/>
                  <a:pt x="2395" y="1901"/>
                </a:cubicBezTo>
                <a:cubicBezTo>
                  <a:pt x="2523" y="2044"/>
                  <a:pt x="2735" y="2243"/>
                  <a:pt x="2816" y="2322"/>
                </a:cubicBezTo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14560" y="2494080"/>
            <a:ext cx="208908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8d8f"/>
              </a:gs>
              <a:gs pos="50000">
                <a:srgbClr val="bbe0e3"/>
              </a:gs>
              <a:gs pos="100000">
                <a:srgbClr val="768d8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2. Mach-Methods-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98920" y="3141720"/>
            <a:ext cx="1944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8d8f"/>
              </a:gs>
              <a:gs pos="50000">
                <a:srgbClr val="bbe0e3"/>
              </a:gs>
              <a:gs pos="100000">
                <a:srgbClr val="768d8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3. Preparation C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3860640"/>
            <a:ext cx="1944720" cy="287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8d8f"/>
              </a:gs>
              <a:gs pos="50000">
                <a:srgbClr val="bbe0e3"/>
              </a:gs>
              <a:gs pos="100000">
                <a:srgbClr val="768d8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4. Tool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4508640"/>
            <a:ext cx="1944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8d8f"/>
              </a:gs>
              <a:gs pos="50000">
                <a:srgbClr val="bbe0e3"/>
              </a:gs>
              <a:gs pos="100000">
                <a:srgbClr val="768d8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5. Mach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5157720"/>
            <a:ext cx="1944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8d8f"/>
              </a:gs>
              <a:gs pos="50000">
                <a:srgbClr val="bbe0e3"/>
              </a:gs>
              <a:gs pos="100000">
                <a:srgbClr val="768d8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6. Production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06560" y="1846440"/>
            <a:ext cx="1944720" cy="287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68d8f"/>
              </a:gs>
              <a:gs pos="50000">
                <a:srgbClr val="bbe0e3"/>
              </a:gs>
              <a:gs pos="100000">
                <a:srgbClr val="768d8f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1. Design 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755640" y="5229360"/>
            <a:ext cx="1278000" cy="1020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>
            <a:lum bright="-12000"/>
          </a:blip>
          <a:stretch/>
        </p:blipFill>
        <p:spPr>
          <a:xfrm>
            <a:off x="3203640" y="4581360"/>
            <a:ext cx="1150920" cy="733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2340000" y="3933720"/>
            <a:ext cx="828720" cy="665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 flipV="1">
            <a:off x="1332000" y="465300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484360" y="5014440"/>
            <a:ext cx="5144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814480" y="5811840"/>
            <a:ext cx="24480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2516040" y="5464080"/>
            <a:ext cx="1408320" cy="762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rcRect l="49929" t="12889" r="0" b="0"/>
          <a:stretch/>
        </p:blipFill>
        <p:spPr>
          <a:xfrm>
            <a:off x="900000" y="3645000"/>
            <a:ext cx="812880" cy="925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"/>
          <p:cNvSpPr/>
          <p:nvPr/>
        </p:nvSpPr>
        <p:spPr>
          <a:xfrm flipH="1">
            <a:off x="2123640" y="4653000"/>
            <a:ext cx="2667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5840" y="4856040"/>
            <a:ext cx="126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Product data</a:t>
            </a:r>
            <a:br>
              <a:rPr sz="1400"/>
            </a:br>
            <a:r>
              <a:rPr b="1" lang="sv-SE" sz="1400" spc="-1" strike="noStrike">
                <a:solidFill>
                  <a:srgbClr val="000000"/>
                </a:solidFill>
                <a:latin typeface="Arial"/>
              </a:rPr>
              <a:t>ISO 133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28840" y="3716280"/>
            <a:ext cx="91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8840" y="530064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Arial"/>
              </a:rPr>
              <a:t>Cutting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720" y="429264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Arial"/>
              </a:rPr>
              <a:t>2D dw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626920" y="371628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400" spc="-1" strike="noStrike">
                <a:solidFill>
                  <a:srgbClr val="000000"/>
                </a:solidFill>
                <a:latin typeface="Arial"/>
              </a:rPr>
              <a:t>3D-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3520" y="19836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m solid to sol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9280" y="981000"/>
            <a:ext cx="1800360" cy="54723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11280" y="4292640"/>
            <a:ext cx="3673440" cy="2016000"/>
          </a:xfrm>
          <a:prstGeom prst="rect">
            <a:avLst/>
          </a:prstGeom>
          <a:solidFill>
            <a:srgbClr val="eaeaea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60280"/>
            <a:ext cx="807696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Machines and Built-in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43280" y="1341360"/>
            <a:ext cx="2293920" cy="2664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 rot="20178600">
            <a:off x="323640" y="3573000"/>
            <a:ext cx="1152360" cy="617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935280" cy="893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rcRect l="0" t="0" r="0" b="10156"/>
          <a:stretch/>
        </p:blipFill>
        <p:spPr>
          <a:xfrm>
            <a:off x="395280" y="5013360"/>
            <a:ext cx="1446120" cy="9367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6516720" y="1660680"/>
            <a:ext cx="2158920" cy="186372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6"/>
          <a:stretch/>
        </p:blipFill>
        <p:spPr>
          <a:xfrm>
            <a:off x="6516720" y="4149720"/>
            <a:ext cx="2158920" cy="1569960"/>
          </a:xfrm>
          <a:prstGeom prst="rect">
            <a:avLst/>
          </a:prstGeom>
          <a:ln w="28440">
            <a:solidFill>
              <a:srgbClr val="dddddd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2484360" y="4797360"/>
            <a:ext cx="352764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Applications – Canned cycles et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5229360"/>
            <a:ext cx="352764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Tools* pre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84360" y="5656320"/>
            <a:ext cx="3527640" cy="58068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Cutting data* with Autoselect</a:t>
            </a:r>
            <a:br>
              <a:rPr sz="1600"/>
            </a:b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and Teach-in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81000" y="126828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456960" y="3789360"/>
            <a:ext cx="13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Anticoll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9040" y="436572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600" spc="-1" strike="noStrike">
                <a:solidFill>
                  <a:srgbClr val="000000"/>
                </a:solidFill>
                <a:latin typeface="Arial"/>
              </a:rPr>
              <a:t>In the Ma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54920" y="603396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* Interchange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64000" y="2492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3357720"/>
            <a:ext cx="720720" cy="50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140360" y="3789360"/>
            <a:ext cx="7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rcRect l="51600" t="12889" r="0" b="0"/>
          <a:stretch/>
        </p:blipFill>
        <p:spPr>
          <a:xfrm rot="821400">
            <a:off x="755640" y="1196640"/>
            <a:ext cx="960480" cy="1295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257760" y="1125360"/>
            <a:ext cx="8071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2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324000" y="2660760"/>
            <a:ext cx="1008000" cy="75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966960" y="2637000"/>
            <a:ext cx="7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2D dw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63520" y="393372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3D-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560" y="5996160"/>
            <a:ext cx="1564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Deliveries to MTMs</a:t>
            </a:r>
            <a:br>
              <a:rPr sz="1200"/>
            </a:b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ISO 133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835280" y="3068640"/>
            <a:ext cx="1149840" cy="506880"/>
            <a:chOff x="1835280" y="3068640"/>
            <a:chExt cx="1149840" cy="506880"/>
          </a:xfrm>
        </p:grpSpPr>
        <p:pic>
          <p:nvPicPr>
            <p:cNvPr id="109" name="" descr=""/>
            <p:cNvPicPr/>
            <p:nvPr/>
          </p:nvPicPr>
          <p:blipFill>
            <a:blip r:embed="rId9"/>
            <a:stretch/>
          </p:blipFill>
          <p:spPr>
            <a:xfrm>
              <a:off x="1835280" y="3068640"/>
              <a:ext cx="78408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982880" y="3299040"/>
              <a:ext cx="100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v-SE" sz="1200" spc="-1" strike="noStrike">
                  <a:solidFill>
                    <a:srgbClr val="000000"/>
                  </a:solidFill>
                  <a:latin typeface="Arial"/>
                </a:rPr>
                <a:t>Supports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ISO 13399 status upd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ll technical content of ISO 13399 is finaliz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art 100, maintenece procedures is being reworked in accordance with the maintenece agency proced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Part 150, implementation guide is under development and will be finalized Q1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The maintenece agency will be in operation by the end of 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ISO 13399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ll be available for </a:t>
            </a:r>
            <a:r>
              <a:rPr b="0" lang="sv-SE" sz="3200" spc="-1" strike="noStrike" u="sng">
                <a:solidFill>
                  <a:srgbClr val="000000"/>
                </a:solidFill>
                <a:uFillTx/>
                <a:latin typeface="Arial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ll be linked/accessed from the ISO 13399 maintenence web s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s focused on exchange of cutting tool inform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ill provide an easy to use, low cost and fast track for implementation and use of ISO 13399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Sandvik stateme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SO 13399 will be the ONLY way to exchange digital cutting tool information from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4:27:07Z</dcterms:created>
  <dc:creator>Jonas Nordström</dc:creator>
  <dc:description/>
  <dc:language>en-US</dc:language>
  <cp:lastModifiedBy>Jonas Nordström</cp:lastModifiedBy>
  <dcterms:modified xsi:type="dcterms:W3CDTF">2006-11-01T08:34:27Z</dcterms:modified>
  <cp:revision>27</cp:revision>
  <dc:subject/>
  <dc:title>ISO 13399</dc:title>
</cp:coreProperties>
</file>