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1120" y="6553080"/>
            <a:ext cx="778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O TC184/SC4/WG3 Hershey N000 2006-10-1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43AB0EC4-1A1E-424A-9248-E9C48C58D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0"/>
          <a:ext cx="971640" cy="9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7164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 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ick@steptool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aki Sakam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aki_sakamoto@paw.hi-ho.ne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ments since Toul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38 (STEP-NC) sent to ISO for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19 (CMM) DIS ballo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 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for Hers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with Ship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 Industry Day meeting with Automo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-NC Demonst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ing (Wednesda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ssion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ing (Friday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19 DIS Ballot Commen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for Hers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day, 2006-11-23, 13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update of all AP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update on ISO 13399 (cutting too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 with Ship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esday, 2006-11-24, 0800-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integration of AP-223 with AP-239 and AP-24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ion of software tools for STEP-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of AP-238 e2 and Tape laying for compo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for Hers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, 2006-11-25, 08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meeting with Implementors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 Industry Day with Automotive Industry Action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rsday, 2006-11-26, 08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 13399 Cutting Too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-NC Feed and Speed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of future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-219 DIS Ballot Comment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ew Issue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ion by TC184 that Robotics moves to SC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ly a good idea that we encou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24 needs to learn more about the ORiN schema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ion by TC184 to form a manufacturing steering committ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o be the new value of this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ill it be gover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o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24 is interested in hel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OUS IMS project for development of next generation manufacturing stand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able EU funding ($30M) prop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dition 2 Idea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-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 l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uring, M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 Laying for compo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ald Radack</dc:creator>
  <dc:description/>
  <dc:language>en-US</dc:language>
  <cp:lastModifiedBy>Martin Hardwick</cp:lastModifiedBy>
  <cp:lastPrinted>1999-06-02T13:49:47Z</cp:lastPrinted>
  <dcterms:modified xsi:type="dcterms:W3CDTF">2006-10-24T20:32:05Z</dcterms:modified>
  <cp:revision>153</cp:revision>
  <dc:subject/>
  <dc:title>WG3 Presentation to SC4 Opening Plenary</dc:title>
</cp:coreProperties>
</file>