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23148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596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840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596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840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3148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90792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451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638360" indent="-266760">
              <a:spcBef>
                <a:spcPts val="451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10520" y="2602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812880" cy="6411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17640" y="6292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822600" y="6364440"/>
            <a:ext cx="281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-Manufacturing Research Cent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6871680" y="630864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.H. Suh (2006. 10.26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878040" cy="695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" Target="slide15.xml"/><Relationship Id="rId4" Type="http://schemas.openxmlformats.org/officeDocument/2006/relationships/slide" Target="slide16.xml"/><Relationship Id="rId5" Type="http://schemas.openxmlformats.org/officeDocument/2006/relationships/slide" Target="slide17.xml"/><Relationship Id="rId6" Type="http://schemas.openxmlformats.org/officeDocument/2006/relationships/slide" Target="slide18.xml"/><Relationship Id="rId7" Type="http://schemas.openxmlformats.org/officeDocument/2006/relationships/slide" Target="slide19.xml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810720"/>
            <a:ext cx="849600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Lifecycle data model of machine tool produc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2006. 10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uk-Hwan Su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enter for Ubiquitous Manufactur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POSTECH, Korea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hs@postech.ac.k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ivities and data required in EO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907920"/>
            <a:ext cx="461484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rocesses in E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6640" indent="-298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Repai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6640" indent="-298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Remanufactur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6640" indent="-298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Recycling &amp; Reu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6640" indent="-298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ispos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35880" indent="-3358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Required dat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6640" indent="-298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esign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57400" indent="-2613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hysical structure : size, shape, weight, et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57400" indent="-2613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terial composi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6640" indent="-298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57400" indent="-2613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Expected life of componen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6640" indent="-298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isassembl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57400" indent="-2613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isassembly instruc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57400" indent="-2613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isassembly process pla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6640" indent="-298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roduction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57400" indent="-2613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esign chang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57400" indent="-2613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terial and structural chang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46640" indent="-2988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ifecycle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57400" indent="-2613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Operating condition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57400" indent="-2613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intenance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57400" indent="-2613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art replacement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4962600" y="2205000"/>
            <a:ext cx="3857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Generated dat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ndition of the produ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Life of the product &amp; componen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Recycle/reuse inform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6270480" y="3429000"/>
            <a:ext cx="27122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Machine tool product data mod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2276640"/>
            <a:ext cx="396108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2205000"/>
            <a:ext cx="403236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182840" y="5581800"/>
            <a:ext cx="2712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굴림"/>
              </a:rPr>
              <a:t>PLC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Machine tool product data mod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303120"/>
            <a:ext cx="7174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Arial"/>
              </a:rPr>
              <a:t>Overall data model for machine tools                   (Ver. 1: presented in the Busan Meeting, 2006.05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5840" y="1138320"/>
          <a:ext cx="7464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138320"/>
                    <a:ext cx="7464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00000" y="4508640"/>
            <a:ext cx="5553360" cy="2376360"/>
          </a:xfrm>
          <a:custGeom>
            <a:avLst/>
            <a:gdLst/>
            <a:ahLst/>
            <a:rect l="l" t="t" r="r" b="b"/>
            <a:pathLst>
              <a:path w="3498" h="1497">
                <a:moveTo>
                  <a:pt x="0" y="0"/>
                </a:moveTo>
                <a:lnTo>
                  <a:pt x="0" y="1451"/>
                </a:lnTo>
                <a:lnTo>
                  <a:pt x="2178" y="1497"/>
                </a:lnTo>
                <a:lnTo>
                  <a:pt x="2166" y="787"/>
                </a:lnTo>
                <a:lnTo>
                  <a:pt x="3498" y="796"/>
                </a:lnTo>
                <a:lnTo>
                  <a:pt x="3498" y="13"/>
                </a:lnTo>
                <a:lnTo>
                  <a:pt x="2178" y="0"/>
                </a:lnTo>
                <a:lnTo>
                  <a:pt x="0" y="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836640"/>
            <a:ext cx="6193080" cy="3672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Arial"/>
              </a:rPr>
              <a:t>Revised Overall Data model Structure                  (Ver. 2, Hershey, 2006.10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9080" y="981000"/>
            <a:ext cx="399564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Static Data: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general, these data are generated in BOL and are not changed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4427640" y="5877000"/>
            <a:ext cx="4248000" cy="8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ynamic Data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n general, these dare are generated in MOL and E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data are changed every constant time interval, irregularly, or   in real tim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108000" y="988920"/>
            <a:ext cx="17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t developed yet. Detail data modeling is necess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38320" y="922320"/>
          <a:ext cx="5219640" cy="576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922320"/>
                    <a:ext cx="521964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4255920" y="4595760"/>
            <a:ext cx="648000" cy="57636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720800" y="1023840"/>
            <a:ext cx="647640" cy="287280"/>
          </a:xfrm>
          <a:prstGeom prst="rect">
            <a:avLst/>
          </a:prstGeom>
          <a:noFill/>
          <a:ln w="2844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4067280" y="5157720"/>
            <a:ext cx="176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ot developed yet. Detail data modeling is necessa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5720" y="231480"/>
            <a:ext cx="7461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33399"/>
                </a:solidFill>
                <a:latin typeface="Arial"/>
              </a:rPr>
              <a:t>Revision summary (Ver.1 vs Ver.2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ata model are grouped according to the product life cyc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BOL data for engineering and business dat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MOL data for maintenance, breakdown, history, and so 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EOL data for recycle, remanufacturing, reuse, and so 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ata model is harmonized with existing international standar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Many data are referenced from existing ISO standard such as PL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굴림"/>
              </a:rPr>
              <a:t>BOL data such as product structure, product assembly, product identification, and so on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굴림"/>
              </a:rPr>
              <a:t>Through life product data such as activity, history, breakdown, and so 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Machine tool product and part will be harmonized with ASME B5.59-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6516720" y="1049400"/>
            <a:ext cx="2521080" cy="1157400"/>
            <a:chOff x="6516720" y="1049400"/>
            <a:chExt cx="2521080" cy="1157400"/>
          </a:xfrm>
        </p:grpSpPr>
        <p:sp>
          <p:nvSpPr>
            <p:cNvPr id="144" name=""/>
            <p:cNvSpPr/>
            <p:nvPr/>
          </p:nvSpPr>
          <p:spPr>
            <a:xfrm>
              <a:off x="7020000" y="1396800"/>
              <a:ext cx="201780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: Company own standard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and Need to be developed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516720" y="1468440"/>
              <a:ext cx="550800" cy="142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24640" y="1108080"/>
              <a:ext cx="541440" cy="142920"/>
            </a:xfrm>
            <a:prstGeom prst="rect">
              <a:avLst/>
            </a:prstGeom>
            <a:solidFill>
              <a:srgbClr val="00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21440" y="1049400"/>
              <a:ext cx="195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: Draft version by ASME B5 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16720" y="2033640"/>
              <a:ext cx="550800" cy="142920"/>
            </a:xfrm>
            <a:prstGeom prst="rect">
              <a:avLst/>
            </a:prstGeom>
            <a:solidFill>
              <a:srgbClr val="ffff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32600" y="1960560"/>
              <a:ext cx="19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굴림"/>
                </a:rPr>
                <a:t>: STEP and STEP-NC</a:t>
              </a:r>
              <a:endParaRPr b="0" lang="en-US" sz="1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33336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verall structure from the perspective of related international standar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757560" y="386064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SME B5.59-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285120" y="2276640"/>
            <a:ext cx="144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LCS (STEP-PDM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988640" y="587700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LC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420120" y="286704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SME B5.59-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5028480" y="1341360"/>
            <a:ext cx="118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SME B5.59-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1441440" y="1700280"/>
            <a:ext cx="5832360" cy="2808360"/>
          </a:xfrm>
          <a:custGeom>
            <a:avLst/>
            <a:gdLst/>
            <a:ahLst/>
            <a:rect l="l" t="t" r="r" b="b"/>
            <a:pathLst>
              <a:path w="3674" h="1769">
                <a:moveTo>
                  <a:pt x="0" y="0"/>
                </a:moveTo>
                <a:lnTo>
                  <a:pt x="0" y="1769"/>
                </a:lnTo>
                <a:lnTo>
                  <a:pt x="3674" y="1769"/>
                </a:lnTo>
                <a:lnTo>
                  <a:pt x="3674" y="590"/>
                </a:lnTo>
                <a:lnTo>
                  <a:pt x="1950" y="590"/>
                </a:lnTo>
                <a:lnTo>
                  <a:pt x="1950" y="318"/>
                </a:lnTo>
                <a:lnTo>
                  <a:pt x="952" y="318"/>
                </a:lnTo>
                <a:lnTo>
                  <a:pt x="952" y="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6156360" y="2395440"/>
            <a:ext cx="2843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SO 14649 Part 110 will be developed by ISO TC184/SC1/WG7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47640" y="863640"/>
          <a:ext cx="525636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863640"/>
                    <a:ext cx="525636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2987640" y="3068640"/>
            <a:ext cx="360360" cy="144360"/>
          </a:xfrm>
          <a:custGeom>
            <a:avLst/>
            <a:gdLst>
              <a:gd name="textAreaLeft" fmla="*/ 9360 w 360360"/>
              <a:gd name="textAreaRight" fmla="*/ 351000 w 360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53839" h="21600">
                <a:moveTo>
                  <a:pt x="0" y="0"/>
                </a:moveTo>
                <a:lnTo>
                  <a:pt x="53839" y="0"/>
                </a:lnTo>
                <a:lnTo>
                  <a:pt x="53839" y="21600"/>
                </a:lnTo>
                <a:lnTo>
                  <a:pt x="0" y="21600"/>
                </a:lnTo>
                <a:close/>
              </a:path>
              <a:path fill="lightenLess" w="53839" h="21600">
                <a:moveTo>
                  <a:pt x="0" y="0"/>
                </a:moveTo>
                <a:lnTo>
                  <a:pt x="53839" y="0"/>
                </a:lnTo>
                <a:lnTo>
                  <a:pt x="52439" y="1400"/>
                </a:lnTo>
                <a:lnTo>
                  <a:pt x="1400" y="1400"/>
                </a:lnTo>
                <a:close/>
              </a:path>
              <a:path fill="darken" w="53839" h="21600">
                <a:moveTo>
                  <a:pt x="53839" y="0"/>
                </a:moveTo>
                <a:lnTo>
                  <a:pt x="53839" y="21600"/>
                </a:lnTo>
                <a:lnTo>
                  <a:pt x="52439" y="20200"/>
                </a:lnTo>
                <a:lnTo>
                  <a:pt x="52439" y="1400"/>
                </a:lnTo>
                <a:close/>
              </a:path>
              <a:path fill="darkenLess" w="53839" h="21600">
                <a:moveTo>
                  <a:pt x="53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39" y="20200"/>
                </a:lnTo>
                <a:close/>
              </a:path>
              <a:path fill="lighten" w="53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39" h="21600">
                <a:moveTo>
                  <a:pt x="19913" y="3794"/>
                </a:moveTo>
                <a:lnTo>
                  <a:pt x="33926" y="10800"/>
                </a:lnTo>
                <a:lnTo>
                  <a:pt x="19913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>
            <a:hlinkClick r:id="rId4" action="ppaction://hlinksldjump"/>
          </p:cNvPr>
          <p:cNvSpPr/>
          <p:nvPr/>
        </p:nvSpPr>
        <p:spPr>
          <a:xfrm>
            <a:off x="2268360" y="4292640"/>
            <a:ext cx="360720" cy="144360"/>
          </a:xfrm>
          <a:custGeom>
            <a:avLst/>
            <a:gdLst>
              <a:gd name="textAreaLeft" fmla="*/ 9360 w 360720"/>
              <a:gd name="textAreaRight" fmla="*/ 351360 w 36072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53893" h="21600">
                <a:moveTo>
                  <a:pt x="0" y="0"/>
                </a:moveTo>
                <a:lnTo>
                  <a:pt x="53893" y="0"/>
                </a:lnTo>
                <a:lnTo>
                  <a:pt x="53893" y="21600"/>
                </a:lnTo>
                <a:lnTo>
                  <a:pt x="0" y="21600"/>
                </a:lnTo>
                <a:close/>
              </a:path>
              <a:path fill="lightenLess" w="53893" h="21600">
                <a:moveTo>
                  <a:pt x="0" y="0"/>
                </a:moveTo>
                <a:lnTo>
                  <a:pt x="53893" y="0"/>
                </a:lnTo>
                <a:lnTo>
                  <a:pt x="52493" y="1400"/>
                </a:lnTo>
                <a:lnTo>
                  <a:pt x="1400" y="1400"/>
                </a:lnTo>
                <a:close/>
              </a:path>
              <a:path fill="darken" w="53893" h="21600">
                <a:moveTo>
                  <a:pt x="53893" y="0"/>
                </a:moveTo>
                <a:lnTo>
                  <a:pt x="53893" y="21600"/>
                </a:lnTo>
                <a:lnTo>
                  <a:pt x="52493" y="20200"/>
                </a:lnTo>
                <a:lnTo>
                  <a:pt x="52493" y="1400"/>
                </a:lnTo>
                <a:close/>
              </a:path>
              <a:path fill="darkenLess" w="53893" h="21600">
                <a:moveTo>
                  <a:pt x="538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93" y="20200"/>
                </a:lnTo>
                <a:close/>
              </a:path>
              <a:path fill="lighten" w="538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93" h="21600">
                <a:moveTo>
                  <a:pt x="19940" y="3794"/>
                </a:moveTo>
                <a:lnTo>
                  <a:pt x="33953" y="10800"/>
                </a:lnTo>
                <a:lnTo>
                  <a:pt x="19940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>
            <a:hlinkClick r:id="rId5" action="ppaction://hlinksldjump"/>
          </p:cNvPr>
          <p:cNvSpPr/>
          <p:nvPr/>
        </p:nvSpPr>
        <p:spPr>
          <a:xfrm>
            <a:off x="1547640" y="4292640"/>
            <a:ext cx="360360" cy="144360"/>
          </a:xfrm>
          <a:custGeom>
            <a:avLst/>
            <a:gdLst>
              <a:gd name="textAreaLeft" fmla="*/ 9360 w 360360"/>
              <a:gd name="textAreaRight" fmla="*/ 351000 w 360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53839" h="21600">
                <a:moveTo>
                  <a:pt x="0" y="0"/>
                </a:moveTo>
                <a:lnTo>
                  <a:pt x="53839" y="0"/>
                </a:lnTo>
                <a:lnTo>
                  <a:pt x="53839" y="21600"/>
                </a:lnTo>
                <a:lnTo>
                  <a:pt x="0" y="21600"/>
                </a:lnTo>
                <a:close/>
              </a:path>
              <a:path fill="lightenLess" w="53839" h="21600">
                <a:moveTo>
                  <a:pt x="0" y="0"/>
                </a:moveTo>
                <a:lnTo>
                  <a:pt x="53839" y="0"/>
                </a:lnTo>
                <a:lnTo>
                  <a:pt x="52439" y="1400"/>
                </a:lnTo>
                <a:lnTo>
                  <a:pt x="1400" y="1400"/>
                </a:lnTo>
                <a:close/>
              </a:path>
              <a:path fill="darken" w="53839" h="21600">
                <a:moveTo>
                  <a:pt x="53839" y="0"/>
                </a:moveTo>
                <a:lnTo>
                  <a:pt x="53839" y="21600"/>
                </a:lnTo>
                <a:lnTo>
                  <a:pt x="52439" y="20200"/>
                </a:lnTo>
                <a:lnTo>
                  <a:pt x="52439" y="1400"/>
                </a:lnTo>
                <a:close/>
              </a:path>
              <a:path fill="darkenLess" w="53839" h="21600">
                <a:moveTo>
                  <a:pt x="53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39" y="20200"/>
                </a:lnTo>
                <a:close/>
              </a:path>
              <a:path fill="lighten" w="53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39" h="21600">
                <a:moveTo>
                  <a:pt x="19913" y="3794"/>
                </a:moveTo>
                <a:lnTo>
                  <a:pt x="33926" y="10800"/>
                </a:lnTo>
                <a:lnTo>
                  <a:pt x="19913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>
            <a:hlinkClick r:id="rId6" action="ppaction://hlinksldjump"/>
          </p:cNvPr>
          <p:cNvSpPr/>
          <p:nvPr/>
        </p:nvSpPr>
        <p:spPr>
          <a:xfrm>
            <a:off x="4282920" y="4292640"/>
            <a:ext cx="360360" cy="144360"/>
          </a:xfrm>
          <a:custGeom>
            <a:avLst/>
            <a:gdLst>
              <a:gd name="textAreaLeft" fmla="*/ 9360 w 360360"/>
              <a:gd name="textAreaRight" fmla="*/ 351000 w 36036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53839" h="21600">
                <a:moveTo>
                  <a:pt x="0" y="0"/>
                </a:moveTo>
                <a:lnTo>
                  <a:pt x="53839" y="0"/>
                </a:lnTo>
                <a:lnTo>
                  <a:pt x="53839" y="21600"/>
                </a:lnTo>
                <a:lnTo>
                  <a:pt x="0" y="21600"/>
                </a:lnTo>
                <a:close/>
              </a:path>
              <a:path fill="lightenLess" w="53839" h="21600">
                <a:moveTo>
                  <a:pt x="0" y="0"/>
                </a:moveTo>
                <a:lnTo>
                  <a:pt x="53839" y="0"/>
                </a:lnTo>
                <a:lnTo>
                  <a:pt x="52439" y="1400"/>
                </a:lnTo>
                <a:lnTo>
                  <a:pt x="1400" y="1400"/>
                </a:lnTo>
                <a:close/>
              </a:path>
              <a:path fill="darken" w="53839" h="21600">
                <a:moveTo>
                  <a:pt x="53839" y="0"/>
                </a:moveTo>
                <a:lnTo>
                  <a:pt x="53839" y="21600"/>
                </a:lnTo>
                <a:lnTo>
                  <a:pt x="52439" y="20200"/>
                </a:lnTo>
                <a:lnTo>
                  <a:pt x="52439" y="1400"/>
                </a:lnTo>
                <a:close/>
              </a:path>
              <a:path fill="darkenLess" w="53839" h="21600">
                <a:moveTo>
                  <a:pt x="53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39" y="20200"/>
                </a:lnTo>
                <a:close/>
              </a:path>
              <a:path fill="lighten" w="53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839" h="21600">
                <a:moveTo>
                  <a:pt x="19913" y="3794"/>
                </a:moveTo>
                <a:lnTo>
                  <a:pt x="33926" y="10800"/>
                </a:lnTo>
                <a:lnTo>
                  <a:pt x="19913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>
            <a:hlinkClick r:id="rId7" action="ppaction://hlinksldjump"/>
          </p:cNvPr>
          <p:cNvSpPr/>
          <p:nvPr/>
        </p:nvSpPr>
        <p:spPr>
          <a:xfrm>
            <a:off x="8101080" y="5950080"/>
            <a:ext cx="720720" cy="431640"/>
          </a:xfrm>
          <a:custGeom>
            <a:avLst/>
            <a:gdLst>
              <a:gd name="textAreaLeft" fmla="*/ 27720 w 720720"/>
              <a:gd name="textAreaRight" fmla="*/ 693000 w 720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6054" h="21600">
                <a:moveTo>
                  <a:pt x="0" y="0"/>
                </a:moveTo>
                <a:lnTo>
                  <a:pt x="36054" y="0"/>
                </a:lnTo>
                <a:lnTo>
                  <a:pt x="36054" y="21600"/>
                </a:lnTo>
                <a:lnTo>
                  <a:pt x="0" y="21600"/>
                </a:lnTo>
                <a:close/>
              </a:path>
              <a:path fill="lightenLess" w="36054" h="21600">
                <a:moveTo>
                  <a:pt x="0" y="0"/>
                </a:moveTo>
                <a:lnTo>
                  <a:pt x="36054" y="0"/>
                </a:lnTo>
                <a:lnTo>
                  <a:pt x="34654" y="1400"/>
                </a:lnTo>
                <a:lnTo>
                  <a:pt x="1400" y="1400"/>
                </a:lnTo>
                <a:close/>
              </a:path>
              <a:path fill="darken" w="36054" h="21600">
                <a:moveTo>
                  <a:pt x="36054" y="0"/>
                </a:moveTo>
                <a:lnTo>
                  <a:pt x="36054" y="21600"/>
                </a:lnTo>
                <a:lnTo>
                  <a:pt x="34654" y="20200"/>
                </a:lnTo>
                <a:lnTo>
                  <a:pt x="34654" y="1400"/>
                </a:lnTo>
                <a:close/>
              </a:path>
              <a:path fill="darkenLess" w="36054" h="21600">
                <a:moveTo>
                  <a:pt x="36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54" y="20200"/>
                </a:lnTo>
                <a:close/>
              </a:path>
              <a:path fill="lighten" w="36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054" h="21600">
                <a:moveTo>
                  <a:pt x="11021" y="3794"/>
                </a:moveTo>
                <a:lnTo>
                  <a:pt x="25033" y="10800"/>
                </a:lnTo>
                <a:lnTo>
                  <a:pt x="11021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4360" y="189000"/>
            <a:ext cx="7920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chine tool data model : Composite machine too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3995640" y="2284560"/>
            <a:ext cx="3168720" cy="792000"/>
          </a:xfrm>
          <a:custGeom>
            <a:avLst/>
            <a:gdLst/>
            <a:ahLst/>
            <a:rect l="l" t="t" r="r" b="b"/>
            <a:pathLst>
              <a:path w="1996" h="499">
                <a:moveTo>
                  <a:pt x="0" y="499"/>
                </a:moveTo>
                <a:lnTo>
                  <a:pt x="1134" y="499"/>
                </a:lnTo>
                <a:lnTo>
                  <a:pt x="1134" y="318"/>
                </a:lnTo>
                <a:lnTo>
                  <a:pt x="1996" y="318"/>
                </a:lnTo>
                <a:lnTo>
                  <a:pt x="1996" y="0"/>
                </a:lnTo>
                <a:lnTo>
                  <a:pt x="998" y="46"/>
                </a:lnTo>
                <a:lnTo>
                  <a:pt x="998" y="272"/>
                </a:lnTo>
                <a:lnTo>
                  <a:pt x="272" y="318"/>
                </a:lnTo>
                <a:lnTo>
                  <a:pt x="272" y="408"/>
                </a:lnTo>
                <a:lnTo>
                  <a:pt x="0" y="408"/>
                </a:lnTo>
                <a:lnTo>
                  <a:pt x="0" y="4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817236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10800"/>
                </a:moveTo>
                <a:lnTo>
                  <a:pt x="26505" y="3794"/>
                </a:lnTo>
                <a:lnTo>
                  <a:pt x="26505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2408400" y="907920"/>
          <a:ext cx="3911400" cy="5645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08400" y="907920"/>
                    <a:ext cx="391140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18900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chine tool data model : Spind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904000" cy="432612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817236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10800"/>
                </a:moveTo>
                <a:lnTo>
                  <a:pt x="26505" y="3794"/>
                </a:lnTo>
                <a:lnTo>
                  <a:pt x="26505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43000" y="18900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chine tool data model : Axi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1440" cy="375912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817236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10800"/>
                </a:moveTo>
                <a:lnTo>
                  <a:pt x="26505" y="3794"/>
                </a:lnTo>
                <a:lnTo>
                  <a:pt x="26505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18900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chine tool data model : Turre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619280" y="966960"/>
            <a:ext cx="5688000" cy="534168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8172360" y="5950080"/>
            <a:ext cx="647640" cy="3585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8997" h="21600">
                <a:moveTo>
                  <a:pt x="0" y="0"/>
                </a:moveTo>
                <a:lnTo>
                  <a:pt x="38997" y="0"/>
                </a:lnTo>
                <a:lnTo>
                  <a:pt x="38997" y="21600"/>
                </a:lnTo>
                <a:lnTo>
                  <a:pt x="0" y="21600"/>
                </a:lnTo>
                <a:close/>
              </a:path>
              <a:path fill="lightenLess" w="38997" h="21600">
                <a:moveTo>
                  <a:pt x="0" y="0"/>
                </a:moveTo>
                <a:lnTo>
                  <a:pt x="38997" y="0"/>
                </a:lnTo>
                <a:lnTo>
                  <a:pt x="37597" y="1400"/>
                </a:lnTo>
                <a:lnTo>
                  <a:pt x="1400" y="1400"/>
                </a:lnTo>
                <a:close/>
              </a:path>
              <a:path fill="darken" w="38997" h="21600">
                <a:moveTo>
                  <a:pt x="38997" y="0"/>
                </a:moveTo>
                <a:lnTo>
                  <a:pt x="38997" y="21600"/>
                </a:lnTo>
                <a:lnTo>
                  <a:pt x="37597" y="20200"/>
                </a:lnTo>
                <a:lnTo>
                  <a:pt x="37597" y="1400"/>
                </a:lnTo>
                <a:close/>
              </a:path>
              <a:path fill="darkenLess" w="38997" h="21600">
                <a:moveTo>
                  <a:pt x="38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97" y="20200"/>
                </a:lnTo>
                <a:close/>
              </a:path>
              <a:path fill="lighten" w="38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97" h="21600">
                <a:moveTo>
                  <a:pt x="12492" y="10800"/>
                </a:moveTo>
                <a:lnTo>
                  <a:pt x="26505" y="3794"/>
                </a:lnTo>
                <a:lnTo>
                  <a:pt x="26505" y="17806"/>
                </a:lnTo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ecution pla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1052640"/>
            <a:ext cx="79261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2941560"/>
            <a:ext cx="8294760" cy="2071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826920" y="981000"/>
            <a:ext cx="802800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ll for participation !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joint working group/authorship, etc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SO 14649 Part 110, Machine tool data model is under development by ISO TC184/SC1/WG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Harmonized with Machine Tool data model under development by ISO TC3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Joint work necessary between ISO TC184 and TC3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Joint Meeting between ISO TC184/SC1/WG7 and ISO TC39/SC2 held in Busan Korea, May 11, 200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Proposal for developing machine tool product model is represented in Toulouse, June 29, 200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cop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981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oal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General and comprehensive data model covering the whole product life cycle of machine tools and supporting activities related to machine too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he scope of machine tools data model from the perspectives of 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MTB (Machine Tool Builder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11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Covering the whole manufacturing process such as design, manufacturing, test &amp; evaluation, distribution, and guarantee service (maintenance), recycle &amp; reus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11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Supporting the transaction among MTBs, sub contractors, and custom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ollaborative Product Commerce (CPC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11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Supporting the realization of the e-Manufacturin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11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Covering the data which is required in the collaborative manufacturing proce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Customer support and environment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11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Supporting sales of new machine tools and used machine tool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37440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pplication of product lifecycle data model for machine too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160" y="1052280"/>
            <a:ext cx="8359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roduct Life Cycle Suppor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CM (MTB &amp; sub contracto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-Commerce (B2B, B2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igital manufacturing (STEP-Manufactur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rocess planning / Machine programm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Virtual machin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Virtual N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Factory flow simul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Workspace design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erformance verification and tracking/process variability/quality contr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lug-and-play machine installation, self-identif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achine intelligence (self-knowledg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aintena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nvironment (Recycle/Refurbish, …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RM (Customer Relationship Management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iderations for data mod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rehensive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represent the general properties of machine tools with regardless of the machine tool typ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pecif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represent some special properties of machine tool product as individual product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roughout the entire lifecyc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include the whole product life cycle of machine tools and supporting activities related to machine tools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Also data model can represent the historical data of machine tool product as individual product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represent a new type of machine tools without adding or modifying existing data model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nteroperabi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be interoperable with existing standards such as STEP, STEP-NC and so o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37440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lated International Standards to be referenced for the Machine tools data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ISO TC3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he standards for interchangeability between components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Headstock, spindle, column, base, table, rotary table, etc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3" marL="1638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50000"/>
              </a:lnSpc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he standards for testing machine tool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Test method, Test code, Test condition, etc.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ASME B5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raft B5.59-1: “Data Specification for Machine Tool Performance Tests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raft B5.59-2: “Data Specification for Properties of Machine Tools for Milling and Turning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ISO 14649 Part 1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Under development by ISO TC184/SC1/WG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Functional requirement data model for machine too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(POSTECH model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Developed for TurnSTEP, Type 3 STEP-NC system for turning developed by POSTEC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Mainly for configuration (structure, kinematics) of machine too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37440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lated International Standards to be referenced  for the Lifecycle &amp; Busin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TEP AP 239 PLC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LCS specifies the information requirements for product lifecycle support and the integrated resources necessary to satisfy those requiremen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tegori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굴림"/>
              </a:rPr>
              <a:t>Product assembl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굴림"/>
              </a:rPr>
              <a:t>Through life produc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pecification and planning of activiti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굴림"/>
              </a:rPr>
              <a:t>Activity histo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굴림"/>
              </a:rPr>
              <a:t>Product histo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MANDATE (ISO 15531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SO 15531 is an International Standard for the computer-interpretable representation and exchange of industrial manufacturing management data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nufacturing management data includes the flow of materials and products through the whole production chain, from suppliers, through manufacturers, assemblers, to distributors and sometimes customer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tegori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굴림"/>
              </a:rPr>
              <a:t>information related to the external exchanges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en-US" sz="1200" spc="-1" strike="noStrike">
                <a:solidFill>
                  <a:srgbClr val="3333cc"/>
                </a:solidFill>
                <a:latin typeface="굴림"/>
              </a:rPr>
              <a:t>e.g., between main plant and suppliers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formation related to the management of the resources used during the manufacturing processes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formation related to the management of the manufacturing flows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Other STEP Standard such as STEP AP203, STEP AP224 and STEP-NC (ISO 14649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ivities and data required in BO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roduction Plann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Brief spec. of machine tools ( executable operation, capacity, et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Business data (due date, production volume, et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2D Drawing, 3D Solid Model, spec. for each componen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chine tools spec. and performance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esign BO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rocurement from sub contract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rawing and 3D solid model of componen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The spec. (Performance &amp; Quality) of componen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Business data (due date, the volume of order, etc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nufacturing BO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Assembly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est &amp; Evalu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Test item, Test method, Test procedur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ales &amp; install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atalogue, installation gui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nuals: usage manual, NC manual, application manual (CAP, CAM, etc), etc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125360"/>
            <a:ext cx="77756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076640"/>
            <a:ext cx="77756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068640"/>
            <a:ext cx="7775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4941720"/>
            <a:ext cx="7775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5445000"/>
            <a:ext cx="77756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916280"/>
            <a:ext cx="7775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6486120" y="1116000"/>
            <a:ext cx="2712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Machine tool product data mod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굴림"/>
              </a:rPr>
              <a:t>MAND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6501960" y="2133720"/>
            <a:ext cx="275184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Machine tool product  data mod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굴림"/>
              </a:rPr>
              <a:t>ASME B5.59-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굴림"/>
              </a:rPr>
              <a:t>PLCS (STEP-PDM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6557760" y="3429000"/>
            <a:ext cx="2712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Machine tool product data mod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굴림"/>
              </a:rPr>
              <a:t>MAND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6557760" y="4292640"/>
            <a:ext cx="2712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Machine tool product data mod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굴림"/>
              </a:rPr>
              <a:t>PLC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7204320" y="5005440"/>
            <a:ext cx="1290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굴림"/>
              </a:rPr>
              <a:t>ISO TC39 Wo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굴림"/>
              </a:rPr>
              <a:t>ASME B5.59-1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6499080" y="5661000"/>
            <a:ext cx="27122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Machine tool product data mod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ctivities and data required in MO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9806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lient dat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Usage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chining history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Operating conditions (Environment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Traceability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ustomer requirem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Maintenance dat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nu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iagnosis and evalu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chine tools error: yaw, roll, pitch of each axis, and angularity, backlash error, etc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iagnosis history: Diagnosis data, result, action, …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Compensation history: pitch error compensation, backlash error compens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Repair and replacem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Failure history: breakage components, data, reason, maintainer, maintaining tim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Replacement of the component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reventive Maintenan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reventive maintenance history: date, components, …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Tool life manageme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Business dat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urchase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nventory 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8353440" cy="136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2492280"/>
            <a:ext cx="8353440" cy="295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6414840" y="1341360"/>
            <a:ext cx="2712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굴림"/>
              </a:rPr>
              <a:t>PLC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Machine tool product data mod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426000" y="2708280"/>
            <a:ext cx="271224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굴림"/>
              </a:rPr>
              <a:t>PLC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굴림"/>
              </a:rPr>
              <a:t>Machine tool product data mod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5489640"/>
            <a:ext cx="8353440" cy="7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634440" y="5734080"/>
            <a:ext cx="94428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굴림"/>
              </a:rPr>
              <a:t>MANDAT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2:20:39Z</dcterms:created>
  <dc:creator>harry</dc:creator>
  <dc:description/>
  <dc:language>en-US</dc:language>
  <cp:lastModifiedBy>user</cp:lastModifiedBy>
  <dcterms:modified xsi:type="dcterms:W3CDTF">2006-10-25T18:57:15Z</dcterms:modified>
  <cp:revision>773</cp:revision>
  <dc:subject/>
  <dc:title>슬라이드 1</dc:title>
</cp:coreProperties>
</file>