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1120" y="6553080"/>
            <a:ext cx="778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O TC184/SC4/WG3 Hershey N000 2006-10-1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F087EEB5-6515-49DA-B80F-2B6C0A7A5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971640" cy="9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7164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in Hers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meeting with Shipbuilding on plate cu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of AP-223 Cas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Industry day meeting with Automotive and Aerospace Metrology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+ attend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meeting with SC1/Wg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d that in future New Work Items shall be submitted simultaneously for ISO 14649 and AP-238 by SC1 and SC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19 (CMM) DIS ballot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 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for Funch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meeting with Wg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S project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industry discussions (QMD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e new work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 too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ur cu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C control of tape laying for compo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ld Radack</dc:creator>
  <dc:description/>
  <dc:language>en-US</dc:language>
  <cp:lastModifiedBy>Martin Hardwick</cp:lastModifiedBy>
  <cp:lastPrinted>1999-06-02T13:49:47Z</cp:lastPrinted>
  <dcterms:modified xsi:type="dcterms:W3CDTF">2006-10-27T20:38:58Z</dcterms:modified>
  <cp:revision>156</cp:revision>
  <dc:subject/>
  <dc:title>WG3 Presentation to SC4 Opening Plenary</dc:title>
</cp:coreProperties>
</file>