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640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772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640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772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640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7720" y="11426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44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640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7720" y="36500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-36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4720" y="36500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4720" y="11426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6500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1426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95280" y="6524640"/>
            <a:ext cx="617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r’s Forum   2006/10/25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FD54F4B5-1877-4C48-877B-0FE7D8CB9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8540640" y="0"/>
          <a:ext cx="603360" cy="5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0640" y="0"/>
                    <a:ext cx="6033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0" y="0"/>
          <a:ext cx="78120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781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434280"/>
            <a:ext cx="8915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er’s Forum   2006/10/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8540640" y="0"/>
          <a:ext cx="603360" cy="5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0640" y="0"/>
                    <a:ext cx="6033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0" y="0"/>
          <a:ext cx="78120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781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airbus.com/" TargetMode="External"/><Relationship Id="rId2" Type="http://schemas.openxmlformats.org/officeDocument/2006/relationships/hyperlink" Target="mailto:alain.a.brail@airbus.com" TargetMode="External"/><Relationship Id="rId3" Type="http://schemas.openxmlformats.org/officeDocument/2006/relationships/hyperlink" Target="mailto:Jean-bernard.hentz@airbus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891720"/>
            <a:ext cx="9144000" cy="458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 baseline="30000">
                <a:solidFill>
                  <a:srgbClr val="000000"/>
                </a:solidFill>
                <a:latin typeface="Arial"/>
              </a:rPr>
              <a:t>50th ISO TC184/SC4 meeting</a:t>
            </a:r>
            <a:br>
              <a:rPr sz="4400"/>
            </a:br>
            <a:br>
              <a:rPr sz="4400"/>
            </a:b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Joint meeting with Implementer's Forum Joint meeting with Automotive industry AP-238 Implementation Testing AP-239 Demonstrations</a:t>
            </a:r>
            <a:br>
              <a:rPr sz="4400"/>
            </a:br>
            <a:r>
              <a:rPr b="0" lang="en-GB" sz="7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en-GB" sz="4400" spc="-1" strike="noStrike" baseline="30000">
                <a:solidFill>
                  <a:srgbClr val="000000"/>
                </a:solidFill>
                <a:latin typeface="Arial"/>
              </a:rPr>
              <a:t>Airbus contribution</a:t>
            </a:r>
            <a:br>
              <a:rPr sz="4400"/>
            </a:b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Jean Bernard HENTZ - Alain BRAIL,</a:t>
            </a:r>
            <a:br>
              <a:rPr sz="4400"/>
            </a:b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Airbus Concurrent Engineering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43040" y="4270320"/>
            <a:ext cx="598176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108000"/>
            <a:ext cx="6095880" cy="59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to support  STEP-NC 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41120" y="725040"/>
            <a:ext cx="7584840" cy="561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EP bene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P is an open and non proprietary standar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P has been selected for long term archiving of aerospace part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EP-NC bene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iminating the postprocessors will reduce cycles and risk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atures enable CAD-CAPP-CAM-NC automation and optimisation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P-NC provides a machine independent NC progra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veral successful demonstrations worldwide since the year 90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STEP-NC project reports huge benefit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EP-NC for milling, turning, EDM is like a nich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Standardisation benef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ufacturing databases are standardise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chining knowledge integr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ded Enterprise and lifecycle scop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tended technologies and busi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00"/>
                </a:solidFill>
                <a:latin typeface="Arial"/>
              </a:rPr>
              <a:t>An international consens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bust know-how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ientific expertis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l the stakeholders are keen to participat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28680" y="6027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43000" y="1012680"/>
            <a:ext cx="8670960" cy="423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 a conclusion, two major messag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sign anywhere – Build anywhere – Support anywhere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andards are the next manufacturing paradigm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101600" y="2147760"/>
            <a:ext cx="732168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anks for your attention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/>
          <p:nvPr/>
        </p:nvSpPr>
        <p:spPr>
          <a:xfrm>
            <a:off x="3470760" y="3753000"/>
            <a:ext cx="2050560" cy="398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c0128"/>
                </a:solidFill>
                <a:uFillTx/>
                <a:latin typeface="Arial"/>
                <a:hlinkClick r:id="rId1"/>
              </a:rPr>
              <a:t>www.airbu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20800" y="4548240"/>
            <a:ext cx="571500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our contact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GB" sz="1800" spc="-1" strike="noStrike" u="sng">
                <a:solidFill>
                  <a:srgbClr val="fc0128"/>
                </a:solidFill>
                <a:uFillTx/>
                <a:latin typeface="Arial"/>
                <a:hlinkClick r:id="rId2"/>
              </a:rPr>
              <a:t>alain.a.brail@airbu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Jean-bernard.hentz@airbu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11000" y="1363320"/>
            <a:ext cx="770868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usiness drive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ing the STEP-NC concep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238 is a keyst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main functions (as a remind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Projec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to support STEP-N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messages for a 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82640" y="95400"/>
            <a:ext cx="6448320" cy="63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1200" y="1053720"/>
            <a:ext cx="8609040" cy="497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time-to-market between the design and the first part deli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mprove parts supply process and to increase the machining shop management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nable product and manufacturing facilities management &amp; support for over a period of 50 yea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 a standardised (unique) manufacturing data warehouse and knowledge datab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dapt related knowledge databases and IT improvements to new manufacturing technologi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decrease the cost of spare par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se as much as possible COTS softwar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67000" y="134640"/>
            <a:ext cx="6457680" cy="70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business driven 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achining8" descr=""/>
          <p:cNvPicPr/>
          <p:nvPr/>
        </p:nvPicPr>
        <p:blipFill>
          <a:blip r:embed="rId1"/>
          <a:stretch/>
        </p:blipFill>
        <p:spPr>
          <a:xfrm>
            <a:off x="233280" y="870120"/>
            <a:ext cx="8429760" cy="5381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729480" y="1363680"/>
            <a:ext cx="1455840" cy="156996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C Progra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hancing the STEP-NC conce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9240" y="649080"/>
            <a:ext cx="8172360" cy="559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« basic »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NC is a feature-based concep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 data remains unchanged along the process downstream and up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NC program is machin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the enhancemen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y with tolerances and regu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the scope of ISO14649 and STEP Manufacturing Sui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probing operation and traceabi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machining of any complex surfaces on any mater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ddition of any manufacturing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ern the complete process from order to part deliver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y with all the existing and future manufacturing stand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ation using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sation thanks to Manufacturing knowledgebas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efficient shop floor management (ERP, MES, SPC,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1800" y="-360"/>
            <a:ext cx="6800760" cy="56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238 is a keyst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13880" y="2631600"/>
            <a:ext cx="7736040" cy="3840120"/>
          </a:xfrm>
          <a:prstGeom prst="rect">
            <a:avLst/>
          </a:prstGeom>
          <a:noFill/>
          <a:ln w="0">
            <a:noFill/>
          </a:ln>
        </p:spPr>
        <p:txBody>
          <a:bodyPr lIns="104040" rIns="104040" tIns="51840" bIns="51840" anchor="t">
            <a:normAutofit/>
          </a:bodyPr>
          <a:p>
            <a:pPr marL="217440" indent="-2174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238 mu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NC machine independ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ds the Geometry and tolerances downstream and upstre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 open enough to adapt to IT and manufacturing technologies paradigms over a period of 50 year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sure that the quality and the cost of the parts produced fulfil the customer requirem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9440" indent="-216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y with ALL the existing and future standards for manufacturing including inspection, metrology, long term archiving, traceability, ERP, MES, SPC  and other in an extended enterprise visio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09240" y="785880"/>
            <a:ext cx="3268440" cy="1191240"/>
          </a:xfrm>
          <a:prstGeom prst="rect">
            <a:avLst/>
          </a:prstGeom>
          <a:solidFill>
            <a:srgbClr val="63f0fb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APP-C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elect technology,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minimum resources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quality control requir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46960" y="792000"/>
            <a:ext cx="2390760" cy="1191240"/>
          </a:xfrm>
          <a:prstGeom prst="rect">
            <a:avLst/>
          </a:prstGeom>
          <a:solidFill>
            <a:srgbClr val="63f0fb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hop Flo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Adapt NC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77120" y="781200"/>
            <a:ext cx="2743920" cy="1191240"/>
          </a:xfrm>
          <a:prstGeom prst="rect">
            <a:avLst/>
          </a:prstGeom>
          <a:solidFill>
            <a:srgbClr val="63f0fb"/>
          </a:solidFill>
          <a:ln w="126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converted i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STEP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tolerances and 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68960" y="1198440"/>
            <a:ext cx="493920" cy="53496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440" y="1996920"/>
            <a:ext cx="608508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e once, after changes and sa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64440" y="2009880"/>
            <a:ext cx="2598480" cy="307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ne for each part and sa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61840" y="85680"/>
            <a:ext cx="7431120" cy="56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the main func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s a reminde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0440" y="662040"/>
            <a:ext cx="8329680" cy="578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form the CAD 3D model and GD&amp;T into STEP files based on features without any manufacturing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ute the “to be delivered” package using Machining knowledge databases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lect technologies and minimum required resources (machine, fixtures, tools 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 the Process databases and select appropriate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eck for “Machinability”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 expected quality and inspection requirements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gulations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ometry Dimensions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ctional Toleranc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fine the validation and optimisation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ild and standardise the manufacturing data warehouse and  manufacturing knowledge databases data in a extended enterprise vision and all along the lifecyc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ute and validate the NC program using simulation and optimis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 the NC program to the selected controller and machi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idate the NC program by simulation and optimis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ce the machining operations in order to produce the “as delivered” package that enables better assembly, long term archiving and continuous improvemen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ol, manage and archive the NC programs and “As delivered” packag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8560" y="85680"/>
            <a:ext cx="5911560" cy="56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Projec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non exclusive lis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79520" y="3168720"/>
            <a:ext cx="5238720" cy="368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6320" y="990720"/>
            <a:ext cx="764388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MOUS : Future Advanced Manufacturing Over Ubiquitous Systems (European Commission Manufuture Platfo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mart Machining (NI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rdination of the Standardisation effort to implement the extended enterprise (product and resources lifecycle manag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jor efforts at three level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Define a Machine Tool data mo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Establish a Manufacturing Data Wareho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reate a Knowledge Database for mach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8560" y="85680"/>
            <a:ext cx="5911560" cy="56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kehold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79520" y="3168720"/>
            <a:ext cx="5238720" cy="368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6720" y="671400"/>
            <a:ext cx="6978600" cy="58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d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D 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PP – CAM edi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 controllers and Machine Tool bui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versities, Laboratories and Research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society for utilities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O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 profit, national and international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3:09:11Z</dcterms:created>
  <dc:creator>DCole</dc:creator>
  <dc:description/>
  <dc:language>en-US</dc:language>
  <cp:lastModifiedBy>HFC</cp:lastModifiedBy>
  <dcterms:modified xsi:type="dcterms:W3CDTF">2006-10-25T17:52:38Z</dcterms:modified>
  <cp:revision>4307</cp:revision>
  <dc:subject/>
  <dc:title>A400M Long Lead Item Management</dc:title>
</cp:coreProperties>
</file>