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Toulouse N000 2006-06-1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9CE27C14-9BCF-4316-8531-C53B7F00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4 (features) ed3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 522 (features) ed2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(inspection) DIS ballot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3 (castings) CD ballot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9 (forgings) NWI ballot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(machining) IS ready to be sent to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day demon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lanning and Strategy Se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 (Open Technical Forum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 (Industry Day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 (Joint meeting with SC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cope and status of A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Tou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, 2006-06-26, 130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update of all AP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update on ISO 13399 (cutting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s for 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2006-06-27, 0800-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AP-223 (cas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AP-229 (forg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AP-219 (insp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possible SED’s for AP-240 (pla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ars and AP-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6-06-28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day – machining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day – panel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meeting web site for detailed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6-06-29, 0800-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Busan (Korea)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futur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38 IS walkth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AP-238 CC1 implement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6-06-29T10:01:28Z</dcterms:modified>
  <cp:revision>158</cp:revision>
  <dc:subject/>
  <dc:title>WG3 Presentation to SC4 Opening Plenary</dc:title>
</cp:coreProperties>
</file>