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5CF77-4ECD-4D08-9609-320005929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9DDCC-7832-4734-AEF8-39D9FCD34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2AEBC-02D2-4A21-B036-F4F4DB6575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41D7C-2671-4401-8393-F69F2D21C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BD3B6-E640-4CB5-89BC-8E9DEB3C6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24D41-0E5C-480D-8176-57354F07F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44FF4-3D90-4D39-9380-B3D5A6E54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58C62-FF21-4EF9-A824-493EBEDBE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9EF95-A640-446F-AF35-982B01C66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504A1-E27E-44D3-BD52-2032A4FAC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E0132-0DFC-4BBA-82EC-CD1C21AD3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625ED-E7F2-4881-B50C-3D1A3A058B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919F0-0DAC-4631-9910-88C8555A73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lum bright="70000" contrast="-70000"/>
          </a:blip>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slovensky@scra.org"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DS issues</a:t>
            </a:r>
            <a:endParaRPr b="0" lang="en-US" sz="4400" spc="-1" strike="noStrike">
              <a:solidFill>
                <a:srgbClr val="000000"/>
              </a:solidFill>
              <a:latin typeface="Arial"/>
            </a:endParaRPr>
          </a:p>
        </p:txBody>
      </p:sp>
      <p:sp>
        <p:nvSpPr>
          <p:cNvPr id="43" name="PlaceHolder 2"/>
          <p:cNvSpPr>
            <a:spLocks noGrp="1"/>
          </p:cNvSpPr>
          <p:nvPr>
            <p:ph type="subTitle"/>
          </p:nvPr>
        </p:nvSpPr>
        <p:spPr>
          <a:xfrm>
            <a:off x="1143000" y="27432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224, AP240</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O/SC4/TC184/WG3/T24</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ulouse, France</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ne 2006</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
          <p:cNvSpPr/>
          <p:nvPr/>
        </p:nvSpPr>
        <p:spPr>
          <a:xfrm>
            <a:off x="3734640" y="5257800"/>
            <a:ext cx="201420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r. Len Slovensk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13) 383-831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slovensky@scra.or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224 e3 SEDS #3</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blem Description: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ve hit a part with a true position tolerance that didn't have any datum references associated with i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looked in the ANSI standard and a few other places to see if this is allowed. From what we've foun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t is possible to tolerance a feature in this manner (our case was a hole in a circular pattern where the diamete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the pattern was basic and the position tolerance meant that the location of the hole is true relative to its ow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tion on the diamete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way, AP224v(all) requires that a true position tolerance needs from 1 to 3 datum reference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M diagram 28 shows a position-tolerance having from 1 to 3 datums.  In AIM express diagram 2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apped entity for referenced tolerances, geometric_tolerance_with_datum_reference has 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um_system attribute that is a set of 1 to many.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this be changed to allow 0 to 3 datum referenc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ditions Under Which the Issue Was Discovered:  SCRA implementation of AP224e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224 e3 SEDS #3</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osed Solution (Optional):</a:t>
            </a:r>
            <a:r>
              <a:rPr b="0" lang="en-US" sz="1600" spc="-1" strike="noStrike">
                <a:solidFill>
                  <a:srgbClr val="000000"/>
                </a:solidFill>
                <a:latin typeface="Arial"/>
              </a:rPr>
              <a:t>  AP224 and the other APs using Positional_tolerance use AIC519 to define Positional_tolerance for the AIM and it already has a local rule of 0 to 3 datum references.  Therefore the AP224 ARM should be changed to match the AIM, this is upward compatibl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224 e3 SEDS #4</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or:  Len Slovensk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Address:  Slovensky@scra.or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and Clause where Issue Originates: AP224e3  4.2.143 </a:t>
            </a:r>
            <a:r>
              <a:rPr b="0" lang="en-US" sz="2000" spc="-1" strike="noStrike">
                <a:solidFill>
                  <a:srgbClr val="ff0000"/>
                </a:solidFill>
                <a:latin typeface="Arial"/>
              </a:rPr>
              <a:t>Numeric_parameter</a:t>
            </a:r>
            <a:r>
              <a:rPr b="0" lang="en-US" sz="2000" spc="-1" strike="noStrike">
                <a:solidFill>
                  <a:srgbClr val="000000"/>
                </a:solidFill>
                <a:latin typeface="Arial"/>
              </a:rPr>
              <a:t>, 5.1.6.6 Numeric_paramete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Parts Affected by the Issue: AP240, AP238, AP223, AP229, AP219</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d Issues: n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Abstract/Keyword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224 e3 SEDS #4</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lem Description: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Dimension Tolerance I can add a note or description to help clarify the dimensions usage (make it BASIC or whatev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imension maps to a measure-rep-item that has an item that is a descriptive-rep-item where the value is store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eatures, all the dimensions that make it up are numeric-parameter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re also measure-rep-items. Is it possible to put a note or clarification onto a numeric-parameter in a similar manner a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mension Toleranc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add significant digits and descrip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s Under Which the Issue Was Discovered: SCRA implementation of AP224e3 and AP24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224 e3 SEDS #4</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osed Solution (Optional):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143 Numeric_paramet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ata associated with a Numeric_parameter are the followin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parameter_descrip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parameter_no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ameter_uni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ameter_valu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significant_digits</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224 e3 SEDS #4</a:t>
            </a:r>
            <a:endParaRPr b="0" lang="en-US" sz="4400" spc="-1" strike="noStrike">
              <a:solidFill>
                <a:srgbClr val="000000"/>
              </a:solidFill>
              <a:latin typeface="Arial"/>
            </a:endParaRPr>
          </a:p>
        </p:txBody>
      </p:sp>
      <p:sp>
        <p:nvSpPr>
          <p:cNvPr id="72" name="PlaceHolder 2"/>
          <p:cNvSpPr>
            <a:spLocks noGrp="1"/>
          </p:cNvSpPr>
          <p:nvPr>
            <p:ph/>
          </p:nvPr>
        </p:nvSpPr>
        <p:spPr>
          <a:xfrm>
            <a:off x="457200" y="1371600"/>
            <a:ext cx="8229600" cy="5410080"/>
          </a:xfrm>
          <a:prstGeom prst="rect">
            <a:avLst/>
          </a:prstGeom>
          <a:noFill/>
          <a:ln w="0">
            <a:noFill/>
          </a:ln>
        </p:spPr>
        <p:txBody>
          <a:bodyPr lIns="90000" rIns="90000" tIns="46800" bIns="46800" anchor="t">
            <a:normAutofit/>
          </a:bodyPr>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1.6.6  Numeric_parameter</a:t>
            </a: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IM element:       </a:t>
            </a:r>
            <a:r>
              <a:rPr b="0" lang="en-US" sz="800" spc="-1" strike="noStrike">
                <a:solidFill>
                  <a:srgbClr val="000000"/>
                </a:solidFill>
                <a:latin typeface="Arial"/>
              </a:rPr>
              <a:t>	</a:t>
            </a:r>
            <a:r>
              <a:rPr b="0" lang="en-US" sz="800" spc="-1" strike="noStrike">
                <a:solidFill>
                  <a:srgbClr val="000000"/>
                </a:solidFill>
                <a:latin typeface="Arial"/>
              </a:rPr>
              <a:t>measure_representation_item</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a:t>
            </a:r>
            <a:r>
              <a:rPr b="0" lang="en-US" sz="800" spc="-1" strike="noStrike">
                <a:solidFill>
                  <a:srgbClr val="000000"/>
                </a:solidFill>
                <a:latin typeface="Arial"/>
              </a:rPr>
              <a:t>	</a:t>
            </a:r>
            <a:r>
              <a:rPr b="0" lang="en-US" sz="800" spc="-1" strike="noStrike">
                <a:solidFill>
                  <a:srgbClr val="000000"/>
                </a:solidFill>
                <a:latin typeface="Arial"/>
              </a:rPr>
              <a:t>ISO 10303-45 </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6.6.1  Numeric_parameter to measure_qualification (as parameter_description)</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IM element:       </a:t>
            </a:r>
            <a:r>
              <a:rPr b="0" lang="en-US" sz="800" spc="-1" strike="noStrike">
                <a:solidFill>
                  <a:srgbClr val="000000"/>
                </a:solidFill>
                <a:latin typeface="Arial"/>
              </a:rPr>
              <a:t>	</a:t>
            </a:r>
            <a:r>
              <a:rPr b="0" lang="en-US" sz="800" spc="-1" strike="noStrike">
                <a:solidFill>
                  <a:srgbClr val="000000"/>
                </a:solidFill>
                <a:latin typeface="Arial"/>
              </a:rPr>
              <a:t>(measure_qualification.description)</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a:t>
            </a:r>
            <a:r>
              <a:rPr b="0" lang="en-US" sz="800" spc="-1" strike="noStrike">
                <a:solidFill>
                  <a:srgbClr val="000000"/>
                </a:solidFill>
                <a:latin typeface="Arial"/>
              </a:rPr>
              <a:t>	</a:t>
            </a:r>
            <a:r>
              <a:rPr b="0" lang="en-US" sz="800" spc="-1" strike="noStrike">
                <a:solidFill>
                  <a:srgbClr val="000000"/>
                </a:solidFill>
                <a:latin typeface="Arial"/>
              </a:rPr>
              <a:t>ISO 10303-41</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ference Path:    </a:t>
            </a:r>
            <a:r>
              <a:rPr b="0" lang="en-US" sz="800" spc="-1" strike="noStrike">
                <a:solidFill>
                  <a:srgbClr val="000000"/>
                </a:solidFill>
                <a:latin typeface="Arial"/>
              </a:rPr>
              <a:t>	</a:t>
            </a:r>
            <a:r>
              <a:rPr b="0" lang="en-US" sz="800" spc="-1" strike="noStrike">
                <a:solidFill>
                  <a:srgbClr val="000000"/>
                </a:solidFill>
                <a:latin typeface="Arial"/>
              </a:rPr>
              <a:t>measure_representation_item&lt;=</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measure_with_unit&lt;-</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measure_qualification.qualified_measure</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measure_qualification</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measure_qualification.name=’numeric parameter clarification’</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measure_qualification.description</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6.6.2  Numeric_parameter to measure_qualification (as parameter_note)</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IM element:       </a:t>
            </a:r>
            <a:r>
              <a:rPr b="0" lang="en-US" sz="800" spc="-1" strike="noStrike">
                <a:solidFill>
                  <a:srgbClr val="000000"/>
                </a:solidFill>
                <a:latin typeface="Arial"/>
              </a:rPr>
              <a:t>	</a:t>
            </a:r>
            <a:r>
              <a:rPr b="0" lang="en-US" sz="800" spc="-1" strike="noStrike">
                <a:solidFill>
                  <a:srgbClr val="000000"/>
                </a:solidFill>
                <a:latin typeface="Arial"/>
              </a:rPr>
              <a:t>(type_qualifier.name)</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a:t>
            </a:r>
            <a:r>
              <a:rPr b="0" lang="en-US" sz="800" spc="-1" strike="noStrike">
                <a:solidFill>
                  <a:srgbClr val="000000"/>
                </a:solidFill>
                <a:latin typeface="Arial"/>
              </a:rPr>
              <a:t>	</a:t>
            </a:r>
            <a:r>
              <a:rPr b="0" lang="en-US" sz="800" spc="-1" strike="noStrike">
                <a:solidFill>
                  <a:srgbClr val="000000"/>
                </a:solidFill>
                <a:latin typeface="Arial"/>
              </a:rPr>
              <a:t>ISO 10303-41</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ference Path:    </a:t>
            </a:r>
            <a:r>
              <a:rPr b="0" lang="en-US" sz="800" spc="-1" strike="noStrike">
                <a:solidFill>
                  <a:srgbClr val="000000"/>
                </a:solidFill>
                <a:latin typeface="Arial"/>
              </a:rPr>
              <a:t>	</a:t>
            </a:r>
            <a:r>
              <a:rPr b="0" lang="en-US" sz="800" spc="-1" strike="noStrike">
                <a:solidFill>
                  <a:srgbClr val="000000"/>
                </a:solidFill>
                <a:latin typeface="Arial"/>
              </a:rPr>
              <a:t>measure_representation_item&lt;=</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measure_with_unit&lt;-</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measure_qualification.qualified_measure</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measure_qualification</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measure_qualification.name=’numeric parameter clarification’</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measure_qualification.qualifiers[i]-&gt;</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value_qualifier=type_qualifier</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ype_qualifier</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ype_qualifier.name</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6.6.2  Numeric_parameter to measure_qualification (as parameter_note)</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IM element:       </a:t>
            </a:r>
            <a:r>
              <a:rPr b="0" lang="en-US" sz="800" spc="-1" strike="noStrike">
                <a:solidFill>
                  <a:srgbClr val="000000"/>
                </a:solidFill>
                <a:latin typeface="Arial"/>
              </a:rPr>
              <a:t>	</a:t>
            </a:r>
            <a:r>
              <a:rPr b="0" lang="en-US" sz="800" spc="-1" strike="noStrike">
                <a:solidFill>
                  <a:srgbClr val="000000"/>
                </a:solidFill>
                <a:latin typeface="Arial"/>
              </a:rPr>
              <a:t>(precision_qualifier.precision_valu)</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a:t>
            </a:r>
            <a:r>
              <a:rPr b="0" lang="en-US" sz="800" spc="-1" strike="noStrike">
                <a:solidFill>
                  <a:srgbClr val="000000"/>
                </a:solidFill>
                <a:latin typeface="Arial"/>
              </a:rPr>
              <a:t>	</a:t>
            </a:r>
            <a:r>
              <a:rPr b="0" lang="en-US" sz="800" spc="-1" strike="noStrike">
                <a:solidFill>
                  <a:srgbClr val="000000"/>
                </a:solidFill>
                <a:latin typeface="Arial"/>
              </a:rPr>
              <a:t>ISO 10303-41</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ference Path:    </a:t>
            </a:r>
            <a:r>
              <a:rPr b="0" lang="en-US" sz="800" spc="-1" strike="noStrike">
                <a:solidFill>
                  <a:srgbClr val="000000"/>
                </a:solidFill>
                <a:latin typeface="Arial"/>
              </a:rPr>
              <a:t>	</a:t>
            </a:r>
            <a:r>
              <a:rPr b="0" lang="en-US" sz="800" spc="-1" strike="noStrike">
                <a:solidFill>
                  <a:srgbClr val="000000"/>
                </a:solidFill>
                <a:latin typeface="Arial"/>
              </a:rPr>
              <a:t>measure_representation_item&lt;=</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measure_with_unit&lt;-</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measure_qualification.qualified_measure</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measure_qualification</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measure_qualification.name=’numeric parameter clarification’</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measure_qualification.qualifiers[i]-&gt;</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value_qualifier=precision_qualifier</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precision_qualifier</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precision_qualifier.precision_valu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224 e3 SEDS #5</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or:  Len Slovensk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Address:  Slovensky@scra.or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and Clause where Issue Originates: AP224e3  Figure 112 </a:t>
            </a:r>
            <a:r>
              <a:rPr b="0" lang="en-US" sz="2000" spc="-1" strike="noStrike">
                <a:solidFill>
                  <a:srgbClr val="ff0000"/>
                </a:solidFill>
                <a:latin typeface="Arial"/>
              </a:rPr>
              <a:t>Square_U_profi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Parts Affected by the Issue: AP240, AP238, AP223, AP229, AP219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d Issues: n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Abstract/Keyword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224 e3 SEDS #5</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 Descriptio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working with square-u-profiles for grooves.  In 4.2.231.2 and 4.2.231.4, the side angles are defined as a measur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ween the side and the base. The associated figure 111 indicates that the measures are from base line on the outside of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file to the sides. I thought at one time we had said to define it from inside the profile instea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goes back quite a ways, it was like this in ap224v1 as wel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itions Under Which the Issue Was Discovered:</a:t>
            </a:r>
            <a:r>
              <a:rPr b="0" lang="en-US" sz="2000" spc="-1" strike="noStrike">
                <a:solidFill>
                  <a:srgbClr val="000000"/>
                </a:solidFill>
                <a:latin typeface="Arial"/>
              </a:rPr>
              <a:t> SCRA implementation of AP224e3 and AP24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224 e3 SEDS #5</a:t>
            </a:r>
            <a:endParaRPr b="0" lang="en-US" sz="4400" spc="-1" strike="noStrike">
              <a:solidFill>
                <a:srgbClr val="000000"/>
              </a:solidFill>
              <a:latin typeface="Arial"/>
            </a:endParaRPr>
          </a:p>
        </p:txBody>
      </p:sp>
      <p:sp>
        <p:nvSpPr>
          <p:cNvPr id="78" name="PlaceHolder 2"/>
          <p:cNvSpPr>
            <a:spLocks noGrp="1"/>
          </p:cNvSpPr>
          <p:nvPr>
            <p:ph/>
          </p:nvPr>
        </p:nvSpPr>
        <p:spPr>
          <a:xfrm>
            <a:off x="457200" y="1599840"/>
            <a:ext cx="8229600" cy="16002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osed Solution (Optiona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ify the figure so it shows the angles measured on the insid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9" name="" descr=""/>
          <p:cNvPicPr/>
          <p:nvPr/>
        </p:nvPicPr>
        <p:blipFill>
          <a:blip r:embed="rId1"/>
          <a:stretch/>
        </p:blipFill>
        <p:spPr>
          <a:xfrm>
            <a:off x="4876920" y="4495680"/>
            <a:ext cx="3825720" cy="1855800"/>
          </a:xfrm>
          <a:prstGeom prst="rect">
            <a:avLst/>
          </a:prstGeom>
          <a:ln w="0">
            <a:noFill/>
          </a:ln>
        </p:spPr>
      </p:pic>
      <p:pic>
        <p:nvPicPr>
          <p:cNvPr id="80" name="" descr=""/>
          <p:cNvPicPr/>
          <p:nvPr/>
        </p:nvPicPr>
        <p:blipFill>
          <a:blip r:embed="rId2"/>
          <a:stretch/>
        </p:blipFill>
        <p:spPr>
          <a:xfrm>
            <a:off x="457200" y="2895480"/>
            <a:ext cx="4800600" cy="1846440"/>
          </a:xfrm>
          <a:prstGeom prst="rect">
            <a:avLst/>
          </a:prstGeom>
          <a:ln w="0">
            <a:noFill/>
          </a:ln>
        </p:spPr>
      </p:pic>
      <p:sp>
        <p:nvSpPr>
          <p:cNvPr id="81" name=""/>
          <p:cNvSpPr/>
          <p:nvPr/>
        </p:nvSpPr>
        <p:spPr>
          <a:xfrm>
            <a:off x="1815840" y="4608360"/>
            <a:ext cx="111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224e3</a:t>
            </a:r>
            <a:endParaRPr b="0" lang="en-US" sz="1800" spc="-1" strike="noStrike">
              <a:solidFill>
                <a:srgbClr val="000000"/>
              </a:solidFill>
              <a:latin typeface="Arial"/>
            </a:endParaRPr>
          </a:p>
        </p:txBody>
      </p:sp>
      <p:sp>
        <p:nvSpPr>
          <p:cNvPr id="82" name=""/>
          <p:cNvSpPr/>
          <p:nvPr/>
        </p:nvSpPr>
        <p:spPr>
          <a:xfrm>
            <a:off x="6540120" y="643716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224 e3 SEDS #6</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or:  Len Slovensk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Address:  Slovensky@scra.or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and Clause where Issue Originates: AP224e3 4.2.3 </a:t>
            </a:r>
            <a:r>
              <a:rPr b="0" lang="en-US" sz="2000" spc="-1" strike="noStrike">
                <a:solidFill>
                  <a:srgbClr val="ff0000"/>
                </a:solidFill>
                <a:latin typeface="Arial"/>
              </a:rPr>
              <a:t>Angular_dimension_toleranc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Parts Affected by the Issue: AP203e2, AP240, AP238, AP223, AP229, AP219, AP214</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d Issues: n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Abstract/Keyword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224 e3 SEDS #1</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hor:  Len Slovensky</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ddress:  Slovensky@scra.org</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and Clause where Issue Originates: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1.9.6  </a:t>
            </a:r>
            <a:r>
              <a:rPr b="0" lang="en-US" sz="1600" spc="-1" strike="noStrike">
                <a:solidFill>
                  <a:srgbClr val="ff0000"/>
                </a:solidFill>
                <a:latin typeface="Arial"/>
              </a:rPr>
              <a:t>Compound_datum</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1.9.6.1 compound_datum to datum_feature (as element)</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2 AIM EXPRESS short listing</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ex A (normative) AIM EXPRESS expanded listing</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ex B (normative) AIM short names </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Parts Affected by the Issue: AP203e2, AP240, AP238, AP223, AP229, AP219, AP214</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ed Issues:</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Abstract/Keywords:  datum, compound_datu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224 e3 SEDS #6</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blem Description: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gular-dimension-tolerance ARM definition changed between v2 and v3 in 224.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angle attribute was removed. In the express file, angular_location still has an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le-selection (as an angle-relator) included. Is that suppose to be used for something or just left blank?</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gular-dimension-tolerance ARM definition changed between v2 and v3 in 224.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angle attribute was removed. In the express file, angular_location still has an angle-selection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ngle-relator) included. Is that suppose to be used for something or just left blank?</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ink we need the major-angle still. How are we suppose to indicate which angle we are measuring between 2 line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ngle1</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ngle2</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le2 = supplement of angle1. If we pick these 2 lines or planes, how do we tell which angle we are after and in which quadran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re any way to indicate the reflex of angle1?  (reflex = 360 - angle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320"/>
            <a:ext cx="3352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224 e3 SEDS #6</a:t>
            </a:r>
            <a:endParaRPr b="0" lang="en-US" sz="4000" spc="-1" strike="noStrike">
              <a:solidFill>
                <a:srgbClr val="000000"/>
              </a:solidFill>
              <a:latin typeface="Arial"/>
            </a:endParaRPr>
          </a:p>
        </p:txBody>
      </p:sp>
      <p:pic>
        <p:nvPicPr>
          <p:cNvPr id="88" name="" descr=""/>
          <p:cNvPicPr/>
          <p:nvPr/>
        </p:nvPicPr>
        <p:blipFill>
          <a:blip r:embed="rId1"/>
          <a:stretch/>
        </p:blipFill>
        <p:spPr>
          <a:xfrm>
            <a:off x="3878280" y="0"/>
            <a:ext cx="5265720" cy="6858000"/>
          </a:xfrm>
          <a:prstGeom prst="rect">
            <a:avLst/>
          </a:prstGeom>
          <a:ln w="0">
            <a:noFill/>
          </a:ln>
        </p:spPr>
      </p:pic>
      <p:sp>
        <p:nvSpPr>
          <p:cNvPr id="89" name=""/>
          <p:cNvSpPr/>
          <p:nvPr/>
        </p:nvSpPr>
        <p:spPr>
          <a:xfrm flipH="1" flipV="1">
            <a:off x="2895120" y="4419720"/>
            <a:ext cx="2667240" cy="76176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0" y="1371600"/>
            <a:ext cx="3809880" cy="3015360"/>
          </a:xfrm>
          <a:prstGeom prst="rect">
            <a:avLst/>
          </a:prstGeom>
          <a:noFill/>
          <a:ln w="0">
            <a:noFill/>
          </a:ln>
        </p:spPr>
        <p:style>
          <a:lnRef idx="0"/>
          <a:fillRef idx="0"/>
          <a:effectRef idx="0"/>
          <a:fontRef idx="minor"/>
        </p:style>
        <p:txBody>
          <a:bodyPr lIns="90000" rIns="90000" tIns="46800" bIns="46800" anchor="t">
            <a:spAutoFit/>
          </a:bodyPr>
          <a:p>
            <a:pPr lvl="3" marL="17146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gular_dimension_toleranc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f directed = tru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element: (directed_dimensional_location)</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gular_location)</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ISO 10303-224</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Path: (directed_dimensional_location&lt;=)</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gular_location &lt;=)</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mensional_location</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f directed = fals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element:</a:t>
            </a:r>
            <a:r>
              <a:rPr b="0" lang="en-US" sz="1200" spc="-1" strike="noStrike">
                <a:solidFill>
                  <a:srgbClr val="000000"/>
                </a:solidFill>
                <a:latin typeface="Arial"/>
              </a:rPr>
              <a:t>	</a:t>
            </a:r>
            <a:r>
              <a:rPr b="0" lang="en-US" sz="1200" spc="-1" strike="noStrike">
                <a:solidFill>
                  <a:srgbClr val="000000"/>
                </a:solidFill>
                <a:latin typeface="Arial"/>
              </a:rPr>
              <a:t> (angular_location)</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ISO 10303-47</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s:shape_representation_subtype_exclusiveness  – (See 5.2.4.3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224 e3 SEDS #6</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ditions Under Which the Issue Was Discovered:</a:t>
            </a:r>
            <a:r>
              <a:rPr b="0" lang="en-US" sz="1600" spc="-1" strike="noStrike">
                <a:solidFill>
                  <a:srgbClr val="000000"/>
                </a:solidFill>
                <a:latin typeface="Arial"/>
              </a:rPr>
              <a:t> SCRA implementation of AP224e3 and AP240</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osed Solution (Optional):</a:t>
            </a:r>
            <a:r>
              <a:rPr b="0" lang="en-US" sz="1600" spc="-1" strike="noStrike">
                <a:solidFill>
                  <a:srgbClr val="000000"/>
                </a:solidFill>
                <a:latin typeface="Arial"/>
              </a:rPr>
              <a:t>   Change back to AP224e2</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TITY Angular_dimension_toleranc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BTYPE OF(Location_toleranc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jor_angle        : BOOLEA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rror_origin      : BOOLEA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rror_termination : BOOLEA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D_ENT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240 SEDS #1</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or:  Len Slovensky</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Address:  Slovensky@scra.org</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and Clause where Issue Originates: 4.2.55 </a:t>
            </a:r>
            <a:r>
              <a:rPr b="0" lang="en-US" sz="2000" spc="-1" strike="noStrike">
                <a:solidFill>
                  <a:srgbClr val="ff0000"/>
                </a:solidFill>
                <a:latin typeface="Arial"/>
              </a:rPr>
              <a:t>Geometric_tolerance</a:t>
            </a:r>
            <a:r>
              <a:rPr b="0" lang="en-US" sz="2000" spc="-1" strike="noStrike">
                <a:solidFill>
                  <a:srgbClr val="000000"/>
                </a:solidFill>
                <a:latin typeface="Arial"/>
              </a:rPr>
              <a:t>, 4.3.65 Geometric_tolerance to Shape_aspect,</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7.8 Geometric_tolerance,  5.1.7.8.1 geometric_tolerance to shape_aspect (as applied_shape),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ex G diagram G14</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Parts Affected by the Issue: </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d Issues:</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Abstract/Keywords:  geometric tolerances GD&amp;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240 SEDS #1</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Description:</a:t>
            </a:r>
            <a:r>
              <a:rPr b="0" lang="en-US" sz="2400" spc="-1" strike="noStrike">
                <a:solidFill>
                  <a:srgbClr val="000000"/>
                </a:solidFill>
                <a:latin typeface="Arial"/>
              </a:rPr>
              <a:t>  The intent of the Geometric_tolerance entity was to create one entity that would define the need for geometric tolerances, and to use AP224 as a reference, saying that the Geometric _tolerance entity represents all of the entities defined in AP224 for geometric tolerances, and mapped to AIC 519.  The problem is this does not bring into AP240 all of the datum requirements or tolerance zone requirement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s Under Which the Issue Was Discovered:</a:t>
            </a:r>
            <a:r>
              <a:rPr b="0" lang="en-US" sz="2400" spc="-1" strike="noStrike">
                <a:solidFill>
                  <a:srgbClr val="000000"/>
                </a:solidFill>
                <a:latin typeface="Arial"/>
              </a:rPr>
              <a:t> SCRA implementation of AP224e3 and AP24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240 SEDS #1</a:t>
            </a:r>
            <a:endParaRPr b="0" lang="en-US" sz="4400" spc="-1" strike="noStrike">
              <a:solidFill>
                <a:srgbClr val="000000"/>
              </a:solidFill>
              <a:latin typeface="Arial"/>
            </a:endParaRPr>
          </a:p>
        </p:txBody>
      </p:sp>
      <p:pic>
        <p:nvPicPr>
          <p:cNvPr id="98" name="" descr=""/>
          <p:cNvPicPr/>
          <p:nvPr/>
        </p:nvPicPr>
        <p:blipFill>
          <a:blip r:embed="rId1"/>
          <a:stretch/>
        </p:blipFill>
        <p:spPr>
          <a:xfrm>
            <a:off x="380880" y="785880"/>
            <a:ext cx="7696440" cy="590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27432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240 SEDS #1</a:t>
            </a:r>
            <a:endParaRPr b="0" lang="en-US" sz="4000" spc="-1" strike="noStrike">
              <a:solidFill>
                <a:srgbClr val="000000"/>
              </a:solidFill>
              <a:latin typeface="Arial"/>
            </a:endParaRPr>
          </a:p>
        </p:txBody>
      </p:sp>
      <p:pic>
        <p:nvPicPr>
          <p:cNvPr id="100" name="" descr=""/>
          <p:cNvPicPr/>
          <p:nvPr/>
        </p:nvPicPr>
        <p:blipFill>
          <a:blip r:embed="rId1"/>
          <a:stretch/>
        </p:blipFill>
        <p:spPr>
          <a:xfrm>
            <a:off x="3878280" y="0"/>
            <a:ext cx="5265720" cy="6858000"/>
          </a:xfrm>
          <a:prstGeom prst="rect">
            <a:avLst/>
          </a:prstGeom>
          <a:ln w="0">
            <a:noFill/>
          </a:ln>
        </p:spPr>
      </p:pic>
      <p:sp>
        <p:nvSpPr>
          <p:cNvPr id="101" name=""/>
          <p:cNvSpPr/>
          <p:nvPr/>
        </p:nvSpPr>
        <p:spPr>
          <a:xfrm flipH="1">
            <a:off x="2209320" y="2133720"/>
            <a:ext cx="3429000" cy="76176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240 SEDS #2</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or:  Len Slovensk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Address:  Slovensky@scra.or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and Clause where Issue Originates: 4.2.83 </a:t>
            </a:r>
            <a:r>
              <a:rPr b="0" lang="en-US" sz="2000" spc="-1" strike="noStrike">
                <a:solidFill>
                  <a:srgbClr val="ff0000"/>
                </a:solidFill>
                <a:latin typeface="Arial"/>
              </a:rPr>
              <a:t>Machining_process_featur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ex G diagram G14</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Parts Affected by the Issu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d Issu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Abstract/Keywords:  machining featu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240 SEDS #2</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Description:</a:t>
            </a:r>
            <a:r>
              <a:rPr b="0" lang="en-US" sz="2400" spc="-1" strike="noStrike">
                <a:solidFill>
                  <a:srgbClr val="000000"/>
                </a:solidFill>
                <a:latin typeface="Arial"/>
              </a:rPr>
              <a:t>  The intent of the Machining_process_feature entity was to create one entity that would define the need for machining features, and to use AP224 as a reference, saying that the Machining_process_feature entity represents all of the entities defined in AP224 for machining features, and mapped to AIC 522.  The problem is this does not bring into AP240 all of the machining feature requirement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s Under Which the Issue Was Discovered:</a:t>
            </a:r>
            <a:r>
              <a:rPr b="0" lang="en-US" sz="2400" spc="-1" strike="noStrike">
                <a:solidFill>
                  <a:srgbClr val="000000"/>
                </a:solidFill>
                <a:latin typeface="Arial"/>
              </a:rPr>
              <a:t> SCRA implementation of AP224e3 and AP24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327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240 SEDS #2</a:t>
            </a:r>
            <a:endParaRPr b="0" lang="en-US" sz="4000" spc="-1" strike="noStrike">
              <a:solidFill>
                <a:srgbClr val="000000"/>
              </a:solidFill>
              <a:latin typeface="Arial"/>
            </a:endParaRPr>
          </a:p>
        </p:txBody>
      </p:sp>
      <p:pic>
        <p:nvPicPr>
          <p:cNvPr id="107" name="" descr=""/>
          <p:cNvPicPr/>
          <p:nvPr/>
        </p:nvPicPr>
        <p:blipFill>
          <a:blip r:embed="rId1"/>
          <a:stretch/>
        </p:blipFill>
        <p:spPr>
          <a:xfrm>
            <a:off x="3878280" y="0"/>
            <a:ext cx="526572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224 e3 SEDS #1</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blem Description:</a:t>
            </a:r>
            <a:r>
              <a:rPr b="0" lang="en-US" sz="1400" spc="-1" strike="noStrike">
                <a:solidFill>
                  <a:srgbClr val="000000"/>
                </a:solidFill>
                <a:latin typeface="Arial"/>
              </a:rPr>
              <a:t>  Mapping of ARM entity Compound_datum maps to AIM entity common_datum, but defined incorrectly in AP224e3.</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9.6 Compound_datume, souce for common_datum is stated as 10303-47, this is incorrect.  also the  note is incorrect, it was written for AP224 1st edition without common_datum, needs to be change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9.6.1 compound_datum to datum_feature (as element) mapping is correct for datum t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um_feature, but incorrect for common_datu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2 AIM EXPRESS short listing -  common_datum missing from USE FROM for aic_geometric_tolerances,                               10303-519</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nex A (normative) AIM EXPRESS expanded listing - common_datum entity definition missing.</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nex B (normative) AIM short names - common_datum entity AIM element missing</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ditions Under Which the Issue Was Discovered:  SCRA implementation of AP224e3</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240 SEDS #3</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Len Slovensky</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ddress:  Slovensky@scra.org</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and Clause where Issue Originates: 5.2.3.2.20 </a:t>
            </a:r>
            <a:r>
              <a:rPr b="0" lang="en-US" sz="2400" spc="-1" strike="noStrike">
                <a:solidFill>
                  <a:srgbClr val="ff0000"/>
                </a:solidFill>
                <a:latin typeface="Arial"/>
              </a:rPr>
              <a:t>document_file</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arts Affected by the Issue: none</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ed Issues: none</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bstract/Keywords:  docu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240 SEDS #3</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lem Description:</a:t>
            </a:r>
            <a:r>
              <a:rPr b="0" lang="en-US" sz="1800" spc="-1" strike="noStrike">
                <a:solidFill>
                  <a:srgbClr val="000000"/>
                </a:solidFill>
                <a:latin typeface="Arial"/>
              </a:rPr>
              <a:t>  The definition of the entity documen_file defines it as a subtype of characterized_object and document.  This is backwords from AP224 which defines a document_file as a document and characterized_object, this effects inheritanc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ditions Under Which the Issue Was Discovered:</a:t>
            </a:r>
            <a:r>
              <a:rPr b="0" lang="en-US" sz="1800" spc="-1" strike="noStrike">
                <a:solidFill>
                  <a:srgbClr val="000000"/>
                </a:solidFill>
                <a:latin typeface="Arial"/>
              </a:rPr>
              <a:t> SCRA implementation of AP224e3 and AP240</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240 SEDS #3</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d Solution (Optional):  switch characterized_object and documen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ITY document_fil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BTYPE OF (characterized_object, docu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240 SEDS #4</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or:  Len Slovensk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Address:  Slovensky@scra.or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and Clause where Issue Originates: AP240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use 5.1.7.2.1 </a:t>
            </a:r>
            <a:r>
              <a:rPr b="0" lang="en-US" sz="2000" spc="-1" strike="noStrike">
                <a:solidFill>
                  <a:srgbClr val="ff0000"/>
                </a:solidFill>
                <a:latin typeface="Arial"/>
              </a:rPr>
              <a:t>full_or_half</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Parts Affected by the Issue: n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d Issues: n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Abstract/Keywords:  angular size dimension, dimensinal toleran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240 SEDS #4</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Descript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224v3 changed the mapping (5.1.9.2.1) for the full-or-half attribute to a descriptive-rep-item.descrip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240 has it like AP224v2, mapped to a representation-item.nam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 Ap240 going to be made consistant with ap224v3?</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Under Which the Issue Was Discovered: SCRA implementation of AP224e3 and AP24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240 SEDS #4</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osed Solution (Optional):  Make the same as AP224e3</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9.2.1  full_or_half</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IM element:</a:t>
            </a:r>
            <a:r>
              <a:rPr b="0" lang="en-US" sz="1200" spc="-1" strike="noStrike">
                <a:solidFill>
                  <a:srgbClr val="000000"/>
                </a:solidFill>
                <a:latin typeface="Arial"/>
              </a:rPr>
              <a:t>	</a:t>
            </a:r>
            <a:r>
              <a:rPr b="0" lang="en-US" sz="1200" spc="-1" strike="noStrike">
                <a:solidFill>
                  <a:srgbClr val="000000"/>
                </a:solidFill>
                <a:latin typeface="Arial"/>
              </a:rPr>
              <a:t>descriptive_representation_item.descriptio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SO 10303-43</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ence Path:</a:t>
            </a:r>
            <a:r>
              <a:rPr b="0" lang="en-US" sz="1200" spc="-1" strike="noStrike">
                <a:solidFill>
                  <a:srgbClr val="000000"/>
                </a:solidFill>
                <a:latin typeface="Arial"/>
              </a:rPr>
              <a:t>	</a:t>
            </a:r>
            <a:r>
              <a:rPr b="0" lang="en-US" sz="1200" spc="-1" strike="noStrike">
                <a:solidFill>
                  <a:srgbClr val="000000"/>
                </a:solidFill>
                <a:latin typeface="Arial"/>
              </a:rPr>
              <a:t>angular_¬size &l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mensional_siz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mensional_characteristic = dimensional_siz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mensional_characteristic &l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mensional_characteristic_representation.dimensio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mensional_characteristic_representatio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mensional_characteristic_representation.representation -&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ape_dimension_representation &l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ape_representation &l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presentatio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presentation.items[i] -&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presentation_item</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escriptive_representation_item</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escriptive_representation_item.descriptio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escriptive_representation_item.description= 'full angl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escriptive_representation_item.description= 'half ang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224 e3 SEDS #1</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osed Solution (Optional):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9.6 Compound_datum - Chance source to 10303-519, update note to reflect the use of composite_shape_aspec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9.6.1 compound_datum to datum_feature (as element) change t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erence Path:</a:t>
            </a:r>
            <a:r>
              <a:rPr b="0" lang="en-US" sz="1400" spc="-1" strike="noStrike">
                <a:solidFill>
                  <a:srgbClr val="000000"/>
                </a:solidFill>
                <a:latin typeface="Arial"/>
              </a:rPr>
              <a:t>	</a:t>
            </a:r>
            <a:r>
              <a:rPr b="0" lang="en-US" sz="1400" spc="-1" strike="noStrike">
                <a:solidFill>
                  <a:srgbClr val="000000"/>
                </a:solidFill>
                <a:latin typeface="Arial"/>
              </a:rPr>
              <a:t>common_datu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omposite_shape_aspec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omposite_shape_aspect.component_relationships [i] -&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hape_aspect_relationship</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hape_aspect_relationship.related_shape_aspect -&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hape_aspect =&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atu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2 AIM EXPRESS short listing -  add common_datum  to USE FROM for aic_geometric_tolerances, 10303-519</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nex A (normative) AIM EXPRESS expanded listing - add common_datum entity definitio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nex B (normative) AIM short names - add common_datum entity AIM elem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224 e3 SEDS #2</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or:  Len Slovensk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Address:  Slovensky@scra.or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and Clause where Issue Originate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9.15 </a:t>
            </a:r>
            <a:r>
              <a:rPr b="0" lang="en-US" sz="2000" spc="-1" strike="noStrike">
                <a:solidFill>
                  <a:srgbClr val="ff0000"/>
                </a:solidFill>
                <a:latin typeface="Arial"/>
              </a:rPr>
              <a:t>Dimensional_toleranc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9.15.1 dimension_descriptio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Parts Affected by the Issue: AP203e2, AP240, AP238, AP223, AP229, AP219, AP214</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d Issu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Abstract/Keywords:  dimensional tolerance, dimensional siz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224 e3 SEDS #2</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lem Description: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9.15 Dimensional_tolerance has two subtypes: size_tolerance an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ion_tolerance.  size_tolerance maps to the part 47 entity dimensional_size, and location_tolerance maps to the part 47 entity dimensional_location.  However the mapping for Dimensaion_tolerance maps to part 47 shape_dimension_representation.  The mapping to the subtypes is incomple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9.15.1 dimension_description - the mapping is incorrect size_tolerance and all of the size_tolerance subtypes.  The size tolerance subtypes use dimensional_size.name as a part of the entity mappin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s Under Which the Issue Was Discovered:  SCRA implementation of AP224e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224 e3 SEDS #2</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posed Solution (Optional):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9.15  Dimensional_tolerance</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Dimensional_tolerance as Dimensional_size</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IM element:</a:t>
            </a:r>
            <a:r>
              <a:rPr b="0" lang="en-US" sz="1000" spc="-1" strike="noStrike">
                <a:solidFill>
                  <a:srgbClr val="000000"/>
                </a:solidFill>
                <a:latin typeface="Arial"/>
              </a:rPr>
              <a:t>	</a:t>
            </a:r>
            <a:r>
              <a:rPr b="0" lang="en-US" sz="1000" spc="-1" strike="noStrike">
                <a:solidFill>
                  <a:srgbClr val="000000"/>
                </a:solidFill>
                <a:latin typeface="Arial"/>
              </a:rPr>
              <a:t>shape_dimension_representatio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ISO 10303-47</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ference Path:</a:t>
            </a:r>
            <a:r>
              <a:rPr b="0" lang="en-US" sz="1000" spc="-1" strike="noStrike">
                <a:solidFill>
                  <a:srgbClr val="000000"/>
                </a:solidFill>
                <a:latin typeface="Arial"/>
              </a:rPr>
              <a:t>	</a:t>
            </a:r>
            <a:r>
              <a:rPr b="0" lang="en-US" sz="1000" spc="-1" strike="noStrike">
                <a:solidFill>
                  <a:srgbClr val="000000"/>
                </a:solidFill>
                <a:latin typeface="Arial"/>
              </a:rPr>
              <a:t>shape_dimension_representation &l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dimensional_characteristic_representation.representatio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dimensional_characteristic_representatio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dimensional_characteristic_representation.dimension -&g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dimensional_characteristic</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dimensional_characteristic = dimensional_size</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dimensional_size</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Dimensional_tolerance as Dimensional_locatio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IM element:</a:t>
            </a:r>
            <a:r>
              <a:rPr b="0" lang="en-US" sz="1000" spc="-1" strike="noStrike">
                <a:solidFill>
                  <a:srgbClr val="000000"/>
                </a:solidFill>
                <a:latin typeface="Arial"/>
              </a:rPr>
              <a:t>	</a:t>
            </a:r>
            <a:r>
              <a:rPr b="0" lang="en-US" sz="1000" spc="-1" strike="noStrike">
                <a:solidFill>
                  <a:srgbClr val="000000"/>
                </a:solidFill>
                <a:latin typeface="Arial"/>
              </a:rPr>
              <a:t>shape_dimension_representatio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ISO 10303-47</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ference Path:</a:t>
            </a:r>
            <a:r>
              <a:rPr b="0" lang="en-US" sz="1000" spc="-1" strike="noStrike">
                <a:solidFill>
                  <a:srgbClr val="000000"/>
                </a:solidFill>
                <a:latin typeface="Arial"/>
              </a:rPr>
              <a:t>	</a:t>
            </a:r>
            <a:r>
              <a:rPr b="0" lang="en-US" sz="1000" spc="-1" strike="noStrike">
                <a:solidFill>
                  <a:srgbClr val="000000"/>
                </a:solidFill>
                <a:latin typeface="Arial"/>
              </a:rPr>
              <a:t>shape_dimension_representation &l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dimensional_characteristic_representation.representatio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dimensional_characteristic_representatio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dimensional_characteristic_representation.dimension -&g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dimensional_characteristic</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dimensional_characteristic = dimensional_locatio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dimensional_locat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224 e3 SEDS #2</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1.9.15.1  dimension_description</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 Dimensional_tolerance as Dimensional_size</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IM element:</a:t>
            </a:r>
            <a:r>
              <a:rPr b="0" lang="en-US" sz="900" spc="-1" strike="noStrike">
                <a:solidFill>
                  <a:srgbClr val="000000"/>
                </a:solidFill>
                <a:latin typeface="Arial"/>
              </a:rPr>
              <a:t>	</a:t>
            </a:r>
            <a:r>
              <a:rPr b="0" lang="en-US" sz="900" spc="-1" strike="noStrike">
                <a:solidFill>
                  <a:srgbClr val="000000"/>
                </a:solidFill>
                <a:latin typeface="Arial"/>
              </a:rPr>
              <a:t>(dimensional_size.name)</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ource:</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ISO 10303-47</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SO 10303-41</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eference Path:</a:t>
            </a:r>
            <a:r>
              <a:rPr b="0" lang="en-US" sz="900" spc="-1" strike="noStrike">
                <a:solidFill>
                  <a:srgbClr val="000000"/>
                </a:solidFill>
                <a:latin typeface="Arial"/>
              </a:rPr>
              <a:t>	</a:t>
            </a:r>
            <a:r>
              <a:rPr b="0" lang="en-US" sz="900" spc="-1" strike="noStrike">
                <a:solidFill>
                  <a:srgbClr val="000000"/>
                </a:solidFill>
                <a:latin typeface="Arial"/>
              </a:rPr>
              <a:t>shape_dimension_representation &l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shape_representation&l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representation&l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ff0000"/>
                </a:solidFill>
                <a:latin typeface="Arial"/>
              </a:rPr>
              <a:t>description_attribute_select=representation</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	</a:t>
            </a:r>
            <a:r>
              <a:rPr b="0" lang="en-US" sz="900" spc="-1" strike="noStrike">
                <a:solidFill>
                  <a:srgbClr val="ff0000"/>
                </a:solidFill>
                <a:latin typeface="Arial"/>
              </a:rPr>
              <a:t>	</a:t>
            </a:r>
            <a:r>
              <a:rPr b="0" lang="en-US" sz="900" spc="-1" strike="noStrike">
                <a:solidFill>
                  <a:srgbClr val="ff0000"/>
                </a:solidFill>
                <a:latin typeface="Arial"/>
              </a:rPr>
              <a:t>description_attribute_select&l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	</a:t>
            </a:r>
            <a:r>
              <a:rPr b="0" lang="en-US" sz="900" spc="-1" strike="noStrike">
                <a:solidFill>
                  <a:srgbClr val="ff0000"/>
                </a:solidFill>
                <a:latin typeface="Arial"/>
              </a:rPr>
              <a:t>	</a:t>
            </a:r>
            <a:r>
              <a:rPr b="0" lang="en-US" sz="900" spc="-1" strike="noStrike">
                <a:solidFill>
                  <a:srgbClr val="ff0000"/>
                </a:solidFill>
                <a:latin typeface="Arial"/>
              </a:rPr>
              <a:t>description_attribute.described_item</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	</a:t>
            </a:r>
            <a:r>
              <a:rPr b="0" lang="en-US" sz="900" spc="-1" strike="noStrike">
                <a:solidFill>
                  <a:srgbClr val="ff0000"/>
                </a:solidFill>
                <a:latin typeface="Arial"/>
              </a:rPr>
              <a:t>	</a:t>
            </a:r>
            <a:r>
              <a:rPr b="0" lang="en-US" sz="900" spc="-1" strike="noStrike">
                <a:solidFill>
                  <a:srgbClr val="ff0000"/>
                </a:solidFill>
                <a:latin typeface="Arial"/>
              </a:rPr>
              <a:t>description_attribute</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	</a:t>
            </a:r>
            <a:r>
              <a:rPr b="0" lang="en-US" sz="900" spc="-1" strike="noStrike">
                <a:solidFill>
                  <a:srgbClr val="ff0000"/>
                </a:solidFill>
                <a:latin typeface="Arial"/>
              </a:rPr>
              <a:t>	</a:t>
            </a:r>
            <a:r>
              <a:rPr b="0" lang="en-US" sz="900" spc="-1" strike="noStrike">
                <a:solidFill>
                  <a:srgbClr val="ff0000"/>
                </a:solidFill>
                <a:latin typeface="Arial"/>
              </a:rPr>
              <a:t>description_attribute.attribute_value</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 Dimensional_tolerance as Dimensional_location</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IM element:</a:t>
            </a:r>
            <a:r>
              <a:rPr b="0" lang="en-US" sz="900" spc="-1" strike="noStrike">
                <a:solidFill>
                  <a:srgbClr val="000000"/>
                </a:solidFill>
                <a:latin typeface="Arial"/>
              </a:rPr>
              <a:t>	</a:t>
            </a:r>
            <a:r>
              <a:rPr b="0" lang="en-US" sz="900" spc="-1" strike="noStrike">
                <a:solidFill>
                  <a:srgbClr val="000000"/>
                </a:solidFill>
                <a:latin typeface="Arial"/>
              </a:rPr>
              <a:t>(shape_aspect_relationship.description)</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ource:</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ISO 10303-47</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SO 10303-41</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eference Path:</a:t>
            </a:r>
            <a:r>
              <a:rPr b="0" lang="en-US" sz="900" spc="-1" strike="noStrike">
                <a:solidFill>
                  <a:srgbClr val="000000"/>
                </a:solidFill>
                <a:latin typeface="Arial"/>
              </a:rPr>
              <a:t>	</a:t>
            </a:r>
            <a:r>
              <a:rPr b="0" lang="en-US" sz="900" spc="-1" strike="noStrike">
                <a:solidFill>
                  <a:srgbClr val="000000"/>
                </a:solidFill>
                <a:latin typeface="Arial"/>
              </a:rPr>
              <a:t>shape_dimension_representation &l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dimensional_characteristic_representation.representation</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dimensional_characteristic_representation</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dimensional_characteristic_representation.dimension -&g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dimensional_characteristic</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dimensional_characteristic = dimensional_location</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dimensional_location &l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shape_aspect_relationship</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shape_aspect_relationship.descrip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224 e3 SEDS #3</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or:  Len Slovensk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Address:  Slovensky@scra.or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and Clause where Issue Originate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3.218 </a:t>
            </a:r>
            <a:r>
              <a:rPr b="0" lang="en-US" sz="2000" spc="-1" strike="noStrike">
                <a:solidFill>
                  <a:srgbClr val="ff0000"/>
                </a:solidFill>
                <a:latin typeface="Arial"/>
              </a:rPr>
              <a:t>Position_tolerance to Datu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ex G Figure G.28</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Parts Affected by the Issue: AP203e2, AP240, AP238, AP223, AP229, AP21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d Issu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Abstract/Keywords:  Positional tolerance, dat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3T12:26:41Z</dcterms:created>
  <dc:creator>Len Slovensky</dc:creator>
  <dc:description/>
  <dc:language>en-US</dc:language>
  <cp:lastModifiedBy>Len Slovensky</cp:lastModifiedBy>
  <dcterms:modified xsi:type="dcterms:W3CDTF">2006-06-26T17:16:12Z</dcterms:modified>
  <cp:revision>9</cp:revision>
  <dc:subject/>
  <dc:title>SEDS issues</dc:title>
</cp:coreProperties>
</file>