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19320" y="60912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99840" y="4398120"/>
            <a:ext cx="5598360" cy="41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93760" y="7016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397040"/>
            <a:ext cx="513072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3480" y="4354560"/>
            <a:ext cx="5129280" cy="416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lide represents the  highlights of AP224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list of items in each box represents a sample of what AP224 cont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summarize - AP224 contains everything found on a drawing of a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7C663EE-D169-4D77-9B75-C947E7E50A5D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6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0760" y="1218960"/>
            <a:ext cx="518796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AP-238 IS Walkthroug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9040" y="2998800"/>
            <a:ext cx="5173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oulouse SC4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uly 20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1143000"/>
            <a:ext cx="8245440" cy="182880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2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, PDM and Product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ocess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095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, Shape, and PD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644640" cy="1971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2840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 is a STEP product descri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owner information, approvals, dates and tim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 and material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79320" y="3346560"/>
            <a:ext cx="3559320" cy="2765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489560" y="984240"/>
            <a:ext cx="4086000" cy="3000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718160" y="4413240"/>
            <a:ext cx="379728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rmAutofit/>
          </a:bodyPr>
          <a:p>
            <a:pPr marL="2840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 uses the same STEP shape representations as AP203, AP214, AP224 and other STEP A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 by any CAD system that supports ST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00200" y="3890880"/>
            <a:ext cx="5305320" cy="2509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255080" y="5454720"/>
            <a:ext cx="122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7560" y="3886200"/>
            <a:ext cx="19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bore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und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62320" y="2819520"/>
            <a:ext cx="1688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cke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6120" y="2666880"/>
            <a:ext cx="1296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cke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at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4520" y="3886200"/>
            <a:ext cx="1004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105520"/>
            <a:ext cx="1447560" cy="583920"/>
          </a:xfrm>
          <a:custGeom>
            <a:avLst/>
            <a:gdLst/>
            <a:ahLst/>
            <a:rect l="l" t="t" r="r" b="b"/>
            <a:pathLst>
              <a:path w="720" h="224">
                <a:moveTo>
                  <a:pt x="720" y="192"/>
                </a:moveTo>
                <a:cubicBezTo>
                  <a:pt x="588" y="208"/>
                  <a:pt x="456" y="224"/>
                  <a:pt x="336" y="192"/>
                </a:cubicBezTo>
                <a:cubicBezTo>
                  <a:pt x="216" y="160"/>
                  <a:pt x="108" y="80"/>
                  <a:pt x="0" y="0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417816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528" y="8"/>
                </a:moveTo>
                <a:cubicBezTo>
                  <a:pt x="452" y="4"/>
                  <a:pt x="376" y="0"/>
                  <a:pt x="288" y="8"/>
                </a:cubicBezTo>
                <a:cubicBezTo>
                  <a:pt x="200" y="16"/>
                  <a:pt x="100" y="36"/>
                  <a:pt x="0" y="56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3295800"/>
            <a:ext cx="2998800" cy="1504800"/>
          </a:xfrm>
          <a:custGeom>
            <a:avLst/>
            <a:gdLst/>
            <a:ahLst/>
            <a:rect l="l" t="t" r="r" b="b"/>
            <a:pathLst>
              <a:path w="1889" h="948">
                <a:moveTo>
                  <a:pt x="1889" y="0"/>
                </a:moveTo>
                <a:cubicBezTo>
                  <a:pt x="1692" y="79"/>
                  <a:pt x="1020" y="320"/>
                  <a:pt x="705" y="478"/>
                </a:cubicBezTo>
                <a:cubicBezTo>
                  <a:pt x="390" y="636"/>
                  <a:pt x="180" y="797"/>
                  <a:pt x="0" y="948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3200400"/>
            <a:ext cx="1981080" cy="1447920"/>
          </a:xfrm>
          <a:custGeom>
            <a:avLst/>
            <a:gdLst/>
            <a:ahLst/>
            <a:rect l="l" t="t" r="r" b="b"/>
            <a:pathLst>
              <a:path w="1248" h="912">
                <a:moveTo>
                  <a:pt x="1248" y="0"/>
                </a:moveTo>
                <a:cubicBezTo>
                  <a:pt x="944" y="116"/>
                  <a:pt x="640" y="232"/>
                  <a:pt x="432" y="384"/>
                </a:cubicBezTo>
                <a:cubicBezTo>
                  <a:pt x="224" y="536"/>
                  <a:pt x="112" y="724"/>
                  <a:pt x="0" y="912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4419720"/>
            <a:ext cx="990360" cy="546120"/>
          </a:xfrm>
          <a:custGeom>
            <a:avLst/>
            <a:gdLst/>
            <a:ahLst/>
            <a:rect l="l" t="t" r="r" b="b"/>
            <a:pathLst>
              <a:path w="624" h="344">
                <a:moveTo>
                  <a:pt x="0" y="8"/>
                </a:moveTo>
                <a:cubicBezTo>
                  <a:pt x="116" y="4"/>
                  <a:pt x="232" y="0"/>
                  <a:pt x="336" y="56"/>
                </a:cubicBezTo>
                <a:cubicBezTo>
                  <a:pt x="440" y="112"/>
                  <a:pt x="532" y="228"/>
                  <a:pt x="624" y="344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860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198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D milling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le, pocket, slot, step, et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tion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ge round and cham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icate fe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terns of repeated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1840" y="1221840"/>
            <a:ext cx="3797280" cy="132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faces for freeform mil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ing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er round, knurl, gro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860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1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can have implicit and explicit sh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cit feature shape is a parametric description using profiles and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rameters may have plus/minus, limits and fits, max/min limit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 feature shape links geometry faces to features for visualiza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952880"/>
            <a:ext cx="4496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43200" y="4876920"/>
          <a:ext cx="37879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876920"/>
                    <a:ext cx="37879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57200" y="3581280"/>
            <a:ext cx="3809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lici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ound_hole is defined by a complete circular profile and a linear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581280"/>
            <a:ext cx="3809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lici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s to the B-REP faces on the geometry that describe the 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962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nd Final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9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-238 model can document both final feature and process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feature is on final part, from upstream, possibly from an AP-224 or AP-240 application.   As such, some features might only define a volume when combined with the sto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features are the features pointed to by workingstep. Specific to a workplan, needs full volume limit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step can also point to one or more final features that it contributes to.  Many workingsteps and process features may contribute to one final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4495680"/>
            <a:ext cx="3429000" cy="1881360"/>
          </a:xfrm>
          <a:prstGeom prst="roundRect">
            <a:avLst>
              <a:gd name="adj" fmla="val 12255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0480" y="4557600"/>
            <a:ext cx="3317760" cy="1771920"/>
          </a:xfrm>
          <a:prstGeom prst="roundRect">
            <a:avLst>
              <a:gd name="adj" fmla="val 4473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61920" y="4557600"/>
            <a:ext cx="3337200" cy="1771920"/>
            <a:chOff x="961920" y="4557600"/>
            <a:chExt cx="3337200" cy="1771920"/>
          </a:xfrm>
        </p:grpSpPr>
        <p:sp>
          <p:nvSpPr>
            <p:cNvPr id="106" name=""/>
            <p:cNvSpPr/>
            <p:nvPr/>
          </p:nvSpPr>
          <p:spPr>
            <a:xfrm>
              <a:off x="961920" y="4557600"/>
              <a:ext cx="443160" cy="44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2720" y="4557600"/>
              <a:ext cx="443160" cy="44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57760" y="5886360"/>
              <a:ext cx="441360" cy="44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74880" y="5872320"/>
              <a:ext cx="441000" cy="442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728600" y="4487760"/>
            <a:ext cx="2896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feature in </a:t>
            </a:r>
            <a:r>
              <a:rPr b="0" lang="en-US" sz="1600" spc="-1" strike="noStrike">
                <a:solidFill>
                  <a:srgbClr val="cf0e30"/>
                </a:solidFill>
                <a:latin typeface="Arial"/>
              </a:rPr>
              <a:t>red (PO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9320" y="5062680"/>
            <a:ext cx="3958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eatures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rill the corners (HO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ill out center with large tool (PO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ill remaining mate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smaller tool (FINAL PO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638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s and Geometric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30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 defining 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 linear 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 distance along a cur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n ang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 defining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ves, angle, diameter, radius, thickness, length, width, h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1840" y="1222200"/>
            <a:ext cx="3797280" cy="24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metric characteristics with datums as need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ity, circular runout, coaxiality, concentricity, cylindricity, flatness, line profile, parallelism, perpendicularity, position, roundness, straightness, surface profile, symmetry, total run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9000" y="4894200"/>
            <a:ext cx="1022400" cy="1022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44600" y="4657680"/>
            <a:ext cx="0" cy="146700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410080"/>
            <a:ext cx="1468440" cy="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938160" y="5079600"/>
            <a:ext cx="773280" cy="65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6035760"/>
            <a:ext cx="0" cy="28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95880" y="6026040"/>
            <a:ext cx="0" cy="28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6172200"/>
            <a:ext cx="1933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00280" y="4572000"/>
            <a:ext cx="203400" cy="27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81200" y="4903920"/>
            <a:ext cx="579600" cy="955440"/>
          </a:xfrm>
          <a:custGeom>
            <a:avLst/>
            <a:gdLst/>
            <a:ahLst/>
            <a:rect l="l" t="t" r="r" b="b"/>
            <a:pathLst>
              <a:path w="366" h="605">
                <a:moveTo>
                  <a:pt x="0" y="0"/>
                </a:moveTo>
                <a:cubicBezTo>
                  <a:pt x="125" y="83"/>
                  <a:pt x="250" y="167"/>
                  <a:pt x="308" y="268"/>
                </a:cubicBezTo>
                <a:cubicBezTo>
                  <a:pt x="366" y="369"/>
                  <a:pt x="337" y="531"/>
                  <a:pt x="349" y="60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724280"/>
            <a:ext cx="663480" cy="1122480"/>
          </a:xfrm>
          <a:custGeom>
            <a:avLst/>
            <a:gdLst/>
            <a:ahLst/>
            <a:rect l="l" t="t" r="r" b="b"/>
            <a:pathLst>
              <a:path w="366" h="605">
                <a:moveTo>
                  <a:pt x="0" y="0"/>
                </a:moveTo>
                <a:cubicBezTo>
                  <a:pt x="125" y="83"/>
                  <a:pt x="250" y="167"/>
                  <a:pt x="308" y="268"/>
                </a:cubicBezTo>
                <a:cubicBezTo>
                  <a:pt x="366" y="369"/>
                  <a:pt x="337" y="531"/>
                  <a:pt x="349" y="60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66920" y="5873760"/>
            <a:ext cx="39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40400" y="620712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345440" y="3668760"/>
            <a:ext cx="782640" cy="276120"/>
            <a:chOff x="7345440" y="3668760"/>
            <a:chExt cx="782640" cy="276120"/>
          </a:xfrm>
        </p:grpSpPr>
        <p:grpSp>
          <p:nvGrpSpPr>
            <p:cNvPr id="128" name=""/>
            <p:cNvGrpSpPr/>
            <p:nvPr/>
          </p:nvGrpSpPr>
          <p:grpSpPr>
            <a:xfrm>
              <a:off x="7345440" y="3668760"/>
              <a:ext cx="331920" cy="276120"/>
              <a:chOff x="7345440" y="3668760"/>
              <a:chExt cx="331920" cy="276120"/>
            </a:xfrm>
          </p:grpSpPr>
          <p:sp>
            <p:nvSpPr>
              <p:cNvPr id="129" name=""/>
              <p:cNvSpPr/>
              <p:nvPr/>
            </p:nvSpPr>
            <p:spPr>
              <a:xfrm>
                <a:off x="7345440" y="3668760"/>
                <a:ext cx="331920" cy="2761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48040" y="3742560"/>
                <a:ext cx="137160" cy="1371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345440" y="3668760"/>
              <a:ext cx="782640" cy="276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>
            <a:off x="7041960" y="3848040"/>
            <a:ext cx="277560" cy="24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7172640" y="3571200"/>
            <a:ext cx="1065240" cy="1895400"/>
          </a:xfrm>
          <a:custGeom>
            <a:avLst/>
            <a:gdLst>
              <a:gd name="textAreaLeft" fmla="*/ 187920 w 1065240"/>
              <a:gd name="textAreaRight" fmla="*/ 877320 w 1065240"/>
              <a:gd name="textAreaTop" fmla="*/ 334440 h 1895400"/>
              <a:gd name="textAreaBottom" fmla="*/ 1560960 h 189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85" y="21600"/>
                </a:lnTo>
                <a:lnTo>
                  <a:pt x="3715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4519440"/>
            <a:ext cx="3380040" cy="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58080" y="3870360"/>
            <a:ext cx="0" cy="123516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407360" y="3695760"/>
            <a:ext cx="92160" cy="18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539120" y="3753000"/>
            <a:ext cx="92160" cy="18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4091040"/>
            <a:ext cx="698400" cy="84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76800" y="5475240"/>
            <a:ext cx="2200320" cy="809640"/>
          </a:xfrm>
          <a:custGeom>
            <a:avLst/>
            <a:gdLst/>
            <a:ahLst/>
            <a:rect l="l" t="t" r="r" b="b"/>
            <a:pathLst>
              <a:path w="1390" h="512">
                <a:moveTo>
                  <a:pt x="1390" y="17"/>
                </a:moveTo>
                <a:lnTo>
                  <a:pt x="1390" y="512"/>
                </a:lnTo>
                <a:lnTo>
                  <a:pt x="0" y="512"/>
                </a:lnTo>
                <a:lnTo>
                  <a:pt x="0" y="29"/>
                </a:lnTo>
                <a:lnTo>
                  <a:pt x="110" y="41"/>
                </a:lnTo>
                <a:lnTo>
                  <a:pt x="180" y="17"/>
                </a:lnTo>
                <a:lnTo>
                  <a:pt x="215" y="52"/>
                </a:lnTo>
                <a:lnTo>
                  <a:pt x="297" y="6"/>
                </a:lnTo>
                <a:lnTo>
                  <a:pt x="378" y="29"/>
                </a:lnTo>
                <a:lnTo>
                  <a:pt x="465" y="29"/>
                </a:lnTo>
                <a:lnTo>
                  <a:pt x="617" y="6"/>
                </a:lnTo>
                <a:lnTo>
                  <a:pt x="651" y="35"/>
                </a:lnTo>
                <a:lnTo>
                  <a:pt x="774" y="0"/>
                </a:lnTo>
                <a:lnTo>
                  <a:pt x="820" y="46"/>
                </a:lnTo>
                <a:lnTo>
                  <a:pt x="855" y="11"/>
                </a:lnTo>
                <a:lnTo>
                  <a:pt x="890" y="29"/>
                </a:lnTo>
                <a:lnTo>
                  <a:pt x="989" y="41"/>
                </a:lnTo>
                <a:lnTo>
                  <a:pt x="1001" y="6"/>
                </a:lnTo>
                <a:lnTo>
                  <a:pt x="1047" y="29"/>
                </a:lnTo>
                <a:lnTo>
                  <a:pt x="1129" y="23"/>
                </a:lnTo>
                <a:lnTo>
                  <a:pt x="1158" y="46"/>
                </a:lnTo>
                <a:lnTo>
                  <a:pt x="1233" y="23"/>
                </a:lnTo>
                <a:lnTo>
                  <a:pt x="1297" y="17"/>
                </a:lnTo>
                <a:lnTo>
                  <a:pt x="1390" y="17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19880" y="5027760"/>
            <a:ext cx="331920" cy="27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96200" y="5095800"/>
            <a:ext cx="188640" cy="150840"/>
          </a:xfrm>
          <a:prstGeom prst="parallelogram">
            <a:avLst>
              <a:gd name="adj" fmla="val 31265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19880" y="5027760"/>
            <a:ext cx="782640" cy="27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87960" y="5173560"/>
            <a:ext cx="27792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908520" y="5130720"/>
            <a:ext cx="1094760" cy="277560"/>
            <a:chOff x="3908520" y="5130720"/>
            <a:chExt cx="1094760" cy="277560"/>
          </a:xfrm>
        </p:grpSpPr>
        <p:sp>
          <p:nvSpPr>
            <p:cNvPr id="145" name=""/>
            <p:cNvSpPr/>
            <p:nvPr/>
          </p:nvSpPr>
          <p:spPr>
            <a:xfrm>
              <a:off x="4671000" y="5130720"/>
              <a:ext cx="3322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08520" y="5132160"/>
              <a:ext cx="783360" cy="276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08520" y="5132160"/>
              <a:ext cx="332280" cy="276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983760" y="5177880"/>
              <a:ext cx="91800" cy="1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069800" y="5177880"/>
              <a:ext cx="91440" cy="1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80200" y="6384600"/>
            <a:ext cx="291960" cy="18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54760" y="5318280"/>
            <a:ext cx="322200" cy="17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9811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D&amp;T and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09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D&amp;T definitions are harmonized across all design and manufacturing A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monized across AP-214, AP-224, AP-240, and AP-203e2, which uses Modules 1050 and 1051.   Will also be going into AP-219 and other A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238 measure values and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 shape and measure parameters can specify their units, as in all other A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 tolerances can be used for any quantity, not just lengths.   Now available for angles, speed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 14649 did not allow choice of units.  (mm, deg, m/s only) and parameter tolerances limited to length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2895480"/>
            <a:ext cx="8245440" cy="182880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2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, PDM and Product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ocess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13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62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eart of the STEP-NC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ns containing a sequence of workingste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workingstep associates an operation with a feature somewhere on the workpie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peration describes what to do (mill/drill/turn, toolpaths), tool requirements, strategies and parameter settings to u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formation than M and G codes.  Linked with geometric and technological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 can be grouped and shared, e. g. tools, feed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s specified in STEP geometry in part sp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shape and feature descriptions could be used by intelligent NC controllers for collision detection or even to calculate some tool mov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13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87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place, defines setup and main work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control flow and sequenc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step associates an operation and a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what a workingstep does — plane mill, center drill, contour turning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sis for all technology-specific exten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details li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ndle, feedrate and other technology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lant &amp; other machine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paths, plunge strategie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0509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535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AP238 ready for ISO pub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d with resolutions for all DIS comments, as developed at Valencia June 2005 meeting (see wg3n209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ing up a couple of things in informative anne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enerating ARM &amp; AIM EXPRESS-G diagra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ng CC1 and CC2 P21 examples to Annex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4 checklists, send to ISO for publication ~2 weeks after Toulouse mee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238 IS Doc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g3n2101 AP-238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g3n2096 EXPRESS short form sch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g3n2097 EXPRESS long form sch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g3n2099 Issue l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g3n2098 AP validation re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g3n2100 SEDS on ISO 14649 parts to SC1/WG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838080"/>
            <a:ext cx="4448160" cy="563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8680" y="1563840"/>
            <a:ext cx="1046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9760" y="2271960"/>
            <a:ext cx="105732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6800" y="2271600"/>
            <a:ext cx="87948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27640" y="2271960"/>
            <a:ext cx="1135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2" idx="2"/>
            <a:endCxn id="165" idx="0"/>
          </p:cNvCxnSpPr>
          <p:nvPr/>
        </p:nvCxnSpPr>
        <p:spPr>
          <a:xfrm flipH="1" rot="16200000">
            <a:off x="2082600" y="2041200"/>
            <a:ext cx="423000" cy="3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2" idx="2"/>
            <a:endCxn id="163" idx="0"/>
          </p:cNvCxnSpPr>
          <p:nvPr/>
        </p:nvCxnSpPr>
        <p:spPr>
          <a:xfrm flipH="1" rot="16200000">
            <a:off x="2803320" y="1319760"/>
            <a:ext cx="423000" cy="14468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2" idx="2"/>
            <a:endCxn id="164" idx="0"/>
          </p:cNvCxnSpPr>
          <p:nvPr/>
        </p:nvCxnSpPr>
        <p:spPr>
          <a:xfrm rot="5400000">
            <a:off x="1403280" y="1365120"/>
            <a:ext cx="423000" cy="1356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2496600" y="3094200"/>
            <a:ext cx="19980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 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98040" y="3513600"/>
            <a:ext cx="14616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m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96240" y="3932640"/>
            <a:ext cx="1265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ch prob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5" idx="2"/>
            <a:endCxn id="169" idx="1"/>
          </p:cNvCxnSpPr>
          <p:nvPr/>
        </p:nvCxnSpPr>
        <p:spPr>
          <a:xfrm flipH="1" rot="16200000">
            <a:off x="2049120" y="2784960"/>
            <a:ext cx="68004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987480" y="873360"/>
            <a:ext cx="258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Execu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5" idx="2"/>
            <a:endCxn id="170" idx="1"/>
          </p:cNvCxnSpPr>
          <p:nvPr/>
        </p:nvCxnSpPr>
        <p:spPr>
          <a:xfrm flipH="1" rot="16200000">
            <a:off x="1839600" y="2994480"/>
            <a:ext cx="109908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65" idx="2"/>
            <a:endCxn id="171" idx="1"/>
          </p:cNvCxnSpPr>
          <p:nvPr/>
        </p:nvCxnSpPr>
        <p:spPr>
          <a:xfrm flipH="1" rot="16200000">
            <a:off x="1629360" y="3204720"/>
            <a:ext cx="1518120" cy="1882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181480" y="1296000"/>
            <a:ext cx="365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do not move any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splay message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294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 and Sequen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80200" y="530244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flow for the machin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1828800"/>
            <a:ext cx="121932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528" y="0"/>
                </a:moveTo>
                <a:cubicBezTo>
                  <a:pt x="332" y="80"/>
                  <a:pt x="136" y="160"/>
                  <a:pt x="96" y="192"/>
                </a:cubicBezTo>
                <a:cubicBezTo>
                  <a:pt x="56" y="224"/>
                  <a:pt x="304" y="168"/>
                  <a:pt x="288" y="192"/>
                </a:cubicBezTo>
                <a:cubicBezTo>
                  <a:pt x="272" y="216"/>
                  <a:pt x="136" y="276"/>
                  <a:pt x="0" y="336"/>
                </a:cubicBezTo>
              </a:path>
            </a:pathLst>
          </a:custGeom>
          <a:noFill/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876920"/>
            <a:ext cx="838080" cy="1523880"/>
          </a:xfrm>
          <a:custGeom>
            <a:avLst/>
            <a:gdLst>
              <a:gd name="textAreaLeft" fmla="*/ 0 w 838080"/>
              <a:gd name="textAreaRight" fmla="*/ 302760 w 838080"/>
              <a:gd name="textAreaTop" fmla="*/ 77040 h 1523880"/>
              <a:gd name="textAreaBottom" fmla="*/ 1446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8"/>
                  <a:pt x="10800" y="3496"/>
                </a:cubicBezTo>
                <a:lnTo>
                  <a:pt x="10800" y="7304"/>
                </a:lnTo>
                <a:cubicBezTo>
                  <a:pt x="10800" y="9052"/>
                  <a:pt x="16200" y="10800"/>
                  <a:pt x="21600" y="10800"/>
                </a:cubicBezTo>
                <a:cubicBezTo>
                  <a:pt x="16200" y="10800"/>
                  <a:pt x="10800" y="12548"/>
                  <a:pt x="10800" y="14296"/>
                </a:cubicBezTo>
                <a:lnTo>
                  <a:pt x="10800" y="18104"/>
                </a:lnTo>
                <a:cubicBezTo>
                  <a:pt x="10800" y="1985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8440" y="4961160"/>
            <a:ext cx="896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8440" y="5364360"/>
            <a:ext cx="757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5920" y="5767560"/>
            <a:ext cx="11566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64" idx="2"/>
            <a:endCxn id="181" idx="1"/>
          </p:cNvCxnSpPr>
          <p:nvPr/>
        </p:nvCxnSpPr>
        <p:spPr>
          <a:xfrm flipH="1" rot="16200000">
            <a:off x="-17640" y="3706200"/>
            <a:ext cx="23346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64" idx="2"/>
            <a:endCxn id="182" idx="1"/>
          </p:cNvCxnSpPr>
          <p:nvPr/>
        </p:nvCxnSpPr>
        <p:spPr>
          <a:xfrm flipH="1" rot="16200000">
            <a:off x="-219240" y="3907800"/>
            <a:ext cx="27378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64" idx="2"/>
            <a:endCxn id="183" idx="1"/>
          </p:cNvCxnSpPr>
          <p:nvPr/>
        </p:nvCxnSpPr>
        <p:spPr>
          <a:xfrm flipH="1" rot="16200000">
            <a:off x="-420840" y="4109400"/>
            <a:ext cx="31410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1375920" y="6170760"/>
            <a:ext cx="1472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64" idx="2"/>
            <a:endCxn id="187" idx="1"/>
          </p:cNvCxnSpPr>
          <p:nvPr/>
        </p:nvCxnSpPr>
        <p:spPr>
          <a:xfrm flipH="1" rot="16200000">
            <a:off x="-622440" y="4311000"/>
            <a:ext cx="35442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380200" y="332136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895480"/>
            <a:ext cx="838080" cy="1447920"/>
          </a:xfrm>
          <a:custGeom>
            <a:avLst/>
            <a:gdLst>
              <a:gd name="textAreaLeft" fmla="*/ 0 w 838080"/>
              <a:gd name="textAreaRight" fmla="*/ 302760 w 838080"/>
              <a:gd name="textAreaTop" fmla="*/ 81000 h 1447920"/>
              <a:gd name="textAreaBottom" fmla="*/ 13669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1"/>
                  <a:pt x="10800" y="3861"/>
                </a:cubicBezTo>
                <a:lnTo>
                  <a:pt x="10800" y="6939"/>
                </a:lnTo>
                <a:cubicBezTo>
                  <a:pt x="10800" y="8870"/>
                  <a:pt x="16200" y="10800"/>
                  <a:pt x="21600" y="10800"/>
                </a:cubicBezTo>
                <a:cubicBezTo>
                  <a:pt x="16200" y="10800"/>
                  <a:pt x="10800" y="12731"/>
                  <a:pt x="10800" y="14661"/>
                </a:cubicBezTo>
                <a:lnTo>
                  <a:pt x="10800" y="17739"/>
                </a:lnTo>
                <a:cubicBezTo>
                  <a:pt x="10800" y="1967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2819520" y="3962520"/>
          <a:ext cx="349236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962520"/>
                    <a:ext cx="34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935760" y="6359400"/>
            <a:ext cx="1940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gram 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454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48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for explicit control of the tool motion for an op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splines or other curves to describe motion and feedra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escribe path as machine independent motion of tool center point or tool contact poi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also describe path using old-style machine dependent motion of individual ax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4724280"/>
            <a:ext cx="8245440" cy="182880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2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, PDM and Product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ocess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925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529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lling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lling, boring, back boring, tapping/threa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 moves in the Z axis on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strategy parame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D Machining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 and side milling, roughing and finish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 can move XY or along Z, but not at the same tim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form Machining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sculpted su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, 4, and 5axis mo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800600" y="2590920"/>
          <a:ext cx="399240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590920"/>
                    <a:ext cx="39924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038480" y="4572000"/>
          <a:ext cx="4907160" cy="177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572000"/>
                    <a:ext cx="490716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553080" y="1295280"/>
            <a:ext cx="152640" cy="457200"/>
          </a:xfrm>
          <a:prstGeom prst="rect">
            <a:avLst/>
          </a:prstGeom>
          <a:solidFill>
            <a:srgbClr val="67676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095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412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ing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ouring, facing, grooving, threading and knurl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ghing and finishing for ea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Future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underway in SC1 to describe operations for EDM, contour cutting of wood and glass, grind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to future AP-238 editions when matur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3657600"/>
          <a:ext cx="4030560" cy="20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657600"/>
                    <a:ext cx="403056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rot="5400000">
            <a:off x="5333400" y="1676160"/>
            <a:ext cx="990720" cy="129564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6553080" y="1676160"/>
            <a:ext cx="685800" cy="1295280"/>
          </a:xfrm>
          <a:prstGeom prst="can">
            <a:avLst>
              <a:gd name="adj" fmla="val 18134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700000">
            <a:off x="6553440" y="1676160"/>
            <a:ext cx="152280" cy="15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848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and Turning Cutting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77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operation can have a tool associ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tool requirements, not a physical tool on a mach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for some optimization by the controll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&amp;M codes just referenced tool #1, #2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must make sure that #1 corresponds to the right th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 not able to add any value to the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848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and Turning Cutting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48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out characteristic tool paramet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mills, facemill, ball endmill, bullnose endmill, side mill, tslot, tapered, dovetail, thread mi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lls, centerdrill, twist, tapered, or spade drills, combined drill and reamer or t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ing and reaming tools, tapered reamer, counterbore, counters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, grooving and knurling tools, taps and th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14600" y="4038480"/>
            <a:ext cx="43876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90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5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t to d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 updating ARM &amp; AIM EXPRESS-G diagra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CC1 and CC2 examples for Annex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 through checklists and WG3 signoff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o ISO for publication ~2 weeks after Toulouse mee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419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OMAC Testing Foru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1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AP-238 testing activities in conjunction with OMAC STEP-NC working grou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2005 forum in Orlando focused on 5axis testing with cutter location paths, four data sources and two controls configured for different machine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5 Eastec demonstration of closed-loop tests with cutter contact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141640" y="3544920"/>
            <a:ext cx="4808160" cy="3083760"/>
            <a:chOff x="2141640" y="3544920"/>
            <a:chExt cx="4808160" cy="3083760"/>
          </a:xfrm>
        </p:grpSpPr>
        <p:cxnSp>
          <p:nvCxnSpPr>
            <p:cNvPr id="223" name=""/>
            <p:cNvCxnSpPr/>
            <p:nvPr/>
          </p:nvCxnSpPr>
          <p:spPr>
            <a:xfrm>
              <a:off x="2742840" y="4287600"/>
              <a:ext cx="86328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4" name=""/>
            <p:cNvCxnSpPr/>
            <p:nvPr/>
          </p:nvCxnSpPr>
          <p:spPr>
            <a:xfrm flipH="1">
              <a:off x="3603600" y="4287600"/>
              <a:ext cx="22500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5" name=""/>
            <p:cNvCxnSpPr/>
            <p:nvPr/>
          </p:nvCxnSpPr>
          <p:spPr>
            <a:xfrm flipH="1">
              <a:off x="3603960" y="4287600"/>
              <a:ext cx="135792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6" name=""/>
            <p:cNvCxnSpPr/>
            <p:nvPr/>
          </p:nvCxnSpPr>
          <p:spPr>
            <a:xfrm>
              <a:off x="4962600" y="4287600"/>
              <a:ext cx="56808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"/>
            <p:cNvCxnSpPr/>
            <p:nvPr/>
          </p:nvCxnSpPr>
          <p:spPr>
            <a:xfrm>
              <a:off x="2742480" y="4287600"/>
              <a:ext cx="278820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"/>
            <p:cNvCxnSpPr/>
            <p:nvPr/>
          </p:nvCxnSpPr>
          <p:spPr>
            <a:xfrm>
              <a:off x="3828600" y="4287600"/>
              <a:ext cx="170208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"/>
            <p:cNvCxnSpPr/>
            <p:nvPr/>
          </p:nvCxnSpPr>
          <p:spPr>
            <a:xfrm flipH="1">
              <a:off x="3603600" y="4288320"/>
              <a:ext cx="2748600" cy="1264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0" name=""/>
            <p:cNvCxnSpPr/>
            <p:nvPr/>
          </p:nvCxnSpPr>
          <p:spPr>
            <a:xfrm flipH="1">
              <a:off x="5529960" y="4288320"/>
              <a:ext cx="822960" cy="1264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141640" y="3577320"/>
              <a:ext cx="842040" cy="61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3339360" y="3570480"/>
              <a:ext cx="78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3"/>
            <a:stretch/>
          </p:blipFill>
          <p:spPr>
            <a:xfrm>
              <a:off x="4386960" y="3813480"/>
              <a:ext cx="1247760" cy="31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4"/>
            <a:stretch/>
          </p:blipFill>
          <p:spPr>
            <a:xfrm>
              <a:off x="5979960" y="3544920"/>
              <a:ext cx="969840" cy="67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"/>
            <p:cNvGrpSpPr/>
            <p:nvPr/>
          </p:nvGrpSpPr>
          <p:grpSpPr>
            <a:xfrm>
              <a:off x="3246120" y="5600160"/>
              <a:ext cx="693000" cy="1028520"/>
              <a:chOff x="3246120" y="5600160"/>
              <a:chExt cx="693000" cy="1028520"/>
            </a:xfrm>
          </p:grpSpPr>
          <p:pic>
            <p:nvPicPr>
              <p:cNvPr id="23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6120" y="5600160"/>
                <a:ext cx="64332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5960" y="6423120"/>
                <a:ext cx="443160" cy="205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" name=""/>
            <p:cNvGrpSpPr/>
            <p:nvPr/>
          </p:nvGrpSpPr>
          <p:grpSpPr>
            <a:xfrm>
              <a:off x="5231520" y="5663160"/>
              <a:ext cx="1010160" cy="749160"/>
              <a:chOff x="5231520" y="5663160"/>
              <a:chExt cx="1010160" cy="749160"/>
            </a:xfrm>
          </p:grpSpPr>
          <p:pic>
            <p:nvPicPr>
              <p:cNvPr id="23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31520" y="5663160"/>
                <a:ext cx="799560" cy="7156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240" name=""/>
              <p:cNvGraphicFramePr/>
              <p:nvPr/>
            </p:nvGraphicFramePr>
            <p:xfrm>
              <a:off x="5657760" y="6244920"/>
              <a:ext cx="583920" cy="1674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41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657760" y="6244920"/>
                        <a:ext cx="583920" cy="16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42" name=""/>
            <p:cNvSpPr/>
            <p:nvPr/>
          </p:nvSpPr>
          <p:spPr>
            <a:xfrm>
              <a:off x="4065840" y="4762080"/>
              <a:ext cx="9554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-2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369080" y="5653080"/>
            <a:ext cx="146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Tool T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90440" y="5653080"/>
            <a:ext cx="1581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 Table T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419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OMAC Testing Foru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6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d test articles in 5-axis machining tests at Boeing and NIST using AP-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 979 circle/diamond/square with inverted c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tive aerospace part with 1-2degree inclines and tightly constrained positioning ho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8030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6082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9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updated with resolutions to all DIS ballot com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d DIS ballot workshop, Valencia June 2005, developed resolutions for all com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resolution discussion slides (wg3n2095) and issue log (wg3n2099) for all deta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s catego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 between AP-238, ISO 14649, the STEP manufacturing suite APs and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monization of information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document wording and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ng information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age clarifications need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and EXPRESS bu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orial bu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4401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Demonst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2006 Industry Day 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 demonstration of 5-axis milling of aerospace test parts provided by Airbu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050920" y="2508120"/>
            <a:ext cx="507708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4750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Test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d archive of AP-238 machining test data sets for distribution to future tes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~100 data sets spanning a variety of machining programs with STP files, screen dumps, reports and suc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1 and CC2 files, simple 2.5D as well as multi-axis paths, surfacing and high-speed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3276720"/>
          <a:ext cx="8273880" cy="31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8273880" cy="31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521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 Resolution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48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between AP-238, ISO 14649, STEP manufacturing suite APs, and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rified wording where possible, added many NOTEs, under the following constra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4 boilerplate text could not be changed without SC4 resolu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rmative scope that was approved could not be changed without another DIS ballot cyc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521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 Resolution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38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monization of information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d to published versions of ISO 14649-10, 11, 12, 111, and 121 docu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tool model in 111/121 had changed quite a bit from FDIS versions used in AP238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d mappings to match new model, but the AIM representation remained simil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usion between Aachen and Geneva over P111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SO 14649 issues discovered during testing and AP development have been documented as SEDS report for SC1/WG7 (see wg3n2100)   Issue resolutions included in AP238 for publication in this edi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dded to future editions of ISO 14649, future editions of AP238 can just reference instead of maintaining two copies of the definition (as we did with AIC52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521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 Resolution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1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document wording and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Os to clause 4.2 to make the contents of the document easier to gras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ed AOs have a normative reference to the ISO 14649 document and an informative note with express descrip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ex K has been reworked with annotated AIM examples for the 14649 P11 and P12 examples, CC1 and CC2 examp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521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 Resolution 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64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information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ed as SEDS report for SC1/WG7 for inclusion into ISO 14649 (see wg3n2100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roughing and finishing for freeform mi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assumed machine tool characteristics based on machine_parameters from AP24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tool_usage to link tool requirements to actual tool.   Based on AP240 with carousel id, and tool position, reference to product or PLIB entries for too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d DIS tool_holder_profile as redund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AP224/240 general surface, part, etc properti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workpiece PDM fields and toolpath ID fiel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volume, area, mass measures to support the CAD geometric validation proper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support for full range of shape representatio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521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 Resolution (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61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ge clarification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anded “Fundamental Concepts and Operation” section with additional discussion and examples for all measures, contexts, toolpath geometry details, and additional feature discus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d the number of diagrams in the main body (21-&gt;4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ping and EXPRESS bu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d AIM to latest IRs (p41e3 and aic522e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ning mapping paths through check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with AP224 and AP203 data sets identified several small mapping issues with features, pdm, and shap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itorial bu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fixes to the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enerating EXPRESS-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222800" y="3214800"/>
            <a:ext cx="22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91120" y="3039480"/>
            <a:ext cx="1083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87880" y="4634640"/>
            <a:ext cx="462204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22240" y="3039840"/>
            <a:ext cx="11232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351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kthrough of AP-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6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pulls together machining process, tool requirement, geometry, tolerances, and PD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with process and tools described by ISO 14649 pa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STEP PDM, Geometry, and Tolerances, and integrate so that features and all other data can be shared across A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3840" y="4038480"/>
            <a:ext cx="4550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STEP GD&amp;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M and Product Geome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Common to all 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cp:keywords/>
  <dc:language>en-US</dc:language>
  <cp:lastModifiedBy>Martin Hardwick</cp:lastModifiedBy>
  <cp:lastPrinted>2001-08-16T01:33:48Z</cp:lastPrinted>
  <dcterms:modified xsi:type="dcterms:W3CDTF">2006-06-27T12:29:42Z</dcterms:modified>
  <cp:revision>682</cp:revision>
  <dc:subject/>
  <dc:title>STEP-NC Feature Harmonization</dc:title>
</cp:coreProperties>
</file>