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steptool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178D34A-5730-4395-8938-5BDD8898FF3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90080" y="6477120"/>
            <a:ext cx="106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 u="sng">
                <a:solidFill>
                  <a:srgbClr val="009688"/>
                </a:solidFill>
                <a:uFillTx/>
                <a:latin typeface="Arial"/>
                <a:hlinkClick r:id="rId3"/>
              </a:rPr>
              <a:t>www.steptool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6240" y="6397560"/>
            <a:ext cx="10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olpath walkthr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rsion 3.0 7/31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1520" y="887400"/>
            <a:ext cx="577224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Describing Toolpaths in an AP-238 CC1 f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5800" y="3665520"/>
            <a:ext cx="38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803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_technology (feed and spe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12240"/>
            <a:ext cx="320040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AP-238 CC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milling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120" y="372420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7480" y="242892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5360" y="4236120"/>
            <a:ext cx="23104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feedrat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11" idx="2"/>
            <a:endCxn id="206" idx="0"/>
          </p:cNvCxnSpPr>
          <p:nvPr/>
        </p:nvCxnSpPr>
        <p:spPr>
          <a:xfrm flipH="1">
            <a:off x="4342680" y="2413080"/>
            <a:ext cx="540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551840" y="151452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2040" y="5531400"/>
            <a:ext cx="32324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0"/>
            <a:endCxn id="209" idx="2"/>
          </p:cNvCxnSpPr>
          <p:nvPr/>
        </p:nvCxnSpPr>
        <p:spPr>
          <a:xfrm flipV="1">
            <a:off x="2459160" y="4895280"/>
            <a:ext cx="2160" cy="63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609280" y="50641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9960" y="1134000"/>
            <a:ext cx="2104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1" idx="0"/>
            <a:endCxn id="216" idx="2"/>
          </p:cNvCxnSpPr>
          <p:nvPr/>
        </p:nvCxnSpPr>
        <p:spPr>
          <a:xfrm flipH="1" flipV="1">
            <a:off x="4331880" y="1469520"/>
            <a:ext cx="16560" cy="26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9" idx="0"/>
            <a:endCxn id="206" idx="2"/>
          </p:cNvCxnSpPr>
          <p:nvPr/>
        </p:nvCxnSpPr>
        <p:spPr>
          <a:xfrm flipH="1" flipV="1" rot="5400000">
            <a:off x="3132000" y="3004560"/>
            <a:ext cx="540360" cy="1883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181120" y="372420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3240" y="4236120"/>
            <a:ext cx="23104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spindle spee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64600" y="5531400"/>
            <a:ext cx="32324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1" idx="0"/>
            <a:endCxn id="220" idx="2"/>
          </p:cNvCxnSpPr>
          <p:nvPr/>
        </p:nvCxnSpPr>
        <p:spPr>
          <a:xfrm flipH="1" flipV="1">
            <a:off x="6377760" y="4895280"/>
            <a:ext cx="3960" cy="63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571800" y="50641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0" idx="0"/>
            <a:endCxn id="206" idx="2"/>
          </p:cNvCxnSpPr>
          <p:nvPr/>
        </p:nvCxnSpPr>
        <p:spPr>
          <a:xfrm flipV="1" rot="16200000">
            <a:off x="5090400" y="2928240"/>
            <a:ext cx="540360" cy="20358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2529000" y="1753200"/>
            <a:ext cx="363636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‘coolant valu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473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rat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33000" y="3845520"/>
            <a:ext cx="394092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eed_speed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feed spee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15600" y="331776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840" y="4921920"/>
            <a:ext cx="287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i="1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feed speed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alue_component =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nit_component = inches per min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30" idx="2"/>
            <a:endCxn id="226" idx="0"/>
          </p:cNvCxnSpPr>
          <p:nvPr/>
        </p:nvCxnSpPr>
        <p:spPr>
          <a:xfrm>
            <a:off x="3195720" y="3200040"/>
            <a:ext cx="8640" cy="626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3391920" y="22003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0"/>
            <a:endCxn id="233" idx="2"/>
          </p:cNvCxnSpPr>
          <p:nvPr/>
        </p:nvCxnSpPr>
        <p:spPr>
          <a:xfrm flipH="1" flipV="1">
            <a:off x="3180960" y="1936080"/>
            <a:ext cx="1512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323800" y="1600920"/>
            <a:ext cx="17128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8600" y="254088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action_property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26040" y="3931200"/>
            <a:ext cx="281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20=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6" idx="3"/>
            <a:endCxn id="234" idx="1"/>
          </p:cNvCxnSpPr>
          <p:nvPr/>
        </p:nvCxnSpPr>
        <p:spPr>
          <a:xfrm>
            <a:off x="5197320" y="4088880"/>
            <a:ext cx="82944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6" idx="2"/>
            <a:endCxn id="228" idx="0"/>
          </p:cNvCxnSpPr>
          <p:nvPr/>
        </p:nvCxnSpPr>
        <p:spPr>
          <a:xfrm flipH="1">
            <a:off x="3191760" y="4352400"/>
            <a:ext cx="11880" cy="56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3354480" y="4527720"/>
            <a:ext cx="72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65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speed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7400" y="3819960"/>
            <a:ext cx="423360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spindle_speed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spindle spee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3760" y="331776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160" y="4998240"/>
            <a:ext cx="287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me = ‘</a:t>
            </a:r>
            <a:r>
              <a:rPr b="0" i="1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rotational speed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alue_component =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nit_component = revolutions per min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2"/>
            <a:endCxn id="239" idx="0"/>
          </p:cNvCxnSpPr>
          <p:nvPr/>
        </p:nvCxnSpPr>
        <p:spPr>
          <a:xfrm flipH="1">
            <a:off x="3274560" y="3200040"/>
            <a:ext cx="16560" cy="60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472920" y="22003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3" idx="0"/>
            <a:endCxn id="246" idx="2"/>
          </p:cNvCxnSpPr>
          <p:nvPr/>
        </p:nvCxnSpPr>
        <p:spPr>
          <a:xfrm flipV="1">
            <a:off x="3290760" y="1936080"/>
            <a:ext cx="720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439720" y="1600920"/>
            <a:ext cx="17128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4000" y="254088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action_property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67520" y="3886920"/>
            <a:ext cx="281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20=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39" idx="3"/>
            <a:endCxn id="247" idx="1"/>
          </p:cNvCxnSpPr>
          <p:nvPr/>
        </p:nvCxnSpPr>
        <p:spPr>
          <a:xfrm flipV="1">
            <a:off x="5415120" y="4053600"/>
            <a:ext cx="75312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9" idx="2"/>
            <a:endCxn id="241" idx="0"/>
          </p:cNvCxnSpPr>
          <p:nvPr/>
        </p:nvCxnSpPr>
        <p:spPr>
          <a:xfrm flipH="1">
            <a:off x="3268080" y="4327200"/>
            <a:ext cx="6840" cy="670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430800" y="4527720"/>
            <a:ext cx="72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414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_functions (cool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5400" y="2940840"/>
            <a:ext cx="221760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AP-238 CC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milling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3840" y="389556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200" y="258120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1400" y="4236120"/>
            <a:ext cx="26074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coolan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machining_workingstep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5" idx="0"/>
            <a:endCxn id="252" idx="2"/>
          </p:cNvCxnSpPr>
          <p:nvPr/>
        </p:nvCxnSpPr>
        <p:spPr>
          <a:xfrm flipH="1" flipV="1">
            <a:off x="4174560" y="3904920"/>
            <a:ext cx="51480" cy="311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3149640" y="1166040"/>
            <a:ext cx="2104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9" idx="2"/>
            <a:endCxn id="252" idx="0"/>
          </p:cNvCxnSpPr>
          <p:nvPr/>
        </p:nvCxnSpPr>
        <p:spPr>
          <a:xfrm flipH="1">
            <a:off x="4174560" y="2520720"/>
            <a:ext cx="13320" cy="400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9" idx="0"/>
            <a:endCxn id="257" idx="2"/>
          </p:cNvCxnSpPr>
          <p:nvPr/>
        </p:nvCxnSpPr>
        <p:spPr>
          <a:xfrm flipV="1">
            <a:off x="4187880" y="1501200"/>
            <a:ext cx="15120" cy="34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4421880" y="162252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4520" y="5531400"/>
            <a:ext cx="32324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55" idx="2"/>
          </p:cNvCxnSpPr>
          <p:nvPr/>
        </p:nvCxnSpPr>
        <p:spPr>
          <a:xfrm flipV="1">
            <a:off x="4211640" y="4895280"/>
            <a:ext cx="15120" cy="63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344480" y="50641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53400" y="1861200"/>
            <a:ext cx="346716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coolant valu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35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la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31600" y="3515400"/>
            <a:ext cx="158940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coolan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36280" y="320040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96760" y="4455360"/>
            <a:ext cx="33008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e_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shared constan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coolant on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66" idx="0"/>
          </p:cNvCxnSpPr>
          <p:nvPr/>
        </p:nvCxnSpPr>
        <p:spPr>
          <a:xfrm flipH="1">
            <a:off x="3427200" y="3057120"/>
            <a:ext cx="360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3553920" y="213372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0" idx="0"/>
            <a:endCxn id="273" idx="2"/>
          </p:cNvCxnSpPr>
          <p:nvPr/>
        </p:nvCxnSpPr>
        <p:spPr>
          <a:xfrm flipV="1">
            <a:off x="3430080" y="1860120"/>
            <a:ext cx="198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592360" y="1524600"/>
            <a:ext cx="17128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13680" y="239796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action_property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action_property.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5160" y="3582000"/>
            <a:ext cx="281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20=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6" idx="3"/>
            <a:endCxn id="274" idx="1"/>
          </p:cNvCxnSpPr>
          <p:nvPr/>
        </p:nvCxnSpPr>
        <p:spPr>
          <a:xfrm flipV="1">
            <a:off x="4241880" y="3749400"/>
            <a:ext cx="140400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6" idx="2"/>
            <a:endCxn id="268" idx="0"/>
          </p:cNvCxnSpPr>
          <p:nvPr/>
        </p:nvCxnSpPr>
        <p:spPr>
          <a:xfrm>
            <a:off x="3427200" y="4022280"/>
            <a:ext cx="20880" cy="41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3512880" y="4114800"/>
            <a:ext cx="73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42760" y="4495680"/>
            <a:ext cx="17492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description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coolant off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9493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53280" y="1838880"/>
            <a:ext cx="23803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speed profil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8720" y="1067400"/>
            <a:ext cx="2104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5040" y="152388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0" idx="0"/>
            <a:endCxn id="281" idx="2"/>
          </p:cNvCxnSpPr>
          <p:nvPr/>
        </p:nvCxnSpPr>
        <p:spPr>
          <a:xfrm flipV="1">
            <a:off x="3943440" y="1402920"/>
            <a:ext cx="8640" cy="41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562720" y="1905120"/>
            <a:ext cx="20574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speeds are ignored if the path has this proper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990720"/>
            <a:ext cx="2057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path that is to be RAPI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73040" y="4226400"/>
            <a:ext cx="158940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rapi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77720" y="387684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30280" y="5293440"/>
            <a:ext cx="33008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e_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constan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rapi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2"/>
            <a:endCxn id="286" idx="0"/>
          </p:cNvCxnSpPr>
          <p:nvPr/>
        </p:nvCxnSpPr>
        <p:spPr>
          <a:xfrm>
            <a:off x="3954240" y="3743280"/>
            <a:ext cx="14760" cy="464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5219640" y="4312440"/>
            <a:ext cx="281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20=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6" idx="3"/>
            <a:endCxn id="291" idx="1"/>
          </p:cNvCxnSpPr>
          <p:nvPr/>
        </p:nvCxnSpPr>
        <p:spPr>
          <a:xfrm>
            <a:off x="4782600" y="4470480"/>
            <a:ext cx="43740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6" idx="2"/>
            <a:endCxn id="288" idx="0"/>
          </p:cNvCxnSpPr>
          <p:nvPr/>
        </p:nvCxnSpPr>
        <p:spPr>
          <a:xfrm>
            <a:off x="3968640" y="4733640"/>
            <a:ext cx="13680" cy="5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3600" y="4876920"/>
            <a:ext cx="73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0" y="266688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0" idx="0"/>
            <a:endCxn id="280" idx="2"/>
          </p:cNvCxnSpPr>
          <p:nvPr/>
        </p:nvCxnSpPr>
        <p:spPr>
          <a:xfrm flipH="1" flipV="1">
            <a:off x="3942720" y="2498400"/>
            <a:ext cx="11880" cy="565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337480" y="308376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rapid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70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lkthrou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1920" y="1142640"/>
            <a:ext cx="7746840" cy="367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lkthru describes the AP-238 entities required to define a tool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hows what values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by the AP-238 standard (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underlined in 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ed to help debugging by showing the workingstep or tool path uses the ent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ed values can be ignored if you have a better debugging meth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walkthru’s 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represent other APT information in an AP-238 CC1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add the entities necessary to conform to the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8782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1920" y="1142640"/>
            <a:ext cx="7746840" cy="469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xes represent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attributes of the entity are described in the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value is required by the ISO standard it is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underlined and shown 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ows represent attributes that are implemented as addresses in the Part 21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ion is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el on the arrow is the name of the EXPRESS attrib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ties are describ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entity is not described on this page then it will have a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entity is described on another page then it will be shown in bold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entity is a constant value then it is shown in </a:t>
            </a:r>
            <a:r>
              <a:rPr b="0" lang="en-US" sz="1800" spc="-1" strike="noStrike">
                <a:solidFill>
                  <a:srgbClr val="009688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ee the end of this slide set for a description of thes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999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sic organization of the AP-238 CC1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520" y="985680"/>
            <a:ext cx="7746840" cy="296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f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ool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orking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reeform_milling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Feed, Speed or Coolan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chining_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7320" y="4648320"/>
            <a:ext cx="875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8880" y="4648320"/>
            <a:ext cx="110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1935000" y="4776480"/>
            <a:ext cx="532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881000" y="4572000"/>
            <a:ext cx="250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4572000"/>
            <a:ext cx="258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5000" y="4648320"/>
            <a:ext cx="1419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form_m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4" idx="3"/>
            <a:endCxn id="58" idx="1"/>
          </p:cNvCxnSpPr>
          <p:nvPr/>
        </p:nvCxnSpPr>
        <p:spPr>
          <a:xfrm>
            <a:off x="3574800" y="4776480"/>
            <a:ext cx="610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3659040" y="4572000"/>
            <a:ext cx="250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7640" y="4572000"/>
            <a:ext cx="250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48080" y="4648320"/>
            <a:ext cx="1621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8" idx="3"/>
            <a:endCxn id="62" idx="1"/>
          </p:cNvCxnSpPr>
          <p:nvPr/>
        </p:nvCxnSpPr>
        <p:spPr>
          <a:xfrm>
            <a:off x="5605200" y="477648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538600" y="4572000"/>
            <a:ext cx="250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2760" y="4572000"/>
            <a:ext cx="258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3640" y="5216400"/>
            <a:ext cx="798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AD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8400" y="5191200"/>
            <a:ext cx="823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OL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ED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PIN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437360" y="2059200"/>
            <a:ext cx="1725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40=application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protocol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29912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299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9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ject – name and vers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3600" y="3286800"/>
            <a:ext cx="19810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 = machining_project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’machining projec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31200" y="1000800"/>
            <a:ext cx="198288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 = formal program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informal program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640" y="2245320"/>
            <a:ext cx="306036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 _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 = versio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machining project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2" idx="0"/>
            <a:endCxn id="74" idx="2"/>
          </p:cNvCxnSpPr>
          <p:nvPr/>
        </p:nvCxnSpPr>
        <p:spPr>
          <a:xfrm flipH="1" flipV="1">
            <a:off x="2231640" y="2904480"/>
            <a:ext cx="230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4" idx="0"/>
            <a:endCxn id="73" idx="2"/>
          </p:cNvCxnSpPr>
          <p:nvPr/>
        </p:nvCxnSpPr>
        <p:spPr>
          <a:xfrm flipH="1" flipV="1">
            <a:off x="2222280" y="1812600"/>
            <a:ext cx="10080" cy="41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286720" y="1905120"/>
            <a:ext cx="777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_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7680" y="4379040"/>
            <a:ext cx="305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_product_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project.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5960" y="5446080"/>
            <a:ext cx="284832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machining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ication = ’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4200" y="5684040"/>
            <a:ext cx="2196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3120" y="1220040"/>
            <a:ext cx="208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0=product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80080" y="3429720"/>
            <a:ext cx="301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30=product_defini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3" idx="3"/>
            <a:endCxn id="81" idx="1"/>
          </p:cNvCxnSpPr>
          <p:nvPr/>
        </p:nvCxnSpPr>
        <p:spPr>
          <a:xfrm flipV="1">
            <a:off x="3234960" y="1386720"/>
            <a:ext cx="291852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810600" y="1143000"/>
            <a:ext cx="1284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_of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8160" y="2971800"/>
            <a:ext cx="706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2" idx="3"/>
            <a:endCxn id="82" idx="1"/>
          </p:cNvCxnSpPr>
          <p:nvPr/>
        </p:nvCxnSpPr>
        <p:spPr>
          <a:xfrm flipV="1">
            <a:off x="3265200" y="3596400"/>
            <a:ext cx="241668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810600" y="3352680"/>
            <a:ext cx="1284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_of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8" idx="0"/>
            <a:endCxn id="72" idx="2"/>
          </p:cNvCxnSpPr>
          <p:nvPr/>
        </p:nvCxnSpPr>
        <p:spPr>
          <a:xfrm flipV="1">
            <a:off x="2224080" y="3946320"/>
            <a:ext cx="30600" cy="41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286720" y="4038480"/>
            <a:ext cx="1086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_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 flipH="1">
            <a:off x="2220120" y="5038560"/>
            <a:ext cx="3960" cy="38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286720" y="5105520"/>
            <a:ext cx="625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9" idx="3"/>
            <a:endCxn id="80" idx="1"/>
          </p:cNvCxnSpPr>
          <p:nvPr/>
        </p:nvCxnSpPr>
        <p:spPr>
          <a:xfrm>
            <a:off x="3666600" y="5842080"/>
            <a:ext cx="212508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962880" y="5562720"/>
            <a:ext cx="1080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sen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7680" y="2286720"/>
            <a:ext cx="2380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20=applic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2" idx="0"/>
            <a:endCxn id="94" idx="2"/>
          </p:cNvCxnSpPr>
          <p:nvPr/>
        </p:nvCxnSpPr>
        <p:spPr>
          <a:xfrm flipV="1">
            <a:off x="7186320" y="2622240"/>
            <a:ext cx="1188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1" idx="2"/>
            <a:endCxn id="94" idx="0"/>
          </p:cNvCxnSpPr>
          <p:nvPr/>
        </p:nvCxnSpPr>
        <p:spPr>
          <a:xfrm>
            <a:off x="7195680" y="1555920"/>
            <a:ext cx="2520" cy="73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73880" y="24861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975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lan – one p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41720" y="5471280"/>
            <a:ext cx="24994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" y="1483560"/>
            <a:ext cx="219600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AP-238 CC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main workplan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4560" y="3972600"/>
            <a:ext cx="439200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cess_sequen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workingstep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quence_position = 1.0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2.0 for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0"/>
            <a:endCxn id="101" idx="2"/>
          </p:cNvCxnSpPr>
          <p:nvPr/>
        </p:nvCxnSpPr>
        <p:spPr>
          <a:xfrm flipH="1" flipV="1">
            <a:off x="2590560" y="4784040"/>
            <a:ext cx="216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3" name=""/>
          <p:cNvCxnSpPr>
            <a:stCxn id="101" idx="0"/>
            <a:endCxn id="100" idx="2"/>
          </p:cNvCxnSpPr>
          <p:nvPr/>
        </p:nvCxnSpPr>
        <p:spPr>
          <a:xfrm flipH="1" flipV="1">
            <a:off x="1568160" y="2447640"/>
            <a:ext cx="1023120" cy="150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418480" y="335268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512136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85680" y="2525040"/>
            <a:ext cx="439200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cess_sequen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workingstep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quence_position = 1.0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2.0 for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0"/>
            <a:endCxn id="106" idx="2"/>
          </p:cNvCxnSpPr>
          <p:nvPr/>
        </p:nvCxnSpPr>
        <p:spPr>
          <a:xfrm flipH="1" flipV="1">
            <a:off x="6780960" y="3336480"/>
            <a:ext cx="34200" cy="54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9" name=""/>
          <p:cNvCxnSpPr>
            <a:stCxn id="106" idx="1"/>
            <a:endCxn id="100" idx="2"/>
          </p:cNvCxnSpPr>
          <p:nvPr/>
        </p:nvCxnSpPr>
        <p:spPr>
          <a:xfrm flipH="1" flipV="1">
            <a:off x="1567800" y="2447640"/>
            <a:ext cx="2994840" cy="47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278880" y="251460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4880" y="441972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400" y="864360"/>
            <a:ext cx="284832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2"/>
            <a:endCxn id="100" idx="0"/>
          </p:cNvCxnSpPr>
          <p:nvPr/>
        </p:nvCxnSpPr>
        <p:spPr>
          <a:xfrm flipH="1">
            <a:off x="1568160" y="1200240"/>
            <a:ext cx="357840" cy="26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964520" y="1168560"/>
            <a:ext cx="625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4520" y="3896640"/>
            <a:ext cx="249948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‘WS 1’, ’WS 2’, ‘WS 3’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machining’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5480" y="6198120"/>
            <a:ext cx="2804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_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7" idx="0"/>
            <a:endCxn id="108" idx="2"/>
          </p:cNvCxnSpPr>
          <p:nvPr/>
        </p:nvCxnSpPr>
        <p:spPr>
          <a:xfrm flipV="1">
            <a:off x="6789240" y="4860360"/>
            <a:ext cx="2628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871320" y="492768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0960" y="599436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43960" y="5242680"/>
            <a:ext cx="34898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workingstep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7" idx="2"/>
            <a:endCxn id="115" idx="0"/>
          </p:cNvCxnSpPr>
          <p:nvPr/>
        </p:nvCxnSpPr>
        <p:spPr>
          <a:xfrm>
            <a:off x="6789600" y="5901840"/>
            <a:ext cx="29520" cy="29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9800" y="363204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29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form_milling – one per LOADT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2397960"/>
            <a:ext cx="280404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_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workingstep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AP-238 CC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39920" y="160020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8200" y="1220040"/>
            <a:ext cx="3489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2"/>
            <a:endCxn id="123" idx="0"/>
          </p:cNvCxnSpPr>
          <p:nvPr/>
        </p:nvCxnSpPr>
        <p:spPr>
          <a:xfrm>
            <a:off x="1923840" y="1555920"/>
            <a:ext cx="2772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368160" y="4610880"/>
            <a:ext cx="441216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_sequen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‘AP-238 CC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quence_position = 1.0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2.0 for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5880" y="480060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5000" y="5988600"/>
            <a:ext cx="2104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7" idx="2"/>
            <a:endCxn id="129" idx="0"/>
          </p:cNvCxnSpPr>
          <p:nvPr/>
        </p:nvCxnSpPr>
        <p:spPr>
          <a:xfrm>
            <a:off x="5575320" y="5422680"/>
            <a:ext cx="23040" cy="56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646960" y="568332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3" idx="2"/>
            <a:endCxn id="123" idx="3"/>
          </p:cNvCxnSpPr>
          <p:nvPr/>
        </p:nvCxnSpPr>
        <p:spPr>
          <a:xfrm rot="5400000">
            <a:off x="4184640" y="1496160"/>
            <a:ext cx="565920" cy="2183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5639400" y="2514600"/>
            <a:ext cx="5252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81000" y="1645200"/>
            <a:ext cx="195516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milling cutting tool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 user name for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4960" y="959400"/>
            <a:ext cx="2124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on_resource_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0"/>
            <a:endCxn id="135" idx="2"/>
          </p:cNvCxnSpPr>
          <p:nvPr/>
        </p:nvCxnSpPr>
        <p:spPr>
          <a:xfrm flipH="1" flipV="1">
            <a:off x="5556960" y="1294920"/>
            <a:ext cx="2520" cy="33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5716800" y="1295280"/>
            <a:ext cx="412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3" idx="2"/>
            <a:endCxn id="127" idx="1"/>
          </p:cNvCxnSpPr>
          <p:nvPr/>
        </p:nvCxnSpPr>
        <p:spPr>
          <a:xfrm flipH="1" rot="16200000">
            <a:off x="1824120" y="3488400"/>
            <a:ext cx="1645200" cy="139284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123440" y="3801960"/>
            <a:ext cx="44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_sequen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1"/>
            <a:endCxn id="123" idx="2"/>
          </p:cNvCxnSpPr>
          <p:nvPr/>
        </p:nvCxnSpPr>
        <p:spPr>
          <a:xfrm rot="10800000">
            <a:off x="1950480" y="3361680"/>
            <a:ext cx="2164320" cy="597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211840" y="373392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505320"/>
            <a:ext cx="1447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also creating a new operation for each change of spindle sp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634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_toolpath – one per FEDR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5840" y="1940760"/>
            <a:ext cx="352044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workingstep.name + ‘TP 1’ or ‘TP 2’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=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 ‘cutter location trajectory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equenc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 = ‘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3800" y="1447920"/>
            <a:ext cx="1056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1067400"/>
            <a:ext cx="4412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_sequen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2"/>
            <a:endCxn id="144" idx="0"/>
          </p:cNvCxnSpPr>
          <p:nvPr/>
        </p:nvCxnSpPr>
        <p:spPr>
          <a:xfrm>
            <a:off x="4475160" y="1403280"/>
            <a:ext cx="216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110920" y="3277440"/>
            <a:ext cx="364680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6480" y="289548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4560" y="5455440"/>
            <a:ext cx="17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basic curv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0"/>
            <a:endCxn id="144" idx="2"/>
          </p:cNvCxnSpPr>
          <p:nvPr/>
        </p:nvCxnSpPr>
        <p:spPr>
          <a:xfrm flipH="1" flipV="1" rot="5400000">
            <a:off x="2399040" y="3377160"/>
            <a:ext cx="2550240" cy="1605600"/>
          </a:xfrm>
          <a:prstGeom prst="bentConnector3">
            <a:avLst>
              <a:gd name="adj1" fmla="val 5017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853720" y="510552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9320" y="5455440"/>
            <a:ext cx="17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tool axi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5240" y="510552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0680" y="3277440"/>
            <a:ext cx="347760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8" idx="0"/>
            <a:endCxn id="144" idx="3"/>
          </p:cNvCxnSpPr>
          <p:nvPr/>
        </p:nvCxnSpPr>
        <p:spPr>
          <a:xfrm flipV="1" rot="16200000">
            <a:off x="6163560" y="2505960"/>
            <a:ext cx="864360" cy="677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0"/>
            <a:endCxn id="144" idx="1"/>
          </p:cNvCxnSpPr>
          <p:nvPr/>
        </p:nvCxnSpPr>
        <p:spPr>
          <a:xfrm flipH="1" flipV="1" rot="5400000">
            <a:off x="1939680" y="2522160"/>
            <a:ext cx="864360" cy="645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840240" y="2819520"/>
            <a:ext cx="108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ng_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3" idx="0"/>
            <a:endCxn id="144" idx="2"/>
          </p:cNvCxnSpPr>
          <p:nvPr/>
        </p:nvCxnSpPr>
        <p:spPr>
          <a:xfrm flipV="1" rot="16200000">
            <a:off x="4071240" y="3309480"/>
            <a:ext cx="2550240" cy="1740600"/>
          </a:xfrm>
          <a:prstGeom prst="bentConnector3">
            <a:avLst>
              <a:gd name="adj1" fmla="val 5017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228600" y="1752480"/>
            <a:ext cx="1752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so need a new machining_toolpath for each COOLNT ch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581280"/>
            <a:ext cx="129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la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581280"/>
            <a:ext cx="1523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ed and sp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4000" y="5915160"/>
            <a:ext cx="1523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, y,z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38760" y="5943600"/>
            <a:ext cx="1523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, j, 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6029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urve and tool axis re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2480" y="3883680"/>
            <a:ext cx="158940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basic curv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17160" y="357840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2920" y="4788360"/>
            <a:ext cx="208476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70" idx="2"/>
            <a:endCxn id="166" idx="0"/>
          </p:cNvCxnSpPr>
          <p:nvPr/>
        </p:nvCxnSpPr>
        <p:spPr>
          <a:xfrm flipH="1">
            <a:off x="2007360" y="3609720"/>
            <a:ext cx="3960" cy="254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134800" y="251136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0"/>
            <a:endCxn id="173" idx="2"/>
          </p:cNvCxnSpPr>
          <p:nvPr/>
        </p:nvCxnSpPr>
        <p:spPr>
          <a:xfrm flipH="1" flipV="1">
            <a:off x="2003040" y="2444040"/>
            <a:ext cx="8640" cy="48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48160" y="1785240"/>
            <a:ext cx="23104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basic curve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200" y="295020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action_property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action_property.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9440" y="3874320"/>
            <a:ext cx="2874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10= 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66" idx="3"/>
            <a:endCxn id="174" idx="1"/>
          </p:cNvCxnSpPr>
          <p:nvPr/>
        </p:nvCxnSpPr>
        <p:spPr>
          <a:xfrm flipV="1">
            <a:off x="2822040" y="4041360"/>
            <a:ext cx="437400" cy="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6" idx="2"/>
            <a:endCxn id="168" idx="0"/>
          </p:cNvCxnSpPr>
          <p:nvPr/>
        </p:nvCxnSpPr>
        <p:spPr>
          <a:xfrm flipH="1">
            <a:off x="1994760" y="4390920"/>
            <a:ext cx="1332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041560" y="4479840"/>
            <a:ext cx="72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6480" y="5626800"/>
            <a:ext cx="16794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esian_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rdinates=X, Y,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8" idx="2"/>
            <a:endCxn id="178" idx="0"/>
          </p:cNvCxnSpPr>
          <p:nvPr/>
        </p:nvCxnSpPr>
        <p:spPr>
          <a:xfrm>
            <a:off x="1995120" y="5295960"/>
            <a:ext cx="20880" cy="311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106360" y="5311800"/>
            <a:ext cx="517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11600" y="3883680"/>
            <a:ext cx="158940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tool axi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6280" y="3578400"/>
            <a:ext cx="988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2280" y="4788360"/>
            <a:ext cx="2084760" cy="4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81" idx="0"/>
          </p:cNvCxnSpPr>
          <p:nvPr/>
        </p:nvCxnSpPr>
        <p:spPr>
          <a:xfrm flipH="1">
            <a:off x="7206480" y="3485880"/>
            <a:ext cx="3960" cy="37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7333920" y="2511360"/>
            <a:ext cx="64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5" idx="0"/>
            <a:endCxn id="188" idx="2"/>
          </p:cNvCxnSpPr>
          <p:nvPr/>
        </p:nvCxnSpPr>
        <p:spPr>
          <a:xfrm flipH="1" flipV="1">
            <a:off x="7202160" y="2444040"/>
            <a:ext cx="8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6047280" y="1785240"/>
            <a:ext cx="23104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000" spc="-1" strike="noStrike" u="sng">
                <a:solidFill>
                  <a:srgbClr val="cf0e30"/>
                </a:solidFill>
                <a:uFillTx/>
                <a:latin typeface="Arial"/>
              </a:rPr>
              <a:t>‘tool axi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machining_toolpath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93320" y="2826360"/>
            <a:ext cx="3232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action_property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=action_property.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1" idx="2"/>
            <a:endCxn id="183" idx="0"/>
          </p:cNvCxnSpPr>
          <p:nvPr/>
        </p:nvCxnSpPr>
        <p:spPr>
          <a:xfrm>
            <a:off x="7206840" y="4390920"/>
            <a:ext cx="18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240680" y="4479840"/>
            <a:ext cx="72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ms[1: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5600" y="5626800"/>
            <a:ext cx="16794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esian_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 = 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rdinates=I, J,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3" idx="2"/>
            <a:endCxn id="191" idx="0"/>
          </p:cNvCxnSpPr>
          <p:nvPr/>
        </p:nvCxnSpPr>
        <p:spPr>
          <a:xfrm flipH="1">
            <a:off x="7214400" y="5295960"/>
            <a:ext cx="10440" cy="311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305480" y="5311800"/>
            <a:ext cx="517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0240" y="4147200"/>
            <a:ext cx="281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9688"/>
                </a:solidFill>
                <a:latin typeface="Arial"/>
              </a:rPr>
              <a:t>#120=representation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1" idx="1"/>
            <a:endCxn id="194" idx="3"/>
          </p:cNvCxnSpPr>
          <p:nvPr/>
        </p:nvCxnSpPr>
        <p:spPr>
          <a:xfrm flipH="1">
            <a:off x="6087240" y="4127040"/>
            <a:ext cx="304200" cy="18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3432240" y="1000800"/>
            <a:ext cx="2104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73" idx="0"/>
            <a:endCxn id="196" idx="2"/>
          </p:cNvCxnSpPr>
          <p:nvPr/>
        </p:nvCxnSpPr>
        <p:spPr>
          <a:xfrm flipH="1" flipV="1" rot="5400000">
            <a:off x="3029400" y="309960"/>
            <a:ext cx="429480" cy="2481840"/>
          </a:xfrm>
          <a:prstGeom prst="bentConnector3">
            <a:avLst>
              <a:gd name="adj1" fmla="val 488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0"/>
            <a:endCxn id="196" idx="2"/>
          </p:cNvCxnSpPr>
          <p:nvPr/>
        </p:nvCxnSpPr>
        <p:spPr>
          <a:xfrm flipV="1" rot="16200000">
            <a:off x="5628600" y="191160"/>
            <a:ext cx="429480" cy="2718720"/>
          </a:xfrm>
          <a:prstGeom prst="bentConnector3">
            <a:avLst>
              <a:gd name="adj1" fmla="val 488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2822040" y="129528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09720" y="1295280"/>
            <a:ext cx="683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8440" y="5334120"/>
            <a:ext cx="1954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e number of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in both curv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666520" y="5410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80360" y="1143000"/>
            <a:ext cx="1331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MULTAX 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6-07-10T13:10:06Z</dcterms:modified>
  <cp:revision>618</cp:revision>
  <dc:subject/>
  <dc:title>STEP-NC Feature Harmonization</dc:title>
</cp:coreProperties>
</file>