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3ED-2104-493B-8C51-B5BD8908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041-E074-43DF-87BE-6DA45A60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6C0-F0F1-4A2B-9E64-21FC3ED9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A4A-0803-48B4-82A2-2FD94D7B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536-AA40-459A-A110-D8CCD9D3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3BF-B1B8-4204-A344-49600224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F16-90B7-4741-A437-2373BE6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B08-069D-451A-848E-6314F5AE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3D7-1BB8-4228-88FF-1CEB4249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767-C6DF-4E49-BEF0-DD10239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488-E779-44E0-91BB-D1B6C5A3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DDE-3B12-43B5-B975-C7714828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0C1-C1DD-4376-B8D8-5AC9E6C00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7920" y="762120"/>
            <a:ext cx="769608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223 conformac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Len Slove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5 capture cast part t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native CAD drawing to AP223 design engineering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47840" y="380988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rans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3880" y="2666880"/>
            <a:ext cx="2590920" cy="1930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934320" y="2590920"/>
            <a:ext cx="1896840" cy="2466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604160" y="47242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CAD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411480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441972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5257800"/>
            <a:ext cx="3200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3-Cast part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near net shape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attern fea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6 validate cast part tooling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accuracy of STEP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770040" cy="641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1897200" cy="2467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14800" y="411480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41972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46040" y="365760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191120"/>
            <a:ext cx="19810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5029200"/>
            <a:ext cx="3200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3-Cast part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near net shape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attern fea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ormance clas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4 – Customer to foundry request for bid (RF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d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/ compan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/casting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ing/mol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y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5562720"/>
            <a:ext cx="251460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stomer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7 customer send RF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43200" y="5562720"/>
            <a:ext cx="770040" cy="64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41400" y="6172200"/>
            <a:ext cx="16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Customer order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410080"/>
            <a:ext cx="251460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4-Customer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086600" y="838080"/>
            <a:ext cx="1897200" cy="2467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335268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1-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43200" y="2666520"/>
            <a:ext cx="426708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41560" y="2057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46483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594360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467480" y="4495680"/>
            <a:ext cx="7632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6480" y="47242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ormance clas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4 – Customer to bid winning foundry for additional custom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servic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al str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r or abra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os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ed temperatur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ing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ing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ting production and quality requir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testing and chemic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inspection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5562720"/>
            <a:ext cx="251460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stomer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8 customer to foundry who won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600200" y="5562720"/>
            <a:ext cx="770040" cy="641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476360" y="6172200"/>
            <a:ext cx="109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Customer order 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5486400"/>
            <a:ext cx="251460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4-Customer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548640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1-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14800" y="4495680"/>
            <a:ext cx="152388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5760" y="50292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396252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59436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6095880"/>
            <a:ext cx="9144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3886200"/>
            <a:ext cx="3200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3-Cast part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near net shape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attern fea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ormance clas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7920" y="7621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5 – defines the exchange between the Metal caster to tooling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not in CC5 but is a reference to C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t part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not in CC5 but is a reference to C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not in CC5 but is a reference to C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cas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ooling, cores to be made, required gating, type of cas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5562720"/>
            <a:ext cx="304776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5-Metal cast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oling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9 foundry to tooling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752480" y="434340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80760" y="4952880"/>
            <a:ext cx="153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Foundry order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335268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1-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39625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67080" y="4495680"/>
            <a:ext cx="3276720" cy="1447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1360" y="5334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14800"/>
            <a:ext cx="3200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3-Cast part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near net shape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attern fea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5257800"/>
            <a:ext cx="609840" cy="457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5105520"/>
            <a:ext cx="763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5638680"/>
            <a:ext cx="297180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5-Metal cast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oling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562720"/>
            <a:ext cx="3124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2-Cast par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ast shape, casting requir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172200"/>
            <a:ext cx="16765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10 - Metal caster to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838080"/>
            <a:ext cx="7620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3352680"/>
            <a:ext cx="723924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380988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91120" y="4343400"/>
            <a:ext cx="167616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4952880"/>
            <a:ext cx="1828800" cy="99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2600" y="44956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541008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dimensional insp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962520"/>
            <a:ext cx="2514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6-Metal c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556272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P224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ing requir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5105520"/>
            <a:ext cx="0" cy="533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11 - Metal caster to mach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3520" y="8380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3352680"/>
            <a:ext cx="723924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80988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191120" y="4343400"/>
            <a:ext cx="167616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22600" y="44956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962520"/>
            <a:ext cx="2514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7-Metal c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mach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56272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P224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ing requir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5105520"/>
            <a:ext cx="0" cy="533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Md BT"/>
              </a:rPr>
              <a:t>Cast parts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69680" cy="641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0240" y="99072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rans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6765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371600" y="2057040"/>
            <a:ext cx="9907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371600"/>
            <a:ext cx="8380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1-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295280"/>
            <a:ext cx="6094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769680" cy="641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3640" y="3352680"/>
            <a:ext cx="68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6765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09480" y="243828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7360" y="213372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Valid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505320"/>
            <a:ext cx="761760" cy="761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4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found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403848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33720" y="2057400"/>
            <a:ext cx="533160" cy="1447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6200" y="266688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3240" y="609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1240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505320" y="1600200"/>
            <a:ext cx="769680" cy="641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24080" y="1905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9920" y="121932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rans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657600" y="434340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32040" y="3809880"/>
            <a:ext cx="68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Found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3962520"/>
            <a:ext cx="12193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144792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C2-Ca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t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ast shap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quir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905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971800"/>
            <a:ext cx="76176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5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tal ca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oling 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2362320"/>
            <a:ext cx="0" cy="6094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2590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19720" y="3733920"/>
            <a:ext cx="5331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048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84920" y="60948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ing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095880" y="1447920"/>
            <a:ext cx="770040" cy="641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66800" y="99072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rans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828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1219320"/>
            <a:ext cx="106704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3-Cast pa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near net shape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gating system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attern featu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16765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3360" y="30481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7467480" y="3733920"/>
            <a:ext cx="770040" cy="641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385760" y="35053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im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34340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8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tal ca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48006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2209320"/>
            <a:ext cx="2743200" cy="213372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791320" y="4038120"/>
            <a:ext cx="167616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6840" y="4876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6324480" y="563868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48520" y="5334120"/>
            <a:ext cx="7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5562720"/>
            <a:ext cx="76176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6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tal ca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307400">
            <a:off x="5563080" y="3580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4952880"/>
            <a:ext cx="76212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59436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248520" y="2362320"/>
            <a:ext cx="769680" cy="641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V="1">
            <a:off x="5410080" y="2819520"/>
            <a:ext cx="8384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18640" y="2057400"/>
            <a:ext cx="68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oo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5638680"/>
            <a:ext cx="9903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dimens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nspe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59436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648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4480" y="47242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5029200"/>
            <a:ext cx="91440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7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tal ca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ach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048120" y="4952520"/>
            <a:ext cx="76176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762120" y="5715000"/>
            <a:ext cx="769680" cy="641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37280" y="5257800"/>
            <a:ext cx="68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Proc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371600" y="5562720"/>
            <a:ext cx="762120" cy="3808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12 - Metal caster to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99840" y="8380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3352680"/>
            <a:ext cx="723924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191120" y="4343400"/>
            <a:ext cx="167616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22600" y="44956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373392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P224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sting requir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962520"/>
            <a:ext cx="2514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8-Metal c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13 - Metal caster to other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920" y="7621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3352680"/>
            <a:ext cx="723924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80988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191120" y="4343400"/>
            <a:ext cx="167616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4952880"/>
            <a:ext cx="1828800" cy="99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2600" y="4495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556272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P224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sting requir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3962520"/>
            <a:ext cx="289548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9-Metal c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Other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14- Casting process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920" y="7621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2209680"/>
            <a:ext cx="7239240" cy="449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266688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191120" y="3200400"/>
            <a:ext cx="167616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3809880"/>
            <a:ext cx="1676160" cy="6858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22600" y="3352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49568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dimensional insp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2819520"/>
            <a:ext cx="2514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10-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396252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P224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ing requir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3962520"/>
            <a:ext cx="0" cy="533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533412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t part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P224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attern fea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962520"/>
            <a:ext cx="1905120" cy="1904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a Md BT"/>
              </a:rPr>
              <a:t>Cast parts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69680" cy="6415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290240" y="99072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rans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16765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371600" y="2057040"/>
            <a:ext cx="9907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1371600"/>
            <a:ext cx="8380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1-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295280"/>
            <a:ext cx="6094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769680" cy="641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03640" y="3352680"/>
            <a:ext cx="68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16765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609480" y="243828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47360" y="213372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Valid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3505320"/>
            <a:ext cx="761760" cy="761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4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found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403848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133720" y="2057400"/>
            <a:ext cx="533160" cy="1447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6200" y="266688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93240" y="609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1240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3505320" y="1600200"/>
            <a:ext cx="769680" cy="6415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124080" y="1905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9920" y="121932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rans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3657600" y="434340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632040" y="3809880"/>
            <a:ext cx="68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Found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962520"/>
            <a:ext cx="12193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1447920"/>
            <a:ext cx="8380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C2-Ca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t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ast shap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quir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1905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971800"/>
            <a:ext cx="76176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5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tal ca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oling 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2362320"/>
            <a:ext cx="0" cy="6094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2590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19720" y="3733920"/>
            <a:ext cx="5331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3048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84920" y="60948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ing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095880" y="1447920"/>
            <a:ext cx="770040" cy="641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166800" y="99072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rans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67480" y="1219320"/>
            <a:ext cx="106704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3-Cast pa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near net shape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gating system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Pattern featu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16765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3360" y="30481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7467480" y="3733920"/>
            <a:ext cx="770040" cy="641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385760" y="35053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im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34340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8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tal ca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48006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715000" y="2209320"/>
            <a:ext cx="2743200" cy="213372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791320" y="4038120"/>
            <a:ext cx="167616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360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840" y="4876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6324480" y="563868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248520" y="5334120"/>
            <a:ext cx="76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562720"/>
            <a:ext cx="76176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6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tal ca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9307400">
            <a:off x="5563080" y="3580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4952880"/>
            <a:ext cx="76212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59436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9"/>
          <a:stretch/>
        </p:blipFill>
        <p:spPr>
          <a:xfrm>
            <a:off x="6248520" y="2362320"/>
            <a:ext cx="769680" cy="641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V="1">
            <a:off x="5410080" y="2819520"/>
            <a:ext cx="8384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218640" y="2057400"/>
            <a:ext cx="68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oo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620120" y="5638680"/>
            <a:ext cx="9903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dimens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nspe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86600" y="59436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4648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4480" y="47242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029200"/>
            <a:ext cx="91440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C7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tal ca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ach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952520"/>
            <a:ext cx="76176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0"/>
          <a:stretch/>
        </p:blipFill>
        <p:spPr>
          <a:xfrm>
            <a:off x="762120" y="5715000"/>
            <a:ext cx="769680" cy="641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37280" y="5257800"/>
            <a:ext cx="68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Proc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371600" y="5562720"/>
            <a:ext cx="762120" cy="3808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ormance cla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9140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1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gn engineering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r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lternate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ing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ss, pocket, hol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ic and dimen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, part property,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495288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1 capture design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native CAD drawing to AP223 design engineering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47840" y="380988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rans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3880" y="2666880"/>
            <a:ext cx="2590920" cy="1930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934320" y="2590920"/>
            <a:ext cx="1896840" cy="246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4160" y="47242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CAD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411480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41972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510552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1-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2 validate design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accuracy of STEP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770040" cy="641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1897200" cy="246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114800" y="411480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41972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510552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1-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46040" y="365760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4191120"/>
            <a:ext cx="19810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ormance cl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9140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2 – Cast par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r net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ing a part very close to the required end shape so that it requires almost no machi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for Patterns &amp; Cas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Draft is the taper allowed on the vertical surface of a pattern to permit withdrawal of the casting from the mold. Casting draft is the actual draft angle on the cas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ng Line and Parting Line Toler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rk or line on a casting formed at the junction of cope and drag section where the mold parts. Its location and draft are determined during the design proc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a casting formed by the pattern, mold and cores rather than machined as a post-casting operation. Typical cast in features include walls, fillets, ribs and bos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d out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formed by cores inserted into a mold. Typically they are hollowed-out interior or cavity features in a casting which could not be formed using a pattern or by machi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l inserts, cast in 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nserts may be cast into parts by placing the inserts into the mold before pouring the allo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ish Allow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cast on material (machine stock) that is to be machined away from the surface of the cas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finish “as cas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s cast” finish is depending on alloy, size of part, molding process and tooling qua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556272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 par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ast shape, casting requir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3 capture design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native CAD drawing to AP223 cast part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770040" cy="641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947840" y="3809880"/>
            <a:ext cx="76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Trans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934320" y="2590920"/>
            <a:ext cx="1896840" cy="2466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411480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441972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5181480"/>
            <a:ext cx="3124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2-Cast par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ast shape, casting requir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523880" y="2666880"/>
            <a:ext cx="2590920" cy="193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04160" y="47242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CAD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#4 validate design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accuracy of STEP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770040" cy="641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1897200" cy="2467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114800" y="411480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41972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46040" y="365760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STEP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Black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191120"/>
            <a:ext cx="19810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105520"/>
            <a:ext cx="31240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2-Cast par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ast shape, casting require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ormance clas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3 – Cast part too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Top half of a horizontally parted flask, mold, or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Bottom half of a horizontally parted flask, mold, or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e/Drag pl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The cope (top) half of the pattern is mounted to the cope plate. The drag (bottom) half of the pattern is mounted to the drag pl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rigid metal or wood frame used to hold sand from which a mold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ter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pattern constructed with double shrinkage allowance, from which cast production patterns are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ch p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plate made from a master pattern that forms both the cope and drag parts of the mo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The form shaped by a pattern, made of sand, metal, or refractory material, which contains the cavity into which molten metal is poured to produce a casting of the desire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d ca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The impression in the mold produced by removal of the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form made of metal, plastic, wood, or other material, around which molding material is placed to make a mold for casting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se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pattern not affixed to a plate, used to make molds for cas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p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Pattern affixed to a plate to make both the cope and drag halves of a mo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manent m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the mold used to produce castings in the permanent mold proc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portion of the gate feature in the mold that connects the down sprue with the casting, ingate, or ris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the gating system that forms the reservoir of molten metal necessary to compensate for losses due to shrinkage as the metal solidif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r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vertical cut or hole into the mold that allows molten metal to flow into the mo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g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portion of the gate system that introduces metal into the casting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 opening or passage in the mold or core to facilitate the escape of gases when the mold is pou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metal insert in the sand mold used to produce localized chilling and control the rate of casting solidif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5715000"/>
            <a:ext cx="2514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t part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P224+gating system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attern fea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3:16:36Z</dcterms:created>
  <dc:creator>Len Slovensky</dc:creator>
  <dc:description/>
  <dc:language>en-US</dc:language>
  <cp:lastModifiedBy>Len Slovensky</cp:lastModifiedBy>
  <dcterms:modified xsi:type="dcterms:W3CDTF">2006-03-06T18:59:10Z</dcterms:modified>
  <cp:revision>20</cp:revision>
  <dc:subject/>
  <dc:title>AP223 conformace classes</dc:title>
</cp:coreProperties>
</file>