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5699-7BB9-4E5E-AB49-577935A16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6C2D-C46A-4E71-A7AD-6CD08430F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F9B9-D493-43D5-A1FD-4EF0458E3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8C3C-73E3-4F14-97E6-0D678E999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C029-8EA4-4A87-B76D-AD1B86C24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8452-4BBC-400C-8FA2-3C07D2DE6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7043-2F0A-47B8-A685-0B92F6DC9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7F4B-C9E4-469F-A763-D2D036C9D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2395-AC92-4C43-9219-FECB57C32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CB19-8FF3-4BE8-AEAF-9C8042CD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2738-7473-447C-ACF4-AF246BE1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DF76-F8CE-4A1F-A0A5-5C0968E0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37497-C13F-436D-9920-27687BFCD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hyperlink" Target="mailto:alc@lsc.co.uk" TargetMode="External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981080" y="647640"/>
            <a:ext cx="5216760" cy="830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35240" y="2095560"/>
            <a:ext cx="6526080" cy="43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LSC Demonstration Enviro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discussion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Toulouse June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an Crawf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lc@lsc.co.u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7th March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Information required from Airbu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ufactur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illet shape [AB common aluminium, material 400 * 400 * 5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ice holding (clamp oversize materi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oling used, number of set-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tting sequence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chine config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ble tilt or 5 axis  (B &amp; C table tilt) [tbc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uron KX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Confirmed limits for demonstration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s on a non-perfect p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set-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tolerance 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ghing technique different from finish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f%20STEPnc%20plan%20A2" descr=""/>
          <p:cNvPicPr/>
          <p:nvPr/>
        </p:nvPicPr>
        <p:blipFill>
          <a:blip r:embed="rId2"/>
          <a:stretch/>
        </p:blipFill>
        <p:spPr>
          <a:xfrm>
            <a:off x="0" y="358920"/>
            <a:ext cx="9144000" cy="64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ssue%202%20STEP%20meeting%20STEPnc" descr=""/>
          <p:cNvPicPr/>
          <p:nvPr/>
        </p:nvPicPr>
        <p:blipFill>
          <a:blip r:embed="rId2"/>
          <a:stretch/>
        </p:blipFill>
        <p:spPr>
          <a:xfrm>
            <a:off x="0" y="374760"/>
            <a:ext cx="9144000" cy="64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Main Alternative ~ 28th Feb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existing feature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ly use geometry within scope of ShopM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mplify geometry of 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 only machine simple elements of 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quest and use ShopMill from Sieme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 the 840D contro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tion advantages / dis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eature based –benefit for a product 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 a comprehensive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monstrates the potential advantages for the use of higher conformance classes – late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tains STEP based production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79440" y="1484280"/>
            <a:ext cx="656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onf%20STEPnc%20plan%20B" descr=""/>
          <p:cNvPicPr/>
          <p:nvPr/>
        </p:nvPicPr>
        <p:blipFill>
          <a:blip r:embed="rId2"/>
          <a:stretch/>
        </p:blipFill>
        <p:spPr>
          <a:xfrm>
            <a:off x="-31680" y="406440"/>
            <a:ext cx="9175680" cy="64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Milestones (1)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ion scenario validation STEP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c3 &amp; cc2 rough and finish for Air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c2 for Boeing part – manufactured @ Air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feature based legacy 2D drawn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ion scenario validation (including Boeing review) - 17th M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site for machining – end of m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bus design manufacturing input – end of m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ling used, number of set-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tting sequence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ings/designs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– end of m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gh/removal feature – outlin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e – rough/removal feature – example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Milestones (2)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version of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ghing AP238 cc3 file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ghing profile ??28th April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version of the finishing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demonstration scenario and final version of the progra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Ju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To confirm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ion of machining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ity or at Air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Airbus machining expert to be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ion sug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gh using feature ba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ish using cutter pa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the Boeing part be made in demonstr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ility of software &amp; conver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Action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tribute AP203 version of the pa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an AP224 file be produced by the Japanese machining mod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eck on method of holding p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pare in-stage machined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simple part – can the CL data be output by EdgeCAM in APT CL ASCII?  A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8T16:22:15Z</dcterms:created>
  <dc:creator>pda</dc:creator>
  <dc:description/>
  <dc:language>en-US</dc:language>
  <cp:lastModifiedBy>ALC</cp:lastModifiedBy>
  <dcterms:modified xsi:type="dcterms:W3CDTF">2006-03-07T18:15:38Z</dcterms:modified>
  <cp:revision>40</cp:revision>
  <dc:subject/>
  <dc:title>PowerPoint Presentation</dc:title>
</cp:coreProperties>
</file>