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Vico Equense N000 2006-02-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E5FB5271-C758-4F25-A8DD-3BAD4218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Toulouse Demonstra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ogistic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June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fast 7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8 – 8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9 – 11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ch 12 – 13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uesday Agend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cenario v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first cut at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ction items and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al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operability u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NC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C vend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ystem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A v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mens 84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S usi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erospace par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2 “Visual” mach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us “Fish”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2 export from CATIA and 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2280" y="5010120"/>
            <a:ext cx="16009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/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7080" y="5010120"/>
            <a:ext cx="8056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3"/>
            <a:endCxn id="54" idx="1"/>
          </p:cNvCxnSpPr>
          <p:nvPr/>
        </p:nvCxnSpPr>
        <p:spPr>
          <a:xfrm>
            <a:off x="2855520" y="5248080"/>
            <a:ext cx="3189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56" name=""/>
          <p:cNvSpPr/>
          <p:nvPr/>
        </p:nvSpPr>
        <p:spPr>
          <a:xfrm>
            <a:off x="3595320" y="47815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238-C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P View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3880" y="2895480"/>
            <a:ext cx="1128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28560" y="2895480"/>
            <a:ext cx="1128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28560" y="4724280"/>
            <a:ext cx="1128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9720" y="4724280"/>
            <a:ext cx="1128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58" idx="3"/>
            <a:endCxn id="59" idx="1"/>
          </p:cNvCxnSpPr>
          <p:nvPr/>
        </p:nvCxnSpPr>
        <p:spPr>
          <a:xfrm>
            <a:off x="3111120" y="3130200"/>
            <a:ext cx="2909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3" name=""/>
          <p:cNvCxnSpPr>
            <a:stCxn id="59" idx="2"/>
            <a:endCxn id="60" idx="0"/>
          </p:cNvCxnSpPr>
          <p:nvPr/>
        </p:nvCxnSpPr>
        <p:spPr>
          <a:xfrm>
            <a:off x="6592680" y="3365640"/>
            <a:ext cx="1080" cy="135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4" name=""/>
          <p:cNvCxnSpPr>
            <a:stCxn id="60" idx="1"/>
            <a:endCxn id="61" idx="3"/>
          </p:cNvCxnSpPr>
          <p:nvPr/>
        </p:nvCxnSpPr>
        <p:spPr>
          <a:xfrm flipH="1">
            <a:off x="3126600" y="4959000"/>
            <a:ext cx="2893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t to Part Demonstra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79520" y="3102120"/>
            <a:ext cx="822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22560" y="3111480"/>
            <a:ext cx="7232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7680" y="4876920"/>
            <a:ext cx="87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9400" y="4889520"/>
            <a:ext cx="805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6" idx="3"/>
            <a:endCxn id="67" idx="1"/>
          </p:cNvCxnSpPr>
          <p:nvPr/>
        </p:nvCxnSpPr>
        <p:spPr>
          <a:xfrm>
            <a:off x="3111480" y="3336480"/>
            <a:ext cx="260424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1" name=""/>
          <p:cNvCxnSpPr>
            <a:stCxn id="67" idx="2"/>
            <a:endCxn id="68" idx="0"/>
          </p:cNvCxnSpPr>
          <p:nvPr/>
        </p:nvCxnSpPr>
        <p:spPr>
          <a:xfrm>
            <a:off x="6084360" y="3580920"/>
            <a:ext cx="1080" cy="129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72" name=""/>
          <p:cNvCxnSpPr>
            <a:stCxn id="68" idx="1"/>
            <a:endCxn id="69" idx="3"/>
          </p:cNvCxnSpPr>
          <p:nvPr/>
        </p:nvCxnSpPr>
        <p:spPr>
          <a:xfrm flipH="1">
            <a:off x="3123360" y="5111640"/>
            <a:ext cx="2515320" cy="1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73" name=""/>
          <p:cNvSpPr/>
          <p:nvPr/>
        </p:nvSpPr>
        <p:spPr>
          <a:xfrm>
            <a:off x="5279760" y="2489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0" y="28954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9480" y="40384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24/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0120" y="46134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-238 C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03-06T17:06:58Z</dcterms:modified>
  <cp:revision>152</cp:revision>
  <dc:subject/>
  <dc:title>WG3 Presentation to SC4 Opening Plenary</dc:title>
</cp:coreProperties>
</file>