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Vico Equense N000 2006-02-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85A3257D-785B-462F-9473-6D267FB9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Hang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4 ed3 IS sent to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 522 ed2 IS sent to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DIS sent to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3 CD ballot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9 NWI ballot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Vico Equ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monstrations in Tou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cope for NWI on CNC 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cope and status of A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T60 on g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Vico Equ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6-03-06, 1330-1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f all A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n AP-238 CC2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n AP-224/AP-240/AP-238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demonstrations in Toul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6-03-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CNC Traceabi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ing for CNC Traceabi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planning for Toulouse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Vico Equ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6-03-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AP-229 forg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AP-223 cast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AP-219 inspec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6-03-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TC60 to discuss Gears and AP-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Lothar Klein to discuss model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raceability – Next step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NC functions are of interest to ISO 146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properties are STEP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Edition 1 not yet at ISO – anticipated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C vendors not yet announced STEP-NC support – anticipated by end of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 for new UoF’s to be added to 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xisting UoF’s to be added to 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list of new CN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at Tou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Craw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 Sloven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in B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of Nyqv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03-07T10:46:13Z</dcterms:modified>
  <cp:revision>150</cp:revision>
  <dc:subject/>
  <dc:title>WG3 Presentation to SC4 Opening Plenary</dc:title>
</cp:coreProperties>
</file>