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7840A4E-5D86-497D-99A9-D5A342C8ABC0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02240" y="685440"/>
            <a:ext cx="33861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of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 AP-23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858120" y="2965320"/>
            <a:ext cx="46980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NC Manufacturing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vliet Arsenal, Building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 Processing Manufacturing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vliet, New York 121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4573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23920"/>
            <a:ext cx="7769520" cy="36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-NC defines an object model f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steps – e.g. sequence of operations WS 1, WS2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– e.g WS1 is Rough milling of poc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– e.g. Dimensions of poc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ing – e.g. Machining attributes for rough milling the poc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path – e.g. Path, speeds and feeds to mill the poc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hree Conformanc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1 = CNC independent tool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2 = CC1 + CAD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3 = CC2 + CAD feature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895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spa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67640" y="2376360"/>
            <a:ext cx="674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41720" y="3795840"/>
            <a:ext cx="7005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29280" y="3036960"/>
            <a:ext cx="9169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0" idx="3"/>
            <a:endCxn id="52" idx="1"/>
          </p:cNvCxnSpPr>
          <p:nvPr/>
        </p:nvCxnSpPr>
        <p:spPr>
          <a:xfrm>
            <a:off x="2063520" y="2569680"/>
            <a:ext cx="2145240" cy="661320"/>
          </a:xfrm>
          <a:prstGeom prst="bentConnector3">
            <a:avLst>
              <a:gd name="adj1" fmla="val 4994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3"/>
            <a:endCxn id="52" idx="1"/>
          </p:cNvCxnSpPr>
          <p:nvPr/>
        </p:nvCxnSpPr>
        <p:spPr>
          <a:xfrm flipV="1">
            <a:off x="2063520" y="3230280"/>
            <a:ext cx="2145240" cy="759600"/>
          </a:xfrm>
          <a:prstGeom prst="bentConnector3">
            <a:avLst>
              <a:gd name="adj1" fmla="val 4994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6741360" y="3036960"/>
            <a:ext cx="674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3"/>
            <a:endCxn id="55" idx="1"/>
          </p:cNvCxnSpPr>
          <p:nvPr/>
        </p:nvCxnSpPr>
        <p:spPr>
          <a:xfrm>
            <a:off x="5167440" y="3230280"/>
            <a:ext cx="1553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22200" y="448308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70440" y="406872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38 C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80160" y="21938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03 CC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44080" y="447048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n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07480" y="28656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38 C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53800" y="13032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sual 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116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y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166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3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rt tolerance and feature data from C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oolpath data from 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application uses tolerances for in-process measu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3240" y="3941640"/>
            <a:ext cx="674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69160" y="3940200"/>
            <a:ext cx="7005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5" idx="3"/>
            <a:endCxn id="66" idx="1"/>
          </p:cNvCxnSpPr>
          <p:nvPr/>
        </p:nvCxnSpPr>
        <p:spPr>
          <a:xfrm flipV="1">
            <a:off x="2319480" y="4133520"/>
            <a:ext cx="1829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7035120" y="3943440"/>
            <a:ext cx="674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3"/>
            <a:endCxn id="68" idx="1"/>
          </p:cNvCxnSpPr>
          <p:nvPr/>
        </p:nvCxnSpPr>
        <p:spPr>
          <a:xfrm>
            <a:off x="4890960" y="4133520"/>
            <a:ext cx="21232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50760" y="37749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9400" y="3762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CC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10240" y="50864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90480" y="51084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66800" y="50958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cp:keywords/>
  <dc:language>en-US</dc:language>
  <cp:lastModifiedBy>Martin Hardwick</cp:lastModifiedBy>
  <cp:lastPrinted>1996-02-28T13:41:35Z</cp:lastPrinted>
  <dcterms:modified xsi:type="dcterms:W3CDTF">2006-03-06T08:19:25Z</dcterms:modified>
  <cp:revision>994</cp:revision>
  <dc:subject/>
  <dc:title>STEP-NC: Digital Manufacturing using STEP</dc:title>
</cp:coreProperties>
</file>