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048440" y="6243480"/>
            <a:ext cx="1782720" cy="3589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360360" y="6161040"/>
            <a:ext cx="8431200" cy="42840"/>
          </a:xfrm>
          <a:custGeom>
            <a:avLst/>
            <a:gdLst/>
            <a:ahLst/>
            <a:rect l="l" t="t" r="r" b="b"/>
            <a:pathLst>
              <a:path w="566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5660" y="12"/>
                </a:lnTo>
                <a:lnTo>
                  <a:pt x="5660" y="10"/>
                </a:lnTo>
                <a:lnTo>
                  <a:pt x="5661" y="10"/>
                </a:lnTo>
                <a:lnTo>
                  <a:pt x="5661" y="2"/>
                </a:lnTo>
                <a:lnTo>
                  <a:pt x="5660" y="2"/>
                </a:lnTo>
                <a:lnTo>
                  <a:pt x="5660" y="0"/>
                </a:lnTo>
                <a:lnTo>
                  <a:pt x="565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2200" y="711360"/>
            <a:ext cx="8516880" cy="42840"/>
          </a:xfrm>
          <a:custGeom>
            <a:avLst/>
            <a:gdLst/>
            <a:ahLst/>
            <a:rect l="l" t="t" r="r" b="b"/>
            <a:pathLst>
              <a:path w="566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5660" y="12"/>
                </a:lnTo>
                <a:lnTo>
                  <a:pt x="5660" y="10"/>
                </a:lnTo>
                <a:lnTo>
                  <a:pt x="5661" y="10"/>
                </a:lnTo>
                <a:lnTo>
                  <a:pt x="5661" y="2"/>
                </a:lnTo>
                <a:lnTo>
                  <a:pt x="5660" y="2"/>
                </a:lnTo>
                <a:lnTo>
                  <a:pt x="5660" y="0"/>
                </a:lnTo>
                <a:lnTo>
                  <a:pt x="565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72880" y="6243480"/>
            <a:ext cx="153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HE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8800" y="6556320"/>
            <a:ext cx="573120" cy="38160"/>
          </a:xfrm>
          <a:prstGeom prst="rect">
            <a:avLst/>
          </a:pr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71920" y="28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753320" y="147600"/>
            <a:ext cx="1179720" cy="63504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316080" y="147600"/>
            <a:ext cx="1804320" cy="655560"/>
            <a:chOff x="316080" y="147600"/>
            <a:chExt cx="1804320" cy="655560"/>
          </a:xfrm>
        </p:grpSpPr>
        <p:pic>
          <p:nvPicPr>
            <p:cNvPr id="8" name="" descr=""/>
            <p:cNvPicPr/>
            <p:nvPr/>
          </p:nvPicPr>
          <p:blipFill>
            <a:blip r:embed="rId4"/>
            <a:stretch/>
          </p:blipFill>
          <p:spPr>
            <a:xfrm>
              <a:off x="1085760" y="147600"/>
              <a:ext cx="1034640" cy="6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 txBox="1"/>
            <p:nvPr/>
          </p:nvSpPr>
          <p:spPr>
            <a:xfrm>
              <a:off x="316080" y="233280"/>
              <a:ext cx="767880" cy="43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ahoma"/>
                </a:rPr>
                <a:t>next</a:t>
              </a:r>
              <a:endPara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ahoma"/>
                <a:ea typeface="Tahoma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2898720" y="6210360"/>
            <a:ext cx="33465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BRAIL Alain  (AIRBU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NGUYEN Van Khai</a:t>
            </a: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800" spc="-1" strike="noStrike">
                <a:solidFill>
                  <a:srgbClr val="000000"/>
                </a:solidFill>
                <a:latin typeface="Arial"/>
              </a:rPr>
              <a:t>Beijing 24-28 Octo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98480" y="2362320"/>
            <a:ext cx="7545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 IMS project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Working wit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xt Step for NC 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toward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Ufuturing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6800" y="6186600"/>
            <a:ext cx="8294760" cy="19080"/>
          </a:xfrm>
          <a:custGeom>
            <a:avLst/>
            <a:gdLst/>
            <a:ahLst/>
            <a:rect l="l" t="t" r="r" b="b"/>
            <a:pathLst>
              <a:path w="5661" h="12">
                <a:moveTo>
                  <a:pt x="6" y="0"/>
                </a:moveTo>
                <a:lnTo>
                  <a:pt x="2" y="0"/>
                </a:lnTo>
                <a:lnTo>
                  <a:pt x="2" y="2"/>
                </a:lnTo>
                <a:lnTo>
                  <a:pt x="0" y="2"/>
                </a:lnTo>
                <a:lnTo>
                  <a:pt x="0" y="10"/>
                </a:lnTo>
                <a:lnTo>
                  <a:pt x="2" y="10"/>
                </a:lnTo>
                <a:lnTo>
                  <a:pt x="2" y="12"/>
                </a:lnTo>
                <a:lnTo>
                  <a:pt x="5660" y="12"/>
                </a:lnTo>
                <a:lnTo>
                  <a:pt x="5660" y="10"/>
                </a:lnTo>
                <a:lnTo>
                  <a:pt x="5661" y="10"/>
                </a:lnTo>
                <a:lnTo>
                  <a:pt x="5661" y="2"/>
                </a:lnTo>
                <a:lnTo>
                  <a:pt x="5660" y="2"/>
                </a:lnTo>
                <a:lnTo>
                  <a:pt x="5660" y="0"/>
                </a:lnTo>
                <a:lnTo>
                  <a:pt x="565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93840" y="-360"/>
            <a:ext cx="51055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siness 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machining8" descr=""/>
          <p:cNvPicPr/>
          <p:nvPr/>
        </p:nvPicPr>
        <p:blipFill>
          <a:blip r:embed="rId1"/>
          <a:stretch/>
        </p:blipFill>
        <p:spPr>
          <a:xfrm>
            <a:off x="496800" y="866880"/>
            <a:ext cx="7961400" cy="5083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492960" y="1346040"/>
            <a:ext cx="1622520" cy="1449720"/>
          </a:xfrm>
          <a:prstGeom prst="rect">
            <a:avLst/>
          </a:prstGeom>
          <a:solidFill>
            <a:srgbClr val="66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C Progra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m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07080" y="2959200"/>
            <a:ext cx="1324080" cy="473040"/>
          </a:xfrm>
          <a:prstGeom prst="flowChartMagneticDisk">
            <a:avLst/>
          </a:prstGeom>
          <a:gradFill rotWithShape="0">
            <a:gsLst>
              <a:gs pos="0">
                <a:srgbClr val="ffff00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NC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machining7" descr=""/>
          <p:cNvPicPr/>
          <p:nvPr/>
        </p:nvPicPr>
        <p:blipFill>
          <a:blip r:embed="rId1"/>
          <a:stretch/>
        </p:blipFill>
        <p:spPr>
          <a:xfrm>
            <a:off x="264960" y="833400"/>
            <a:ext cx="8541000" cy="5473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090880" y="0"/>
            <a:ext cx="55940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STEP-NC for MACHI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38120" y="996840"/>
            <a:ext cx="6496200" cy="46166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89280" y="3005280"/>
            <a:ext cx="4843440" cy="2481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23560" y="0"/>
            <a:ext cx="6148440" cy="6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Niche ba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3040" y="1703520"/>
            <a:ext cx="1339920" cy="37954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nsl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6680" y="1216080"/>
            <a:ext cx="1066680" cy="442116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g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62360" y="3475080"/>
            <a:ext cx="1855800" cy="17748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ed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15000" y="3465360"/>
            <a:ext cx="1365120" cy="17830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57880" y="3468600"/>
            <a:ext cx="1227240" cy="13208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05120" y="2432160"/>
            <a:ext cx="4900680" cy="515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IE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809800" y="1717560"/>
            <a:ext cx="4816440" cy="66852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ATA 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ONG TERM ARCHI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8320" y="3052800"/>
            <a:ext cx="26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TEP-NC for MACH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7600" y="104148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00"/>
                </a:solidFill>
                <a:latin typeface="Arial"/>
              </a:rPr>
              <a:t>STEP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489800" y="3456000"/>
            <a:ext cx="1325520" cy="13492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73720" y="4809960"/>
            <a:ext cx="1227240" cy="4654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37040" y="5391000"/>
            <a:ext cx="4178160" cy="6987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ANUFACTURING – ENTERPRISE DATA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36240" y="-360"/>
            <a:ext cx="49755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2200" y="954000"/>
            <a:ext cx="2073240" cy="965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O BE DELIV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78240" y="966960"/>
            <a:ext cx="2073240" cy="965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45400" y="976320"/>
            <a:ext cx="2073240" cy="965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S DELIV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1200" y="976320"/>
            <a:ext cx="2073600" cy="965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C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2130480"/>
            <a:ext cx="2082960" cy="4269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USTOMER DR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62040" y="2151000"/>
            <a:ext cx="2082960" cy="42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PPLIER DR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2160" y="2181240"/>
            <a:ext cx="2082600" cy="42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PPLIER DR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6520" y="2171880"/>
            <a:ext cx="2082960" cy="42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UPPLIER DRI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7000" y="3193920"/>
            <a:ext cx="4225680" cy="41760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CHINE IN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54440" y="3213000"/>
            <a:ext cx="4226040" cy="4176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CHINE DEPEN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7800" y="3792600"/>
            <a:ext cx="2082960" cy="660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MMER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51240" y="3814920"/>
            <a:ext cx="2073240" cy="631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ANUFACTU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65600" y="3844800"/>
            <a:ext cx="4156200" cy="631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HOP FLOOR (S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6360" y="4676760"/>
            <a:ext cx="8504280" cy="41760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PABILITIES - PROCESS VALIDATION  -  QUALITY CONTROL  -  TRACE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5600" y="5183280"/>
            <a:ext cx="8504280" cy="4176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TANDARDISED DATA STRUCTURES 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INTEROPER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1960" y="2660760"/>
            <a:ext cx="2082960" cy="4269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RPO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67080" y="2681280"/>
            <a:ext cx="2082600" cy="42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AD-CAM SOTF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46840" y="2711520"/>
            <a:ext cx="2082960" cy="42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ME &amp; RE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651200" y="2701800"/>
            <a:ext cx="2082960" cy="42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7040" y="5611680"/>
            <a:ext cx="8504280" cy="417600"/>
          </a:xfrm>
          <a:prstGeom prst="rect">
            <a:avLst/>
          </a:prstGeom>
          <a:solidFill>
            <a:srgbClr val="ccff66"/>
          </a:solidFill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ONG TERM ARCHIVING PRODUCT LIFE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1564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Why STEP-NC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40" y="1533600"/>
            <a:ext cx="7672320" cy="447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nable new generation of smart NC machin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chining features according to process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i-directional transf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integrated DB (no internal PP) for collaborative manufacturing env. towards virtual machi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…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owards direct machining capa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1160" y="223920"/>
            <a:ext cx="77724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Next STEP-NC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85560" y="1714680"/>
            <a:ext cx="6458040" cy="38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Part to be delivered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(features based on complete 3D free-form geometry, tolerance, mate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Process plans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(part program, setup, fixturing, too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Optional tool p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Machining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Resource data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(towards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machine tool model characterization &amp; specific performance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33520" y="3645000"/>
            <a:ext cx="6276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647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3D free-form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features machining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strategy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optim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« Machining surface » real time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Direct machining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Manufacturing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data validation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NC driven simulation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towards virtual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MES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&amp; production planning &amp;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Tracking of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product information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&amp;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life cycle management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71440" y="275760"/>
            <a:ext cx="7772400" cy="8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Next STEP-NC based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536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Work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01760" y="957240"/>
          <a:ext cx="8339040" cy="5249880"/>
        </p:xfrm>
        <a:graphic>
          <a:graphicData uri="http://schemas.openxmlformats.org/drawingml/2006/table">
            <a:tbl>
              <a:tblPr/>
              <a:tblGrid>
                <a:gridCol w="725400"/>
                <a:gridCol w="7613640"/>
              </a:tblGrid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view of technology push and « big industry players » pu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verall definition of a STEP NC workcell prototype for aeronautic and automotive applications (multi-axis milling &amp; inspection ?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D free-form typology and enhanced machining/inpection strategy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chining surface driving con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validation, NC driven simulation, Direct machining controll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nufacturing execution system and PL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mplementation, testbed, demonstration &amp; e-manufacturing, dissemination, standardization recommandatio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roject Managem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22240" y="2754360"/>
            <a:ext cx="3375000" cy="1787400"/>
          </a:xfrm>
          <a:prstGeom prst="rightArrowCallout">
            <a:avLst>
              <a:gd name="adj1" fmla="val 25002"/>
              <a:gd name="adj2" fmla="val 25000"/>
              <a:gd name="adj3" fmla="val 31470"/>
              <a:gd name="adj4" fmla="val 6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43080" y="2886120"/>
            <a:ext cx="3444840" cy="26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32200" y="174600"/>
            <a:ext cx="42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Projec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32000" y="684360"/>
            <a:ext cx="55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Inter regional IMS « Next STEP-NC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46000" y="1224000"/>
            <a:ext cx="53276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4 IMS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sia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(Korean, Japan ?, China 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3052800"/>
            <a:ext cx="418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fr-CH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F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MANUFuture 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35200" y="-360"/>
            <a:ext cx="603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Expected Consortium (1)</a:t>
            </a: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71520" y="1936440"/>
            <a:ext cx="838656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Asia</a:t>
            </a: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: Pohang university, automotive builder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 Narrow"/>
              </a:rPr>
              <a:t>USA</a:t>
            </a: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: STEP-tools, BOEING, UGS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156120" y="247680"/>
            <a:ext cx="28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39920"/>
            <a:ext cx="9144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oal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eak dow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rrie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ep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EP-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NC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79080" y="1006200"/>
            <a:ext cx="787716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EU &amp; Switzerland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jor end-users: AIRBUS, VOLVO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ubcontractors: Program SA, DG (?)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achine-tool &amp; NC: MCM, Fidia, OSAI, Zeiss,</a:t>
            </a: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emens,</a:t>
            </a: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 Mikron,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oftware dev.: CADCAMation, Open-Mind, DS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cademic: ENS-Cachan, EPFL, ETHZ, HESSO, ENSHM-Grenoble,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"/>
              </a:rPr>
              <a:t>Loughborough, WZL, Politechnico Milano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Expected Consortium (2)</a:t>
            </a:r>
            <a:r>
              <a:rPr b="0" lang="fr-CH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Project EU frame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1880" y="1459080"/>
            <a:ext cx="5330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7</a:t>
            </a:r>
            <a:r>
              <a:rPr b="0" lang="fr-CH" sz="2800" spc="-1" strike="noStrike" baseline="30000">
                <a:solidFill>
                  <a:srgbClr val="000000"/>
                </a:solidFill>
                <a:latin typeface="Arial Narrow"/>
              </a:rPr>
              <a:t>th</a:t>
            </a: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 Framework program (2006-200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Expected duration : 36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Starting date : october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Arial Narrow"/>
              </a:rPr>
              <a:t>EU + Swiss partners :  25</a:t>
            </a:r>
            <a:r>
              <a:rPr b="0" lang="fr-CH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23840" y="-360"/>
            <a:ext cx="77724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Reference to some previous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91440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STEP-NC IMS &amp; EU Esprit projects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respective consort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Machine-tool information model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N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In-house MES (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MCM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KOBAS : SOA and customised MES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consort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OPTIMAL &amp; HIMILL real-time milling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Fidia &amp; CADCAM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« Machining surface » driving concept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ENS-Cac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« Rule-surface driving » concept for wire-EDM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CADCAMation, HES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5-axis optimized strategy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Open-Mi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NC-driven simulation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ETHZ + BTH-Swed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High-degree interpolation 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(EPF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2233080"/>
            <a:ext cx="7772400" cy="12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for joining our IMS consort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7360" y="3265560"/>
            <a:ext cx="8907480" cy="14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ly integrated STEP-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chining system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ronau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o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ustry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88720" y="263520"/>
            <a:ext cx="1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HOW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5560" y="1092240"/>
            <a:ext cx="48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i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ig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-us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4920" y="1908000"/>
            <a:ext cx="741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cep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 manufa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751200" y="223920"/>
            <a:ext cx="16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3920" y="1414440"/>
            <a:ext cx="89200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monstrated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ccessful interfa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D/C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ner and a STEP-N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 compliant 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rol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mbedded C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ef. U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781440"/>
            <a:ext cx="88995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ffici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 industry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radig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wards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telligen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olistic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tegrated manufacturing process (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NU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0840" y="32655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39760" y="18720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What are the critical issues ?</a:t>
            </a:r>
            <a:r>
              <a:rPr b="1" lang="fr-CH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9960" y="1046160"/>
            <a:ext cx="780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future is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Customer-centric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Business driven )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43360" y="1954080"/>
            <a:ext cx="3257280" cy="24717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8360" y="4471920"/>
            <a:ext cx="689040" cy="488880"/>
          </a:xfrm>
          <a:prstGeom prst="rightArrow">
            <a:avLst>
              <a:gd name="adj1" fmla="val 50000"/>
              <a:gd name="adj2" fmla="val 352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03320" y="4459320"/>
            <a:ext cx="764064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rt to be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delivere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as it has been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defined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final featur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3D geometry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toleranc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fr-CH" sz="2000" spc="-1" strike="noStrike">
                <a:solidFill>
                  <a:srgbClr val="000000"/>
                </a:solidFill>
                <a:latin typeface="Arial"/>
              </a:rPr>
              <a:t>Airbus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- data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accuracy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(no translation) </a:t>
            </a:r>
            <a:r>
              <a:rPr b="0" i="1" lang="fr-CH" sz="2000" spc="-1" strike="noStrike">
                <a:solidFill>
                  <a:srgbClr val="000000"/>
                </a:solidFill>
                <a:latin typeface="Arial"/>
              </a:rPr>
              <a:t>(UG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5040" y="3987720"/>
            <a:ext cx="10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400" spc="-1" strike="noStrike">
                <a:solidFill>
                  <a:srgbClr val="000000"/>
                </a:solidFill>
                <a:latin typeface="Arial"/>
              </a:rPr>
              <a:t>Ref In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165400" y="223920"/>
            <a:ext cx="59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What are the critical issues</a:t>
            </a:r>
            <a:r>
              <a:rPr b="0" lang="fr-CH" sz="3200" spc="-1" strike="noStrike">
                <a:solidFill>
                  <a:srgbClr val="000000"/>
                </a:solidFill>
                <a:latin typeface="Arial"/>
              </a:rPr>
              <a:t> ?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9960" y="1009800"/>
            <a:ext cx="78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gital data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opera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-manufactur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124080" y="2220840"/>
            <a:ext cx="3421080" cy="27846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816120" y="5184720"/>
            <a:ext cx="832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-NC (&amp; STEP) can be simultaneously used to do work in different places (extended enter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680" y="5214960"/>
            <a:ext cx="561960" cy="377640"/>
          </a:xfrm>
          <a:prstGeom prst="rightArrow">
            <a:avLst>
              <a:gd name="adj1" fmla="val 50000"/>
              <a:gd name="adj2" fmla="val 3720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34080" y="4538520"/>
            <a:ext cx="100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400" spc="-1" strike="noStrike">
                <a:solidFill>
                  <a:srgbClr val="000000"/>
                </a:solidFill>
                <a:latin typeface="Arial"/>
              </a:rPr>
              <a:t>Ref Int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66880" y="255600"/>
            <a:ext cx="655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What are the critical issues ?</a:t>
            </a:r>
            <a:r>
              <a:rPr b="0" lang="fr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H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981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future is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knowledge-based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anks to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bes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utilization of STEP-NC to deliver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better quality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value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492280" y="2556000"/>
            <a:ext cx="102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544920"/>
            <a:ext cx="676440" cy="476280"/>
          </a:xfrm>
          <a:prstGeom prst="rightArrow">
            <a:avLst>
              <a:gd name="adj1" fmla="val 50000"/>
              <a:gd name="adj2" fmla="val 355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7520" y="3519360"/>
            <a:ext cx="855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Need for a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truly integrated STEP-NC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machine with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Direct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machining performance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(close-loo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5520" y="295200"/>
            <a:ext cx="898848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Next STEP-NC focus :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ntroducing new 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STEP-compliant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ntroller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automotive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 aeronautic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r>
              <a:rPr b="1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9880" y="1814400"/>
            <a:ext cx="8844120" cy="39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Free form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shapes and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5 axis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machining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High degree interpolation for design intent (direct surface driving, 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fr-CH" sz="2400" spc="-1" strike="noStrike">
                <a:solidFill>
                  <a:srgbClr val="000000"/>
                </a:solidFill>
                <a:latin typeface="Arial Narrow"/>
              </a:rPr>
              <a:t>ref. Cachan university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Manufacturing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Data Validation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through Real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CNC-driven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Optimised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tool path calculation for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HSM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Feed-back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tracking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for quality &amp; security 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On-going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standardization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Specification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&amp;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characterization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of machine-tool (virtual machin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E-manufacturing</a:t>
            </a:r>
            <a:r>
              <a:rPr b="0" lang="fr-CH" sz="2400" spc="-1" strike="noStrike">
                <a:solidFill>
                  <a:srgbClr val="000000"/>
                </a:solidFill>
                <a:latin typeface="Arial Narrow"/>
              </a:rPr>
              <a:t> (extended entrepri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085760" y="247680"/>
            <a:ext cx="77821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000000"/>
                </a:solidFill>
                <a:latin typeface="Arial"/>
              </a:rPr>
              <a:t>STEP-NC for machining concept</a:t>
            </a:r>
            <a:r>
              <a:rPr b="1" lang="fr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1800" spc="-1" strike="noStrike">
                <a:solidFill>
                  <a:srgbClr val="000000"/>
                </a:solidFill>
                <a:latin typeface="Arial"/>
              </a:rPr>
              <a:t>(ref A.Brail Airbu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6560" y="2260440"/>
            <a:ext cx="336240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 Narrow"/>
              </a:rPr>
              <a:t>CAD STEP file, GD&amp;T,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Arial Narrow"/>
              </a:rPr>
              <a:t>Workpiece to be delivered = Final mechanic 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90960" y="2676600"/>
            <a:ext cx="365040" cy="345960"/>
          </a:xfrm>
          <a:prstGeom prst="rightArrow">
            <a:avLst>
              <a:gd name="adj1" fmla="val 50000"/>
              <a:gd name="adj2" fmla="val 2637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81560" y="1744560"/>
            <a:ext cx="3886200" cy="3706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 Narrow"/>
              </a:rPr>
              <a:t>Front end 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 Narrow"/>
              </a:rPr>
              <a:t>fea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 Narrow"/>
              </a:rPr>
              <a:t>Main se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 Narrow"/>
              </a:rPr>
              <a:t>Macro &amp; Micro workpl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 Narrow"/>
              </a:rPr>
              <a:t>Working Step generation &amp; valid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fr-CH" sz="1800" spc="-1" strike="noStrike">
                <a:solidFill>
                  <a:srgbClr val="000000"/>
                </a:solidFill>
                <a:latin typeface="Arial Narrow"/>
              </a:rPr>
              <a:t>SHOP FLOOR Realtime NC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 Narrow"/>
              </a:rPr>
              <a:t>Detailed trea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 Narrow"/>
              </a:rPr>
              <a:t>Automatic TP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 Narrow"/>
              </a:rPr>
              <a:t>NC-driven monitoring and simulation</a:t>
            </a:r>
            <a:r>
              <a:rPr b="1" lang="fr-C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19720" y="3753000"/>
            <a:ext cx="3825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0200" y="4600440"/>
            <a:ext cx="91116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 Narrow"/>
              </a:rPr>
              <a:t>N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57520" y="4105440"/>
            <a:ext cx="1722240" cy="425160"/>
          </a:xfrm>
          <a:custGeom>
            <a:avLst/>
            <a:gdLst>
              <a:gd name="textAreaLeft" fmla="*/ 301320 w 1722240"/>
              <a:gd name="textAreaRight" fmla="*/ 1248840 w 1722240"/>
              <a:gd name="textAreaTop" fmla="*/ 56880 h 425160"/>
              <a:gd name="textAreaBottom" fmla="*/ 368280 h 425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0646400">
            <a:off x="2537640" y="5084280"/>
            <a:ext cx="1754280" cy="414360"/>
          </a:xfrm>
          <a:custGeom>
            <a:avLst/>
            <a:gdLst>
              <a:gd name="textAreaLeft" fmla="*/ 306720 w 1754280"/>
              <a:gd name="textAreaRight" fmla="*/ 1271880 w 1754280"/>
              <a:gd name="textAreaTop" fmla="*/ 55440 h 414360"/>
              <a:gd name="textAreaBottom" fmla="*/ 358920 h 414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81560" y="1265400"/>
            <a:ext cx="196524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 Narrow"/>
              </a:rPr>
              <a:t>Supplier driven</a:t>
            </a:r>
            <a:r>
              <a:rPr b="0" lang="fr-C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71960" y="1833480"/>
            <a:ext cx="1840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0000"/>
                </a:solidFill>
                <a:latin typeface="Arial Narrow"/>
              </a:rPr>
              <a:t>Customer dr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12880" y="430992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 Narrow"/>
              </a:rPr>
              <a:t>HM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000000"/>
                </a:solidFill>
                <a:latin typeface="Arial Narrow"/>
              </a:rPr>
              <a:t>KOBAS</a:t>
            </a:r>
            <a:r>
              <a:rPr b="0" lang="fr-CH" sz="1800" spc="-1" strike="noStrike">
                <a:solidFill>
                  <a:srgbClr val="000000"/>
                </a:solidFill>
                <a:latin typeface="Arial Narrow"/>
              </a:rPr>
              <a:t> M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6T08:46:55Z</dcterms:created>
  <dc:creator>CADCAMation</dc:creator>
  <dc:description/>
  <dc:language>en-US</dc:language>
  <cp:lastModifiedBy>NGUYENV</cp:lastModifiedBy>
  <cp:lastPrinted>2002-10-27T16:15:05Z</cp:lastPrinted>
  <dcterms:modified xsi:type="dcterms:W3CDTF">2005-10-24T08:16:49Z</dcterms:modified>
  <cp:revision>175</cp:revision>
  <dc:subject/>
  <dc:title>Aucun titre de diapositive</dc:title>
</cp:coreProperties>
</file>