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8108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8108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A4D0BE-6C22-4396-AF54-40B7935E077D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Julio Garr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fro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’m going to present a TRACEABILITY INFORMATION MODEL FOR AP238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THER problem comes from the complexity of the suuply chain, and its today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WO THINGS, for instance, may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Y Be A Local T Data is wrong or incomple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e suply company may Dissapear or be change for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N, IF DATA IS NOT SENd (at the time the product) TO THE MAIN contractor company, IF in the FUTURE it needs this date, it may realices TOO 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WETH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T is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T CAN’T 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OUT  TRACING “WHOW  WELL”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has somtninh dote (that is, when recordidng ptoduct characteristics)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WE FIND THE SAME PROBLEMS COMEING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from product complexity and supply chain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LEX products may have defined thousand of CHARACTERI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SO MANY COMPANIES MAY BE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L THIS MEASUR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HOULD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BE CERTAINLY DONE AND VALIDATE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. EACH FAILURE ONE COULD BRING A BIG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S CONCLÑUSIION, THERE ARE PROBLE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 UNDERTANDAB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BAILAB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 DIS-A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ED FOR PRODUCT CHAR AGREMENT Betwe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M, THE PROPOSITION IS THE INTEGRA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??? THROUGTH THE EMPLOYMENT OF A TRAZ.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ond BOLK is TO PROPOSE AND Explain a 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is A EXAMPLE SCENA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 START FROM a CAM product desing. And WE MAKE a TRACE CONFIGURATION Linked to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OTH ARE SEND TO THE MANUFACTRU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 PRODUCTION, a DATA file is generated for each single manufactued 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gether with the products, theses files are sent back to the contractor si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 it will be able so audit, check and sav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CONFIGURATION FILE IS A PART 2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 IS LINKED with the ap238 design and have internal references to objects in the CAM file. THESE GIVE STRUCURE AND MEANING TO THE T DA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rom this conf file, the final T data files are gener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ith NOW the additional LINK to the final product identification (SERIAL NUMBER)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 These DATA Files come FROM configuration 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 is possible to AUDIT to see if REQIREMNTS HAVE BEEN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is the general Structure of the model.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 THE AP238 to link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- ALSO, the final physicial product manufa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- QND THE MAIN Traceability MODEL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ET HAVR A LOOK FIRST TO THE TRACE PROJECT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ENTITY IS THE HEAD ONE AND DEFINED THE DATA LI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ONE GENETRAL AP238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ONE WITH THE physical piece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 SEVERAL External links to AP238 data objetcs (worpieces) REALTED with INTERNAL data bloks corresponding to MANUF OPERATIONS AND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BOUT T data for Manufacturing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MODEL DEFInes a link between WORKINGSTEPS (in the AP238) and traceability data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 first common set of these trac. Data is considered. It includes data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chine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ol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data not only identifiy these resources but, VERY IMPORTAT, defines TIME STAMPS to RECORD WHEN HAS been started and ENDED IT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 NOW, ABOUT T data for Manuacturing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MODEL DEFInes a link between TOLERANCE, FEAURES OR WORKINGSTEPS (in the AP238) and traceability data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SO, A first common set of these trac. Data is considered. It includes data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CHARCT KIND &amp;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mportant here is that CHA may be predifined in a common repository or created and defined form scra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 GOING TO SKIP BOLK 3 to go fasTER but you can have a look later to SEE PRESENT WORK adn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ming back to the general scenario, will have a lok at some of the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RST, at CONFIGURATION St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 can see here a STEP TOOLS NC Explorer updated to work with the proposed T model in the CONFIGURATION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 see a POP UP window configure T required for a Working step selected in the CAM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same here but with the charateristic FOR a Tolerance selec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tion has 4 BL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 Introduction to Traceability concept and product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 The traceability model propos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The work done until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ere is a squech of the T STEP 21 file result of the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 shows, on GREEN, The external links for a defined characteristics with its related AP238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 RED, it shows how T internal link (for a that characteristic) to its internal co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w, FOLLOWING  THE CONF, A Tra, System at the manufacturing place , TRACK THE DATA CREATING A NEW Part 21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instance, if a TOOL LOT is required to be traced when making a 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, to make one, may be we use a lot, and to make another (BUT IDENTICAL), we use other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n, We generate a part 21 Specifing ONE LOT or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 can see here a STEP TOOLS NC Explorer updated to work with the proposed T model in the VISUALIZATIONG AND AUDIT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 see some POP UP window showing diff altern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mming sequ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isualizing all data about one working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and many oth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 we saw before with a CONFIGURATION FILE, we see Here a  sketch of the T DATA STEP 21 file result of the previou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 shows, on GREEN, The external links for a defined operation with its related AP238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 RED, it shows how T internal link (for a that working step) to its recor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uditing permits, in complex products, check for the correctness and conpleteness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Finish, i’d like to remark that the same model has also thoght to work in assembly manufacturing based on AP203 mod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ere we can see StepTools VIEWER  updated to work with the proposed T model in CONF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ere in AUDITING AND REPORTING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tion has 3 BL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 Introduction to Traceability concept ant product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 The traceability model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The work done until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CONCLUDING and coming back to the PRESented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9000 stadard DEFINES traceability AS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, in other words, that T is tracking, recording all  relevant I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a MANUF: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nstance 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lso even HOW WELL, which means evaluat inf., or checking and OF COUSE, RECORDING, SPECIFIC FINAL PRODUCT CHA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, AS LAST SLID, I’ like to propose to you THE BIG C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IC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is DATA are essential to support others proces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 improve manufacturing proces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PRODUCT LIVE Cicle processes lay INDEED into the  scope of the STEP Standad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IMPLEMENTED  A T SÝSTEM. A GENERA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. BASICLYY, We FIRST need (USE) IDENTIFICATION Technologies to MARK SINGLE PRODUCTS AND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D WILL BE THE LINK OF THE PHISICAL PRODUCT WITH TRACED/RECORDE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(Process)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ING, AND SAVING OF DATA… Data about manufactur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previously, IT HAS TO BE DECIDED WICH DATA IS REQUI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LSO ARE  IMPORTANT ALL THIS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and manag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ly when speaking about T In The extended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 &amp; SPECIFICALY FOR THIS EXTENDED ENTERPRISE SIT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Many supply chain companies, WITH dynamic relation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- ANd also when manufacturing COMPLEX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. HAS TO FACE SOME IMPORTANT AND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WELL KNOW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E OF  THESE PROBLES IS THE DAT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IGNIFICANC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 OR DAT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NDERSTANDABILITY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make the data SELF understandable, among common definition about traceb data, (whic means understand what a roww material lot means, for 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 IS NEEDED ALSO A comon understandability of the manufacturing process. THIS IS ALREADY GEVEN, TODAY; BY STEP A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E2F-5520-44E0-9265-2923DA9C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32E-DC5C-47D2-9BFC-0329AB6B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95E-48CF-47A5-A389-7B5CA173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4EE-F7A5-4011-9B5D-E7275C7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B113-9045-4082-BF4E-2CD5A126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24A-A46D-418A-A8C4-17E8C67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7EDA-7D0B-4E09-98E7-CD78D16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1A8-CD96-450C-8E93-EEB6BF4F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BA0-D481-4114-A451-E1D23CA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117-37D4-43A4-9E7F-CE6BB53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68E-8B32-4CA4-8067-AD3DA92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226-8344-4FD2-87E6-C048A64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0B9C-81BE-4970-B5C4-1727960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6C0-9310-49AA-8CCD-96AF1A3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08C-7657-455B-9330-8787CEA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AD9-6637-4924-A95C-391E6F1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ADF9-F663-4E96-841A-18582E20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9C0-6131-40D7-B569-F7D6F5C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BE8-9A0C-47D2-8E74-D3C780C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0C7-E848-45BB-B00C-F168BAF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E5F-E0DD-4EA5-8603-49B2482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3DE-FDFE-49C9-A922-ED0050F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60A-8C07-45D8-B336-980EEAB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69F-5664-4EE3-9A55-D1776F5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FB1-EF36-42D7-B707-CFF6D157C98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4920" y="82440"/>
            <a:ext cx="110808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4BBE-3ADE-4A67-A10C-C53F45C0B91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8244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3280" y="1654200"/>
            <a:ext cx="46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race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7920" y="5183280"/>
            <a:ext cx="220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ulio Garrido Cam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go University.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garrido@aisa.uvigo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14400" y="4941360"/>
            <a:ext cx="4881600" cy="11160"/>
          </a:xfrm>
          <a:prstGeom prst="line">
            <a:avLst/>
          </a:prstGeom>
          <a:ln w="32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1137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SO TC 184/SC4 Technical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June 12-17, 2005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5360" y="404640"/>
            <a:ext cx="60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traceability information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CNC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097440" cy="2167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67280" y="3860640"/>
            <a:ext cx="3097440" cy="216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blem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8560" y="1771560"/>
            <a:ext cx="7893000" cy="4267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raceability in Dynamic, Complex &amp; Heterogeneous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3440" y="296244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Main Manufactur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 flipH="1">
            <a:off x="6629400" y="2195640"/>
            <a:ext cx="993600" cy="760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flipH="1">
            <a:off x="6076800" y="3903840"/>
            <a:ext cx="712800" cy="545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5218200" y="2894040"/>
            <a:ext cx="712800" cy="546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 flipH="1">
            <a:off x="7534440" y="3368520"/>
            <a:ext cx="712800" cy="54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 flipH="1">
            <a:off x="5148360" y="4626000"/>
            <a:ext cx="712800" cy="546120"/>
          </a:xfrm>
          <a:prstGeom prst="rect">
            <a:avLst/>
          </a:prstGeom>
          <a:ln w="0">
            <a:noFill/>
          </a:ln>
        </p:spPr>
      </p:pic>
      <p:cxnSp>
        <p:nvCxnSpPr>
          <p:cNvPr id="209" name=""/>
          <p:cNvCxnSpPr>
            <a:stCxn id="204" idx="1"/>
            <a:endCxn id="206" idx="0"/>
          </p:cNvCxnSpPr>
          <p:nvPr/>
        </p:nvCxnSpPr>
        <p:spPr>
          <a:xfrm flipV="1" rot="10800000">
            <a:off x="5574600" y="2574720"/>
            <a:ext cx="1054800" cy="319680"/>
          </a:xfrm>
          <a:prstGeom prst="bentConnector2">
            <a:avLst/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5155560" y="33908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A1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28600" y="3914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A2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07320" y="43815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B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04" idx="3"/>
            <a:endCxn id="207" idx="3"/>
          </p:cNvCxnSpPr>
          <p:nvPr/>
        </p:nvCxnSpPr>
        <p:spPr>
          <a:xfrm>
            <a:off x="7623000" y="2574720"/>
            <a:ext cx="626040" cy="1067400"/>
          </a:xfrm>
          <a:prstGeom prst="bentConnector3">
            <a:avLst>
              <a:gd name="adj1" fmla="val 123130"/>
            </a:avLst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7" idx="1"/>
            <a:endCxn id="205" idx="0"/>
          </p:cNvCxnSpPr>
          <p:nvPr/>
        </p:nvCxnSpPr>
        <p:spPr>
          <a:xfrm flipV="1" rot="10800000">
            <a:off x="6433560" y="3641400"/>
            <a:ext cx="1102320" cy="262800"/>
          </a:xfrm>
          <a:prstGeom prst="bentConnector2">
            <a:avLst/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5" idx="1"/>
            <a:endCxn id="208" idx="0"/>
          </p:cNvCxnSpPr>
          <p:nvPr/>
        </p:nvCxnSpPr>
        <p:spPr>
          <a:xfrm flipV="1" rot="10800000">
            <a:off x="5504760" y="4176360"/>
            <a:ext cx="573840" cy="450000"/>
          </a:xfrm>
          <a:prstGeom prst="bentConnector2">
            <a:avLst/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6935760" y="3228840"/>
            <a:ext cx="238320" cy="23832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624560"/>
            <a:ext cx="227160" cy="22680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4800" y="3632040"/>
            <a:ext cx="22716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94160" y="5383080"/>
            <a:ext cx="22716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56600" y="3960720"/>
            <a:ext cx="22716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1055520" y="3846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6960" y="3770280"/>
            <a:ext cx="2914560" cy="2220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23880" y="3157560"/>
            <a:ext cx="504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62320" y="51372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C1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9920" y="2211480"/>
            <a:ext cx="214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1. Traceabili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could be diffcult to under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6160" y="2620800"/>
            <a:ext cx="2757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2. Complex Supply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different suppli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or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122120" y="2693880"/>
            <a:ext cx="6120" cy="106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730760" y="4475160"/>
            <a:ext cx="1487520" cy="1487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blem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8560" y="1771560"/>
            <a:ext cx="7893000" cy="4267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raceability in Dynamic, Complex &amp; Heterogeneous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055520" y="3846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66960" y="3770280"/>
            <a:ext cx="2914560" cy="2220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122120" y="2693880"/>
            <a:ext cx="6120" cy="106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6160" y="2620800"/>
            <a:ext cx="2757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2. Complex Supply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different suppli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or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523880" y="3157560"/>
            <a:ext cx="504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57760" y="2763720"/>
            <a:ext cx="1487520" cy="1487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3440" y="296244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Main Manufactur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flipH="1">
            <a:off x="6629400" y="2195640"/>
            <a:ext cx="993600" cy="760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 flipH="1">
            <a:off x="6076800" y="3903840"/>
            <a:ext cx="712800" cy="545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 flipH="1">
            <a:off x="5218200" y="2894040"/>
            <a:ext cx="712800" cy="546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 flipH="1">
            <a:off x="7534440" y="3368520"/>
            <a:ext cx="71280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 flipH="1">
            <a:off x="5148360" y="4626000"/>
            <a:ext cx="71280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 flipH="1">
            <a:off x="7550280" y="4476600"/>
            <a:ext cx="712800" cy="54612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38" idx="1"/>
            <a:endCxn id="240" idx="0"/>
          </p:cNvCxnSpPr>
          <p:nvPr/>
        </p:nvCxnSpPr>
        <p:spPr>
          <a:xfrm flipV="1" rot="10800000">
            <a:off x="5574600" y="2574720"/>
            <a:ext cx="1054800" cy="319680"/>
          </a:xfrm>
          <a:prstGeom prst="bentConnector2">
            <a:avLst/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5155560" y="33908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A1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28600" y="3914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A2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83320" y="50626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C2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62320" y="51372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C1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7320" y="43815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900" spc="-1" strike="noStrike">
                <a:solidFill>
                  <a:srgbClr val="000000"/>
                </a:solidFill>
                <a:latin typeface="Tahoma"/>
              </a:rPr>
              <a:t>Supplier B</a:t>
            </a: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38" idx="3"/>
            <a:endCxn id="241" idx="3"/>
          </p:cNvCxnSpPr>
          <p:nvPr/>
        </p:nvCxnSpPr>
        <p:spPr>
          <a:xfrm>
            <a:off x="7623000" y="2574720"/>
            <a:ext cx="626040" cy="1067400"/>
          </a:xfrm>
          <a:prstGeom prst="bentConnector3">
            <a:avLst>
              <a:gd name="adj1" fmla="val 123130"/>
            </a:avLst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1" idx="1"/>
            <a:endCxn id="239" idx="0"/>
          </p:cNvCxnSpPr>
          <p:nvPr/>
        </p:nvCxnSpPr>
        <p:spPr>
          <a:xfrm flipV="1" rot="10800000">
            <a:off x="6433560" y="3641400"/>
            <a:ext cx="1102320" cy="262800"/>
          </a:xfrm>
          <a:prstGeom prst="bentConnector2">
            <a:avLst/>
          </a:prstGeom>
          <a:ln w="1260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39" idx="3"/>
            <a:endCxn id="243" idx="1"/>
          </p:cNvCxnSpPr>
          <p:nvPr/>
        </p:nvCxnSpPr>
        <p:spPr>
          <a:xfrm>
            <a:off x="6791400" y="4176720"/>
            <a:ext cx="761040" cy="573840"/>
          </a:xfrm>
          <a:prstGeom prst="bentConnector3">
            <a:avLst>
              <a:gd name="adj1" fmla="val 49645"/>
            </a:avLst>
          </a:prstGeom>
          <a:ln w="2844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935760" y="3228840"/>
            <a:ext cx="238320" cy="23832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11880" y="4624560"/>
            <a:ext cx="227160" cy="22680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84800" y="3632040"/>
            <a:ext cx="227160" cy="22716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94160" y="5383080"/>
            <a:ext cx="22716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66240" y="5294160"/>
            <a:ext cx="22680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87800" y="5638680"/>
            <a:ext cx="314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cc0000"/>
                </a:solidFill>
                <a:latin typeface="Tahoma"/>
              </a:rPr>
              <a:t>(2) Supply Chain Change from Supplier C1 to 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56600" y="3960720"/>
            <a:ext cx="227160" cy="227160"/>
          </a:xfrm>
          <a:prstGeom prst="can">
            <a:avLst>
              <a:gd name="adj" fmla="val 25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4680" y="388152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cc0000"/>
                </a:solidFill>
                <a:latin typeface="Tahoma"/>
              </a:rPr>
              <a:t>(1) Data  Fail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25280" y="536400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cc0000"/>
                </a:solidFill>
                <a:latin typeface="Tahoma"/>
              </a:rPr>
              <a:t>(2) Data  NOT AVAL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541520" y="3274560"/>
            <a:ext cx="1217520" cy="4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70480" y="3327480"/>
            <a:ext cx="2084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2.2 Dynamic re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supply chain is not st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84160" y="2841480"/>
            <a:ext cx="2251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2.1 Internal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data unlinked betwe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9920" y="2211480"/>
            <a:ext cx="214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1. Traceabili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could be diffcult to under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31800" y="1773000"/>
            <a:ext cx="7940880" cy="426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 characteris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asurement is an important quality measurement proces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Tolerances and many others 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single failured characteristic, may have a big economic c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eability data” and “characteristic data”, share the sa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blem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x products may have thousands of characteristics defin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manufacture complex products hundreds of suppliers may be involv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blem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724480" y="18018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blem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7840" y="471168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characteristics must be set, defined, recorded, communicated, audited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4846680"/>
            <a:ext cx="51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7840" y="434664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. products can have 100s of different and heterogeneous characteristics def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7840" y="448164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7840" y="3616200"/>
            <a:ext cx="770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ceability databases are not interconnected (internal traceability system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" y="329580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not always available for the main comp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840" y="288612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. multiple, and “eventual” contractor-subcontractor relationshi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40" y="252108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difficult to “understan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7840" y="2155680"/>
            <a:ext cx="770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the product or the manufacturing process is, itself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7840" y="1774800"/>
            <a:ext cx="8224560" cy="30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raceability &amp; characteristics common probl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7840" y="17748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7840" y="20908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7840" y="247824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7840" y="247644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840" y="28414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840" y="32068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7840" y="357192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7840" y="397044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840" y="432432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7840" y="46674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7840" y="50436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840" y="1774800"/>
            <a:ext cx="0" cy="327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660880" y="1774800"/>
            <a:ext cx="11160" cy="327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53280" y="2095560"/>
            <a:ext cx="0" cy="29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880" y="3992400"/>
            <a:ext cx="779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disaggregated, full traceability is difficult to achie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31320" y="2367000"/>
            <a:ext cx="3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39240" y="3844800"/>
            <a:ext cx="3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31320" y="3098880"/>
            <a:ext cx="3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4549680"/>
            <a:ext cx="3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68600" y="5235480"/>
            <a:ext cx="4632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raceability &amp; Characteristics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duct CAM Da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65760" y="5373720"/>
            <a:ext cx="2594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1840" y="5276880"/>
            <a:ext cx="208080" cy="573120"/>
          </a:xfrm>
          <a:custGeom>
            <a:avLst/>
            <a:gdLst>
              <a:gd name="textAreaLeft" fmla="*/ 0 w 208080"/>
              <a:gd name="textAreaRight" fmla="*/ 75240 w 208080"/>
              <a:gd name="textAreaTop" fmla="*/ 14760 h 573120"/>
              <a:gd name="textAreaBottom" fmla="*/ 55836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48600" y="52372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0720" y="5211720"/>
            <a:ext cx="8229600" cy="746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9964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ceability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2037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Traceability &amp;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principles &amp; proble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in Complex Systems. e-Manufacturing (NC System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Product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Traceability Mo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raceability Data Model &amp; Step-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WorkingSteps: Oper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Features &amp; Tolerances: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Im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emo Tool: NC-Explorer &amp; 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uture Wor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Conc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ol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he BIG QUES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27000" y="2625840"/>
            <a:ext cx="1968480" cy="1501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15280" y="46148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030560" y="2849400"/>
            <a:ext cx="698760" cy="5709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139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ple CNC machining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" descr="Tool and die"/>
          <p:cNvPicPr/>
          <p:nvPr/>
        </p:nvPicPr>
        <p:blipFill>
          <a:blip r:embed="rId3"/>
          <a:stretch/>
        </p:blipFill>
        <p:spPr>
          <a:xfrm>
            <a:off x="6734160" y="2370240"/>
            <a:ext cx="1488960" cy="1922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057320" y="2725560"/>
            <a:ext cx="1731960" cy="1301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080" y="2144880"/>
            <a:ext cx="226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CAD/CAM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cc0000"/>
                </a:solidFill>
                <a:latin typeface="Tahoma"/>
              </a:rPr>
              <a:t>+ traceability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89680" y="252396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1 File P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91440" y="2073240"/>
            <a:ext cx="2176200" cy="40496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94160" y="1582560"/>
            <a:ext cx="196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CNC 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cc0000"/>
                </a:solidFill>
                <a:latin typeface="Tahoma"/>
              </a:rPr>
              <a:t>+ traceability reco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85480" y="4964040"/>
            <a:ext cx="246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1 File Per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Manufa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2630520"/>
            <a:ext cx="1082880" cy="68508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(Part 2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39960" y="4457880"/>
            <a:ext cx="1739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30920" y="4994280"/>
            <a:ext cx="792000" cy="685080"/>
          </a:xfrm>
          <a:prstGeom prst="flowChartDocumen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24600" y="5165640"/>
            <a:ext cx="792000" cy="685080"/>
          </a:xfrm>
          <a:prstGeom prst="flowChartDocumen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67240" y="5342040"/>
            <a:ext cx="792360" cy="685080"/>
          </a:xfrm>
          <a:prstGeom prst="flowChartDocumen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27880" y="4788000"/>
            <a:ext cx="1739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4640" y="43322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Inspection (Characterist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19960" y="2097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32040" y="4237200"/>
            <a:ext cx="1968480" cy="1501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1800" y="4267080"/>
            <a:ext cx="185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Data Storage &amp; </a:t>
            </a:r>
            <a:r>
              <a:rPr b="1" lang="nb-NO" sz="1400" spc="-1" strike="noStrike">
                <a:solidFill>
                  <a:srgbClr val="006600"/>
                </a:solidFill>
                <a:latin typeface="Tahoma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3435480"/>
            <a:ext cx="35020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4551480"/>
            <a:ext cx="792360" cy="685080"/>
          </a:xfrm>
          <a:prstGeom prst="flowChartDocument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82640" y="4722840"/>
            <a:ext cx="792360" cy="685080"/>
          </a:xfrm>
          <a:prstGeom prst="flowChartDocument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25640" y="4898880"/>
            <a:ext cx="792000" cy="685080"/>
          </a:xfrm>
          <a:prstGeom prst="flowChartDocument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9920" y="3567240"/>
            <a:ext cx="37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>
            <a:off x="2889000" y="3512880"/>
            <a:ext cx="11880" cy="1175400"/>
          </a:xfrm>
          <a:prstGeom prst="bentConnector3">
            <a:avLst>
              <a:gd name="adj1" fmla="val 2156250"/>
            </a:avLst>
          </a:prstGeom>
          <a:ln w="284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 flipH="1">
            <a:off x="2898360" y="4862520"/>
            <a:ext cx="34909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NC &amp; Traceability Mode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+ Traceability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435640" y="2637000"/>
            <a:ext cx="1503360" cy="1079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2637000"/>
            <a:ext cx="2808360" cy="1079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885080" y="2421000"/>
            <a:ext cx="1108080" cy="1439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0980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NC &amp; Traceability Mode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+ Traceability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23760" y="2787480"/>
            <a:ext cx="1116360" cy="58068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38200" y="2811600"/>
            <a:ext cx="111636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2440" y="2752560"/>
            <a:ext cx="857880" cy="7225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9" idx="0"/>
            <a:endCxn id="340" idx="0"/>
          </p:cNvCxnSpPr>
          <p:nvPr/>
        </p:nvCxnSpPr>
        <p:spPr>
          <a:xfrm flipH="1" rot="16200000">
            <a:off x="2178000" y="2082600"/>
            <a:ext cx="24480" cy="141516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1321200" y="215568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0" idx="3"/>
            <a:endCxn id="341" idx="1"/>
          </p:cNvCxnSpPr>
          <p:nvPr/>
        </p:nvCxnSpPr>
        <p:spPr>
          <a:xfrm>
            <a:off x="3475080" y="3111120"/>
            <a:ext cx="7275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5" name=""/>
          <p:cNvCxnSpPr>
            <a:stCxn id="341" idx="3"/>
          </p:cNvCxnSpPr>
          <p:nvPr/>
        </p:nvCxnSpPr>
        <p:spPr>
          <a:xfrm flipV="1">
            <a:off x="5100480" y="3112200"/>
            <a:ext cx="9756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5878440" y="2813040"/>
            <a:ext cx="8589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41240" y="1773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36040" y="18111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67240" y="190656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88960" y="28828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44720" y="3411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+ traceability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71880" y="4794120"/>
            <a:ext cx="1179360" cy="7981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(Pat 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35280" y="5877000"/>
            <a:ext cx="302436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eability configuratio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36" idx="2"/>
            <a:endCxn id="352" idx="1"/>
          </p:cNvCxnSpPr>
          <p:nvPr/>
        </p:nvCxnSpPr>
        <p:spPr>
          <a:xfrm flipH="1" rot="16200000">
            <a:off x="1908720" y="4052520"/>
            <a:ext cx="1462680" cy="81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5235480" y="3357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+ 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2" idx="3"/>
            <a:endCxn id="335" idx="2"/>
          </p:cNvCxnSpPr>
          <p:nvPr/>
        </p:nvCxnSpPr>
        <p:spPr>
          <a:xfrm flipV="1">
            <a:off x="4273560" y="3729960"/>
            <a:ext cx="1915200" cy="1462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7808760" y="4653000"/>
            <a:ext cx="1150920" cy="10080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59600" y="4475160"/>
            <a:ext cx="1087560" cy="398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ished Pa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 trace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96400" y="4941720"/>
            <a:ext cx="792000" cy="68508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61" idx="2"/>
          </p:cNvCxnSpPr>
          <p:nvPr/>
        </p:nvCxnSpPr>
        <p:spPr>
          <a:xfrm flipH="1" flipV="1" rot="5400000">
            <a:off x="5749920" y="3422160"/>
            <a:ext cx="378360" cy="4099320"/>
          </a:xfrm>
          <a:prstGeom prst="bentConnector4">
            <a:avLst>
              <a:gd name="adj1" fmla="val -28571"/>
              <a:gd name="adj2" fmla="val 5922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6447960" y="522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e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24760" y="3933720"/>
            <a:ext cx="863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40360" y="2492280"/>
            <a:ext cx="115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653000"/>
            <a:ext cx="151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61" idx="0"/>
            <a:endCxn id="364" idx="2"/>
          </p:cNvCxnSpPr>
          <p:nvPr/>
        </p:nvCxnSpPr>
        <p:spPr>
          <a:xfrm flipH="1" flipV="1" rot="5400000">
            <a:off x="3690360" y="3627000"/>
            <a:ext cx="1224720" cy="827640"/>
          </a:xfrm>
          <a:prstGeom prst="bentConnector3">
            <a:avLst>
              <a:gd name="adj1" fmla="val 4992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3852360" y="4111560"/>
            <a:ext cx="123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n 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2080" y="3116160"/>
            <a:ext cx="113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12920" y="5157720"/>
            <a:ext cx="306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53" idx="1"/>
            <a:endCxn id="368" idx="2"/>
          </p:cNvCxnSpPr>
          <p:nvPr/>
        </p:nvCxnSpPr>
        <p:spPr>
          <a:xfrm rot="10800000">
            <a:off x="3266280" y="5560200"/>
            <a:ext cx="359640" cy="739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546200" y="4176720"/>
            <a:ext cx="3421080" cy="197784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371" name=""/>
          <p:cNvSpPr/>
          <p:nvPr/>
        </p:nvSpPr>
        <p:spPr>
          <a:xfrm>
            <a:off x="5148360" y="437364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73861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1989000"/>
            <a:ext cx="2448000" cy="40420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28600" y="228816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04360" y="501984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27880" y="408744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5" idx="0"/>
            <a:endCxn id="373" idx="2"/>
          </p:cNvCxnSpPr>
          <p:nvPr/>
        </p:nvCxnSpPr>
        <p:spPr>
          <a:xfrm flipV="1">
            <a:off x="2079360" y="3739320"/>
            <a:ext cx="1080" cy="3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4" idx="0"/>
            <a:endCxn id="375" idx="2"/>
          </p:cNvCxnSpPr>
          <p:nvPr/>
        </p:nvCxnSpPr>
        <p:spPr>
          <a:xfrm flipV="1" rot="16200000">
            <a:off x="1916640" y="4848480"/>
            <a:ext cx="327600" cy="2160"/>
          </a:xfrm>
          <a:prstGeom prst="bentConnector3">
            <a:avLst>
              <a:gd name="adj1" fmla="val 513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4944240" y="1847880"/>
            <a:ext cx="1706760" cy="1066680"/>
          </a:xfrm>
          <a:prstGeom prst="rect">
            <a:avLst/>
          </a:prstGeom>
          <a:solidFill>
            <a:srgbClr val="ffff66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/>
          <p:nvPr/>
        </p:nvCxnSpPr>
        <p:spPr>
          <a:xfrm flipV="1" rot="10800000">
            <a:off x="3053520" y="2203920"/>
            <a:ext cx="1872360" cy="623160"/>
          </a:xfrm>
          <a:prstGeom prst="bentConnector3">
            <a:avLst>
              <a:gd name="adj1" fmla="val 4994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3060360" y="1700280"/>
            <a:ext cx="1913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link to Ap238 file/docu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ocumen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7680" y="3511080"/>
            <a:ext cx="1700640" cy="5785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78" idx="2"/>
          </p:cNvCxnSpPr>
          <p:nvPr/>
        </p:nvCxnSpPr>
        <p:spPr>
          <a:xfrm flipH="1" flipV="1" rot="5400000">
            <a:off x="5013720" y="2707200"/>
            <a:ext cx="558000" cy="1010160"/>
          </a:xfrm>
          <a:prstGeom prst="bentConnector3">
            <a:avLst>
              <a:gd name="adj1" fmla="val 4983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81" idx="1"/>
            <a:endCxn id="373" idx="3"/>
          </p:cNvCxnSpPr>
          <p:nvPr/>
        </p:nvCxnSpPr>
        <p:spPr>
          <a:xfrm rot="10800000">
            <a:off x="3053520" y="3002760"/>
            <a:ext cx="861120" cy="797760"/>
          </a:xfrm>
          <a:prstGeom prst="bentConnector3">
            <a:avLst>
              <a:gd name="adj1" fmla="val 499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443760" y="3271680"/>
            <a:ext cx="653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6160" y="4336920"/>
            <a:ext cx="88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 re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1" idx="2"/>
            <a:endCxn id="387" idx="0"/>
          </p:cNvCxnSpPr>
          <p:nvPr/>
        </p:nvCxnSpPr>
        <p:spPr>
          <a:xfrm rot="5400000">
            <a:off x="3992040" y="4436640"/>
            <a:ext cx="1122840" cy="469080"/>
          </a:xfrm>
          <a:prstGeom prst="bentConnector3">
            <a:avLst>
              <a:gd name="adj1" fmla="val 499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011480" y="5241960"/>
            <a:ext cx="614520" cy="4492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H="1" rot="16200000">
            <a:off x="5513400" y="3411720"/>
            <a:ext cx="1430640" cy="432360"/>
          </a:xfrm>
          <a:prstGeom prst="bentConnector3">
            <a:avLst>
              <a:gd name="adj1" fmla="val 496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1033560" y="1809720"/>
            <a:ext cx="771480" cy="307080"/>
          </a:xfrm>
          <a:prstGeom prst="rec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p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1600" y="5526000"/>
            <a:ext cx="14335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rkingSt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ceabilit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64360" y="436572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66667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33640" y="5526000"/>
            <a:ext cx="14029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ure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leran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41800" y="3416400"/>
            <a:ext cx="1688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Operation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18160" y="3056040"/>
            <a:ext cx="193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Characteristic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18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raceability Model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74" idx="2"/>
            <a:endCxn id="396" idx="0"/>
          </p:cNvCxnSpPr>
          <p:nvPr/>
        </p:nvCxnSpPr>
        <p:spPr>
          <a:xfrm flipH="1">
            <a:off x="2072880" y="5482800"/>
            <a:ext cx="8640" cy="4755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/>
          <p:nvPr/>
        </p:nvCxnSpPr>
        <p:spPr>
          <a:xfrm flipH="1" rot="16200000">
            <a:off x="6699960" y="2811600"/>
            <a:ext cx="1432440" cy="1656720"/>
          </a:xfrm>
          <a:prstGeom prst="bentConnector3">
            <a:avLst>
              <a:gd name="adj1" fmla="val 2227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546200" y="4176720"/>
            <a:ext cx="3421080" cy="197784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401" name=""/>
          <p:cNvSpPr/>
          <p:nvPr/>
        </p:nvSpPr>
        <p:spPr>
          <a:xfrm>
            <a:off x="5148360" y="437364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73861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1989000"/>
            <a:ext cx="2448000" cy="40420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28600" y="228816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04360" y="501984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27880" y="408744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0"/>
            <a:endCxn id="403" idx="2"/>
          </p:cNvCxnSpPr>
          <p:nvPr/>
        </p:nvCxnSpPr>
        <p:spPr>
          <a:xfrm flipV="1">
            <a:off x="2079360" y="3739320"/>
            <a:ext cx="1080" cy="3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4" idx="0"/>
            <a:endCxn id="405" idx="2"/>
          </p:cNvCxnSpPr>
          <p:nvPr/>
        </p:nvCxnSpPr>
        <p:spPr>
          <a:xfrm flipV="1" rot="16200000">
            <a:off x="1916640" y="4848480"/>
            <a:ext cx="327600" cy="2160"/>
          </a:xfrm>
          <a:prstGeom prst="bentConnector3">
            <a:avLst>
              <a:gd name="adj1" fmla="val 513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4240" y="1847880"/>
            <a:ext cx="1706760" cy="106668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/>
          <p:nvPr/>
        </p:nvCxnSpPr>
        <p:spPr>
          <a:xfrm flipV="1" rot="10800000">
            <a:off x="3053520" y="2203920"/>
            <a:ext cx="1872360" cy="623160"/>
          </a:xfrm>
          <a:prstGeom prst="bentConnector3">
            <a:avLst>
              <a:gd name="adj1" fmla="val 4994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060360" y="1700280"/>
            <a:ext cx="1913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link to Ap238 file/docu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ocumen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37680" y="3511080"/>
            <a:ext cx="1700640" cy="5785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11" idx="0"/>
            <a:endCxn id="408" idx="2"/>
          </p:cNvCxnSpPr>
          <p:nvPr/>
        </p:nvCxnSpPr>
        <p:spPr>
          <a:xfrm flipH="1" flipV="1" rot="5400000">
            <a:off x="5013720" y="2707200"/>
            <a:ext cx="558000" cy="1010160"/>
          </a:xfrm>
          <a:prstGeom prst="bentConnector3">
            <a:avLst>
              <a:gd name="adj1" fmla="val 4983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1"/>
            <a:endCxn id="403" idx="3"/>
          </p:cNvCxnSpPr>
          <p:nvPr/>
        </p:nvCxnSpPr>
        <p:spPr>
          <a:xfrm rot="10800000">
            <a:off x="3053520" y="3002760"/>
            <a:ext cx="861120" cy="797760"/>
          </a:xfrm>
          <a:prstGeom prst="bentConnector3">
            <a:avLst>
              <a:gd name="adj1" fmla="val 499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3443760" y="3271680"/>
            <a:ext cx="653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26160" y="4336920"/>
            <a:ext cx="88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 re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1" idx="2"/>
            <a:endCxn id="417" idx="0"/>
          </p:cNvCxnSpPr>
          <p:nvPr/>
        </p:nvCxnSpPr>
        <p:spPr>
          <a:xfrm rot="5400000">
            <a:off x="3992040" y="4436640"/>
            <a:ext cx="1122840" cy="469080"/>
          </a:xfrm>
          <a:prstGeom prst="bentConnector3">
            <a:avLst>
              <a:gd name="adj1" fmla="val 499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011480" y="5241960"/>
            <a:ext cx="614520" cy="4492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/>
          <p:nvPr/>
        </p:nvCxnSpPr>
        <p:spPr>
          <a:xfrm flipH="1" rot="16200000">
            <a:off x="5513400" y="3411720"/>
            <a:ext cx="1430640" cy="432360"/>
          </a:xfrm>
          <a:prstGeom prst="bentConnector3">
            <a:avLst>
              <a:gd name="adj1" fmla="val 496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1033560" y="1809720"/>
            <a:ext cx="771480" cy="307080"/>
          </a:xfrm>
          <a:prstGeom prst="rec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p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1600" y="5526000"/>
            <a:ext cx="14335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rkingSt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ceabilit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64360" y="436572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66667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33640" y="5526000"/>
            <a:ext cx="14029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ure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leran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1800" y="3416400"/>
            <a:ext cx="1688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Operation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8160" y="3056040"/>
            <a:ext cx="193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Characteristic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18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ceability Model Heade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4" idx="2"/>
            <a:endCxn id="426" idx="0"/>
          </p:cNvCxnSpPr>
          <p:nvPr/>
        </p:nvCxnSpPr>
        <p:spPr>
          <a:xfrm flipH="1">
            <a:off x="2072880" y="5482800"/>
            <a:ext cx="8640" cy="4755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rot="16200000">
            <a:off x="6699960" y="2811600"/>
            <a:ext cx="1432440" cy="1656720"/>
          </a:xfrm>
          <a:prstGeom prst="bentConnector3">
            <a:avLst>
              <a:gd name="adj1" fmla="val 2227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70120" y="3472920"/>
            <a:ext cx="7710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ceability Project Identific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k between Step File &amp; the Traceability Fi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k between Product Design Data (WorkPiece) &amp; Product Physic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ceability Project Dat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WorkPiece data to be defined &amp; harmoniz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ization, approval data, (STEP modules 10303-1015 &amp; 1012…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ceability Data Defin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ced Operations List(through traced_operation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ced Characteristics List (through traced_characteristic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2743920" y="2003400"/>
            <a:ext cx="170676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/>
          <p:nvPr/>
        </p:nvCxnSpPr>
        <p:spPr>
          <a:xfrm flipV="1" rot="10800000">
            <a:off x="1038960" y="2360160"/>
            <a:ext cx="1686600" cy="192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860040" y="1822320"/>
            <a:ext cx="1913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link to Ap238 file/docu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ocumen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96520" y="2390400"/>
            <a:ext cx="1700640" cy="5785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4" idx="0"/>
            <a:endCxn id="431" idx="3"/>
          </p:cNvCxnSpPr>
          <p:nvPr/>
        </p:nvCxnSpPr>
        <p:spPr>
          <a:xfrm rot="5400000">
            <a:off x="5573880" y="1263240"/>
            <a:ext cx="167040" cy="2378880"/>
          </a:xfrm>
          <a:prstGeom prst="bentConnector4">
            <a:avLst>
              <a:gd name="adj1" fmla="val -131533"/>
              <a:gd name="adj2" fmla="val 6835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4" idx="3"/>
            <a:endCxn id="437" idx="0"/>
          </p:cNvCxnSpPr>
          <p:nvPr/>
        </p:nvCxnSpPr>
        <p:spPr>
          <a:xfrm>
            <a:off x="7719840" y="2679480"/>
            <a:ext cx="426240" cy="371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5369040" y="3159000"/>
            <a:ext cx="8755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238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02920" y="3051000"/>
            <a:ext cx="88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 re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4" idx="1"/>
            <a:endCxn id="438" idx="0"/>
          </p:cNvCxnSpPr>
          <p:nvPr/>
        </p:nvCxnSpPr>
        <p:spPr>
          <a:xfrm flipV="1" rot="10800000">
            <a:off x="5806440" y="2678760"/>
            <a:ext cx="167040" cy="479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818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ceability Model Heade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3280" y="1654200"/>
            <a:ext cx="46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race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5360" y="404640"/>
            <a:ext cx="60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traceability information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CNC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5080" y="4033800"/>
            <a:ext cx="435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his work is support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he Spanish Bureau of Science and Technolog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MCYT (Ministerio de Ciencia Y Tecnologí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as project DPI2003-0196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541520" y="4086360"/>
            <a:ext cx="3564000" cy="20620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442" name=""/>
          <p:cNvSpPr/>
          <p:nvPr/>
        </p:nvSpPr>
        <p:spPr>
          <a:xfrm>
            <a:off x="5148360" y="437364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73861"/>
            </a:avLst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_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tions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26920" y="1989000"/>
            <a:ext cx="2448000" cy="40420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28600" y="228816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4360" y="501984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27880" y="408744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6" idx="0"/>
            <a:endCxn id="444" idx="2"/>
          </p:cNvCxnSpPr>
          <p:nvPr/>
        </p:nvCxnSpPr>
        <p:spPr>
          <a:xfrm flipV="1">
            <a:off x="2079360" y="3739320"/>
            <a:ext cx="1080" cy="3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5" idx="0"/>
            <a:endCxn id="446" idx="2"/>
          </p:cNvCxnSpPr>
          <p:nvPr/>
        </p:nvCxnSpPr>
        <p:spPr>
          <a:xfrm flipV="1" rot="16200000">
            <a:off x="1916640" y="4848480"/>
            <a:ext cx="327600" cy="2160"/>
          </a:xfrm>
          <a:prstGeom prst="bentConnector3">
            <a:avLst>
              <a:gd name="adj1" fmla="val 513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4944240" y="1847880"/>
            <a:ext cx="170676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/>
          <p:nvPr/>
        </p:nvCxnSpPr>
        <p:spPr>
          <a:xfrm flipV="1" rot="10800000">
            <a:off x="3053520" y="2203920"/>
            <a:ext cx="1872360" cy="623160"/>
          </a:xfrm>
          <a:prstGeom prst="bentConnector3">
            <a:avLst>
              <a:gd name="adj1" fmla="val 4994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3060360" y="1700280"/>
            <a:ext cx="1913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link to Ap238 file/docu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ocumen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7680" y="3511080"/>
            <a:ext cx="1700640" cy="5785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0"/>
            <a:endCxn id="449" idx="2"/>
          </p:cNvCxnSpPr>
          <p:nvPr/>
        </p:nvCxnSpPr>
        <p:spPr>
          <a:xfrm flipH="1" flipV="1" rot="5400000">
            <a:off x="5013720" y="2707200"/>
            <a:ext cx="558000" cy="1010160"/>
          </a:xfrm>
          <a:prstGeom prst="bentConnector3">
            <a:avLst>
              <a:gd name="adj1" fmla="val 4983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1"/>
            <a:endCxn id="444" idx="3"/>
          </p:cNvCxnSpPr>
          <p:nvPr/>
        </p:nvCxnSpPr>
        <p:spPr>
          <a:xfrm rot="10800000">
            <a:off x="3053520" y="3002760"/>
            <a:ext cx="861120" cy="797760"/>
          </a:xfrm>
          <a:prstGeom prst="bentConnector3">
            <a:avLst>
              <a:gd name="adj1" fmla="val 499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3421440" y="3213000"/>
            <a:ext cx="653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26160" y="4336920"/>
            <a:ext cx="88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 re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2"/>
            <a:endCxn id="458" idx="0"/>
          </p:cNvCxnSpPr>
          <p:nvPr/>
        </p:nvCxnSpPr>
        <p:spPr>
          <a:xfrm rot="5400000">
            <a:off x="4049640" y="4482000"/>
            <a:ext cx="1110240" cy="366120"/>
          </a:xfrm>
          <a:prstGeom prst="bentConnector3">
            <a:avLst>
              <a:gd name="adj1" fmla="val 499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4132440" y="5229360"/>
            <a:ext cx="580680" cy="3715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/>
          <p:nvPr/>
        </p:nvCxnSpPr>
        <p:spPr>
          <a:xfrm flipH="1" rot="16200000">
            <a:off x="5513400" y="3411720"/>
            <a:ext cx="1430640" cy="432360"/>
          </a:xfrm>
          <a:prstGeom prst="bentConnector3">
            <a:avLst>
              <a:gd name="adj1" fmla="val 496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1033560" y="1809720"/>
            <a:ext cx="771480" cy="307080"/>
          </a:xfrm>
          <a:prstGeom prst="rec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p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1600" y="5526000"/>
            <a:ext cx="14335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rkingSt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ceabilit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436572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66667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C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33640" y="5526000"/>
            <a:ext cx="14029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ure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leran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1800" y="3416400"/>
            <a:ext cx="1688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Operation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18160" y="3056040"/>
            <a:ext cx="193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Characteristic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ingSteps. Opera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45" idx="2"/>
            <a:endCxn id="467" idx="0"/>
          </p:cNvCxnSpPr>
          <p:nvPr/>
        </p:nvCxnSpPr>
        <p:spPr>
          <a:xfrm flipH="1">
            <a:off x="2072880" y="5482800"/>
            <a:ext cx="8640" cy="4755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/>
          <p:nvPr/>
        </p:nvCxnSpPr>
        <p:spPr>
          <a:xfrm flipH="1" rot="16200000">
            <a:off x="6699960" y="2811600"/>
            <a:ext cx="1432440" cy="1656720"/>
          </a:xfrm>
          <a:prstGeom prst="bentConnector3">
            <a:avLst>
              <a:gd name="adj1" fmla="val 2227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68360" y="2952720"/>
            <a:ext cx="5616360" cy="3141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11200" y="3325680"/>
            <a:ext cx="4781520" cy="27673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ingSteps. Opera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18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 the heart of the STEP-NC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kplans containing a sequence of Workingstep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Workingstep associates an operation with 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ature on the Workpiec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2771640" y="3259080"/>
            <a:ext cx="115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3280" y="2995560"/>
            <a:ext cx="1368720" cy="144144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86320" y="2870280"/>
            <a:ext cx="1093680" cy="24624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p238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8920" y="3206880"/>
            <a:ext cx="15130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WorkingStep #97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WorkingStep #9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WorkingStep #9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WorkingStep #9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WorkingStep #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30064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19920" y="300708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 #9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67280" y="29973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43640" y="1938240"/>
            <a:ext cx="2241720" cy="293076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72360" y="4797360"/>
            <a:ext cx="2433600" cy="1297080"/>
          </a:xfrm>
          <a:prstGeom prst="wedgeRectCallout">
            <a:avLst>
              <a:gd name="adj1" fmla="val 16078"/>
              <a:gd name="adj2" fmla="val -78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raceability data,  associ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ach Workingstep executed within the physical manufacturing of any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7640" y="1844640"/>
            <a:ext cx="1511280" cy="24624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Traceability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81880" y="2214720"/>
            <a:ext cx="1877760" cy="639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_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perations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19920" y="403092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 #9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19920" y="352764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 #9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81880" y="2660760"/>
            <a:ext cx="3380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88" idx="2"/>
            <a:endCxn id="486" idx="1"/>
          </p:cNvCxnSpPr>
          <p:nvPr/>
        </p:nvCxnSpPr>
        <p:spPr>
          <a:xfrm flipH="1" rot="16200000">
            <a:off x="6147720" y="3466440"/>
            <a:ext cx="1365840" cy="1594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87" idx="1"/>
            <a:endCxn id="488" idx="2"/>
          </p:cNvCxnSpPr>
          <p:nvPr/>
        </p:nvCxnSpPr>
        <p:spPr>
          <a:xfrm rot="10800000">
            <a:off x="6751080" y="2863080"/>
            <a:ext cx="159480" cy="862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1" name=""/>
          <p:cNvCxnSpPr>
            <a:stCxn id="480" idx="1"/>
            <a:endCxn id="488" idx="2"/>
          </p:cNvCxnSpPr>
          <p:nvPr/>
        </p:nvCxnSpPr>
        <p:spPr>
          <a:xfrm rot="10800000">
            <a:off x="6751080" y="2863080"/>
            <a:ext cx="159480" cy="3420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924360" y="45086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86" idx="2"/>
            <a:endCxn id="492" idx="3"/>
          </p:cNvCxnSpPr>
          <p:nvPr/>
        </p:nvCxnSpPr>
        <p:spPr>
          <a:xfrm rot="5400000">
            <a:off x="5894640" y="2836080"/>
            <a:ext cx="243360" cy="34646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75" idx="3"/>
            <a:endCxn id="492" idx="0"/>
          </p:cNvCxnSpPr>
          <p:nvPr/>
        </p:nvCxnSpPr>
        <p:spPr>
          <a:xfrm>
            <a:off x="3924000" y="3517920"/>
            <a:ext cx="18180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4643280" y="3789360"/>
            <a:ext cx="358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5" idx="1"/>
            <a:endCxn id="492" idx="0"/>
          </p:cNvCxnSpPr>
          <p:nvPr/>
        </p:nvCxnSpPr>
        <p:spPr>
          <a:xfrm flipV="1" rot="10800000">
            <a:off x="4104720" y="3936600"/>
            <a:ext cx="538560" cy="572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5867280" y="2263680"/>
            <a:ext cx="1871640" cy="1144800"/>
          </a:xfrm>
          <a:prstGeom prst="downArrowCallout">
            <a:avLst>
              <a:gd name="adj1" fmla="val 40876"/>
              <a:gd name="adj2" fmla="val 40873"/>
              <a:gd name="adj3" fmla="val 16667"/>
              <a:gd name="adj4" fmla="val 66667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0040" y="3597120"/>
            <a:ext cx="1937160" cy="100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57200" y="3612960"/>
            <a:ext cx="15210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78520" y="3500280"/>
            <a:ext cx="15188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_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04960" y="5445000"/>
            <a:ext cx="1014480" cy="28548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l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52640" y="5567400"/>
            <a:ext cx="1238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sed_tool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18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ingSteps. Opera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3)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6640" y="1752480"/>
            <a:ext cx="8118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5840" indent="-37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ected Operation traceability data. STEP-NC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34884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ol usage, identification &amp; tim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34884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w Materials identification + logistic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34884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es, Machine Operators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34884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l is Open to new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68360" y="3499920"/>
            <a:ext cx="8351640" cy="2592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0840" y="4100040"/>
            <a:ext cx="1735920" cy="5180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Manufacturing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_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35320" y="4770360"/>
            <a:ext cx="11142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080" y="5211720"/>
            <a:ext cx="16506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Raw_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63920" y="5643360"/>
            <a:ext cx="8856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5320" y="4856040"/>
            <a:ext cx="140904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w_Materi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75280" y="5445000"/>
            <a:ext cx="180684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DM Oper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5080" y="4741920"/>
            <a:ext cx="117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perator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62000" y="5145120"/>
            <a:ext cx="1489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sed_material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98" idx="1"/>
            <a:endCxn id="499" idx="3"/>
          </p:cNvCxnSpPr>
          <p:nvPr/>
        </p:nvCxnSpPr>
        <p:spPr>
          <a:xfrm rot="10800000">
            <a:off x="2890080" y="3764880"/>
            <a:ext cx="2904120" cy="335520"/>
          </a:xfrm>
          <a:prstGeom prst="bentConnector3">
            <a:avLst>
              <a:gd name="adj1" fmla="val 499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"/>
          <p:cNvCxnSpPr/>
          <p:nvPr/>
        </p:nvCxnSpPr>
        <p:spPr>
          <a:xfrm flipV="1" rot="10800000">
            <a:off x="2891880" y="4177080"/>
            <a:ext cx="2904120" cy="259560"/>
          </a:xfrm>
          <a:prstGeom prst="bentConnector3">
            <a:avLst>
              <a:gd name="adj1" fmla="val 386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 flipH="1" rot="16200000">
            <a:off x="7115040" y="4889160"/>
            <a:ext cx="813600" cy="280080"/>
          </a:xfrm>
          <a:prstGeom prst="bentConnector3">
            <a:avLst>
              <a:gd name="adj1" fmla="val 4997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10" idx="1"/>
            <a:endCxn id="512" idx="3"/>
          </p:cNvCxnSpPr>
          <p:nvPr/>
        </p:nvCxnSpPr>
        <p:spPr>
          <a:xfrm rot="10800000">
            <a:off x="2231280" y="5103000"/>
            <a:ext cx="456480" cy="261000"/>
          </a:xfrm>
          <a:prstGeom prst="bentConnector3">
            <a:avLst>
              <a:gd name="adj1" fmla="val 498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11" idx="1"/>
            <a:endCxn id="501" idx="3"/>
          </p:cNvCxnSpPr>
          <p:nvPr/>
        </p:nvCxnSpPr>
        <p:spPr>
          <a:xfrm rot="10800000">
            <a:off x="1836000" y="5596920"/>
            <a:ext cx="1612080" cy="199080"/>
          </a:xfrm>
          <a:prstGeom prst="bentConnector3">
            <a:avLst>
              <a:gd name="adj1" fmla="val 499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8" idx="2"/>
            <a:endCxn id="509" idx="3"/>
          </p:cNvCxnSpPr>
          <p:nvPr/>
        </p:nvCxnSpPr>
        <p:spPr>
          <a:xfrm rot="5400000">
            <a:off x="5421600" y="3566160"/>
            <a:ext cx="300600" cy="241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498" idx="2"/>
            <a:endCxn id="510" idx="3"/>
          </p:cNvCxnSpPr>
          <p:nvPr/>
        </p:nvCxnSpPr>
        <p:spPr>
          <a:xfrm rot="5400000">
            <a:off x="5200920" y="3786480"/>
            <a:ext cx="741960" cy="241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498" idx="2"/>
            <a:endCxn id="511" idx="3"/>
          </p:cNvCxnSpPr>
          <p:nvPr/>
        </p:nvCxnSpPr>
        <p:spPr>
          <a:xfrm rot="5400000">
            <a:off x="4984920" y="4002480"/>
            <a:ext cx="1173960" cy="241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1251000" y="4329000"/>
            <a:ext cx="3924360" cy="2270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148360" y="437364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72833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6920" y="1989000"/>
            <a:ext cx="2448000" cy="40420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28600" y="228816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4360" y="501984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880" y="408744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0"/>
            <a:endCxn id="527" idx="2"/>
          </p:cNvCxnSpPr>
          <p:nvPr/>
        </p:nvCxnSpPr>
        <p:spPr>
          <a:xfrm flipV="1">
            <a:off x="2079360" y="3739320"/>
            <a:ext cx="1080" cy="3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8" idx="0"/>
            <a:endCxn id="529" idx="2"/>
          </p:cNvCxnSpPr>
          <p:nvPr/>
        </p:nvCxnSpPr>
        <p:spPr>
          <a:xfrm flipV="1" rot="16200000">
            <a:off x="1916640" y="4848480"/>
            <a:ext cx="327600" cy="2160"/>
          </a:xfrm>
          <a:prstGeom prst="bentConnector3">
            <a:avLst>
              <a:gd name="adj1" fmla="val 513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4944240" y="1847880"/>
            <a:ext cx="170676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/>
          <p:nvPr/>
        </p:nvCxnSpPr>
        <p:spPr>
          <a:xfrm flipV="1" rot="10800000">
            <a:off x="3053520" y="2203920"/>
            <a:ext cx="1872360" cy="623160"/>
          </a:xfrm>
          <a:prstGeom prst="bentConnector3">
            <a:avLst>
              <a:gd name="adj1" fmla="val 4994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060360" y="1700280"/>
            <a:ext cx="1913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link to Ap238 file/docu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ocumen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37680" y="3511080"/>
            <a:ext cx="1700640" cy="5785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0"/>
            <a:endCxn id="532" idx="2"/>
          </p:cNvCxnSpPr>
          <p:nvPr/>
        </p:nvCxnSpPr>
        <p:spPr>
          <a:xfrm flipH="1" flipV="1" rot="5400000">
            <a:off x="5013720" y="2707200"/>
            <a:ext cx="558000" cy="1010160"/>
          </a:xfrm>
          <a:prstGeom prst="bentConnector3">
            <a:avLst>
              <a:gd name="adj1" fmla="val 4983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5" idx="1"/>
            <a:endCxn id="527" idx="3"/>
          </p:cNvCxnSpPr>
          <p:nvPr/>
        </p:nvCxnSpPr>
        <p:spPr>
          <a:xfrm rot="10800000">
            <a:off x="3053520" y="3002760"/>
            <a:ext cx="861120" cy="797760"/>
          </a:xfrm>
          <a:prstGeom prst="bentConnector3">
            <a:avLst>
              <a:gd name="adj1" fmla="val 499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3443760" y="3213000"/>
            <a:ext cx="653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26160" y="4359240"/>
            <a:ext cx="88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duct re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5" idx="2"/>
            <a:endCxn id="541" idx="0"/>
          </p:cNvCxnSpPr>
          <p:nvPr/>
        </p:nvCxnSpPr>
        <p:spPr>
          <a:xfrm rot="5400000">
            <a:off x="3907080" y="4683960"/>
            <a:ext cx="1454760" cy="306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4173480" y="5573880"/>
            <a:ext cx="614520" cy="4474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/>
          <p:nvPr/>
        </p:nvCxnSpPr>
        <p:spPr>
          <a:xfrm flipH="1" rot="16200000">
            <a:off x="5513400" y="3411720"/>
            <a:ext cx="1430640" cy="432360"/>
          </a:xfrm>
          <a:prstGeom prst="bentConnector3">
            <a:avLst>
              <a:gd name="adj1" fmla="val 496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1033560" y="1809720"/>
            <a:ext cx="771480" cy="307080"/>
          </a:xfrm>
          <a:prstGeom prst="rec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p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1600" y="5526000"/>
            <a:ext cx="14335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rkingSt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ceabilit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64360" y="4365720"/>
            <a:ext cx="1871640" cy="1081080"/>
          </a:xfrm>
          <a:prstGeom prst="downArrowCallout">
            <a:avLst>
              <a:gd name="adj1" fmla="val 43286"/>
              <a:gd name="adj2" fmla="val 43282"/>
              <a:gd name="adj3" fmla="val 16667"/>
              <a:gd name="adj4" fmla="val 66667"/>
            </a:avLst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_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33640" y="5526000"/>
            <a:ext cx="140292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ure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leran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41800" y="3429000"/>
            <a:ext cx="16880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Operation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18160" y="3056040"/>
            <a:ext cx="193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ced_Characteristic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18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D&amp;T. Characteris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28" idx="2"/>
            <a:endCxn id="550" idx="0"/>
          </p:cNvCxnSpPr>
          <p:nvPr/>
        </p:nvCxnSpPr>
        <p:spPr>
          <a:xfrm flipH="1">
            <a:off x="2072880" y="5482800"/>
            <a:ext cx="8640" cy="4755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 flipH="1" rot="16200000">
            <a:off x="6699960" y="2811600"/>
            <a:ext cx="1432440" cy="1656720"/>
          </a:xfrm>
          <a:prstGeom prst="bentConnector3">
            <a:avLst>
              <a:gd name="adj1" fmla="val 2227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68360" y="3309840"/>
            <a:ext cx="5521320" cy="2784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11200" y="3325680"/>
            <a:ext cx="4781520" cy="27673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D&amp;T. Characteris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921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EP-NC model supports GD&amp;T. Toler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racteristics could be a wider concep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entity, can support or have,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ecified  by hundreds  of  different 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racteristics should be defined, registered, stored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dited, validated, authentified 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3259080"/>
            <a:ext cx="115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32320" y="3384720"/>
            <a:ext cx="1512720" cy="123336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89400" y="3259080"/>
            <a:ext cx="1093680" cy="24624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p238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98840" y="3602160"/>
            <a:ext cx="17290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Tolerance (dim) #117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Tolerance (size) #12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Tolerance (pos) #1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0000"/>
                </a:solidFill>
                <a:latin typeface="Tahoma"/>
              </a:rPr>
              <a:t>Tolerance (ang) #14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530064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19920" y="300708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characteristic  #1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67280" y="29973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1938240"/>
            <a:ext cx="2241720" cy="293076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72360" y="4797360"/>
            <a:ext cx="2433600" cy="1074960"/>
          </a:xfrm>
          <a:prstGeom prst="wedgeRectCallout">
            <a:avLst>
              <a:gd name="adj1" fmla="val 16078"/>
              <a:gd name="adj2" fmla="val -839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raceability data, associ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ach characteristic tr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or any particular feature or tolerance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27640" y="1844640"/>
            <a:ext cx="1511280" cy="24624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Traceability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81880" y="2305080"/>
            <a:ext cx="1877760" cy="4568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_Characteristic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19920" y="403092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characteris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14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19920" y="3527640"/>
            <a:ext cx="1655640" cy="39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 _characteris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12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81880" y="2660760"/>
            <a:ext cx="3380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71" idx="2"/>
            <a:endCxn id="569" idx="1"/>
          </p:cNvCxnSpPr>
          <p:nvPr/>
        </p:nvCxnSpPr>
        <p:spPr>
          <a:xfrm flipH="1" rot="16200000">
            <a:off x="6147720" y="3466440"/>
            <a:ext cx="1365840" cy="1594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70" idx="1"/>
            <a:endCxn id="571" idx="2"/>
          </p:cNvCxnSpPr>
          <p:nvPr/>
        </p:nvCxnSpPr>
        <p:spPr>
          <a:xfrm rot="10800000">
            <a:off x="6751080" y="2863080"/>
            <a:ext cx="159480" cy="862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4" name=""/>
          <p:cNvCxnSpPr>
            <a:stCxn id="563" idx="1"/>
            <a:endCxn id="571" idx="2"/>
          </p:cNvCxnSpPr>
          <p:nvPr/>
        </p:nvCxnSpPr>
        <p:spPr>
          <a:xfrm rot="10800000">
            <a:off x="6751080" y="2863080"/>
            <a:ext cx="159480" cy="3420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924360" y="45086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69" idx="2"/>
            <a:endCxn id="575" idx="3"/>
          </p:cNvCxnSpPr>
          <p:nvPr/>
        </p:nvCxnSpPr>
        <p:spPr>
          <a:xfrm rot="5400000">
            <a:off x="5894640" y="2836080"/>
            <a:ext cx="243360" cy="34646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58" idx="3"/>
            <a:endCxn id="575" idx="0"/>
          </p:cNvCxnSpPr>
          <p:nvPr/>
        </p:nvCxnSpPr>
        <p:spPr>
          <a:xfrm>
            <a:off x="3924000" y="3517920"/>
            <a:ext cx="18180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4572000" y="3789360"/>
            <a:ext cx="358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61" idx="1"/>
            <a:endCxn id="575" idx="0"/>
          </p:cNvCxnSpPr>
          <p:nvPr/>
        </p:nvCxnSpPr>
        <p:spPr>
          <a:xfrm flipV="1" rot="10800000">
            <a:off x="4104720" y="4228920"/>
            <a:ext cx="294120" cy="280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356520" y="3749400"/>
            <a:ext cx="1882080" cy="70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54160" y="3770280"/>
            <a:ext cx="1527120" cy="30492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78040" y="3513240"/>
            <a:ext cx="1883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haracteristic_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id, name, descip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22640" y="5567400"/>
            <a:ext cx="700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raced?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D&amp;T. Characteris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1805040" y="5958000"/>
            <a:ext cx="534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29440" y="2392200"/>
            <a:ext cx="43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6640" y="1752480"/>
            <a:ext cx="8118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314640" indent="-3146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ected Characteristic traceability Data. STEP-NC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92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racteristic Identification: Implicit or Explicit (Reposi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92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asure Rep. Item for Open Characteristics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92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idation, Verification, Auditing, Comprobation,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92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racterisitcs are heteroge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92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l is Open to new Data or Re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68360" y="3499920"/>
            <a:ext cx="8107200" cy="2592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90840" y="4483080"/>
            <a:ext cx="11142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90480" y="5022720"/>
            <a:ext cx="132300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_timeSt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87600" y="5536800"/>
            <a:ext cx="2398680" cy="5180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_Representation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51640" y="4856040"/>
            <a:ext cx="714240" cy="4770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11880" y="4424400"/>
            <a:ext cx="117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perator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52720" y="4941720"/>
            <a:ext cx="441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80" idx="1"/>
            <a:endCxn id="581" idx="3"/>
          </p:cNvCxnSpPr>
          <p:nvPr/>
        </p:nvCxnSpPr>
        <p:spPr>
          <a:xfrm rot="10800000">
            <a:off x="2689920" y="3922560"/>
            <a:ext cx="3652200" cy="1782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90" idx="1"/>
            <a:endCxn id="592" idx="3"/>
          </p:cNvCxnSpPr>
          <p:nvPr/>
        </p:nvCxnSpPr>
        <p:spPr>
          <a:xfrm rot="10800000">
            <a:off x="1885320" y="5103000"/>
            <a:ext cx="589680" cy="72360"/>
          </a:xfrm>
          <a:prstGeom prst="bentConnector3">
            <a:avLst>
              <a:gd name="adj1" fmla="val 498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80" idx="2"/>
            <a:endCxn id="589" idx="3"/>
          </p:cNvCxnSpPr>
          <p:nvPr/>
        </p:nvCxnSpPr>
        <p:spPr>
          <a:xfrm rot="5400000">
            <a:off x="5376240" y="2714760"/>
            <a:ext cx="165600" cy="3677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80" idx="2"/>
            <a:endCxn id="590" idx="3"/>
          </p:cNvCxnSpPr>
          <p:nvPr/>
        </p:nvCxnSpPr>
        <p:spPr>
          <a:xfrm rot="5400000">
            <a:off x="5210280" y="3088440"/>
            <a:ext cx="705240" cy="3469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80" idx="2"/>
            <a:endCxn id="591" idx="3"/>
          </p:cNvCxnSpPr>
          <p:nvPr/>
        </p:nvCxnSpPr>
        <p:spPr>
          <a:xfrm rot="5400000">
            <a:off x="5434560" y="3933720"/>
            <a:ext cx="1326240" cy="2399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6761160" y="2459160"/>
            <a:ext cx="1936800" cy="1144440"/>
          </a:xfrm>
          <a:prstGeom prst="downArrowCallout">
            <a:avLst>
              <a:gd name="adj1" fmla="val 42313"/>
              <a:gd name="adj2" fmla="val 42309"/>
              <a:gd name="adj3" fmla="val 16667"/>
              <a:gd name="adj4" fmla="val 66667"/>
            </a:avLst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_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9964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ceability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2037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Traceability &amp;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principles &amp; proble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in Complex Systems. e-Manufacturing (NC System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Product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Traceability Mo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Data Model &amp; Step-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WorkingSteps: Oper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eatures &amp; Tolerances: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Im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Demo Tool: NC-Explorer &amp; 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Future Wor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Conc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ol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he BIG QUES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5435640" y="2637000"/>
            <a:ext cx="1503360" cy="1079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2637000"/>
            <a:ext cx="2808360" cy="107928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885080" y="2421000"/>
            <a:ext cx="1108080" cy="14396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00980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Approach + Trac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23760" y="2787480"/>
            <a:ext cx="1116360" cy="58068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38200" y="2811600"/>
            <a:ext cx="111636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2440" y="2752560"/>
            <a:ext cx="857880" cy="7225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7" idx="0"/>
            <a:endCxn id="608" idx="0"/>
          </p:cNvCxnSpPr>
          <p:nvPr/>
        </p:nvCxnSpPr>
        <p:spPr>
          <a:xfrm flipH="1" rot="16200000">
            <a:off x="2178000" y="2082600"/>
            <a:ext cx="24480" cy="141516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321200" y="215568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8" idx="3"/>
            <a:endCxn id="609" idx="1"/>
          </p:cNvCxnSpPr>
          <p:nvPr/>
        </p:nvCxnSpPr>
        <p:spPr>
          <a:xfrm>
            <a:off x="3475080" y="3111120"/>
            <a:ext cx="7275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"/>
          <p:cNvCxnSpPr>
            <a:stCxn id="609" idx="3"/>
          </p:cNvCxnSpPr>
          <p:nvPr/>
        </p:nvCxnSpPr>
        <p:spPr>
          <a:xfrm flipV="1">
            <a:off x="5100480" y="3112200"/>
            <a:ext cx="9756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5878440" y="2813040"/>
            <a:ext cx="8589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41240" y="1773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36040" y="18111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67240" y="190656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88960" y="28828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4720" y="3411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+ traceability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71880" y="4794120"/>
            <a:ext cx="1179360" cy="7981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(Pat 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35280" y="5877000"/>
            <a:ext cx="302436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eability configuratio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04" idx="2"/>
            <a:endCxn id="620" idx="1"/>
          </p:cNvCxnSpPr>
          <p:nvPr/>
        </p:nvCxnSpPr>
        <p:spPr>
          <a:xfrm flipH="1" rot="16200000">
            <a:off x="1908720" y="4052520"/>
            <a:ext cx="1462680" cy="81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5235480" y="3357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+ 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20" idx="3"/>
            <a:endCxn id="603" idx="2"/>
          </p:cNvCxnSpPr>
          <p:nvPr/>
        </p:nvCxnSpPr>
        <p:spPr>
          <a:xfrm flipV="1">
            <a:off x="4273560" y="3729960"/>
            <a:ext cx="1915200" cy="1462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7808760" y="4653000"/>
            <a:ext cx="1150920" cy="10080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959600" y="4497480"/>
            <a:ext cx="1087560" cy="398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ished Pa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 trace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096400" y="4941720"/>
            <a:ext cx="792000" cy="68508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9" idx="2"/>
          </p:cNvCxnSpPr>
          <p:nvPr/>
        </p:nvCxnSpPr>
        <p:spPr>
          <a:xfrm flipH="1" flipV="1" rot="5400000">
            <a:off x="5749920" y="3422160"/>
            <a:ext cx="378360" cy="4099320"/>
          </a:xfrm>
          <a:prstGeom prst="bentConnector4">
            <a:avLst>
              <a:gd name="adj1" fmla="val -39904"/>
              <a:gd name="adj2" fmla="val 5922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6447960" y="522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e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24760" y="3933720"/>
            <a:ext cx="863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40360" y="2492280"/>
            <a:ext cx="115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32000" y="4653000"/>
            <a:ext cx="151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29" idx="0"/>
            <a:endCxn id="632" idx="2"/>
          </p:cNvCxnSpPr>
          <p:nvPr/>
        </p:nvCxnSpPr>
        <p:spPr>
          <a:xfrm flipH="1" flipV="1" rot="5400000">
            <a:off x="3690360" y="3627000"/>
            <a:ext cx="1224720" cy="827640"/>
          </a:xfrm>
          <a:prstGeom prst="bentConnector3">
            <a:avLst>
              <a:gd name="adj1" fmla="val 4992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4" name=""/>
          <p:cNvSpPr/>
          <p:nvPr/>
        </p:nvSpPr>
        <p:spPr>
          <a:xfrm>
            <a:off x="3852360" y="4111560"/>
            <a:ext cx="123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n 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42080" y="3116160"/>
            <a:ext cx="113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12920" y="5157720"/>
            <a:ext cx="306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>
            <a:stCxn id="621" idx="1"/>
            <a:endCxn id="636" idx="2"/>
          </p:cNvCxnSpPr>
          <p:nvPr/>
        </p:nvCxnSpPr>
        <p:spPr>
          <a:xfrm rot="10800000">
            <a:off x="3266280" y="5560200"/>
            <a:ext cx="359640" cy="739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111320" y="2448000"/>
          <a:ext cx="7020000" cy="36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2448000"/>
                    <a:ext cx="70200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Explorer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613480" y="4062240"/>
          <a:ext cx="2093760" cy="163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13480" y="4062240"/>
                    <a:ext cx="20937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544680" y="1722600"/>
            <a:ext cx="842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3000"/>
          </a:bodyPr>
          <a:p>
            <a:pPr marL="295920" indent="-295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tting Traceability requirements on a WorkingSte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920" indent="-295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tracing Oper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5920" indent="-295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3954600" y="2738520"/>
            <a:ext cx="394308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614520" y="2476440"/>
          <a:ext cx="75276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520" y="2476440"/>
                    <a:ext cx="75276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3000" y="-100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Explorer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5435640" y="4091040"/>
          <a:ext cx="2270160" cy="14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4091040"/>
                    <a:ext cx="22701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3780000" y="2738520"/>
          <a:ext cx="4201920" cy="193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80000" y="2738520"/>
                    <a:ext cx="420192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"/>
          <p:cNvSpPr/>
          <p:nvPr/>
        </p:nvSpPr>
        <p:spPr>
          <a:xfrm>
            <a:off x="544680" y="1773360"/>
            <a:ext cx="842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9000"/>
          </a:bodyPr>
          <a:p>
            <a:pPr marL="276840" indent="-276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tting Traceability requirements on a Toleranc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tracing Characteristic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ceability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2037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Traceability &amp;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raceability principles &amp; proble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raceability in Complex Systems. e-Manufacturing (NC System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Product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Traceability Mo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Data Model &amp; Step-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WorkingSteps: Oper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eatures &amp; Tolerances: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Im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emo Tool: NC-Explorer &amp; 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uture Wor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Conc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ol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he BIG QUES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"/>
          <p:cNvGraphicFramePr/>
          <p:nvPr/>
        </p:nvGraphicFramePr>
        <p:xfrm>
          <a:off x="1604880" y="189000"/>
          <a:ext cx="7288200" cy="64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89000"/>
                    <a:ext cx="7288200" cy="64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5148360" y="2381400"/>
            <a:ext cx="3092400" cy="1623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763640" y="3767040"/>
            <a:ext cx="87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90640" y="4941720"/>
            <a:ext cx="8748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24720" y="3141720"/>
            <a:ext cx="87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40320" y="5108400"/>
            <a:ext cx="8748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stCxn id="656" idx="1"/>
            <a:endCxn id="661" idx="1"/>
          </p:cNvCxnSpPr>
          <p:nvPr/>
        </p:nvCxnSpPr>
        <p:spPr>
          <a:xfrm flipH="1" flipV="1" rot="10800000">
            <a:off x="1762560" y="3818520"/>
            <a:ext cx="2520" cy="2221560"/>
          </a:xfrm>
          <a:prstGeom prst="bentConnector3">
            <a:avLst>
              <a:gd name="adj1" fmla="val -2410000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3492360" y="2637000"/>
            <a:ext cx="87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56160" y="5987880"/>
            <a:ext cx="8712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3" idx="3"/>
            <a:endCxn id="658" idx="3"/>
          </p:cNvCxnSpPr>
          <p:nvPr/>
        </p:nvCxnSpPr>
        <p:spPr>
          <a:xfrm flipV="1">
            <a:off x="4642920" y="3193200"/>
            <a:ext cx="2969640" cy="2847240"/>
          </a:xfrm>
          <a:prstGeom prst="bentConnector3">
            <a:avLst>
              <a:gd name="adj1" fmla="val 107698"/>
            </a:avLst>
          </a:prstGeom>
          <a:ln w="1908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5" name=""/>
          <p:cNvCxnSpPr>
            <a:stCxn id="659" idx="3"/>
            <a:endCxn id="662" idx="3"/>
          </p:cNvCxnSpPr>
          <p:nvPr/>
        </p:nvCxnSpPr>
        <p:spPr>
          <a:xfrm flipH="1" flipV="1">
            <a:off x="3579480" y="2688840"/>
            <a:ext cx="1948320" cy="2472480"/>
          </a:xfrm>
          <a:prstGeom prst="bentConnector3">
            <a:avLst>
              <a:gd name="adj1" fmla="val -11735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1763640" y="5987880"/>
            <a:ext cx="8748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/>
          <p:nvPr/>
        </p:nvCxnSpPr>
        <p:spPr>
          <a:xfrm flipH="1" rot="10800000">
            <a:off x="1707120" y="4993560"/>
            <a:ext cx="27720" cy="1046880"/>
          </a:xfrm>
          <a:prstGeom prst="bentConnector3">
            <a:avLst>
              <a:gd name="adj1" fmla="val -228157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5724360" y="1844640"/>
            <a:ext cx="2691000" cy="244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19520" y="1700280"/>
            <a:ext cx="857880" cy="722160"/>
          </a:xfrm>
          <a:prstGeom prst="flowChartDocumen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93080" y="2568600"/>
            <a:ext cx="1439640" cy="27648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ntity ID #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612200" y="2878200"/>
            <a:ext cx="272880" cy="26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28000" y="2292480"/>
            <a:ext cx="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6000" y="5661000"/>
            <a:ext cx="21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238 file &amp; traceability File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40480" y="4616280"/>
            <a:ext cx="216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haracteristic Requeriments Data Fiel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79640" y="4116240"/>
            <a:ext cx="871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3640" y="3193920"/>
            <a:ext cx="871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3349800"/>
            <a:ext cx="216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Traceability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Entity Links/Re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16400" y="6018120"/>
            <a:ext cx="275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(Entity ID 31 </a:t>
            </a:r>
            <a:r>
              <a:rPr b="1" lang="es-E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 Tr_Characteristics #7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5435640" y="2637000"/>
            <a:ext cx="1503360" cy="107928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26920" y="2637000"/>
            <a:ext cx="2808360" cy="1079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7885080" y="2421000"/>
            <a:ext cx="1108080" cy="14396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00980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Approach + Trac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23760" y="2787480"/>
            <a:ext cx="1116360" cy="58068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38200" y="2811600"/>
            <a:ext cx="111636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22440" y="2752560"/>
            <a:ext cx="857880" cy="7225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82" idx="0"/>
            <a:endCxn id="683" idx="0"/>
          </p:cNvCxnSpPr>
          <p:nvPr/>
        </p:nvCxnSpPr>
        <p:spPr>
          <a:xfrm flipH="1" rot="16200000">
            <a:off x="2178000" y="2082600"/>
            <a:ext cx="24480" cy="141516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1321200" y="215568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3" idx="3"/>
            <a:endCxn id="684" idx="1"/>
          </p:cNvCxnSpPr>
          <p:nvPr/>
        </p:nvCxnSpPr>
        <p:spPr>
          <a:xfrm>
            <a:off x="3475080" y="3111120"/>
            <a:ext cx="7275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84" idx="3"/>
          </p:cNvCxnSpPr>
          <p:nvPr/>
        </p:nvCxnSpPr>
        <p:spPr>
          <a:xfrm flipV="1">
            <a:off x="5100480" y="3112200"/>
            <a:ext cx="9756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9" name=""/>
          <p:cNvSpPr/>
          <p:nvPr/>
        </p:nvSpPr>
        <p:spPr>
          <a:xfrm>
            <a:off x="5878440" y="2813040"/>
            <a:ext cx="8589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41240" y="1773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36040" y="18111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67240" y="190656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88960" y="28828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44720" y="3411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+ traceability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71880" y="4794120"/>
            <a:ext cx="1179360" cy="7981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(Pat 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35280" y="5877000"/>
            <a:ext cx="302436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eability configuratio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79" idx="2"/>
            <a:endCxn id="695" idx="1"/>
          </p:cNvCxnSpPr>
          <p:nvPr/>
        </p:nvCxnSpPr>
        <p:spPr>
          <a:xfrm flipH="1" rot="16200000">
            <a:off x="1908720" y="4052520"/>
            <a:ext cx="1462680" cy="81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5235480" y="3357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+ 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95" idx="3"/>
            <a:endCxn id="678" idx="2"/>
          </p:cNvCxnSpPr>
          <p:nvPr/>
        </p:nvCxnSpPr>
        <p:spPr>
          <a:xfrm flipV="1">
            <a:off x="4273560" y="3729960"/>
            <a:ext cx="1915200" cy="1462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7808760" y="4653000"/>
            <a:ext cx="1150920" cy="10080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59600" y="4486320"/>
            <a:ext cx="1087560" cy="3985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nished Pa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+ trace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096400" y="4941720"/>
            <a:ext cx="792000" cy="68508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s P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704" idx="2"/>
          </p:cNvCxnSpPr>
          <p:nvPr/>
        </p:nvCxnSpPr>
        <p:spPr>
          <a:xfrm flipH="1" flipV="1" rot="5400000">
            <a:off x="5749920" y="3422160"/>
            <a:ext cx="378360" cy="4099320"/>
          </a:xfrm>
          <a:prstGeom prst="bentConnector4">
            <a:avLst>
              <a:gd name="adj1" fmla="val -39904"/>
              <a:gd name="adj2" fmla="val 5922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6447960" y="5229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e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24760" y="3933720"/>
            <a:ext cx="863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40360" y="2492280"/>
            <a:ext cx="115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4653000"/>
            <a:ext cx="151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4" idx="0"/>
            <a:endCxn id="707" idx="2"/>
          </p:cNvCxnSpPr>
          <p:nvPr/>
        </p:nvCxnSpPr>
        <p:spPr>
          <a:xfrm flipH="1" flipV="1" rot="5400000">
            <a:off x="3690360" y="3627000"/>
            <a:ext cx="1224720" cy="827640"/>
          </a:xfrm>
          <a:prstGeom prst="bentConnector3">
            <a:avLst>
              <a:gd name="adj1" fmla="val 4992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3852360" y="4111560"/>
            <a:ext cx="123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n 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42080" y="3116160"/>
            <a:ext cx="113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12920" y="5157720"/>
            <a:ext cx="306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696" idx="1"/>
            <a:endCxn id="711" idx="2"/>
          </p:cNvCxnSpPr>
          <p:nvPr/>
        </p:nvCxnSpPr>
        <p:spPr>
          <a:xfrm rot="10800000">
            <a:off x="3266280" y="5560200"/>
            <a:ext cx="359640" cy="739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2502000" y="2303640"/>
          <a:ext cx="2949480" cy="221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2000" y="2303640"/>
                    <a:ext cx="294948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5229360" y="4856040"/>
            <a:ext cx="1779480" cy="126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Explorer. Traceability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893880" y="3417840"/>
            <a:ext cx="3411360" cy="25592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5"/>
          <a:stretch/>
        </p:blipFill>
        <p:spPr>
          <a:xfrm>
            <a:off x="5315040" y="4940280"/>
            <a:ext cx="1547640" cy="11350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6"/>
          <a:stretch/>
        </p:blipFill>
        <p:spPr>
          <a:xfrm>
            <a:off x="5870520" y="2016000"/>
            <a:ext cx="1144800" cy="86040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5721480" y="4114800"/>
            <a:ext cx="377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96000" y="4851360"/>
            <a:ext cx="401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7197840" y="4902120"/>
            <a:ext cx="1547640" cy="11350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7184880" y="2021040"/>
            <a:ext cx="1144800" cy="8604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1560" y="2308320"/>
            <a:ext cx="3792600" cy="3746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61160" y="1338120"/>
            <a:ext cx="3117600" cy="430200"/>
          </a:xfrm>
          <a:prstGeom prst="wedgeRectCallout">
            <a:avLst>
              <a:gd name="adj1" fmla="val 1375"/>
              <a:gd name="adj2" fmla="val 80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Different Tool lots can be employed on the manufacturing process of identical pie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89520" y="1909800"/>
            <a:ext cx="2716200" cy="13161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37400" y="2917800"/>
            <a:ext cx="12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T #TL12-01W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164360" y="29098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T #TL14-25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5960" y="4840200"/>
            <a:ext cx="1779840" cy="126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53240" y="2943360"/>
            <a:ext cx="1149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96040" y="2948040"/>
            <a:ext cx="1149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30" idx="2"/>
          </p:cNvCxnSpPr>
          <p:nvPr/>
        </p:nvCxnSpPr>
        <p:spPr>
          <a:xfrm rot="5400000">
            <a:off x="5395320" y="3823920"/>
            <a:ext cx="1711800" cy="353160"/>
          </a:xfrm>
          <a:prstGeom prst="bentConnector3">
            <a:avLst>
              <a:gd name="adj1" fmla="val 5000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31" idx="2"/>
            <a:endCxn id="729" idx="0"/>
          </p:cNvCxnSpPr>
          <p:nvPr/>
        </p:nvCxnSpPr>
        <p:spPr>
          <a:xfrm flipH="1" rot="16200000">
            <a:off x="7032600" y="3886920"/>
            <a:ext cx="1691280" cy="216360"/>
          </a:xfrm>
          <a:prstGeom prst="bentConnector3">
            <a:avLst>
              <a:gd name="adj1" fmla="val 499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5128920" y="462744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ce Nº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16760" y="46306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ce Nº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139160" y="3889440"/>
            <a:ext cx="1860480" cy="584280"/>
          </a:xfrm>
          <a:prstGeom prst="wedgeRectCallout">
            <a:avLst>
              <a:gd name="adj1" fmla="val 1194"/>
              <a:gd name="adj2" fmla="val 118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This is recorded in the traceability files under tools identif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174760" y="2076480"/>
          <a:ext cx="2949840" cy="221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4760" y="2076480"/>
                    <a:ext cx="29498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104760" y="2470320"/>
            <a:ext cx="1960560" cy="706320"/>
          </a:xfrm>
          <a:prstGeom prst="wedgeRectCallout">
            <a:avLst>
              <a:gd name="adj1" fmla="val 40527"/>
              <a:gd name="adj2" fmla="val 126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The identifiaction, Item or Lot of the tool can be inspecting, when visualizing traceability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52600" y="3300480"/>
            <a:ext cx="1724040" cy="468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18" idx="1"/>
            <a:endCxn id="740" idx="3"/>
          </p:cNvCxnSpPr>
          <p:nvPr/>
        </p:nvCxnSpPr>
        <p:spPr>
          <a:xfrm rot="10800000">
            <a:off x="4075920" y="3534480"/>
            <a:ext cx="1239120" cy="1974240"/>
          </a:xfrm>
          <a:prstGeom prst="bentConnector3">
            <a:avLst>
              <a:gd name="adj1" fmla="val 49985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26" idx="1"/>
            <a:endCxn id="740" idx="3"/>
          </p:cNvCxnSpPr>
          <p:nvPr/>
        </p:nvCxnSpPr>
        <p:spPr>
          <a:xfrm flipV="1" rot="10800000">
            <a:off x="4075920" y="2567520"/>
            <a:ext cx="1713600" cy="967320"/>
          </a:xfrm>
          <a:prstGeom prst="bentConnector3">
            <a:avLst>
              <a:gd name="adj1" fmla="val 4994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29" idx="3"/>
          </p:cNvCxnSpPr>
          <p:nvPr/>
        </p:nvCxnSpPr>
        <p:spPr>
          <a:xfrm flipH="1" flipV="1">
            <a:off x="5451120" y="3411000"/>
            <a:ext cx="3425040" cy="2059920"/>
          </a:xfrm>
          <a:prstGeom prst="bentConnector3">
            <a:avLst>
              <a:gd name="adj1" fmla="val -6675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055520" y="2443320"/>
          <a:ext cx="746316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5520" y="2443320"/>
                    <a:ext cx="746316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3986280" y="2311560"/>
          <a:ext cx="3913200" cy="205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86280" y="2311560"/>
                    <a:ext cx="3913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Explorer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823000" y="4037040"/>
          <a:ext cx="2246400" cy="14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23000" y="4037040"/>
                    <a:ext cx="224640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468360" y="1655640"/>
            <a:ext cx="8130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3000"/>
          </a:bodyPr>
          <a:p>
            <a:pPr marL="295920" indent="-295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specting Traceability data on a Feature. (NC-Explorer Upda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920" indent="-295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Example of Visualization Options: traced characteristics &amp; timings resu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5920" indent="-295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4548240" y="3546360"/>
          <a:ext cx="4138560" cy="216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48240" y="3546360"/>
                    <a:ext cx="41385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4" name="" descr=""/>
          <p:cNvPicPr/>
          <p:nvPr/>
        </p:nvPicPr>
        <p:blipFill>
          <a:blip r:embed="rId10"/>
          <a:stretch/>
        </p:blipFill>
        <p:spPr>
          <a:xfrm>
            <a:off x="566280" y="3962160"/>
            <a:ext cx="39243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536840" y="154080"/>
            <a:ext cx="7337160" cy="65545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5337000" y="1644480"/>
            <a:ext cx="326736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7" name=""/>
          <p:cNvGraphicFramePr/>
          <p:nvPr/>
        </p:nvGraphicFramePr>
        <p:xfrm>
          <a:off x="4076640" y="3392640"/>
          <a:ext cx="4145040" cy="21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3392640"/>
                    <a:ext cx="414504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5913360" y="1197000"/>
            <a:ext cx="2691000" cy="244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8520" y="1052640"/>
            <a:ext cx="857880" cy="722160"/>
          </a:xfrm>
          <a:prstGeom prst="flowChartDocument">
            <a:avLst/>
          </a:prstGeom>
          <a:solidFill>
            <a:srgbClr val="ff676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800840" y="2157480"/>
            <a:ext cx="416160" cy="336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17000" y="1644480"/>
            <a:ext cx="0" cy="31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920" y="4253040"/>
            <a:ext cx="216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Traceability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Entity Links/Re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92360" y="5972040"/>
            <a:ext cx="142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35280" y="215748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4000" y="645336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92360" y="645336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8040" y="2492280"/>
            <a:ext cx="28548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37120" y="612612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92360" y="465300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35280" y="184464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70" idx="1"/>
            <a:endCxn id="767" idx="1"/>
          </p:cNvCxnSpPr>
          <p:nvPr/>
        </p:nvCxnSpPr>
        <p:spPr>
          <a:xfrm flipH="1" flipV="1" rot="10800000">
            <a:off x="1692000" y="4725720"/>
            <a:ext cx="2160" cy="1800720"/>
          </a:xfrm>
          <a:prstGeom prst="bentConnector3">
            <a:avLst>
              <a:gd name="adj1" fmla="val -2410000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73" name=""/>
          <p:cNvCxnSpPr>
            <a:stCxn id="767" idx="1"/>
            <a:endCxn id="764" idx="1"/>
          </p:cNvCxnSpPr>
          <p:nvPr/>
        </p:nvCxnSpPr>
        <p:spPr>
          <a:xfrm flipH="1" rot="10800000">
            <a:off x="1692000" y="6044400"/>
            <a:ext cx="2160" cy="481680"/>
          </a:xfrm>
          <a:prstGeom prst="bentConnector3">
            <a:avLst>
              <a:gd name="adj1" fmla="val -4630000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66" idx="3"/>
            <a:endCxn id="768" idx="2"/>
          </p:cNvCxnSpPr>
          <p:nvPr/>
        </p:nvCxnSpPr>
        <p:spPr>
          <a:xfrm flipV="1">
            <a:off x="5506560" y="2626920"/>
            <a:ext cx="2264760" cy="3899520"/>
          </a:xfrm>
          <a:prstGeom prst="bentConnector2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5762520" y="6167520"/>
            <a:ext cx="21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238 file &amp; traceability File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5084640"/>
            <a:ext cx="142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37040" y="957240"/>
            <a:ext cx="142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51040" y="1947960"/>
            <a:ext cx="142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2520" y="346068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9" idx="3"/>
            <a:endCxn id="776" idx="3"/>
          </p:cNvCxnSpPr>
          <p:nvPr/>
        </p:nvCxnSpPr>
        <p:spPr>
          <a:xfrm flipH="1" flipV="1">
            <a:off x="3419280" y="5157000"/>
            <a:ext cx="1761120" cy="1042200"/>
          </a:xfrm>
          <a:prstGeom prst="bentConnector3">
            <a:avLst>
              <a:gd name="adj1" fmla="val -12983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69" idx="3"/>
            <a:endCxn id="765" idx="3"/>
          </p:cNvCxnSpPr>
          <p:nvPr/>
        </p:nvCxnSpPr>
        <p:spPr>
          <a:xfrm flipH="1" flipV="1">
            <a:off x="3777840" y="2230200"/>
            <a:ext cx="1402560" cy="3969360"/>
          </a:xfrm>
          <a:prstGeom prst="bentConnector3">
            <a:avLst>
              <a:gd name="adj1" fmla="val -1630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69" idx="3"/>
            <a:endCxn id="771" idx="3"/>
          </p:cNvCxnSpPr>
          <p:nvPr/>
        </p:nvCxnSpPr>
        <p:spPr>
          <a:xfrm flipH="1" flipV="1">
            <a:off x="3777840" y="1917000"/>
            <a:ext cx="1402560" cy="4282200"/>
          </a:xfrm>
          <a:prstGeom prst="bentConnector3">
            <a:avLst>
              <a:gd name="adj1" fmla="val -1630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69" idx="3"/>
            <a:endCxn id="777" idx="3"/>
          </p:cNvCxnSpPr>
          <p:nvPr/>
        </p:nvCxnSpPr>
        <p:spPr>
          <a:xfrm flipH="1" flipV="1">
            <a:off x="3278880" y="1029960"/>
            <a:ext cx="1901160" cy="5169600"/>
          </a:xfrm>
          <a:prstGeom prst="bentConnector3">
            <a:avLst>
              <a:gd name="adj1" fmla="val -1202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85" idx="1"/>
            <a:endCxn id="779" idx="1"/>
          </p:cNvCxnSpPr>
          <p:nvPr/>
        </p:nvCxnSpPr>
        <p:spPr>
          <a:xfrm flipV="1" rot="10800000">
            <a:off x="1621800" y="1474920"/>
            <a:ext cx="135720" cy="2057760"/>
          </a:xfrm>
          <a:prstGeom prst="bentConnector3">
            <a:avLst>
              <a:gd name="adj1" fmla="val 26914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6" name=""/>
          <p:cNvSpPr/>
          <p:nvPr/>
        </p:nvSpPr>
        <p:spPr>
          <a:xfrm>
            <a:off x="1765440" y="3267000"/>
            <a:ext cx="2012760" cy="378000"/>
          </a:xfrm>
          <a:prstGeom prst="rect">
            <a:avLst/>
          </a:prstGeom>
          <a:noFill/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588000" y="1916280"/>
            <a:ext cx="1800360" cy="246240"/>
          </a:xfrm>
          <a:prstGeom prst="rect">
            <a:avLst/>
          </a:prstGeom>
          <a:solidFill>
            <a:srgbClr val="ff6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WorkingStep ID #9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97160" y="3790800"/>
            <a:ext cx="2752920" cy="444600"/>
          </a:xfrm>
          <a:prstGeom prst="rect">
            <a:avLst/>
          </a:prstGeom>
          <a:noFill/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6" idx="3"/>
            <a:endCxn id="788" idx="1"/>
          </p:cNvCxnSpPr>
          <p:nvPr/>
        </p:nvCxnSpPr>
        <p:spPr>
          <a:xfrm>
            <a:off x="3778200" y="3456000"/>
            <a:ext cx="319680" cy="558000"/>
          </a:xfrm>
          <a:prstGeom prst="bentConnector3">
            <a:avLst>
              <a:gd name="adj1" fmla="val 4971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68" idx="1"/>
            <a:endCxn id="788" idx="3"/>
          </p:cNvCxnSpPr>
          <p:nvPr/>
        </p:nvCxnSpPr>
        <p:spPr>
          <a:xfrm flipV="1" rot="10800000">
            <a:off x="6849360" y="2559600"/>
            <a:ext cx="778680" cy="1453320"/>
          </a:xfrm>
          <a:prstGeom prst="bentConnector3">
            <a:avLst>
              <a:gd name="adj1" fmla="val 50000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791" name=""/>
          <p:cNvSpPr/>
          <p:nvPr/>
        </p:nvSpPr>
        <p:spPr>
          <a:xfrm>
            <a:off x="1987560" y="1162080"/>
            <a:ext cx="142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28720" y="938160"/>
            <a:ext cx="1429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57520" y="1387440"/>
            <a:ext cx="1425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2" idx="1"/>
            <a:endCxn id="785" idx="1"/>
          </p:cNvCxnSpPr>
          <p:nvPr/>
        </p:nvCxnSpPr>
        <p:spPr>
          <a:xfrm flipH="1" flipV="1" rot="10800000">
            <a:off x="1728360" y="1026720"/>
            <a:ext cx="29520" cy="450000"/>
          </a:xfrm>
          <a:prstGeom prst="bentConnector3">
            <a:avLst>
              <a:gd name="adj1" fmla="val -80000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5765760" y="4486320"/>
            <a:ext cx="2828880" cy="16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5" name=""/>
          <p:cNvGraphicFramePr/>
          <p:nvPr/>
        </p:nvGraphicFramePr>
        <p:xfrm>
          <a:off x="666720" y="2120760"/>
          <a:ext cx="5262480" cy="403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2120760"/>
                    <a:ext cx="526248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" descr=""/>
          <p:cNvPicPr/>
          <p:nvPr/>
        </p:nvPicPr>
        <p:blipFill>
          <a:blip r:embed="rId5"/>
          <a:stretch/>
        </p:blipFill>
        <p:spPr>
          <a:xfrm>
            <a:off x="3989520" y="1981080"/>
            <a:ext cx="4591080" cy="270540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tep-NC Explorer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4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"/>
          <p:cNvSpPr/>
          <p:nvPr/>
        </p:nvSpPr>
        <p:spPr>
          <a:xfrm>
            <a:off x="468360" y="1655640"/>
            <a:ext cx="8130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Fast Auditing Traceability data over characteristics or WorkingSte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21480" y="4114800"/>
            <a:ext cx="377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96000" y="4851360"/>
            <a:ext cx="401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2000" y="2087640"/>
            <a:ext cx="2103480" cy="890640"/>
          </a:xfrm>
          <a:prstGeom prst="wedgeRectCallout">
            <a:avLst>
              <a:gd name="adj1" fmla="val -9018"/>
              <a:gd name="adj2" fmla="val 183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Tools for Visually Audting this data, and fast check with parts are or not traced and which ammoount of data has been completed is import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991120" y="2364840"/>
            <a:ext cx="447840" cy="1003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72080" y="3270240"/>
            <a:ext cx="1778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17880" y="3925800"/>
            <a:ext cx="88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5" idx="3"/>
            <a:endCxn id="804" idx="1"/>
          </p:cNvCxnSpPr>
          <p:nvPr/>
        </p:nvCxnSpPr>
        <p:spPr>
          <a:xfrm flipV="1">
            <a:off x="2206800" y="3375000"/>
            <a:ext cx="2466000" cy="621000"/>
          </a:xfrm>
          <a:prstGeom prst="bentConnector3">
            <a:avLst>
              <a:gd name="adj1" fmla="val 49963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7" name=""/>
          <p:cNvSpPr/>
          <p:nvPr/>
        </p:nvSpPr>
        <p:spPr>
          <a:xfrm>
            <a:off x="7577280" y="5295960"/>
            <a:ext cx="23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4" idx="2"/>
            <a:endCxn id="807" idx="2"/>
          </p:cNvCxnSpPr>
          <p:nvPr/>
        </p:nvCxnSpPr>
        <p:spPr>
          <a:xfrm flipH="1" rot="16200000">
            <a:off x="5206320" y="3032640"/>
            <a:ext cx="2046960" cy="2937600"/>
          </a:xfrm>
          <a:prstGeom prst="bentConnector3">
            <a:avLst>
              <a:gd name="adj1" fmla="val 111169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470560" y="4292640"/>
            <a:ext cx="2859120" cy="582480"/>
          </a:xfrm>
          <a:prstGeom prst="wedgeRectCallout">
            <a:avLst>
              <a:gd name="adj1" fmla="val -6912"/>
              <a:gd name="adj2" fmla="val -228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ast,&amp; Easy to see which pieces, and which data has been correct registered at manufactur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74280" y="539280"/>
            <a:ext cx="80010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lated &amp; Future Work.</a:t>
            </a: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p 203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88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s an example of AP integration and compatibility, the  Model  has also been integrated into AP 203applications (StepTools Viewer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1. Samples of Configuration, Auditing &amp; Visualization of trace requirements over StepView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682560" y="3108240"/>
            <a:ext cx="3700440" cy="297648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4219560" y="2684520"/>
            <a:ext cx="3973680" cy="31971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4592520" y="4022640"/>
            <a:ext cx="18338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1928880" y="3011400"/>
            <a:ext cx="2773440" cy="212904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4313160" y="2406600"/>
            <a:ext cx="3470400" cy="279576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74280" y="539280"/>
            <a:ext cx="80010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Work Done  &amp; Future Work.</a:t>
            </a: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p 203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88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raceability Model in AP 20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2. Samples of Configuration, Auditing &amp; Visualization of trace requirements over StepView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3397320" y="3164040"/>
            <a:ext cx="2940120" cy="179208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71680" y="5288040"/>
            <a:ext cx="79880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raceability Model can be also linked to other 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Examples Ap240, and AP22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9964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ceability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2037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Traceability &amp;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principles &amp; proble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in Complex Systems. e-Manufacturing (NC System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Product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Traceability Mo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raceability Data Model &amp; Step-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WorkingSteps: Oper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eatures &amp; Tolerances: Characterist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Im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emo Tool: NC-Explorer &amp; Traceabili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uture Wor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Conc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Verdana"/>
              </a:rPr>
              <a:t>Sol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he BIG QUES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447840" y="5391000"/>
            <a:ext cx="770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. products can have 100s of different and heterogeneous characteristics def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7840" y="3930480"/>
            <a:ext cx="770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. multiple, and “eventual” contractor-subcontractor relationshi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7840" y="320040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the product or the manufacturing process is, itself  complex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140680" y="3449520"/>
            <a:ext cx="6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39240" y="5640480"/>
            <a:ext cx="6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142120" y="5635800"/>
            <a:ext cx="3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7840" y="5759280"/>
            <a:ext cx="770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characteristics must be set, defined, recorded, communicated, audited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7840" y="429588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not always available for the main comp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7840" y="356868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difficult to “understan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07880" y="5049720"/>
            <a:ext cx="779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raceability data is disaggregated, full traceability is difficult to achie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07880" y="5043600"/>
            <a:ext cx="773604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traceability data as a standard part of PDE (product data exch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7840" y="5756400"/>
            <a:ext cx="7705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generic definition of characteris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9280" y="2320920"/>
            <a:ext cx="8224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raceability in complex &amp; highly dynamic environments (</a:t>
            </a:r>
            <a:r>
              <a:rPr b="1" lang="en-GB" sz="1400" spc="-1" strike="noStrike">
                <a:solidFill>
                  <a:srgbClr val="cc0000"/>
                </a:solidFill>
                <a:latin typeface="Verdana"/>
              </a:rPr>
              <a:t>e-Manufacturing, CNC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) solution &amp; proposal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3200" y="1770120"/>
            <a:ext cx="643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Verdana"/>
              </a:rPr>
              <a:t>Automation of traceability is an important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39240" y="4183200"/>
            <a:ext cx="6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123400" y="4905360"/>
            <a:ext cx="6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24480" y="18018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olution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18280" y="5249880"/>
            <a:ext cx="51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153280" y="4660920"/>
            <a:ext cx="51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7840" y="4660920"/>
            <a:ext cx="77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ceability databases are not interconnected (internal traceability system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7840" y="4295880"/>
            <a:ext cx="7705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traceability data delivered with the produ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7840" y="3565440"/>
            <a:ext cx="7705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traceability data linked to CAD/CAM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153280" y="3200400"/>
            <a:ext cx="51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88880" y="2371680"/>
            <a:ext cx="822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47840" y="23194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7840" y="283536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7840" y="32004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7840" y="356544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7840" y="39304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7840" y="429588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47840" y="466092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47840" y="502596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7840" y="53910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7840" y="575640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121440"/>
            <a:ext cx="82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7840" y="2319480"/>
            <a:ext cx="0" cy="38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72400" y="2319480"/>
            <a:ext cx="0" cy="38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53280" y="3200400"/>
            <a:ext cx="0" cy="292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0720" y="2849400"/>
            <a:ext cx="8226720" cy="336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 – EXPRESS  (ISO 10303) information model for tracing manufacturing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140680" y="3443400"/>
            <a:ext cx="3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129520" y="4911840"/>
            <a:ext cx="3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140680" y="4175280"/>
            <a:ext cx="3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150400" y="1106640"/>
            <a:ext cx="51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365200"/>
            <a:ext cx="84582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Is a set of practices to make avaliable all essential information about a produ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Achieved within each product, by registering  characteristics &amp; product   manufacturing information lik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7440" y="1484280"/>
            <a:ext cx="535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i="1" lang="es-ES" sz="2000" spc="-1" strike="noStrike">
                <a:solidFill>
                  <a:srgbClr val="ff3300"/>
                </a:solidFill>
                <a:latin typeface="Tahoma"/>
              </a:rPr>
              <a:t>the ability to trace the history, application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3300"/>
                </a:solidFill>
                <a:latin typeface="Tahoma"/>
              </a:rPr>
              <a:t>location of what it is under consider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43120"/>
            <a:ext cx="7272360" cy="79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78280" y="4203720"/>
            <a:ext cx="106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ith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raw materia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23120" y="4721400"/>
            <a:ext cx="148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employees, person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5680" y="4708440"/>
            <a:ext cx="193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handling, storage, transpor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8320" y="5297400"/>
            <a:ext cx="1621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manufacturing tim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9800" y="5702400"/>
            <a:ext cx="183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oth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additional data, resource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41400" y="4203720"/>
            <a:ext cx="120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machines &amp;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3916440"/>
            <a:ext cx="2016000" cy="2232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48080"/>
            <a:ext cx="649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4853160"/>
            <a:ext cx="79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5429160"/>
            <a:ext cx="865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4853160"/>
            <a:ext cx="7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24360" y="4348080"/>
            <a:ext cx="9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724000" y="584532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51280" y="3987720"/>
            <a:ext cx="16794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23160" y="2205000"/>
            <a:ext cx="1825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Verdana"/>
              </a:rPr>
              <a:t>ISO 8402: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Verdana"/>
              </a:rPr>
              <a:t>ISO 9000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raceability?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417360" y="5184720"/>
            <a:ext cx="111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How we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characteris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29400" y="5327640"/>
            <a:ext cx="79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124000" y="2635200"/>
            <a:ext cx="5616720" cy="302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411280" y="3141720"/>
            <a:ext cx="12970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Fe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11280" y="3790800"/>
            <a:ext cx="12970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11280" y="4438800"/>
            <a:ext cx="12970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Working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84720" y="2830680"/>
            <a:ext cx="12970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4560" y="5589720"/>
            <a:ext cx="1314720" cy="50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84720" y="3141720"/>
            <a:ext cx="13003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Work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83280" y="3862440"/>
            <a:ext cx="12970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NC_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354560" y="4797360"/>
            <a:ext cx="12970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83280" y="4510080"/>
            <a:ext cx="12970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Work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35560" y="3641760"/>
            <a:ext cx="100008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Tahoma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76360" y="2532240"/>
            <a:ext cx="1706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STEP NC 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0040" y="1339920"/>
            <a:ext cx="8175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 algn="ctr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ew STEP Standard Information model for traceability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61080" y="3357720"/>
            <a:ext cx="210960" cy="16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86280" y="4546440"/>
            <a:ext cx="211320" cy="16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5687280" y="3928320"/>
            <a:ext cx="210960" cy="16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4058640" y="3928320"/>
            <a:ext cx="210960" cy="16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16360" y="5686560"/>
            <a:ext cx="35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PRESS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ata model for 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050920" y="5877000"/>
            <a:ext cx="8114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. </a:t>
            </a:r>
            <a:br>
              <a:rPr sz="3200"/>
            </a:b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The BIG QUESTION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509 L 0.20278 -0.0842 E">
                                      <p:cBhvr>
                                        <p:cTn id="69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906560"/>
            <a:ext cx="798048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C4 Additional STEP requirements &amp; traceability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e Applic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eptual Design &amp; Product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gineering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…………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</a:rPr>
              <a:t>Support &amp;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7440" y="3660840"/>
            <a:ext cx="4175280" cy="17701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292720" y="4726080"/>
            <a:ext cx="72072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57800" y="4432320"/>
            <a:ext cx="251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raceability is about this,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but  is more tha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6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, Traceability &amp; Characteris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24480" y="18018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12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raceabilit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1341360"/>
            <a:ext cx="7993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8000"/>
          </a:bodyPr>
          <a:p>
            <a:pPr lvl="1" marL="344880" indent="-16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ceability Princi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ta Capture &amp; Reco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ink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02240" y="3703680"/>
            <a:ext cx="3556080" cy="20574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14360" y="3425760"/>
            <a:ext cx="2152800" cy="1489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556000" y="2023920"/>
            <a:ext cx="326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23200" y="4772160"/>
            <a:ext cx="31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7" idx="3"/>
          </p:cNvCxnSpPr>
          <p:nvPr/>
        </p:nvCxnSpPr>
        <p:spPr>
          <a:xfrm>
            <a:off x="2882520" y="2155680"/>
            <a:ext cx="4856760" cy="2834640"/>
          </a:xfrm>
          <a:prstGeom prst="bentConnector3">
            <a:avLst>
              <a:gd name="adj1" fmla="val 1047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3"/>
            <a:endCxn id="135" idx="3"/>
          </p:cNvCxnSpPr>
          <p:nvPr/>
        </p:nvCxnSpPr>
        <p:spPr>
          <a:xfrm flipH="1" flipV="1">
            <a:off x="3481560" y="4169880"/>
            <a:ext cx="4257720" cy="820080"/>
          </a:xfrm>
          <a:prstGeom prst="bentConnector3">
            <a:avLst>
              <a:gd name="adj1" fmla="val -53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24480" y="18018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312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raceabilit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1341360"/>
            <a:ext cx="7993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8000"/>
          </a:bodyPr>
          <a:p>
            <a:pPr lvl="1" marL="344880" indent="-16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ceability Princi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Verdana"/>
              </a:rPr>
              <a:t>Data Capture &amp; Reco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ink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089240" y="3701880"/>
            <a:ext cx="1360800" cy="2057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56000" y="2023920"/>
            <a:ext cx="326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23200" y="4772160"/>
            <a:ext cx="31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22920" y="3914640"/>
            <a:ext cx="106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ith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raw materia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7400" y="4432320"/>
            <a:ext cx="148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employees, person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0320" y="4308480"/>
            <a:ext cx="193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handling, storage, transpor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12960" y="5008680"/>
            <a:ext cx="1621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manufacturing tim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440" y="5391000"/>
            <a:ext cx="183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oth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additional data, resource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85680" y="3781440"/>
            <a:ext cx="120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machines &amp;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53000" y="3627360"/>
            <a:ext cx="2016000" cy="2232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3560" y="4059360"/>
            <a:ext cx="649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0640" y="456408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5140440"/>
            <a:ext cx="865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69000" y="4452840"/>
            <a:ext cx="7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68640" y="39258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69000" y="5533920"/>
            <a:ext cx="79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0480" y="4906800"/>
            <a:ext cx="111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how we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Tahoma"/>
              </a:rPr>
              <a:t>(characteris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62160" y="504972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24480" y="18018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3120" y="51120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raceabilit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6560" y="1341360"/>
            <a:ext cx="7993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8000"/>
          </a:bodyPr>
          <a:p>
            <a:pPr lvl="1" marL="344880" indent="-16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ceability Princi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ta Capture &amp; Reco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880" indent="-1656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Verdana"/>
              </a:rPr>
              <a:t>Link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flipH="1">
            <a:off x="4229280" y="2479680"/>
            <a:ext cx="1054080" cy="80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56000" y="2023920"/>
            <a:ext cx="326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4772160"/>
            <a:ext cx="31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53000" y="3627360"/>
            <a:ext cx="2016000" cy="2232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 flipH="1">
            <a:off x="6084360" y="5330880"/>
            <a:ext cx="993960" cy="760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 flipH="1">
            <a:off x="2068560" y="3454560"/>
            <a:ext cx="993600" cy="760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 flipH="1">
            <a:off x="1294920" y="4878360"/>
            <a:ext cx="993960" cy="76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99080" y="2487600"/>
            <a:ext cx="285840" cy="28116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1" idx="3"/>
            <a:endCxn id="164" idx="3"/>
          </p:cNvCxnSpPr>
          <p:nvPr/>
        </p:nvCxnSpPr>
        <p:spPr>
          <a:xfrm flipH="1">
            <a:off x="5283000" y="2768400"/>
            <a:ext cx="459360" cy="114840"/>
          </a:xfrm>
          <a:prstGeom prst="straightConnector1">
            <a:avLst/>
          </a:prstGeom>
          <a:ln w="19080">
            <a:solidFill>
              <a:srgbClr val="99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793480" y="2270160"/>
            <a:ext cx="107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9" idx="3"/>
            <a:endCxn id="167" idx="1"/>
          </p:cNvCxnSpPr>
          <p:nvPr/>
        </p:nvCxnSpPr>
        <p:spPr>
          <a:xfrm>
            <a:off x="3061800" y="3833280"/>
            <a:ext cx="691560" cy="910440"/>
          </a:xfrm>
          <a:prstGeom prst="bentConnector3">
            <a:avLst>
              <a:gd name="adj1" fmla="val 49843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8" idx="0"/>
            <a:endCxn id="167" idx="3"/>
          </p:cNvCxnSpPr>
          <p:nvPr/>
        </p:nvCxnSpPr>
        <p:spPr>
          <a:xfrm flipV="1" rot="16200000">
            <a:off x="5881320" y="4629960"/>
            <a:ext cx="588240" cy="813600"/>
          </a:xfrm>
          <a:prstGeom prst="bentConnector2">
            <a:avLst/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852720" y="3728880"/>
            <a:ext cx="1797120" cy="2057400"/>
          </a:xfrm>
          <a:prstGeom prst="rect">
            <a:avLst/>
          </a:prstGeom>
          <a:ln w="0">
            <a:noFill/>
          </a:ln>
        </p:spPr>
      </p:pic>
      <p:cxnSp>
        <p:nvCxnSpPr>
          <p:cNvPr id="177" name=""/>
          <p:cNvCxnSpPr>
            <a:stCxn id="170" idx="3"/>
            <a:endCxn id="167" idx="1"/>
          </p:cNvCxnSpPr>
          <p:nvPr/>
        </p:nvCxnSpPr>
        <p:spPr>
          <a:xfrm flipV="1">
            <a:off x="2289240" y="4742640"/>
            <a:ext cx="1464480" cy="515160"/>
          </a:xfrm>
          <a:prstGeom prst="bentConnector3">
            <a:avLst>
              <a:gd name="adj1" fmla="val 49987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4" idx="2"/>
            <a:endCxn id="167" idx="0"/>
          </p:cNvCxnSpPr>
          <p:nvPr/>
        </p:nvCxnSpPr>
        <p:spPr>
          <a:xfrm>
            <a:off x="4755960" y="3286080"/>
            <a:ext cx="5400" cy="342000"/>
          </a:xfrm>
          <a:prstGeom prst="straightConnector1">
            <a:avLst/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7225920" y="4643280"/>
            <a:ext cx="993960" cy="760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 flipH="1">
            <a:off x="7175520" y="3252960"/>
            <a:ext cx="993600" cy="760320"/>
          </a:xfrm>
          <a:prstGeom prst="rect">
            <a:avLst/>
          </a:prstGeom>
          <a:ln w="0">
            <a:noFill/>
          </a:ln>
        </p:spPr>
      </p:pic>
      <p:cxnSp>
        <p:nvCxnSpPr>
          <p:cNvPr id="181" name=""/>
          <p:cNvCxnSpPr>
            <a:stCxn id="179" idx="0"/>
            <a:endCxn id="167" idx="3"/>
          </p:cNvCxnSpPr>
          <p:nvPr/>
        </p:nvCxnSpPr>
        <p:spPr>
          <a:xfrm rot="5400000">
            <a:off x="6695280" y="3716280"/>
            <a:ext cx="100800" cy="1954800"/>
          </a:xfrm>
          <a:prstGeom prst="bentConnector4">
            <a:avLst>
              <a:gd name="adj1" fmla="val -328315"/>
              <a:gd name="adj2" fmla="val 62700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0" idx="1"/>
            <a:endCxn id="167" idx="3"/>
          </p:cNvCxnSpPr>
          <p:nvPr/>
        </p:nvCxnSpPr>
        <p:spPr>
          <a:xfrm flipV="1" rot="10800000">
            <a:off x="5768280" y="3630960"/>
            <a:ext cx="1407240" cy="1112040"/>
          </a:xfrm>
          <a:prstGeom prst="bentConnector3">
            <a:avLst>
              <a:gd name="adj1" fmla="val 67374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717560" y="4011480"/>
            <a:ext cx="285840" cy="28116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8920" y="5546880"/>
            <a:ext cx="285840" cy="2808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50120" y="3860640"/>
            <a:ext cx="285840" cy="28116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0120" y="5335560"/>
            <a:ext cx="285840" cy="28116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48520" y="5877000"/>
            <a:ext cx="285840" cy="2808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62720" y="2173320"/>
            <a:ext cx="2827080" cy="3128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73800" y="4292640"/>
            <a:ext cx="2075040" cy="1589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448320" y="2506680"/>
            <a:ext cx="2006640" cy="158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09800" y="439560"/>
            <a:ext cx="790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raceability &amp; Characteristic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blems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8560" y="1771560"/>
            <a:ext cx="7893000" cy="4267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raceability in Dynamic, Complex &amp; Heterogeneous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endCxn id="190" idx="1"/>
          </p:cNvCxnSpPr>
          <p:nvPr/>
        </p:nvCxnSpPr>
        <p:spPr>
          <a:xfrm>
            <a:off x="3970080" y="2425680"/>
            <a:ext cx="2478600" cy="876960"/>
          </a:xfrm>
          <a:prstGeom prst="bentConnector3">
            <a:avLst>
              <a:gd name="adj1" fmla="val 36185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5" idx="3"/>
            <a:endCxn id="189" idx="1"/>
          </p:cNvCxnSpPr>
          <p:nvPr/>
        </p:nvCxnSpPr>
        <p:spPr>
          <a:xfrm>
            <a:off x="2763720" y="2425320"/>
            <a:ext cx="3610800" cy="2662560"/>
          </a:xfrm>
          <a:prstGeom prst="bentConnector3">
            <a:avLst>
              <a:gd name="adj1" fmla="val 49995"/>
            </a:avLst>
          </a:prstGeom>
          <a:ln w="1908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876200" y="3394080"/>
            <a:ext cx="1483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Bill of Materials (li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4800" y="5156280"/>
            <a:ext cx="13176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Produc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055520" y="3846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66960" y="3770280"/>
            <a:ext cx="2914560" cy="2220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920" y="2211480"/>
            <a:ext cx="214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Tahoma"/>
              </a:rPr>
              <a:t>1. Traceabili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Tahoma"/>
              </a:rPr>
              <a:t>could be diffcult to under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122120" y="2693880"/>
            <a:ext cx="6120" cy="106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0:24:33Z</dcterms:created>
  <dc:creator>http://www.epmtech.jotne.com</dc:creator>
  <dc:description/>
  <dc:language>en-US</dc:language>
  <cp:lastModifiedBy>julio garrido</cp:lastModifiedBy>
  <cp:lastPrinted>2002-05-07T13:17:13Z</cp:lastPrinted>
  <dcterms:modified xsi:type="dcterms:W3CDTF">2005-06-10T11:32:56Z</dcterms:modified>
  <cp:revision>447</cp:revision>
  <dc:subject/>
  <dc:title>COMDEX NORDIC 2002</dc:title>
</cp:coreProperties>
</file>