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BCBF-F49F-4A51-B60A-12BFDFCA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742-8BE5-4B6B-8503-B6E4015A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0A34-8256-493C-8D80-EB143464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505-BE7A-4880-BA89-FF0BA0C3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A50-6C24-462B-B533-840F1A4E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AFE-94BD-415E-9045-19964B4D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FC2-3EBB-44BD-9585-21D7F1E9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623-181B-446E-9B61-DB37624C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33360" y="76320"/>
            <a:ext cx="6933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F7A1-BD5C-40F9-8566-C0AE32DE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E4C-8240-4543-A461-04023396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38B-6785-403A-B9D5-CBC07D4B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EAF-2994-4AE4-A0EB-68D8DB41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818B-0946-45D0-99F5-302E06206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ee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320" y="228600"/>
            <a:ext cx="1981080" cy="45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eeman@scra.org" TargetMode="External"/><Relationship Id="rId2" Type="http://schemas.openxmlformats.org/officeDocument/2006/relationships/hyperlink" Target="mailto:slovensky@scra.org" TargetMode="External"/><Relationship Id="rId3" Type="http://schemas.openxmlformats.org/officeDocument/2006/relationships/hyperlink" Target="mailto:jcrusey@aol.com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p223.isg-scra.org/Index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lc@lsc.co.uk" TargetMode="External"/><Relationship Id="rId2" Type="http://schemas.openxmlformats.org/officeDocument/2006/relationships/hyperlink" Target="mailto:slovensky@scra.org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of STEP Manufacturing 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66320" y="24382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ed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TC184 S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of ISO STEP AP223, AP224, AIC522, AP240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XXX - Exchange of Design and Manufacturing Product Information for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rg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1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17th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ia,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5960" y="5257800"/>
            <a:ext cx="186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Bill Free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843) 760-37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man@scr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4640" y="5257800"/>
            <a:ext cx="2014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. Len Slovens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13) 383-83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lovensky@scr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48240" y="5257800"/>
            <a:ext cx="1761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. Jesse Crus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17) 264-27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crusey@ao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2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enhancements (continue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Pockets, Step, Planar_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 attribute to have Boss or Protrusion define material not removed from fe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new capability to reference a Plib library to define part fa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ers, bolts, nu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ttribute to Explicit_base_shape_representation to define the type of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ting, forgin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_diameter_to_shou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ttribute for feature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C5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C 522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dition ballot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 for DIS bal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12 signoff on May 13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ed to ISO in Geneva June 6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DIS ballot will start in next 30 days (according to theo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ed with AP224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223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 document is being release by ISO at the same time as AIC 522, so the ballots will be synchroniz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2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240 – Process planning for machine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240 IS signed off by WG3 – February 21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ed to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5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IS approved ready for IS signoff by 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240 available from ISO as a “proof”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2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240 – Process planning for machin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DS issue being resear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A found problem in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 features defined for the finished part and the features pointing to the machining-process the sam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eatures are indeed different and require a separate instantiation, what do I use for the of-shape attribute for the shape-aspect (feature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diagram next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discussed in Val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require ½ to full day discussion based on discussion at last ISO meeting in Lilleha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2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2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of Design and Manufacturing Product Information for Forged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A will present an AP for forged parts at the October 2005 ISO meeting in Ch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urpose of this AP is to define product for a similar but different domain than castin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ging and Casting industries are competitive industries that produce similar and in some cases exactly the same end result pa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es and much of the data is differ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t parts involve melting metal to a liquid state and pouring into a mo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ged parts are from melting metal to a pliable state and hammering or pressing into a final sha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1992 the original casting and forging development team had requirements for both indus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the intent to restart forgings much like SCRA has restarted castin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2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 ISO meeting October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 NWI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 to Chang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 to WG3/T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hour presentation and discu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5 country consens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2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ensional inspection inform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: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G3 signoff: February 9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 ballot started: February 10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 ballot closed: May 10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countries in fav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countries abs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countries voted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countries submitted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2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ensional inspection inform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: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G3 signoff: February 9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 ballot started: February 10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 ballot closed: May 10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(SC4N191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countries in fav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countries abs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countries voted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countries submitted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 – 48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pan – 3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– 1 iss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2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mensional inspection information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4 Secretary has reviewed the ballot responses and in consultation with the Chair has decided that the CD ballo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cessfu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at a revised draft which addresses the comments raised during the ballot be submitted to ISO for circulation as a D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2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349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hange of Design and Manufacturing Product Information for Cast P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– held workshop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Foundry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Founder’s Society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ed AP223 ARM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ments discovery for AFS and SF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S and SFSA defined requirements for 5 conformance class exchange are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to Metal c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aster to tooling 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aster to insp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aster to Si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aster to other (Fabrication, Heat treat, Surface finish, Production welding, Assembly, Machining, Impregn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223 model covered 90% of AFS &amp; SFSA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223 model currently being reworked to add new requirements and to better show how the AP223 model supports their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00800" y="1676520"/>
            <a:ext cx="1571760" cy="66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2009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2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0" y="3429000"/>
            <a:ext cx="3733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P AP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AP 223 is part of a large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 to allow permanent storag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al of technical and process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astings. STEP has been successfu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ng a platform for sharing geo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between different solid model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oftware. AP 223 is try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 this seamless data transfer to c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information. SFSA will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some of our members with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 in this type capability to help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. If you are interested,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Poweleit at SFSA at (815) 455-8240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mail to poweleit@aticorp.or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972200" cy="228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962520"/>
            <a:ext cx="37339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Steel Founders’ Society of America is supporting us through publications, workshops and other media of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RA has been asked to attend AFS user meetings to make presentations on AP22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nerally we are getting good response from casting indus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2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b site has b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for AP22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p223.isg-scra.org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 will cont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version of AP223 AR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de with VisualEXP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s on cas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on how to submit and review issues and comments on the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019920" y="9907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2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sues and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ject software called JIRA is being used for AP223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FS and SFSA will be using JIRA to review AP223 doc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anyone is interested in reviewing comments from others or submitting issues against the AP223 ARM they are entered into JI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ease contact me if you wish to be on JIRA user list for AP223 document review and submitting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2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 –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ed because of new requirements from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to be out for ballot before next ISO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2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224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ballot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 for DIS bal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3 signoff on June 1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ed to ISO in Geneva June 6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DIS ballot will start in next 30 days (according to theo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223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 document is being release by ISO at the same time as AIC 522, so the ballots will be synchroniz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2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224 te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n Crawford 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lc@lsc.co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 Slovensky –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lovensky@scr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like ISO community to submit early ballot issues to either team member so they can be reviewed and discussed at next ISO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send early ballot review to either team me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360" y="763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2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a002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enhanc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 of gear fe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r, Bevel, Hel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ize gear definitions with ISO 1122-1-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ocabulary of gear terms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onized Dimensional toleran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s and modu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new Slot end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_slot_end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pockets to have multiple tapers applied to the pocket s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clause 5.2 machining feature definitions and reference AIC522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7:38:42Z</dcterms:created>
  <dc:creator>erickson</dc:creator>
  <dc:description/>
  <dc:language>en-US</dc:language>
  <cp:lastModifiedBy>Len Slovensky</cp:lastModifiedBy>
  <dcterms:modified xsi:type="dcterms:W3CDTF">2005-06-13T08:30:56Z</dcterms:modified>
  <cp:revision>27</cp:revision>
  <dc:subject/>
  <dc:title>Introduction to STEP Technology</dc:title>
</cp:coreProperties>
</file>