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720" y="0"/>
            <a:ext cx="841320" cy="676440"/>
            <a:chOff x="-720" y="0"/>
            <a:chExt cx="841320" cy="676440"/>
          </a:xfrm>
        </p:grpSpPr>
        <p:sp>
          <p:nvSpPr>
            <p:cNvPr id="3" name=""/>
            <p:cNvSpPr/>
            <p:nvPr/>
          </p:nvSpPr>
          <p:spPr>
            <a:xfrm>
              <a:off x="12960" y="0"/>
              <a:ext cx="812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720" y="435240"/>
              <a:ext cx="841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C 184/S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681120" y="6553080"/>
            <a:ext cx="778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TC184/SC4/WG3 Valencia N000 2005-06-1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19698EC1-34C0-4C82-93AB-3B66EDFEE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am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rdwick@step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aki Saka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aki_sakamoto@paw.hi-ho.ne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omplishments since Lilleha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-219 completed CD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-238 completed DIS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s for Val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al for Manufacturing Traceability Model (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al for Cataloguing data in AP-224 (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-238 ballot resolution (Tues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-219 ballot resolution (Wednes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4 and SC1 harmonization issues (Thurs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dule for Val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day, 2005-06-13, 1400-1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mmary project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al for Manufacturing Traceabilit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-224 Edition 3, AIC 522 Ed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al for Cataloguing data in AP-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uesday, 2005-06-14, 0800-1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-238 Ballot Resolution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dule for Val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dnesday, 2005-06-14, 0800-1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-219 Ballot Resolution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dnesday, 2005-06-14, 1400-1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-223 Cas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-240/AP-238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ursday, 2005-06-15, 0900-1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1/SC4 Harm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ject Summarie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-223 CD ballot delayed for input from foundry societies on business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-224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 out for DIS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C 522 out for DIS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-240 shipped to Gen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-2XX for forgings to initiate NWI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-219 CD ballot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-238 DIS ballot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hardwick</cp:lastModifiedBy>
  <cp:lastPrinted>1999-06-02T13:49:47Z</cp:lastPrinted>
  <dcterms:modified xsi:type="dcterms:W3CDTF">2005-06-13T13:55:40Z</dcterms:modified>
  <cp:revision>148</cp:revision>
  <dc:subject/>
  <dc:title>WG3 Presentation to SC4 Opening Plenary</dc:title>
</cp:coreProperties>
</file>