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8D0-677C-4F2F-85EF-563CF51A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2A6-156D-428D-8C90-DC48E8B7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7CB-82DD-4BB4-B8D1-B1549B8D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EC8-FEDD-4ED7-BE51-182137B4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824-AA84-4DC2-B5BA-E5582CFD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272-912D-4D12-8EFE-006F737E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439-6D84-4682-B165-2ECDE4AF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F77-5A2B-46C5-9C08-C33A14D4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813-4C92-45E1-9F2F-D33B89D3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35F-36F3-4436-8001-6BAF8EA8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16E-AECA-424D-8464-96606BEB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E5A-CBD0-44B5-9154-25480E45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495E-C3EA-401E-927C-483C4F605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24 – STEP-Manufactu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mplishments Val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olved AP-219 CD ballot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olved AP-238 DIS ballot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 yes, 4 abs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24 – STEP Manufactu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Plans before and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gzh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C1/SC4 Meeting at Boeing for demonstration and discussions on future strate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38 IS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23 Workshop in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24 Edition 3 DIS ballot comment re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29 Forging N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19 DIS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23:28:50Z</dcterms:created>
  <dc:creator>sakamoto</dc:creator>
  <dc:description/>
  <dc:language>en-US</dc:language>
  <cp:lastModifiedBy>hardwick</cp:lastModifiedBy>
  <dcterms:modified xsi:type="dcterms:W3CDTF">2005-07-19T15:38:13Z</dcterms:modified>
  <cp:revision>30</cp:revision>
  <dc:subject/>
  <dc:title>PowerPoint プレゼンテーション</dc:title>
</cp:coreProperties>
</file>