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812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EF1B5B9-AB4C-41B8-A2FF-57DDA5045E57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tepnc-text-only" descr=""/>
          <p:cNvPicPr/>
          <p:nvPr/>
        </p:nvPicPr>
        <p:blipFill>
          <a:blip r:embed="rId2"/>
          <a:stretch/>
        </p:blipFill>
        <p:spPr>
          <a:xfrm>
            <a:off x="7182000" y="141120"/>
            <a:ext cx="17110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3228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Conformanc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7960" y="974520"/>
            <a:ext cx="8124840" cy="576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 – CNC Independent tool 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path cutter location data (polylines and circular NOT SPLIN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path is requi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requiremen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and one workplan  (single set-up, linear list of workingste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-up placement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M and Material ident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data (technology, strategy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2 – Intelligent Set-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from CC1 pl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ool path types, described by any curve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path is requi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geometry (stock and final part) (without featu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ed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orkplan (linear list of working step, nested workplan, and parallel workpla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3228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Conformanc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974520"/>
            <a:ext cx="7769520" cy="385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3 – Conditional 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in CC2 pl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path is op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ing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gramming constr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process (implicit) feature with parameter toleranc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4 – Generative 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in CC3 pl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&amp;T data sufficient to compute optimal speeds and f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feature (AP-224) data with linkage to explici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else that we forg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hardwick</cp:lastModifiedBy>
  <cp:lastPrinted>1996-02-28T13:41:35Z</cp:lastPrinted>
  <dcterms:modified xsi:type="dcterms:W3CDTF">2004-10-11T14:58:21Z</dcterms:modified>
  <cp:revision>927</cp:revision>
  <dc:subject/>
  <dc:title>STEP-NC: Digital Manufacturing using STEP</dc:title>
</cp:coreProperties>
</file>