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7E46-860F-4C6A-A207-298F55AD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73CF-95E1-41CE-944C-EDE80724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FD46-E405-440A-BF68-A04F8AFD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B714-9EE4-4CB1-97FD-26E32583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5BDC-2F07-46DB-A7A2-F025F488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1A5-BE7E-4CDE-9AA7-2192B3A3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6620-DFB6-48CF-AB70-AF1F5087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88A-46BC-4BBD-B3EA-89A03A06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A45D-959D-4482-A917-F37B4045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FAD-719C-456F-AAEF-37AF128E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B51-6E07-48CA-9FF0-6474FA6F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02BD-9EAC-44DA-9F34-EABD600E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EEEC2A-080D-4DC8-B2A3-8B3A109C4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67280" y="88920"/>
            <a:ext cx="3022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 TC 184/SC 4/WG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ing Plenary, Seattle WA, 2004-10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080" y="657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7000" y="30240"/>
            <a:ext cx="888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80120" y="228600"/>
            <a:ext cx="97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C 184/SC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Facilitating Implementatio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 on “Facilitating ARM level implementations while preserving AIM level integra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implementations are based on AI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go down the road of ARM implementation agai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facilitate use of ARM concepts within an AIM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automated access to information in mapp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 traversal of AIM data by application object or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Facilitating Implementatio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Tools has done work extracting and compiling the mapping table paths and us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AIM data into XML/P21 modules based on the application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index showing path through on AIM data for each ARM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been testing this with AP-238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o help with SC1 concerns about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to document XML modules in informative annex to AP-238 D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Facilitating Implementatio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ence with extracting and compiling the mapping table paths in AP-238 reveal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many corr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 other APs to need similar corr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4 needs to think about a push to validate mapp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them compilable so tools can use to provide ARM context to implemen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experience with EXPRESS in early 1990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rojected Benefit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er initial implementa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ls can generate all AIM instances required for ARM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ls can validate AP incrementally (object by obj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fast initial implementation, tools can add value by implementing AIM enabled data sha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 the AIM/ARM controver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IM as quick as the 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23:51:52Z</dcterms:created>
  <dc:creator>Dave Loffredo</dc:creator>
  <dc:description/>
  <dc:language>en-US</dc:language>
  <cp:lastModifiedBy>hardwick</cp:lastModifiedBy>
  <cp:lastPrinted>2000-02-17T02:19:36Z</cp:lastPrinted>
  <dcterms:modified xsi:type="dcterms:W3CDTF">2004-10-06T14:58:50Z</dcterms:modified>
  <cp:revision>382</cp:revision>
  <dc:subject>WG11 in San Diego</dc:subject>
  <dc:title>WG 11 </dc:title>
</cp:coreProperties>
</file>