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8A81-FFC2-4AC1-B22C-1D4FE4B3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48C9-2EE1-4C1B-A8BA-383451AF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D25D-F2A8-47FE-8FF9-0A79E9FA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2BD-7D01-4D1D-A3D5-14960800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6577-D86B-478F-BBB9-9798D240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90D-9C99-477D-87FD-D9F7CAC2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89A-8928-444B-86B3-BFE5415E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AB8-0FFE-4EFD-AC03-C237A577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0AE-AF38-471F-94DF-3AB64901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6516-2CED-48FB-8BC1-CB2C8FC5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F8E7-CCF3-4EA2-8F29-B0A199F5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772-24DD-43A0-A110-73648D9D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6BF8-A8AC-47B6-96F5-02A0C3F1D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24 – STEP-Manufactu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mplishments Se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an Manufacturing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viewed AP-219 document for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viewed AP-240 document for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viewed AP-224 document for D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viewed AP-238 document for D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24 – STEP-Manufactu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n Manufacturing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SO developer, End users, CAM and CNC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ssions on business case, technologies, tools and vendor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esentations will be on US Pro and STEP-Manufacturing web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llow on meeting at OMAC in February in Orl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-238 CC1 data exchange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8400" y="255600"/>
            <a:ext cx="799452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-238 CC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6880" y="972720"/>
            <a:ext cx="8113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C Independent tool pa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 path cutter location data (polylines and circular NOT SPLI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 path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 requiremen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and one workplan  (single set-up, linear list of workingste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M and Material ident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24 – STEP Manufactu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Plans for Lilleha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view AP-219 CD ballot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view AP-224 ed3 DIS ballot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view AP-238 DIS ballot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sults of CC1 data exchange tes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23:28:50Z</dcterms:created>
  <dc:creator>sakamoto</dc:creator>
  <dc:description/>
  <dc:language>en-US</dc:language>
  <cp:lastModifiedBy>hardwick</cp:lastModifiedBy>
  <dcterms:modified xsi:type="dcterms:W3CDTF">2004-10-07T23:57:23Z</dcterms:modified>
  <cp:revision>26</cp:revision>
  <dc:subject/>
  <dc:title>PowerPoint プレゼンテーション</dc:title>
</cp:coreProperties>
</file>