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58288" cy="6872288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53960" y="247680"/>
            <a:ext cx="22683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GD&amp;T Har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E9867B7-96C4-41F4-9E87-22F6A7419F88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583320"/>
            <a:ext cx="20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Loffredo (loffredo@steptools.c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qualcomm/eudora%20mail/attach/203e2_gdt-20040621/data/modules/dimension_tolerance/sys/4_info_reqs.htm#dimension_tolerance_arm.size_dimension" TargetMode="External"/><Relationship Id="rId2" Type="http://schemas.openxmlformats.org/officeDocument/2006/relationships/hyperlink" Target="file:///../../../../../program%20files/qualcomm/eudora%20mail/attach/203e2_gdt-20040621/data/modules/construction_geometry/sys/4_info_reqs.htm#construction_geometry_arm.measurement_path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58880" y="1532520"/>
            <a:ext cx="408312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GD&amp;T Harmonization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Fin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5800" y="3665520"/>
            <a:ext cx="382788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3n15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10-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8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Limit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74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will clarify ARM by creating subtype of Tolerance_limit f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limit: mapping will call out name=“maximum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limit:  mapping will call out name=“minimum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limit:  mapping will leave name unconstrain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828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11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has no mapping for use of value range outside of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ng to adopt AP-214 usage in those ca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has mappings for value range but no vendor implementation within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ndor implementations of value range outside of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807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 “Property”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0120" y="392292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68600" y="4870440"/>
            <a:ext cx="2356920" cy="82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_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6" idx="2"/>
            <a:endCxn id="87" idx="1"/>
          </p:cNvCxnSpPr>
          <p:nvPr/>
        </p:nvCxnSpPr>
        <p:spPr>
          <a:xfrm rot="5400000">
            <a:off x="1174320" y="4694040"/>
            <a:ext cx="1078200" cy="97560"/>
          </a:xfrm>
          <a:prstGeom prst="bentConnector4">
            <a:avLst>
              <a:gd name="adj1" fmla="val 30627"/>
              <a:gd name="adj2" fmla="val 3359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713040" y="12412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ignificant digits, a complex instance with qualified rep item is used, which points to a precision qua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960" y="425304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upp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960" y="541188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ow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7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7" idx="3"/>
            <a:endCxn id="90" idx="1"/>
          </p:cNvCxnSpPr>
          <p:nvPr/>
        </p:nvCxnSpPr>
        <p:spPr>
          <a:xfrm flipV="1">
            <a:off x="4028760" y="4755600"/>
            <a:ext cx="772200" cy="525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91" idx="1"/>
          </p:cNvCxnSpPr>
          <p:nvPr/>
        </p:nvCxnSpPr>
        <p:spPr>
          <a:xfrm>
            <a:off x="4028760" y="5281560"/>
            <a:ext cx="772200" cy="63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711360" y="1271520"/>
            <a:ext cx="211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8040" y="2981160"/>
            <a:ext cx="517680" cy="628920"/>
          </a:xfrm>
          <a:prstGeom prst="downArrow">
            <a:avLst>
              <a:gd name="adj1" fmla="val 46630"/>
              <a:gd name="adj2" fmla="val 3927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04040" y="361152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7" idx="0"/>
            <a:endCxn id="96" idx="1"/>
          </p:cNvCxnSpPr>
          <p:nvPr/>
        </p:nvCxnSpPr>
        <p:spPr>
          <a:xfrm flipH="1" flipV="1" rot="5400000">
            <a:off x="2761920" y="3925440"/>
            <a:ext cx="1024560" cy="853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110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 “Dimension”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6880" y="383220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2"/>
            <a:endCxn id="101" idx="1"/>
          </p:cNvCxnSpPr>
          <p:nvPr/>
        </p:nvCxnSpPr>
        <p:spPr>
          <a:xfrm flipH="1" rot="16200000">
            <a:off x="2472480" y="3586680"/>
            <a:ext cx="1620000" cy="3037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713040" y="124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digits are related to each value separately using a measure 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960" y="425304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upp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960" y="541188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ow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7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3040" y="234360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040" y="300204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4960" y="177012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0"/>
            <a:endCxn id="104" idx="2"/>
          </p:cNvCxnSpPr>
          <p:nvPr/>
        </p:nvCxnSpPr>
        <p:spPr>
          <a:xfrm flipV="1">
            <a:off x="1763280" y="2698560"/>
            <a:ext cx="1080" cy="297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9" idx="0"/>
          </p:cNvCxnSpPr>
          <p:nvPr/>
        </p:nvCxnSpPr>
        <p:spPr>
          <a:xfrm>
            <a:off x="1763280" y="346500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4" idx="0"/>
            <a:endCxn id="106" idx="2"/>
          </p:cNvCxnSpPr>
          <p:nvPr/>
        </p:nvCxnSpPr>
        <p:spPr>
          <a:xfrm flipV="1">
            <a:off x="1763280" y="206316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624960" y="927000"/>
            <a:ext cx="227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pla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6" idx="0"/>
            <a:endCxn id="110" idx="2"/>
          </p:cNvCxnSpPr>
          <p:nvPr/>
        </p:nvCxnSpPr>
        <p:spPr>
          <a:xfrm flipV="1">
            <a:off x="1763280" y="1444320"/>
            <a:ext cx="2520" cy="30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9" idx="2"/>
            <a:endCxn id="103" idx="1"/>
          </p:cNvCxnSpPr>
          <p:nvPr/>
        </p:nvCxnSpPr>
        <p:spPr>
          <a:xfrm flipH="1" rot="16200000">
            <a:off x="3051720" y="3007080"/>
            <a:ext cx="461160" cy="3037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17200" y="324036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31360" y="37180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6" idx="3"/>
          </p:cNvCxnSpPr>
          <p:nvPr/>
        </p:nvCxnSpPr>
        <p:spPr>
          <a:xfrm flipH="1" flipV="1">
            <a:off x="5307120" y="3839760"/>
            <a:ext cx="621000" cy="1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3" idx="1"/>
            <a:endCxn id="116" idx="0"/>
          </p:cNvCxnSpPr>
          <p:nvPr/>
        </p:nvCxnSpPr>
        <p:spPr>
          <a:xfrm flipV="1" rot="10800000">
            <a:off x="4502880" y="3377880"/>
            <a:ext cx="1710720" cy="227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4" idx="3"/>
            <a:endCxn id="103" idx="3"/>
          </p:cNvCxnSpPr>
          <p:nvPr/>
        </p:nvCxnSpPr>
        <p:spPr>
          <a:xfrm flipH="1">
            <a:off x="7159320" y="3855600"/>
            <a:ext cx="573840" cy="901080"/>
          </a:xfrm>
          <a:prstGeom prst="bentConnector3">
            <a:avLst>
              <a:gd name="adj1" fmla="val -3986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3" idx="3"/>
            <a:endCxn id="101" idx="3"/>
          </p:cNvCxnSpPr>
          <p:nvPr/>
        </p:nvCxnSpPr>
        <p:spPr>
          <a:xfrm flipH="1">
            <a:off x="7159320" y="3377880"/>
            <a:ext cx="859680" cy="2537640"/>
          </a:xfrm>
          <a:prstGeom prst="bentConnector3">
            <a:avLst>
              <a:gd name="adj1" fmla="val -266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704040" y="361152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86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29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d solution is to u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” two rep item mapping in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y” value_range AIM mapping everywhere 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to extend mappings for dimension as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will extend ARM to support ranges for normal properties and map using compound item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60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0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has implementation of both plus/minus mappings (in dimensions, in feature propert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has mappings for plus minus but no vendor implementation within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mplementations out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s currently have an error that always requires the use of dimensional_size, even in a location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1106 and 1050 mapping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6 has Plus/Minus for use outside of dimens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 the qualified rep item mapp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50 has Plus/Minus for use insid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have correct mappings, but derived from AP-214, so check to make sure that they do not have the same prob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263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ment on separate representations for use inside and outside of dimen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following slides for dia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to correct mappings inside dimension to make proper use of dimensional_size, add new mapping for use outside of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295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“Property” Mapping (1/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636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456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2"/>
            <a:endCxn id="128" idx="1"/>
          </p:cNvCxnSpPr>
          <p:nvPr/>
        </p:nvCxnSpPr>
        <p:spPr>
          <a:xfrm flipH="1" rot="16200000">
            <a:off x="126360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33280" y="120348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property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770200"/>
            <a:ext cx="517320" cy="628560"/>
          </a:xfrm>
          <a:prstGeom prst="downArrow">
            <a:avLst>
              <a:gd name="adj1" fmla="val 46630"/>
              <a:gd name="adj2" fmla="val 39275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16440" y="2509920"/>
            <a:ext cx="172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qualified representation item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83000" y="4243680"/>
            <a:ext cx="240408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upp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82280" y="5034240"/>
            <a:ext cx="23796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low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8336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8" idx="3"/>
            <a:endCxn id="135" idx="1"/>
          </p:cNvCxnSpPr>
          <p:nvPr/>
        </p:nvCxnSpPr>
        <p:spPr>
          <a:xfrm>
            <a:off x="4195800" y="4557240"/>
            <a:ext cx="1085040" cy="181044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8" idx="3"/>
            <a:endCxn id="133" idx="1"/>
          </p:cNvCxnSpPr>
          <p:nvPr/>
        </p:nvCxnSpPr>
        <p:spPr>
          <a:xfrm>
            <a:off x="4195800" y="4557600"/>
            <a:ext cx="1085040" cy="720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8" idx="3"/>
            <a:endCxn id="134" idx="1"/>
          </p:cNvCxnSpPr>
          <p:nvPr/>
        </p:nvCxnSpPr>
        <p:spPr>
          <a:xfrm>
            <a:off x="4195800" y="4557600"/>
            <a:ext cx="1085040" cy="79776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6662880" y="3529080"/>
            <a:ext cx="225360" cy="544320"/>
          </a:xfrm>
          <a:custGeom>
            <a:avLst/>
            <a:gdLst/>
            <a:ahLst/>
            <a:rect l="l" t="t" r="r" b="b"/>
            <a:pathLst>
              <a:path w="142" h="343">
                <a:moveTo>
                  <a:pt x="116" y="0"/>
                </a:moveTo>
                <a:cubicBezTo>
                  <a:pt x="64" y="63"/>
                  <a:pt x="13" y="126"/>
                  <a:pt x="17" y="146"/>
                </a:cubicBezTo>
                <a:cubicBezTo>
                  <a:pt x="21" y="166"/>
                  <a:pt x="142" y="89"/>
                  <a:pt x="139" y="122"/>
                </a:cubicBezTo>
                <a:cubicBezTo>
                  <a:pt x="136" y="155"/>
                  <a:pt x="68" y="249"/>
                  <a:pt x="0" y="3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18280" y="2730600"/>
            <a:ext cx="252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s to separate qualifiers for upp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r limits and significant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0" y="3454560"/>
            <a:ext cx="258840" cy="711000"/>
          </a:xfrm>
          <a:custGeom>
            <a:avLst/>
            <a:gdLst/>
            <a:ahLst/>
            <a:rect l="l" t="t" r="r" b="b"/>
            <a:pathLst>
              <a:path w="163" h="448">
                <a:moveTo>
                  <a:pt x="163" y="0"/>
                </a:moveTo>
                <a:cubicBezTo>
                  <a:pt x="98" y="85"/>
                  <a:pt x="33" y="171"/>
                  <a:pt x="29" y="198"/>
                </a:cubicBezTo>
                <a:cubicBezTo>
                  <a:pt x="25" y="225"/>
                  <a:pt x="145" y="121"/>
                  <a:pt x="140" y="163"/>
                </a:cubicBezTo>
                <a:cubicBezTo>
                  <a:pt x="135" y="205"/>
                  <a:pt x="67" y="326"/>
                  <a:pt x="0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5920" y="944640"/>
            <a:ext cx="436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NOT FOR USE WITH A SIZE DIMENSION OR LOCATION 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(which are mapped to Part 47 dimensional_siz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imensional_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880" y="5427720"/>
            <a:ext cx="392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an example with length, could be used for angles, times, velocities, etc.  as supported by the range of things representable by measure_with_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7960" y="4525920"/>
            <a:ext cx="1244520" cy="800280"/>
          </a:xfrm>
          <a:custGeom>
            <a:avLst/>
            <a:gdLst/>
            <a:ahLst/>
            <a:rect l="l" t="t" r="r" b="b"/>
            <a:pathLst>
              <a:path w="784" h="504">
                <a:moveTo>
                  <a:pt x="0" y="504"/>
                </a:moveTo>
                <a:cubicBezTo>
                  <a:pt x="18" y="395"/>
                  <a:pt x="36" y="287"/>
                  <a:pt x="122" y="223"/>
                </a:cubicBezTo>
                <a:cubicBezTo>
                  <a:pt x="208" y="159"/>
                  <a:pt x="408" y="160"/>
                  <a:pt x="518" y="123"/>
                </a:cubicBezTo>
                <a:cubicBezTo>
                  <a:pt x="628" y="86"/>
                  <a:pt x="706" y="43"/>
                  <a:pt x="78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295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“Property” Mapping (2/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636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456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2"/>
            <a:endCxn id="147" idx="1"/>
          </p:cNvCxnSpPr>
          <p:nvPr/>
        </p:nvCxnSpPr>
        <p:spPr>
          <a:xfrm flipH="1" rot="16200000">
            <a:off x="126360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33280" y="120348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property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0480" y="2770200"/>
            <a:ext cx="517320" cy="628560"/>
          </a:xfrm>
          <a:prstGeom prst="downArrow">
            <a:avLst>
              <a:gd name="adj1" fmla="val 46630"/>
              <a:gd name="adj2" fmla="val 39275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83000" y="4243680"/>
            <a:ext cx="240408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upp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82280" y="5034240"/>
            <a:ext cx="23796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low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336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47" idx="3"/>
            <a:endCxn id="153" idx="1"/>
          </p:cNvCxnSpPr>
          <p:nvPr/>
        </p:nvCxnSpPr>
        <p:spPr>
          <a:xfrm>
            <a:off x="4195800" y="4557240"/>
            <a:ext cx="1085040" cy="181044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51" idx="1"/>
          </p:cNvCxnSpPr>
          <p:nvPr/>
        </p:nvCxnSpPr>
        <p:spPr>
          <a:xfrm>
            <a:off x="4195800" y="4557600"/>
            <a:ext cx="1085040" cy="720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7" idx="3"/>
            <a:endCxn id="152" idx="1"/>
          </p:cNvCxnSpPr>
          <p:nvPr/>
        </p:nvCxnSpPr>
        <p:spPr>
          <a:xfrm>
            <a:off x="4195800" y="4557600"/>
            <a:ext cx="1085040" cy="79776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898720" y="2793960"/>
            <a:ext cx="549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current AP-224 re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4 to add alternate mapping for use outside of dimensions when correcting mapping of plus/minus tolerance to dimensional_*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55920" y="944640"/>
            <a:ext cx="436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NOT FOR USE WITH A SIZE DIMENSION OR LOCATION 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(which are mapped to Part 47 dimensional_siz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imensional_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971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“Dimension” Mapp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4280" y="508320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8340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0" idx="3"/>
            <a:endCxn id="161" idx="1"/>
          </p:cNvCxnSpPr>
          <p:nvPr/>
        </p:nvCxnSpPr>
        <p:spPr>
          <a:xfrm>
            <a:off x="3395160" y="5586120"/>
            <a:ext cx="1485000" cy="781560"/>
          </a:xfrm>
          <a:prstGeom prst="bentConnector3">
            <a:avLst>
              <a:gd name="adj1" fmla="val 499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283760" y="215172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58120" y="28101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97960" y="3556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568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0400" y="26812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_minus_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10080" y="3237120"/>
            <a:ext cx="13402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0"/>
            <a:endCxn id="163" idx="3"/>
          </p:cNvCxnSpPr>
          <p:nvPr/>
        </p:nvCxnSpPr>
        <p:spPr>
          <a:xfrm flipV="1" rot="16200000">
            <a:off x="4895280" y="589680"/>
            <a:ext cx="356040" cy="3814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5924520" y="401652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24520" y="463248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4" idx="0"/>
            <a:endCxn id="163" idx="2"/>
          </p:cNvCxnSpPr>
          <p:nvPr/>
        </p:nvCxnSpPr>
        <p:spPr>
          <a:xfrm flipV="1">
            <a:off x="2214360" y="2505960"/>
            <a:ext cx="108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4" idx="2"/>
            <a:endCxn id="165" idx="0"/>
          </p:cNvCxnSpPr>
          <p:nvPr/>
        </p:nvCxnSpPr>
        <p:spPr>
          <a:xfrm>
            <a:off x="2214360" y="3273120"/>
            <a:ext cx="108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3" idx="0"/>
            <a:endCxn id="166" idx="2"/>
          </p:cNvCxnSpPr>
          <p:nvPr/>
        </p:nvCxnSpPr>
        <p:spPr>
          <a:xfrm flipV="1">
            <a:off x="221436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5" idx="2"/>
            <a:endCxn id="160" idx="0"/>
          </p:cNvCxnSpPr>
          <p:nvPr/>
        </p:nvCxnSpPr>
        <p:spPr>
          <a:xfrm flipV="1" rot="10800000">
            <a:off x="2214000" y="4019040"/>
            <a:ext cx="1080" cy="1058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7" idx="2"/>
            <a:endCxn id="168" idx="0"/>
          </p:cNvCxnSpPr>
          <p:nvPr/>
        </p:nvCxnSpPr>
        <p:spPr>
          <a:xfrm>
            <a:off x="6980040" y="2962080"/>
            <a:ext cx="1080" cy="26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8" idx="1"/>
            <a:endCxn id="171" idx="1"/>
          </p:cNvCxnSpPr>
          <p:nvPr/>
        </p:nvCxnSpPr>
        <p:spPr>
          <a:xfrm flipV="1" rot="10800000">
            <a:off x="5919120" y="3374640"/>
            <a:ext cx="388080" cy="1486800"/>
          </a:xfrm>
          <a:prstGeom prst="bentConnector3">
            <a:avLst>
              <a:gd name="adj1" fmla="val 1589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5653800" y="35100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70320" y="357660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per_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8" idx="2"/>
            <a:endCxn id="170" idx="0"/>
          </p:cNvCxnSpPr>
          <p:nvPr/>
        </p:nvCxnSpPr>
        <p:spPr>
          <a:xfrm flipV="1" rot="10800000">
            <a:off x="6979680" y="3517560"/>
            <a:ext cx="1080" cy="4928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6" idx="0"/>
            <a:endCxn id="183" idx="2"/>
          </p:cNvCxnSpPr>
          <p:nvPr/>
        </p:nvCxnSpPr>
        <p:spPr>
          <a:xfrm flipV="1">
            <a:off x="221436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15812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7320" y="569592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7200" y="62182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  <a:endCxn id="161" idx="3"/>
          </p:cNvCxnSpPr>
          <p:nvPr/>
        </p:nvCxnSpPr>
        <p:spPr>
          <a:xfrm flipH="1">
            <a:off x="6486120" y="6356520"/>
            <a:ext cx="357840" cy="11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3"/>
            <a:endCxn id="170" idx="3"/>
          </p:cNvCxnSpPr>
          <p:nvPr/>
        </p:nvCxnSpPr>
        <p:spPr>
          <a:xfrm flipH="1" flipV="1">
            <a:off x="8038440" y="4244400"/>
            <a:ext cx="610200" cy="2112120"/>
          </a:xfrm>
          <a:prstGeom prst="bentConnector3">
            <a:avLst>
              <a:gd name="adj1" fmla="val -3748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4" idx="3"/>
            <a:endCxn id="171" idx="3"/>
          </p:cNvCxnSpPr>
          <p:nvPr/>
        </p:nvCxnSpPr>
        <p:spPr>
          <a:xfrm flipH="1" flipV="1">
            <a:off x="8038800" y="4860360"/>
            <a:ext cx="310320" cy="973800"/>
          </a:xfrm>
          <a:prstGeom prst="bentConnector3">
            <a:avLst>
              <a:gd name="adj1" fmla="val -7375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1" idx="0"/>
          </p:cNvCxnSpPr>
          <p:nvPr/>
        </p:nvCxnSpPr>
        <p:spPr>
          <a:xfrm flipV="1" rot="10800000">
            <a:off x="5682600" y="5833080"/>
            <a:ext cx="861120" cy="299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835440" y="1023840"/>
            <a:ext cx="43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 current mapping always requires a dimensional_size, even if a location dim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eed to fix mapp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3720" y="1646280"/>
            <a:ext cx="960480" cy="503280"/>
          </a:xfrm>
          <a:custGeom>
            <a:avLst/>
            <a:gdLst/>
            <a:ahLst/>
            <a:rect l="l" t="t" r="r" b="b"/>
            <a:pathLst>
              <a:path w="605" h="317">
                <a:moveTo>
                  <a:pt x="605" y="0"/>
                </a:moveTo>
                <a:cubicBezTo>
                  <a:pt x="413" y="38"/>
                  <a:pt x="222" y="76"/>
                  <a:pt x="180" y="101"/>
                </a:cubicBezTo>
                <a:cubicBezTo>
                  <a:pt x="138" y="126"/>
                  <a:pt x="383" y="115"/>
                  <a:pt x="353" y="151"/>
                </a:cubicBezTo>
                <a:cubicBezTo>
                  <a:pt x="323" y="187"/>
                  <a:pt x="161" y="25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132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63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now complet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d all harmonization issues with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ed and resolved issues with geometric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d SEDS against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owners now finalizing 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 produced updated text and adding into doc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for Edition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40 when submit IS (end of ye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9, AP-223 as they come a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updating Modules 1050 and 1051 for AP-203e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and ProSTEP team planning amendment for AP-214e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e adding to AP-238 for D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805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71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and AP-214 have mappings for limits and fits within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_214 mappings currently have an error that always requires the use of dimensional_size, even in a location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has requirement for use outside of dimension (as a proper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developed mappings based on qualified rep item that follow the AP-224 plus / minus patter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d to follow resolution adopted for plus min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mappings for use inside and outside of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e posted mapping paths to exploder and document reposit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126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 “Property”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636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3456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diamet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5" idx="2"/>
            <a:endCxn id="196" idx="1"/>
          </p:cNvCxnSpPr>
          <p:nvPr/>
        </p:nvCxnSpPr>
        <p:spPr>
          <a:xfrm flipH="1" rot="16200000">
            <a:off x="126360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33280" y="120348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property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30480" y="2770200"/>
            <a:ext cx="517320" cy="628560"/>
          </a:xfrm>
          <a:prstGeom prst="downArrow">
            <a:avLst>
              <a:gd name="adj1" fmla="val 46630"/>
              <a:gd name="adj2" fmla="val 39275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640" y="5357880"/>
            <a:ext cx="412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qualified representation item to the 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s qualitative_uncertainty for descrip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3120" y="3549960"/>
            <a:ext cx="2626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ative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form vari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43480" y="4343400"/>
            <a:ext cx="2635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ative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zone vari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“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6" idx="3"/>
            <a:endCxn id="204" idx="1"/>
          </p:cNvCxnSpPr>
          <p:nvPr/>
        </p:nvCxnSpPr>
        <p:spPr>
          <a:xfrm>
            <a:off x="4195800" y="4557240"/>
            <a:ext cx="1148040" cy="90108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6" idx="3"/>
            <a:endCxn id="201" idx="1"/>
          </p:cNvCxnSpPr>
          <p:nvPr/>
        </p:nvCxnSpPr>
        <p:spPr>
          <a:xfrm flipV="1">
            <a:off x="4195800" y="3869640"/>
            <a:ext cx="1148040" cy="68796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6" idx="3"/>
            <a:endCxn id="202" idx="1"/>
          </p:cNvCxnSpPr>
          <p:nvPr/>
        </p:nvCxnSpPr>
        <p:spPr>
          <a:xfrm>
            <a:off x="4195800" y="4557600"/>
            <a:ext cx="1148040" cy="10728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413240" y="2490840"/>
            <a:ext cx="41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s the pattern established by the Plus/Minus mapping with qualifiers for each fit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5280" y="5137200"/>
            <a:ext cx="2158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ative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gra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“IT0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43480" y="6142320"/>
            <a:ext cx="16066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196" idx="3"/>
            <a:endCxn id="208" idx="1"/>
          </p:cNvCxnSpPr>
          <p:nvPr/>
        </p:nvCxnSpPr>
        <p:spPr>
          <a:xfrm>
            <a:off x="4195800" y="4557600"/>
            <a:ext cx="1148040" cy="181368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4255920" y="944640"/>
            <a:ext cx="436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NOT FOR USE WITH A SIZE DIMENSION OR LOCATION 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(which are mapped to Part 47 dimensional_siz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imensional_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429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 “Dimension”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4280" y="508320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8340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2" idx="3"/>
            <a:endCxn id="213" idx="1"/>
          </p:cNvCxnSpPr>
          <p:nvPr/>
        </p:nvCxnSpPr>
        <p:spPr>
          <a:xfrm>
            <a:off x="3395160" y="5586120"/>
            <a:ext cx="1485000" cy="781560"/>
          </a:xfrm>
          <a:prstGeom prst="bentConnector3">
            <a:avLst>
              <a:gd name="adj1" fmla="val 499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283760" y="215172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58120" y="28101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97960" y="3556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1568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80400" y="26812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_minus_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42320" y="3399120"/>
            <a:ext cx="1674000" cy="82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s_and_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_variance =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_variance = “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de = “IT0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9" idx="0"/>
            <a:endCxn id="215" idx="3"/>
          </p:cNvCxnSpPr>
          <p:nvPr/>
        </p:nvCxnSpPr>
        <p:spPr>
          <a:xfrm flipV="1" rot="16200000">
            <a:off x="4895280" y="589680"/>
            <a:ext cx="356040" cy="3814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0"/>
            <a:endCxn id="215" idx="2"/>
          </p:cNvCxnSpPr>
          <p:nvPr/>
        </p:nvCxnSpPr>
        <p:spPr>
          <a:xfrm flipV="1">
            <a:off x="2214360" y="2505960"/>
            <a:ext cx="108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2"/>
            <a:endCxn id="217" idx="0"/>
          </p:cNvCxnSpPr>
          <p:nvPr/>
        </p:nvCxnSpPr>
        <p:spPr>
          <a:xfrm>
            <a:off x="2214360" y="3273120"/>
            <a:ext cx="108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5" idx="0"/>
            <a:endCxn id="218" idx="2"/>
          </p:cNvCxnSpPr>
          <p:nvPr/>
        </p:nvCxnSpPr>
        <p:spPr>
          <a:xfrm flipV="1">
            <a:off x="221436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7" idx="2"/>
            <a:endCxn id="212" idx="0"/>
          </p:cNvCxnSpPr>
          <p:nvPr/>
        </p:nvCxnSpPr>
        <p:spPr>
          <a:xfrm flipV="1" rot="10800000">
            <a:off x="2214000" y="4019040"/>
            <a:ext cx="1080" cy="1058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9" idx="2"/>
            <a:endCxn id="220" idx="0"/>
          </p:cNvCxnSpPr>
          <p:nvPr/>
        </p:nvCxnSpPr>
        <p:spPr>
          <a:xfrm>
            <a:off x="6980040" y="2962080"/>
            <a:ext cx="1080" cy="43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8" idx="0"/>
            <a:endCxn id="229" idx="2"/>
          </p:cNvCxnSpPr>
          <p:nvPr/>
        </p:nvCxnSpPr>
        <p:spPr>
          <a:xfrm flipV="1">
            <a:off x="221436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15812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35440" y="1023840"/>
            <a:ext cx="285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 requires mapping fix already noted in plus/minus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03720" y="1646280"/>
            <a:ext cx="960480" cy="503280"/>
          </a:xfrm>
          <a:custGeom>
            <a:avLst/>
            <a:gdLst/>
            <a:ahLst/>
            <a:rect l="l" t="t" r="r" b="b"/>
            <a:pathLst>
              <a:path w="605" h="317">
                <a:moveTo>
                  <a:pt x="605" y="0"/>
                </a:moveTo>
                <a:cubicBezTo>
                  <a:pt x="413" y="38"/>
                  <a:pt x="222" y="76"/>
                  <a:pt x="180" y="101"/>
                </a:cubicBezTo>
                <a:cubicBezTo>
                  <a:pt x="138" y="126"/>
                  <a:pt x="383" y="115"/>
                  <a:pt x="353" y="151"/>
                </a:cubicBezTo>
                <a:cubicBezTo>
                  <a:pt x="323" y="187"/>
                  <a:pt x="161" y="25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50800" y="2389320"/>
            <a:ext cx="8245440" cy="148104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5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TC213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Limit / Value Range / Plus/Minus / Limits and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elope Principle, Angular Size Full/Ha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plane, common datum, and ARM clar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58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Re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61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14, AP-224, and Module 1050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list of specific size dimensions to the union of types in 224, 214 and those “hiding” under general_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document reference to general_size that calls out where it is defined.  Possibly rename to externally_defined_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ward compatible change to AP-214, 10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14/Module 1050 mappings to AP-224 approach and relax ARM to allow envelope on any size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24 ARM to restrict usage of envelope to size only by moving attribute in the ARM to size_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Size Full/Half Ang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14/Module 1050 mappings to AP-224 approa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756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35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one will use the following sizes and AIM re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e string for Curved size is as used by AP-224, this will be a change for AP-214, which used “curved dimensio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ed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curve length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meter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diameter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al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radiu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ckness si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thickness size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length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th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width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al_size.name = 'height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ly_defined_dimension_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98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 with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4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defines radius, curve, and diameter size dimensions withou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defines them and length, width, height as part of general size, which has a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 to define the new size dimensions with an optional pat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path, mapped as dimensional_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sent, mapped as dimensional_size_with_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317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ize Suggested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4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NTITY externally_defined_size_dimens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SUBTYPE OF (</a:t>
            </a:r>
            <a:r>
              <a:rPr b="1" lang="en-US" sz="2400" spc="-1" strike="noStrike" u="sng">
                <a:solidFill>
                  <a:srgbClr val="009688"/>
                </a:solidFill>
                <a:uFillTx/>
                <a:latin typeface="Arial Unicode MS"/>
                <a:hlinkClick r:id="rId1"/>
              </a:rPr>
              <a:t>Size_dimension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external_source_id : STRING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external_source : assigned_document_selec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used_path : OPTIONAL </a:t>
            </a:r>
            <a:r>
              <a:rPr b="1" lang="en-US" sz="2400" spc="-1" strike="noStrike" u="sng">
                <a:solidFill>
                  <a:srgbClr val="009688"/>
                </a:solidFill>
                <a:uFillTx/>
                <a:latin typeface="Arial Unicode MS"/>
                <a:hlinkClick r:id="rId2"/>
              </a:rPr>
              <a:t>Measurement_path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ND_ENTITY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de from renaming in the ARM, upward compatible with existing general_size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RM, AP-214 and modules may do as a separate document_assignment + rule to require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RM, AP-224 may do as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IMs, will be mapped as document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 for Externally Defined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2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d by AIM the new subtype bel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ly_defined_dimension_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YPE OF (externally_defined_item, dimensional_siz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 has two cases, depending on whether a path is speci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path, mapped as externally_defined_dimension_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sent, mapped as a complex instance of externally_defined_dimension_definition and dimensional_size_with_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ext slide for agreements and string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178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 for Externally Defined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2000" y="2154960"/>
            <a:ext cx="3583800" cy="1795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ly_defined_size_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ssibly complex instance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_with_p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.name = “??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xternally_defined_item.item_id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xternal size dimen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67480" y="436572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07320" y="511200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2540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7" idx="0"/>
            <a:endCxn id="246" idx="2"/>
          </p:cNvCxnSpPr>
          <p:nvPr/>
        </p:nvCxnSpPr>
        <p:spPr>
          <a:xfrm flipV="1">
            <a:off x="2223720" y="3972960"/>
            <a:ext cx="1080" cy="386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2"/>
            <a:endCxn id="248" idx="0"/>
          </p:cNvCxnSpPr>
          <p:nvPr/>
        </p:nvCxnSpPr>
        <p:spPr>
          <a:xfrm>
            <a:off x="2223720" y="4829040"/>
            <a:ext cx="1080" cy="27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0"/>
            <a:endCxn id="249" idx="2"/>
          </p:cNvCxnSpPr>
          <p:nvPr/>
        </p:nvCxnSpPr>
        <p:spPr>
          <a:xfrm flipV="1">
            <a:off x="222372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2"/>
            <a:endCxn id="254" idx="0"/>
          </p:cNvCxnSpPr>
          <p:nvPr/>
        </p:nvCxnSpPr>
        <p:spPr>
          <a:xfrm flipV="1" rot="10800000">
            <a:off x="2223360" y="5574960"/>
            <a:ext cx="1080" cy="346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9" idx="0"/>
            <a:endCxn id="257" idx="2"/>
          </p:cNvCxnSpPr>
          <p:nvPr/>
        </p:nvCxnSpPr>
        <p:spPr>
          <a:xfrm flipV="1">
            <a:off x="222372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16748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7040" y="5921280"/>
            <a:ext cx="28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eric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08040" y="2732040"/>
            <a:ext cx="211752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_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ource_id = “external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imension specific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6" idx="3"/>
            <a:endCxn id="258" idx="1"/>
          </p:cNvCxnSpPr>
          <p:nvPr/>
        </p:nvCxnSpPr>
        <p:spPr>
          <a:xfrm>
            <a:off x="4039920" y="3052440"/>
            <a:ext cx="19659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5283360" y="4299120"/>
            <a:ext cx="31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dimensional_size.name to describe the type of the dim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imension_type/tolerance_cla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27520" y="3294000"/>
            <a:ext cx="1090440" cy="965160"/>
          </a:xfrm>
          <a:custGeom>
            <a:avLst/>
            <a:gdLst/>
            <a:ahLst/>
            <a:rect l="l" t="t" r="r" b="b"/>
            <a:pathLst>
              <a:path w="687" h="1189">
                <a:moveTo>
                  <a:pt x="0" y="0"/>
                </a:moveTo>
                <a:cubicBezTo>
                  <a:pt x="233" y="76"/>
                  <a:pt x="467" y="153"/>
                  <a:pt x="524" y="229"/>
                </a:cubicBezTo>
                <a:cubicBezTo>
                  <a:pt x="581" y="305"/>
                  <a:pt x="313" y="298"/>
                  <a:pt x="340" y="458"/>
                </a:cubicBezTo>
                <a:cubicBezTo>
                  <a:pt x="367" y="618"/>
                  <a:pt x="626" y="1132"/>
                  <a:pt x="687" y="11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6880" y="1792440"/>
            <a:ext cx="31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ing will use string constants shown in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01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nd Resolved Incompat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d AIM mapping differences on handling of all four value qualifications (range, plus/minus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 on 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externally defined size, length, width, he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mapping of envelope princ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mapping of angular size full/half ang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directed flag to all location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ed simplified angular location using axis plac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centered/adjoining flag to radial size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arising from 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qualifying notes, including “auxiliary” and “theoretically exact” for dimensions (SEDS 888-89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way to specify dimensioning standard for a workpiece (SEDS 89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078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 Re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7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AP-214 general_size to externally defined size as describ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 document reference, possible name chan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ward compatible change to AP-214, Module 10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addition to AP-2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specific types out from general_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us, diameter, curved path become separate ARM objects in AP-214 and module 10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 as be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issing size dimensions to 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 as be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separate size dimensions for length, width and height to both A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24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6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were three different mappings for the 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: name of the dimensional characteristic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:  classification assignment on plus_minus_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 1050: classification assignment on dimensional_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diagram on next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138560" y="722160"/>
            <a:ext cx="4576680" cy="2851200"/>
          </a:xfrm>
          <a:custGeom>
            <a:avLst/>
            <a:gdLst/>
            <a:ahLst/>
            <a:rect l="l" t="t" r="r" b="b"/>
            <a:pathLst>
              <a:path w="2883" h="1796">
                <a:moveTo>
                  <a:pt x="576" y="1576"/>
                </a:moveTo>
                <a:cubicBezTo>
                  <a:pt x="573" y="1575"/>
                  <a:pt x="533" y="1564"/>
                  <a:pt x="531" y="1561"/>
                </a:cubicBezTo>
                <a:cubicBezTo>
                  <a:pt x="511" y="1541"/>
                  <a:pt x="478" y="1493"/>
                  <a:pt x="478" y="1493"/>
                </a:cubicBezTo>
                <a:cubicBezTo>
                  <a:pt x="458" y="1435"/>
                  <a:pt x="415" y="1403"/>
                  <a:pt x="379" y="1356"/>
                </a:cubicBezTo>
                <a:cubicBezTo>
                  <a:pt x="350" y="1318"/>
                  <a:pt x="332" y="1263"/>
                  <a:pt x="311" y="1220"/>
                </a:cubicBezTo>
                <a:cubicBezTo>
                  <a:pt x="290" y="1178"/>
                  <a:pt x="264" y="1161"/>
                  <a:pt x="235" y="1129"/>
                </a:cubicBezTo>
                <a:cubicBezTo>
                  <a:pt x="99" y="976"/>
                  <a:pt x="255" y="1131"/>
                  <a:pt x="159" y="1038"/>
                </a:cubicBezTo>
                <a:cubicBezTo>
                  <a:pt x="144" y="991"/>
                  <a:pt x="133" y="950"/>
                  <a:pt x="106" y="909"/>
                </a:cubicBezTo>
                <a:cubicBezTo>
                  <a:pt x="95" y="840"/>
                  <a:pt x="92" y="819"/>
                  <a:pt x="99" y="742"/>
                </a:cubicBezTo>
                <a:cubicBezTo>
                  <a:pt x="82" y="680"/>
                  <a:pt x="52" y="619"/>
                  <a:pt x="23" y="561"/>
                </a:cubicBezTo>
                <a:cubicBezTo>
                  <a:pt x="4" y="452"/>
                  <a:pt x="11" y="505"/>
                  <a:pt x="0" y="401"/>
                </a:cubicBezTo>
                <a:cubicBezTo>
                  <a:pt x="4" y="371"/>
                  <a:pt x="0" y="337"/>
                  <a:pt x="15" y="310"/>
                </a:cubicBezTo>
                <a:cubicBezTo>
                  <a:pt x="47" y="250"/>
                  <a:pt x="100" y="212"/>
                  <a:pt x="159" y="182"/>
                </a:cubicBezTo>
                <a:cubicBezTo>
                  <a:pt x="175" y="165"/>
                  <a:pt x="189" y="145"/>
                  <a:pt x="205" y="129"/>
                </a:cubicBezTo>
                <a:cubicBezTo>
                  <a:pt x="230" y="104"/>
                  <a:pt x="270" y="99"/>
                  <a:pt x="303" y="91"/>
                </a:cubicBezTo>
                <a:cubicBezTo>
                  <a:pt x="422" y="33"/>
                  <a:pt x="561" y="36"/>
                  <a:pt x="690" y="30"/>
                </a:cubicBezTo>
                <a:cubicBezTo>
                  <a:pt x="834" y="0"/>
                  <a:pt x="996" y="11"/>
                  <a:pt x="1145" y="0"/>
                </a:cubicBezTo>
                <a:cubicBezTo>
                  <a:pt x="1458" y="2"/>
                  <a:pt x="1771" y="2"/>
                  <a:pt x="2084" y="7"/>
                </a:cubicBezTo>
                <a:cubicBezTo>
                  <a:pt x="2157" y="8"/>
                  <a:pt x="2239" y="49"/>
                  <a:pt x="2312" y="60"/>
                </a:cubicBezTo>
                <a:cubicBezTo>
                  <a:pt x="2335" y="77"/>
                  <a:pt x="2353" y="90"/>
                  <a:pt x="2380" y="98"/>
                </a:cubicBezTo>
                <a:cubicBezTo>
                  <a:pt x="2451" y="144"/>
                  <a:pt x="2531" y="176"/>
                  <a:pt x="2615" y="189"/>
                </a:cubicBezTo>
                <a:cubicBezTo>
                  <a:pt x="2625" y="194"/>
                  <a:pt x="2659" y="209"/>
                  <a:pt x="2668" y="220"/>
                </a:cubicBezTo>
                <a:cubicBezTo>
                  <a:pt x="2708" y="268"/>
                  <a:pt x="2710" y="346"/>
                  <a:pt x="2744" y="401"/>
                </a:cubicBezTo>
                <a:cubicBezTo>
                  <a:pt x="2752" y="447"/>
                  <a:pt x="2770" y="485"/>
                  <a:pt x="2782" y="530"/>
                </a:cubicBezTo>
                <a:cubicBezTo>
                  <a:pt x="2801" y="675"/>
                  <a:pt x="2802" y="832"/>
                  <a:pt x="2850" y="970"/>
                </a:cubicBezTo>
                <a:cubicBezTo>
                  <a:pt x="2861" y="1123"/>
                  <a:pt x="2883" y="1255"/>
                  <a:pt x="2766" y="1364"/>
                </a:cubicBezTo>
                <a:cubicBezTo>
                  <a:pt x="2698" y="1501"/>
                  <a:pt x="2663" y="1463"/>
                  <a:pt x="2478" y="1470"/>
                </a:cubicBezTo>
                <a:cubicBezTo>
                  <a:pt x="2464" y="1517"/>
                  <a:pt x="2446" y="1560"/>
                  <a:pt x="2395" y="1576"/>
                </a:cubicBezTo>
                <a:cubicBezTo>
                  <a:pt x="2328" y="1629"/>
                  <a:pt x="2339" y="1622"/>
                  <a:pt x="2236" y="1629"/>
                </a:cubicBezTo>
                <a:cubicBezTo>
                  <a:pt x="2161" y="1659"/>
                  <a:pt x="2097" y="1681"/>
                  <a:pt x="2016" y="1690"/>
                </a:cubicBezTo>
                <a:cubicBezTo>
                  <a:pt x="1973" y="1718"/>
                  <a:pt x="1855" y="1726"/>
                  <a:pt x="1796" y="1735"/>
                </a:cubicBezTo>
                <a:cubicBezTo>
                  <a:pt x="1708" y="1770"/>
                  <a:pt x="1625" y="1788"/>
                  <a:pt x="1531" y="1796"/>
                </a:cubicBezTo>
                <a:cubicBezTo>
                  <a:pt x="1322" y="1791"/>
                  <a:pt x="1158" y="1784"/>
                  <a:pt x="963" y="1758"/>
                </a:cubicBezTo>
                <a:cubicBezTo>
                  <a:pt x="852" y="1704"/>
                  <a:pt x="726" y="1698"/>
                  <a:pt x="606" y="1667"/>
                </a:cubicBezTo>
                <a:cubicBezTo>
                  <a:pt x="604" y="1659"/>
                  <a:pt x="604" y="1650"/>
                  <a:pt x="599" y="1644"/>
                </a:cubicBezTo>
                <a:cubicBezTo>
                  <a:pt x="588" y="1630"/>
                  <a:pt x="561" y="1630"/>
                  <a:pt x="561" y="1606"/>
                </a:cubicBezTo>
                <a:cubicBezTo>
                  <a:pt x="561" y="1595"/>
                  <a:pt x="571" y="1586"/>
                  <a:pt x="576" y="1576"/>
                </a:cubicBezTo>
                <a:close/>
              </a:path>
            </a:pathLst>
          </a:custGeom>
          <a:noFill/>
          <a:ln w="38160">
            <a:solidFill>
              <a:srgbClr val="cf0e30"/>
            </a:solidFill>
            <a:round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24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34280" y="499284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83760" y="215172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58120" y="28101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705480"/>
            <a:ext cx="229428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envelope toler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1568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52000" y="395784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_minus_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1320" y="4513320"/>
            <a:ext cx="13402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4" idx="1"/>
            <a:endCxn id="270" idx="3"/>
          </p:cNvCxnSpPr>
          <p:nvPr/>
        </p:nvCxnSpPr>
        <p:spPr>
          <a:xfrm rot="10800000">
            <a:off x="3166200" y="2318760"/>
            <a:ext cx="2482200" cy="1776960"/>
          </a:xfrm>
          <a:prstGeom prst="bentConnector3">
            <a:avLst>
              <a:gd name="adj1" fmla="val 5015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495760" y="529272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95760" y="590868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1" idx="0"/>
            <a:endCxn id="270" idx="2"/>
          </p:cNvCxnSpPr>
          <p:nvPr/>
        </p:nvCxnSpPr>
        <p:spPr>
          <a:xfrm flipV="1">
            <a:off x="2214360" y="2505960"/>
            <a:ext cx="108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2"/>
            <a:endCxn id="272" idx="0"/>
          </p:cNvCxnSpPr>
          <p:nvPr/>
        </p:nvCxnSpPr>
        <p:spPr>
          <a:xfrm>
            <a:off x="2214360" y="3273480"/>
            <a:ext cx="1080" cy="426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0" idx="0"/>
            <a:endCxn id="273" idx="2"/>
          </p:cNvCxnSpPr>
          <p:nvPr/>
        </p:nvCxnSpPr>
        <p:spPr>
          <a:xfrm flipV="1">
            <a:off x="221436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2" idx="2"/>
            <a:endCxn id="269" idx="0"/>
          </p:cNvCxnSpPr>
          <p:nvPr/>
        </p:nvCxnSpPr>
        <p:spPr>
          <a:xfrm flipV="1" rot="10800000">
            <a:off x="2214000" y="4350960"/>
            <a:ext cx="1080" cy="635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4" idx="2"/>
            <a:endCxn id="275" idx="0"/>
          </p:cNvCxnSpPr>
          <p:nvPr/>
        </p:nvCxnSpPr>
        <p:spPr>
          <a:xfrm>
            <a:off x="6551280" y="4238280"/>
            <a:ext cx="1080" cy="26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5" idx="1"/>
            <a:endCxn id="278" idx="1"/>
          </p:cNvCxnSpPr>
          <p:nvPr/>
        </p:nvCxnSpPr>
        <p:spPr>
          <a:xfrm flipV="1" rot="10800000">
            <a:off x="5490360" y="4650840"/>
            <a:ext cx="388080" cy="1486800"/>
          </a:xfrm>
          <a:prstGeom prst="bentConnector3">
            <a:avLst>
              <a:gd name="adj1" fmla="val 1589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225040" y="47862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41920" y="485316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per_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77" idx="0"/>
          </p:cNvCxnSpPr>
          <p:nvPr/>
        </p:nvCxnSpPr>
        <p:spPr>
          <a:xfrm flipV="1" rot="10800000">
            <a:off x="6550920" y="4793760"/>
            <a:ext cx="1080" cy="4928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73" idx="0"/>
            <a:endCxn id="290" idx="2"/>
          </p:cNvCxnSpPr>
          <p:nvPr/>
        </p:nvCxnSpPr>
        <p:spPr>
          <a:xfrm flipV="1">
            <a:off x="221436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115812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3240" y="38736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99480" y="2822760"/>
            <a:ext cx="270720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ed_classification_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2"/>
            <a:endCxn id="274" idx="0"/>
          </p:cNvCxnSpPr>
          <p:nvPr/>
        </p:nvCxnSpPr>
        <p:spPr>
          <a:xfrm rot="5400000">
            <a:off x="6127920" y="3526560"/>
            <a:ext cx="848520" cy="2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687200" y="1766880"/>
            <a:ext cx="296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ification_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=“further tolerance require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2" idx="0"/>
            <a:endCxn id="294" idx="2"/>
          </p:cNvCxnSpPr>
          <p:nvPr/>
        </p:nvCxnSpPr>
        <p:spPr>
          <a:xfrm flipV="1" rot="16200000">
            <a:off x="6067440" y="2330640"/>
            <a:ext cx="586440" cy="384840"/>
          </a:xfrm>
          <a:prstGeom prst="bentConnector3">
            <a:avLst>
              <a:gd name="adj1" fmla="val 498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4677840" y="947880"/>
            <a:ext cx="3004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=“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= “dimensioning princi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2" idx="3"/>
            <a:endCxn id="296" idx="3"/>
          </p:cNvCxnSpPr>
          <p:nvPr/>
        </p:nvCxnSpPr>
        <p:spPr>
          <a:xfrm flipH="1" flipV="1">
            <a:off x="7687440" y="1267560"/>
            <a:ext cx="221400" cy="1693080"/>
          </a:xfrm>
          <a:prstGeom prst="bentConnector3">
            <a:avLst>
              <a:gd name="adj1" fmla="val -103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631320" y="8254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2" idx="1"/>
          </p:cNvCxnSpPr>
          <p:nvPr/>
        </p:nvCxnSpPr>
        <p:spPr>
          <a:xfrm rot="10800000">
            <a:off x="3336120" y="2507400"/>
            <a:ext cx="1861200" cy="4532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cf0e3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3677040" y="2770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381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2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/Module 10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o dimensional_characteristic_representation.name approach in the AI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must change ARM to allow envelope on any size dimension.  Move attribute envelope from value_limitation to size_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 usage of envelope to size only by moving attribute in the ARM to size_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059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Size Full/Half Ang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77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Size Full/Half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maps as a rep_item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clear exactly what the rep item should 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maps as a dimensional_size.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o use a descriptive rep item named “angle type” with a description value of “full angle” or “half angl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14 / Module 1050 mappings to use this approa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24 mappings to use this approa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diagram on next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65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Full/Half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6880" y="2737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2"/>
            <a:endCxn id="308" idx="1"/>
          </p:cNvCxnSpPr>
          <p:nvPr/>
        </p:nvCxnSpPr>
        <p:spPr>
          <a:xfrm flipH="1" rot="16200000">
            <a:off x="1226880" y="3736440"/>
            <a:ext cx="2715480" cy="1642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07760" y="4253040"/>
            <a:ext cx="25365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_angle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upp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22 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07760" y="5411880"/>
            <a:ext cx="25365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_angle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ow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9 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3440" y="1248480"/>
            <a:ext cx="141192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7040" y="19065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1" idx="0"/>
            <a:endCxn id="310" idx="2"/>
          </p:cNvCxnSpPr>
          <p:nvPr/>
        </p:nvCxnSpPr>
        <p:spPr>
          <a:xfrm flipV="1">
            <a:off x="1763640" y="1603080"/>
            <a:ext cx="7200" cy="297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11" idx="2"/>
            <a:endCxn id="306" idx="0"/>
          </p:cNvCxnSpPr>
          <p:nvPr/>
        </p:nvCxnSpPr>
        <p:spPr>
          <a:xfrm>
            <a:off x="1763280" y="23698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2"/>
            <a:endCxn id="309" idx="1"/>
          </p:cNvCxnSpPr>
          <p:nvPr/>
        </p:nvCxnSpPr>
        <p:spPr>
          <a:xfrm flipH="1" rot="16200000">
            <a:off x="1806480" y="3157200"/>
            <a:ext cx="1556640" cy="1642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3390120" y="3246480"/>
            <a:ext cx="2536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riptiv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angle ty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 = “full angle” / “half an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2"/>
            <a:endCxn id="315" idx="1"/>
          </p:cNvCxnSpPr>
          <p:nvPr/>
        </p:nvCxnSpPr>
        <p:spPr>
          <a:xfrm flipH="1" rot="16200000">
            <a:off x="2392920" y="2570400"/>
            <a:ext cx="367560" cy="16264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925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DS on Radial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509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l Tolerances are not completely sup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is wants distinction between centered and “adjoining” radius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I Y14.5 does have two notions of radii, ISO 1101 may but is unknow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actice, distinction between two types comes from how the feature is loca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TEP, we may not have a location dimension to get to it.  Instead, may be located by the shape_rep geome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n optional ARM attribute to radial size dimension for 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descriptive_representation_i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= “radius typ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either “centered” or “adjoin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416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ed vs. Adjoining Rad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6880" y="2737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22" idx="1"/>
          </p:cNvCxnSpPr>
          <p:nvPr/>
        </p:nvCxnSpPr>
        <p:spPr>
          <a:xfrm flipH="1" rot="16200000">
            <a:off x="1271160" y="3691440"/>
            <a:ext cx="2715480" cy="1732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3495960" y="425304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upp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22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960" y="541188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 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ow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9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0960" y="1126800"/>
            <a:ext cx="18615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radiu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7040" y="19065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0"/>
            <a:endCxn id="324" idx="2"/>
          </p:cNvCxnSpPr>
          <p:nvPr/>
        </p:nvCxnSpPr>
        <p:spPr>
          <a:xfrm flipV="1">
            <a:off x="1763640" y="1724760"/>
            <a:ext cx="8640" cy="17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20" idx="0"/>
          </p:cNvCxnSpPr>
          <p:nvPr/>
        </p:nvCxnSpPr>
        <p:spPr>
          <a:xfrm>
            <a:off x="1763280" y="23698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0" idx="2"/>
            <a:endCxn id="323" idx="1"/>
          </p:cNvCxnSpPr>
          <p:nvPr/>
        </p:nvCxnSpPr>
        <p:spPr>
          <a:xfrm flipH="1" rot="16200000">
            <a:off x="1850760" y="3112200"/>
            <a:ext cx="1556640" cy="1732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390120" y="3246480"/>
            <a:ext cx="2536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riptiv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radius ty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 = “centered” / “adjoin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0" idx="2"/>
            <a:endCxn id="329" idx="1"/>
          </p:cNvCxnSpPr>
          <p:nvPr/>
        </p:nvCxnSpPr>
        <p:spPr>
          <a:xfrm flipH="1" rot="16200000">
            <a:off x="2392920" y="2570400"/>
            <a:ext cx="367560" cy="16264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925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DS on Radial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l Tolerances are not size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is cites confusion between feature-of-size and our notion of a size_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merit to risk of confusion, but do not want to reorganize the A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 via informative notes to explain u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  Size_dimension as defined in this part of ISO 10303 describe an intrinsic length or angle characteristic of part shape.  This includes characteristics of what are traditionally called “features-of-size”, but they are not limited to that usage alone.  For example, the radial_size_dimension and curved_size_dimension application objects describe characteristics which may not be applied to “features-of-size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50800" y="3824280"/>
            <a:ext cx="8245440" cy="4986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5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TC213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Limit / Value Range / Plus/Minus / Limits and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elope Principle, Angular Size Full/Ha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plane, common datum, and ARM clar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01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monization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Big Picture Strategies for 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 of dimensions with the draughting presentation elements of the dim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 with TC 10 and TC 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response to TC-213 “expression of concer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eattle, discussed some issues discovered on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path for affected_plane attribute (harmoniz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for Compound_datum in AP-224 vs AP-214/1051 (harmoniz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nction between Datum reference and Datum (us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between datums and manufacturing features (us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537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1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debate on the interpretation of Angular Lo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of many AP-214 SEDS (893-89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al for a new, simplified angular location dimension with required ori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groups agreed to adop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following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ing of directed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supported for linear, but not angle (AP-214 SEDS 88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groups agreed to move directed attribute in ARM up to the supertype of all location dim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503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48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Interpretation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 and Mappings proposed by Tom, with some discussion on the exploder.  Now acceptable to AP-224, AP-214, Modu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orientation establishes X axis, angle extends in XY plane towards 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d major angle, mirror origin, mirror target, and origin determ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diagram below and next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32440" y="4906800"/>
            <a:ext cx="1663560" cy="1008360"/>
          </a:xfrm>
          <a:custGeom>
            <a:avLst/>
            <a:gdLst/>
            <a:ahLst/>
            <a:rect l="l" t="t" r="r" b="b"/>
            <a:pathLst>
              <a:path w="1048" h="635">
                <a:moveTo>
                  <a:pt x="757" y="0"/>
                </a:moveTo>
                <a:lnTo>
                  <a:pt x="0" y="635"/>
                </a:lnTo>
                <a:lnTo>
                  <a:pt x="1048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6680" y="5546880"/>
            <a:ext cx="189000" cy="368280"/>
          </a:xfrm>
          <a:custGeom>
            <a:avLst/>
            <a:gdLst/>
            <a:ahLst/>
            <a:rect l="l" t="t" r="r" b="b"/>
            <a:pathLst>
              <a:path w="119" h="232">
                <a:moveTo>
                  <a:pt x="0" y="0"/>
                </a:moveTo>
                <a:cubicBezTo>
                  <a:pt x="44" y="24"/>
                  <a:pt x="89" y="48"/>
                  <a:pt x="104" y="87"/>
                </a:cubicBezTo>
                <a:cubicBezTo>
                  <a:pt x="119" y="126"/>
                  <a:pt x="106" y="179"/>
                  <a:pt x="93" y="2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22320" y="4805280"/>
            <a:ext cx="22352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xis2_place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22720" y="6080040"/>
            <a:ext cx="1681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05440" y="5965920"/>
            <a:ext cx="35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076640" y="4611600"/>
            <a:ext cx="0" cy="106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91040" y="4363920"/>
            <a:ext cx="350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97360" y="5359320"/>
            <a:ext cx="1006200" cy="536760"/>
          </a:xfrm>
          <a:custGeom>
            <a:avLst/>
            <a:gdLst/>
            <a:ahLst/>
            <a:rect l="l" t="t" r="r" b="b"/>
            <a:pathLst>
              <a:path w="634" h="338">
                <a:moveTo>
                  <a:pt x="0" y="0"/>
                </a:moveTo>
                <a:cubicBezTo>
                  <a:pt x="132" y="53"/>
                  <a:pt x="265" y="107"/>
                  <a:pt x="291" y="134"/>
                </a:cubicBezTo>
                <a:cubicBezTo>
                  <a:pt x="317" y="161"/>
                  <a:pt x="100" y="129"/>
                  <a:pt x="157" y="163"/>
                </a:cubicBezTo>
                <a:cubicBezTo>
                  <a:pt x="214" y="197"/>
                  <a:pt x="424" y="267"/>
                  <a:pt x="634" y="3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64040" y="5286240"/>
            <a:ext cx="1736640" cy="351000"/>
          </a:xfrm>
          <a:custGeom>
            <a:avLst/>
            <a:gdLst/>
            <a:ahLst/>
            <a:rect l="l" t="t" r="r" b="b"/>
            <a:pathLst>
              <a:path w="1094" h="221">
                <a:moveTo>
                  <a:pt x="0" y="221"/>
                </a:moveTo>
                <a:cubicBezTo>
                  <a:pt x="214" y="149"/>
                  <a:pt x="429" y="78"/>
                  <a:pt x="506" y="64"/>
                </a:cubicBezTo>
                <a:cubicBezTo>
                  <a:pt x="583" y="50"/>
                  <a:pt x="367" y="150"/>
                  <a:pt x="465" y="139"/>
                </a:cubicBezTo>
                <a:cubicBezTo>
                  <a:pt x="563" y="128"/>
                  <a:pt x="963" y="30"/>
                  <a:pt x="109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37280" y="4468680"/>
            <a:ext cx="22352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l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rom shape dimension represent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214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ngular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73880" y="3853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8840" y="5294520"/>
            <a:ext cx="2536560" cy="82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_angle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20 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4040" y="30225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0"/>
            <a:endCxn id="355" idx="2"/>
          </p:cNvCxnSpPr>
          <p:nvPr/>
        </p:nvCxnSpPr>
        <p:spPr>
          <a:xfrm flipV="1">
            <a:off x="1790640" y="2166120"/>
            <a:ext cx="864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53" idx="2"/>
            <a:endCxn id="351" idx="0"/>
          </p:cNvCxnSpPr>
          <p:nvPr/>
        </p:nvCxnSpPr>
        <p:spPr>
          <a:xfrm>
            <a:off x="1790280" y="34858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1" idx="2"/>
            <a:endCxn id="352" idx="1"/>
          </p:cNvCxnSpPr>
          <p:nvPr/>
        </p:nvCxnSpPr>
        <p:spPr>
          <a:xfrm flipH="1" rot="16200000">
            <a:off x="1408680" y="4698000"/>
            <a:ext cx="1389960" cy="626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 flipV="1">
            <a:off x="1154160" y="153504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355840" y="153468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96760" y="1811880"/>
            <a:ext cx="1803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_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5280" y="952560"/>
            <a:ext cx="22352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ng and rel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pe_asp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08520" y="378324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65240" y="2428920"/>
            <a:ext cx="153072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4" idx="2"/>
            <a:endCxn id="361" idx="0"/>
          </p:cNvCxnSpPr>
          <p:nvPr/>
        </p:nvCxnSpPr>
        <p:spPr>
          <a:xfrm>
            <a:off x="4530240" y="3467160"/>
            <a:ext cx="1080" cy="310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2" idx="0"/>
            <a:endCxn id="355" idx="3"/>
          </p:cNvCxnSpPr>
          <p:nvPr/>
        </p:nvCxnSpPr>
        <p:spPr>
          <a:xfrm flipV="1" rot="16200000">
            <a:off x="3404880" y="1296360"/>
            <a:ext cx="443520" cy="1808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4" idx="0"/>
            <a:endCxn id="362" idx="2"/>
          </p:cNvCxnSpPr>
          <p:nvPr/>
        </p:nvCxnSpPr>
        <p:spPr>
          <a:xfrm flipV="1">
            <a:off x="4530240" y="2709000"/>
            <a:ext cx="1080" cy="28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3765240" y="3003840"/>
            <a:ext cx="1530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25440" y="4408560"/>
            <a:ext cx="189360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2_placement_2d/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orient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1" idx="2"/>
            <a:endCxn id="367" idx="1"/>
          </p:cNvCxnSpPr>
          <p:nvPr/>
        </p:nvCxnSpPr>
        <p:spPr>
          <a:xfrm flipH="1" rot="16200000">
            <a:off x="4840920" y="3753360"/>
            <a:ext cx="573840" cy="1194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58720" y="4268880"/>
            <a:ext cx="8245440" cy="112716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5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TC213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Limit / Value Range / Plus/Minus / Limits and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elope Principle, Angular Size Full/Ha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plane, common datum, and ARM clar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41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24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xiliary/theoretically exact/notes on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SEDS 888-89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descriptive representation item in the shape dimension repres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could be multiple notes.   All will have the name rep_item.name “dimensional not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diagram on next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08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xiliary/Theoretically Exact/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6880" y="2737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07760" y="5220000"/>
            <a:ext cx="2536560" cy="82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_angle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20 d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3440" y="1248480"/>
            <a:ext cx="141192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7040" y="19065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0"/>
            <a:endCxn id="377" idx="2"/>
          </p:cNvCxnSpPr>
          <p:nvPr/>
        </p:nvCxnSpPr>
        <p:spPr>
          <a:xfrm flipV="1">
            <a:off x="1763640" y="1603080"/>
            <a:ext cx="7200" cy="297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2"/>
            <a:endCxn id="375" idx="0"/>
          </p:cNvCxnSpPr>
          <p:nvPr/>
        </p:nvCxnSpPr>
        <p:spPr>
          <a:xfrm>
            <a:off x="1763280" y="23698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2"/>
            <a:endCxn id="376" idx="1"/>
          </p:cNvCxnSpPr>
          <p:nvPr/>
        </p:nvCxnSpPr>
        <p:spPr>
          <a:xfrm flipH="1" rot="16200000">
            <a:off x="1369080" y="3594240"/>
            <a:ext cx="2431080" cy="1642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3390120" y="3818160"/>
            <a:ext cx="2536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riptiv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dimensional no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ription = “auxilia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5" idx="2"/>
            <a:endCxn id="382" idx="1"/>
          </p:cNvCxnSpPr>
          <p:nvPr/>
        </p:nvCxnSpPr>
        <p:spPr>
          <a:xfrm flipH="1" rot="16200000">
            <a:off x="2107440" y="2856240"/>
            <a:ext cx="938880" cy="16264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5440" y="3544920"/>
            <a:ext cx="223524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uxiliary dime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could also be “theoretical” for theoretically exa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other string indicates a qualifying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889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oice of Dimensioning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13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ethod to specify dimensioning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SEDS 89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iscussion, agreed that this can be specified once for the entire product, NOT for individual toleran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ARM concept “part_dimensioning_standar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in the ARM is up to each team, could be standalone or a subtype of an ARM concept for document ass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to applied_document_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object_role to call out the type of ass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r.object_role = "dimensioning standard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ssociated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r.items[] contains the product_definition of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ocument which identifies the governing standa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r.assigned_document.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50800" y="5373720"/>
            <a:ext cx="8245440" cy="87768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5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TC213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Limit / Value Range / Plus/Minus / Limits and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elope Principle, Angular Size Full/Ha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plane, common datum, and ARM clar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17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Pla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5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style allows more than one tolerance on a particular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s plane to tolerance through tolerance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tyle allows only one plane for a particular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s plane to feature.   If there is more than one tolerance, there is no way to give them different pla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 AP-224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able to AP-214, Modules.   Need to update mapp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927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Plane - AP-214 Mapp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89240" y="5121360"/>
            <a:ext cx="27194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definition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62720" y="4613400"/>
            <a:ext cx="15735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2"/>
            <a:endCxn id="393" idx="0"/>
          </p:cNvCxnSpPr>
          <p:nvPr/>
        </p:nvCxnSpPr>
        <p:spPr>
          <a:xfrm>
            <a:off x="4549320" y="4893840"/>
            <a:ext cx="1080" cy="22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813240" y="1469160"/>
            <a:ext cx="1983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_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2560" y="5662800"/>
            <a:ext cx="12542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45560" y="1347480"/>
            <a:ext cx="16801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ler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 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400" idx="2"/>
            <a:endCxn id="401" idx="0"/>
          </p:cNvCxnSpPr>
          <p:nvPr/>
        </p:nvCxnSpPr>
        <p:spPr>
          <a:xfrm>
            <a:off x="4549680" y="3498840"/>
            <a:ext cx="720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6" idx="3"/>
            <a:endCxn id="398" idx="1"/>
          </p:cNvCxnSpPr>
          <p:nvPr/>
        </p:nvCxnSpPr>
        <p:spPr>
          <a:xfrm>
            <a:off x="2819160" y="1636200"/>
            <a:ext cx="33058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400" idx="0"/>
            <a:endCxn id="398" idx="2"/>
          </p:cNvCxnSpPr>
          <p:nvPr/>
        </p:nvCxnSpPr>
        <p:spPr>
          <a:xfrm flipH="1" flipV="1" rot="5400000">
            <a:off x="5226480" y="1269000"/>
            <a:ext cx="1083240" cy="2437560"/>
          </a:xfrm>
          <a:prstGeom prst="bentConnector3">
            <a:avLst>
              <a:gd name="adj1" fmla="val 5043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3139560" y="3035520"/>
            <a:ext cx="2820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affected plane associ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38240" y="6064560"/>
            <a:ext cx="16725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2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97" idx="2"/>
            <a:endCxn id="404" idx="1"/>
          </p:cNvCxnSpPr>
          <p:nvPr/>
        </p:nvCxnSpPr>
        <p:spPr>
          <a:xfrm flipH="1" rot="16200000">
            <a:off x="4912920" y="5578920"/>
            <a:ext cx="259560" cy="988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4771800" y="27208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43360" y="34815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3924360"/>
            <a:ext cx="11955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394" idx="0"/>
            <a:endCxn id="401" idx="2"/>
          </p:cNvCxnSpPr>
          <p:nvPr/>
        </p:nvCxnSpPr>
        <p:spPr>
          <a:xfrm flipV="1">
            <a:off x="4549680" y="4204800"/>
            <a:ext cx="7200" cy="40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3" idx="2"/>
            <a:endCxn id="397" idx="0"/>
          </p:cNvCxnSpPr>
          <p:nvPr/>
        </p:nvCxnSpPr>
        <p:spPr>
          <a:xfrm flipV="1" rot="10800000">
            <a:off x="4548960" y="5401800"/>
            <a:ext cx="1080" cy="2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6401160" y="272556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 one plane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associated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iven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01560" y="1333440"/>
            <a:ext cx="20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d_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0800" y="1150920"/>
            <a:ext cx="8245440" cy="52560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5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TC213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Limit / Value Range / Plus/Minus / Limits and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elope Principle, Angular Size Full/Ha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plane, common datum, and ARM clar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927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Plane - AP-224 Mapp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89240" y="5121360"/>
            <a:ext cx="27194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definition_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62720" y="4613400"/>
            <a:ext cx="15735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_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14" idx="2"/>
            <a:endCxn id="413" idx="0"/>
          </p:cNvCxnSpPr>
          <p:nvPr/>
        </p:nvCxnSpPr>
        <p:spPr>
          <a:xfrm>
            <a:off x="4549320" y="4893840"/>
            <a:ext cx="1080" cy="22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16" name=""/>
          <p:cNvSpPr/>
          <p:nvPr/>
        </p:nvSpPr>
        <p:spPr>
          <a:xfrm>
            <a:off x="813240" y="1469160"/>
            <a:ext cx="1983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_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22560" y="5662800"/>
            <a:ext cx="12542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45560" y="1347480"/>
            <a:ext cx="16801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ler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 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20" idx="2"/>
            <a:endCxn id="421" idx="0"/>
          </p:cNvCxnSpPr>
          <p:nvPr/>
        </p:nvCxnSpPr>
        <p:spPr>
          <a:xfrm>
            <a:off x="4549680" y="3406320"/>
            <a:ext cx="7200" cy="42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6" idx="3"/>
            <a:endCxn id="418" idx="1"/>
          </p:cNvCxnSpPr>
          <p:nvPr/>
        </p:nvCxnSpPr>
        <p:spPr>
          <a:xfrm>
            <a:off x="2819160" y="1636200"/>
            <a:ext cx="33058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3475440" y="3125880"/>
            <a:ext cx="21466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06480" y="5973840"/>
            <a:ext cx="19360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2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affected pla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7" idx="2"/>
            <a:endCxn id="423" idx="1"/>
          </p:cNvCxnSpPr>
          <p:nvPr/>
        </p:nvCxnSpPr>
        <p:spPr>
          <a:xfrm flipH="1" rot="16200000">
            <a:off x="4846320" y="5646240"/>
            <a:ext cx="259560" cy="853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4771800" y="27208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43360" y="34815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2240" y="3834000"/>
            <a:ext cx="18860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desc = “affected pla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4" idx="0"/>
            <a:endCxn id="421" idx="2"/>
          </p:cNvCxnSpPr>
          <p:nvPr/>
        </p:nvCxnSpPr>
        <p:spPr>
          <a:xfrm flipV="1">
            <a:off x="4549680" y="4296960"/>
            <a:ext cx="7200" cy="310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3" idx="2"/>
            <a:endCxn id="417" idx="0"/>
          </p:cNvCxnSpPr>
          <p:nvPr/>
        </p:nvCxnSpPr>
        <p:spPr>
          <a:xfrm flipV="1" rot="10800000">
            <a:off x="4548960" y="5401800"/>
            <a:ext cx="1080" cy="25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271240" y="2349720"/>
            <a:ext cx="129600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_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0" idx="0"/>
            <a:endCxn id="429" idx="3"/>
          </p:cNvCxnSpPr>
          <p:nvPr/>
        </p:nvCxnSpPr>
        <p:spPr>
          <a:xfrm flipV="1" rot="16200000">
            <a:off x="3744360" y="2313720"/>
            <a:ext cx="632520" cy="978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9" idx="1"/>
            <a:endCxn id="416" idx="2"/>
          </p:cNvCxnSpPr>
          <p:nvPr/>
        </p:nvCxnSpPr>
        <p:spPr>
          <a:xfrm rot="10800000">
            <a:off x="1804320" y="1823400"/>
            <a:ext cx="462600" cy="664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779400" y="28479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ed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01560" y="1333440"/>
            <a:ext cx="20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d_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639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 Dat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0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/1051 maps to common_dat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um elements are associated with a shape aspect relationshi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maps to datum (in 224e2 docu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s datum_feature not dat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 aspect relationship in opposite dire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not map to common_datu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fined note in mapp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change ARM name to Common_datum to satisfy the TC213 comm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 AP-214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_datum is in AIC 519 for this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agrees to adopt the mapping w/common_datum as documented in AP-214/1051 (flip SAR, and go to datum to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06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 Mapp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79640" y="2216880"/>
            <a:ext cx="7902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39" idx="2"/>
            <a:endCxn id="440" idx="0"/>
          </p:cNvCxnSpPr>
          <p:nvPr/>
        </p:nvCxnSpPr>
        <p:spPr>
          <a:xfrm>
            <a:off x="2374920" y="3817440"/>
            <a:ext cx="8640" cy="98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1300680" y="3537000"/>
            <a:ext cx="21466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8560" y="3968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rel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24120" y="31035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93720" y="4823280"/>
            <a:ext cx="157824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9" idx="0"/>
            <a:endCxn id="437" idx="2"/>
          </p:cNvCxnSpPr>
          <p:nvPr/>
        </p:nvCxnSpPr>
        <p:spPr>
          <a:xfrm flipV="1">
            <a:off x="2374560" y="2571120"/>
            <a:ext cx="1080" cy="959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5331240" y="547200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y type of Single_da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31280" y="2216880"/>
            <a:ext cx="174564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_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7" idx="2"/>
            <a:endCxn id="448" idx="0"/>
          </p:cNvCxnSpPr>
          <p:nvPr/>
        </p:nvCxnSpPr>
        <p:spPr>
          <a:xfrm>
            <a:off x="6702480" y="3817440"/>
            <a:ext cx="8640" cy="98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5628240" y="3537000"/>
            <a:ext cx="21466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74960" y="31021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rel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99080" y="397044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15120" y="4823280"/>
            <a:ext cx="7902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47" idx="0"/>
            <a:endCxn id="445" idx="2"/>
          </p:cNvCxnSpPr>
          <p:nvPr/>
        </p:nvCxnSpPr>
        <p:spPr>
          <a:xfrm flipH="1" flipV="1" rot="5400000">
            <a:off x="6223680" y="3049920"/>
            <a:ext cx="959400" cy="2160"/>
          </a:xfrm>
          <a:prstGeom prst="bentConnector3">
            <a:avLst>
              <a:gd name="adj1" fmla="val 5048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1342800" y="14796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14240" y="14810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/1051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135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um and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92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merges “datum” and “use of a datum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s seem to indicate that a Datum is a datum+datum_reference in the A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paths currently not complete.  Do not say how to get from a datum_reference to a datum in the AIM.   (Ran into this when implementing for STIX &amp; CAX-I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edence and modification are part of the reference, not the dat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cing them into the datum ARM object means they can no longer be shared.   Need to separ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modeled as attributes in ARM mapped to complex instances in AI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kward, can some be modeled as ARM subtyp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79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um 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20280" y="1672920"/>
            <a:ext cx="44265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_tolerance_with_datum_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ctually, one of the AIC 519 subtyp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7" idx="2"/>
            <a:endCxn id="459" idx="0"/>
          </p:cNvCxnSpPr>
          <p:nvPr/>
        </p:nvCxnSpPr>
        <p:spPr>
          <a:xfrm rot="5400000">
            <a:off x="2062080" y="2418120"/>
            <a:ext cx="918360" cy="624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2981520" y="243036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_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70760" y="17683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metric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5920" y="3209400"/>
            <a:ext cx="3287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_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r referenced_modified_da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5960" y="4799160"/>
            <a:ext cx="282780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ssibly complex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other th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59" idx="2"/>
            <a:endCxn id="462" idx="0"/>
          </p:cNvCxnSpPr>
          <p:nvPr/>
        </p:nvCxnSpPr>
        <p:spPr>
          <a:xfrm flipV="1" rot="10800000">
            <a:off x="2208960" y="3808080"/>
            <a:ext cx="1080" cy="970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2327400" y="397368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d_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30560" y="971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42280" y="10033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19720" y="42242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um and Sub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43560" y="3052800"/>
            <a:ext cx="706320" cy="2717640"/>
          </a:xfrm>
          <a:custGeom>
            <a:avLst/>
            <a:gdLst>
              <a:gd name="textAreaLeft" fmla="*/ 0 w 706320"/>
              <a:gd name="textAreaRight" fmla="*/ 254880 w 706320"/>
              <a:gd name="textAreaTop" fmla="*/ 70560 h 2717640"/>
              <a:gd name="textAreaBottom" fmla="*/ 2647080 h 27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560" y="4075200"/>
            <a:ext cx="17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This link is not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the mapp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75320" y="5827680"/>
            <a:ext cx="1311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um_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79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um 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4440" y="1703160"/>
            <a:ext cx="391752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ic_tolerance_with_datum_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ctually, one of the AIC 519 subtyp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2"/>
            <a:endCxn id="474" idx="0"/>
          </p:cNvCxnSpPr>
          <p:nvPr/>
        </p:nvCxnSpPr>
        <p:spPr>
          <a:xfrm rot="5400000">
            <a:off x="2538360" y="2529360"/>
            <a:ext cx="585000" cy="54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981520" y="243036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_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70760" y="17683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metric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880" y="2842920"/>
            <a:ext cx="291600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_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r referenced_modified_dat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58120" y="4162320"/>
            <a:ext cx="7171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74" idx="2"/>
          </p:cNvCxnSpPr>
          <p:nvPr/>
        </p:nvCxnSpPr>
        <p:spPr>
          <a:xfrm flipV="1" rot="10800000">
            <a:off x="2828160" y="3379320"/>
            <a:ext cx="1080" cy="402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2959200" y="348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d_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30560" y="971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42280" y="10033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44400" y="35305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um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13480" y="28702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um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14680" y="5705280"/>
            <a:ext cx="1410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78760" y="4891320"/>
            <a:ext cx="12808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0"/>
            <a:endCxn id="477" idx="2"/>
          </p:cNvCxnSpPr>
          <p:nvPr/>
        </p:nvCxnSpPr>
        <p:spPr>
          <a:xfrm flipV="1" rot="16200000">
            <a:off x="1318680" y="4683960"/>
            <a:ext cx="399240" cy="2160"/>
          </a:xfrm>
          <a:prstGeom prst="bentConnector3">
            <a:avLst>
              <a:gd name="adj1" fmla="val 509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5" idx="2"/>
            <a:endCxn id="484" idx="0"/>
          </p:cNvCxnSpPr>
          <p:nvPr/>
        </p:nvCxnSpPr>
        <p:spPr>
          <a:xfrm flipH="1" rot="16200000">
            <a:off x="1353240" y="5519520"/>
            <a:ext cx="332640" cy="2520"/>
          </a:xfrm>
          <a:prstGeom prst="bentConnector3">
            <a:avLst>
              <a:gd name="adj1" fmla="val 511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3066480" y="4179600"/>
            <a:ext cx="7171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0560" y="5722920"/>
            <a:ext cx="1311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_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85320" y="4908600"/>
            <a:ext cx="12808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90" idx="0"/>
            <a:endCxn id="488" idx="2"/>
          </p:cNvCxnSpPr>
          <p:nvPr/>
        </p:nvCxnSpPr>
        <p:spPr>
          <a:xfrm flipV="1">
            <a:off x="3425400" y="4502880"/>
            <a:ext cx="1080" cy="399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90" idx="2"/>
            <a:endCxn id="489" idx="0"/>
          </p:cNvCxnSpPr>
          <p:nvPr/>
        </p:nvCxnSpPr>
        <p:spPr>
          <a:xfrm flipH="1" rot="16200000">
            <a:off x="3259800" y="5536800"/>
            <a:ext cx="332280" cy="2520"/>
          </a:xfrm>
          <a:prstGeom prst="bentConnector3">
            <a:avLst>
              <a:gd name="adj1" fmla="val 5119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3" name=""/>
          <p:cNvSpPr/>
          <p:nvPr/>
        </p:nvSpPr>
        <p:spPr>
          <a:xfrm>
            <a:off x="3835440" y="45543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35800" y="54133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11960" y="4177440"/>
            <a:ext cx="167868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datum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rived_shape_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ect sub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33640" y="450864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34000" y="5367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13800" y="4151160"/>
            <a:ext cx="1556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_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7692840" y="4474440"/>
            <a:ext cx="1080" cy="399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7888680" y="4538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0480" y="3863880"/>
            <a:ext cx="77803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83040" y="3519360"/>
            <a:ext cx="2811600" cy="2381400"/>
          </a:xfrm>
          <a:custGeom>
            <a:avLst/>
            <a:gdLst/>
            <a:ahLst/>
            <a:rect l="l" t="t" r="r" b="b"/>
            <a:pathLst>
              <a:path w="1771" h="1500">
                <a:moveTo>
                  <a:pt x="1766" y="1060"/>
                </a:moveTo>
                <a:lnTo>
                  <a:pt x="1771" y="1500"/>
                </a:lnTo>
                <a:lnTo>
                  <a:pt x="1152" y="1500"/>
                </a:lnTo>
                <a:lnTo>
                  <a:pt x="1152" y="0"/>
                </a:lnTo>
                <a:lnTo>
                  <a:pt x="0" y="0"/>
                </a:lnTo>
                <a:lnTo>
                  <a:pt x="0" y="1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908840" y="54072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27200" y="616572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on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02320" y="616572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ngle Datum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rived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1400" y="6165720"/>
            <a:ext cx="148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ngle Datum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rget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84160" y="6165720"/>
            <a:ext cx="148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ngle Datum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52400" y="4880160"/>
            <a:ext cx="12808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184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ne ARM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5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ne Datum ARM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Datum U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precedence attribute (moved from dat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Geometric tolerances to refer to Datum_reference rather than 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 the defined_by attribute on Single Datum with subtypes that handle each of the three defined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um_defined_by_fe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um_defined_by_ targ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um_defined_by_ derived_sha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attribute remains in Single 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TC213 terminology to consid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5225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To A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88880" y="1226880"/>
            <a:ext cx="4176720" cy="53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Coaxiality_tole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YPE OF (Geometric_tolerance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_datum : SET[1:2] OF Datum_referenc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Datum_re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edence : INTEGER;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d_datum: Datu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Da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TRACT SUPERTYPE 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Common_da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YPE OF (Datum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_up_by : SET[2:?] OF Single_datum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03240" y="1071360"/>
            <a:ext cx="3808440" cy="55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Single_da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YPE OF (Datum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_name : STRING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: OPTIONAL Tolerance_condition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Datum_defined_by_fea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YPE OF (Single_datum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d_by:  Shape_elemen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Datum_defined_by_targe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YPE OF (Single_datum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d_by:  SET [1:?] Datum_targe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 Datum_defined_by_derived_sha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YPE OF (Single_datum,Derived_geometry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_ENTITY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828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Features as Datu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142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it look like if one wanted to designate a manufacturing feature as a datu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, if two planar faces had to maintain a certain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73160" y="2801880"/>
            <a:ext cx="2009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llelism_tole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6" idx="2"/>
            <a:endCxn id="518" idx="0"/>
          </p:cNvCxnSpPr>
          <p:nvPr/>
        </p:nvCxnSpPr>
        <p:spPr>
          <a:xfrm flipV="1" rot="10800000">
            <a:off x="2077200" y="3125520"/>
            <a:ext cx="1080" cy="527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"/>
          <p:cNvSpPr/>
          <p:nvPr/>
        </p:nvSpPr>
        <p:spPr>
          <a:xfrm>
            <a:off x="2241720" y="320364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_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68280" y="3671640"/>
            <a:ext cx="1619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_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18640" y="4456080"/>
            <a:ext cx="7171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8" idx="2"/>
            <a:endCxn id="520" idx="0"/>
          </p:cNvCxnSpPr>
          <p:nvPr/>
        </p:nvCxnSpPr>
        <p:spPr>
          <a:xfrm flipV="1" rot="10800000">
            <a:off x="2077200" y="3995280"/>
            <a:ext cx="1080" cy="442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2203560" y="40356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d_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4040" y="5156280"/>
            <a:ext cx="21466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_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3" idx="0"/>
            <a:endCxn id="520" idx="2"/>
          </p:cNvCxnSpPr>
          <p:nvPr/>
        </p:nvCxnSpPr>
        <p:spPr>
          <a:xfrm flipV="1">
            <a:off x="2077560" y="4779360"/>
            <a:ext cx="1080" cy="370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23" idx="2"/>
            <a:endCxn id="526" idx="1"/>
          </p:cNvCxnSpPr>
          <p:nvPr/>
        </p:nvCxnSpPr>
        <p:spPr>
          <a:xfrm flipH="1" rot="16200000">
            <a:off x="3896280" y="3618000"/>
            <a:ext cx="183240" cy="3820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"/>
          <p:cNvSpPr/>
          <p:nvPr/>
        </p:nvSpPr>
        <p:spPr>
          <a:xfrm>
            <a:off x="2200320" y="48420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0680" y="566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32640" y="2851920"/>
            <a:ext cx="2134440" cy="115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oleranced Fac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flat_fac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ce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12640" y="4934160"/>
            <a:ext cx="1776240" cy="137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atum Fac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flat_fac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ced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and datum_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16" idx="3"/>
            <a:endCxn id="529" idx="1"/>
          </p:cNvCxnSpPr>
          <p:nvPr/>
        </p:nvCxnSpPr>
        <p:spPr>
          <a:xfrm>
            <a:off x="3095280" y="2953800"/>
            <a:ext cx="2624760" cy="477000"/>
          </a:xfrm>
          <a:prstGeom prst="bentConnector3">
            <a:avLst>
              <a:gd name="adj1" fmla="val 4995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1965600" y="6073920"/>
            <a:ext cx="37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dd datum_feature to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79320" y="2662200"/>
            <a:ext cx="20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d_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ackground Sli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435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Statement For TC-2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48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TC-213 “expression of concern”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happy to use TC 213 terminology,  and note that we are already referring to 5459:1981 for the definition of Dat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sk TC-213 to point out areas where we differ and we will be happy to adopt their termi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ready using the “Common_Datum” term as AIM entity defined in AIC 51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change uses of “Compound Datum” term to “Common Datum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come the chance to meet for a harmonization workshop on an as-needed bas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890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ackground on The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19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Approach to Harmonization at Ba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ed ARM and AIM iss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ed the room for technical and business priorities and constrai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ed each issue to find options consistent with above prior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046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of Particip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30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the following technical priorities so that we can evaluate our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minimal changes to existing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make standards more complex with alternate mappings.   Benefits current implementation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minimal changes to existing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ay become more complex than above, even more benefits to current implementations.   Minimize or eliminate change visible to implemen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 which would be disillusioned by any changes to the standa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city of resulting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 pattern so implementers know what to expect.   Benefits adoption and future implementation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may encourage use in other contex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adoptio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 use of Integrated Resource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046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of Particip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17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(Perspective) -- Prioritization of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- Min Change to STD, B- Min Change to Impl., C- Simplicity, D - IR accurac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l Freeman (customer rep), Len Slovensky (224, 240, 223) -  B, A, D,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n Barker - D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essa Lees (CTC) - 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n Crawford (224, customer rep)- Customer Impact (B), Credibility of STEP, Reuse of Existing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tin Gibson - Customer Impact (B), Credibility of STE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Ungerer (214, customer rep) - B (tolerances not implemented, but value ranges are implemented in other areas of the standard), A, speed, C, 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 Hendrix (203e2/modules) - D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ng Yee (203e2/parametrics) - D + Speed, 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akai Sakamoto (240) - B, A, D,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royuki Hiraoka - C, Expan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jay Srinivasan (TC213) - none of the above (IBM/Dassault) D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iedrich Glantschnig (14649) - As with Alan Crawford above, push back any changes to 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k-Hwan Suh (14649) - C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tin Hardwick (tool vendor) - Maximum new implementation =&gt; D, C,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d Vorburger (219) - B, A, and to lesser extent D,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24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very important, D very important, Speed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- Min Change to STD, B- Min Change to Impl., C- Simplicity, D - IR accura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tolerances not implemented, but value ranges and limits are implemented in other areas of the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tolerances implemented with all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/Minus most comm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, limitation, limits and fits - how comm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feature plus/minus widely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limitation outside of dimension - how comm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support use of value range, limits and fits outside of dimensional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50800" y="1595520"/>
            <a:ext cx="8245440" cy="863640"/>
          </a:xfrm>
          <a:prstGeom prst="rect">
            <a:avLst/>
          </a:prstGeom>
          <a:solidFill>
            <a:srgbClr val="f5fb1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57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TC213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Limit / Value Range / Plus/Minus / Limits and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et of Siz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elope Principle, Angular Size Full/Ha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ed vs Adjo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S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ying no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plane, common datum, and ARM clar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58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Re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71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, agreement to clarify mappings in AP-2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/minus, agreement on separate representations for use inside and outside of dimensions.   AP-214 to correct mappings inside dimension to make proper use of dimensional_size, add new mapping for use out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fits, as with plus/min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range, agreement on separate representations for use inside and outside of dimensions.  Within dimensions the two rep item approach will be used, everywhere else value_range AIM entity will be used.   AP 224 will also extend ARM to support ranges for normal proper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95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Limit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640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60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2"/>
            <a:endCxn id="64" idx="1"/>
          </p:cNvCxnSpPr>
          <p:nvPr/>
        </p:nvCxnSpPr>
        <p:spPr>
          <a:xfrm flipH="1" rot="16200000">
            <a:off x="86364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26880" y="1406520"/>
            <a:ext cx="211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 or property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09800" y="2492280"/>
            <a:ext cx="517320" cy="628920"/>
          </a:xfrm>
          <a:prstGeom prst="downArrow">
            <a:avLst>
              <a:gd name="adj1" fmla="val 46630"/>
              <a:gd name="adj2" fmla="val 3929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16480" y="2509920"/>
            <a:ext cx="172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qualified representation item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66640" y="4329360"/>
            <a:ext cx="16221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maximu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6320" y="502776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64" idx="3"/>
            <a:endCxn id="70" idx="1"/>
          </p:cNvCxnSpPr>
          <p:nvPr/>
        </p:nvCxnSpPr>
        <p:spPr>
          <a:xfrm>
            <a:off x="3795840" y="4557240"/>
            <a:ext cx="1227240" cy="69948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4" idx="3"/>
            <a:endCxn id="69" idx="1"/>
          </p:cNvCxnSpPr>
          <p:nvPr/>
        </p:nvCxnSpPr>
        <p:spPr>
          <a:xfrm>
            <a:off x="3795480" y="4557240"/>
            <a:ext cx="12675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278400" y="3639960"/>
            <a:ext cx="225720" cy="544680"/>
          </a:xfrm>
          <a:custGeom>
            <a:avLst/>
            <a:gdLst/>
            <a:ahLst/>
            <a:rect l="l" t="t" r="r" b="b"/>
            <a:pathLst>
              <a:path w="142" h="343">
                <a:moveTo>
                  <a:pt x="116" y="0"/>
                </a:moveTo>
                <a:cubicBezTo>
                  <a:pt x="64" y="63"/>
                  <a:pt x="13" y="126"/>
                  <a:pt x="17" y="146"/>
                </a:cubicBezTo>
                <a:cubicBezTo>
                  <a:pt x="21" y="166"/>
                  <a:pt x="142" y="89"/>
                  <a:pt x="139" y="122"/>
                </a:cubicBezTo>
                <a:cubicBezTo>
                  <a:pt x="136" y="155"/>
                  <a:pt x="68" y="249"/>
                  <a:pt x="0" y="3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40200" y="1082520"/>
            <a:ext cx="377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pproach is defined in both AP-214 and AP-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2800" y="2351160"/>
            <a:ext cx="3051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ame of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 specifies “maximum” or “minimu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24 does not specify string, but uses “MAX” and “MIN” in an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16440" y="3454560"/>
            <a:ext cx="258840" cy="711000"/>
          </a:xfrm>
          <a:custGeom>
            <a:avLst/>
            <a:gdLst/>
            <a:ahLst/>
            <a:rect l="l" t="t" r="r" b="b"/>
            <a:pathLst>
              <a:path w="163" h="448">
                <a:moveTo>
                  <a:pt x="163" y="0"/>
                </a:moveTo>
                <a:cubicBezTo>
                  <a:pt x="98" y="85"/>
                  <a:pt x="33" y="171"/>
                  <a:pt x="29" y="198"/>
                </a:cubicBezTo>
                <a:cubicBezTo>
                  <a:pt x="25" y="225"/>
                  <a:pt x="145" y="121"/>
                  <a:pt x="140" y="163"/>
                </a:cubicBezTo>
                <a:cubicBezTo>
                  <a:pt x="135" y="205"/>
                  <a:pt x="67" y="326"/>
                  <a:pt x="0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5520" y="5851440"/>
            <a:ext cx="252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arate qualifier significant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588960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eric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8120" y="5273640"/>
            <a:ext cx="865080" cy="588960"/>
          </a:xfrm>
          <a:custGeom>
            <a:avLst/>
            <a:gdLst/>
            <a:ahLst/>
            <a:rect l="l" t="t" r="r" b="b"/>
            <a:pathLst>
              <a:path w="545" h="371">
                <a:moveTo>
                  <a:pt x="0" y="371"/>
                </a:moveTo>
                <a:cubicBezTo>
                  <a:pt x="95" y="291"/>
                  <a:pt x="190" y="212"/>
                  <a:pt x="226" y="196"/>
                </a:cubicBezTo>
                <a:cubicBezTo>
                  <a:pt x="262" y="180"/>
                  <a:pt x="163" y="311"/>
                  <a:pt x="216" y="278"/>
                </a:cubicBezTo>
                <a:cubicBezTo>
                  <a:pt x="269" y="245"/>
                  <a:pt x="407" y="122"/>
                  <a:pt x="54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2600" y="5584680"/>
            <a:ext cx="439920" cy="439920"/>
          </a:xfrm>
          <a:custGeom>
            <a:avLst/>
            <a:gdLst/>
            <a:ahLst/>
            <a:rect l="l" t="t" r="r" b="b"/>
            <a:pathLst>
              <a:path w="277" h="277">
                <a:moveTo>
                  <a:pt x="277" y="277"/>
                </a:moveTo>
                <a:cubicBezTo>
                  <a:pt x="231" y="197"/>
                  <a:pt x="186" y="117"/>
                  <a:pt x="164" y="103"/>
                </a:cubicBezTo>
                <a:cubicBezTo>
                  <a:pt x="142" y="89"/>
                  <a:pt x="171" y="212"/>
                  <a:pt x="144" y="195"/>
                </a:cubicBezTo>
                <a:cubicBezTo>
                  <a:pt x="117" y="178"/>
                  <a:pt x="58" y="89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2002-10-02T16:30:10Z</cp:lastPrinted>
  <dcterms:modified xsi:type="dcterms:W3CDTF">2004-10-12T16:40:07Z</dcterms:modified>
  <cp:revision>969</cp:revision>
  <dc:subject>wg3n1514, post-Seattle SC4 Meeting</dc:subject>
  <dc:title>GD&amp;T Harmonization Final Results</dc:title>
</cp:coreProperties>
</file>