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jpeg" ContentType="image/jpeg"/>
  <Override PartName="/ppt/media/image1.wmf" ContentType="image/x-wmf"/>
  <Override PartName="/ppt/media/image2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4.png" ContentType="image/png"/>
  <Override PartName="/ppt/media/image9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32888" cy="6846888"/>
  <p:notesSz cx="69977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219320" y="60912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99840" y="4398120"/>
            <a:ext cx="5598360" cy="41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../slides/slide8.xml"/><Relationship Id="rId3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93760" y="70164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33480" y="4397040"/>
            <a:ext cx="513072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933480" y="4354560"/>
            <a:ext cx="5129280" cy="416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slide represents the  highlights of AP224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list of items in each box represents a sample of what AP224 conta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summarize - AP224 contains everything found on a drawing of a 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0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028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1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0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028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416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15360" y="246240"/>
            <a:ext cx="23889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4320" y="689040"/>
            <a:ext cx="876276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5080" y="655164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346BDC6-0ED7-4535-B21B-54545A20ACB9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613320" y="6551640"/>
            <a:ext cx="190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Copyright 2004 — STEP Tools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50760" y="1218960"/>
            <a:ext cx="518796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Arial"/>
              </a:rPr>
              <a:t>AP-238 DIS Walkthroug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2960" y="309600"/>
            <a:ext cx="25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32600" y="5291280"/>
            <a:ext cx="38278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 First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9040" y="2998800"/>
            <a:ext cx="5173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eattle SC4 Meet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October 200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teptools_logo" descr=""/>
          <p:cNvPicPr/>
          <p:nvPr/>
        </p:nvPicPr>
        <p:blipFill>
          <a:blip r:embed="rId1"/>
          <a:stretch/>
        </p:blipFill>
        <p:spPr>
          <a:xfrm>
            <a:off x="304920" y="227160"/>
            <a:ext cx="2895480" cy="63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90720" y="4419720"/>
            <a:ext cx="2879640" cy="14619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4908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s: Fe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257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attributes to bound the volu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iously, open profiles infinite in ex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to ARM, mappings to describe how far profile exte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quare “U”, Rounded “U”, and “Vee” profiles for slots, steps, and open pocke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val depth on planar f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shed back changes to other APs through AIC522e2 and ARM changes to AP-224e3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5226120"/>
            <a:ext cx="183960" cy="183960"/>
          </a:xfrm>
          <a:prstGeom prst="flowChartOr">
            <a:avLst/>
          </a:prstGeom>
          <a:solidFill>
            <a:srgbClr val="ffffff"/>
          </a:solidFill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4038480"/>
            <a:ext cx="1600200" cy="144792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0" y="0"/>
                </a:moveTo>
                <a:lnTo>
                  <a:pt x="96" y="576"/>
                </a:lnTo>
                <a:lnTo>
                  <a:pt x="672" y="67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172200" y="4724280"/>
            <a:ext cx="21337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4419720"/>
            <a:ext cx="685800" cy="152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019920" y="4114800"/>
            <a:ext cx="220968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5410080"/>
            <a:ext cx="0" cy="609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441972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571500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334120" y="3886200"/>
            <a:ext cx="2666880" cy="5335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457200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10640" y="4800600"/>
            <a:ext cx="1015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t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514920" y="529524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9840" y="6053040"/>
            <a:ext cx="1015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t 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4572000"/>
            <a:ext cx="32004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4908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s: Fe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166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attribute to link to explicit sha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 14649 has no way to link feature with part geomet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 10303 can provide an explicit description linking geometr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SO 14649 and ISO 10303 provide implicit feature description (profiles and path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4952880"/>
            <a:ext cx="44960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743200" y="4876920"/>
          <a:ext cx="3787920" cy="14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876920"/>
                    <a:ext cx="378792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457200" y="3581280"/>
            <a:ext cx="38098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mplicit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round_hole is defined by a complete circular profile and a linear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3581280"/>
            <a:ext cx="3809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plicit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s to the B-REP faces on the geometry that describe the h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4704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s: Explicit Sha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6760" y="1072080"/>
            <a:ext cx="1901880" cy="143100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ion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02880" y="4044960"/>
            <a:ext cx="135324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13880" y="5069160"/>
            <a:ext cx="1729800" cy="63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usually an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ep shape re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6040" y="2982600"/>
            <a:ext cx="190188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0"/>
            <a:endCxn id="114" idx="2"/>
          </p:cNvCxnSpPr>
          <p:nvPr/>
        </p:nvCxnSpPr>
        <p:spPr>
          <a:xfrm flipV="1">
            <a:off x="1577520" y="2523600"/>
            <a:ext cx="1080" cy="4392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5" idx="0"/>
            <a:endCxn id="117" idx="2"/>
          </p:cNvCxnSpPr>
          <p:nvPr/>
        </p:nvCxnSpPr>
        <p:spPr>
          <a:xfrm flipV="1" rot="16200000">
            <a:off x="1349640" y="3808440"/>
            <a:ext cx="457920" cy="2520"/>
          </a:xfrm>
          <a:prstGeom prst="bentConnector3">
            <a:avLst>
              <a:gd name="adj1" fmla="val 50983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5" idx="2"/>
            <a:endCxn id="116" idx="0"/>
          </p:cNvCxnSpPr>
          <p:nvPr/>
        </p:nvCxnSpPr>
        <p:spPr>
          <a:xfrm flipV="1" rot="10800000">
            <a:off x="1578960" y="4508280"/>
            <a:ext cx="1080" cy="5547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1" name=""/>
          <p:cNvGrpSpPr/>
          <p:nvPr/>
        </p:nvGrpSpPr>
        <p:grpSpPr>
          <a:xfrm>
            <a:off x="5689080" y="3895200"/>
            <a:ext cx="1983960" cy="2580120"/>
            <a:chOff x="5689080" y="3895200"/>
            <a:chExt cx="1983960" cy="2580120"/>
          </a:xfrm>
        </p:grpSpPr>
        <p:cxnSp>
          <p:nvCxnSpPr>
            <p:cNvPr id="122" name=""/>
            <p:cNvCxnSpPr>
              <a:stCxn id="123" idx="2"/>
              <a:endCxn id="124" idx="0"/>
            </p:cNvCxnSpPr>
            <p:nvPr/>
          </p:nvCxnSpPr>
          <p:spPr>
            <a:xfrm rot="5400000">
              <a:off x="6648480" y="5159880"/>
              <a:ext cx="321120" cy="2520"/>
            </a:xfrm>
            <a:prstGeom prst="bentConnector3">
              <a:avLst>
                <a:gd name="adj1" fmla="val 49943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25" name=""/>
            <p:cNvGrpSpPr/>
            <p:nvPr/>
          </p:nvGrpSpPr>
          <p:grpSpPr>
            <a:xfrm>
              <a:off x="5689080" y="3895200"/>
              <a:ext cx="1983960" cy="2580120"/>
              <a:chOff x="5689080" y="3895200"/>
              <a:chExt cx="1983960" cy="2580120"/>
            </a:xfrm>
          </p:grpSpPr>
          <p:sp>
            <p:nvSpPr>
              <p:cNvPr id="123" name=""/>
              <p:cNvSpPr/>
              <p:nvPr/>
            </p:nvSpPr>
            <p:spPr>
              <a:xfrm>
                <a:off x="6133680" y="4537080"/>
                <a:ext cx="1353240" cy="456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hape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epresen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944680" y="5327640"/>
                <a:ext cx="172836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hape represen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6" name=""/>
              <p:cNvCxnSpPr>
                <a:stCxn id="123" idx="0"/>
                <a:endCxn id="127" idx="2"/>
              </p:cNvCxnSpPr>
              <p:nvPr/>
            </p:nvCxnSpPr>
            <p:spPr>
              <a:xfrm flipV="1" rot="16200000">
                <a:off x="5932080" y="3651840"/>
                <a:ext cx="635760" cy="1121760"/>
              </a:xfrm>
              <a:prstGeom prst="bentConnector3">
                <a:avLst>
                  <a:gd name="adj1" fmla="val 50708"/>
                </a:avLst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28" name=""/>
              <p:cNvSpPr/>
              <p:nvPr/>
            </p:nvSpPr>
            <p:spPr>
              <a:xfrm>
                <a:off x="6132600" y="5888160"/>
                <a:ext cx="1282680" cy="5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explici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descri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" name=""/>
          <p:cNvGrpSpPr/>
          <p:nvPr/>
        </p:nvGrpSpPr>
        <p:grpSpPr>
          <a:xfrm>
            <a:off x="2550600" y="1219320"/>
            <a:ext cx="4293720" cy="2052720"/>
            <a:chOff x="2550600" y="1219320"/>
            <a:chExt cx="4293720" cy="2052720"/>
          </a:xfrm>
        </p:grpSpPr>
        <p:sp>
          <p:nvSpPr>
            <p:cNvPr id="130" name=""/>
            <p:cNvSpPr/>
            <p:nvPr/>
          </p:nvSpPr>
          <p:spPr>
            <a:xfrm>
              <a:off x="4547520" y="1230840"/>
              <a:ext cx="2296800" cy="143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f0e30"/>
              </a:solidFill>
              <a:miter/>
            </a:ln>
            <a:effectLst>
              <a:outerShdw dist="17819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Fea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lex instan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f instanced_featu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d feature_defi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ub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30" idx="1"/>
              <a:endCxn id="117" idx="3"/>
            </p:cNvCxnSpPr>
            <p:nvPr/>
          </p:nvCxnSpPr>
          <p:spPr>
            <a:xfrm flipV="1" rot="10800000">
              <a:off x="2550240" y="1945800"/>
              <a:ext cx="1974240" cy="1326240"/>
            </a:xfrm>
            <a:prstGeom prst="bentConnector3">
              <a:avLst>
                <a:gd name="adj1" fmla="val 49954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2976840" y="1219320"/>
              <a:ext cx="129312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rou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hape_asp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of_sha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737600" y="2514600"/>
            <a:ext cx="4006440" cy="1360800"/>
            <a:chOff x="4737600" y="2514600"/>
            <a:chExt cx="4006440" cy="1360800"/>
          </a:xfrm>
        </p:grpSpPr>
        <p:sp>
          <p:nvSpPr>
            <p:cNvPr id="127" name=""/>
            <p:cNvSpPr/>
            <p:nvPr/>
          </p:nvSpPr>
          <p:spPr>
            <a:xfrm>
              <a:off x="4737600" y="3296880"/>
              <a:ext cx="1901880" cy="578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f0e30"/>
              </a:solidFill>
              <a:miter/>
            </a:ln>
            <a:effectLst>
              <a:outerShdw dist="17819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duct defi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ha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" name=""/>
            <p:cNvCxnSpPr>
              <a:stCxn id="127" idx="0"/>
              <a:endCxn id="130" idx="2"/>
            </p:cNvCxnSpPr>
            <p:nvPr/>
          </p:nvCxnSpPr>
          <p:spPr>
            <a:xfrm flipH="1" flipV="1" rot="5400000">
              <a:off x="5395320" y="2976120"/>
              <a:ext cx="594720" cy="7200"/>
            </a:xfrm>
            <a:prstGeom prst="bentConnector3">
              <a:avLst>
                <a:gd name="adj1" fmla="val 49969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5" name=""/>
            <p:cNvSpPr/>
            <p:nvPr/>
          </p:nvSpPr>
          <p:spPr>
            <a:xfrm>
              <a:off x="7081920" y="2514600"/>
              <a:ext cx="166212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other sha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aspects describ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aspects of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fea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5" idx="2"/>
              <a:endCxn id="127" idx="3"/>
            </p:cNvCxnSpPr>
            <p:nvPr/>
          </p:nvCxnSpPr>
          <p:spPr>
            <a:xfrm rot="5400000">
              <a:off x="7182000" y="2855160"/>
              <a:ext cx="212040" cy="1251360"/>
            </a:xfrm>
            <a:prstGeom prst="bentConnector2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7" name=""/>
          <p:cNvGrpSpPr/>
          <p:nvPr/>
        </p:nvGrpSpPr>
        <p:grpSpPr>
          <a:xfrm>
            <a:off x="3660120" y="3895200"/>
            <a:ext cx="2029680" cy="2580120"/>
            <a:chOff x="3660120" y="3895200"/>
            <a:chExt cx="2029680" cy="2580120"/>
          </a:xfrm>
        </p:grpSpPr>
        <p:sp>
          <p:nvSpPr>
            <p:cNvPr id="138" name=""/>
            <p:cNvSpPr/>
            <p:nvPr/>
          </p:nvSpPr>
          <p:spPr>
            <a:xfrm>
              <a:off x="3849120" y="4535640"/>
              <a:ext cx="1353240" cy="45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ape defin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60120" y="5327640"/>
              <a:ext cx="1728360" cy="45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ape represen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ith paramet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0" name=""/>
            <p:cNvCxnSpPr>
              <a:stCxn id="138" idx="0"/>
              <a:endCxn id="127" idx="2"/>
            </p:cNvCxnSpPr>
            <p:nvPr/>
          </p:nvCxnSpPr>
          <p:spPr>
            <a:xfrm flipH="1" flipV="1" rot="5400000">
              <a:off x="4790520" y="3630240"/>
              <a:ext cx="634320" cy="1164240"/>
            </a:xfrm>
            <a:prstGeom prst="bentConnector3">
              <a:avLst>
                <a:gd name="adj1" fmla="val 50596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stCxn id="138" idx="2"/>
              <a:endCxn id="139" idx="0"/>
            </p:cNvCxnSpPr>
            <p:nvPr/>
          </p:nvCxnSpPr>
          <p:spPr>
            <a:xfrm rot="5400000">
              <a:off x="4363560" y="5159160"/>
              <a:ext cx="322920" cy="2160"/>
            </a:xfrm>
            <a:prstGeom prst="bentConnector3">
              <a:avLst>
                <a:gd name="adj1" fmla="val 49665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2" name=""/>
            <p:cNvSpPr/>
            <p:nvPr/>
          </p:nvSpPr>
          <p:spPr>
            <a:xfrm>
              <a:off x="3841560" y="5888160"/>
              <a:ext cx="128268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implic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51814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: Process and Final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29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P-238 model has the notion of both final feature and process fe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feature is on final part, from upstream, possibly from an AP-224 or AP-240 application.   As such, some features might only define a volume when combined with the stoc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features are the features pointed to by ISO 14649 workingstep. Specific to a workplan, needs full volume limit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P-238 workingstep can also point to one or more final features that it contributes to.    (and many workingsteps and process features may contribute to one final featur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4495680"/>
            <a:ext cx="3429000" cy="1881360"/>
          </a:xfrm>
          <a:prstGeom prst="roundRect">
            <a:avLst>
              <a:gd name="adj" fmla="val 12255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0480" y="4557600"/>
            <a:ext cx="3317760" cy="1771920"/>
          </a:xfrm>
          <a:prstGeom prst="roundRect">
            <a:avLst>
              <a:gd name="adj" fmla="val 44731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61920" y="4557600"/>
            <a:ext cx="3337200" cy="1771920"/>
            <a:chOff x="961920" y="4557600"/>
            <a:chExt cx="3337200" cy="1771920"/>
          </a:xfrm>
        </p:grpSpPr>
        <p:sp>
          <p:nvSpPr>
            <p:cNvPr id="148" name=""/>
            <p:cNvSpPr/>
            <p:nvPr/>
          </p:nvSpPr>
          <p:spPr>
            <a:xfrm>
              <a:off x="961920" y="4557600"/>
              <a:ext cx="443160" cy="443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52720" y="4557600"/>
              <a:ext cx="443160" cy="443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57760" y="5886360"/>
              <a:ext cx="441360" cy="443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74880" y="5872320"/>
              <a:ext cx="441000" cy="442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728600" y="4487760"/>
            <a:ext cx="2896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feature in </a:t>
            </a:r>
            <a:r>
              <a:rPr b="0" lang="en-US" sz="1600" spc="-1" strike="noStrike">
                <a:solidFill>
                  <a:srgbClr val="cf0e30"/>
                </a:solidFill>
                <a:latin typeface="Arial"/>
              </a:rPr>
              <a:t>red (POCK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29320" y="5062680"/>
            <a:ext cx="3958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features 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rill the corners (HO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ill out center with large tool (POCK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ill remaining mater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smaller tool (FINAL POCK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33200" y="822240"/>
            <a:ext cx="4448160" cy="5634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34760" y="1457280"/>
            <a:ext cx="131364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2720" y="3010680"/>
            <a:ext cx="99504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20560" y="2304360"/>
            <a:ext cx="17402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5D manufactu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5" idx="2"/>
            <a:endCxn id="157" idx="0"/>
          </p:cNvCxnSpPr>
          <p:nvPr/>
        </p:nvCxnSpPr>
        <p:spPr>
          <a:xfrm rot="5400000">
            <a:off x="2116800" y="2111040"/>
            <a:ext cx="348480" cy="2520"/>
          </a:xfrm>
          <a:prstGeom prst="bentConnector3">
            <a:avLst>
              <a:gd name="adj1" fmla="val 49741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57" idx="2"/>
            <a:endCxn id="156" idx="0"/>
          </p:cNvCxnSpPr>
          <p:nvPr/>
        </p:nvCxnSpPr>
        <p:spPr>
          <a:xfrm rot="5400000">
            <a:off x="1310400" y="2012760"/>
            <a:ext cx="419760" cy="1540440"/>
          </a:xfrm>
          <a:prstGeom prst="bentConnector3">
            <a:avLst>
              <a:gd name="adj1" fmla="val 49957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160" name=""/>
          <p:cNvSpPr/>
          <p:nvPr/>
        </p:nvSpPr>
        <p:spPr>
          <a:xfrm>
            <a:off x="1623960" y="3034800"/>
            <a:ext cx="13348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rning 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23160" y="3034440"/>
            <a:ext cx="85788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96400" y="3960360"/>
            <a:ext cx="6598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t_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57" idx="2"/>
            <a:endCxn id="160" idx="0"/>
          </p:cNvCxnSpPr>
          <p:nvPr/>
        </p:nvCxnSpPr>
        <p:spPr>
          <a:xfrm flipH="1" rot="16200000">
            <a:off x="2069280" y="2793600"/>
            <a:ext cx="443520" cy="252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4" name=""/>
          <p:cNvCxnSpPr>
            <a:stCxn id="157" idx="2"/>
            <a:endCxn id="161" idx="0"/>
          </p:cNvCxnSpPr>
          <p:nvPr/>
        </p:nvCxnSpPr>
        <p:spPr>
          <a:xfrm flipH="1" rot="16200000">
            <a:off x="2800440" y="2063160"/>
            <a:ext cx="443520" cy="146304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1177560" y="872640"/>
            <a:ext cx="220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-NC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0" idx="2"/>
            <a:endCxn id="167" idx="1"/>
          </p:cNvCxnSpPr>
          <p:nvPr/>
        </p:nvCxnSpPr>
        <p:spPr>
          <a:xfrm flipH="1" rot="16200000">
            <a:off x="1862280" y="3733920"/>
            <a:ext cx="1111680" cy="25092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160" idx="2"/>
            <a:endCxn id="162" idx="3"/>
          </p:cNvCxnSpPr>
          <p:nvPr/>
        </p:nvCxnSpPr>
        <p:spPr>
          <a:xfrm rot="5400000">
            <a:off x="1540800" y="3335400"/>
            <a:ext cx="783360" cy="72000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60" idx="2"/>
            <a:endCxn id="170" idx="1"/>
          </p:cNvCxnSpPr>
          <p:nvPr/>
        </p:nvCxnSpPr>
        <p:spPr>
          <a:xfrm flipH="1" rot="16200000">
            <a:off x="2069280" y="3525480"/>
            <a:ext cx="681480" cy="237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60" idx="2"/>
            <a:endCxn id="172" idx="3"/>
          </p:cNvCxnSpPr>
          <p:nvPr/>
        </p:nvCxnSpPr>
        <p:spPr>
          <a:xfrm rot="5400000">
            <a:off x="1390320" y="3713040"/>
            <a:ext cx="1311480" cy="4928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578520" y="4975560"/>
            <a:ext cx="13334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er dia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54560" y="4289040"/>
            <a:ext cx="14644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olved 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120" y="4488840"/>
            <a:ext cx="10958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er 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67" idx="3"/>
            <a:endCxn id="175" idx="3"/>
          </p:cNvCxnSpPr>
          <p:nvPr/>
        </p:nvCxnSpPr>
        <p:spPr>
          <a:xfrm flipH="1">
            <a:off x="3952440" y="4414680"/>
            <a:ext cx="78480" cy="791280"/>
          </a:xfrm>
          <a:prstGeom prst="bentConnector3">
            <a:avLst>
              <a:gd name="adj1" fmla="val -281566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6" name=""/>
          <p:cNvCxnSpPr>
            <a:stCxn id="167" idx="3"/>
            <a:endCxn id="177" idx="3"/>
          </p:cNvCxnSpPr>
          <p:nvPr/>
        </p:nvCxnSpPr>
        <p:spPr>
          <a:xfrm flipH="1">
            <a:off x="3952440" y="4414320"/>
            <a:ext cx="78480" cy="1475640"/>
          </a:xfrm>
          <a:prstGeom prst="bentConnector3">
            <a:avLst>
              <a:gd name="adj1" fmla="val -281566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8" name=""/>
          <p:cNvCxnSpPr>
            <a:stCxn id="167" idx="3"/>
            <a:endCxn id="179" idx="3"/>
          </p:cNvCxnSpPr>
          <p:nvPr/>
        </p:nvCxnSpPr>
        <p:spPr>
          <a:xfrm flipH="1">
            <a:off x="3952440" y="4414320"/>
            <a:ext cx="78480" cy="1132920"/>
          </a:xfrm>
          <a:prstGeom prst="bentConnector3">
            <a:avLst>
              <a:gd name="adj1" fmla="val -281566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0" name=""/>
          <p:cNvCxnSpPr>
            <a:stCxn id="167" idx="3"/>
            <a:endCxn id="181" idx="3"/>
          </p:cNvCxnSpPr>
          <p:nvPr/>
        </p:nvCxnSpPr>
        <p:spPr>
          <a:xfrm flipH="1">
            <a:off x="3952440" y="4414320"/>
            <a:ext cx="78480" cy="451800"/>
          </a:xfrm>
          <a:prstGeom prst="bentConnector3">
            <a:avLst>
              <a:gd name="adj1" fmla="val -281566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3200400" y="4739760"/>
            <a:ext cx="7430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o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39280" y="5763600"/>
            <a:ext cx="16016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l rev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75440" y="5421600"/>
            <a:ext cx="13640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olved 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91440" y="5080320"/>
            <a:ext cx="11476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olved f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46280" y="3858840"/>
            <a:ext cx="5698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ur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2" idx="1"/>
            <a:endCxn id="173" idx="1"/>
          </p:cNvCxnSpPr>
          <p:nvPr/>
        </p:nvCxnSpPr>
        <p:spPr>
          <a:xfrm flipV="1" rot="10800000">
            <a:off x="564480" y="4613760"/>
            <a:ext cx="111960" cy="486360"/>
          </a:xfrm>
          <a:prstGeom prst="bentConnector3">
            <a:avLst>
              <a:gd name="adj1" fmla="val 297096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3" name=""/>
          <p:cNvCxnSpPr>
            <a:stCxn id="172" idx="1"/>
          </p:cNvCxnSpPr>
          <p:nvPr/>
        </p:nvCxnSpPr>
        <p:spPr>
          <a:xfrm flipV="1" rot="10800000">
            <a:off x="564480" y="4613760"/>
            <a:ext cx="111960" cy="926280"/>
          </a:xfrm>
          <a:prstGeom prst="bentConnector3">
            <a:avLst>
              <a:gd name="adj1" fmla="val 297096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184" name=""/>
          <p:cNvSpPr/>
          <p:nvPr/>
        </p:nvSpPr>
        <p:spPr>
          <a:xfrm>
            <a:off x="570600" y="5342040"/>
            <a:ext cx="133344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er dia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shoul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9086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s: Added Turning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1720440"/>
            <a:ext cx="3657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 features are now harmonized between Part 12 and AP-224/AP-2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problems encountered adding the mappings for all turning feat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5638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mensions and Geometric Toler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92280" y="1221840"/>
            <a:ext cx="3797280" cy="30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mensions defining l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tion defined by a linear d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tion defined by a distance along a cur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tion defined by an ang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mensions defining 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ves, angle, diameter, radius, thickness, length, width, h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1840" y="1222200"/>
            <a:ext cx="3797280" cy="247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metric characteristics with datums as need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gularity, circular runout, coaxiality, concentricity, cylindricity, flatness, line profile, parallelism, perpendicularity, position, roundness, straightness, surface profile, symmetry, total run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19000" y="4894200"/>
            <a:ext cx="1022400" cy="1022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44600" y="4657680"/>
            <a:ext cx="0" cy="146700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5410080"/>
            <a:ext cx="1468440" cy="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938160" y="5079600"/>
            <a:ext cx="773280" cy="652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62320" y="6035760"/>
            <a:ext cx="0" cy="28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95880" y="6026040"/>
            <a:ext cx="0" cy="28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6172200"/>
            <a:ext cx="1933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600280" y="4572000"/>
            <a:ext cx="203400" cy="27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81200" y="4903920"/>
            <a:ext cx="579600" cy="955440"/>
          </a:xfrm>
          <a:custGeom>
            <a:avLst/>
            <a:gdLst/>
            <a:ahLst/>
            <a:rect l="l" t="t" r="r" b="b"/>
            <a:pathLst>
              <a:path w="366" h="605">
                <a:moveTo>
                  <a:pt x="0" y="0"/>
                </a:moveTo>
                <a:cubicBezTo>
                  <a:pt x="125" y="83"/>
                  <a:pt x="250" y="167"/>
                  <a:pt x="308" y="268"/>
                </a:cubicBezTo>
                <a:cubicBezTo>
                  <a:pt x="366" y="369"/>
                  <a:pt x="337" y="531"/>
                  <a:pt x="349" y="60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4724280"/>
            <a:ext cx="663480" cy="1122480"/>
          </a:xfrm>
          <a:custGeom>
            <a:avLst/>
            <a:gdLst/>
            <a:ahLst/>
            <a:rect l="l" t="t" r="r" b="b"/>
            <a:pathLst>
              <a:path w="366" h="605">
                <a:moveTo>
                  <a:pt x="0" y="0"/>
                </a:moveTo>
                <a:cubicBezTo>
                  <a:pt x="125" y="83"/>
                  <a:pt x="250" y="167"/>
                  <a:pt x="308" y="268"/>
                </a:cubicBezTo>
                <a:cubicBezTo>
                  <a:pt x="366" y="369"/>
                  <a:pt x="337" y="531"/>
                  <a:pt x="349" y="60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66920" y="5873760"/>
            <a:ext cx="398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440400" y="620712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345440" y="3668760"/>
            <a:ext cx="782640" cy="276120"/>
            <a:chOff x="7345440" y="3668760"/>
            <a:chExt cx="782640" cy="276120"/>
          </a:xfrm>
        </p:grpSpPr>
        <p:grpSp>
          <p:nvGrpSpPr>
            <p:cNvPr id="203" name=""/>
            <p:cNvGrpSpPr/>
            <p:nvPr/>
          </p:nvGrpSpPr>
          <p:grpSpPr>
            <a:xfrm>
              <a:off x="7345440" y="3668760"/>
              <a:ext cx="331920" cy="276120"/>
              <a:chOff x="7345440" y="3668760"/>
              <a:chExt cx="331920" cy="276120"/>
            </a:xfrm>
          </p:grpSpPr>
          <p:sp>
            <p:nvSpPr>
              <p:cNvPr id="204" name=""/>
              <p:cNvSpPr/>
              <p:nvPr/>
            </p:nvSpPr>
            <p:spPr>
              <a:xfrm>
                <a:off x="7345440" y="3668760"/>
                <a:ext cx="331920" cy="2761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448040" y="3742560"/>
                <a:ext cx="137160" cy="13716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7345440" y="3668760"/>
              <a:ext cx="782640" cy="2761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 flipH="1">
            <a:off x="7041960" y="3848040"/>
            <a:ext cx="277560" cy="249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7172640" y="3571200"/>
            <a:ext cx="1065240" cy="1895400"/>
          </a:xfrm>
          <a:custGeom>
            <a:avLst/>
            <a:gdLst>
              <a:gd name="textAreaLeft" fmla="*/ 187920 w 1065240"/>
              <a:gd name="textAreaRight" fmla="*/ 877320 w 1065240"/>
              <a:gd name="textAreaTop" fmla="*/ 334440 h 1895400"/>
              <a:gd name="textAreaBottom" fmla="*/ 1560960 h 189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85" y="21600"/>
                </a:lnTo>
                <a:lnTo>
                  <a:pt x="3715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10080" y="4519440"/>
            <a:ext cx="3380040" cy="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58080" y="3870360"/>
            <a:ext cx="0" cy="123516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407360" y="3695760"/>
            <a:ext cx="92160" cy="18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7539120" y="3753000"/>
            <a:ext cx="92160" cy="18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03840" y="4091040"/>
            <a:ext cx="698400" cy="84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76800" y="5475240"/>
            <a:ext cx="2200320" cy="809640"/>
          </a:xfrm>
          <a:custGeom>
            <a:avLst/>
            <a:gdLst/>
            <a:ahLst/>
            <a:rect l="l" t="t" r="r" b="b"/>
            <a:pathLst>
              <a:path w="1390" h="512">
                <a:moveTo>
                  <a:pt x="1390" y="17"/>
                </a:moveTo>
                <a:lnTo>
                  <a:pt x="1390" y="512"/>
                </a:lnTo>
                <a:lnTo>
                  <a:pt x="0" y="512"/>
                </a:lnTo>
                <a:lnTo>
                  <a:pt x="0" y="29"/>
                </a:lnTo>
                <a:lnTo>
                  <a:pt x="110" y="41"/>
                </a:lnTo>
                <a:lnTo>
                  <a:pt x="180" y="17"/>
                </a:lnTo>
                <a:lnTo>
                  <a:pt x="215" y="52"/>
                </a:lnTo>
                <a:lnTo>
                  <a:pt x="297" y="6"/>
                </a:lnTo>
                <a:lnTo>
                  <a:pt x="378" y="29"/>
                </a:lnTo>
                <a:lnTo>
                  <a:pt x="465" y="29"/>
                </a:lnTo>
                <a:lnTo>
                  <a:pt x="617" y="6"/>
                </a:lnTo>
                <a:lnTo>
                  <a:pt x="651" y="35"/>
                </a:lnTo>
                <a:lnTo>
                  <a:pt x="774" y="0"/>
                </a:lnTo>
                <a:lnTo>
                  <a:pt x="820" y="46"/>
                </a:lnTo>
                <a:lnTo>
                  <a:pt x="855" y="11"/>
                </a:lnTo>
                <a:lnTo>
                  <a:pt x="890" y="29"/>
                </a:lnTo>
                <a:lnTo>
                  <a:pt x="989" y="41"/>
                </a:lnTo>
                <a:lnTo>
                  <a:pt x="1001" y="6"/>
                </a:lnTo>
                <a:lnTo>
                  <a:pt x="1047" y="29"/>
                </a:lnTo>
                <a:lnTo>
                  <a:pt x="1129" y="23"/>
                </a:lnTo>
                <a:lnTo>
                  <a:pt x="1158" y="46"/>
                </a:lnTo>
                <a:lnTo>
                  <a:pt x="1233" y="23"/>
                </a:lnTo>
                <a:lnTo>
                  <a:pt x="1297" y="17"/>
                </a:lnTo>
                <a:lnTo>
                  <a:pt x="1390" y="17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19880" y="5027760"/>
            <a:ext cx="331920" cy="277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96200" y="5095800"/>
            <a:ext cx="188640" cy="150840"/>
          </a:xfrm>
          <a:prstGeom prst="parallelogram">
            <a:avLst>
              <a:gd name="adj" fmla="val 31265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19880" y="5027760"/>
            <a:ext cx="782640" cy="277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087960" y="5173560"/>
            <a:ext cx="277920" cy="247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908520" y="5130720"/>
            <a:ext cx="1094760" cy="277560"/>
            <a:chOff x="3908520" y="5130720"/>
            <a:chExt cx="1094760" cy="277560"/>
          </a:xfrm>
        </p:grpSpPr>
        <p:sp>
          <p:nvSpPr>
            <p:cNvPr id="220" name=""/>
            <p:cNvSpPr/>
            <p:nvPr/>
          </p:nvSpPr>
          <p:spPr>
            <a:xfrm>
              <a:off x="4671000" y="5130720"/>
              <a:ext cx="3322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08520" y="5132160"/>
              <a:ext cx="783360" cy="276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08520" y="5132160"/>
              <a:ext cx="332280" cy="2761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983760" y="5177880"/>
              <a:ext cx="91800" cy="18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069800" y="5177880"/>
              <a:ext cx="91440" cy="18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6280200" y="6384600"/>
            <a:ext cx="291960" cy="18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54760" y="5318280"/>
            <a:ext cx="322200" cy="172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2525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s: GD&amp;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268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GD&amp;T ARM definitions and mapp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9 new ARM objects, plus things in the measure U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 adding to AP, needed to resolve some harmonization issues between A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monized across AP-214, AP-224, AP-240, and AP-203e2, which uses Modules 1050 and 1051.   Will also be going into AP-219 and other AP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4528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s: GD&amp;T Harmon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49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ed and Resolved Incompati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ved AIM mapping differences on handling of all four value qualifications (range, plus/minus, et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d on common set of size dim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externally defined size, length, width, heigh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monized mapping of envelope princi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monized mapping of angular size full/half ang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ed directed flag to all location dim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pted simplified angular location using axis place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centered/adjoining flag to radial size dimen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s arising from AP-214 SE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qualifying notes, including “auxiliary” and “theoretically exact” for dimensions (SEDS 888-89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way to specify dimensioning standard for a workpiece (SEDS 89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4528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s: GD&amp;T Harmon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471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ed Big Picture Strategies for GD&amp;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ing of dimensions with the draughting presentation elements of the dimens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onships with TC 10 and TC 2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ed response to TC-213 “expression of concern” about some terminology usag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eattle, resolved some issues discovered on Geometric Toler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ing path for affected_plane attribute (harmoniza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ing for Common_datum in AP-224 vs AP-214/1051 (harmoniza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inction between Datum reference and Datum (usa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 between datums and manufacturing features (usa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55357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s: Enhancing the Measure UO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412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iginal ISO 14649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not allow choice of units.   Fixed to mm, deg, m/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s plus/minus, limits &amp; fits for length parameter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hanced the ARM definitions in AP-238 so tha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measures can specify their units, as in all other AP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 tolerances can be used for any quantity, not just lengths.   Now available for angles, speed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s Max/Min limitation for toleranced paramet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ppings are harmonized with GD&amp;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222800" y="3214800"/>
            <a:ext cx="2201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Based on Part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91120" y="3039480"/>
            <a:ext cx="10836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88600" y="4634640"/>
            <a:ext cx="44622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ling Process Opera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Based on Part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ling Cutting Tool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Based on Part 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ning Process Opera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Based on Part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ning Cutting Tool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Based on Part 1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22240" y="3039840"/>
            <a:ext cx="112320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9434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lkthrough of AP-238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65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pulls together machining process, tool requirement, geometry, tolerances, and PD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with process and tools described by ISO 14649 pa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STEP PDM, Geometry, and Tolerances, and integrate so that features and all other data can be shared across A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3840" y="4038480"/>
            <a:ext cx="4550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mensions and Toleranc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STEP GD&amp;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M and Product Geome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Common to all 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04920" y="2895480"/>
            <a:ext cx="8245440" cy="1828800"/>
          </a:xfrm>
          <a:prstGeom prst="rect">
            <a:avLst/>
          </a:prstGeom>
          <a:solidFill>
            <a:srgbClr val="f5fb1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Units of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52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iece, PDM and Product Geomet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mensions and Tolera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Process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ng Process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ng Cutt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 Process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 Cutt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6748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Since CD Ball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235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pa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d mappings for toolpath subtypes, added all of the matching EXPRESS constraints to the relevant AIM types.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ARM and mappings for toolpath enhancements determined by 5-axis implementation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 with S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relationship subtypes from WG12 meet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0132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ing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40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eart of the STEP-NC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lans containing a sequence of workingstep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workingstep associates an operation with a feature somewhere on the workpie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operation describes what to do and what strategies and parameter settings to us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information than M and G codes.  Linked with geometric and technological inform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s can be grouped and shared, e. g. tools, feed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ligent NC controllers can calculate tool movements for standard featur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0132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ing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487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ing place, defines setup and main workpl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s control flow and sequenc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step associates an operation and a featur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independ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s what a workingstep does to a feature — plane mill, center drill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asis for all technology-specific extens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es details li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ndle, feedrate and other technology parame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lant &amp; other machine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unge strategies, tool path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28600" y="838080"/>
            <a:ext cx="4448160" cy="5634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68680" y="1563840"/>
            <a:ext cx="10468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09760" y="2271960"/>
            <a:ext cx="105732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6800" y="2271600"/>
            <a:ext cx="87948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27640" y="2271960"/>
            <a:ext cx="11354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ing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5" idx="2"/>
            <a:endCxn id="248" idx="0"/>
          </p:cNvCxnSpPr>
          <p:nvPr/>
        </p:nvCxnSpPr>
        <p:spPr>
          <a:xfrm flipH="1" rot="16200000">
            <a:off x="2082600" y="2041200"/>
            <a:ext cx="423000" cy="36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5" idx="2"/>
            <a:endCxn id="246" idx="0"/>
          </p:cNvCxnSpPr>
          <p:nvPr/>
        </p:nvCxnSpPr>
        <p:spPr>
          <a:xfrm flipH="1" rot="16200000">
            <a:off x="2803320" y="1319760"/>
            <a:ext cx="423000" cy="14468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45" idx="2"/>
            <a:endCxn id="247" idx="0"/>
          </p:cNvCxnSpPr>
          <p:nvPr/>
        </p:nvCxnSpPr>
        <p:spPr>
          <a:xfrm rot="5400000">
            <a:off x="1403280" y="1365120"/>
            <a:ext cx="423000" cy="13561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252" name=""/>
          <p:cNvSpPr/>
          <p:nvPr/>
        </p:nvSpPr>
        <p:spPr>
          <a:xfrm>
            <a:off x="2496600" y="3094200"/>
            <a:ext cx="199800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ining working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98040" y="3513600"/>
            <a:ext cx="146160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pid m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96240" y="3932640"/>
            <a:ext cx="12650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uch prob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48" idx="2"/>
            <a:endCxn id="252" idx="1"/>
          </p:cNvCxnSpPr>
          <p:nvPr/>
        </p:nvCxnSpPr>
        <p:spPr>
          <a:xfrm flipH="1" rot="16200000">
            <a:off x="2049120" y="2784960"/>
            <a:ext cx="680040" cy="18972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56" name=""/>
          <p:cNvSpPr/>
          <p:nvPr/>
        </p:nvSpPr>
        <p:spPr>
          <a:xfrm>
            <a:off x="987480" y="873360"/>
            <a:ext cx="2581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-NC Execu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48" idx="2"/>
            <a:endCxn id="253" idx="1"/>
          </p:cNvCxnSpPr>
          <p:nvPr/>
        </p:nvCxnSpPr>
        <p:spPr>
          <a:xfrm flipH="1" rot="16200000">
            <a:off x="1839600" y="2994480"/>
            <a:ext cx="1099080" cy="18972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stCxn id="248" idx="2"/>
            <a:endCxn id="254" idx="1"/>
          </p:cNvCxnSpPr>
          <p:nvPr/>
        </p:nvCxnSpPr>
        <p:spPr>
          <a:xfrm flipH="1" rot="16200000">
            <a:off x="1629360" y="3204720"/>
            <a:ext cx="1518120" cy="18828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59" name=""/>
          <p:cNvSpPr/>
          <p:nvPr/>
        </p:nvSpPr>
        <p:spPr>
          <a:xfrm>
            <a:off x="5181480" y="1296000"/>
            <a:ext cx="3657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steps that do not move any machine a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isplay message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42940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 and Sequenc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80200" y="5302440"/>
            <a:ext cx="3260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flow for the machining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43400" y="1828800"/>
            <a:ext cx="1219320" cy="533520"/>
          </a:xfrm>
          <a:custGeom>
            <a:avLst/>
            <a:gdLst/>
            <a:ahLst/>
            <a:rect l="l" t="t" r="r" b="b"/>
            <a:pathLst>
              <a:path w="528" h="336">
                <a:moveTo>
                  <a:pt x="528" y="0"/>
                </a:moveTo>
                <a:cubicBezTo>
                  <a:pt x="332" y="80"/>
                  <a:pt x="136" y="160"/>
                  <a:pt x="96" y="192"/>
                </a:cubicBezTo>
                <a:cubicBezTo>
                  <a:pt x="56" y="224"/>
                  <a:pt x="304" y="168"/>
                  <a:pt x="288" y="192"/>
                </a:cubicBezTo>
                <a:cubicBezTo>
                  <a:pt x="272" y="216"/>
                  <a:pt x="136" y="276"/>
                  <a:pt x="0" y="336"/>
                </a:cubicBezTo>
              </a:path>
            </a:pathLst>
          </a:custGeom>
          <a:noFill/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876920"/>
            <a:ext cx="838080" cy="1523880"/>
          </a:xfrm>
          <a:custGeom>
            <a:avLst/>
            <a:gdLst>
              <a:gd name="textAreaLeft" fmla="*/ 0 w 838080"/>
              <a:gd name="textAreaRight" fmla="*/ 302760 w 838080"/>
              <a:gd name="textAreaTop" fmla="*/ 77040 h 1523880"/>
              <a:gd name="textAreaBottom" fmla="*/ 14468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48"/>
                  <a:pt x="10800" y="3496"/>
                </a:cubicBezTo>
                <a:lnTo>
                  <a:pt x="10800" y="7304"/>
                </a:lnTo>
                <a:cubicBezTo>
                  <a:pt x="10800" y="9052"/>
                  <a:pt x="16200" y="10800"/>
                  <a:pt x="21600" y="10800"/>
                </a:cubicBezTo>
                <a:cubicBezTo>
                  <a:pt x="16200" y="10800"/>
                  <a:pt x="10800" y="12548"/>
                  <a:pt x="10800" y="14296"/>
                </a:cubicBezTo>
                <a:lnTo>
                  <a:pt x="10800" y="18104"/>
                </a:lnTo>
                <a:cubicBezTo>
                  <a:pt x="10800" y="1985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8440" y="4961160"/>
            <a:ext cx="8960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78440" y="5364360"/>
            <a:ext cx="7574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75920" y="5767560"/>
            <a:ext cx="11566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_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47" idx="2"/>
            <a:endCxn id="264" idx="1"/>
          </p:cNvCxnSpPr>
          <p:nvPr/>
        </p:nvCxnSpPr>
        <p:spPr>
          <a:xfrm flipH="1" rot="16200000">
            <a:off x="-17640" y="3706200"/>
            <a:ext cx="2334600" cy="426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68" name=""/>
          <p:cNvCxnSpPr>
            <a:stCxn id="247" idx="2"/>
            <a:endCxn id="265" idx="1"/>
          </p:cNvCxnSpPr>
          <p:nvPr/>
        </p:nvCxnSpPr>
        <p:spPr>
          <a:xfrm flipH="1" rot="16200000">
            <a:off x="-219240" y="3907800"/>
            <a:ext cx="2737800" cy="426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69" name=""/>
          <p:cNvCxnSpPr>
            <a:stCxn id="247" idx="2"/>
            <a:endCxn id="266" idx="1"/>
          </p:cNvCxnSpPr>
          <p:nvPr/>
        </p:nvCxnSpPr>
        <p:spPr>
          <a:xfrm flipH="1" rot="16200000">
            <a:off x="-420840" y="4109400"/>
            <a:ext cx="3141000" cy="426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1375920" y="6170760"/>
            <a:ext cx="14720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le_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47" idx="2"/>
            <a:endCxn id="270" idx="1"/>
          </p:cNvCxnSpPr>
          <p:nvPr/>
        </p:nvCxnSpPr>
        <p:spPr>
          <a:xfrm flipH="1" rot="16200000">
            <a:off x="-622440" y="4311000"/>
            <a:ext cx="3544200" cy="426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72" name=""/>
          <p:cNvSpPr/>
          <p:nvPr/>
        </p:nvSpPr>
        <p:spPr>
          <a:xfrm>
            <a:off x="5380200" y="3321360"/>
            <a:ext cx="3260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steps that 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chine a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2895480"/>
            <a:ext cx="838080" cy="1447920"/>
          </a:xfrm>
          <a:custGeom>
            <a:avLst/>
            <a:gdLst>
              <a:gd name="textAreaLeft" fmla="*/ 0 w 838080"/>
              <a:gd name="textAreaRight" fmla="*/ 302760 w 838080"/>
              <a:gd name="textAreaTop" fmla="*/ 81000 h 1447920"/>
              <a:gd name="textAreaBottom" fmla="*/ 136692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31"/>
                  <a:pt x="10800" y="3861"/>
                </a:cubicBezTo>
                <a:lnTo>
                  <a:pt x="10800" y="6939"/>
                </a:lnTo>
                <a:cubicBezTo>
                  <a:pt x="10800" y="8870"/>
                  <a:pt x="16200" y="10800"/>
                  <a:pt x="21600" y="10800"/>
                </a:cubicBezTo>
                <a:cubicBezTo>
                  <a:pt x="16200" y="10800"/>
                  <a:pt x="10800" y="12731"/>
                  <a:pt x="10800" y="14661"/>
                </a:cubicBezTo>
                <a:lnTo>
                  <a:pt x="10800" y="17739"/>
                </a:lnTo>
                <a:cubicBezTo>
                  <a:pt x="10800" y="1967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46720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s: Relationship Sub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456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discussions with SC1, agreed to help clarify data by adding AIM subtypes for relationshi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zed AP and found 18 distinct relationsh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AMR subtypes and name them based on thing that is being referenc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adaptive_control_relation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functions_relation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operation_relation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operator_instruction_relation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process_model_relation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strategy_relationship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technology_relation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toolpath_sequence_relationship (actually a subtype of sequential_metho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46720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s: Relationship Sub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508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rther subtyping helpful for some relationshi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inheritance used when a different subtype is also needed for sequenc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feature_relation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feature_sequence_relationship (also inherits from sequential_metho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final_feature_relationship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process_body_relation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process_sequence_relationship (also inherits from sequential_metho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process_concurrent_relationship (also inherits from concurrent_action_metho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process_branch_relationship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9718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d Way:  Milling Op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85040" y="2992320"/>
            <a:ext cx="2249280" cy="118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tom_and_side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ling_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 = “rough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81" idx="2"/>
            <a:endCxn id="279" idx="0"/>
          </p:cNvCxnSpPr>
          <p:nvPr/>
        </p:nvCxnSpPr>
        <p:spPr>
          <a:xfrm flipV="1" rot="10800000">
            <a:off x="2208960" y="2371320"/>
            <a:ext cx="1080" cy="6008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81" idx="0"/>
            <a:endCxn id="283" idx="2"/>
          </p:cNvCxnSpPr>
          <p:nvPr/>
        </p:nvCxnSpPr>
        <p:spPr>
          <a:xfrm flipV="1">
            <a:off x="2209320" y="1350360"/>
            <a:ext cx="1080" cy="4021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"/>
          <p:cNvSpPr/>
          <p:nvPr/>
        </p:nvSpPr>
        <p:spPr>
          <a:xfrm>
            <a:off x="1494720" y="1066680"/>
            <a:ext cx="1430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Working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>
            <a:off x="8381520" y="1828440"/>
            <a:ext cx="381960" cy="1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3149640" y="30481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2728440"/>
            <a:ext cx="350496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_method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= “machining strateg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78240" y="32767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/>
          <p:nvPr/>
        </p:nvCxnSpPr>
        <p:spPr>
          <a:xfrm>
            <a:off x="6386040" y="4260600"/>
            <a:ext cx="777240" cy="1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9" name=""/>
          <p:cNvSpPr/>
          <p:nvPr/>
        </p:nvSpPr>
        <p:spPr>
          <a:xfrm>
            <a:off x="3378240" y="35053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49640" y="37339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76920" y="1534680"/>
            <a:ext cx="350496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_method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= “approach strateg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76920" y="3922200"/>
            <a:ext cx="350496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_method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= “machine function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76920" y="5116320"/>
            <a:ext cx="350496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_method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= “technolog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1773000"/>
            <a:ext cx="350532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_method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= “operatio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"/>
          <p:cNvCxnSpPr/>
          <p:nvPr/>
        </p:nvCxnSpPr>
        <p:spPr>
          <a:xfrm>
            <a:off x="8381520" y="3047760"/>
            <a:ext cx="381960" cy="1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" name=""/>
          <p:cNvCxnSpPr/>
          <p:nvPr/>
        </p:nvCxnSpPr>
        <p:spPr>
          <a:xfrm>
            <a:off x="8381520" y="4190760"/>
            <a:ext cx="381960" cy="1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"/>
          <p:cNvCxnSpPr/>
          <p:nvPr/>
        </p:nvCxnSpPr>
        <p:spPr>
          <a:xfrm>
            <a:off x="8381520" y="5409720"/>
            <a:ext cx="381960" cy="1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7" name=""/>
          <p:cNvSpPr/>
          <p:nvPr/>
        </p:nvSpPr>
        <p:spPr>
          <a:xfrm flipV="1">
            <a:off x="3429000" y="3961800"/>
            <a:ext cx="1447920" cy="1447560"/>
          </a:xfrm>
          <a:custGeom>
            <a:avLst/>
            <a:gdLst/>
            <a:ahLst/>
            <a:rect l="l" t="t" r="r" b="b"/>
            <a:pathLst>
              <a:path w="912" h="816">
                <a:moveTo>
                  <a:pt x="912" y="0"/>
                </a:moveTo>
                <a:lnTo>
                  <a:pt x="480" y="0"/>
                </a:lnTo>
                <a:lnTo>
                  <a:pt x="480" y="816"/>
                </a:lnTo>
                <a:lnTo>
                  <a:pt x="0" y="816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29000" y="1828800"/>
            <a:ext cx="1447920" cy="1295280"/>
          </a:xfrm>
          <a:custGeom>
            <a:avLst/>
            <a:gdLst/>
            <a:ahLst/>
            <a:rect l="l" t="t" r="r" b="b"/>
            <a:pathLst>
              <a:path w="912" h="816">
                <a:moveTo>
                  <a:pt x="912" y="0"/>
                </a:moveTo>
                <a:lnTo>
                  <a:pt x="480" y="0"/>
                </a:lnTo>
                <a:lnTo>
                  <a:pt x="480" y="816"/>
                </a:lnTo>
                <a:lnTo>
                  <a:pt x="0" y="816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05320" y="3048120"/>
            <a:ext cx="1371600" cy="304560"/>
          </a:xfrm>
          <a:custGeom>
            <a:avLst/>
            <a:gdLst/>
            <a:ahLst/>
            <a:rect l="l" t="t" r="r" b="b"/>
            <a:pathLst>
              <a:path w="864" h="192">
                <a:moveTo>
                  <a:pt x="864" y="0"/>
                </a:moveTo>
                <a:lnTo>
                  <a:pt x="672" y="0"/>
                </a:lnTo>
                <a:lnTo>
                  <a:pt x="672" y="192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05320" y="3733920"/>
            <a:ext cx="1371600" cy="45720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864" y="288"/>
                </a:moveTo>
                <a:lnTo>
                  <a:pt x="672" y="288"/>
                </a:lnTo>
                <a:lnTo>
                  <a:pt x="672" y="0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40924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ay:  Milling Op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85040" y="2992320"/>
            <a:ext cx="2249280" cy="118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tom_and_side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ling_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 = “rough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4" idx="2"/>
            <a:endCxn id="302" idx="0"/>
          </p:cNvCxnSpPr>
          <p:nvPr/>
        </p:nvCxnSpPr>
        <p:spPr>
          <a:xfrm flipV="1" rot="10800000">
            <a:off x="2208960" y="2249640"/>
            <a:ext cx="1080" cy="7225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4" idx="0"/>
            <a:endCxn id="306" idx="2"/>
          </p:cNvCxnSpPr>
          <p:nvPr/>
        </p:nvCxnSpPr>
        <p:spPr>
          <a:xfrm flipV="1">
            <a:off x="2209320" y="1350720"/>
            <a:ext cx="1080" cy="5241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494720" y="1066680"/>
            <a:ext cx="1430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Working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7" name=""/>
          <p:cNvCxnSpPr/>
          <p:nvPr/>
        </p:nvCxnSpPr>
        <p:spPr>
          <a:xfrm>
            <a:off x="8381520" y="1828440"/>
            <a:ext cx="381960" cy="1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8" name=""/>
          <p:cNvSpPr/>
          <p:nvPr/>
        </p:nvSpPr>
        <p:spPr>
          <a:xfrm>
            <a:off x="3149640" y="30481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76920" y="2728440"/>
            <a:ext cx="350496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strategy_relationshi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= “machining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78240" y="32767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"/>
          <p:cNvCxnSpPr/>
          <p:nvPr/>
        </p:nvCxnSpPr>
        <p:spPr>
          <a:xfrm>
            <a:off x="6386040" y="4260600"/>
            <a:ext cx="777240" cy="1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78240" y="35053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49640" y="37339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76920" y="1534680"/>
            <a:ext cx="350496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strategy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= “approach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890600" y="4043880"/>
            <a:ext cx="347760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functions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1894320"/>
            <a:ext cx="365760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operation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8381520" y="3047760"/>
            <a:ext cx="381960" cy="1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/>
          <p:nvPr/>
        </p:nvCxnSpPr>
        <p:spPr>
          <a:xfrm>
            <a:off x="8381520" y="4190760"/>
            <a:ext cx="381960" cy="1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/>
          <p:nvPr/>
        </p:nvCxnSpPr>
        <p:spPr>
          <a:xfrm>
            <a:off x="8381520" y="5409720"/>
            <a:ext cx="381960" cy="1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 flipV="1">
            <a:off x="3429000" y="3961800"/>
            <a:ext cx="1447920" cy="1447560"/>
          </a:xfrm>
          <a:custGeom>
            <a:avLst/>
            <a:gdLst/>
            <a:ahLst/>
            <a:rect l="l" t="t" r="r" b="b"/>
            <a:pathLst>
              <a:path w="912" h="816">
                <a:moveTo>
                  <a:pt x="912" y="0"/>
                </a:moveTo>
                <a:lnTo>
                  <a:pt x="480" y="0"/>
                </a:lnTo>
                <a:lnTo>
                  <a:pt x="480" y="816"/>
                </a:lnTo>
                <a:lnTo>
                  <a:pt x="0" y="816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1828800"/>
            <a:ext cx="1447920" cy="1295280"/>
          </a:xfrm>
          <a:custGeom>
            <a:avLst/>
            <a:gdLst/>
            <a:ahLst/>
            <a:rect l="l" t="t" r="r" b="b"/>
            <a:pathLst>
              <a:path w="912" h="816">
                <a:moveTo>
                  <a:pt x="912" y="0"/>
                </a:moveTo>
                <a:lnTo>
                  <a:pt x="480" y="0"/>
                </a:lnTo>
                <a:lnTo>
                  <a:pt x="480" y="816"/>
                </a:lnTo>
                <a:lnTo>
                  <a:pt x="0" y="816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05320" y="3048120"/>
            <a:ext cx="1371600" cy="304560"/>
          </a:xfrm>
          <a:custGeom>
            <a:avLst/>
            <a:gdLst/>
            <a:ahLst/>
            <a:rect l="l" t="t" r="r" b="b"/>
            <a:pathLst>
              <a:path w="864" h="192">
                <a:moveTo>
                  <a:pt x="864" y="0"/>
                </a:moveTo>
                <a:lnTo>
                  <a:pt x="672" y="0"/>
                </a:lnTo>
                <a:lnTo>
                  <a:pt x="672" y="192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05320" y="3733920"/>
            <a:ext cx="1371600" cy="45720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864" y="288"/>
                </a:moveTo>
                <a:lnTo>
                  <a:pt x="672" y="288"/>
                </a:lnTo>
                <a:lnTo>
                  <a:pt x="672" y="0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06000" y="5237640"/>
            <a:ext cx="364680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technology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40449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and Setup Sub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66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 added subtypes to clarify project and set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product subtypes to identify the project/set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aces the use of a product category classific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set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product definition relationship subtypes to clarify the linkage between workpieces and the project or setup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aces the use of a plain PDR with a name str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setup_workpiece_relation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project_workpiece_relation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5560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s Since CD Ball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299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s inclu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rified features in new “fundamental concepts” section, and extended 14649 definitions with necess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mappings for the turning model  (P12, P12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toolpath mappings and added enhancem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ARM description for PDM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harmonized GD&amp;T defini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s to accommodate SC1 concerns about clar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other smaller fix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905120" y="442584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09680" y="4425840"/>
            <a:ext cx="15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6734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d Way Project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3320" y="3983760"/>
            <a:ext cx="190188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96520" y="2023560"/>
            <a:ext cx="307404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= “MAKE PARTS FAST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83320" y="2989080"/>
            <a:ext cx="190188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29" idx="0"/>
            <a:endCxn id="331" idx="2"/>
          </p:cNvCxnSpPr>
          <p:nvPr/>
        </p:nvCxnSpPr>
        <p:spPr>
          <a:xfrm flipV="1">
            <a:off x="2134800" y="3587040"/>
            <a:ext cx="108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"/>
          <p:cNvCxnSpPr>
            <a:stCxn id="331" idx="0"/>
            <a:endCxn id="330" idx="2"/>
          </p:cNvCxnSpPr>
          <p:nvPr/>
        </p:nvCxnSpPr>
        <p:spPr>
          <a:xfrm flipH="1" flipV="1">
            <a:off x="2133360" y="2621880"/>
            <a:ext cx="216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4" name=""/>
          <p:cNvSpPr/>
          <p:nvPr/>
        </p:nvSpPr>
        <p:spPr>
          <a:xfrm rot="10800000">
            <a:off x="459000" y="2749680"/>
            <a:ext cx="509400" cy="17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69160" y="1076040"/>
            <a:ext cx="3130200" cy="51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_related_product_categ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 = “machining projec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5" idx="2"/>
            <a:endCxn id="330" idx="0"/>
          </p:cNvCxnSpPr>
          <p:nvPr/>
        </p:nvCxnSpPr>
        <p:spPr>
          <a:xfrm flipH="1">
            <a:off x="2133360" y="1612440"/>
            <a:ext cx="2160" cy="39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4737600" y="4026600"/>
            <a:ext cx="190188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74280" y="2066400"/>
            <a:ext cx="102744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dget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37600" y="3031920"/>
            <a:ext cx="190188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7" idx="0"/>
            <a:endCxn id="339" idx="2"/>
          </p:cNvCxnSpPr>
          <p:nvPr/>
        </p:nvCxnSpPr>
        <p:spPr>
          <a:xfrm flipV="1">
            <a:off x="5689080" y="3629880"/>
            <a:ext cx="108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1" name=""/>
          <p:cNvCxnSpPr>
            <a:stCxn id="339" idx="0"/>
            <a:endCxn id="338" idx="2"/>
          </p:cNvCxnSpPr>
          <p:nvPr/>
        </p:nvCxnSpPr>
        <p:spPr>
          <a:xfrm flipH="1" flipV="1">
            <a:off x="5687640" y="2664720"/>
            <a:ext cx="216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2" name=""/>
          <p:cNvSpPr/>
          <p:nvPr/>
        </p:nvSpPr>
        <p:spPr>
          <a:xfrm rot="10800000">
            <a:off x="4192920" y="2148120"/>
            <a:ext cx="509400" cy="24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pie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23880" y="4026600"/>
            <a:ext cx="190188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183080" y="2066400"/>
            <a:ext cx="138852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ohicke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23880" y="3031920"/>
            <a:ext cx="190188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3" idx="0"/>
            <a:endCxn id="345" idx="2"/>
          </p:cNvCxnSpPr>
          <p:nvPr/>
        </p:nvCxnSpPr>
        <p:spPr>
          <a:xfrm flipV="1">
            <a:off x="7875360" y="3629880"/>
            <a:ext cx="108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45" idx="0"/>
            <a:endCxn id="344" idx="2"/>
          </p:cNvCxnSpPr>
          <p:nvPr/>
        </p:nvCxnSpPr>
        <p:spPr>
          <a:xfrm flipV="1">
            <a:off x="7875720" y="2664720"/>
            <a:ext cx="216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8" name=""/>
          <p:cNvSpPr/>
          <p:nvPr/>
        </p:nvSpPr>
        <p:spPr>
          <a:xfrm>
            <a:off x="5258520" y="1076040"/>
            <a:ext cx="3130200" cy="51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_related_product_categ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 = “detail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8" idx="2"/>
            <a:endCxn id="344" idx="0"/>
          </p:cNvCxnSpPr>
          <p:nvPr/>
        </p:nvCxnSpPr>
        <p:spPr>
          <a:xfrm flipH="1" rot="16200000">
            <a:off x="7134120" y="1302840"/>
            <a:ext cx="434160" cy="1053360"/>
          </a:xfrm>
          <a:prstGeom prst="bentConnector3">
            <a:avLst>
              <a:gd name="adj1" fmla="val 4979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8" idx="2"/>
            <a:endCxn id="338" idx="0"/>
          </p:cNvCxnSpPr>
          <p:nvPr/>
        </p:nvCxnSpPr>
        <p:spPr>
          <a:xfrm rot="5400000">
            <a:off x="6038640" y="1261080"/>
            <a:ext cx="434160" cy="1137240"/>
          </a:xfrm>
          <a:prstGeom prst="bentConnector3">
            <a:avLst>
              <a:gd name="adj1" fmla="val 4979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1" name=""/>
          <p:cNvSpPr/>
          <p:nvPr/>
        </p:nvSpPr>
        <p:spPr>
          <a:xfrm>
            <a:off x="2682720" y="4735440"/>
            <a:ext cx="2756160" cy="82188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 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= “workpiec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51" idx="3"/>
            <a:endCxn id="337" idx="2"/>
          </p:cNvCxnSpPr>
          <p:nvPr/>
        </p:nvCxnSpPr>
        <p:spPr>
          <a:xfrm flipV="1">
            <a:off x="5448240" y="4380840"/>
            <a:ext cx="241920" cy="7657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" name=""/>
          <p:cNvCxnSpPr>
            <a:stCxn id="351" idx="1"/>
            <a:endCxn id="327" idx="2"/>
          </p:cNvCxnSpPr>
          <p:nvPr/>
        </p:nvCxnSpPr>
        <p:spPr>
          <a:xfrm rot="10800000">
            <a:off x="2285280" y="4577760"/>
            <a:ext cx="388080" cy="56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"/>
          <p:cNvSpPr/>
          <p:nvPr/>
        </p:nvSpPr>
        <p:spPr>
          <a:xfrm>
            <a:off x="2682720" y="5721480"/>
            <a:ext cx="2756160" cy="82188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 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= “workpiec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43" idx="2"/>
          </p:cNvCxnSpPr>
          <p:nvPr/>
        </p:nvCxnSpPr>
        <p:spPr>
          <a:xfrm flipV="1">
            <a:off x="5447880" y="4381200"/>
            <a:ext cx="2428200" cy="17517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6" name=""/>
          <p:cNvCxnSpPr>
            <a:stCxn id="354" idx="1"/>
            <a:endCxn id="326" idx="2"/>
          </p:cNvCxnSpPr>
          <p:nvPr/>
        </p:nvCxnSpPr>
        <p:spPr>
          <a:xfrm rot="10800000">
            <a:off x="1980360" y="4577760"/>
            <a:ext cx="693000" cy="15548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905120" y="442584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09680" y="4425840"/>
            <a:ext cx="15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7940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ay Project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83320" y="3983760"/>
            <a:ext cx="190188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96520" y="2023560"/>
            <a:ext cx="307404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= “MAKE PARTS FAST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83320" y="2989080"/>
            <a:ext cx="190188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60" idx="0"/>
            <a:endCxn id="362" idx="2"/>
          </p:cNvCxnSpPr>
          <p:nvPr/>
        </p:nvCxnSpPr>
        <p:spPr>
          <a:xfrm flipV="1">
            <a:off x="2134800" y="3587040"/>
            <a:ext cx="108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62" idx="0"/>
            <a:endCxn id="361" idx="2"/>
          </p:cNvCxnSpPr>
          <p:nvPr/>
        </p:nvCxnSpPr>
        <p:spPr>
          <a:xfrm flipH="1" flipV="1">
            <a:off x="2133360" y="2621880"/>
            <a:ext cx="216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"/>
          <p:cNvSpPr/>
          <p:nvPr/>
        </p:nvSpPr>
        <p:spPr>
          <a:xfrm rot="10800000">
            <a:off x="459000" y="2749680"/>
            <a:ext cx="509400" cy="17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37600" y="4026600"/>
            <a:ext cx="190188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74280" y="2066400"/>
            <a:ext cx="102744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dget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37600" y="3031920"/>
            <a:ext cx="190188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66" idx="0"/>
            <a:endCxn id="368" idx="2"/>
          </p:cNvCxnSpPr>
          <p:nvPr/>
        </p:nvCxnSpPr>
        <p:spPr>
          <a:xfrm flipV="1">
            <a:off x="5689080" y="3629880"/>
            <a:ext cx="108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68" idx="0"/>
            <a:endCxn id="367" idx="2"/>
          </p:cNvCxnSpPr>
          <p:nvPr/>
        </p:nvCxnSpPr>
        <p:spPr>
          <a:xfrm flipH="1" flipV="1">
            <a:off x="5687640" y="2664720"/>
            <a:ext cx="216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1" name=""/>
          <p:cNvSpPr/>
          <p:nvPr/>
        </p:nvSpPr>
        <p:spPr>
          <a:xfrm rot="10800000">
            <a:off x="4192920" y="2148120"/>
            <a:ext cx="509400" cy="24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pie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923880" y="4026600"/>
            <a:ext cx="190188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83080" y="2066400"/>
            <a:ext cx="138852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ohicke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923880" y="3031920"/>
            <a:ext cx="190188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72" idx="0"/>
            <a:endCxn id="374" idx="2"/>
          </p:cNvCxnSpPr>
          <p:nvPr/>
        </p:nvCxnSpPr>
        <p:spPr>
          <a:xfrm flipV="1">
            <a:off x="7875360" y="3629880"/>
            <a:ext cx="108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74" idx="0"/>
            <a:endCxn id="373" idx="2"/>
          </p:cNvCxnSpPr>
          <p:nvPr/>
        </p:nvCxnSpPr>
        <p:spPr>
          <a:xfrm flipV="1">
            <a:off x="7875720" y="2664720"/>
            <a:ext cx="216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2682720" y="4857480"/>
            <a:ext cx="275616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project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piece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7" idx="3"/>
            <a:endCxn id="366" idx="2"/>
          </p:cNvCxnSpPr>
          <p:nvPr/>
        </p:nvCxnSpPr>
        <p:spPr>
          <a:xfrm flipV="1">
            <a:off x="5448240" y="4380840"/>
            <a:ext cx="241920" cy="7657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77" idx="1"/>
            <a:endCxn id="358" idx="2"/>
          </p:cNvCxnSpPr>
          <p:nvPr/>
        </p:nvCxnSpPr>
        <p:spPr>
          <a:xfrm rot="10800000">
            <a:off x="2285280" y="4577760"/>
            <a:ext cx="388080" cy="56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2682720" y="5843160"/>
            <a:ext cx="275616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project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piece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stCxn id="380" idx="3"/>
            <a:endCxn id="372" idx="2"/>
          </p:cNvCxnSpPr>
          <p:nvPr/>
        </p:nvCxnSpPr>
        <p:spPr>
          <a:xfrm flipV="1">
            <a:off x="5447880" y="4381200"/>
            <a:ext cx="2428200" cy="17517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2" name=""/>
          <p:cNvCxnSpPr>
            <a:stCxn id="380" idx="1"/>
            <a:endCxn id="357" idx="2"/>
          </p:cNvCxnSpPr>
          <p:nvPr/>
        </p:nvCxnSpPr>
        <p:spPr>
          <a:xfrm rot="10800000">
            <a:off x="1980360" y="4577760"/>
            <a:ext cx="693000" cy="15548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"/>
          <p:cNvGraphicFramePr/>
          <p:nvPr/>
        </p:nvGraphicFramePr>
        <p:xfrm>
          <a:off x="2819520" y="3962520"/>
          <a:ext cx="349236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962520"/>
                    <a:ext cx="349236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6935760" y="6359400"/>
            <a:ext cx="19400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gram  WZL RWTH Aac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4540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pa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248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for explicit control of the tool motion for an oper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use splines or other curves to describe motion and feedrat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describe path as machine independent motion of tool center point or tool contact poi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also describe path using old-style machine dependent motion of individual axi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28432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s: Toolpa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toolpath enhancements for 5-axis 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 deviation for path or tool dir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ng tool holder profile to enable collision chec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xed curve constraints on speed profile to allow polyl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e Axis constraint to limit the range an axis may traver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C pass through capability to allow legacy codes to be passed through to the underlying control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955880" y="2235240"/>
            <a:ext cx="52196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2209680" y="4038480"/>
            <a:ext cx="4695840" cy="21369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1066680" y="2819520"/>
            <a:ext cx="487692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76320" y="765000"/>
            <a:ext cx="8966160" cy="533088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42307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path AIM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833840" y="2585880"/>
            <a:ext cx="187092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chining_tool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082960" y="1828800"/>
            <a:ext cx="14457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on_meth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5" idx="0"/>
          </p:cNvCxnSpPr>
          <p:nvPr/>
        </p:nvCxnSpPr>
        <p:spPr>
          <a:xfrm rot="5400000">
            <a:off x="2602080" y="2381760"/>
            <a:ext cx="371880" cy="370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398" name=""/>
          <p:cNvCxnSpPr>
            <a:stCxn id="396" idx="2"/>
          </p:cNvCxnSpPr>
          <p:nvPr/>
        </p:nvCxnSpPr>
        <p:spPr>
          <a:xfrm flipH="1" rot="16200000">
            <a:off x="5141880" y="-121320"/>
            <a:ext cx="371880" cy="50428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prstDash val="sysDot"/>
            <a:miter/>
          </a:ln>
        </p:spPr>
      </p:cxnSp>
      <p:sp>
        <p:nvSpPr>
          <p:cNvPr id="399" name=""/>
          <p:cNvSpPr/>
          <p:nvPr/>
        </p:nvSpPr>
        <p:spPr>
          <a:xfrm flipH="1">
            <a:off x="993600" y="2590920"/>
            <a:ext cx="609840" cy="22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6" idx="2"/>
            <a:endCxn id="399" idx="0"/>
          </p:cNvCxnSpPr>
          <p:nvPr/>
        </p:nvCxnSpPr>
        <p:spPr>
          <a:xfrm rot="5400000">
            <a:off x="1863720" y="1648440"/>
            <a:ext cx="376920" cy="1508760"/>
          </a:xfrm>
          <a:prstGeom prst="bentConnector3">
            <a:avLst>
              <a:gd name="adj1" fmla="val 49713"/>
            </a:avLst>
          </a:prstGeom>
          <a:ln w="25560">
            <a:solidFill>
              <a:srgbClr val="000000"/>
            </a:solidFill>
            <a:prstDash val="sysDot"/>
            <a:miter/>
          </a:ln>
        </p:spPr>
      </p:cxnSp>
      <p:sp>
        <p:nvSpPr>
          <p:cNvPr id="401" name=""/>
          <p:cNvSpPr/>
          <p:nvPr/>
        </p:nvSpPr>
        <p:spPr>
          <a:xfrm>
            <a:off x="692280" y="3657600"/>
            <a:ext cx="7746840" cy="16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M Toolpath and subtypes are mapped to AIM machining_tool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path base class was already completely mapp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mapping table entries and corresponding AIM EXPRESS local rules for the subtyp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96" idx="2"/>
          </p:cNvCxnSpPr>
          <p:nvPr/>
        </p:nvCxnSpPr>
        <p:spPr>
          <a:xfrm flipH="1" rot="16200000">
            <a:off x="3883680" y="1136160"/>
            <a:ext cx="371880" cy="25282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304920" y="4724280"/>
            <a:ext cx="8245440" cy="1828800"/>
          </a:xfrm>
          <a:prstGeom prst="rect">
            <a:avLst/>
          </a:prstGeom>
          <a:solidFill>
            <a:srgbClr val="f5fb1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Units of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52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iece, PDM and Product Geomet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mensions and Tolera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Process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ng Process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ng Cutt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 Process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 Cutt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6748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Since CD Ball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32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ing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mappings for turning features, operations and too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worked mappings for feedrate, spindle speed, and dwell time to unify usage across milling and turning mode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9258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ng Process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92280" y="1221840"/>
            <a:ext cx="3797280" cy="529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illing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illing, boring, back boring, tapping/threa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 moves in the Z axis on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y strategy paramet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5D Machining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e and side milling, roughing and finish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 can move XY or along Z, but not at the same tim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of strate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form Machining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sculpted surfa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, 4, and 5axis mo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of strate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4800600" y="2590920"/>
          <a:ext cx="399240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590920"/>
                    <a:ext cx="399240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038480" y="4572000"/>
          <a:ext cx="4907160" cy="1770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4572000"/>
                    <a:ext cx="490716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6553080" y="1295280"/>
            <a:ext cx="152640" cy="457200"/>
          </a:xfrm>
          <a:prstGeom prst="rect">
            <a:avLst/>
          </a:prstGeom>
          <a:solidFill>
            <a:srgbClr val="67676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0957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ing Process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92280" y="1221840"/>
            <a:ext cx="3797280" cy="485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ing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ouring, facing, grooving, threading and knurl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ghing and finishing for ea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of strate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le Future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 underway to describe operations for wire and sink EDM, contour cutting of wood and glass, grind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orts in various stages of maturit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be added to AP-238 once the information requirements are matur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4648320" y="3657600"/>
          <a:ext cx="4030560" cy="209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3657600"/>
                    <a:ext cx="4030560" cy="20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 rot="5400000">
            <a:off x="5333400" y="1676160"/>
            <a:ext cx="990720" cy="129564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5400000">
            <a:off x="6553080" y="1676160"/>
            <a:ext cx="685800" cy="1295280"/>
          </a:xfrm>
          <a:prstGeom prst="can">
            <a:avLst>
              <a:gd name="adj" fmla="val 18134"/>
            </a:avLst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2700000">
            <a:off x="6553440" y="1676160"/>
            <a:ext cx="152280" cy="152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8481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ng and Turning Cutting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277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operation can have a tool associa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s tool requirements, not a physical tool on a machi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 for some best-fit optimization by the controll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&amp;M codes just referenced tool #1, #2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must make sure that #1 corresponds to the right th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 not able to add any value to the proc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143000"/>
            <a:ext cx="8245440" cy="1828800"/>
          </a:xfrm>
          <a:prstGeom prst="rect">
            <a:avLst/>
          </a:prstGeom>
          <a:solidFill>
            <a:srgbClr val="f5fb1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Units of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52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iece, PDM and Product Geomet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mensions and Tolera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Process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ng Process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ng Cutt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 Process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 Cutt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8481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ng and Turning Cutting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248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call out characteristic tool paramet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mills, facemill, ball endmill, bullnose endmill, side mill, tslot, tapered, dovetail, threading and woodruff keyseat mil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lls, centerdrill, twist, tapered, or spade drills, combined drill and reamer or ta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ring and reaming tools, tapered reamer, counterbore, countersink, backside counterbore and countersin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, grooving and knurling tools, taps and th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2514600" y="4038480"/>
            <a:ext cx="438768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5385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s: Turning Process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469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support for the turning pa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12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d no major ch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ings are straightforward and follow conventions established by the mill/drill mapping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UOFs, mappings, and updated AIM constrai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XPRESS rules for some of the representation subtypes began to get a bit lengthy, so I abstracted the common idioms into new EXPRESS function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ify_[optional/required]_rep_i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ify_[length/angle]_measure_rep_item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encouraging experience for adding other technology pa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762120"/>
            <a:ext cx="8966160" cy="533088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2972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ing Operation AI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665800" y="1900080"/>
            <a:ext cx="198072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chining_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8440" y="2743200"/>
            <a:ext cx="21315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ling_type_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29000" y="2743200"/>
            <a:ext cx="21513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illing_type_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1" idx="2"/>
            <a:endCxn id="432" idx="0"/>
          </p:cNvCxnSpPr>
          <p:nvPr/>
        </p:nvCxnSpPr>
        <p:spPr>
          <a:xfrm rot="5400000">
            <a:off x="2551320" y="1639080"/>
            <a:ext cx="457920" cy="175176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435" name=""/>
          <p:cNvCxnSpPr>
            <a:stCxn id="432" idx="2"/>
          </p:cNvCxnSpPr>
          <p:nvPr/>
        </p:nvCxnSpPr>
        <p:spPr>
          <a:xfrm flipH="1" rot="16200000">
            <a:off x="1751040" y="3282840"/>
            <a:ext cx="613440" cy="3052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436" name=""/>
          <p:cNvCxnSpPr>
            <a:stCxn id="432" idx="2"/>
          </p:cNvCxnSpPr>
          <p:nvPr/>
        </p:nvCxnSpPr>
        <p:spPr>
          <a:xfrm flipH="1" rot="16200000">
            <a:off x="1485000" y="3548520"/>
            <a:ext cx="1145160" cy="3052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437" name=""/>
          <p:cNvCxnSpPr>
            <a:stCxn id="433" idx="2"/>
          </p:cNvCxnSpPr>
          <p:nvPr/>
        </p:nvCxnSpPr>
        <p:spPr>
          <a:xfrm flipH="1" rot="16200000">
            <a:off x="4116600" y="3517560"/>
            <a:ext cx="1073520" cy="2955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438" name=""/>
          <p:cNvCxnSpPr>
            <a:stCxn id="431" idx="2"/>
            <a:endCxn id="433" idx="0"/>
          </p:cNvCxnSpPr>
          <p:nvPr/>
        </p:nvCxnSpPr>
        <p:spPr>
          <a:xfrm flipH="1" rot="16200000">
            <a:off x="3851280" y="2089800"/>
            <a:ext cx="457920" cy="84996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439" name=""/>
          <p:cNvCxnSpPr>
            <a:stCxn id="433" idx="2"/>
          </p:cNvCxnSpPr>
          <p:nvPr/>
        </p:nvCxnSpPr>
        <p:spPr>
          <a:xfrm flipH="1" rot="16200000">
            <a:off x="4383000" y="3251160"/>
            <a:ext cx="540360" cy="2955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sp>
        <p:nvSpPr>
          <p:cNvPr id="440" name=""/>
          <p:cNvSpPr/>
          <p:nvPr/>
        </p:nvSpPr>
        <p:spPr>
          <a:xfrm>
            <a:off x="2932200" y="1219320"/>
            <a:ext cx="14457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on_meth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40" idx="2"/>
            <a:endCxn id="431" idx="0"/>
          </p:cNvCxnSpPr>
          <p:nvPr/>
        </p:nvCxnSpPr>
        <p:spPr>
          <a:xfrm flipV="1" rot="10800000">
            <a:off x="3655440" y="1604880"/>
            <a:ext cx="1080" cy="2955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sp>
        <p:nvSpPr>
          <p:cNvPr id="442" name=""/>
          <p:cNvSpPr/>
          <p:nvPr/>
        </p:nvSpPr>
        <p:spPr>
          <a:xfrm>
            <a:off x="5791320" y="1828800"/>
            <a:ext cx="609480" cy="22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10080" y="1600200"/>
            <a:ext cx="609840" cy="22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0" idx="2"/>
            <a:endCxn id="443" idx="1"/>
          </p:cNvCxnSpPr>
          <p:nvPr/>
        </p:nvCxnSpPr>
        <p:spPr>
          <a:xfrm flipH="1" rot="16200000">
            <a:off x="4478040" y="782280"/>
            <a:ext cx="110520" cy="175464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445" name=""/>
          <p:cNvCxnSpPr>
            <a:stCxn id="440" idx="2"/>
            <a:endCxn id="442" idx="0"/>
          </p:cNvCxnSpPr>
          <p:nvPr/>
        </p:nvCxnSpPr>
        <p:spPr>
          <a:xfrm flipH="1" rot="16200000">
            <a:off x="4763160" y="496800"/>
            <a:ext cx="224640" cy="2440440"/>
          </a:xfrm>
          <a:prstGeom prst="bentConnector3">
            <a:avLst>
              <a:gd name="adj1" fmla="val 49598"/>
            </a:avLst>
          </a:prstGeom>
          <a:ln w="25560">
            <a:solidFill>
              <a:srgbClr val="000000"/>
            </a:solidFill>
            <a:prstDash val="sysDot"/>
            <a:miter/>
          </a:ln>
        </p:spPr>
      </p:cxnSp>
      <p:sp>
        <p:nvSpPr>
          <p:cNvPr id="446" name=""/>
          <p:cNvSpPr/>
          <p:nvPr/>
        </p:nvSpPr>
        <p:spPr>
          <a:xfrm>
            <a:off x="6477120" y="1828800"/>
            <a:ext cx="609480" cy="22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"/>
          <p:cNvCxnSpPr>
            <a:stCxn id="440" idx="2"/>
            <a:endCxn id="446" idx="0"/>
          </p:cNvCxnSpPr>
          <p:nvPr/>
        </p:nvCxnSpPr>
        <p:spPr>
          <a:xfrm flipH="1" rot="16200000">
            <a:off x="5106960" y="153720"/>
            <a:ext cx="224640" cy="3126240"/>
          </a:xfrm>
          <a:prstGeom prst="bentConnector3">
            <a:avLst>
              <a:gd name="adj1" fmla="val 49598"/>
            </a:avLst>
          </a:prstGeom>
          <a:ln w="25560">
            <a:solidFill>
              <a:srgbClr val="000000"/>
            </a:solidFill>
            <a:prstDash val="sysDot"/>
            <a:miter/>
          </a:ln>
        </p:spPr>
      </p:cxnSp>
      <p:sp>
        <p:nvSpPr>
          <p:cNvPr id="448" name=""/>
          <p:cNvSpPr/>
          <p:nvPr/>
        </p:nvSpPr>
        <p:spPr>
          <a:xfrm flipH="1">
            <a:off x="1523880" y="1600200"/>
            <a:ext cx="609840" cy="22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440" idx="2"/>
            <a:endCxn id="448" idx="3"/>
          </p:cNvCxnSpPr>
          <p:nvPr/>
        </p:nvCxnSpPr>
        <p:spPr>
          <a:xfrm rot="5400000">
            <a:off x="2840040" y="897480"/>
            <a:ext cx="108720" cy="152316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50" name=""/>
          <p:cNvSpPr/>
          <p:nvPr/>
        </p:nvSpPr>
        <p:spPr>
          <a:xfrm flipH="1">
            <a:off x="720000" y="1828800"/>
            <a:ext cx="609480" cy="22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40" idx="2"/>
            <a:endCxn id="450" idx="0"/>
          </p:cNvCxnSpPr>
          <p:nvPr/>
        </p:nvCxnSpPr>
        <p:spPr>
          <a:xfrm rot="5400000">
            <a:off x="2228040" y="401400"/>
            <a:ext cx="224640" cy="2631240"/>
          </a:xfrm>
          <a:prstGeom prst="bentConnector3">
            <a:avLst>
              <a:gd name="adj1" fmla="val 49598"/>
            </a:avLst>
          </a:prstGeom>
          <a:ln w="25560">
            <a:solidFill>
              <a:srgbClr val="000000"/>
            </a:solidFill>
            <a:prstDash val="sysDot"/>
            <a:miter/>
          </a:ln>
        </p:spPr>
      </p:cxnSp>
      <p:sp>
        <p:nvSpPr>
          <p:cNvPr id="452" name=""/>
          <p:cNvSpPr/>
          <p:nvPr/>
        </p:nvSpPr>
        <p:spPr>
          <a:xfrm>
            <a:off x="6021000" y="2743200"/>
            <a:ext cx="216792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turning_type_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52" idx="2"/>
          </p:cNvCxnSpPr>
          <p:nvPr/>
        </p:nvCxnSpPr>
        <p:spPr>
          <a:xfrm flipH="1" rot="16200000">
            <a:off x="6716880" y="3517560"/>
            <a:ext cx="1073520" cy="295560"/>
          </a:xfrm>
          <a:prstGeom prst="bentConnector2">
            <a:avLst/>
          </a:prstGeom>
          <a:ln w="25560">
            <a:solidFill>
              <a:srgbClr val="cf0e30"/>
            </a:solidFill>
            <a:miter/>
            <a:tailEnd len="med" type="oval" w="med"/>
          </a:ln>
        </p:spPr>
      </p:cxnSp>
      <p:cxnSp>
        <p:nvCxnSpPr>
          <p:cNvPr id="454" name=""/>
          <p:cNvCxnSpPr>
            <a:stCxn id="452" idx="2"/>
          </p:cNvCxnSpPr>
          <p:nvPr/>
        </p:nvCxnSpPr>
        <p:spPr>
          <a:xfrm flipH="1" rot="16200000">
            <a:off x="6983280" y="3251160"/>
            <a:ext cx="540360" cy="295560"/>
          </a:xfrm>
          <a:prstGeom prst="bentConnector2">
            <a:avLst/>
          </a:prstGeom>
          <a:ln w="25560">
            <a:solidFill>
              <a:srgbClr val="cf0e30"/>
            </a:solidFill>
            <a:miter/>
            <a:tailEnd len="med" type="oval" w="med"/>
          </a:ln>
        </p:spPr>
      </p:cxnSp>
      <p:cxnSp>
        <p:nvCxnSpPr>
          <p:cNvPr id="455" name=""/>
          <p:cNvCxnSpPr>
            <a:stCxn id="431" idx="2"/>
            <a:endCxn id="452" idx="0"/>
          </p:cNvCxnSpPr>
          <p:nvPr/>
        </p:nvCxnSpPr>
        <p:spPr>
          <a:xfrm flipH="1" rot="16200000">
            <a:off x="5152320" y="789480"/>
            <a:ext cx="457920" cy="345024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sp>
        <p:nvSpPr>
          <p:cNvPr id="456" name=""/>
          <p:cNvSpPr/>
          <p:nvPr/>
        </p:nvSpPr>
        <p:spPr>
          <a:xfrm>
            <a:off x="3352680" y="4420440"/>
            <a:ext cx="2438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veral Sub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92280" y="4948200"/>
            <a:ext cx="774684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ing operations represented using several new AIM sub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with milling/drilling, attributes represented using a collection of action properti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76320" y="765000"/>
            <a:ext cx="8966160" cy="533088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3336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ing Strategies AI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108080" y="1976400"/>
            <a:ext cx="18633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chining_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14600" y="3886200"/>
            <a:ext cx="20142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ling_type_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05160" y="3887640"/>
            <a:ext cx="23724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eform_milling_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14600" y="3352680"/>
            <a:ext cx="20340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illing_type_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512440" y="2895480"/>
            <a:ext cx="34178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chining_approach_retract_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"/>
          <p:cNvCxnSpPr>
            <a:stCxn id="460" idx="2"/>
            <a:endCxn id="461" idx="1"/>
          </p:cNvCxnSpPr>
          <p:nvPr/>
        </p:nvCxnSpPr>
        <p:spPr>
          <a:xfrm flipH="1" rot="16200000">
            <a:off x="1417320" y="2983320"/>
            <a:ext cx="1718280" cy="4755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466" name=""/>
          <p:cNvCxnSpPr>
            <a:stCxn id="461" idx="3"/>
            <a:endCxn id="462" idx="1"/>
          </p:cNvCxnSpPr>
          <p:nvPr/>
        </p:nvCxnSpPr>
        <p:spPr>
          <a:xfrm>
            <a:off x="4528800" y="4079880"/>
            <a:ext cx="577080" cy="2160"/>
          </a:xfrm>
          <a:prstGeom prst="bentConnector3">
            <a:avLst>
              <a:gd name="adj1" fmla="val 49812"/>
            </a:avLst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467" name=""/>
          <p:cNvCxnSpPr>
            <a:stCxn id="460" idx="2"/>
            <a:endCxn id="463" idx="1"/>
          </p:cNvCxnSpPr>
          <p:nvPr/>
        </p:nvCxnSpPr>
        <p:spPr>
          <a:xfrm flipH="1" rot="16200000">
            <a:off x="1684080" y="2716560"/>
            <a:ext cx="1184760" cy="4755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468" name=""/>
          <p:cNvCxnSpPr>
            <a:stCxn id="460" idx="2"/>
            <a:endCxn id="464" idx="1"/>
          </p:cNvCxnSpPr>
          <p:nvPr/>
        </p:nvCxnSpPr>
        <p:spPr>
          <a:xfrm flipH="1" rot="16200000">
            <a:off x="1912680" y="2487960"/>
            <a:ext cx="727560" cy="4755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sp>
        <p:nvSpPr>
          <p:cNvPr id="469" name=""/>
          <p:cNvSpPr/>
          <p:nvPr/>
        </p:nvSpPr>
        <p:spPr>
          <a:xfrm>
            <a:off x="1317600" y="1219320"/>
            <a:ext cx="14457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on_meth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9" idx="2"/>
            <a:endCxn id="460" idx="0"/>
          </p:cNvCxnSpPr>
          <p:nvPr/>
        </p:nvCxnSpPr>
        <p:spPr>
          <a:xfrm rot="5400000">
            <a:off x="1854000" y="1789560"/>
            <a:ext cx="372240" cy="2520"/>
          </a:xfrm>
          <a:prstGeom prst="bentConnector3">
            <a:avLst>
              <a:gd name="adj1" fmla="val 49951"/>
            </a:avLst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471" name=""/>
          <p:cNvCxnSpPr>
            <a:stCxn id="469" idx="2"/>
            <a:endCxn id="472" idx="0"/>
          </p:cNvCxnSpPr>
          <p:nvPr/>
        </p:nvCxnSpPr>
        <p:spPr>
          <a:xfrm flipH="1" rot="16200000">
            <a:off x="3116880" y="528480"/>
            <a:ext cx="372240" cy="2524680"/>
          </a:xfrm>
          <a:prstGeom prst="bentConnector3">
            <a:avLst>
              <a:gd name="adj1" fmla="val 49951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2"/>
            <a:endCxn id="474" idx="0"/>
          </p:cNvCxnSpPr>
          <p:nvPr/>
        </p:nvCxnSpPr>
        <p:spPr>
          <a:xfrm flipH="1" rot="16200000">
            <a:off x="4375800" y="-730440"/>
            <a:ext cx="372240" cy="5042520"/>
          </a:xfrm>
          <a:prstGeom prst="bentConnector3">
            <a:avLst>
              <a:gd name="adj1" fmla="val 49951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475" name=""/>
          <p:cNvSpPr/>
          <p:nvPr/>
        </p:nvSpPr>
        <p:spPr>
          <a:xfrm flipH="1">
            <a:off x="227880" y="1976400"/>
            <a:ext cx="609480" cy="22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69" idx="2"/>
            <a:endCxn id="475" idx="0"/>
          </p:cNvCxnSpPr>
          <p:nvPr/>
        </p:nvCxnSpPr>
        <p:spPr>
          <a:xfrm rot="5400000">
            <a:off x="1100880" y="1036440"/>
            <a:ext cx="372240" cy="1508760"/>
          </a:xfrm>
          <a:prstGeom prst="bentConnector3">
            <a:avLst>
              <a:gd name="adj1" fmla="val 49951"/>
            </a:avLst>
          </a:prstGeom>
          <a:ln w="25560">
            <a:solidFill>
              <a:srgbClr val="000000"/>
            </a:solidFill>
            <a:prstDash val="sysDot"/>
            <a:miter/>
          </a:ln>
        </p:spPr>
      </p:cxnSp>
      <p:sp>
        <p:nvSpPr>
          <p:cNvPr id="472" name=""/>
          <p:cNvSpPr/>
          <p:nvPr/>
        </p:nvSpPr>
        <p:spPr>
          <a:xfrm>
            <a:off x="3506760" y="1976400"/>
            <a:ext cx="211788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chining_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7680" y="1976400"/>
            <a:ext cx="196992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chining_fun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515680" y="4419720"/>
            <a:ext cx="20505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turning_type_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"/>
          <p:cNvCxnSpPr>
            <a:stCxn id="460" idx="2"/>
            <a:endCxn id="477" idx="1"/>
          </p:cNvCxnSpPr>
          <p:nvPr/>
        </p:nvCxnSpPr>
        <p:spPr>
          <a:xfrm flipH="1" rot="16200000">
            <a:off x="1150560" y="3250080"/>
            <a:ext cx="2251800" cy="4755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sp>
        <p:nvSpPr>
          <p:cNvPr id="479" name=""/>
          <p:cNvSpPr/>
          <p:nvPr/>
        </p:nvSpPr>
        <p:spPr>
          <a:xfrm>
            <a:off x="685800" y="4952880"/>
            <a:ext cx="774684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ing strategy represented using a new AIM sub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techniques as with milling/drilling strate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12 references existing approach/retract strategi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76320" y="765000"/>
            <a:ext cx="8966160" cy="533088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47340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ing Tech and Functions AI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317600" y="1219320"/>
            <a:ext cx="14457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on_meth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"/>
          <p:cNvCxnSpPr>
            <a:stCxn id="482" idx="2"/>
            <a:endCxn id="484" idx="0"/>
          </p:cNvCxnSpPr>
          <p:nvPr/>
        </p:nvCxnSpPr>
        <p:spPr>
          <a:xfrm flipH="1" rot="16200000">
            <a:off x="3116880" y="528480"/>
            <a:ext cx="372240" cy="2524680"/>
          </a:xfrm>
          <a:prstGeom prst="bentConnector3">
            <a:avLst>
              <a:gd name="adj1" fmla="val 49951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485" name=""/>
          <p:cNvCxnSpPr>
            <a:stCxn id="482" idx="2"/>
            <a:endCxn id="486" idx="0"/>
          </p:cNvCxnSpPr>
          <p:nvPr/>
        </p:nvCxnSpPr>
        <p:spPr>
          <a:xfrm flipH="1" rot="16200000">
            <a:off x="4375800" y="-730440"/>
            <a:ext cx="372240" cy="5042520"/>
          </a:xfrm>
          <a:prstGeom prst="bentConnector3">
            <a:avLst>
              <a:gd name="adj1" fmla="val 49951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487" name=""/>
          <p:cNvSpPr/>
          <p:nvPr/>
        </p:nvSpPr>
        <p:spPr>
          <a:xfrm flipH="1">
            <a:off x="227880" y="1976400"/>
            <a:ext cx="609480" cy="22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"/>
          <p:cNvCxnSpPr>
            <a:stCxn id="482" idx="2"/>
            <a:endCxn id="487" idx="0"/>
          </p:cNvCxnSpPr>
          <p:nvPr/>
        </p:nvCxnSpPr>
        <p:spPr>
          <a:xfrm rot="5400000">
            <a:off x="1100880" y="1036440"/>
            <a:ext cx="372240" cy="1508760"/>
          </a:xfrm>
          <a:prstGeom prst="bentConnector3">
            <a:avLst>
              <a:gd name="adj1" fmla="val 49951"/>
            </a:avLst>
          </a:prstGeom>
          <a:ln w="25560">
            <a:solidFill>
              <a:srgbClr val="000000"/>
            </a:solidFill>
            <a:prstDash val="sysDot"/>
            <a:miter/>
          </a:ln>
        </p:spPr>
      </p:cxnSp>
      <p:sp>
        <p:nvSpPr>
          <p:cNvPr id="484" name=""/>
          <p:cNvSpPr/>
          <p:nvPr/>
        </p:nvSpPr>
        <p:spPr>
          <a:xfrm>
            <a:off x="3506760" y="1976400"/>
            <a:ext cx="211788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chining_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7680" y="1976400"/>
            <a:ext cx="196992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chining_fun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2971800"/>
            <a:ext cx="7746840" cy="24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ing technology and machining functions did not require any new AIM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ng technology/functions already distinguished by an action_method.description of “milling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action_method.description of “turning” to distinguish the turning technology/func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properties are common between milling/turning versions.   AIM EXPRESS rules simplifi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76320" y="762120"/>
            <a:ext cx="8966160" cy="533088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71560" y="2997360"/>
            <a:ext cx="116892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_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248880" y="4495680"/>
            <a:ext cx="238824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ning_tool_dim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54920" y="2209680"/>
            <a:ext cx="159876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 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19440" y="2997360"/>
            <a:ext cx="127116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ting 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93" idx="2"/>
            <a:endCxn id="494" idx="0"/>
          </p:cNvCxnSpPr>
          <p:nvPr/>
        </p:nvCxnSpPr>
        <p:spPr>
          <a:xfrm flipH="1" rot="16200000">
            <a:off x="1376280" y="2818440"/>
            <a:ext cx="356400" cy="2520"/>
          </a:xfrm>
          <a:prstGeom prst="bentConnector3">
            <a:avLst>
              <a:gd name="adj1" fmla="val 49949"/>
            </a:avLst>
          </a:prstGeom>
          <a:ln w="5724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44467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ting Tools for Turning A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03640" y="4292640"/>
            <a:ext cx="211680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ning machine 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8" name=""/>
          <p:cNvCxnSpPr>
            <a:stCxn id="494" idx="2"/>
            <a:endCxn id="497" idx="0"/>
          </p:cNvCxnSpPr>
          <p:nvPr/>
        </p:nvCxnSpPr>
        <p:spPr>
          <a:xfrm flipH="1" rot="16200000">
            <a:off x="1126080" y="3857400"/>
            <a:ext cx="864360" cy="6840"/>
          </a:xfrm>
          <a:prstGeom prst="bentConnector3">
            <a:avLst>
              <a:gd name="adj1" fmla="val 50000"/>
            </a:avLst>
          </a:prstGeom>
          <a:ln w="5724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499" name=""/>
          <p:cNvSpPr/>
          <p:nvPr/>
        </p:nvSpPr>
        <p:spPr>
          <a:xfrm>
            <a:off x="2856240" y="4292640"/>
            <a:ext cx="261360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ning machine tool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1" idx="2"/>
            <a:endCxn id="499" idx="0"/>
          </p:cNvCxnSpPr>
          <p:nvPr/>
        </p:nvCxnSpPr>
        <p:spPr>
          <a:xfrm flipH="1" rot="16200000">
            <a:off x="3728160" y="3856320"/>
            <a:ext cx="864360" cy="8640"/>
          </a:xfrm>
          <a:prstGeom prst="bentConnector3">
            <a:avLst>
              <a:gd name="adj1" fmla="val 50000"/>
            </a:avLst>
          </a:prstGeom>
          <a:ln w="57240">
            <a:solidFill>
              <a:srgbClr val="000000"/>
            </a:solidFill>
            <a:miter/>
            <a:tailEnd len="sm" type="oval" w="sm"/>
          </a:ln>
        </p:spPr>
      </p:cxnSp>
      <p:cxnSp>
        <p:nvCxnSpPr>
          <p:cNvPr id="501" name=""/>
          <p:cNvCxnSpPr>
            <a:stCxn id="499" idx="2"/>
            <a:endCxn id="502" idx="0"/>
          </p:cNvCxnSpPr>
          <p:nvPr/>
        </p:nvCxnSpPr>
        <p:spPr>
          <a:xfrm rot="5400000">
            <a:off x="3643200" y="4813920"/>
            <a:ext cx="610560" cy="430920"/>
          </a:xfrm>
          <a:prstGeom prst="bentConnector3">
            <a:avLst>
              <a:gd name="adj1" fmla="val 49970"/>
            </a:avLst>
          </a:prstGeom>
          <a:ln w="57240">
            <a:solidFill>
              <a:srgbClr val="000000"/>
            </a:solidFill>
            <a:miter/>
            <a:tailEnd len="sm" type="oval" w="sm"/>
          </a:ln>
        </p:spPr>
      </p:cxnSp>
      <p:cxnSp>
        <p:nvCxnSpPr>
          <p:cNvPr id="503" name=""/>
          <p:cNvCxnSpPr>
            <a:stCxn id="494" idx="3"/>
            <a:endCxn id="491" idx="1"/>
          </p:cNvCxnSpPr>
          <p:nvPr/>
        </p:nvCxnSpPr>
        <p:spPr>
          <a:xfrm>
            <a:off x="2192040" y="3212640"/>
            <a:ext cx="1378440" cy="108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4" name=""/>
          <p:cNvCxnSpPr>
            <a:stCxn id="499" idx="3"/>
            <a:endCxn id="492" idx="1"/>
          </p:cNvCxnSpPr>
          <p:nvPr/>
        </p:nvCxnSpPr>
        <p:spPr>
          <a:xfrm>
            <a:off x="5471640" y="4508640"/>
            <a:ext cx="777240" cy="203760"/>
          </a:xfrm>
          <a:prstGeom prst="bentConnector3">
            <a:avLst>
              <a:gd name="adj1" fmla="val 4986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457200" y="1138680"/>
            <a:ext cx="2281320" cy="757440"/>
          </a:xfrm>
          <a:prstGeom prst="downArrow">
            <a:avLst>
              <a:gd name="adj1" fmla="val 74944"/>
              <a:gd name="adj2" fmla="val 39764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ferenced From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4920" y="3848040"/>
            <a:ext cx="85341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756560" y="3353040"/>
            <a:ext cx="94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693200" y="3976920"/>
            <a:ext cx="10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1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419720" y="53341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2"/>
            <a:endCxn id="509" idx="0"/>
          </p:cNvCxnSpPr>
          <p:nvPr/>
        </p:nvCxnSpPr>
        <p:spPr>
          <a:xfrm flipH="1" rot="16200000">
            <a:off x="4024080" y="4863240"/>
            <a:ext cx="610560" cy="332280"/>
          </a:xfrm>
          <a:prstGeom prst="bentConnector3">
            <a:avLst>
              <a:gd name="adj1" fmla="val 49970"/>
            </a:avLst>
          </a:prstGeom>
          <a:ln w="5724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502" name=""/>
          <p:cNvSpPr/>
          <p:nvPr/>
        </p:nvSpPr>
        <p:spPr>
          <a:xfrm>
            <a:off x="3657600" y="53341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81480" y="533412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2" name=""/>
          <p:cNvCxnSpPr>
            <a:stCxn id="499" idx="2"/>
            <a:endCxn id="511" idx="0"/>
          </p:cNvCxnSpPr>
          <p:nvPr/>
        </p:nvCxnSpPr>
        <p:spPr>
          <a:xfrm flipH="1" rot="16200000">
            <a:off x="4406040" y="4482000"/>
            <a:ext cx="610560" cy="1094400"/>
          </a:xfrm>
          <a:prstGeom prst="bentConnector3">
            <a:avLst>
              <a:gd name="adj1" fmla="val 49970"/>
            </a:avLst>
          </a:prstGeom>
          <a:ln w="5724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513" name=""/>
          <p:cNvSpPr/>
          <p:nvPr/>
        </p:nvSpPr>
        <p:spPr>
          <a:xfrm>
            <a:off x="3886200" y="1356120"/>
            <a:ext cx="4343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similar to Part 111 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s many tool body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438280" y="5488200"/>
            <a:ext cx="40388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veral Sub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rooving, Knurling, Threading,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 User Def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76320" y="765000"/>
            <a:ext cx="8966160" cy="533088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410200" y="1854360"/>
            <a:ext cx="173268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on_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796280" y="2295360"/>
            <a:ext cx="222948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on_resource_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211840" y="1159200"/>
            <a:ext cx="2234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quired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48038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ing Tool AIM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92280" y="3733920"/>
            <a:ext cx="774684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ing tools did not require any new AIM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action resource subtype machining_tool for the ARM turning_machine_tool conce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a “kind” attribute that categorizes the re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use value “milling cutting tool” for Part 111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add value “turning cutting tool” for Part 12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49800" y="2844720"/>
            <a:ext cx="165492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516" idx="2"/>
            <a:endCxn id="521" idx="0"/>
          </p:cNvCxnSpPr>
          <p:nvPr/>
        </p:nvCxnSpPr>
        <p:spPr>
          <a:xfrm flipH="1" rot="16200000">
            <a:off x="2998080" y="2564280"/>
            <a:ext cx="559080" cy="2160"/>
          </a:xfrm>
          <a:prstGeom prst="bentConnector3">
            <a:avLst>
              <a:gd name="adj1" fmla="val 50000"/>
            </a:avLst>
          </a:prstGeom>
          <a:ln w="57240">
            <a:solidFill>
              <a:srgbClr val="000000"/>
            </a:solidFill>
            <a:miter/>
            <a:tailEnd len="sm" type="oval" w="sm"/>
          </a:ln>
        </p:spPr>
      </p:cxnSp>
      <p:cxnSp>
        <p:nvCxnSpPr>
          <p:cNvPr id="523" name=""/>
          <p:cNvCxnSpPr>
            <a:stCxn id="517" idx="1"/>
            <a:endCxn id="516" idx="3"/>
          </p:cNvCxnSpPr>
          <p:nvPr/>
        </p:nvCxnSpPr>
        <p:spPr>
          <a:xfrm rot="10800000">
            <a:off x="4144320" y="2069280"/>
            <a:ext cx="649800" cy="442080"/>
          </a:xfrm>
          <a:prstGeom prst="bentConnector3">
            <a:avLst>
              <a:gd name="adj1" fmla="val 49833"/>
            </a:avLst>
          </a:prstGeom>
          <a:ln w="158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24" name=""/>
          <p:cNvSpPr/>
          <p:nvPr/>
        </p:nvSpPr>
        <p:spPr>
          <a:xfrm>
            <a:off x="4224600" y="181296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76320" y="765000"/>
            <a:ext cx="8966160" cy="533088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447920" y="1349280"/>
            <a:ext cx="0" cy="4572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752480" y="1349280"/>
            <a:ext cx="0" cy="4572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820600" y="2117880"/>
            <a:ext cx="57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[1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985560" y="1854360"/>
            <a:ext cx="218376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ation_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145880" y="1854360"/>
            <a:ext cx="158508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144440" y="1066680"/>
            <a:ext cx="273708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ation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56134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ing Tool Body and Dimension AI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92280" y="4038480"/>
            <a:ext cx="774684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new AIM types needed for body or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existing representation subtypes developed for Part 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with all of our complex types, properties handled as various representation items with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inguish tool bodies using the representation.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inguish milling/turning/other tool dimensions using representation.name “milling”, “turning”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06640" y="3225960"/>
            <a:ext cx="410400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tool_dimension_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5" name=""/>
          <p:cNvCxnSpPr>
            <a:stCxn id="530" idx="2"/>
            <a:endCxn id="534" idx="1"/>
          </p:cNvCxnSpPr>
          <p:nvPr/>
        </p:nvCxnSpPr>
        <p:spPr>
          <a:xfrm flipH="1" rot="16200000">
            <a:off x="1844640" y="2379240"/>
            <a:ext cx="1156320" cy="9691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536" name=""/>
          <p:cNvSpPr/>
          <p:nvPr/>
        </p:nvSpPr>
        <p:spPr>
          <a:xfrm>
            <a:off x="2907360" y="2666880"/>
            <a:ext cx="3618000" cy="42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3640" rIns="143640" tIns="89640" bIns="89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tool_body_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7" name=""/>
          <p:cNvCxnSpPr>
            <a:stCxn id="530" idx="2"/>
            <a:endCxn id="536" idx="1"/>
          </p:cNvCxnSpPr>
          <p:nvPr/>
        </p:nvCxnSpPr>
        <p:spPr>
          <a:xfrm flipH="1" rot="16200000">
            <a:off x="2124000" y="2099880"/>
            <a:ext cx="597600" cy="9691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538" name=""/>
          <p:cNvSpPr/>
          <p:nvPr/>
        </p:nvSpPr>
        <p:spPr>
          <a:xfrm>
            <a:off x="2863440" y="1797120"/>
            <a:ext cx="52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29" idx="1"/>
            <a:endCxn id="530" idx="3"/>
          </p:cNvCxnSpPr>
          <p:nvPr/>
        </p:nvCxnSpPr>
        <p:spPr>
          <a:xfrm rot="10800000">
            <a:off x="2733120" y="2069280"/>
            <a:ext cx="1249920" cy="1080"/>
          </a:xfrm>
          <a:prstGeom prst="bentConnector2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6748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Since CD Ball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442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Improv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CD comment resolutions and fix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mapping table bugs fixed, discovered during XML wor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t to d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ARM &amp; AIM EXPRESS-G diagram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ument conformance classes as discuss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informative annex with XML schem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 through checklists and signoff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submit for DIS ballot by end of October 2004 to satisfy ISO time constra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5560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s Since CD Ball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453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“Fundamental Concepts and Assumptions” section addresses remaining feature harmonization issu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ed with Len and Alan in January 2004 to add AIM rule changes to AIC522e2 and ARM changes to AP-224e3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DM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new management UOF and mappings to clarify the handling of approvals and other PDM data.  Harmonized with the appropriate modules (ISO 10303-1012, 1015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D&amp;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ved all harmonization issu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ARM and mappings for harmonized defini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ed ARM definitions in “Measure” UOF to explicitly describe units, tolerances on parameters beyond length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0957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piece, Shape, and PD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2280" y="1221840"/>
            <a:ext cx="3797280" cy="1589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51000"/>
          </a:bodyPr>
          <a:p>
            <a:pPr marL="144720" indent="-144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orkpiece is a STEP product descri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720" indent="-144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all of the owner information, approvals, dates and tim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720" indent="-144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erial and material proper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7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7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7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720" indent="-144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pe for workpiece uses advanced B-REP, just like all of the other STEP AP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720" indent="-144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d by any CAD system that supports STEP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35448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two_chambers_gibbs_small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35593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s: PD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441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new management UOF and mappings to clarify the handling of approvals and other PDM d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monized with module 1012 for approvals and module 1015 for security classif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application objects for Approval, Approval_relationship, Approval_status, Approving_person_organization, Security_classification, Security_classification_assign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 and organization ARM concepts already present in the Project UOF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last modified timestamps as per ballot com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associate with projects, workpieces, executables, operations, or toolpa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eampart" descr=""/>
          <p:cNvPicPr/>
          <p:nvPr/>
        </p:nvPicPr>
        <p:blipFill>
          <a:blip r:embed="rId1"/>
          <a:stretch/>
        </p:blipFill>
        <p:spPr>
          <a:xfrm>
            <a:off x="1600200" y="3890880"/>
            <a:ext cx="5305320" cy="2509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255080" y="5454720"/>
            <a:ext cx="122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nd 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37560" y="3886200"/>
            <a:ext cx="1949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unterbore 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und 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62320" y="2819520"/>
            <a:ext cx="16884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cket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ough bott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6120" y="2666880"/>
            <a:ext cx="1296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cket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at bott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4520" y="3886200"/>
            <a:ext cx="10044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t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5105520"/>
            <a:ext cx="1447560" cy="583920"/>
          </a:xfrm>
          <a:custGeom>
            <a:avLst/>
            <a:gdLst/>
            <a:ahLst/>
            <a:rect l="l" t="t" r="r" b="b"/>
            <a:pathLst>
              <a:path w="720" h="224">
                <a:moveTo>
                  <a:pt x="720" y="192"/>
                </a:moveTo>
                <a:cubicBezTo>
                  <a:pt x="588" y="208"/>
                  <a:pt x="456" y="224"/>
                  <a:pt x="336" y="192"/>
                </a:cubicBezTo>
                <a:cubicBezTo>
                  <a:pt x="216" y="160"/>
                  <a:pt x="108" y="80"/>
                  <a:pt x="0" y="0"/>
                </a:cubicBezTo>
              </a:path>
            </a:pathLst>
          </a:custGeom>
          <a:noFill/>
          <a:ln w="381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4178160"/>
            <a:ext cx="838440" cy="88920"/>
          </a:xfrm>
          <a:custGeom>
            <a:avLst/>
            <a:gdLst/>
            <a:ahLst/>
            <a:rect l="l" t="t" r="r" b="b"/>
            <a:pathLst>
              <a:path w="528" h="56">
                <a:moveTo>
                  <a:pt x="528" y="8"/>
                </a:moveTo>
                <a:cubicBezTo>
                  <a:pt x="452" y="4"/>
                  <a:pt x="376" y="0"/>
                  <a:pt x="288" y="8"/>
                </a:cubicBezTo>
                <a:cubicBezTo>
                  <a:pt x="200" y="16"/>
                  <a:pt x="100" y="36"/>
                  <a:pt x="0" y="56"/>
                </a:cubicBezTo>
              </a:path>
            </a:pathLst>
          </a:custGeom>
          <a:noFill/>
          <a:ln w="381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3295800"/>
            <a:ext cx="2998800" cy="1504800"/>
          </a:xfrm>
          <a:custGeom>
            <a:avLst/>
            <a:gdLst/>
            <a:ahLst/>
            <a:rect l="l" t="t" r="r" b="b"/>
            <a:pathLst>
              <a:path w="1889" h="948">
                <a:moveTo>
                  <a:pt x="1889" y="0"/>
                </a:moveTo>
                <a:cubicBezTo>
                  <a:pt x="1692" y="79"/>
                  <a:pt x="1020" y="320"/>
                  <a:pt x="705" y="478"/>
                </a:cubicBezTo>
                <a:cubicBezTo>
                  <a:pt x="390" y="636"/>
                  <a:pt x="180" y="797"/>
                  <a:pt x="0" y="948"/>
                </a:cubicBezTo>
              </a:path>
            </a:pathLst>
          </a:custGeom>
          <a:noFill/>
          <a:ln w="381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200400"/>
            <a:ext cx="1981080" cy="1447920"/>
          </a:xfrm>
          <a:custGeom>
            <a:avLst/>
            <a:gdLst/>
            <a:ahLst/>
            <a:rect l="l" t="t" r="r" b="b"/>
            <a:pathLst>
              <a:path w="1248" h="912">
                <a:moveTo>
                  <a:pt x="1248" y="0"/>
                </a:moveTo>
                <a:cubicBezTo>
                  <a:pt x="944" y="116"/>
                  <a:pt x="640" y="232"/>
                  <a:pt x="432" y="384"/>
                </a:cubicBezTo>
                <a:cubicBezTo>
                  <a:pt x="224" y="536"/>
                  <a:pt x="112" y="724"/>
                  <a:pt x="0" y="912"/>
                </a:cubicBezTo>
              </a:path>
            </a:pathLst>
          </a:custGeom>
          <a:noFill/>
          <a:ln w="381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4419720"/>
            <a:ext cx="990360" cy="546120"/>
          </a:xfrm>
          <a:custGeom>
            <a:avLst/>
            <a:gdLst/>
            <a:ahLst/>
            <a:rect l="l" t="t" r="r" b="b"/>
            <a:pathLst>
              <a:path w="624" h="344">
                <a:moveTo>
                  <a:pt x="0" y="8"/>
                </a:moveTo>
                <a:cubicBezTo>
                  <a:pt x="116" y="4"/>
                  <a:pt x="232" y="0"/>
                  <a:pt x="336" y="56"/>
                </a:cubicBezTo>
                <a:cubicBezTo>
                  <a:pt x="440" y="112"/>
                  <a:pt x="532" y="228"/>
                  <a:pt x="624" y="344"/>
                </a:cubicBezTo>
              </a:path>
            </a:pathLst>
          </a:custGeom>
          <a:noFill/>
          <a:ln w="381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28605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ing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92280" y="1221840"/>
            <a:ext cx="3797280" cy="198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5D milling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le, pocket, slot, step, et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ition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ge round and cham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icate fea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tterns of repeated feat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1840" y="1221840"/>
            <a:ext cx="3797280" cy="132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on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rfaces for freeform mil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ing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er round, knurl, gro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47577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s: Fundamental Conce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248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the new “Fundamental Concepts and Assumptions” section to clarify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ctural Issues had been harmonized long ago, but some subtle issues remain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rify assumptions on how to interpret origin for positioning, calculate feature volume and other thing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ain additional capabilities beyond ISO 14649, such as explicit representation and process vs. final fea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4114800"/>
            <a:ext cx="54864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669276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9:53:37Z</dcterms:created>
  <dc:creator>David Loffredo</dc:creator>
  <dc:description/>
  <dc:language>en-US</dc:language>
  <cp:lastModifiedBy>STEP User</cp:lastModifiedBy>
  <cp:lastPrinted>2001-08-16T01:33:48Z</cp:lastPrinted>
  <dcterms:modified xsi:type="dcterms:W3CDTF">2004-10-07T07:06:31Z</dcterms:modified>
  <cp:revision>559</cp:revision>
  <dc:subject/>
  <dc:title>STEP-NC Feature Harmonization</dc:title>
</cp:coreProperties>
</file>