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76320" y="253800"/>
            <a:ext cx="1779480" cy="81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4483405-8F83-4B32-ABFD-51A5AADEEF33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96960"/>
            <a:ext cx="7925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P-238 Toolpath Extensions</a:t>
            </a:r>
            <a:endParaRPr b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90920"/>
            <a:ext cx="51735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eattle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lpath Enhancements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eing implementation tests running 5-axis toolpath tests revealed several weak spo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ed briefly at Bath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nts met mid-August for three days to work through issues and develop resol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veral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deviation for path or tool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tool holder profile to enable collision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xed curve constraints on speed profile to allow poly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Axis constraint to limit the range an axis may tra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 pass through capability to allow legacy codes to be passed through to the underlying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ximum Deviatio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40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deviation for path or tool 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that controller can adjust linearization tolerances as well as feed and acceleration rates to remain within the allowed devi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s a pair of optional ARM attributes on Cutter contact trajectory and Cutter location traj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length (path) or angle (tool direction) action property on the toolpath action_meth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5880" y="2235240"/>
            <a:ext cx="5219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4038480"/>
            <a:ext cx="4695840" cy="2136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2819520"/>
            <a:ext cx="48769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ling Tool Holder Profil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1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shape of holder to enable collision che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s optional ARM attribute on Milling_cutting_tool (Turning cutting tool had sufficient info for chec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the tool and holder looks like between the end of the flutes (max depth of cut) and the gag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surface of revolution resource property on the machining_tool action_re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4038480"/>
            <a:ext cx="43876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unded Curve for Speed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91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xed curve constraints on Toolpath_speed profile to allow poly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this, you could only use Bsplines speed curves, and even then only with Bspline path descrip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polylines are common path descriptio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allows you to use the same range of curves in the speed description as you can in the path descrip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xing ARM, no change to the integrated repres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chine Axis Constrain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3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me machine geometries, may be more than one axis solution for a given tool motion cu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don’t care, the controller will just pick 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do care, how to provide guidan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achine Axis Constraint identifies an axis and the range of values it is allowed to traver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s Milling_machine_functions so that it has a new optional attribute refering to a set of machine axis 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dependant and should be avoi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76320" y="253800"/>
            <a:ext cx="177948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C Pass-through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60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production use, may occasionally need access to capabilities th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supported by a the underlying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urrently not addressed by the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NC_legacy_function applicatio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warnings in normative text to prohibit pathological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ll not be used if equivalent machine behavior can be achieved using other capabilities of this part of ISO 10303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not be used because the resulting workplan will no longer be machine independ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s a new type of nc_function with a string containing the legacy cod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dc:language>en-US</dc:language>
  <cp:lastModifiedBy>STEP User</cp:lastModifiedBy>
  <cp:lastPrinted>2001-08-16T01:33:48Z</cp:lastPrinted>
  <dcterms:modified xsi:type="dcterms:W3CDTF">2004-10-07T14:25:34Z</dcterms:modified>
  <cp:revision>531</cp:revision>
  <dc:subject/>
  <dc:title>STEP-NC Feature Harmonization</dc:title>
</cp:coreProperties>
</file>