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Seattle N000 2004-09-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2C7C8C53-E66B-4AD5-9451-AA5CD599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mplishments since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inal IS document of AP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s for Se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AP-219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n Manufacturing Workshop (Wednes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AP-238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AP-238 5-axis tool path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AP-238 conforman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dule for Se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day, 2004-10-04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enary project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AP-238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esday, 2004-10-05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AP-223/AP-224/AP-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AP-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esday, 2004-10-05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GD&amp;T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GD&amp;T Implement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dule for Se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, 2004-10-04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n manufacturing - 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n manufacturing –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, 2004-10-04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n manufacturing - implement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n manufacturing - vendo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h bar and desktop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dule for Se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rsday, 2004-10-04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DIS walkth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5-axis tool path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rsday, 2004-10-04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-238 conformanc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 Implement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4-10-03T20:30:51Z</dcterms:modified>
  <cp:revision>145</cp:revision>
  <dc:subject/>
  <dc:title>WG3 Presentation to SC4 Opening Plenary</dc:title>
</cp:coreProperties>
</file>