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812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0C732BB-3C87-4A94-989B-CE127F270C5B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tepnc-text-only" descr=""/>
          <p:cNvPicPr/>
          <p:nvPr/>
        </p:nvPicPr>
        <p:blipFill>
          <a:blip r:embed="rId2"/>
          <a:stretch/>
        </p:blipFill>
        <p:spPr>
          <a:xfrm>
            <a:off x="7182000" y="141120"/>
            <a:ext cx="17110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info@steptools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30880" y="577440"/>
            <a:ext cx="367632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Class Libraries for 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CNC and GD&amp;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858120" y="2209680"/>
            <a:ext cx="46980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2"/>
              </a:rPr>
              <a:t>inf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NC Manufacturing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vliet Arsenal, Building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 Processing Manufacturing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vliet, New York 121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6346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integrates tool path and desig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240" y="801720"/>
            <a:ext cx="899460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33320" y="2065320"/>
            <a:ext cx="1959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640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5880" y="3056040"/>
            <a:ext cx="8877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1840" y="3056040"/>
            <a:ext cx="785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7320" y="3056040"/>
            <a:ext cx="8524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20120" y="3056040"/>
            <a:ext cx="6728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5225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8274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160" y="2522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440" y="25225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48480" y="3056040"/>
            <a:ext cx="2174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944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9400" y="2065320"/>
            <a:ext cx="24116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396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571640" y="221760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rot="16200000">
            <a:off x="4532760" y="2179440"/>
            <a:ext cx="838080" cy="15238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9240" y="2370240"/>
            <a:ext cx="45576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63720" y="4046400"/>
            <a:ext cx="14760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40240" y="4046400"/>
            <a:ext cx="1352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41520" y="4046400"/>
            <a:ext cx="8769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58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260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76640" y="3513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976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827440"/>
            <a:ext cx="459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92320" y="381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3513240"/>
            <a:ext cx="3429000" cy="30456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rot="16200000">
            <a:off x="7162920" y="3741840"/>
            <a:ext cx="761760" cy="30456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63400" y="404640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4560" y="4656240"/>
            <a:ext cx="1271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6360" y="526572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rot="16200000">
            <a:off x="6781680" y="397044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rot="16200000">
            <a:off x="6399720" y="4199040"/>
            <a:ext cx="1981080" cy="6094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5980680" y="4009320"/>
            <a:ext cx="1447560" cy="4554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1520" y="3513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440" y="5722920"/>
            <a:ext cx="2512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45360" y="5722920"/>
            <a:ext cx="2093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z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7880" y="5722920"/>
            <a:ext cx="2557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5189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494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3920" y="5189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476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640" y="5494320"/>
            <a:ext cx="458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752120" y="22939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648320" y="4960800"/>
            <a:ext cx="7603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84880" y="475776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480" y="2141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9400" y="48085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41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809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 for faster mach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1920" y="2584440"/>
            <a:ext cx="1116360" cy="5806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66680" y="2608200"/>
            <a:ext cx="111636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1280" y="2549520"/>
            <a:ext cx="857880" cy="72216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7" idx="0"/>
          </p:cNvCxnSpPr>
          <p:nvPr/>
        </p:nvCxnSpPr>
        <p:spPr>
          <a:xfrm flipH="1" rot="16200000">
            <a:off x="1741320" y="1814400"/>
            <a:ext cx="24480" cy="1545480"/>
          </a:xfrm>
          <a:prstGeom prst="bentConnector3">
            <a:avLst>
              <a:gd name="adj1" fmla="val -9194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6" idx="2"/>
            <a:endCxn id="217" idx="2"/>
          </p:cNvCxnSpPr>
          <p:nvPr/>
        </p:nvCxnSpPr>
        <p:spPr>
          <a:xfrm flipH="1" rot="16200000">
            <a:off x="1740240" y="2433240"/>
            <a:ext cx="24840" cy="1545480"/>
          </a:xfrm>
          <a:prstGeom prst="bentConnector3">
            <a:avLst>
              <a:gd name="adj1" fmla="val 10191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950040" y="208764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03/224/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47840" y="34653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T-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7" idx="3"/>
            <a:endCxn id="218" idx="1"/>
          </p:cNvCxnSpPr>
          <p:nvPr/>
        </p:nvCxnSpPr>
        <p:spPr>
          <a:xfrm>
            <a:off x="3103200" y="2908440"/>
            <a:ext cx="108828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080760" y="2610000"/>
            <a:ext cx="117144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8" idx="3"/>
            <a:endCxn id="224" idx="1"/>
          </p:cNvCxnSpPr>
          <p:nvPr/>
        </p:nvCxnSpPr>
        <p:spPr>
          <a:xfrm flipV="1">
            <a:off x="5089680" y="2909520"/>
            <a:ext cx="970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7584480" y="2610000"/>
            <a:ext cx="1285560" cy="580680"/>
          </a:xfrm>
          <a:prstGeom prst="rect">
            <a:avLst/>
          </a:prstGeom>
          <a:solidFill>
            <a:srgbClr val="00e4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4" idx="0"/>
            <a:endCxn id="226" idx="0"/>
          </p:cNvCxnSpPr>
          <p:nvPr/>
        </p:nvCxnSpPr>
        <p:spPr>
          <a:xfrm flipH="1" rot="16200000">
            <a:off x="7446600" y="1819800"/>
            <a:ext cx="2520" cy="15613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4" idx="2"/>
            <a:endCxn id="226" idx="2"/>
          </p:cNvCxnSpPr>
          <p:nvPr/>
        </p:nvCxnSpPr>
        <p:spPr>
          <a:xfrm flipH="1" rot="16200000">
            <a:off x="7446240" y="2439720"/>
            <a:ext cx="2160" cy="1561320"/>
          </a:xfrm>
          <a:prstGeom prst="bentConnector3">
            <a:avLst>
              <a:gd name="adj1" fmla="val 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959160" y="20638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88240" y="346392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50920" y="15289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96320" y="1600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5560" y="3975120"/>
            <a:ext cx="207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 tool pa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 part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07280" y="4008600"/>
            <a:ext cx="213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 tool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set-up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78400" y="1838160"/>
            <a:ext cx="213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 Contro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27040" y="5521320"/>
            <a:ext cx="212760" cy="20160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40120" y="5443560"/>
            <a:ext cx="58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IA, Unigraphics, Pro/Engineer, other APT-CL data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19760" y="880920"/>
            <a:ext cx="48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er milling, drilling and tur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33520" y="5851440"/>
            <a:ext cx="212760" cy="201600"/>
          </a:xfrm>
          <a:prstGeom prst="rect">
            <a:avLst/>
          </a:prstGeom>
          <a:solidFill>
            <a:srgbClr val="00e4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37960" y="5773680"/>
            <a:ext cx="538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 Fanuc 16i, Siemens 840D, MDSI, other Open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3572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3360" y="1027080"/>
            <a:ext cx="7769160" cy="55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AP-238 is a new language for CNC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ward compatible extension of AP-203 (geometry) and AP-224 (featu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machine independent tool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CNC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teroper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to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r to ope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are signific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effort can be signific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conformanc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new libraries to make implementation eas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libraries for design data are in more than one million CA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400" y="333000"/>
            <a:ext cx="2676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ar term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9760" y="2328480"/>
            <a:ext cx="7770600" cy="32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requent direct load of customer data into CN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set-up, less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wa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 wrong program and workpie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 colli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through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use of the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re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92200" y="1093680"/>
            <a:ext cx="505800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S274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xis data with </a:t>
            </a: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AP-23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 path and desig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641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cost savings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57360" y="787320"/>
            <a:ext cx="6043680" cy="5763960"/>
            <a:chOff x="1557360" y="787320"/>
            <a:chExt cx="6043680" cy="5763960"/>
          </a:xfrm>
        </p:grpSpPr>
        <p:grpSp>
          <p:nvGrpSpPr>
            <p:cNvPr id="54" name=""/>
            <p:cNvGrpSpPr/>
            <p:nvPr/>
          </p:nvGrpSpPr>
          <p:grpSpPr>
            <a:xfrm>
              <a:off x="1562040" y="792000"/>
              <a:ext cx="6033960" cy="5754600"/>
              <a:chOff x="1562040" y="792000"/>
              <a:chExt cx="6033960" cy="575460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562040" y="792000"/>
                <a:ext cx="2011320" cy="639720"/>
                <a:chOff x="1562040" y="792000"/>
                <a:chExt cx="2011320" cy="639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630440" y="79200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rip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562040" y="79200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573360" y="792000"/>
                <a:ext cx="2011320" cy="639720"/>
                <a:chOff x="3573360" y="792000"/>
                <a:chExt cx="2011320" cy="639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641760" y="79200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uant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573360" y="79200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5584680" y="792000"/>
                <a:ext cx="2011320" cy="639720"/>
                <a:chOff x="5584680" y="792000"/>
                <a:chExt cx="201132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653080" y="79200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nual Saving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584680" y="79200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1562040" y="1431720"/>
                <a:ext cx="2011320" cy="1187640"/>
                <a:chOff x="1562040" y="1431720"/>
                <a:chExt cx="2011320" cy="11876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630440" y="1431720"/>
                  <a:ext cx="18748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chined parts in the UK Navy inventor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562040" y="1431720"/>
                  <a:ext cx="201132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3573360" y="1431720"/>
                <a:ext cx="2011320" cy="1187640"/>
                <a:chOff x="3573360" y="1431720"/>
                <a:chExt cx="2011320" cy="11876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641760" y="1431720"/>
                  <a:ext cx="18748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,000 (approx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573360" y="1431720"/>
                  <a:ext cx="201132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584680" y="1431720"/>
                <a:ext cx="2011320" cy="1187640"/>
                <a:chOff x="5584680" y="1431720"/>
                <a:chExt cx="2011320" cy="11876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653080" y="1431720"/>
                  <a:ext cx="18748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640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584680" y="1431720"/>
                  <a:ext cx="201132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562040" y="2619360"/>
                <a:ext cx="2011320" cy="1187280"/>
                <a:chOff x="1562040" y="2619360"/>
                <a:chExt cx="2011320" cy="1187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630440" y="2619360"/>
                  <a:ext cx="18748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s in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e depot (submarin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562040" y="2619360"/>
                  <a:ext cx="2011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3573360" y="2619360"/>
                <a:ext cx="2011320" cy="1187280"/>
                <a:chOff x="3573360" y="2619360"/>
                <a:chExt cx="2011320" cy="11872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641760" y="2619360"/>
                  <a:ext cx="18748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,53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573360" y="2619360"/>
                  <a:ext cx="2011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584680" y="2619360"/>
                <a:ext cx="2011320" cy="1187280"/>
                <a:chOff x="5584680" y="2619360"/>
                <a:chExt cx="2011320" cy="11872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5653080" y="2619360"/>
                  <a:ext cx="18748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584680" y="2619360"/>
                  <a:ext cx="2011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562040" y="3806640"/>
                <a:ext cx="2011320" cy="1552680"/>
                <a:chOff x="1562040" y="3806640"/>
                <a:chExt cx="2011320" cy="15526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630440" y="3806640"/>
                  <a:ext cx="187488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s with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vailable design data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562040" y="3806640"/>
                  <a:ext cx="20113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573360" y="3806640"/>
                <a:ext cx="2011320" cy="1552680"/>
                <a:chOff x="3573360" y="3806640"/>
                <a:chExt cx="2011320" cy="1552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641760" y="3806640"/>
                  <a:ext cx="187488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,7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573360" y="3806640"/>
                  <a:ext cx="20113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584680" y="3806640"/>
                <a:ext cx="2011320" cy="1552680"/>
                <a:chOff x="5584680" y="3806640"/>
                <a:chExt cx="2011320" cy="1552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653080" y="3806640"/>
                  <a:ext cx="187488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584680" y="3806640"/>
                  <a:ext cx="20113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562040" y="5359320"/>
                <a:ext cx="2011320" cy="1187280"/>
                <a:chOff x="1562040" y="5359320"/>
                <a:chExt cx="2011320" cy="11872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630440" y="5359320"/>
                  <a:ext cx="18748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vings using AP-224 for rapid manufac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562040" y="5359320"/>
                  <a:ext cx="2011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73360" y="5359320"/>
                <a:ext cx="2011320" cy="1187280"/>
                <a:chOff x="3573360" y="5359320"/>
                <a:chExt cx="2011320" cy="11872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41760" y="5359320"/>
                  <a:ext cx="18748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73360" y="5359320"/>
                  <a:ext cx="2011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584680" y="5359320"/>
                <a:ext cx="2011320" cy="1187280"/>
                <a:chOff x="5584680" y="5359320"/>
                <a:chExt cx="2011320" cy="11872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653080" y="5359320"/>
                  <a:ext cx="18748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4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84680" y="5359320"/>
                  <a:ext cx="2011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" name=""/>
            <p:cNvSpPr/>
            <p:nvPr/>
          </p:nvSpPr>
          <p:spPr>
            <a:xfrm>
              <a:off x="1557360" y="787320"/>
              <a:ext cx="6043680" cy="5763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16960" y="4091040"/>
            <a:ext cx="1337400" cy="580680"/>
          </a:xfrm>
          <a:prstGeom prst="rect">
            <a:avLst/>
          </a:prstGeom>
          <a:solidFill>
            <a:srgbClr val="f8f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641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cost savings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00200" y="927000"/>
          <a:ext cx="7694640" cy="497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927000"/>
                    <a:ext cx="769464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146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920" y="2239920"/>
            <a:ext cx="1116360" cy="5806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6680" y="2263680"/>
            <a:ext cx="111636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11280" y="2205000"/>
            <a:ext cx="857880" cy="72252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0"/>
            <a:endCxn id="107" idx="0"/>
          </p:cNvCxnSpPr>
          <p:nvPr/>
        </p:nvCxnSpPr>
        <p:spPr>
          <a:xfrm flipH="1" rot="16200000">
            <a:off x="1741320" y="1469880"/>
            <a:ext cx="24480" cy="1545480"/>
          </a:xfrm>
          <a:prstGeom prst="bentConnector3">
            <a:avLst>
              <a:gd name="adj1" fmla="val -9194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2"/>
          </p:cNvCxnSpPr>
          <p:nvPr/>
        </p:nvCxnSpPr>
        <p:spPr>
          <a:xfrm flipH="1" rot="16200000">
            <a:off x="1740240" y="2088720"/>
            <a:ext cx="24840" cy="1545480"/>
          </a:xfrm>
          <a:prstGeom prst="bentConnector3">
            <a:avLst>
              <a:gd name="adj1" fmla="val 10191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950040" y="174312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03/224/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47840" y="31212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T-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7" idx="3"/>
            <a:endCxn id="108" idx="1"/>
          </p:cNvCxnSpPr>
          <p:nvPr/>
        </p:nvCxnSpPr>
        <p:spPr>
          <a:xfrm>
            <a:off x="3103200" y="2563560"/>
            <a:ext cx="10882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080760" y="2265480"/>
            <a:ext cx="117144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8" idx="3"/>
            <a:endCxn id="114" idx="1"/>
          </p:cNvCxnSpPr>
          <p:nvPr/>
        </p:nvCxnSpPr>
        <p:spPr>
          <a:xfrm flipV="1">
            <a:off x="5089680" y="2564640"/>
            <a:ext cx="970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7584480" y="2265480"/>
            <a:ext cx="1285560" cy="580680"/>
          </a:xfrm>
          <a:prstGeom prst="rect">
            <a:avLst/>
          </a:prstGeom>
          <a:solidFill>
            <a:srgbClr val="00e4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0"/>
            <a:endCxn id="116" idx="0"/>
          </p:cNvCxnSpPr>
          <p:nvPr/>
        </p:nvCxnSpPr>
        <p:spPr>
          <a:xfrm flipH="1" rot="16200000">
            <a:off x="7446600" y="1475280"/>
            <a:ext cx="2520" cy="15613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4" idx="2"/>
            <a:endCxn id="116" idx="2"/>
          </p:cNvCxnSpPr>
          <p:nvPr/>
        </p:nvCxnSpPr>
        <p:spPr>
          <a:xfrm flipH="1" rot="16200000">
            <a:off x="7446240" y="2095200"/>
            <a:ext cx="2160" cy="1561320"/>
          </a:xfrm>
          <a:prstGeom prst="bentConnector3">
            <a:avLst>
              <a:gd name="adj1" fmla="val 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59160" y="17193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88240" y="31194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50920" y="118440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96320" y="12556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78400" y="1494000"/>
            <a:ext cx="213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 Contro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360" y="3684600"/>
            <a:ext cx="3830760" cy="1089360"/>
          </a:xfrm>
          <a:prstGeom prst="wedgeRoundRectCallout">
            <a:avLst>
              <a:gd name="adj1" fmla="val -8018"/>
              <a:gd name="adj2" fmla="val -126245"/>
              <a:gd name="adj3" fmla="val 16667"/>
            </a:avLst>
          </a:prstGeom>
          <a:solidFill>
            <a:srgbClr val="f8fd2f"/>
          </a:solidFill>
          <a:ln w="19080">
            <a:solidFill>
              <a:srgbClr val="15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izable for each 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1560" y="5264280"/>
            <a:ext cx="729936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ing AP-238 is diffic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hundreds of integrate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M needs to create and link all of these defin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79400" y="76356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 millions of dolla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146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920" y="2584440"/>
            <a:ext cx="1116360" cy="5806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6680" y="2608200"/>
            <a:ext cx="111636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1280" y="2549520"/>
            <a:ext cx="857880" cy="72216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0"/>
            <a:endCxn id="129" idx="0"/>
          </p:cNvCxnSpPr>
          <p:nvPr/>
        </p:nvCxnSpPr>
        <p:spPr>
          <a:xfrm flipH="1" rot="16200000">
            <a:off x="1741320" y="1814400"/>
            <a:ext cx="24480" cy="1545480"/>
          </a:xfrm>
          <a:prstGeom prst="bentConnector3">
            <a:avLst>
              <a:gd name="adj1" fmla="val -9194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8" idx="2"/>
            <a:endCxn id="129" idx="2"/>
          </p:cNvCxnSpPr>
          <p:nvPr/>
        </p:nvCxnSpPr>
        <p:spPr>
          <a:xfrm flipH="1" rot="16200000">
            <a:off x="1740240" y="2433240"/>
            <a:ext cx="24840" cy="1545480"/>
          </a:xfrm>
          <a:prstGeom prst="bentConnector3">
            <a:avLst>
              <a:gd name="adj1" fmla="val 10191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950040" y="208764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03/224/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47840" y="34653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T-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9" idx="3"/>
            <a:endCxn id="130" idx="1"/>
          </p:cNvCxnSpPr>
          <p:nvPr/>
        </p:nvCxnSpPr>
        <p:spPr>
          <a:xfrm>
            <a:off x="3103200" y="2908440"/>
            <a:ext cx="108828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080760" y="2610000"/>
            <a:ext cx="117144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0" idx="3"/>
            <a:endCxn id="136" idx="1"/>
          </p:cNvCxnSpPr>
          <p:nvPr/>
        </p:nvCxnSpPr>
        <p:spPr>
          <a:xfrm flipV="1">
            <a:off x="5089680" y="2909520"/>
            <a:ext cx="970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584480" y="2610000"/>
            <a:ext cx="1285560" cy="580680"/>
          </a:xfrm>
          <a:prstGeom prst="rect">
            <a:avLst/>
          </a:prstGeom>
          <a:solidFill>
            <a:srgbClr val="00e4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0"/>
            <a:endCxn id="138" idx="0"/>
          </p:cNvCxnSpPr>
          <p:nvPr/>
        </p:nvCxnSpPr>
        <p:spPr>
          <a:xfrm flipH="1" rot="16200000">
            <a:off x="7446600" y="1819800"/>
            <a:ext cx="2520" cy="15613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6" idx="2"/>
            <a:endCxn id="138" idx="2"/>
          </p:cNvCxnSpPr>
          <p:nvPr/>
        </p:nvCxnSpPr>
        <p:spPr>
          <a:xfrm flipH="1" rot="16200000">
            <a:off x="7446240" y="2439720"/>
            <a:ext cx="2160" cy="1561320"/>
          </a:xfrm>
          <a:prstGeom prst="bentConnector3">
            <a:avLst>
              <a:gd name="adj1" fmla="val 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6959160" y="20638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8240" y="346392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50920" y="15289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6320" y="1600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78400" y="1838160"/>
            <a:ext cx="213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C Contro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16000" y="3859200"/>
            <a:ext cx="3094920" cy="1089360"/>
          </a:xfrm>
          <a:prstGeom prst="wedgeRoundRectCallout">
            <a:avLst>
              <a:gd name="adj1" fmla="val -8527"/>
              <a:gd name="adj2" fmla="val -124657"/>
              <a:gd name="adj3" fmla="val 16667"/>
            </a:avLst>
          </a:prstGeom>
          <a:solidFill>
            <a:srgbClr val="f8fd2f"/>
          </a:solidFill>
          <a:ln w="19080">
            <a:solidFill>
              <a:srgbClr val="15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mental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 and ori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1360" y="9414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tandard for Nano-Machi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71560" y="5264280"/>
            <a:ext cx="66898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AP-238 is diffic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must find and validate the data it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nstance can have its own units and orig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657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29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has many benefits for planning and mach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ing AP-238 has been a problem because of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lass libraries make implementation much eas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libraries can be customized to a 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libraries validate and provide consistent interface for a CN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52960" y="2987640"/>
            <a:ext cx="2752560" cy="8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hardwick</cp:lastModifiedBy>
  <cp:lastPrinted>1996-02-28T13:41:35Z</cp:lastPrinted>
  <dcterms:modified xsi:type="dcterms:W3CDTF">2004-10-06T22:43:35Z</dcterms:modified>
  <cp:revision>932</cp:revision>
  <dc:subject/>
  <dc:title>STEP-NC: Digital Manufacturing using STEP</dc:title>
</cp:coreProperties>
</file>