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8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1688760"/>
            <a:ext cx="845964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3985920"/>
            <a:ext cx="845964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168876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480" y="168876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398592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1688760"/>
            <a:ext cx="272376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920" y="1688760"/>
            <a:ext cx="272376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480" y="1688760"/>
            <a:ext cx="272376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3985920"/>
            <a:ext cx="272376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920" y="3985920"/>
            <a:ext cx="272376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480" y="3985920"/>
            <a:ext cx="272376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42720" y="1688760"/>
            <a:ext cx="84596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1688760"/>
            <a:ext cx="84596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1688760"/>
            <a:ext cx="4128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7480" y="1688760"/>
            <a:ext cx="4128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55320" y="279360"/>
            <a:ext cx="8459640" cy="59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168876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480" y="1688760"/>
            <a:ext cx="4128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42720" y="398592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1688760"/>
            <a:ext cx="84596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1688760"/>
            <a:ext cx="4128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480" y="168876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168876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480" y="168876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2720" y="3985920"/>
            <a:ext cx="845964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1688760"/>
            <a:ext cx="845964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42720" y="3985920"/>
            <a:ext cx="845964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168876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480" y="168876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2720" y="398592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1688760"/>
            <a:ext cx="272376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02920" y="1688760"/>
            <a:ext cx="272376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3480" y="1688760"/>
            <a:ext cx="272376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42720" y="3985920"/>
            <a:ext cx="272376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02920" y="3985920"/>
            <a:ext cx="272376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3480" y="3985920"/>
            <a:ext cx="272376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688760"/>
            <a:ext cx="84596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1688760"/>
            <a:ext cx="4128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480" y="1688760"/>
            <a:ext cx="4128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5320" y="279360"/>
            <a:ext cx="8459640" cy="59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168876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480" y="1688760"/>
            <a:ext cx="4128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398592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1688760"/>
            <a:ext cx="4128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480" y="168876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168876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480" y="1688760"/>
            <a:ext cx="412812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3985920"/>
            <a:ext cx="8459640" cy="20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320" y="279360"/>
            <a:ext cx="8459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8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688760"/>
            <a:ext cx="84596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94920" indent="-282600">
              <a:lnSpc>
                <a:spcPct val="95000"/>
              </a:lnSpc>
              <a:spcBef>
                <a:spcPts val="1874"/>
              </a:spcBef>
              <a:buClr>
                <a:srgbClr val="00488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271800">
              <a:lnSpc>
                <a:spcPct val="95000"/>
              </a:lnSpc>
              <a:spcBef>
                <a:spcPts val="1874"/>
              </a:spcBef>
              <a:buClr>
                <a:srgbClr val="0048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30480" indent="-278280">
              <a:lnSpc>
                <a:spcPct val="95000"/>
              </a:lnSpc>
              <a:spcBef>
                <a:spcPts val="1874"/>
              </a:spcBef>
              <a:buClr>
                <a:srgbClr val="00488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25400" indent="-282600">
              <a:lnSpc>
                <a:spcPct val="95000"/>
              </a:lnSpc>
              <a:spcBef>
                <a:spcPts val="1874"/>
              </a:spcBef>
              <a:buClr>
                <a:srgbClr val="00488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25400" indent="-282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25400" indent="-282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156440" y="6294600"/>
            <a:ext cx="1644840" cy="406080"/>
          </a:xfrm>
          <a:prstGeom prst="rect">
            <a:avLst/>
          </a:prstGeom>
          <a:ln w="0">
            <a:noFill/>
          </a:ln>
        </p:spPr>
      </p:pic>
      <p:pic>
        <p:nvPicPr>
          <p:cNvPr id="4" name="gelogo" descr=""/>
          <p:cNvPicPr/>
          <p:nvPr/>
        </p:nvPicPr>
        <p:blipFill>
          <a:blip r:embed="rId3"/>
          <a:stretch/>
        </p:blipFill>
        <p:spPr>
          <a:xfrm>
            <a:off x="338040" y="6302520"/>
            <a:ext cx="854280" cy="4269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187800" y="6629400"/>
            <a:ext cx="273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Arial"/>
              </a:rPr>
              <a:t>© 2004 GE Fanuc Automation  All rights reserve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4440" y="4743000"/>
            <a:ext cx="850428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8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8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403200" indent="176400" algn="ctr">
              <a:lnSpc>
                <a:spcPct val="95000"/>
              </a:lnSpc>
              <a:spcBef>
                <a:spcPts val="700"/>
              </a:spcBef>
              <a:buClr>
                <a:srgbClr val="0048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795240" indent="176400" algn="ctr">
              <a:lnSpc>
                <a:spcPct val="95000"/>
              </a:lnSpc>
              <a:spcBef>
                <a:spcPts val="349"/>
              </a:spcBef>
              <a:buClr>
                <a:srgbClr val="00488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084320" indent="285840" algn="ctr">
              <a:lnSpc>
                <a:spcPct val="95000"/>
              </a:lnSpc>
              <a:spcBef>
                <a:spcPts val="1400"/>
              </a:spcBef>
              <a:buClr>
                <a:srgbClr val="00488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084320" indent="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084320" indent="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51480" y="0"/>
            <a:ext cx="4592520" cy="6400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20" y="861840"/>
            <a:ext cx="62802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n Manufacturing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94cad"/>
                </a:solidFill>
                <a:latin typeface="Arial"/>
                <a:ea typeface="Times New Roman"/>
              </a:rPr>
              <a:t>“</a:t>
            </a:r>
            <a:r>
              <a:rPr b="0" i="1" lang="en-US" sz="1800" spc="-1" strike="noStrike">
                <a:solidFill>
                  <a:srgbClr val="094cad"/>
                </a:solidFill>
                <a:latin typeface="Arial"/>
                <a:ea typeface="Times New Roman"/>
              </a:rPr>
              <a:t>New Technology for Faster Planning and Faste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chin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94cad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94cad"/>
                </a:solidFill>
                <a:latin typeface="Arial"/>
              </a:rPr>
              <a:t>How our CNC supports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 Fanu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im Spear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gelogo" descr=""/>
          <p:cNvPicPr/>
          <p:nvPr/>
        </p:nvPicPr>
        <p:blipFill>
          <a:blip r:embed="rId2"/>
          <a:stretch/>
        </p:blipFill>
        <p:spPr>
          <a:xfrm>
            <a:off x="974880" y="2849400"/>
            <a:ext cx="853920" cy="427320"/>
          </a:xfrm>
          <a:prstGeom prst="rect">
            <a:avLst/>
          </a:prstGeom>
          <a:ln w="0">
            <a:noFill/>
          </a:ln>
        </p:spPr>
      </p:pic>
      <p:pic>
        <p:nvPicPr>
          <p:cNvPr id="83" name="F30i" descr=""/>
          <p:cNvPicPr/>
          <p:nvPr/>
        </p:nvPicPr>
        <p:blipFill>
          <a:blip r:embed="rId3"/>
          <a:stretch/>
        </p:blipFill>
        <p:spPr>
          <a:xfrm>
            <a:off x="1905120" y="3381480"/>
            <a:ext cx="18381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63972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94cad"/>
                </a:solidFill>
                <a:latin typeface="Arial"/>
              </a:rPr>
              <a:t>Case Study at Bo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FactoryIT" descr=""/>
          <p:cNvPicPr/>
          <p:nvPr/>
        </p:nvPicPr>
        <p:blipFill>
          <a:blip r:embed="rId1"/>
          <a:srcRect l="10390" t="0" r="6592" b="0"/>
          <a:stretch/>
        </p:blipFill>
        <p:spPr>
          <a:xfrm>
            <a:off x="6095880" y="3276720"/>
            <a:ext cx="3048120" cy="2871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0984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k63008" descr="Boeing 7E7 in ANA livery"/>
          <p:cNvPicPr/>
          <p:nvPr/>
        </p:nvPicPr>
        <p:blipFill>
          <a:blip r:embed="rId2"/>
          <a:stretch/>
        </p:blipFill>
        <p:spPr>
          <a:xfrm>
            <a:off x="1162080" y="1533600"/>
            <a:ext cx="4324320" cy="3343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62360" y="5191200"/>
            <a:ext cx="1828800" cy="6094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38480" y="685800"/>
            <a:ext cx="5029200" cy="4475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720" y="76320"/>
            <a:ext cx="82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94cad"/>
                </a:solidFill>
                <a:latin typeface="Arial"/>
              </a:rPr>
              <a:t>Prototype Model to support CATIA V5 – GE Fanuc 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1085760"/>
            <a:ext cx="3657600" cy="2714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8000" y="609480"/>
            <a:ext cx="3621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pports Boeing’s concept on CATIA V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223600">
            <a:off x="1980720" y="2590560"/>
            <a:ext cx="1828800" cy="1371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11760" y="5257800"/>
            <a:ext cx="146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code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67160" y="4481640"/>
            <a:ext cx="0" cy="1023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57800" y="550548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0040" y="452448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550548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2080" y="451476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77040" y="451476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495680"/>
            <a:ext cx="2192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0680" y="4929120"/>
            <a:ext cx="1681200" cy="176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72200" y="4937040"/>
            <a:ext cx="144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Part Verification Record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05960" y="51912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6400" y="39625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1752480"/>
            <a:ext cx="29718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1080" y="1828800"/>
            <a:ext cx="24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IA V5 Enovia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514600"/>
            <a:ext cx="2971800" cy="609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51880" y="2530440"/>
            <a:ext cx="227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238 Format Conve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429000"/>
            <a:ext cx="29718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33600" y="3530520"/>
            <a:ext cx="210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NC G code Conve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267080"/>
            <a:ext cx="29718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66920" y="4368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300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2209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31240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39625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2514600"/>
            <a:ext cx="2895480" cy="609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9080" y="2530440"/>
            <a:ext cx="181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other STEP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oling etc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36576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562720" y="31240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FS30i" descr=""/>
          <p:cNvPicPr/>
          <p:nvPr/>
        </p:nvPicPr>
        <p:blipFill>
          <a:blip r:embed="rId1"/>
          <a:stretch/>
        </p:blipFill>
        <p:spPr>
          <a:xfrm>
            <a:off x="1917720" y="4311720"/>
            <a:ext cx="291960" cy="450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80440" y="609480"/>
            <a:ext cx="55832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1) Create Part Program Generator (Demonstrated at IMTS 200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boration with Boeing, MR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&amp;D develops G code Converter (Part Program Generat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 provided systems to test proper part program exe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1920" y="4876920"/>
            <a:ext cx="79498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2) Relationship with CAM vendor’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ibbs visited Fanuc, Japan to discuss to support requirements and future direction (Ju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ster CAM has established relationship and participated  at Fanuc in-house show (Apr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20" y="76320"/>
            <a:ext cx="82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94cad"/>
                </a:solidFill>
                <a:latin typeface="Arial"/>
              </a:rPr>
              <a:t>Prototype Model to support CATIA V5 – GE Fanuc 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94cad"/>
                </a:solidFill>
                <a:latin typeface="Arial"/>
              </a:rPr>
              <a:t>STEP-NC Implementation with </a:t>
            </a:r>
            <a:r>
              <a:rPr b="1" i="1" lang="en-US" sz="2000" spc="-1" strike="noStrike" u="sng">
                <a:solidFill>
                  <a:srgbClr val="094cad"/>
                </a:solidFill>
                <a:uFillTx/>
                <a:latin typeface="Arial"/>
              </a:rPr>
              <a:t>Tool Center Point (TCP)</a:t>
            </a:r>
            <a:r>
              <a:rPr b="1" i="1" lang="en-US" sz="2000" spc="-1" strike="noStrike">
                <a:solidFill>
                  <a:srgbClr val="094cad"/>
                </a:solidFill>
                <a:latin typeface="Arial"/>
              </a:rPr>
              <a:t> Programm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94cad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i="1" lang="en-US" sz="2000" spc="-1" strike="noStrike">
                <a:solidFill>
                  <a:srgbClr val="094cad"/>
                </a:solidFill>
                <a:latin typeface="Arial"/>
              </a:rPr>
              <a:t>at IMTS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305400" y="1143000"/>
          <a:ext cx="2305080" cy="18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143000"/>
                    <a:ext cx="2305080" cy="18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307200" y="3352680"/>
          <a:ext cx="23032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7200" y="3352680"/>
                    <a:ext cx="23032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52280" y="68580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 Fanuc F30i series suppor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 Compensations at 5 axes mach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8600" y="1447920"/>
            <a:ext cx="47142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pports Machining in all r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5400">
              <a:lnSpc>
                <a:spcPct val="120000"/>
              </a:lnSpc>
              <a:buSzPct val="102950"/>
              <a:buBlip>
                <a:blip r:embed="rId5"/>
              </a:buBlip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488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4880"/>
                </a:solidFill>
                <a:latin typeface="Arial"/>
              </a:rPr>
              <a:t>Part Compensation for Reduced Setup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5400">
              <a:lnSpc>
                <a:spcPct val="120000"/>
              </a:lnSpc>
              <a:buSzPct val="102950"/>
              <a:buBlip>
                <a:blip r:embed="rId6"/>
              </a:buBlip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488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4880"/>
                </a:solidFill>
                <a:latin typeface="Arial"/>
              </a:rPr>
              <a:t>Manual Feed for Reduced Setup &amp; Minor Stoppa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5400">
              <a:lnSpc>
                <a:spcPct val="120000"/>
              </a:lnSpc>
              <a:buSzPct val="102950"/>
              <a:buBlip>
                <a:blip r:embed="rId7"/>
              </a:buBlip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488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4880"/>
                </a:solidFill>
                <a:latin typeface="Arial"/>
              </a:rPr>
              <a:t>Eliminate Stoppages &amp; Program Re-Wr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5400">
              <a:lnSpc>
                <a:spcPct val="120000"/>
              </a:lnSpc>
              <a:buSzPct val="102950"/>
              <a:buBlip>
                <a:blip r:embed="rId8"/>
              </a:buBlip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488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4880"/>
                </a:solidFill>
                <a:latin typeface="Arial"/>
              </a:rPr>
              <a:t>Enhanced Speed with 5-Sided Mach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0960" y="3048120"/>
            <a:ext cx="1770120" cy="1209600"/>
            <a:chOff x="210960" y="3048120"/>
            <a:chExt cx="1770120" cy="1209600"/>
          </a:xfrm>
        </p:grpSpPr>
        <p:pic>
          <p:nvPicPr>
            <p:cNvPr id="133" name="" descr=""/>
            <p:cNvPicPr/>
            <p:nvPr/>
          </p:nvPicPr>
          <p:blipFill>
            <a:blip r:embed="rId9"/>
            <a:stretch/>
          </p:blipFill>
          <p:spPr>
            <a:xfrm>
              <a:off x="210960" y="3048120"/>
              <a:ext cx="1770120" cy="12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49200" y="4133880"/>
              <a:ext cx="1589040" cy="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65120" y="3447360"/>
              <a:ext cx="1132560" cy="46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423" y="15703"/>
                  </a:moveTo>
                  <a:arcTo wR="10800" hR="10800" stAng="1620049" swAng="70072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423" y="15703"/>
                  </a:moveTo>
                  <a:arcTo wR="10800" hR="10800" stAng="1620049" swAng="7007208"/>
                </a:path>
              </a:pathLst>
            </a:custGeom>
            <a:noFill/>
            <a:ln w="284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5680" y="4146480"/>
              <a:ext cx="1461960" cy="1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133720" y="3048120"/>
            <a:ext cx="2089080" cy="1179360"/>
            <a:chOff x="2133720" y="3048120"/>
            <a:chExt cx="2089080" cy="1179360"/>
          </a:xfrm>
        </p:grpSpPr>
        <p:pic>
          <p:nvPicPr>
            <p:cNvPr id="138" name="" descr=""/>
            <p:cNvPicPr/>
            <p:nvPr/>
          </p:nvPicPr>
          <p:blipFill>
            <a:blip r:embed="rId10"/>
            <a:stretch/>
          </p:blipFill>
          <p:spPr>
            <a:xfrm>
              <a:off x="2133720" y="3048120"/>
              <a:ext cx="208908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685960" y="3587760"/>
              <a:ext cx="96480" cy="6192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1" y="40"/>
                  </a:moveTo>
                  <a:lnTo>
                    <a:pt x="65" y="32"/>
                  </a:lnTo>
                  <a:lnTo>
                    <a:pt x="4" y="0"/>
                  </a:lnTo>
                  <a:lnTo>
                    <a:pt x="0" y="10"/>
                  </a:lnTo>
                  <a:lnTo>
                    <a:pt x="61" y="4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16120" y="3557880"/>
              <a:ext cx="83880" cy="601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56" y="9"/>
                  </a:moveTo>
                  <a:lnTo>
                    <a:pt x="0" y="0"/>
                  </a:lnTo>
                  <a:lnTo>
                    <a:pt x="41" y="39"/>
                  </a:lnTo>
                  <a:lnTo>
                    <a:pt x="56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4800" y="3589560"/>
              <a:ext cx="99720" cy="6984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0" y="35"/>
                  </a:moveTo>
                  <a:lnTo>
                    <a:pt x="6" y="45"/>
                  </a:lnTo>
                  <a:lnTo>
                    <a:pt x="67" y="10"/>
                  </a:lnTo>
                  <a:lnTo>
                    <a:pt x="61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55800" y="3557880"/>
              <a:ext cx="83880" cy="68040"/>
            </a:xfrm>
            <a:custGeom>
              <a:avLst/>
              <a:gdLst/>
              <a:ahLst/>
              <a:rect l="l" t="t" r="r" b="b"/>
              <a:pathLst>
                <a:path w="56" h="44">
                  <a:moveTo>
                    <a:pt x="17" y="44"/>
                  </a:moveTo>
                  <a:lnTo>
                    <a:pt x="56" y="0"/>
                  </a:lnTo>
                  <a:lnTo>
                    <a:pt x="0" y="13"/>
                  </a:lnTo>
                  <a:lnTo>
                    <a:pt x="17" y="4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24040" y="3269880"/>
              <a:ext cx="1102320" cy="65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57" y="9837"/>
                  </a:moveTo>
                  <a:arcTo wR="10800" hR="10800" stAng="-306793" swAng="1157184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57" y="9837"/>
                  </a:moveTo>
                  <a:arcTo wR="10800" hR="10800" stAng="-306793" swAng="11571842"/>
                </a:path>
              </a:pathLst>
            </a:custGeom>
            <a:noFill/>
            <a:ln w="284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93960" y="3530880"/>
              <a:ext cx="816840" cy="27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5" y="8212"/>
                  </a:moveTo>
                  <a:arcTo wR="10800" hR="10800" stAng="-831987" swAng="12646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5" y="8212"/>
                  </a:moveTo>
                  <a:arcTo wR="10800" hR="10800" stAng="-831987" swAng="12646048"/>
                </a:path>
              </a:pathLst>
            </a:custGeom>
            <a:noFill/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635200" y="3056040"/>
              <a:ext cx="304200" cy="5032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3387240" y="3062520"/>
              <a:ext cx="340920" cy="5270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343400" y="3058200"/>
            <a:ext cx="1548360" cy="1183320"/>
            <a:chOff x="4343400" y="3058200"/>
            <a:chExt cx="1548360" cy="1183320"/>
          </a:xfrm>
        </p:grpSpPr>
        <p:sp>
          <p:nvSpPr>
            <p:cNvPr id="148" name=""/>
            <p:cNvSpPr/>
            <p:nvPr/>
          </p:nvSpPr>
          <p:spPr>
            <a:xfrm>
              <a:off x="4635360" y="3332880"/>
              <a:ext cx="780480" cy="344160"/>
            </a:xfrm>
            <a:prstGeom prst="diamond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400" y="3504600"/>
              <a:ext cx="682920" cy="691920"/>
            </a:xfrm>
            <a:custGeom>
              <a:avLst/>
              <a:gdLst/>
              <a:ahLst/>
              <a:rect l="l" t="t" r="r" b="b"/>
              <a:pathLst>
                <a:path w="1509" h="1537">
                  <a:moveTo>
                    <a:pt x="637" y="0"/>
                  </a:moveTo>
                  <a:lnTo>
                    <a:pt x="0" y="782"/>
                  </a:lnTo>
                  <a:lnTo>
                    <a:pt x="1491" y="1537"/>
                  </a:lnTo>
                  <a:lnTo>
                    <a:pt x="1509" y="382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17320" y="3504600"/>
              <a:ext cx="764640" cy="687600"/>
            </a:xfrm>
            <a:custGeom>
              <a:avLst/>
              <a:gdLst/>
              <a:ahLst/>
              <a:rect l="l" t="t" r="r" b="b"/>
              <a:pathLst>
                <a:path w="1691" h="1528">
                  <a:moveTo>
                    <a:pt x="18" y="373"/>
                  </a:moveTo>
                  <a:lnTo>
                    <a:pt x="0" y="1528"/>
                  </a:lnTo>
                  <a:lnTo>
                    <a:pt x="1691" y="691"/>
                  </a:lnTo>
                  <a:lnTo>
                    <a:pt x="882" y="0"/>
                  </a:lnTo>
                  <a:lnTo>
                    <a:pt x="18" y="373"/>
                  </a:lnTo>
                  <a:close/>
                </a:path>
              </a:pathLst>
            </a:custGeom>
            <a:solidFill>
              <a:srgbClr val="00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8750600">
              <a:off x="5439240" y="3144600"/>
              <a:ext cx="172440" cy="835200"/>
            </a:xfrm>
            <a:custGeom>
              <a:avLst/>
              <a:gdLst>
                <a:gd name="textAreaLeft" fmla="*/ 25200 w 172440"/>
                <a:gd name="textAreaRight" fmla="*/ 147240 w 172440"/>
                <a:gd name="textAreaTop" fmla="*/ 25200 h 835200"/>
                <a:gd name="textAreaBottom" fmla="*/ 810000 h 835200"/>
              </a:gdLst>
              <a:ahLst/>
              <a:rect l="textAreaLeft" t="textAreaTop" r="textAreaRight" b="textAreaBottom"/>
              <a:pathLst>
                <a:path w="21600" h="104445">
                  <a:moveTo>
                    <a:pt x="10800" y="0"/>
                  </a:moveTo>
                  <a:arcTo wR="10800" hR="10800" stAng="16200000" swAng="-5400000"/>
                  <a:lnTo>
                    <a:pt x="0" y="93645"/>
                  </a:lnTo>
                  <a:arcTo wR="10800" hR="10800" stAng="10800000" swAng="-5400000"/>
                  <a:lnTo>
                    <a:pt x="10800" y="10444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8750600">
              <a:off x="5097960" y="3101400"/>
              <a:ext cx="257400" cy="317880"/>
            </a:xfrm>
            <a:prstGeom prst="can">
              <a:avLst>
                <a:gd name="adj" fmla="val 41430"/>
              </a:avLst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134200">
              <a:off x="5188320" y="3234960"/>
              <a:ext cx="172080" cy="832320"/>
            </a:xfrm>
            <a:custGeom>
              <a:avLst/>
              <a:gdLst>
                <a:gd name="textAreaLeft" fmla="*/ 25200 w 172080"/>
                <a:gd name="textAreaRight" fmla="*/ 146880 w 172080"/>
                <a:gd name="textAreaTop" fmla="*/ 25200 h 832320"/>
                <a:gd name="textAreaBottom" fmla="*/ 807120 h 832320"/>
              </a:gdLst>
              <a:ahLst/>
              <a:rect l="textAreaLeft" t="textAreaTop" r="textAreaRight" b="textAreaBottom"/>
              <a:pathLst>
                <a:path w="21600" h="104302">
                  <a:moveTo>
                    <a:pt x="10800" y="0"/>
                  </a:moveTo>
                  <a:arcTo wR="10800" hR="10800" stAng="16200000" swAng="-5400000"/>
                  <a:lnTo>
                    <a:pt x="0" y="93502"/>
                  </a:lnTo>
                  <a:arcTo wR="10800" hR="10800" stAng="10800000" swAng="-5400000"/>
                  <a:lnTo>
                    <a:pt x="10800" y="10430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134200">
              <a:off x="4993920" y="3124080"/>
              <a:ext cx="258480" cy="313920"/>
            </a:xfrm>
            <a:prstGeom prst="can">
              <a:avLst>
                <a:gd name="adj" fmla="val 41430"/>
              </a:avLst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51440" y="3409200"/>
              <a:ext cx="172080" cy="832320"/>
            </a:xfrm>
            <a:custGeom>
              <a:avLst/>
              <a:gdLst>
                <a:gd name="textAreaLeft" fmla="*/ 25200 w 172080"/>
                <a:gd name="textAreaRight" fmla="*/ 146880 w 172080"/>
                <a:gd name="textAreaTop" fmla="*/ 25200 h 832320"/>
                <a:gd name="textAreaBottom" fmla="*/ 807120 h 832320"/>
              </a:gdLst>
              <a:ahLst/>
              <a:rect l="textAreaLeft" t="textAreaTop" r="textAreaRight" b="textAreaBottom"/>
              <a:pathLst>
                <a:path w="21600" h="104302">
                  <a:moveTo>
                    <a:pt x="10800" y="0"/>
                  </a:moveTo>
                  <a:arcTo wR="10800" hR="10800" stAng="16200000" swAng="-5400000"/>
                  <a:lnTo>
                    <a:pt x="0" y="93502"/>
                  </a:lnTo>
                  <a:arcTo wR="10800" hR="10800" stAng="10800000" swAng="-5400000"/>
                  <a:lnTo>
                    <a:pt x="10800" y="10430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11120" y="3263040"/>
              <a:ext cx="259560" cy="313920"/>
            </a:xfrm>
            <a:prstGeom prst="can">
              <a:avLst>
                <a:gd name="adj" fmla="val 41430"/>
              </a:avLst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046480" y="3819600"/>
              <a:ext cx="744480" cy="36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046480" y="3497040"/>
              <a:ext cx="0" cy="69444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5144400" y="3323520"/>
              <a:ext cx="291960" cy="66312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5252400" y="3323160"/>
              <a:ext cx="542880" cy="49716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52280" y="4572000"/>
            <a:ext cx="482292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imize full compensation features for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110000"/>
              </a:lnSpc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Supports STEP programmed 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110000"/>
              </a:lnSpc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ordinate with CAM to support GE Fanuc TCP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945520" y="1219320"/>
            <a:ext cx="306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93c3"/>
                </a:solidFill>
                <a:latin typeface="Comic Sans MS"/>
              </a:rPr>
              <a:t>CATIA V5 CAD/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676520"/>
            <a:ext cx="7975800" cy="1600200"/>
          </a:xfrm>
          <a:prstGeom prst="rect">
            <a:avLst/>
          </a:prstGeom>
          <a:solidFill>
            <a:srgbClr val="0048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94cad"/>
                </a:solidFill>
                <a:latin typeface="Arial"/>
              </a:rPr>
              <a:t>STEP-NC Implementation with </a:t>
            </a:r>
            <a:r>
              <a:rPr b="1" i="1" lang="en-US" sz="2000" spc="-1" strike="noStrike" u="sng">
                <a:solidFill>
                  <a:srgbClr val="094cad"/>
                </a:solidFill>
                <a:uFillTx/>
                <a:latin typeface="Arial"/>
              </a:rPr>
              <a:t>Tool Center Point (TCP)</a:t>
            </a:r>
            <a:r>
              <a:rPr b="1" i="1" lang="en-US" sz="2000" spc="-1" strike="noStrike">
                <a:solidFill>
                  <a:srgbClr val="094cad"/>
                </a:solidFill>
                <a:latin typeface="Arial"/>
              </a:rPr>
              <a:t> Programm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94cad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i="1" lang="en-US" sz="2000" spc="-1" strike="noStrike">
                <a:solidFill>
                  <a:srgbClr val="094cad"/>
                </a:solidFill>
                <a:latin typeface="Arial"/>
              </a:rPr>
              <a:t>at IMTS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419720"/>
            <a:ext cx="66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4343400"/>
            <a:ext cx="152424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-Fanuc 30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2209680"/>
            <a:ext cx="11430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sig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orkbe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2666880"/>
            <a:ext cx="838440" cy="0"/>
          </a:xfrm>
          <a:prstGeom prst="line">
            <a:avLst/>
          </a:prstGeom>
          <a:ln w="28440">
            <a:solidFill>
              <a:srgbClr val="fa5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213372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09120" y="3657600"/>
            <a:ext cx="8077320" cy="0"/>
          </a:xfrm>
          <a:prstGeom prst="line">
            <a:avLst/>
          </a:prstGeom>
          <a:ln w="28440">
            <a:solidFill>
              <a:srgbClr val="fa5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09480" y="3657600"/>
            <a:ext cx="1016280" cy="1760400"/>
            <a:chOff x="609480" y="3657600"/>
            <a:chExt cx="1016280" cy="1760400"/>
          </a:xfrm>
        </p:grpSpPr>
        <p:sp>
          <p:nvSpPr>
            <p:cNvPr id="172" name=""/>
            <p:cNvSpPr/>
            <p:nvPr/>
          </p:nvSpPr>
          <p:spPr>
            <a:xfrm>
              <a:off x="609480" y="3657600"/>
              <a:ext cx="0" cy="1186200"/>
            </a:xfrm>
            <a:prstGeom prst="line">
              <a:avLst/>
            </a:prstGeom>
            <a:ln w="28440">
              <a:solidFill>
                <a:srgbClr val="fa5b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9480" y="4843800"/>
              <a:ext cx="1016280" cy="0"/>
            </a:xfrm>
            <a:prstGeom prst="line">
              <a:avLst/>
            </a:prstGeom>
            <a:ln w="28440">
              <a:solidFill>
                <a:srgbClr val="fa5b4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87480" y="4593960"/>
              <a:ext cx="637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8686800" y="2590920"/>
            <a:ext cx="0" cy="1092240"/>
          </a:xfrm>
          <a:prstGeom prst="line">
            <a:avLst/>
          </a:prstGeom>
          <a:ln w="28440">
            <a:solidFill>
              <a:srgbClr val="fa5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590920"/>
            <a:ext cx="1905120" cy="0"/>
          </a:xfrm>
          <a:prstGeom prst="line">
            <a:avLst/>
          </a:prstGeom>
          <a:ln w="28440">
            <a:solidFill>
              <a:srgbClr val="fa5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2209680"/>
            <a:ext cx="11430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achi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orkbe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209680"/>
            <a:ext cx="11430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sig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orkbe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2133720"/>
            <a:ext cx="100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2666880"/>
            <a:ext cx="965160" cy="0"/>
          </a:xfrm>
          <a:prstGeom prst="line">
            <a:avLst/>
          </a:prstGeom>
          <a:ln w="28440">
            <a:solidFill>
              <a:srgbClr val="fa5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4876920"/>
            <a:ext cx="990360" cy="0"/>
          </a:xfrm>
          <a:prstGeom prst="line">
            <a:avLst/>
          </a:prstGeom>
          <a:ln w="28440">
            <a:solidFill>
              <a:srgbClr val="fa5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4343400"/>
            <a:ext cx="1498680" cy="1054080"/>
          </a:xfrm>
          <a:prstGeom prst="rect">
            <a:avLst/>
          </a:prstGeom>
          <a:solidFill>
            <a:srgbClr val="ffffff"/>
          </a:solidFill>
          <a:ln w="2844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 TO AP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2057400"/>
            <a:ext cx="100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4343400"/>
            <a:ext cx="1498320" cy="1054080"/>
          </a:xfrm>
          <a:prstGeom prst="rect">
            <a:avLst/>
          </a:prstGeom>
          <a:solidFill>
            <a:srgbClr val="ffffff"/>
          </a:solidFill>
          <a:ln w="2844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238 TO 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4876920"/>
            <a:ext cx="838440" cy="0"/>
          </a:xfrm>
          <a:prstGeom prst="line">
            <a:avLst/>
          </a:prstGeom>
          <a:ln w="28440">
            <a:solidFill>
              <a:srgbClr val="fa5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434340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P2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91500332" descr=""/>
          <p:cNvPicPr/>
          <p:nvPr/>
        </p:nvPicPr>
        <p:blipFill>
          <a:blip r:embed="rId1"/>
          <a:stretch/>
        </p:blipFill>
        <p:spPr>
          <a:xfrm>
            <a:off x="3581280" y="2798640"/>
            <a:ext cx="3962520" cy="2973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928800"/>
            <a:ext cx="2938680" cy="49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1(CONVERTED FROM STEP AP238 XML FI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2(A0024007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3G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4T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5M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6(***************************************************************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7(OPER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8(ROUG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9(2 X 0.01 X 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10(***************************************************************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11(TRUE CUTTER/2.00 0.01 0 0 0 0 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12(PPTOL /     0.0010,    0.01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13F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14G43.5X-1.0Y8.2Z1.0H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15F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16Z-0.9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17F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28X-3.7Y-4.6185R7.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29G43.5Y-6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34X-13.6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35G02X-16.03Y0.0R7.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36X-14.3Y4.6185R7.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1548F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1549Z1.0I0J0K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1550M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94cad"/>
                </a:solidFill>
                <a:latin typeface="Arial"/>
              </a:rPr>
              <a:t>STEP-NC Implementation with </a:t>
            </a:r>
            <a:r>
              <a:rPr b="1" i="1" lang="en-US" sz="2000" spc="-1" strike="noStrike" u="sng">
                <a:solidFill>
                  <a:srgbClr val="094cad"/>
                </a:solidFill>
                <a:uFillTx/>
                <a:latin typeface="Arial"/>
              </a:rPr>
              <a:t>Tool Center Point (TCP)</a:t>
            </a:r>
            <a:r>
              <a:rPr b="1" i="1" lang="en-US" sz="2000" spc="-1" strike="noStrike">
                <a:solidFill>
                  <a:srgbClr val="094cad"/>
                </a:solidFill>
                <a:latin typeface="Arial"/>
              </a:rPr>
              <a:t> Programm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94cad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i="1" lang="en-US" sz="2000" spc="-1" strike="noStrike">
                <a:solidFill>
                  <a:srgbClr val="094cad"/>
                </a:solidFill>
                <a:latin typeface="Arial"/>
              </a:rPr>
              <a:t>at IMTS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400" y="685800"/>
            <a:ext cx="164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ctual Output Ex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2240" y="990720"/>
            <a:ext cx="475128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94cad"/>
                </a:solidFill>
                <a:uFillTx/>
                <a:latin typeface="Arial"/>
              </a:rPr>
              <a:t>Advantages of GE Fanuc solution to suppor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vailable for legacy GE Fanuc Control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an apply GE Fanuc latest CNC Technology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peed Machining Technolog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Compensations / interpo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NC / CAM ( or converter ) Seamless conn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714920" y="0"/>
            <a:ext cx="4429080" cy="61722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-567000" y="645840"/>
            <a:ext cx="5371920" cy="4385520"/>
            <a:chOff x="-567000" y="645840"/>
            <a:chExt cx="5371920" cy="4385520"/>
          </a:xfrm>
        </p:grpSpPr>
        <p:sp>
          <p:nvSpPr>
            <p:cNvPr id="194" name=""/>
            <p:cNvSpPr/>
            <p:nvPr/>
          </p:nvSpPr>
          <p:spPr>
            <a:xfrm>
              <a:off x="607680" y="1598760"/>
              <a:ext cx="3927600" cy="287352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99"/>
                </a:gs>
              </a:gsLst>
              <a:lin ang="5400000"/>
            </a:gra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0171400">
              <a:off x="-26280" y="1578240"/>
              <a:ext cx="2203200" cy="31420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0" spc="-1" strike="noStrike">
                  <a:solidFill>
                    <a:srgbClr val="ffff99"/>
                  </a:solidFill>
                  <a:latin typeface="Arial Black"/>
                </a:rPr>
                <a:t>Q</a:t>
              </a:r>
              <a:endParaRPr b="0" lang="en-US" sz="2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4330440" y="3927600"/>
              <a:ext cx="474480" cy="409680"/>
              <a:chOff x="4330440" y="3927600"/>
              <a:chExt cx="474480" cy="409680"/>
            </a:xfrm>
          </p:grpSpPr>
          <p:sp>
            <p:nvSpPr>
              <p:cNvPr id="197" name=""/>
              <p:cNvSpPr/>
              <p:nvPr/>
            </p:nvSpPr>
            <p:spPr>
              <a:xfrm>
                <a:off x="4330440" y="3927600"/>
                <a:ext cx="474480" cy="40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438080" y="4025880"/>
                <a:ext cx="257040" cy="220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 rot="20637000">
              <a:off x="1675080" y="761760"/>
              <a:ext cx="1282680" cy="31420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0" spc="-1" strike="noStrike">
                  <a:solidFill>
                    <a:srgbClr val="004880"/>
                  </a:solidFill>
                  <a:latin typeface="Arial Black"/>
                </a:rPr>
                <a:t>?</a:t>
              </a:r>
              <a:endParaRPr b="0" lang="en-US" sz="2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92480" y="1806840"/>
              <a:ext cx="1803960" cy="31420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0" spc="-1" strike="noStrike">
                  <a:solidFill>
                    <a:srgbClr val="ff0000"/>
                  </a:solidFill>
                  <a:latin typeface="Arial Black"/>
                </a:rPr>
                <a:t>A</a:t>
              </a:r>
              <a:endParaRPr b="0" lang="en-US" sz="2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21:16:47Z</dcterms:created>
  <dc:creator>GE IndSys</dc:creator>
  <dc:description/>
  <dc:language>en-US</dc:language>
  <cp:lastModifiedBy>Jim Spearman</cp:lastModifiedBy>
  <cp:lastPrinted>2003-08-29T14:38:12Z</cp:lastPrinted>
  <dcterms:modified xsi:type="dcterms:W3CDTF">2004-10-06T23:32:50Z</dcterms:modified>
  <cp:revision>167</cp:revision>
  <dc:subject/>
  <dc:title>This is how to install the Installation Template as your defaul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lette">
    <vt:lpwstr>GE Template</vt:lpwstr>
  </property>
</Properties>
</file>