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04840"/>
            <a:ext cx="77724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5943240"/>
            <a:ext cx="4267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n Manufactur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attle – October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24480" y="5943600"/>
            <a:ext cx="218448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The promise of AP-238</a:t>
            </a:r>
            <a:br>
              <a:rPr sz="36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 Stand-Alone CAM Vendor’s Perspective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2590920"/>
            <a:ext cx="3048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hn Ca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P,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bbs and Associ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orpark, 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76320" y="2301840"/>
            <a:ext cx="6019920" cy="387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79840" y="522288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41008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2004, Gibbs and Associ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82880" y="1693800"/>
            <a:ext cx="3376800" cy="3468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 though AP-238 offers numerous benefits, there are a number of challenges that need to be addressed before it can be leveraged out in indust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1373040"/>
            <a:ext cx="5334120" cy="4230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 #1</a:t>
            </a:r>
            <a:br>
              <a:rPr sz="4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“Chicken and Egg” Dilemm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enerating AP-238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a strong demand for AP-238 by customers, vendors will not support it; users will not demand it if they don’t see clear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Use real-world prototype projects to validate AP-238 concepts and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46520" cy="3654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 #2</a:t>
            </a:r>
            <a:br>
              <a:rPr sz="4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”All Dressed Up, Nowhere to Go” Dilemm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egacy Machine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vast majority of machine tools do not “speak” AP-238, how can they use i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Using AP-238 CAM adaptors as a front-end to legacy machine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3120" y="1143000"/>
            <a:ext cx="619776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1143000"/>
            <a:ext cx="6253200" cy="468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447920" y="1143000"/>
            <a:ext cx="6253200" cy="468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6253200" cy="468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447920" y="1143000"/>
            <a:ext cx="6253200" cy="468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P-238 CAM Adaptor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>
    <p:cover dir="l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46520" cy="36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 #2b</a:t>
            </a:r>
            <a:br>
              <a:rPr sz="4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”All Dressed Up, Nowhere to Go” Dilemm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ntroll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a strong demand for AP-238 by customers, vendors will not support it; users will not demand it if they don’t see clear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Next generation machine tool initiatives (SMPI, OMAC) require AP-238’s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MPI</a:t>
            </a:r>
            <a:br>
              <a:rPr sz="4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(Smart Machine Platform Initiative)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Gen machin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s “first part correc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a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adju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maint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optimi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00600" y="2209680"/>
            <a:ext cx="4190760" cy="3520080"/>
            <a:chOff x="4800600" y="2209680"/>
            <a:chExt cx="4190760" cy="35200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800600" y="2209680"/>
              <a:ext cx="4190760" cy="31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935240" y="53924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gure courtesy of Clayton Teague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fg Eng Lab, NI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1365120"/>
            <a:ext cx="2849760" cy="4197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 #3</a:t>
            </a:r>
            <a:br>
              <a:rPr sz="4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“Big Hose Connected to a Little Spigot” Dilemm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oduct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 though AP-238 supports non-nominal data, CAD systems currently only support exporting geo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AP-203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dition use by CAD will allow non-nominal data ex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232740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hallenge #4</a:t>
            </a:r>
            <a:br>
              <a:rPr sz="36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“Wouldn’t Know What to Do With A Surface Finish If It Saw One” Dilemma</a:t>
            </a:r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ominal C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M systems rely on users to blend imported CAD geometry and interpreted product specific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ith the availability of product data, CAM technology and systems will evol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773520" cy="3792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utstanding Issue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all the progress on AP-238 that has been made, that doesn’t mean that there aren’t some outstanding (technical) issues to be resolved for it to be 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962160" cy="3881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Issue #1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eneric Process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rocess plans be defined so that they are portable across various types of “similar” machine too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machine requirements be accurately deduced by parsing an AP-238 fi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27808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resentation Outline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State of Technology &amp; Indus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ary Benefit of AP-2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ary Benefits of AP-23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standing Conc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962160" cy="3881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Issue #2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on-nominal Manufactu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we really understand the full manufacturing implications of GD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f we could build a non-nominal CAM system, where do we get the knowledge base it us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962160" cy="3881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Issue #3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oduct Data Mode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ill it take for CAD systems to move from geometric modeling to product data model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computer-interpretable digital models replace engineering drawing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962160" cy="388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Issue #x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he Unkn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ill we discover that we didn’t address when we get further down the roa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ummary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velopment of AP-238 has the potential to introduce a huge evolutionary step forward for manufacturing technologies realized not only through the standard itself, but by the ancillary technologies it will en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440" y="49528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912000" cy="1760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Follow-up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bbs and Associ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3 Science D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orpark, CA  930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805) 523-0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805) 523-0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hn.Callen@GibbsCAM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GibbsCAM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419720" cy="3890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Current State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 Market highly fragmented, with different proprietary solutions for market segments and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s often have multiple CAM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ital equipment investment in machine tools is high and length of service is l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ering drawings are still crucial to communicate product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rimary Benefit of AP-238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xt generation data format for CNC machine tools, replacing RS274-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s higher representational level than strok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des part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comprehensive data to facilitate manufactur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ost Processing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 processing is a considerable cost in manufactur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ther vendor-supplied or user-developed post processors a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que posts are needed to handle subtle machine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, Gibbs’ post library contains over 6000 p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-238 will provide a consistent post processing format for machine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257800" cy="336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econdary Benefit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ugh it is clear that AP-238’s purpose is to address the data requirements of CNC devices, there are a number of secondary benefits that can also be realized through the development of AP-238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econdary Benefit #1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D-to-CAM data exchange does not provide enough information to support manufacturing auto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-238’s data requirements have raised the awareness of manufacturing data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190760" cy="3713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97120" y="1295280"/>
            <a:ext cx="368316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econdary Benefit #2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st majority of CAM systems are nominally based with limited auto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-238 requires the non-nominal data needed for CAM system auto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Secondary Benefit #3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rietary nature of CAM systems prevents the exchange of manufacturing data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-238 provides a neutral format to represent process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43040" y="1371600"/>
            <a:ext cx="40579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C</cp:lastModifiedBy>
  <dcterms:modified xsi:type="dcterms:W3CDTF">2004-10-06T22:40:1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