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9.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44.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49.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media/image25.wmf" ContentType="image/x-wmf"/>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6.png" ContentType="image/png"/>
  <Override PartName="/ppt/media/image14.png" ContentType="image/png"/>
  <Override PartName="/ppt/media/image1.wmf" ContentType="image/x-wmf"/>
  <Override PartName="/ppt/media/image11.png" ContentType="image/png"/>
  <Override PartName="/ppt/media/image29.wmf" ContentType="image/x-wmf"/>
  <Override PartName="/ppt/media/image31.png" ContentType="image/png"/>
  <Override PartName="/ppt/media/image15.wmf" ContentType="image/x-wmf"/>
  <Override PartName="/ppt/media/image6.png" ContentType="image/png"/>
  <Override PartName="/ppt/media/image36.png" ContentType="image/png"/>
  <Override PartName="/ppt/media/image12.png" ContentType="image/png"/>
  <Override PartName="/ppt/media/image9.png" ContentType="image/png"/>
  <Override PartName="/ppt/media/image39.png" ContentType="image/png"/>
  <Override PartName="/ppt/media/image7.png" ContentType="image/png"/>
  <Override PartName="/ppt/media/image34.jpeg" ContentType="image/jpeg"/>
  <Override PartName="/ppt/media/image37.png" ContentType="image/png"/>
  <Override PartName="/ppt/media/image13.png" ContentType="image/png"/>
  <Override PartName="/ppt/media/image40.png" ContentType="image/png"/>
  <Override PartName="/ppt/media/image5.png" ContentType="image/png"/>
  <Override PartName="/ppt/media/image38.png" ContentType="image/png"/>
  <Override PartName="/ppt/media/image8.jpeg" ContentType="image/jpeg"/>
  <Override PartName="/ppt/media/image35.jpeg" ContentType="image/jpeg"/>
  <Override PartName="/ppt/media/image10.png" ContentType="image/png"/>
  <Override PartName="/ppt/media/image28.wmf" ContentType="image/x-wmf"/>
  <Override PartName="/ppt/media/image4.png" ContentType="image/png"/>
  <Override PartName="/ppt/media/image30.wmf" ContentType="image/x-wmf"/>
  <Override PartName="/ppt/media/image27.png" ContentType="image/png"/>
  <Override PartName="/ppt/media/image33.png" ContentType="image/png"/>
  <Override PartName="/ppt/media/image3.png" ContentType="image/png"/>
  <Override PartName="/ppt/media/image17.jpeg" ContentType="image/jpeg"/>
  <Override PartName="/ppt/media/image26.png" ContentType="image/png"/>
  <Override PartName="/ppt/media/image32.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0" y="0"/>
            <a:ext cx="2881440" cy="487440"/>
          </a:xfrm>
          <a:prstGeom prst="rect">
            <a:avLst/>
          </a:prstGeom>
          <a:noFill/>
          <a:ln w="0">
            <a:noFill/>
          </a:ln>
        </p:spPr>
        <p:txBody>
          <a:bodyPr anchor="t">
            <a:noAutofit/>
          </a:bodyPr>
          <a:p>
            <a:pPr indent="0">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 name="PlaceHolder 2"/>
          <p:cNvSpPr>
            <a:spLocks noGrp="1"/>
          </p:cNvSpPr>
          <p:nvPr>
            <p:ph type="dt" idx="1"/>
          </p:nvPr>
        </p:nvSpPr>
        <p:spPr>
          <a:xfrm>
            <a:off x="3767040" y="0"/>
            <a:ext cx="2881440" cy="487440"/>
          </a:xfrm>
          <a:prstGeom prst="rect">
            <a:avLst/>
          </a:prstGeom>
          <a:noFill/>
          <a:ln w="0">
            <a:noFill/>
          </a:ln>
        </p:spPr>
        <p:txBody>
          <a:bodyPr anchor="t">
            <a:noAutofit/>
          </a:bodyPr>
          <a:lstStyle>
            <a:lvl1pPr indent="0" algn="r">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defRPr b="0" lang="en-GB" sz="1200" spc="-1" strike="noStrike">
                <a:solidFill>
                  <a:srgbClr val="000000"/>
                </a:solidFill>
                <a:latin typeface="Times New Roman"/>
              </a:defRPr>
            </a:lvl1pPr>
          </a:lstStyle>
          <a:p>
            <a:pPr indent="0" algn="r">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 name="PlaceHolder 3"/>
          <p:cNvSpPr>
            <a:spLocks noGrp="1"/>
          </p:cNvSpPr>
          <p:nvPr>
            <p:ph type="sldImg"/>
          </p:nvPr>
        </p:nvSpPr>
        <p:spPr>
          <a:xfrm>
            <a:off x="885960" y="734760"/>
            <a:ext cx="4883040" cy="3662280"/>
          </a:xfrm>
          <a:prstGeom prst="rect">
            <a:avLst/>
          </a:prstGeom>
          <a:solidFill>
            <a:srgbClr val="ffffff"/>
          </a:solid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Univers"/>
              </a:rPr>
              <a:t>Click to move the slide</a:t>
            </a:r>
            <a:endParaRPr b="1" lang="en-US" sz="3600" spc="-1" strike="noStrike">
              <a:solidFill>
                <a:srgbClr val="3333cc"/>
              </a:solidFill>
              <a:latin typeface="Univers"/>
            </a:endParaRPr>
          </a:p>
        </p:txBody>
      </p:sp>
      <p:sp>
        <p:nvSpPr>
          <p:cNvPr id="49" name="PlaceHolder 4"/>
          <p:cNvSpPr>
            <a:spLocks noGrp="1"/>
          </p:cNvSpPr>
          <p:nvPr>
            <p:ph type="body"/>
          </p:nvPr>
        </p:nvSpPr>
        <p:spPr>
          <a:xfrm>
            <a:off x="885960" y="4645080"/>
            <a:ext cx="48765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2"/>
          </p:nvPr>
        </p:nvSpPr>
        <p:spPr>
          <a:xfrm>
            <a:off x="0" y="9294840"/>
            <a:ext cx="2881440" cy="487440"/>
          </a:xfrm>
          <a:prstGeom prst="rect">
            <a:avLst/>
          </a:prstGeom>
          <a:noFill/>
          <a:ln w="0">
            <a:noFill/>
          </a:ln>
        </p:spPr>
        <p:txBody>
          <a:bodyPr anchor="b">
            <a:noAutofit/>
          </a:bodyPr>
          <a:lstStyle>
            <a:lvl1pPr indent="0">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defRPr b="0" lang="en-GB" sz="1200" spc="-1" strike="noStrike">
                <a:solidFill>
                  <a:srgbClr val="000000"/>
                </a:solidFill>
                <a:latin typeface="Times New Roman"/>
              </a:defRPr>
            </a:lvl1pPr>
          </a:lstStyle>
          <a:p>
            <a:pPr indent="0">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3"/>
          </p:nvPr>
        </p:nvSpPr>
        <p:spPr>
          <a:xfrm>
            <a:off x="3767040" y="9294840"/>
            <a:ext cx="2881440" cy="487440"/>
          </a:xfrm>
          <a:prstGeom prst="rect">
            <a:avLst/>
          </a:prstGeom>
          <a:noFill/>
          <a:ln w="0">
            <a:noFill/>
          </a:ln>
        </p:spPr>
        <p:txBody>
          <a:bodyPr anchor="b">
            <a:noAutofit/>
          </a:bodyPr>
          <a:lstStyle>
            <a:lvl1pPr indent="0" algn="r">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defRPr b="0" lang="en-GB" sz="1200" spc="-1" strike="noStrike">
                <a:solidFill>
                  <a:srgbClr val="000000"/>
                </a:solidFill>
                <a:latin typeface="Times New Roman"/>
              </a:defRPr>
            </a:lvl1pPr>
          </a:lstStyle>
          <a:p>
            <a:pPr indent="0" algn="r">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8E2EB0BF-E2B6-4B25-950F-16AC1C9201F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p:nvPr/>
        </p:nvSpPr>
        <p:spPr>
          <a:xfrm>
            <a:off x="3765600" y="7920"/>
            <a:ext cx="288288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3765600" y="9312120"/>
            <a:ext cx="288288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i="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57" name=""/>
          <p:cNvSpPr/>
          <p:nvPr/>
        </p:nvSpPr>
        <p:spPr>
          <a:xfrm>
            <a:off x="0" y="9312120"/>
            <a:ext cx="28828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0" y="7920"/>
            <a:ext cx="288288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PlaceHolder 1"/>
          <p:cNvSpPr>
            <a:spLocks noGrp="1"/>
          </p:cNvSpPr>
          <p:nvPr>
            <p:ph type="body"/>
          </p:nvPr>
        </p:nvSpPr>
        <p:spPr>
          <a:xfrm>
            <a:off x="885960" y="4649400"/>
            <a:ext cx="4876560" cy="3855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0" name="PlaceHolder 2"/>
          <p:cNvSpPr>
            <a:spLocks noGrp="1"/>
          </p:cNvSpPr>
          <p:nvPr>
            <p:ph type="sldImg"/>
          </p:nvPr>
        </p:nvSpPr>
        <p:spPr>
          <a:xfrm>
            <a:off x="1095480" y="860400"/>
            <a:ext cx="4583160" cy="343692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879480" y="735120"/>
            <a:ext cx="4889520" cy="3666960"/>
          </a:xfrm>
          <a:prstGeom prst="rect">
            <a:avLst/>
          </a:prstGeom>
          <a:ln w="0">
            <a:noFill/>
          </a:ln>
        </p:spPr>
      </p:sp>
      <p:sp>
        <p:nvSpPr>
          <p:cNvPr id="266" name="PlaceHolder 2"/>
          <p:cNvSpPr>
            <a:spLocks noGrp="1"/>
          </p:cNvSpPr>
          <p:nvPr>
            <p:ph type="body"/>
          </p:nvPr>
        </p:nvSpPr>
        <p:spPr>
          <a:xfrm>
            <a:off x="887400" y="4645080"/>
            <a:ext cx="487368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ations of fasteners were to standard not drawing – not realistic</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879480" y="735120"/>
            <a:ext cx="4889520" cy="3666960"/>
          </a:xfrm>
          <a:prstGeom prst="rect">
            <a:avLst/>
          </a:prstGeom>
          <a:ln w="0">
            <a:noFill/>
          </a:ln>
        </p:spPr>
      </p:sp>
      <p:sp>
        <p:nvSpPr>
          <p:cNvPr id="268" name="PlaceHolder 2"/>
          <p:cNvSpPr>
            <a:spLocks noGrp="1"/>
          </p:cNvSpPr>
          <p:nvPr>
            <p:ph type="body"/>
          </p:nvPr>
        </p:nvSpPr>
        <p:spPr>
          <a:xfrm>
            <a:off x="887400" y="4645080"/>
            <a:ext cx="487368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ned in the Item Identification Guide (II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31% of the inventory</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885960" y="735120"/>
            <a:ext cx="4883040" cy="3662280"/>
          </a:xfrm>
          <a:prstGeom prst="rect">
            <a:avLst/>
          </a:prstGeom>
          <a:ln w="0">
            <a:noFill/>
          </a:ln>
        </p:spPr>
      </p:sp>
      <p:sp>
        <p:nvSpPr>
          <p:cNvPr id="270" name="PlaceHolder 2"/>
          <p:cNvSpPr>
            <a:spLocks noGrp="1"/>
          </p:cNvSpPr>
          <p:nvPr>
            <p:ph type="body"/>
          </p:nvPr>
        </p:nvSpPr>
        <p:spPr>
          <a:xfrm>
            <a:off x="885960" y="4645080"/>
            <a:ext cx="4876560" cy="4402080"/>
          </a:xfrm>
          <a:prstGeom prst="rect">
            <a:avLst/>
          </a:prstGeom>
          <a:noFill/>
          <a:ln w="0">
            <a:noFill/>
          </a:ln>
        </p:spPr>
        <p:txBody>
          <a:bodyPr lIns="90000" rIns="90000" tIns="45000" bIns="450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roject to date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e project started in April 2001 with the selection of components for RAMP manufacture using STEP AP224.</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e purchase and training in the use of EdgeCAM and the commissioning of Index turn/mill lathes delayed the start of the manufacture element of the project until November 2001 when the software and a post processor became available.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e first products were test manufactured in January and the project is on schedule to be completed early in March 2002.</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885960" y="735120"/>
            <a:ext cx="4883040" cy="3662280"/>
          </a:xfrm>
          <a:prstGeom prst="rect">
            <a:avLst/>
          </a:prstGeom>
          <a:ln w="0">
            <a:noFill/>
          </a:ln>
        </p:spPr>
      </p:sp>
      <p:sp>
        <p:nvSpPr>
          <p:cNvPr id="272" name="PlaceHolder 2"/>
          <p:cNvSpPr>
            <a:spLocks noGrp="1"/>
          </p:cNvSpPr>
          <p:nvPr>
            <p:ph type="body"/>
          </p:nvPr>
        </p:nvSpPr>
        <p:spPr>
          <a:xfrm>
            <a:off x="885960" y="4645080"/>
            <a:ext cx="4876560" cy="4402080"/>
          </a:xfrm>
          <a:prstGeom prst="rect">
            <a:avLst/>
          </a:prstGeom>
          <a:solidFill>
            <a:srgbClr val="ffffff"/>
          </a:solidFill>
          <a:ln w="9360">
            <a:solidFill>
              <a:srgbClr val="000000"/>
            </a:solidFill>
            <a:miter/>
          </a:ln>
        </p:spPr>
        <p:txBody>
          <a:bodyPr lIns="90000" rIns="90000" tIns="45000" bIns="450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MoD previous work on RAMP has shown</a:t>
            </a:r>
            <a:endParaRPr b="0" lang="en-US" sz="16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885960" y="735120"/>
            <a:ext cx="4883040" cy="3662280"/>
          </a:xfrm>
          <a:prstGeom prst="rect">
            <a:avLst/>
          </a:prstGeom>
          <a:ln w="0">
            <a:noFill/>
          </a:ln>
        </p:spPr>
      </p:sp>
      <p:sp>
        <p:nvSpPr>
          <p:cNvPr id="274" name="PlaceHolder 2"/>
          <p:cNvSpPr>
            <a:spLocks noGrp="1"/>
          </p:cNvSpPr>
          <p:nvPr>
            <p:ph type="body"/>
          </p:nvPr>
        </p:nvSpPr>
        <p:spPr>
          <a:xfrm>
            <a:off x="885960" y="4645080"/>
            <a:ext cx="4876560" cy="4402080"/>
          </a:xfrm>
          <a:prstGeom prst="rect">
            <a:avLst/>
          </a:prstGeom>
          <a:solidFill>
            <a:srgbClr val="ffffff"/>
          </a:solidFill>
          <a:ln w="9360">
            <a:solidFill>
              <a:srgbClr val="000000"/>
            </a:solidFill>
            <a:miter/>
          </a:ln>
        </p:spPr>
        <p:txBody>
          <a:bodyPr lIns="90000" rIns="90000" tIns="45000" bIns="450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e AP224 representation, facilitates the automation of process planning: automated process planning systems use manufacturing logic to interpret the AP224 features and parameters in the generation of process plans.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ese not only contain the necessary machining data (potentially including numerical control (NC) programs), but also complete manufacturing process and inspection schedule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885960" y="735120"/>
            <a:ext cx="4883040" cy="3662280"/>
          </a:xfrm>
          <a:prstGeom prst="rect">
            <a:avLst/>
          </a:prstGeom>
          <a:ln w="0">
            <a:noFill/>
          </a:ln>
        </p:spPr>
      </p:sp>
      <p:sp>
        <p:nvSpPr>
          <p:cNvPr id="276" name="PlaceHolder 2"/>
          <p:cNvSpPr>
            <a:spLocks noGrp="1"/>
          </p:cNvSpPr>
          <p:nvPr>
            <p:ph type="body"/>
          </p:nvPr>
        </p:nvSpPr>
        <p:spPr>
          <a:xfrm>
            <a:off x="885960" y="4645080"/>
            <a:ext cx="4876560" cy="4402080"/>
          </a:xfrm>
          <a:prstGeom prst="rect">
            <a:avLst/>
          </a:prstGeom>
          <a:solidFill>
            <a:srgbClr val="ffffff"/>
          </a:solidFill>
          <a:ln w="9360">
            <a:solidFill>
              <a:srgbClr val="000000"/>
            </a:solidFill>
            <a:miter/>
          </a:ln>
        </p:spPr>
        <p:txBody>
          <a:bodyPr lIns="90000" rIns="90000" tIns="45000" bIns="450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omponents selected for manufacture during the projec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he 45 parts selected for design/manufacture using RAMP can be broken down as follow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First level fasteners (25)</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hese are components, which can be easily classified as family groups for manufacture.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he design, manufacturing rules (in LOCAM) and EdgeCAM work is complete.  These products can be progressed from the AP224 design through process planning to the production of documentation and a CNC code for manufacture, with a minimum of human interaction.  All of these family group products can be manufactured by DML.</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Miscellaneous items (15)</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he main selection criterion for this group of components was that they should not be suitable for family group approach to the manufacturing rules; consequently a lower level of automation of the production process is to be expected.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he two products that were capable of physically being manufactured on the Index machines achieved the same high level of automation as for first level fasteners.  The many of the other components can be manufactured by DML using the AP224 design information and the LOCAM system on an interactive basis, producing planning documentation only.  A post-processor has now been ordered for an alternative machine but it is too late in the project to incorporate the manufacturing experience.</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ast/forged items (5)</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he cast/forged components were selected by DML in December 2001 &amp; January 2002.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P224 files have been produced for the cast and forged parts but a limitation in STEPTrans reduces the quality of the AP224 representation of the cast and forged blanks.  It has also proved to be more difficult than expected to interpret information from features associated with an AP224 explicit base shape (of the type used for cast and forgings).</a:t>
            </a:r>
            <a:endParaRPr b="0" lang="en-US" sz="16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885960" y="735120"/>
            <a:ext cx="4883040" cy="3662280"/>
          </a:xfrm>
          <a:prstGeom prst="rect">
            <a:avLst/>
          </a:prstGeom>
          <a:ln w="0">
            <a:noFill/>
          </a:ln>
        </p:spPr>
      </p:sp>
      <p:sp>
        <p:nvSpPr>
          <p:cNvPr id="278" name="PlaceHolder 2"/>
          <p:cNvSpPr>
            <a:spLocks noGrp="1"/>
          </p:cNvSpPr>
          <p:nvPr>
            <p:ph type="body"/>
          </p:nvPr>
        </p:nvSpPr>
        <p:spPr>
          <a:xfrm>
            <a:off x="885960" y="4645080"/>
            <a:ext cx="4876560" cy="4402080"/>
          </a:xfrm>
          <a:prstGeom prst="rect">
            <a:avLst/>
          </a:prstGeom>
          <a:solidFill>
            <a:srgbClr val="ffffff"/>
          </a:solidFill>
          <a:ln w="9360">
            <a:solidFill>
              <a:srgbClr val="000000"/>
            </a:solidFill>
            <a:miter/>
          </a:ln>
        </p:spPr>
        <p:txBody>
          <a:bodyPr lIns="90000" rIns="90000" tIns="45000" bIns="450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lapse time assumes that jobs land on desk and are treated as urgent – no lag whereas the cost time is hours that would have been booked to production (both direct and indirect costs).</a:t>
            </a:r>
            <a:endParaRPr b="0" lang="en-US" sz="16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879480" y="733320"/>
            <a:ext cx="4890960" cy="3668760"/>
          </a:xfrm>
          <a:prstGeom prst="rect">
            <a:avLst/>
          </a:prstGeom>
          <a:ln w="0">
            <a:noFill/>
          </a:ln>
        </p:spPr>
      </p:sp>
      <p:sp>
        <p:nvSpPr>
          <p:cNvPr id="280" name="PlaceHolder 2"/>
          <p:cNvSpPr>
            <a:spLocks noGrp="1"/>
          </p:cNvSpPr>
          <p:nvPr>
            <p:ph type="body"/>
          </p:nvPr>
        </p:nvSpPr>
        <p:spPr>
          <a:xfrm>
            <a:off x="887400" y="4646520"/>
            <a:ext cx="487368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MP manufacture is conducted with the same material allocation, processing, machines.  The main change is in the time between receipt of an order and being able to start manufacture.  All of the design information is available, it needs to be prepared as current manufacturing procedures.  This is the RAMP bit. </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p:nvPr/>
        </p:nvSpPr>
        <p:spPr>
          <a:xfrm>
            <a:off x="3765600" y="7920"/>
            <a:ext cx="288288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3765600" y="9312120"/>
            <a:ext cx="288288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i="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83" name=""/>
          <p:cNvSpPr/>
          <p:nvPr/>
        </p:nvSpPr>
        <p:spPr>
          <a:xfrm>
            <a:off x="0" y="9312120"/>
            <a:ext cx="28828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0" y="7920"/>
            <a:ext cx="288288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PlaceHolder 1"/>
          <p:cNvSpPr>
            <a:spLocks noGrp="1"/>
          </p:cNvSpPr>
          <p:nvPr>
            <p:ph type="body"/>
          </p:nvPr>
        </p:nvSpPr>
        <p:spPr>
          <a:xfrm>
            <a:off x="885960" y="4649400"/>
            <a:ext cx="4876560" cy="3855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6" name="PlaceHolder 2"/>
          <p:cNvSpPr>
            <a:spLocks noGrp="1"/>
          </p:cNvSpPr>
          <p:nvPr>
            <p:ph type="sldImg"/>
          </p:nvPr>
        </p:nvSpPr>
        <p:spPr>
          <a:xfrm>
            <a:off x="1095480" y="860400"/>
            <a:ext cx="4583160" cy="343692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885960" y="735120"/>
            <a:ext cx="4883040" cy="3662280"/>
          </a:xfrm>
          <a:prstGeom prst="rect">
            <a:avLst/>
          </a:prstGeom>
          <a:ln w="0">
            <a:noFill/>
          </a:ln>
        </p:spPr>
      </p:sp>
      <p:sp>
        <p:nvSpPr>
          <p:cNvPr id="262" name="PlaceHolder 2"/>
          <p:cNvSpPr>
            <a:spLocks noGrp="1"/>
          </p:cNvSpPr>
          <p:nvPr>
            <p:ph type="body"/>
          </p:nvPr>
        </p:nvSpPr>
        <p:spPr>
          <a:xfrm>
            <a:off x="885960" y="4645080"/>
            <a:ext cx="4876560" cy="440208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force best pract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ample of first level fasteners where the Navy order by item of supply, yet DML have varieties of drawing for the same produ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ample of ordering a M12 bolt should reference BS2493 and not a design authority drawing number.  This would slicken the drawing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AMP is central to </a:t>
            </a:r>
            <a:r>
              <a:rPr b="1" lang="en-GB" sz="1200" spc="-1" strike="noStrike">
                <a:solidFill>
                  <a:srgbClr val="000000"/>
                </a:solidFill>
                <a:latin typeface="Times New Roman"/>
              </a:rPr>
              <a:t>acquisition</a:t>
            </a:r>
            <a:r>
              <a:rPr b="0" lang="en-GB" sz="1200" spc="-1" strike="noStrike">
                <a:solidFill>
                  <a:srgbClr val="000000"/>
                </a:solidFill>
                <a:latin typeface="Times New Roman"/>
              </a:rPr>
              <a:t>, but need efficient manufac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885960" y="735120"/>
            <a:ext cx="4883040" cy="3662280"/>
          </a:xfrm>
          <a:prstGeom prst="rect">
            <a:avLst/>
          </a:prstGeom>
          <a:ln w="0">
            <a:noFill/>
          </a:ln>
        </p:spPr>
      </p:sp>
      <p:sp>
        <p:nvSpPr>
          <p:cNvPr id="264" name="PlaceHolder 2"/>
          <p:cNvSpPr>
            <a:spLocks noGrp="1"/>
          </p:cNvSpPr>
          <p:nvPr>
            <p:ph type="body"/>
          </p:nvPr>
        </p:nvSpPr>
        <p:spPr>
          <a:xfrm>
            <a:off x="885960" y="4645080"/>
            <a:ext cx="4876560" cy="4402080"/>
          </a:xfrm>
          <a:prstGeom prst="rect">
            <a:avLst/>
          </a:prstGeom>
          <a:solidFill>
            <a:srgbClr val="ffffff"/>
          </a:solidFill>
          <a:ln w="9360">
            <a:solidFill>
              <a:srgbClr val="000000"/>
            </a:solidFill>
            <a:miter/>
          </a:ln>
        </p:spPr>
        <p:txBody>
          <a:bodyPr lIns="90000" rIns="90000" tIns="45000" bIns="450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MoD previous work on RAMP has shown</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96800" y="596520"/>
            <a:ext cx="77468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Univers"/>
            </a:endParaRPr>
          </a:p>
        </p:txBody>
      </p:sp>
      <p:sp>
        <p:nvSpPr>
          <p:cNvPr id="31" name="PlaceHolder 2"/>
          <p:cNvSpPr>
            <a:spLocks noGrp="1"/>
          </p:cNvSpPr>
          <p:nvPr>
            <p:ph/>
          </p:nvPr>
        </p:nvSpPr>
        <p:spPr>
          <a:xfrm>
            <a:off x="1536480" y="1679400"/>
            <a:ext cx="76071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2" name="PlaceHolder 3"/>
          <p:cNvSpPr>
            <a:spLocks noGrp="1"/>
          </p:cNvSpPr>
          <p:nvPr>
            <p:ph/>
          </p:nvPr>
        </p:nvSpPr>
        <p:spPr>
          <a:xfrm>
            <a:off x="1536480" y="3828960"/>
            <a:ext cx="76071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96800" y="596520"/>
            <a:ext cx="77468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Univers"/>
            </a:endParaRPr>
          </a:p>
        </p:txBody>
      </p:sp>
      <p:sp>
        <p:nvSpPr>
          <p:cNvPr id="34" name="PlaceHolder 2"/>
          <p:cNvSpPr>
            <a:spLocks noGrp="1"/>
          </p:cNvSpPr>
          <p:nvPr>
            <p:ph/>
          </p:nvPr>
        </p:nvSpPr>
        <p:spPr>
          <a:xfrm>
            <a:off x="1536480" y="1679400"/>
            <a:ext cx="37119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5" name="PlaceHolder 3"/>
          <p:cNvSpPr>
            <a:spLocks noGrp="1"/>
          </p:cNvSpPr>
          <p:nvPr>
            <p:ph/>
          </p:nvPr>
        </p:nvSpPr>
        <p:spPr>
          <a:xfrm>
            <a:off x="5434560" y="1679400"/>
            <a:ext cx="37119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6" name="PlaceHolder 4"/>
          <p:cNvSpPr>
            <a:spLocks noGrp="1"/>
          </p:cNvSpPr>
          <p:nvPr>
            <p:ph/>
          </p:nvPr>
        </p:nvSpPr>
        <p:spPr>
          <a:xfrm>
            <a:off x="1536480" y="3828960"/>
            <a:ext cx="37119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7" name="PlaceHolder 5"/>
          <p:cNvSpPr>
            <a:spLocks noGrp="1"/>
          </p:cNvSpPr>
          <p:nvPr>
            <p:ph/>
          </p:nvPr>
        </p:nvSpPr>
        <p:spPr>
          <a:xfrm>
            <a:off x="5434560" y="3828960"/>
            <a:ext cx="37119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96800" y="596520"/>
            <a:ext cx="77468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Univers"/>
            </a:endParaRPr>
          </a:p>
        </p:txBody>
      </p:sp>
      <p:sp>
        <p:nvSpPr>
          <p:cNvPr id="39" name="PlaceHolder 2"/>
          <p:cNvSpPr>
            <a:spLocks noGrp="1"/>
          </p:cNvSpPr>
          <p:nvPr>
            <p:ph/>
          </p:nvPr>
        </p:nvSpPr>
        <p:spPr>
          <a:xfrm>
            <a:off x="1536480" y="1679400"/>
            <a:ext cx="244944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40" name="PlaceHolder 3"/>
          <p:cNvSpPr>
            <a:spLocks noGrp="1"/>
          </p:cNvSpPr>
          <p:nvPr>
            <p:ph/>
          </p:nvPr>
        </p:nvSpPr>
        <p:spPr>
          <a:xfrm>
            <a:off x="4108680" y="1679400"/>
            <a:ext cx="244944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41" name="PlaceHolder 4"/>
          <p:cNvSpPr>
            <a:spLocks noGrp="1"/>
          </p:cNvSpPr>
          <p:nvPr>
            <p:ph/>
          </p:nvPr>
        </p:nvSpPr>
        <p:spPr>
          <a:xfrm>
            <a:off x="6681240" y="1679400"/>
            <a:ext cx="244944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42" name="PlaceHolder 5"/>
          <p:cNvSpPr>
            <a:spLocks noGrp="1"/>
          </p:cNvSpPr>
          <p:nvPr>
            <p:ph/>
          </p:nvPr>
        </p:nvSpPr>
        <p:spPr>
          <a:xfrm>
            <a:off x="1536480" y="3828960"/>
            <a:ext cx="244944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43" name="PlaceHolder 6"/>
          <p:cNvSpPr>
            <a:spLocks noGrp="1"/>
          </p:cNvSpPr>
          <p:nvPr>
            <p:ph/>
          </p:nvPr>
        </p:nvSpPr>
        <p:spPr>
          <a:xfrm>
            <a:off x="4108680" y="3828960"/>
            <a:ext cx="244944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44" name="PlaceHolder 7"/>
          <p:cNvSpPr>
            <a:spLocks noGrp="1"/>
          </p:cNvSpPr>
          <p:nvPr>
            <p:ph/>
          </p:nvPr>
        </p:nvSpPr>
        <p:spPr>
          <a:xfrm>
            <a:off x="6681240" y="3828960"/>
            <a:ext cx="244944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96800" y="596520"/>
            <a:ext cx="77468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Univers"/>
            </a:endParaRPr>
          </a:p>
        </p:txBody>
      </p:sp>
      <p:sp>
        <p:nvSpPr>
          <p:cNvPr id="10" name="PlaceHolder 2"/>
          <p:cNvSpPr>
            <a:spLocks noGrp="1"/>
          </p:cNvSpPr>
          <p:nvPr>
            <p:ph type="subTitle"/>
          </p:nvPr>
        </p:nvSpPr>
        <p:spPr>
          <a:xfrm>
            <a:off x="1536480" y="1679400"/>
            <a:ext cx="760716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96800" y="596520"/>
            <a:ext cx="77468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Univers"/>
            </a:endParaRPr>
          </a:p>
        </p:txBody>
      </p:sp>
      <p:sp>
        <p:nvSpPr>
          <p:cNvPr id="12" name="PlaceHolder 2"/>
          <p:cNvSpPr>
            <a:spLocks noGrp="1"/>
          </p:cNvSpPr>
          <p:nvPr>
            <p:ph/>
          </p:nvPr>
        </p:nvSpPr>
        <p:spPr>
          <a:xfrm>
            <a:off x="1536480" y="1679400"/>
            <a:ext cx="760716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96800" y="596520"/>
            <a:ext cx="77468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Univers"/>
            </a:endParaRPr>
          </a:p>
        </p:txBody>
      </p:sp>
      <p:sp>
        <p:nvSpPr>
          <p:cNvPr id="14" name="PlaceHolder 2"/>
          <p:cNvSpPr>
            <a:spLocks noGrp="1"/>
          </p:cNvSpPr>
          <p:nvPr>
            <p:ph/>
          </p:nvPr>
        </p:nvSpPr>
        <p:spPr>
          <a:xfrm>
            <a:off x="1536480" y="1679400"/>
            <a:ext cx="371196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15" name="PlaceHolder 3"/>
          <p:cNvSpPr>
            <a:spLocks noGrp="1"/>
          </p:cNvSpPr>
          <p:nvPr>
            <p:ph/>
          </p:nvPr>
        </p:nvSpPr>
        <p:spPr>
          <a:xfrm>
            <a:off x="5434560" y="1679400"/>
            <a:ext cx="371196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96800" y="596520"/>
            <a:ext cx="77468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Univer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96800" y="596520"/>
            <a:ext cx="774684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96800" y="596520"/>
            <a:ext cx="77468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Univers"/>
            </a:endParaRPr>
          </a:p>
        </p:txBody>
      </p:sp>
      <p:sp>
        <p:nvSpPr>
          <p:cNvPr id="19" name="PlaceHolder 2"/>
          <p:cNvSpPr>
            <a:spLocks noGrp="1"/>
          </p:cNvSpPr>
          <p:nvPr>
            <p:ph/>
          </p:nvPr>
        </p:nvSpPr>
        <p:spPr>
          <a:xfrm>
            <a:off x="1536480" y="1679400"/>
            <a:ext cx="37119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0" name="PlaceHolder 3"/>
          <p:cNvSpPr>
            <a:spLocks noGrp="1"/>
          </p:cNvSpPr>
          <p:nvPr>
            <p:ph/>
          </p:nvPr>
        </p:nvSpPr>
        <p:spPr>
          <a:xfrm>
            <a:off x="5434560" y="1679400"/>
            <a:ext cx="371196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1" name="PlaceHolder 4"/>
          <p:cNvSpPr>
            <a:spLocks noGrp="1"/>
          </p:cNvSpPr>
          <p:nvPr>
            <p:ph/>
          </p:nvPr>
        </p:nvSpPr>
        <p:spPr>
          <a:xfrm>
            <a:off x="1536480" y="3828960"/>
            <a:ext cx="37119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96800" y="596520"/>
            <a:ext cx="77468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Univers"/>
            </a:endParaRPr>
          </a:p>
        </p:txBody>
      </p:sp>
      <p:sp>
        <p:nvSpPr>
          <p:cNvPr id="23" name="PlaceHolder 2"/>
          <p:cNvSpPr>
            <a:spLocks noGrp="1"/>
          </p:cNvSpPr>
          <p:nvPr>
            <p:ph/>
          </p:nvPr>
        </p:nvSpPr>
        <p:spPr>
          <a:xfrm>
            <a:off x="1536480" y="1679400"/>
            <a:ext cx="371196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4" name="PlaceHolder 3"/>
          <p:cNvSpPr>
            <a:spLocks noGrp="1"/>
          </p:cNvSpPr>
          <p:nvPr>
            <p:ph/>
          </p:nvPr>
        </p:nvSpPr>
        <p:spPr>
          <a:xfrm>
            <a:off x="5434560" y="1679400"/>
            <a:ext cx="37119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5" name="PlaceHolder 4"/>
          <p:cNvSpPr>
            <a:spLocks noGrp="1"/>
          </p:cNvSpPr>
          <p:nvPr>
            <p:ph/>
          </p:nvPr>
        </p:nvSpPr>
        <p:spPr>
          <a:xfrm>
            <a:off x="5434560" y="3828960"/>
            <a:ext cx="37119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96800" y="596520"/>
            <a:ext cx="77468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Univers"/>
            </a:endParaRPr>
          </a:p>
        </p:txBody>
      </p:sp>
      <p:sp>
        <p:nvSpPr>
          <p:cNvPr id="27" name="PlaceHolder 2"/>
          <p:cNvSpPr>
            <a:spLocks noGrp="1"/>
          </p:cNvSpPr>
          <p:nvPr>
            <p:ph/>
          </p:nvPr>
        </p:nvSpPr>
        <p:spPr>
          <a:xfrm>
            <a:off x="1536480" y="1679400"/>
            <a:ext cx="37119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8" name="PlaceHolder 3"/>
          <p:cNvSpPr>
            <a:spLocks noGrp="1"/>
          </p:cNvSpPr>
          <p:nvPr>
            <p:ph/>
          </p:nvPr>
        </p:nvSpPr>
        <p:spPr>
          <a:xfrm>
            <a:off x="5434560" y="1679400"/>
            <a:ext cx="37119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9" name="PlaceHolder 4"/>
          <p:cNvSpPr>
            <a:spLocks noGrp="1"/>
          </p:cNvSpPr>
          <p:nvPr>
            <p:ph/>
          </p:nvPr>
        </p:nvSpPr>
        <p:spPr>
          <a:xfrm>
            <a:off x="1536480" y="3828960"/>
            <a:ext cx="76071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9fe"/>
            </a:gs>
            <a:gs pos="100000">
              <a:srgbClr val="fefefe"/>
            </a:gs>
          </a:gsLst>
          <a:lin ang="108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96800" y="596520"/>
            <a:ext cx="77468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Univers"/>
              </a:rPr>
              <a:t>Click to edit the title text format</a:t>
            </a:r>
            <a:endParaRPr b="1" lang="en-US" sz="3600" spc="-1" strike="noStrike">
              <a:solidFill>
                <a:srgbClr val="3333cc"/>
              </a:solidFill>
              <a:latin typeface="Univers"/>
            </a:endParaRPr>
          </a:p>
        </p:txBody>
      </p:sp>
      <p:sp>
        <p:nvSpPr>
          <p:cNvPr id="1" name="PlaceHolder 2"/>
          <p:cNvSpPr>
            <a:spLocks noGrp="1"/>
          </p:cNvSpPr>
          <p:nvPr>
            <p:ph type="body"/>
          </p:nvPr>
        </p:nvSpPr>
        <p:spPr>
          <a:xfrm>
            <a:off x="1536480" y="1679400"/>
            <a:ext cx="760716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Click to edit the outline text format</a:t>
            </a:r>
            <a:endParaRPr b="1" lang="en-US" sz="2800" spc="-1" strike="noStrike">
              <a:solidFill>
                <a:srgbClr val="000066"/>
              </a:solidFill>
              <a:latin typeface="Arial"/>
            </a:endParaRPr>
          </a:p>
          <a:p>
            <a:pPr lvl="1" marL="743040" indent="-285840">
              <a:spcBef>
                <a:spcPts val="7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econd Outline Level</a:t>
            </a:r>
            <a:endParaRPr b="1" lang="en-US" sz="2800" spc="-1" strike="noStrike">
              <a:solidFill>
                <a:srgbClr val="000066"/>
              </a:solidFill>
              <a:latin typeface="Arial"/>
            </a:endParaRPr>
          </a:p>
          <a:p>
            <a:pPr lvl="2" marL="1143000" indent="-2286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hird Outline Level</a:t>
            </a:r>
            <a:endParaRPr b="1" lang="en-US" sz="2800" spc="-1" strike="noStrike">
              <a:solidFill>
                <a:srgbClr val="000066"/>
              </a:solidFill>
              <a:latin typeface="Arial"/>
            </a:endParaRPr>
          </a:p>
          <a:p>
            <a:pPr lvl="3" marL="1600200" indent="-2286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Fourth Outline Level</a:t>
            </a:r>
            <a:endParaRPr b="1" lang="en-US" sz="2800" spc="-1" strike="noStrike">
              <a:solidFill>
                <a:srgbClr val="000066"/>
              </a:solidFill>
              <a:latin typeface="Arial"/>
            </a:endParaRPr>
          </a:p>
          <a:p>
            <a:pPr lvl="4" marL="2057400" indent="-2286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Fifth Outline Level</a:t>
            </a:r>
            <a:endParaRPr b="1"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ixth Outline Level</a:t>
            </a:r>
            <a:endParaRPr b="1"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eventh Outline Level</a:t>
            </a:r>
            <a:endParaRPr b="1" lang="en-US" sz="2800" spc="-1" strike="noStrike">
              <a:solidFill>
                <a:srgbClr val="000066"/>
              </a:solidFill>
              <a:latin typeface="Arial"/>
            </a:endParaRPr>
          </a:p>
        </p:txBody>
      </p:sp>
      <p:pic>
        <p:nvPicPr>
          <p:cNvPr id="2" name="" descr=""/>
          <p:cNvPicPr/>
          <p:nvPr/>
        </p:nvPicPr>
        <p:blipFill>
          <a:blip r:embed="rId2"/>
          <a:stretch/>
        </p:blipFill>
        <p:spPr>
          <a:xfrm>
            <a:off x="6896160" y="6446880"/>
            <a:ext cx="2247840" cy="411120"/>
          </a:xfrm>
          <a:prstGeom prst="rect">
            <a:avLst/>
          </a:prstGeom>
          <a:ln w="0">
            <a:noFill/>
          </a:ln>
        </p:spPr>
      </p:pic>
      <p:sp>
        <p:nvSpPr>
          <p:cNvPr id="3" name=""/>
          <p:cNvSpPr/>
          <p:nvPr/>
        </p:nvSpPr>
        <p:spPr>
          <a:xfrm>
            <a:off x="6118200" y="477360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0" y="6642000"/>
            <a:ext cx="17398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Slide </a:t>
            </a:r>
            <a:fld id="{7566DC95-A910-439F-8A10-14124288F5B2}" type="slidenum">
              <a:rPr b="0" lang="en-US" sz="800" spc="-1" strike="noStrike">
                <a:solidFill>
                  <a:srgbClr val="ffffff"/>
                </a:solidFill>
                <a:latin typeface="Arial"/>
              </a:rPr>
              <a:t>&lt;number&gt;</a:t>
            </a:fld>
            <a:r>
              <a:rPr b="0" lang="en-US" sz="800" spc="-1" strike="noStrike">
                <a:solidFill>
                  <a:srgbClr val="ffffff"/>
                </a:solidFill>
                <a:latin typeface="Arial"/>
              </a:rPr>
              <a:t>     © LSC Group 1998</a:t>
            </a:r>
            <a:endParaRPr b="0" lang="en-US" sz="800" spc="-1" strike="noStrike">
              <a:solidFill>
                <a:srgbClr val="000000"/>
              </a:solidFill>
              <a:latin typeface="Times New Roman"/>
            </a:endParaRPr>
          </a:p>
        </p:txBody>
      </p:sp>
      <p:pic>
        <p:nvPicPr>
          <p:cNvPr id="5" name="1050.revisedleftright" descr=""/>
          <p:cNvPicPr/>
          <p:nvPr/>
        </p:nvPicPr>
        <p:blipFill>
          <a:blip r:embed="rId3"/>
          <a:srcRect l="8424" t="0" r="17542" b="0"/>
          <a:stretch/>
        </p:blipFill>
        <p:spPr>
          <a:xfrm>
            <a:off x="0" y="0"/>
            <a:ext cx="1608120" cy="6858000"/>
          </a:xfrm>
          <a:prstGeom prst="rect">
            <a:avLst/>
          </a:prstGeom>
          <a:ln w="0">
            <a:noFill/>
          </a:ln>
        </p:spPr>
      </p:pic>
      <p:sp>
        <p:nvSpPr>
          <p:cNvPr id="6" name=""/>
          <p:cNvSpPr/>
          <p:nvPr/>
        </p:nvSpPr>
        <p:spPr>
          <a:xfrm>
            <a:off x="-2160" y="6632640"/>
            <a:ext cx="12794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00"/>
                </a:solidFill>
                <a:latin typeface="Times New Roman"/>
              </a:rPr>
              <a:t>© LSC Group Ltd 2004</a:t>
            </a:r>
            <a:endParaRPr b="0" lang="en-US" sz="900" spc="-1" strike="noStrike">
              <a:solidFill>
                <a:srgbClr val="000000"/>
              </a:solidFill>
              <a:latin typeface="Times New Roman"/>
            </a:endParaRPr>
          </a:p>
        </p:txBody>
      </p:sp>
      <p:sp>
        <p:nvSpPr>
          <p:cNvPr id="7" name=""/>
          <p:cNvSpPr/>
          <p:nvPr/>
        </p:nvSpPr>
        <p:spPr>
          <a:xfrm>
            <a:off x="3960" y="0"/>
            <a:ext cx="362880" cy="2408400"/>
          </a:xfrm>
          <a:prstGeom prst="rect">
            <a:avLst/>
          </a:prstGeom>
          <a:noFill/>
          <a:ln w="0">
            <a:noFill/>
          </a:ln>
        </p:spPr>
        <p:style>
          <a:lnRef idx="0"/>
          <a:fillRef idx="0"/>
          <a:effectRef idx="0"/>
          <a:fontRef idx="minor"/>
        </p:style>
        <p:txBody>
          <a:bodyPr lIns="90000" rIns="90000" tIns="46800" bIns="46800" anchor="t" vert="eaVe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Times New Roman"/>
              </a:rPr>
              <a:t>www.lsc.co.uk/</a:t>
            </a:r>
            <a:r>
              <a:rPr b="0" lang="en-US" sz="1200" spc="-1" strike="noStrike">
                <a:solidFill>
                  <a:srgbClr val="ffff00"/>
                </a:solidFill>
                <a:latin typeface="Times New Roman"/>
              </a:rPr>
              <a:t>leansupply/ramp.html</a:t>
            </a:r>
            <a:endParaRPr b="0" lang="en-US" sz="1200" spc="-1" strike="noStrike">
              <a:solidFill>
                <a:srgbClr val="000000"/>
              </a:solidFill>
              <a:latin typeface="Times New Roman"/>
            </a:endParaRPr>
          </a:p>
        </p:txBody>
      </p:sp>
      <p:sp>
        <p:nvSpPr>
          <p:cNvPr id="8" name=""/>
          <p:cNvSpPr/>
          <p:nvPr/>
        </p:nvSpPr>
        <p:spPr>
          <a:xfrm>
            <a:off x="1406520" y="0"/>
            <a:ext cx="7737480" cy="72396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Univers"/>
              </a:rPr>
              <a:t>Lean Manufacturing Workshop</a:t>
            </a:r>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5.wmf"/><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image" Target="../media/image26.png"/><Relationship Id="rId6"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image" Target="../media/image36.png"/><Relationship Id="rId6" Type="http://schemas.openxmlformats.org/officeDocument/2006/relationships/image" Target="../media/image37.png"/><Relationship Id="rId7" Type="http://schemas.openxmlformats.org/officeDocument/2006/relationships/image" Target="../media/image38.png"/><Relationship Id="rId8" Type="http://schemas.openxmlformats.org/officeDocument/2006/relationships/image" Target="../media/image39.png"/><Relationship Id="rId9" Type="http://schemas.openxmlformats.org/officeDocument/2006/relationships/image" Target="../media/image40.png"/><Relationship Id="rId10" Type="http://schemas.openxmlformats.org/officeDocument/2006/relationships/slideLayout" Target="../slideLayouts/slideLayout5.xml"/><Relationship Id="rId11"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jpe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jpeg"/><Relationship Id="rId7" Type="http://schemas.openxmlformats.org/officeDocument/2006/relationships/image" Target="../media/image7.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wmf"/><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9fe"/>
            </a:gs>
            <a:gs pos="100000">
              <a:srgbClr val="fefefe"/>
            </a:gs>
          </a:gsLst>
          <a:lin ang="10800000"/>
        </a:gradFill>
      </p:bgPr>
    </p:bg>
    <p:spTree>
      <p:nvGrpSpPr>
        <p:cNvPr id="1" name=""/>
        <p:cNvGrpSpPr/>
        <p:nvPr/>
      </p:nvGrpSpPr>
      <p:grpSpPr>
        <a:xfrm>
          <a:off x="0" y="0"/>
          <a:ext cx="0" cy="0"/>
          <a:chOff x="0" y="0"/>
          <a:chExt cx="0" cy="0"/>
        </a:xfrm>
      </p:grpSpPr>
      <p:sp>
        <p:nvSpPr>
          <p:cNvPr id="5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PlaceHolder 1"/>
          <p:cNvSpPr>
            <a:spLocks noGrp="1"/>
          </p:cNvSpPr>
          <p:nvPr>
            <p:ph type="subTitle"/>
          </p:nvPr>
        </p:nvSpPr>
        <p:spPr>
          <a:xfrm>
            <a:off x="254160" y="925200"/>
            <a:ext cx="8889840" cy="2978280"/>
          </a:xfrm>
          <a:prstGeom prst="rect">
            <a:avLst/>
          </a:prstGeom>
          <a:noFill/>
          <a:ln w="0">
            <a:noFill/>
          </a:ln>
        </p:spPr>
        <p:txBody>
          <a:bodyPr lIns="90360" rIns="90360" tIns="44280" bIns="44280" anchor="t">
            <a:noAutofit/>
          </a:bodyPr>
          <a:p>
            <a:pPr marL="324000" indent="-324000" algn="ctr">
              <a:spcBef>
                <a:spcPts val="7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4400" spc="-1" strike="noStrike">
                <a:solidFill>
                  <a:srgbClr val="000066"/>
                </a:solidFill>
                <a:latin typeface="Arial"/>
              </a:rPr>
              <a:t>Case Study</a:t>
            </a:r>
            <a:br>
              <a:rPr sz="4400"/>
            </a:br>
            <a:r>
              <a:rPr b="1" lang="en-US" sz="2800" spc="-1" strike="noStrike">
                <a:solidFill>
                  <a:srgbClr val="000066"/>
                </a:solidFill>
                <a:latin typeface="Arial"/>
              </a:rPr>
              <a:t>Reducing Inventory </a:t>
            </a:r>
            <a:endParaRPr b="1" lang="en-US" sz="2800" spc="-1" strike="noStrike">
              <a:solidFill>
                <a:srgbClr val="000066"/>
              </a:solidFill>
              <a:latin typeface="Arial"/>
            </a:endParaRPr>
          </a:p>
          <a:p>
            <a:pPr marL="324000" indent="-324000" algn="ctr">
              <a:spcBef>
                <a:spcPts val="7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800" spc="-1" strike="noStrike">
                <a:solidFill>
                  <a:srgbClr val="000066"/>
                </a:solidFill>
                <a:latin typeface="Arial"/>
              </a:rPr>
              <a:t>in the Ship Support Industry</a:t>
            </a:r>
            <a:endParaRPr b="1" lang="en-US" sz="2800" spc="-1" strike="noStrike">
              <a:solidFill>
                <a:srgbClr val="000066"/>
              </a:solidFill>
              <a:latin typeface="Arial"/>
            </a:endParaRPr>
          </a:p>
          <a:p>
            <a:pPr marL="324000" indent="-324000" algn="ctr">
              <a:spcBef>
                <a:spcPts val="7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1" lang="en-US" sz="2800" spc="-1" strike="noStrike">
              <a:solidFill>
                <a:srgbClr val="000066"/>
              </a:solidFill>
              <a:latin typeface="Arial"/>
            </a:endParaRPr>
          </a:p>
          <a:p>
            <a:pPr marL="324000" indent="-324000" algn="ctr">
              <a:spcBef>
                <a:spcPts val="7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800" spc="-1" strike="noStrike">
                <a:solidFill>
                  <a:srgbClr val="000066"/>
                </a:solidFill>
                <a:latin typeface="Arial"/>
              </a:rPr>
              <a:t>Lean Manufacturing Workshop</a:t>
            </a:r>
            <a:endParaRPr b="1" lang="en-US" sz="2800" spc="-1" strike="noStrike">
              <a:solidFill>
                <a:srgbClr val="000066"/>
              </a:solidFill>
              <a:latin typeface="Arial"/>
            </a:endParaRPr>
          </a:p>
          <a:p>
            <a:pPr marL="324000" indent="-324000" algn="ctr">
              <a:spcBef>
                <a:spcPts val="7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800" spc="-1" strike="noStrike">
                <a:solidFill>
                  <a:srgbClr val="000066"/>
                </a:solidFill>
                <a:latin typeface="Arial"/>
              </a:rPr>
              <a:t>Seattle</a:t>
            </a:r>
            <a:endParaRPr b="1" lang="en-US" sz="2800" spc="-1" strike="noStrike">
              <a:solidFill>
                <a:srgbClr val="000066"/>
              </a:solidFill>
              <a:latin typeface="Arial"/>
            </a:endParaRPr>
          </a:p>
          <a:p>
            <a:pPr marL="324000" indent="-324000" algn="ctr">
              <a:spcBef>
                <a:spcPts val="7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1" lang="en-US" sz="2800" spc="-1" strike="noStrike">
              <a:solidFill>
                <a:srgbClr val="000066"/>
              </a:solidFill>
              <a:latin typeface="Arial"/>
            </a:endParaRPr>
          </a:p>
          <a:p>
            <a:pPr marL="324000" indent="-324000" algn="ctr">
              <a:spcBef>
                <a:spcPts val="601"/>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000066"/>
                </a:solidFill>
                <a:latin typeface="Arial"/>
              </a:rPr>
              <a:t>Alan Crawford</a:t>
            </a:r>
            <a:endParaRPr b="1" lang="en-US" sz="2400" spc="-1" strike="noStrike">
              <a:solidFill>
                <a:srgbClr val="000066"/>
              </a:solidFill>
              <a:latin typeface="Arial"/>
            </a:endParaRPr>
          </a:p>
          <a:p>
            <a:pPr marL="324000" indent="-324000" algn="ctr">
              <a:spcBef>
                <a:spcPts val="601"/>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000066"/>
                </a:solidFill>
                <a:latin typeface="Arial"/>
              </a:rPr>
              <a:t>alc@lsc.co.uk</a:t>
            </a:r>
            <a:endParaRPr b="1" lang="en-US" sz="2400" spc="-1" strike="noStrike">
              <a:solidFill>
                <a:srgbClr val="000066"/>
              </a:solidFill>
              <a:latin typeface="Arial"/>
            </a:endParaRPr>
          </a:p>
          <a:p>
            <a:pPr marL="324000" indent="-324000" algn="ctr">
              <a:spcBef>
                <a:spcPts val="601"/>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1" lang="en-US" sz="2400" spc="-1" strike="noStrike">
              <a:solidFill>
                <a:srgbClr val="000066"/>
              </a:solidFill>
              <a:latin typeface="Arial"/>
            </a:endParaRPr>
          </a:p>
          <a:p>
            <a:pPr marL="324000" indent="-324000" algn="ctr">
              <a:spcBef>
                <a:spcPts val="499"/>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6D64C017-E417-4D3F-8D7D-0E500CC92A83}" type="datetime2">
              <a:rPr b="1" lang="en-US" sz="2000" spc="-1" strike="noStrike">
                <a:solidFill>
                  <a:srgbClr val="000066"/>
                </a:solidFill>
                <a:latin typeface="Arial"/>
              </a:rPr>
              <a:t>Thursday, July 30, 2026</a:t>
            </a:fld>
            <a:endParaRPr b="1" lang="en-US" sz="2000" spc="-1" strike="noStrike">
              <a:solidFill>
                <a:srgbClr val="000066"/>
              </a:solidFill>
              <a:latin typeface="Arial"/>
            </a:endParaRPr>
          </a:p>
        </p:txBody>
      </p:sp>
      <p:sp>
        <p:nvSpPr>
          <p:cNvPr id="55" name=""/>
          <p:cNvSpPr/>
          <p:nvPr/>
        </p:nvSpPr>
        <p:spPr>
          <a:xfrm>
            <a:off x="1566720" y="6521400"/>
            <a:ext cx="5108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 values approximated at $2=£1</a:t>
            </a:r>
            <a:endParaRPr b="0" lang="en-US" sz="1600" spc="-1" strike="noStrike">
              <a:solidFill>
                <a:srgbClr val="000000"/>
              </a:solidFill>
              <a:latin typeface="Times New Roman"/>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9fe"/>
            </a:gs>
            <a:gs pos="100000">
              <a:srgbClr val="fefefe"/>
            </a:gs>
          </a:gsLst>
          <a:lin ang="108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62040" y="647280"/>
            <a:ext cx="609624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Agenda</a:t>
            </a:r>
            <a:endParaRPr b="1" lang="en-US" sz="4000" spc="-1" strike="noStrike">
              <a:solidFill>
                <a:srgbClr val="3333cc"/>
              </a:solidFill>
              <a:latin typeface="Univers"/>
            </a:endParaRPr>
          </a:p>
        </p:txBody>
      </p:sp>
      <p:sp>
        <p:nvSpPr>
          <p:cNvPr id="99" name="PlaceHolder 2"/>
          <p:cNvSpPr>
            <a:spLocks noGrp="1"/>
          </p:cNvSpPr>
          <p:nvPr>
            <p:ph/>
          </p:nvPr>
        </p:nvSpPr>
        <p:spPr>
          <a:xfrm>
            <a:off x="1733040" y="1787400"/>
            <a:ext cx="7410600" cy="4114800"/>
          </a:xfrm>
          <a:prstGeom prst="rect">
            <a:avLst/>
          </a:prstGeom>
          <a:noFill/>
          <a:ln w="0">
            <a:noFill/>
          </a:ln>
        </p:spPr>
        <p:txBody>
          <a:bodyPr lIns="92160" rIns="92160" tIns="46080" bIns="46080" anchor="t">
            <a:normAutofit/>
          </a:bodyPr>
          <a:p>
            <a:pPr marL="343080" indent="-343080">
              <a:spcBef>
                <a:spcPts val="601"/>
              </a:spcBef>
              <a:buClr>
                <a:srgbClr val="8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9900"/>
                </a:solidFill>
                <a:latin typeface="Arial"/>
              </a:rPr>
              <a:t>Overview of RAMP</a:t>
            </a:r>
            <a:endParaRPr b="1" lang="en-US" sz="2400" spc="-1" strike="noStrike">
              <a:solidFill>
                <a:srgbClr val="000066"/>
              </a:solidFill>
              <a:latin typeface="Arial"/>
            </a:endParaRPr>
          </a:p>
          <a:p>
            <a:pPr marL="343080" indent="-343080">
              <a:spcBef>
                <a:spcPts val="601"/>
              </a:spcBef>
              <a:buClr>
                <a:srgbClr val="8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UK Evaluations of RAMP</a:t>
            </a:r>
            <a:endParaRPr b="1" lang="en-US" sz="2400" spc="-1" strike="noStrike">
              <a:solidFill>
                <a:srgbClr val="000066"/>
              </a:solidFill>
              <a:latin typeface="Arial"/>
            </a:endParaRPr>
          </a:p>
          <a:p>
            <a:pPr lvl="1" marL="743040" indent="-285840">
              <a:spcBef>
                <a:spcPts val="601"/>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UK Navy RAMP Project</a:t>
            </a:r>
            <a:endParaRPr b="1" lang="en-US" sz="2400" spc="-1" strike="noStrike">
              <a:solidFill>
                <a:srgbClr val="000066"/>
              </a:solidFill>
              <a:latin typeface="Arial"/>
            </a:endParaRPr>
          </a:p>
          <a:p>
            <a:pPr lvl="1" marL="743040" indent="-285840">
              <a:spcBef>
                <a:spcPts val="601"/>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Evaluation of UK Navy Store for AP224</a:t>
            </a:r>
            <a:endParaRPr b="1" lang="en-US" sz="2400" spc="-1" strike="noStrike">
              <a:solidFill>
                <a:srgbClr val="000066"/>
              </a:solidFill>
              <a:latin typeface="Arial"/>
            </a:endParaRPr>
          </a:p>
          <a:p>
            <a:pPr lvl="1" marL="743040" indent="-285840">
              <a:spcBef>
                <a:spcPts val="601"/>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DML RAMP Evaluation Project</a:t>
            </a:r>
            <a:endParaRPr b="1" lang="en-US" sz="2400" spc="-1" strike="noStrike">
              <a:solidFill>
                <a:srgbClr val="000066"/>
              </a:solidFill>
              <a:latin typeface="Arial"/>
            </a:endParaRPr>
          </a:p>
          <a:p>
            <a:pPr marL="343080" indent="-343080">
              <a:spcBef>
                <a:spcPts val="601"/>
              </a:spcBef>
              <a:buClr>
                <a:srgbClr val="8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9900"/>
                </a:solidFill>
                <a:latin typeface="Arial"/>
              </a:rPr>
              <a:t>UK Deployment of RAMP</a:t>
            </a:r>
            <a:endParaRPr b="1" lang="en-US" sz="2400" spc="-1" strike="noStrike">
              <a:solidFill>
                <a:srgbClr val="000066"/>
              </a:solidFill>
              <a:latin typeface="Arial"/>
            </a:endParaRPr>
          </a:p>
          <a:p>
            <a:pPr lvl="1" marL="743040" indent="-285840">
              <a:spcBef>
                <a:spcPts val="601"/>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9900"/>
                </a:solidFill>
                <a:latin typeface="Arial"/>
              </a:rPr>
              <a:t>Submarine Legacy Spares – business case</a:t>
            </a:r>
            <a:endParaRPr b="1" lang="en-US" sz="2400" spc="-1" strike="noStrike">
              <a:solidFill>
                <a:srgbClr val="000066"/>
              </a:solidFill>
              <a:latin typeface="Arial"/>
            </a:endParaRPr>
          </a:p>
          <a:p>
            <a:pPr lvl="1" marL="743040" indent="-285840">
              <a:spcBef>
                <a:spcPts val="601"/>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9900"/>
                </a:solidFill>
                <a:latin typeface="Arial"/>
              </a:rPr>
              <a:t>Submarine Legacy Spares – status</a:t>
            </a:r>
            <a:endParaRPr b="1" lang="en-US" sz="2400" spc="-1" strike="noStrike">
              <a:solidFill>
                <a:srgbClr val="000066"/>
              </a:solidFill>
              <a:latin typeface="Arial"/>
            </a:endParaRPr>
          </a:p>
          <a:p>
            <a:pPr lvl="1" marL="743040" indent="-285840">
              <a:spcBef>
                <a:spcPts val="601"/>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9900"/>
                </a:solidFill>
                <a:latin typeface="Arial"/>
              </a:rPr>
              <a:t>RAMP at DML </a:t>
            </a:r>
            <a:endParaRPr b="1" lang="en-US" sz="2400" spc="-1" strike="noStrike">
              <a:solidFill>
                <a:srgbClr val="0000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9fe"/>
            </a:gs>
            <a:gs pos="100000">
              <a:srgbClr val="fefefe"/>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485720" y="685440"/>
            <a:ext cx="8381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Univers"/>
              </a:rPr>
              <a:t>UK Navy RAMP Project</a:t>
            </a:r>
            <a:endParaRPr b="1" lang="en-US" sz="3600" spc="-1" strike="noStrike">
              <a:solidFill>
                <a:srgbClr val="3333cc"/>
              </a:solidFill>
              <a:latin typeface="Univers"/>
            </a:endParaRPr>
          </a:p>
        </p:txBody>
      </p:sp>
      <p:sp>
        <p:nvSpPr>
          <p:cNvPr id="101" name="PlaceHolder 2"/>
          <p:cNvSpPr>
            <a:spLocks noGrp="1"/>
          </p:cNvSpPr>
          <p:nvPr>
            <p:ph/>
          </p:nvPr>
        </p:nvSpPr>
        <p:spPr>
          <a:xfrm>
            <a:off x="1179360" y="1676520"/>
            <a:ext cx="7964640" cy="4114800"/>
          </a:xfrm>
          <a:prstGeom prst="rect">
            <a:avLst/>
          </a:prstGeom>
          <a:noFill/>
          <a:ln w="0">
            <a:noFill/>
          </a:ln>
        </p:spPr>
        <p:txBody>
          <a:bodyPr lIns="92160" rIns="92160" tIns="46080" bIns="46080" anchor="t">
            <a:normAutofit fontScale="96000"/>
          </a:bodyPr>
          <a:p>
            <a:pPr marL="329040" indent="-329040">
              <a:lnSpc>
                <a:spcPct val="90000"/>
              </a:lnSpc>
              <a:spcBef>
                <a:spcPts val="601"/>
              </a:spcBef>
              <a:buClr>
                <a:srgbClr val="8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Project partnership</a:t>
            </a:r>
            <a:endParaRPr b="1" lang="en-US" sz="2400" spc="-1" strike="noStrike">
              <a:solidFill>
                <a:srgbClr val="000066"/>
              </a:solidFill>
              <a:latin typeface="Arial"/>
            </a:endParaRPr>
          </a:p>
          <a:p>
            <a:pPr lvl="1" marL="713160" indent="-274320">
              <a:lnSpc>
                <a:spcPct val="90000"/>
              </a:lnSpc>
              <a:spcBef>
                <a:spcPts val="4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WSA, Babcock, Arnold Wragg, LSC, PAFEC, CIMTEL, Keyworth</a:t>
            </a:r>
            <a:endParaRPr b="1" lang="en-US" sz="2000" spc="-1" strike="noStrike">
              <a:solidFill>
                <a:srgbClr val="000066"/>
              </a:solidFill>
              <a:latin typeface="Arial"/>
            </a:endParaRPr>
          </a:p>
          <a:p>
            <a:pPr marL="329040" indent="-329040">
              <a:lnSpc>
                <a:spcPct val="90000"/>
              </a:lnSpc>
              <a:spcBef>
                <a:spcPts val="601"/>
              </a:spcBef>
              <a:buClr>
                <a:srgbClr val="8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Representation of a sample of UK Navy Store items in AP224</a:t>
            </a:r>
            <a:endParaRPr b="1" lang="en-US" sz="2400" spc="-1" strike="noStrike">
              <a:solidFill>
                <a:srgbClr val="000066"/>
              </a:solidFill>
              <a:latin typeface="Arial"/>
            </a:endParaRPr>
          </a:p>
          <a:p>
            <a:pPr lvl="1" marL="713160" indent="-274320">
              <a:lnSpc>
                <a:spcPct val="90000"/>
              </a:lnSpc>
              <a:spcBef>
                <a:spcPts val="4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394 fasteners </a:t>
            </a:r>
            <a:endParaRPr b="1" lang="en-US" sz="2000" spc="-1" strike="noStrike">
              <a:solidFill>
                <a:srgbClr val="000066"/>
              </a:solidFill>
              <a:latin typeface="Arial"/>
            </a:endParaRPr>
          </a:p>
          <a:p>
            <a:pPr lvl="1" marL="713160" indent="-274320">
              <a:lnSpc>
                <a:spcPct val="90000"/>
              </a:lnSpc>
              <a:spcBef>
                <a:spcPts val="4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191 axi-symmetric and prismatic items in AP224</a:t>
            </a:r>
            <a:endParaRPr b="1" lang="en-US" sz="2000" spc="-1" strike="noStrike">
              <a:solidFill>
                <a:srgbClr val="000066"/>
              </a:solidFill>
              <a:latin typeface="Arial"/>
            </a:endParaRPr>
          </a:p>
          <a:p>
            <a:pPr marL="329040" indent="-329040">
              <a:lnSpc>
                <a:spcPct val="90000"/>
              </a:lnSpc>
              <a:spcBef>
                <a:spcPts val="601"/>
              </a:spcBef>
              <a:buClr>
                <a:srgbClr val="8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Manufacture by two defence suppliers</a:t>
            </a:r>
            <a:endParaRPr b="1" lang="en-US" sz="2400" spc="-1" strike="noStrike">
              <a:solidFill>
                <a:srgbClr val="000066"/>
              </a:solidFill>
              <a:latin typeface="Arial"/>
            </a:endParaRPr>
          </a:p>
          <a:p>
            <a:pPr lvl="1" marL="713160" indent="-274320">
              <a:lnSpc>
                <a:spcPct val="90000"/>
              </a:lnSpc>
              <a:spcBef>
                <a:spcPts val="4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Evaluation trials of manufacture</a:t>
            </a:r>
            <a:endParaRPr b="1" lang="en-US" sz="2000" spc="-1" strike="noStrike">
              <a:solidFill>
                <a:srgbClr val="000066"/>
              </a:solidFill>
              <a:latin typeface="Arial"/>
            </a:endParaRPr>
          </a:p>
          <a:p>
            <a:pPr lvl="1" marL="713160" indent="-274320">
              <a:lnSpc>
                <a:spcPct val="90000"/>
              </a:lnSpc>
              <a:spcBef>
                <a:spcPts val="4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Technical &amp; time based comparison</a:t>
            </a:r>
            <a:endParaRPr b="1" lang="en-US" sz="2000" spc="-1" strike="noStrike">
              <a:solidFill>
                <a:srgbClr val="000066"/>
              </a:solidFill>
              <a:latin typeface="Arial"/>
            </a:endParaRPr>
          </a:p>
          <a:p>
            <a:pPr marL="329040" indent="-329040">
              <a:lnSpc>
                <a:spcPct val="90000"/>
              </a:lnSpc>
              <a:spcBef>
                <a:spcPts val="601"/>
              </a:spcBef>
              <a:buClr>
                <a:srgbClr val="8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Demonstrated that RAMP is applicable to UK defence environment</a:t>
            </a:r>
            <a:endParaRPr b="1" lang="en-US" sz="2400" spc="-1" strike="noStrike">
              <a:solidFill>
                <a:srgbClr val="000066"/>
              </a:solidFill>
              <a:latin typeface="Arial"/>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9fe"/>
            </a:gs>
            <a:gs pos="100000">
              <a:srgbClr val="fefefe"/>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76200" y="704520"/>
            <a:ext cx="83822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Univers"/>
              </a:rPr>
              <a:t>Naval Spares Inventory Analysis</a:t>
            </a:r>
            <a:endParaRPr b="1" lang="en-US" sz="3600" spc="-1" strike="noStrike">
              <a:solidFill>
                <a:srgbClr val="3333cc"/>
              </a:solidFill>
              <a:latin typeface="Univers"/>
            </a:endParaRPr>
          </a:p>
        </p:txBody>
      </p:sp>
      <p:sp>
        <p:nvSpPr>
          <p:cNvPr id="103" name="PlaceHolder 2"/>
          <p:cNvSpPr>
            <a:spLocks noGrp="1"/>
          </p:cNvSpPr>
          <p:nvPr>
            <p:ph/>
          </p:nvPr>
        </p:nvSpPr>
        <p:spPr>
          <a:xfrm>
            <a:off x="1371600" y="192420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8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rPr>
              <a:t>Commissioned by WSA  in 2000</a:t>
            </a:r>
            <a:endParaRPr b="1" lang="en-US" sz="2800" spc="-1" strike="noStrike">
              <a:solidFill>
                <a:srgbClr val="000066"/>
              </a:solidFill>
              <a:latin typeface="Arial"/>
            </a:endParaRPr>
          </a:p>
          <a:p>
            <a:pPr marL="343080" indent="-343080">
              <a:lnSpc>
                <a:spcPct val="90000"/>
              </a:lnSpc>
              <a:spcBef>
                <a:spcPts val="700"/>
              </a:spcBef>
              <a:buClr>
                <a:srgbClr val="8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rPr>
              <a:t>Evaluation of applicability of AP224 </a:t>
            </a:r>
            <a:endParaRPr b="1" lang="en-US" sz="2800" spc="-1" strike="noStrike">
              <a:solidFill>
                <a:srgbClr val="000066"/>
              </a:solidFill>
              <a:latin typeface="Arial"/>
            </a:endParaRPr>
          </a:p>
          <a:p>
            <a:pPr lvl="1" marL="743040" indent="-285840">
              <a:lnSpc>
                <a:spcPct val="90000"/>
              </a:lnSpc>
              <a:spcBef>
                <a:spcPts val="601"/>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Test the extent of RAMP business</a:t>
            </a:r>
            <a:endParaRPr b="1" lang="en-US" sz="2400" spc="-1" strike="noStrike">
              <a:solidFill>
                <a:srgbClr val="000066"/>
              </a:solidFill>
              <a:latin typeface="Arial"/>
            </a:endParaRPr>
          </a:p>
          <a:p>
            <a:pPr lvl="1" marL="743040" indent="-285840">
              <a:lnSpc>
                <a:spcPct val="90000"/>
              </a:lnSpc>
              <a:spcBef>
                <a:spcPts val="601"/>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Used NATO Item Name Code (INC)</a:t>
            </a:r>
            <a:endParaRPr b="1" lang="en-US" sz="2400" spc="-1" strike="noStrike">
              <a:solidFill>
                <a:srgbClr val="000066"/>
              </a:solidFill>
              <a:latin typeface="Arial"/>
            </a:endParaRPr>
          </a:p>
          <a:p>
            <a:pPr lvl="1" marL="743040" indent="-285840">
              <a:lnSpc>
                <a:spcPct val="90000"/>
              </a:lnSpc>
              <a:spcBef>
                <a:spcPts val="601"/>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Sample examination of items in each INC</a:t>
            </a:r>
            <a:endParaRPr b="1" lang="en-US" sz="2400" spc="-1" strike="noStrike">
              <a:solidFill>
                <a:srgbClr val="000066"/>
              </a:solidFill>
              <a:latin typeface="Arial"/>
            </a:endParaRPr>
          </a:p>
          <a:p>
            <a:pPr lvl="1" marL="743040" indent="-285840">
              <a:lnSpc>
                <a:spcPct val="90000"/>
              </a:lnSpc>
              <a:spcBef>
                <a:spcPts val="601"/>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Small number of INCs represent a large number of items in the inventory.</a:t>
            </a:r>
            <a:endParaRPr b="1" lang="en-US" sz="2400" spc="-1" strike="noStrike">
              <a:solidFill>
                <a:srgbClr val="000066"/>
              </a:solidFill>
              <a:latin typeface="Arial"/>
            </a:endParaRPr>
          </a:p>
          <a:p>
            <a:pPr lvl="2" marL="1143000" indent="-228600">
              <a:lnSpc>
                <a:spcPct val="90000"/>
              </a:lnSpc>
              <a:spcBef>
                <a:spcPts val="499"/>
              </a:spcBef>
              <a:buClr>
                <a:srgbClr val="8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100 INCs ~ 175,000 items in scope of AP224</a:t>
            </a:r>
            <a:endParaRPr b="1" lang="en-US" sz="2000" spc="-1" strike="noStrike">
              <a:solidFill>
                <a:srgbClr val="000066"/>
              </a:solidFill>
              <a:latin typeface="Arial"/>
            </a:endParaRPr>
          </a:p>
          <a:p>
            <a:pPr marL="343080" indent="-343080">
              <a:lnSpc>
                <a:spcPct val="90000"/>
              </a:lnSpc>
              <a:spcBef>
                <a:spcPts val="601"/>
              </a:spcBef>
              <a:buClr>
                <a:srgbClr val="8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Results</a:t>
            </a:r>
            <a:endParaRPr b="1" lang="en-US" sz="2400" spc="-1" strike="noStrike">
              <a:solidFill>
                <a:srgbClr val="000066"/>
              </a:solidFill>
              <a:latin typeface="Arial"/>
            </a:endParaRPr>
          </a:p>
          <a:p>
            <a:pPr lvl="1" marL="743040" indent="-285840">
              <a:lnSpc>
                <a:spcPct val="90000"/>
              </a:lnSpc>
              <a:spcBef>
                <a:spcPts val="4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191,000 items suitable for RAMP </a:t>
            </a:r>
            <a:endParaRPr b="1" lang="en-US" sz="2000" spc="-1" strike="noStrike">
              <a:solidFill>
                <a:srgbClr val="0000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Arial"/>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9fe"/>
            </a:gs>
            <a:gs pos="100000">
              <a:srgbClr val="fefefe"/>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1000080" y="1533600"/>
            <a:ext cx="8391600" cy="5324400"/>
          </a:xfrm>
          <a:prstGeom prst="rect">
            <a:avLst/>
          </a:prstGeom>
          <a:noFill/>
          <a:ln w="0">
            <a:noFill/>
          </a:ln>
        </p:spPr>
        <p:txBody>
          <a:bodyPr lIns="92160" rIns="92160" tIns="46080" bIns="46080" anchor="t">
            <a:normAutofit/>
          </a:bodyPr>
          <a:p>
            <a:pPr marL="343080" indent="-343080">
              <a:spcBef>
                <a:spcPts val="601"/>
              </a:spcBef>
              <a:buClr>
                <a:srgbClr val="8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Warship Support Agency</a:t>
            </a:r>
            <a:endParaRPr b="1" lang="en-US" sz="2400" spc="-1" strike="noStrike">
              <a:solidFill>
                <a:srgbClr val="000066"/>
              </a:solidFill>
              <a:latin typeface="Arial"/>
            </a:endParaRPr>
          </a:p>
          <a:p>
            <a:pPr lvl="1" marL="743040" indent="-285840">
              <a:spcBef>
                <a:spcPts val="4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Initiated, funded and ran the project</a:t>
            </a:r>
            <a:endParaRPr b="1" lang="en-US" sz="2000" spc="-1" strike="noStrike">
              <a:solidFill>
                <a:srgbClr val="000066"/>
              </a:solidFill>
              <a:latin typeface="Arial"/>
            </a:endParaRPr>
          </a:p>
          <a:p>
            <a:pPr lvl="1" marL="743040" indent="-285840">
              <a:spcBef>
                <a:spcPts val="4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Involvement of Corporate Technical Services</a:t>
            </a:r>
            <a:endParaRPr b="1" lang="en-US" sz="2000" spc="-1" strike="noStrike">
              <a:solidFill>
                <a:srgbClr val="000066"/>
              </a:solidFill>
              <a:latin typeface="Arial"/>
            </a:endParaRPr>
          </a:p>
          <a:p>
            <a:pPr lvl="1" marL="743040" indent="-285840">
              <a:spcBef>
                <a:spcPts val="4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Feedback to IPTs</a:t>
            </a:r>
            <a:endParaRPr b="1" lang="en-US" sz="2000" spc="-1" strike="noStrike">
              <a:solidFill>
                <a:srgbClr val="000066"/>
              </a:solidFill>
              <a:latin typeface="Arial"/>
            </a:endParaRPr>
          </a:p>
          <a:p>
            <a:pPr marL="343080" indent="-343080">
              <a:spcBef>
                <a:spcPts val="601"/>
              </a:spcBef>
              <a:buClr>
                <a:srgbClr val="8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LSC Group Ltd</a:t>
            </a:r>
            <a:endParaRPr b="1" lang="en-US" sz="2400" spc="-1" strike="noStrike">
              <a:solidFill>
                <a:srgbClr val="000066"/>
              </a:solidFill>
              <a:latin typeface="Arial"/>
            </a:endParaRPr>
          </a:p>
          <a:p>
            <a:pPr lvl="1" marL="743040" indent="-285840">
              <a:spcBef>
                <a:spcPts val="4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Managed the project on behalf of WSA </a:t>
            </a:r>
            <a:endParaRPr b="1" lang="en-US" sz="2000" spc="-1" strike="noStrike">
              <a:solidFill>
                <a:srgbClr val="000066"/>
              </a:solidFill>
              <a:latin typeface="Arial"/>
            </a:endParaRPr>
          </a:p>
          <a:p>
            <a:pPr lvl="1" marL="743040" indent="-285840">
              <a:spcBef>
                <a:spcPts val="4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Generated the AP224 files</a:t>
            </a:r>
            <a:endParaRPr b="1" lang="en-US" sz="2000" spc="-1" strike="noStrike">
              <a:solidFill>
                <a:srgbClr val="000066"/>
              </a:solidFill>
              <a:latin typeface="Arial"/>
            </a:endParaRPr>
          </a:p>
          <a:p>
            <a:pPr lvl="1" marL="743040" indent="-285840">
              <a:spcBef>
                <a:spcPts val="4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Provided and configured RAMP manufacturing environment using LOCAM</a:t>
            </a:r>
            <a:endParaRPr b="1" lang="en-US" sz="2000" spc="-1" strike="noStrike">
              <a:solidFill>
                <a:srgbClr val="000066"/>
              </a:solidFill>
              <a:latin typeface="Arial"/>
            </a:endParaRPr>
          </a:p>
          <a:p>
            <a:pPr marL="343080" indent="-343080">
              <a:spcBef>
                <a:spcPts val="601"/>
              </a:spcBef>
              <a:buClr>
                <a:srgbClr val="8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DML</a:t>
            </a:r>
            <a:endParaRPr b="1" lang="en-US" sz="2400" spc="-1" strike="noStrike">
              <a:solidFill>
                <a:srgbClr val="000066"/>
              </a:solidFill>
              <a:latin typeface="Arial"/>
            </a:endParaRPr>
          </a:p>
          <a:p>
            <a:pPr lvl="1" marL="743040" indent="-285840">
              <a:spcBef>
                <a:spcPts val="4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Provided manufacturing resource and knowledge</a:t>
            </a:r>
            <a:endParaRPr b="1" lang="en-US" sz="2000" spc="-1" strike="noStrike">
              <a:solidFill>
                <a:srgbClr val="000066"/>
              </a:solidFill>
              <a:latin typeface="Arial"/>
            </a:endParaRPr>
          </a:p>
          <a:p>
            <a:pPr lvl="1" marL="743040" indent="-285840">
              <a:spcBef>
                <a:spcPts val="4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Manufactured components</a:t>
            </a:r>
            <a:endParaRPr b="1" lang="en-US" sz="2000" spc="-1" strike="noStrike">
              <a:solidFill>
                <a:srgbClr val="000066"/>
              </a:solidFill>
              <a:latin typeface="Arial"/>
            </a:endParaRPr>
          </a:p>
          <a:p>
            <a:pPr lvl="1" marL="743040" indent="-285840">
              <a:spcBef>
                <a:spcPts val="4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Feedback on times for comparative trials </a:t>
            </a:r>
            <a:endParaRPr b="1" lang="en-US" sz="2000" spc="-1" strike="noStrike">
              <a:solidFill>
                <a:srgbClr val="000066"/>
              </a:solidFill>
              <a:latin typeface="Arial"/>
            </a:endParaRPr>
          </a:p>
        </p:txBody>
      </p:sp>
      <p:sp>
        <p:nvSpPr>
          <p:cNvPr id="105" name=""/>
          <p:cNvSpPr/>
          <p:nvPr/>
        </p:nvSpPr>
        <p:spPr>
          <a:xfrm>
            <a:off x="1359000" y="444600"/>
            <a:ext cx="728820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Univers"/>
              </a:rPr>
              <a:t>DML RAMP Evaluation Project </a:t>
            </a:r>
            <a:endParaRPr b="0" lang="en-US" sz="3600" spc="-1" strike="noStrike">
              <a:solidFill>
                <a:srgbClr val="000000"/>
              </a:solidFill>
              <a:latin typeface="Times New Roman"/>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9fe"/>
            </a:gs>
            <a:gs pos="100000">
              <a:srgbClr val="fefefe"/>
            </a:gs>
          </a:gsLst>
          <a:lin ang="10800000"/>
        </a:gradFill>
      </p:bgPr>
    </p:bg>
    <p:spTree>
      <p:nvGrpSpPr>
        <p:cNvPr id="1" name=""/>
        <p:cNvGrpSpPr/>
        <p:nvPr/>
      </p:nvGrpSpPr>
      <p:grpSpPr>
        <a:xfrm>
          <a:off x="0" y="0"/>
          <a:ext cx="0" cy="0"/>
          <a:chOff x="0" y="0"/>
          <a:chExt cx="0" cy="0"/>
        </a:xfrm>
      </p:grpSpPr>
      <p:pic>
        <p:nvPicPr>
          <p:cNvPr id="106" name="New%20Aerial" descr=""/>
          <p:cNvPicPr/>
          <p:nvPr/>
        </p:nvPicPr>
        <p:blipFill>
          <a:blip r:embed="rId1"/>
          <a:srcRect l="0" t="12151" r="0" b="0"/>
          <a:stretch/>
        </p:blipFill>
        <p:spPr>
          <a:xfrm>
            <a:off x="0" y="-262080"/>
            <a:ext cx="9144000" cy="7805880"/>
          </a:xfrm>
          <a:prstGeom prst="rect">
            <a:avLst/>
          </a:prstGeom>
          <a:ln w="0">
            <a:noFill/>
          </a:ln>
        </p:spPr>
      </p:pic>
      <p:pic>
        <p:nvPicPr>
          <p:cNvPr id="107" name="Marlborough" descr=""/>
          <p:cNvPicPr/>
          <p:nvPr/>
        </p:nvPicPr>
        <p:blipFill>
          <a:blip r:embed="rId2"/>
          <a:stretch/>
        </p:blipFill>
        <p:spPr>
          <a:xfrm>
            <a:off x="7467480" y="1749600"/>
            <a:ext cx="1381320" cy="1663560"/>
          </a:xfrm>
          <a:prstGeom prst="rect">
            <a:avLst/>
          </a:prstGeom>
          <a:ln w="0">
            <a:noFill/>
          </a:ln>
        </p:spPr>
      </p:pic>
      <p:pic>
        <p:nvPicPr>
          <p:cNvPr id="108" name="Trafalgar" descr=""/>
          <p:cNvPicPr/>
          <p:nvPr/>
        </p:nvPicPr>
        <p:blipFill>
          <a:blip r:embed="rId3"/>
          <a:srcRect l="10209" t="0" r="20417" b="0"/>
          <a:stretch/>
        </p:blipFill>
        <p:spPr>
          <a:xfrm>
            <a:off x="7464600" y="84240"/>
            <a:ext cx="1380960" cy="1665360"/>
          </a:xfrm>
          <a:prstGeom prst="rect">
            <a:avLst/>
          </a:prstGeom>
          <a:ln w="0">
            <a:noFill/>
          </a:ln>
        </p:spPr>
      </p:pic>
      <p:pic>
        <p:nvPicPr>
          <p:cNvPr id="109" name="Tiffany" descr=""/>
          <p:cNvPicPr/>
          <p:nvPr/>
        </p:nvPicPr>
        <p:blipFill>
          <a:blip r:embed="rId4"/>
          <a:srcRect l="11725" t="0" r="8787" b="0"/>
          <a:stretch/>
        </p:blipFill>
        <p:spPr>
          <a:xfrm>
            <a:off x="7467480" y="3414600"/>
            <a:ext cx="1378080" cy="1667160"/>
          </a:xfrm>
          <a:prstGeom prst="rect">
            <a:avLst/>
          </a:prstGeom>
          <a:ln w="0">
            <a:noFill/>
          </a:ln>
        </p:spPr>
      </p:pic>
      <p:sp>
        <p:nvSpPr>
          <p:cNvPr id="110" name=""/>
          <p:cNvSpPr/>
          <p:nvPr/>
        </p:nvSpPr>
        <p:spPr>
          <a:xfrm>
            <a:off x="533520" y="1143000"/>
            <a:ext cx="6635520" cy="4724280"/>
          </a:xfrm>
          <a:prstGeom prst="rect">
            <a:avLst/>
          </a:prstGeom>
          <a:gradFill rotWithShape="0">
            <a:gsLst>
              <a:gs pos="0">
                <a:srgbClr val="5e7575"/>
              </a:gs>
              <a:gs pos="100000">
                <a:srgbClr val="ccffff"/>
              </a:gs>
            </a:gsLst>
            <a:lin ang="5400000"/>
          </a:gradFill>
          <a:ln w="38160">
            <a:solidFill>
              <a:srgbClr val="000080"/>
            </a:solidFill>
            <a:miter/>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600 million turnover</a:t>
            </a:r>
            <a:endParaRPr b="0" lang="en-US" sz="2800" spc="-1" strike="noStrike">
              <a:solidFill>
                <a:srgbClr val="000000"/>
              </a:solidFill>
              <a:latin typeface="Times New Roman"/>
            </a:endParaRPr>
          </a:p>
          <a:p>
            <a:pPr marL="343080" indent="-343080">
              <a:lnSpc>
                <a:spcPct val="90000"/>
              </a:lnSpc>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4000 employees</a:t>
            </a:r>
            <a:endParaRPr b="0" lang="en-US" sz="2800" spc="-1" strike="noStrike">
              <a:solidFill>
                <a:srgbClr val="000000"/>
              </a:solidFill>
              <a:latin typeface="Times New Roman"/>
            </a:endParaRPr>
          </a:p>
          <a:p>
            <a:pPr marL="343080" indent="-343080">
              <a:lnSpc>
                <a:spcPct val="90000"/>
              </a:lnSpc>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wner/operator of Devonport Royal Dockyard</a:t>
            </a:r>
            <a:endParaRPr b="0" lang="en-US" sz="2800" spc="-1" strike="noStrike">
              <a:solidFill>
                <a:srgbClr val="000000"/>
              </a:solidFill>
              <a:latin typeface="Times New Roman"/>
            </a:endParaRPr>
          </a:p>
          <a:p>
            <a:pPr marL="343080" indent="-343080">
              <a:lnSpc>
                <a:spcPct val="90000"/>
              </a:lnSpc>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25 years experience refitting/refuelling nuclear submarines</a:t>
            </a:r>
            <a:endParaRPr b="0" lang="en-US" sz="2800" spc="-1" strike="noStrike">
              <a:solidFill>
                <a:srgbClr val="000000"/>
              </a:solidFill>
              <a:latin typeface="Times New Roman"/>
            </a:endParaRPr>
          </a:p>
          <a:p>
            <a:pPr marL="343080" indent="-343080">
              <a:lnSpc>
                <a:spcPct val="90000"/>
              </a:lnSpc>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perience of refitting/design of surface ships</a:t>
            </a:r>
            <a:endParaRPr b="0" lang="en-US" sz="2800" spc="-1" strike="noStrike">
              <a:solidFill>
                <a:srgbClr val="000000"/>
              </a:solidFill>
              <a:latin typeface="Times New Roman"/>
            </a:endParaRPr>
          </a:p>
          <a:p>
            <a:pPr marL="343080" indent="-343080">
              <a:lnSpc>
                <a:spcPct val="90000"/>
              </a:lnSpc>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sign/build/refit of premium yachts</a:t>
            </a:r>
            <a:endParaRPr b="0" lang="en-US" sz="2800" spc="-1" strike="noStrike">
              <a:solidFill>
                <a:srgbClr val="000000"/>
              </a:solidFill>
              <a:latin typeface="Times New Roman"/>
            </a:endParaRPr>
          </a:p>
          <a:p>
            <a:pPr marL="343080" indent="-343080">
              <a:lnSpc>
                <a:spcPct val="90000"/>
              </a:lnSpc>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ail support/overhaul facilities</a:t>
            </a:r>
            <a:endParaRPr b="0" lang="en-US" sz="2800" spc="-1" strike="noStrike">
              <a:solidFill>
                <a:srgbClr val="000000"/>
              </a:solidFill>
              <a:latin typeface="Times New Roman"/>
            </a:endParaRPr>
          </a:p>
          <a:p>
            <a:pPr marL="343080" indent="-343080">
              <a:lnSpc>
                <a:spcPct val="90000"/>
              </a:lnSpc>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11" name=""/>
          <p:cNvGrpSpPr/>
          <p:nvPr/>
        </p:nvGrpSpPr>
        <p:grpSpPr>
          <a:xfrm>
            <a:off x="3581280" y="163440"/>
            <a:ext cx="1168200" cy="804960"/>
            <a:chOff x="3581280" y="163440"/>
            <a:chExt cx="1168200" cy="804960"/>
          </a:xfrm>
        </p:grpSpPr>
        <p:sp>
          <p:nvSpPr>
            <p:cNvPr id="112" name=""/>
            <p:cNvSpPr/>
            <p:nvPr/>
          </p:nvSpPr>
          <p:spPr>
            <a:xfrm>
              <a:off x="3581280" y="163440"/>
              <a:ext cx="1168200" cy="804960"/>
            </a:xfrm>
            <a:custGeom>
              <a:avLst/>
              <a:gdLst>
                <a:gd name="textAreaLeft" fmla="*/ 51840 w 1168200"/>
                <a:gd name="textAreaRight" fmla="*/ 1116360 w 1168200"/>
                <a:gd name="textAreaTop" fmla="*/ 51840 h 804960"/>
                <a:gd name="textAreaBottom" fmla="*/ 753120 h 804960"/>
              </a:gdLst>
              <a:ahLst/>
              <a:rect l="textAreaLeft" t="textAreaTop" r="textAreaRight" b="textAreaBottom"/>
              <a:pathLst>
                <a:path w="31343" h="21600">
                  <a:moveTo>
                    <a:pt x="0" y="0"/>
                  </a:moveTo>
                  <a:lnTo>
                    <a:pt x="31343" y="0"/>
                  </a:lnTo>
                  <a:lnTo>
                    <a:pt x="31343" y="21600"/>
                  </a:lnTo>
                  <a:lnTo>
                    <a:pt x="0" y="21600"/>
                  </a:lnTo>
                  <a:close/>
                </a:path>
                <a:path fill="lightenLess" w="31343" h="21600">
                  <a:moveTo>
                    <a:pt x="0" y="0"/>
                  </a:moveTo>
                  <a:lnTo>
                    <a:pt x="31343" y="0"/>
                  </a:lnTo>
                  <a:lnTo>
                    <a:pt x="29943" y="1400"/>
                  </a:lnTo>
                  <a:lnTo>
                    <a:pt x="1400" y="1400"/>
                  </a:lnTo>
                  <a:close/>
                </a:path>
                <a:path fill="darken" w="31343" h="21600">
                  <a:moveTo>
                    <a:pt x="31343" y="0"/>
                  </a:moveTo>
                  <a:lnTo>
                    <a:pt x="31343" y="21600"/>
                  </a:lnTo>
                  <a:lnTo>
                    <a:pt x="29943" y="20200"/>
                  </a:lnTo>
                  <a:lnTo>
                    <a:pt x="29943" y="1400"/>
                  </a:lnTo>
                  <a:close/>
                </a:path>
                <a:path fill="darkenLess" w="31343" h="21600">
                  <a:moveTo>
                    <a:pt x="31343" y="21600"/>
                  </a:moveTo>
                  <a:lnTo>
                    <a:pt x="0" y="21600"/>
                  </a:lnTo>
                  <a:lnTo>
                    <a:pt x="1400" y="20200"/>
                  </a:lnTo>
                  <a:lnTo>
                    <a:pt x="29943" y="20200"/>
                  </a:lnTo>
                  <a:close/>
                </a:path>
                <a:path fill="lighten" w="31343" h="21600">
                  <a:moveTo>
                    <a:pt x="0" y="21600"/>
                  </a:moveTo>
                  <a:lnTo>
                    <a:pt x="0" y="0"/>
                  </a:lnTo>
                  <a:lnTo>
                    <a:pt x="1400" y="1400"/>
                  </a:lnTo>
                  <a:lnTo>
                    <a:pt x="1400" y="20200"/>
                  </a:lnTo>
                  <a:close/>
                </a:path>
              </a:pathLst>
            </a:cu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3" name="DML%20Colour" descr=""/>
            <p:cNvPicPr/>
            <p:nvPr/>
          </p:nvPicPr>
          <p:blipFill>
            <a:blip r:embed="rId5"/>
            <a:stretch/>
          </p:blipFill>
          <p:spPr>
            <a:xfrm>
              <a:off x="3633480" y="214200"/>
              <a:ext cx="1067040" cy="703440"/>
            </a:xfrm>
            <a:prstGeom prst="rect">
              <a:avLst/>
            </a:prstGeom>
            <a:ln w="0">
              <a:noFill/>
            </a:ln>
          </p:spPr>
        </p:pic>
      </p:grpSp>
      <p:pic>
        <p:nvPicPr>
          <p:cNvPr id="114" name="HST125" descr=""/>
          <p:cNvPicPr/>
          <p:nvPr/>
        </p:nvPicPr>
        <p:blipFill>
          <a:blip r:embed="rId6"/>
          <a:srcRect l="11538" t="-1716" r="19925" b="0"/>
          <a:stretch/>
        </p:blipFill>
        <p:spPr>
          <a:xfrm>
            <a:off x="7534440" y="5081760"/>
            <a:ext cx="1311120" cy="1574640"/>
          </a:xfrm>
          <a:prstGeom prst="rect">
            <a:avLst/>
          </a:prstGeom>
          <a:ln w="0">
            <a:noFill/>
          </a:ln>
        </p:spPr>
      </p:pic>
    </p:spTree>
  </p:cSld>
  <p:transition>
    <p:zoom dir="in"/>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9fe"/>
            </a:gs>
            <a:gs pos="100000">
              <a:srgbClr val="fefefe"/>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1187280" y="1236240"/>
            <a:ext cx="7220160" cy="2808360"/>
          </a:xfrm>
          <a:prstGeom prst="rect">
            <a:avLst/>
          </a:prstGeom>
          <a:noFill/>
          <a:ln w="0">
            <a:noFill/>
          </a:ln>
        </p:spPr>
        <p:txBody>
          <a:bodyPr lIns="92160" rIns="92160" tIns="46080" bIns="46080" anchor="t">
            <a:normAutofit/>
          </a:bodyPr>
          <a:p>
            <a:pPr marL="343080" indent="-343080">
              <a:spcBef>
                <a:spcPts val="700"/>
              </a:spcBef>
              <a:buClr>
                <a:srgbClr val="8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Enhance supplier understanding</a:t>
            </a:r>
            <a:endParaRPr b="1" lang="en-US" sz="2800" spc="-1" strike="noStrike">
              <a:solidFill>
                <a:srgbClr val="000066"/>
              </a:solidFill>
              <a:latin typeface="Arial"/>
            </a:endParaRPr>
          </a:p>
          <a:p>
            <a:pPr lvl="1" marL="743040" indent="-285840">
              <a:spcBef>
                <a:spcPts val="601"/>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echnology introduction </a:t>
            </a:r>
            <a:endParaRPr b="1" lang="en-US" sz="2400" spc="-1" strike="noStrike">
              <a:solidFill>
                <a:srgbClr val="000066"/>
              </a:solidFill>
              <a:latin typeface="Arial"/>
            </a:endParaRPr>
          </a:p>
          <a:p>
            <a:pPr lvl="1" marL="743040" indent="-285840">
              <a:spcBef>
                <a:spcPts val="601"/>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mproved supply of components</a:t>
            </a:r>
            <a:endParaRPr b="1" lang="en-US" sz="2400" spc="-1" strike="noStrike">
              <a:solidFill>
                <a:srgbClr val="000066"/>
              </a:solidFill>
              <a:latin typeface="Arial"/>
            </a:endParaRPr>
          </a:p>
          <a:p>
            <a:pPr lvl="1" marL="743040" indent="-285840">
              <a:spcBef>
                <a:spcPts val="601"/>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duce costs by direct supply of spares</a:t>
            </a:r>
            <a:endParaRPr b="1" lang="en-US" sz="2400" spc="-1" strike="noStrike">
              <a:solidFill>
                <a:srgbClr val="000066"/>
              </a:solidFill>
              <a:latin typeface="Arial"/>
            </a:endParaRPr>
          </a:p>
          <a:p>
            <a:pPr lvl="1" marL="743040" indent="-285840">
              <a:spcBef>
                <a:spcPts val="601"/>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ompetitive tender</a:t>
            </a:r>
            <a:endParaRPr b="1" lang="en-US" sz="2400" spc="-1" strike="noStrike">
              <a:solidFill>
                <a:srgbClr val="000066"/>
              </a:solidFill>
              <a:latin typeface="Arial"/>
            </a:endParaRPr>
          </a:p>
        </p:txBody>
      </p:sp>
      <p:sp>
        <p:nvSpPr>
          <p:cNvPr id="116" name=""/>
          <p:cNvSpPr/>
          <p:nvPr/>
        </p:nvSpPr>
        <p:spPr>
          <a:xfrm>
            <a:off x="1233360" y="3556080"/>
            <a:ext cx="6172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pend to save</a:t>
            </a:r>
            <a:endParaRPr b="0" lang="en-US" sz="2800" spc="-1" strike="noStrike">
              <a:solidFill>
                <a:srgbClr val="000000"/>
              </a:solidFill>
              <a:latin typeface="Times New Roman"/>
            </a:endParaRPr>
          </a:p>
        </p:txBody>
      </p:sp>
      <p:sp>
        <p:nvSpPr>
          <p:cNvPr id="117" name="PlaceHolder 2"/>
          <p:cNvSpPr>
            <a:spLocks noGrp="1"/>
          </p:cNvSpPr>
          <p:nvPr>
            <p:ph type="title"/>
          </p:nvPr>
        </p:nvSpPr>
        <p:spPr>
          <a:xfrm>
            <a:off x="1396800" y="596520"/>
            <a:ext cx="77468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Univers"/>
              </a:rPr>
              <a:t>MoD RAMP project objectives</a:t>
            </a:r>
            <a:endParaRPr b="1" lang="en-US" sz="3600" spc="-1" strike="noStrike">
              <a:solidFill>
                <a:srgbClr val="3333cc"/>
              </a:solidFill>
              <a:latin typeface="Univers"/>
            </a:endParaRPr>
          </a:p>
        </p:txBody>
      </p:sp>
      <p:sp>
        <p:nvSpPr>
          <p:cNvPr id="118" name=""/>
          <p:cNvSpPr/>
          <p:nvPr/>
        </p:nvSpPr>
        <p:spPr>
          <a:xfrm>
            <a:off x="1200240" y="4249800"/>
            <a:ext cx="7308720" cy="28083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buClr>
                <a:srgbClr val="8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est the applicability of RAMP</a:t>
            </a:r>
            <a:endParaRPr b="0" lang="en-US" sz="2800" spc="-1" strike="noStrike">
              <a:solidFill>
                <a:srgbClr val="000000"/>
              </a:solidFill>
              <a:latin typeface="Times New Roman"/>
            </a:endParaRPr>
          </a:p>
          <a:p>
            <a:pPr lvl="1" marL="743040" indent="-285840">
              <a:lnSpc>
                <a:spcPct val="100000"/>
              </a:lnSpc>
              <a:spcBef>
                <a:spcPts val="601"/>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xtend the comparative production matrix</a:t>
            </a:r>
            <a:endParaRPr b="0" lang="en-US" sz="2400" spc="-1" strike="noStrike">
              <a:solidFill>
                <a:srgbClr val="000000"/>
              </a:solidFill>
              <a:latin typeface="Times New Roman"/>
            </a:endParaRPr>
          </a:p>
          <a:p>
            <a:pPr lvl="2" marL="1143000" indent="-228600">
              <a:lnSpc>
                <a:spcPct val="100000"/>
              </a:lnSpc>
              <a:spcBef>
                <a:spcPts val="601"/>
              </a:spcBef>
              <a:buClr>
                <a:srgbClr val="8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cross companies </a:t>
            </a:r>
            <a:endParaRPr b="0" lang="en-US" sz="2400" spc="-1" strike="noStrike">
              <a:solidFill>
                <a:srgbClr val="000000"/>
              </a:solidFill>
              <a:latin typeface="Times New Roman"/>
            </a:endParaRPr>
          </a:p>
          <a:p>
            <a:pPr lvl="2" marL="1143000" indent="-228600">
              <a:lnSpc>
                <a:spcPct val="100000"/>
              </a:lnSpc>
              <a:spcBef>
                <a:spcPts val="601"/>
              </a:spcBef>
              <a:buClr>
                <a:srgbClr val="8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or a wider range of product</a:t>
            </a:r>
            <a:endParaRPr b="0" lang="en-US" sz="2400" spc="-1" strike="noStrike">
              <a:solidFill>
                <a:srgbClr val="000000"/>
              </a:solidFill>
              <a:latin typeface="Times New Roman"/>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9fe"/>
            </a:gs>
            <a:gs pos="100000">
              <a:srgbClr val="fefefe"/>
            </a:gs>
          </a:gsLst>
          <a:lin ang="10800000"/>
        </a:gra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1676160" y="1599840"/>
            <a:ext cx="6933960" cy="3962520"/>
          </a:xfrm>
          <a:prstGeom prst="rect">
            <a:avLst/>
          </a:prstGeom>
          <a:noFill/>
          <a:ln w="0">
            <a:noFill/>
          </a:ln>
        </p:spPr>
        <p:txBody>
          <a:bodyPr lIns="92160" rIns="92160" tIns="46080" bIns="46080" anchor="t">
            <a:normAutofit fontScale="99000"/>
          </a:bodyPr>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marL="339480" indent="-339480">
              <a:spcBef>
                <a:spcPts val="601"/>
              </a:spcBef>
              <a:buClr>
                <a:srgbClr val="8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place component drawings</a:t>
            </a:r>
            <a:endParaRPr b="1" lang="en-US" sz="2400" spc="-1" strike="noStrike">
              <a:solidFill>
                <a:srgbClr val="000066"/>
              </a:solidFill>
              <a:latin typeface="Arial"/>
            </a:endParaRPr>
          </a:p>
          <a:p>
            <a:pPr lvl="1" marL="735480" indent="-282960">
              <a:spcBef>
                <a:spcPts val="4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distributed to DML as supplier</a:t>
            </a:r>
            <a:endParaRPr b="1" lang="en-US" sz="2000" spc="-1" strike="noStrike">
              <a:solidFill>
                <a:srgbClr val="000066"/>
              </a:solidFill>
              <a:latin typeface="Arial"/>
            </a:endParaRPr>
          </a:p>
          <a:p>
            <a:pPr lvl="1" marL="735480" indent="-282960">
              <a:spcBef>
                <a:spcPts val="4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product model using STEP AP224 definition</a:t>
            </a:r>
            <a:endParaRPr b="1" lang="en-US" sz="2000" spc="-1" strike="noStrike">
              <a:solidFill>
                <a:srgbClr val="000066"/>
              </a:solidFill>
              <a:latin typeface="Arial"/>
            </a:endParaRPr>
          </a:p>
          <a:p>
            <a:pPr lvl="1" marL="735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Arial"/>
            </a:endParaRPr>
          </a:p>
          <a:p>
            <a:pPr marL="339480" indent="-339480">
              <a:spcBef>
                <a:spcPts val="601"/>
              </a:spcBef>
              <a:buClr>
                <a:srgbClr val="8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AMP enabled DML manufacture</a:t>
            </a:r>
            <a:endParaRPr b="1" lang="en-US" sz="2400" spc="-1" strike="noStrike">
              <a:solidFill>
                <a:srgbClr val="000066"/>
              </a:solidFill>
              <a:latin typeface="Arial"/>
            </a:endParaRPr>
          </a:p>
          <a:p>
            <a:pPr lvl="1" marL="735480" indent="-282960">
              <a:spcBef>
                <a:spcPts val="4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first hand experience</a:t>
            </a:r>
            <a:endParaRPr b="1" lang="en-US" sz="2000" spc="-1" strike="noStrike">
              <a:solidFill>
                <a:srgbClr val="000066"/>
              </a:solidFill>
              <a:latin typeface="Arial"/>
            </a:endParaRPr>
          </a:p>
          <a:p>
            <a:pPr lvl="1" marL="735480" indent="-282960">
              <a:spcBef>
                <a:spcPts val="4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reference example for DML suppliers</a:t>
            </a:r>
            <a:endParaRPr b="1" lang="en-US" sz="2000" spc="-1" strike="noStrike">
              <a:solidFill>
                <a:srgbClr val="000066"/>
              </a:solidFill>
              <a:latin typeface="Arial"/>
            </a:endParaRPr>
          </a:p>
          <a:p>
            <a:pPr lvl="1" marL="735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Arial"/>
            </a:endParaRPr>
          </a:p>
          <a:p>
            <a:pPr marL="339480" indent="-339480">
              <a:spcBef>
                <a:spcPts val="601"/>
              </a:spcBef>
              <a:buClr>
                <a:srgbClr val="8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ollation and analysis of project matrix</a:t>
            </a:r>
            <a:endParaRPr b="1" lang="en-US" sz="2400" spc="-1" strike="noStrike">
              <a:solidFill>
                <a:srgbClr val="000066"/>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120" name=""/>
          <p:cNvSpPr/>
          <p:nvPr/>
        </p:nvSpPr>
        <p:spPr>
          <a:xfrm>
            <a:off x="1530360" y="492120"/>
            <a:ext cx="701028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Univers"/>
              </a:rPr>
              <a:t>Project tasks</a:t>
            </a:r>
            <a:endParaRPr b="0" lang="en-US" sz="3600" spc="-1" strike="noStrike">
              <a:solidFill>
                <a:srgbClr val="000000"/>
              </a:solidFill>
              <a:latin typeface="Times New Roman"/>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9fe"/>
            </a:gs>
            <a:gs pos="100000">
              <a:srgbClr val="fefefe"/>
            </a:gs>
          </a:gsLst>
          <a:lin ang="10800000"/>
        </a:gra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1320480" y="1680840"/>
            <a:ext cx="7629480" cy="4452840"/>
          </a:xfrm>
          <a:prstGeom prst="rect">
            <a:avLst/>
          </a:prstGeom>
          <a:noFill/>
          <a:ln w="0">
            <a:noFill/>
          </a:ln>
        </p:spPr>
        <p:txBody>
          <a:bodyPr lIns="92160" rIns="92160" tIns="46080" bIns="46080" anchor="t">
            <a:normAutofit/>
          </a:bodyPr>
          <a:p>
            <a:pPr marL="343080" indent="-343080">
              <a:lnSpc>
                <a:spcPct val="90000"/>
              </a:lnSpc>
              <a:spcBef>
                <a:spcPts val="601"/>
              </a:spcBef>
              <a:buClr>
                <a:srgbClr val="8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 level fasteners - 25</a:t>
            </a:r>
            <a:endParaRPr b="1" lang="en-US" sz="2400" spc="-1" strike="noStrike">
              <a:solidFill>
                <a:srgbClr val="000066"/>
              </a:solidFill>
              <a:latin typeface="Arial"/>
            </a:endParaRPr>
          </a:p>
          <a:p>
            <a:pPr lvl="1" marL="743040" indent="-285840">
              <a:lnSpc>
                <a:spcPct val="90000"/>
              </a:lnSpc>
              <a:spcBef>
                <a:spcPts val="4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Comparative data from original UK Navy RAMP project</a:t>
            </a:r>
            <a:endParaRPr b="1" lang="en-US" sz="2000" spc="-1" strike="noStrike">
              <a:solidFill>
                <a:srgbClr val="000066"/>
              </a:solidFill>
              <a:latin typeface="Arial"/>
            </a:endParaRPr>
          </a:p>
          <a:p>
            <a:pPr lvl="1" marL="743040" indent="-285840">
              <a:lnSpc>
                <a:spcPct val="90000"/>
              </a:lnSpc>
              <a:spcBef>
                <a:spcPts val="4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Match to a large proportion of Naval spare items</a:t>
            </a:r>
            <a:endParaRPr b="1" lang="en-US" sz="2000" spc="-1" strike="noStrike">
              <a:solidFill>
                <a:srgbClr val="000066"/>
              </a:solidFill>
              <a:latin typeface="Arial"/>
            </a:endParaRPr>
          </a:p>
          <a:p>
            <a:pPr lvl="1" marL="743040" indent="-285840">
              <a:lnSpc>
                <a:spcPct val="90000"/>
              </a:lnSpc>
              <a:spcBef>
                <a:spcPts val="4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Economical to generate STEP data </a:t>
            </a:r>
            <a:endParaRPr b="1" lang="en-US" sz="2000" spc="-1" strike="noStrike">
              <a:solidFill>
                <a:srgbClr val="000066"/>
              </a:solidFill>
              <a:latin typeface="Arial"/>
            </a:endParaRPr>
          </a:p>
          <a:p>
            <a:pPr marL="343080" indent="-343080">
              <a:lnSpc>
                <a:spcPct val="90000"/>
              </a:lnSpc>
              <a:spcBef>
                <a:spcPts val="601"/>
              </a:spcBef>
              <a:buClr>
                <a:srgbClr val="8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Miscellaneous items - 15</a:t>
            </a:r>
            <a:endParaRPr b="1" lang="en-US" sz="2400" spc="-1" strike="noStrike">
              <a:solidFill>
                <a:srgbClr val="000066"/>
              </a:solidFill>
              <a:latin typeface="Arial"/>
            </a:endParaRPr>
          </a:p>
          <a:p>
            <a:pPr lvl="1" marL="743040" indent="-285840">
              <a:lnSpc>
                <a:spcPct val="90000"/>
              </a:lnSpc>
              <a:spcBef>
                <a:spcPts val="4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Complex components </a:t>
            </a:r>
            <a:endParaRPr b="1" lang="en-US" sz="2000" spc="-1" strike="noStrike">
              <a:solidFill>
                <a:srgbClr val="000066"/>
              </a:solidFill>
              <a:latin typeface="Arial"/>
            </a:endParaRPr>
          </a:p>
          <a:p>
            <a:pPr lvl="1" marL="743040" indent="-285840">
              <a:lnSpc>
                <a:spcPct val="90000"/>
              </a:lnSpc>
              <a:spcBef>
                <a:spcPts val="4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Not family groups – lower level of automation</a:t>
            </a:r>
            <a:endParaRPr b="1" lang="en-US" sz="2000" spc="-1" strike="noStrike">
              <a:solidFill>
                <a:srgbClr val="000066"/>
              </a:solidFill>
              <a:latin typeface="Arial"/>
            </a:endParaRPr>
          </a:p>
          <a:p>
            <a:pPr marL="343080" indent="-343080">
              <a:lnSpc>
                <a:spcPct val="90000"/>
              </a:lnSpc>
              <a:spcBef>
                <a:spcPts val="601"/>
              </a:spcBef>
              <a:buClr>
                <a:srgbClr val="8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ast/forged items - 5</a:t>
            </a:r>
            <a:endParaRPr b="1" lang="en-US" sz="2400" spc="-1" strike="noStrike">
              <a:solidFill>
                <a:srgbClr val="000066"/>
              </a:solidFill>
              <a:latin typeface="Arial"/>
            </a:endParaRPr>
          </a:p>
          <a:p>
            <a:pPr lvl="1" marL="743040" indent="-285840">
              <a:lnSpc>
                <a:spcPct val="90000"/>
              </a:lnSpc>
              <a:spcBef>
                <a:spcPts val="4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Test new functionality of STEPTrans and trial manufacture</a:t>
            </a:r>
            <a:endParaRPr b="1" lang="en-US" sz="2000" spc="-1" strike="noStrike">
              <a:solidFill>
                <a:srgbClr val="000066"/>
              </a:solidFill>
              <a:latin typeface="Arial"/>
            </a:endParaRPr>
          </a:p>
          <a:p>
            <a:pPr lvl="1" marL="743040" indent="-285840">
              <a:lnSpc>
                <a:spcPct val="90000"/>
              </a:lnSpc>
              <a:spcBef>
                <a:spcPts val="4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High value stock items – store in lowest value stage</a:t>
            </a:r>
            <a:endParaRPr b="1" lang="en-US" sz="2000" spc="-1" strike="noStrike">
              <a:solidFill>
                <a:srgbClr val="000066"/>
              </a:solidFill>
              <a:latin typeface="Arial"/>
            </a:endParaRPr>
          </a:p>
          <a:p>
            <a:pPr lvl="1" marL="743040" indent="-285840">
              <a:lnSpc>
                <a:spcPct val="90000"/>
              </a:lnSpc>
              <a:spcBef>
                <a:spcPts val="4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Parts ordered for manufacture by DML during 2002</a:t>
            </a:r>
            <a:endParaRPr b="1" lang="en-US" sz="2000" spc="-1" strike="noStrike">
              <a:solidFill>
                <a:srgbClr val="000066"/>
              </a:solidFill>
              <a:latin typeface="Arial"/>
            </a:endParaRPr>
          </a:p>
        </p:txBody>
      </p:sp>
      <p:sp>
        <p:nvSpPr>
          <p:cNvPr id="122" name="PlaceHolder 2"/>
          <p:cNvSpPr>
            <a:spLocks noGrp="1"/>
          </p:cNvSpPr>
          <p:nvPr>
            <p:ph type="title"/>
          </p:nvPr>
        </p:nvSpPr>
        <p:spPr>
          <a:xfrm>
            <a:off x="1396800" y="596520"/>
            <a:ext cx="77468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Univers"/>
                <a:ea typeface="Times New Roman"/>
              </a:rPr>
              <a:t>Project components</a:t>
            </a:r>
            <a:endParaRPr b="1" lang="en-US" sz="3600" spc="-1" strike="noStrike">
              <a:solidFill>
                <a:srgbClr val="3333cc"/>
              </a:solidFill>
              <a:latin typeface="Univers"/>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9fe"/>
            </a:gs>
            <a:gs pos="100000">
              <a:srgbClr val="fefefe"/>
            </a:gs>
          </a:gsLst>
          <a:lin ang="10800000"/>
        </a:gra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1225440" y="1714680"/>
            <a:ext cx="791856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et of parts provided a comparative matrix</a:t>
            </a:r>
            <a:endParaRPr b="1" lang="en-US" sz="2800" spc="-1" strike="noStrike">
              <a:solidFill>
                <a:srgbClr val="000066"/>
              </a:solidFill>
              <a:latin typeface="Arial"/>
            </a:endParaRPr>
          </a:p>
          <a:p>
            <a:pPr marL="343080" indent="-343080">
              <a:spcBef>
                <a:spcPts val="700"/>
              </a:spcBef>
              <a:buClr>
                <a:srgbClr val="8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Current and RAMP manufacture times</a:t>
            </a:r>
            <a:endParaRPr b="1" lang="en-US" sz="2800" spc="-1" strike="noStrike">
              <a:solidFill>
                <a:srgbClr val="000066"/>
              </a:solidFill>
              <a:latin typeface="Arial"/>
            </a:endParaRPr>
          </a:p>
          <a:p>
            <a:pPr lvl="1" marL="743040" indent="-285840">
              <a:spcBef>
                <a:spcPts val="601"/>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Elapse time</a:t>
            </a:r>
            <a:endParaRPr b="1" lang="en-US" sz="2400" spc="-1" strike="noStrike">
              <a:solidFill>
                <a:srgbClr val="000066"/>
              </a:solidFill>
              <a:latin typeface="Arial"/>
            </a:endParaRPr>
          </a:p>
          <a:p>
            <a:pPr lvl="1" marL="743040" indent="-285840">
              <a:spcBef>
                <a:spcPts val="601"/>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Cost time (actual hours worked)</a:t>
            </a:r>
            <a:endParaRPr b="1" lang="en-US" sz="2400" spc="-1" strike="noStrike">
              <a:solidFill>
                <a:srgbClr val="000066"/>
              </a:solidFill>
              <a:latin typeface="Arial"/>
            </a:endParaRPr>
          </a:p>
          <a:p>
            <a:pPr lvl="1" marL="743040" indent="-285840">
              <a:spcBef>
                <a:spcPts val="601"/>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r>
              <a:rPr b="1" lang="en-US" sz="2400" spc="-1" strike="noStrike">
                <a:solidFill>
                  <a:srgbClr val="000066"/>
                </a:solidFill>
                <a:latin typeface="Arial"/>
              </a:rPr>
              <a:t>New parts’ for manufacture</a:t>
            </a:r>
            <a:endParaRPr b="1" lang="en-US" sz="2400" spc="-1" strike="noStrike">
              <a:solidFill>
                <a:srgbClr val="000066"/>
              </a:solidFill>
              <a:latin typeface="Arial"/>
            </a:endParaRPr>
          </a:p>
          <a:p>
            <a:pPr lvl="1" marL="743040" indent="-285840">
              <a:spcBef>
                <a:spcPts val="601"/>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r>
              <a:rPr b="1" lang="en-US" sz="2400" spc="-1" strike="noStrike">
                <a:solidFill>
                  <a:srgbClr val="000066"/>
                </a:solidFill>
                <a:latin typeface="Arial"/>
              </a:rPr>
              <a:t>Repeat parts’ already planned / programmed</a:t>
            </a:r>
            <a:endParaRPr b="1" lang="en-US" sz="2400" spc="-1" strike="noStrike">
              <a:solidFill>
                <a:srgbClr val="000066"/>
              </a:solidFill>
              <a:latin typeface="Arial"/>
            </a:endParaRPr>
          </a:p>
          <a:p>
            <a:pPr marL="343080" indent="-343080">
              <a:spcBef>
                <a:spcPts val="700"/>
              </a:spcBef>
              <a:buClr>
                <a:srgbClr val="8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Evaluation environment and </a:t>
            </a:r>
            <a:br>
              <a:rPr sz="2800"/>
            </a:br>
            <a:r>
              <a:rPr b="1" lang="en-US" sz="2800" spc="-1" strike="noStrike">
                <a:solidFill>
                  <a:srgbClr val="000066"/>
                </a:solidFill>
                <a:latin typeface="Arial"/>
              </a:rPr>
              <a:t>	</a:t>
            </a:r>
            <a:r>
              <a:rPr b="1" lang="en-US" sz="2800" spc="-1" strike="noStrike">
                <a:solidFill>
                  <a:srgbClr val="000066"/>
                </a:solidFill>
                <a:latin typeface="Arial"/>
              </a:rPr>
              <a:t>Integrated Production environment</a:t>
            </a:r>
            <a:endParaRPr b="1" lang="en-US" sz="2800" spc="-1" strike="noStrike">
              <a:solidFill>
                <a:srgbClr val="000066"/>
              </a:solidFill>
              <a:latin typeface="Arial"/>
            </a:endParaRPr>
          </a:p>
        </p:txBody>
      </p:sp>
      <p:sp>
        <p:nvSpPr>
          <p:cNvPr id="124" name=""/>
          <p:cNvSpPr/>
          <p:nvPr/>
        </p:nvSpPr>
        <p:spPr>
          <a:xfrm>
            <a:off x="888840" y="888840"/>
            <a:ext cx="707724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PlaceHolder 2"/>
          <p:cNvSpPr>
            <a:spLocks noGrp="1"/>
          </p:cNvSpPr>
          <p:nvPr>
            <p:ph type="title"/>
          </p:nvPr>
        </p:nvSpPr>
        <p:spPr>
          <a:xfrm>
            <a:off x="1396800" y="875880"/>
            <a:ext cx="77468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Univers"/>
              </a:rPr>
              <a:t>Results (cost/times)</a:t>
            </a:r>
            <a:br>
              <a:rPr sz="3600"/>
            </a:br>
            <a:r>
              <a:rPr b="1" lang="en-GB" sz="3600" spc="-1" strike="noStrike">
                <a:solidFill>
                  <a:srgbClr val="3333cc"/>
                </a:solidFill>
                <a:latin typeface="Univers"/>
              </a:rPr>
              <a:t>	</a:t>
            </a:r>
            <a:r>
              <a:rPr b="1" lang="en-GB" sz="3600" spc="-1" strike="noStrike">
                <a:solidFill>
                  <a:srgbClr val="3333cc"/>
                </a:solidFill>
                <a:latin typeface="Univers"/>
              </a:rPr>
              <a:t>	</a:t>
            </a:r>
            <a:r>
              <a:rPr b="1" lang="en-GB" sz="3600" spc="-1" strike="noStrike">
                <a:solidFill>
                  <a:srgbClr val="3333cc"/>
                </a:solidFill>
                <a:latin typeface="Univers"/>
              </a:rPr>
              <a:t>data collection method</a:t>
            </a:r>
            <a:endParaRPr b="1" lang="en-US" sz="3600" spc="-1" strike="noStrike">
              <a:solidFill>
                <a:srgbClr val="3333cc"/>
              </a:solidFill>
              <a:latin typeface="Univers"/>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9fe"/>
            </a:gs>
            <a:gs pos="100000">
              <a:srgbClr val="fefefe"/>
            </a:gs>
          </a:gsLst>
          <a:lin ang="10800000"/>
        </a:gradFill>
      </p:bgPr>
    </p:bg>
    <p:spTree>
      <p:nvGrpSpPr>
        <p:cNvPr id="1" name=""/>
        <p:cNvGrpSpPr/>
        <p:nvPr/>
      </p:nvGrpSpPr>
      <p:grpSpPr>
        <a:xfrm>
          <a:off x="0" y="0"/>
          <a:ext cx="0" cy="0"/>
          <a:chOff x="0" y="0"/>
          <a:chExt cx="0" cy="0"/>
        </a:xfrm>
      </p:grpSpPr>
      <p:sp>
        <p:nvSpPr>
          <p:cNvPr id="126" name=""/>
          <p:cNvSpPr/>
          <p:nvPr/>
        </p:nvSpPr>
        <p:spPr>
          <a:xfrm>
            <a:off x="297000" y="368280"/>
            <a:ext cx="7948440" cy="11430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Univers"/>
              </a:rPr>
              <a:t>Evaluation environments results</a:t>
            </a:r>
            <a:endParaRPr b="0" lang="en-US" sz="3600" spc="-1" strike="noStrike">
              <a:solidFill>
                <a:srgbClr val="000000"/>
              </a:solidFill>
              <a:latin typeface="Times New Roman"/>
            </a:endParaRPr>
          </a:p>
        </p:txBody>
      </p:sp>
      <p:pic>
        <p:nvPicPr>
          <p:cNvPr id="127" name="a" descr=""/>
          <p:cNvPicPr/>
          <p:nvPr/>
        </p:nvPicPr>
        <p:blipFill>
          <a:blip r:embed="rId1"/>
          <a:stretch/>
        </p:blipFill>
        <p:spPr>
          <a:xfrm>
            <a:off x="1069920" y="1386000"/>
            <a:ext cx="7791480" cy="1266840"/>
          </a:xfrm>
          <a:prstGeom prst="rect">
            <a:avLst/>
          </a:prstGeom>
          <a:ln w="0">
            <a:noFill/>
          </a:ln>
        </p:spPr>
      </p:pic>
      <p:pic>
        <p:nvPicPr>
          <p:cNvPr id="128" name="aa" descr=""/>
          <p:cNvPicPr/>
          <p:nvPr/>
        </p:nvPicPr>
        <p:blipFill>
          <a:blip r:embed="rId2"/>
          <a:stretch/>
        </p:blipFill>
        <p:spPr>
          <a:xfrm>
            <a:off x="1069920" y="1384200"/>
            <a:ext cx="7791480" cy="2514600"/>
          </a:xfrm>
          <a:prstGeom prst="rect">
            <a:avLst/>
          </a:prstGeom>
          <a:ln w="0">
            <a:noFill/>
          </a:ln>
        </p:spPr>
      </p:pic>
      <p:pic>
        <p:nvPicPr>
          <p:cNvPr id="129" name="aaa" descr=""/>
          <p:cNvPicPr/>
          <p:nvPr/>
        </p:nvPicPr>
        <p:blipFill>
          <a:blip r:embed="rId3"/>
          <a:stretch/>
        </p:blipFill>
        <p:spPr>
          <a:xfrm>
            <a:off x="1069920" y="1379520"/>
            <a:ext cx="7791480" cy="3819600"/>
          </a:xfrm>
          <a:prstGeom prst="rect">
            <a:avLst/>
          </a:prstGeom>
          <a:ln w="0">
            <a:noFill/>
          </a:ln>
        </p:spPr>
      </p:pic>
      <p:sp>
        <p:nvSpPr>
          <p:cNvPr id="130" name=""/>
          <p:cNvSpPr/>
          <p:nvPr/>
        </p:nvSpPr>
        <p:spPr>
          <a:xfrm>
            <a:off x="-579600" y="3468600"/>
            <a:ext cx="7077240" cy="11430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Univers"/>
              </a:rPr>
              <a:t>elapse 333:1</a:t>
            </a:r>
            <a:endParaRPr b="0" lang="en-US" sz="3600" spc="-1" strike="noStrike">
              <a:solidFill>
                <a:srgbClr val="000000"/>
              </a:solidFill>
              <a:latin typeface="Times New Roman"/>
            </a:endParaRPr>
          </a:p>
        </p:txBody>
      </p:sp>
      <p:sp>
        <p:nvSpPr>
          <p:cNvPr id="131" name=""/>
          <p:cNvSpPr/>
          <p:nvPr/>
        </p:nvSpPr>
        <p:spPr>
          <a:xfrm>
            <a:off x="-582480" y="4114800"/>
            <a:ext cx="7076880" cy="11430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Univers"/>
              </a:rPr>
              <a:t>cost time 3.5:1</a:t>
            </a:r>
            <a:endParaRPr b="0" lang="en-US" sz="3600" spc="-1" strike="noStrike">
              <a:solidFill>
                <a:srgbClr val="000000"/>
              </a:solidFill>
              <a:latin typeface="Times New Roman"/>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9fe"/>
            </a:gs>
            <a:gs pos="100000">
              <a:srgbClr val="fefefe"/>
            </a:gs>
          </a:gsLst>
          <a:lin ang="108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047600" y="628200"/>
            <a:ext cx="609624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Agenda</a:t>
            </a:r>
            <a:endParaRPr b="1" lang="en-US" sz="4000" spc="-1" strike="noStrike">
              <a:solidFill>
                <a:srgbClr val="3333cc"/>
              </a:solidFill>
              <a:latin typeface="Univers"/>
            </a:endParaRPr>
          </a:p>
        </p:txBody>
      </p:sp>
      <p:sp>
        <p:nvSpPr>
          <p:cNvPr id="57" name="PlaceHolder 2"/>
          <p:cNvSpPr>
            <a:spLocks noGrp="1"/>
          </p:cNvSpPr>
          <p:nvPr>
            <p:ph/>
          </p:nvPr>
        </p:nvSpPr>
        <p:spPr>
          <a:xfrm>
            <a:off x="1390320" y="1749600"/>
            <a:ext cx="8744040" cy="4114800"/>
          </a:xfrm>
          <a:prstGeom prst="rect">
            <a:avLst/>
          </a:prstGeom>
          <a:noFill/>
          <a:ln w="0">
            <a:noFill/>
          </a:ln>
        </p:spPr>
        <p:txBody>
          <a:bodyPr lIns="92160" rIns="92160" tIns="46080" bIns="46080" anchor="t">
            <a:normAutofit/>
          </a:bodyPr>
          <a:p>
            <a:pPr marL="343080" indent="-343080">
              <a:spcBef>
                <a:spcPts val="601"/>
              </a:spcBef>
              <a:buClr>
                <a:srgbClr val="8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Overview of RAMP</a:t>
            </a:r>
            <a:endParaRPr b="1" lang="en-US" sz="2400" spc="-1" strike="noStrike">
              <a:solidFill>
                <a:srgbClr val="000066"/>
              </a:solidFill>
              <a:latin typeface="Arial"/>
            </a:endParaRPr>
          </a:p>
          <a:p>
            <a:pPr marL="343080" indent="-343080">
              <a:spcBef>
                <a:spcPts val="601"/>
              </a:spcBef>
              <a:buClr>
                <a:srgbClr val="8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UK Evaluations of RAMP</a:t>
            </a:r>
            <a:endParaRPr b="1" lang="en-US" sz="2400" spc="-1" strike="noStrike">
              <a:solidFill>
                <a:srgbClr val="000066"/>
              </a:solidFill>
              <a:latin typeface="Arial"/>
            </a:endParaRPr>
          </a:p>
          <a:p>
            <a:pPr lvl="1" marL="743040" indent="-285840">
              <a:spcBef>
                <a:spcPts val="601"/>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UK Navy RAMP Project</a:t>
            </a:r>
            <a:endParaRPr b="1" lang="en-US" sz="2400" spc="-1" strike="noStrike">
              <a:solidFill>
                <a:srgbClr val="000066"/>
              </a:solidFill>
              <a:latin typeface="Arial"/>
            </a:endParaRPr>
          </a:p>
          <a:p>
            <a:pPr lvl="1" marL="743040" indent="-285840">
              <a:spcBef>
                <a:spcPts val="601"/>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Evaluation of UK Navy Store for AP224</a:t>
            </a:r>
            <a:endParaRPr b="1" lang="en-US" sz="2400" spc="-1" strike="noStrike">
              <a:solidFill>
                <a:srgbClr val="000066"/>
              </a:solidFill>
              <a:latin typeface="Arial"/>
            </a:endParaRPr>
          </a:p>
          <a:p>
            <a:pPr lvl="1" marL="743040" indent="-285840">
              <a:spcBef>
                <a:spcPts val="601"/>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DML RAMP Evaluation Project</a:t>
            </a:r>
            <a:endParaRPr b="1" lang="en-US" sz="2400" spc="-1" strike="noStrike">
              <a:solidFill>
                <a:srgbClr val="000066"/>
              </a:solidFill>
              <a:latin typeface="Arial"/>
            </a:endParaRPr>
          </a:p>
          <a:p>
            <a:pPr marL="343080" indent="-343080">
              <a:spcBef>
                <a:spcPts val="601"/>
              </a:spcBef>
              <a:buClr>
                <a:srgbClr val="8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UK Deployment of RAMP</a:t>
            </a:r>
            <a:endParaRPr b="1" lang="en-US" sz="2400" spc="-1" strike="noStrike">
              <a:solidFill>
                <a:srgbClr val="000066"/>
              </a:solidFill>
              <a:latin typeface="Arial"/>
            </a:endParaRPr>
          </a:p>
          <a:p>
            <a:pPr lvl="1" marL="743040" indent="-285840">
              <a:spcBef>
                <a:spcPts val="601"/>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Submarine Legacy Spares – business case</a:t>
            </a:r>
            <a:endParaRPr b="1" lang="en-US" sz="2400" spc="-1" strike="noStrike">
              <a:solidFill>
                <a:srgbClr val="000066"/>
              </a:solidFill>
              <a:latin typeface="Arial"/>
            </a:endParaRPr>
          </a:p>
          <a:p>
            <a:pPr lvl="1" marL="743040" indent="-285840">
              <a:spcBef>
                <a:spcPts val="601"/>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Submarine Legacy Spares – status</a:t>
            </a:r>
            <a:endParaRPr b="1" lang="en-US" sz="2400" spc="-1" strike="noStrike">
              <a:solidFill>
                <a:srgbClr val="000066"/>
              </a:solidFill>
              <a:latin typeface="Arial"/>
            </a:endParaRPr>
          </a:p>
          <a:p>
            <a:pPr lvl="1" marL="743040" indent="-285840">
              <a:spcBef>
                <a:spcPts val="601"/>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RAMP at DML</a:t>
            </a:r>
            <a:endParaRPr b="1" lang="en-US" sz="2400" spc="-1" strike="noStrike">
              <a:solidFill>
                <a:srgbClr val="0000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9fe"/>
            </a:gs>
            <a:gs pos="100000">
              <a:srgbClr val="fefefe"/>
            </a:gs>
          </a:gsLst>
          <a:lin ang="10800000"/>
        </a:gradFill>
      </p:bgPr>
    </p:bg>
    <p:spTree>
      <p:nvGrpSpPr>
        <p:cNvPr id="1" name=""/>
        <p:cNvGrpSpPr/>
        <p:nvPr/>
      </p:nvGrpSpPr>
      <p:grpSpPr>
        <a:xfrm>
          <a:off x="0" y="0"/>
          <a:ext cx="0" cy="0"/>
          <a:chOff x="0" y="0"/>
          <a:chExt cx="0" cy="0"/>
        </a:xfrm>
      </p:grpSpPr>
      <p:sp>
        <p:nvSpPr>
          <p:cNvPr id="132" name=""/>
          <p:cNvSpPr/>
          <p:nvPr/>
        </p:nvSpPr>
        <p:spPr>
          <a:xfrm>
            <a:off x="711360" y="330120"/>
            <a:ext cx="7983360" cy="11430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Univers"/>
              </a:rPr>
              <a:t>Integrated Production environment</a:t>
            </a:r>
            <a:endParaRPr b="0" lang="en-US" sz="3600" spc="-1" strike="noStrike">
              <a:solidFill>
                <a:srgbClr val="000000"/>
              </a:solidFill>
              <a:latin typeface="Times New Roman"/>
            </a:endParaRPr>
          </a:p>
        </p:txBody>
      </p:sp>
      <p:pic>
        <p:nvPicPr>
          <p:cNvPr id="133" name="aaa" descr=""/>
          <p:cNvPicPr/>
          <p:nvPr/>
        </p:nvPicPr>
        <p:blipFill>
          <a:blip r:embed="rId1"/>
          <a:stretch/>
        </p:blipFill>
        <p:spPr>
          <a:xfrm>
            <a:off x="1069920" y="1379520"/>
            <a:ext cx="7791480" cy="3819600"/>
          </a:xfrm>
          <a:prstGeom prst="rect">
            <a:avLst/>
          </a:prstGeom>
          <a:ln w="0">
            <a:noFill/>
          </a:ln>
        </p:spPr>
      </p:pic>
      <p:sp>
        <p:nvSpPr>
          <p:cNvPr id="134" name=""/>
          <p:cNvSpPr/>
          <p:nvPr/>
        </p:nvSpPr>
        <p:spPr>
          <a:xfrm>
            <a:off x="-520560" y="4919760"/>
            <a:ext cx="7076880" cy="11430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Univers"/>
              </a:rPr>
              <a:t>elapse 1,380:1</a:t>
            </a:r>
            <a:endParaRPr b="0" lang="en-US" sz="3600" spc="-1" strike="noStrike">
              <a:solidFill>
                <a:srgbClr val="000000"/>
              </a:solidFill>
              <a:latin typeface="Times New Roman"/>
            </a:endParaRPr>
          </a:p>
        </p:txBody>
      </p:sp>
      <p:sp>
        <p:nvSpPr>
          <p:cNvPr id="135" name=""/>
          <p:cNvSpPr/>
          <p:nvPr/>
        </p:nvSpPr>
        <p:spPr>
          <a:xfrm>
            <a:off x="-509760" y="5478480"/>
            <a:ext cx="7077240" cy="11430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Univers"/>
              </a:rPr>
              <a:t>cost time 33:1</a:t>
            </a:r>
            <a:endParaRPr b="0" lang="en-US" sz="3600" spc="-1" strike="noStrike">
              <a:solidFill>
                <a:srgbClr val="000000"/>
              </a:solidFill>
              <a:latin typeface="Times New Roman"/>
            </a:endParaRPr>
          </a:p>
        </p:txBody>
      </p:sp>
      <p:pic>
        <p:nvPicPr>
          <p:cNvPr id="136" name="aaaa" descr=""/>
          <p:cNvPicPr/>
          <p:nvPr/>
        </p:nvPicPr>
        <p:blipFill>
          <a:blip r:embed="rId2"/>
          <a:stretch/>
        </p:blipFill>
        <p:spPr>
          <a:xfrm>
            <a:off x="1065240" y="1384200"/>
            <a:ext cx="7791480" cy="4762440"/>
          </a:xfrm>
          <a:prstGeom prst="rect">
            <a:avLst/>
          </a:prstGeom>
          <a:ln w="0">
            <a:noFill/>
          </a:ln>
        </p:spPr>
      </p:pic>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9fe"/>
            </a:gs>
            <a:gs pos="100000">
              <a:srgbClr val="fefefe"/>
            </a:gs>
          </a:gsLst>
          <a:lin ang="10800000"/>
        </a:gradFill>
      </p:bgPr>
    </p:bg>
    <p:spTree>
      <p:nvGrpSpPr>
        <p:cNvPr id="1" name=""/>
        <p:cNvGrpSpPr/>
        <p:nvPr/>
      </p:nvGrpSpPr>
      <p:grpSpPr>
        <a:xfrm>
          <a:off x="0" y="0"/>
          <a:ext cx="0" cy="0"/>
          <a:chOff x="0" y="0"/>
          <a:chExt cx="0" cy="0"/>
        </a:xfrm>
      </p:grpSpPr>
      <p:sp>
        <p:nvSpPr>
          <p:cNvPr id="137" name=""/>
          <p:cNvSpPr/>
          <p:nvPr/>
        </p:nvSpPr>
        <p:spPr>
          <a:xfrm>
            <a:off x="1079640" y="558720"/>
            <a:ext cx="707688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38" name=""/>
          <p:cNvGraphicFramePr/>
          <p:nvPr/>
        </p:nvGraphicFramePr>
        <p:xfrm>
          <a:off x="1571760" y="885960"/>
          <a:ext cx="7105680" cy="5225760"/>
        </p:xfrm>
        <a:graphic>
          <a:graphicData uri="http://schemas.openxmlformats.org/presentationml/2006/ole">
            <p:oleObj progId="Excel.Sheet.12" r:id="rId1" spid="">
              <p:embed/>
              <p:pic>
                <p:nvPicPr>
                  <p:cNvPr id="139" name="" descr=""/>
                  <p:cNvPicPr/>
                  <p:nvPr/>
                </p:nvPicPr>
                <p:blipFill>
                  <a:blip r:embed="rId2"/>
                  <a:stretch/>
                </p:blipFill>
                <p:spPr>
                  <a:xfrm>
                    <a:off x="1571760" y="885960"/>
                    <a:ext cx="7105680" cy="5225760"/>
                  </a:xfrm>
                  <a:prstGeom prst="rect">
                    <a:avLst/>
                  </a:prstGeom>
                  <a:ln w="0">
                    <a:noFill/>
                  </a:ln>
                </p:spPr>
              </p:pic>
            </p:oleObj>
          </a:graphicData>
        </a:graphic>
      </p:graphicFrame>
      <p:pic>
        <p:nvPicPr>
          <p:cNvPr id="140" name="ring" descr=""/>
          <p:cNvPicPr/>
          <p:nvPr/>
        </p:nvPicPr>
        <p:blipFill>
          <a:blip r:embed="rId3"/>
          <a:stretch/>
        </p:blipFill>
        <p:spPr>
          <a:xfrm>
            <a:off x="6896160" y="2629080"/>
            <a:ext cx="2247840" cy="1625400"/>
          </a:xfrm>
          <a:prstGeom prst="rect">
            <a:avLst/>
          </a:prstGeom>
          <a:ln w="0">
            <a:noFill/>
          </a:ln>
        </p:spPr>
      </p:pic>
      <p:pic>
        <p:nvPicPr>
          <p:cNvPr id="141" name="ring" descr=""/>
          <p:cNvPicPr/>
          <p:nvPr/>
        </p:nvPicPr>
        <p:blipFill>
          <a:blip r:embed="rId4"/>
          <a:stretch/>
        </p:blipFill>
        <p:spPr>
          <a:xfrm>
            <a:off x="6692760" y="1816200"/>
            <a:ext cx="2248200" cy="1625400"/>
          </a:xfrm>
          <a:prstGeom prst="rect">
            <a:avLst/>
          </a:prstGeom>
          <a:ln w="0">
            <a:noFill/>
          </a:ln>
        </p:spPr>
      </p:pic>
      <p:pic>
        <p:nvPicPr>
          <p:cNvPr id="142" name="ring" descr=""/>
          <p:cNvPicPr/>
          <p:nvPr/>
        </p:nvPicPr>
        <p:blipFill>
          <a:blip r:embed="rId5"/>
          <a:stretch/>
        </p:blipFill>
        <p:spPr>
          <a:xfrm>
            <a:off x="6730920" y="4165560"/>
            <a:ext cx="2247840" cy="1625760"/>
          </a:xfrm>
          <a:prstGeom prst="rect">
            <a:avLst/>
          </a:prstGeom>
          <a:ln w="0">
            <a:noFill/>
          </a:ln>
        </p:spPr>
      </p:pic>
      <p:sp>
        <p:nvSpPr>
          <p:cNvPr id="143" name="PlaceHolder 1"/>
          <p:cNvSpPr>
            <a:spLocks noGrp="1"/>
          </p:cNvSpPr>
          <p:nvPr>
            <p:ph type="title"/>
          </p:nvPr>
        </p:nvSpPr>
        <p:spPr>
          <a:xfrm>
            <a:off x="1193760" y="545760"/>
            <a:ext cx="77472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Univers"/>
              </a:rPr>
              <a:t>Results</a:t>
            </a:r>
            <a:endParaRPr b="1" lang="en-US" sz="3600" spc="-1" strike="noStrike">
              <a:solidFill>
                <a:srgbClr val="3333cc"/>
              </a:solidFill>
              <a:latin typeface="Univers"/>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9fe"/>
            </a:gs>
            <a:gs pos="100000">
              <a:srgbClr val="fefefe"/>
            </a:gs>
          </a:gsLst>
          <a:lin ang="108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562040" y="647280"/>
            <a:ext cx="609624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Agenda</a:t>
            </a:r>
            <a:endParaRPr b="1" lang="en-US" sz="4000" spc="-1" strike="noStrike">
              <a:solidFill>
                <a:srgbClr val="3333cc"/>
              </a:solidFill>
              <a:latin typeface="Univers"/>
            </a:endParaRPr>
          </a:p>
        </p:txBody>
      </p:sp>
      <p:sp>
        <p:nvSpPr>
          <p:cNvPr id="145" name="PlaceHolder 2"/>
          <p:cNvSpPr>
            <a:spLocks noGrp="1"/>
          </p:cNvSpPr>
          <p:nvPr>
            <p:ph/>
          </p:nvPr>
        </p:nvSpPr>
        <p:spPr>
          <a:xfrm>
            <a:off x="1733040" y="1787400"/>
            <a:ext cx="7410600" cy="4114800"/>
          </a:xfrm>
          <a:prstGeom prst="rect">
            <a:avLst/>
          </a:prstGeom>
          <a:noFill/>
          <a:ln w="0">
            <a:noFill/>
          </a:ln>
        </p:spPr>
        <p:txBody>
          <a:bodyPr lIns="92160" rIns="92160" tIns="46080" bIns="46080" anchor="t">
            <a:normAutofit/>
          </a:bodyPr>
          <a:p>
            <a:pPr marL="343080" indent="-343080">
              <a:spcBef>
                <a:spcPts val="601"/>
              </a:spcBef>
              <a:buClr>
                <a:srgbClr val="8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9900"/>
                </a:solidFill>
                <a:latin typeface="Arial"/>
              </a:rPr>
              <a:t>Overview of RAMP</a:t>
            </a:r>
            <a:endParaRPr b="1" lang="en-US" sz="2400" spc="-1" strike="noStrike">
              <a:solidFill>
                <a:srgbClr val="000066"/>
              </a:solidFill>
              <a:latin typeface="Arial"/>
            </a:endParaRPr>
          </a:p>
          <a:p>
            <a:pPr marL="343080" indent="-343080">
              <a:spcBef>
                <a:spcPts val="601"/>
              </a:spcBef>
              <a:buClr>
                <a:srgbClr val="8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9900"/>
                </a:solidFill>
                <a:latin typeface="Arial"/>
              </a:rPr>
              <a:t>UK Evaluations of RAMP</a:t>
            </a:r>
            <a:endParaRPr b="1" lang="en-US" sz="2400" spc="-1" strike="noStrike">
              <a:solidFill>
                <a:srgbClr val="000066"/>
              </a:solidFill>
              <a:latin typeface="Arial"/>
            </a:endParaRPr>
          </a:p>
          <a:p>
            <a:pPr lvl="1" marL="743040" indent="-285840">
              <a:spcBef>
                <a:spcPts val="601"/>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9900"/>
                </a:solidFill>
                <a:latin typeface="Arial"/>
              </a:rPr>
              <a:t>UK Navy RAMP Project</a:t>
            </a:r>
            <a:endParaRPr b="1" lang="en-US" sz="2400" spc="-1" strike="noStrike">
              <a:solidFill>
                <a:srgbClr val="000066"/>
              </a:solidFill>
              <a:latin typeface="Arial"/>
            </a:endParaRPr>
          </a:p>
          <a:p>
            <a:pPr lvl="1" marL="743040" indent="-285840">
              <a:spcBef>
                <a:spcPts val="601"/>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9900"/>
                </a:solidFill>
                <a:latin typeface="Arial"/>
              </a:rPr>
              <a:t>Evaluation of UK Navy Store for AP224</a:t>
            </a:r>
            <a:endParaRPr b="1" lang="en-US" sz="2400" spc="-1" strike="noStrike">
              <a:solidFill>
                <a:srgbClr val="000066"/>
              </a:solidFill>
              <a:latin typeface="Arial"/>
            </a:endParaRPr>
          </a:p>
          <a:p>
            <a:pPr lvl="1" marL="743040" indent="-285840">
              <a:spcBef>
                <a:spcPts val="601"/>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9900"/>
                </a:solidFill>
                <a:latin typeface="Arial"/>
              </a:rPr>
              <a:t>DML RAMP Evaluation Project</a:t>
            </a:r>
            <a:endParaRPr b="1" lang="en-US" sz="2400" spc="-1" strike="noStrike">
              <a:solidFill>
                <a:srgbClr val="000066"/>
              </a:solidFill>
              <a:latin typeface="Arial"/>
            </a:endParaRPr>
          </a:p>
          <a:p>
            <a:pPr marL="343080" indent="-343080">
              <a:spcBef>
                <a:spcPts val="601"/>
              </a:spcBef>
              <a:buClr>
                <a:srgbClr val="8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UK Deployment of RAMP</a:t>
            </a:r>
            <a:endParaRPr b="1" lang="en-US" sz="2400" spc="-1" strike="noStrike">
              <a:solidFill>
                <a:srgbClr val="000066"/>
              </a:solidFill>
              <a:latin typeface="Arial"/>
            </a:endParaRPr>
          </a:p>
          <a:p>
            <a:pPr lvl="1" marL="743040" indent="-285840">
              <a:spcBef>
                <a:spcPts val="601"/>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Submarine Legacy Spares – business case</a:t>
            </a:r>
            <a:endParaRPr b="1" lang="en-US" sz="2400" spc="-1" strike="noStrike">
              <a:solidFill>
                <a:srgbClr val="000066"/>
              </a:solidFill>
              <a:latin typeface="Arial"/>
            </a:endParaRPr>
          </a:p>
          <a:p>
            <a:pPr lvl="1" marL="743040" indent="-285840">
              <a:spcBef>
                <a:spcPts val="601"/>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9900"/>
                </a:solidFill>
                <a:latin typeface="Arial"/>
              </a:rPr>
              <a:t>Submarine Legacy Spares – status</a:t>
            </a:r>
            <a:endParaRPr b="1" lang="en-US" sz="2400" spc="-1" strike="noStrike">
              <a:solidFill>
                <a:srgbClr val="000066"/>
              </a:solidFill>
              <a:latin typeface="Arial"/>
            </a:endParaRPr>
          </a:p>
          <a:p>
            <a:pPr lvl="1" marL="743040" indent="-285840">
              <a:spcBef>
                <a:spcPts val="601"/>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9900"/>
                </a:solidFill>
                <a:latin typeface="Arial"/>
              </a:rPr>
              <a:t>RAMP at DML </a:t>
            </a:r>
            <a:endParaRPr b="1" lang="en-US" sz="2400" spc="-1" strike="noStrike">
              <a:solidFill>
                <a:srgbClr val="0000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9fe"/>
            </a:gs>
            <a:gs pos="100000">
              <a:srgbClr val="fefefe"/>
            </a:gs>
          </a:gsLst>
          <a:lin ang="10800000"/>
        </a:gra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2185920" y="6154560"/>
            <a:ext cx="1928880" cy="703440"/>
          </a:xfrm>
          <a:prstGeom prst="rect">
            <a:avLst/>
          </a:prstGeom>
          <a:ln w="0">
            <a:noFill/>
          </a:ln>
        </p:spPr>
      </p:pic>
      <p:sp>
        <p:nvSpPr>
          <p:cNvPr id="147" name="PlaceHolder 1"/>
          <p:cNvSpPr>
            <a:spLocks noGrp="1"/>
          </p:cNvSpPr>
          <p:nvPr>
            <p:ph type="title"/>
          </p:nvPr>
        </p:nvSpPr>
        <p:spPr>
          <a:xfrm>
            <a:off x="1396800" y="596520"/>
            <a:ext cx="77468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Univers"/>
              </a:rPr>
              <a:t>RAMP - MXS Perspective</a:t>
            </a:r>
            <a:endParaRPr b="1" lang="en-US" sz="3600" spc="-1" strike="noStrike">
              <a:solidFill>
                <a:srgbClr val="3333cc"/>
              </a:solidFill>
              <a:latin typeface="Univers"/>
            </a:endParaRPr>
          </a:p>
        </p:txBody>
      </p:sp>
      <p:sp>
        <p:nvSpPr>
          <p:cNvPr id="148" name="PlaceHolder 2"/>
          <p:cNvSpPr>
            <a:spLocks noGrp="1"/>
          </p:cNvSpPr>
          <p:nvPr>
            <p:ph/>
          </p:nvPr>
        </p:nvSpPr>
        <p:spPr>
          <a:xfrm>
            <a:off x="1536480" y="1679400"/>
            <a:ext cx="7607160" cy="4114800"/>
          </a:xfrm>
          <a:prstGeom prst="rect">
            <a:avLst/>
          </a:prstGeom>
          <a:noFill/>
          <a:ln w="0">
            <a:noFill/>
          </a:ln>
        </p:spPr>
        <p:txBody>
          <a:bodyPr lIns="92160" rIns="92160" tIns="46080" bIns="46080" anchor="t">
            <a:normAutofit/>
          </a:bodyPr>
          <a:p>
            <a:pPr marL="343080" indent="-343080">
              <a:spcBef>
                <a:spcPts val="601"/>
              </a:spcBef>
              <a:buClr>
                <a:srgbClr val="8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MXS inherits ownership of 90,000 line items</a:t>
            </a:r>
            <a:endParaRPr b="1" lang="en-US" sz="2400" spc="-1" strike="noStrike">
              <a:solidFill>
                <a:srgbClr val="000066"/>
              </a:solidFill>
              <a:latin typeface="Arial"/>
            </a:endParaRPr>
          </a:p>
          <a:p>
            <a:pPr lvl="1" marL="743040" indent="-285840">
              <a:spcBef>
                <a:spcPts val="4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t was valued at $640 million in October 03.</a:t>
            </a:r>
            <a:endParaRPr b="1" lang="en-US" sz="2000" spc="-1" strike="noStrike">
              <a:solidFill>
                <a:srgbClr val="000066"/>
              </a:solidFill>
              <a:latin typeface="Arial"/>
            </a:endParaRPr>
          </a:p>
          <a:p>
            <a:pPr lvl="1" marL="743040" indent="-285840">
              <a:spcBef>
                <a:spcPts val="4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t ranges from consumables to complete equipments.</a:t>
            </a:r>
            <a:endParaRPr b="1" lang="en-US" sz="2000" spc="-1" strike="noStrike">
              <a:solidFill>
                <a:srgbClr val="000066"/>
              </a:solidFill>
              <a:latin typeface="Arial"/>
            </a:endParaRPr>
          </a:p>
          <a:p>
            <a:pPr lvl="1" marL="743040" indent="-285840">
              <a:spcBef>
                <a:spcPts val="4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Usage varies from hundreds per year down to zero.</a:t>
            </a:r>
            <a:endParaRPr b="1" lang="en-US" sz="2000" spc="-1" strike="noStrike">
              <a:solidFill>
                <a:srgbClr val="000066"/>
              </a:solidFill>
              <a:latin typeface="Arial"/>
            </a:endParaRPr>
          </a:p>
          <a:p>
            <a:pPr marL="343080" indent="-343080">
              <a:spcBef>
                <a:spcPts val="601"/>
              </a:spcBef>
              <a:buClr>
                <a:srgbClr val="8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ignificant task to rationalise</a:t>
            </a:r>
            <a:endParaRPr b="1" lang="en-US" sz="2400" spc="-1" strike="noStrike">
              <a:solidFill>
                <a:srgbClr val="000066"/>
              </a:solidFill>
              <a:latin typeface="Arial"/>
            </a:endParaRPr>
          </a:p>
          <a:p>
            <a:pPr lvl="1" marL="743040" indent="-285840">
              <a:spcBef>
                <a:spcPts val="4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tock levels often determined by historical data only</a:t>
            </a:r>
            <a:endParaRPr b="1" lang="en-US" sz="2000" spc="-1" strike="noStrike">
              <a:solidFill>
                <a:srgbClr val="000066"/>
              </a:solidFill>
              <a:latin typeface="Arial"/>
            </a:endParaRPr>
          </a:p>
          <a:p>
            <a:pPr lvl="1" marL="743040" indent="-285840">
              <a:spcBef>
                <a:spcPts val="4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Working with industry can share the burden</a:t>
            </a:r>
            <a:endParaRPr b="1" lang="en-US" sz="2000" spc="-1" strike="noStrike">
              <a:solidFill>
                <a:srgbClr val="000066"/>
              </a:solidFill>
              <a:latin typeface="Arial"/>
            </a:endParaRPr>
          </a:p>
          <a:p>
            <a:pPr lvl="1" marL="743040" indent="-285840">
              <a:spcBef>
                <a:spcPts val="4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ndustry have expertise to bring</a:t>
            </a:r>
            <a:endParaRPr b="1" lang="en-US" sz="2000" spc="-1" strike="noStrike">
              <a:solidFill>
                <a:srgbClr val="000066"/>
              </a:solidFill>
              <a:latin typeface="Arial"/>
            </a:endParaRPr>
          </a:p>
          <a:p>
            <a:pPr lvl="1" marL="743040" indent="-285840">
              <a:spcBef>
                <a:spcPts val="4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Transferring responsibility to industry can also shorten supply chain</a:t>
            </a:r>
            <a:endParaRPr b="1" lang="en-US" sz="2000" spc="-1" strike="noStrike">
              <a:solidFill>
                <a:srgbClr val="000066"/>
              </a:solidFill>
              <a:latin typeface="Arial"/>
            </a:endParaRPr>
          </a:p>
        </p:txBody>
      </p:sp>
      <p:sp>
        <p:nvSpPr>
          <p:cNvPr id="149" name=""/>
          <p:cNvSpPr/>
          <p:nvPr/>
        </p:nvSpPr>
        <p:spPr>
          <a:xfrm>
            <a:off x="3657600" y="6095880"/>
            <a:ext cx="5486400" cy="305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Dan Smith Team Leader, Marine Auxiliary Systems IPT</a:t>
            </a:r>
            <a:endParaRPr b="0" lang="en-US" sz="1400" spc="-1" strike="noStrike">
              <a:solidFill>
                <a:srgbClr val="000000"/>
              </a:solidFill>
              <a:latin typeface="Times New Roman"/>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9fe"/>
            </a:gs>
            <a:gs pos="100000">
              <a:srgbClr val="fefefe"/>
            </a:gs>
          </a:gsLst>
          <a:lin ang="10800000"/>
        </a:gra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2185920" y="6154560"/>
            <a:ext cx="1928880" cy="703440"/>
          </a:xfrm>
          <a:prstGeom prst="rect">
            <a:avLst/>
          </a:prstGeom>
          <a:ln w="0">
            <a:noFill/>
          </a:ln>
        </p:spPr>
      </p:pic>
      <p:sp>
        <p:nvSpPr>
          <p:cNvPr id="151" name="PlaceHolder 1"/>
          <p:cNvSpPr>
            <a:spLocks noGrp="1"/>
          </p:cNvSpPr>
          <p:nvPr>
            <p:ph type="title"/>
          </p:nvPr>
        </p:nvSpPr>
        <p:spPr>
          <a:xfrm>
            <a:off x="1153800" y="639360"/>
            <a:ext cx="73119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Univers"/>
              </a:rPr>
              <a:t>RAMP - Legacy Spares Contract</a:t>
            </a:r>
            <a:endParaRPr b="1" lang="en-US" sz="3600" spc="-1" strike="noStrike">
              <a:solidFill>
                <a:srgbClr val="3333cc"/>
              </a:solidFill>
              <a:latin typeface="Univers"/>
            </a:endParaRPr>
          </a:p>
        </p:txBody>
      </p:sp>
      <p:sp>
        <p:nvSpPr>
          <p:cNvPr id="152" name="PlaceHolder 2"/>
          <p:cNvSpPr>
            <a:spLocks noGrp="1"/>
          </p:cNvSpPr>
          <p:nvPr>
            <p:ph/>
          </p:nvPr>
        </p:nvSpPr>
        <p:spPr>
          <a:xfrm>
            <a:off x="1536480" y="1679400"/>
            <a:ext cx="760716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8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rPr>
              <a:t>Submarine Legacy spares </a:t>
            </a:r>
            <a:endParaRPr b="1" lang="en-US" sz="2800" spc="-1" strike="noStrike">
              <a:solidFill>
                <a:srgbClr val="000066"/>
              </a:solidFill>
              <a:latin typeface="Arial"/>
            </a:endParaRPr>
          </a:p>
          <a:p>
            <a:pPr lvl="1" marL="743040" indent="-285840">
              <a:lnSpc>
                <a:spcPct val="90000"/>
              </a:lnSpc>
              <a:spcBef>
                <a:spcPts val="601"/>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combined contract for 4 IPTs </a:t>
            </a:r>
            <a:endParaRPr b="1" lang="en-US" sz="2400" spc="-1" strike="noStrike">
              <a:solidFill>
                <a:srgbClr val="000066"/>
              </a:solidFill>
              <a:latin typeface="Arial"/>
            </a:endParaRPr>
          </a:p>
          <a:p>
            <a:pPr lvl="1" marL="743040" indent="-285840">
              <a:lnSpc>
                <a:spcPct val="90000"/>
              </a:lnSpc>
              <a:spcBef>
                <a:spcPts val="601"/>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worth ~$10 million/year </a:t>
            </a:r>
            <a:endParaRPr b="1" lang="en-US" sz="2400" spc="-1" strike="noStrike">
              <a:solidFill>
                <a:srgbClr val="000066"/>
              </a:solidFill>
              <a:latin typeface="Arial"/>
            </a:endParaRPr>
          </a:p>
          <a:p>
            <a:pPr lvl="1" marL="743040" indent="-285840">
              <a:lnSpc>
                <a:spcPct val="90000"/>
              </a:lnSpc>
              <a:spcBef>
                <a:spcPts val="601"/>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30,000 items </a:t>
            </a:r>
            <a:endParaRPr b="1" lang="en-US" sz="2400" spc="-1" strike="noStrike">
              <a:solidFill>
                <a:srgbClr val="000066"/>
              </a:solidFill>
              <a:latin typeface="Arial"/>
            </a:endParaRPr>
          </a:p>
          <a:p>
            <a:pPr marL="343080" indent="-343080">
              <a:lnSpc>
                <a:spcPct val="90000"/>
              </a:lnSpc>
              <a:spcBef>
                <a:spcPts val="700"/>
              </a:spcBef>
              <a:buClr>
                <a:srgbClr val="8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rPr>
              <a:t>Awarded through competition to DML by MDMS IPT early 2002</a:t>
            </a:r>
            <a:endParaRPr b="1" lang="en-US" sz="2800" spc="-1" strike="noStrike">
              <a:solidFill>
                <a:srgbClr val="000066"/>
              </a:solidFill>
              <a:latin typeface="Arial"/>
            </a:endParaRPr>
          </a:p>
          <a:p>
            <a:pPr marL="343080" indent="-343080">
              <a:lnSpc>
                <a:spcPct val="90000"/>
              </a:lnSpc>
              <a:spcBef>
                <a:spcPts val="700"/>
              </a:spcBef>
              <a:buClr>
                <a:srgbClr val="8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rPr>
              <a:t>“</a:t>
            </a:r>
            <a:r>
              <a:rPr b="1" lang="en-GB" sz="2800" spc="-1" strike="noStrike">
                <a:solidFill>
                  <a:srgbClr val="000066"/>
                </a:solidFill>
                <a:latin typeface="Arial"/>
              </a:rPr>
              <a:t>SMART” contract, heavily incentivised on both delivery performance </a:t>
            </a:r>
            <a:r>
              <a:rPr b="1" lang="en-GB" sz="2800" spc="-1" strike="noStrike" u="sng">
                <a:solidFill>
                  <a:srgbClr val="000066"/>
                </a:solidFill>
                <a:uFillTx/>
                <a:latin typeface="Arial"/>
              </a:rPr>
              <a:t>and</a:t>
            </a:r>
            <a:r>
              <a:rPr b="1" lang="en-GB" sz="2800" spc="-1" strike="noStrike">
                <a:solidFill>
                  <a:srgbClr val="000066"/>
                </a:solidFill>
                <a:latin typeface="Arial"/>
              </a:rPr>
              <a:t> delivering reduced costs </a:t>
            </a:r>
            <a:endParaRPr b="1" lang="en-US" sz="2800" spc="-1" strike="noStrike">
              <a:solidFill>
                <a:srgbClr val="000066"/>
              </a:solidFill>
              <a:latin typeface="Arial"/>
            </a:endParaRPr>
          </a:p>
        </p:txBody>
      </p:sp>
      <p:sp>
        <p:nvSpPr>
          <p:cNvPr id="153" name=""/>
          <p:cNvSpPr/>
          <p:nvPr/>
        </p:nvSpPr>
        <p:spPr>
          <a:xfrm>
            <a:off x="3657600" y="6095880"/>
            <a:ext cx="5486400" cy="305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Dan Smith Team Leader, Marine Auxiliary Systems IPT</a:t>
            </a:r>
            <a:endParaRPr b="0" lang="en-US" sz="1400" spc="-1" strike="noStrike">
              <a:solidFill>
                <a:srgbClr val="000000"/>
              </a:solidFill>
              <a:latin typeface="Times New Roman"/>
            </a:endParaRPr>
          </a:p>
        </p:txBody>
      </p:sp>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9fe"/>
            </a:gs>
            <a:gs pos="100000">
              <a:srgbClr val="fefefe"/>
            </a:gs>
          </a:gsLst>
          <a:lin ang="108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395000" y="610920"/>
            <a:ext cx="63104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Univers"/>
              </a:rPr>
              <a:t>RAMP - Contract Initiatives</a:t>
            </a:r>
            <a:endParaRPr b="1" lang="en-US" sz="3600" spc="-1" strike="noStrike">
              <a:solidFill>
                <a:srgbClr val="3333cc"/>
              </a:solidFill>
              <a:latin typeface="Univers"/>
            </a:endParaRPr>
          </a:p>
        </p:txBody>
      </p:sp>
      <p:sp>
        <p:nvSpPr>
          <p:cNvPr id="155" name="PlaceHolder 2"/>
          <p:cNvSpPr>
            <a:spLocks noGrp="1"/>
          </p:cNvSpPr>
          <p:nvPr>
            <p:ph/>
          </p:nvPr>
        </p:nvSpPr>
        <p:spPr>
          <a:xfrm>
            <a:off x="1536480" y="1679400"/>
            <a:ext cx="760716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8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A number of potential initiatives were investigated and reported by DML early in the contract, eg Vendor Management, Spares Rationalisation</a:t>
            </a:r>
            <a:endParaRPr b="1" lang="en-US" sz="2400" spc="-1" strike="noStrike">
              <a:solidFill>
                <a:srgbClr val="000066"/>
              </a:solidFill>
              <a:latin typeface="Arial"/>
            </a:endParaRPr>
          </a:p>
          <a:p>
            <a:pPr marL="343080" indent="-343080">
              <a:lnSpc>
                <a:spcPct val="90000"/>
              </a:lnSpc>
              <a:spcBef>
                <a:spcPts val="601"/>
              </a:spcBef>
              <a:buClr>
                <a:srgbClr val="8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RAMP was one of the initiatives proposed for further work.</a:t>
            </a:r>
            <a:endParaRPr b="1" lang="en-US" sz="2400" spc="-1" strike="noStrike">
              <a:solidFill>
                <a:srgbClr val="000066"/>
              </a:solidFill>
              <a:latin typeface="Arial"/>
            </a:endParaRPr>
          </a:p>
          <a:p>
            <a:pPr marL="343080" indent="-343080">
              <a:lnSpc>
                <a:spcPct val="90000"/>
              </a:lnSpc>
              <a:spcBef>
                <a:spcPts val="601"/>
              </a:spcBef>
              <a:buClr>
                <a:srgbClr val="8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Initiatives were agreed on the assumption that DML were entitled to a share of the net savings accruing</a:t>
            </a:r>
            <a:endParaRPr b="1" lang="en-US" sz="2400" spc="-1" strike="noStrike">
              <a:solidFill>
                <a:srgbClr val="000066"/>
              </a:solidFill>
              <a:latin typeface="Arial"/>
            </a:endParaRPr>
          </a:p>
          <a:p>
            <a:pPr marL="343080" indent="-343080">
              <a:lnSpc>
                <a:spcPct val="90000"/>
              </a:lnSpc>
              <a:spcBef>
                <a:spcPts val="601"/>
              </a:spcBef>
              <a:buClr>
                <a:srgbClr val="8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RAMP therefore had to be self-funding and profitable!</a:t>
            </a:r>
            <a:endParaRPr b="1" lang="en-US" sz="2400" spc="-1" strike="noStrike">
              <a:solidFill>
                <a:srgbClr val="0000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156" name=""/>
          <p:cNvSpPr/>
          <p:nvPr/>
        </p:nvSpPr>
        <p:spPr>
          <a:xfrm>
            <a:off x="3657600" y="6095880"/>
            <a:ext cx="5486400" cy="305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Dan Smith Team Leader, Marine Auxiliary Systems IPT</a:t>
            </a:r>
            <a:endParaRPr b="0" lang="en-US" sz="1400" spc="-1" strike="noStrike">
              <a:solidFill>
                <a:srgbClr val="000000"/>
              </a:solidFill>
              <a:latin typeface="Times New Roman"/>
            </a:endParaRPr>
          </a:p>
        </p:txBody>
      </p:sp>
      <p:pic>
        <p:nvPicPr>
          <p:cNvPr id="157" name="" descr=""/>
          <p:cNvPicPr/>
          <p:nvPr/>
        </p:nvPicPr>
        <p:blipFill>
          <a:blip r:embed="rId1"/>
          <a:stretch/>
        </p:blipFill>
        <p:spPr>
          <a:xfrm>
            <a:off x="2185920" y="6154560"/>
            <a:ext cx="1928880" cy="703440"/>
          </a:xfrm>
          <a:prstGeom prst="rect">
            <a:avLst/>
          </a:prstGeom>
          <a:ln w="0">
            <a:noFill/>
          </a:ln>
        </p:spPr>
      </p:pic>
    </p:spTree>
  </p:cSld>
  <p:transition>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9fe"/>
            </a:gs>
            <a:gs pos="100000">
              <a:srgbClr val="fefefe"/>
            </a:gs>
          </a:gsLst>
          <a:lin ang="108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396800" y="596520"/>
            <a:ext cx="77468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Univers"/>
              </a:rPr>
              <a:t>RAMP - Concept</a:t>
            </a:r>
            <a:endParaRPr b="1" lang="en-US" sz="3600" spc="-1" strike="noStrike">
              <a:solidFill>
                <a:srgbClr val="3333cc"/>
              </a:solidFill>
              <a:latin typeface="Univers"/>
            </a:endParaRPr>
          </a:p>
        </p:txBody>
      </p:sp>
      <p:sp>
        <p:nvSpPr>
          <p:cNvPr id="159" name="PlaceHolder 2"/>
          <p:cNvSpPr>
            <a:spLocks noGrp="1"/>
          </p:cNvSpPr>
          <p:nvPr>
            <p:ph/>
          </p:nvPr>
        </p:nvSpPr>
        <p:spPr>
          <a:xfrm>
            <a:off x="1536480" y="1128600"/>
            <a:ext cx="7607160" cy="4114800"/>
          </a:xfrm>
          <a:prstGeom prst="rect">
            <a:avLst/>
          </a:prstGeom>
          <a:noFill/>
          <a:ln w="0">
            <a:noFill/>
          </a:ln>
        </p:spPr>
        <p:txBody>
          <a:bodyPr lIns="92160" rIns="92160" tIns="46080" bIns="46080" anchor="t">
            <a:normAutofit fontScale="86000"/>
          </a:bodyPr>
          <a:p>
            <a:pPr marL="294840" indent="-294840">
              <a:lnSpc>
                <a:spcPct val="90000"/>
              </a:lnSpc>
              <a:spcBef>
                <a:spcPts val="601"/>
              </a:spcBef>
              <a:buClr>
                <a:srgbClr val="8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AMP - stock reduction by assured rapid supply</a:t>
            </a:r>
            <a:endParaRPr b="1" lang="en-US" sz="2400" spc="-1" strike="noStrike">
              <a:solidFill>
                <a:srgbClr val="000066"/>
              </a:solidFill>
              <a:latin typeface="Arial"/>
            </a:endParaRPr>
          </a:p>
          <a:p>
            <a:pPr marL="294840" indent="-294840">
              <a:lnSpc>
                <a:spcPct val="90000"/>
              </a:lnSpc>
              <a:spcBef>
                <a:spcPts val="601"/>
              </a:spcBef>
              <a:buClr>
                <a:srgbClr val="8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AMP was a concept that had circulated for many years in the forerunners of the DLO but never converted into reality.</a:t>
            </a:r>
            <a:endParaRPr b="1" lang="en-US" sz="2400" spc="-1" strike="noStrike">
              <a:solidFill>
                <a:srgbClr val="000066"/>
              </a:solidFill>
              <a:latin typeface="Arial"/>
            </a:endParaRPr>
          </a:p>
          <a:p>
            <a:pPr marL="294840" indent="-294840">
              <a:lnSpc>
                <a:spcPct val="90000"/>
              </a:lnSpc>
              <a:spcBef>
                <a:spcPts val="601"/>
              </a:spcBef>
              <a:buClr>
                <a:srgbClr val="8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imple in concept, holding the manufacturing information rather than parts, linked to machining centre.</a:t>
            </a:r>
            <a:endParaRPr b="1" lang="en-US" sz="2400" spc="-1" strike="noStrike">
              <a:solidFill>
                <a:srgbClr val="000066"/>
              </a:solidFill>
              <a:latin typeface="Arial"/>
            </a:endParaRPr>
          </a:p>
          <a:p>
            <a:pPr marL="294840" indent="-294840">
              <a:lnSpc>
                <a:spcPct val="90000"/>
              </a:lnSpc>
              <a:spcBef>
                <a:spcPts val="601"/>
              </a:spcBef>
              <a:buClr>
                <a:srgbClr val="8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ML had the advantage of already using similar facility on small scale in support of urgent refit requirements.</a:t>
            </a:r>
            <a:endParaRPr b="1" lang="en-US" sz="2400" spc="-1" strike="noStrike">
              <a:solidFill>
                <a:srgbClr val="000066"/>
              </a:solidFill>
              <a:latin typeface="Arial"/>
            </a:endParaRPr>
          </a:p>
          <a:p>
            <a:pPr marL="294840" indent="-294840">
              <a:lnSpc>
                <a:spcPct val="90000"/>
              </a:lnSpc>
              <a:spcBef>
                <a:spcPts val="601"/>
              </a:spcBef>
              <a:buClr>
                <a:srgbClr val="8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is contract formed the ideal vehicle to utilise RAMP, explore the boundaries of what was economically feasible.</a:t>
            </a:r>
            <a:endParaRPr b="1" lang="en-US" sz="2400" spc="-1" strike="noStrike">
              <a:solidFill>
                <a:srgbClr val="000066"/>
              </a:solidFill>
              <a:latin typeface="Arial"/>
            </a:endParaRPr>
          </a:p>
          <a:p>
            <a:pPr marL="294840" indent="-294840">
              <a:lnSpc>
                <a:spcPct val="90000"/>
              </a:lnSpc>
              <a:spcBef>
                <a:spcPts val="601"/>
              </a:spcBef>
              <a:buClr>
                <a:srgbClr val="8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ith very little risk to the MoD!</a:t>
            </a:r>
            <a:endParaRPr b="1" lang="en-US" sz="2400" spc="-1" strike="noStrike">
              <a:solidFill>
                <a:srgbClr val="000066"/>
              </a:solidFill>
              <a:latin typeface="Arial"/>
            </a:endParaRPr>
          </a:p>
          <a:p>
            <a:pPr marL="294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160" name=""/>
          <p:cNvSpPr/>
          <p:nvPr/>
        </p:nvSpPr>
        <p:spPr>
          <a:xfrm>
            <a:off x="3657600" y="6095880"/>
            <a:ext cx="5486400" cy="305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Dan Smith Team Leader, Marine Auxiliary Systems IPT</a:t>
            </a:r>
            <a:endParaRPr b="0" lang="en-US" sz="1400" spc="-1" strike="noStrike">
              <a:solidFill>
                <a:srgbClr val="000000"/>
              </a:solidFill>
              <a:latin typeface="Times New Roman"/>
            </a:endParaRPr>
          </a:p>
        </p:txBody>
      </p:sp>
      <p:pic>
        <p:nvPicPr>
          <p:cNvPr id="161" name="" descr=""/>
          <p:cNvPicPr/>
          <p:nvPr/>
        </p:nvPicPr>
        <p:blipFill>
          <a:blip r:embed="rId1"/>
          <a:stretch/>
        </p:blipFill>
        <p:spPr>
          <a:xfrm>
            <a:off x="2185920" y="6154560"/>
            <a:ext cx="1928880" cy="703440"/>
          </a:xfrm>
          <a:prstGeom prst="rect">
            <a:avLst/>
          </a:prstGeom>
          <a:ln w="0">
            <a:noFill/>
          </a:ln>
        </p:spPr>
      </p:pic>
    </p:spTree>
  </p:cSld>
  <p:transition>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9fe"/>
            </a:gs>
            <a:gs pos="100000">
              <a:srgbClr val="fefefe"/>
            </a:gs>
          </a:gsLst>
          <a:lin ang="108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396800" y="596520"/>
            <a:ext cx="77468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Univers"/>
              </a:rPr>
              <a:t>SLSC Project Definition Study</a:t>
            </a:r>
            <a:endParaRPr b="1" lang="en-US" sz="3600" spc="-1" strike="noStrike">
              <a:solidFill>
                <a:srgbClr val="3333cc"/>
              </a:solidFill>
              <a:latin typeface="Univers"/>
            </a:endParaRPr>
          </a:p>
        </p:txBody>
      </p:sp>
      <p:sp>
        <p:nvSpPr>
          <p:cNvPr id="163" name="PlaceHolder 2"/>
          <p:cNvSpPr>
            <a:spLocks noGrp="1"/>
          </p:cNvSpPr>
          <p:nvPr>
            <p:ph/>
          </p:nvPr>
        </p:nvSpPr>
        <p:spPr>
          <a:xfrm>
            <a:off x="1536480" y="1679400"/>
            <a:ext cx="7607160" cy="411480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a:p>
            <a:pPr marL="343080" indent="-343080">
              <a:spcBef>
                <a:spcPts val="700"/>
              </a:spcBef>
              <a:buClr>
                <a:srgbClr val="8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Identify range of items suitable</a:t>
            </a:r>
            <a:endParaRPr b="1" lang="en-US" sz="2800" spc="-1" strike="noStrike">
              <a:solidFill>
                <a:srgbClr val="000066"/>
              </a:solidFill>
              <a:latin typeface="Arial"/>
            </a:endParaRPr>
          </a:p>
          <a:p>
            <a:pPr marL="343080" indent="-343080">
              <a:spcBef>
                <a:spcPts val="700"/>
              </a:spcBef>
              <a:buClr>
                <a:srgbClr val="8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Review impact of RAMP</a:t>
            </a:r>
            <a:endParaRPr b="1" lang="en-US" sz="2800" spc="-1" strike="noStrike">
              <a:solidFill>
                <a:srgbClr val="000066"/>
              </a:solidFill>
              <a:latin typeface="Arial"/>
            </a:endParaRPr>
          </a:p>
          <a:p>
            <a:pPr lvl="1" marL="743040" indent="-285840">
              <a:spcBef>
                <a:spcPts val="601"/>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osts of preparing STEP files</a:t>
            </a:r>
            <a:endParaRPr b="1" lang="en-US" sz="2400" spc="-1" strike="noStrike">
              <a:solidFill>
                <a:srgbClr val="000066"/>
              </a:solidFill>
              <a:latin typeface="Arial"/>
            </a:endParaRPr>
          </a:p>
          <a:p>
            <a:pPr lvl="1" marL="743040" indent="-285840">
              <a:spcBef>
                <a:spcPts val="601"/>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lative costs of manufacture</a:t>
            </a:r>
            <a:endParaRPr b="1" lang="en-US" sz="2400" spc="-1" strike="noStrike">
              <a:solidFill>
                <a:srgbClr val="000066"/>
              </a:solidFill>
              <a:latin typeface="Arial"/>
            </a:endParaRPr>
          </a:p>
          <a:p>
            <a:pPr lvl="1" marL="743040" indent="-285840">
              <a:spcBef>
                <a:spcPts val="601"/>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lative stock-holding costs</a:t>
            </a:r>
            <a:endParaRPr b="1" lang="en-US" sz="2400" spc="-1" strike="noStrike">
              <a:solidFill>
                <a:srgbClr val="000066"/>
              </a:solidFill>
              <a:latin typeface="Arial"/>
            </a:endParaRPr>
          </a:p>
          <a:p>
            <a:pPr marL="343080" indent="-343080">
              <a:spcBef>
                <a:spcPts val="700"/>
              </a:spcBef>
              <a:buClr>
                <a:srgbClr val="8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Prepare a cost benefit analysis</a:t>
            </a:r>
            <a:endParaRPr b="1" lang="en-US" sz="2800" spc="-1" strike="noStrike">
              <a:solidFill>
                <a:srgbClr val="000066"/>
              </a:solidFill>
              <a:latin typeface="Arial"/>
            </a:endParaRPr>
          </a:p>
          <a:p>
            <a:pPr marL="343080" indent="-343080">
              <a:spcBef>
                <a:spcPts val="700"/>
              </a:spcBef>
              <a:buClr>
                <a:srgbClr val="8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Prepare operating procedures</a:t>
            </a:r>
            <a:endParaRPr b="1" lang="en-US" sz="2800" spc="-1" strike="noStrike">
              <a:solidFill>
                <a:srgbClr val="0000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Tree>
  </p:cSld>
  <p:transition>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9fe"/>
            </a:gs>
            <a:gs pos="100000">
              <a:srgbClr val="fefefe"/>
            </a:gs>
          </a:gsLst>
          <a:lin ang="108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396800" y="596520"/>
            <a:ext cx="77468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Univers"/>
              </a:rPr>
              <a:t>Item selection process</a:t>
            </a:r>
            <a:endParaRPr b="1" lang="en-US" sz="3600" spc="-1" strike="noStrike">
              <a:solidFill>
                <a:srgbClr val="3333cc"/>
              </a:solidFill>
              <a:latin typeface="Univers"/>
            </a:endParaRPr>
          </a:p>
        </p:txBody>
      </p:sp>
      <p:sp>
        <p:nvSpPr>
          <p:cNvPr id="165" name="PlaceHolder 2"/>
          <p:cNvSpPr>
            <a:spLocks noGrp="1"/>
          </p:cNvSpPr>
          <p:nvPr>
            <p:ph/>
          </p:nvPr>
        </p:nvSpPr>
        <p:spPr>
          <a:xfrm>
            <a:off x="1371600" y="1574280"/>
            <a:ext cx="7772400" cy="449604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8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dentify items with known costs and savings </a:t>
            </a:r>
            <a:endParaRPr b="1" lang="en-US" sz="2400" spc="-1" strike="noStrike">
              <a:solidFill>
                <a:srgbClr val="000066"/>
              </a:solidFill>
              <a:latin typeface="Arial"/>
            </a:endParaRPr>
          </a:p>
          <a:p>
            <a:pPr lvl="1" marL="72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 </a:t>
            </a:r>
            <a:r>
              <a:rPr b="1" lang="en-US" sz="2000" spc="-1" strike="noStrike">
                <a:solidFill>
                  <a:srgbClr val="000066"/>
                </a:solidFill>
                <a:latin typeface="Arial"/>
              </a:rPr>
              <a:t>for DML investment</a:t>
            </a:r>
            <a:endParaRPr b="1" lang="en-US" sz="2000" spc="-1" strike="noStrike">
              <a:solidFill>
                <a:srgbClr val="000066"/>
              </a:solidFill>
              <a:latin typeface="Arial"/>
            </a:endParaRPr>
          </a:p>
          <a:p>
            <a:pPr lvl="1" marL="720720" indent="-277200">
              <a:lnSpc>
                <a:spcPct val="90000"/>
              </a:lnSpc>
              <a:spcBef>
                <a:spcPts val="4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Examination of sample items</a:t>
            </a:r>
            <a:endParaRPr b="1" lang="en-US" sz="2000" spc="-1" strike="noStrike">
              <a:solidFill>
                <a:srgbClr val="000066"/>
              </a:solidFill>
              <a:latin typeface="Arial"/>
            </a:endParaRPr>
          </a:p>
          <a:p>
            <a:pPr lvl="1" marL="720720" indent="-277200">
              <a:lnSpc>
                <a:spcPct val="90000"/>
              </a:lnSpc>
              <a:spcBef>
                <a:spcPts val="4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Determine design and manufacturing complexity</a:t>
            </a:r>
            <a:endParaRPr b="1" lang="en-US" sz="2000" spc="-1" strike="noStrike">
              <a:solidFill>
                <a:srgbClr val="000066"/>
              </a:solidFill>
              <a:latin typeface="Arial"/>
            </a:endParaRPr>
          </a:p>
          <a:p>
            <a:pPr lvl="1" marL="720720" indent="-277200">
              <a:lnSpc>
                <a:spcPct val="90000"/>
              </a:lnSpc>
              <a:spcBef>
                <a:spcPts val="4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tems capable of maximum automation</a:t>
            </a:r>
            <a:endParaRPr b="1" lang="en-US" sz="2000" spc="-1" strike="noStrike">
              <a:solidFill>
                <a:srgbClr val="000066"/>
              </a:solidFill>
              <a:latin typeface="Arial"/>
            </a:endParaRPr>
          </a:p>
          <a:p>
            <a:pPr lvl="1" marL="720720" indent="-277200">
              <a:lnSpc>
                <a:spcPct val="90000"/>
              </a:lnSpc>
              <a:spcBef>
                <a:spcPts val="4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elect based upon Item Name Code</a:t>
            </a:r>
            <a:endParaRPr b="1" lang="en-US" sz="2000" spc="-1" strike="noStrike">
              <a:solidFill>
                <a:srgbClr val="000066"/>
              </a:solidFill>
              <a:latin typeface="Arial"/>
            </a:endParaRPr>
          </a:p>
          <a:p>
            <a:pPr lvl="1"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Arial"/>
            </a:endParaRPr>
          </a:p>
          <a:p>
            <a:pPr marL="332640" indent="-332640">
              <a:lnSpc>
                <a:spcPct val="90000"/>
              </a:lnSpc>
              <a:spcBef>
                <a:spcPts val="601"/>
              </a:spcBef>
              <a:buClr>
                <a:srgbClr val="8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Verify that stocks can be effectively used during the SLSC</a:t>
            </a:r>
            <a:endParaRPr b="1" lang="en-US" sz="2400" spc="-1" strike="noStrike">
              <a:solidFill>
                <a:srgbClr val="000066"/>
              </a:solidFill>
              <a:latin typeface="Arial"/>
            </a:endParaRPr>
          </a:p>
          <a:p>
            <a:pPr lvl="1" marL="720720" indent="-277200">
              <a:lnSpc>
                <a:spcPct val="90000"/>
              </a:lnSpc>
              <a:spcBef>
                <a:spcPts val="4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Forecast Demand Rate and stock levels</a:t>
            </a:r>
            <a:endParaRPr b="1" lang="en-US" sz="2000" spc="-1" strike="noStrike">
              <a:solidFill>
                <a:srgbClr val="000066"/>
              </a:solidFill>
              <a:latin typeface="Arial"/>
            </a:endParaRPr>
          </a:p>
          <a:p>
            <a:pPr marL="332640" indent="-332640">
              <a:lnSpc>
                <a:spcPct val="90000"/>
              </a:lnSpc>
              <a:spcBef>
                <a:spcPts val="601"/>
              </a:spcBef>
              <a:buClr>
                <a:srgbClr val="8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nsure design information for item is available</a:t>
            </a:r>
            <a:endParaRPr b="1" lang="en-US" sz="2400" spc="-1" strike="noStrike">
              <a:solidFill>
                <a:srgbClr val="000066"/>
              </a:solidFill>
              <a:latin typeface="Arial"/>
            </a:endParaRPr>
          </a:p>
          <a:p>
            <a:pPr lvl="1" marL="720720" indent="-277200">
              <a:lnSpc>
                <a:spcPct val="90000"/>
              </a:lnSpc>
              <a:spcBef>
                <a:spcPts val="4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dentified from part number or previous supplier</a:t>
            </a:r>
            <a:endParaRPr b="1" lang="en-US" sz="2000" spc="-1" strike="noStrike">
              <a:solidFill>
                <a:srgbClr val="000066"/>
              </a:solidFill>
              <a:latin typeface="Arial"/>
            </a:endParaRPr>
          </a:p>
          <a:p>
            <a:pPr lvl="1" marL="720720" indent="-277200">
              <a:lnSpc>
                <a:spcPct val="90000"/>
              </a:lnSpc>
              <a:spcBef>
                <a:spcPts val="4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Remove proprietary items</a:t>
            </a:r>
            <a:endParaRPr b="1" lang="en-US" sz="2000" spc="-1" strike="noStrike">
              <a:solidFill>
                <a:srgbClr val="000066"/>
              </a:solidFill>
              <a:latin typeface="Arial"/>
            </a:endParaRPr>
          </a:p>
        </p:txBody>
      </p:sp>
    </p:spTree>
  </p:cSld>
  <p:transition>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9fe"/>
            </a:gs>
            <a:gs pos="100000">
              <a:srgbClr val="fefefe"/>
            </a:gs>
          </a:gsLst>
          <a:lin ang="108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79200" y="651960"/>
            <a:ext cx="8381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Univers"/>
              </a:rPr>
              <a:t>Technical Item Selection process</a:t>
            </a:r>
            <a:endParaRPr b="1" lang="en-US" sz="3600" spc="-1" strike="noStrike">
              <a:solidFill>
                <a:srgbClr val="3333cc"/>
              </a:solidFill>
              <a:latin typeface="Univers"/>
            </a:endParaRPr>
          </a:p>
        </p:txBody>
      </p:sp>
      <p:sp>
        <p:nvSpPr>
          <p:cNvPr id="167" name=""/>
          <p:cNvSpPr/>
          <p:nvPr/>
        </p:nvSpPr>
        <p:spPr>
          <a:xfrm>
            <a:off x="1895400" y="628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68" name="decomposition" descr=""/>
          <p:cNvPicPr/>
          <p:nvPr/>
        </p:nvPicPr>
        <p:blipFill>
          <a:blip r:embed="rId1"/>
          <a:srcRect l="-2096" t="-19901" r="-2096" b="-3974"/>
          <a:stretch/>
        </p:blipFill>
        <p:spPr>
          <a:xfrm>
            <a:off x="1862280" y="-209520"/>
            <a:ext cx="6754680" cy="7067520"/>
          </a:xfrm>
          <a:prstGeom prst="rect">
            <a:avLst/>
          </a:prstGeom>
          <a:ln w="0">
            <a:noFill/>
          </a:ln>
        </p:spPr>
      </p:pic>
      <p:sp>
        <p:nvSpPr>
          <p:cNvPr id="169" name=""/>
          <p:cNvSpPr/>
          <p:nvPr/>
        </p:nvSpPr>
        <p:spPr>
          <a:xfrm>
            <a:off x="5181480" y="3448080"/>
            <a:ext cx="3962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21,641 valid INC in ISIS</a:t>
            </a:r>
            <a:endParaRPr b="0" lang="en-US" sz="2800" spc="-1" strike="noStrike">
              <a:solidFill>
                <a:srgbClr val="000000"/>
              </a:solidFill>
              <a:latin typeface="Times New Roman"/>
            </a:endParaRPr>
          </a:p>
        </p:txBody>
      </p:sp>
      <p:sp>
        <p:nvSpPr>
          <p:cNvPr id="170" name=""/>
          <p:cNvSpPr/>
          <p:nvPr/>
        </p:nvSpPr>
        <p:spPr>
          <a:xfrm>
            <a:off x="6095880" y="4248000"/>
            <a:ext cx="3048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2,725 complex</a:t>
            </a:r>
            <a:endParaRPr b="0" lang="en-US" sz="2800" spc="-1" strike="noStrike">
              <a:solidFill>
                <a:srgbClr val="000000"/>
              </a:solidFill>
              <a:latin typeface="Times New Roman"/>
            </a:endParaRPr>
          </a:p>
        </p:txBody>
      </p:sp>
      <p:sp>
        <p:nvSpPr>
          <p:cNvPr id="171" name=""/>
          <p:cNvSpPr/>
          <p:nvPr/>
        </p:nvSpPr>
        <p:spPr>
          <a:xfrm>
            <a:off x="6114960" y="5715000"/>
            <a:ext cx="3029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8,920 simple</a:t>
            </a:r>
            <a:endParaRPr b="0" lang="en-US" sz="2800" spc="-1" strike="noStrike">
              <a:solidFill>
                <a:srgbClr val="000000"/>
              </a:solidFill>
              <a:latin typeface="Times New Roman"/>
            </a:endParaRPr>
          </a:p>
        </p:txBody>
      </p:sp>
      <p:sp>
        <p:nvSpPr>
          <p:cNvPr id="172" name=""/>
          <p:cNvSpPr/>
          <p:nvPr/>
        </p:nvSpPr>
        <p:spPr>
          <a:xfrm>
            <a:off x="0" y="4495680"/>
            <a:ext cx="3962520" cy="5205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17,681 not graded</a:t>
            </a:r>
            <a:endParaRPr b="0" lang="en-US" sz="2800" spc="-1" strike="noStrike">
              <a:solidFill>
                <a:srgbClr val="000000"/>
              </a:solidFill>
              <a:latin typeface="Times New Roman"/>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9fe"/>
            </a:gs>
            <a:gs pos="100000">
              <a:srgbClr val="fefefe"/>
            </a:gs>
          </a:gsLst>
          <a:lin ang="108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047600" y="628200"/>
            <a:ext cx="609624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Agenda</a:t>
            </a:r>
            <a:endParaRPr b="1" lang="en-US" sz="4000" spc="-1" strike="noStrike">
              <a:solidFill>
                <a:srgbClr val="3333cc"/>
              </a:solidFill>
              <a:latin typeface="Univers"/>
            </a:endParaRPr>
          </a:p>
        </p:txBody>
      </p:sp>
      <p:sp>
        <p:nvSpPr>
          <p:cNvPr id="59" name="PlaceHolder 2"/>
          <p:cNvSpPr>
            <a:spLocks noGrp="1"/>
          </p:cNvSpPr>
          <p:nvPr>
            <p:ph/>
          </p:nvPr>
        </p:nvSpPr>
        <p:spPr>
          <a:xfrm>
            <a:off x="1352160" y="1749600"/>
            <a:ext cx="7410600" cy="4114800"/>
          </a:xfrm>
          <a:prstGeom prst="rect">
            <a:avLst/>
          </a:prstGeom>
          <a:noFill/>
          <a:ln w="0">
            <a:noFill/>
          </a:ln>
        </p:spPr>
        <p:txBody>
          <a:bodyPr lIns="92160" rIns="92160" tIns="46080" bIns="46080" anchor="t">
            <a:normAutofit/>
          </a:bodyPr>
          <a:p>
            <a:pPr marL="343080" indent="-343080">
              <a:spcBef>
                <a:spcPts val="601"/>
              </a:spcBef>
              <a:buClr>
                <a:srgbClr val="8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Overview of RAMP</a:t>
            </a:r>
            <a:endParaRPr b="1" lang="en-US" sz="2400" spc="-1" strike="noStrike">
              <a:solidFill>
                <a:srgbClr val="000066"/>
              </a:solidFill>
              <a:latin typeface="Arial"/>
            </a:endParaRPr>
          </a:p>
          <a:p>
            <a:pPr marL="343080" indent="-343080">
              <a:spcBef>
                <a:spcPts val="601"/>
              </a:spcBef>
              <a:buClr>
                <a:srgbClr val="8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9900"/>
                </a:solidFill>
                <a:latin typeface="Arial"/>
              </a:rPr>
              <a:t>UK Evaluations of RAMP</a:t>
            </a:r>
            <a:endParaRPr b="1" lang="en-US" sz="2400" spc="-1" strike="noStrike">
              <a:solidFill>
                <a:srgbClr val="000066"/>
              </a:solidFill>
              <a:latin typeface="Arial"/>
            </a:endParaRPr>
          </a:p>
          <a:p>
            <a:pPr lvl="1" marL="743040" indent="-285840">
              <a:spcBef>
                <a:spcPts val="601"/>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9900"/>
                </a:solidFill>
                <a:latin typeface="Arial"/>
              </a:rPr>
              <a:t>UK Navy RAMP Project</a:t>
            </a:r>
            <a:endParaRPr b="1" lang="en-US" sz="2400" spc="-1" strike="noStrike">
              <a:solidFill>
                <a:srgbClr val="000066"/>
              </a:solidFill>
              <a:latin typeface="Arial"/>
            </a:endParaRPr>
          </a:p>
          <a:p>
            <a:pPr lvl="1" marL="743040" indent="-285840">
              <a:spcBef>
                <a:spcPts val="601"/>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9900"/>
                </a:solidFill>
                <a:latin typeface="Arial"/>
              </a:rPr>
              <a:t>Evaluation of UK Navy Store for AP224</a:t>
            </a:r>
            <a:endParaRPr b="1" lang="en-US" sz="2400" spc="-1" strike="noStrike">
              <a:solidFill>
                <a:srgbClr val="000066"/>
              </a:solidFill>
              <a:latin typeface="Arial"/>
            </a:endParaRPr>
          </a:p>
          <a:p>
            <a:pPr lvl="1" marL="743040" indent="-285840">
              <a:spcBef>
                <a:spcPts val="601"/>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9900"/>
                </a:solidFill>
                <a:latin typeface="Arial"/>
              </a:rPr>
              <a:t>DML RAMP Evaluation Project</a:t>
            </a:r>
            <a:endParaRPr b="1" lang="en-US" sz="2400" spc="-1" strike="noStrike">
              <a:solidFill>
                <a:srgbClr val="000066"/>
              </a:solidFill>
              <a:latin typeface="Arial"/>
            </a:endParaRPr>
          </a:p>
          <a:p>
            <a:pPr marL="343080" indent="-343080">
              <a:spcBef>
                <a:spcPts val="601"/>
              </a:spcBef>
              <a:buClr>
                <a:srgbClr val="8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9900"/>
                </a:solidFill>
                <a:latin typeface="Arial"/>
              </a:rPr>
              <a:t>UK Deployment of RAMP</a:t>
            </a:r>
            <a:endParaRPr b="1" lang="en-US" sz="2400" spc="-1" strike="noStrike">
              <a:solidFill>
                <a:srgbClr val="000066"/>
              </a:solidFill>
              <a:latin typeface="Arial"/>
            </a:endParaRPr>
          </a:p>
          <a:p>
            <a:pPr lvl="1" marL="743040" indent="-285840">
              <a:spcBef>
                <a:spcPts val="601"/>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9900"/>
                </a:solidFill>
                <a:latin typeface="Arial"/>
              </a:rPr>
              <a:t>Submarine Legacy Spares – business case</a:t>
            </a:r>
            <a:endParaRPr b="1" lang="en-US" sz="2400" spc="-1" strike="noStrike">
              <a:solidFill>
                <a:srgbClr val="000066"/>
              </a:solidFill>
              <a:latin typeface="Arial"/>
            </a:endParaRPr>
          </a:p>
          <a:p>
            <a:pPr lvl="1" marL="743040" indent="-285840">
              <a:spcBef>
                <a:spcPts val="601"/>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9900"/>
                </a:solidFill>
                <a:latin typeface="Arial"/>
              </a:rPr>
              <a:t>Submarine Legacy Spares – status</a:t>
            </a:r>
            <a:endParaRPr b="1" lang="en-US" sz="2400" spc="-1" strike="noStrike">
              <a:solidFill>
                <a:srgbClr val="000066"/>
              </a:solidFill>
              <a:latin typeface="Arial"/>
            </a:endParaRPr>
          </a:p>
          <a:p>
            <a:pPr lvl="1" marL="743040" indent="-285840">
              <a:spcBef>
                <a:spcPts val="601"/>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9900"/>
                </a:solidFill>
                <a:latin typeface="Arial"/>
              </a:rPr>
              <a:t>RAMP at DML </a:t>
            </a:r>
            <a:endParaRPr b="1" lang="en-US" sz="2400" spc="-1" strike="noStrike">
              <a:solidFill>
                <a:srgbClr val="0000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Tree>
  </p:cSld>
  <p:transition>
    <p:dissolv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9fe"/>
            </a:gs>
            <a:gs pos="100000">
              <a:srgbClr val="fefefe"/>
            </a:gs>
          </a:gsLst>
          <a:lin ang="108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396800" y="596520"/>
            <a:ext cx="77468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Univers"/>
              </a:rPr>
              <a:t>Demand Rate Item Selection</a:t>
            </a:r>
            <a:endParaRPr b="1" lang="en-US" sz="3600" spc="-1" strike="noStrike">
              <a:solidFill>
                <a:srgbClr val="3333cc"/>
              </a:solidFill>
              <a:latin typeface="Univers"/>
            </a:endParaRPr>
          </a:p>
        </p:txBody>
      </p:sp>
      <p:sp>
        <p:nvSpPr>
          <p:cNvPr id="174" name="PlaceHolder 2"/>
          <p:cNvSpPr>
            <a:spLocks noGrp="1"/>
          </p:cNvSpPr>
          <p:nvPr>
            <p:ph/>
          </p:nvPr>
        </p:nvSpPr>
        <p:spPr>
          <a:xfrm>
            <a:off x="1536480" y="1679400"/>
            <a:ext cx="760716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8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AMP requires an up-front investment in representing the design</a:t>
            </a:r>
            <a:endParaRPr b="1" lang="en-US" sz="2400" spc="-1" strike="noStrike">
              <a:solidFill>
                <a:srgbClr val="000066"/>
              </a:solidFill>
              <a:latin typeface="Arial"/>
            </a:endParaRPr>
          </a:p>
          <a:p>
            <a:pPr marL="343080" indent="-343080">
              <a:lnSpc>
                <a:spcPct val="90000"/>
              </a:lnSpc>
              <a:spcBef>
                <a:spcPts val="601"/>
              </a:spcBef>
              <a:buClr>
                <a:srgbClr val="8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vestment required for STEP file generation</a:t>
            </a:r>
            <a:endParaRPr b="1" lang="en-US" sz="2400" spc="-1" strike="noStrike">
              <a:solidFill>
                <a:srgbClr val="000066"/>
              </a:solidFill>
              <a:latin typeface="Arial"/>
            </a:endParaRPr>
          </a:p>
          <a:p>
            <a:pPr lvl="1" marL="743040" indent="-285840">
              <a:lnSpc>
                <a:spcPct val="90000"/>
              </a:lnSpc>
              <a:spcBef>
                <a:spcPts val="4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Obtaining &amp; verifying design information from source</a:t>
            </a:r>
            <a:endParaRPr b="1" lang="en-US" sz="2000" spc="-1" strike="noStrike">
              <a:solidFill>
                <a:srgbClr val="000066"/>
              </a:solidFill>
              <a:latin typeface="Arial"/>
            </a:endParaRPr>
          </a:p>
          <a:p>
            <a:pPr lvl="1" marL="743040" indent="-285840">
              <a:lnSpc>
                <a:spcPct val="90000"/>
              </a:lnSpc>
              <a:spcBef>
                <a:spcPts val="4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Verification of designers intent</a:t>
            </a:r>
            <a:endParaRPr b="1" lang="en-US" sz="2000" spc="-1" strike="noStrike">
              <a:solidFill>
                <a:srgbClr val="000066"/>
              </a:solidFill>
              <a:latin typeface="Arial"/>
            </a:endParaRPr>
          </a:p>
          <a:p>
            <a:pPr lvl="1" marL="743040" indent="-285840">
              <a:lnSpc>
                <a:spcPct val="90000"/>
              </a:lnSpc>
              <a:spcBef>
                <a:spcPts val="4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Validation of the STEP representation</a:t>
            </a:r>
            <a:endParaRPr b="1" lang="en-US" sz="2000" spc="-1" strike="noStrike">
              <a:solidFill>
                <a:srgbClr val="000066"/>
              </a:solidFill>
              <a:latin typeface="Arial"/>
            </a:endParaRPr>
          </a:p>
          <a:p>
            <a:pPr marL="343080" indent="-343080">
              <a:lnSpc>
                <a:spcPct val="90000"/>
              </a:lnSpc>
              <a:spcBef>
                <a:spcPts val="601"/>
              </a:spcBef>
              <a:buClr>
                <a:srgbClr val="8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stricted the selection to items where the DML investment could be recovered during the SLSC lifetime</a:t>
            </a:r>
            <a:endParaRPr b="1" lang="en-US" sz="2400" spc="-1" strike="noStrike">
              <a:solidFill>
                <a:srgbClr val="000066"/>
              </a:solidFill>
              <a:latin typeface="Arial"/>
            </a:endParaRPr>
          </a:p>
          <a:p>
            <a:pPr lvl="1" marL="743040" indent="-285840">
              <a:lnSpc>
                <a:spcPct val="90000"/>
              </a:lnSpc>
              <a:spcBef>
                <a:spcPts val="4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CRISP Forecast Demand Rate</a:t>
            </a:r>
            <a:endParaRPr b="1" lang="en-US" sz="2000" spc="-1" strike="noStrike">
              <a:solidFill>
                <a:srgbClr val="000066"/>
              </a:solidFill>
              <a:latin typeface="Arial"/>
            </a:endParaRPr>
          </a:p>
          <a:p>
            <a:pPr lvl="1" marL="743040" indent="-285840">
              <a:lnSpc>
                <a:spcPct val="90000"/>
              </a:lnSpc>
              <a:spcBef>
                <a:spcPts val="4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Current stock level</a:t>
            </a:r>
            <a:endParaRPr b="1" lang="en-US" sz="2000" spc="-1" strike="noStrike">
              <a:solidFill>
                <a:srgbClr val="000066"/>
              </a:solidFill>
              <a:latin typeface="Arial"/>
            </a:endParaRPr>
          </a:p>
        </p:txBody>
      </p:sp>
    </p:spTree>
  </p:cSld>
  <p:transition>
    <p:dissolv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9fe"/>
            </a:gs>
            <a:gs pos="100000">
              <a:srgbClr val="fefefe"/>
            </a:gs>
          </a:gsLst>
          <a:lin ang="108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396800" y="596520"/>
            <a:ext cx="77468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Univers"/>
              </a:rPr>
              <a:t>Manufacture Rights</a:t>
            </a:r>
            <a:endParaRPr b="1" lang="en-US" sz="3600" spc="-1" strike="noStrike">
              <a:solidFill>
                <a:srgbClr val="3333cc"/>
              </a:solidFill>
              <a:latin typeface="Univers"/>
            </a:endParaRPr>
          </a:p>
        </p:txBody>
      </p:sp>
      <p:sp>
        <p:nvSpPr>
          <p:cNvPr id="176" name=""/>
          <p:cNvSpPr/>
          <p:nvPr/>
        </p:nvSpPr>
        <p:spPr>
          <a:xfrm>
            <a:off x="1933560" y="766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77" name="rights to manufacture decomposition" descr=""/>
          <p:cNvPicPr/>
          <p:nvPr/>
        </p:nvPicPr>
        <p:blipFill>
          <a:blip r:embed="rId1"/>
          <a:stretch/>
        </p:blipFill>
        <p:spPr>
          <a:xfrm>
            <a:off x="790560" y="228600"/>
            <a:ext cx="6419880" cy="6477120"/>
          </a:xfrm>
          <a:prstGeom prst="rect">
            <a:avLst/>
          </a:prstGeom>
          <a:ln w="0">
            <a:noFill/>
          </a:ln>
        </p:spPr>
      </p:pic>
      <p:sp>
        <p:nvSpPr>
          <p:cNvPr id="178" name=""/>
          <p:cNvSpPr/>
          <p:nvPr/>
        </p:nvSpPr>
        <p:spPr>
          <a:xfrm>
            <a:off x="5181480" y="1600200"/>
            <a:ext cx="3962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1,248 items proprietary</a:t>
            </a:r>
            <a:endParaRPr b="0" lang="en-US" sz="2800" spc="-1" strike="noStrike">
              <a:solidFill>
                <a:srgbClr val="000000"/>
              </a:solidFill>
              <a:latin typeface="Times New Roman"/>
            </a:endParaRPr>
          </a:p>
        </p:txBody>
      </p:sp>
      <p:sp>
        <p:nvSpPr>
          <p:cNvPr id="179" name=""/>
          <p:cNvSpPr/>
          <p:nvPr/>
        </p:nvSpPr>
        <p:spPr>
          <a:xfrm>
            <a:off x="666720" y="3413160"/>
            <a:ext cx="39625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1,448 items difficult to obtain drawings</a:t>
            </a:r>
            <a:endParaRPr b="0" lang="en-US" sz="2800" spc="-1" strike="noStrike">
              <a:solidFill>
                <a:srgbClr val="000000"/>
              </a:solidFill>
              <a:latin typeface="Times New Roman"/>
            </a:endParaRPr>
          </a:p>
        </p:txBody>
      </p:sp>
      <p:sp>
        <p:nvSpPr>
          <p:cNvPr id="180" name=""/>
          <p:cNvSpPr/>
          <p:nvPr/>
        </p:nvSpPr>
        <p:spPr>
          <a:xfrm>
            <a:off x="291960" y="5243400"/>
            <a:ext cx="5805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13,748 drawings already available</a:t>
            </a:r>
            <a:endParaRPr b="0" lang="en-US" sz="2800" spc="-1" strike="noStrike">
              <a:solidFill>
                <a:srgbClr val="000000"/>
              </a:solidFill>
              <a:latin typeface="Times New Roman"/>
            </a:endParaRPr>
          </a:p>
        </p:txBody>
      </p:sp>
      <p:sp>
        <p:nvSpPr>
          <p:cNvPr id="181" name=""/>
          <p:cNvSpPr/>
          <p:nvPr/>
        </p:nvSpPr>
        <p:spPr>
          <a:xfrm>
            <a:off x="304920" y="5791320"/>
            <a:ext cx="4572000" cy="5205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25,539 maximum figure</a:t>
            </a:r>
            <a:endParaRPr b="0" lang="en-US" sz="2800" spc="-1" strike="noStrike">
              <a:solidFill>
                <a:srgbClr val="000000"/>
              </a:solidFill>
              <a:latin typeface="Times New Roman"/>
            </a:endParaRPr>
          </a:p>
        </p:txBody>
      </p:sp>
    </p:spTree>
  </p:cSld>
  <p:transition>
    <p:dissolv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9fe"/>
            </a:gs>
            <a:gs pos="100000">
              <a:srgbClr val="fefefe"/>
            </a:gs>
          </a:gsLst>
          <a:lin ang="108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396800" y="596520"/>
            <a:ext cx="77468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Univers"/>
              </a:rPr>
              <a:t>Item Selection (continued)</a:t>
            </a:r>
            <a:endParaRPr b="1" lang="en-US" sz="3600" spc="-1" strike="noStrike">
              <a:solidFill>
                <a:srgbClr val="3333cc"/>
              </a:solidFill>
              <a:latin typeface="Univers"/>
            </a:endParaRPr>
          </a:p>
        </p:txBody>
      </p:sp>
      <p:sp>
        <p:nvSpPr>
          <p:cNvPr id="183" name="PlaceHolder 2"/>
          <p:cNvSpPr>
            <a:spLocks noGrp="1"/>
          </p:cNvSpPr>
          <p:nvPr>
            <p:ph/>
          </p:nvPr>
        </p:nvSpPr>
        <p:spPr>
          <a:xfrm>
            <a:off x="1143000" y="1638360"/>
            <a:ext cx="7772400" cy="4495680"/>
          </a:xfrm>
          <a:prstGeom prst="rect">
            <a:avLst/>
          </a:prstGeom>
          <a:noFill/>
          <a:ln w="0">
            <a:noFill/>
          </a:ln>
        </p:spPr>
        <p:txBody>
          <a:bodyPr lIns="92160" rIns="92160" tIns="46080" bIns="46080" anchor="t">
            <a:normAutofit/>
          </a:bodyPr>
          <a:p>
            <a:pPr marL="343080" indent="-343080">
              <a:spcBef>
                <a:spcPts val="700"/>
              </a:spcBef>
              <a:buClr>
                <a:srgbClr val="8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Combine all three selections of items which satisfy criteria</a:t>
            </a:r>
            <a:endParaRPr b="1" lang="en-US" sz="2800" spc="-1" strike="noStrike">
              <a:solidFill>
                <a:srgbClr val="000066"/>
              </a:solidFill>
              <a:latin typeface="Arial"/>
            </a:endParaRPr>
          </a:p>
          <a:p>
            <a:pPr lvl="1" marL="743040" indent="-285840">
              <a:spcBef>
                <a:spcPts val="601"/>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echnical, rights to manufacture, stock depletion</a:t>
            </a:r>
            <a:endParaRPr b="1" lang="en-US" sz="2400" spc="-1" strike="noStrike">
              <a:solidFill>
                <a:srgbClr val="000066"/>
              </a:solidFill>
              <a:latin typeface="Arial"/>
            </a:endParaRPr>
          </a:p>
          <a:p>
            <a:pPr marL="343080" indent="-343080">
              <a:spcBef>
                <a:spcPts val="700"/>
              </a:spcBef>
              <a:buClr>
                <a:srgbClr val="8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Manual review to remove unusual items</a:t>
            </a:r>
            <a:endParaRPr b="1" lang="en-US" sz="2800" spc="-1" strike="noStrike">
              <a:solidFill>
                <a:srgbClr val="000066"/>
              </a:solidFill>
              <a:latin typeface="Arial"/>
            </a:endParaRPr>
          </a:p>
          <a:p>
            <a:pPr lvl="1" marL="743040" indent="-285840">
              <a:spcBef>
                <a:spcPts val="601"/>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nexpectedly high/low price or unusual part-number</a:t>
            </a:r>
            <a:endParaRPr b="1" lang="en-US" sz="2400" spc="-1" strike="noStrike">
              <a:solidFill>
                <a:srgbClr val="000066"/>
              </a:solidFill>
              <a:latin typeface="Arial"/>
            </a:endParaRPr>
          </a:p>
        </p:txBody>
      </p:sp>
    </p:spTree>
  </p:cSld>
  <p:transition>
    <p:dissolv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9fe"/>
            </a:gs>
            <a:gs pos="100000">
              <a:srgbClr val="fefefe"/>
            </a:gs>
          </a:gsLst>
          <a:lin ang="108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396800" y="596520"/>
            <a:ext cx="77468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Univers"/>
              </a:rPr>
              <a:t>Technical, Commercial, RTM</a:t>
            </a:r>
            <a:endParaRPr b="1" lang="en-US" sz="3600" spc="-1" strike="noStrike">
              <a:solidFill>
                <a:srgbClr val="3333cc"/>
              </a:solidFill>
              <a:latin typeface="Univers"/>
            </a:endParaRPr>
          </a:p>
        </p:txBody>
      </p:sp>
      <p:sp>
        <p:nvSpPr>
          <p:cNvPr id="185" name=""/>
          <p:cNvSpPr/>
          <p:nvPr/>
        </p:nvSpPr>
        <p:spPr>
          <a:xfrm>
            <a:off x="3178080" y="1601640"/>
            <a:ext cx="4926240" cy="4919760"/>
          </a:xfrm>
          <a:custGeom>
            <a:avLst/>
            <a:gdLst/>
            <a:ahLst/>
            <a:rect l="l" t="t" r="r" b="b"/>
            <a:pathLst>
              <a:path w="12411" h="12392">
                <a:moveTo>
                  <a:pt x="6206" y="0"/>
                </a:moveTo>
                <a:lnTo>
                  <a:pt x="6525" y="7"/>
                </a:lnTo>
                <a:lnTo>
                  <a:pt x="6839" y="32"/>
                </a:lnTo>
                <a:lnTo>
                  <a:pt x="7149" y="71"/>
                </a:lnTo>
                <a:lnTo>
                  <a:pt x="7454" y="126"/>
                </a:lnTo>
                <a:lnTo>
                  <a:pt x="7754" y="195"/>
                </a:lnTo>
                <a:lnTo>
                  <a:pt x="8048" y="279"/>
                </a:lnTo>
                <a:lnTo>
                  <a:pt x="8336" y="376"/>
                </a:lnTo>
                <a:lnTo>
                  <a:pt x="8617" y="487"/>
                </a:lnTo>
                <a:lnTo>
                  <a:pt x="8892" y="612"/>
                </a:lnTo>
                <a:lnTo>
                  <a:pt x="9160" y="750"/>
                </a:lnTo>
                <a:lnTo>
                  <a:pt x="9420" y="899"/>
                </a:lnTo>
                <a:lnTo>
                  <a:pt x="9671" y="1060"/>
                </a:lnTo>
                <a:lnTo>
                  <a:pt x="9915" y="1233"/>
                </a:lnTo>
                <a:lnTo>
                  <a:pt x="10150" y="1418"/>
                </a:lnTo>
                <a:lnTo>
                  <a:pt x="10375" y="1612"/>
                </a:lnTo>
                <a:lnTo>
                  <a:pt x="10591" y="1818"/>
                </a:lnTo>
                <a:lnTo>
                  <a:pt x="10796" y="2033"/>
                </a:lnTo>
                <a:lnTo>
                  <a:pt x="10991" y="2258"/>
                </a:lnTo>
                <a:lnTo>
                  <a:pt x="11176" y="2492"/>
                </a:lnTo>
                <a:lnTo>
                  <a:pt x="11350" y="2736"/>
                </a:lnTo>
                <a:lnTo>
                  <a:pt x="11511" y="2987"/>
                </a:lnTo>
                <a:lnTo>
                  <a:pt x="11660" y="3247"/>
                </a:lnTo>
                <a:lnTo>
                  <a:pt x="11798" y="3514"/>
                </a:lnTo>
                <a:lnTo>
                  <a:pt x="11923" y="3788"/>
                </a:lnTo>
                <a:lnTo>
                  <a:pt x="12034" y="4069"/>
                </a:lnTo>
                <a:lnTo>
                  <a:pt x="12132" y="4357"/>
                </a:lnTo>
                <a:lnTo>
                  <a:pt x="12216" y="4651"/>
                </a:lnTo>
                <a:lnTo>
                  <a:pt x="12285" y="4950"/>
                </a:lnTo>
                <a:lnTo>
                  <a:pt x="12340" y="5254"/>
                </a:lnTo>
                <a:lnTo>
                  <a:pt x="12379" y="5564"/>
                </a:lnTo>
                <a:lnTo>
                  <a:pt x="12404" y="5878"/>
                </a:lnTo>
                <a:lnTo>
                  <a:pt x="12411" y="6197"/>
                </a:lnTo>
                <a:lnTo>
                  <a:pt x="12404" y="6514"/>
                </a:lnTo>
                <a:lnTo>
                  <a:pt x="12379" y="6828"/>
                </a:lnTo>
                <a:lnTo>
                  <a:pt x="12340" y="7138"/>
                </a:lnTo>
                <a:lnTo>
                  <a:pt x="12285" y="7442"/>
                </a:lnTo>
                <a:lnTo>
                  <a:pt x="12216" y="7741"/>
                </a:lnTo>
                <a:lnTo>
                  <a:pt x="12132" y="8035"/>
                </a:lnTo>
                <a:lnTo>
                  <a:pt x="12034" y="8323"/>
                </a:lnTo>
                <a:lnTo>
                  <a:pt x="11923" y="8604"/>
                </a:lnTo>
                <a:lnTo>
                  <a:pt x="11798" y="8878"/>
                </a:lnTo>
                <a:lnTo>
                  <a:pt x="11660" y="9145"/>
                </a:lnTo>
                <a:lnTo>
                  <a:pt x="11511" y="9405"/>
                </a:lnTo>
                <a:lnTo>
                  <a:pt x="11350" y="9656"/>
                </a:lnTo>
                <a:lnTo>
                  <a:pt x="11176" y="9900"/>
                </a:lnTo>
                <a:lnTo>
                  <a:pt x="10991" y="10134"/>
                </a:lnTo>
                <a:lnTo>
                  <a:pt x="10796" y="10359"/>
                </a:lnTo>
                <a:lnTo>
                  <a:pt x="10591" y="10574"/>
                </a:lnTo>
                <a:lnTo>
                  <a:pt x="10375" y="10780"/>
                </a:lnTo>
                <a:lnTo>
                  <a:pt x="10150" y="10974"/>
                </a:lnTo>
                <a:lnTo>
                  <a:pt x="9915" y="11159"/>
                </a:lnTo>
                <a:lnTo>
                  <a:pt x="9671" y="11332"/>
                </a:lnTo>
                <a:lnTo>
                  <a:pt x="9420" y="11493"/>
                </a:lnTo>
                <a:lnTo>
                  <a:pt x="9160" y="11642"/>
                </a:lnTo>
                <a:lnTo>
                  <a:pt x="8892" y="11780"/>
                </a:lnTo>
                <a:lnTo>
                  <a:pt x="8617" y="11905"/>
                </a:lnTo>
                <a:lnTo>
                  <a:pt x="8336" y="12016"/>
                </a:lnTo>
                <a:lnTo>
                  <a:pt x="8048" y="12113"/>
                </a:lnTo>
                <a:lnTo>
                  <a:pt x="7754" y="12197"/>
                </a:lnTo>
                <a:lnTo>
                  <a:pt x="7454" y="12266"/>
                </a:lnTo>
                <a:lnTo>
                  <a:pt x="7149" y="12321"/>
                </a:lnTo>
                <a:lnTo>
                  <a:pt x="6839" y="12360"/>
                </a:lnTo>
                <a:lnTo>
                  <a:pt x="6525" y="12385"/>
                </a:lnTo>
                <a:lnTo>
                  <a:pt x="6206" y="12392"/>
                </a:lnTo>
                <a:lnTo>
                  <a:pt x="5888" y="12385"/>
                </a:lnTo>
                <a:lnTo>
                  <a:pt x="5573" y="12360"/>
                </a:lnTo>
                <a:lnTo>
                  <a:pt x="5264" y="12321"/>
                </a:lnTo>
                <a:lnTo>
                  <a:pt x="4958" y="12266"/>
                </a:lnTo>
                <a:lnTo>
                  <a:pt x="4658" y="12197"/>
                </a:lnTo>
                <a:lnTo>
                  <a:pt x="4364" y="12113"/>
                </a:lnTo>
                <a:lnTo>
                  <a:pt x="4076" y="12016"/>
                </a:lnTo>
                <a:lnTo>
                  <a:pt x="3795" y="11905"/>
                </a:lnTo>
                <a:lnTo>
                  <a:pt x="3520" y="11780"/>
                </a:lnTo>
                <a:lnTo>
                  <a:pt x="3253" y="11642"/>
                </a:lnTo>
                <a:lnTo>
                  <a:pt x="2992" y="11493"/>
                </a:lnTo>
                <a:lnTo>
                  <a:pt x="2741" y="11332"/>
                </a:lnTo>
                <a:lnTo>
                  <a:pt x="2497" y="11159"/>
                </a:lnTo>
                <a:lnTo>
                  <a:pt x="2263" y="10974"/>
                </a:lnTo>
                <a:lnTo>
                  <a:pt x="2037" y="10780"/>
                </a:lnTo>
                <a:lnTo>
                  <a:pt x="1821" y="10574"/>
                </a:lnTo>
                <a:lnTo>
                  <a:pt x="1616" y="10359"/>
                </a:lnTo>
                <a:lnTo>
                  <a:pt x="1421" y="10134"/>
                </a:lnTo>
                <a:lnTo>
                  <a:pt x="1236" y="9900"/>
                </a:lnTo>
                <a:lnTo>
                  <a:pt x="1063" y="9656"/>
                </a:lnTo>
                <a:lnTo>
                  <a:pt x="901" y="9405"/>
                </a:lnTo>
                <a:lnTo>
                  <a:pt x="752" y="9145"/>
                </a:lnTo>
                <a:lnTo>
                  <a:pt x="615" y="8878"/>
                </a:lnTo>
                <a:lnTo>
                  <a:pt x="490" y="8604"/>
                </a:lnTo>
                <a:lnTo>
                  <a:pt x="379" y="8323"/>
                </a:lnTo>
                <a:lnTo>
                  <a:pt x="281" y="8035"/>
                </a:lnTo>
                <a:lnTo>
                  <a:pt x="196" y="7741"/>
                </a:lnTo>
                <a:lnTo>
                  <a:pt x="127" y="7442"/>
                </a:lnTo>
                <a:lnTo>
                  <a:pt x="73" y="7138"/>
                </a:lnTo>
                <a:lnTo>
                  <a:pt x="33" y="6828"/>
                </a:lnTo>
                <a:lnTo>
                  <a:pt x="9" y="6514"/>
                </a:lnTo>
                <a:lnTo>
                  <a:pt x="0" y="6197"/>
                </a:lnTo>
                <a:lnTo>
                  <a:pt x="9" y="5878"/>
                </a:lnTo>
                <a:lnTo>
                  <a:pt x="33" y="5564"/>
                </a:lnTo>
                <a:lnTo>
                  <a:pt x="73" y="5254"/>
                </a:lnTo>
                <a:lnTo>
                  <a:pt x="127" y="4950"/>
                </a:lnTo>
                <a:lnTo>
                  <a:pt x="196" y="4651"/>
                </a:lnTo>
                <a:lnTo>
                  <a:pt x="281" y="4357"/>
                </a:lnTo>
                <a:lnTo>
                  <a:pt x="379" y="4069"/>
                </a:lnTo>
                <a:lnTo>
                  <a:pt x="490" y="3788"/>
                </a:lnTo>
                <a:lnTo>
                  <a:pt x="615" y="3514"/>
                </a:lnTo>
                <a:lnTo>
                  <a:pt x="752" y="3247"/>
                </a:lnTo>
                <a:lnTo>
                  <a:pt x="901" y="2987"/>
                </a:lnTo>
                <a:lnTo>
                  <a:pt x="1063" y="2736"/>
                </a:lnTo>
                <a:lnTo>
                  <a:pt x="1236" y="2492"/>
                </a:lnTo>
                <a:lnTo>
                  <a:pt x="1421" y="2258"/>
                </a:lnTo>
                <a:lnTo>
                  <a:pt x="1616" y="2033"/>
                </a:lnTo>
                <a:lnTo>
                  <a:pt x="1821" y="1818"/>
                </a:lnTo>
                <a:lnTo>
                  <a:pt x="2037" y="1612"/>
                </a:lnTo>
                <a:lnTo>
                  <a:pt x="2263" y="1418"/>
                </a:lnTo>
                <a:lnTo>
                  <a:pt x="2497" y="1233"/>
                </a:lnTo>
                <a:lnTo>
                  <a:pt x="2741" y="1060"/>
                </a:lnTo>
                <a:lnTo>
                  <a:pt x="2992" y="899"/>
                </a:lnTo>
                <a:lnTo>
                  <a:pt x="3253" y="750"/>
                </a:lnTo>
                <a:lnTo>
                  <a:pt x="3520" y="612"/>
                </a:lnTo>
                <a:lnTo>
                  <a:pt x="3795" y="487"/>
                </a:lnTo>
                <a:lnTo>
                  <a:pt x="4076" y="376"/>
                </a:lnTo>
                <a:lnTo>
                  <a:pt x="4364" y="279"/>
                </a:lnTo>
                <a:lnTo>
                  <a:pt x="4658" y="195"/>
                </a:lnTo>
                <a:lnTo>
                  <a:pt x="4958" y="126"/>
                </a:lnTo>
                <a:lnTo>
                  <a:pt x="5264" y="71"/>
                </a:lnTo>
                <a:lnTo>
                  <a:pt x="5573" y="32"/>
                </a:lnTo>
                <a:lnTo>
                  <a:pt x="5888" y="7"/>
                </a:lnTo>
                <a:lnTo>
                  <a:pt x="6206" y="0"/>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3178080" y="1601640"/>
            <a:ext cx="4926240" cy="4919760"/>
          </a:xfrm>
          <a:custGeom>
            <a:avLst/>
            <a:gdLst/>
            <a:ahLst/>
            <a:rect l="l" t="t" r="r" b="b"/>
            <a:pathLst>
              <a:path w="12411" h="12392">
                <a:moveTo>
                  <a:pt x="6206" y="0"/>
                </a:moveTo>
                <a:lnTo>
                  <a:pt x="6287" y="0"/>
                </a:lnTo>
                <a:lnTo>
                  <a:pt x="6366" y="2"/>
                </a:lnTo>
                <a:lnTo>
                  <a:pt x="6446" y="4"/>
                </a:lnTo>
                <a:lnTo>
                  <a:pt x="6525" y="7"/>
                </a:lnTo>
                <a:lnTo>
                  <a:pt x="6604" y="12"/>
                </a:lnTo>
                <a:lnTo>
                  <a:pt x="6683" y="17"/>
                </a:lnTo>
                <a:lnTo>
                  <a:pt x="6761" y="24"/>
                </a:lnTo>
                <a:lnTo>
                  <a:pt x="6839" y="32"/>
                </a:lnTo>
                <a:lnTo>
                  <a:pt x="6917" y="40"/>
                </a:lnTo>
                <a:lnTo>
                  <a:pt x="6994" y="50"/>
                </a:lnTo>
                <a:lnTo>
                  <a:pt x="7072" y="60"/>
                </a:lnTo>
                <a:lnTo>
                  <a:pt x="7149" y="71"/>
                </a:lnTo>
                <a:lnTo>
                  <a:pt x="7226" y="83"/>
                </a:lnTo>
                <a:lnTo>
                  <a:pt x="7302" y="96"/>
                </a:lnTo>
                <a:lnTo>
                  <a:pt x="7378" y="111"/>
                </a:lnTo>
                <a:lnTo>
                  <a:pt x="7454" y="126"/>
                </a:lnTo>
                <a:lnTo>
                  <a:pt x="7530" y="142"/>
                </a:lnTo>
                <a:lnTo>
                  <a:pt x="7604" y="158"/>
                </a:lnTo>
                <a:lnTo>
                  <a:pt x="7679" y="176"/>
                </a:lnTo>
                <a:lnTo>
                  <a:pt x="7754" y="195"/>
                </a:lnTo>
                <a:lnTo>
                  <a:pt x="7828" y="215"/>
                </a:lnTo>
                <a:lnTo>
                  <a:pt x="7902" y="235"/>
                </a:lnTo>
                <a:lnTo>
                  <a:pt x="7975" y="256"/>
                </a:lnTo>
                <a:lnTo>
                  <a:pt x="8048" y="279"/>
                </a:lnTo>
                <a:lnTo>
                  <a:pt x="8121" y="302"/>
                </a:lnTo>
                <a:lnTo>
                  <a:pt x="8193" y="326"/>
                </a:lnTo>
                <a:lnTo>
                  <a:pt x="8264" y="351"/>
                </a:lnTo>
                <a:lnTo>
                  <a:pt x="8336" y="376"/>
                </a:lnTo>
                <a:lnTo>
                  <a:pt x="8407" y="403"/>
                </a:lnTo>
                <a:lnTo>
                  <a:pt x="8478" y="431"/>
                </a:lnTo>
                <a:lnTo>
                  <a:pt x="8548" y="459"/>
                </a:lnTo>
                <a:lnTo>
                  <a:pt x="8617" y="487"/>
                </a:lnTo>
                <a:lnTo>
                  <a:pt x="8687" y="517"/>
                </a:lnTo>
                <a:lnTo>
                  <a:pt x="8756" y="549"/>
                </a:lnTo>
                <a:lnTo>
                  <a:pt x="8824" y="580"/>
                </a:lnTo>
                <a:lnTo>
                  <a:pt x="8892" y="612"/>
                </a:lnTo>
                <a:lnTo>
                  <a:pt x="8960" y="645"/>
                </a:lnTo>
                <a:lnTo>
                  <a:pt x="9027" y="679"/>
                </a:lnTo>
                <a:lnTo>
                  <a:pt x="9094" y="714"/>
                </a:lnTo>
                <a:lnTo>
                  <a:pt x="9160" y="750"/>
                </a:lnTo>
                <a:lnTo>
                  <a:pt x="9226" y="785"/>
                </a:lnTo>
                <a:lnTo>
                  <a:pt x="9291" y="822"/>
                </a:lnTo>
                <a:lnTo>
                  <a:pt x="9355" y="860"/>
                </a:lnTo>
                <a:lnTo>
                  <a:pt x="9420" y="899"/>
                </a:lnTo>
                <a:lnTo>
                  <a:pt x="9483" y="938"/>
                </a:lnTo>
                <a:lnTo>
                  <a:pt x="9547" y="978"/>
                </a:lnTo>
                <a:lnTo>
                  <a:pt x="9609" y="1019"/>
                </a:lnTo>
                <a:lnTo>
                  <a:pt x="9671" y="1060"/>
                </a:lnTo>
                <a:lnTo>
                  <a:pt x="9734" y="1102"/>
                </a:lnTo>
                <a:lnTo>
                  <a:pt x="9795" y="1145"/>
                </a:lnTo>
                <a:lnTo>
                  <a:pt x="9855" y="1189"/>
                </a:lnTo>
                <a:lnTo>
                  <a:pt x="9915" y="1233"/>
                </a:lnTo>
                <a:lnTo>
                  <a:pt x="9974" y="1279"/>
                </a:lnTo>
                <a:lnTo>
                  <a:pt x="10033" y="1324"/>
                </a:lnTo>
                <a:lnTo>
                  <a:pt x="10092" y="1371"/>
                </a:lnTo>
                <a:lnTo>
                  <a:pt x="10150" y="1418"/>
                </a:lnTo>
                <a:lnTo>
                  <a:pt x="10207" y="1465"/>
                </a:lnTo>
                <a:lnTo>
                  <a:pt x="10263" y="1513"/>
                </a:lnTo>
                <a:lnTo>
                  <a:pt x="10319" y="1563"/>
                </a:lnTo>
                <a:lnTo>
                  <a:pt x="10375" y="1612"/>
                </a:lnTo>
                <a:lnTo>
                  <a:pt x="10429" y="1663"/>
                </a:lnTo>
                <a:lnTo>
                  <a:pt x="10484" y="1714"/>
                </a:lnTo>
                <a:lnTo>
                  <a:pt x="10537" y="1766"/>
                </a:lnTo>
                <a:lnTo>
                  <a:pt x="10591" y="1818"/>
                </a:lnTo>
                <a:lnTo>
                  <a:pt x="10643" y="1871"/>
                </a:lnTo>
                <a:lnTo>
                  <a:pt x="10694" y="1924"/>
                </a:lnTo>
                <a:lnTo>
                  <a:pt x="10745" y="1979"/>
                </a:lnTo>
                <a:lnTo>
                  <a:pt x="10796" y="2033"/>
                </a:lnTo>
                <a:lnTo>
                  <a:pt x="10845" y="2089"/>
                </a:lnTo>
                <a:lnTo>
                  <a:pt x="10896" y="2145"/>
                </a:lnTo>
                <a:lnTo>
                  <a:pt x="10943" y="2201"/>
                </a:lnTo>
                <a:lnTo>
                  <a:pt x="10991" y="2258"/>
                </a:lnTo>
                <a:lnTo>
                  <a:pt x="11039" y="2316"/>
                </a:lnTo>
                <a:lnTo>
                  <a:pt x="11085" y="2375"/>
                </a:lnTo>
                <a:lnTo>
                  <a:pt x="11130" y="2433"/>
                </a:lnTo>
                <a:lnTo>
                  <a:pt x="11176" y="2492"/>
                </a:lnTo>
                <a:lnTo>
                  <a:pt x="11221" y="2552"/>
                </a:lnTo>
                <a:lnTo>
                  <a:pt x="11264" y="2613"/>
                </a:lnTo>
                <a:lnTo>
                  <a:pt x="11307" y="2674"/>
                </a:lnTo>
                <a:lnTo>
                  <a:pt x="11350" y="2736"/>
                </a:lnTo>
                <a:lnTo>
                  <a:pt x="11391" y="2798"/>
                </a:lnTo>
                <a:lnTo>
                  <a:pt x="11432" y="2860"/>
                </a:lnTo>
                <a:lnTo>
                  <a:pt x="11472" y="2924"/>
                </a:lnTo>
                <a:lnTo>
                  <a:pt x="11511" y="2987"/>
                </a:lnTo>
                <a:lnTo>
                  <a:pt x="11550" y="3051"/>
                </a:lnTo>
                <a:lnTo>
                  <a:pt x="11588" y="3116"/>
                </a:lnTo>
                <a:lnTo>
                  <a:pt x="11625" y="3181"/>
                </a:lnTo>
                <a:lnTo>
                  <a:pt x="11660" y="3247"/>
                </a:lnTo>
                <a:lnTo>
                  <a:pt x="11696" y="3313"/>
                </a:lnTo>
                <a:lnTo>
                  <a:pt x="11731" y="3379"/>
                </a:lnTo>
                <a:lnTo>
                  <a:pt x="11765" y="3446"/>
                </a:lnTo>
                <a:lnTo>
                  <a:pt x="11798" y="3514"/>
                </a:lnTo>
                <a:lnTo>
                  <a:pt x="11830" y="3582"/>
                </a:lnTo>
                <a:lnTo>
                  <a:pt x="11862" y="3650"/>
                </a:lnTo>
                <a:lnTo>
                  <a:pt x="11893" y="3718"/>
                </a:lnTo>
                <a:lnTo>
                  <a:pt x="11923" y="3788"/>
                </a:lnTo>
                <a:lnTo>
                  <a:pt x="11952" y="3857"/>
                </a:lnTo>
                <a:lnTo>
                  <a:pt x="11980" y="3928"/>
                </a:lnTo>
                <a:lnTo>
                  <a:pt x="12007" y="3998"/>
                </a:lnTo>
                <a:lnTo>
                  <a:pt x="12034" y="4069"/>
                </a:lnTo>
                <a:lnTo>
                  <a:pt x="12060" y="4141"/>
                </a:lnTo>
                <a:lnTo>
                  <a:pt x="12084" y="4213"/>
                </a:lnTo>
                <a:lnTo>
                  <a:pt x="12109" y="4284"/>
                </a:lnTo>
                <a:lnTo>
                  <a:pt x="12132" y="4357"/>
                </a:lnTo>
                <a:lnTo>
                  <a:pt x="12154" y="4429"/>
                </a:lnTo>
                <a:lnTo>
                  <a:pt x="12175" y="4503"/>
                </a:lnTo>
                <a:lnTo>
                  <a:pt x="12196" y="4576"/>
                </a:lnTo>
                <a:lnTo>
                  <a:pt x="12216" y="4651"/>
                </a:lnTo>
                <a:lnTo>
                  <a:pt x="12234" y="4725"/>
                </a:lnTo>
                <a:lnTo>
                  <a:pt x="12252" y="4800"/>
                </a:lnTo>
                <a:lnTo>
                  <a:pt x="12269" y="4874"/>
                </a:lnTo>
                <a:lnTo>
                  <a:pt x="12285" y="4950"/>
                </a:lnTo>
                <a:lnTo>
                  <a:pt x="12300" y="5025"/>
                </a:lnTo>
                <a:lnTo>
                  <a:pt x="12315" y="5102"/>
                </a:lnTo>
                <a:lnTo>
                  <a:pt x="12328" y="5177"/>
                </a:lnTo>
                <a:lnTo>
                  <a:pt x="12340" y="5254"/>
                </a:lnTo>
                <a:lnTo>
                  <a:pt x="12351" y="5332"/>
                </a:lnTo>
                <a:lnTo>
                  <a:pt x="12361" y="5409"/>
                </a:lnTo>
                <a:lnTo>
                  <a:pt x="12371" y="5486"/>
                </a:lnTo>
                <a:lnTo>
                  <a:pt x="12379" y="5564"/>
                </a:lnTo>
                <a:lnTo>
                  <a:pt x="12387" y="5642"/>
                </a:lnTo>
                <a:lnTo>
                  <a:pt x="12394" y="5721"/>
                </a:lnTo>
                <a:lnTo>
                  <a:pt x="12399" y="5799"/>
                </a:lnTo>
                <a:lnTo>
                  <a:pt x="12404" y="5878"/>
                </a:lnTo>
                <a:lnTo>
                  <a:pt x="12407" y="5958"/>
                </a:lnTo>
                <a:lnTo>
                  <a:pt x="12409" y="6037"/>
                </a:lnTo>
                <a:lnTo>
                  <a:pt x="12411" y="6117"/>
                </a:lnTo>
                <a:lnTo>
                  <a:pt x="12411" y="6197"/>
                </a:lnTo>
                <a:lnTo>
                  <a:pt x="12411" y="6275"/>
                </a:lnTo>
                <a:lnTo>
                  <a:pt x="12409" y="6355"/>
                </a:lnTo>
                <a:lnTo>
                  <a:pt x="12407" y="6434"/>
                </a:lnTo>
                <a:lnTo>
                  <a:pt x="12404" y="6514"/>
                </a:lnTo>
                <a:lnTo>
                  <a:pt x="12399" y="6593"/>
                </a:lnTo>
                <a:lnTo>
                  <a:pt x="12394" y="6671"/>
                </a:lnTo>
                <a:lnTo>
                  <a:pt x="12387" y="6750"/>
                </a:lnTo>
                <a:lnTo>
                  <a:pt x="12379" y="6828"/>
                </a:lnTo>
                <a:lnTo>
                  <a:pt x="12371" y="6906"/>
                </a:lnTo>
                <a:lnTo>
                  <a:pt x="12361" y="6983"/>
                </a:lnTo>
                <a:lnTo>
                  <a:pt x="12351" y="7060"/>
                </a:lnTo>
                <a:lnTo>
                  <a:pt x="12340" y="7138"/>
                </a:lnTo>
                <a:lnTo>
                  <a:pt x="12328" y="7215"/>
                </a:lnTo>
                <a:lnTo>
                  <a:pt x="12315" y="7290"/>
                </a:lnTo>
                <a:lnTo>
                  <a:pt x="12300" y="7367"/>
                </a:lnTo>
                <a:lnTo>
                  <a:pt x="12285" y="7442"/>
                </a:lnTo>
                <a:lnTo>
                  <a:pt x="12269" y="7518"/>
                </a:lnTo>
                <a:lnTo>
                  <a:pt x="12252" y="7592"/>
                </a:lnTo>
                <a:lnTo>
                  <a:pt x="12234" y="7667"/>
                </a:lnTo>
                <a:lnTo>
                  <a:pt x="12216" y="7741"/>
                </a:lnTo>
                <a:lnTo>
                  <a:pt x="12196" y="7816"/>
                </a:lnTo>
                <a:lnTo>
                  <a:pt x="12175" y="7889"/>
                </a:lnTo>
                <a:lnTo>
                  <a:pt x="12154" y="7963"/>
                </a:lnTo>
                <a:lnTo>
                  <a:pt x="12132" y="8035"/>
                </a:lnTo>
                <a:lnTo>
                  <a:pt x="12109" y="8108"/>
                </a:lnTo>
                <a:lnTo>
                  <a:pt x="12084" y="8180"/>
                </a:lnTo>
                <a:lnTo>
                  <a:pt x="12060" y="8251"/>
                </a:lnTo>
                <a:lnTo>
                  <a:pt x="12034" y="8323"/>
                </a:lnTo>
                <a:lnTo>
                  <a:pt x="12007" y="8394"/>
                </a:lnTo>
                <a:lnTo>
                  <a:pt x="11980" y="8464"/>
                </a:lnTo>
                <a:lnTo>
                  <a:pt x="11952" y="8535"/>
                </a:lnTo>
                <a:lnTo>
                  <a:pt x="11923" y="8604"/>
                </a:lnTo>
                <a:lnTo>
                  <a:pt x="11893" y="8674"/>
                </a:lnTo>
                <a:lnTo>
                  <a:pt x="11862" y="8742"/>
                </a:lnTo>
                <a:lnTo>
                  <a:pt x="11830" y="8810"/>
                </a:lnTo>
                <a:lnTo>
                  <a:pt x="11798" y="8878"/>
                </a:lnTo>
                <a:lnTo>
                  <a:pt x="11765" y="8946"/>
                </a:lnTo>
                <a:lnTo>
                  <a:pt x="11731" y="9013"/>
                </a:lnTo>
                <a:lnTo>
                  <a:pt x="11696" y="9079"/>
                </a:lnTo>
                <a:lnTo>
                  <a:pt x="11660" y="9145"/>
                </a:lnTo>
                <a:lnTo>
                  <a:pt x="11625" y="9212"/>
                </a:lnTo>
                <a:lnTo>
                  <a:pt x="11588" y="9276"/>
                </a:lnTo>
                <a:lnTo>
                  <a:pt x="11550" y="9341"/>
                </a:lnTo>
                <a:lnTo>
                  <a:pt x="11511" y="9405"/>
                </a:lnTo>
                <a:lnTo>
                  <a:pt x="11472" y="9468"/>
                </a:lnTo>
                <a:lnTo>
                  <a:pt x="11432" y="9532"/>
                </a:lnTo>
                <a:lnTo>
                  <a:pt x="11391" y="9594"/>
                </a:lnTo>
                <a:lnTo>
                  <a:pt x="11350" y="9656"/>
                </a:lnTo>
                <a:lnTo>
                  <a:pt x="11307" y="9718"/>
                </a:lnTo>
                <a:lnTo>
                  <a:pt x="11264" y="9780"/>
                </a:lnTo>
                <a:lnTo>
                  <a:pt x="11221" y="9840"/>
                </a:lnTo>
                <a:lnTo>
                  <a:pt x="11176" y="9900"/>
                </a:lnTo>
                <a:lnTo>
                  <a:pt x="11130" y="9959"/>
                </a:lnTo>
                <a:lnTo>
                  <a:pt x="11085" y="10017"/>
                </a:lnTo>
                <a:lnTo>
                  <a:pt x="11039" y="10076"/>
                </a:lnTo>
                <a:lnTo>
                  <a:pt x="10991" y="10134"/>
                </a:lnTo>
                <a:lnTo>
                  <a:pt x="10943" y="10191"/>
                </a:lnTo>
                <a:lnTo>
                  <a:pt x="10896" y="10247"/>
                </a:lnTo>
                <a:lnTo>
                  <a:pt x="10845" y="10303"/>
                </a:lnTo>
                <a:lnTo>
                  <a:pt x="10796" y="10359"/>
                </a:lnTo>
                <a:lnTo>
                  <a:pt x="10745" y="10413"/>
                </a:lnTo>
                <a:lnTo>
                  <a:pt x="10694" y="10468"/>
                </a:lnTo>
                <a:lnTo>
                  <a:pt x="10643" y="10521"/>
                </a:lnTo>
                <a:lnTo>
                  <a:pt x="10591" y="10574"/>
                </a:lnTo>
                <a:lnTo>
                  <a:pt x="10537" y="10626"/>
                </a:lnTo>
                <a:lnTo>
                  <a:pt x="10484" y="10678"/>
                </a:lnTo>
                <a:lnTo>
                  <a:pt x="10429" y="10729"/>
                </a:lnTo>
                <a:lnTo>
                  <a:pt x="10375" y="10780"/>
                </a:lnTo>
                <a:lnTo>
                  <a:pt x="10319" y="10829"/>
                </a:lnTo>
                <a:lnTo>
                  <a:pt x="10263" y="10879"/>
                </a:lnTo>
                <a:lnTo>
                  <a:pt x="10207" y="10927"/>
                </a:lnTo>
                <a:lnTo>
                  <a:pt x="10150" y="10974"/>
                </a:lnTo>
                <a:lnTo>
                  <a:pt x="10092" y="11022"/>
                </a:lnTo>
                <a:lnTo>
                  <a:pt x="10033" y="11068"/>
                </a:lnTo>
                <a:lnTo>
                  <a:pt x="9974" y="11113"/>
                </a:lnTo>
                <a:lnTo>
                  <a:pt x="9915" y="11159"/>
                </a:lnTo>
                <a:lnTo>
                  <a:pt x="9855" y="11203"/>
                </a:lnTo>
                <a:lnTo>
                  <a:pt x="9795" y="11247"/>
                </a:lnTo>
                <a:lnTo>
                  <a:pt x="9734" y="11290"/>
                </a:lnTo>
                <a:lnTo>
                  <a:pt x="9671" y="11332"/>
                </a:lnTo>
                <a:lnTo>
                  <a:pt x="9609" y="11373"/>
                </a:lnTo>
                <a:lnTo>
                  <a:pt x="9547" y="11414"/>
                </a:lnTo>
                <a:lnTo>
                  <a:pt x="9483" y="11454"/>
                </a:lnTo>
                <a:lnTo>
                  <a:pt x="9420" y="11493"/>
                </a:lnTo>
                <a:lnTo>
                  <a:pt x="9355" y="11532"/>
                </a:lnTo>
                <a:lnTo>
                  <a:pt x="9291" y="11570"/>
                </a:lnTo>
                <a:lnTo>
                  <a:pt x="9226" y="11607"/>
                </a:lnTo>
                <a:lnTo>
                  <a:pt x="9160" y="11642"/>
                </a:lnTo>
                <a:lnTo>
                  <a:pt x="9094" y="11678"/>
                </a:lnTo>
                <a:lnTo>
                  <a:pt x="9027" y="11713"/>
                </a:lnTo>
                <a:lnTo>
                  <a:pt x="8960" y="11747"/>
                </a:lnTo>
                <a:lnTo>
                  <a:pt x="8892" y="11780"/>
                </a:lnTo>
                <a:lnTo>
                  <a:pt x="8824" y="11812"/>
                </a:lnTo>
                <a:lnTo>
                  <a:pt x="8756" y="11843"/>
                </a:lnTo>
                <a:lnTo>
                  <a:pt x="8687" y="11875"/>
                </a:lnTo>
                <a:lnTo>
                  <a:pt x="8617" y="11905"/>
                </a:lnTo>
                <a:lnTo>
                  <a:pt x="8548" y="11933"/>
                </a:lnTo>
                <a:lnTo>
                  <a:pt x="8478" y="11961"/>
                </a:lnTo>
                <a:lnTo>
                  <a:pt x="8407" y="11989"/>
                </a:lnTo>
                <a:lnTo>
                  <a:pt x="8336" y="12016"/>
                </a:lnTo>
                <a:lnTo>
                  <a:pt x="8264" y="12041"/>
                </a:lnTo>
                <a:lnTo>
                  <a:pt x="8193" y="12066"/>
                </a:lnTo>
                <a:lnTo>
                  <a:pt x="8121" y="12090"/>
                </a:lnTo>
                <a:lnTo>
                  <a:pt x="8048" y="12113"/>
                </a:lnTo>
                <a:lnTo>
                  <a:pt x="7975" y="12136"/>
                </a:lnTo>
                <a:lnTo>
                  <a:pt x="7902" y="12157"/>
                </a:lnTo>
                <a:lnTo>
                  <a:pt x="7828" y="12177"/>
                </a:lnTo>
                <a:lnTo>
                  <a:pt x="7754" y="12197"/>
                </a:lnTo>
                <a:lnTo>
                  <a:pt x="7679" y="12216"/>
                </a:lnTo>
                <a:lnTo>
                  <a:pt x="7604" y="12234"/>
                </a:lnTo>
                <a:lnTo>
                  <a:pt x="7530" y="12250"/>
                </a:lnTo>
                <a:lnTo>
                  <a:pt x="7454" y="12266"/>
                </a:lnTo>
                <a:lnTo>
                  <a:pt x="7378" y="12281"/>
                </a:lnTo>
                <a:lnTo>
                  <a:pt x="7302" y="12296"/>
                </a:lnTo>
                <a:lnTo>
                  <a:pt x="7226" y="12309"/>
                </a:lnTo>
                <a:lnTo>
                  <a:pt x="7149" y="12321"/>
                </a:lnTo>
                <a:lnTo>
                  <a:pt x="7072" y="12332"/>
                </a:lnTo>
                <a:lnTo>
                  <a:pt x="6994" y="12342"/>
                </a:lnTo>
                <a:lnTo>
                  <a:pt x="6917" y="12352"/>
                </a:lnTo>
                <a:lnTo>
                  <a:pt x="6839" y="12360"/>
                </a:lnTo>
                <a:lnTo>
                  <a:pt x="6761" y="12368"/>
                </a:lnTo>
                <a:lnTo>
                  <a:pt x="6683" y="12375"/>
                </a:lnTo>
                <a:lnTo>
                  <a:pt x="6604" y="12380"/>
                </a:lnTo>
                <a:lnTo>
                  <a:pt x="6525" y="12385"/>
                </a:lnTo>
                <a:lnTo>
                  <a:pt x="6446" y="12388"/>
                </a:lnTo>
                <a:lnTo>
                  <a:pt x="6366" y="12390"/>
                </a:lnTo>
                <a:lnTo>
                  <a:pt x="6287" y="12392"/>
                </a:lnTo>
                <a:lnTo>
                  <a:pt x="6206" y="12392"/>
                </a:lnTo>
                <a:lnTo>
                  <a:pt x="6126" y="12392"/>
                </a:lnTo>
                <a:lnTo>
                  <a:pt x="6046" y="12390"/>
                </a:lnTo>
                <a:lnTo>
                  <a:pt x="5967" y="12388"/>
                </a:lnTo>
                <a:lnTo>
                  <a:pt x="5888" y="12385"/>
                </a:lnTo>
                <a:lnTo>
                  <a:pt x="5809" y="12380"/>
                </a:lnTo>
                <a:lnTo>
                  <a:pt x="5730" y="12375"/>
                </a:lnTo>
                <a:lnTo>
                  <a:pt x="5651" y="12368"/>
                </a:lnTo>
                <a:lnTo>
                  <a:pt x="5573" y="12360"/>
                </a:lnTo>
                <a:lnTo>
                  <a:pt x="5495" y="12352"/>
                </a:lnTo>
                <a:lnTo>
                  <a:pt x="5417" y="12342"/>
                </a:lnTo>
                <a:lnTo>
                  <a:pt x="5341" y="12332"/>
                </a:lnTo>
                <a:lnTo>
                  <a:pt x="5264" y="12321"/>
                </a:lnTo>
                <a:lnTo>
                  <a:pt x="5187" y="12309"/>
                </a:lnTo>
                <a:lnTo>
                  <a:pt x="5110" y="12296"/>
                </a:lnTo>
                <a:lnTo>
                  <a:pt x="5034" y="12281"/>
                </a:lnTo>
                <a:lnTo>
                  <a:pt x="4958" y="12266"/>
                </a:lnTo>
                <a:lnTo>
                  <a:pt x="4883" y="12250"/>
                </a:lnTo>
                <a:lnTo>
                  <a:pt x="4807" y="12234"/>
                </a:lnTo>
                <a:lnTo>
                  <a:pt x="4733" y="12216"/>
                </a:lnTo>
                <a:lnTo>
                  <a:pt x="4658" y="12197"/>
                </a:lnTo>
                <a:lnTo>
                  <a:pt x="4585" y="12177"/>
                </a:lnTo>
                <a:lnTo>
                  <a:pt x="4510" y="12157"/>
                </a:lnTo>
                <a:lnTo>
                  <a:pt x="4437" y="12136"/>
                </a:lnTo>
                <a:lnTo>
                  <a:pt x="4364" y="12113"/>
                </a:lnTo>
                <a:lnTo>
                  <a:pt x="4292" y="12090"/>
                </a:lnTo>
                <a:lnTo>
                  <a:pt x="4220" y="12066"/>
                </a:lnTo>
                <a:lnTo>
                  <a:pt x="4147" y="12041"/>
                </a:lnTo>
                <a:lnTo>
                  <a:pt x="4076" y="12016"/>
                </a:lnTo>
                <a:lnTo>
                  <a:pt x="4005" y="11989"/>
                </a:lnTo>
                <a:lnTo>
                  <a:pt x="3935" y="11961"/>
                </a:lnTo>
                <a:lnTo>
                  <a:pt x="3865" y="11933"/>
                </a:lnTo>
                <a:lnTo>
                  <a:pt x="3795" y="11905"/>
                </a:lnTo>
                <a:lnTo>
                  <a:pt x="3726" y="11875"/>
                </a:lnTo>
                <a:lnTo>
                  <a:pt x="3657" y="11843"/>
                </a:lnTo>
                <a:lnTo>
                  <a:pt x="3588" y="11812"/>
                </a:lnTo>
                <a:lnTo>
                  <a:pt x="3520" y="11780"/>
                </a:lnTo>
                <a:lnTo>
                  <a:pt x="3452" y="11747"/>
                </a:lnTo>
                <a:lnTo>
                  <a:pt x="3385" y="11713"/>
                </a:lnTo>
                <a:lnTo>
                  <a:pt x="3318" y="11678"/>
                </a:lnTo>
                <a:lnTo>
                  <a:pt x="3253" y="11642"/>
                </a:lnTo>
                <a:lnTo>
                  <a:pt x="3187" y="11607"/>
                </a:lnTo>
                <a:lnTo>
                  <a:pt x="3121" y="11570"/>
                </a:lnTo>
                <a:lnTo>
                  <a:pt x="3057" y="11532"/>
                </a:lnTo>
                <a:lnTo>
                  <a:pt x="2992" y="11493"/>
                </a:lnTo>
                <a:lnTo>
                  <a:pt x="2929" y="11454"/>
                </a:lnTo>
                <a:lnTo>
                  <a:pt x="2865" y="11414"/>
                </a:lnTo>
                <a:lnTo>
                  <a:pt x="2803" y="11373"/>
                </a:lnTo>
                <a:lnTo>
                  <a:pt x="2741" y="11332"/>
                </a:lnTo>
                <a:lnTo>
                  <a:pt x="2679" y="11290"/>
                </a:lnTo>
                <a:lnTo>
                  <a:pt x="2618" y="11247"/>
                </a:lnTo>
                <a:lnTo>
                  <a:pt x="2557" y="11203"/>
                </a:lnTo>
                <a:lnTo>
                  <a:pt x="2497" y="11159"/>
                </a:lnTo>
                <a:lnTo>
                  <a:pt x="2438" y="11113"/>
                </a:lnTo>
                <a:lnTo>
                  <a:pt x="2379" y="11068"/>
                </a:lnTo>
                <a:lnTo>
                  <a:pt x="2321" y="11022"/>
                </a:lnTo>
                <a:lnTo>
                  <a:pt x="2263" y="10974"/>
                </a:lnTo>
                <a:lnTo>
                  <a:pt x="2205" y="10927"/>
                </a:lnTo>
                <a:lnTo>
                  <a:pt x="2148" y="10879"/>
                </a:lnTo>
                <a:lnTo>
                  <a:pt x="2093" y="10829"/>
                </a:lnTo>
                <a:lnTo>
                  <a:pt x="2037" y="10780"/>
                </a:lnTo>
                <a:lnTo>
                  <a:pt x="1983" y="10729"/>
                </a:lnTo>
                <a:lnTo>
                  <a:pt x="1928" y="10678"/>
                </a:lnTo>
                <a:lnTo>
                  <a:pt x="1875" y="10626"/>
                </a:lnTo>
                <a:lnTo>
                  <a:pt x="1821" y="10574"/>
                </a:lnTo>
                <a:lnTo>
                  <a:pt x="1769" y="10521"/>
                </a:lnTo>
                <a:lnTo>
                  <a:pt x="1718" y="10468"/>
                </a:lnTo>
                <a:lnTo>
                  <a:pt x="1667" y="10413"/>
                </a:lnTo>
                <a:lnTo>
                  <a:pt x="1616" y="10359"/>
                </a:lnTo>
                <a:lnTo>
                  <a:pt x="1566" y="10303"/>
                </a:lnTo>
                <a:lnTo>
                  <a:pt x="1517" y="10247"/>
                </a:lnTo>
                <a:lnTo>
                  <a:pt x="1468" y="10191"/>
                </a:lnTo>
                <a:lnTo>
                  <a:pt x="1421" y="10134"/>
                </a:lnTo>
                <a:lnTo>
                  <a:pt x="1374" y="10076"/>
                </a:lnTo>
                <a:lnTo>
                  <a:pt x="1327" y="10017"/>
                </a:lnTo>
                <a:lnTo>
                  <a:pt x="1281" y="9959"/>
                </a:lnTo>
                <a:lnTo>
                  <a:pt x="1236" y="9900"/>
                </a:lnTo>
                <a:lnTo>
                  <a:pt x="1192" y="9840"/>
                </a:lnTo>
                <a:lnTo>
                  <a:pt x="1148" y="9780"/>
                </a:lnTo>
                <a:lnTo>
                  <a:pt x="1106" y="9718"/>
                </a:lnTo>
                <a:lnTo>
                  <a:pt x="1063" y="9656"/>
                </a:lnTo>
                <a:lnTo>
                  <a:pt x="1021" y="9594"/>
                </a:lnTo>
                <a:lnTo>
                  <a:pt x="981" y="9532"/>
                </a:lnTo>
                <a:lnTo>
                  <a:pt x="941" y="9468"/>
                </a:lnTo>
                <a:lnTo>
                  <a:pt x="901" y="9405"/>
                </a:lnTo>
                <a:lnTo>
                  <a:pt x="863" y="9341"/>
                </a:lnTo>
                <a:lnTo>
                  <a:pt x="825" y="9276"/>
                </a:lnTo>
                <a:lnTo>
                  <a:pt x="788" y="9212"/>
                </a:lnTo>
                <a:lnTo>
                  <a:pt x="752" y="9145"/>
                </a:lnTo>
                <a:lnTo>
                  <a:pt x="716" y="9079"/>
                </a:lnTo>
                <a:lnTo>
                  <a:pt x="682" y="9013"/>
                </a:lnTo>
                <a:lnTo>
                  <a:pt x="647" y="8946"/>
                </a:lnTo>
                <a:lnTo>
                  <a:pt x="615" y="8878"/>
                </a:lnTo>
                <a:lnTo>
                  <a:pt x="582" y="8810"/>
                </a:lnTo>
                <a:lnTo>
                  <a:pt x="550" y="8742"/>
                </a:lnTo>
                <a:lnTo>
                  <a:pt x="520" y="8674"/>
                </a:lnTo>
                <a:lnTo>
                  <a:pt x="490" y="8604"/>
                </a:lnTo>
                <a:lnTo>
                  <a:pt x="461" y="8535"/>
                </a:lnTo>
                <a:lnTo>
                  <a:pt x="432" y="8464"/>
                </a:lnTo>
                <a:lnTo>
                  <a:pt x="404" y="8394"/>
                </a:lnTo>
                <a:lnTo>
                  <a:pt x="379" y="8323"/>
                </a:lnTo>
                <a:lnTo>
                  <a:pt x="352" y="8251"/>
                </a:lnTo>
                <a:lnTo>
                  <a:pt x="328" y="8180"/>
                </a:lnTo>
                <a:lnTo>
                  <a:pt x="304" y="8108"/>
                </a:lnTo>
                <a:lnTo>
                  <a:pt x="281" y="8035"/>
                </a:lnTo>
                <a:lnTo>
                  <a:pt x="259" y="7963"/>
                </a:lnTo>
                <a:lnTo>
                  <a:pt x="236" y="7889"/>
                </a:lnTo>
                <a:lnTo>
                  <a:pt x="216" y="7816"/>
                </a:lnTo>
                <a:lnTo>
                  <a:pt x="196" y="7741"/>
                </a:lnTo>
                <a:lnTo>
                  <a:pt x="178" y="7667"/>
                </a:lnTo>
                <a:lnTo>
                  <a:pt x="161" y="7592"/>
                </a:lnTo>
                <a:lnTo>
                  <a:pt x="143" y="7518"/>
                </a:lnTo>
                <a:lnTo>
                  <a:pt x="127" y="7442"/>
                </a:lnTo>
                <a:lnTo>
                  <a:pt x="112" y="7367"/>
                </a:lnTo>
                <a:lnTo>
                  <a:pt x="98" y="7290"/>
                </a:lnTo>
                <a:lnTo>
                  <a:pt x="85" y="7215"/>
                </a:lnTo>
                <a:lnTo>
                  <a:pt x="73" y="7138"/>
                </a:lnTo>
                <a:lnTo>
                  <a:pt x="62" y="7060"/>
                </a:lnTo>
                <a:lnTo>
                  <a:pt x="50" y="6983"/>
                </a:lnTo>
                <a:lnTo>
                  <a:pt x="42" y="6906"/>
                </a:lnTo>
                <a:lnTo>
                  <a:pt x="33" y="6828"/>
                </a:lnTo>
                <a:lnTo>
                  <a:pt x="26" y="6750"/>
                </a:lnTo>
                <a:lnTo>
                  <a:pt x="19" y="6671"/>
                </a:lnTo>
                <a:lnTo>
                  <a:pt x="14" y="6593"/>
                </a:lnTo>
                <a:lnTo>
                  <a:pt x="9" y="6514"/>
                </a:lnTo>
                <a:lnTo>
                  <a:pt x="5" y="6434"/>
                </a:lnTo>
                <a:lnTo>
                  <a:pt x="3" y="6355"/>
                </a:lnTo>
                <a:lnTo>
                  <a:pt x="1" y="6275"/>
                </a:lnTo>
                <a:lnTo>
                  <a:pt x="0" y="6197"/>
                </a:lnTo>
                <a:lnTo>
                  <a:pt x="1" y="6117"/>
                </a:lnTo>
                <a:lnTo>
                  <a:pt x="3" y="6037"/>
                </a:lnTo>
                <a:lnTo>
                  <a:pt x="5" y="5958"/>
                </a:lnTo>
                <a:lnTo>
                  <a:pt x="9" y="5878"/>
                </a:lnTo>
                <a:lnTo>
                  <a:pt x="14" y="5799"/>
                </a:lnTo>
                <a:lnTo>
                  <a:pt x="19" y="5721"/>
                </a:lnTo>
                <a:lnTo>
                  <a:pt x="26" y="5642"/>
                </a:lnTo>
                <a:lnTo>
                  <a:pt x="33" y="5564"/>
                </a:lnTo>
                <a:lnTo>
                  <a:pt x="42" y="5486"/>
                </a:lnTo>
                <a:lnTo>
                  <a:pt x="50" y="5409"/>
                </a:lnTo>
                <a:lnTo>
                  <a:pt x="62" y="5332"/>
                </a:lnTo>
                <a:lnTo>
                  <a:pt x="73" y="5254"/>
                </a:lnTo>
                <a:lnTo>
                  <a:pt x="85" y="5177"/>
                </a:lnTo>
                <a:lnTo>
                  <a:pt x="98" y="5102"/>
                </a:lnTo>
                <a:lnTo>
                  <a:pt x="112" y="5025"/>
                </a:lnTo>
                <a:lnTo>
                  <a:pt x="127" y="4950"/>
                </a:lnTo>
                <a:lnTo>
                  <a:pt x="143" y="4874"/>
                </a:lnTo>
                <a:lnTo>
                  <a:pt x="161" y="4800"/>
                </a:lnTo>
                <a:lnTo>
                  <a:pt x="178" y="4725"/>
                </a:lnTo>
                <a:lnTo>
                  <a:pt x="196" y="4651"/>
                </a:lnTo>
                <a:lnTo>
                  <a:pt x="216" y="4576"/>
                </a:lnTo>
                <a:lnTo>
                  <a:pt x="236" y="4503"/>
                </a:lnTo>
                <a:lnTo>
                  <a:pt x="259" y="4429"/>
                </a:lnTo>
                <a:lnTo>
                  <a:pt x="281" y="4357"/>
                </a:lnTo>
                <a:lnTo>
                  <a:pt x="304" y="4284"/>
                </a:lnTo>
                <a:lnTo>
                  <a:pt x="328" y="4213"/>
                </a:lnTo>
                <a:lnTo>
                  <a:pt x="352" y="4141"/>
                </a:lnTo>
                <a:lnTo>
                  <a:pt x="379" y="4069"/>
                </a:lnTo>
                <a:lnTo>
                  <a:pt x="404" y="3998"/>
                </a:lnTo>
                <a:lnTo>
                  <a:pt x="432" y="3928"/>
                </a:lnTo>
                <a:lnTo>
                  <a:pt x="461" y="3857"/>
                </a:lnTo>
                <a:lnTo>
                  <a:pt x="490" y="3788"/>
                </a:lnTo>
                <a:lnTo>
                  <a:pt x="520" y="3718"/>
                </a:lnTo>
                <a:lnTo>
                  <a:pt x="550" y="3650"/>
                </a:lnTo>
                <a:lnTo>
                  <a:pt x="582" y="3582"/>
                </a:lnTo>
                <a:lnTo>
                  <a:pt x="615" y="3514"/>
                </a:lnTo>
                <a:lnTo>
                  <a:pt x="647" y="3446"/>
                </a:lnTo>
                <a:lnTo>
                  <a:pt x="682" y="3379"/>
                </a:lnTo>
                <a:lnTo>
                  <a:pt x="716" y="3313"/>
                </a:lnTo>
                <a:lnTo>
                  <a:pt x="752" y="3247"/>
                </a:lnTo>
                <a:lnTo>
                  <a:pt x="788" y="3181"/>
                </a:lnTo>
                <a:lnTo>
                  <a:pt x="825" y="3116"/>
                </a:lnTo>
                <a:lnTo>
                  <a:pt x="863" y="3051"/>
                </a:lnTo>
                <a:lnTo>
                  <a:pt x="901" y="2987"/>
                </a:lnTo>
                <a:lnTo>
                  <a:pt x="941" y="2924"/>
                </a:lnTo>
                <a:lnTo>
                  <a:pt x="981" y="2860"/>
                </a:lnTo>
                <a:lnTo>
                  <a:pt x="1021" y="2798"/>
                </a:lnTo>
                <a:lnTo>
                  <a:pt x="1063" y="2736"/>
                </a:lnTo>
                <a:lnTo>
                  <a:pt x="1106" y="2674"/>
                </a:lnTo>
                <a:lnTo>
                  <a:pt x="1148" y="2613"/>
                </a:lnTo>
                <a:lnTo>
                  <a:pt x="1192" y="2552"/>
                </a:lnTo>
                <a:lnTo>
                  <a:pt x="1236" y="2492"/>
                </a:lnTo>
                <a:lnTo>
                  <a:pt x="1281" y="2433"/>
                </a:lnTo>
                <a:lnTo>
                  <a:pt x="1327" y="2375"/>
                </a:lnTo>
                <a:lnTo>
                  <a:pt x="1374" y="2316"/>
                </a:lnTo>
                <a:lnTo>
                  <a:pt x="1421" y="2258"/>
                </a:lnTo>
                <a:lnTo>
                  <a:pt x="1468" y="2201"/>
                </a:lnTo>
                <a:lnTo>
                  <a:pt x="1517" y="2145"/>
                </a:lnTo>
                <a:lnTo>
                  <a:pt x="1566" y="2089"/>
                </a:lnTo>
                <a:lnTo>
                  <a:pt x="1616" y="2033"/>
                </a:lnTo>
                <a:lnTo>
                  <a:pt x="1667" y="1979"/>
                </a:lnTo>
                <a:lnTo>
                  <a:pt x="1718" y="1924"/>
                </a:lnTo>
                <a:lnTo>
                  <a:pt x="1769" y="1871"/>
                </a:lnTo>
                <a:lnTo>
                  <a:pt x="1821" y="1818"/>
                </a:lnTo>
                <a:lnTo>
                  <a:pt x="1875" y="1766"/>
                </a:lnTo>
                <a:lnTo>
                  <a:pt x="1928" y="1714"/>
                </a:lnTo>
                <a:lnTo>
                  <a:pt x="1983" y="1663"/>
                </a:lnTo>
                <a:lnTo>
                  <a:pt x="2037" y="1612"/>
                </a:lnTo>
                <a:lnTo>
                  <a:pt x="2093" y="1563"/>
                </a:lnTo>
                <a:lnTo>
                  <a:pt x="2148" y="1513"/>
                </a:lnTo>
                <a:lnTo>
                  <a:pt x="2205" y="1465"/>
                </a:lnTo>
                <a:lnTo>
                  <a:pt x="2263" y="1418"/>
                </a:lnTo>
                <a:lnTo>
                  <a:pt x="2321" y="1371"/>
                </a:lnTo>
                <a:lnTo>
                  <a:pt x="2379" y="1324"/>
                </a:lnTo>
                <a:lnTo>
                  <a:pt x="2438" y="1279"/>
                </a:lnTo>
                <a:lnTo>
                  <a:pt x="2497" y="1233"/>
                </a:lnTo>
                <a:lnTo>
                  <a:pt x="2557" y="1189"/>
                </a:lnTo>
                <a:lnTo>
                  <a:pt x="2618" y="1145"/>
                </a:lnTo>
                <a:lnTo>
                  <a:pt x="2679" y="1102"/>
                </a:lnTo>
                <a:lnTo>
                  <a:pt x="2741" y="1060"/>
                </a:lnTo>
                <a:lnTo>
                  <a:pt x="2803" y="1019"/>
                </a:lnTo>
                <a:lnTo>
                  <a:pt x="2865" y="978"/>
                </a:lnTo>
                <a:lnTo>
                  <a:pt x="2929" y="938"/>
                </a:lnTo>
                <a:lnTo>
                  <a:pt x="2992" y="899"/>
                </a:lnTo>
                <a:lnTo>
                  <a:pt x="3057" y="860"/>
                </a:lnTo>
                <a:lnTo>
                  <a:pt x="3121" y="822"/>
                </a:lnTo>
                <a:lnTo>
                  <a:pt x="3187" y="785"/>
                </a:lnTo>
                <a:lnTo>
                  <a:pt x="3253" y="750"/>
                </a:lnTo>
                <a:lnTo>
                  <a:pt x="3318" y="714"/>
                </a:lnTo>
                <a:lnTo>
                  <a:pt x="3385" y="679"/>
                </a:lnTo>
                <a:lnTo>
                  <a:pt x="3452" y="645"/>
                </a:lnTo>
                <a:lnTo>
                  <a:pt x="3520" y="612"/>
                </a:lnTo>
                <a:lnTo>
                  <a:pt x="3588" y="580"/>
                </a:lnTo>
                <a:lnTo>
                  <a:pt x="3657" y="549"/>
                </a:lnTo>
                <a:lnTo>
                  <a:pt x="3726" y="517"/>
                </a:lnTo>
                <a:lnTo>
                  <a:pt x="3795" y="487"/>
                </a:lnTo>
                <a:lnTo>
                  <a:pt x="3865" y="459"/>
                </a:lnTo>
                <a:lnTo>
                  <a:pt x="3935" y="431"/>
                </a:lnTo>
                <a:lnTo>
                  <a:pt x="4005" y="403"/>
                </a:lnTo>
                <a:lnTo>
                  <a:pt x="4076" y="376"/>
                </a:lnTo>
                <a:lnTo>
                  <a:pt x="4147" y="351"/>
                </a:lnTo>
                <a:lnTo>
                  <a:pt x="4220" y="326"/>
                </a:lnTo>
                <a:lnTo>
                  <a:pt x="4292" y="302"/>
                </a:lnTo>
                <a:lnTo>
                  <a:pt x="4364" y="279"/>
                </a:lnTo>
                <a:lnTo>
                  <a:pt x="4437" y="256"/>
                </a:lnTo>
                <a:lnTo>
                  <a:pt x="4510" y="235"/>
                </a:lnTo>
                <a:lnTo>
                  <a:pt x="4585" y="215"/>
                </a:lnTo>
                <a:lnTo>
                  <a:pt x="4658" y="195"/>
                </a:lnTo>
                <a:lnTo>
                  <a:pt x="4733" y="176"/>
                </a:lnTo>
                <a:lnTo>
                  <a:pt x="4807" y="158"/>
                </a:lnTo>
                <a:lnTo>
                  <a:pt x="4883" y="142"/>
                </a:lnTo>
                <a:lnTo>
                  <a:pt x="4958" y="126"/>
                </a:lnTo>
                <a:lnTo>
                  <a:pt x="5034" y="111"/>
                </a:lnTo>
                <a:lnTo>
                  <a:pt x="5110" y="96"/>
                </a:lnTo>
                <a:lnTo>
                  <a:pt x="5187" y="83"/>
                </a:lnTo>
                <a:lnTo>
                  <a:pt x="5264" y="71"/>
                </a:lnTo>
                <a:lnTo>
                  <a:pt x="5341" y="60"/>
                </a:lnTo>
                <a:lnTo>
                  <a:pt x="5417" y="50"/>
                </a:lnTo>
                <a:lnTo>
                  <a:pt x="5495" y="40"/>
                </a:lnTo>
                <a:lnTo>
                  <a:pt x="5573" y="32"/>
                </a:lnTo>
                <a:lnTo>
                  <a:pt x="5651" y="24"/>
                </a:lnTo>
                <a:lnTo>
                  <a:pt x="5730" y="17"/>
                </a:lnTo>
                <a:lnTo>
                  <a:pt x="5809" y="12"/>
                </a:lnTo>
                <a:lnTo>
                  <a:pt x="5888" y="7"/>
                </a:lnTo>
                <a:lnTo>
                  <a:pt x="5967" y="4"/>
                </a:lnTo>
                <a:lnTo>
                  <a:pt x="6046" y="2"/>
                </a:lnTo>
                <a:lnTo>
                  <a:pt x="6126" y="0"/>
                </a:lnTo>
                <a:lnTo>
                  <a:pt x="620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4281480" y="2705040"/>
            <a:ext cx="2717640" cy="2712960"/>
          </a:xfrm>
          <a:custGeom>
            <a:avLst/>
            <a:gdLst/>
            <a:ahLst/>
            <a:rect l="l" t="t" r="r" b="b"/>
            <a:pathLst>
              <a:path w="6848" h="6838">
                <a:moveTo>
                  <a:pt x="3424" y="0"/>
                </a:moveTo>
                <a:lnTo>
                  <a:pt x="3600" y="4"/>
                </a:lnTo>
                <a:lnTo>
                  <a:pt x="3773" y="18"/>
                </a:lnTo>
                <a:lnTo>
                  <a:pt x="3944" y="40"/>
                </a:lnTo>
                <a:lnTo>
                  <a:pt x="4112" y="70"/>
                </a:lnTo>
                <a:lnTo>
                  <a:pt x="4278" y="108"/>
                </a:lnTo>
                <a:lnTo>
                  <a:pt x="4441" y="154"/>
                </a:lnTo>
                <a:lnTo>
                  <a:pt x="4600" y="208"/>
                </a:lnTo>
                <a:lnTo>
                  <a:pt x="4754" y="270"/>
                </a:lnTo>
                <a:lnTo>
                  <a:pt x="4906" y="338"/>
                </a:lnTo>
                <a:lnTo>
                  <a:pt x="5054" y="413"/>
                </a:lnTo>
                <a:lnTo>
                  <a:pt x="5197" y="497"/>
                </a:lnTo>
                <a:lnTo>
                  <a:pt x="5337" y="586"/>
                </a:lnTo>
                <a:lnTo>
                  <a:pt x="5470" y="681"/>
                </a:lnTo>
                <a:lnTo>
                  <a:pt x="5600" y="782"/>
                </a:lnTo>
                <a:lnTo>
                  <a:pt x="5724" y="890"/>
                </a:lnTo>
                <a:lnTo>
                  <a:pt x="5843" y="1003"/>
                </a:lnTo>
                <a:lnTo>
                  <a:pt x="5957" y="1122"/>
                </a:lnTo>
                <a:lnTo>
                  <a:pt x="6064" y="1247"/>
                </a:lnTo>
                <a:lnTo>
                  <a:pt x="6166" y="1376"/>
                </a:lnTo>
                <a:lnTo>
                  <a:pt x="6261" y="1510"/>
                </a:lnTo>
                <a:lnTo>
                  <a:pt x="6352" y="1648"/>
                </a:lnTo>
                <a:lnTo>
                  <a:pt x="6434" y="1791"/>
                </a:lnTo>
                <a:lnTo>
                  <a:pt x="6510" y="1939"/>
                </a:lnTo>
                <a:lnTo>
                  <a:pt x="6579" y="2090"/>
                </a:lnTo>
                <a:lnTo>
                  <a:pt x="6640" y="2246"/>
                </a:lnTo>
                <a:lnTo>
                  <a:pt x="6693" y="2404"/>
                </a:lnTo>
                <a:lnTo>
                  <a:pt x="6740" y="2566"/>
                </a:lnTo>
                <a:lnTo>
                  <a:pt x="6778" y="2732"/>
                </a:lnTo>
                <a:lnTo>
                  <a:pt x="6808" y="2899"/>
                </a:lnTo>
                <a:lnTo>
                  <a:pt x="6830" y="3071"/>
                </a:lnTo>
                <a:lnTo>
                  <a:pt x="6844" y="3244"/>
                </a:lnTo>
                <a:lnTo>
                  <a:pt x="6848" y="3420"/>
                </a:lnTo>
                <a:lnTo>
                  <a:pt x="6844" y="3594"/>
                </a:lnTo>
                <a:lnTo>
                  <a:pt x="6830" y="3767"/>
                </a:lnTo>
                <a:lnTo>
                  <a:pt x="6808" y="3939"/>
                </a:lnTo>
                <a:lnTo>
                  <a:pt x="6778" y="4106"/>
                </a:lnTo>
                <a:lnTo>
                  <a:pt x="6740" y="4272"/>
                </a:lnTo>
                <a:lnTo>
                  <a:pt x="6693" y="4434"/>
                </a:lnTo>
                <a:lnTo>
                  <a:pt x="6640" y="4592"/>
                </a:lnTo>
                <a:lnTo>
                  <a:pt x="6579" y="4748"/>
                </a:lnTo>
                <a:lnTo>
                  <a:pt x="6510" y="4899"/>
                </a:lnTo>
                <a:lnTo>
                  <a:pt x="6434" y="5047"/>
                </a:lnTo>
                <a:lnTo>
                  <a:pt x="6352" y="5190"/>
                </a:lnTo>
                <a:lnTo>
                  <a:pt x="6261" y="5329"/>
                </a:lnTo>
                <a:lnTo>
                  <a:pt x="6166" y="5462"/>
                </a:lnTo>
                <a:lnTo>
                  <a:pt x="6064" y="5591"/>
                </a:lnTo>
                <a:lnTo>
                  <a:pt x="5957" y="5716"/>
                </a:lnTo>
                <a:lnTo>
                  <a:pt x="5843" y="5835"/>
                </a:lnTo>
                <a:lnTo>
                  <a:pt x="5724" y="5948"/>
                </a:lnTo>
                <a:lnTo>
                  <a:pt x="5600" y="6056"/>
                </a:lnTo>
                <a:lnTo>
                  <a:pt x="5470" y="6157"/>
                </a:lnTo>
                <a:lnTo>
                  <a:pt x="5337" y="6252"/>
                </a:lnTo>
                <a:lnTo>
                  <a:pt x="5197" y="6341"/>
                </a:lnTo>
                <a:lnTo>
                  <a:pt x="5054" y="6425"/>
                </a:lnTo>
                <a:lnTo>
                  <a:pt x="4906" y="6500"/>
                </a:lnTo>
                <a:lnTo>
                  <a:pt x="4754" y="6568"/>
                </a:lnTo>
                <a:lnTo>
                  <a:pt x="4600" y="6630"/>
                </a:lnTo>
                <a:lnTo>
                  <a:pt x="4441" y="6684"/>
                </a:lnTo>
                <a:lnTo>
                  <a:pt x="4278" y="6730"/>
                </a:lnTo>
                <a:lnTo>
                  <a:pt x="4112" y="6768"/>
                </a:lnTo>
                <a:lnTo>
                  <a:pt x="3944" y="6798"/>
                </a:lnTo>
                <a:lnTo>
                  <a:pt x="3773" y="6820"/>
                </a:lnTo>
                <a:lnTo>
                  <a:pt x="3600" y="6834"/>
                </a:lnTo>
                <a:lnTo>
                  <a:pt x="3424" y="6838"/>
                </a:lnTo>
                <a:lnTo>
                  <a:pt x="3249" y="6834"/>
                </a:lnTo>
                <a:lnTo>
                  <a:pt x="3075" y="6820"/>
                </a:lnTo>
                <a:lnTo>
                  <a:pt x="2904" y="6798"/>
                </a:lnTo>
                <a:lnTo>
                  <a:pt x="2736" y="6768"/>
                </a:lnTo>
                <a:lnTo>
                  <a:pt x="2570" y="6730"/>
                </a:lnTo>
                <a:lnTo>
                  <a:pt x="2408" y="6684"/>
                </a:lnTo>
                <a:lnTo>
                  <a:pt x="2249" y="6630"/>
                </a:lnTo>
                <a:lnTo>
                  <a:pt x="2093" y="6568"/>
                </a:lnTo>
                <a:lnTo>
                  <a:pt x="1942" y="6500"/>
                </a:lnTo>
                <a:lnTo>
                  <a:pt x="1794" y="6425"/>
                </a:lnTo>
                <a:lnTo>
                  <a:pt x="1651" y="6341"/>
                </a:lnTo>
                <a:lnTo>
                  <a:pt x="1512" y="6252"/>
                </a:lnTo>
                <a:lnTo>
                  <a:pt x="1378" y="6157"/>
                </a:lnTo>
                <a:lnTo>
                  <a:pt x="1249" y="6056"/>
                </a:lnTo>
                <a:lnTo>
                  <a:pt x="1124" y="5948"/>
                </a:lnTo>
                <a:lnTo>
                  <a:pt x="1005" y="5835"/>
                </a:lnTo>
                <a:lnTo>
                  <a:pt x="891" y="5716"/>
                </a:lnTo>
                <a:lnTo>
                  <a:pt x="783" y="5591"/>
                </a:lnTo>
                <a:lnTo>
                  <a:pt x="682" y="5462"/>
                </a:lnTo>
                <a:lnTo>
                  <a:pt x="586" y="5329"/>
                </a:lnTo>
                <a:lnTo>
                  <a:pt x="497" y="5190"/>
                </a:lnTo>
                <a:lnTo>
                  <a:pt x="415" y="5047"/>
                </a:lnTo>
                <a:lnTo>
                  <a:pt x="339" y="4899"/>
                </a:lnTo>
                <a:lnTo>
                  <a:pt x="270" y="4748"/>
                </a:lnTo>
                <a:lnTo>
                  <a:pt x="209" y="4592"/>
                </a:lnTo>
                <a:lnTo>
                  <a:pt x="154" y="4434"/>
                </a:lnTo>
                <a:lnTo>
                  <a:pt x="109" y="4272"/>
                </a:lnTo>
                <a:lnTo>
                  <a:pt x="70" y="4106"/>
                </a:lnTo>
                <a:lnTo>
                  <a:pt x="40" y="3939"/>
                </a:lnTo>
                <a:lnTo>
                  <a:pt x="18" y="3767"/>
                </a:lnTo>
                <a:lnTo>
                  <a:pt x="4" y="3594"/>
                </a:lnTo>
                <a:lnTo>
                  <a:pt x="0" y="3420"/>
                </a:lnTo>
                <a:lnTo>
                  <a:pt x="4" y="3244"/>
                </a:lnTo>
                <a:lnTo>
                  <a:pt x="18" y="3071"/>
                </a:lnTo>
                <a:lnTo>
                  <a:pt x="40" y="2899"/>
                </a:lnTo>
                <a:lnTo>
                  <a:pt x="70" y="2732"/>
                </a:lnTo>
                <a:lnTo>
                  <a:pt x="109" y="2566"/>
                </a:lnTo>
                <a:lnTo>
                  <a:pt x="154" y="2404"/>
                </a:lnTo>
                <a:lnTo>
                  <a:pt x="209" y="2246"/>
                </a:lnTo>
                <a:lnTo>
                  <a:pt x="270" y="2090"/>
                </a:lnTo>
                <a:lnTo>
                  <a:pt x="339" y="1939"/>
                </a:lnTo>
                <a:lnTo>
                  <a:pt x="415" y="1791"/>
                </a:lnTo>
                <a:lnTo>
                  <a:pt x="497" y="1648"/>
                </a:lnTo>
                <a:lnTo>
                  <a:pt x="586" y="1510"/>
                </a:lnTo>
                <a:lnTo>
                  <a:pt x="682" y="1376"/>
                </a:lnTo>
                <a:lnTo>
                  <a:pt x="783" y="1247"/>
                </a:lnTo>
                <a:lnTo>
                  <a:pt x="891" y="1122"/>
                </a:lnTo>
                <a:lnTo>
                  <a:pt x="1005" y="1003"/>
                </a:lnTo>
                <a:lnTo>
                  <a:pt x="1124" y="890"/>
                </a:lnTo>
                <a:lnTo>
                  <a:pt x="1249" y="782"/>
                </a:lnTo>
                <a:lnTo>
                  <a:pt x="1378" y="681"/>
                </a:lnTo>
                <a:lnTo>
                  <a:pt x="1512" y="586"/>
                </a:lnTo>
                <a:lnTo>
                  <a:pt x="1651" y="497"/>
                </a:lnTo>
                <a:lnTo>
                  <a:pt x="1794" y="413"/>
                </a:lnTo>
                <a:lnTo>
                  <a:pt x="1942" y="338"/>
                </a:lnTo>
                <a:lnTo>
                  <a:pt x="2093" y="270"/>
                </a:lnTo>
                <a:lnTo>
                  <a:pt x="2249" y="208"/>
                </a:lnTo>
                <a:lnTo>
                  <a:pt x="2408" y="154"/>
                </a:lnTo>
                <a:lnTo>
                  <a:pt x="2570" y="108"/>
                </a:lnTo>
                <a:lnTo>
                  <a:pt x="2736" y="70"/>
                </a:lnTo>
                <a:lnTo>
                  <a:pt x="2904" y="40"/>
                </a:lnTo>
                <a:lnTo>
                  <a:pt x="3075" y="18"/>
                </a:lnTo>
                <a:lnTo>
                  <a:pt x="3249" y="4"/>
                </a:lnTo>
                <a:lnTo>
                  <a:pt x="3424" y="0"/>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4281480" y="2705040"/>
            <a:ext cx="2717640" cy="2712960"/>
          </a:xfrm>
          <a:custGeom>
            <a:avLst/>
            <a:gdLst/>
            <a:ahLst/>
            <a:rect l="l" t="t" r="r" b="b"/>
            <a:pathLst>
              <a:path w="6848" h="6838">
                <a:moveTo>
                  <a:pt x="3424" y="0"/>
                </a:moveTo>
                <a:lnTo>
                  <a:pt x="3512" y="1"/>
                </a:lnTo>
                <a:lnTo>
                  <a:pt x="3600" y="4"/>
                </a:lnTo>
                <a:lnTo>
                  <a:pt x="3687" y="10"/>
                </a:lnTo>
                <a:lnTo>
                  <a:pt x="3773" y="18"/>
                </a:lnTo>
                <a:lnTo>
                  <a:pt x="3860" y="28"/>
                </a:lnTo>
                <a:lnTo>
                  <a:pt x="3944" y="40"/>
                </a:lnTo>
                <a:lnTo>
                  <a:pt x="4029" y="53"/>
                </a:lnTo>
                <a:lnTo>
                  <a:pt x="4112" y="70"/>
                </a:lnTo>
                <a:lnTo>
                  <a:pt x="4196" y="88"/>
                </a:lnTo>
                <a:lnTo>
                  <a:pt x="4278" y="108"/>
                </a:lnTo>
                <a:lnTo>
                  <a:pt x="4359" y="130"/>
                </a:lnTo>
                <a:lnTo>
                  <a:pt x="4441" y="154"/>
                </a:lnTo>
                <a:lnTo>
                  <a:pt x="4521" y="180"/>
                </a:lnTo>
                <a:lnTo>
                  <a:pt x="4600" y="208"/>
                </a:lnTo>
                <a:lnTo>
                  <a:pt x="4678" y="238"/>
                </a:lnTo>
                <a:lnTo>
                  <a:pt x="4754" y="270"/>
                </a:lnTo>
                <a:lnTo>
                  <a:pt x="4831" y="303"/>
                </a:lnTo>
                <a:lnTo>
                  <a:pt x="4906" y="338"/>
                </a:lnTo>
                <a:lnTo>
                  <a:pt x="4980" y="376"/>
                </a:lnTo>
                <a:lnTo>
                  <a:pt x="5054" y="413"/>
                </a:lnTo>
                <a:lnTo>
                  <a:pt x="5126" y="454"/>
                </a:lnTo>
                <a:lnTo>
                  <a:pt x="5197" y="497"/>
                </a:lnTo>
                <a:lnTo>
                  <a:pt x="5268" y="540"/>
                </a:lnTo>
                <a:lnTo>
                  <a:pt x="5337" y="586"/>
                </a:lnTo>
                <a:lnTo>
                  <a:pt x="5403" y="632"/>
                </a:lnTo>
                <a:lnTo>
                  <a:pt x="5470" y="681"/>
                </a:lnTo>
                <a:lnTo>
                  <a:pt x="5536" y="731"/>
                </a:lnTo>
                <a:lnTo>
                  <a:pt x="5600" y="782"/>
                </a:lnTo>
                <a:lnTo>
                  <a:pt x="5663" y="836"/>
                </a:lnTo>
                <a:lnTo>
                  <a:pt x="5724" y="890"/>
                </a:lnTo>
                <a:lnTo>
                  <a:pt x="5784" y="946"/>
                </a:lnTo>
                <a:lnTo>
                  <a:pt x="5843" y="1003"/>
                </a:lnTo>
                <a:lnTo>
                  <a:pt x="5901" y="1062"/>
                </a:lnTo>
                <a:lnTo>
                  <a:pt x="5957" y="1122"/>
                </a:lnTo>
                <a:lnTo>
                  <a:pt x="6011" y="1183"/>
                </a:lnTo>
                <a:lnTo>
                  <a:pt x="6064" y="1247"/>
                </a:lnTo>
                <a:lnTo>
                  <a:pt x="6116" y="1310"/>
                </a:lnTo>
                <a:lnTo>
                  <a:pt x="6166" y="1376"/>
                </a:lnTo>
                <a:lnTo>
                  <a:pt x="6215" y="1442"/>
                </a:lnTo>
                <a:lnTo>
                  <a:pt x="6261" y="1510"/>
                </a:lnTo>
                <a:lnTo>
                  <a:pt x="6307" y="1578"/>
                </a:lnTo>
                <a:lnTo>
                  <a:pt x="6352" y="1648"/>
                </a:lnTo>
                <a:lnTo>
                  <a:pt x="6393" y="1719"/>
                </a:lnTo>
                <a:lnTo>
                  <a:pt x="6434" y="1791"/>
                </a:lnTo>
                <a:lnTo>
                  <a:pt x="6473" y="1865"/>
                </a:lnTo>
                <a:lnTo>
                  <a:pt x="6510" y="1939"/>
                </a:lnTo>
                <a:lnTo>
                  <a:pt x="6544" y="2014"/>
                </a:lnTo>
                <a:lnTo>
                  <a:pt x="6579" y="2090"/>
                </a:lnTo>
                <a:lnTo>
                  <a:pt x="6610" y="2167"/>
                </a:lnTo>
                <a:lnTo>
                  <a:pt x="6640" y="2246"/>
                </a:lnTo>
                <a:lnTo>
                  <a:pt x="6668" y="2325"/>
                </a:lnTo>
                <a:lnTo>
                  <a:pt x="6693" y="2404"/>
                </a:lnTo>
                <a:lnTo>
                  <a:pt x="6718" y="2485"/>
                </a:lnTo>
                <a:lnTo>
                  <a:pt x="6740" y="2566"/>
                </a:lnTo>
                <a:lnTo>
                  <a:pt x="6760" y="2648"/>
                </a:lnTo>
                <a:lnTo>
                  <a:pt x="6778" y="2732"/>
                </a:lnTo>
                <a:lnTo>
                  <a:pt x="6795" y="2815"/>
                </a:lnTo>
                <a:lnTo>
                  <a:pt x="6808" y="2899"/>
                </a:lnTo>
                <a:lnTo>
                  <a:pt x="6820" y="2985"/>
                </a:lnTo>
                <a:lnTo>
                  <a:pt x="6830" y="3071"/>
                </a:lnTo>
                <a:lnTo>
                  <a:pt x="6838" y="3156"/>
                </a:lnTo>
                <a:lnTo>
                  <a:pt x="6844" y="3244"/>
                </a:lnTo>
                <a:lnTo>
                  <a:pt x="6847" y="3331"/>
                </a:lnTo>
                <a:lnTo>
                  <a:pt x="6848" y="3420"/>
                </a:lnTo>
                <a:lnTo>
                  <a:pt x="6847" y="3507"/>
                </a:lnTo>
                <a:lnTo>
                  <a:pt x="6844" y="3594"/>
                </a:lnTo>
                <a:lnTo>
                  <a:pt x="6838" y="3682"/>
                </a:lnTo>
                <a:lnTo>
                  <a:pt x="6830" y="3767"/>
                </a:lnTo>
                <a:lnTo>
                  <a:pt x="6820" y="3853"/>
                </a:lnTo>
                <a:lnTo>
                  <a:pt x="6808" y="3939"/>
                </a:lnTo>
                <a:lnTo>
                  <a:pt x="6795" y="4023"/>
                </a:lnTo>
                <a:lnTo>
                  <a:pt x="6778" y="4106"/>
                </a:lnTo>
                <a:lnTo>
                  <a:pt x="6760" y="4190"/>
                </a:lnTo>
                <a:lnTo>
                  <a:pt x="6740" y="4272"/>
                </a:lnTo>
                <a:lnTo>
                  <a:pt x="6718" y="4353"/>
                </a:lnTo>
                <a:lnTo>
                  <a:pt x="6693" y="4434"/>
                </a:lnTo>
                <a:lnTo>
                  <a:pt x="6668" y="4513"/>
                </a:lnTo>
                <a:lnTo>
                  <a:pt x="6640" y="4592"/>
                </a:lnTo>
                <a:lnTo>
                  <a:pt x="6610" y="4671"/>
                </a:lnTo>
                <a:lnTo>
                  <a:pt x="6579" y="4748"/>
                </a:lnTo>
                <a:lnTo>
                  <a:pt x="6544" y="4824"/>
                </a:lnTo>
                <a:lnTo>
                  <a:pt x="6510" y="4899"/>
                </a:lnTo>
                <a:lnTo>
                  <a:pt x="6473" y="4973"/>
                </a:lnTo>
                <a:lnTo>
                  <a:pt x="6434" y="5047"/>
                </a:lnTo>
                <a:lnTo>
                  <a:pt x="6393" y="5119"/>
                </a:lnTo>
                <a:lnTo>
                  <a:pt x="6352" y="5190"/>
                </a:lnTo>
                <a:lnTo>
                  <a:pt x="6307" y="5260"/>
                </a:lnTo>
                <a:lnTo>
                  <a:pt x="6261" y="5329"/>
                </a:lnTo>
                <a:lnTo>
                  <a:pt x="6215" y="5396"/>
                </a:lnTo>
                <a:lnTo>
                  <a:pt x="6166" y="5462"/>
                </a:lnTo>
                <a:lnTo>
                  <a:pt x="6116" y="5528"/>
                </a:lnTo>
                <a:lnTo>
                  <a:pt x="6064" y="5591"/>
                </a:lnTo>
                <a:lnTo>
                  <a:pt x="6011" y="5655"/>
                </a:lnTo>
                <a:lnTo>
                  <a:pt x="5957" y="5716"/>
                </a:lnTo>
                <a:lnTo>
                  <a:pt x="5901" y="5776"/>
                </a:lnTo>
                <a:lnTo>
                  <a:pt x="5843" y="5835"/>
                </a:lnTo>
                <a:lnTo>
                  <a:pt x="5784" y="5892"/>
                </a:lnTo>
                <a:lnTo>
                  <a:pt x="5724" y="5948"/>
                </a:lnTo>
                <a:lnTo>
                  <a:pt x="5663" y="6002"/>
                </a:lnTo>
                <a:lnTo>
                  <a:pt x="5600" y="6056"/>
                </a:lnTo>
                <a:lnTo>
                  <a:pt x="5536" y="6107"/>
                </a:lnTo>
                <a:lnTo>
                  <a:pt x="5470" y="6157"/>
                </a:lnTo>
                <a:lnTo>
                  <a:pt x="5403" y="6206"/>
                </a:lnTo>
                <a:lnTo>
                  <a:pt x="5337" y="6252"/>
                </a:lnTo>
                <a:lnTo>
                  <a:pt x="5268" y="6298"/>
                </a:lnTo>
                <a:lnTo>
                  <a:pt x="5197" y="6341"/>
                </a:lnTo>
                <a:lnTo>
                  <a:pt x="5126" y="6384"/>
                </a:lnTo>
                <a:lnTo>
                  <a:pt x="5054" y="6425"/>
                </a:lnTo>
                <a:lnTo>
                  <a:pt x="4980" y="6464"/>
                </a:lnTo>
                <a:lnTo>
                  <a:pt x="4906" y="6500"/>
                </a:lnTo>
                <a:lnTo>
                  <a:pt x="4831" y="6535"/>
                </a:lnTo>
                <a:lnTo>
                  <a:pt x="4754" y="6568"/>
                </a:lnTo>
                <a:lnTo>
                  <a:pt x="4678" y="6600"/>
                </a:lnTo>
                <a:lnTo>
                  <a:pt x="4600" y="6630"/>
                </a:lnTo>
                <a:lnTo>
                  <a:pt x="4521" y="6658"/>
                </a:lnTo>
                <a:lnTo>
                  <a:pt x="4441" y="6684"/>
                </a:lnTo>
                <a:lnTo>
                  <a:pt x="4359" y="6708"/>
                </a:lnTo>
                <a:lnTo>
                  <a:pt x="4278" y="6730"/>
                </a:lnTo>
                <a:lnTo>
                  <a:pt x="4196" y="6750"/>
                </a:lnTo>
                <a:lnTo>
                  <a:pt x="4112" y="6768"/>
                </a:lnTo>
                <a:lnTo>
                  <a:pt x="4029" y="6785"/>
                </a:lnTo>
                <a:lnTo>
                  <a:pt x="3944" y="6798"/>
                </a:lnTo>
                <a:lnTo>
                  <a:pt x="3860" y="6810"/>
                </a:lnTo>
                <a:lnTo>
                  <a:pt x="3773" y="6820"/>
                </a:lnTo>
                <a:lnTo>
                  <a:pt x="3687" y="6828"/>
                </a:lnTo>
                <a:lnTo>
                  <a:pt x="3600" y="6834"/>
                </a:lnTo>
                <a:lnTo>
                  <a:pt x="3512" y="6837"/>
                </a:lnTo>
                <a:lnTo>
                  <a:pt x="3424" y="6838"/>
                </a:lnTo>
                <a:lnTo>
                  <a:pt x="3337" y="6837"/>
                </a:lnTo>
                <a:lnTo>
                  <a:pt x="3249" y="6834"/>
                </a:lnTo>
                <a:lnTo>
                  <a:pt x="3162" y="6828"/>
                </a:lnTo>
                <a:lnTo>
                  <a:pt x="3075" y="6820"/>
                </a:lnTo>
                <a:lnTo>
                  <a:pt x="2989" y="6810"/>
                </a:lnTo>
                <a:lnTo>
                  <a:pt x="2904" y="6798"/>
                </a:lnTo>
                <a:lnTo>
                  <a:pt x="2819" y="6785"/>
                </a:lnTo>
                <a:lnTo>
                  <a:pt x="2736" y="6768"/>
                </a:lnTo>
                <a:lnTo>
                  <a:pt x="2652" y="6750"/>
                </a:lnTo>
                <a:lnTo>
                  <a:pt x="2570" y="6730"/>
                </a:lnTo>
                <a:lnTo>
                  <a:pt x="2488" y="6708"/>
                </a:lnTo>
                <a:lnTo>
                  <a:pt x="2408" y="6684"/>
                </a:lnTo>
                <a:lnTo>
                  <a:pt x="2328" y="6658"/>
                </a:lnTo>
                <a:lnTo>
                  <a:pt x="2249" y="6630"/>
                </a:lnTo>
                <a:lnTo>
                  <a:pt x="2171" y="6600"/>
                </a:lnTo>
                <a:lnTo>
                  <a:pt x="2093" y="6568"/>
                </a:lnTo>
                <a:lnTo>
                  <a:pt x="2018" y="6535"/>
                </a:lnTo>
                <a:lnTo>
                  <a:pt x="1942" y="6500"/>
                </a:lnTo>
                <a:lnTo>
                  <a:pt x="1867" y="6464"/>
                </a:lnTo>
                <a:lnTo>
                  <a:pt x="1794" y="6425"/>
                </a:lnTo>
                <a:lnTo>
                  <a:pt x="1723" y="6384"/>
                </a:lnTo>
                <a:lnTo>
                  <a:pt x="1651" y="6341"/>
                </a:lnTo>
                <a:lnTo>
                  <a:pt x="1581" y="6298"/>
                </a:lnTo>
                <a:lnTo>
                  <a:pt x="1512" y="6252"/>
                </a:lnTo>
                <a:lnTo>
                  <a:pt x="1444" y="6206"/>
                </a:lnTo>
                <a:lnTo>
                  <a:pt x="1378" y="6157"/>
                </a:lnTo>
                <a:lnTo>
                  <a:pt x="1312" y="6107"/>
                </a:lnTo>
                <a:lnTo>
                  <a:pt x="1249" y="6056"/>
                </a:lnTo>
                <a:lnTo>
                  <a:pt x="1185" y="6002"/>
                </a:lnTo>
                <a:lnTo>
                  <a:pt x="1124" y="5948"/>
                </a:lnTo>
                <a:lnTo>
                  <a:pt x="1064" y="5892"/>
                </a:lnTo>
                <a:lnTo>
                  <a:pt x="1005" y="5835"/>
                </a:lnTo>
                <a:lnTo>
                  <a:pt x="948" y="5776"/>
                </a:lnTo>
                <a:lnTo>
                  <a:pt x="891" y="5716"/>
                </a:lnTo>
                <a:lnTo>
                  <a:pt x="837" y="5655"/>
                </a:lnTo>
                <a:lnTo>
                  <a:pt x="783" y="5591"/>
                </a:lnTo>
                <a:lnTo>
                  <a:pt x="732" y="5528"/>
                </a:lnTo>
                <a:lnTo>
                  <a:pt x="682" y="5462"/>
                </a:lnTo>
                <a:lnTo>
                  <a:pt x="633" y="5396"/>
                </a:lnTo>
                <a:lnTo>
                  <a:pt x="586" y="5329"/>
                </a:lnTo>
                <a:lnTo>
                  <a:pt x="541" y="5260"/>
                </a:lnTo>
                <a:lnTo>
                  <a:pt x="497" y="5190"/>
                </a:lnTo>
                <a:lnTo>
                  <a:pt x="455" y="5119"/>
                </a:lnTo>
                <a:lnTo>
                  <a:pt x="415" y="5047"/>
                </a:lnTo>
                <a:lnTo>
                  <a:pt x="376" y="4973"/>
                </a:lnTo>
                <a:lnTo>
                  <a:pt x="339" y="4899"/>
                </a:lnTo>
                <a:lnTo>
                  <a:pt x="304" y="4824"/>
                </a:lnTo>
                <a:lnTo>
                  <a:pt x="270" y="4748"/>
                </a:lnTo>
                <a:lnTo>
                  <a:pt x="238" y="4671"/>
                </a:lnTo>
                <a:lnTo>
                  <a:pt x="209" y="4592"/>
                </a:lnTo>
                <a:lnTo>
                  <a:pt x="181" y="4513"/>
                </a:lnTo>
                <a:lnTo>
                  <a:pt x="154" y="4434"/>
                </a:lnTo>
                <a:lnTo>
                  <a:pt x="130" y="4353"/>
                </a:lnTo>
                <a:lnTo>
                  <a:pt x="109" y="4272"/>
                </a:lnTo>
                <a:lnTo>
                  <a:pt x="88" y="4190"/>
                </a:lnTo>
                <a:lnTo>
                  <a:pt x="70" y="4106"/>
                </a:lnTo>
                <a:lnTo>
                  <a:pt x="54" y="4023"/>
                </a:lnTo>
                <a:lnTo>
                  <a:pt x="40" y="3939"/>
                </a:lnTo>
                <a:lnTo>
                  <a:pt x="28" y="3853"/>
                </a:lnTo>
                <a:lnTo>
                  <a:pt x="18" y="3767"/>
                </a:lnTo>
                <a:lnTo>
                  <a:pt x="10" y="3682"/>
                </a:lnTo>
                <a:lnTo>
                  <a:pt x="4" y="3594"/>
                </a:lnTo>
                <a:lnTo>
                  <a:pt x="1" y="3507"/>
                </a:lnTo>
                <a:lnTo>
                  <a:pt x="0" y="3420"/>
                </a:lnTo>
                <a:lnTo>
                  <a:pt x="1" y="3331"/>
                </a:lnTo>
                <a:lnTo>
                  <a:pt x="4" y="3244"/>
                </a:lnTo>
                <a:lnTo>
                  <a:pt x="10" y="3156"/>
                </a:lnTo>
                <a:lnTo>
                  <a:pt x="18" y="3071"/>
                </a:lnTo>
                <a:lnTo>
                  <a:pt x="28" y="2985"/>
                </a:lnTo>
                <a:lnTo>
                  <a:pt x="40" y="2899"/>
                </a:lnTo>
                <a:lnTo>
                  <a:pt x="54" y="2815"/>
                </a:lnTo>
                <a:lnTo>
                  <a:pt x="70" y="2732"/>
                </a:lnTo>
                <a:lnTo>
                  <a:pt x="88" y="2648"/>
                </a:lnTo>
                <a:lnTo>
                  <a:pt x="109" y="2566"/>
                </a:lnTo>
                <a:lnTo>
                  <a:pt x="130" y="2485"/>
                </a:lnTo>
                <a:lnTo>
                  <a:pt x="154" y="2404"/>
                </a:lnTo>
                <a:lnTo>
                  <a:pt x="181" y="2325"/>
                </a:lnTo>
                <a:lnTo>
                  <a:pt x="209" y="2246"/>
                </a:lnTo>
                <a:lnTo>
                  <a:pt x="238" y="2167"/>
                </a:lnTo>
                <a:lnTo>
                  <a:pt x="270" y="2090"/>
                </a:lnTo>
                <a:lnTo>
                  <a:pt x="304" y="2014"/>
                </a:lnTo>
                <a:lnTo>
                  <a:pt x="339" y="1939"/>
                </a:lnTo>
                <a:lnTo>
                  <a:pt x="376" y="1865"/>
                </a:lnTo>
                <a:lnTo>
                  <a:pt x="415" y="1791"/>
                </a:lnTo>
                <a:lnTo>
                  <a:pt x="455" y="1719"/>
                </a:lnTo>
                <a:lnTo>
                  <a:pt x="497" y="1648"/>
                </a:lnTo>
                <a:lnTo>
                  <a:pt x="541" y="1578"/>
                </a:lnTo>
                <a:lnTo>
                  <a:pt x="586" y="1510"/>
                </a:lnTo>
                <a:lnTo>
                  <a:pt x="633" y="1442"/>
                </a:lnTo>
                <a:lnTo>
                  <a:pt x="682" y="1376"/>
                </a:lnTo>
                <a:lnTo>
                  <a:pt x="732" y="1310"/>
                </a:lnTo>
                <a:lnTo>
                  <a:pt x="783" y="1247"/>
                </a:lnTo>
                <a:lnTo>
                  <a:pt x="837" y="1183"/>
                </a:lnTo>
                <a:lnTo>
                  <a:pt x="891" y="1122"/>
                </a:lnTo>
                <a:lnTo>
                  <a:pt x="948" y="1062"/>
                </a:lnTo>
                <a:lnTo>
                  <a:pt x="1005" y="1003"/>
                </a:lnTo>
                <a:lnTo>
                  <a:pt x="1064" y="946"/>
                </a:lnTo>
                <a:lnTo>
                  <a:pt x="1124" y="890"/>
                </a:lnTo>
                <a:lnTo>
                  <a:pt x="1185" y="836"/>
                </a:lnTo>
                <a:lnTo>
                  <a:pt x="1249" y="782"/>
                </a:lnTo>
                <a:lnTo>
                  <a:pt x="1312" y="731"/>
                </a:lnTo>
                <a:lnTo>
                  <a:pt x="1378" y="681"/>
                </a:lnTo>
                <a:lnTo>
                  <a:pt x="1444" y="632"/>
                </a:lnTo>
                <a:lnTo>
                  <a:pt x="1512" y="586"/>
                </a:lnTo>
                <a:lnTo>
                  <a:pt x="1581" y="540"/>
                </a:lnTo>
                <a:lnTo>
                  <a:pt x="1651" y="497"/>
                </a:lnTo>
                <a:lnTo>
                  <a:pt x="1723" y="454"/>
                </a:lnTo>
                <a:lnTo>
                  <a:pt x="1794" y="413"/>
                </a:lnTo>
                <a:lnTo>
                  <a:pt x="1867" y="376"/>
                </a:lnTo>
                <a:lnTo>
                  <a:pt x="1942" y="338"/>
                </a:lnTo>
                <a:lnTo>
                  <a:pt x="2018" y="303"/>
                </a:lnTo>
                <a:lnTo>
                  <a:pt x="2093" y="270"/>
                </a:lnTo>
                <a:lnTo>
                  <a:pt x="2171" y="238"/>
                </a:lnTo>
                <a:lnTo>
                  <a:pt x="2249" y="208"/>
                </a:lnTo>
                <a:lnTo>
                  <a:pt x="2328" y="180"/>
                </a:lnTo>
                <a:lnTo>
                  <a:pt x="2408" y="154"/>
                </a:lnTo>
                <a:lnTo>
                  <a:pt x="2488" y="130"/>
                </a:lnTo>
                <a:lnTo>
                  <a:pt x="2570" y="108"/>
                </a:lnTo>
                <a:lnTo>
                  <a:pt x="2652" y="88"/>
                </a:lnTo>
                <a:lnTo>
                  <a:pt x="2736" y="70"/>
                </a:lnTo>
                <a:lnTo>
                  <a:pt x="2819" y="53"/>
                </a:lnTo>
                <a:lnTo>
                  <a:pt x="2904" y="40"/>
                </a:lnTo>
                <a:lnTo>
                  <a:pt x="2989" y="28"/>
                </a:lnTo>
                <a:lnTo>
                  <a:pt x="3075" y="18"/>
                </a:lnTo>
                <a:lnTo>
                  <a:pt x="3162" y="10"/>
                </a:lnTo>
                <a:lnTo>
                  <a:pt x="3249" y="4"/>
                </a:lnTo>
                <a:lnTo>
                  <a:pt x="3337" y="1"/>
                </a:lnTo>
                <a:lnTo>
                  <a:pt x="342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4992840" y="3414600"/>
            <a:ext cx="1295280" cy="1293840"/>
          </a:xfrm>
          <a:custGeom>
            <a:avLst/>
            <a:gdLst/>
            <a:ahLst/>
            <a:rect l="l" t="t" r="r" b="b"/>
            <a:pathLst>
              <a:path w="3263" h="3260">
                <a:moveTo>
                  <a:pt x="1631" y="0"/>
                </a:moveTo>
                <a:lnTo>
                  <a:pt x="1715" y="2"/>
                </a:lnTo>
                <a:lnTo>
                  <a:pt x="1797" y="9"/>
                </a:lnTo>
                <a:lnTo>
                  <a:pt x="1879" y="19"/>
                </a:lnTo>
                <a:lnTo>
                  <a:pt x="1960" y="34"/>
                </a:lnTo>
                <a:lnTo>
                  <a:pt x="2038" y="52"/>
                </a:lnTo>
                <a:lnTo>
                  <a:pt x="2116" y="75"/>
                </a:lnTo>
                <a:lnTo>
                  <a:pt x="2191" y="100"/>
                </a:lnTo>
                <a:lnTo>
                  <a:pt x="2265" y="129"/>
                </a:lnTo>
                <a:lnTo>
                  <a:pt x="2337" y="161"/>
                </a:lnTo>
                <a:lnTo>
                  <a:pt x="2407" y="198"/>
                </a:lnTo>
                <a:lnTo>
                  <a:pt x="2476" y="237"/>
                </a:lnTo>
                <a:lnTo>
                  <a:pt x="2542" y="279"/>
                </a:lnTo>
                <a:lnTo>
                  <a:pt x="2606" y="325"/>
                </a:lnTo>
                <a:lnTo>
                  <a:pt x="2668" y="374"/>
                </a:lnTo>
                <a:lnTo>
                  <a:pt x="2728" y="425"/>
                </a:lnTo>
                <a:lnTo>
                  <a:pt x="2783" y="479"/>
                </a:lnTo>
                <a:lnTo>
                  <a:pt x="2838" y="536"/>
                </a:lnTo>
                <a:lnTo>
                  <a:pt x="2889" y="595"/>
                </a:lnTo>
                <a:lnTo>
                  <a:pt x="2938" y="656"/>
                </a:lnTo>
                <a:lnTo>
                  <a:pt x="2984" y="720"/>
                </a:lnTo>
                <a:lnTo>
                  <a:pt x="3026" y="786"/>
                </a:lnTo>
                <a:lnTo>
                  <a:pt x="3065" y="855"/>
                </a:lnTo>
                <a:lnTo>
                  <a:pt x="3102" y="925"/>
                </a:lnTo>
                <a:lnTo>
                  <a:pt x="3134" y="997"/>
                </a:lnTo>
                <a:lnTo>
                  <a:pt x="3163" y="1070"/>
                </a:lnTo>
                <a:lnTo>
                  <a:pt x="3190" y="1146"/>
                </a:lnTo>
                <a:lnTo>
                  <a:pt x="3211" y="1224"/>
                </a:lnTo>
                <a:lnTo>
                  <a:pt x="3230" y="1303"/>
                </a:lnTo>
                <a:lnTo>
                  <a:pt x="3244" y="1383"/>
                </a:lnTo>
                <a:lnTo>
                  <a:pt x="3254" y="1464"/>
                </a:lnTo>
                <a:lnTo>
                  <a:pt x="3261" y="1546"/>
                </a:lnTo>
                <a:lnTo>
                  <a:pt x="3263" y="1631"/>
                </a:lnTo>
                <a:lnTo>
                  <a:pt x="3261" y="1714"/>
                </a:lnTo>
                <a:lnTo>
                  <a:pt x="3254" y="1796"/>
                </a:lnTo>
                <a:lnTo>
                  <a:pt x="3244" y="1877"/>
                </a:lnTo>
                <a:lnTo>
                  <a:pt x="3230" y="1957"/>
                </a:lnTo>
                <a:lnTo>
                  <a:pt x="3211" y="2036"/>
                </a:lnTo>
                <a:lnTo>
                  <a:pt x="3190" y="2114"/>
                </a:lnTo>
                <a:lnTo>
                  <a:pt x="3163" y="2190"/>
                </a:lnTo>
                <a:lnTo>
                  <a:pt x="3134" y="2263"/>
                </a:lnTo>
                <a:lnTo>
                  <a:pt x="3102" y="2335"/>
                </a:lnTo>
                <a:lnTo>
                  <a:pt x="3065" y="2405"/>
                </a:lnTo>
                <a:lnTo>
                  <a:pt x="3026" y="2474"/>
                </a:lnTo>
                <a:lnTo>
                  <a:pt x="2984" y="2540"/>
                </a:lnTo>
                <a:lnTo>
                  <a:pt x="2938" y="2604"/>
                </a:lnTo>
                <a:lnTo>
                  <a:pt x="2889" y="2665"/>
                </a:lnTo>
                <a:lnTo>
                  <a:pt x="2838" y="2724"/>
                </a:lnTo>
                <a:lnTo>
                  <a:pt x="2783" y="2781"/>
                </a:lnTo>
                <a:lnTo>
                  <a:pt x="2728" y="2835"/>
                </a:lnTo>
                <a:lnTo>
                  <a:pt x="2668" y="2886"/>
                </a:lnTo>
                <a:lnTo>
                  <a:pt x="2606" y="2935"/>
                </a:lnTo>
                <a:lnTo>
                  <a:pt x="2542" y="2981"/>
                </a:lnTo>
                <a:lnTo>
                  <a:pt x="2476" y="3023"/>
                </a:lnTo>
                <a:lnTo>
                  <a:pt x="2407" y="3062"/>
                </a:lnTo>
                <a:lnTo>
                  <a:pt x="2337" y="3099"/>
                </a:lnTo>
                <a:lnTo>
                  <a:pt x="2265" y="3131"/>
                </a:lnTo>
                <a:lnTo>
                  <a:pt x="2191" y="3160"/>
                </a:lnTo>
                <a:lnTo>
                  <a:pt x="2116" y="3185"/>
                </a:lnTo>
                <a:lnTo>
                  <a:pt x="2038" y="3208"/>
                </a:lnTo>
                <a:lnTo>
                  <a:pt x="1960" y="3226"/>
                </a:lnTo>
                <a:lnTo>
                  <a:pt x="1879" y="3241"/>
                </a:lnTo>
                <a:lnTo>
                  <a:pt x="1797" y="3251"/>
                </a:lnTo>
                <a:lnTo>
                  <a:pt x="1715" y="3258"/>
                </a:lnTo>
                <a:lnTo>
                  <a:pt x="1631" y="3260"/>
                </a:lnTo>
                <a:lnTo>
                  <a:pt x="1547" y="3258"/>
                </a:lnTo>
                <a:lnTo>
                  <a:pt x="1465" y="3251"/>
                </a:lnTo>
                <a:lnTo>
                  <a:pt x="1383" y="3241"/>
                </a:lnTo>
                <a:lnTo>
                  <a:pt x="1303" y="3226"/>
                </a:lnTo>
                <a:lnTo>
                  <a:pt x="1224" y="3208"/>
                </a:lnTo>
                <a:lnTo>
                  <a:pt x="1147" y="3185"/>
                </a:lnTo>
                <a:lnTo>
                  <a:pt x="1072" y="3160"/>
                </a:lnTo>
                <a:lnTo>
                  <a:pt x="997" y="3131"/>
                </a:lnTo>
                <a:lnTo>
                  <a:pt x="925" y="3099"/>
                </a:lnTo>
                <a:lnTo>
                  <a:pt x="855" y="3062"/>
                </a:lnTo>
                <a:lnTo>
                  <a:pt x="787" y="3023"/>
                </a:lnTo>
                <a:lnTo>
                  <a:pt x="720" y="2981"/>
                </a:lnTo>
                <a:lnTo>
                  <a:pt x="656" y="2935"/>
                </a:lnTo>
                <a:lnTo>
                  <a:pt x="594" y="2886"/>
                </a:lnTo>
                <a:lnTo>
                  <a:pt x="535" y="2835"/>
                </a:lnTo>
                <a:lnTo>
                  <a:pt x="478" y="2781"/>
                </a:lnTo>
                <a:lnTo>
                  <a:pt x="424" y="2724"/>
                </a:lnTo>
                <a:lnTo>
                  <a:pt x="373" y="2665"/>
                </a:lnTo>
                <a:lnTo>
                  <a:pt x="325" y="2604"/>
                </a:lnTo>
                <a:lnTo>
                  <a:pt x="279" y="2540"/>
                </a:lnTo>
                <a:lnTo>
                  <a:pt x="236" y="2474"/>
                </a:lnTo>
                <a:lnTo>
                  <a:pt x="197" y="2405"/>
                </a:lnTo>
                <a:lnTo>
                  <a:pt x="161" y="2335"/>
                </a:lnTo>
                <a:lnTo>
                  <a:pt x="128" y="2263"/>
                </a:lnTo>
                <a:lnTo>
                  <a:pt x="99" y="2190"/>
                </a:lnTo>
                <a:lnTo>
                  <a:pt x="73" y="2114"/>
                </a:lnTo>
                <a:lnTo>
                  <a:pt x="51" y="2036"/>
                </a:lnTo>
                <a:lnTo>
                  <a:pt x="33" y="1957"/>
                </a:lnTo>
                <a:lnTo>
                  <a:pt x="19" y="1877"/>
                </a:lnTo>
                <a:lnTo>
                  <a:pt x="8" y="1796"/>
                </a:lnTo>
                <a:lnTo>
                  <a:pt x="2" y="1714"/>
                </a:lnTo>
                <a:lnTo>
                  <a:pt x="0" y="1631"/>
                </a:lnTo>
                <a:lnTo>
                  <a:pt x="2" y="1546"/>
                </a:lnTo>
                <a:lnTo>
                  <a:pt x="8" y="1464"/>
                </a:lnTo>
                <a:lnTo>
                  <a:pt x="19" y="1383"/>
                </a:lnTo>
                <a:lnTo>
                  <a:pt x="33" y="1303"/>
                </a:lnTo>
                <a:lnTo>
                  <a:pt x="51" y="1224"/>
                </a:lnTo>
                <a:lnTo>
                  <a:pt x="73" y="1146"/>
                </a:lnTo>
                <a:lnTo>
                  <a:pt x="99" y="1070"/>
                </a:lnTo>
                <a:lnTo>
                  <a:pt x="128" y="997"/>
                </a:lnTo>
                <a:lnTo>
                  <a:pt x="161" y="925"/>
                </a:lnTo>
                <a:lnTo>
                  <a:pt x="197" y="855"/>
                </a:lnTo>
                <a:lnTo>
                  <a:pt x="236" y="786"/>
                </a:lnTo>
                <a:lnTo>
                  <a:pt x="279" y="720"/>
                </a:lnTo>
                <a:lnTo>
                  <a:pt x="325" y="656"/>
                </a:lnTo>
                <a:lnTo>
                  <a:pt x="373" y="595"/>
                </a:lnTo>
                <a:lnTo>
                  <a:pt x="424" y="536"/>
                </a:lnTo>
                <a:lnTo>
                  <a:pt x="478" y="479"/>
                </a:lnTo>
                <a:lnTo>
                  <a:pt x="535" y="425"/>
                </a:lnTo>
                <a:lnTo>
                  <a:pt x="594" y="374"/>
                </a:lnTo>
                <a:lnTo>
                  <a:pt x="656" y="325"/>
                </a:lnTo>
                <a:lnTo>
                  <a:pt x="720" y="279"/>
                </a:lnTo>
                <a:lnTo>
                  <a:pt x="787" y="237"/>
                </a:lnTo>
                <a:lnTo>
                  <a:pt x="855" y="198"/>
                </a:lnTo>
                <a:lnTo>
                  <a:pt x="925" y="161"/>
                </a:lnTo>
                <a:lnTo>
                  <a:pt x="997" y="129"/>
                </a:lnTo>
                <a:lnTo>
                  <a:pt x="1072" y="100"/>
                </a:lnTo>
                <a:lnTo>
                  <a:pt x="1147" y="75"/>
                </a:lnTo>
                <a:lnTo>
                  <a:pt x="1224" y="52"/>
                </a:lnTo>
                <a:lnTo>
                  <a:pt x="1303" y="34"/>
                </a:lnTo>
                <a:lnTo>
                  <a:pt x="1383" y="19"/>
                </a:lnTo>
                <a:lnTo>
                  <a:pt x="1465" y="9"/>
                </a:lnTo>
                <a:lnTo>
                  <a:pt x="1547" y="2"/>
                </a:lnTo>
                <a:lnTo>
                  <a:pt x="1631"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4992840" y="3414600"/>
            <a:ext cx="1295280" cy="1293840"/>
          </a:xfrm>
          <a:custGeom>
            <a:avLst/>
            <a:gdLst/>
            <a:ahLst/>
            <a:rect l="l" t="t" r="r" b="b"/>
            <a:pathLst>
              <a:path w="3263" h="3260">
                <a:moveTo>
                  <a:pt x="1631" y="0"/>
                </a:moveTo>
                <a:lnTo>
                  <a:pt x="1673" y="1"/>
                </a:lnTo>
                <a:lnTo>
                  <a:pt x="1715" y="2"/>
                </a:lnTo>
                <a:lnTo>
                  <a:pt x="1756" y="6"/>
                </a:lnTo>
                <a:lnTo>
                  <a:pt x="1797" y="9"/>
                </a:lnTo>
                <a:lnTo>
                  <a:pt x="1838" y="14"/>
                </a:lnTo>
                <a:lnTo>
                  <a:pt x="1879" y="19"/>
                </a:lnTo>
                <a:lnTo>
                  <a:pt x="1920" y="26"/>
                </a:lnTo>
                <a:lnTo>
                  <a:pt x="1960" y="34"/>
                </a:lnTo>
                <a:lnTo>
                  <a:pt x="1999" y="42"/>
                </a:lnTo>
                <a:lnTo>
                  <a:pt x="2038" y="52"/>
                </a:lnTo>
                <a:lnTo>
                  <a:pt x="2077" y="62"/>
                </a:lnTo>
                <a:lnTo>
                  <a:pt x="2116" y="75"/>
                </a:lnTo>
                <a:lnTo>
                  <a:pt x="2153" y="87"/>
                </a:lnTo>
                <a:lnTo>
                  <a:pt x="2191" y="100"/>
                </a:lnTo>
                <a:lnTo>
                  <a:pt x="2228" y="114"/>
                </a:lnTo>
                <a:lnTo>
                  <a:pt x="2265" y="129"/>
                </a:lnTo>
                <a:lnTo>
                  <a:pt x="2301" y="145"/>
                </a:lnTo>
                <a:lnTo>
                  <a:pt x="2337" y="161"/>
                </a:lnTo>
                <a:lnTo>
                  <a:pt x="2373" y="179"/>
                </a:lnTo>
                <a:lnTo>
                  <a:pt x="2407" y="198"/>
                </a:lnTo>
                <a:lnTo>
                  <a:pt x="2442" y="217"/>
                </a:lnTo>
                <a:lnTo>
                  <a:pt x="2476" y="237"/>
                </a:lnTo>
                <a:lnTo>
                  <a:pt x="2510" y="258"/>
                </a:lnTo>
                <a:lnTo>
                  <a:pt x="2542" y="279"/>
                </a:lnTo>
                <a:lnTo>
                  <a:pt x="2574" y="302"/>
                </a:lnTo>
                <a:lnTo>
                  <a:pt x="2606" y="325"/>
                </a:lnTo>
                <a:lnTo>
                  <a:pt x="2638" y="349"/>
                </a:lnTo>
                <a:lnTo>
                  <a:pt x="2668" y="374"/>
                </a:lnTo>
                <a:lnTo>
                  <a:pt x="2698" y="399"/>
                </a:lnTo>
                <a:lnTo>
                  <a:pt x="2728" y="425"/>
                </a:lnTo>
                <a:lnTo>
                  <a:pt x="2756" y="451"/>
                </a:lnTo>
                <a:lnTo>
                  <a:pt x="2783" y="479"/>
                </a:lnTo>
                <a:lnTo>
                  <a:pt x="2811" y="507"/>
                </a:lnTo>
                <a:lnTo>
                  <a:pt x="2838" y="536"/>
                </a:lnTo>
                <a:lnTo>
                  <a:pt x="2864" y="565"/>
                </a:lnTo>
                <a:lnTo>
                  <a:pt x="2889" y="595"/>
                </a:lnTo>
                <a:lnTo>
                  <a:pt x="2914" y="625"/>
                </a:lnTo>
                <a:lnTo>
                  <a:pt x="2938" y="656"/>
                </a:lnTo>
                <a:lnTo>
                  <a:pt x="2961" y="688"/>
                </a:lnTo>
                <a:lnTo>
                  <a:pt x="2984" y="720"/>
                </a:lnTo>
                <a:lnTo>
                  <a:pt x="3005" y="753"/>
                </a:lnTo>
                <a:lnTo>
                  <a:pt x="3026" y="786"/>
                </a:lnTo>
                <a:lnTo>
                  <a:pt x="3046" y="820"/>
                </a:lnTo>
                <a:lnTo>
                  <a:pt x="3065" y="855"/>
                </a:lnTo>
                <a:lnTo>
                  <a:pt x="3084" y="889"/>
                </a:lnTo>
                <a:lnTo>
                  <a:pt x="3102" y="925"/>
                </a:lnTo>
                <a:lnTo>
                  <a:pt x="3118" y="960"/>
                </a:lnTo>
                <a:lnTo>
                  <a:pt x="3134" y="997"/>
                </a:lnTo>
                <a:lnTo>
                  <a:pt x="3150" y="1034"/>
                </a:lnTo>
                <a:lnTo>
                  <a:pt x="3163" y="1070"/>
                </a:lnTo>
                <a:lnTo>
                  <a:pt x="3176" y="1108"/>
                </a:lnTo>
                <a:lnTo>
                  <a:pt x="3190" y="1146"/>
                </a:lnTo>
                <a:lnTo>
                  <a:pt x="3201" y="1185"/>
                </a:lnTo>
                <a:lnTo>
                  <a:pt x="3211" y="1224"/>
                </a:lnTo>
                <a:lnTo>
                  <a:pt x="3221" y="1263"/>
                </a:lnTo>
                <a:lnTo>
                  <a:pt x="3230" y="1303"/>
                </a:lnTo>
                <a:lnTo>
                  <a:pt x="3238" y="1343"/>
                </a:lnTo>
                <a:lnTo>
                  <a:pt x="3244" y="1383"/>
                </a:lnTo>
                <a:lnTo>
                  <a:pt x="3250" y="1423"/>
                </a:lnTo>
                <a:lnTo>
                  <a:pt x="3254" y="1464"/>
                </a:lnTo>
                <a:lnTo>
                  <a:pt x="3258" y="1505"/>
                </a:lnTo>
                <a:lnTo>
                  <a:pt x="3261" y="1546"/>
                </a:lnTo>
                <a:lnTo>
                  <a:pt x="3262" y="1588"/>
                </a:lnTo>
                <a:lnTo>
                  <a:pt x="3263" y="1631"/>
                </a:lnTo>
                <a:lnTo>
                  <a:pt x="3262" y="1672"/>
                </a:lnTo>
                <a:lnTo>
                  <a:pt x="3261" y="1714"/>
                </a:lnTo>
                <a:lnTo>
                  <a:pt x="3258" y="1755"/>
                </a:lnTo>
                <a:lnTo>
                  <a:pt x="3254" y="1796"/>
                </a:lnTo>
                <a:lnTo>
                  <a:pt x="3250" y="1837"/>
                </a:lnTo>
                <a:lnTo>
                  <a:pt x="3244" y="1877"/>
                </a:lnTo>
                <a:lnTo>
                  <a:pt x="3238" y="1917"/>
                </a:lnTo>
                <a:lnTo>
                  <a:pt x="3230" y="1957"/>
                </a:lnTo>
                <a:lnTo>
                  <a:pt x="3221" y="1997"/>
                </a:lnTo>
                <a:lnTo>
                  <a:pt x="3211" y="2036"/>
                </a:lnTo>
                <a:lnTo>
                  <a:pt x="3201" y="2075"/>
                </a:lnTo>
                <a:lnTo>
                  <a:pt x="3190" y="2114"/>
                </a:lnTo>
                <a:lnTo>
                  <a:pt x="3176" y="2152"/>
                </a:lnTo>
                <a:lnTo>
                  <a:pt x="3163" y="2190"/>
                </a:lnTo>
                <a:lnTo>
                  <a:pt x="3150" y="2226"/>
                </a:lnTo>
                <a:lnTo>
                  <a:pt x="3134" y="2263"/>
                </a:lnTo>
                <a:lnTo>
                  <a:pt x="3118" y="2300"/>
                </a:lnTo>
                <a:lnTo>
                  <a:pt x="3102" y="2335"/>
                </a:lnTo>
                <a:lnTo>
                  <a:pt x="3084" y="2371"/>
                </a:lnTo>
                <a:lnTo>
                  <a:pt x="3065" y="2405"/>
                </a:lnTo>
                <a:lnTo>
                  <a:pt x="3046" y="2440"/>
                </a:lnTo>
                <a:lnTo>
                  <a:pt x="3026" y="2474"/>
                </a:lnTo>
                <a:lnTo>
                  <a:pt x="3005" y="2507"/>
                </a:lnTo>
                <a:lnTo>
                  <a:pt x="2984" y="2540"/>
                </a:lnTo>
                <a:lnTo>
                  <a:pt x="2961" y="2572"/>
                </a:lnTo>
                <a:lnTo>
                  <a:pt x="2938" y="2604"/>
                </a:lnTo>
                <a:lnTo>
                  <a:pt x="2914" y="2635"/>
                </a:lnTo>
                <a:lnTo>
                  <a:pt x="2889" y="2665"/>
                </a:lnTo>
                <a:lnTo>
                  <a:pt x="2864" y="2695"/>
                </a:lnTo>
                <a:lnTo>
                  <a:pt x="2838" y="2724"/>
                </a:lnTo>
                <a:lnTo>
                  <a:pt x="2811" y="2753"/>
                </a:lnTo>
                <a:lnTo>
                  <a:pt x="2783" y="2781"/>
                </a:lnTo>
                <a:lnTo>
                  <a:pt x="2756" y="2809"/>
                </a:lnTo>
                <a:lnTo>
                  <a:pt x="2728" y="2835"/>
                </a:lnTo>
                <a:lnTo>
                  <a:pt x="2698" y="2861"/>
                </a:lnTo>
                <a:lnTo>
                  <a:pt x="2668" y="2886"/>
                </a:lnTo>
                <a:lnTo>
                  <a:pt x="2638" y="2911"/>
                </a:lnTo>
                <a:lnTo>
                  <a:pt x="2606" y="2935"/>
                </a:lnTo>
                <a:lnTo>
                  <a:pt x="2574" y="2958"/>
                </a:lnTo>
                <a:lnTo>
                  <a:pt x="2542" y="2981"/>
                </a:lnTo>
                <a:lnTo>
                  <a:pt x="2510" y="3002"/>
                </a:lnTo>
                <a:lnTo>
                  <a:pt x="2476" y="3023"/>
                </a:lnTo>
                <a:lnTo>
                  <a:pt x="2442" y="3043"/>
                </a:lnTo>
                <a:lnTo>
                  <a:pt x="2407" y="3062"/>
                </a:lnTo>
                <a:lnTo>
                  <a:pt x="2373" y="3081"/>
                </a:lnTo>
                <a:lnTo>
                  <a:pt x="2337" y="3099"/>
                </a:lnTo>
                <a:lnTo>
                  <a:pt x="2301" y="3115"/>
                </a:lnTo>
                <a:lnTo>
                  <a:pt x="2265" y="3131"/>
                </a:lnTo>
                <a:lnTo>
                  <a:pt x="2228" y="3146"/>
                </a:lnTo>
                <a:lnTo>
                  <a:pt x="2191" y="3160"/>
                </a:lnTo>
                <a:lnTo>
                  <a:pt x="2153" y="3173"/>
                </a:lnTo>
                <a:lnTo>
                  <a:pt x="2116" y="3185"/>
                </a:lnTo>
                <a:lnTo>
                  <a:pt x="2077" y="3198"/>
                </a:lnTo>
                <a:lnTo>
                  <a:pt x="2038" y="3208"/>
                </a:lnTo>
                <a:lnTo>
                  <a:pt x="1999" y="3218"/>
                </a:lnTo>
                <a:lnTo>
                  <a:pt x="1960" y="3226"/>
                </a:lnTo>
                <a:lnTo>
                  <a:pt x="1920" y="3234"/>
                </a:lnTo>
                <a:lnTo>
                  <a:pt x="1879" y="3241"/>
                </a:lnTo>
                <a:lnTo>
                  <a:pt x="1838" y="3246"/>
                </a:lnTo>
                <a:lnTo>
                  <a:pt x="1797" y="3251"/>
                </a:lnTo>
                <a:lnTo>
                  <a:pt x="1756" y="3254"/>
                </a:lnTo>
                <a:lnTo>
                  <a:pt x="1715" y="3258"/>
                </a:lnTo>
                <a:lnTo>
                  <a:pt x="1673" y="3259"/>
                </a:lnTo>
                <a:lnTo>
                  <a:pt x="1631" y="3260"/>
                </a:lnTo>
                <a:lnTo>
                  <a:pt x="1589" y="3259"/>
                </a:lnTo>
                <a:lnTo>
                  <a:pt x="1547" y="3258"/>
                </a:lnTo>
                <a:lnTo>
                  <a:pt x="1506" y="3254"/>
                </a:lnTo>
                <a:lnTo>
                  <a:pt x="1465" y="3251"/>
                </a:lnTo>
                <a:lnTo>
                  <a:pt x="1423" y="3246"/>
                </a:lnTo>
                <a:lnTo>
                  <a:pt x="1383" y="3241"/>
                </a:lnTo>
                <a:lnTo>
                  <a:pt x="1343" y="3234"/>
                </a:lnTo>
                <a:lnTo>
                  <a:pt x="1303" y="3226"/>
                </a:lnTo>
                <a:lnTo>
                  <a:pt x="1263" y="3218"/>
                </a:lnTo>
                <a:lnTo>
                  <a:pt x="1224" y="3208"/>
                </a:lnTo>
                <a:lnTo>
                  <a:pt x="1185" y="3198"/>
                </a:lnTo>
                <a:lnTo>
                  <a:pt x="1147" y="3185"/>
                </a:lnTo>
                <a:lnTo>
                  <a:pt x="1108" y="3173"/>
                </a:lnTo>
                <a:lnTo>
                  <a:pt x="1072" y="3160"/>
                </a:lnTo>
                <a:lnTo>
                  <a:pt x="1034" y="3146"/>
                </a:lnTo>
                <a:lnTo>
                  <a:pt x="997" y="3131"/>
                </a:lnTo>
                <a:lnTo>
                  <a:pt x="960" y="3115"/>
                </a:lnTo>
                <a:lnTo>
                  <a:pt x="925" y="3099"/>
                </a:lnTo>
                <a:lnTo>
                  <a:pt x="889" y="3081"/>
                </a:lnTo>
                <a:lnTo>
                  <a:pt x="855" y="3062"/>
                </a:lnTo>
                <a:lnTo>
                  <a:pt x="820" y="3043"/>
                </a:lnTo>
                <a:lnTo>
                  <a:pt x="787" y="3023"/>
                </a:lnTo>
                <a:lnTo>
                  <a:pt x="753" y="3002"/>
                </a:lnTo>
                <a:lnTo>
                  <a:pt x="720" y="2981"/>
                </a:lnTo>
                <a:lnTo>
                  <a:pt x="688" y="2958"/>
                </a:lnTo>
                <a:lnTo>
                  <a:pt x="656" y="2935"/>
                </a:lnTo>
                <a:lnTo>
                  <a:pt x="625" y="2911"/>
                </a:lnTo>
                <a:lnTo>
                  <a:pt x="594" y="2886"/>
                </a:lnTo>
                <a:lnTo>
                  <a:pt x="564" y="2861"/>
                </a:lnTo>
                <a:lnTo>
                  <a:pt x="535" y="2835"/>
                </a:lnTo>
                <a:lnTo>
                  <a:pt x="506" y="2809"/>
                </a:lnTo>
                <a:lnTo>
                  <a:pt x="478" y="2781"/>
                </a:lnTo>
                <a:lnTo>
                  <a:pt x="451" y="2753"/>
                </a:lnTo>
                <a:lnTo>
                  <a:pt x="424" y="2724"/>
                </a:lnTo>
                <a:lnTo>
                  <a:pt x="398" y="2695"/>
                </a:lnTo>
                <a:lnTo>
                  <a:pt x="373" y="2665"/>
                </a:lnTo>
                <a:lnTo>
                  <a:pt x="348" y="2635"/>
                </a:lnTo>
                <a:lnTo>
                  <a:pt x="325" y="2604"/>
                </a:lnTo>
                <a:lnTo>
                  <a:pt x="301" y="2572"/>
                </a:lnTo>
                <a:lnTo>
                  <a:pt x="279" y="2540"/>
                </a:lnTo>
                <a:lnTo>
                  <a:pt x="257" y="2507"/>
                </a:lnTo>
                <a:lnTo>
                  <a:pt x="236" y="2474"/>
                </a:lnTo>
                <a:lnTo>
                  <a:pt x="216" y="2440"/>
                </a:lnTo>
                <a:lnTo>
                  <a:pt x="197" y="2405"/>
                </a:lnTo>
                <a:lnTo>
                  <a:pt x="178" y="2371"/>
                </a:lnTo>
                <a:lnTo>
                  <a:pt x="161" y="2335"/>
                </a:lnTo>
                <a:lnTo>
                  <a:pt x="144" y="2300"/>
                </a:lnTo>
                <a:lnTo>
                  <a:pt x="128" y="2263"/>
                </a:lnTo>
                <a:lnTo>
                  <a:pt x="113" y="2226"/>
                </a:lnTo>
                <a:lnTo>
                  <a:pt x="99" y="2190"/>
                </a:lnTo>
                <a:lnTo>
                  <a:pt x="86" y="2152"/>
                </a:lnTo>
                <a:lnTo>
                  <a:pt x="73" y="2114"/>
                </a:lnTo>
                <a:lnTo>
                  <a:pt x="61" y="2075"/>
                </a:lnTo>
                <a:lnTo>
                  <a:pt x="51" y="2036"/>
                </a:lnTo>
                <a:lnTo>
                  <a:pt x="41" y="1997"/>
                </a:lnTo>
                <a:lnTo>
                  <a:pt x="33" y="1957"/>
                </a:lnTo>
                <a:lnTo>
                  <a:pt x="25" y="1917"/>
                </a:lnTo>
                <a:lnTo>
                  <a:pt x="19" y="1877"/>
                </a:lnTo>
                <a:lnTo>
                  <a:pt x="13" y="1837"/>
                </a:lnTo>
                <a:lnTo>
                  <a:pt x="8" y="1796"/>
                </a:lnTo>
                <a:lnTo>
                  <a:pt x="4" y="1755"/>
                </a:lnTo>
                <a:lnTo>
                  <a:pt x="2" y="1714"/>
                </a:lnTo>
                <a:lnTo>
                  <a:pt x="0" y="1672"/>
                </a:lnTo>
                <a:lnTo>
                  <a:pt x="0" y="1631"/>
                </a:lnTo>
                <a:lnTo>
                  <a:pt x="0" y="1588"/>
                </a:lnTo>
                <a:lnTo>
                  <a:pt x="2" y="1546"/>
                </a:lnTo>
                <a:lnTo>
                  <a:pt x="4" y="1505"/>
                </a:lnTo>
                <a:lnTo>
                  <a:pt x="8" y="1464"/>
                </a:lnTo>
                <a:lnTo>
                  <a:pt x="13" y="1423"/>
                </a:lnTo>
                <a:lnTo>
                  <a:pt x="19" y="1383"/>
                </a:lnTo>
                <a:lnTo>
                  <a:pt x="25" y="1343"/>
                </a:lnTo>
                <a:lnTo>
                  <a:pt x="33" y="1303"/>
                </a:lnTo>
                <a:lnTo>
                  <a:pt x="41" y="1263"/>
                </a:lnTo>
                <a:lnTo>
                  <a:pt x="51" y="1224"/>
                </a:lnTo>
                <a:lnTo>
                  <a:pt x="61" y="1185"/>
                </a:lnTo>
                <a:lnTo>
                  <a:pt x="73" y="1146"/>
                </a:lnTo>
                <a:lnTo>
                  <a:pt x="86" y="1108"/>
                </a:lnTo>
                <a:lnTo>
                  <a:pt x="99" y="1070"/>
                </a:lnTo>
                <a:lnTo>
                  <a:pt x="113" y="1034"/>
                </a:lnTo>
                <a:lnTo>
                  <a:pt x="128" y="997"/>
                </a:lnTo>
                <a:lnTo>
                  <a:pt x="144" y="960"/>
                </a:lnTo>
                <a:lnTo>
                  <a:pt x="161" y="925"/>
                </a:lnTo>
                <a:lnTo>
                  <a:pt x="178" y="889"/>
                </a:lnTo>
                <a:lnTo>
                  <a:pt x="197" y="855"/>
                </a:lnTo>
                <a:lnTo>
                  <a:pt x="216" y="820"/>
                </a:lnTo>
                <a:lnTo>
                  <a:pt x="236" y="786"/>
                </a:lnTo>
                <a:lnTo>
                  <a:pt x="257" y="753"/>
                </a:lnTo>
                <a:lnTo>
                  <a:pt x="279" y="720"/>
                </a:lnTo>
                <a:lnTo>
                  <a:pt x="301" y="688"/>
                </a:lnTo>
                <a:lnTo>
                  <a:pt x="325" y="656"/>
                </a:lnTo>
                <a:lnTo>
                  <a:pt x="348" y="625"/>
                </a:lnTo>
                <a:lnTo>
                  <a:pt x="373" y="595"/>
                </a:lnTo>
                <a:lnTo>
                  <a:pt x="398" y="565"/>
                </a:lnTo>
                <a:lnTo>
                  <a:pt x="424" y="536"/>
                </a:lnTo>
                <a:lnTo>
                  <a:pt x="451" y="507"/>
                </a:lnTo>
                <a:lnTo>
                  <a:pt x="478" y="479"/>
                </a:lnTo>
                <a:lnTo>
                  <a:pt x="506" y="451"/>
                </a:lnTo>
                <a:lnTo>
                  <a:pt x="535" y="425"/>
                </a:lnTo>
                <a:lnTo>
                  <a:pt x="564" y="399"/>
                </a:lnTo>
                <a:lnTo>
                  <a:pt x="594" y="374"/>
                </a:lnTo>
                <a:lnTo>
                  <a:pt x="625" y="349"/>
                </a:lnTo>
                <a:lnTo>
                  <a:pt x="656" y="325"/>
                </a:lnTo>
                <a:lnTo>
                  <a:pt x="688" y="302"/>
                </a:lnTo>
                <a:lnTo>
                  <a:pt x="720" y="279"/>
                </a:lnTo>
                <a:lnTo>
                  <a:pt x="753" y="258"/>
                </a:lnTo>
                <a:lnTo>
                  <a:pt x="787" y="237"/>
                </a:lnTo>
                <a:lnTo>
                  <a:pt x="820" y="217"/>
                </a:lnTo>
                <a:lnTo>
                  <a:pt x="855" y="198"/>
                </a:lnTo>
                <a:lnTo>
                  <a:pt x="889" y="179"/>
                </a:lnTo>
                <a:lnTo>
                  <a:pt x="925" y="161"/>
                </a:lnTo>
                <a:lnTo>
                  <a:pt x="960" y="145"/>
                </a:lnTo>
                <a:lnTo>
                  <a:pt x="997" y="129"/>
                </a:lnTo>
                <a:lnTo>
                  <a:pt x="1034" y="114"/>
                </a:lnTo>
                <a:lnTo>
                  <a:pt x="1072" y="100"/>
                </a:lnTo>
                <a:lnTo>
                  <a:pt x="1108" y="87"/>
                </a:lnTo>
                <a:lnTo>
                  <a:pt x="1147" y="75"/>
                </a:lnTo>
                <a:lnTo>
                  <a:pt x="1185" y="62"/>
                </a:lnTo>
                <a:lnTo>
                  <a:pt x="1224" y="52"/>
                </a:lnTo>
                <a:lnTo>
                  <a:pt x="1263" y="42"/>
                </a:lnTo>
                <a:lnTo>
                  <a:pt x="1303" y="34"/>
                </a:lnTo>
                <a:lnTo>
                  <a:pt x="1343" y="26"/>
                </a:lnTo>
                <a:lnTo>
                  <a:pt x="1383" y="19"/>
                </a:lnTo>
                <a:lnTo>
                  <a:pt x="1423" y="14"/>
                </a:lnTo>
                <a:lnTo>
                  <a:pt x="1465" y="9"/>
                </a:lnTo>
                <a:lnTo>
                  <a:pt x="1506" y="6"/>
                </a:lnTo>
                <a:lnTo>
                  <a:pt x="1547" y="2"/>
                </a:lnTo>
                <a:lnTo>
                  <a:pt x="1589" y="1"/>
                </a:lnTo>
                <a:lnTo>
                  <a:pt x="163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5043600" y="3465360"/>
            <a:ext cx="1193760" cy="1192320"/>
          </a:xfrm>
          <a:custGeom>
            <a:avLst/>
            <a:gdLst/>
            <a:ahLst/>
            <a:rect l="l" t="t" r="r" b="b"/>
            <a:pathLst>
              <a:path w="3006" h="3002">
                <a:moveTo>
                  <a:pt x="1503" y="0"/>
                </a:moveTo>
                <a:lnTo>
                  <a:pt x="1580" y="2"/>
                </a:lnTo>
                <a:lnTo>
                  <a:pt x="1656" y="8"/>
                </a:lnTo>
                <a:lnTo>
                  <a:pt x="1732" y="18"/>
                </a:lnTo>
                <a:lnTo>
                  <a:pt x="1805" y="30"/>
                </a:lnTo>
                <a:lnTo>
                  <a:pt x="1879" y="48"/>
                </a:lnTo>
                <a:lnTo>
                  <a:pt x="1950" y="68"/>
                </a:lnTo>
                <a:lnTo>
                  <a:pt x="2019" y="91"/>
                </a:lnTo>
                <a:lnTo>
                  <a:pt x="2088" y="118"/>
                </a:lnTo>
                <a:lnTo>
                  <a:pt x="2153" y="148"/>
                </a:lnTo>
                <a:lnTo>
                  <a:pt x="2219" y="181"/>
                </a:lnTo>
                <a:lnTo>
                  <a:pt x="2281" y="218"/>
                </a:lnTo>
                <a:lnTo>
                  <a:pt x="2343" y="257"/>
                </a:lnTo>
                <a:lnTo>
                  <a:pt x="2402" y="299"/>
                </a:lnTo>
                <a:lnTo>
                  <a:pt x="2458" y="344"/>
                </a:lnTo>
                <a:lnTo>
                  <a:pt x="2513" y="390"/>
                </a:lnTo>
                <a:lnTo>
                  <a:pt x="2565" y="440"/>
                </a:lnTo>
                <a:lnTo>
                  <a:pt x="2615" y="492"/>
                </a:lnTo>
                <a:lnTo>
                  <a:pt x="2662" y="547"/>
                </a:lnTo>
                <a:lnTo>
                  <a:pt x="2707" y="604"/>
                </a:lnTo>
                <a:lnTo>
                  <a:pt x="2749" y="662"/>
                </a:lnTo>
                <a:lnTo>
                  <a:pt x="2788" y="724"/>
                </a:lnTo>
                <a:lnTo>
                  <a:pt x="2825" y="787"/>
                </a:lnTo>
                <a:lnTo>
                  <a:pt x="2858" y="851"/>
                </a:lnTo>
                <a:lnTo>
                  <a:pt x="2888" y="918"/>
                </a:lnTo>
                <a:lnTo>
                  <a:pt x="2915" y="986"/>
                </a:lnTo>
                <a:lnTo>
                  <a:pt x="2938" y="1056"/>
                </a:lnTo>
                <a:lnTo>
                  <a:pt x="2959" y="1127"/>
                </a:lnTo>
                <a:lnTo>
                  <a:pt x="2976" y="1199"/>
                </a:lnTo>
                <a:lnTo>
                  <a:pt x="2989" y="1273"/>
                </a:lnTo>
                <a:lnTo>
                  <a:pt x="2998" y="1348"/>
                </a:lnTo>
                <a:lnTo>
                  <a:pt x="3004" y="1424"/>
                </a:lnTo>
                <a:lnTo>
                  <a:pt x="3006" y="1502"/>
                </a:lnTo>
                <a:lnTo>
                  <a:pt x="3004" y="1578"/>
                </a:lnTo>
                <a:lnTo>
                  <a:pt x="2998" y="1654"/>
                </a:lnTo>
                <a:lnTo>
                  <a:pt x="2989" y="1729"/>
                </a:lnTo>
                <a:lnTo>
                  <a:pt x="2976" y="1803"/>
                </a:lnTo>
                <a:lnTo>
                  <a:pt x="2959" y="1875"/>
                </a:lnTo>
                <a:lnTo>
                  <a:pt x="2938" y="1946"/>
                </a:lnTo>
                <a:lnTo>
                  <a:pt x="2915" y="2016"/>
                </a:lnTo>
                <a:lnTo>
                  <a:pt x="2888" y="2084"/>
                </a:lnTo>
                <a:lnTo>
                  <a:pt x="2858" y="2151"/>
                </a:lnTo>
                <a:lnTo>
                  <a:pt x="2825" y="2215"/>
                </a:lnTo>
                <a:lnTo>
                  <a:pt x="2788" y="2278"/>
                </a:lnTo>
                <a:lnTo>
                  <a:pt x="2749" y="2340"/>
                </a:lnTo>
                <a:lnTo>
                  <a:pt x="2707" y="2398"/>
                </a:lnTo>
                <a:lnTo>
                  <a:pt x="2662" y="2455"/>
                </a:lnTo>
                <a:lnTo>
                  <a:pt x="2615" y="2510"/>
                </a:lnTo>
                <a:lnTo>
                  <a:pt x="2565" y="2562"/>
                </a:lnTo>
                <a:lnTo>
                  <a:pt x="2513" y="2612"/>
                </a:lnTo>
                <a:lnTo>
                  <a:pt x="2458" y="2658"/>
                </a:lnTo>
                <a:lnTo>
                  <a:pt x="2402" y="2703"/>
                </a:lnTo>
                <a:lnTo>
                  <a:pt x="2343" y="2745"/>
                </a:lnTo>
                <a:lnTo>
                  <a:pt x="2281" y="2784"/>
                </a:lnTo>
                <a:lnTo>
                  <a:pt x="2219" y="2821"/>
                </a:lnTo>
                <a:lnTo>
                  <a:pt x="2153" y="2854"/>
                </a:lnTo>
                <a:lnTo>
                  <a:pt x="2088" y="2884"/>
                </a:lnTo>
                <a:lnTo>
                  <a:pt x="2019" y="2911"/>
                </a:lnTo>
                <a:lnTo>
                  <a:pt x="1950" y="2934"/>
                </a:lnTo>
                <a:lnTo>
                  <a:pt x="1879" y="2954"/>
                </a:lnTo>
                <a:lnTo>
                  <a:pt x="1805" y="2972"/>
                </a:lnTo>
                <a:lnTo>
                  <a:pt x="1732" y="2985"/>
                </a:lnTo>
                <a:lnTo>
                  <a:pt x="1656" y="2994"/>
                </a:lnTo>
                <a:lnTo>
                  <a:pt x="1580" y="3000"/>
                </a:lnTo>
                <a:lnTo>
                  <a:pt x="1503" y="3002"/>
                </a:lnTo>
                <a:lnTo>
                  <a:pt x="1426" y="3000"/>
                </a:lnTo>
                <a:lnTo>
                  <a:pt x="1350" y="2994"/>
                </a:lnTo>
                <a:lnTo>
                  <a:pt x="1274" y="2985"/>
                </a:lnTo>
                <a:lnTo>
                  <a:pt x="1201" y="2972"/>
                </a:lnTo>
                <a:lnTo>
                  <a:pt x="1128" y="2954"/>
                </a:lnTo>
                <a:lnTo>
                  <a:pt x="1057" y="2934"/>
                </a:lnTo>
                <a:lnTo>
                  <a:pt x="987" y="2911"/>
                </a:lnTo>
                <a:lnTo>
                  <a:pt x="919" y="2884"/>
                </a:lnTo>
                <a:lnTo>
                  <a:pt x="852" y="2854"/>
                </a:lnTo>
                <a:lnTo>
                  <a:pt x="788" y="2821"/>
                </a:lnTo>
                <a:lnTo>
                  <a:pt x="724" y="2784"/>
                </a:lnTo>
                <a:lnTo>
                  <a:pt x="663" y="2745"/>
                </a:lnTo>
                <a:lnTo>
                  <a:pt x="605" y="2703"/>
                </a:lnTo>
                <a:lnTo>
                  <a:pt x="547" y="2658"/>
                </a:lnTo>
                <a:lnTo>
                  <a:pt x="493" y="2612"/>
                </a:lnTo>
                <a:lnTo>
                  <a:pt x="441" y="2562"/>
                </a:lnTo>
                <a:lnTo>
                  <a:pt x="392" y="2510"/>
                </a:lnTo>
                <a:lnTo>
                  <a:pt x="344" y="2455"/>
                </a:lnTo>
                <a:lnTo>
                  <a:pt x="299" y="2398"/>
                </a:lnTo>
                <a:lnTo>
                  <a:pt x="257" y="2340"/>
                </a:lnTo>
                <a:lnTo>
                  <a:pt x="218" y="2278"/>
                </a:lnTo>
                <a:lnTo>
                  <a:pt x="182" y="2215"/>
                </a:lnTo>
                <a:lnTo>
                  <a:pt x="149" y="2151"/>
                </a:lnTo>
                <a:lnTo>
                  <a:pt x="119" y="2084"/>
                </a:lnTo>
                <a:lnTo>
                  <a:pt x="91" y="2016"/>
                </a:lnTo>
                <a:lnTo>
                  <a:pt x="68" y="1946"/>
                </a:lnTo>
                <a:lnTo>
                  <a:pt x="48" y="1875"/>
                </a:lnTo>
                <a:lnTo>
                  <a:pt x="31" y="1803"/>
                </a:lnTo>
                <a:lnTo>
                  <a:pt x="18" y="1729"/>
                </a:lnTo>
                <a:lnTo>
                  <a:pt x="8" y="1654"/>
                </a:lnTo>
                <a:lnTo>
                  <a:pt x="2" y="1578"/>
                </a:lnTo>
                <a:lnTo>
                  <a:pt x="0" y="1502"/>
                </a:lnTo>
                <a:lnTo>
                  <a:pt x="2" y="1424"/>
                </a:lnTo>
                <a:lnTo>
                  <a:pt x="8" y="1348"/>
                </a:lnTo>
                <a:lnTo>
                  <a:pt x="18" y="1273"/>
                </a:lnTo>
                <a:lnTo>
                  <a:pt x="31" y="1199"/>
                </a:lnTo>
                <a:lnTo>
                  <a:pt x="48" y="1127"/>
                </a:lnTo>
                <a:lnTo>
                  <a:pt x="68" y="1056"/>
                </a:lnTo>
                <a:lnTo>
                  <a:pt x="91" y="986"/>
                </a:lnTo>
                <a:lnTo>
                  <a:pt x="119" y="918"/>
                </a:lnTo>
                <a:lnTo>
                  <a:pt x="149" y="851"/>
                </a:lnTo>
                <a:lnTo>
                  <a:pt x="182" y="787"/>
                </a:lnTo>
                <a:lnTo>
                  <a:pt x="218" y="724"/>
                </a:lnTo>
                <a:lnTo>
                  <a:pt x="257" y="662"/>
                </a:lnTo>
                <a:lnTo>
                  <a:pt x="299" y="604"/>
                </a:lnTo>
                <a:lnTo>
                  <a:pt x="344" y="547"/>
                </a:lnTo>
                <a:lnTo>
                  <a:pt x="392" y="492"/>
                </a:lnTo>
                <a:lnTo>
                  <a:pt x="441" y="440"/>
                </a:lnTo>
                <a:lnTo>
                  <a:pt x="493" y="390"/>
                </a:lnTo>
                <a:lnTo>
                  <a:pt x="547" y="344"/>
                </a:lnTo>
                <a:lnTo>
                  <a:pt x="605" y="299"/>
                </a:lnTo>
                <a:lnTo>
                  <a:pt x="663" y="257"/>
                </a:lnTo>
                <a:lnTo>
                  <a:pt x="724" y="218"/>
                </a:lnTo>
                <a:lnTo>
                  <a:pt x="788" y="181"/>
                </a:lnTo>
                <a:lnTo>
                  <a:pt x="852" y="148"/>
                </a:lnTo>
                <a:lnTo>
                  <a:pt x="919" y="118"/>
                </a:lnTo>
                <a:lnTo>
                  <a:pt x="987" y="91"/>
                </a:lnTo>
                <a:lnTo>
                  <a:pt x="1057" y="68"/>
                </a:lnTo>
                <a:lnTo>
                  <a:pt x="1128" y="48"/>
                </a:lnTo>
                <a:lnTo>
                  <a:pt x="1201" y="30"/>
                </a:lnTo>
                <a:lnTo>
                  <a:pt x="1274" y="18"/>
                </a:lnTo>
                <a:lnTo>
                  <a:pt x="1350" y="8"/>
                </a:lnTo>
                <a:lnTo>
                  <a:pt x="1426" y="2"/>
                </a:lnTo>
                <a:lnTo>
                  <a:pt x="1503"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5043600" y="3465360"/>
            <a:ext cx="1193760" cy="1192320"/>
          </a:xfrm>
          <a:custGeom>
            <a:avLst/>
            <a:gdLst/>
            <a:ahLst/>
            <a:rect l="l" t="t" r="r" b="b"/>
            <a:pathLst>
              <a:path w="3006" h="3002">
                <a:moveTo>
                  <a:pt x="1503" y="0"/>
                </a:moveTo>
                <a:lnTo>
                  <a:pt x="1541" y="0"/>
                </a:lnTo>
                <a:lnTo>
                  <a:pt x="1580" y="2"/>
                </a:lnTo>
                <a:lnTo>
                  <a:pt x="1618" y="5"/>
                </a:lnTo>
                <a:lnTo>
                  <a:pt x="1656" y="8"/>
                </a:lnTo>
                <a:lnTo>
                  <a:pt x="1694" y="12"/>
                </a:lnTo>
                <a:lnTo>
                  <a:pt x="1732" y="18"/>
                </a:lnTo>
                <a:lnTo>
                  <a:pt x="1768" y="23"/>
                </a:lnTo>
                <a:lnTo>
                  <a:pt x="1805" y="30"/>
                </a:lnTo>
                <a:lnTo>
                  <a:pt x="1842" y="39"/>
                </a:lnTo>
                <a:lnTo>
                  <a:pt x="1879" y="48"/>
                </a:lnTo>
                <a:lnTo>
                  <a:pt x="1914" y="57"/>
                </a:lnTo>
                <a:lnTo>
                  <a:pt x="1950" y="68"/>
                </a:lnTo>
                <a:lnTo>
                  <a:pt x="1984" y="79"/>
                </a:lnTo>
                <a:lnTo>
                  <a:pt x="2019" y="91"/>
                </a:lnTo>
                <a:lnTo>
                  <a:pt x="2053" y="105"/>
                </a:lnTo>
                <a:lnTo>
                  <a:pt x="2088" y="118"/>
                </a:lnTo>
                <a:lnTo>
                  <a:pt x="2121" y="133"/>
                </a:lnTo>
                <a:lnTo>
                  <a:pt x="2153" y="148"/>
                </a:lnTo>
                <a:lnTo>
                  <a:pt x="2187" y="165"/>
                </a:lnTo>
                <a:lnTo>
                  <a:pt x="2219" y="181"/>
                </a:lnTo>
                <a:lnTo>
                  <a:pt x="2250" y="199"/>
                </a:lnTo>
                <a:lnTo>
                  <a:pt x="2281" y="218"/>
                </a:lnTo>
                <a:lnTo>
                  <a:pt x="2313" y="237"/>
                </a:lnTo>
                <a:lnTo>
                  <a:pt x="2343" y="257"/>
                </a:lnTo>
                <a:lnTo>
                  <a:pt x="2373" y="278"/>
                </a:lnTo>
                <a:lnTo>
                  <a:pt x="2402" y="299"/>
                </a:lnTo>
                <a:lnTo>
                  <a:pt x="2431" y="321"/>
                </a:lnTo>
                <a:lnTo>
                  <a:pt x="2458" y="344"/>
                </a:lnTo>
                <a:lnTo>
                  <a:pt x="2486" y="367"/>
                </a:lnTo>
                <a:lnTo>
                  <a:pt x="2513" y="390"/>
                </a:lnTo>
                <a:lnTo>
                  <a:pt x="2540" y="416"/>
                </a:lnTo>
                <a:lnTo>
                  <a:pt x="2565" y="440"/>
                </a:lnTo>
                <a:lnTo>
                  <a:pt x="2591" y="466"/>
                </a:lnTo>
                <a:lnTo>
                  <a:pt x="2615" y="492"/>
                </a:lnTo>
                <a:lnTo>
                  <a:pt x="2639" y="519"/>
                </a:lnTo>
                <a:lnTo>
                  <a:pt x="2662" y="547"/>
                </a:lnTo>
                <a:lnTo>
                  <a:pt x="2685" y="576"/>
                </a:lnTo>
                <a:lnTo>
                  <a:pt x="2707" y="604"/>
                </a:lnTo>
                <a:lnTo>
                  <a:pt x="2729" y="634"/>
                </a:lnTo>
                <a:lnTo>
                  <a:pt x="2749" y="662"/>
                </a:lnTo>
                <a:lnTo>
                  <a:pt x="2769" y="692"/>
                </a:lnTo>
                <a:lnTo>
                  <a:pt x="2788" y="724"/>
                </a:lnTo>
                <a:lnTo>
                  <a:pt x="2807" y="755"/>
                </a:lnTo>
                <a:lnTo>
                  <a:pt x="2825" y="787"/>
                </a:lnTo>
                <a:lnTo>
                  <a:pt x="2841" y="819"/>
                </a:lnTo>
                <a:lnTo>
                  <a:pt x="2858" y="851"/>
                </a:lnTo>
                <a:lnTo>
                  <a:pt x="2874" y="885"/>
                </a:lnTo>
                <a:lnTo>
                  <a:pt x="2888" y="918"/>
                </a:lnTo>
                <a:lnTo>
                  <a:pt x="2901" y="951"/>
                </a:lnTo>
                <a:lnTo>
                  <a:pt x="2915" y="986"/>
                </a:lnTo>
                <a:lnTo>
                  <a:pt x="2927" y="1020"/>
                </a:lnTo>
                <a:lnTo>
                  <a:pt x="2938" y="1056"/>
                </a:lnTo>
                <a:lnTo>
                  <a:pt x="2949" y="1091"/>
                </a:lnTo>
                <a:lnTo>
                  <a:pt x="2959" y="1127"/>
                </a:lnTo>
                <a:lnTo>
                  <a:pt x="2968" y="1163"/>
                </a:lnTo>
                <a:lnTo>
                  <a:pt x="2976" y="1199"/>
                </a:lnTo>
                <a:lnTo>
                  <a:pt x="2983" y="1236"/>
                </a:lnTo>
                <a:lnTo>
                  <a:pt x="2989" y="1273"/>
                </a:lnTo>
                <a:lnTo>
                  <a:pt x="2994" y="1310"/>
                </a:lnTo>
                <a:lnTo>
                  <a:pt x="2998" y="1348"/>
                </a:lnTo>
                <a:lnTo>
                  <a:pt x="3002" y="1386"/>
                </a:lnTo>
                <a:lnTo>
                  <a:pt x="3004" y="1424"/>
                </a:lnTo>
                <a:lnTo>
                  <a:pt x="3006" y="1463"/>
                </a:lnTo>
                <a:lnTo>
                  <a:pt x="3006" y="1502"/>
                </a:lnTo>
                <a:lnTo>
                  <a:pt x="3006" y="1539"/>
                </a:lnTo>
                <a:lnTo>
                  <a:pt x="3004" y="1578"/>
                </a:lnTo>
                <a:lnTo>
                  <a:pt x="3002" y="1616"/>
                </a:lnTo>
                <a:lnTo>
                  <a:pt x="2998" y="1654"/>
                </a:lnTo>
                <a:lnTo>
                  <a:pt x="2994" y="1692"/>
                </a:lnTo>
                <a:lnTo>
                  <a:pt x="2989" y="1729"/>
                </a:lnTo>
                <a:lnTo>
                  <a:pt x="2983" y="1766"/>
                </a:lnTo>
                <a:lnTo>
                  <a:pt x="2976" y="1803"/>
                </a:lnTo>
                <a:lnTo>
                  <a:pt x="2968" y="1839"/>
                </a:lnTo>
                <a:lnTo>
                  <a:pt x="2959" y="1875"/>
                </a:lnTo>
                <a:lnTo>
                  <a:pt x="2949" y="1912"/>
                </a:lnTo>
                <a:lnTo>
                  <a:pt x="2938" y="1946"/>
                </a:lnTo>
                <a:lnTo>
                  <a:pt x="2927" y="1982"/>
                </a:lnTo>
                <a:lnTo>
                  <a:pt x="2915" y="2016"/>
                </a:lnTo>
                <a:lnTo>
                  <a:pt x="2901" y="2051"/>
                </a:lnTo>
                <a:lnTo>
                  <a:pt x="2888" y="2084"/>
                </a:lnTo>
                <a:lnTo>
                  <a:pt x="2874" y="2117"/>
                </a:lnTo>
                <a:lnTo>
                  <a:pt x="2858" y="2151"/>
                </a:lnTo>
                <a:lnTo>
                  <a:pt x="2841" y="2184"/>
                </a:lnTo>
                <a:lnTo>
                  <a:pt x="2825" y="2215"/>
                </a:lnTo>
                <a:lnTo>
                  <a:pt x="2807" y="2247"/>
                </a:lnTo>
                <a:lnTo>
                  <a:pt x="2788" y="2278"/>
                </a:lnTo>
                <a:lnTo>
                  <a:pt x="2769" y="2310"/>
                </a:lnTo>
                <a:lnTo>
                  <a:pt x="2749" y="2340"/>
                </a:lnTo>
                <a:lnTo>
                  <a:pt x="2729" y="2368"/>
                </a:lnTo>
                <a:lnTo>
                  <a:pt x="2707" y="2398"/>
                </a:lnTo>
                <a:lnTo>
                  <a:pt x="2685" y="2427"/>
                </a:lnTo>
                <a:lnTo>
                  <a:pt x="2662" y="2455"/>
                </a:lnTo>
                <a:lnTo>
                  <a:pt x="2639" y="2483"/>
                </a:lnTo>
                <a:lnTo>
                  <a:pt x="2615" y="2510"/>
                </a:lnTo>
                <a:lnTo>
                  <a:pt x="2591" y="2536"/>
                </a:lnTo>
                <a:lnTo>
                  <a:pt x="2565" y="2562"/>
                </a:lnTo>
                <a:lnTo>
                  <a:pt x="2540" y="2586"/>
                </a:lnTo>
                <a:lnTo>
                  <a:pt x="2513" y="2612"/>
                </a:lnTo>
                <a:lnTo>
                  <a:pt x="2486" y="2635"/>
                </a:lnTo>
                <a:lnTo>
                  <a:pt x="2458" y="2658"/>
                </a:lnTo>
                <a:lnTo>
                  <a:pt x="2431" y="2681"/>
                </a:lnTo>
                <a:lnTo>
                  <a:pt x="2402" y="2703"/>
                </a:lnTo>
                <a:lnTo>
                  <a:pt x="2373" y="2724"/>
                </a:lnTo>
                <a:lnTo>
                  <a:pt x="2343" y="2745"/>
                </a:lnTo>
                <a:lnTo>
                  <a:pt x="2313" y="2765"/>
                </a:lnTo>
                <a:lnTo>
                  <a:pt x="2281" y="2784"/>
                </a:lnTo>
                <a:lnTo>
                  <a:pt x="2250" y="2803"/>
                </a:lnTo>
                <a:lnTo>
                  <a:pt x="2219" y="2821"/>
                </a:lnTo>
                <a:lnTo>
                  <a:pt x="2187" y="2837"/>
                </a:lnTo>
                <a:lnTo>
                  <a:pt x="2153" y="2854"/>
                </a:lnTo>
                <a:lnTo>
                  <a:pt x="2121" y="2870"/>
                </a:lnTo>
                <a:lnTo>
                  <a:pt x="2088" y="2884"/>
                </a:lnTo>
                <a:lnTo>
                  <a:pt x="2053" y="2897"/>
                </a:lnTo>
                <a:lnTo>
                  <a:pt x="2019" y="2911"/>
                </a:lnTo>
                <a:lnTo>
                  <a:pt x="1984" y="2923"/>
                </a:lnTo>
                <a:lnTo>
                  <a:pt x="1950" y="2934"/>
                </a:lnTo>
                <a:lnTo>
                  <a:pt x="1914" y="2945"/>
                </a:lnTo>
                <a:lnTo>
                  <a:pt x="1879" y="2954"/>
                </a:lnTo>
                <a:lnTo>
                  <a:pt x="1842" y="2963"/>
                </a:lnTo>
                <a:lnTo>
                  <a:pt x="1805" y="2972"/>
                </a:lnTo>
                <a:lnTo>
                  <a:pt x="1768" y="2979"/>
                </a:lnTo>
                <a:lnTo>
                  <a:pt x="1732" y="2985"/>
                </a:lnTo>
                <a:lnTo>
                  <a:pt x="1694" y="2990"/>
                </a:lnTo>
                <a:lnTo>
                  <a:pt x="1656" y="2994"/>
                </a:lnTo>
                <a:lnTo>
                  <a:pt x="1618" y="2997"/>
                </a:lnTo>
                <a:lnTo>
                  <a:pt x="1580" y="3000"/>
                </a:lnTo>
                <a:lnTo>
                  <a:pt x="1541" y="3002"/>
                </a:lnTo>
                <a:lnTo>
                  <a:pt x="1503" y="3002"/>
                </a:lnTo>
                <a:lnTo>
                  <a:pt x="1465" y="3002"/>
                </a:lnTo>
                <a:lnTo>
                  <a:pt x="1426" y="3000"/>
                </a:lnTo>
                <a:lnTo>
                  <a:pt x="1388" y="2997"/>
                </a:lnTo>
                <a:lnTo>
                  <a:pt x="1350" y="2994"/>
                </a:lnTo>
                <a:lnTo>
                  <a:pt x="1312" y="2990"/>
                </a:lnTo>
                <a:lnTo>
                  <a:pt x="1274" y="2985"/>
                </a:lnTo>
                <a:lnTo>
                  <a:pt x="1237" y="2979"/>
                </a:lnTo>
                <a:lnTo>
                  <a:pt x="1201" y="2972"/>
                </a:lnTo>
                <a:lnTo>
                  <a:pt x="1164" y="2963"/>
                </a:lnTo>
                <a:lnTo>
                  <a:pt x="1128" y="2954"/>
                </a:lnTo>
                <a:lnTo>
                  <a:pt x="1093" y="2945"/>
                </a:lnTo>
                <a:lnTo>
                  <a:pt x="1057" y="2934"/>
                </a:lnTo>
                <a:lnTo>
                  <a:pt x="1022" y="2923"/>
                </a:lnTo>
                <a:lnTo>
                  <a:pt x="987" y="2911"/>
                </a:lnTo>
                <a:lnTo>
                  <a:pt x="953" y="2897"/>
                </a:lnTo>
                <a:lnTo>
                  <a:pt x="919" y="2884"/>
                </a:lnTo>
                <a:lnTo>
                  <a:pt x="886" y="2870"/>
                </a:lnTo>
                <a:lnTo>
                  <a:pt x="852" y="2854"/>
                </a:lnTo>
                <a:lnTo>
                  <a:pt x="820" y="2837"/>
                </a:lnTo>
                <a:lnTo>
                  <a:pt x="788" y="2821"/>
                </a:lnTo>
                <a:lnTo>
                  <a:pt x="756" y="2803"/>
                </a:lnTo>
                <a:lnTo>
                  <a:pt x="724" y="2784"/>
                </a:lnTo>
                <a:lnTo>
                  <a:pt x="694" y="2765"/>
                </a:lnTo>
                <a:lnTo>
                  <a:pt x="663" y="2745"/>
                </a:lnTo>
                <a:lnTo>
                  <a:pt x="634" y="2724"/>
                </a:lnTo>
                <a:lnTo>
                  <a:pt x="605" y="2703"/>
                </a:lnTo>
                <a:lnTo>
                  <a:pt x="576" y="2681"/>
                </a:lnTo>
                <a:lnTo>
                  <a:pt x="547" y="2658"/>
                </a:lnTo>
                <a:lnTo>
                  <a:pt x="521" y="2635"/>
                </a:lnTo>
                <a:lnTo>
                  <a:pt x="493" y="2612"/>
                </a:lnTo>
                <a:lnTo>
                  <a:pt x="467" y="2586"/>
                </a:lnTo>
                <a:lnTo>
                  <a:pt x="441" y="2562"/>
                </a:lnTo>
                <a:lnTo>
                  <a:pt x="416" y="2536"/>
                </a:lnTo>
                <a:lnTo>
                  <a:pt x="392" y="2510"/>
                </a:lnTo>
                <a:lnTo>
                  <a:pt x="367" y="2483"/>
                </a:lnTo>
                <a:lnTo>
                  <a:pt x="344" y="2455"/>
                </a:lnTo>
                <a:lnTo>
                  <a:pt x="321" y="2427"/>
                </a:lnTo>
                <a:lnTo>
                  <a:pt x="299" y="2398"/>
                </a:lnTo>
                <a:lnTo>
                  <a:pt x="278" y="2368"/>
                </a:lnTo>
                <a:lnTo>
                  <a:pt x="257" y="2340"/>
                </a:lnTo>
                <a:lnTo>
                  <a:pt x="237" y="2310"/>
                </a:lnTo>
                <a:lnTo>
                  <a:pt x="218" y="2278"/>
                </a:lnTo>
                <a:lnTo>
                  <a:pt x="199" y="2247"/>
                </a:lnTo>
                <a:lnTo>
                  <a:pt x="182" y="2215"/>
                </a:lnTo>
                <a:lnTo>
                  <a:pt x="165" y="2184"/>
                </a:lnTo>
                <a:lnTo>
                  <a:pt x="149" y="2151"/>
                </a:lnTo>
                <a:lnTo>
                  <a:pt x="133" y="2117"/>
                </a:lnTo>
                <a:lnTo>
                  <a:pt x="119" y="2084"/>
                </a:lnTo>
                <a:lnTo>
                  <a:pt x="104" y="2051"/>
                </a:lnTo>
                <a:lnTo>
                  <a:pt x="91" y="2016"/>
                </a:lnTo>
                <a:lnTo>
                  <a:pt x="79" y="1982"/>
                </a:lnTo>
                <a:lnTo>
                  <a:pt x="68" y="1946"/>
                </a:lnTo>
                <a:lnTo>
                  <a:pt x="58" y="1912"/>
                </a:lnTo>
                <a:lnTo>
                  <a:pt x="48" y="1875"/>
                </a:lnTo>
                <a:lnTo>
                  <a:pt x="39" y="1839"/>
                </a:lnTo>
                <a:lnTo>
                  <a:pt x="31" y="1803"/>
                </a:lnTo>
                <a:lnTo>
                  <a:pt x="23" y="1766"/>
                </a:lnTo>
                <a:lnTo>
                  <a:pt x="18" y="1729"/>
                </a:lnTo>
                <a:lnTo>
                  <a:pt x="12" y="1692"/>
                </a:lnTo>
                <a:lnTo>
                  <a:pt x="8" y="1654"/>
                </a:lnTo>
                <a:lnTo>
                  <a:pt x="4" y="1616"/>
                </a:lnTo>
                <a:lnTo>
                  <a:pt x="2" y="1578"/>
                </a:lnTo>
                <a:lnTo>
                  <a:pt x="1" y="1539"/>
                </a:lnTo>
                <a:lnTo>
                  <a:pt x="0" y="1502"/>
                </a:lnTo>
                <a:lnTo>
                  <a:pt x="1" y="1463"/>
                </a:lnTo>
                <a:lnTo>
                  <a:pt x="2" y="1424"/>
                </a:lnTo>
                <a:lnTo>
                  <a:pt x="4" y="1386"/>
                </a:lnTo>
                <a:lnTo>
                  <a:pt x="8" y="1348"/>
                </a:lnTo>
                <a:lnTo>
                  <a:pt x="12" y="1310"/>
                </a:lnTo>
                <a:lnTo>
                  <a:pt x="18" y="1273"/>
                </a:lnTo>
                <a:lnTo>
                  <a:pt x="23" y="1236"/>
                </a:lnTo>
                <a:lnTo>
                  <a:pt x="31" y="1199"/>
                </a:lnTo>
                <a:lnTo>
                  <a:pt x="39" y="1163"/>
                </a:lnTo>
                <a:lnTo>
                  <a:pt x="48" y="1127"/>
                </a:lnTo>
                <a:lnTo>
                  <a:pt x="58" y="1091"/>
                </a:lnTo>
                <a:lnTo>
                  <a:pt x="68" y="1056"/>
                </a:lnTo>
                <a:lnTo>
                  <a:pt x="79" y="1020"/>
                </a:lnTo>
                <a:lnTo>
                  <a:pt x="91" y="986"/>
                </a:lnTo>
                <a:lnTo>
                  <a:pt x="104" y="951"/>
                </a:lnTo>
                <a:lnTo>
                  <a:pt x="119" y="918"/>
                </a:lnTo>
                <a:lnTo>
                  <a:pt x="133" y="885"/>
                </a:lnTo>
                <a:lnTo>
                  <a:pt x="149" y="851"/>
                </a:lnTo>
                <a:lnTo>
                  <a:pt x="165" y="819"/>
                </a:lnTo>
                <a:lnTo>
                  <a:pt x="182" y="787"/>
                </a:lnTo>
                <a:lnTo>
                  <a:pt x="199" y="755"/>
                </a:lnTo>
                <a:lnTo>
                  <a:pt x="218" y="724"/>
                </a:lnTo>
                <a:lnTo>
                  <a:pt x="237" y="692"/>
                </a:lnTo>
                <a:lnTo>
                  <a:pt x="257" y="662"/>
                </a:lnTo>
                <a:lnTo>
                  <a:pt x="278" y="634"/>
                </a:lnTo>
                <a:lnTo>
                  <a:pt x="299" y="604"/>
                </a:lnTo>
                <a:lnTo>
                  <a:pt x="321" y="576"/>
                </a:lnTo>
                <a:lnTo>
                  <a:pt x="344" y="547"/>
                </a:lnTo>
                <a:lnTo>
                  <a:pt x="367" y="519"/>
                </a:lnTo>
                <a:lnTo>
                  <a:pt x="392" y="492"/>
                </a:lnTo>
                <a:lnTo>
                  <a:pt x="416" y="466"/>
                </a:lnTo>
                <a:lnTo>
                  <a:pt x="441" y="440"/>
                </a:lnTo>
                <a:lnTo>
                  <a:pt x="467" y="416"/>
                </a:lnTo>
                <a:lnTo>
                  <a:pt x="493" y="390"/>
                </a:lnTo>
                <a:lnTo>
                  <a:pt x="521" y="367"/>
                </a:lnTo>
                <a:lnTo>
                  <a:pt x="547" y="344"/>
                </a:lnTo>
                <a:lnTo>
                  <a:pt x="576" y="321"/>
                </a:lnTo>
                <a:lnTo>
                  <a:pt x="605" y="299"/>
                </a:lnTo>
                <a:lnTo>
                  <a:pt x="634" y="278"/>
                </a:lnTo>
                <a:lnTo>
                  <a:pt x="663" y="257"/>
                </a:lnTo>
                <a:lnTo>
                  <a:pt x="694" y="237"/>
                </a:lnTo>
                <a:lnTo>
                  <a:pt x="724" y="218"/>
                </a:lnTo>
                <a:lnTo>
                  <a:pt x="756" y="199"/>
                </a:lnTo>
                <a:lnTo>
                  <a:pt x="788" y="181"/>
                </a:lnTo>
                <a:lnTo>
                  <a:pt x="820" y="165"/>
                </a:lnTo>
                <a:lnTo>
                  <a:pt x="852" y="148"/>
                </a:lnTo>
                <a:lnTo>
                  <a:pt x="886" y="133"/>
                </a:lnTo>
                <a:lnTo>
                  <a:pt x="919" y="118"/>
                </a:lnTo>
                <a:lnTo>
                  <a:pt x="953" y="105"/>
                </a:lnTo>
                <a:lnTo>
                  <a:pt x="987" y="91"/>
                </a:lnTo>
                <a:lnTo>
                  <a:pt x="1022" y="79"/>
                </a:lnTo>
                <a:lnTo>
                  <a:pt x="1057" y="68"/>
                </a:lnTo>
                <a:lnTo>
                  <a:pt x="1093" y="57"/>
                </a:lnTo>
                <a:lnTo>
                  <a:pt x="1128" y="48"/>
                </a:lnTo>
                <a:lnTo>
                  <a:pt x="1164" y="39"/>
                </a:lnTo>
                <a:lnTo>
                  <a:pt x="1201" y="30"/>
                </a:lnTo>
                <a:lnTo>
                  <a:pt x="1237" y="23"/>
                </a:lnTo>
                <a:lnTo>
                  <a:pt x="1274" y="18"/>
                </a:lnTo>
                <a:lnTo>
                  <a:pt x="1312" y="12"/>
                </a:lnTo>
                <a:lnTo>
                  <a:pt x="1350" y="8"/>
                </a:lnTo>
                <a:lnTo>
                  <a:pt x="1388" y="5"/>
                </a:lnTo>
                <a:lnTo>
                  <a:pt x="1426" y="2"/>
                </a:lnTo>
                <a:lnTo>
                  <a:pt x="1465" y="0"/>
                </a:lnTo>
                <a:lnTo>
                  <a:pt x="1503"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1187280" y="3784680"/>
            <a:ext cx="19080" cy="19080"/>
          </a:xfrm>
          <a:custGeom>
            <a:avLst/>
            <a:gdLst/>
            <a:ahLst/>
            <a:rect l="l" t="t" r="r" b="b"/>
            <a:pathLst>
              <a:path w="50" h="48">
                <a:moveTo>
                  <a:pt x="26" y="0"/>
                </a:moveTo>
                <a:lnTo>
                  <a:pt x="28" y="0"/>
                </a:lnTo>
                <a:lnTo>
                  <a:pt x="30" y="0"/>
                </a:lnTo>
                <a:lnTo>
                  <a:pt x="32" y="1"/>
                </a:lnTo>
                <a:lnTo>
                  <a:pt x="35" y="2"/>
                </a:lnTo>
                <a:lnTo>
                  <a:pt x="37" y="2"/>
                </a:lnTo>
                <a:lnTo>
                  <a:pt x="39" y="4"/>
                </a:lnTo>
                <a:lnTo>
                  <a:pt x="41" y="5"/>
                </a:lnTo>
                <a:lnTo>
                  <a:pt x="42" y="6"/>
                </a:lnTo>
                <a:lnTo>
                  <a:pt x="45" y="8"/>
                </a:lnTo>
                <a:lnTo>
                  <a:pt x="46" y="11"/>
                </a:lnTo>
                <a:lnTo>
                  <a:pt x="47" y="13"/>
                </a:lnTo>
                <a:lnTo>
                  <a:pt x="48" y="14"/>
                </a:lnTo>
                <a:lnTo>
                  <a:pt x="49" y="16"/>
                </a:lnTo>
                <a:lnTo>
                  <a:pt x="49" y="20"/>
                </a:lnTo>
                <a:lnTo>
                  <a:pt x="50" y="22"/>
                </a:lnTo>
                <a:lnTo>
                  <a:pt x="50" y="24"/>
                </a:lnTo>
                <a:lnTo>
                  <a:pt x="50" y="26"/>
                </a:lnTo>
                <a:lnTo>
                  <a:pt x="49" y="28"/>
                </a:lnTo>
                <a:lnTo>
                  <a:pt x="49" y="32"/>
                </a:lnTo>
                <a:lnTo>
                  <a:pt x="48" y="34"/>
                </a:lnTo>
                <a:lnTo>
                  <a:pt x="47" y="35"/>
                </a:lnTo>
                <a:lnTo>
                  <a:pt x="46" y="37"/>
                </a:lnTo>
                <a:lnTo>
                  <a:pt x="45" y="40"/>
                </a:lnTo>
                <a:lnTo>
                  <a:pt x="42" y="42"/>
                </a:lnTo>
                <a:lnTo>
                  <a:pt x="41" y="43"/>
                </a:lnTo>
                <a:lnTo>
                  <a:pt x="39" y="45"/>
                </a:lnTo>
                <a:lnTo>
                  <a:pt x="37" y="46"/>
                </a:lnTo>
                <a:lnTo>
                  <a:pt x="35" y="47"/>
                </a:lnTo>
                <a:lnTo>
                  <a:pt x="32" y="47"/>
                </a:lnTo>
                <a:lnTo>
                  <a:pt x="30" y="48"/>
                </a:lnTo>
                <a:lnTo>
                  <a:pt x="28" y="48"/>
                </a:lnTo>
                <a:lnTo>
                  <a:pt x="26" y="48"/>
                </a:lnTo>
                <a:lnTo>
                  <a:pt x="23" y="48"/>
                </a:lnTo>
                <a:lnTo>
                  <a:pt x="20" y="48"/>
                </a:lnTo>
                <a:lnTo>
                  <a:pt x="18" y="47"/>
                </a:lnTo>
                <a:lnTo>
                  <a:pt x="16" y="47"/>
                </a:lnTo>
                <a:lnTo>
                  <a:pt x="13" y="46"/>
                </a:lnTo>
                <a:lnTo>
                  <a:pt x="11" y="45"/>
                </a:lnTo>
                <a:lnTo>
                  <a:pt x="10" y="43"/>
                </a:lnTo>
                <a:lnTo>
                  <a:pt x="8" y="42"/>
                </a:lnTo>
                <a:lnTo>
                  <a:pt x="6" y="40"/>
                </a:lnTo>
                <a:lnTo>
                  <a:pt x="5" y="37"/>
                </a:lnTo>
                <a:lnTo>
                  <a:pt x="3" y="35"/>
                </a:lnTo>
                <a:lnTo>
                  <a:pt x="2" y="34"/>
                </a:lnTo>
                <a:lnTo>
                  <a:pt x="1" y="32"/>
                </a:lnTo>
                <a:lnTo>
                  <a:pt x="1" y="28"/>
                </a:lnTo>
                <a:lnTo>
                  <a:pt x="1" y="26"/>
                </a:lnTo>
                <a:lnTo>
                  <a:pt x="0" y="24"/>
                </a:lnTo>
                <a:lnTo>
                  <a:pt x="1" y="22"/>
                </a:lnTo>
                <a:lnTo>
                  <a:pt x="1" y="20"/>
                </a:lnTo>
                <a:lnTo>
                  <a:pt x="1" y="16"/>
                </a:lnTo>
                <a:lnTo>
                  <a:pt x="2" y="14"/>
                </a:lnTo>
                <a:lnTo>
                  <a:pt x="3" y="13"/>
                </a:lnTo>
                <a:lnTo>
                  <a:pt x="5" y="11"/>
                </a:lnTo>
                <a:lnTo>
                  <a:pt x="6" y="8"/>
                </a:lnTo>
                <a:lnTo>
                  <a:pt x="8" y="6"/>
                </a:lnTo>
                <a:lnTo>
                  <a:pt x="10" y="5"/>
                </a:lnTo>
                <a:lnTo>
                  <a:pt x="11" y="4"/>
                </a:lnTo>
                <a:lnTo>
                  <a:pt x="13" y="2"/>
                </a:lnTo>
                <a:lnTo>
                  <a:pt x="16" y="2"/>
                </a:lnTo>
                <a:lnTo>
                  <a:pt x="18" y="1"/>
                </a:lnTo>
                <a:lnTo>
                  <a:pt x="20" y="0"/>
                </a:lnTo>
                <a:lnTo>
                  <a:pt x="22" y="0"/>
                </a:lnTo>
                <a:lnTo>
                  <a:pt x="26"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4" name=""/>
          <p:cNvSpPr/>
          <p:nvPr/>
        </p:nvSpPr>
        <p:spPr>
          <a:xfrm>
            <a:off x="2133720" y="2362320"/>
            <a:ext cx="1295280" cy="609480"/>
          </a:xfrm>
          <a:custGeom>
            <a:avLst/>
            <a:gdLst/>
            <a:ahLst/>
            <a:rect l="l" t="t" r="r" b="b"/>
            <a:pathLst>
              <a:path w="424" h="255">
                <a:moveTo>
                  <a:pt x="0" y="0"/>
                </a:moveTo>
                <a:lnTo>
                  <a:pt x="424" y="255"/>
                </a:lnTo>
              </a:path>
            </a:pathLst>
          </a:custGeom>
          <a:solidFill>
            <a:srgbClr val="ffffff"/>
          </a:solidFill>
          <a:ln w="76320">
            <a:solidFill>
              <a:srgbClr val="8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3338640" y="2935440"/>
            <a:ext cx="66600" cy="80640"/>
          </a:xfrm>
          <a:custGeom>
            <a:avLst/>
            <a:gdLst/>
            <a:ahLst/>
            <a:rect l="l" t="t" r="r" b="b"/>
            <a:pathLst>
              <a:path w="167" h="206">
                <a:moveTo>
                  <a:pt x="155" y="206"/>
                </a:moveTo>
                <a:lnTo>
                  <a:pt x="167" y="170"/>
                </a:lnTo>
                <a:lnTo>
                  <a:pt x="36" y="0"/>
                </a:lnTo>
                <a:lnTo>
                  <a:pt x="0" y="28"/>
                </a:lnTo>
                <a:lnTo>
                  <a:pt x="132" y="198"/>
                </a:lnTo>
                <a:lnTo>
                  <a:pt x="144" y="162"/>
                </a:lnTo>
                <a:lnTo>
                  <a:pt x="155" y="206"/>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96" name=""/>
          <p:cNvSpPr/>
          <p:nvPr/>
        </p:nvSpPr>
        <p:spPr>
          <a:xfrm>
            <a:off x="2057400" y="3733920"/>
            <a:ext cx="2286000" cy="152280"/>
          </a:xfrm>
          <a:prstGeom prst="line">
            <a:avLst/>
          </a:prstGeom>
          <a:ln w="7632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4349880" y="3581280"/>
            <a:ext cx="7920" cy="14400"/>
          </a:xfrm>
          <a:custGeom>
            <a:avLst/>
            <a:gdLst/>
            <a:ahLst/>
            <a:rect l="l" t="t" r="r" b="b"/>
            <a:pathLst>
              <a:path w="18" h="37">
                <a:moveTo>
                  <a:pt x="7" y="37"/>
                </a:moveTo>
                <a:lnTo>
                  <a:pt x="0" y="16"/>
                </a:lnTo>
                <a:lnTo>
                  <a:pt x="18" y="0"/>
                </a:lnTo>
                <a:lnTo>
                  <a:pt x="7" y="3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8" name=""/>
          <p:cNvSpPr/>
          <p:nvPr/>
        </p:nvSpPr>
        <p:spPr>
          <a:xfrm flipV="1">
            <a:off x="2895480" y="4191120"/>
            <a:ext cx="2133720" cy="761760"/>
          </a:xfrm>
          <a:prstGeom prst="line">
            <a:avLst/>
          </a:prstGeom>
          <a:ln w="763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5008680" y="3882960"/>
            <a:ext cx="6120" cy="15840"/>
          </a:xfrm>
          <a:custGeom>
            <a:avLst/>
            <a:gdLst/>
            <a:ahLst/>
            <a:rect l="l" t="t" r="r" b="b"/>
            <a:pathLst>
              <a:path w="15" h="37">
                <a:moveTo>
                  <a:pt x="9" y="37"/>
                </a:moveTo>
                <a:lnTo>
                  <a:pt x="0" y="16"/>
                </a:lnTo>
                <a:lnTo>
                  <a:pt x="15" y="0"/>
                </a:lnTo>
                <a:lnTo>
                  <a:pt x="9" y="3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00" name=""/>
          <p:cNvSpPr/>
          <p:nvPr/>
        </p:nvSpPr>
        <p:spPr>
          <a:xfrm flipV="1">
            <a:off x="3505320" y="4495320"/>
            <a:ext cx="1828800" cy="167652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5045040" y="4044960"/>
            <a:ext cx="4680" cy="14400"/>
          </a:xfrm>
          <a:custGeom>
            <a:avLst/>
            <a:gdLst/>
            <a:ahLst/>
            <a:rect l="l" t="t" r="r" b="b"/>
            <a:pathLst>
              <a:path w="14" h="38">
                <a:moveTo>
                  <a:pt x="11" y="38"/>
                </a:moveTo>
                <a:lnTo>
                  <a:pt x="0" y="18"/>
                </a:lnTo>
                <a:lnTo>
                  <a:pt x="14" y="0"/>
                </a:lnTo>
                <a:lnTo>
                  <a:pt x="11" y="3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2" name=""/>
          <p:cNvSpPr/>
          <p:nvPr/>
        </p:nvSpPr>
        <p:spPr>
          <a:xfrm>
            <a:off x="383040" y="2133720"/>
            <a:ext cx="1851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SLSC total</a:t>
            </a:r>
            <a:endParaRPr b="0" lang="en-US" sz="2800" spc="-1" strike="noStrike">
              <a:solidFill>
                <a:srgbClr val="000000"/>
              </a:solidFill>
              <a:latin typeface="Times New Roman"/>
            </a:endParaRPr>
          </a:p>
        </p:txBody>
      </p:sp>
      <p:sp>
        <p:nvSpPr>
          <p:cNvPr id="203" name=""/>
          <p:cNvSpPr/>
          <p:nvPr/>
        </p:nvSpPr>
        <p:spPr>
          <a:xfrm>
            <a:off x="306360" y="3429000"/>
            <a:ext cx="1660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Technical</a:t>
            </a:r>
            <a:endParaRPr b="0" lang="en-US" sz="2800" spc="-1" strike="noStrike">
              <a:solidFill>
                <a:srgbClr val="000000"/>
              </a:solidFill>
              <a:latin typeface="Times New Roman"/>
            </a:endParaRPr>
          </a:p>
        </p:txBody>
      </p:sp>
      <p:sp>
        <p:nvSpPr>
          <p:cNvPr id="204" name=""/>
          <p:cNvSpPr/>
          <p:nvPr/>
        </p:nvSpPr>
        <p:spPr>
          <a:xfrm>
            <a:off x="383040" y="4724280"/>
            <a:ext cx="2523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Stock depletion</a:t>
            </a:r>
            <a:endParaRPr b="0" lang="en-US" sz="2800" spc="-1" strike="noStrike">
              <a:solidFill>
                <a:srgbClr val="000000"/>
              </a:solidFill>
              <a:latin typeface="Times New Roman"/>
            </a:endParaRPr>
          </a:p>
        </p:txBody>
      </p:sp>
      <p:sp>
        <p:nvSpPr>
          <p:cNvPr id="205" name=""/>
          <p:cNvSpPr/>
          <p:nvPr/>
        </p:nvSpPr>
        <p:spPr>
          <a:xfrm>
            <a:off x="308160" y="6019920"/>
            <a:ext cx="3460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Right to manufacture</a:t>
            </a:r>
            <a:endParaRPr b="0" lang="en-US" sz="2800" spc="-1" strike="noStrike">
              <a:solidFill>
                <a:srgbClr val="000000"/>
              </a:solidFill>
              <a:latin typeface="Times New Roman"/>
            </a:endParaRPr>
          </a:p>
        </p:txBody>
      </p:sp>
      <p:sp>
        <p:nvSpPr>
          <p:cNvPr id="206" name=""/>
          <p:cNvSpPr/>
          <p:nvPr/>
        </p:nvSpPr>
        <p:spPr>
          <a:xfrm>
            <a:off x="5184360" y="3657600"/>
            <a:ext cx="10432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MP</a:t>
            </a:r>
            <a:br>
              <a:rPr sz="2400"/>
            </a:br>
            <a:r>
              <a:rPr b="0" lang="en-US" sz="2400" spc="-1" strike="noStrike">
                <a:solidFill>
                  <a:srgbClr val="000000"/>
                </a:solidFill>
                <a:latin typeface="Times New Roman"/>
              </a:rPr>
              <a:t>items</a:t>
            </a:r>
            <a:endParaRPr b="0" lang="en-US" sz="2400" spc="-1" strike="noStrike">
              <a:solidFill>
                <a:srgbClr val="000000"/>
              </a:solidFill>
              <a:latin typeface="Times New Roman"/>
            </a:endParaRPr>
          </a:p>
        </p:txBody>
      </p:sp>
    </p:spTree>
  </p:cSld>
  <p:transition>
    <p:dissolv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9fe"/>
            </a:gs>
            <a:gs pos="100000">
              <a:srgbClr val="fefefe"/>
            </a:gs>
          </a:gsLst>
          <a:lin ang="108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396800" y="596520"/>
            <a:ext cx="77468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Univers"/>
              </a:rPr>
              <a:t>Costs and Benefits</a:t>
            </a:r>
            <a:endParaRPr b="1" lang="en-US" sz="3600" spc="-1" strike="noStrike">
              <a:solidFill>
                <a:srgbClr val="3333cc"/>
              </a:solidFill>
              <a:latin typeface="Univers"/>
            </a:endParaRPr>
          </a:p>
        </p:txBody>
      </p:sp>
      <p:sp>
        <p:nvSpPr>
          <p:cNvPr id="208" name="PlaceHolder 2"/>
          <p:cNvSpPr>
            <a:spLocks noGrp="1"/>
          </p:cNvSpPr>
          <p:nvPr>
            <p:ph/>
          </p:nvPr>
        </p:nvSpPr>
        <p:spPr>
          <a:xfrm>
            <a:off x="1143000" y="1638360"/>
            <a:ext cx="7772400" cy="4495680"/>
          </a:xfrm>
          <a:prstGeom prst="rect">
            <a:avLst/>
          </a:prstGeom>
          <a:noFill/>
          <a:ln w="0">
            <a:noFill/>
          </a:ln>
        </p:spPr>
        <p:txBody>
          <a:bodyPr lIns="92160" rIns="92160" tIns="46080" bIns="46080" anchor="t">
            <a:normAutofit/>
          </a:bodyPr>
          <a:p>
            <a:pPr marL="343080" indent="-343080">
              <a:spcBef>
                <a:spcPts val="601"/>
              </a:spcBef>
              <a:buClr>
                <a:srgbClr val="8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ost calculated</a:t>
            </a:r>
            <a:endParaRPr b="1" lang="en-US" sz="2400" spc="-1" strike="noStrike">
              <a:solidFill>
                <a:srgbClr val="000066"/>
              </a:solidFill>
              <a:latin typeface="Arial"/>
            </a:endParaRPr>
          </a:p>
          <a:p>
            <a:pPr lvl="1" marL="743040" indent="-285840">
              <a:spcBef>
                <a:spcPts val="4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Cost of current stock level</a:t>
            </a:r>
            <a:endParaRPr b="1" lang="en-US" sz="2000" spc="-1" strike="noStrike">
              <a:solidFill>
                <a:srgbClr val="000066"/>
              </a:solidFill>
              <a:latin typeface="Arial"/>
            </a:endParaRPr>
          </a:p>
          <a:p>
            <a:pPr lvl="1" marL="743040" indent="-285840">
              <a:spcBef>
                <a:spcPts val="4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Cost of stock replenishment without RAMP</a:t>
            </a:r>
            <a:endParaRPr b="1" lang="en-US" sz="2000" spc="-1" strike="noStrike">
              <a:solidFill>
                <a:srgbClr val="000066"/>
              </a:solidFill>
              <a:latin typeface="Arial"/>
            </a:endParaRPr>
          </a:p>
          <a:p>
            <a:pPr lvl="1" marL="743040" indent="-285840">
              <a:spcBef>
                <a:spcPts val="4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Cost of RAMP stock level</a:t>
            </a:r>
            <a:endParaRPr b="1" lang="en-US" sz="2000" spc="-1" strike="noStrike">
              <a:solidFill>
                <a:srgbClr val="000066"/>
              </a:solidFill>
              <a:latin typeface="Arial"/>
            </a:endParaRPr>
          </a:p>
          <a:p>
            <a:pPr lvl="1" marL="743040" indent="-285840">
              <a:spcBef>
                <a:spcPts val="4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Cost of raw material stock-holding</a:t>
            </a:r>
            <a:endParaRPr b="1" lang="en-US" sz="2000" spc="-1" strike="noStrike">
              <a:solidFill>
                <a:srgbClr val="000066"/>
              </a:solidFill>
              <a:latin typeface="Arial"/>
            </a:endParaRPr>
          </a:p>
          <a:p>
            <a:pPr marL="343080" indent="-343080">
              <a:spcBef>
                <a:spcPts val="601"/>
              </a:spcBef>
              <a:buClr>
                <a:srgbClr val="8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omparison of the sustainable stock level with current and RAMP procurement</a:t>
            </a:r>
            <a:endParaRPr b="1" lang="en-US" sz="2400" spc="-1" strike="noStrike">
              <a:solidFill>
                <a:srgbClr val="000066"/>
              </a:solidFill>
              <a:latin typeface="Arial"/>
            </a:endParaRPr>
          </a:p>
          <a:p>
            <a:pPr marL="343080" indent="-343080">
              <a:spcBef>
                <a:spcPts val="601"/>
              </a:spcBef>
              <a:buClr>
                <a:srgbClr val="8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study identified that RAMP for the 1,500 items will release in excess of $4million of inventory cost</a:t>
            </a:r>
            <a:endParaRPr b="1" lang="en-US" sz="2400" spc="-1" strike="noStrike">
              <a:solidFill>
                <a:srgbClr val="000066"/>
              </a:solidFill>
              <a:latin typeface="Arial"/>
            </a:endParaRPr>
          </a:p>
          <a:p>
            <a:pPr marL="343080" indent="-343080">
              <a:spcBef>
                <a:spcPts val="601"/>
              </a:spcBef>
              <a:buClr>
                <a:srgbClr val="8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ther business process and item quality benefits </a:t>
            </a:r>
            <a:endParaRPr b="1" lang="en-US" sz="2400" spc="-1" strike="noStrike">
              <a:solidFill>
                <a:srgbClr val="000066"/>
              </a:solidFill>
              <a:latin typeface="Arial"/>
            </a:endParaRPr>
          </a:p>
        </p:txBody>
      </p:sp>
    </p:spTree>
  </p:cSld>
  <p:transition>
    <p:dissolv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9fe"/>
            </a:gs>
            <a:gs pos="100000">
              <a:srgbClr val="fefefe"/>
            </a:gs>
          </a:gsLst>
          <a:lin ang="108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562040" y="647280"/>
            <a:ext cx="609624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Agenda</a:t>
            </a:r>
            <a:endParaRPr b="1" lang="en-US" sz="4000" spc="-1" strike="noStrike">
              <a:solidFill>
                <a:srgbClr val="3333cc"/>
              </a:solidFill>
              <a:latin typeface="Univers"/>
            </a:endParaRPr>
          </a:p>
        </p:txBody>
      </p:sp>
      <p:sp>
        <p:nvSpPr>
          <p:cNvPr id="210" name="PlaceHolder 2"/>
          <p:cNvSpPr>
            <a:spLocks noGrp="1"/>
          </p:cNvSpPr>
          <p:nvPr>
            <p:ph/>
          </p:nvPr>
        </p:nvSpPr>
        <p:spPr>
          <a:xfrm>
            <a:off x="1733040" y="1787400"/>
            <a:ext cx="7410600" cy="4114800"/>
          </a:xfrm>
          <a:prstGeom prst="rect">
            <a:avLst/>
          </a:prstGeom>
          <a:noFill/>
          <a:ln w="0">
            <a:noFill/>
          </a:ln>
        </p:spPr>
        <p:txBody>
          <a:bodyPr lIns="92160" rIns="92160" tIns="46080" bIns="46080" anchor="t">
            <a:normAutofit/>
          </a:bodyPr>
          <a:p>
            <a:pPr marL="343080" indent="-343080">
              <a:spcBef>
                <a:spcPts val="601"/>
              </a:spcBef>
              <a:buClr>
                <a:srgbClr val="8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9900"/>
                </a:solidFill>
                <a:latin typeface="Arial"/>
              </a:rPr>
              <a:t>Overview of RAMP</a:t>
            </a:r>
            <a:endParaRPr b="1" lang="en-US" sz="2400" spc="-1" strike="noStrike">
              <a:solidFill>
                <a:srgbClr val="000066"/>
              </a:solidFill>
              <a:latin typeface="Arial"/>
            </a:endParaRPr>
          </a:p>
          <a:p>
            <a:pPr marL="343080" indent="-343080">
              <a:spcBef>
                <a:spcPts val="601"/>
              </a:spcBef>
              <a:buClr>
                <a:srgbClr val="8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9900"/>
                </a:solidFill>
                <a:latin typeface="Arial"/>
              </a:rPr>
              <a:t>UK Evaluations of RAMP</a:t>
            </a:r>
            <a:endParaRPr b="1" lang="en-US" sz="2400" spc="-1" strike="noStrike">
              <a:solidFill>
                <a:srgbClr val="000066"/>
              </a:solidFill>
              <a:latin typeface="Arial"/>
            </a:endParaRPr>
          </a:p>
          <a:p>
            <a:pPr lvl="1" marL="743040" indent="-285840">
              <a:spcBef>
                <a:spcPts val="601"/>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9900"/>
                </a:solidFill>
                <a:latin typeface="Arial"/>
              </a:rPr>
              <a:t>UK Navy RAMP Project</a:t>
            </a:r>
            <a:endParaRPr b="1" lang="en-US" sz="2400" spc="-1" strike="noStrike">
              <a:solidFill>
                <a:srgbClr val="000066"/>
              </a:solidFill>
              <a:latin typeface="Arial"/>
            </a:endParaRPr>
          </a:p>
          <a:p>
            <a:pPr lvl="1" marL="743040" indent="-285840">
              <a:spcBef>
                <a:spcPts val="601"/>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9900"/>
                </a:solidFill>
                <a:latin typeface="Arial"/>
              </a:rPr>
              <a:t>Evaluation of UK Navy Store for AP224</a:t>
            </a:r>
            <a:endParaRPr b="1" lang="en-US" sz="2400" spc="-1" strike="noStrike">
              <a:solidFill>
                <a:srgbClr val="000066"/>
              </a:solidFill>
              <a:latin typeface="Arial"/>
            </a:endParaRPr>
          </a:p>
          <a:p>
            <a:pPr lvl="1" marL="743040" indent="-285840">
              <a:spcBef>
                <a:spcPts val="601"/>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9900"/>
                </a:solidFill>
                <a:latin typeface="Arial"/>
              </a:rPr>
              <a:t>DML RAMP Evaluation Project</a:t>
            </a:r>
            <a:endParaRPr b="1" lang="en-US" sz="2400" spc="-1" strike="noStrike">
              <a:solidFill>
                <a:srgbClr val="000066"/>
              </a:solidFill>
              <a:latin typeface="Arial"/>
            </a:endParaRPr>
          </a:p>
          <a:p>
            <a:pPr marL="343080" indent="-343080">
              <a:spcBef>
                <a:spcPts val="601"/>
              </a:spcBef>
              <a:buClr>
                <a:srgbClr val="8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UK Deployment of RAMP</a:t>
            </a:r>
            <a:endParaRPr b="1" lang="en-US" sz="2400" spc="-1" strike="noStrike">
              <a:solidFill>
                <a:srgbClr val="000066"/>
              </a:solidFill>
              <a:latin typeface="Arial"/>
            </a:endParaRPr>
          </a:p>
          <a:p>
            <a:pPr lvl="1" marL="743040" indent="-285840">
              <a:spcBef>
                <a:spcPts val="601"/>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9900"/>
                </a:solidFill>
                <a:latin typeface="Arial"/>
              </a:rPr>
              <a:t>Submarine Legacy Spares – business case</a:t>
            </a:r>
            <a:endParaRPr b="1" lang="en-US" sz="2400" spc="-1" strike="noStrike">
              <a:solidFill>
                <a:srgbClr val="000066"/>
              </a:solidFill>
              <a:latin typeface="Arial"/>
            </a:endParaRPr>
          </a:p>
          <a:p>
            <a:pPr lvl="1" marL="743040" indent="-285840">
              <a:spcBef>
                <a:spcPts val="601"/>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Submarine Legacy Spares – status</a:t>
            </a:r>
            <a:endParaRPr b="1" lang="en-US" sz="2400" spc="-1" strike="noStrike">
              <a:solidFill>
                <a:srgbClr val="000066"/>
              </a:solidFill>
              <a:latin typeface="Arial"/>
            </a:endParaRPr>
          </a:p>
          <a:p>
            <a:pPr lvl="1" marL="743040" indent="-285840">
              <a:spcBef>
                <a:spcPts val="601"/>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RAMP at DML</a:t>
            </a:r>
            <a:r>
              <a:rPr b="1" lang="en-US" sz="2400" spc="-1" strike="noStrike">
                <a:solidFill>
                  <a:srgbClr val="cc9900"/>
                </a:solidFill>
                <a:latin typeface="Arial"/>
              </a:rPr>
              <a:t> </a:t>
            </a:r>
            <a:endParaRPr b="1" lang="en-US" sz="2400" spc="-1" strike="noStrike">
              <a:solidFill>
                <a:srgbClr val="0000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Tree>
  </p:cSld>
  <p:transition>
    <p:dissolv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9fe"/>
            </a:gs>
            <a:gs pos="100000">
              <a:srgbClr val="fefefe"/>
            </a:gs>
          </a:gsLst>
          <a:lin ang="108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396800" y="596520"/>
            <a:ext cx="77468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Univers"/>
              </a:rPr>
              <a:t>DML RAMP Technical Centre</a:t>
            </a:r>
            <a:endParaRPr b="1" lang="en-US" sz="3600" spc="-1" strike="noStrike">
              <a:solidFill>
                <a:srgbClr val="3333cc"/>
              </a:solidFill>
              <a:latin typeface="Univers"/>
            </a:endParaRPr>
          </a:p>
        </p:txBody>
      </p:sp>
      <p:sp>
        <p:nvSpPr>
          <p:cNvPr id="212" name="PlaceHolder 2"/>
          <p:cNvSpPr>
            <a:spLocks noGrp="1"/>
          </p:cNvSpPr>
          <p:nvPr>
            <p:ph/>
          </p:nvPr>
        </p:nvSpPr>
        <p:spPr>
          <a:xfrm>
            <a:off x="1536480" y="1679400"/>
            <a:ext cx="7607160" cy="4114800"/>
          </a:xfrm>
          <a:prstGeom prst="rect">
            <a:avLst/>
          </a:prstGeom>
          <a:noFill/>
          <a:ln w="0">
            <a:noFill/>
          </a:ln>
        </p:spPr>
        <p:txBody>
          <a:bodyPr lIns="92160" rIns="92160" tIns="46080" bIns="46080" anchor="t">
            <a:normAutofit fontScale="93000"/>
          </a:bodyPr>
          <a:p>
            <a:pPr marL="318960" indent="-318960">
              <a:lnSpc>
                <a:spcPct val="90000"/>
              </a:lnSpc>
              <a:spcBef>
                <a:spcPts val="601"/>
              </a:spcBef>
              <a:buClr>
                <a:srgbClr val="8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 new facility set-up an operated within DML</a:t>
            </a:r>
            <a:endParaRPr b="1" lang="en-US" sz="2400" spc="-1" strike="noStrike">
              <a:solidFill>
                <a:srgbClr val="000066"/>
              </a:solidFill>
              <a:latin typeface="Arial"/>
            </a:endParaRPr>
          </a:p>
          <a:p>
            <a:pPr marL="318960" indent="-318960">
              <a:lnSpc>
                <a:spcPct val="90000"/>
              </a:lnSpc>
              <a:spcBef>
                <a:spcPts val="601"/>
              </a:spcBef>
              <a:buClr>
                <a:srgbClr val="8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echnology transfer project</a:t>
            </a:r>
            <a:endParaRPr b="1" lang="en-US" sz="2400" spc="-1" strike="noStrike">
              <a:solidFill>
                <a:srgbClr val="000066"/>
              </a:solidFill>
              <a:latin typeface="Arial"/>
            </a:endParaRPr>
          </a:p>
          <a:p>
            <a:pPr lvl="1" marL="690840" indent="-265680">
              <a:lnSpc>
                <a:spcPct val="90000"/>
              </a:lnSpc>
              <a:spcBef>
                <a:spcPts val="4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Joint team from DML and LSC with input from MXS</a:t>
            </a:r>
            <a:endParaRPr b="1" lang="en-US" sz="2000" spc="-1" strike="noStrike">
              <a:solidFill>
                <a:srgbClr val="000066"/>
              </a:solidFill>
              <a:latin typeface="Arial"/>
            </a:endParaRPr>
          </a:p>
          <a:p>
            <a:pPr lvl="1" marL="690840" indent="-265680">
              <a:lnSpc>
                <a:spcPct val="90000"/>
              </a:lnSpc>
              <a:spcBef>
                <a:spcPts val="4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Moving to be DML operated</a:t>
            </a:r>
            <a:endParaRPr b="1" lang="en-US" sz="2000" spc="-1" strike="noStrike">
              <a:solidFill>
                <a:srgbClr val="000066"/>
              </a:solidFill>
              <a:latin typeface="Arial"/>
            </a:endParaRPr>
          </a:p>
          <a:p>
            <a:pPr marL="318960" indent="-318960">
              <a:lnSpc>
                <a:spcPct val="90000"/>
              </a:lnSpc>
              <a:spcBef>
                <a:spcPts val="601"/>
              </a:spcBef>
              <a:buClr>
                <a:srgbClr val="8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wo parallel implementations Design and Manufacture</a:t>
            </a:r>
            <a:endParaRPr b="1" lang="en-US" sz="2400" spc="-1" strike="noStrike">
              <a:solidFill>
                <a:srgbClr val="000066"/>
              </a:solidFill>
              <a:latin typeface="Arial"/>
            </a:endParaRPr>
          </a:p>
          <a:p>
            <a:pPr marL="318960" indent="-318960">
              <a:lnSpc>
                <a:spcPct val="90000"/>
              </a:lnSpc>
              <a:spcBef>
                <a:spcPts val="601"/>
              </a:spcBef>
              <a:buClr>
                <a:srgbClr val="8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1,500 items, effort divided into phases</a:t>
            </a:r>
            <a:endParaRPr b="1" lang="en-US" sz="2400" spc="-1" strike="noStrike">
              <a:solidFill>
                <a:srgbClr val="000066"/>
              </a:solidFill>
              <a:latin typeface="Arial"/>
            </a:endParaRPr>
          </a:p>
          <a:p>
            <a:pPr lvl="1" marL="690840" indent="-265680">
              <a:lnSpc>
                <a:spcPct val="90000"/>
              </a:lnSpc>
              <a:spcBef>
                <a:spcPts val="4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Phases scheduled by common product types</a:t>
            </a:r>
            <a:endParaRPr b="1" lang="en-US" sz="2000" spc="-1" strike="noStrike">
              <a:solidFill>
                <a:srgbClr val="000066"/>
              </a:solidFill>
              <a:latin typeface="Arial"/>
            </a:endParaRPr>
          </a:p>
          <a:p>
            <a:pPr marL="318960" indent="-318960">
              <a:lnSpc>
                <a:spcPct val="90000"/>
              </a:lnSpc>
              <a:spcBef>
                <a:spcPts val="601"/>
              </a:spcBef>
              <a:buClr>
                <a:srgbClr val="8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ontributions from Design and Manufacture teams</a:t>
            </a:r>
            <a:endParaRPr b="1" lang="en-US" sz="2400" spc="-1" strike="noStrike">
              <a:solidFill>
                <a:srgbClr val="000066"/>
              </a:solidFill>
              <a:latin typeface="Arial"/>
            </a:endParaRPr>
          </a:p>
          <a:p>
            <a:pPr lvl="1" marL="690840" indent="-265680">
              <a:lnSpc>
                <a:spcPct val="90000"/>
              </a:lnSpc>
              <a:spcBef>
                <a:spcPts val="4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Phase initiated when items identified on CRISP as RAMP supply</a:t>
            </a:r>
            <a:endParaRPr b="1" lang="en-US" sz="2000" spc="-1" strike="noStrike">
              <a:solidFill>
                <a:srgbClr val="000066"/>
              </a:solidFill>
              <a:latin typeface="Arial"/>
            </a:endParaRPr>
          </a:p>
          <a:p>
            <a:pPr lvl="1" marL="690840" indent="-265680">
              <a:lnSpc>
                <a:spcPct val="90000"/>
              </a:lnSpc>
              <a:spcBef>
                <a:spcPts val="4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We are currently at phase 1,  286 screw and bolt items</a:t>
            </a:r>
            <a:endParaRPr b="1" lang="en-US" sz="2000" spc="-1" strike="noStrike">
              <a:solidFill>
                <a:srgbClr val="000066"/>
              </a:solidFill>
              <a:latin typeface="Arial"/>
            </a:endParaRPr>
          </a:p>
        </p:txBody>
      </p:sp>
    </p:spTree>
  </p:cSld>
  <p:transition>
    <p:dissolv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9fe"/>
            </a:gs>
            <a:gs pos="100000">
              <a:srgbClr val="fefefe"/>
            </a:gs>
          </a:gsLst>
          <a:lin ang="108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504800" y="609120"/>
            <a:ext cx="7639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Univers"/>
              </a:rPr>
              <a:t>RAMP Technical Centre Operation</a:t>
            </a:r>
            <a:endParaRPr b="1" lang="en-US" sz="3600" spc="-1" strike="noStrike">
              <a:solidFill>
                <a:srgbClr val="3333cc"/>
              </a:solidFill>
              <a:latin typeface="Univers"/>
            </a:endParaRPr>
          </a:p>
        </p:txBody>
      </p:sp>
      <p:sp>
        <p:nvSpPr>
          <p:cNvPr id="214" name="PlaceHolder 2"/>
          <p:cNvSpPr>
            <a:spLocks noGrp="1"/>
          </p:cNvSpPr>
          <p:nvPr>
            <p:ph/>
          </p:nvPr>
        </p:nvSpPr>
        <p:spPr>
          <a:xfrm>
            <a:off x="1536480" y="1679400"/>
            <a:ext cx="7607160" cy="1447920"/>
          </a:xfrm>
          <a:prstGeom prst="rect">
            <a:avLst/>
          </a:prstGeom>
          <a:noFill/>
          <a:ln w="0">
            <a:noFill/>
          </a:ln>
        </p:spPr>
        <p:txBody>
          <a:bodyPr lIns="92160" rIns="92160" tIns="46080" bIns="46080" anchor="t">
            <a:normAutofit fontScale="33000"/>
          </a:bodyPr>
          <a:p>
            <a:pPr marL="113040" indent="-113040">
              <a:lnSpc>
                <a:spcPct val="90000"/>
              </a:lnSpc>
              <a:spcBef>
                <a:spcPts val="601"/>
              </a:spcBef>
              <a:buClr>
                <a:srgbClr val="8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view of the commercial requirement of the SLSC items</a:t>
            </a:r>
            <a:endParaRPr b="1" lang="en-US" sz="2400" spc="-1" strike="noStrike">
              <a:solidFill>
                <a:srgbClr val="000066"/>
              </a:solidFill>
              <a:latin typeface="Arial"/>
            </a:endParaRPr>
          </a:p>
          <a:p>
            <a:pPr marL="113040" indent="-113040">
              <a:lnSpc>
                <a:spcPct val="90000"/>
              </a:lnSpc>
              <a:spcBef>
                <a:spcPts val="601"/>
              </a:spcBef>
              <a:buClr>
                <a:srgbClr val="8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lassification of designs </a:t>
            </a:r>
            <a:endParaRPr b="1" lang="en-US" sz="2400" spc="-1" strike="noStrike">
              <a:solidFill>
                <a:srgbClr val="000066"/>
              </a:solidFill>
              <a:latin typeface="Arial"/>
            </a:endParaRPr>
          </a:p>
          <a:p>
            <a:pPr lvl="1" marL="245160" indent="-94320">
              <a:lnSpc>
                <a:spcPct val="90000"/>
              </a:lnSpc>
              <a:spcBef>
                <a:spcPts val="4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dentification of product groups a </a:t>
            </a:r>
            <a:endParaRPr b="1" lang="en-US" sz="2000" spc="-1" strike="noStrike">
              <a:solidFill>
                <a:srgbClr val="000066"/>
              </a:solidFill>
              <a:latin typeface="Arial"/>
            </a:endParaRPr>
          </a:p>
          <a:p>
            <a:pPr lvl="1" marL="245160" indent="-94320">
              <a:lnSpc>
                <a:spcPct val="90000"/>
              </a:lnSpc>
              <a:spcBef>
                <a:spcPts val="4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Acquisition of drawings</a:t>
            </a:r>
            <a:endParaRPr b="1" lang="en-US" sz="2000" spc="-1" strike="noStrike">
              <a:solidFill>
                <a:srgbClr val="000066"/>
              </a:solidFill>
              <a:latin typeface="Arial"/>
            </a:endParaRPr>
          </a:p>
          <a:p>
            <a:pPr marL="113040" indent="-113040">
              <a:lnSpc>
                <a:spcPct val="90000"/>
              </a:lnSpc>
              <a:spcBef>
                <a:spcPts val="601"/>
              </a:spcBef>
              <a:buClr>
                <a:srgbClr val="8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epare Technical data pack and data cleansing</a:t>
            </a:r>
            <a:endParaRPr b="1" lang="en-US" sz="2400" spc="-1" strike="noStrike">
              <a:solidFill>
                <a:srgbClr val="000066"/>
              </a:solidFill>
              <a:latin typeface="Arial"/>
            </a:endParaRPr>
          </a:p>
          <a:p>
            <a:pPr marL="113040" indent="-113040">
              <a:lnSpc>
                <a:spcPct val="90000"/>
              </a:lnSpc>
              <a:spcBef>
                <a:spcPts val="601"/>
              </a:spcBef>
              <a:buClr>
                <a:srgbClr val="8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dentification of manufacturing engineering requirements</a:t>
            </a:r>
            <a:endParaRPr b="1" lang="en-US" sz="2400" spc="-1" strike="noStrike">
              <a:solidFill>
                <a:srgbClr val="000066"/>
              </a:solidFill>
              <a:latin typeface="Arial"/>
            </a:endParaRPr>
          </a:p>
          <a:p>
            <a:pPr lvl="1" marL="245160" indent="-94320">
              <a:lnSpc>
                <a:spcPct val="90000"/>
              </a:lnSpc>
              <a:spcBef>
                <a:spcPts val="4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Establish best feature represented for manufacture</a:t>
            </a:r>
            <a:endParaRPr b="1" lang="en-US" sz="2000" spc="-1" strike="noStrike">
              <a:solidFill>
                <a:srgbClr val="000066"/>
              </a:solidFill>
              <a:latin typeface="Arial"/>
            </a:endParaRPr>
          </a:p>
          <a:p>
            <a:pPr marL="113040" indent="-113040">
              <a:lnSpc>
                <a:spcPct val="90000"/>
              </a:lnSpc>
              <a:spcBef>
                <a:spcPts val="601"/>
              </a:spcBef>
              <a:buClr>
                <a:srgbClr val="8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neration of STEP AP224 data verification</a:t>
            </a:r>
            <a:endParaRPr b="1" lang="en-US" sz="2400" spc="-1" strike="noStrike">
              <a:solidFill>
                <a:srgbClr val="000066"/>
              </a:solidFill>
              <a:latin typeface="Arial"/>
            </a:endParaRPr>
          </a:p>
          <a:p>
            <a:pPr marL="113040" indent="-113040">
              <a:lnSpc>
                <a:spcPct val="90000"/>
              </a:lnSpc>
              <a:spcBef>
                <a:spcPts val="601"/>
              </a:spcBef>
              <a:buClr>
                <a:srgbClr val="8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dentification of manufacturing processes</a:t>
            </a:r>
            <a:endParaRPr b="1" lang="en-US" sz="2400" spc="-1" strike="noStrike">
              <a:solidFill>
                <a:srgbClr val="000066"/>
              </a:solidFill>
              <a:latin typeface="Arial"/>
            </a:endParaRPr>
          </a:p>
          <a:p>
            <a:pPr lvl="1" marL="245160" indent="-94320">
              <a:lnSpc>
                <a:spcPct val="90000"/>
              </a:lnSpc>
              <a:spcBef>
                <a:spcPts val="4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Building knowledge base around item group</a:t>
            </a:r>
            <a:endParaRPr b="1" lang="en-US" sz="2000" spc="-1" strike="noStrike">
              <a:solidFill>
                <a:srgbClr val="000066"/>
              </a:solidFill>
              <a:latin typeface="Arial"/>
            </a:endParaRPr>
          </a:p>
          <a:p>
            <a:pPr lvl="1" marL="245160" indent="-94320">
              <a:lnSpc>
                <a:spcPct val="90000"/>
              </a:lnSpc>
              <a:spcBef>
                <a:spcPts val="4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Building NC command library</a:t>
            </a:r>
            <a:endParaRPr b="1" lang="en-US" sz="2000" spc="-1" strike="noStrike">
              <a:solidFill>
                <a:srgbClr val="000066"/>
              </a:solidFill>
              <a:latin typeface="Arial"/>
            </a:endParaRPr>
          </a:p>
        </p:txBody>
      </p:sp>
    </p:spTree>
  </p:cSld>
  <p:transition>
    <p:dissolv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9fe"/>
            </a:gs>
            <a:gs pos="100000">
              <a:srgbClr val="fefefe"/>
            </a:gs>
          </a:gsLst>
          <a:lin ang="108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396800" y="596520"/>
            <a:ext cx="77468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Univers"/>
              </a:rPr>
              <a:t>DML RAMP Order Sequence</a:t>
            </a:r>
            <a:endParaRPr b="1" lang="en-US" sz="3600" spc="-1" strike="noStrike">
              <a:solidFill>
                <a:srgbClr val="3333cc"/>
              </a:solidFill>
              <a:latin typeface="Univers"/>
            </a:endParaRPr>
          </a:p>
        </p:txBody>
      </p:sp>
      <p:sp>
        <p:nvSpPr>
          <p:cNvPr id="216" name=""/>
          <p:cNvSpPr/>
          <p:nvPr/>
        </p:nvSpPr>
        <p:spPr>
          <a:xfrm>
            <a:off x="2119320" y="1757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17" name="Stages in Processing a RAMP Order" descr=""/>
          <p:cNvPicPr/>
          <p:nvPr/>
        </p:nvPicPr>
        <p:blipFill>
          <a:blip r:embed="rId1"/>
          <a:srcRect l="0" t="-6021" r="0" b="-6021"/>
          <a:stretch/>
        </p:blipFill>
        <p:spPr>
          <a:xfrm>
            <a:off x="571680" y="1222200"/>
            <a:ext cx="8267400" cy="5635800"/>
          </a:xfrm>
          <a:prstGeom prst="rect">
            <a:avLst/>
          </a:prstGeom>
          <a:ln w="0">
            <a:noFill/>
          </a:ln>
        </p:spPr>
      </p:pic>
      <p:sp>
        <p:nvSpPr>
          <p:cNvPr id="218" name=""/>
          <p:cNvSpPr/>
          <p:nvPr/>
        </p:nvSpPr>
        <p:spPr>
          <a:xfrm>
            <a:off x="2895480" y="3124080"/>
            <a:ext cx="3581640" cy="1676520"/>
          </a:xfrm>
          <a:prstGeom prst="line">
            <a:avLst/>
          </a:prstGeom>
          <a:ln w="85680">
            <a:solidFill>
              <a:srgbClr val="33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6172200" y="4800600"/>
            <a:ext cx="304920" cy="0"/>
          </a:xfrm>
          <a:prstGeom prst="line">
            <a:avLst/>
          </a:prstGeom>
          <a:ln w="85680">
            <a:solidFill>
              <a:srgbClr val="33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6324480" y="4572000"/>
            <a:ext cx="152640" cy="228600"/>
          </a:xfrm>
          <a:prstGeom prst="line">
            <a:avLst/>
          </a:prstGeom>
          <a:ln w="85680">
            <a:solidFill>
              <a:srgbClr val="33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dissolv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9fe"/>
            </a:gs>
            <a:gs pos="100000">
              <a:srgbClr val="fefefe"/>
            </a:gs>
          </a:gsLst>
          <a:lin ang="108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Univers"/>
              </a:rPr>
              <a:t>DML RAMP Environment</a:t>
            </a:r>
            <a:endParaRPr b="1" lang="en-US" sz="3600" spc="-1" strike="noStrike">
              <a:solidFill>
                <a:srgbClr val="3333cc"/>
              </a:solidFill>
              <a:latin typeface="Univers"/>
            </a:endParaRPr>
          </a:p>
        </p:txBody>
      </p:sp>
      <p:pic>
        <p:nvPicPr>
          <p:cNvPr id="222" name="dre" descr=""/>
          <p:cNvPicPr/>
          <p:nvPr/>
        </p:nvPicPr>
        <p:blipFill>
          <a:blip r:embed="rId1"/>
          <a:stretch/>
        </p:blipFill>
        <p:spPr>
          <a:xfrm>
            <a:off x="0" y="846000"/>
            <a:ext cx="9144000" cy="6012000"/>
          </a:xfrm>
          <a:prstGeom prst="rect">
            <a:avLst/>
          </a:prstGeom>
          <a:ln w="0">
            <a:noFill/>
          </a:ln>
        </p:spPr>
      </p:pic>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9fe"/>
            </a:gs>
            <a:gs pos="100000">
              <a:srgbClr val="fefefe"/>
            </a:gs>
          </a:gsLst>
          <a:lin ang="108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981000" y="279000"/>
            <a:ext cx="8925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0000"/>
                </a:solidFill>
                <a:latin typeface="Univers"/>
              </a:rPr>
              <a:t>R</a:t>
            </a:r>
            <a:r>
              <a:rPr b="1" lang="en-GB" sz="3200" spc="-1" strike="noStrike">
                <a:solidFill>
                  <a:srgbClr val="3333cc"/>
                </a:solidFill>
                <a:latin typeface="Univers"/>
              </a:rPr>
              <a:t>apid </a:t>
            </a:r>
            <a:r>
              <a:rPr b="1" lang="en-GB" sz="3200" spc="-1" strike="noStrike">
                <a:solidFill>
                  <a:srgbClr val="800000"/>
                </a:solidFill>
                <a:latin typeface="Univers"/>
              </a:rPr>
              <a:t>A</a:t>
            </a:r>
            <a:r>
              <a:rPr b="1" lang="en-GB" sz="3200" spc="-1" strike="noStrike">
                <a:solidFill>
                  <a:srgbClr val="3333cc"/>
                </a:solidFill>
                <a:latin typeface="Univers"/>
              </a:rPr>
              <a:t>cquisition of </a:t>
            </a:r>
            <a:r>
              <a:rPr b="1" lang="en-GB" sz="3200" spc="-1" strike="noStrike">
                <a:solidFill>
                  <a:srgbClr val="800000"/>
                </a:solidFill>
                <a:latin typeface="Univers"/>
              </a:rPr>
              <a:t>M</a:t>
            </a:r>
            <a:r>
              <a:rPr b="1" lang="en-GB" sz="3200" spc="-1" strike="noStrike">
                <a:solidFill>
                  <a:srgbClr val="3333cc"/>
                </a:solidFill>
                <a:latin typeface="Univers"/>
              </a:rPr>
              <a:t>anufactured </a:t>
            </a:r>
            <a:r>
              <a:rPr b="1" lang="en-GB" sz="3200" spc="-1" strike="noStrike">
                <a:solidFill>
                  <a:srgbClr val="800000"/>
                </a:solidFill>
                <a:latin typeface="Univers"/>
              </a:rPr>
              <a:t>P</a:t>
            </a:r>
            <a:r>
              <a:rPr b="1" lang="en-GB" sz="3200" spc="-1" strike="noStrike">
                <a:solidFill>
                  <a:srgbClr val="3333cc"/>
                </a:solidFill>
                <a:latin typeface="Univers"/>
              </a:rPr>
              <a:t>arts</a:t>
            </a:r>
            <a:endParaRPr b="1" lang="en-US" sz="3200" spc="-1" strike="noStrike">
              <a:solidFill>
                <a:srgbClr val="3333cc"/>
              </a:solidFill>
              <a:latin typeface="Univers"/>
            </a:endParaRPr>
          </a:p>
        </p:txBody>
      </p:sp>
      <p:sp>
        <p:nvSpPr>
          <p:cNvPr id="61" name="PlaceHolder 2"/>
          <p:cNvSpPr>
            <a:spLocks noGrp="1"/>
          </p:cNvSpPr>
          <p:nvPr>
            <p:ph/>
          </p:nvPr>
        </p:nvSpPr>
        <p:spPr>
          <a:xfrm>
            <a:off x="1193760" y="1591920"/>
            <a:ext cx="7950240" cy="2933640"/>
          </a:xfrm>
          <a:prstGeom prst="rect">
            <a:avLst/>
          </a:prstGeom>
          <a:noFill/>
          <a:ln w="0">
            <a:noFill/>
          </a:ln>
        </p:spPr>
        <p:txBody>
          <a:bodyPr lIns="92160" rIns="92160" tIns="46080" bIns="46080" anchor="t">
            <a:normAutofit fontScale="67000"/>
          </a:bodyPr>
          <a:p>
            <a:pPr marL="229680" indent="-229680">
              <a:lnSpc>
                <a:spcPct val="90000"/>
              </a:lnSpc>
              <a:spcBef>
                <a:spcPts val="601"/>
              </a:spcBef>
              <a:buClr>
                <a:srgbClr val="8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duce capital expenditure on stock</a:t>
            </a:r>
            <a:endParaRPr b="1" lang="en-US" sz="2400" spc="-1" strike="noStrike">
              <a:solidFill>
                <a:srgbClr val="000066"/>
              </a:solidFill>
              <a:latin typeface="Arial"/>
            </a:endParaRPr>
          </a:p>
          <a:p>
            <a:pPr marL="229680" indent="-229680">
              <a:lnSpc>
                <a:spcPct val="90000"/>
              </a:lnSpc>
              <a:spcBef>
                <a:spcPts val="601"/>
              </a:spcBef>
              <a:buClr>
                <a:srgbClr val="8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duce storage requirements</a:t>
            </a:r>
            <a:endParaRPr b="1" lang="en-US" sz="2400" spc="-1" strike="noStrike">
              <a:solidFill>
                <a:srgbClr val="000066"/>
              </a:solidFill>
              <a:latin typeface="Arial"/>
            </a:endParaRPr>
          </a:p>
          <a:p>
            <a:pPr lvl="1" marL="497520" indent="-191160">
              <a:lnSpc>
                <a:spcPct val="90000"/>
              </a:lnSpc>
              <a:spcBef>
                <a:spcPts val="4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tore component in lowest cost form</a:t>
            </a:r>
            <a:endParaRPr b="1" lang="en-US" sz="2000" spc="-1" strike="noStrike">
              <a:solidFill>
                <a:srgbClr val="000066"/>
              </a:solidFill>
              <a:latin typeface="Arial"/>
            </a:endParaRPr>
          </a:p>
          <a:p>
            <a:pPr lvl="2" marL="765720" indent="-153000">
              <a:lnSpc>
                <a:spcPct val="90000"/>
              </a:lnSpc>
              <a:spcBef>
                <a:spcPts val="499"/>
              </a:spcBef>
              <a:buClr>
                <a:srgbClr val="8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deally design information only</a:t>
            </a:r>
            <a:endParaRPr b="1" lang="en-US" sz="2000" spc="-1" strike="noStrike">
              <a:solidFill>
                <a:srgbClr val="000066"/>
              </a:solidFill>
              <a:latin typeface="Arial"/>
            </a:endParaRPr>
          </a:p>
          <a:p>
            <a:pPr marL="229680" indent="-229680">
              <a:lnSpc>
                <a:spcPct val="90000"/>
              </a:lnSpc>
              <a:spcBef>
                <a:spcPts val="601"/>
              </a:spcBef>
              <a:buClr>
                <a:srgbClr val="8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upply item at lower cost</a:t>
            </a:r>
            <a:endParaRPr b="1" lang="en-US" sz="2400" spc="-1" strike="noStrike">
              <a:solidFill>
                <a:srgbClr val="000066"/>
              </a:solidFill>
              <a:latin typeface="Arial"/>
            </a:endParaRPr>
          </a:p>
          <a:p>
            <a:pPr lvl="1" marL="497520" indent="-191160">
              <a:lnSpc>
                <a:spcPct val="90000"/>
              </a:lnSpc>
              <a:spcBef>
                <a:spcPts val="4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Pre-manufacture savings</a:t>
            </a:r>
            <a:endParaRPr b="1" lang="en-US" sz="2000" spc="-1" strike="noStrike">
              <a:solidFill>
                <a:srgbClr val="000066"/>
              </a:solidFill>
              <a:latin typeface="Arial"/>
            </a:endParaRPr>
          </a:p>
          <a:p>
            <a:pPr lvl="1" marL="497520" indent="-191160">
              <a:lnSpc>
                <a:spcPct val="90000"/>
              </a:lnSpc>
              <a:spcBef>
                <a:spcPts val="4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Competitive tender</a:t>
            </a:r>
            <a:endParaRPr b="1" lang="en-US" sz="2000" spc="-1" strike="noStrike">
              <a:solidFill>
                <a:srgbClr val="000066"/>
              </a:solidFill>
              <a:latin typeface="Arial"/>
            </a:endParaRPr>
          </a:p>
          <a:p>
            <a:pPr marL="229680" indent="-229680">
              <a:lnSpc>
                <a:spcPct val="90000"/>
              </a:lnSpc>
              <a:spcBef>
                <a:spcPts val="601"/>
              </a:spcBef>
              <a:buClr>
                <a:srgbClr val="8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duce scrap of components </a:t>
            </a:r>
            <a:endParaRPr b="1" lang="en-US" sz="2400" spc="-1" strike="noStrike">
              <a:solidFill>
                <a:srgbClr val="000066"/>
              </a:solidFill>
              <a:latin typeface="Arial"/>
            </a:endParaRPr>
          </a:p>
          <a:p>
            <a:pPr lvl="1" marL="497520" indent="-191160">
              <a:lnSpc>
                <a:spcPct val="90000"/>
              </a:lnSpc>
              <a:spcBef>
                <a:spcPts val="4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Scrap during manufacture  </a:t>
            </a:r>
            <a:endParaRPr b="1" lang="en-US" sz="2000" spc="-1" strike="noStrike">
              <a:solidFill>
                <a:srgbClr val="000066"/>
              </a:solidFill>
              <a:latin typeface="Arial"/>
            </a:endParaRPr>
          </a:p>
          <a:p>
            <a:pPr lvl="1" marL="497520" indent="-191160">
              <a:lnSpc>
                <a:spcPct val="90000"/>
              </a:lnSpc>
              <a:spcBef>
                <a:spcPts val="4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Design change and obsolescence</a:t>
            </a:r>
            <a:endParaRPr b="1" lang="en-US" sz="2000" spc="-1" strike="noStrike">
              <a:solidFill>
                <a:srgbClr val="000066"/>
              </a:solidFill>
              <a:latin typeface="Arial"/>
            </a:endParaRPr>
          </a:p>
          <a:p>
            <a:pPr lvl="1" marL="497520" indent="-191160">
              <a:lnSpc>
                <a:spcPct val="90000"/>
              </a:lnSpc>
              <a:spcBef>
                <a:spcPts val="4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a:t>
            </a:r>
            <a:r>
              <a:rPr b="1" lang="en-US" sz="2000" spc="-1" strike="noStrike">
                <a:solidFill>
                  <a:srgbClr val="000066"/>
                </a:solidFill>
                <a:latin typeface="Arial"/>
              </a:rPr>
              <a:t>Lifetime buy” but never used</a:t>
            </a:r>
            <a:endParaRPr b="1" lang="en-US" sz="2000" spc="-1" strike="noStrike">
              <a:solidFill>
                <a:srgbClr val="000066"/>
              </a:solidFill>
              <a:latin typeface="Arial"/>
            </a:endParaRPr>
          </a:p>
          <a:p>
            <a:pPr lvl="1" marL="497520" indent="-191160">
              <a:lnSpc>
                <a:spcPct val="90000"/>
              </a:lnSpc>
              <a:spcBef>
                <a:spcPts val="4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a:t>
            </a:r>
            <a:r>
              <a:rPr b="1" lang="en-US" sz="2000" spc="-1" strike="noStrike">
                <a:solidFill>
                  <a:srgbClr val="000066"/>
                </a:solidFill>
                <a:latin typeface="Arial"/>
              </a:rPr>
              <a:t>Lifetime buy” item out of stock – can it be made</a:t>
            </a:r>
            <a:endParaRPr b="1" lang="en-US" sz="2000" spc="-1" strike="noStrike">
              <a:solidFill>
                <a:srgbClr val="000066"/>
              </a:solidFill>
              <a:latin typeface="Arial"/>
            </a:endParaRPr>
          </a:p>
        </p:txBody>
      </p:sp>
      <p:sp>
        <p:nvSpPr>
          <p:cNvPr id="62" name=""/>
          <p:cNvSpPr/>
          <p:nvPr/>
        </p:nvSpPr>
        <p:spPr>
          <a:xfrm>
            <a:off x="219240" y="749160"/>
            <a:ext cx="892476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Univers"/>
              </a:rPr>
              <a:t>The benefits   </a:t>
            </a:r>
            <a:endParaRPr b="0" lang="en-US" sz="3200" spc="-1" strike="noStrike">
              <a:solidFill>
                <a:srgbClr val="000000"/>
              </a:solidFill>
              <a:latin typeface="Times New Roman"/>
            </a:endParaRPr>
          </a:p>
        </p:txBody>
      </p:sp>
      <p:sp>
        <p:nvSpPr>
          <p:cNvPr id="63" name=""/>
          <p:cNvSpPr/>
          <p:nvPr/>
        </p:nvSpPr>
        <p:spPr>
          <a:xfrm>
            <a:off x="668520" y="560520"/>
            <a:ext cx="8408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Univers"/>
              </a:rPr>
              <a:t>Rapid Acquisition of Manufactured Parts</a:t>
            </a:r>
            <a:endParaRPr b="0" lang="en-US" sz="3200" spc="-1" strike="noStrike">
              <a:solidFill>
                <a:srgbClr val="000000"/>
              </a:solidFill>
              <a:latin typeface="Times New Roman"/>
            </a:endParaRPr>
          </a:p>
        </p:txBody>
      </p:sp>
    </p:spTree>
  </p:cSld>
  <p:transition>
    <p:dissolv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9fe"/>
            </a:gs>
            <a:gs pos="100000">
              <a:srgbClr val="fefefe"/>
            </a:gs>
          </a:gsLst>
          <a:lin ang="108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396800" y="596520"/>
            <a:ext cx="77468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Univers"/>
              </a:rPr>
              <a:t>Design Product Team</a:t>
            </a:r>
            <a:endParaRPr b="1" lang="en-US" sz="3600" spc="-1" strike="noStrike">
              <a:solidFill>
                <a:srgbClr val="3333cc"/>
              </a:solidFill>
              <a:latin typeface="Univers"/>
            </a:endParaRPr>
          </a:p>
        </p:txBody>
      </p:sp>
      <p:sp>
        <p:nvSpPr>
          <p:cNvPr id="224" name="PlaceHolder 2"/>
          <p:cNvSpPr>
            <a:spLocks noGrp="1"/>
          </p:cNvSpPr>
          <p:nvPr>
            <p:ph/>
          </p:nvPr>
        </p:nvSpPr>
        <p:spPr>
          <a:xfrm>
            <a:off x="1536480" y="1679400"/>
            <a:ext cx="760716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8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sign product grouping allows for efficiency  in the generation of item design representations as STEP files</a:t>
            </a:r>
            <a:endParaRPr b="1" lang="en-US" sz="2400" spc="-1" strike="noStrike">
              <a:solidFill>
                <a:srgbClr val="000066"/>
              </a:solidFill>
              <a:latin typeface="Arial"/>
            </a:endParaRPr>
          </a:p>
          <a:p>
            <a:pPr lvl="1" marL="743040" indent="-285840">
              <a:lnSpc>
                <a:spcPct val="90000"/>
              </a:lnSpc>
              <a:spcBef>
                <a:spcPts val="4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Model the family complexity once and re-use</a:t>
            </a:r>
            <a:endParaRPr b="1" lang="en-US" sz="2000" spc="-1" strike="noStrike">
              <a:solidFill>
                <a:srgbClr val="000066"/>
              </a:solidFill>
              <a:latin typeface="Arial"/>
            </a:endParaRPr>
          </a:p>
          <a:p>
            <a:pPr lvl="1" marL="743040" indent="-285840">
              <a:lnSpc>
                <a:spcPct val="90000"/>
              </a:lnSpc>
              <a:spcBef>
                <a:spcPts val="4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Application of standards to a range of products</a:t>
            </a:r>
            <a:endParaRPr b="1" lang="en-US" sz="2000" spc="-1" strike="noStrike">
              <a:solidFill>
                <a:srgbClr val="000066"/>
              </a:solidFill>
              <a:latin typeface="Arial"/>
            </a:endParaRPr>
          </a:p>
          <a:p>
            <a:pPr lvl="1" marL="743040" indent="-285840">
              <a:lnSpc>
                <a:spcPct val="90000"/>
              </a:lnSpc>
              <a:spcBef>
                <a:spcPts val="4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Reduced design verification time</a:t>
            </a:r>
            <a:endParaRPr b="1" lang="en-US" sz="2000" spc="-1" strike="noStrike">
              <a:solidFill>
                <a:srgbClr val="000066"/>
              </a:solidFill>
              <a:latin typeface="Arial"/>
            </a:endParaRPr>
          </a:p>
          <a:p>
            <a:pPr marL="343080" indent="-343080">
              <a:lnSpc>
                <a:spcPct val="90000"/>
              </a:lnSpc>
              <a:spcBef>
                <a:spcPts val="601"/>
              </a:spcBef>
              <a:buClr>
                <a:srgbClr val="8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nsuring that the STEP file represents the designers intent</a:t>
            </a:r>
            <a:endParaRPr b="1" lang="en-US" sz="2400" spc="-1" strike="noStrike">
              <a:solidFill>
                <a:srgbClr val="000066"/>
              </a:solidFill>
              <a:latin typeface="Arial"/>
            </a:endParaRPr>
          </a:p>
          <a:p>
            <a:pPr lvl="1" marL="743040" indent="-285840">
              <a:lnSpc>
                <a:spcPct val="90000"/>
              </a:lnSpc>
              <a:spcBef>
                <a:spcPts val="4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Group similar enquiries to the design authority </a:t>
            </a:r>
            <a:br>
              <a:rPr sz="2000"/>
            </a:br>
            <a:r>
              <a:rPr b="1" lang="en-US" sz="2000" spc="-1" strike="noStrike">
                <a:solidFill>
                  <a:srgbClr val="000066"/>
                </a:solidFill>
                <a:latin typeface="Arial"/>
              </a:rPr>
              <a:t>             perhaps allowing precedence examples</a:t>
            </a:r>
            <a:endParaRPr b="1" lang="en-US" sz="2000" spc="-1" strike="noStrike">
              <a:solidFill>
                <a:srgbClr val="000066"/>
              </a:solidFill>
              <a:latin typeface="Arial"/>
            </a:endParaRPr>
          </a:p>
          <a:p>
            <a:pPr lvl="1" marL="743040" indent="-285840">
              <a:lnSpc>
                <a:spcPct val="90000"/>
              </a:lnSpc>
              <a:spcBef>
                <a:spcPts val="4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ncrease familiarity with design requirements</a:t>
            </a:r>
            <a:endParaRPr b="1" lang="en-US" sz="2000" spc="-1" strike="noStrike">
              <a:solidFill>
                <a:srgbClr val="0000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Arial"/>
            </a:endParaRPr>
          </a:p>
        </p:txBody>
      </p:sp>
    </p:spTree>
  </p:cSld>
  <p:transition>
    <p:dissolv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9fe"/>
            </a:gs>
            <a:gs pos="100000">
              <a:srgbClr val="fefefe"/>
            </a:gs>
          </a:gsLst>
          <a:lin ang="108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396800" y="596520"/>
            <a:ext cx="77468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Univers"/>
              </a:rPr>
              <a:t>Manufacturing Product Team</a:t>
            </a:r>
            <a:endParaRPr b="1" lang="en-US" sz="3600" spc="-1" strike="noStrike">
              <a:solidFill>
                <a:srgbClr val="3333cc"/>
              </a:solidFill>
              <a:latin typeface="Univers"/>
            </a:endParaRPr>
          </a:p>
        </p:txBody>
      </p:sp>
      <p:sp>
        <p:nvSpPr>
          <p:cNvPr id="226" name="PlaceHolder 2"/>
          <p:cNvSpPr>
            <a:spLocks noGrp="1"/>
          </p:cNvSpPr>
          <p:nvPr>
            <p:ph/>
          </p:nvPr>
        </p:nvSpPr>
        <p:spPr>
          <a:xfrm>
            <a:off x="1536480" y="1679400"/>
            <a:ext cx="760716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8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Organisation of Manufacturing Engineering best practice </a:t>
            </a:r>
            <a:endParaRPr b="1" lang="en-US" sz="2800" spc="-1" strike="noStrike">
              <a:solidFill>
                <a:srgbClr val="000066"/>
              </a:solidFill>
              <a:latin typeface="Arial"/>
            </a:endParaRPr>
          </a:p>
          <a:p>
            <a:pPr marL="343080" indent="-343080">
              <a:lnSpc>
                <a:spcPct val="90000"/>
              </a:lnSpc>
              <a:spcBef>
                <a:spcPts val="700"/>
              </a:spcBef>
              <a:buClr>
                <a:srgbClr val="8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Optimum Material, equipment selection</a:t>
            </a:r>
            <a:endParaRPr b="1" lang="en-US" sz="2800" spc="-1" strike="noStrike">
              <a:solidFill>
                <a:srgbClr val="000066"/>
              </a:solidFill>
              <a:latin typeface="Arial"/>
            </a:endParaRPr>
          </a:p>
          <a:p>
            <a:pPr lvl="1" marL="743040" indent="-285840">
              <a:lnSpc>
                <a:spcPct val="90000"/>
              </a:lnSpc>
              <a:spcBef>
                <a:spcPts val="601"/>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upply of cut sequences for NC generation as appropriate</a:t>
            </a:r>
            <a:endParaRPr b="1" lang="en-US" sz="2400" spc="-1" strike="noStrike">
              <a:solidFill>
                <a:srgbClr val="000066"/>
              </a:solidFill>
              <a:latin typeface="Arial"/>
            </a:endParaRPr>
          </a:p>
          <a:p>
            <a:pPr lvl="1" marL="743040" indent="-285840">
              <a:lnSpc>
                <a:spcPct val="90000"/>
              </a:lnSpc>
              <a:spcBef>
                <a:spcPts val="601"/>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spection criteria, generation of quality assurance requirements</a:t>
            </a:r>
            <a:endParaRPr b="1" lang="en-US" sz="2400" spc="-1" strike="noStrike">
              <a:solidFill>
                <a:srgbClr val="000066"/>
              </a:solidFill>
              <a:latin typeface="Arial"/>
            </a:endParaRPr>
          </a:p>
          <a:p>
            <a:pPr marL="343080" indent="-343080">
              <a:lnSpc>
                <a:spcPct val="90000"/>
              </a:lnSpc>
              <a:spcBef>
                <a:spcPts val="700"/>
              </a:spcBef>
              <a:buClr>
                <a:srgbClr val="8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Validation experience can be applied to the product group</a:t>
            </a:r>
            <a:endParaRPr b="1" lang="en-US" sz="2800" spc="-1" strike="noStrike">
              <a:solidFill>
                <a:srgbClr val="000066"/>
              </a:solidFill>
              <a:latin typeface="Arial"/>
            </a:endParaRPr>
          </a:p>
          <a:p>
            <a:pPr lvl="1" marL="743040" indent="-285840">
              <a:lnSpc>
                <a:spcPct val="90000"/>
              </a:lnSpc>
              <a:spcBef>
                <a:spcPts val="601"/>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ormal testing of items within a range</a:t>
            </a:r>
            <a:endParaRPr b="1" lang="en-US" sz="2400" spc="-1" strike="noStrike">
              <a:solidFill>
                <a:srgbClr val="000066"/>
              </a:solidFill>
              <a:latin typeface="Arial"/>
            </a:endParaRPr>
          </a:p>
        </p:txBody>
      </p:sp>
    </p:spTree>
  </p:cSld>
  <p:transition>
    <p:dissolv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9fe"/>
            </a:gs>
            <a:gs pos="100000">
              <a:srgbClr val="fefefe"/>
            </a:gs>
          </a:gsLst>
          <a:lin ang="108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562040" y="647280"/>
            <a:ext cx="609624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Agenda</a:t>
            </a:r>
            <a:endParaRPr b="1" lang="en-US" sz="4000" spc="-1" strike="noStrike">
              <a:solidFill>
                <a:srgbClr val="3333cc"/>
              </a:solidFill>
              <a:latin typeface="Univers"/>
            </a:endParaRPr>
          </a:p>
        </p:txBody>
      </p:sp>
      <p:sp>
        <p:nvSpPr>
          <p:cNvPr id="228" name="PlaceHolder 2"/>
          <p:cNvSpPr>
            <a:spLocks noGrp="1"/>
          </p:cNvSpPr>
          <p:nvPr>
            <p:ph/>
          </p:nvPr>
        </p:nvSpPr>
        <p:spPr>
          <a:xfrm>
            <a:off x="1733040" y="1787400"/>
            <a:ext cx="7410600" cy="4114800"/>
          </a:xfrm>
          <a:prstGeom prst="rect">
            <a:avLst/>
          </a:prstGeom>
          <a:noFill/>
          <a:ln w="0">
            <a:noFill/>
          </a:ln>
        </p:spPr>
        <p:txBody>
          <a:bodyPr lIns="92160" rIns="92160" tIns="46080" bIns="46080" anchor="t">
            <a:normAutofit/>
          </a:bodyPr>
          <a:p>
            <a:pPr marL="343080" indent="-343080">
              <a:spcBef>
                <a:spcPts val="601"/>
              </a:spcBef>
              <a:buClr>
                <a:srgbClr val="8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9900"/>
                </a:solidFill>
                <a:latin typeface="Arial"/>
              </a:rPr>
              <a:t>Overview of RAMP</a:t>
            </a:r>
            <a:endParaRPr b="1" lang="en-US" sz="2400" spc="-1" strike="noStrike">
              <a:solidFill>
                <a:srgbClr val="000066"/>
              </a:solidFill>
              <a:latin typeface="Arial"/>
            </a:endParaRPr>
          </a:p>
          <a:p>
            <a:pPr marL="343080" indent="-343080">
              <a:spcBef>
                <a:spcPts val="601"/>
              </a:spcBef>
              <a:buClr>
                <a:srgbClr val="8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9900"/>
                </a:solidFill>
                <a:latin typeface="Arial"/>
              </a:rPr>
              <a:t>UK Evaluations of RAMP</a:t>
            </a:r>
            <a:endParaRPr b="1" lang="en-US" sz="2400" spc="-1" strike="noStrike">
              <a:solidFill>
                <a:srgbClr val="000066"/>
              </a:solidFill>
              <a:latin typeface="Arial"/>
            </a:endParaRPr>
          </a:p>
          <a:p>
            <a:pPr lvl="1" marL="743040" indent="-285840">
              <a:spcBef>
                <a:spcPts val="601"/>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9900"/>
                </a:solidFill>
                <a:latin typeface="Arial"/>
              </a:rPr>
              <a:t>UK Navy RAMP Project</a:t>
            </a:r>
            <a:endParaRPr b="1" lang="en-US" sz="2400" spc="-1" strike="noStrike">
              <a:solidFill>
                <a:srgbClr val="000066"/>
              </a:solidFill>
              <a:latin typeface="Arial"/>
            </a:endParaRPr>
          </a:p>
          <a:p>
            <a:pPr lvl="1" marL="743040" indent="-285840">
              <a:spcBef>
                <a:spcPts val="601"/>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9900"/>
                </a:solidFill>
                <a:latin typeface="Arial"/>
              </a:rPr>
              <a:t>Evaluation of UK Navy Store for AP224</a:t>
            </a:r>
            <a:endParaRPr b="1" lang="en-US" sz="2400" spc="-1" strike="noStrike">
              <a:solidFill>
                <a:srgbClr val="000066"/>
              </a:solidFill>
              <a:latin typeface="Arial"/>
            </a:endParaRPr>
          </a:p>
          <a:p>
            <a:pPr lvl="1" marL="743040" indent="-285840">
              <a:spcBef>
                <a:spcPts val="601"/>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9900"/>
                </a:solidFill>
                <a:latin typeface="Arial"/>
              </a:rPr>
              <a:t>DML RAMP Evaluation Project</a:t>
            </a:r>
            <a:endParaRPr b="1" lang="en-US" sz="2400" spc="-1" strike="noStrike">
              <a:solidFill>
                <a:srgbClr val="000066"/>
              </a:solidFill>
              <a:latin typeface="Arial"/>
            </a:endParaRPr>
          </a:p>
          <a:p>
            <a:pPr marL="343080" indent="-343080">
              <a:spcBef>
                <a:spcPts val="601"/>
              </a:spcBef>
              <a:buClr>
                <a:srgbClr val="8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UK Deployment of RAMP</a:t>
            </a:r>
            <a:endParaRPr b="1" lang="en-US" sz="2400" spc="-1" strike="noStrike">
              <a:solidFill>
                <a:srgbClr val="000066"/>
              </a:solidFill>
              <a:latin typeface="Arial"/>
            </a:endParaRPr>
          </a:p>
          <a:p>
            <a:pPr lvl="1" marL="743040" indent="-285840">
              <a:spcBef>
                <a:spcPts val="601"/>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9900"/>
                </a:solidFill>
                <a:latin typeface="Arial"/>
              </a:rPr>
              <a:t>Submarine Legacy Spares – business case</a:t>
            </a:r>
            <a:endParaRPr b="1" lang="en-US" sz="2400" spc="-1" strike="noStrike">
              <a:solidFill>
                <a:srgbClr val="000066"/>
              </a:solidFill>
              <a:latin typeface="Arial"/>
            </a:endParaRPr>
          </a:p>
          <a:p>
            <a:pPr lvl="1" marL="743040" indent="-285840">
              <a:spcBef>
                <a:spcPts val="601"/>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Submarine Legacy Spares – status</a:t>
            </a:r>
            <a:endParaRPr b="1" lang="en-US" sz="2400" spc="-1" strike="noStrike">
              <a:solidFill>
                <a:srgbClr val="000066"/>
              </a:solidFill>
              <a:latin typeface="Arial"/>
            </a:endParaRPr>
          </a:p>
          <a:p>
            <a:pPr lvl="1" marL="743040" indent="-285840">
              <a:spcBef>
                <a:spcPts val="601"/>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RAMP at DML </a:t>
            </a:r>
            <a:endParaRPr b="1" lang="en-US" sz="2400" spc="-1" strike="noStrike">
              <a:solidFill>
                <a:srgbClr val="0000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Tree>
  </p:cSld>
  <p:transition>
    <p:dissolv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9fe"/>
            </a:gs>
            <a:gs pos="100000">
              <a:srgbClr val="fefefe"/>
            </a:gs>
          </a:gsLst>
          <a:lin ang="108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396800" y="596520"/>
            <a:ext cx="77468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Univers"/>
              </a:rPr>
              <a:t>RAMP in Operation</a:t>
            </a:r>
            <a:endParaRPr b="1" lang="en-US" sz="3600" spc="-1" strike="noStrike">
              <a:solidFill>
                <a:srgbClr val="3333cc"/>
              </a:solidFill>
              <a:latin typeface="Univers"/>
            </a:endParaRPr>
          </a:p>
        </p:txBody>
      </p:sp>
      <p:sp>
        <p:nvSpPr>
          <p:cNvPr id="230" name="PlaceHolder 2"/>
          <p:cNvSpPr>
            <a:spLocks noGrp="1"/>
          </p:cNvSpPr>
          <p:nvPr>
            <p:ph/>
          </p:nvPr>
        </p:nvSpPr>
        <p:spPr>
          <a:xfrm>
            <a:off x="1536480" y="1450800"/>
            <a:ext cx="7607160" cy="4114800"/>
          </a:xfrm>
          <a:prstGeom prst="rect">
            <a:avLst/>
          </a:prstGeom>
          <a:noFill/>
          <a:ln w="0">
            <a:noFill/>
          </a:ln>
        </p:spPr>
        <p:txBody>
          <a:bodyPr lIns="92160" rIns="92160" tIns="46080" bIns="46080" anchor="t">
            <a:normAutofit fontScale="88000"/>
          </a:bodyPr>
          <a:p>
            <a:pPr marL="301680" indent="-301680">
              <a:lnSpc>
                <a:spcPct val="90000"/>
              </a:lnSpc>
              <a:spcBef>
                <a:spcPts val="601"/>
              </a:spcBef>
              <a:buClr>
                <a:srgbClr val="8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duction in order size and the time between item orders </a:t>
            </a:r>
            <a:endParaRPr b="1" lang="en-US" sz="2400" spc="-1" strike="noStrike">
              <a:solidFill>
                <a:srgbClr val="000066"/>
              </a:solidFill>
              <a:latin typeface="Arial"/>
            </a:endParaRPr>
          </a:p>
          <a:p>
            <a:pPr marL="301680" indent="-301680">
              <a:lnSpc>
                <a:spcPct val="90000"/>
              </a:lnSpc>
              <a:spcBef>
                <a:spcPts val="601"/>
              </a:spcBef>
              <a:buClr>
                <a:srgbClr val="8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AMP helps with reduction in costs of processing orders</a:t>
            </a:r>
            <a:endParaRPr b="1" lang="en-US" sz="2400" spc="-1" strike="noStrike">
              <a:solidFill>
                <a:srgbClr val="000066"/>
              </a:solidFill>
              <a:latin typeface="Arial"/>
            </a:endParaRPr>
          </a:p>
          <a:p>
            <a:pPr marL="301680" indent="-301680">
              <a:lnSpc>
                <a:spcPct val="90000"/>
              </a:lnSpc>
              <a:spcBef>
                <a:spcPts val="601"/>
              </a:spcBef>
              <a:buClr>
                <a:srgbClr val="8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rder quantities adapted/minimised by SLSC manager</a:t>
            </a:r>
            <a:endParaRPr b="1" lang="en-US" sz="2400" spc="-1" strike="noStrike">
              <a:solidFill>
                <a:srgbClr val="000066"/>
              </a:solidFill>
              <a:latin typeface="Arial"/>
            </a:endParaRPr>
          </a:p>
          <a:p>
            <a:pPr lvl="1" marL="653760" indent="-251280">
              <a:lnSpc>
                <a:spcPct val="90000"/>
              </a:lnSpc>
              <a:spcBef>
                <a:spcPts val="4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to support immediate demand </a:t>
            </a:r>
            <a:endParaRPr b="1" lang="en-US" sz="2000" spc="-1" strike="noStrike">
              <a:solidFill>
                <a:srgbClr val="000066"/>
              </a:solidFill>
              <a:latin typeface="Arial"/>
            </a:endParaRPr>
          </a:p>
          <a:p>
            <a:pPr lvl="1" marL="653760" indent="-251280">
              <a:lnSpc>
                <a:spcPct val="90000"/>
              </a:lnSpc>
              <a:spcBef>
                <a:spcPts val="4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to meet the predicted demand supply within the lead </a:t>
            </a:r>
            <a:r>
              <a:rPr b="1" lang="en-US" sz="2000" spc="-1" strike="noStrike">
                <a:solidFill>
                  <a:srgbClr val="000066"/>
                </a:solidFill>
                <a:latin typeface="Arial"/>
              </a:rPr>
              <a:t>	</a:t>
            </a:r>
            <a:r>
              <a:rPr b="1" lang="en-US" sz="2000" spc="-1" strike="noStrike">
                <a:solidFill>
                  <a:srgbClr val="000066"/>
                </a:solidFill>
                <a:latin typeface="Arial"/>
              </a:rPr>
              <a:t>	</a:t>
            </a:r>
            <a:r>
              <a:rPr b="1" lang="en-US" sz="2000" spc="-1" strike="noStrike">
                <a:solidFill>
                  <a:srgbClr val="000066"/>
                </a:solidFill>
                <a:latin typeface="Arial"/>
              </a:rPr>
              <a:t>	</a:t>
            </a:r>
            <a:r>
              <a:rPr b="1" lang="en-US" sz="2000" spc="-1" strike="noStrike">
                <a:solidFill>
                  <a:srgbClr val="000066"/>
                </a:solidFill>
                <a:latin typeface="Arial"/>
              </a:rPr>
              <a:t>time plus contingency</a:t>
            </a:r>
            <a:endParaRPr b="1" lang="en-US" sz="2000" spc="-1" strike="noStrike">
              <a:solidFill>
                <a:srgbClr val="000066"/>
              </a:solidFill>
              <a:latin typeface="Arial"/>
            </a:endParaRPr>
          </a:p>
          <a:p>
            <a:pPr marL="301680" indent="-301680">
              <a:lnSpc>
                <a:spcPct val="90000"/>
              </a:lnSpc>
              <a:spcBef>
                <a:spcPts val="601"/>
              </a:spcBef>
              <a:buClr>
                <a:srgbClr val="8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ith continued refinement in use </a:t>
            </a:r>
            <a:endParaRPr b="1" lang="en-US" sz="2400" spc="-1" strike="noStrike">
              <a:solidFill>
                <a:srgbClr val="000066"/>
              </a:solidFill>
              <a:latin typeface="Arial"/>
            </a:endParaRPr>
          </a:p>
          <a:p>
            <a:pPr lvl="1" marL="653760" indent="-251280">
              <a:lnSpc>
                <a:spcPct val="90000"/>
              </a:lnSpc>
              <a:spcBef>
                <a:spcPts val="4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Manufacturing lead time will reduce</a:t>
            </a:r>
            <a:endParaRPr b="1" lang="en-US" sz="2000" spc="-1" strike="noStrike">
              <a:solidFill>
                <a:srgbClr val="000066"/>
              </a:solidFill>
              <a:latin typeface="Arial"/>
            </a:endParaRPr>
          </a:p>
          <a:p>
            <a:pPr lvl="1" marL="653760" indent="-251280">
              <a:lnSpc>
                <a:spcPct val="90000"/>
              </a:lnSpc>
              <a:spcBef>
                <a:spcPts val="4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Contingency will reduce</a:t>
            </a:r>
            <a:endParaRPr b="1" lang="en-US" sz="2000" spc="-1" strike="noStrike">
              <a:solidFill>
                <a:srgbClr val="000066"/>
              </a:solidFill>
              <a:latin typeface="Arial"/>
            </a:endParaRPr>
          </a:p>
          <a:p>
            <a:pPr marL="301680" indent="-301680">
              <a:lnSpc>
                <a:spcPct val="90000"/>
              </a:lnSpc>
              <a:spcBef>
                <a:spcPts val="601"/>
              </a:spcBef>
              <a:buClr>
                <a:srgbClr val="8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y partnership, </a:t>
            </a:r>
            <a:endParaRPr b="1" lang="en-US" sz="2400" spc="-1" strike="noStrike">
              <a:solidFill>
                <a:srgbClr val="000066"/>
              </a:solidFill>
              <a:latin typeface="Arial"/>
            </a:endParaRPr>
          </a:p>
          <a:p>
            <a:pPr lvl="1" marL="653760" indent="-251280">
              <a:lnSpc>
                <a:spcPct val="90000"/>
              </a:lnSpc>
              <a:spcBef>
                <a:spcPts val="4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olution for MXS &amp; DML is low stock, assured supply</a:t>
            </a:r>
            <a:endParaRPr b="1" lang="en-US" sz="2000" spc="-1" strike="noStrike">
              <a:solidFill>
                <a:srgbClr val="000066"/>
              </a:solidFill>
              <a:latin typeface="Arial"/>
            </a:endParaRPr>
          </a:p>
        </p:txBody>
      </p:sp>
    </p:spTree>
  </p:cSld>
  <p:transition>
    <p:dissolv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9fe"/>
            </a:gs>
            <a:gs pos="100000">
              <a:srgbClr val="fefefe"/>
            </a:gs>
          </a:gsLst>
          <a:lin ang="10800000"/>
        </a:gradFill>
      </p:bgPr>
    </p:bg>
    <p:spTree>
      <p:nvGrpSpPr>
        <p:cNvPr id="1" name=""/>
        <p:cNvGrpSpPr/>
        <p:nvPr/>
      </p:nvGrpSpPr>
      <p:grpSpPr>
        <a:xfrm>
          <a:off x="0" y="0"/>
          <a:ext cx="0" cy="0"/>
          <a:chOff x="0" y="0"/>
          <a:chExt cx="0" cy="0"/>
        </a:xfrm>
      </p:grpSpPr>
      <p:pic>
        <p:nvPicPr>
          <p:cNvPr id="231" name="job%20doc" descr=""/>
          <p:cNvPicPr/>
          <p:nvPr/>
        </p:nvPicPr>
        <p:blipFill>
          <a:blip r:embed="rId1"/>
          <a:stretch/>
        </p:blipFill>
        <p:spPr>
          <a:xfrm>
            <a:off x="0" y="571680"/>
            <a:ext cx="9069480" cy="5257800"/>
          </a:xfrm>
          <a:prstGeom prst="rect">
            <a:avLst/>
          </a:prstGeom>
          <a:ln w="0">
            <a:noFill/>
          </a:ln>
        </p:spPr>
      </p:pic>
      <p:pic>
        <p:nvPicPr>
          <p:cNvPr id="232" name="nc_code" descr=""/>
          <p:cNvPicPr/>
          <p:nvPr/>
        </p:nvPicPr>
        <p:blipFill>
          <a:blip r:embed="rId2"/>
          <a:stretch/>
        </p:blipFill>
        <p:spPr>
          <a:xfrm>
            <a:off x="0" y="184320"/>
            <a:ext cx="8458200" cy="6673680"/>
          </a:xfrm>
          <a:prstGeom prst="rect">
            <a:avLst/>
          </a:prstGeom>
          <a:ln w="0">
            <a:noFill/>
          </a:ln>
        </p:spPr>
      </p:pic>
      <p:sp>
        <p:nvSpPr>
          <p:cNvPr id="233" name="PlaceHolder 1"/>
          <p:cNvSpPr>
            <a:spLocks noGrp="1"/>
          </p:cNvSpPr>
          <p:nvPr>
            <p:ph type="title"/>
          </p:nvPr>
        </p:nvSpPr>
        <p:spPr>
          <a:xfrm>
            <a:off x="1396800" y="596520"/>
            <a:ext cx="77468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Univers"/>
              </a:rPr>
              <a:t>RAMP Operations</a:t>
            </a:r>
            <a:endParaRPr b="1" lang="en-US" sz="3600" spc="-1" strike="noStrike">
              <a:solidFill>
                <a:srgbClr val="3333cc"/>
              </a:solidFill>
              <a:latin typeface="Univers"/>
            </a:endParaRPr>
          </a:p>
        </p:txBody>
      </p:sp>
      <p:pic>
        <p:nvPicPr>
          <p:cNvPr id="234" name="04056%20D-31%20Lathe%20operator%20in%20main%20factory" descr=""/>
          <p:cNvPicPr/>
          <p:nvPr/>
        </p:nvPicPr>
        <p:blipFill>
          <a:blip r:embed="rId3"/>
          <a:stretch/>
        </p:blipFill>
        <p:spPr>
          <a:xfrm>
            <a:off x="0" y="0"/>
            <a:ext cx="9144000" cy="6859440"/>
          </a:xfrm>
          <a:prstGeom prst="rect">
            <a:avLst/>
          </a:prstGeom>
          <a:ln w="0">
            <a:noFill/>
          </a:ln>
        </p:spPr>
      </p:pic>
      <p:pic>
        <p:nvPicPr>
          <p:cNvPr id="235" name="04056%20D-28%20CU%20of%20studs" descr=""/>
          <p:cNvPicPr/>
          <p:nvPr/>
        </p:nvPicPr>
        <p:blipFill>
          <a:blip r:embed="rId4"/>
          <a:stretch/>
        </p:blipFill>
        <p:spPr>
          <a:xfrm>
            <a:off x="1773360" y="0"/>
            <a:ext cx="5140080" cy="6858000"/>
          </a:xfrm>
          <a:prstGeom prst="rect">
            <a:avLst/>
          </a:prstGeom>
          <a:ln w="0">
            <a:noFill/>
          </a:ln>
        </p:spPr>
      </p:pic>
      <p:pic>
        <p:nvPicPr>
          <p:cNvPr id="236" name="stud" descr=""/>
          <p:cNvPicPr/>
          <p:nvPr/>
        </p:nvPicPr>
        <p:blipFill>
          <a:blip r:embed="rId5"/>
          <a:stretch/>
        </p:blipFill>
        <p:spPr>
          <a:xfrm>
            <a:off x="480960" y="396720"/>
            <a:ext cx="7810560" cy="5519880"/>
          </a:xfrm>
          <a:prstGeom prst="rect">
            <a:avLst/>
          </a:prstGeom>
          <a:ln w="0">
            <a:noFill/>
          </a:ln>
        </p:spPr>
      </p:pic>
      <p:pic>
        <p:nvPicPr>
          <p:cNvPr id="237" name="" descr=""/>
          <p:cNvPicPr/>
          <p:nvPr/>
        </p:nvPicPr>
        <p:blipFill>
          <a:blip r:embed="rId6"/>
          <a:srcRect l="0" t="3581" r="0" b="0"/>
          <a:stretch/>
        </p:blipFill>
        <p:spPr>
          <a:xfrm>
            <a:off x="1228680" y="0"/>
            <a:ext cx="7062840" cy="8769240"/>
          </a:xfrm>
          <a:prstGeom prst="rect">
            <a:avLst/>
          </a:prstGeom>
          <a:ln w="0">
            <a:noFill/>
          </a:ln>
        </p:spPr>
      </p:pic>
      <p:pic>
        <p:nvPicPr>
          <p:cNvPr id="238" name="viewer%20and%20qa" descr=""/>
          <p:cNvPicPr/>
          <p:nvPr/>
        </p:nvPicPr>
        <p:blipFill>
          <a:blip r:embed="rId7"/>
          <a:stretch/>
        </p:blipFill>
        <p:spPr>
          <a:xfrm>
            <a:off x="-36360" y="0"/>
            <a:ext cx="9180360" cy="6885000"/>
          </a:xfrm>
          <a:prstGeom prst="rect">
            <a:avLst/>
          </a:prstGeom>
          <a:ln w="0">
            <a:noFill/>
          </a:ln>
        </p:spPr>
      </p:pic>
      <p:pic>
        <p:nvPicPr>
          <p:cNvPr id="239" name="0011457" descr=""/>
          <p:cNvPicPr/>
          <p:nvPr/>
        </p:nvPicPr>
        <p:blipFill>
          <a:blip r:embed="rId8"/>
          <a:stretch/>
        </p:blipFill>
        <p:spPr>
          <a:xfrm>
            <a:off x="-2787480" y="-2030400"/>
            <a:ext cx="13614120" cy="9574200"/>
          </a:xfrm>
          <a:prstGeom prst="rect">
            <a:avLst/>
          </a:prstGeom>
          <a:ln w="0">
            <a:noFill/>
          </a:ln>
        </p:spPr>
      </p:pic>
      <p:pic>
        <p:nvPicPr>
          <p:cNvPr id="240" name="shaded%20viewer%20and%20features" descr=""/>
          <p:cNvPicPr/>
          <p:nvPr/>
        </p:nvPicPr>
        <p:blipFill>
          <a:blip r:embed="rId9"/>
          <a:stretch/>
        </p:blipFill>
        <p:spPr>
          <a:xfrm>
            <a:off x="-17640" y="-12600"/>
            <a:ext cx="9180720" cy="6885000"/>
          </a:xfrm>
          <a:prstGeom prst="rect">
            <a:avLst/>
          </a:prstGeom>
          <a:ln w="0">
            <a:noFill/>
          </a:ln>
        </p:spPr>
      </p:pic>
    </p:spTree>
  </p:cSld>
  <p:transition>
    <p:dissolv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9fe"/>
            </a:gs>
            <a:gs pos="100000">
              <a:srgbClr val="fefefe"/>
            </a:gs>
          </a:gsLst>
          <a:lin ang="108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396800" y="596520"/>
            <a:ext cx="77468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Univers"/>
              </a:rPr>
              <a:t>RAMP Implementation</a:t>
            </a:r>
            <a:endParaRPr b="1" lang="en-US" sz="3600" spc="-1" strike="noStrike">
              <a:solidFill>
                <a:srgbClr val="3333cc"/>
              </a:solidFill>
              <a:latin typeface="Univers"/>
            </a:endParaRPr>
          </a:p>
        </p:txBody>
      </p:sp>
      <p:sp>
        <p:nvSpPr>
          <p:cNvPr id="242" name="PlaceHolder 2"/>
          <p:cNvSpPr>
            <a:spLocks noGrp="1"/>
          </p:cNvSpPr>
          <p:nvPr>
            <p:ph/>
          </p:nvPr>
        </p:nvSpPr>
        <p:spPr>
          <a:xfrm>
            <a:off x="1536480" y="1679400"/>
            <a:ext cx="7607160" cy="4114800"/>
          </a:xfrm>
          <a:prstGeom prst="rect">
            <a:avLst/>
          </a:prstGeom>
          <a:noFill/>
          <a:ln w="0">
            <a:noFill/>
          </a:ln>
        </p:spPr>
        <p:txBody>
          <a:bodyPr lIns="92160" rIns="92160" tIns="46080" bIns="46080" anchor="t">
            <a:normAutofit fontScale="95000"/>
          </a:bodyPr>
          <a:p>
            <a:pPr marL="325800" indent="-325800">
              <a:lnSpc>
                <a:spcPct val="90000"/>
              </a:lnSpc>
              <a:spcBef>
                <a:spcPts val="601"/>
              </a:spcBef>
              <a:buClr>
                <a:srgbClr val="8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 prudent approach to implementation</a:t>
            </a:r>
            <a:endParaRPr b="1" lang="en-US" sz="2400" spc="-1" strike="noStrike">
              <a:solidFill>
                <a:srgbClr val="000066"/>
              </a:solidFill>
              <a:latin typeface="Arial"/>
            </a:endParaRPr>
          </a:p>
          <a:p>
            <a:pPr lvl="1" marL="705600" indent="-271440">
              <a:lnSpc>
                <a:spcPct val="90000"/>
              </a:lnSpc>
              <a:spcBef>
                <a:spcPts val="4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Not initially adopting a zero stock policy</a:t>
            </a:r>
            <a:endParaRPr b="1" lang="en-US" sz="2000" spc="-1" strike="noStrike">
              <a:solidFill>
                <a:srgbClr val="000066"/>
              </a:solidFill>
              <a:latin typeface="Arial"/>
            </a:endParaRPr>
          </a:p>
          <a:p>
            <a:pPr lvl="1" marL="705600" indent="-271440">
              <a:lnSpc>
                <a:spcPct val="90000"/>
              </a:lnSpc>
              <a:spcBef>
                <a:spcPts val="4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Preparing design and manufacture capability prior to reduced order sizes</a:t>
            </a:r>
            <a:endParaRPr b="1" lang="en-US" sz="2000" spc="-1" strike="noStrike">
              <a:solidFill>
                <a:srgbClr val="000066"/>
              </a:solidFill>
              <a:latin typeface="Arial"/>
            </a:endParaRPr>
          </a:p>
          <a:p>
            <a:pPr marL="325800" indent="-325800">
              <a:lnSpc>
                <a:spcPct val="90000"/>
              </a:lnSpc>
              <a:spcBef>
                <a:spcPts val="601"/>
              </a:spcBef>
              <a:buClr>
                <a:srgbClr val="8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hased introduction of RAMP</a:t>
            </a:r>
            <a:endParaRPr b="1" lang="en-US" sz="2400" spc="-1" strike="noStrike">
              <a:solidFill>
                <a:srgbClr val="000066"/>
              </a:solidFill>
              <a:latin typeface="Arial"/>
            </a:endParaRPr>
          </a:p>
          <a:p>
            <a:pPr lvl="1" marL="705600" indent="-271440">
              <a:lnSpc>
                <a:spcPct val="90000"/>
              </a:lnSpc>
              <a:spcBef>
                <a:spcPts val="4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n four phases by design/manufacture product group</a:t>
            </a:r>
            <a:endParaRPr b="1" lang="en-US" sz="2000" spc="-1" strike="noStrike">
              <a:solidFill>
                <a:srgbClr val="000066"/>
              </a:solidFill>
              <a:latin typeface="Arial"/>
            </a:endParaRPr>
          </a:p>
          <a:p>
            <a:pPr lvl="1" marL="705600" indent="-271440">
              <a:lnSpc>
                <a:spcPct val="90000"/>
              </a:lnSpc>
              <a:spcBef>
                <a:spcPts val="4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Within each phase, deplete largest stock items first</a:t>
            </a:r>
            <a:endParaRPr b="1" lang="en-US" sz="2000" spc="-1" strike="noStrike">
              <a:solidFill>
                <a:srgbClr val="000066"/>
              </a:solidFill>
              <a:latin typeface="Arial"/>
            </a:endParaRPr>
          </a:p>
          <a:p>
            <a:pPr marL="325800" indent="-325800">
              <a:lnSpc>
                <a:spcPct val="90000"/>
              </a:lnSpc>
              <a:spcBef>
                <a:spcPts val="601"/>
              </a:spcBef>
              <a:buClr>
                <a:srgbClr val="8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bserved that the actual demand has been higher than </a:t>
            </a: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CRISP  FDR</a:t>
            </a:r>
            <a:endParaRPr b="1" lang="en-US" sz="2400" spc="-1" strike="noStrike">
              <a:solidFill>
                <a:srgbClr val="000066"/>
              </a:solidFill>
              <a:latin typeface="Arial"/>
            </a:endParaRPr>
          </a:p>
          <a:p>
            <a:pPr lvl="1" marL="705600" indent="-271440">
              <a:lnSpc>
                <a:spcPct val="90000"/>
              </a:lnSpc>
              <a:spcBef>
                <a:spcPts val="4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More items can be covered within the SLSC</a:t>
            </a:r>
            <a:endParaRPr b="1" lang="en-US" sz="2000" spc="-1" strike="noStrike">
              <a:solidFill>
                <a:srgbClr val="000066"/>
              </a:solidFill>
              <a:latin typeface="Arial"/>
            </a:endParaRPr>
          </a:p>
          <a:p>
            <a:pPr lvl="1" marL="705600" indent="-271440">
              <a:lnSpc>
                <a:spcPct val="90000"/>
              </a:lnSpc>
              <a:spcBef>
                <a:spcPts val="4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The cost benefits will be available earlier than predicted</a:t>
            </a:r>
            <a:endParaRPr b="1" lang="en-US" sz="2000" spc="-1" strike="noStrike">
              <a:solidFill>
                <a:srgbClr val="000066"/>
              </a:solidFill>
              <a:latin typeface="Arial"/>
            </a:endParaRPr>
          </a:p>
        </p:txBody>
      </p:sp>
    </p:spTree>
  </p:cSld>
  <p:transition>
    <p:dissolv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9fe"/>
            </a:gs>
            <a:gs pos="100000">
              <a:srgbClr val="fefefe"/>
            </a:gs>
          </a:gsLst>
          <a:lin ang="108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396800" y="596520"/>
            <a:ext cx="77468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Univers"/>
              </a:rPr>
              <a:t>RAMP Progress Review</a:t>
            </a:r>
            <a:endParaRPr b="1" lang="en-US" sz="3600" spc="-1" strike="noStrike">
              <a:solidFill>
                <a:srgbClr val="3333cc"/>
              </a:solidFill>
              <a:latin typeface="Univers"/>
            </a:endParaRPr>
          </a:p>
        </p:txBody>
      </p:sp>
      <p:sp>
        <p:nvSpPr>
          <p:cNvPr id="244" name="PlaceHolder 2"/>
          <p:cNvSpPr>
            <a:spLocks noGrp="1"/>
          </p:cNvSpPr>
          <p:nvPr>
            <p:ph/>
          </p:nvPr>
        </p:nvSpPr>
        <p:spPr>
          <a:xfrm>
            <a:off x="1000080" y="1663560"/>
            <a:ext cx="8143920" cy="4114800"/>
          </a:xfrm>
          <a:prstGeom prst="rect">
            <a:avLst/>
          </a:prstGeom>
          <a:noFill/>
          <a:ln w="0">
            <a:noFill/>
          </a:ln>
        </p:spPr>
        <p:txBody>
          <a:bodyPr lIns="92160" rIns="92160" tIns="46080" bIns="46080" anchor="t">
            <a:normAutofit fontScale="99000"/>
          </a:bodyPr>
          <a:p>
            <a:pPr marL="339480" indent="-339480">
              <a:spcBef>
                <a:spcPts val="700"/>
              </a:spcBef>
              <a:buClr>
                <a:srgbClr val="8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Project review</a:t>
            </a:r>
            <a:endParaRPr b="1" lang="en-US" sz="2800" spc="-1" strike="noStrike">
              <a:solidFill>
                <a:srgbClr val="000066"/>
              </a:solidFill>
              <a:latin typeface="Arial"/>
            </a:endParaRPr>
          </a:p>
          <a:p>
            <a:pPr lvl="1" marL="735480" indent="-282960">
              <a:spcBef>
                <a:spcPts val="601"/>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cheduled for 6 months from project start</a:t>
            </a:r>
            <a:endParaRPr b="1" lang="en-US" sz="2400" spc="-1" strike="noStrike">
              <a:solidFill>
                <a:srgbClr val="000066"/>
              </a:solidFill>
              <a:latin typeface="Arial"/>
            </a:endParaRPr>
          </a:p>
          <a:p>
            <a:pPr marL="339480" indent="-339480">
              <a:spcBef>
                <a:spcPts val="700"/>
              </a:spcBef>
              <a:buClr>
                <a:srgbClr val="8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uccess, how do you measure?</a:t>
            </a:r>
            <a:endParaRPr b="1" lang="en-US" sz="2800" spc="-1" strike="noStrike">
              <a:solidFill>
                <a:srgbClr val="000066"/>
              </a:solidFill>
              <a:latin typeface="Arial"/>
            </a:endParaRPr>
          </a:p>
          <a:p>
            <a:pPr lvl="1" marL="735480" indent="-282960">
              <a:spcBef>
                <a:spcPts val="601"/>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mplementation progress</a:t>
            </a:r>
            <a:endParaRPr b="1" lang="en-US" sz="2400" spc="-1" strike="noStrike">
              <a:solidFill>
                <a:srgbClr val="000066"/>
              </a:solidFill>
              <a:latin typeface="Arial"/>
            </a:endParaRPr>
          </a:p>
          <a:p>
            <a:pPr lvl="2" marL="1131480" indent="-226080">
              <a:spcBef>
                <a:spcPts val="601"/>
              </a:spcBef>
              <a:buClr>
                <a:srgbClr val="8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tem representation</a:t>
            </a:r>
            <a:endParaRPr b="1" lang="en-US" sz="2400" spc="-1" strike="noStrike">
              <a:solidFill>
                <a:srgbClr val="000066"/>
              </a:solidFill>
              <a:latin typeface="Arial"/>
            </a:endParaRPr>
          </a:p>
          <a:p>
            <a:pPr lvl="2" marL="1131480" indent="-226080">
              <a:spcBef>
                <a:spcPts val="601"/>
              </a:spcBef>
              <a:buClr>
                <a:srgbClr val="8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bility to manufacture</a:t>
            </a:r>
            <a:endParaRPr b="1" lang="en-US" sz="2400" spc="-1" strike="noStrike">
              <a:solidFill>
                <a:srgbClr val="000066"/>
              </a:solidFill>
              <a:latin typeface="Arial"/>
            </a:endParaRPr>
          </a:p>
          <a:p>
            <a:pPr lvl="1" marL="735480" indent="-282960">
              <a:spcBef>
                <a:spcPts val="601"/>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nancial review</a:t>
            </a:r>
            <a:endParaRPr b="1" lang="en-US" sz="2400" spc="-1" strike="noStrike">
              <a:solidFill>
                <a:srgbClr val="000066"/>
              </a:solidFill>
              <a:latin typeface="Arial"/>
            </a:endParaRPr>
          </a:p>
          <a:p>
            <a:pPr lvl="2" marL="1131480" indent="-226080">
              <a:spcBef>
                <a:spcPts val="601"/>
              </a:spcBef>
              <a:buClr>
                <a:srgbClr val="8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rder denials to avoid manufacture for stock</a:t>
            </a:r>
            <a:endParaRPr b="1" lang="en-US" sz="2400" spc="-1" strike="noStrike">
              <a:solidFill>
                <a:srgbClr val="000066"/>
              </a:solidFill>
              <a:latin typeface="Arial"/>
            </a:endParaRPr>
          </a:p>
          <a:p>
            <a:pPr lvl="2" marL="1131480" indent="-226080">
              <a:spcBef>
                <a:spcPts val="601"/>
              </a:spcBef>
              <a:buClr>
                <a:srgbClr val="8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tock reduction</a:t>
            </a:r>
            <a:endParaRPr b="1" lang="en-US" sz="2400" spc="-1" strike="noStrike">
              <a:solidFill>
                <a:srgbClr val="000066"/>
              </a:solidFill>
              <a:latin typeface="Arial"/>
            </a:endParaRPr>
          </a:p>
        </p:txBody>
      </p:sp>
    </p:spTree>
  </p:cSld>
  <p:transition>
    <p:dissolv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9fe"/>
            </a:gs>
            <a:gs pos="100000">
              <a:srgbClr val="fefefe"/>
            </a:gs>
          </a:gsLst>
          <a:lin ang="108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396800" y="596520"/>
            <a:ext cx="77468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Univers"/>
              </a:rPr>
              <a:t>RAMP Implementation progress</a:t>
            </a:r>
            <a:endParaRPr b="1" lang="en-US" sz="3600" spc="-1" strike="noStrike">
              <a:solidFill>
                <a:srgbClr val="3333cc"/>
              </a:solidFill>
              <a:latin typeface="Univers"/>
            </a:endParaRPr>
          </a:p>
        </p:txBody>
      </p:sp>
      <p:sp>
        <p:nvSpPr>
          <p:cNvPr id="246" name="PlaceHolder 2"/>
          <p:cNvSpPr>
            <a:spLocks noGrp="1"/>
          </p:cNvSpPr>
          <p:nvPr>
            <p:ph/>
          </p:nvPr>
        </p:nvSpPr>
        <p:spPr>
          <a:xfrm>
            <a:off x="1187280" y="1665360"/>
            <a:ext cx="7956720" cy="411480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Financial review</a:t>
            </a:r>
            <a:endParaRPr b="1" lang="en-US" sz="2800" spc="-1" strike="noStrike">
              <a:solidFill>
                <a:srgbClr val="000066"/>
              </a:solidFill>
              <a:latin typeface="Arial"/>
            </a:endParaRPr>
          </a:p>
          <a:p>
            <a:pPr marL="343080" indent="-343080">
              <a:lnSpc>
                <a:spcPct val="90000"/>
              </a:lnSpc>
              <a:spcBef>
                <a:spcPts val="601"/>
              </a:spcBef>
              <a:buClr>
                <a:srgbClr val="8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t all 286 items have been identified on the MoD procurement system as RAMP</a:t>
            </a:r>
            <a:endParaRPr b="1" lang="en-US" sz="2400" spc="-1" strike="noStrike">
              <a:solidFill>
                <a:srgbClr val="000066"/>
              </a:solidFill>
              <a:latin typeface="Arial"/>
            </a:endParaRPr>
          </a:p>
          <a:p>
            <a:pPr marL="343080" indent="-343080">
              <a:lnSpc>
                <a:spcPct val="90000"/>
              </a:lnSpc>
              <a:spcBef>
                <a:spcPts val="601"/>
              </a:spcBef>
              <a:buClr>
                <a:srgbClr val="8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ovides a controlled opportunity to compare procurement policy</a:t>
            </a:r>
            <a:endParaRPr b="1" lang="en-US" sz="2400" spc="-1" strike="noStrike">
              <a:solidFill>
                <a:srgbClr val="000066"/>
              </a:solidFill>
              <a:latin typeface="Arial"/>
            </a:endParaRPr>
          </a:p>
          <a:p>
            <a:pPr marL="343080" indent="-343080">
              <a:lnSpc>
                <a:spcPct val="90000"/>
              </a:lnSpc>
              <a:spcBef>
                <a:spcPts val="601"/>
              </a:spcBef>
              <a:buClr>
                <a:srgbClr val="8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ere procurement is by RAMP</a:t>
            </a:r>
            <a:endParaRPr b="1" lang="en-US" sz="2400" spc="-1" strike="noStrike">
              <a:solidFill>
                <a:srgbClr val="000066"/>
              </a:solidFill>
              <a:latin typeface="Arial"/>
            </a:endParaRPr>
          </a:p>
          <a:p>
            <a:pPr lvl="1" marL="743040" indent="-285840">
              <a:lnSpc>
                <a:spcPct val="90000"/>
              </a:lnSpc>
              <a:spcBef>
                <a:spcPts val="4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Achieved 1/3 of the projected total (8 year) savings</a:t>
            </a:r>
            <a:endParaRPr b="1" lang="en-US" sz="2000" spc="-1" strike="noStrike">
              <a:solidFill>
                <a:srgbClr val="000066"/>
              </a:solidFill>
              <a:latin typeface="Arial"/>
            </a:endParaRPr>
          </a:p>
          <a:p>
            <a:pPr marL="343080" indent="-343080">
              <a:lnSpc>
                <a:spcPct val="90000"/>
              </a:lnSpc>
              <a:spcBef>
                <a:spcPts val="601"/>
              </a:spcBef>
              <a:buClr>
                <a:srgbClr val="8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ere procurement have not been set RAMP</a:t>
            </a:r>
            <a:endParaRPr b="1" lang="en-US" sz="2400" spc="-1" strike="noStrike">
              <a:solidFill>
                <a:srgbClr val="000066"/>
              </a:solidFill>
              <a:latin typeface="Arial"/>
            </a:endParaRPr>
          </a:p>
          <a:p>
            <a:pPr lvl="1" marL="743040" indent="-285840">
              <a:lnSpc>
                <a:spcPct val="90000"/>
              </a:lnSpc>
              <a:spcBef>
                <a:spcPts val="4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tock cost has increased significantly</a:t>
            </a:r>
            <a:endParaRPr b="1" lang="en-US" sz="2000" spc="-1" strike="noStrike">
              <a:solidFill>
                <a:srgbClr val="000066"/>
              </a:solidFill>
              <a:latin typeface="Arial"/>
            </a:endParaRPr>
          </a:p>
          <a:p>
            <a:pPr marL="343080" indent="-343080">
              <a:lnSpc>
                <a:spcPct val="90000"/>
              </a:lnSpc>
              <a:spcBef>
                <a:spcPts val="601"/>
              </a:spcBef>
              <a:buClr>
                <a:srgbClr val="8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onclusion – need to get working for all items</a:t>
            </a:r>
            <a:endParaRPr b="1" lang="en-US" sz="2400" spc="-1" strike="noStrike">
              <a:solidFill>
                <a:srgbClr val="000066"/>
              </a:solidFill>
              <a:latin typeface="Arial"/>
            </a:endParaRPr>
          </a:p>
        </p:txBody>
      </p:sp>
    </p:spTree>
  </p:cSld>
  <p:transition>
    <p:dissolv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9fe"/>
            </a:gs>
            <a:gs pos="100000">
              <a:srgbClr val="fefefe"/>
            </a:gs>
          </a:gsLst>
          <a:lin ang="108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396800" y="596520"/>
            <a:ext cx="77468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Univers"/>
              </a:rPr>
              <a:t>Looking ahead</a:t>
            </a:r>
            <a:endParaRPr b="1" lang="en-US" sz="3600" spc="-1" strike="noStrike">
              <a:solidFill>
                <a:srgbClr val="3333cc"/>
              </a:solidFill>
              <a:latin typeface="Univers"/>
            </a:endParaRPr>
          </a:p>
        </p:txBody>
      </p:sp>
      <p:sp>
        <p:nvSpPr>
          <p:cNvPr id="248" name="PlaceHolder 2"/>
          <p:cNvSpPr>
            <a:spLocks noGrp="1"/>
          </p:cNvSpPr>
          <p:nvPr>
            <p:ph/>
          </p:nvPr>
        </p:nvSpPr>
        <p:spPr>
          <a:xfrm>
            <a:off x="868320" y="1128600"/>
            <a:ext cx="8275680" cy="4114800"/>
          </a:xfrm>
          <a:prstGeom prst="rect">
            <a:avLst/>
          </a:prstGeom>
          <a:noFill/>
          <a:ln w="0">
            <a:noFill/>
          </a:ln>
        </p:spPr>
        <p:txBody>
          <a:bodyPr lIns="92160" rIns="92160" tIns="46080" bIns="46080" anchor="t">
            <a:normAutofit fontScale="90000"/>
          </a:bodyPr>
          <a:p>
            <a:pPr marL="308520" indent="-308520">
              <a:lnSpc>
                <a:spcPct val="90000"/>
              </a:lnSpc>
              <a:spcBef>
                <a:spcPts val="601"/>
              </a:spcBef>
              <a:buClr>
                <a:srgbClr val="8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We can expand the RAMP concept to other spares contracts, even to OEMs.</a:t>
            </a:r>
            <a:endParaRPr b="1" lang="en-US" sz="2400" spc="-1" strike="noStrike">
              <a:solidFill>
                <a:srgbClr val="000066"/>
              </a:solidFill>
              <a:latin typeface="Arial"/>
            </a:endParaRPr>
          </a:p>
          <a:p>
            <a:pPr marL="308520" indent="-308520">
              <a:lnSpc>
                <a:spcPct val="90000"/>
              </a:lnSpc>
              <a:spcBef>
                <a:spcPts val="601"/>
              </a:spcBef>
              <a:buClr>
                <a:srgbClr val="8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We should consider requiring the supply of manufacturing data rather than spare parts for new equipments. </a:t>
            </a:r>
            <a:endParaRPr b="1" lang="en-US" sz="2400" spc="-1" strike="noStrike">
              <a:solidFill>
                <a:srgbClr val="000066"/>
              </a:solidFill>
              <a:latin typeface="Arial"/>
            </a:endParaRPr>
          </a:p>
          <a:p>
            <a:pPr marL="308520" indent="-308520">
              <a:lnSpc>
                <a:spcPct val="90000"/>
              </a:lnSpc>
              <a:spcBef>
                <a:spcPts val="601"/>
              </a:spcBef>
              <a:buClr>
                <a:srgbClr val="8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We need to expand the range of RAMP capable items to include more technically complex parts</a:t>
            </a:r>
            <a:endParaRPr b="1" lang="en-US" sz="2400" spc="-1" strike="noStrike">
              <a:solidFill>
                <a:srgbClr val="000066"/>
              </a:solidFill>
              <a:latin typeface="Arial"/>
            </a:endParaRPr>
          </a:p>
          <a:p>
            <a:pPr marL="308520" indent="-308520">
              <a:lnSpc>
                <a:spcPct val="90000"/>
              </a:lnSpc>
              <a:spcBef>
                <a:spcPts val="601"/>
              </a:spcBef>
              <a:buClr>
                <a:srgbClr val="8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Manufacture locally if required.</a:t>
            </a:r>
            <a:endParaRPr b="1" lang="en-US" sz="2400" spc="-1" strike="noStrike">
              <a:solidFill>
                <a:srgbClr val="000066"/>
              </a:solidFill>
              <a:latin typeface="Arial"/>
            </a:endParaRPr>
          </a:p>
          <a:p>
            <a:pPr marL="308520" indent="-308520">
              <a:lnSpc>
                <a:spcPct val="90000"/>
              </a:lnSpc>
              <a:spcBef>
                <a:spcPts val="601"/>
              </a:spcBef>
              <a:buClr>
                <a:srgbClr val="8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RAMP can be used to hold items in lowest value form (eg casting), with different variants machined when demanded.</a:t>
            </a:r>
            <a:endParaRPr b="1" lang="en-US" sz="2400" spc="-1" strike="noStrike">
              <a:solidFill>
                <a:srgbClr val="000066"/>
              </a:solidFill>
              <a:latin typeface="Arial"/>
            </a:endParaRPr>
          </a:p>
          <a:p>
            <a:pPr marL="308520" indent="-308520">
              <a:lnSpc>
                <a:spcPct val="90000"/>
              </a:lnSpc>
              <a:spcBef>
                <a:spcPts val="601"/>
              </a:spcBef>
              <a:buClr>
                <a:srgbClr val="8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We could aggregate the production of parts from STEP files to gain competitive leverage in the market.</a:t>
            </a:r>
            <a:endParaRPr b="1" lang="en-US" sz="2400" spc="-1" strike="noStrike">
              <a:solidFill>
                <a:srgbClr val="000066"/>
              </a:solidFill>
              <a:latin typeface="Arial"/>
            </a:endParaRPr>
          </a:p>
        </p:txBody>
      </p:sp>
      <p:sp>
        <p:nvSpPr>
          <p:cNvPr id="249" name=""/>
          <p:cNvSpPr/>
          <p:nvPr/>
        </p:nvSpPr>
        <p:spPr>
          <a:xfrm>
            <a:off x="1471680" y="6095880"/>
            <a:ext cx="5486400" cy="305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Dan Smith Team Leader, Marine Auxiliary Systems IPT</a:t>
            </a:r>
            <a:endParaRPr b="0" lang="en-US" sz="1400" spc="-1" strike="noStrike">
              <a:solidFill>
                <a:srgbClr val="000000"/>
              </a:solidFill>
              <a:latin typeface="Times New Roman"/>
            </a:endParaRPr>
          </a:p>
        </p:txBody>
      </p:sp>
      <p:pic>
        <p:nvPicPr>
          <p:cNvPr id="250" name="" descr=""/>
          <p:cNvPicPr/>
          <p:nvPr/>
        </p:nvPicPr>
        <p:blipFill>
          <a:blip r:embed="rId1"/>
          <a:stretch/>
        </p:blipFill>
        <p:spPr>
          <a:xfrm>
            <a:off x="0" y="6154560"/>
            <a:ext cx="1928880" cy="703440"/>
          </a:xfrm>
          <a:prstGeom prst="rect">
            <a:avLst/>
          </a:prstGeom>
          <a:ln w="0">
            <a:noFill/>
          </a:ln>
        </p:spPr>
      </p:pic>
    </p:spTree>
  </p:cSld>
  <p:transition>
    <p:dissolv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9fe"/>
            </a:gs>
            <a:gs pos="100000">
              <a:srgbClr val="fefefe"/>
            </a:gs>
          </a:gsLst>
          <a:lin ang="10800000"/>
        </a:gradFill>
      </p:bgPr>
    </p:bg>
    <p:spTree>
      <p:nvGrpSpPr>
        <p:cNvPr id="1" name=""/>
        <p:cNvGrpSpPr/>
        <p:nvPr/>
      </p:nvGrpSpPr>
      <p:grpSpPr>
        <a:xfrm>
          <a:off x="0" y="0"/>
          <a:ext cx="0" cy="0"/>
          <a:chOff x="0" y="0"/>
          <a:chExt cx="0" cy="0"/>
        </a:xfrm>
      </p:grpSpPr>
      <p:sp>
        <p:nvSpPr>
          <p:cNvPr id="25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PlaceHolder 1"/>
          <p:cNvSpPr>
            <a:spLocks noGrp="1"/>
          </p:cNvSpPr>
          <p:nvPr>
            <p:ph type="subTitle"/>
          </p:nvPr>
        </p:nvSpPr>
        <p:spPr>
          <a:xfrm>
            <a:off x="254160" y="925200"/>
            <a:ext cx="8889840" cy="2978280"/>
          </a:xfrm>
          <a:prstGeom prst="rect">
            <a:avLst/>
          </a:prstGeom>
          <a:noFill/>
          <a:ln w="0">
            <a:noFill/>
          </a:ln>
        </p:spPr>
        <p:txBody>
          <a:bodyPr lIns="90360" rIns="90360" tIns="44280" bIns="44280" anchor="t">
            <a:noAutofit/>
          </a:bodyPr>
          <a:p>
            <a:pPr marL="324000" indent="-324000" algn="ctr">
              <a:spcBef>
                <a:spcPts val="7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4400" spc="-1" strike="noStrike">
                <a:solidFill>
                  <a:srgbClr val="000066"/>
                </a:solidFill>
                <a:latin typeface="Arial"/>
              </a:rPr>
              <a:t>Case Study</a:t>
            </a:r>
            <a:br>
              <a:rPr sz="4400"/>
            </a:br>
            <a:r>
              <a:rPr b="1" lang="en-US" sz="2800" spc="-1" strike="noStrike">
                <a:solidFill>
                  <a:srgbClr val="000066"/>
                </a:solidFill>
                <a:latin typeface="Arial"/>
              </a:rPr>
              <a:t>Reducing Inventory </a:t>
            </a:r>
            <a:endParaRPr b="1" lang="en-US" sz="2800" spc="-1" strike="noStrike">
              <a:solidFill>
                <a:srgbClr val="000066"/>
              </a:solidFill>
              <a:latin typeface="Arial"/>
            </a:endParaRPr>
          </a:p>
          <a:p>
            <a:pPr marL="324000" indent="-324000" algn="ctr">
              <a:spcBef>
                <a:spcPts val="7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800" spc="-1" strike="noStrike">
                <a:solidFill>
                  <a:srgbClr val="000066"/>
                </a:solidFill>
                <a:latin typeface="Arial"/>
              </a:rPr>
              <a:t>in the Ship Support Industry</a:t>
            </a:r>
            <a:endParaRPr b="1" lang="en-US" sz="2800" spc="-1" strike="noStrike">
              <a:solidFill>
                <a:srgbClr val="000066"/>
              </a:solidFill>
              <a:latin typeface="Arial"/>
            </a:endParaRPr>
          </a:p>
          <a:p>
            <a:pPr marL="324000" indent="-324000" algn="ctr">
              <a:spcBef>
                <a:spcPts val="7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1" lang="en-US" sz="2800" spc="-1" strike="noStrike">
              <a:solidFill>
                <a:srgbClr val="000066"/>
              </a:solidFill>
              <a:latin typeface="Arial"/>
            </a:endParaRPr>
          </a:p>
          <a:p>
            <a:pPr marL="324000" indent="-324000" algn="ctr">
              <a:spcBef>
                <a:spcPts val="7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800" spc="-1" strike="noStrike">
                <a:solidFill>
                  <a:srgbClr val="000066"/>
                </a:solidFill>
                <a:latin typeface="Arial"/>
              </a:rPr>
              <a:t>Lean Manufacturing Workshop</a:t>
            </a:r>
            <a:endParaRPr b="1" lang="en-US" sz="2800" spc="-1" strike="noStrike">
              <a:solidFill>
                <a:srgbClr val="000066"/>
              </a:solidFill>
              <a:latin typeface="Arial"/>
            </a:endParaRPr>
          </a:p>
          <a:p>
            <a:pPr marL="324000" indent="-324000" algn="ctr">
              <a:spcBef>
                <a:spcPts val="7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800" spc="-1" strike="noStrike">
                <a:solidFill>
                  <a:srgbClr val="000066"/>
                </a:solidFill>
                <a:latin typeface="Arial"/>
              </a:rPr>
              <a:t>Seattle</a:t>
            </a:r>
            <a:endParaRPr b="1" lang="en-US" sz="2800" spc="-1" strike="noStrike">
              <a:solidFill>
                <a:srgbClr val="000066"/>
              </a:solidFill>
              <a:latin typeface="Arial"/>
            </a:endParaRPr>
          </a:p>
          <a:p>
            <a:pPr marL="324000" indent="-324000" algn="ctr">
              <a:spcBef>
                <a:spcPts val="7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1" lang="en-US" sz="2800" spc="-1" strike="noStrike">
              <a:solidFill>
                <a:srgbClr val="000066"/>
              </a:solidFill>
              <a:latin typeface="Arial"/>
            </a:endParaRPr>
          </a:p>
          <a:p>
            <a:pPr marL="324000" indent="-324000" algn="ctr">
              <a:spcBef>
                <a:spcPts val="601"/>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000066"/>
                </a:solidFill>
                <a:latin typeface="Arial"/>
              </a:rPr>
              <a:t>Alan Crawford</a:t>
            </a:r>
            <a:endParaRPr b="1" lang="en-US" sz="2400" spc="-1" strike="noStrike">
              <a:solidFill>
                <a:srgbClr val="000066"/>
              </a:solidFill>
              <a:latin typeface="Arial"/>
            </a:endParaRPr>
          </a:p>
          <a:p>
            <a:pPr marL="324000" indent="-324000" algn="ctr">
              <a:spcBef>
                <a:spcPts val="601"/>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000066"/>
                </a:solidFill>
                <a:latin typeface="Arial"/>
              </a:rPr>
              <a:t>alc@lsc.co.uk</a:t>
            </a:r>
            <a:endParaRPr b="1" lang="en-US" sz="2400" spc="-1" strike="noStrike">
              <a:solidFill>
                <a:srgbClr val="000066"/>
              </a:solidFill>
              <a:latin typeface="Arial"/>
            </a:endParaRPr>
          </a:p>
          <a:p>
            <a:pPr marL="324000" indent="-324000" algn="ctr">
              <a:spcBef>
                <a:spcPts val="601"/>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1" lang="en-US" sz="2400" spc="-1" strike="noStrike">
              <a:solidFill>
                <a:srgbClr val="000066"/>
              </a:solidFill>
              <a:latin typeface="Arial"/>
            </a:endParaRPr>
          </a:p>
          <a:p>
            <a:pPr marL="324000" indent="-324000" algn="ctr">
              <a:spcBef>
                <a:spcPts val="499"/>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E1F10BAB-F15B-4DA8-8CBE-C961E4274436}" type="datetime2">
              <a:rPr b="1" lang="en-US" sz="2000" spc="-1" strike="noStrike">
                <a:solidFill>
                  <a:srgbClr val="000066"/>
                </a:solidFill>
                <a:latin typeface="Arial"/>
              </a:rPr>
              <a:t>Thursday, July 30, 2026</a:t>
            </a:fld>
            <a:endParaRPr b="1" lang="en-US" sz="2000" spc="-1" strike="noStrike">
              <a:solidFill>
                <a:srgbClr val="000066"/>
              </a:solidFill>
              <a:latin typeface="Arial"/>
            </a:endParaRPr>
          </a:p>
        </p:txBody>
      </p:sp>
      <p:sp>
        <p:nvSpPr>
          <p:cNvPr id="254" name=""/>
          <p:cNvSpPr/>
          <p:nvPr/>
        </p:nvSpPr>
        <p:spPr>
          <a:xfrm>
            <a:off x="1566720" y="6521400"/>
            <a:ext cx="5108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 values approximated at $2=£1</a:t>
            </a:r>
            <a:endParaRPr b="0" lang="en-US" sz="1600" spc="-1" strike="noStrike">
              <a:solidFill>
                <a:srgbClr val="000000"/>
              </a:solidFill>
              <a:latin typeface="Times New Roman"/>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9fe"/>
            </a:gs>
            <a:gs pos="100000">
              <a:srgbClr val="fefefe"/>
            </a:gs>
          </a:gsLst>
          <a:lin ang="10800000"/>
        </a:gradFill>
      </p:bgPr>
    </p:bg>
    <p:spTree>
      <p:nvGrpSpPr>
        <p:cNvPr id="1" name=""/>
        <p:cNvGrpSpPr/>
        <p:nvPr/>
      </p:nvGrpSpPr>
      <p:grpSpPr>
        <a:xfrm>
          <a:off x="0" y="0"/>
          <a:ext cx="0" cy="0"/>
          <a:chOff x="0" y="0"/>
          <a:chExt cx="0" cy="0"/>
        </a:xfrm>
      </p:grpSpPr>
      <p:pic>
        <p:nvPicPr>
          <p:cNvPr id="64" name="factory" descr=""/>
          <p:cNvPicPr/>
          <p:nvPr/>
        </p:nvPicPr>
        <p:blipFill>
          <a:blip r:embed="rId1"/>
          <a:stretch/>
        </p:blipFill>
        <p:spPr>
          <a:xfrm>
            <a:off x="2041560" y="2568600"/>
            <a:ext cx="1177920" cy="920880"/>
          </a:xfrm>
          <a:prstGeom prst="rect">
            <a:avLst/>
          </a:prstGeom>
          <a:ln w="0">
            <a:noFill/>
          </a:ln>
        </p:spPr>
      </p:pic>
      <p:pic>
        <p:nvPicPr>
          <p:cNvPr id="65" name="material" descr=""/>
          <p:cNvPicPr/>
          <p:nvPr/>
        </p:nvPicPr>
        <p:blipFill>
          <a:blip r:embed="rId2"/>
          <a:stretch/>
        </p:blipFill>
        <p:spPr>
          <a:xfrm>
            <a:off x="1841400" y="0"/>
            <a:ext cx="1333440" cy="1189080"/>
          </a:xfrm>
          <a:prstGeom prst="rect">
            <a:avLst/>
          </a:prstGeom>
          <a:ln w="0">
            <a:noFill/>
          </a:ln>
        </p:spPr>
      </p:pic>
      <p:pic>
        <p:nvPicPr>
          <p:cNvPr id="66" name="store" descr=""/>
          <p:cNvPicPr/>
          <p:nvPr/>
        </p:nvPicPr>
        <p:blipFill>
          <a:blip r:embed="rId3"/>
          <a:stretch/>
        </p:blipFill>
        <p:spPr>
          <a:xfrm>
            <a:off x="1711440" y="5003640"/>
            <a:ext cx="1720800" cy="1460520"/>
          </a:xfrm>
          <a:prstGeom prst="rect">
            <a:avLst/>
          </a:prstGeom>
          <a:ln w="0">
            <a:noFill/>
          </a:ln>
        </p:spPr>
      </p:pic>
      <p:pic>
        <p:nvPicPr>
          <p:cNvPr id="67" name="arrowr" descr=""/>
          <p:cNvPicPr/>
          <p:nvPr/>
        </p:nvPicPr>
        <p:blipFill>
          <a:blip r:embed="rId4"/>
          <a:stretch/>
        </p:blipFill>
        <p:spPr>
          <a:xfrm>
            <a:off x="3733920" y="5759280"/>
            <a:ext cx="1904760" cy="571680"/>
          </a:xfrm>
          <a:prstGeom prst="rect">
            <a:avLst/>
          </a:prstGeom>
          <a:ln w="0">
            <a:noFill/>
          </a:ln>
        </p:spPr>
      </p:pic>
      <p:pic>
        <p:nvPicPr>
          <p:cNvPr id="68" name="arrowrd" descr=""/>
          <p:cNvPicPr/>
          <p:nvPr/>
        </p:nvPicPr>
        <p:blipFill>
          <a:blip r:embed="rId5"/>
          <a:stretch/>
        </p:blipFill>
        <p:spPr>
          <a:xfrm>
            <a:off x="2292480" y="3670200"/>
            <a:ext cx="571320" cy="1143000"/>
          </a:xfrm>
          <a:prstGeom prst="rect">
            <a:avLst/>
          </a:prstGeom>
          <a:ln w="0">
            <a:noFill/>
          </a:ln>
        </p:spPr>
      </p:pic>
      <p:pic>
        <p:nvPicPr>
          <p:cNvPr id="69" name="front%20ship" descr=""/>
          <p:cNvPicPr/>
          <p:nvPr/>
        </p:nvPicPr>
        <p:blipFill>
          <a:blip r:embed="rId6"/>
          <a:stretch/>
        </p:blipFill>
        <p:spPr>
          <a:xfrm>
            <a:off x="5769000" y="5230800"/>
            <a:ext cx="3120840" cy="1295280"/>
          </a:xfrm>
          <a:prstGeom prst="rect">
            <a:avLst/>
          </a:prstGeom>
          <a:ln w="0">
            <a:noFill/>
          </a:ln>
        </p:spPr>
      </p:pic>
      <p:pic>
        <p:nvPicPr>
          <p:cNvPr id="70" name="arrowrd" descr=""/>
          <p:cNvPicPr/>
          <p:nvPr/>
        </p:nvPicPr>
        <p:blipFill>
          <a:blip r:embed="rId7"/>
          <a:stretch/>
        </p:blipFill>
        <p:spPr>
          <a:xfrm>
            <a:off x="2266920" y="1231920"/>
            <a:ext cx="571680" cy="1143000"/>
          </a:xfrm>
          <a:prstGeom prst="rect">
            <a:avLst/>
          </a:prstGeom>
          <a:ln w="0">
            <a:noFill/>
          </a:ln>
        </p:spPr>
      </p:pic>
    </p:spTree>
  </p:cSld>
  <p:transition>
    <p:dissolv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9fe"/>
            </a:gs>
            <a:gs pos="100000">
              <a:srgbClr val="fefefe"/>
            </a:gs>
          </a:gsLst>
          <a:lin ang="10800000"/>
        </a:gradFill>
      </p:bgPr>
    </p:bg>
    <p:spTree>
      <p:nvGrpSpPr>
        <p:cNvPr id="1" name=""/>
        <p:cNvGrpSpPr/>
        <p:nvPr/>
      </p:nvGrpSpPr>
      <p:grpSpPr>
        <a:xfrm>
          <a:off x="0" y="0"/>
          <a:ext cx="0" cy="0"/>
          <a:chOff x="0" y="0"/>
          <a:chExt cx="0" cy="0"/>
        </a:xfrm>
      </p:grpSpPr>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9fe"/>
            </a:gs>
            <a:gs pos="100000">
              <a:srgbClr val="fefefe"/>
            </a:gs>
          </a:gsLst>
          <a:lin ang="10800000"/>
        </a:gradFill>
      </p:bgPr>
    </p:bg>
    <p:spTree>
      <p:nvGrpSpPr>
        <p:cNvPr id="1" name=""/>
        <p:cNvGrpSpPr/>
        <p:nvPr/>
      </p:nvGrpSpPr>
      <p:grpSpPr>
        <a:xfrm>
          <a:off x="0" y="0"/>
          <a:ext cx="0" cy="0"/>
          <a:chOff x="0" y="0"/>
          <a:chExt cx="0" cy="0"/>
        </a:xfrm>
      </p:grpSpPr>
      <p:pic>
        <p:nvPicPr>
          <p:cNvPr id="71" name="factory" descr=""/>
          <p:cNvPicPr/>
          <p:nvPr/>
        </p:nvPicPr>
        <p:blipFill>
          <a:blip r:embed="rId1"/>
          <a:stretch/>
        </p:blipFill>
        <p:spPr>
          <a:xfrm>
            <a:off x="2041560" y="2568600"/>
            <a:ext cx="1177920" cy="920880"/>
          </a:xfrm>
          <a:prstGeom prst="rect">
            <a:avLst/>
          </a:prstGeom>
          <a:ln w="0">
            <a:noFill/>
          </a:ln>
        </p:spPr>
      </p:pic>
      <p:pic>
        <p:nvPicPr>
          <p:cNvPr id="72" name="material" descr=""/>
          <p:cNvPicPr/>
          <p:nvPr/>
        </p:nvPicPr>
        <p:blipFill>
          <a:blip r:embed="rId2"/>
          <a:stretch/>
        </p:blipFill>
        <p:spPr>
          <a:xfrm>
            <a:off x="1841400" y="0"/>
            <a:ext cx="1333440" cy="1189080"/>
          </a:xfrm>
          <a:prstGeom prst="rect">
            <a:avLst/>
          </a:prstGeom>
          <a:ln w="0">
            <a:noFill/>
          </a:ln>
        </p:spPr>
      </p:pic>
      <p:pic>
        <p:nvPicPr>
          <p:cNvPr id="73" name="store" descr=""/>
          <p:cNvPicPr/>
          <p:nvPr/>
        </p:nvPicPr>
        <p:blipFill>
          <a:blip r:embed="rId3"/>
          <a:stretch/>
        </p:blipFill>
        <p:spPr>
          <a:xfrm>
            <a:off x="2055960" y="5334120"/>
            <a:ext cx="1382400" cy="1172880"/>
          </a:xfrm>
          <a:prstGeom prst="rect">
            <a:avLst/>
          </a:prstGeom>
          <a:ln w="0">
            <a:noFill/>
          </a:ln>
        </p:spPr>
      </p:pic>
      <p:pic>
        <p:nvPicPr>
          <p:cNvPr id="74" name="arrowr" descr=""/>
          <p:cNvPicPr/>
          <p:nvPr/>
        </p:nvPicPr>
        <p:blipFill>
          <a:blip r:embed="rId4"/>
          <a:stretch/>
        </p:blipFill>
        <p:spPr>
          <a:xfrm>
            <a:off x="3733920" y="5759280"/>
            <a:ext cx="1904760" cy="571680"/>
          </a:xfrm>
          <a:prstGeom prst="rect">
            <a:avLst/>
          </a:prstGeom>
          <a:ln w="0">
            <a:noFill/>
          </a:ln>
        </p:spPr>
      </p:pic>
      <p:pic>
        <p:nvPicPr>
          <p:cNvPr id="75" name="arrowrd" descr=""/>
          <p:cNvPicPr/>
          <p:nvPr/>
        </p:nvPicPr>
        <p:blipFill>
          <a:blip r:embed="rId5"/>
          <a:stretch/>
        </p:blipFill>
        <p:spPr>
          <a:xfrm>
            <a:off x="2292480" y="3670200"/>
            <a:ext cx="571320" cy="1143000"/>
          </a:xfrm>
          <a:prstGeom prst="rect">
            <a:avLst/>
          </a:prstGeom>
          <a:ln w="0">
            <a:noFill/>
          </a:ln>
        </p:spPr>
      </p:pic>
      <p:pic>
        <p:nvPicPr>
          <p:cNvPr id="76" name="front%20ship" descr=""/>
          <p:cNvPicPr/>
          <p:nvPr/>
        </p:nvPicPr>
        <p:blipFill>
          <a:blip r:embed="rId6"/>
          <a:stretch/>
        </p:blipFill>
        <p:spPr>
          <a:xfrm>
            <a:off x="5769000" y="5230800"/>
            <a:ext cx="3120840" cy="1295280"/>
          </a:xfrm>
          <a:prstGeom prst="rect">
            <a:avLst/>
          </a:prstGeom>
          <a:ln w="0">
            <a:noFill/>
          </a:ln>
        </p:spPr>
      </p:pic>
      <p:pic>
        <p:nvPicPr>
          <p:cNvPr id="77" name="arrowrd" descr=""/>
          <p:cNvPicPr/>
          <p:nvPr/>
        </p:nvPicPr>
        <p:blipFill>
          <a:blip r:embed="rId7"/>
          <a:stretch/>
        </p:blipFill>
        <p:spPr>
          <a:xfrm>
            <a:off x="2266920" y="1231920"/>
            <a:ext cx="571680" cy="1143000"/>
          </a:xfrm>
          <a:prstGeom prst="rect">
            <a:avLst/>
          </a:prstGeom>
          <a:ln w="0">
            <a:noFill/>
          </a:ln>
        </p:spPr>
      </p:pic>
      <p:pic>
        <p:nvPicPr>
          <p:cNvPr id="78" name="arrowrdr" descr=""/>
          <p:cNvPicPr/>
          <p:nvPr/>
        </p:nvPicPr>
        <p:blipFill>
          <a:blip r:embed="rId8"/>
          <a:stretch/>
        </p:blipFill>
        <p:spPr>
          <a:xfrm>
            <a:off x="3948120" y="3478320"/>
            <a:ext cx="1881360" cy="1465200"/>
          </a:xfrm>
          <a:prstGeom prst="rect">
            <a:avLst/>
          </a:prstGeom>
          <a:ln w="0">
            <a:noFill/>
          </a:ln>
        </p:spPr>
      </p:pic>
      <p:pic>
        <p:nvPicPr>
          <p:cNvPr id="79" name="bolts%20shoulder%20material" descr=""/>
          <p:cNvPicPr/>
          <p:nvPr/>
        </p:nvPicPr>
        <p:blipFill>
          <a:blip r:embed="rId9"/>
          <a:stretch/>
        </p:blipFill>
        <p:spPr>
          <a:xfrm>
            <a:off x="5992920" y="755640"/>
            <a:ext cx="1882800" cy="1063800"/>
          </a:xfrm>
          <a:prstGeom prst="rect">
            <a:avLst/>
          </a:prstGeom>
          <a:ln w="0">
            <a:noFill/>
          </a:ln>
        </p:spPr>
      </p:pic>
      <p:pic>
        <p:nvPicPr>
          <p:cNvPr id="80" name="bolts%20shoulder%20finish" descr=""/>
          <p:cNvPicPr/>
          <p:nvPr/>
        </p:nvPicPr>
        <p:blipFill>
          <a:blip r:embed="rId10"/>
          <a:stretch/>
        </p:blipFill>
        <p:spPr>
          <a:xfrm>
            <a:off x="4846680" y="2163600"/>
            <a:ext cx="1833480" cy="1108080"/>
          </a:xfrm>
          <a:prstGeom prst="rect">
            <a:avLst/>
          </a:prstGeom>
          <a:ln w="0">
            <a:noFill/>
          </a:ln>
        </p:spPr>
      </p:pic>
      <p:pic>
        <p:nvPicPr>
          <p:cNvPr id="81" name="bolts%20head%20finish" descr=""/>
          <p:cNvPicPr/>
          <p:nvPr/>
        </p:nvPicPr>
        <p:blipFill>
          <a:blip r:embed="rId11"/>
          <a:stretch/>
        </p:blipFill>
        <p:spPr>
          <a:xfrm>
            <a:off x="7050240" y="2152800"/>
            <a:ext cx="1724040" cy="111276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e6f9fe"/>
            </a:gs>
            <a:gs pos="100000">
              <a:srgbClr val="fefefe"/>
            </a:gs>
          </a:gsLst>
          <a:lin ang="10800000"/>
        </a:gra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1333440" y="1984320"/>
            <a:ext cx="7143840" cy="3981600"/>
          </a:xfrm>
          <a:prstGeom prst="rect">
            <a:avLst/>
          </a:prstGeom>
          <a:noFill/>
          <a:ln w="0">
            <a:noFill/>
          </a:ln>
        </p:spPr>
        <p:txBody>
          <a:bodyPr lIns="92160" rIns="92160" tIns="46080" bIns="46080" anchor="t">
            <a:normAutofit fontScale="99000"/>
          </a:bodyPr>
          <a:p>
            <a:pPr marL="339480" indent="-339480">
              <a:lnSpc>
                <a:spcPct val="90000"/>
              </a:lnSpc>
              <a:spcBef>
                <a:spcPts val="601"/>
              </a:spcBef>
              <a:buClr>
                <a:srgbClr val="8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Ensure the quality of design information</a:t>
            </a:r>
            <a:endParaRPr b="1" lang="en-US" sz="2400" spc="-1" strike="noStrike">
              <a:solidFill>
                <a:srgbClr val="000066"/>
              </a:solidFill>
              <a:latin typeface="Arial"/>
            </a:endParaRPr>
          </a:p>
          <a:p>
            <a:pPr lvl="1" marL="735480" indent="-282960">
              <a:lnSpc>
                <a:spcPct val="90000"/>
              </a:lnSpc>
              <a:spcBef>
                <a:spcPts val="4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Legacy items</a:t>
            </a:r>
            <a:endParaRPr b="1" lang="en-US" sz="2000" spc="-1" strike="noStrike">
              <a:solidFill>
                <a:srgbClr val="000066"/>
              </a:solidFill>
              <a:latin typeface="Arial"/>
            </a:endParaRPr>
          </a:p>
          <a:p>
            <a:pPr lvl="1" marL="735480" indent="-282960">
              <a:lnSpc>
                <a:spcPct val="90000"/>
              </a:lnSpc>
              <a:spcBef>
                <a:spcPts val="4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Old standards</a:t>
            </a:r>
            <a:endParaRPr b="1" lang="en-US" sz="2000" spc="-1" strike="noStrike">
              <a:solidFill>
                <a:srgbClr val="000066"/>
              </a:solidFill>
              <a:latin typeface="Arial"/>
            </a:endParaRPr>
          </a:p>
          <a:p>
            <a:pPr lvl="1" marL="735480" indent="-282960">
              <a:lnSpc>
                <a:spcPct val="90000"/>
              </a:lnSpc>
              <a:spcBef>
                <a:spcPts val="4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Incomplete data</a:t>
            </a:r>
            <a:endParaRPr b="1" lang="en-US" sz="2000" spc="-1" strike="noStrike">
              <a:solidFill>
                <a:srgbClr val="000066"/>
              </a:solidFill>
              <a:latin typeface="Arial"/>
            </a:endParaRPr>
          </a:p>
          <a:p>
            <a:pPr lvl="1" marL="735480" indent="-282960">
              <a:lnSpc>
                <a:spcPct val="90000"/>
              </a:lnSpc>
              <a:spcBef>
                <a:spcPts val="4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Inconsistent drawing methods</a:t>
            </a:r>
            <a:endParaRPr b="1" lang="en-US" sz="2000" spc="-1" strike="noStrike">
              <a:solidFill>
                <a:srgbClr val="000066"/>
              </a:solidFill>
              <a:latin typeface="Arial"/>
            </a:endParaRPr>
          </a:p>
          <a:p>
            <a:pPr marL="339480" indent="-339480">
              <a:lnSpc>
                <a:spcPct val="90000"/>
              </a:lnSpc>
              <a:spcBef>
                <a:spcPts val="601"/>
              </a:spcBef>
              <a:buClr>
                <a:srgbClr val="8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Specialist material supply</a:t>
            </a:r>
            <a:endParaRPr b="1" lang="en-US" sz="2400" spc="-1" strike="noStrike">
              <a:solidFill>
                <a:srgbClr val="000066"/>
              </a:solidFill>
              <a:latin typeface="Arial"/>
            </a:endParaRPr>
          </a:p>
          <a:p>
            <a:pPr marL="339480" indent="-339480">
              <a:lnSpc>
                <a:spcPct val="90000"/>
              </a:lnSpc>
              <a:spcBef>
                <a:spcPts val="601"/>
              </a:spcBef>
              <a:buClr>
                <a:srgbClr val="8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Obtaining data </a:t>
            </a:r>
            <a:endParaRPr b="1" lang="en-US" sz="2400" spc="-1" strike="noStrike">
              <a:solidFill>
                <a:srgbClr val="000066"/>
              </a:solidFill>
              <a:latin typeface="Arial"/>
            </a:endParaRPr>
          </a:p>
          <a:p>
            <a:pPr lvl="1" marL="735480" indent="-282960">
              <a:lnSpc>
                <a:spcPct val="90000"/>
              </a:lnSpc>
              <a:spcBef>
                <a:spcPts val="4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Feasibility of identifying component sources</a:t>
            </a:r>
            <a:endParaRPr b="1" lang="en-US" sz="2000" spc="-1" strike="noStrike">
              <a:solidFill>
                <a:srgbClr val="000066"/>
              </a:solidFill>
              <a:latin typeface="Arial"/>
            </a:endParaRPr>
          </a:p>
          <a:p>
            <a:pPr marL="339480" indent="-339480">
              <a:lnSpc>
                <a:spcPct val="90000"/>
              </a:lnSpc>
              <a:spcBef>
                <a:spcPts val="601"/>
              </a:spcBef>
              <a:buClr>
                <a:srgbClr val="8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Speed of supply</a:t>
            </a:r>
            <a:endParaRPr b="1" lang="en-US" sz="2400" spc="-1" strike="noStrike">
              <a:solidFill>
                <a:srgbClr val="000066"/>
              </a:solidFill>
              <a:latin typeface="Arial"/>
            </a:endParaRPr>
          </a:p>
          <a:p>
            <a:pPr lvl="1" marL="735480" indent="-282960">
              <a:lnSpc>
                <a:spcPct val="90000"/>
              </a:lnSpc>
              <a:spcBef>
                <a:spcPts val="4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Expense of equipment downtime due to delays</a:t>
            </a:r>
            <a:endParaRPr b="1" lang="en-US" sz="2000" spc="-1" strike="noStrike">
              <a:solidFill>
                <a:srgbClr val="000066"/>
              </a:solidFill>
              <a:latin typeface="Arial"/>
            </a:endParaRPr>
          </a:p>
          <a:p>
            <a:pPr lvl="1" marL="735480" indent="-282960">
              <a:lnSpc>
                <a:spcPct val="90000"/>
              </a:lnSpc>
              <a:spcBef>
                <a:spcPts val="4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Competitive tender</a:t>
            </a:r>
            <a:endParaRPr b="1" lang="en-US" sz="2000" spc="-1" strike="noStrike">
              <a:solidFill>
                <a:srgbClr val="000066"/>
              </a:solidFill>
              <a:latin typeface="Arial"/>
            </a:endParaRPr>
          </a:p>
          <a:p>
            <a:pPr lvl="1" marL="735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Arial"/>
            </a:endParaRPr>
          </a:p>
        </p:txBody>
      </p:sp>
      <p:sp>
        <p:nvSpPr>
          <p:cNvPr id="83" name=""/>
          <p:cNvSpPr/>
          <p:nvPr/>
        </p:nvSpPr>
        <p:spPr>
          <a:xfrm>
            <a:off x="219240" y="1028880"/>
            <a:ext cx="892476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Univers"/>
              </a:rPr>
              <a:t>Efficiencies to enforce</a:t>
            </a:r>
            <a:endParaRPr b="0" lang="en-US" sz="3200" spc="-1" strike="noStrike">
              <a:solidFill>
                <a:srgbClr val="000000"/>
              </a:solidFill>
              <a:latin typeface="Times New Roman"/>
            </a:endParaRPr>
          </a:p>
        </p:txBody>
      </p:sp>
      <p:sp>
        <p:nvSpPr>
          <p:cNvPr id="84" name=""/>
          <p:cNvSpPr/>
          <p:nvPr/>
        </p:nvSpPr>
        <p:spPr>
          <a:xfrm>
            <a:off x="559080" y="689040"/>
            <a:ext cx="840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0000"/>
                </a:solidFill>
                <a:latin typeface="Univers"/>
              </a:rPr>
              <a:t>R</a:t>
            </a:r>
            <a:r>
              <a:rPr b="1" lang="en-GB" sz="3200" spc="-1" strike="noStrike">
                <a:solidFill>
                  <a:srgbClr val="3333cc"/>
                </a:solidFill>
                <a:latin typeface="Univers"/>
              </a:rPr>
              <a:t>apid </a:t>
            </a:r>
            <a:r>
              <a:rPr b="1" lang="en-GB" sz="3200" spc="-1" strike="noStrike">
                <a:solidFill>
                  <a:srgbClr val="800000"/>
                </a:solidFill>
                <a:latin typeface="Univers"/>
              </a:rPr>
              <a:t>A</a:t>
            </a:r>
            <a:r>
              <a:rPr b="1" lang="en-GB" sz="3200" spc="-1" strike="noStrike">
                <a:solidFill>
                  <a:srgbClr val="3333cc"/>
                </a:solidFill>
                <a:latin typeface="Univers"/>
              </a:rPr>
              <a:t>cquisition of </a:t>
            </a:r>
            <a:r>
              <a:rPr b="1" lang="en-GB" sz="3200" spc="-1" strike="noStrike">
                <a:solidFill>
                  <a:srgbClr val="800000"/>
                </a:solidFill>
                <a:latin typeface="Univers"/>
              </a:rPr>
              <a:t>M</a:t>
            </a:r>
            <a:r>
              <a:rPr b="1" lang="en-GB" sz="3200" spc="-1" strike="noStrike">
                <a:solidFill>
                  <a:srgbClr val="3333cc"/>
                </a:solidFill>
                <a:latin typeface="Univers"/>
              </a:rPr>
              <a:t>anufactured </a:t>
            </a:r>
            <a:r>
              <a:rPr b="1" lang="en-GB" sz="3200" spc="-1" strike="noStrike">
                <a:solidFill>
                  <a:srgbClr val="800000"/>
                </a:solidFill>
                <a:latin typeface="Univers"/>
              </a:rPr>
              <a:t>P</a:t>
            </a:r>
            <a:r>
              <a:rPr b="1" lang="en-GB" sz="3200" spc="-1" strike="noStrike">
                <a:solidFill>
                  <a:srgbClr val="3333cc"/>
                </a:solidFill>
                <a:latin typeface="Univers"/>
              </a:rPr>
              <a:t>arts</a:t>
            </a:r>
            <a:endParaRPr b="0" lang="en-US" sz="3200" spc="-1" strike="noStrike">
              <a:solidFill>
                <a:srgbClr val="000000"/>
              </a:solidFill>
              <a:latin typeface="Times New Roman"/>
            </a:endParaRPr>
          </a:p>
        </p:txBody>
      </p:sp>
      <p:sp>
        <p:nvSpPr>
          <p:cNvPr id="85" name=""/>
          <p:cNvSpPr/>
          <p:nvPr/>
        </p:nvSpPr>
        <p:spPr>
          <a:xfrm>
            <a:off x="559080" y="689040"/>
            <a:ext cx="8408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Univers"/>
              </a:rPr>
              <a:t>Rapid Acquisition of Manufactured Parts</a:t>
            </a:r>
            <a:endParaRPr b="0" lang="en-US" sz="3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9fe"/>
            </a:gs>
            <a:gs pos="100000">
              <a:srgbClr val="fefefe"/>
            </a:gs>
          </a:gsLst>
          <a:lin ang="10800000"/>
        </a:gradFill>
      </p:bgPr>
    </p:bg>
    <p:spTree>
      <p:nvGrpSpPr>
        <p:cNvPr id="1" name=""/>
        <p:cNvGrpSpPr/>
        <p:nvPr/>
      </p:nvGrpSpPr>
      <p:grpSpPr>
        <a:xfrm>
          <a:off x="0" y="0"/>
          <a:ext cx="0" cy="0"/>
          <a:chOff x="0" y="0"/>
          <a:chExt cx="0" cy="0"/>
        </a:xfrm>
      </p:grpSpPr>
      <p:sp>
        <p:nvSpPr>
          <p:cNvPr id="86" name=""/>
          <p:cNvSpPr/>
          <p:nvPr/>
        </p:nvSpPr>
        <p:spPr>
          <a:xfrm>
            <a:off x="914400" y="343080"/>
            <a:ext cx="822960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Univers"/>
              </a:rPr>
              <a:t>Design separation from manufacture</a:t>
            </a:r>
            <a:endParaRPr b="0" lang="en-US" sz="3600" spc="-1" strike="noStrike">
              <a:solidFill>
                <a:srgbClr val="000000"/>
              </a:solidFill>
              <a:latin typeface="Times New Roman"/>
            </a:endParaRPr>
          </a:p>
        </p:txBody>
      </p:sp>
      <p:pic>
        <p:nvPicPr>
          <p:cNvPr id="87" name="a" descr=""/>
          <p:cNvPicPr/>
          <p:nvPr/>
        </p:nvPicPr>
        <p:blipFill>
          <a:blip r:embed="rId1"/>
          <a:stretch/>
        </p:blipFill>
        <p:spPr>
          <a:xfrm>
            <a:off x="1139760" y="1806480"/>
            <a:ext cx="7791480" cy="1266840"/>
          </a:xfrm>
          <a:prstGeom prst="rect">
            <a:avLst/>
          </a:prstGeom>
          <a:ln w="0">
            <a:noFill/>
          </a:ln>
        </p:spPr>
      </p:pic>
      <p:pic>
        <p:nvPicPr>
          <p:cNvPr id="88" name="aa" descr=""/>
          <p:cNvPicPr/>
          <p:nvPr/>
        </p:nvPicPr>
        <p:blipFill>
          <a:blip r:embed="rId2"/>
          <a:stretch/>
        </p:blipFill>
        <p:spPr>
          <a:xfrm>
            <a:off x="1149480" y="1806480"/>
            <a:ext cx="7791480" cy="2514600"/>
          </a:xfrm>
          <a:prstGeom prst="rect">
            <a:avLst/>
          </a:prstGeom>
          <a:ln w="0">
            <a:noFill/>
          </a:ln>
        </p:spPr>
      </p:pic>
      <p:pic>
        <p:nvPicPr>
          <p:cNvPr id="89" name="sy01265_" descr=""/>
          <p:cNvPicPr/>
          <p:nvPr/>
        </p:nvPicPr>
        <p:blipFill>
          <a:blip r:embed="rId3"/>
          <a:stretch/>
        </p:blipFill>
        <p:spPr>
          <a:xfrm>
            <a:off x="2664000" y="3506760"/>
            <a:ext cx="898200" cy="1901880"/>
          </a:xfrm>
          <a:prstGeom prst="rect">
            <a:avLst/>
          </a:prstGeom>
          <a:ln w="0">
            <a:noFill/>
          </a:ln>
        </p:spPr>
      </p:pic>
      <p:sp>
        <p:nvSpPr>
          <p:cNvPr id="90" name="PlaceHolder 1"/>
          <p:cNvSpPr>
            <a:spLocks noGrp="1"/>
          </p:cNvSpPr>
          <p:nvPr>
            <p:ph/>
          </p:nvPr>
        </p:nvSpPr>
        <p:spPr>
          <a:xfrm>
            <a:off x="3123720" y="4103280"/>
            <a:ext cx="6543720" cy="2156040"/>
          </a:xfrm>
          <a:prstGeom prst="rect">
            <a:avLst/>
          </a:prstGeom>
          <a:noFill/>
          <a:ln w="0">
            <a:noFill/>
          </a:ln>
        </p:spPr>
        <p:txBody>
          <a:bodyPr lIns="92160" rIns="92160" tIns="46080" bIns="46080" anchor="t">
            <a:normAutofit/>
          </a:bodyPr>
          <a:p>
            <a:pPr lvl="1" marL="743040" indent="-285840">
              <a:lnSpc>
                <a:spcPct val="90000"/>
              </a:lnSpc>
              <a:spcBef>
                <a:spcPts val="601"/>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ime</a:t>
            </a:r>
            <a:endParaRPr b="1" lang="en-US" sz="2400" spc="-1" strike="noStrike">
              <a:solidFill>
                <a:srgbClr val="000066"/>
              </a:solidFill>
              <a:latin typeface="Arial"/>
            </a:endParaRPr>
          </a:p>
          <a:p>
            <a:pPr lvl="1" marL="743040" indent="-285840">
              <a:lnSpc>
                <a:spcPct val="90000"/>
              </a:lnSpc>
              <a:spcBef>
                <a:spcPts val="601"/>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oject</a:t>
            </a:r>
            <a:endParaRPr b="1" lang="en-US" sz="2400" spc="-1" strike="noStrike">
              <a:solidFill>
                <a:srgbClr val="000066"/>
              </a:solidFill>
              <a:latin typeface="Arial"/>
            </a:endParaRPr>
          </a:p>
          <a:p>
            <a:pPr lvl="1" marL="743040" indent="-285840">
              <a:lnSpc>
                <a:spcPct val="90000"/>
              </a:lnSpc>
              <a:spcBef>
                <a:spcPts val="601"/>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ocation</a:t>
            </a:r>
            <a:endParaRPr b="1" lang="en-US" sz="2400" spc="-1" strike="noStrike">
              <a:solidFill>
                <a:srgbClr val="000066"/>
              </a:solidFill>
              <a:latin typeface="Arial"/>
            </a:endParaRPr>
          </a:p>
          <a:p>
            <a:pPr lvl="1" marL="743040" indent="-285840">
              <a:lnSpc>
                <a:spcPct val="90000"/>
              </a:lnSpc>
              <a:spcBef>
                <a:spcPts val="601"/>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xperience and expertise</a:t>
            </a:r>
            <a:endParaRPr b="1" lang="en-US" sz="2400" spc="-1" strike="noStrike">
              <a:solidFill>
                <a:srgbClr val="000066"/>
              </a:solidFill>
              <a:latin typeface="Arial"/>
            </a:endParaRPr>
          </a:p>
          <a:p>
            <a:pPr lvl="1" marL="743040" indent="-285840">
              <a:lnSpc>
                <a:spcPct val="90000"/>
              </a:lnSpc>
              <a:spcBef>
                <a:spcPts val="601"/>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hysical equipment, material stock</a:t>
            </a:r>
            <a:endParaRPr b="1" lang="en-US" sz="2400" spc="-1" strike="noStrike">
              <a:solidFill>
                <a:srgbClr val="000066"/>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9fe"/>
            </a:gs>
            <a:gs pos="100000">
              <a:srgbClr val="fefefe"/>
            </a:gs>
          </a:gsLst>
          <a:lin ang="108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638000" y="609120"/>
            <a:ext cx="67532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Univers"/>
              </a:rPr>
              <a:t>STEP AP224 Representation</a:t>
            </a:r>
            <a:endParaRPr b="1" lang="en-US" sz="3600" spc="-1" strike="noStrike">
              <a:solidFill>
                <a:srgbClr val="3333cc"/>
              </a:solidFill>
              <a:latin typeface="Univers"/>
            </a:endParaRPr>
          </a:p>
        </p:txBody>
      </p:sp>
      <p:pic>
        <p:nvPicPr>
          <p:cNvPr id="92" name="stanchion2" descr=""/>
          <p:cNvPicPr/>
          <p:nvPr/>
        </p:nvPicPr>
        <p:blipFill>
          <a:blip r:embed="rId1"/>
          <a:stretch/>
        </p:blipFill>
        <p:spPr>
          <a:xfrm>
            <a:off x="1854360" y="1590840"/>
            <a:ext cx="6261120" cy="4860720"/>
          </a:xfrm>
          <a:prstGeom prst="rect">
            <a:avLst/>
          </a:prstGeom>
          <a:ln w="0">
            <a:noFill/>
          </a:ln>
        </p:spPr>
      </p:pic>
      <p:sp>
        <p:nvSpPr>
          <p:cNvPr id="93" name=""/>
          <p:cNvSpPr/>
          <p:nvPr/>
        </p:nvSpPr>
        <p:spPr>
          <a:xfrm>
            <a:off x="1689120" y="3492360"/>
            <a:ext cx="2209680" cy="1057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nufacturing features</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le</a:t>
            </a:r>
            <a:br>
              <a:rPr sz="1400"/>
            </a:br>
            <a:r>
              <a:rPr b="0" lang="en-US" sz="1400" spc="-1" strike="noStrike">
                <a:solidFill>
                  <a:srgbClr val="000000"/>
                </a:solidFill>
                <a:latin typeface="Times New Roman"/>
              </a:rPr>
              <a:t>Thread</a:t>
            </a:r>
            <a:br>
              <a:rPr sz="1400"/>
            </a:br>
            <a:r>
              <a:rPr b="0" lang="en-US" sz="1400" spc="-1" strike="noStrike">
                <a:solidFill>
                  <a:srgbClr val="000000"/>
                </a:solidFill>
                <a:latin typeface="Times New Roman"/>
              </a:rPr>
              <a:t>Spherical End</a:t>
            </a:r>
            <a:endParaRPr b="0" lang="en-US" sz="1400" spc="-1" strike="noStrike">
              <a:solidFill>
                <a:srgbClr val="000000"/>
              </a:solidFill>
              <a:latin typeface="Times New Roman"/>
            </a:endParaRPr>
          </a:p>
        </p:txBody>
      </p:sp>
      <p:sp>
        <p:nvSpPr>
          <p:cNvPr id="94" name=""/>
          <p:cNvSpPr/>
          <p:nvPr/>
        </p:nvSpPr>
        <p:spPr>
          <a:xfrm>
            <a:off x="2565360" y="1701720"/>
            <a:ext cx="1905120" cy="1270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duct</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me</a:t>
            </a:r>
            <a:br>
              <a:rPr sz="1400"/>
            </a:br>
            <a:r>
              <a:rPr b="0" lang="en-US" sz="1400" spc="-1" strike="noStrike">
                <a:solidFill>
                  <a:srgbClr val="000000"/>
                </a:solidFill>
                <a:latin typeface="Times New Roman"/>
              </a:rPr>
              <a:t>ID</a:t>
            </a:r>
            <a:br>
              <a:rPr sz="1400"/>
            </a:br>
            <a:r>
              <a:rPr b="0" lang="en-US" sz="1400" spc="-1" strike="noStrike">
                <a:solidFill>
                  <a:srgbClr val="000000"/>
                </a:solidFill>
                <a:latin typeface="Times New Roman"/>
              </a:rPr>
              <a:t>Revision</a:t>
            </a:r>
            <a:br>
              <a:rPr sz="1400"/>
            </a:br>
            <a:r>
              <a:rPr b="0" lang="en-US" sz="1400" spc="-1" strike="noStrike">
                <a:solidFill>
                  <a:srgbClr val="000000"/>
                </a:solidFill>
                <a:latin typeface="Times New Roman"/>
              </a:rPr>
              <a:t>Security Classification</a:t>
            </a:r>
            <a:endParaRPr b="0" lang="en-US" sz="1400" spc="-1" strike="noStrike">
              <a:solidFill>
                <a:srgbClr val="000000"/>
              </a:solidFill>
              <a:latin typeface="Times New Roman"/>
            </a:endParaRPr>
          </a:p>
        </p:txBody>
      </p:sp>
      <p:sp>
        <p:nvSpPr>
          <p:cNvPr id="95" name=""/>
          <p:cNvSpPr/>
          <p:nvPr/>
        </p:nvSpPr>
        <p:spPr>
          <a:xfrm>
            <a:off x="7442280" y="3238560"/>
            <a:ext cx="1727280" cy="9806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rface Properties</a:t>
            </a:r>
            <a:endParaRPr b="0" lang="en-US" sz="1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ish</a:t>
            </a:r>
            <a:br>
              <a:rPr sz="1400"/>
            </a:br>
            <a:r>
              <a:rPr b="0" lang="en-US" sz="1200" spc="-1" strike="noStrike">
                <a:solidFill>
                  <a:srgbClr val="000000"/>
                </a:solidFill>
                <a:latin typeface="Times New Roman"/>
              </a:rPr>
              <a:t>Coating/Process</a:t>
            </a:r>
            <a:br>
              <a:rPr sz="1200"/>
            </a:br>
            <a:endParaRPr b="0" lang="en-US" sz="1200" spc="-1" strike="noStrike">
              <a:solidFill>
                <a:srgbClr val="000000"/>
              </a:solidFill>
              <a:latin typeface="Times New Roman"/>
            </a:endParaRPr>
          </a:p>
        </p:txBody>
      </p:sp>
      <p:sp>
        <p:nvSpPr>
          <p:cNvPr id="96" name=""/>
          <p:cNvSpPr/>
          <p:nvPr/>
        </p:nvSpPr>
        <p:spPr>
          <a:xfrm>
            <a:off x="3657600" y="5753160"/>
            <a:ext cx="2666880" cy="844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terial/Alternate Material</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pecification</a:t>
            </a:r>
            <a:br>
              <a:rPr sz="1400"/>
            </a:br>
            <a:r>
              <a:rPr b="0" lang="en-US" sz="1400" spc="-1" strike="noStrike">
                <a:solidFill>
                  <a:srgbClr val="000000"/>
                </a:solidFill>
                <a:latin typeface="Times New Roman"/>
              </a:rPr>
              <a:t>Hardness</a:t>
            </a:r>
            <a:endParaRPr b="0" lang="en-US" sz="1400" spc="-1" strike="noStrike">
              <a:solidFill>
                <a:srgbClr val="000000"/>
              </a:solidFill>
              <a:latin typeface="Times New Roman"/>
            </a:endParaRPr>
          </a:p>
        </p:txBody>
      </p:sp>
      <p:sp>
        <p:nvSpPr>
          <p:cNvPr id="97" name=""/>
          <p:cNvSpPr/>
          <p:nvPr/>
        </p:nvSpPr>
        <p:spPr>
          <a:xfrm>
            <a:off x="6146640" y="4457880"/>
            <a:ext cx="2235240" cy="1270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imensions &amp; Tolerances</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ze Dimensions</a:t>
            </a:r>
            <a:br>
              <a:rPr sz="1400"/>
            </a:br>
            <a:r>
              <a:rPr b="0" lang="en-US" sz="1400" spc="-1" strike="noStrike">
                <a:solidFill>
                  <a:srgbClr val="000000"/>
                </a:solidFill>
                <a:latin typeface="Times New Roman"/>
              </a:rPr>
              <a:t>Location Dimensions</a:t>
            </a:r>
            <a:br>
              <a:rPr sz="1400"/>
            </a:br>
            <a:r>
              <a:rPr b="0" lang="en-US" sz="1400" spc="-1" strike="noStrike">
                <a:solidFill>
                  <a:srgbClr val="000000"/>
                </a:solidFill>
                <a:latin typeface="Times New Roman"/>
              </a:rPr>
              <a:t>Dimensional Tolerances</a:t>
            </a:r>
            <a:br>
              <a:rPr sz="1400"/>
            </a:br>
            <a:r>
              <a:rPr b="0" lang="en-US" sz="1400" spc="-1" strike="noStrike">
                <a:solidFill>
                  <a:srgbClr val="000000"/>
                </a:solidFill>
                <a:latin typeface="Times New Roman"/>
              </a:rPr>
              <a:t>Geometric Tolerances</a:t>
            </a:r>
            <a:endParaRPr b="0" lang="en-US" sz="1400" spc="-1" strike="noStrike">
              <a:solidFill>
                <a:srgbClr val="000000"/>
              </a:solidFill>
              <a:latin typeface="Times New Roman"/>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02T10:37:31Z</dcterms:created>
  <dc:creator>Alan Crawford</dc:creator>
  <dc:description/>
  <dc:language>en-US</dc:language>
  <cp:lastModifiedBy>ALC</cp:lastModifiedBy>
  <cp:lastPrinted>2000-03-21T11:46:10Z</cp:lastPrinted>
  <dcterms:modified xsi:type="dcterms:W3CDTF">2004-10-06T23:08:34Z</dcterms:modified>
  <cp:revision>346</cp:revision>
  <dc:subject/>
  <dc:title>Lean manufacturing Workshop</dc:title>
</cp:coreProperties>
</file>