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720" y="0"/>
            <a:ext cx="841320" cy="676440"/>
            <a:chOff x="-720" y="0"/>
            <a:chExt cx="841320" cy="676440"/>
          </a:xfrm>
        </p:grpSpPr>
        <p:sp>
          <p:nvSpPr>
            <p:cNvPr id="3" name=""/>
            <p:cNvSpPr/>
            <p:nvPr/>
          </p:nvSpPr>
          <p:spPr>
            <a:xfrm>
              <a:off x="12960" y="0"/>
              <a:ext cx="812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S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-720" y="435240"/>
              <a:ext cx="841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C 184/S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681120" y="6553080"/>
            <a:ext cx="778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 TC184/SC4/WG3 Bath N000 2004-07-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18128226-DADA-474A-959D-2C3717B39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lc@lsc.co.uk" TargetMode="External"/><Relationship Id="rId2" Type="http://schemas.openxmlformats.org/officeDocument/2006/relationships/hyperlink" Target="mailto:Chiaki-sakamoto@paw.hi-ho.ne.jp" TargetMode="External"/><Relationship Id="rId3" Type="http://schemas.openxmlformats.org/officeDocument/2006/relationships/hyperlink" Target="mailto:Shs@postech.ac.kr" TargetMode="External"/><Relationship Id="rId4" Type="http://schemas.openxmlformats.org/officeDocument/2006/relationships/hyperlink" Target="mailto:Head@postech.ac.kr" TargetMode="External"/><Relationship Id="rId5" Type="http://schemas.openxmlformats.org/officeDocument/2006/relationships/hyperlink" Target="mailto:Prnjhw@aol.com" TargetMode="External"/><Relationship Id="rId6" Type="http://schemas.openxmlformats.org/officeDocument/2006/relationships/hyperlink" Target="mailto:Nettles@aticorp.com" TargetMode="External"/><Relationship Id="rId7" Type="http://schemas.openxmlformats.org/officeDocument/2006/relationships/hyperlink" Target="mailto:Freemen@scra.org" TargetMode="External"/><Relationship Id="rId8" Type="http://schemas.openxmlformats.org/officeDocument/2006/relationships/hyperlink" Target="mailto:Youchon@ats.go.kr" TargetMode="External"/><Relationship Id="rId9" Type="http://schemas.openxmlformats.org/officeDocument/2006/relationships/hyperlink" Target="mailto:King.g.yee@Boeing.com" TargetMode="External"/><Relationship Id="rId10" Type="http://schemas.openxmlformats.org/officeDocument/2006/relationships/hyperlink" Target="mailto:Gernot.rossi@siemens.com" TargetMode="External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 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ick@steptoo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aki Sakam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aki_sakamoto@paw.hi-ho.ne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ments since Lauderd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23 NWI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19 CD in p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38 DIS working draft pu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40 DIS ballot resolution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 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fo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AP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e GD&amp;T with AP-2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P28 with view to enabling publication of XML Sch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meeting with SASIG on digital manufactu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meeting with SC1/Wg7 on ISO 146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40 IS Documen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, 2004-07-05, 13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nary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session on GD&amp;T Harm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day, 2004-07-06, 08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session on GD&amp;T Harm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, 2004-07-07, 1030-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for STEP-Manufa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meeting with SASIG on digital manufacturing (concurr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meeting with WG12 on integrated resources (concurr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Wg11 and Wg3 meeting on 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Bath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, 2004-07-08, 08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meeting with SC1/Wg7 (concurr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&amp;T Harmonization meeting (concurr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914400" y="380880"/>
          <a:ext cx="7772400" cy="5941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and Compan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n Crawfo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, LSC Gro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c0128"/>
                          </a:solidFill>
                          <a:uFillTx/>
                          <a:latin typeface="Arial"/>
                          <a:hlinkClick r:id="rId1"/>
                        </a:rPr>
                        <a:t>Alc@lsc.co.u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aki Sakomo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, Manufacturing Engineering Research, In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c0128"/>
                          </a:solidFill>
                          <a:uFillTx/>
                          <a:latin typeface="Arial"/>
                          <a:hlinkClick r:id="rId2"/>
                        </a:rPr>
                        <a:t>Chiaki-sakamoto@paw.hi-ho.ne.j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ng Dai K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ea, KRI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dkim@kriso.se.k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k-Hwan Su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ea, POSTE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c0128"/>
                          </a:solidFill>
                          <a:uFillTx/>
                          <a:latin typeface="Arial"/>
                          <a:hlinkClick r:id="rId3"/>
                        </a:rPr>
                        <a:t>Shs@postech.ac.k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ung-Jun Sh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ea, POSTEC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c0128"/>
                          </a:solidFill>
                          <a:uFillTx/>
                          <a:latin typeface="Arial"/>
                          <a:hlinkClick r:id="rId4"/>
                        </a:rPr>
                        <a:t>Head@postech.ac.k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udence Wor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K, TC172/SC1/Wg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c0128"/>
                          </a:solidFill>
                          <a:uFillTx/>
                          <a:latin typeface="Arial"/>
                          <a:hlinkClick r:id="rId5"/>
                        </a:rPr>
                        <a:t>Prnjhw@aol.c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la Nett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, PDES, In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c0128"/>
                          </a:solidFill>
                          <a:uFillTx/>
                          <a:latin typeface="Arial"/>
                          <a:hlinkClick r:id="rId6"/>
                        </a:rPr>
                        <a:t>Nettles@aticorp.c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l Freem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, SC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c0128"/>
                          </a:solidFill>
                          <a:uFillTx/>
                          <a:latin typeface="Arial"/>
                          <a:hlinkClick r:id="rId7"/>
                        </a:rPr>
                        <a:t>Freemen@scra.o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chon O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ea, K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c0128"/>
                          </a:solidFill>
                          <a:uFillTx/>
                          <a:latin typeface="Arial"/>
                          <a:hlinkClick r:id="rId8"/>
                        </a:rPr>
                        <a:t>Youchon@ats.go.k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g Y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, Boe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c0128"/>
                          </a:solidFill>
                          <a:uFillTx/>
                          <a:latin typeface="Arial"/>
                          <a:hlinkClick r:id="rId9"/>
                        </a:rPr>
                        <a:t>King.g.yee@Boeing.c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ssi Ger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rmany, Sieme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c0128"/>
                          </a:solidFill>
                          <a:uFillTx/>
                          <a:latin typeface="Arial"/>
                          <a:hlinkClick r:id="rId10"/>
                        </a:rPr>
                        <a:t>Gernot.rossi@siemens.c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ison Barnard Feene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, N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f@nist.g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-Jim Hw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rea, KRIS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jwang@kriso.se.k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vid Loffre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, STEP To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ffredo@steptools.c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 Slovensk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, Northr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vensky@scra.o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d Vorburg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, NI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tv@nist.g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n J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stralia, AUSDE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jones@ausdec.com.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tin Hardwi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, STEP Too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dwick@steptools.co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ld Radack</dc:creator>
  <dc:description/>
  <dc:language>en-US</dc:language>
  <cp:lastModifiedBy>hardwick</cp:lastModifiedBy>
  <cp:lastPrinted>1999-06-02T13:49:47Z</cp:lastPrinted>
  <dcterms:modified xsi:type="dcterms:W3CDTF">2004-07-05T15:40:53Z</dcterms:modified>
  <cp:revision>140</cp:revision>
  <dc:subject/>
  <dc:title>WG3 Presentation to SC4 Opening Plenary</dc:title>
</cp:coreProperties>
</file>