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58288" cy="6872288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753960" y="247680"/>
            <a:ext cx="22683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GD&amp;T Harm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AE00E2E3-8C35-4C0C-973E-DB05F5F651F2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6583320"/>
            <a:ext cx="20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vid Loffredo (loffredo@steptools.com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203e2_gdt-20040621/data/modules/dimension_tolerance/sys/4_info_reqs.htm#dimension_tolerance_arm.size_dimension" TargetMode="External"/><Relationship Id="rId2" Type="http://schemas.openxmlformats.org/officeDocument/2006/relationships/hyperlink" Target="file:///203e2_gdt-20040621/data/modules/construction_geometry/sys/4_info_reqs.htm#construction_geometry_arm.measurement_path" TargetMode="Externa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69760" y="1532520"/>
            <a:ext cx="566100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GD&amp;T Harmonization Results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Bath SC4 Mee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5800" y="3921120"/>
            <a:ext cx="3827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Loffr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ffredo@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-07-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First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8116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Limi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R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/Min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and 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 of Possible Size Dim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elope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Location Dim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686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Limitation Ma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6400" y="3503880"/>
            <a:ext cx="124416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34600" y="3963960"/>
            <a:ext cx="2358360" cy="118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fied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leng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5" idx="2"/>
            <a:endCxn id="66" idx="1"/>
          </p:cNvCxnSpPr>
          <p:nvPr/>
        </p:nvCxnSpPr>
        <p:spPr>
          <a:xfrm flipH="1" rot="16200000">
            <a:off x="863640" y="3988800"/>
            <a:ext cx="773640" cy="364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326880" y="1406520"/>
            <a:ext cx="2113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mension or property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somet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09800" y="2492280"/>
            <a:ext cx="517320" cy="628920"/>
          </a:xfrm>
          <a:prstGeom prst="downArrow">
            <a:avLst>
              <a:gd name="adj1" fmla="val 46630"/>
              <a:gd name="adj2" fmla="val 39297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16480" y="2509920"/>
            <a:ext cx="1722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s qualified representation item to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x in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6640" y="4329360"/>
            <a:ext cx="162216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ype_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maximum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6320" y="5027760"/>
            <a:ext cx="15994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value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>
            <a:stCxn id="66" idx="3"/>
            <a:endCxn id="72" idx="1"/>
          </p:cNvCxnSpPr>
          <p:nvPr/>
        </p:nvCxnSpPr>
        <p:spPr>
          <a:xfrm>
            <a:off x="3795840" y="4557240"/>
            <a:ext cx="1227240" cy="699480"/>
          </a:xfrm>
          <a:prstGeom prst="bentConnector3">
            <a:avLst>
              <a:gd name="adj1" fmla="val 4994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66" idx="3"/>
            <a:endCxn id="71" idx="1"/>
          </p:cNvCxnSpPr>
          <p:nvPr/>
        </p:nvCxnSpPr>
        <p:spPr>
          <a:xfrm>
            <a:off x="3795480" y="4557240"/>
            <a:ext cx="1267560" cy="10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278400" y="3639960"/>
            <a:ext cx="225720" cy="544680"/>
          </a:xfrm>
          <a:custGeom>
            <a:avLst/>
            <a:gdLst/>
            <a:ahLst/>
            <a:rect l="l" t="t" r="r" b="b"/>
            <a:pathLst>
              <a:path w="142" h="343">
                <a:moveTo>
                  <a:pt x="116" y="0"/>
                </a:moveTo>
                <a:cubicBezTo>
                  <a:pt x="64" y="63"/>
                  <a:pt x="13" y="126"/>
                  <a:pt x="17" y="146"/>
                </a:cubicBezTo>
                <a:cubicBezTo>
                  <a:pt x="21" y="166"/>
                  <a:pt x="142" y="89"/>
                  <a:pt x="139" y="122"/>
                </a:cubicBezTo>
                <a:cubicBezTo>
                  <a:pt x="136" y="155"/>
                  <a:pt x="68" y="249"/>
                  <a:pt x="0" y="3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40200" y="1082520"/>
            <a:ext cx="377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approach is defined in both AP-214 and AP-2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92800" y="2351160"/>
            <a:ext cx="3051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ame of Li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-214 specifies “maximum” or “minimum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-224 does not specify string, but uses “MAX” and “MIN” in an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16440" y="3454560"/>
            <a:ext cx="258840" cy="711000"/>
          </a:xfrm>
          <a:custGeom>
            <a:avLst/>
            <a:gdLst/>
            <a:ahLst/>
            <a:rect l="l" t="t" r="r" b="b"/>
            <a:pathLst>
              <a:path w="163" h="448">
                <a:moveTo>
                  <a:pt x="163" y="0"/>
                </a:moveTo>
                <a:cubicBezTo>
                  <a:pt x="98" y="85"/>
                  <a:pt x="33" y="171"/>
                  <a:pt x="29" y="198"/>
                </a:cubicBezTo>
                <a:cubicBezTo>
                  <a:pt x="25" y="225"/>
                  <a:pt x="145" y="121"/>
                  <a:pt x="140" y="163"/>
                </a:cubicBezTo>
                <a:cubicBezTo>
                  <a:pt x="135" y="205"/>
                  <a:pt x="67" y="326"/>
                  <a:pt x="0" y="4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05520" y="5851440"/>
            <a:ext cx="252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parate qualifier significant 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5889600"/>
            <a:ext cx="179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umeric val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lim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78120" y="5273640"/>
            <a:ext cx="865080" cy="588960"/>
          </a:xfrm>
          <a:custGeom>
            <a:avLst/>
            <a:gdLst/>
            <a:ahLst/>
            <a:rect l="l" t="t" r="r" b="b"/>
            <a:pathLst>
              <a:path w="545" h="371">
                <a:moveTo>
                  <a:pt x="0" y="371"/>
                </a:moveTo>
                <a:cubicBezTo>
                  <a:pt x="95" y="291"/>
                  <a:pt x="190" y="212"/>
                  <a:pt x="226" y="196"/>
                </a:cubicBezTo>
                <a:cubicBezTo>
                  <a:pt x="262" y="180"/>
                  <a:pt x="163" y="311"/>
                  <a:pt x="216" y="278"/>
                </a:cubicBezTo>
                <a:cubicBezTo>
                  <a:pt x="269" y="245"/>
                  <a:pt x="407" y="122"/>
                  <a:pt x="54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2600" y="5584680"/>
            <a:ext cx="439920" cy="439920"/>
          </a:xfrm>
          <a:custGeom>
            <a:avLst/>
            <a:gdLst/>
            <a:ahLst/>
            <a:rect l="l" t="t" r="r" b="b"/>
            <a:pathLst>
              <a:path w="277" h="277">
                <a:moveTo>
                  <a:pt x="277" y="277"/>
                </a:moveTo>
                <a:cubicBezTo>
                  <a:pt x="231" y="197"/>
                  <a:pt x="186" y="117"/>
                  <a:pt x="164" y="103"/>
                </a:cubicBezTo>
                <a:cubicBezTo>
                  <a:pt x="142" y="89"/>
                  <a:pt x="171" y="212"/>
                  <a:pt x="144" y="195"/>
                </a:cubicBezTo>
                <a:cubicBezTo>
                  <a:pt x="117" y="178"/>
                  <a:pt x="58" y="89"/>
                  <a:pt x="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0086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Limitation Re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74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 will clarify ARM by creating subtype of Tolerance_limit fo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 limit -- mapping will call out name=“maximum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 limit -- mapping will call out name=“minimum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limit - mapping will leave name unconstrain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8288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R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311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 has no mapping for use of value range outside of dimen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ing to adopt AP-214 usage in those cas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has mappings for value range but no vendor implementation within dimen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ndor implementations of value range outside of 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2829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Range AP-214 Ma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0120" y="3922920"/>
            <a:ext cx="124416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68600" y="4870440"/>
            <a:ext cx="2356920" cy="82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_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fied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leng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8" idx="2"/>
            <a:endCxn id="89" idx="1"/>
          </p:cNvCxnSpPr>
          <p:nvPr/>
        </p:nvCxnSpPr>
        <p:spPr>
          <a:xfrm rot="5400000">
            <a:off x="1174320" y="4694040"/>
            <a:ext cx="1078200" cy="97560"/>
          </a:xfrm>
          <a:prstGeom prst="bentConnector4">
            <a:avLst>
              <a:gd name="adj1" fmla="val 30627"/>
              <a:gd name="adj2" fmla="val 3359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713040" y="12412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significant digits, a complex instance with qualified rep item is used, which points to a precision qualif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960" y="4253040"/>
            <a:ext cx="2358360" cy="100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upper limi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960" y="5411880"/>
            <a:ext cx="2358360" cy="100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lower limi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75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89" idx="3"/>
            <a:endCxn id="92" idx="1"/>
          </p:cNvCxnSpPr>
          <p:nvPr/>
        </p:nvCxnSpPr>
        <p:spPr>
          <a:xfrm flipV="1">
            <a:off x="4028760" y="4755600"/>
            <a:ext cx="772200" cy="5259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3"/>
            <a:endCxn id="93" idx="1"/>
          </p:cNvCxnSpPr>
          <p:nvPr/>
        </p:nvCxnSpPr>
        <p:spPr>
          <a:xfrm>
            <a:off x="4028760" y="5281560"/>
            <a:ext cx="772200" cy="63432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11360" y="1271520"/>
            <a:ext cx="2112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erty 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duct, feature, feature component, action, resource, or anything using a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08040" y="2981160"/>
            <a:ext cx="517680" cy="628920"/>
          </a:xfrm>
          <a:prstGeom prst="downArrow">
            <a:avLst>
              <a:gd name="adj1" fmla="val 46630"/>
              <a:gd name="adj2" fmla="val 39270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704040" y="3611520"/>
            <a:ext cx="15994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value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89" idx="0"/>
            <a:endCxn id="98" idx="1"/>
          </p:cNvCxnSpPr>
          <p:nvPr/>
        </p:nvCxnSpPr>
        <p:spPr>
          <a:xfrm flipH="1" flipV="1" rot="5400000">
            <a:off x="2761920" y="3925440"/>
            <a:ext cx="1024560" cy="853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28292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Range AP-224 Ma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46880" y="3832200"/>
            <a:ext cx="14317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shape 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2" name=""/>
          <p:cNvCxnSpPr>
            <a:stCxn id="101" idx="2"/>
            <a:endCxn id="103" idx="1"/>
          </p:cNvCxnSpPr>
          <p:nvPr/>
        </p:nvCxnSpPr>
        <p:spPr>
          <a:xfrm flipH="1" rot="16200000">
            <a:off x="2472480" y="3586680"/>
            <a:ext cx="1620000" cy="30376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3713040" y="12412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 digits are related to each value separately using a measure qual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4253040"/>
            <a:ext cx="2358360" cy="100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upper ran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960" y="5411880"/>
            <a:ext cx="2358360" cy="100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lower rang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75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3040" y="2343600"/>
            <a:ext cx="186156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mensional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7040" y="3002040"/>
            <a:ext cx="21128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al character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64960" y="1770120"/>
            <a:ext cx="1195560" cy="274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7" idx="0"/>
            <a:endCxn id="106" idx="2"/>
          </p:cNvCxnSpPr>
          <p:nvPr/>
        </p:nvCxnSpPr>
        <p:spPr>
          <a:xfrm flipV="1">
            <a:off x="1763280" y="2698560"/>
            <a:ext cx="1080" cy="297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7" idx="2"/>
            <a:endCxn id="101" idx="0"/>
          </p:cNvCxnSpPr>
          <p:nvPr/>
        </p:nvCxnSpPr>
        <p:spPr>
          <a:xfrm>
            <a:off x="1763280" y="3465000"/>
            <a:ext cx="1080" cy="36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6" idx="0"/>
            <a:endCxn id="108" idx="2"/>
          </p:cNvCxnSpPr>
          <p:nvPr/>
        </p:nvCxnSpPr>
        <p:spPr>
          <a:xfrm flipV="1">
            <a:off x="1763280" y="2063160"/>
            <a:ext cx="108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624960" y="927000"/>
            <a:ext cx="227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metry and pla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8" idx="0"/>
            <a:endCxn id="112" idx="2"/>
          </p:cNvCxnSpPr>
          <p:nvPr/>
        </p:nvCxnSpPr>
        <p:spPr>
          <a:xfrm flipV="1">
            <a:off x="1763280" y="1444320"/>
            <a:ext cx="2520" cy="306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1" idx="2"/>
            <a:endCxn id="105" idx="1"/>
          </p:cNvCxnSpPr>
          <p:nvPr/>
        </p:nvCxnSpPr>
        <p:spPr>
          <a:xfrm flipH="1" rot="16200000">
            <a:off x="3051720" y="3007080"/>
            <a:ext cx="461160" cy="30376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6217200" y="3240360"/>
            <a:ext cx="17974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qual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31360" y="3718080"/>
            <a:ext cx="17974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qual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6" idx="1"/>
            <a:endCxn id="118" idx="3"/>
          </p:cNvCxnSpPr>
          <p:nvPr/>
        </p:nvCxnSpPr>
        <p:spPr>
          <a:xfrm flipH="1" flipV="1">
            <a:off x="5307120" y="3839760"/>
            <a:ext cx="621000" cy="1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5" idx="1"/>
            <a:endCxn id="118" idx="0"/>
          </p:cNvCxnSpPr>
          <p:nvPr/>
        </p:nvCxnSpPr>
        <p:spPr>
          <a:xfrm flipV="1" rot="10800000">
            <a:off x="4502880" y="3377880"/>
            <a:ext cx="1710720" cy="22752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6" idx="3"/>
            <a:endCxn id="105" idx="3"/>
          </p:cNvCxnSpPr>
          <p:nvPr/>
        </p:nvCxnSpPr>
        <p:spPr>
          <a:xfrm flipH="1">
            <a:off x="7159320" y="3855600"/>
            <a:ext cx="573840" cy="901080"/>
          </a:xfrm>
          <a:prstGeom prst="bentConnector3">
            <a:avLst>
              <a:gd name="adj1" fmla="val -3986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3"/>
            <a:endCxn id="103" idx="3"/>
          </p:cNvCxnSpPr>
          <p:nvPr/>
        </p:nvCxnSpPr>
        <p:spPr>
          <a:xfrm flipH="1">
            <a:off x="7159320" y="3377880"/>
            <a:ext cx="859680" cy="2537640"/>
          </a:xfrm>
          <a:prstGeom prst="bentConnector3">
            <a:avLst>
              <a:gd name="adj1" fmla="val -2660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704040" y="3611520"/>
            <a:ext cx="15994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value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7196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Range - Still In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66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d solution is to u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14 value_range AIM mapping outside of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24 two rep item mapping inside of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ingness from AP-224  to use value_range outside of dimensions, and extend ARM to support ranges for normal properties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unsure about using two rep item approach inside of dimens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 Ungerer wants to discuss this with his tea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discussion on value range via email/conf call, once Max has had time to get additional input from his tea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6066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/Min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549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 has implementation of both plus/minus mappings (in dimensions, in feature properti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has mappings for plus minus but no vendor implementation within dimen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mplementations outside of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s currently have an error that always requires the use of dimensional_size, even in a location dimen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 1106 and 1050 mapping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6 has Plus/Minus for use outside of dimension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 the qualified rep item mapp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50 has Plus/Minus for use inside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have correct mappings, but derived from AP-214, so check to make sure that they do not have the same probl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2637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/Minus Re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2635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eement on separate representations for use inside and outside of dimension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following slides for dia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to correct mappings inside dimension to make proper use of dimensional_size, add new mapping for use outside of dim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58024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/Minus Outside of a Dimension (1/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6360" y="3503880"/>
            <a:ext cx="124416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34560" y="3963960"/>
            <a:ext cx="2358360" cy="118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fied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leng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9" idx="2"/>
            <a:endCxn id="130" idx="1"/>
          </p:cNvCxnSpPr>
          <p:nvPr/>
        </p:nvCxnSpPr>
        <p:spPr>
          <a:xfrm flipH="1" rot="16200000">
            <a:off x="1263600" y="3988800"/>
            <a:ext cx="773640" cy="364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233280" y="1203480"/>
            <a:ext cx="337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other property 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duct, feature, feature component, action, resource, or anything using a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30480" y="2770200"/>
            <a:ext cx="517320" cy="628560"/>
          </a:xfrm>
          <a:prstGeom prst="downArrow">
            <a:avLst>
              <a:gd name="adj1" fmla="val 46630"/>
              <a:gd name="adj2" fmla="val 39275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16440" y="2509920"/>
            <a:ext cx="1722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s qualified representation item to t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x in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83000" y="4243680"/>
            <a:ext cx="240408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_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name = “upper limi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ertainty_value =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282280" y="5034240"/>
            <a:ext cx="237960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_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name = “lower limi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ertainty_value = -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83360" y="6139080"/>
            <a:ext cx="15994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value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30" idx="3"/>
            <a:endCxn id="137" idx="1"/>
          </p:cNvCxnSpPr>
          <p:nvPr/>
        </p:nvCxnSpPr>
        <p:spPr>
          <a:xfrm>
            <a:off x="4195800" y="4557240"/>
            <a:ext cx="1085040" cy="1810440"/>
          </a:xfrm>
          <a:prstGeom prst="bentConnector3">
            <a:avLst>
              <a:gd name="adj1" fmla="val 499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0" idx="3"/>
            <a:endCxn id="135" idx="1"/>
          </p:cNvCxnSpPr>
          <p:nvPr/>
        </p:nvCxnSpPr>
        <p:spPr>
          <a:xfrm>
            <a:off x="4195800" y="4557600"/>
            <a:ext cx="1085040" cy="7200"/>
          </a:xfrm>
          <a:prstGeom prst="bentConnector3">
            <a:avLst>
              <a:gd name="adj1" fmla="val 499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0" idx="3"/>
            <a:endCxn id="136" idx="1"/>
          </p:cNvCxnSpPr>
          <p:nvPr/>
        </p:nvCxnSpPr>
        <p:spPr>
          <a:xfrm>
            <a:off x="4195800" y="4557600"/>
            <a:ext cx="1085040" cy="797760"/>
          </a:xfrm>
          <a:prstGeom prst="bentConnector3">
            <a:avLst>
              <a:gd name="adj1" fmla="val 499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6662880" y="3529080"/>
            <a:ext cx="225360" cy="544320"/>
          </a:xfrm>
          <a:custGeom>
            <a:avLst/>
            <a:gdLst/>
            <a:ahLst/>
            <a:rect l="l" t="t" r="r" b="b"/>
            <a:pathLst>
              <a:path w="142" h="343">
                <a:moveTo>
                  <a:pt x="116" y="0"/>
                </a:moveTo>
                <a:cubicBezTo>
                  <a:pt x="64" y="63"/>
                  <a:pt x="13" y="126"/>
                  <a:pt x="17" y="146"/>
                </a:cubicBezTo>
                <a:cubicBezTo>
                  <a:pt x="21" y="166"/>
                  <a:pt x="142" y="89"/>
                  <a:pt x="139" y="122"/>
                </a:cubicBezTo>
                <a:cubicBezTo>
                  <a:pt x="136" y="155"/>
                  <a:pt x="68" y="249"/>
                  <a:pt x="0" y="34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218280" y="2730600"/>
            <a:ext cx="2527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nts to separate qualifiers for upper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er limits and significant dig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16400" y="3454560"/>
            <a:ext cx="258840" cy="711000"/>
          </a:xfrm>
          <a:custGeom>
            <a:avLst/>
            <a:gdLst/>
            <a:ahLst/>
            <a:rect l="l" t="t" r="r" b="b"/>
            <a:pathLst>
              <a:path w="163" h="448">
                <a:moveTo>
                  <a:pt x="163" y="0"/>
                </a:moveTo>
                <a:cubicBezTo>
                  <a:pt x="98" y="85"/>
                  <a:pt x="33" y="171"/>
                  <a:pt x="29" y="198"/>
                </a:cubicBezTo>
                <a:cubicBezTo>
                  <a:pt x="25" y="225"/>
                  <a:pt x="145" y="121"/>
                  <a:pt x="140" y="163"/>
                </a:cubicBezTo>
                <a:cubicBezTo>
                  <a:pt x="135" y="205"/>
                  <a:pt x="67" y="326"/>
                  <a:pt x="0" y="44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55920" y="944640"/>
            <a:ext cx="4367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NOT FOR USE WITH A SIZE DIMENSION OR LOCATION DIM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(which are mapped to Part 47 dimensional_size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dimensional_lo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880" y="5427720"/>
            <a:ext cx="3929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is is an example with length, could be used for angles, times, velocities, etc.  as supported by the range of things representable by measure_with_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7960" y="4525920"/>
            <a:ext cx="1244520" cy="800280"/>
          </a:xfrm>
          <a:custGeom>
            <a:avLst/>
            <a:gdLst/>
            <a:ahLst/>
            <a:rect l="l" t="t" r="r" b="b"/>
            <a:pathLst>
              <a:path w="784" h="504">
                <a:moveTo>
                  <a:pt x="0" y="504"/>
                </a:moveTo>
                <a:cubicBezTo>
                  <a:pt x="18" y="395"/>
                  <a:pt x="36" y="287"/>
                  <a:pt x="122" y="223"/>
                </a:cubicBezTo>
                <a:cubicBezTo>
                  <a:pt x="208" y="159"/>
                  <a:pt x="408" y="160"/>
                  <a:pt x="518" y="123"/>
                </a:cubicBezTo>
                <a:cubicBezTo>
                  <a:pt x="628" y="86"/>
                  <a:pt x="706" y="43"/>
                  <a:pt x="784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2688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During We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93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and Resolved Incompati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ndling of value qualifications (range, plus/minus, et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iewing proposed change for value range, all other qualifications RESOL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s of dimensions identified:   RESOL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 of envelope principle:    RESOL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ed angular location, determination of angle ori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models already harmonized.  Continue to study ways to improve the ARM.   Leave alone for n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ed Big Picture Strategies for GD&amp;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nking of dimensions with the draughting presentation elements of the dimensions. Presentation Giv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tionships with TC 10 and TC 21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ed response to TC-213 “expression of concern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580248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/Minus Outside of a Dimension (2/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6360" y="3503880"/>
            <a:ext cx="124416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34560" y="3963960"/>
            <a:ext cx="2358360" cy="118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fied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leng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8" idx="2"/>
            <a:endCxn id="149" idx="1"/>
          </p:cNvCxnSpPr>
          <p:nvPr/>
        </p:nvCxnSpPr>
        <p:spPr>
          <a:xfrm flipH="1" rot="16200000">
            <a:off x="1263600" y="3988800"/>
            <a:ext cx="773640" cy="364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233280" y="1203480"/>
            <a:ext cx="337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other property 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duct, feature, feature component, action, resource, or anything using a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30480" y="2770200"/>
            <a:ext cx="517320" cy="628560"/>
          </a:xfrm>
          <a:prstGeom prst="downArrow">
            <a:avLst>
              <a:gd name="adj1" fmla="val 46630"/>
              <a:gd name="adj2" fmla="val 39275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3000" y="4243680"/>
            <a:ext cx="240408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_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name = “upper limi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ertainty_value =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82280" y="5034240"/>
            <a:ext cx="237960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ard_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name = “lower limi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ertainty_value = -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83360" y="6139080"/>
            <a:ext cx="15994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value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"/>
          <p:cNvCxnSpPr>
            <a:stCxn id="149" idx="3"/>
            <a:endCxn id="155" idx="1"/>
          </p:cNvCxnSpPr>
          <p:nvPr/>
        </p:nvCxnSpPr>
        <p:spPr>
          <a:xfrm>
            <a:off x="4195800" y="4557240"/>
            <a:ext cx="1085040" cy="1810440"/>
          </a:xfrm>
          <a:prstGeom prst="bentConnector3">
            <a:avLst>
              <a:gd name="adj1" fmla="val 499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49" idx="3"/>
            <a:endCxn id="153" idx="1"/>
          </p:cNvCxnSpPr>
          <p:nvPr/>
        </p:nvCxnSpPr>
        <p:spPr>
          <a:xfrm>
            <a:off x="4195800" y="4557600"/>
            <a:ext cx="1085040" cy="7200"/>
          </a:xfrm>
          <a:prstGeom prst="bentConnector3">
            <a:avLst>
              <a:gd name="adj1" fmla="val 499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9" idx="3"/>
            <a:endCxn id="154" idx="1"/>
          </p:cNvCxnSpPr>
          <p:nvPr/>
        </p:nvCxnSpPr>
        <p:spPr>
          <a:xfrm>
            <a:off x="4195800" y="4557600"/>
            <a:ext cx="1085040" cy="797760"/>
          </a:xfrm>
          <a:prstGeom prst="bentConnector3">
            <a:avLst>
              <a:gd name="adj1" fmla="val 4991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2898720" y="2793960"/>
            <a:ext cx="5497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current AP-224 repres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-214 to add alternate mapping for use outside of dimensions when correcting mapping of plus/minus tolerance to dimensional_* ent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255920" y="944640"/>
            <a:ext cx="4367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NOT FOR USE WITH A SIZE DIMENSION OR LOCATION DIM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(which are mapped to Part 47 dimensional_size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dimensional_lo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178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/Minus Using Dim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34280" y="5083200"/>
            <a:ext cx="2358360" cy="100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fied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83400" y="6139080"/>
            <a:ext cx="15994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value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2" idx="3"/>
            <a:endCxn id="163" idx="1"/>
          </p:cNvCxnSpPr>
          <p:nvPr/>
        </p:nvCxnSpPr>
        <p:spPr>
          <a:xfrm>
            <a:off x="3395160" y="5586120"/>
            <a:ext cx="1485000" cy="781560"/>
          </a:xfrm>
          <a:prstGeom prst="bentConnector3">
            <a:avLst>
              <a:gd name="adj1" fmla="val 499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1283760" y="2151720"/>
            <a:ext cx="186156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mensional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58120" y="2810160"/>
            <a:ext cx="21128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al character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97960" y="3556080"/>
            <a:ext cx="14317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15680" y="1578240"/>
            <a:ext cx="1195560" cy="274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0400" y="2681280"/>
            <a:ext cx="17974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s_minus_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310080" y="3237120"/>
            <a:ext cx="13402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lerance_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9" idx="0"/>
            <a:endCxn id="165" idx="3"/>
          </p:cNvCxnSpPr>
          <p:nvPr/>
        </p:nvCxnSpPr>
        <p:spPr>
          <a:xfrm flipV="1" rot="16200000">
            <a:off x="4895280" y="589680"/>
            <a:ext cx="356040" cy="3814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5924520" y="4016520"/>
            <a:ext cx="210996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24520" y="4632480"/>
            <a:ext cx="210996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-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66" idx="0"/>
            <a:endCxn id="165" idx="2"/>
          </p:cNvCxnSpPr>
          <p:nvPr/>
        </p:nvCxnSpPr>
        <p:spPr>
          <a:xfrm flipV="1">
            <a:off x="2214360" y="2505960"/>
            <a:ext cx="1080" cy="297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6" idx="2"/>
            <a:endCxn id="167" idx="0"/>
          </p:cNvCxnSpPr>
          <p:nvPr/>
        </p:nvCxnSpPr>
        <p:spPr>
          <a:xfrm>
            <a:off x="2214360" y="3273120"/>
            <a:ext cx="108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5" idx="0"/>
            <a:endCxn id="168" idx="2"/>
          </p:cNvCxnSpPr>
          <p:nvPr/>
        </p:nvCxnSpPr>
        <p:spPr>
          <a:xfrm flipV="1">
            <a:off x="2214360" y="1870920"/>
            <a:ext cx="108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7" name=""/>
          <p:cNvCxnSpPr>
            <a:stCxn id="167" idx="2"/>
            <a:endCxn id="162" idx="0"/>
          </p:cNvCxnSpPr>
          <p:nvPr/>
        </p:nvCxnSpPr>
        <p:spPr>
          <a:xfrm flipV="1" rot="10800000">
            <a:off x="2214000" y="4019040"/>
            <a:ext cx="1080" cy="10580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8" name=""/>
          <p:cNvCxnSpPr>
            <a:stCxn id="169" idx="2"/>
            <a:endCxn id="170" idx="0"/>
          </p:cNvCxnSpPr>
          <p:nvPr/>
        </p:nvCxnSpPr>
        <p:spPr>
          <a:xfrm>
            <a:off x="6980040" y="2962080"/>
            <a:ext cx="1080" cy="268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0" idx="1"/>
            <a:endCxn id="173" idx="1"/>
          </p:cNvCxnSpPr>
          <p:nvPr/>
        </p:nvCxnSpPr>
        <p:spPr>
          <a:xfrm flipV="1" rot="10800000">
            <a:off x="5919120" y="3374640"/>
            <a:ext cx="388080" cy="1486800"/>
          </a:xfrm>
          <a:prstGeom prst="bentConnector3">
            <a:avLst>
              <a:gd name="adj1" fmla="val 15896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5653800" y="35100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70320" y="357660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per_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70" idx="2"/>
            <a:endCxn id="172" idx="0"/>
          </p:cNvCxnSpPr>
          <p:nvPr/>
        </p:nvCxnSpPr>
        <p:spPr>
          <a:xfrm flipV="1" rot="10800000">
            <a:off x="6979680" y="3517560"/>
            <a:ext cx="1080" cy="4928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1032120" y="124128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_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68" idx="0"/>
            <a:endCxn id="185" idx="2"/>
          </p:cNvCxnSpPr>
          <p:nvPr/>
        </p:nvCxnSpPr>
        <p:spPr>
          <a:xfrm flipV="1">
            <a:off x="2214360" y="1305720"/>
            <a:ext cx="1080" cy="253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1158120" y="1001880"/>
            <a:ext cx="211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metry and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47320" y="5695920"/>
            <a:ext cx="17974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qual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47200" y="6218280"/>
            <a:ext cx="17974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qual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7" idx="1"/>
            <a:endCxn id="163" idx="3"/>
          </p:cNvCxnSpPr>
          <p:nvPr/>
        </p:nvCxnSpPr>
        <p:spPr>
          <a:xfrm flipH="1">
            <a:off x="6486120" y="6356520"/>
            <a:ext cx="357840" cy="11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"/>
          <p:cNvCxnSpPr>
            <a:stCxn id="187" idx="3"/>
            <a:endCxn id="172" idx="3"/>
          </p:cNvCxnSpPr>
          <p:nvPr/>
        </p:nvCxnSpPr>
        <p:spPr>
          <a:xfrm flipH="1" flipV="1">
            <a:off x="8038440" y="4244400"/>
            <a:ext cx="610200" cy="2112120"/>
          </a:xfrm>
          <a:prstGeom prst="bentConnector3">
            <a:avLst>
              <a:gd name="adj1" fmla="val -3748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6" idx="3"/>
            <a:endCxn id="173" idx="3"/>
          </p:cNvCxnSpPr>
          <p:nvPr/>
        </p:nvCxnSpPr>
        <p:spPr>
          <a:xfrm flipH="1" flipV="1">
            <a:off x="8038800" y="4860360"/>
            <a:ext cx="310320" cy="973800"/>
          </a:xfrm>
          <a:prstGeom prst="bentConnector3">
            <a:avLst>
              <a:gd name="adj1" fmla="val -7375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stCxn id="186" idx="1"/>
            <a:endCxn id="163" idx="0"/>
          </p:cNvCxnSpPr>
          <p:nvPr/>
        </p:nvCxnSpPr>
        <p:spPr>
          <a:xfrm flipV="1" rot="10800000">
            <a:off x="5682600" y="5833080"/>
            <a:ext cx="861120" cy="2991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3835440" y="1023840"/>
            <a:ext cx="4343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-214 current mapping always requires a dimensional_size, even if a location dimen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need to fix mapping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03720" y="1646280"/>
            <a:ext cx="960480" cy="503280"/>
          </a:xfrm>
          <a:custGeom>
            <a:avLst/>
            <a:gdLst/>
            <a:ahLst/>
            <a:rect l="l" t="t" r="r" b="b"/>
            <a:pathLst>
              <a:path w="605" h="317">
                <a:moveTo>
                  <a:pt x="605" y="0"/>
                </a:moveTo>
                <a:cubicBezTo>
                  <a:pt x="413" y="38"/>
                  <a:pt x="222" y="76"/>
                  <a:pt x="180" y="101"/>
                </a:cubicBezTo>
                <a:cubicBezTo>
                  <a:pt x="138" y="126"/>
                  <a:pt x="383" y="115"/>
                  <a:pt x="353" y="151"/>
                </a:cubicBezTo>
                <a:cubicBezTo>
                  <a:pt x="323" y="187"/>
                  <a:pt x="161" y="252"/>
                  <a:pt x="0" y="3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1477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and F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536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 need information about implement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has mappings for limits and fits but no vendor implementation within dimens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mplementations outside of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s currently have an error that always requires the use of dimensional_size, even in a location dimen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38 has requirement for use outside of dimension (as a propert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 developed mappings based on qualified rep item that follow the AP-224 plus / minus patter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eed to follow resolution adopted for plus min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e will email mapping paths for this to explod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5632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and Fits Outside of a Dim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46360" y="3503880"/>
            <a:ext cx="124416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4560" y="3963960"/>
            <a:ext cx="2358360" cy="118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fied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diameter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7" idx="2"/>
            <a:endCxn id="198" idx="1"/>
          </p:cNvCxnSpPr>
          <p:nvPr/>
        </p:nvCxnSpPr>
        <p:spPr>
          <a:xfrm flipH="1" rot="16200000">
            <a:off x="1263600" y="3988800"/>
            <a:ext cx="773640" cy="364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233280" y="1203480"/>
            <a:ext cx="3370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other property defin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 product, feature, feature component, action, resource, or anything using a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30480" y="2770200"/>
            <a:ext cx="517320" cy="628560"/>
          </a:xfrm>
          <a:prstGeom prst="downArrow">
            <a:avLst>
              <a:gd name="adj1" fmla="val 46630"/>
              <a:gd name="adj2" fmla="val 39275"/>
            </a:avLst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7640" y="5357880"/>
            <a:ext cx="4124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s qualified representation item to the complex in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s qualitative_uncertainty for descrip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43120" y="3549960"/>
            <a:ext cx="262656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ative_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name = “form varia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ertainty_value = “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343480" y="4343400"/>
            <a:ext cx="263556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ative_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name = “zone varia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ertainty_value = “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98" idx="3"/>
            <a:endCxn id="206" idx="1"/>
          </p:cNvCxnSpPr>
          <p:nvPr/>
        </p:nvCxnSpPr>
        <p:spPr>
          <a:xfrm>
            <a:off x="4195800" y="4557240"/>
            <a:ext cx="1148040" cy="901080"/>
          </a:xfrm>
          <a:prstGeom prst="bentConnector3">
            <a:avLst>
              <a:gd name="adj1" fmla="val 4993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203" idx="1"/>
          </p:cNvCxnSpPr>
          <p:nvPr/>
        </p:nvCxnSpPr>
        <p:spPr>
          <a:xfrm flipV="1">
            <a:off x="4195800" y="3869640"/>
            <a:ext cx="1148040" cy="687960"/>
          </a:xfrm>
          <a:prstGeom prst="bentConnector3">
            <a:avLst>
              <a:gd name="adj1" fmla="val 4993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"/>
          <p:cNvCxnSpPr>
            <a:stCxn id="198" idx="3"/>
            <a:endCxn id="204" idx="1"/>
          </p:cNvCxnSpPr>
          <p:nvPr/>
        </p:nvCxnSpPr>
        <p:spPr>
          <a:xfrm>
            <a:off x="4195800" y="4557600"/>
            <a:ext cx="1148040" cy="107280"/>
          </a:xfrm>
          <a:prstGeom prst="bentConnector3">
            <a:avLst>
              <a:gd name="adj1" fmla="val 4993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9" name=""/>
          <p:cNvSpPr/>
          <p:nvPr/>
        </p:nvSpPr>
        <p:spPr>
          <a:xfrm>
            <a:off x="4413240" y="2490840"/>
            <a:ext cx="413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s the pattern established by the Plus/Minus mapping with qualifiers for each fit descri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45280" y="5137200"/>
            <a:ext cx="215856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tative_uncertain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name = “grad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certainty_value = “IT01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43480" y="6142320"/>
            <a:ext cx="16066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value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198" idx="3"/>
            <a:endCxn id="210" idx="1"/>
          </p:cNvCxnSpPr>
          <p:nvPr/>
        </p:nvCxnSpPr>
        <p:spPr>
          <a:xfrm>
            <a:off x="4195800" y="4557600"/>
            <a:ext cx="1148040" cy="1813680"/>
          </a:xfrm>
          <a:prstGeom prst="bentConnector3">
            <a:avLst>
              <a:gd name="adj1" fmla="val 4993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2" name=""/>
          <p:cNvSpPr/>
          <p:nvPr/>
        </p:nvSpPr>
        <p:spPr>
          <a:xfrm>
            <a:off x="4255920" y="944640"/>
            <a:ext cx="4367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NOT FOR USE WITH A SIZE DIMENSION OR LOCATION DIMEN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(which are mapped to Part 47 dimensional_size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dimensional_lo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7196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and Fits Using Dim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034280" y="5083200"/>
            <a:ext cx="2358360" cy="1004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fied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83400" y="6139080"/>
            <a:ext cx="159948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quali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cision_value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4" idx="3"/>
            <a:endCxn id="215" idx="1"/>
          </p:cNvCxnSpPr>
          <p:nvPr/>
        </p:nvCxnSpPr>
        <p:spPr>
          <a:xfrm>
            <a:off x="3395160" y="5586120"/>
            <a:ext cx="1485000" cy="781560"/>
          </a:xfrm>
          <a:prstGeom prst="bentConnector3">
            <a:avLst>
              <a:gd name="adj1" fmla="val 499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"/>
          <p:cNvSpPr/>
          <p:nvPr/>
        </p:nvSpPr>
        <p:spPr>
          <a:xfrm>
            <a:off x="1283760" y="2151720"/>
            <a:ext cx="186156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mensional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58120" y="2810160"/>
            <a:ext cx="21128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al character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97960" y="3556080"/>
            <a:ext cx="14317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15680" y="1578240"/>
            <a:ext cx="1195560" cy="274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0400" y="2681280"/>
            <a:ext cx="17974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s_minus_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42320" y="3399120"/>
            <a:ext cx="1674000" cy="821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s_and_f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_variance = “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zone_variance = “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ade = “IT01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3" name=""/>
          <p:cNvCxnSpPr>
            <a:stCxn id="221" idx="0"/>
            <a:endCxn id="217" idx="3"/>
          </p:cNvCxnSpPr>
          <p:nvPr/>
        </p:nvCxnSpPr>
        <p:spPr>
          <a:xfrm flipV="1" rot="16200000">
            <a:off x="4895280" y="589680"/>
            <a:ext cx="356040" cy="381420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8" idx="0"/>
            <a:endCxn id="217" idx="2"/>
          </p:cNvCxnSpPr>
          <p:nvPr/>
        </p:nvCxnSpPr>
        <p:spPr>
          <a:xfrm flipV="1">
            <a:off x="2214360" y="2505960"/>
            <a:ext cx="1080" cy="297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18" idx="2"/>
            <a:endCxn id="219" idx="0"/>
          </p:cNvCxnSpPr>
          <p:nvPr/>
        </p:nvCxnSpPr>
        <p:spPr>
          <a:xfrm>
            <a:off x="2214360" y="3273120"/>
            <a:ext cx="1080" cy="27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6" name=""/>
          <p:cNvCxnSpPr>
            <a:stCxn id="217" idx="0"/>
            <a:endCxn id="220" idx="2"/>
          </p:cNvCxnSpPr>
          <p:nvPr/>
        </p:nvCxnSpPr>
        <p:spPr>
          <a:xfrm flipV="1">
            <a:off x="2214360" y="1870920"/>
            <a:ext cx="108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19" idx="2"/>
            <a:endCxn id="214" idx="0"/>
          </p:cNvCxnSpPr>
          <p:nvPr/>
        </p:nvCxnSpPr>
        <p:spPr>
          <a:xfrm flipV="1" rot="10800000">
            <a:off x="2214000" y="4019040"/>
            <a:ext cx="1080" cy="10580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1" idx="2"/>
            <a:endCxn id="222" idx="0"/>
          </p:cNvCxnSpPr>
          <p:nvPr/>
        </p:nvCxnSpPr>
        <p:spPr>
          <a:xfrm>
            <a:off x="6980040" y="2962080"/>
            <a:ext cx="1080" cy="430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1032120" y="124128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_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0" idx="0"/>
            <a:endCxn id="231" idx="2"/>
          </p:cNvCxnSpPr>
          <p:nvPr/>
        </p:nvCxnSpPr>
        <p:spPr>
          <a:xfrm flipV="1">
            <a:off x="2214360" y="1305720"/>
            <a:ext cx="1080" cy="253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1" name=""/>
          <p:cNvSpPr/>
          <p:nvPr/>
        </p:nvSpPr>
        <p:spPr>
          <a:xfrm>
            <a:off x="1158120" y="1001880"/>
            <a:ext cx="211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metry and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35440" y="1023840"/>
            <a:ext cx="285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-214 requires mapping fix already noted in plus/minus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03720" y="1646280"/>
            <a:ext cx="960480" cy="503280"/>
          </a:xfrm>
          <a:custGeom>
            <a:avLst/>
            <a:gdLst/>
            <a:ahLst/>
            <a:rect l="l" t="t" r="r" b="b"/>
            <a:pathLst>
              <a:path w="605" h="317">
                <a:moveTo>
                  <a:pt x="605" y="0"/>
                </a:moveTo>
                <a:cubicBezTo>
                  <a:pt x="413" y="38"/>
                  <a:pt x="222" y="76"/>
                  <a:pt x="180" y="101"/>
                </a:cubicBezTo>
                <a:cubicBezTo>
                  <a:pt x="138" y="126"/>
                  <a:pt x="383" y="115"/>
                  <a:pt x="353" y="151"/>
                </a:cubicBezTo>
                <a:cubicBezTo>
                  <a:pt x="323" y="187"/>
                  <a:pt x="161" y="252"/>
                  <a:pt x="0" y="31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7083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Dimension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74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le Dimensions in AP-214 and AP-2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 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ance_along_curve/curved_distance (224,214,20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gular_dimension/angular_location (224,214,20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tion_dimension/linear_distance (224,214,20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ze 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al_dimension (22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ameter_dimension (22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ved_dimension (22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gular_size_dimension (224,21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ckness (21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_size (21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ule 1050 currently has only the AP-214 on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09920" y="35434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38680" y="3325680"/>
            <a:ext cx="249120" cy="914400"/>
          </a:xfrm>
          <a:custGeom>
            <a:avLst/>
            <a:gdLst>
              <a:gd name="textAreaLeft" fmla="*/ 0 w 249120"/>
              <a:gd name="textAreaRight" fmla="*/ 90000 w 2491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6257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440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ze dimen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ent to add size dimensions for each drawing symbol not attractive to cax-if vendor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al, diameter, curved currently under general_size in 2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th, height may also be general_size in 2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ckness (214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ments coming from tube/piping thickness, coat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24 agrees to harmonize with any explicit tolerance types, but will not adopt a “generic” size toleran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l_size (214) (NOT radius, diameter, dimens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to “externally_defined_size” with document refer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6574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gges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547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ENTITY externally_defined_size_dimens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  SUBTYPE OF (</a:t>
            </a:r>
            <a:r>
              <a:rPr b="1" lang="en-US" sz="2400" spc="-1" strike="noStrike" u="sng">
                <a:solidFill>
                  <a:srgbClr val="009688"/>
                </a:solidFill>
                <a:uFillTx/>
                <a:latin typeface="Arial Unicode MS"/>
                <a:hlinkClick r:id="rId1"/>
              </a:rPr>
              <a:t>Size_dimension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  external_source_id : STRING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  external_source : assigned_document_select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  used_path : OPTIONAL </a:t>
            </a:r>
            <a:r>
              <a:rPr b="1" lang="en-US" sz="2400" spc="-1" strike="noStrike" u="sng">
                <a:solidFill>
                  <a:srgbClr val="009688"/>
                </a:solidFill>
                <a:uFillTx/>
                <a:latin typeface="Arial Unicode MS"/>
                <a:hlinkClick r:id="rId2"/>
              </a:rPr>
              <a:t>Measurement_path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END_ENTITY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ide from renaming in the ARM, upward compatible with existing general_size defin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RM, AP-214 and modules may do as a separate document_assignment + rule to require i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RM, AP-224 may do as abov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IMs, will be mapped as document assig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1799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ension Type Resol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489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general_size to externally defined size as in previous slid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ward compatible change to AP-214, Module 10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addition to AP-2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specific types out from general_siz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us, diameter, curved path become separate ARM objects in AP-214 and module 10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be several others (width?  height? length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missing size dimensions to AP-2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ckn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 coming from general_size as abov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ree on len/width/height via email/conf c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/width/height may just be the same type of thing with different measurement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7241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elope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412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ed as the name of the dimensional characteristic represen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ed as classification assignment on plus_minus_tole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 10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ed as classification assignment on dimensional_s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e diagram on next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4435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on Statement For TC-21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48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 response to TC-213 “expression of concern”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 are happy to use TC 213 terminology,  and note that we are already referring to 5459:1981 for the definition of Datu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 ask TC-213 to point out areas where we differ and we will be happy to adopt their terminolog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ready using the “Common_Datum” term as AIM entity defined in AIC 519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ill change uses of “Compound Datum” term to “Common Datum.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elcome the chance to meet for a harmonization workshop on an as-needed basi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138560" y="722160"/>
            <a:ext cx="4576680" cy="2851200"/>
          </a:xfrm>
          <a:custGeom>
            <a:avLst/>
            <a:gdLst/>
            <a:ahLst/>
            <a:rect l="l" t="t" r="r" b="b"/>
            <a:pathLst>
              <a:path w="2883" h="1796">
                <a:moveTo>
                  <a:pt x="576" y="1576"/>
                </a:moveTo>
                <a:cubicBezTo>
                  <a:pt x="573" y="1575"/>
                  <a:pt x="533" y="1564"/>
                  <a:pt x="531" y="1561"/>
                </a:cubicBezTo>
                <a:cubicBezTo>
                  <a:pt x="511" y="1541"/>
                  <a:pt x="478" y="1493"/>
                  <a:pt x="478" y="1493"/>
                </a:cubicBezTo>
                <a:cubicBezTo>
                  <a:pt x="458" y="1435"/>
                  <a:pt x="415" y="1403"/>
                  <a:pt x="379" y="1356"/>
                </a:cubicBezTo>
                <a:cubicBezTo>
                  <a:pt x="350" y="1318"/>
                  <a:pt x="332" y="1263"/>
                  <a:pt x="311" y="1220"/>
                </a:cubicBezTo>
                <a:cubicBezTo>
                  <a:pt x="290" y="1178"/>
                  <a:pt x="264" y="1161"/>
                  <a:pt x="235" y="1129"/>
                </a:cubicBezTo>
                <a:cubicBezTo>
                  <a:pt x="99" y="976"/>
                  <a:pt x="255" y="1131"/>
                  <a:pt x="159" y="1038"/>
                </a:cubicBezTo>
                <a:cubicBezTo>
                  <a:pt x="144" y="991"/>
                  <a:pt x="133" y="950"/>
                  <a:pt x="106" y="909"/>
                </a:cubicBezTo>
                <a:cubicBezTo>
                  <a:pt x="95" y="840"/>
                  <a:pt x="92" y="819"/>
                  <a:pt x="99" y="742"/>
                </a:cubicBezTo>
                <a:cubicBezTo>
                  <a:pt x="82" y="680"/>
                  <a:pt x="52" y="619"/>
                  <a:pt x="23" y="561"/>
                </a:cubicBezTo>
                <a:cubicBezTo>
                  <a:pt x="4" y="452"/>
                  <a:pt x="11" y="505"/>
                  <a:pt x="0" y="401"/>
                </a:cubicBezTo>
                <a:cubicBezTo>
                  <a:pt x="4" y="371"/>
                  <a:pt x="0" y="337"/>
                  <a:pt x="15" y="310"/>
                </a:cubicBezTo>
                <a:cubicBezTo>
                  <a:pt x="47" y="250"/>
                  <a:pt x="100" y="212"/>
                  <a:pt x="159" y="182"/>
                </a:cubicBezTo>
                <a:cubicBezTo>
                  <a:pt x="175" y="165"/>
                  <a:pt x="189" y="145"/>
                  <a:pt x="205" y="129"/>
                </a:cubicBezTo>
                <a:cubicBezTo>
                  <a:pt x="230" y="104"/>
                  <a:pt x="270" y="99"/>
                  <a:pt x="303" y="91"/>
                </a:cubicBezTo>
                <a:cubicBezTo>
                  <a:pt x="422" y="33"/>
                  <a:pt x="561" y="36"/>
                  <a:pt x="690" y="30"/>
                </a:cubicBezTo>
                <a:cubicBezTo>
                  <a:pt x="834" y="0"/>
                  <a:pt x="996" y="11"/>
                  <a:pt x="1145" y="0"/>
                </a:cubicBezTo>
                <a:cubicBezTo>
                  <a:pt x="1458" y="2"/>
                  <a:pt x="1771" y="2"/>
                  <a:pt x="2084" y="7"/>
                </a:cubicBezTo>
                <a:cubicBezTo>
                  <a:pt x="2157" y="8"/>
                  <a:pt x="2239" y="49"/>
                  <a:pt x="2312" y="60"/>
                </a:cubicBezTo>
                <a:cubicBezTo>
                  <a:pt x="2335" y="77"/>
                  <a:pt x="2353" y="90"/>
                  <a:pt x="2380" y="98"/>
                </a:cubicBezTo>
                <a:cubicBezTo>
                  <a:pt x="2451" y="144"/>
                  <a:pt x="2531" y="176"/>
                  <a:pt x="2615" y="189"/>
                </a:cubicBezTo>
                <a:cubicBezTo>
                  <a:pt x="2625" y="194"/>
                  <a:pt x="2659" y="209"/>
                  <a:pt x="2668" y="220"/>
                </a:cubicBezTo>
                <a:cubicBezTo>
                  <a:pt x="2708" y="268"/>
                  <a:pt x="2710" y="346"/>
                  <a:pt x="2744" y="401"/>
                </a:cubicBezTo>
                <a:cubicBezTo>
                  <a:pt x="2752" y="447"/>
                  <a:pt x="2770" y="485"/>
                  <a:pt x="2782" y="530"/>
                </a:cubicBezTo>
                <a:cubicBezTo>
                  <a:pt x="2801" y="675"/>
                  <a:pt x="2802" y="832"/>
                  <a:pt x="2850" y="970"/>
                </a:cubicBezTo>
                <a:cubicBezTo>
                  <a:pt x="2861" y="1123"/>
                  <a:pt x="2883" y="1255"/>
                  <a:pt x="2766" y="1364"/>
                </a:cubicBezTo>
                <a:cubicBezTo>
                  <a:pt x="2698" y="1501"/>
                  <a:pt x="2663" y="1463"/>
                  <a:pt x="2478" y="1470"/>
                </a:cubicBezTo>
                <a:cubicBezTo>
                  <a:pt x="2464" y="1517"/>
                  <a:pt x="2446" y="1560"/>
                  <a:pt x="2395" y="1576"/>
                </a:cubicBezTo>
                <a:cubicBezTo>
                  <a:pt x="2328" y="1629"/>
                  <a:pt x="2339" y="1622"/>
                  <a:pt x="2236" y="1629"/>
                </a:cubicBezTo>
                <a:cubicBezTo>
                  <a:pt x="2161" y="1659"/>
                  <a:pt x="2097" y="1681"/>
                  <a:pt x="2016" y="1690"/>
                </a:cubicBezTo>
                <a:cubicBezTo>
                  <a:pt x="1973" y="1718"/>
                  <a:pt x="1855" y="1726"/>
                  <a:pt x="1796" y="1735"/>
                </a:cubicBezTo>
                <a:cubicBezTo>
                  <a:pt x="1708" y="1770"/>
                  <a:pt x="1625" y="1788"/>
                  <a:pt x="1531" y="1796"/>
                </a:cubicBezTo>
                <a:cubicBezTo>
                  <a:pt x="1322" y="1791"/>
                  <a:pt x="1158" y="1784"/>
                  <a:pt x="963" y="1758"/>
                </a:cubicBezTo>
                <a:cubicBezTo>
                  <a:pt x="852" y="1704"/>
                  <a:pt x="726" y="1698"/>
                  <a:pt x="606" y="1667"/>
                </a:cubicBezTo>
                <a:cubicBezTo>
                  <a:pt x="604" y="1659"/>
                  <a:pt x="604" y="1650"/>
                  <a:pt x="599" y="1644"/>
                </a:cubicBezTo>
                <a:cubicBezTo>
                  <a:pt x="588" y="1630"/>
                  <a:pt x="561" y="1630"/>
                  <a:pt x="561" y="1606"/>
                </a:cubicBezTo>
                <a:cubicBezTo>
                  <a:pt x="561" y="1595"/>
                  <a:pt x="571" y="1586"/>
                  <a:pt x="576" y="1576"/>
                </a:cubicBezTo>
                <a:close/>
              </a:path>
            </a:pathLst>
          </a:custGeom>
          <a:noFill/>
          <a:ln w="38160">
            <a:solidFill>
              <a:srgbClr val="cf0e30"/>
            </a:solidFill>
            <a:round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7241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elope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34280" y="4992840"/>
            <a:ext cx="2358360" cy="118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lex instanc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asure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alified_representation_i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 = “length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100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83760" y="2151720"/>
            <a:ext cx="1861560" cy="335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mensional_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58120" y="2810160"/>
            <a:ext cx="211284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mensional characteri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66680" y="3705480"/>
            <a:ext cx="229428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 dimen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f0e30"/>
                </a:solidFill>
                <a:latin typeface="Arial"/>
              </a:rPr>
              <a:t>name = “envelope tolera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5680" y="1578240"/>
            <a:ext cx="1195560" cy="274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f0e3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ape_as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52000" y="3957840"/>
            <a:ext cx="17974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lus_minus_tole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881320" y="4513320"/>
            <a:ext cx="134028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lerance_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53" idx="1"/>
            <a:endCxn id="249" idx="3"/>
          </p:cNvCxnSpPr>
          <p:nvPr/>
        </p:nvCxnSpPr>
        <p:spPr>
          <a:xfrm rot="10800000">
            <a:off x="3166200" y="2318760"/>
            <a:ext cx="2482200" cy="1776960"/>
          </a:xfrm>
          <a:prstGeom prst="bentConnector3">
            <a:avLst>
              <a:gd name="adj1" fmla="val 50159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6" name=""/>
          <p:cNvSpPr/>
          <p:nvPr/>
        </p:nvSpPr>
        <p:spPr>
          <a:xfrm>
            <a:off x="5495760" y="5292720"/>
            <a:ext cx="210996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95760" y="5908680"/>
            <a:ext cx="210996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ngth_measure_with_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= - 0.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8" name=""/>
          <p:cNvCxnSpPr>
            <a:stCxn id="250" idx="0"/>
            <a:endCxn id="249" idx="2"/>
          </p:cNvCxnSpPr>
          <p:nvPr/>
        </p:nvCxnSpPr>
        <p:spPr>
          <a:xfrm flipV="1">
            <a:off x="2214360" y="2505960"/>
            <a:ext cx="1080" cy="297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50" idx="2"/>
            <a:endCxn id="251" idx="0"/>
          </p:cNvCxnSpPr>
          <p:nvPr/>
        </p:nvCxnSpPr>
        <p:spPr>
          <a:xfrm>
            <a:off x="2214360" y="3273480"/>
            <a:ext cx="1080" cy="426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49" idx="0"/>
            <a:endCxn id="252" idx="2"/>
          </p:cNvCxnSpPr>
          <p:nvPr/>
        </p:nvCxnSpPr>
        <p:spPr>
          <a:xfrm flipV="1">
            <a:off x="2214360" y="1870920"/>
            <a:ext cx="1080" cy="261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51" idx="2"/>
            <a:endCxn id="248" idx="0"/>
          </p:cNvCxnSpPr>
          <p:nvPr/>
        </p:nvCxnSpPr>
        <p:spPr>
          <a:xfrm flipV="1" rot="10800000">
            <a:off x="2214000" y="4350960"/>
            <a:ext cx="1080" cy="6357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2" name=""/>
          <p:cNvCxnSpPr>
            <a:stCxn id="253" idx="2"/>
            <a:endCxn id="254" idx="0"/>
          </p:cNvCxnSpPr>
          <p:nvPr/>
        </p:nvCxnSpPr>
        <p:spPr>
          <a:xfrm>
            <a:off x="6551280" y="4238280"/>
            <a:ext cx="1080" cy="268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"/>
          <p:cNvCxnSpPr>
            <a:stCxn id="254" idx="1"/>
            <a:endCxn id="257" idx="1"/>
          </p:cNvCxnSpPr>
          <p:nvPr/>
        </p:nvCxnSpPr>
        <p:spPr>
          <a:xfrm flipV="1" rot="10800000">
            <a:off x="5490360" y="4650840"/>
            <a:ext cx="388080" cy="1486800"/>
          </a:xfrm>
          <a:prstGeom prst="bentConnector3">
            <a:avLst>
              <a:gd name="adj1" fmla="val 15896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5225040" y="4786200"/>
            <a:ext cx="66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er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541920" y="485316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pper_b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4" idx="2"/>
            <a:endCxn id="256" idx="0"/>
          </p:cNvCxnSpPr>
          <p:nvPr/>
        </p:nvCxnSpPr>
        <p:spPr>
          <a:xfrm flipV="1" rot="10800000">
            <a:off x="6550920" y="4793760"/>
            <a:ext cx="1080" cy="49284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1032120" y="1241280"/>
            <a:ext cx="85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_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52" idx="0"/>
            <a:endCxn id="269" idx="2"/>
          </p:cNvCxnSpPr>
          <p:nvPr/>
        </p:nvCxnSpPr>
        <p:spPr>
          <a:xfrm flipV="1">
            <a:off x="2214360" y="1305720"/>
            <a:ext cx="1080" cy="253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1158120" y="1001880"/>
            <a:ext cx="211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ometry and lo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3240" y="387360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-2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99480" y="2822760"/>
            <a:ext cx="2707200" cy="27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lied_classification_ass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71" idx="2"/>
            <a:endCxn id="253" idx="0"/>
          </p:cNvCxnSpPr>
          <p:nvPr/>
        </p:nvCxnSpPr>
        <p:spPr>
          <a:xfrm rot="5400000">
            <a:off x="6127920" y="3526560"/>
            <a:ext cx="848520" cy="2160"/>
          </a:xfrm>
          <a:prstGeom prst="bentConnector3">
            <a:avLst>
              <a:gd name="adj1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4687200" y="1766880"/>
            <a:ext cx="2961720" cy="456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lassification_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=“further tolerance requiremen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1" idx="0"/>
            <a:endCxn id="273" idx="2"/>
          </p:cNvCxnSpPr>
          <p:nvPr/>
        </p:nvCxnSpPr>
        <p:spPr>
          <a:xfrm flipV="1" rot="16200000">
            <a:off x="6067440" y="2330640"/>
            <a:ext cx="586440" cy="384840"/>
          </a:xfrm>
          <a:prstGeom prst="bentConnector3">
            <a:avLst>
              <a:gd name="adj1" fmla="val 4981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4677840" y="947880"/>
            <a:ext cx="3004560" cy="63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me=“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= “dimensioning princip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1" idx="3"/>
            <a:endCxn id="275" idx="3"/>
          </p:cNvCxnSpPr>
          <p:nvPr/>
        </p:nvCxnSpPr>
        <p:spPr>
          <a:xfrm flipH="1" flipV="1">
            <a:off x="7687440" y="1267560"/>
            <a:ext cx="221400" cy="1693080"/>
          </a:xfrm>
          <a:prstGeom prst="bentConnector3">
            <a:avLst>
              <a:gd name="adj1" fmla="val -10358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>
            <a:off x="3631320" y="82548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-2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1" idx="1"/>
          </p:cNvCxnSpPr>
          <p:nvPr/>
        </p:nvCxnSpPr>
        <p:spPr>
          <a:xfrm rot="10800000">
            <a:off x="3336120" y="2507400"/>
            <a:ext cx="1861200" cy="45324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19080">
            <a:solidFill>
              <a:srgbClr val="cf0e30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3677040" y="27702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0114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elope Re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284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/Module 105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to dimensional_characteristic_representation.name approach in the AIM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-214 must relax ARM to allow envelope on any size dimension.  Move attribute envelope from value_limitation to size_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ct usage of envelope to size only by moving attribute in the ARM to size_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8084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rected Angular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296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ion of directed dimension currently supported by linear dist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ed attribute on linear distance 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by angular location dimension in either A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attribute for directed, but examples exist in other stand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er until we discuss other issues with angular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39243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ular Location Mirr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360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cases where it is difficult to determine the ang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some sort of path or location/orientation to be able to determine the enclosed ang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orientation is used, one line lies on X axis, other line lies counterclocwise towards Y axis. (right hand ru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ve this alone for n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 harmonization problem, AP-224/AP-21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to study, if improvements become clear, handle as SE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300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Resolutions (1/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052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qual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ation, agreement to clarify mappings in AP-22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s/minus, agreement on separate representations for use inside and outside of dimensions.   AP-214 to correct mappings inside dimension to make proper use of dimensional_size, add new mapping for use outside of dimens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 and fits, as with plus/min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range, still in discussion.   Willingness from AP-224  to use value_range outside of dimensions, and extend ARM to support ranges for normal properties.  AP-214 unsure about using two rep item approach inside of dimens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e discussion on value range via email/conf call, once Max has had time to get additional input from his tea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300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of Resolutions (2/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42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es of Size Dimen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AP-214, AP-224, and Module 1050 as follow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and list of specific size dimensions to the union of types in 224, 214 and those “hiding” under general_siz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ame general_size to externally_defined_size and add a document reference that calls out where it is defin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ward compatible change to AP-214, 105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elope Princi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AP-214/Module 1050 AIM mappings to current AP-224 approach and will relax ARM to allow envelope on any size dimens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AP-224 ARM to restrict usage of envelope to size only by moving attribute in the ARM to size_dimen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45878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Approach During We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196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RM and AIM issu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rveyed the room for technical and business priorities and constrain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ed each issue to find options consistent with above prioriti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84600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530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the following technical priorities so that we can evaluate our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lute minimal changes to existing standa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make standards more complex with alternate mappings.   Benefits current implementation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solute minimal changes to existing implemen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may become more complex than above, even more benefits to current implementations.   Minimize or eliminate change visible to implemente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ers which would be disillusioned by any changes to the standar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icity of resulting specif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t pattern so implementers know what to expect.   Benefits adoption and future implementation.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 may encourage use in other contex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ize adoption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urate use of Integrated Resource seman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370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517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 (Perspective) -- Prioritization of valu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- Min Change to STD, B- Min Change to Impl., C- Simplicity, D - IR accuracy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ll Freeman (customer rep), Len Slovensky (224, 240, 223) -  B, A, D, 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an Barker - D + Spe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nessa Lees (CTC) - 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an Crawford (224, customer rep)- Customer Impact (B), Credibility of STEP, Reuse of Existing Ba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tin Gibson - Customer Impact (B), Credibility of STEP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x Ungerer (214, customer rep) - B (tolerances not implemented, but value ranges are implemented in other areas of the standard), A, speed, C, 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m Hendrix (203e2/modules) - D + Spe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ng Yee (203e2/parametrics) - D + Speed, 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akai Sakamoto (240) - B, A, D, 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royuki Hiraoka - C, Expandabilit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jay Srinivasan (TC213) - none of the above (IBM/Dassault) D + Spe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iedrich Glantschnig (14649) - As with Alan Crawford above, push back any changes to I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k-Hwan Suh (14649) - C + Spe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tin Hardwick (tool vendor) - Maximum new implementation =&gt; D, C, Spe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d Vorburger (219) - B, A, and to lesser extent D, 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5240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 very important, D very important, Speed impor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- Min Change to STD, B- Min Change to Impl., C- Simplicity, D - IR accurac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14 tolerances not implemented, but value ranges and limits are implemented in other areas of the stand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 tolerances implemented with all qualif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s/Minus most comm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ge, limitation, limits and fits - how comm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-224 feature plus/minus widely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of limitation outside of dimension - how comm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s not support use of value range, limits and fits outside of dimensional toler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David Loffredo</dc:creator>
  <dc:description/>
  <dc:language>en-US</dc:language>
  <cp:lastModifiedBy>hardwick</cp:lastModifiedBy>
  <cp:lastPrinted>2002-10-02T16:30:10Z</cp:lastPrinted>
  <dcterms:modified xsi:type="dcterms:W3CDTF">2004-07-08T13:20:19Z</dcterms:modified>
  <cp:revision>832</cp:revision>
  <dc:subject>Bath SC4 Meeting</dc:subject>
  <dc:title>GD&amp;T Harmonization Results</dc:title>
</cp:coreProperties>
</file>