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720" y="0"/>
            <a:ext cx="841320" cy="676440"/>
            <a:chOff x="-720" y="0"/>
            <a:chExt cx="841320" cy="676440"/>
          </a:xfrm>
        </p:grpSpPr>
        <p:sp>
          <p:nvSpPr>
            <p:cNvPr id="3" name=""/>
            <p:cNvSpPr/>
            <p:nvPr/>
          </p:nvSpPr>
          <p:spPr>
            <a:xfrm>
              <a:off x="12960" y="0"/>
              <a:ext cx="8125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IS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-720" y="435240"/>
              <a:ext cx="8413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TC 184/SC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681120" y="6553080"/>
            <a:ext cx="77817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O TC184/SC4/WG3 Bath N000 2004-07-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fld id="{42E9BD88-3145-46AB-9813-58A940BCC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m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in Hardwi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ick@steptool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u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 Sakam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aki_sakamoto@paw.hi-ho.ne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mplishments since Lauderd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23 NWI pa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19 CD in pr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38 DIS working draft pu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DIS ballot resolution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 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s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AP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ze GD&amp;T with AP-2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P28 with view to enabling publication of XML Sch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ASIG on digital manufactu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t meeting with SC1/Wg7 on ISO 1464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-240 IS Document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day, 2004-07-05, 13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enary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ession on GD&amp;T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esday, 2004-07-06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session on GD&amp;T Harm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dnesday, 2004-07-07, 1030-1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for STEP-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ASIG on digital manufacturing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WG12 on integrated resources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Wg11 and Wg3 meeting on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T24 – STEP-Manufacturing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e for Bath continu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rsday, 2004-07-08, 0800-1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int meeting with SC1/Wg7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&amp;T Harmonization meeting (concurr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erald Radack</dc:creator>
  <dc:description/>
  <dc:language>en-US</dc:language>
  <cp:lastModifiedBy>hardwick</cp:lastModifiedBy>
  <cp:lastPrinted>1999-06-02T13:49:47Z</cp:lastPrinted>
  <dcterms:modified xsi:type="dcterms:W3CDTF">2004-06-29T17:52:24Z</dcterms:modified>
  <cp:revision>139</cp:revision>
  <dc:subject/>
  <dc:title>WG3 Presentation to SC4 Opening Plenary</dc:title>
</cp:coreProperties>
</file>