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32888" cy="6846888"/>
  <p:notesSz cx="69977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1920" y="283032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164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092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30280" y="122184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192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092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30280" y="2830320"/>
            <a:ext cx="249408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8400" y="254160"/>
            <a:ext cx="1336680" cy="61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1640" y="283032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1640" y="1221840"/>
            <a:ext cx="378036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1920" y="2830320"/>
            <a:ext cx="7746840" cy="146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336680" cy="13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22120" y="133200"/>
            <a:ext cx="255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615360" y="246240"/>
            <a:ext cx="238896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4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84320" y="689040"/>
            <a:ext cx="8762760" cy="0"/>
          </a:xfrm>
          <a:prstGeom prst="line">
            <a:avLst/>
          </a:prstGeom>
          <a:ln w="5076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5080" y="6551640"/>
            <a:ext cx="949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ide </a:t>
            </a:r>
            <a:fld id="{700D20EC-1CC5-42EC-A022-29E9548334BE}" type="slidenum">
              <a:rPr b="1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91920" y="1221840"/>
            <a:ext cx="7746840" cy="307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828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94040" indent="-171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613320" y="6551640"/>
            <a:ext cx="1906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Copyright 2004 — STEP Tools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50760" y="1493640"/>
            <a:ext cx="5187960" cy="54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4000" spc="-1" strike="noStrike">
                <a:solidFill>
                  <a:srgbClr val="cf0e30"/>
                </a:solidFill>
                <a:latin typeface="Arial"/>
              </a:rPr>
              <a:t>AP-238 Statu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2960" y="309600"/>
            <a:ext cx="255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332600" y="5291280"/>
            <a:ext cx="382788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200" bIns="252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ols, In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6 River Street, Troy, NY 121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518) 687-2848 / (518) 687-4420 f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9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steptools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59040" y="2998800"/>
            <a:ext cx="51739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ath SC4 Meet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uly 200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steptools_logo" descr=""/>
          <p:cNvPicPr/>
          <p:nvPr/>
        </p:nvPicPr>
        <p:blipFill>
          <a:blip r:embed="rId1"/>
          <a:stretch/>
        </p:blipFill>
        <p:spPr>
          <a:xfrm>
            <a:off x="304920" y="227160"/>
            <a:ext cx="2895480" cy="638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250668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ument Stat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265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-DIS version of AP-238 posted for review on June 9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s wg3n146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“Fundamental Concepts and Assumptions” section addresses remaining feature harmonization issu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ing mappings comple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M for PDM data, harmonized with the appropriate modul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mapping table bugs fixed, discovered during XML wor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 comment resolutions and other fix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5529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damental Concepts S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4712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as Section 5.2.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ied remaining differences in fea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bed additional capabilities added by AP-23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rified AP-238 usage for placement and depth and how to convert to ISO 14649 conven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nd some updates needed in ISO 103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ed with Len and Alan in January 2004 to add AIM rule changes to AIC522e2 and ARM changes to AP-224e3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 depth for planar f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 depth for rounded_u and square_u profi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 side lengths for vee prof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xed restrictions on transition feature definitions so that they could be used to relate faces or featur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3794040" cy="3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Document Prog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4960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ing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mappings complete.   Added UoFs, mapping tables, and updated AIM where rules for the turning mode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ing features (P1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harmonization issues appear fixed.  (Some minor enhancements to knurl remai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ing process data (P12), turning tools (P121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97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ppings are straightforward and follow conventions established by the mill/drill mappin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pa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ed mappings for toolpath subtypes, added all of the matching EXPRESS constraints to the relevant AIM types.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feedback for Part 10 on the toolpath its_type attribu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itial implementation feedback from 5-axis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425124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Document Progress (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91920" y="1221840"/>
            <a:ext cx="7746840" cy="478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DM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per comments, added “management” UoF with AOs and  associated mappings to clarify the handling of approvals and other PDM data.  Harmonized with the appropriate modules (ISO 10303-1012, 1015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rated other comment resolutions as well as issues found during document preparation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editorial fixes and notes added, updated for changes between DIS and FDIS versions of ISO 14649-111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d mapping for adaptive control as discuss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worked mappings for feedrate, spindle speed, and dwell time to unify usage across milling and turning model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fixes discovered by mapping table parser during development of XML schema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8400" y="254160"/>
            <a:ext cx="1420920" cy="65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t To 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91920" y="1222200"/>
            <a:ext cx="7746840" cy="5182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D&amp;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ARM and mappings for harmonized Dimensional Tolerances once consensus has been reached between Module, AP-214 and AP-224 team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pa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ARM and mappings for toolpath enhancements as determined by implementation te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date EXPRESS-G diagrams to match ARM &amp; AIM typ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cument conformance classes as previously discusse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im unreferenced AIM SELECT types and regenerate the EXPRESS long form schema using latest resource par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43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informative annex with XML schema definitio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rporate results of WG12 meetin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2T19:53:37Z</dcterms:created>
  <dc:creator>David Loffredo</dc:creator>
  <dc:description/>
  <dc:language>en-US</dc:language>
  <cp:lastModifiedBy>hardwick</cp:lastModifiedBy>
  <cp:lastPrinted>2001-08-16T01:33:48Z</cp:lastPrinted>
  <dcterms:modified xsi:type="dcterms:W3CDTF">2004-07-02T21:57:21Z</dcterms:modified>
  <cp:revision>465</cp:revision>
  <dc:subject/>
  <dc:title>STEP-NC Feature Harmonization</dc:title>
</cp:coreProperties>
</file>