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EEB8-9747-4DF9-88DE-B4763DF19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2108-178C-4C88-BB1F-0AFF38329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F275-EDE6-4F1A-8EC2-7CC05DC51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4574-BFB2-4B93-8745-A89FE28D9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A224-2E26-4BFF-BED4-ABB9008D7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BA28-F771-4E30-9055-4207B3399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2545-2E43-4CED-9921-EE9A4E0A5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DE6C-F466-41E9-810D-76C9C551F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F4BB-785B-4C55-9BB4-4BD116EAC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8F80-C5BD-4406-9A3C-B404D813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44B1-B190-4922-8576-309A4133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AFDA-FFA4-492C-A17F-339AB269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C70BA-8DE2-43CE-85DD-59030CF239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2040" y="152280"/>
            <a:ext cx="849096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ttom and Side Milling Op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44240" y="2352600"/>
            <a:ext cx="2362320" cy="118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99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080" rIns="91080" anchor="ctr">
            <a:sp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ttom_and_side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lling_op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 = “rough milling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69880" y="3540240"/>
            <a:ext cx="2109240" cy="2914200"/>
            <a:chOff x="569880" y="3540240"/>
            <a:chExt cx="2109240" cy="2914200"/>
          </a:xfrm>
        </p:grpSpPr>
        <p:sp>
          <p:nvSpPr>
            <p:cNvPr id="44" name=""/>
            <p:cNvSpPr/>
            <p:nvPr/>
          </p:nvSpPr>
          <p:spPr>
            <a:xfrm>
              <a:off x="925920" y="4687920"/>
              <a:ext cx="1398960" cy="456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anchor="ctr">
              <a:sp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perty defini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pres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44000" y="5373720"/>
              <a:ext cx="1161360" cy="27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anchor="ctr">
              <a:sp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pres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79960" y="3998880"/>
              <a:ext cx="2089440" cy="456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anchor="ctr">
              <a:sp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ction_proper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ame = “finish allowance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7" name=""/>
            <p:cNvCxnSpPr>
              <a:stCxn id="44" idx="0"/>
              <a:endCxn id="46" idx="2"/>
            </p:cNvCxnSpPr>
            <p:nvPr/>
          </p:nvCxnSpPr>
          <p:spPr>
            <a:xfrm flipV="1" rot="16200000">
              <a:off x="1509120" y="4571280"/>
              <a:ext cx="232560" cy="1080"/>
            </a:xfrm>
            <a:prstGeom prst="bentConnector3">
              <a:avLst>
                <a:gd name="adj1" fmla="val 47441"/>
              </a:avLst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8" name=""/>
            <p:cNvCxnSpPr>
              <a:stCxn id="44" idx="2"/>
              <a:endCxn id="45" idx="0"/>
            </p:cNvCxnSpPr>
            <p:nvPr/>
          </p:nvCxnSpPr>
          <p:spPr>
            <a:xfrm rot="5400000">
              <a:off x="1510560" y="5258880"/>
              <a:ext cx="229320" cy="1080"/>
            </a:xfrm>
            <a:prstGeom prst="bentConnector3">
              <a:avLst>
                <a:gd name="adj1" fmla="val 52672"/>
              </a:avLst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9" name=""/>
            <p:cNvCxnSpPr>
              <a:stCxn id="46" idx="0"/>
              <a:endCxn id="42" idx="2"/>
            </p:cNvCxnSpPr>
            <p:nvPr/>
          </p:nvCxnSpPr>
          <p:spPr>
            <a:xfrm flipH="1" flipV="1" rot="5400000">
              <a:off x="1395720" y="3769200"/>
              <a:ext cx="459000" cy="1080"/>
            </a:xfrm>
            <a:prstGeom prst="bentConnector3">
              <a:avLst>
                <a:gd name="adj1" fmla="val 48351"/>
              </a:avLst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" name=""/>
            <p:cNvSpPr/>
            <p:nvPr/>
          </p:nvSpPr>
          <p:spPr>
            <a:xfrm>
              <a:off x="569880" y="5997600"/>
              <a:ext cx="2109240" cy="456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anchor="ctr">
              <a:sp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ength_measure_with_un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value = 2 m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" name=""/>
            <p:cNvCxnSpPr>
              <a:stCxn id="45" idx="2"/>
              <a:endCxn id="50" idx="0"/>
            </p:cNvCxnSpPr>
            <p:nvPr/>
          </p:nvCxnSpPr>
          <p:spPr>
            <a:xfrm flipH="1">
              <a:off x="1624320" y="5648040"/>
              <a:ext cx="720" cy="3499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2" name=""/>
          <p:cNvGrpSpPr/>
          <p:nvPr/>
        </p:nvGrpSpPr>
        <p:grpSpPr>
          <a:xfrm>
            <a:off x="733680" y="914400"/>
            <a:ext cx="1802880" cy="1438200"/>
            <a:chOff x="733680" y="914400"/>
            <a:chExt cx="1802880" cy="1438200"/>
          </a:xfrm>
        </p:grpSpPr>
        <p:sp>
          <p:nvSpPr>
            <p:cNvPr id="53" name=""/>
            <p:cNvSpPr/>
            <p:nvPr/>
          </p:nvSpPr>
          <p:spPr>
            <a:xfrm>
              <a:off x="733680" y="1530360"/>
              <a:ext cx="1802880" cy="456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anchor="ctr">
              <a:sp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chining_operation_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lationshi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3" idx="2"/>
              <a:endCxn id="42" idx="0"/>
            </p:cNvCxnSpPr>
            <p:nvPr/>
          </p:nvCxnSpPr>
          <p:spPr>
            <a:xfrm rot="5400000">
              <a:off x="1447200" y="2165040"/>
              <a:ext cx="365760" cy="10080"/>
            </a:xfrm>
            <a:prstGeom prst="bentConnector3">
              <a:avLst>
                <a:gd name="adj1" fmla="val 51231"/>
              </a:avLst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5" name=""/>
            <p:cNvCxnSpPr>
              <a:stCxn id="53" idx="0"/>
              <a:endCxn id="56" idx="2"/>
            </p:cNvCxnSpPr>
            <p:nvPr/>
          </p:nvCxnSpPr>
          <p:spPr>
            <a:xfrm flipV="1" rot="16200000">
              <a:off x="1465200" y="1360440"/>
              <a:ext cx="330840" cy="9720"/>
            </a:xfrm>
            <a:prstGeom prst="bentConnector3">
              <a:avLst>
                <a:gd name="adj1" fmla="val 51089"/>
              </a:avLst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6" name=""/>
            <p:cNvSpPr/>
            <p:nvPr/>
          </p:nvSpPr>
          <p:spPr>
            <a:xfrm>
              <a:off x="910800" y="914400"/>
              <a:ext cx="143028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o Workingste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2666880" y="1306440"/>
            <a:ext cx="6018480" cy="1360440"/>
            <a:chOff x="2666880" y="1306440"/>
            <a:chExt cx="6018480" cy="1360440"/>
          </a:xfrm>
        </p:grpSpPr>
        <p:sp>
          <p:nvSpPr>
            <p:cNvPr id="58" name=""/>
            <p:cNvSpPr/>
            <p:nvPr/>
          </p:nvSpPr>
          <p:spPr>
            <a:xfrm>
              <a:off x="6095880" y="1306440"/>
              <a:ext cx="2589480" cy="821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99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1080" rIns="91080" anchor="ctr">
              <a:sp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achining_approach_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etract_strateg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sc = “plunge toolaxis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687120" y="1489320"/>
              <a:ext cx="1795320" cy="456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anchor="ctr">
              <a:sp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chining_approach_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rategy_relationshi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0" name=""/>
            <p:cNvCxnSpPr>
              <a:stCxn id="59" idx="3"/>
              <a:endCxn id="58" idx="1"/>
            </p:cNvCxnSpPr>
            <p:nvPr/>
          </p:nvCxnSpPr>
          <p:spPr>
            <a:xfrm flipV="1">
              <a:off x="5482440" y="1717200"/>
              <a:ext cx="613800" cy="720"/>
            </a:xfrm>
            <a:prstGeom prst="bentConnector3">
              <a:avLst>
                <a:gd name="adj1" fmla="val 50704"/>
              </a:avLst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1" name=""/>
            <p:cNvCxnSpPr>
              <a:stCxn id="59" idx="1"/>
              <a:endCxn id="62" idx="3"/>
            </p:cNvCxnSpPr>
            <p:nvPr/>
          </p:nvCxnSpPr>
          <p:spPr>
            <a:xfrm flipV="1" rot="10800000">
              <a:off x="2819520" y="1717200"/>
              <a:ext cx="867960" cy="873360"/>
            </a:xfrm>
            <a:prstGeom prst="bentConnector3">
              <a:avLst>
                <a:gd name="adj1" fmla="val 50373"/>
              </a:avLst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2" name=""/>
            <p:cNvSpPr/>
            <p:nvPr/>
          </p:nvSpPr>
          <p:spPr>
            <a:xfrm>
              <a:off x="2666880" y="2514600"/>
              <a:ext cx="1526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2895480" y="2534760"/>
            <a:ext cx="5791320" cy="578520"/>
            <a:chOff x="2895480" y="2534760"/>
            <a:chExt cx="5791320" cy="578520"/>
          </a:xfrm>
        </p:grpSpPr>
        <p:sp>
          <p:nvSpPr>
            <p:cNvPr id="64" name=""/>
            <p:cNvSpPr/>
            <p:nvPr/>
          </p:nvSpPr>
          <p:spPr>
            <a:xfrm>
              <a:off x="6097680" y="2534760"/>
              <a:ext cx="2589120" cy="578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99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1080" rIns="91080" anchor="ctr">
              <a:sp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illing_type_strateg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esc = “bidirectional”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767760" y="2595600"/>
              <a:ext cx="1711440" cy="456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anchor="ctr">
              <a:sp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chining_strategy_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lationshi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" name=""/>
            <p:cNvCxnSpPr/>
            <p:nvPr/>
          </p:nvCxnSpPr>
          <p:spPr>
            <a:xfrm>
              <a:off x="5791320" y="2823840"/>
              <a:ext cx="297360" cy="1080"/>
            </a:xfrm>
            <a:prstGeom prst="bentConnector2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7" name=""/>
            <p:cNvCxnSpPr>
              <a:stCxn id="65" idx="1"/>
              <a:endCxn id="68" idx="3"/>
            </p:cNvCxnSpPr>
            <p:nvPr/>
          </p:nvCxnSpPr>
          <p:spPr>
            <a:xfrm rot="10800000">
              <a:off x="3047760" y="2818800"/>
              <a:ext cx="720000" cy="5040"/>
            </a:xfrm>
            <a:prstGeom prst="bentConnector3">
              <a:avLst>
                <a:gd name="adj1" fmla="val 50425"/>
              </a:avLst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8" name=""/>
            <p:cNvSpPr/>
            <p:nvPr/>
          </p:nvSpPr>
          <p:spPr>
            <a:xfrm>
              <a:off x="2895480" y="2743200"/>
              <a:ext cx="1526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2895480" y="2971800"/>
            <a:ext cx="5791320" cy="983880"/>
            <a:chOff x="2895480" y="2971800"/>
            <a:chExt cx="5791320" cy="983880"/>
          </a:xfrm>
        </p:grpSpPr>
        <p:sp>
          <p:nvSpPr>
            <p:cNvPr id="70" name=""/>
            <p:cNvSpPr/>
            <p:nvPr/>
          </p:nvSpPr>
          <p:spPr>
            <a:xfrm>
              <a:off x="6097680" y="3559680"/>
              <a:ext cx="2589120" cy="335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99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1080" rIns="91080" anchor="ctr">
              <a:sp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achining_func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692880" y="3498840"/>
              <a:ext cx="1802880" cy="456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anchor="ctr">
              <a:sp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chining_functions_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lationshi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2" name=""/>
            <p:cNvCxnSpPr>
              <a:stCxn id="71" idx="3"/>
              <a:endCxn id="70" idx="1"/>
            </p:cNvCxnSpPr>
            <p:nvPr/>
          </p:nvCxnSpPr>
          <p:spPr>
            <a:xfrm>
              <a:off x="5495760" y="3727080"/>
              <a:ext cx="602280" cy="360"/>
            </a:xfrm>
            <a:prstGeom prst="bentConnector2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3" name=""/>
            <p:cNvCxnSpPr>
              <a:stCxn id="71" idx="1"/>
              <a:endCxn id="74" idx="3"/>
            </p:cNvCxnSpPr>
            <p:nvPr/>
          </p:nvCxnSpPr>
          <p:spPr>
            <a:xfrm rot="10800000">
              <a:off x="3047760" y="3047400"/>
              <a:ext cx="645120" cy="679680"/>
            </a:xfrm>
            <a:prstGeom prst="bentConnector3">
              <a:avLst>
                <a:gd name="adj1" fmla="val 50474"/>
              </a:avLst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2895480" y="2971800"/>
              <a:ext cx="1526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6297480" y="4028760"/>
            <a:ext cx="2160720" cy="629640"/>
          </a:xfrm>
          <a:prstGeom prst="upArrow">
            <a:avLst>
              <a:gd name="adj1" fmla="val 65324"/>
              <a:gd name="adj2" fmla="val 42162"/>
            </a:avLst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anchor="ctr">
            <a:sp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on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olan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2666880" y="3200400"/>
            <a:ext cx="6019920" cy="2279520"/>
            <a:chOff x="2666880" y="3200400"/>
            <a:chExt cx="6019920" cy="2279520"/>
          </a:xfrm>
        </p:grpSpPr>
        <p:sp>
          <p:nvSpPr>
            <p:cNvPr id="77" name=""/>
            <p:cNvSpPr/>
            <p:nvPr/>
          </p:nvSpPr>
          <p:spPr>
            <a:xfrm>
              <a:off x="6097680" y="5083560"/>
              <a:ext cx="2589120" cy="3351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99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1080" rIns="91080" anchor="ctr">
              <a:sp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achining_technolog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5840" y="5023080"/>
              <a:ext cx="1931040" cy="456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1080" rIns="91080" anchor="ctr">
              <a:sp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chining_technology_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lationshi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" name=""/>
            <p:cNvCxnSpPr>
              <a:stCxn id="78" idx="3"/>
              <a:endCxn id="77" idx="1"/>
            </p:cNvCxnSpPr>
            <p:nvPr/>
          </p:nvCxnSpPr>
          <p:spPr>
            <a:xfrm flipV="1">
              <a:off x="5546880" y="5250960"/>
              <a:ext cx="551160" cy="720"/>
            </a:xfrm>
            <a:prstGeom prst="bentConnector3">
              <a:avLst>
                <a:gd name="adj1" fmla="val 50849"/>
              </a:avLst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0" name=""/>
            <p:cNvCxnSpPr>
              <a:stCxn id="78" idx="1"/>
              <a:endCxn id="81" idx="3"/>
            </p:cNvCxnSpPr>
            <p:nvPr/>
          </p:nvCxnSpPr>
          <p:spPr>
            <a:xfrm rot="10800000">
              <a:off x="2819520" y="3276360"/>
              <a:ext cx="796680" cy="1975320"/>
            </a:xfrm>
            <a:prstGeom prst="bentConnector3">
              <a:avLst>
                <a:gd name="adj1" fmla="val 50406"/>
              </a:avLst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2666880" y="3200400"/>
              <a:ext cx="1526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6297480" y="5479200"/>
            <a:ext cx="2160720" cy="1133640"/>
          </a:xfrm>
          <a:prstGeom prst="upArrow">
            <a:avLst>
              <a:gd name="adj1" fmla="val 65324"/>
              <a:gd name="adj2" fmla="val 42162"/>
            </a:avLst>
          </a:prstGeom>
          <a:noFill/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1080" rIns="91080" anchor="ctr">
            <a:sp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on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pindl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eedrat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7T14:56:01Z</dcterms:created>
  <dc:creator>Hunten</dc:creator>
  <dc:description/>
  <dc:language>en-US</dc:language>
  <cp:lastModifiedBy>Hunten</cp:lastModifiedBy>
  <dcterms:modified xsi:type="dcterms:W3CDTF">2004-07-07T14:57:16Z</dcterms:modified>
  <cp:revision>1</cp:revision>
  <dc:subject/>
  <dc:title>Slide 1</dc:title>
</cp:coreProperties>
</file>