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6124-1A2F-41B3-B6D0-21EFB331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F81E-AD4C-48FA-AC3A-11A3D0CE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24B4-6EBD-4341-AF35-DE2F56274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1369-4D04-4DAB-86CC-897D270D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20EA-9E37-4FCC-B88F-5A5216A2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22A-C1C0-422E-B43A-438F9CEA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1110-2DF7-4B8D-AD00-FD196058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45AB-864B-4E6A-8BB0-E74E1880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7BE7-9D22-4235-958E-737E2610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47CC-1FFD-4B10-BE56-50FBF905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DF3F-0F07-4EB9-BCFB-8F8722FA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595B-F3A1-4A2F-B0CA-2DE4408C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AECB-3601-419D-B3E4-41B35C574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24 – STEP-Manufactu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mplishments B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-223 NWI pa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-219 CD in pr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-238 DIS working draft publ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P-240 DIS ballot resolution comple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D&amp; T harmonized provisional on one small iss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lan for STEP-NC harmonization agreed between T24, SC1/Wg7 and Wg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-NC Harmo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ne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Wg12 plenary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8400" y="255600"/>
            <a:ext cx="80708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&amp;T Progress During Wee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225080"/>
            <a:ext cx="7759440" cy="48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and Resolved Incompat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ling of value qualifications (range, plus/minus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ing proposed change for value range, all other qualifications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of dimensions identified:  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 of envelope principle:    RESOL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ed angular location, determination of angle ori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models already harmonized.  Continue to study ways to improve the ARM.   Leave alone for n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ed Big Picture Strategies for GD&amp;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ing of dimensions with the draughting presentation elements of the dimensions. Presentation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s with TC 10 and TC 2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ed response to TC-213 “expression of concern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791856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tion Statement For TC-2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92280" y="1225080"/>
            <a:ext cx="775944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sponse to TC-213 “expression of concern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re happy to use TC 213 terminology,  and note that we are already referring to 5459:1981 for the definition of Datu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sk TC-213 to point out areas where we differ and we will be happy to adopt their termin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ready using the “Common_Datum” term as AIM entity defined in AIC 51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change uses of “Compound Datum” term to “Common Datu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come the chance to meet for a harmonization workshop on an as-needed ba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8400" y="255600"/>
            <a:ext cx="80708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Resolutions (1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2280" y="914040"/>
            <a:ext cx="775944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qual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ation, agreement to clarify mappings in AP-2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us/minus, agreement on separate representations for use inside and outside of dimensions.   AP-214 to correct mappings inside dimension to make proper use of dimensional_size, add new mapping for use outside of dim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s and fits, as with plus/mi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range, still in discussion.   Willingness from AP-224  to use value_range outside of dimensions, and extend ARM to support ranges for normal properties.  AP-214 unsure about using two rep item approach inside of dimen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 discussion on value range via email/conf call, once Max has had time to get additional input from his t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8400" y="255600"/>
            <a:ext cx="89852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Resolutions (2/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2280" y="837720"/>
            <a:ext cx="7759440" cy="439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Size Dim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AP-214, AP-224, and Module 1050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 list of specific size dimensions to the union of types in 224, 214 and those “hiding” under general_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name general_size to externally_defined_size and add a document reference that calls out where it is def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ward compatible change to AP-214, 10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velope Princi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AP-214/Module 1050 AIM mappings to current AP-224 approach and will relax ARM to allow envelope on any size dimen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 AP-224 ARM to restrict usage of envelope to size only by moving attribute in the ARM to size_dim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3049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24 – STEP Manufactu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 for Se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view AP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mplete harmonization of STEP-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scuss GD&amp;T test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6T23:28:50Z</dcterms:created>
  <dc:creator>sakamoto</dc:creator>
  <dc:description/>
  <dc:language>en-US</dc:language>
  <cp:lastModifiedBy>hardwick</cp:lastModifiedBy>
  <dcterms:modified xsi:type="dcterms:W3CDTF">2004-07-08T15:04:52Z</dcterms:modified>
  <cp:revision>23</cp:revision>
  <dc:subject/>
  <dc:title>PowerPoint プレゼンテーション</dc:title>
</cp:coreProperties>
</file>