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B065B5E2-1EF3-4B9D-9F62-32D15EFC9C4E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0480" y="6583320"/>
            <a:ext cx="743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. Hard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stepnc-text-only" descr=""/>
          <p:cNvPicPr/>
          <p:nvPr/>
        </p:nvPicPr>
        <p:blipFill>
          <a:blip r:embed="rId2"/>
          <a:stretch/>
        </p:blipFill>
        <p:spPr>
          <a:xfrm>
            <a:off x="7180200" y="141120"/>
            <a:ext cx="171468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33840" y="590760"/>
            <a:ext cx="5278320" cy="21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T24 Requirements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(AP-219, AP-223, AP-224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AP-238, AP-240, ISO 14649)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for XM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200" y="374760"/>
            <a:ext cx="2838600" cy="6146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0131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 w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23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write XMLSchema for AP-23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decide how to define that XMLSch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cause EXPRESS AIM is only part of the defin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ARM frequently defines cardinality constra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xample, mapping table frequently defines typing constra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to make a cost/benefit trade-offs between the ARM, AIM and mapping tables and define the best possible XML Sch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1080" y="277560"/>
            <a:ext cx="32493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24 preferred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9840" y="1413000"/>
            <a:ext cx="1468800" cy="722160"/>
          </a:xfrm>
          <a:prstGeom prst="flowChartDocumen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EXP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40680" y="1469880"/>
            <a:ext cx="1264320" cy="580680"/>
          </a:xfrm>
          <a:prstGeom prst="rect">
            <a:avLst/>
          </a:prstGeom>
          <a:solidFill>
            <a:srgbClr val="f8fd2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les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ing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26200" y="1415880"/>
            <a:ext cx="598320" cy="722520"/>
          </a:xfrm>
          <a:prstGeom prst="flowChartDocumen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78040" y="2647800"/>
            <a:ext cx="1533960" cy="82404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writing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48360" y="2560680"/>
            <a:ext cx="1028160" cy="1025280"/>
          </a:xfrm>
          <a:prstGeom prst="flowChartDocumen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5680" y="4313160"/>
            <a:ext cx="534960" cy="327240"/>
          </a:xfrm>
          <a:prstGeom prst="rec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14280" y="4319640"/>
            <a:ext cx="14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tive 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2440" y="4832280"/>
            <a:ext cx="534960" cy="327240"/>
          </a:xfrm>
          <a:prstGeom prst="rect">
            <a:avLst/>
          </a:prstGeom>
          <a:solidFill>
            <a:srgbClr val="f8fd2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12480" y="4838760"/>
            <a:ext cx="30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rmative STEP/XML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30360" y="5295960"/>
            <a:ext cx="534960" cy="3268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1120" y="5302080"/>
            <a:ext cx="312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STEP/XML Stand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" name=""/>
          <p:cNvCxnSpPr>
            <a:stCxn id="49" idx="3"/>
            <a:endCxn id="50" idx="1"/>
          </p:cNvCxnSpPr>
          <p:nvPr/>
        </p:nvCxnSpPr>
        <p:spPr>
          <a:xfrm flipV="1">
            <a:off x="2636640" y="1769400"/>
            <a:ext cx="983160" cy="5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0" idx="3"/>
            <a:endCxn id="51" idx="1"/>
          </p:cNvCxnSpPr>
          <p:nvPr/>
        </p:nvCxnSpPr>
        <p:spPr>
          <a:xfrm>
            <a:off x="4925520" y="1770120"/>
            <a:ext cx="1280520" cy="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3" idx="1"/>
          </p:cNvCxnSpPr>
          <p:nvPr/>
        </p:nvCxnSpPr>
        <p:spPr>
          <a:xfrm>
            <a:off x="5133600" y="3070080"/>
            <a:ext cx="896040" cy="5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2"/>
            <a:endCxn id="52" idx="1"/>
          </p:cNvCxnSpPr>
          <p:nvPr/>
        </p:nvCxnSpPr>
        <p:spPr>
          <a:xfrm flipH="1" rot="16200000">
            <a:off x="2237400" y="1751040"/>
            <a:ext cx="965880" cy="16725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7111080" y="2492280"/>
            <a:ext cx="15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itten by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 Develo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ass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55880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lo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763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Tools participated in Part 28 for 12 mon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resources part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t of test cases develo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P Tools stopped participating in December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ded document had become too large and comple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meeting our requirements as an AP develo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meeting our requirements as a STEP Tools vend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wo vendors are implementing the same w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is assuming a configuration directive will make their XML confor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0621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Obje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496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28 requires too many names to be gene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OfShape_asp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OfShape_asp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pe_aspect_sel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28 does not include external mapp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ing it will mean 3 inheritance methods in the standa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inheri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/OR inheritance as defined in the C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/OR inheritance as defined for external map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 28 allows too much flex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o is going to know if a vendor XML confor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yles that are deprecated by the XML community are support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support conforming data exchange very w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nteroperability between conforming implement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26240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360" y="1004760"/>
            <a:ext cx="7769160" cy="512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ise standard written in the style of Part 21 with XML as the underlying syntax instead of ASCII and targeted for use in STEP AP’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Entity names for XML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 XML elements for external mapping, nested aggregates, ambiguous selects and null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XML Schema to describe structure of an entity instance only let the AP define the re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EXPRESS inheritance like Part 2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llow nesting or XML attributes because it adds too much to cost of implementa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y to enforce referential integrity and/or uniqueness because it will force vendors to choose between being conformant and being able to handle large 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cf0e3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ry to capture all the semantics in XML Schema let the AP developers decide what semantics to put in the AP (cardinality, inheritance, etc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2003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mporta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290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ge count of the XML binding standard for AP’s must be l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clear, unambiguous conformance chec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etection of any errors in the document easy, and enable fast resolution of those err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all vendor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ig and sma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reate conforming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an </a:t>
            </a:r>
            <a:r>
              <a:rPr b="0" lang="en-US" sz="1800" spc="-1" strike="noStrike" u="sng">
                <a:solidFill>
                  <a:srgbClr val="cf0e30"/>
                </a:solidFill>
                <a:uFillTx/>
                <a:latin typeface="Arial"/>
              </a:rPr>
              <a:t>open mark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STEP in XM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ing Part 28 for our requirements is incompatible with a low page co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90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3360" y="1226880"/>
            <a:ext cx="7769160" cy="34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 new Part 29 for use by AP’s (preferr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two different use cases so two solutions nee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be able to tie them via configu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short document to give to implementor’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24 has resource avail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/NWI should be ready for next mee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inue with Part 28 and fix with sub-s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not fix page count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 if sub-section defined for AP developers, implementors will be forced to understand the whole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Martin Hardwick</dc:creator>
  <dc:description/>
  <dc:language>en-US</dc:language>
  <cp:lastModifiedBy>hardwick</cp:lastModifiedBy>
  <cp:lastPrinted>1996-02-28T13:41:35Z</cp:lastPrinted>
  <dcterms:modified xsi:type="dcterms:W3CDTF">2004-07-07T16:01:21Z</dcterms:modified>
  <cp:revision>915</cp:revision>
  <dc:subject/>
  <dc:title>STEP-NC: Digital Manufacturing using STEP</dc:title>
</cp:coreProperties>
</file>