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69076D-5608-48B4-8F8E-84607D1C8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SO standard considering the properties of all the parts of the assembly is a world fir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tting tool consists of at least a cutting item and a tool item, but may also include adaptive item(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tools: The cutting edges of a solid tool are considered the cutting item, and the body of a solid tool is considered the tool item.  This distinction helps when assigning properties to the solid cutting tool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ting item properties are assigned to the cutting edge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ol item properties are assigned to the rest of the too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tting tool information in ISO 13399 is similar to the information published in cutting tool vendor catalogs and technical manuals.  This information is already publicly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 13399 assembles this information and presents in in a way that can be exchanged between compu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F05-9A7B-4C96-81B1-07AE959F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00A7-EB8D-4AE8-B906-33B91D67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2D6B-4F3B-4BEC-A3FA-9D034B249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21F6-1400-4C29-BDA1-81A16BAE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34C-C2D1-4888-ABF0-C99A3D82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330A-0C4A-490A-8F42-BC5512FC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3FA3-EAC3-4E7E-A6B3-721DC813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8B4B-0CEA-4F7E-B1AE-B668B9C31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47D0-597B-4139-95FD-27A5E11F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17E0-2148-4CCA-8E7B-C7A308C4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83CB-9F7F-4E1E-9C91-CB4FEFAA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B83C-5FD3-45C0-A423-6CFAFE16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SO/TC 29/WG 34, Lee Yothers, Kennametal In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B0A9-C890-44F5-B7D5-E88089006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17480" y="6330960"/>
            <a:ext cx="1219320" cy="285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2286000" y="6172200"/>
            <a:ext cx="593640" cy="5493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6222960" y="6107040"/>
            <a:ext cx="1143000" cy="579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7543800" y="6267600"/>
            <a:ext cx="838080" cy="35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pdate on ISO 13399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tting Tool Data Representation and exchang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dvik Corom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nam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rr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ol assemb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33440" y="99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t01001u" descr=""/>
          <p:cNvPicPr/>
          <p:nvPr/>
        </p:nvPicPr>
        <p:blipFill>
          <a:blip r:embed="rId1"/>
          <a:srcRect l="0" t="3785" r="0" b="6519"/>
          <a:stretch/>
        </p:blipFill>
        <p:spPr>
          <a:xfrm>
            <a:off x="511200" y="476280"/>
            <a:ext cx="8121600" cy="54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1049400"/>
          <a:ext cx="9144000" cy="461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49400"/>
                    <a:ext cx="9144000" cy="46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ndamental conce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26668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 13399 doe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ndardize cutting tools but the method to describe cutting too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ype of inform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ilar to that shown in tooling cata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181160" y="2732040"/>
            <a:ext cx="678168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4724280"/>
            <a:ext cx="4572000" cy="9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Hardware Interfaces: 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ISO, HSK, Capto, KM,...</a:t>
            </a:r>
            <a:r>
              <a:rPr b="0" lang="sv-S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1295280"/>
            <a:ext cx="3581280" cy="9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Software Interface: </a:t>
            </a:r>
            <a:br>
              <a:rPr sz="2800"/>
            </a:b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ISO 133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4440" y="260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The Cutting Tool Interfa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 rot="901800">
            <a:off x="685440" y="1600200"/>
            <a:ext cx="1380960" cy="3556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48240" y="3048120"/>
            <a:ext cx="2362320" cy="22413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891040" y="2133720"/>
            <a:ext cx="3048120" cy="1752480"/>
          </a:xfrm>
          <a:prstGeom prst="blockArc">
            <a:avLst>
              <a:gd name="adj1" fmla="val 8261088"/>
              <a:gd name="adj2" fmla="val 2538912"/>
              <a:gd name="adj3" fmla="val 4856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rcRect l="63641" t="0" r="0" b="63006"/>
          <a:stretch/>
        </p:blipFill>
        <p:spPr>
          <a:xfrm>
            <a:off x="6629400" y="1523880"/>
            <a:ext cx="914400" cy="118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rcRect l="15360" t="0" r="12715" b="0"/>
          <a:stretch/>
        </p:blipFill>
        <p:spPr>
          <a:xfrm>
            <a:off x="7872480" y="1523880"/>
            <a:ext cx="861840" cy="1143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rot="1222800">
            <a:off x="1752120" y="4191120"/>
            <a:ext cx="1447920" cy="380880"/>
          </a:xfrm>
          <a:prstGeom prst="rightArrow">
            <a:avLst>
              <a:gd name="adj1" fmla="val 50000"/>
              <a:gd name="adj2" fmla="val 9503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20548200">
            <a:off x="5562360" y="4190760"/>
            <a:ext cx="1447560" cy="380880"/>
          </a:xfrm>
          <a:prstGeom prst="rightArrow">
            <a:avLst>
              <a:gd name="adj1" fmla="val 50000"/>
              <a:gd name="adj2" fmla="val 9501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9840800">
            <a:off x="1981080" y="2438280"/>
            <a:ext cx="1447920" cy="381240"/>
          </a:xfrm>
          <a:prstGeom prst="rightArrow">
            <a:avLst>
              <a:gd name="adj1" fmla="val 50000"/>
              <a:gd name="adj2" fmla="val 9494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102200">
            <a:off x="6095880" y="1676160"/>
            <a:ext cx="990720" cy="380880"/>
          </a:xfrm>
          <a:prstGeom prst="rightArrow">
            <a:avLst>
              <a:gd name="adj1" fmla="val 50000"/>
              <a:gd name="adj2" fmla="val 6502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000000"/>
                </a:solidFill>
                <a:latin typeface="Times New Roman"/>
              </a:rPr>
              <a:t>Solution that bridges over domain knowled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452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Domain experts of cutting tools feel comfortable to work with the dictionary to capture their domain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4281480"/>
            <a:ext cx="80769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Times New Roman"/>
              </a:rPr>
              <a:t>Domain experts of information modelling feel comfortable to work with the ISO 13399 information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 of ISO 133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part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software interfaces and support tools (1-2 mont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 trials (6 month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e standard and/or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l out to user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2280" y="198756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development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84240" y="3006720"/>
            <a:ext cx="316080" cy="2251080"/>
          </a:xfrm>
          <a:prstGeom prst="downArrow">
            <a:avLst>
              <a:gd name="adj1" fmla="val 50000"/>
              <a:gd name="adj2" fmla="val 1780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77800" y="3814920"/>
            <a:ext cx="183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4483080"/>
            <a:ext cx="316080" cy="1441440"/>
          </a:xfrm>
          <a:prstGeom prst="downArrow">
            <a:avLst>
              <a:gd name="adj1" fmla="val 50000"/>
              <a:gd name="adj2" fmla="val 11400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741760" y="5116680"/>
            <a:ext cx="183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on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51400" y="5821200"/>
            <a:ext cx="315720" cy="673200"/>
          </a:xfrm>
          <a:prstGeom prst="downArrow">
            <a:avLst>
              <a:gd name="adj1" fmla="val 50000"/>
              <a:gd name="adj2" fmla="val 533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55920" y="2076480"/>
            <a:ext cx="316080" cy="2724120"/>
          </a:xfrm>
          <a:custGeom>
            <a:avLst/>
            <a:gdLst>
              <a:gd name="textAreaLeft" fmla="*/ 201960 w 316080"/>
              <a:gd name="textAreaRight" fmla="*/ 316440 w 316080"/>
              <a:gd name="textAreaTop" fmla="*/ 70920 h 2724120"/>
              <a:gd name="textAreaBottom" fmla="*/ 2653200 h 27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3259080" y="3527280"/>
            <a:ext cx="911160" cy="49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7:23:47Z</dcterms:created>
  <dc:creator>Lee Yothers</dc:creator>
  <dc:description/>
  <dc:language>en-US</dc:language>
  <cp:lastModifiedBy>Jonas Nordström</cp:lastModifiedBy>
  <dcterms:modified xsi:type="dcterms:W3CDTF">2004-07-08T08:32:38Z</dcterms:modified>
  <cp:revision>101</cp:revision>
  <dc:subject/>
  <dc:title>ISO 13399</dc:title>
</cp:coreProperties>
</file>