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9D164-59CD-4E65-9103-386557FA9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1B6C4-0817-459B-A336-5E88516B3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C74BA-FC4E-4D57-B30D-687482A7A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5307E-9589-41EC-9B44-7C9AD5BBA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5D172-F04E-4B3E-A388-1BEEC94E7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295F9-89F2-4982-8BC1-F0A03446B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827A8-9D5F-4606-8E28-DAECAD4E14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BFA9E-4448-4897-9C73-A9083C9B0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65E62-B37E-4F0D-9EE7-C5E3B5CC1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5219C-8A50-4606-A42D-32129E60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A021-DA0D-41A4-BDF3-FEC3C81C4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8D32C-4844-4253-8A8A-5DB3F503F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74BEF-CC73-4490-B3E4-1D5DDFDCEF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1600200"/>
            <a:ext cx="8305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Goals</a:t>
            </a:r>
            <a:endParaRPr b="0" lang="en-US" sz="4400" spc="-1" strike="noStrike">
              <a:solidFill>
                <a:srgbClr val="000000"/>
              </a:solidFill>
              <a:latin typeface="Arial"/>
            </a:endParaRPr>
          </a:p>
        </p:txBody>
      </p:sp>
      <p:sp>
        <p:nvSpPr>
          <p:cNvPr id="43" name="PlaceHolder 2"/>
          <p:cNvSpPr>
            <a:spLocks noGrp="1"/>
          </p:cNvSpPr>
          <p:nvPr>
            <p:ph/>
          </p:nvPr>
        </p:nvSpPr>
        <p:spPr>
          <a:xfrm>
            <a:off x="457200" y="1828440"/>
            <a:ext cx="8229600" cy="289548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GOAL:  A unique EXPRESS model (a single standard) that embodies all requirements from 14649 and 10303-238 whose instantiations are suitable to control a machine</a:t>
            </a:r>
            <a:endParaRPr b="0" lang="en-US" sz="1800" spc="-1" strike="noStrike">
              <a:solidFill>
                <a:srgbClr val="000000"/>
              </a:solidFill>
              <a:latin typeface="Arial"/>
            </a:endParaRPr>
          </a:p>
          <a:p>
            <a:pPr lvl="1" marL="735480" indent="-282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end result will be larger than the schema in 14649 to address the additional requirements</a:t>
            </a:r>
            <a:endParaRPr b="0" lang="en-US" sz="1600" spc="-1" strike="noStrike">
              <a:solidFill>
                <a:srgbClr val="000000"/>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 that it would NOT be a predicate that the file must be pre-processed before use in a controller, in fact assert that the end goal be that the controllers import the file directly and then strip or compact the file.  This assures that ALL controllers will have the same input format.</a:t>
            </a:r>
            <a:endParaRPr b="0" lang="en-US" sz="1800" spc="-1" strike="noStrike">
              <a:solidFill>
                <a:srgbClr val="000000"/>
              </a:solidFill>
              <a:latin typeface="Arial"/>
            </a:endParaRPr>
          </a:p>
          <a:p>
            <a:pPr lvl="1" marL="735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s of the Issues</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14649 view looking for guidance on content and necessity of manufacturing IR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s are thought to be necessary to optimize the size and clarity (human readability) of process output in the AIM form</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naming relationship operators definitely helps with clarity</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10303 view how all STEP manufacturing APs (219, 223, 224, 238, 240) are harmonized with 14649</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at the ARM level T24 believes this is true at the ARM level</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AIM level all STEP APs are harmonized wrt:</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definition</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atur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lerances</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y</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ometric founding</a:t>
            </a:r>
            <a:endParaRPr b="0" lang="en-US" sz="14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description is felt to be the main integration issue</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l that Part 49 sufficiently covers 14649 ARM requirements plus ARM requirements from 219, 223, 240</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pings have been in existence for several years, along with implement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ar Term Plans</a:t>
            </a:r>
            <a:endParaRPr b="0" lang="en-US" sz="4400" spc="-1" strike="noStrike">
              <a:solidFill>
                <a:srgbClr val="000000"/>
              </a:solidFill>
              <a:latin typeface="Arial"/>
            </a:endParaRPr>
          </a:p>
        </p:txBody>
      </p:sp>
      <p:sp>
        <p:nvSpPr>
          <p:cNvPr id="47"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303-238 team to produ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d AP238 schema with updated entity subtyping to enhance clar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new versions of XML-based 14649-11 examples 1 and 2, and 14649-12 examples 1 and 2</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guide to interpret and browse the resulting XML outp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 companion set of slides to illustrate several instances in each example to lead a reviewer through understanding the XML bound AP238 renditions of the 14649 exmaples</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1 is to first prepare for the September meeting by working with SC4 to clearly understand the prepared material on the examp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1 will then hold a wider review in September in Zurich that will consist of thorough walkthroughs of the example materi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the SC4 meeting in Seattle in October 3-8 SC4 and SC1 will again get together to assess the way forwar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will go on in the 10303 manufacturing exploder.</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Keith Hunten and Jochen Haenisch to the explo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2:31:53Z</dcterms:created>
  <dc:creator>Hunten</dc:creator>
  <dc:description/>
  <dc:language>en-US</dc:language>
  <cp:lastModifiedBy>hardwick</cp:lastModifiedBy>
  <dcterms:modified xsi:type="dcterms:W3CDTF">2004-07-08T13:05:06Z</dcterms:modified>
  <cp:revision>10</cp:revision>
  <dc:subject/>
  <dc:title>Slide 1</dc:title>
</cp:coreProperties>
</file>