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992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6840" y="122724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336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992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6840" y="2835720"/>
            <a:ext cx="25012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524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283572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227240"/>
            <a:ext cx="3791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3360" y="2835720"/>
            <a:ext cx="77691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524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4320" y="692280"/>
            <a:ext cx="878832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78840" y="657540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CADA42F2-B22F-46C5-9AC7-69D26C0B7E5E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3360" y="1227240"/>
            <a:ext cx="77691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0480" y="6583320"/>
            <a:ext cx="743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. Hardwi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31960" y="21924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nfo@steptools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01760" y="577440"/>
            <a:ext cx="453852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XSTEP:</a:t>
            </a:r>
            <a:br>
              <a:rPr sz="3200"/>
            </a:br>
            <a:r>
              <a:rPr b="1" lang="en-US" sz="3200" spc="-1" strike="noStrike">
                <a:solidFill>
                  <a:srgbClr val="cf0e30"/>
                </a:solidFill>
                <a:latin typeface="Arial"/>
              </a:rPr>
              <a:t>STEP-NC 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4760" y="311040"/>
            <a:ext cx="2520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49200" y="374760"/>
            <a:ext cx="2838600" cy="61466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4749480" y="2309760"/>
            <a:ext cx="29134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Loffre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e Fri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688"/>
                </a:solidFill>
                <a:uFillTx/>
                <a:latin typeface="Arial"/>
                <a:hlinkClick r:id="rId2"/>
              </a:rPr>
              <a:t>info@steptool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 First Stre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7749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DM-STEP demonst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163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to make it easy for users to get started with STEP-NC programming in AP-238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verts manufacturing command da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ith a simple GU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27040" y="4756320"/>
            <a:ext cx="93672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12400" y="4697280"/>
            <a:ext cx="1071000" cy="72252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ri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07920" y="4878360"/>
            <a:ext cx="1218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DM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35200" y="4541760"/>
            <a:ext cx="1071000" cy="102528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-N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3"/>
            <a:endCxn id="50" idx="1"/>
          </p:cNvCxnSpPr>
          <p:nvPr/>
        </p:nvCxnSpPr>
        <p:spPr>
          <a:xfrm>
            <a:off x="2384280" y="5055840"/>
            <a:ext cx="50904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50" idx="3"/>
            <a:endCxn id="51" idx="1"/>
          </p:cNvCxnSpPr>
          <p:nvPr/>
        </p:nvCxnSpPr>
        <p:spPr>
          <a:xfrm flipV="1">
            <a:off x="4003200" y="5055480"/>
            <a:ext cx="484920" cy="39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1" idx="3"/>
            <a:endCxn id="52" idx="1"/>
          </p:cNvCxnSpPr>
          <p:nvPr/>
        </p:nvCxnSpPr>
        <p:spPr>
          <a:xfrm>
            <a:off x="5746320" y="5055840"/>
            <a:ext cx="46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4649040" y="3348000"/>
            <a:ext cx="959760" cy="1025280"/>
          </a:xfrm>
          <a:prstGeom prst="flowChartDocumen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2-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6" idx="2"/>
            <a:endCxn id="51" idx="0"/>
          </p:cNvCxnSpPr>
          <p:nvPr/>
        </p:nvCxnSpPr>
        <p:spPr>
          <a:xfrm flipH="1">
            <a:off x="5117400" y="4327560"/>
            <a:ext cx="11880" cy="54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345456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XDM STEP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93360" y="960480"/>
            <a:ext cx="7769160" cy="219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put can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4649 P21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P-238 ARM XML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 can b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 AIM P21 File (this is the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-238 XML Modules (this is the new standar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30000" y="3449520"/>
            <a:ext cx="1150200" cy="72252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 146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4320" y="3498840"/>
            <a:ext cx="155520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DM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-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0" idx="3"/>
            <a:endCxn id="61" idx="1"/>
          </p:cNvCxnSpPr>
          <p:nvPr/>
        </p:nvCxnSpPr>
        <p:spPr>
          <a:xfrm flipV="1">
            <a:off x="2701440" y="3798360"/>
            <a:ext cx="251640" cy="13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4951440" y="3436920"/>
            <a:ext cx="1106280" cy="72216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M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1" idx="3"/>
            <a:endCxn id="63" idx="1"/>
          </p:cNvCxnSpPr>
          <p:nvPr/>
        </p:nvCxnSpPr>
        <p:spPr>
          <a:xfrm>
            <a:off x="4551480" y="3798360"/>
            <a:ext cx="3801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1528920" y="4648320"/>
            <a:ext cx="1106280" cy="72216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M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94840" y="4694400"/>
            <a:ext cx="1441080" cy="58068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DM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IM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977000" y="4633920"/>
            <a:ext cx="959760" cy="72216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-2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IM P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6" idx="3"/>
            <a:endCxn id="67" idx="1"/>
          </p:cNvCxnSpPr>
          <p:nvPr/>
        </p:nvCxnSpPr>
        <p:spPr>
          <a:xfrm>
            <a:off x="4459320" y="4994280"/>
            <a:ext cx="4975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5" idx="3"/>
            <a:endCxn id="66" idx="1"/>
          </p:cNvCxnSpPr>
          <p:nvPr/>
        </p:nvCxnSpPr>
        <p:spPr>
          <a:xfrm flipV="1">
            <a:off x="2655720" y="4993920"/>
            <a:ext cx="316800" cy="165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4969440" y="5735520"/>
            <a:ext cx="9928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61640" y="5545080"/>
            <a:ext cx="949320" cy="72252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14280" y="5697360"/>
            <a:ext cx="949320" cy="72252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766560" y="5850000"/>
            <a:ext cx="949320" cy="722160"/>
          </a:xfrm>
          <a:prstGeom prst="flowChartDocument">
            <a:avLst/>
          </a:prstGeom>
          <a:solidFill>
            <a:srgbClr val="ef91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0" idx="3"/>
            <a:endCxn id="71" idx="1"/>
          </p:cNvCxnSpPr>
          <p:nvPr/>
        </p:nvCxnSpPr>
        <p:spPr>
          <a:xfrm flipV="1">
            <a:off x="5982840" y="5906520"/>
            <a:ext cx="459720" cy="68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6" idx="3"/>
            <a:endCxn id="70" idx="1"/>
          </p:cNvCxnSpPr>
          <p:nvPr/>
        </p:nvCxnSpPr>
        <p:spPr>
          <a:xfrm>
            <a:off x="4459320" y="4993920"/>
            <a:ext cx="489600" cy="919800"/>
          </a:xfrm>
          <a:prstGeom prst="bentConnector3">
            <a:avLst>
              <a:gd name="adj1" fmla="val 4996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63" idx="2"/>
            <a:endCxn id="65" idx="1"/>
          </p:cNvCxnSpPr>
          <p:nvPr/>
        </p:nvCxnSpPr>
        <p:spPr>
          <a:xfrm rot="5400000">
            <a:off x="3065760" y="2570760"/>
            <a:ext cx="881640" cy="3998160"/>
          </a:xfrm>
          <a:prstGeom prst="bentConnector4">
            <a:avLst>
              <a:gd name="adj1" fmla="val 31168"/>
              <a:gd name="adj2" fmla="val 10547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858240" y="55440"/>
            <a:ext cx="5133960" cy="68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asic condition for a single common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-238 ARM XML is a 1 to 1 presentation of the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current 14649 P21 ARM in XML format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It can only use implicit feat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nly the AIM data allows explicit features!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 is possible to extract the ARM data from the XML modules in a fairly simple man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common standard are the XML Modu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pre-processing (on the controller) step will allow to strip down all not needed dat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at data will be used depends on the implement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XML Modules offers a wider range of data handling, incl. feedback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ules can be used for repeating operations and be adapted by just changing the attribu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eedback will use the data management facilities of XML. Implementation dependent. No violation of the standar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26320" y="1643040"/>
            <a:ext cx="193356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re is one XML Modele per ARM entity e.g. 1 workplan or 1 workingste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is can be in 1 or different f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module contains the ARM and the AIM da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21686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est Ne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0760" y="1080720"/>
            <a:ext cx="7769160" cy="152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STEP is f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STEP can be used to create data for ST-Machi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-NC Input for Master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-NC Input for GibbsC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fancy_pockets_part_small" descr=""/>
          <p:cNvPicPr/>
          <p:nvPr/>
        </p:nvPicPr>
        <p:blipFill>
          <a:blip r:embed="rId1"/>
          <a:stretch/>
        </p:blipFill>
        <p:spPr>
          <a:xfrm>
            <a:off x="5376960" y="2986200"/>
            <a:ext cx="1811160" cy="1312920"/>
          </a:xfrm>
          <a:prstGeom prst="rect">
            <a:avLst/>
          </a:prstGeom>
          <a:ln w="0">
            <a:noFill/>
          </a:ln>
        </p:spPr>
      </p:pic>
      <p:pic>
        <p:nvPicPr>
          <p:cNvPr id="82" name="fancy_pockets_gibbs_small" descr=""/>
          <p:cNvPicPr/>
          <p:nvPr/>
        </p:nvPicPr>
        <p:blipFill>
          <a:blip r:embed="rId2"/>
          <a:stretch/>
        </p:blipFill>
        <p:spPr>
          <a:xfrm>
            <a:off x="5386320" y="4487760"/>
            <a:ext cx="1865520" cy="1457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43440" y="4073400"/>
            <a:ext cx="802440" cy="58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53560" y="4184640"/>
            <a:ext cx="1218600" cy="337320"/>
          </a:xfrm>
          <a:prstGeom prst="rect">
            <a:avLst/>
          </a:prstGeom>
          <a:solidFill>
            <a:srgbClr val="009688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DM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3"/>
            <a:endCxn id="84" idx="1"/>
          </p:cNvCxnSpPr>
          <p:nvPr/>
        </p:nvCxnSpPr>
        <p:spPr>
          <a:xfrm flipV="1">
            <a:off x="2064960" y="4361760"/>
            <a:ext cx="568800" cy="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3"/>
            <a:endCxn id="81" idx="1"/>
          </p:cNvCxnSpPr>
          <p:nvPr/>
        </p:nvCxnSpPr>
        <p:spPr>
          <a:xfrm flipV="1">
            <a:off x="3892320" y="3642840"/>
            <a:ext cx="1485000" cy="720000"/>
          </a:xfrm>
          <a:prstGeom prst="bentConnector3">
            <a:avLst>
              <a:gd name="adj1" fmla="val 4961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3"/>
            <a:endCxn id="82" idx="1"/>
          </p:cNvCxnSpPr>
          <p:nvPr/>
        </p:nvCxnSpPr>
        <p:spPr>
          <a:xfrm>
            <a:off x="3892320" y="4362480"/>
            <a:ext cx="1494360" cy="854640"/>
          </a:xfrm>
          <a:prstGeom prst="bentConnector3">
            <a:avLst>
              <a:gd name="adj1" fmla="val 4961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7310160" y="334008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ster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363800" y="491796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f0e30"/>
                </a:solidFill>
                <a:latin typeface="Arial"/>
              </a:rPr>
              <a:t>ST-Machi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ibbsC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8760" y="255240"/>
            <a:ext cx="174456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’s N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3360" y="1227240"/>
            <a:ext cx="7769160" cy="285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-Developer v11 will contain new C++ cl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objects to represent ARM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bjects to represent AIM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de generated from the mapping table links the tw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X will be folded into Develo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-Machine will use XSTE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 reads STEP-NC data into a CAD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ersion will add ability to edit the STEP-NC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2-28T19:57:34Z</dcterms:created>
  <dc:creator>Martin Hardwick</dc:creator>
  <dc:description/>
  <dc:language>en-US</dc:language>
  <cp:lastModifiedBy> Friedrich Glantschnig</cp:lastModifiedBy>
  <cp:lastPrinted>1996-02-28T13:41:35Z</cp:lastPrinted>
  <dcterms:modified xsi:type="dcterms:W3CDTF">2004-07-08T12:22:55Z</dcterms:modified>
  <cp:revision>929</cp:revision>
  <dc:subject/>
  <dc:title>STEP-NC: Digital Manufacturing using STEP</dc:title>
</cp:coreProperties>
</file>