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WHOOSH.WAV" ContentType="audio/x-wav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DDA9-387F-4751-8CF2-9DE4CBC60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85D7-D0C7-411C-B547-C458CE0CA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tools to 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gonom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766C-CE55-48F9-8B15-312566731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FF33-81EF-41AF-998E-7BDFB0ECF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F5FF-FBE7-4215-9B36-991CC2E3F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AB568-65B0-497A-ABCC-044B1875D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09A00-B962-445F-8F20-BCD3AEF2D1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87684-8968-4BB3-BEB4-FF971836B5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291F-68D5-4F11-BAFF-BEA059FB42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825DA-9CBA-4327-972A-3F255750F2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98D9C-48FD-41FA-8835-8F86D2BEA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5F41B-BD70-4E29-8034-2E7D6F242E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AFA29-58C1-4C70-B5E2-BED8716F9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D33DD-3B3C-40A8-8278-B36E51DD04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C67C0-4A3C-4CBC-B57B-82969CDE10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6480A-647D-4A9F-AB1E-F7131F8F99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DC05-4058-4554-99D1-DBD3AEE23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92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3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&lt;footer&gt;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I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01000" y="6324120"/>
            <a:ext cx="9907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EE98-43E5-4202-8A2A-6B540E583179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0428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451640" y="621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 flipH="1" rot="10800000">
            <a:off x="4800600" y="6172200"/>
            <a:ext cx="297180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igital Manufactur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Presented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Donald L. Galway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AE81A-5DB0-463E-A30B-AC95E18763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eam/Resource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ll OEM’s and top tier Suppliers have existing initiatives focusing on one or more aspects of  digital manufacturing tools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e need too know what they are and be able to harness them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6C435C-01F2-4A22-B1B5-77D963AD36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505320" y="152280"/>
            <a:ext cx="2133360" cy="609840"/>
          </a:xfrm>
          <a:prstGeom prst="flowChartAlternateProcess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990720"/>
            <a:ext cx="1752840" cy="914400"/>
          </a:xfrm>
          <a:prstGeom prst="flowChartOffpageConnector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514600"/>
            <a:ext cx="2819160" cy="533520"/>
          </a:xfrm>
          <a:prstGeom prst="flowChartTerminator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2514600"/>
            <a:ext cx="3276360" cy="533520"/>
          </a:xfrm>
          <a:prstGeom prst="flowChartTerminator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T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GINEERING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2209680"/>
            <a:ext cx="5410440" cy="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1905120"/>
            <a:ext cx="0" cy="30456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533520"/>
            <a:ext cx="1062000" cy="609480"/>
          </a:xfrm>
          <a:prstGeom prst="flowChartPreparation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EA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6" idx="3"/>
            <a:endCxn id="82" idx="1"/>
          </p:cNvCxnSpPr>
          <p:nvPr/>
        </p:nvCxnSpPr>
        <p:spPr>
          <a:xfrm>
            <a:off x="5638680" y="457200"/>
            <a:ext cx="1448640" cy="38160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84" name=""/>
          <p:cNvCxnSpPr>
            <a:stCxn id="77" idx="3"/>
            <a:endCxn id="82" idx="1"/>
          </p:cNvCxnSpPr>
          <p:nvPr/>
        </p:nvCxnSpPr>
        <p:spPr>
          <a:xfrm flipV="1">
            <a:off x="5562360" y="837720"/>
            <a:ext cx="1524600" cy="610560"/>
          </a:xfrm>
          <a:prstGeom prst="straightConnector1">
            <a:avLst/>
          </a:prstGeom>
          <a:ln cap="sq" w="28440">
            <a:solidFill>
              <a:srgbClr val="000099"/>
            </a:solidFill>
            <a:miter/>
            <a:headEnd len="sm" type="triangle" w="sm"/>
            <a:tailEnd len="sm" type="triangle" w="sm"/>
          </a:ln>
        </p:spPr>
      </p:cxnSp>
      <p:sp>
        <p:nvSpPr>
          <p:cNvPr id="85" name=""/>
          <p:cNvSpPr/>
          <p:nvPr/>
        </p:nvSpPr>
        <p:spPr>
          <a:xfrm>
            <a:off x="1371600" y="3276720"/>
            <a:ext cx="1219320" cy="380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3809880"/>
            <a:ext cx="1676520" cy="3812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OL DESIGN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00200" y="4495680"/>
            <a:ext cx="1600200" cy="38124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PECTION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3809880"/>
            <a:ext cx="1524240" cy="5335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OL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6172200"/>
            <a:ext cx="1828800" cy="3049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CKAG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209680"/>
            <a:ext cx="0" cy="3049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981080" y="3048120"/>
            <a:ext cx="0" cy="2286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429000"/>
            <a:ext cx="990360" cy="3808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066320" y="3429000"/>
            <a:ext cx="381240" cy="3808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191120"/>
            <a:ext cx="609840" cy="30456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200040" y="4343400"/>
            <a:ext cx="609480" cy="3049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3276720"/>
            <a:ext cx="2133720" cy="3045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LANT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AYOUT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4495680"/>
            <a:ext cx="2286000" cy="3049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ATERIAL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LOW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324480" y="3886200"/>
            <a:ext cx="2286000" cy="3049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ERGONOMICS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33720" y="4038480"/>
            <a:ext cx="838080" cy="0"/>
          </a:xfrm>
          <a:prstGeom prst="line">
            <a:avLst/>
          </a:prstGeom>
          <a:ln w="2844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91520" y="2209680"/>
            <a:ext cx="0" cy="3049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4114800"/>
            <a:ext cx="1828800" cy="609480"/>
          </a:xfrm>
          <a:prstGeom prst="line">
            <a:avLst/>
          </a:prstGeom>
          <a:ln w="2844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5257800"/>
            <a:ext cx="2971800" cy="3049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HIPPING &amp; RECEIV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38880" y="3048120"/>
            <a:ext cx="0" cy="2286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3581280"/>
            <a:ext cx="0" cy="3049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4191120"/>
            <a:ext cx="0" cy="30456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315200" y="4800600"/>
            <a:ext cx="0" cy="4572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029200"/>
            <a:ext cx="2362320" cy="380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INAL ASSEMBLY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38280" y="4876920"/>
            <a:ext cx="0" cy="1522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5562720"/>
            <a:ext cx="2362320" cy="30456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INAL INSPECTION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38280" y="5410080"/>
            <a:ext cx="0" cy="15264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5867280"/>
            <a:ext cx="0" cy="3049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505320" y="5410080"/>
            <a:ext cx="2514600" cy="914400"/>
          </a:xfrm>
          <a:prstGeom prst="line">
            <a:avLst/>
          </a:prstGeom>
          <a:ln w="2844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762120"/>
            <a:ext cx="0" cy="2286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3352680"/>
            <a:ext cx="3581280" cy="0"/>
          </a:xfrm>
          <a:prstGeom prst="line">
            <a:avLst/>
          </a:prstGeom>
          <a:ln w="2844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419720" y="3504960"/>
            <a:ext cx="1752480" cy="533160"/>
          </a:xfrm>
          <a:prstGeom prst="line">
            <a:avLst/>
          </a:prstGeom>
          <a:ln w="2844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9720" y="4038480"/>
            <a:ext cx="1904760" cy="0"/>
          </a:xfrm>
          <a:prstGeom prst="line">
            <a:avLst/>
          </a:prstGeom>
          <a:ln w="2844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733920" y="3580920"/>
            <a:ext cx="2514600" cy="1676520"/>
          </a:xfrm>
          <a:prstGeom prst="line">
            <a:avLst/>
          </a:prstGeom>
          <a:ln w="2844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733920" y="3580920"/>
            <a:ext cx="2743200" cy="2133720"/>
          </a:xfrm>
          <a:prstGeom prst="line">
            <a:avLst/>
          </a:prstGeom>
          <a:ln w="2844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1560" y="990720"/>
            <a:ext cx="337680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S IS SCENARIO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3D786-AB52-4178-9BB0-5036F7C919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76720" y="533520"/>
            <a:ext cx="2819160" cy="533160"/>
          </a:xfrm>
          <a:prstGeom prst="flowChartTerminator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14800" y="1447920"/>
            <a:ext cx="1219320" cy="380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2743200"/>
            <a:ext cx="1676520" cy="380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OL DESIGN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9880" y="3200400"/>
            <a:ext cx="1600200" cy="380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SPECTION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2057400"/>
            <a:ext cx="1600200" cy="5335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SSEMBLY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OOL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33920" y="5791320"/>
            <a:ext cx="1828800" cy="380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ACKAGING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24280" y="1066680"/>
            <a:ext cx="0" cy="38124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1828800"/>
            <a:ext cx="1600200" cy="2286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2362320" y="1676520"/>
            <a:ext cx="1752480" cy="6094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62320" y="2514600"/>
            <a:ext cx="1447560" cy="8380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410080" y="2590920"/>
            <a:ext cx="1524240" cy="6094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2438280"/>
            <a:ext cx="4419720" cy="0"/>
          </a:xfrm>
          <a:prstGeom prst="line">
            <a:avLst/>
          </a:prstGeom>
          <a:ln w="28440">
            <a:solidFill>
              <a:srgbClr val="00009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05320" y="3962520"/>
            <a:ext cx="2361960" cy="380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INAL ASSEMBLY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3581280"/>
            <a:ext cx="0" cy="38124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29000" y="4952880"/>
            <a:ext cx="2362320" cy="4572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FINAL INSPECTION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4343400"/>
            <a:ext cx="0" cy="6094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5410080"/>
            <a:ext cx="0" cy="38124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3276720"/>
            <a:ext cx="1447920" cy="60948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UTTING 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OOLS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733920"/>
            <a:ext cx="1447920" cy="60948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IXTURES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276720"/>
            <a:ext cx="1143000" cy="4572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JIGS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838080" y="3124080"/>
            <a:ext cx="152640" cy="15264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62320" y="3124080"/>
            <a:ext cx="152280" cy="15264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3124080"/>
            <a:ext cx="0" cy="6858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324480" y="3048120"/>
            <a:ext cx="1067040" cy="609480"/>
          </a:xfrm>
          <a:prstGeom prst="flowChartPreparation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ROBOTS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2971800"/>
            <a:ext cx="1062000" cy="609480"/>
          </a:xfrm>
          <a:prstGeom prst="flowChartPreparation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WELD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BUCKS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38880" y="3429000"/>
            <a:ext cx="909720" cy="609480"/>
          </a:xfrm>
          <a:prstGeom prst="flowChartPreparation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ICK &amp;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PLACE</a:t>
            </a:r>
            <a:endParaRPr b="0" lang="en-US" sz="16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6781320" y="2590920"/>
            <a:ext cx="304920" cy="4572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96080" y="2590920"/>
            <a:ext cx="0" cy="8380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29600" y="2590920"/>
            <a:ext cx="152280" cy="3808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4191120"/>
            <a:ext cx="914400" cy="609480"/>
          </a:xfrm>
          <a:prstGeom prst="flowChartOnlineStorage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MM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24680" y="4191120"/>
            <a:ext cx="914400" cy="609480"/>
          </a:xfrm>
          <a:prstGeom prst="flowChartDisplay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GAGES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4952880"/>
            <a:ext cx="1143000" cy="304920"/>
          </a:xfrm>
          <a:prstGeom prst="flowChartTerminator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IXTURES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23" idx="3"/>
            <a:endCxn id="149" idx="1"/>
          </p:cNvCxnSpPr>
          <p:nvPr/>
        </p:nvCxnSpPr>
        <p:spPr>
          <a:xfrm>
            <a:off x="5410080" y="3390480"/>
            <a:ext cx="991440" cy="110556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cap="sq" w="28440">
            <a:solidFill>
              <a:srgbClr val="000099"/>
            </a:solidFill>
            <a:miter/>
            <a:tailEnd len="sm" type="triangle" w="sm"/>
          </a:ln>
        </p:spPr>
      </p:cxnSp>
      <p:sp>
        <p:nvSpPr>
          <p:cNvPr id="153" name=""/>
          <p:cNvSpPr/>
          <p:nvPr/>
        </p:nvSpPr>
        <p:spPr>
          <a:xfrm>
            <a:off x="5410080" y="3352680"/>
            <a:ext cx="609840" cy="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19920" y="3352680"/>
            <a:ext cx="609480" cy="6858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629400" y="4038480"/>
            <a:ext cx="1371600" cy="2286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4800600"/>
            <a:ext cx="228600" cy="2286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8229240" y="4800600"/>
            <a:ext cx="228600" cy="3049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4495680"/>
            <a:ext cx="1295280" cy="7621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RANSFER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INES</a:t>
            </a:r>
            <a:endParaRPr b="0" lang="en-US" sz="1800" spc="-1" strike="noStrike">
              <a:solidFill>
                <a:srgbClr val="99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32" idx="1"/>
            <a:endCxn id="158" idx="3"/>
          </p:cNvCxnSpPr>
          <p:nvPr/>
        </p:nvCxnSpPr>
        <p:spPr>
          <a:xfrm flipV="1" rot="10800000">
            <a:off x="1599480" y="4151880"/>
            <a:ext cx="1905840" cy="724680"/>
          </a:xfrm>
          <a:prstGeom prst="bentConnector3">
            <a:avLst>
              <a:gd name="adj1" fmla="val 49990"/>
            </a:avLst>
          </a:prstGeom>
          <a:ln cap="sq" w="28440">
            <a:solidFill>
              <a:srgbClr val="000099"/>
            </a:solidFill>
            <a:miter/>
          </a:ln>
        </p:spPr>
      </p:cxnSp>
      <p:sp>
        <p:nvSpPr>
          <p:cNvPr id="160" name=""/>
          <p:cNvSpPr/>
          <p:nvPr/>
        </p:nvSpPr>
        <p:spPr>
          <a:xfrm>
            <a:off x="-720" y="1143000"/>
            <a:ext cx="33004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S IS SCENARIO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2057400"/>
            <a:ext cx="22860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ecial Machines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590920"/>
            <a:ext cx="0" cy="1522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54DD-7B41-475F-A760-3017CE9486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209680" y="685800"/>
            <a:ext cx="4191120" cy="9144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T ENGINEERING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38280" y="2057400"/>
            <a:ext cx="4114800" cy="6094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LANT LAYOUT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0400" y="3124080"/>
            <a:ext cx="2362320" cy="5335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RGONOMICS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438280" y="4038480"/>
            <a:ext cx="3962520" cy="53352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TERIAL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5105520"/>
            <a:ext cx="2667240" cy="45720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ACKAGING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1600200"/>
            <a:ext cx="0" cy="4572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3400" y="2666880"/>
            <a:ext cx="0" cy="4572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3657600"/>
            <a:ext cx="0" cy="38088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43400" y="4572000"/>
            <a:ext cx="0" cy="5335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858000" y="914400"/>
            <a:ext cx="2097000" cy="1709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553080" y="2133720"/>
            <a:ext cx="304920" cy="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152280" y="2057400"/>
            <a:ext cx="1540080" cy="1600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 flipH="1" flipV="1">
            <a:off x="1676160" y="2895480"/>
            <a:ext cx="1523880" cy="5335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3886200"/>
            <a:ext cx="1676520" cy="99072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UNNAGE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00800" y="4267080"/>
            <a:ext cx="914400" cy="30492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934320" y="2895480"/>
            <a:ext cx="2057400" cy="76212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NVEYORS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6400800" y="3505320"/>
            <a:ext cx="762120" cy="76176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28600" y="4800600"/>
            <a:ext cx="1523880" cy="14209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 flipH="1">
            <a:off x="1752480" y="5334120"/>
            <a:ext cx="1371600" cy="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7391520" y="4952880"/>
            <a:ext cx="1447560" cy="11052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324480" y="4572000"/>
            <a:ext cx="1067040" cy="914400"/>
          </a:xfrm>
          <a:prstGeom prst="line">
            <a:avLst/>
          </a:prstGeom>
          <a:ln cap="sq"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0"/>
            <a:ext cx="4038480" cy="581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S IS SCENARIO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319D1-9411-4664-80EB-5201C18E23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ow Hanging Fruit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Use existing efforts to establish universal guidelines industry wide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is will establish acceptance of a common language and glossary to build upon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Leverage this to enlist support from machine and automation equipment manufacturers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9E731-0993-42C0-8B7E-13ADCEA1B0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Key Ingredients: 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upport of Member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upport from OEM’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upport from Tier One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upport from Machine Designers and Builder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upport from Software Suppliers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FFAC5-80D3-4F37-AE6F-944537BB8B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IAG and Digital Manufacturin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e AIAG’s Collaborative Engineering &amp; Product Development Steering Committee established an “Ad-Hoc” committee o investigate Digital Manufacturing in June of 2004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his Committee is co-chaired by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Carol Tierney and Donald L. Galway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CDEFA-8740-442E-9047-F1CFA01502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ission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o increase digital engineering and manufacturing </a:t>
            </a:r>
            <a:r>
              <a:rPr b="0" i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interoperability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based on existing and emerging technology along with data exchange standards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DF06A-082C-4E6D-9CEF-EC17D579C4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reate an AIAG Ad Hoc: 2nd Q of 2004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Industry roundtable:  3rd/4th Q of 2004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Executive Briefing: 4</a:t>
            </a:r>
            <a:r>
              <a:rPr b="0" lang="en-US" sz="2800" spc="-1" strike="noStrike" baseline="30000">
                <a:solidFill>
                  <a:srgbClr val="99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Q of 2004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reate inventory of existing processes: Now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efine Digital Manufacturing 4th Q 2004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tart mapping existing processes: Primary purpose is to create guidelines and a common glossary of terminology- early 2005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13AAF-26F1-4256-96BF-37649C3BAF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First Step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e Ad Hoc held a meeting with the UGS-PLM Users Group as one of the first steps that has been taken. This was to enlist support of the user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We are also planning a roundtable discussion with industry executives for their input and support.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B2512-699C-4547-87D9-FACCDC392BD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Guideline Development Proces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First we must find what we are already doing within our own organizations…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-IS</a:t>
            </a: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inventory existing processes defined as a part of Dig Man) 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n use the Touch Point Methodology on the survey results to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Times New Roman"/>
              </a:rPr>
              <a:t>identify high pain points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workgroup will then identify a deliverable based on the findings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7150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E9FAF-1737-4AA0-AABA-0E390AE0A4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rojected Goals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Define Digital Manufacturing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dentify digital manufacturing segment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onduct a Gap Analysi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reate a Common Terminology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dentify High Pain Points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Define short and long term goals.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reate first document 3</a:t>
            </a:r>
            <a:r>
              <a:rPr b="0" lang="en-US" sz="3200" spc="-1" strike="noStrike" baseline="30000">
                <a:solidFill>
                  <a:srgbClr val="990000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Quarter-2005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BE51D-1EE0-4982-A0D0-FD9D3A3B60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hunks” of the Elephant that are </a:t>
            </a:r>
            <a:br>
              <a:rPr sz="4400"/>
            </a:b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in place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t AIAG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600200" y="2209680"/>
          <a:ext cx="6477120" cy="396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09680"/>
                    <a:ext cx="647712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4419720" y="347040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gital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ufacturing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724280"/>
            <a:ext cx="1905120" cy="990720"/>
          </a:xfrm>
          <a:prstGeom prst="wedgeRoundRectCallout">
            <a:avLst>
              <a:gd name="adj1" fmla="val -81750"/>
              <a:gd name="adj2" fmla="val 51601"/>
              <a:gd name="adj3" fmla="val 16667"/>
            </a:avLst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Metrology Group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MM</a:t>
            </a:r>
            <a:endParaRPr b="0" lang="en-US" sz="20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257800"/>
            <a:ext cx="2514600" cy="685800"/>
          </a:xfrm>
          <a:prstGeom prst="wedgeRoundRectCallout">
            <a:avLst>
              <a:gd name="adj1" fmla="val 60226"/>
              <a:gd name="adj2" fmla="val 55787"/>
              <a:gd name="adj3" fmla="val 16667"/>
            </a:avLst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gital Engineering 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Visualization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1828800"/>
            <a:ext cx="2590560" cy="609480"/>
          </a:xfrm>
          <a:prstGeom prst="wedgeRoundRectCallout">
            <a:avLst>
              <a:gd name="adj1" fmla="val 10111"/>
              <a:gd name="adj2" fmla="val 138282"/>
              <a:gd name="adj3" fmla="val 16667"/>
            </a:avLst>
          </a:prstGeom>
          <a:solidFill>
            <a:srgbClr val="ccccff"/>
          </a:solidFill>
          <a:ln cap="sq"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oduct Data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1B8B3-175E-4645-B60C-FFC3CD3101A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everage Current Efforts.</a:t>
            </a:r>
            <a:endParaRPr b="0" lang="en-US" sz="4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Digital Engineering Visualization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Metrology Group - CMM 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Product Data Quality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Goal of the Digital Manufacturing WG will be to leverage the efforts of existing  workgroups &amp; integrate towards engineering/manufacturing interoperability</a:t>
            </a:r>
            <a:endParaRPr b="0" lang="en-US" sz="2800" spc="-1" strike="noStrike">
              <a:solidFill>
                <a:srgbClr val="99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oordinate ongoing global efforts.(SASIG)</a:t>
            </a:r>
            <a:endParaRPr b="0" lang="en-US" sz="3200" spc="-1" strike="noStrike">
              <a:solidFill>
                <a:srgbClr val="99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D3C68-6DA2-4A1B-9251-6BA6F2DD08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3:28:27Z</dcterms:created>
  <dc:creator>Dana Corporation</dc:creator>
  <dc:description/>
  <dc:language>en-US</dc:language>
  <cp:lastModifiedBy>Dana Corporation</cp:lastModifiedBy>
  <dcterms:modified xsi:type="dcterms:W3CDTF">2004-06-22T18:36:53Z</dcterms:modified>
  <cp:revision>21</cp:revision>
  <dc:subject/>
  <dc:title>AIAG and Digital Manufacturing</dc:title>
</cp:coreProperties>
</file>