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3716000" cy="9907588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97F4-D7E1-4E1C-998E-DE35C7B9F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28520" y="880560"/>
            <a:ext cx="11658600" cy="1651320"/>
          </a:xfrm>
          <a:prstGeom prst="rect">
            <a:avLst/>
          </a:prstGeom>
          <a:noFill/>
          <a:ln w="0">
            <a:noFill/>
          </a:ln>
        </p:spPr>
        <p:txBody>
          <a:bodyPr lIns="138240" rIns="138240" tIns="69840" bIns="69840" anchor="ctr">
            <a:noAutofit/>
          </a:bodyPr>
          <a:p>
            <a:pPr indent="0" algn="ctr">
              <a:buNone/>
              <a:tabLst>
                <a:tab algn="l" pos="0"/>
                <a:tab algn="l" pos="2057400"/>
                <a:tab algn="l" pos="4114800"/>
                <a:tab algn="l" pos="6172200"/>
                <a:tab algn="l" pos="8229600"/>
                <a:tab algn="l" pos="102870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28520" y="2862360"/>
            <a:ext cx="11658600" cy="2835000"/>
          </a:xfrm>
          <a:prstGeom prst="rect">
            <a:avLst/>
          </a:prstGeom>
          <a:noFill/>
          <a:ln w="0">
            <a:noFill/>
          </a:ln>
        </p:spPr>
        <p:txBody>
          <a:bodyPr lIns="138240" rIns="138240" tIns="69840" bIns="698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2057400"/>
                <a:tab algn="l" pos="4114800"/>
                <a:tab algn="l" pos="6172200"/>
                <a:tab algn="l" pos="8229600"/>
                <a:tab algn="l" pos="1028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28520" y="5967000"/>
            <a:ext cx="11658600" cy="2835000"/>
          </a:xfrm>
          <a:prstGeom prst="rect">
            <a:avLst/>
          </a:prstGeom>
          <a:noFill/>
          <a:ln w="0">
            <a:noFill/>
          </a:ln>
        </p:spPr>
        <p:txBody>
          <a:bodyPr lIns="138240" rIns="138240" tIns="69840" bIns="698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2057400"/>
                <a:tab algn="l" pos="4114800"/>
                <a:tab algn="l" pos="6172200"/>
                <a:tab algn="l" pos="8229600"/>
                <a:tab algn="l" pos="1028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D34B-8967-449A-B2A5-C50AA999F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28520" y="880560"/>
            <a:ext cx="11658600" cy="1651320"/>
          </a:xfrm>
          <a:prstGeom prst="rect">
            <a:avLst/>
          </a:prstGeom>
          <a:noFill/>
          <a:ln w="0">
            <a:noFill/>
          </a:ln>
        </p:spPr>
        <p:txBody>
          <a:bodyPr lIns="138240" rIns="138240" tIns="69840" bIns="69840" anchor="ctr">
            <a:noAutofit/>
          </a:bodyPr>
          <a:p>
            <a:pPr indent="0" algn="ctr">
              <a:buNone/>
              <a:tabLst>
                <a:tab algn="l" pos="0"/>
                <a:tab algn="l" pos="2057400"/>
                <a:tab algn="l" pos="4114800"/>
                <a:tab algn="l" pos="6172200"/>
                <a:tab algn="l" pos="8229600"/>
                <a:tab algn="l" pos="102870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28520" y="2862360"/>
            <a:ext cx="5689080" cy="2835000"/>
          </a:xfrm>
          <a:prstGeom prst="rect">
            <a:avLst/>
          </a:prstGeom>
          <a:noFill/>
          <a:ln w="0">
            <a:noFill/>
          </a:ln>
        </p:spPr>
        <p:txBody>
          <a:bodyPr lIns="138240" rIns="138240" tIns="69840" bIns="698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2057400"/>
                <a:tab algn="l" pos="4114800"/>
                <a:tab algn="l" pos="6172200"/>
                <a:tab algn="l" pos="8229600"/>
                <a:tab algn="l" pos="1028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002360" y="2862360"/>
            <a:ext cx="5689080" cy="2835000"/>
          </a:xfrm>
          <a:prstGeom prst="rect">
            <a:avLst/>
          </a:prstGeom>
          <a:noFill/>
          <a:ln w="0">
            <a:noFill/>
          </a:ln>
        </p:spPr>
        <p:txBody>
          <a:bodyPr lIns="138240" rIns="138240" tIns="69840" bIns="698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2057400"/>
                <a:tab algn="l" pos="4114800"/>
                <a:tab algn="l" pos="6172200"/>
                <a:tab algn="l" pos="8229600"/>
                <a:tab algn="l" pos="1028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28520" y="5967000"/>
            <a:ext cx="5689080" cy="2835000"/>
          </a:xfrm>
          <a:prstGeom prst="rect">
            <a:avLst/>
          </a:prstGeom>
          <a:noFill/>
          <a:ln w="0">
            <a:noFill/>
          </a:ln>
        </p:spPr>
        <p:txBody>
          <a:bodyPr lIns="138240" rIns="138240" tIns="69840" bIns="698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2057400"/>
                <a:tab algn="l" pos="4114800"/>
                <a:tab algn="l" pos="6172200"/>
                <a:tab algn="l" pos="8229600"/>
                <a:tab algn="l" pos="1028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002360" y="5967000"/>
            <a:ext cx="5689080" cy="2835000"/>
          </a:xfrm>
          <a:prstGeom prst="rect">
            <a:avLst/>
          </a:prstGeom>
          <a:noFill/>
          <a:ln w="0">
            <a:noFill/>
          </a:ln>
        </p:spPr>
        <p:txBody>
          <a:bodyPr lIns="138240" rIns="138240" tIns="69840" bIns="698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2057400"/>
                <a:tab algn="l" pos="4114800"/>
                <a:tab algn="l" pos="6172200"/>
                <a:tab algn="l" pos="8229600"/>
                <a:tab algn="l" pos="1028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1AD8-3630-41AF-A369-DD85FA547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28520" y="880560"/>
            <a:ext cx="11658600" cy="1651320"/>
          </a:xfrm>
          <a:prstGeom prst="rect">
            <a:avLst/>
          </a:prstGeom>
          <a:noFill/>
          <a:ln w="0">
            <a:noFill/>
          </a:ln>
        </p:spPr>
        <p:txBody>
          <a:bodyPr lIns="138240" rIns="138240" tIns="69840" bIns="69840" anchor="ctr">
            <a:noAutofit/>
          </a:bodyPr>
          <a:p>
            <a:pPr indent="0" algn="ctr">
              <a:buNone/>
              <a:tabLst>
                <a:tab algn="l" pos="0"/>
                <a:tab algn="l" pos="2057400"/>
                <a:tab algn="l" pos="4114800"/>
                <a:tab algn="l" pos="6172200"/>
                <a:tab algn="l" pos="8229600"/>
                <a:tab algn="l" pos="102870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28520" y="2862360"/>
            <a:ext cx="3753720" cy="2835000"/>
          </a:xfrm>
          <a:prstGeom prst="rect">
            <a:avLst/>
          </a:prstGeom>
          <a:noFill/>
          <a:ln w="0">
            <a:noFill/>
          </a:ln>
        </p:spPr>
        <p:txBody>
          <a:bodyPr lIns="138240" rIns="138240" tIns="69840" bIns="698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2057400"/>
                <a:tab algn="l" pos="4114800"/>
                <a:tab algn="l" pos="6172200"/>
                <a:tab algn="l" pos="8229600"/>
                <a:tab algn="l" pos="1028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70160" y="2862360"/>
            <a:ext cx="3753720" cy="2835000"/>
          </a:xfrm>
          <a:prstGeom prst="rect">
            <a:avLst/>
          </a:prstGeom>
          <a:noFill/>
          <a:ln w="0">
            <a:noFill/>
          </a:ln>
        </p:spPr>
        <p:txBody>
          <a:bodyPr lIns="138240" rIns="138240" tIns="69840" bIns="698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2057400"/>
                <a:tab algn="l" pos="4114800"/>
                <a:tab algn="l" pos="6172200"/>
                <a:tab algn="l" pos="8229600"/>
                <a:tab algn="l" pos="1028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912160" y="2862360"/>
            <a:ext cx="3753720" cy="2835000"/>
          </a:xfrm>
          <a:prstGeom prst="rect">
            <a:avLst/>
          </a:prstGeom>
          <a:noFill/>
          <a:ln w="0">
            <a:noFill/>
          </a:ln>
        </p:spPr>
        <p:txBody>
          <a:bodyPr lIns="138240" rIns="138240" tIns="69840" bIns="698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2057400"/>
                <a:tab algn="l" pos="4114800"/>
                <a:tab algn="l" pos="6172200"/>
                <a:tab algn="l" pos="8229600"/>
                <a:tab algn="l" pos="1028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28520" y="5967000"/>
            <a:ext cx="3753720" cy="2835000"/>
          </a:xfrm>
          <a:prstGeom prst="rect">
            <a:avLst/>
          </a:prstGeom>
          <a:noFill/>
          <a:ln w="0">
            <a:noFill/>
          </a:ln>
        </p:spPr>
        <p:txBody>
          <a:bodyPr lIns="138240" rIns="138240" tIns="69840" bIns="698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2057400"/>
                <a:tab algn="l" pos="4114800"/>
                <a:tab algn="l" pos="6172200"/>
                <a:tab algn="l" pos="8229600"/>
                <a:tab algn="l" pos="1028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970160" y="5967000"/>
            <a:ext cx="3753720" cy="2835000"/>
          </a:xfrm>
          <a:prstGeom prst="rect">
            <a:avLst/>
          </a:prstGeom>
          <a:noFill/>
          <a:ln w="0">
            <a:noFill/>
          </a:ln>
        </p:spPr>
        <p:txBody>
          <a:bodyPr lIns="138240" rIns="138240" tIns="69840" bIns="698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2057400"/>
                <a:tab algn="l" pos="4114800"/>
                <a:tab algn="l" pos="6172200"/>
                <a:tab algn="l" pos="8229600"/>
                <a:tab algn="l" pos="1028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912160" y="5967000"/>
            <a:ext cx="3753720" cy="2835000"/>
          </a:xfrm>
          <a:prstGeom prst="rect">
            <a:avLst/>
          </a:prstGeom>
          <a:noFill/>
          <a:ln w="0">
            <a:noFill/>
          </a:ln>
        </p:spPr>
        <p:txBody>
          <a:bodyPr lIns="138240" rIns="138240" tIns="69840" bIns="698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2057400"/>
                <a:tab algn="l" pos="4114800"/>
                <a:tab algn="l" pos="6172200"/>
                <a:tab algn="l" pos="8229600"/>
                <a:tab algn="l" pos="1028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26CB-BB9B-41A4-B1E3-839560C74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28520" y="880560"/>
            <a:ext cx="11658600" cy="1651320"/>
          </a:xfrm>
          <a:prstGeom prst="rect">
            <a:avLst/>
          </a:prstGeom>
          <a:noFill/>
          <a:ln w="0">
            <a:noFill/>
          </a:ln>
        </p:spPr>
        <p:txBody>
          <a:bodyPr lIns="138240" rIns="138240" tIns="69840" bIns="69840" anchor="ctr">
            <a:noAutofit/>
          </a:bodyPr>
          <a:p>
            <a:pPr indent="0" algn="ctr">
              <a:buNone/>
              <a:tabLst>
                <a:tab algn="l" pos="0"/>
                <a:tab algn="l" pos="2057400"/>
                <a:tab algn="l" pos="4114800"/>
                <a:tab algn="l" pos="6172200"/>
                <a:tab algn="l" pos="8229600"/>
                <a:tab algn="l" pos="102870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28520" y="2862360"/>
            <a:ext cx="1165860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2057400"/>
                <a:tab algn="l" pos="4114800"/>
                <a:tab algn="l" pos="6172200"/>
                <a:tab algn="l" pos="8229600"/>
                <a:tab algn="l" pos="1028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0DB7-705A-4E56-9003-673A73729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28520" y="880560"/>
            <a:ext cx="11658600" cy="1651320"/>
          </a:xfrm>
          <a:prstGeom prst="rect">
            <a:avLst/>
          </a:prstGeom>
          <a:noFill/>
          <a:ln w="0">
            <a:noFill/>
          </a:ln>
        </p:spPr>
        <p:txBody>
          <a:bodyPr lIns="138240" rIns="138240" tIns="69840" bIns="69840" anchor="ctr">
            <a:noAutofit/>
          </a:bodyPr>
          <a:p>
            <a:pPr indent="0" algn="ctr">
              <a:buNone/>
              <a:tabLst>
                <a:tab algn="l" pos="0"/>
                <a:tab algn="l" pos="2057400"/>
                <a:tab algn="l" pos="4114800"/>
                <a:tab algn="l" pos="6172200"/>
                <a:tab algn="l" pos="8229600"/>
                <a:tab algn="l" pos="102870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28520" y="2862360"/>
            <a:ext cx="11658600" cy="5943600"/>
          </a:xfrm>
          <a:prstGeom prst="rect">
            <a:avLst/>
          </a:prstGeom>
          <a:noFill/>
          <a:ln w="0">
            <a:noFill/>
          </a:ln>
        </p:spPr>
        <p:txBody>
          <a:bodyPr lIns="138240" rIns="138240" tIns="69840" bIns="698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2057400"/>
                <a:tab algn="l" pos="4114800"/>
                <a:tab algn="l" pos="6172200"/>
                <a:tab algn="l" pos="8229600"/>
                <a:tab algn="l" pos="1028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9BF1-F6FF-4F37-B005-F94E4B6ED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28520" y="880560"/>
            <a:ext cx="11658600" cy="1651320"/>
          </a:xfrm>
          <a:prstGeom prst="rect">
            <a:avLst/>
          </a:prstGeom>
          <a:noFill/>
          <a:ln w="0">
            <a:noFill/>
          </a:ln>
        </p:spPr>
        <p:txBody>
          <a:bodyPr lIns="138240" rIns="138240" tIns="69840" bIns="69840" anchor="ctr">
            <a:noAutofit/>
          </a:bodyPr>
          <a:p>
            <a:pPr indent="0" algn="ctr">
              <a:buNone/>
              <a:tabLst>
                <a:tab algn="l" pos="0"/>
                <a:tab algn="l" pos="2057400"/>
                <a:tab algn="l" pos="4114800"/>
                <a:tab algn="l" pos="6172200"/>
                <a:tab algn="l" pos="8229600"/>
                <a:tab algn="l" pos="102870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28520" y="2862360"/>
            <a:ext cx="5689080" cy="5943600"/>
          </a:xfrm>
          <a:prstGeom prst="rect">
            <a:avLst/>
          </a:prstGeom>
          <a:noFill/>
          <a:ln w="0">
            <a:noFill/>
          </a:ln>
        </p:spPr>
        <p:txBody>
          <a:bodyPr lIns="138240" rIns="138240" tIns="69840" bIns="698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2057400"/>
                <a:tab algn="l" pos="4114800"/>
                <a:tab algn="l" pos="6172200"/>
                <a:tab algn="l" pos="8229600"/>
                <a:tab algn="l" pos="1028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002360" y="2862360"/>
            <a:ext cx="5689080" cy="5943600"/>
          </a:xfrm>
          <a:prstGeom prst="rect">
            <a:avLst/>
          </a:prstGeom>
          <a:noFill/>
          <a:ln w="0">
            <a:noFill/>
          </a:ln>
        </p:spPr>
        <p:txBody>
          <a:bodyPr lIns="138240" rIns="138240" tIns="69840" bIns="698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2057400"/>
                <a:tab algn="l" pos="4114800"/>
                <a:tab algn="l" pos="6172200"/>
                <a:tab algn="l" pos="8229600"/>
                <a:tab algn="l" pos="1028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F54C-6C56-49AE-B280-7BFCF1896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28520" y="880560"/>
            <a:ext cx="11658600" cy="1651320"/>
          </a:xfrm>
          <a:prstGeom prst="rect">
            <a:avLst/>
          </a:prstGeom>
          <a:noFill/>
          <a:ln w="0">
            <a:noFill/>
          </a:ln>
        </p:spPr>
        <p:txBody>
          <a:bodyPr lIns="138240" rIns="138240" tIns="69840" bIns="69840" anchor="ctr">
            <a:noAutofit/>
          </a:bodyPr>
          <a:p>
            <a:pPr indent="0" algn="ctr">
              <a:buNone/>
              <a:tabLst>
                <a:tab algn="l" pos="0"/>
                <a:tab algn="l" pos="2057400"/>
                <a:tab algn="l" pos="4114800"/>
                <a:tab algn="l" pos="6172200"/>
                <a:tab algn="l" pos="8229600"/>
                <a:tab algn="l" pos="102870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7CD5-1768-45E9-965A-5FF1BCF27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28520" y="880560"/>
            <a:ext cx="116586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2057400"/>
                <a:tab algn="l" pos="4114800"/>
                <a:tab algn="l" pos="6172200"/>
                <a:tab algn="l" pos="8229600"/>
                <a:tab algn="l" pos="1028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43F7-2E73-41C4-8900-D3EB1CE4D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28520" y="880560"/>
            <a:ext cx="11658600" cy="1651320"/>
          </a:xfrm>
          <a:prstGeom prst="rect">
            <a:avLst/>
          </a:prstGeom>
          <a:noFill/>
          <a:ln w="0">
            <a:noFill/>
          </a:ln>
        </p:spPr>
        <p:txBody>
          <a:bodyPr lIns="138240" rIns="138240" tIns="69840" bIns="69840" anchor="ctr">
            <a:noAutofit/>
          </a:bodyPr>
          <a:p>
            <a:pPr indent="0" algn="ctr">
              <a:buNone/>
              <a:tabLst>
                <a:tab algn="l" pos="0"/>
                <a:tab algn="l" pos="2057400"/>
                <a:tab algn="l" pos="4114800"/>
                <a:tab algn="l" pos="6172200"/>
                <a:tab algn="l" pos="8229600"/>
                <a:tab algn="l" pos="102870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28520" y="2862360"/>
            <a:ext cx="5689080" cy="2835000"/>
          </a:xfrm>
          <a:prstGeom prst="rect">
            <a:avLst/>
          </a:prstGeom>
          <a:noFill/>
          <a:ln w="0">
            <a:noFill/>
          </a:ln>
        </p:spPr>
        <p:txBody>
          <a:bodyPr lIns="138240" rIns="138240" tIns="69840" bIns="698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2057400"/>
                <a:tab algn="l" pos="4114800"/>
                <a:tab algn="l" pos="6172200"/>
                <a:tab algn="l" pos="8229600"/>
                <a:tab algn="l" pos="1028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002360" y="2862360"/>
            <a:ext cx="5689080" cy="5943600"/>
          </a:xfrm>
          <a:prstGeom prst="rect">
            <a:avLst/>
          </a:prstGeom>
          <a:noFill/>
          <a:ln w="0">
            <a:noFill/>
          </a:ln>
        </p:spPr>
        <p:txBody>
          <a:bodyPr lIns="138240" rIns="138240" tIns="69840" bIns="698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2057400"/>
                <a:tab algn="l" pos="4114800"/>
                <a:tab algn="l" pos="6172200"/>
                <a:tab algn="l" pos="8229600"/>
                <a:tab algn="l" pos="1028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28520" y="5967000"/>
            <a:ext cx="5689080" cy="2835000"/>
          </a:xfrm>
          <a:prstGeom prst="rect">
            <a:avLst/>
          </a:prstGeom>
          <a:noFill/>
          <a:ln w="0">
            <a:noFill/>
          </a:ln>
        </p:spPr>
        <p:txBody>
          <a:bodyPr lIns="138240" rIns="138240" tIns="69840" bIns="698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2057400"/>
                <a:tab algn="l" pos="4114800"/>
                <a:tab algn="l" pos="6172200"/>
                <a:tab algn="l" pos="8229600"/>
                <a:tab algn="l" pos="1028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BEEA-FA91-48FE-BBE9-2E21E196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28520" y="880560"/>
            <a:ext cx="11658600" cy="1651320"/>
          </a:xfrm>
          <a:prstGeom prst="rect">
            <a:avLst/>
          </a:prstGeom>
          <a:noFill/>
          <a:ln w="0">
            <a:noFill/>
          </a:ln>
        </p:spPr>
        <p:txBody>
          <a:bodyPr lIns="138240" rIns="138240" tIns="69840" bIns="69840" anchor="ctr">
            <a:noAutofit/>
          </a:bodyPr>
          <a:p>
            <a:pPr indent="0" algn="ctr">
              <a:buNone/>
              <a:tabLst>
                <a:tab algn="l" pos="0"/>
                <a:tab algn="l" pos="2057400"/>
                <a:tab algn="l" pos="4114800"/>
                <a:tab algn="l" pos="6172200"/>
                <a:tab algn="l" pos="8229600"/>
                <a:tab algn="l" pos="102870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28520" y="2862360"/>
            <a:ext cx="5689080" cy="5943600"/>
          </a:xfrm>
          <a:prstGeom prst="rect">
            <a:avLst/>
          </a:prstGeom>
          <a:noFill/>
          <a:ln w="0">
            <a:noFill/>
          </a:ln>
        </p:spPr>
        <p:txBody>
          <a:bodyPr lIns="138240" rIns="138240" tIns="69840" bIns="698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2057400"/>
                <a:tab algn="l" pos="4114800"/>
                <a:tab algn="l" pos="6172200"/>
                <a:tab algn="l" pos="8229600"/>
                <a:tab algn="l" pos="1028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002360" y="2862360"/>
            <a:ext cx="5689080" cy="2835000"/>
          </a:xfrm>
          <a:prstGeom prst="rect">
            <a:avLst/>
          </a:prstGeom>
          <a:noFill/>
          <a:ln w="0">
            <a:noFill/>
          </a:ln>
        </p:spPr>
        <p:txBody>
          <a:bodyPr lIns="138240" rIns="138240" tIns="69840" bIns="698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2057400"/>
                <a:tab algn="l" pos="4114800"/>
                <a:tab algn="l" pos="6172200"/>
                <a:tab algn="l" pos="8229600"/>
                <a:tab algn="l" pos="1028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002360" y="5967000"/>
            <a:ext cx="5689080" cy="2835000"/>
          </a:xfrm>
          <a:prstGeom prst="rect">
            <a:avLst/>
          </a:prstGeom>
          <a:noFill/>
          <a:ln w="0">
            <a:noFill/>
          </a:ln>
        </p:spPr>
        <p:txBody>
          <a:bodyPr lIns="138240" rIns="138240" tIns="69840" bIns="698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2057400"/>
                <a:tab algn="l" pos="4114800"/>
                <a:tab algn="l" pos="6172200"/>
                <a:tab algn="l" pos="8229600"/>
                <a:tab algn="l" pos="1028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4E84-9946-4B06-9C0C-67B1EC73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28520" y="880560"/>
            <a:ext cx="11658600" cy="1651320"/>
          </a:xfrm>
          <a:prstGeom prst="rect">
            <a:avLst/>
          </a:prstGeom>
          <a:noFill/>
          <a:ln w="0">
            <a:noFill/>
          </a:ln>
        </p:spPr>
        <p:txBody>
          <a:bodyPr lIns="138240" rIns="138240" tIns="69840" bIns="69840" anchor="ctr">
            <a:noAutofit/>
          </a:bodyPr>
          <a:p>
            <a:pPr indent="0" algn="ctr">
              <a:buNone/>
              <a:tabLst>
                <a:tab algn="l" pos="0"/>
                <a:tab algn="l" pos="2057400"/>
                <a:tab algn="l" pos="4114800"/>
                <a:tab algn="l" pos="6172200"/>
                <a:tab algn="l" pos="8229600"/>
                <a:tab algn="l" pos="102870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2862360"/>
            <a:ext cx="5689080" cy="2835000"/>
          </a:xfrm>
          <a:prstGeom prst="rect">
            <a:avLst/>
          </a:prstGeom>
          <a:noFill/>
          <a:ln w="0">
            <a:noFill/>
          </a:ln>
        </p:spPr>
        <p:txBody>
          <a:bodyPr lIns="138240" rIns="138240" tIns="69840" bIns="698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2057400"/>
                <a:tab algn="l" pos="4114800"/>
                <a:tab algn="l" pos="6172200"/>
                <a:tab algn="l" pos="8229600"/>
                <a:tab algn="l" pos="1028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002360" y="2862360"/>
            <a:ext cx="5689080" cy="2835000"/>
          </a:xfrm>
          <a:prstGeom prst="rect">
            <a:avLst/>
          </a:prstGeom>
          <a:noFill/>
          <a:ln w="0">
            <a:noFill/>
          </a:ln>
        </p:spPr>
        <p:txBody>
          <a:bodyPr lIns="138240" rIns="138240" tIns="69840" bIns="698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2057400"/>
                <a:tab algn="l" pos="4114800"/>
                <a:tab algn="l" pos="6172200"/>
                <a:tab algn="l" pos="8229600"/>
                <a:tab algn="l" pos="1028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28520" y="5967000"/>
            <a:ext cx="11658600" cy="2835000"/>
          </a:xfrm>
          <a:prstGeom prst="rect">
            <a:avLst/>
          </a:prstGeom>
          <a:noFill/>
          <a:ln w="0">
            <a:noFill/>
          </a:ln>
        </p:spPr>
        <p:txBody>
          <a:bodyPr lIns="138240" rIns="138240" tIns="69840" bIns="698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2057400"/>
                <a:tab algn="l" pos="4114800"/>
                <a:tab algn="l" pos="6172200"/>
                <a:tab algn="l" pos="8229600"/>
                <a:tab algn="l" pos="102870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0CC1-C2BE-40B2-8550-3094E1649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28520" y="880560"/>
            <a:ext cx="11658600" cy="1651320"/>
          </a:xfrm>
          <a:prstGeom prst="rect">
            <a:avLst/>
          </a:prstGeom>
          <a:noFill/>
          <a:ln w="0">
            <a:noFill/>
          </a:ln>
        </p:spPr>
        <p:txBody>
          <a:bodyPr lIns="138240" rIns="138240" tIns="69840" bIns="69840" anchor="ctr">
            <a:noAutofit/>
          </a:bodyPr>
          <a:p>
            <a:pPr indent="0" algn="ctr">
              <a:buNone/>
              <a:tabLst>
                <a:tab algn="l" pos="0"/>
                <a:tab algn="l" pos="2057400"/>
                <a:tab algn="l" pos="4114800"/>
                <a:tab algn="l" pos="6172200"/>
                <a:tab algn="l" pos="8229600"/>
                <a:tab algn="l" pos="102870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28520" y="2862360"/>
            <a:ext cx="11658600" cy="5943600"/>
          </a:xfrm>
          <a:prstGeom prst="rect">
            <a:avLst/>
          </a:prstGeom>
          <a:noFill/>
          <a:ln w="0">
            <a:noFill/>
          </a:ln>
        </p:spPr>
        <p:txBody>
          <a:bodyPr lIns="138240" rIns="138240" tIns="69840" bIns="69840" anchor="t">
            <a:normAutofit fontScale="96000"/>
          </a:bodyPr>
          <a:p>
            <a:pPr marL="493560" indent="-49356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2057400"/>
                <a:tab algn="l" pos="4114800"/>
                <a:tab algn="l" pos="6172200"/>
                <a:tab algn="l" pos="8229600"/>
                <a:tab algn="l" pos="10287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69920" indent="-41148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2057400"/>
                <a:tab algn="l" pos="4114800"/>
                <a:tab algn="l" pos="6172200"/>
                <a:tab algn="l" pos="8229600"/>
                <a:tab algn="l" pos="10287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2" marL="1645920" indent="-32904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2057400"/>
                <a:tab algn="l" pos="4114800"/>
                <a:tab algn="l" pos="6172200"/>
                <a:tab algn="l" pos="8229600"/>
                <a:tab algn="l" pos="10287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3" marL="2304360" indent="-329040">
              <a:spcBef>
                <a:spcPts val="1199"/>
              </a:spcBef>
              <a:buClr>
                <a:srgbClr val="000000"/>
              </a:buClr>
              <a:buFont typeface="Times New Roman"/>
              <a:buChar char="–"/>
              <a:tabLst>
                <a:tab algn="l" pos="2057400"/>
                <a:tab algn="l" pos="4114800"/>
                <a:tab algn="l" pos="6172200"/>
                <a:tab algn="l" pos="8229600"/>
                <a:tab algn="l" pos="10287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4" marL="2962800" indent="-32904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2057400"/>
                <a:tab algn="l" pos="4114800"/>
                <a:tab algn="l" pos="6172200"/>
                <a:tab algn="l" pos="8229600"/>
                <a:tab algn="l" pos="10287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5" marL="2962800" indent="-32904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2057400"/>
                <a:tab algn="l" pos="4114800"/>
                <a:tab algn="l" pos="6172200"/>
                <a:tab algn="l" pos="8229600"/>
                <a:tab algn="l" pos="10287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6" marL="2962800" indent="-32904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2057400"/>
                <a:tab algn="l" pos="4114800"/>
                <a:tab algn="l" pos="6172200"/>
                <a:tab algn="l" pos="8229600"/>
                <a:tab algn="l" pos="10287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28520" y="9024480"/>
            <a:ext cx="2857320" cy="660600"/>
          </a:xfrm>
          <a:prstGeom prst="rect">
            <a:avLst/>
          </a:prstGeom>
          <a:noFill/>
          <a:ln w="0">
            <a:noFill/>
          </a:ln>
        </p:spPr>
        <p:txBody>
          <a:bodyPr lIns="138240" rIns="138240" tIns="69840" bIns="698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2057400"/>
                <a:tab algn="l" pos="4114800"/>
                <a:tab algn="l" pos="6172200"/>
                <a:tab algn="l" pos="8229600"/>
                <a:tab algn="l" pos="10287000"/>
              </a:tabLst>
              <a:defRPr b="0" lang="ja-JP" sz="21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2057400"/>
                <a:tab algn="l" pos="4114800"/>
                <a:tab algn="l" pos="6172200"/>
                <a:tab algn="l" pos="8229600"/>
                <a:tab algn="l" pos="102870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ＭＳ Ｐゴシック"/>
              </a:rPr>
              <a:t>&lt;date/time&gt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86120" y="9024480"/>
            <a:ext cx="4343400" cy="660600"/>
          </a:xfrm>
          <a:prstGeom prst="rect">
            <a:avLst/>
          </a:prstGeom>
          <a:noFill/>
          <a:ln w="0">
            <a:noFill/>
          </a:ln>
        </p:spPr>
        <p:txBody>
          <a:bodyPr lIns="138240" rIns="138240" tIns="69840" bIns="6984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2057400"/>
                <a:tab algn="l" pos="4114800"/>
                <a:tab algn="l" pos="6172200"/>
                <a:tab algn="l" pos="8229600"/>
                <a:tab algn="l" pos="10287000"/>
              </a:tabLst>
              <a:defRPr b="0" lang="ja-JP" sz="21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2057400"/>
                <a:tab algn="l" pos="4114800"/>
                <a:tab algn="l" pos="6172200"/>
                <a:tab algn="l" pos="8229600"/>
                <a:tab algn="l" pos="1028700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ＭＳ Ｐゴシック"/>
              </a:rPr>
              <a:t>&lt;footer&gt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29800" y="9024480"/>
            <a:ext cx="2857680" cy="660600"/>
          </a:xfrm>
          <a:prstGeom prst="rect">
            <a:avLst/>
          </a:prstGeom>
          <a:noFill/>
          <a:ln w="0">
            <a:noFill/>
          </a:ln>
        </p:spPr>
        <p:txBody>
          <a:bodyPr lIns="138240" rIns="138240" tIns="69840" bIns="698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2057400"/>
                <a:tab algn="l" pos="4114800"/>
                <a:tab algn="l" pos="6172200"/>
                <a:tab algn="l" pos="8229600"/>
                <a:tab algn="l" pos="10287000"/>
              </a:tabLst>
              <a:defRPr b="0" lang="ja-JP" sz="21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2057400"/>
                <a:tab algn="l" pos="4114800"/>
                <a:tab algn="l" pos="6172200"/>
                <a:tab algn="l" pos="8229600"/>
                <a:tab algn="l" pos="10287000"/>
              </a:tabLst>
            </a:pPr>
            <a:fld id="{0603B9ED-32C5-461D-AF2B-255DA0E7C53F}" type="slidenum">
              <a:rPr b="0" lang="ja-JP" sz="21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1887200" y="76320"/>
          <a:ext cx="1371600" cy="76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87200" y="76320"/>
                    <a:ext cx="137160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4351320" y="138240"/>
            <a:ext cx="7383600" cy="14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XPRESS-X Mapping langu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ＭＳ Ｐゴシック"/>
              </a:rPr>
              <a:t>Development of Feature Recognition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ＭＳ Ｐゴシック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610480" y="9661680"/>
            <a:ext cx="5105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Contact:inouye@fqs.fujitsu.com                          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ujitsu STEP R&amp;D Center    Aug,20.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0880" y="1066680"/>
          <a:ext cx="11049120" cy="739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1066680"/>
                    <a:ext cx="11049120" cy="739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8305920" y="1179360"/>
          <a:ext cx="5238720" cy="3657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05920" y="1179360"/>
                    <a:ext cx="523872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6120" y="9631440"/>
            <a:ext cx="6336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000000"/>
                </a:solidFill>
                <a:uFillTx/>
                <a:latin typeface="Times New Roman"/>
              </a:rPr>
              <a:t>Fujitsu STEP R&amp;D Center has MOU with EPM Technology A.S for technical cooperation and sa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058400" y="5181480"/>
            <a:ext cx="3505320" cy="4028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95400" indent="-95400">
              <a:lnSpc>
                <a:spcPct val="100000"/>
              </a:lnSpc>
              <a:spcBef>
                <a:spcPts val="113"/>
              </a:spcBef>
              <a:spcAft>
                <a:spcPts val="113"/>
              </a:spcAft>
              <a:buClr>
                <a:srgbClr val="00cc99"/>
              </a:buClr>
              <a:buSzPct val="75000"/>
              <a:buFont typeface="Monotype Sorts" charset="2"/>
              <a:buChar char="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buClr>
                <a:srgbClr val="00cc99"/>
              </a:buClr>
              <a:buSzPct val="75000"/>
              <a:buFont typeface="Monotype Sorts" charset="2"/>
              <a:buChar char="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Feature recognition by Mapping technology using STEP/Express-X is quite useful, and it decreases a lots of coding works because the input is described by STEP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buClr>
                <a:srgbClr val="00cc99"/>
              </a:buClr>
              <a:buSzPct val="75000"/>
              <a:buFont typeface="Monotype Sorts" charset="2"/>
              <a:buChar char="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Features are recognized by two step procedures in the points of schema and geometry.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- Schema investigation(First point)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- Geometry investigation(Second point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buClr>
                <a:srgbClr val="00cc99"/>
              </a:buClr>
              <a:buSzPct val="75000"/>
              <a:buFont typeface="Monotype Sorts" charset="2"/>
              <a:buChar char="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To bush up the recognition level, more improvements testing a many sorts of practical data are necessa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buClr>
                <a:srgbClr val="00cc99"/>
              </a:buClr>
              <a:buSzPct val="75000"/>
              <a:buFont typeface="Monotype Sorts" charset="2"/>
              <a:buChar char="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It seems that ARM like output may be useful than AP224 AIM considering today’s shop environme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123280" y="4876920"/>
            <a:ext cx="1753200" cy="4582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Summery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609480"/>
            <a:ext cx="3733560" cy="5014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95400" indent="-95400">
              <a:lnSpc>
                <a:spcPct val="100000"/>
              </a:lnSpc>
              <a:spcBef>
                <a:spcPts val="113"/>
              </a:spcBef>
              <a:spcAft>
                <a:spcPts val="113"/>
              </a:spcAft>
              <a:buClr>
                <a:srgbClr val="00cc99"/>
              </a:buClr>
              <a:buSzPct val="75000"/>
              <a:buFont typeface="Monotype Sorts" charset="2"/>
              <a:buChar char="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buClr>
                <a:srgbClr val="00cc99"/>
              </a:buClr>
              <a:buSzPct val="75000"/>
              <a:buFont typeface="Monotype Sorts" charset="2"/>
              <a:buChar char="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Most of the commercial CAD system have STEP geometry translators such as AP 203/214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buClr>
                <a:srgbClr val="00cc99"/>
              </a:buClr>
              <a:buSzPct val="75000"/>
              <a:buFont typeface="Monotype Sorts" charset="2"/>
              <a:buChar char="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In these days, the seamless data transfer from geometry to manufacturing becomes hot focus, inspired by such as STEP/NC project. As the key technology, feature recognition from geometry data has an important role in these purpos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buClr>
                <a:srgbClr val="00cc99"/>
              </a:buClr>
              <a:buSzPct val="75000"/>
              <a:buFont typeface="Monotype Sorts" charset="2"/>
              <a:buChar char="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This development is to make STEP/AP224 format data from an input of AP203 recognizing manufacturing features;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- Input    : STEP AP203 File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- Output : STEP AP224 File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- Using STEP/Mapping(EXPRESS-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buClr>
                <a:srgbClr val="00cc99"/>
              </a:buClr>
              <a:buSzPct val="75000"/>
              <a:buFont typeface="Monotype Sorts" charset="2"/>
              <a:buChar char="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Though as feature recognition, GSS in India is famous, the target in this project aims same and/or higher recognition level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buClr>
                <a:srgbClr val="00cc99"/>
              </a:buClr>
              <a:buSzPct val="75000"/>
              <a:buFont typeface="Monotype Sorts" charset="2"/>
              <a:buChar char="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</a:rPr>
              <a:t>The development is also supported by ECOM/JSTEP activit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6095880"/>
            <a:ext cx="3733560" cy="327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82800" bIns="154800" anchor="t">
            <a:spAutoFit/>
          </a:bodyPr>
          <a:p>
            <a:pPr marL="95400" indent="-95400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cc"/>
                </a:solidFill>
                <a:latin typeface="Arial"/>
              </a:rPr>
              <a:t>EXPRESS-X(mapping) makes relationship between a target and a source schema using extended Express language. Using this technology, data translator can be realize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buClr>
                <a:srgbClr val="00cc99"/>
              </a:buClr>
              <a:buSzPct val="75000"/>
              <a:buFont typeface="Monotype Sorts" charset="2"/>
              <a:buChar char="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3333cc"/>
                </a:solidFill>
                <a:latin typeface="Arial"/>
              </a:rPr>
              <a:t>Things to develop are as follows; </a:t>
            </a:r>
            <a:r>
              <a:rPr b="0" lang="ja-JP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ja-JP" sz="1400" spc="-1" strike="noStrike">
                <a:solidFill>
                  <a:srgbClr val="3333cc"/>
                </a:solidFill>
                <a:latin typeface="Arial"/>
              </a:rPr>
              <a:t>- STEP schema</a:t>
            </a:r>
            <a:r>
              <a:rPr b="0" lang="ja-JP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ja-JP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ja-JP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ja-JP" sz="1400" spc="-1" strike="noStrike">
                <a:solidFill>
                  <a:srgbClr val="3333cc"/>
                </a:solidFill>
                <a:latin typeface="Arial"/>
              </a:rPr>
              <a:t>- </a:t>
            </a:r>
            <a:r>
              <a:rPr b="1" lang="ja-JP" sz="1400" spc="-1" strike="noStrike">
                <a:solidFill>
                  <a:srgbClr val="3333cc"/>
                </a:solidFill>
                <a:latin typeface="Arial"/>
              </a:rPr>
              <a:t>AP203-&gt;AP224 mapping schema</a:t>
            </a:r>
            <a:r>
              <a:rPr b="0" lang="ja-JP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ja-JP" sz="14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ja-JP" sz="1400" spc="-1" strike="noStrike">
                <a:solidFill>
                  <a:srgbClr val="3333cc"/>
                </a:solidFill>
                <a:latin typeface="Arial"/>
              </a:rPr>
              <a:t>including Feature Recognition</a:t>
            </a:r>
            <a:r>
              <a:rPr b="0" lang="ja-JP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ja-JP" sz="1400" spc="-1" strike="noStrike">
                <a:solidFill>
                  <a:srgbClr val="3333cc"/>
                </a:solidFill>
                <a:latin typeface="Arial"/>
              </a:rPr>
              <a:t>- STEP Engine (From EP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buClr>
                <a:srgbClr val="00cc99"/>
              </a:buClr>
              <a:buSzPct val="75000"/>
              <a:buFont typeface="Monotype Sorts" charset="2"/>
              <a:buChar char="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3333cc"/>
                </a:solidFill>
                <a:latin typeface="Arial"/>
              </a:rPr>
              <a:t>A commercial EXPRESS-X engines are supplied from STEPtools, Inc(US), PDTech (Germany), EPM(Norway), etc.  And EPM is the leading company in this are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2080" y="304920"/>
            <a:ext cx="1405800" cy="4582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Outlin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5715000"/>
            <a:ext cx="2273400" cy="4582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Configuratio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191120" y="7620120"/>
          <a:ext cx="2895480" cy="2060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91120" y="7620120"/>
                    <a:ext cx="2895480" cy="206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7238880" y="7620120"/>
          <a:ext cx="2743200" cy="2014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238880" y="7620120"/>
                    <a:ext cx="274320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3505320" y="6781680"/>
          <a:ext cx="6324480" cy="27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6781680"/>
                    <a:ext cx="6324480" cy="27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9372600" y="3505320"/>
          <a:ext cx="4059360" cy="472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372600" y="3505320"/>
                    <a:ext cx="40593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7238880" y="762120"/>
          <a:ext cx="6229440" cy="2600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238880" y="762120"/>
                    <a:ext cx="6229440" cy="26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6705720" y="1295280"/>
          <a:ext cx="3701880" cy="4724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05720" y="1295280"/>
                    <a:ext cx="370188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11887200" y="76320"/>
          <a:ext cx="1371600" cy="761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887200" y="76320"/>
                    <a:ext cx="137160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3886200" y="0"/>
            <a:ext cx="7467480" cy="12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Using STEP AP224/AP2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 u="sng">
                <a:solidFill>
                  <a:srgbClr val="000000"/>
                </a:solidFill>
                <a:uFillTx/>
                <a:latin typeface="ＭＳ Ｐゴシック"/>
              </a:rPr>
              <a:t>STEP based Computer Aided Process Plann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220320" y="9661680"/>
            <a:ext cx="4495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Contact:inouye@fqs.fujitsu.com           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Fujitsu STEP R&amp;D Center    Jul,02.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00" y="9631440"/>
            <a:ext cx="54259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000000"/>
                </a:solidFill>
                <a:uFillTx/>
                <a:latin typeface="Times New Roman"/>
              </a:rPr>
              <a:t>This project is held under the assistance of MER supported by the ECOM and MS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334120" y="1676520"/>
          <a:ext cx="3747960" cy="4800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334120" y="1676520"/>
                    <a:ext cx="374796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3429000" y="2057400"/>
          <a:ext cx="3780000" cy="4648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429000" y="2057400"/>
                    <a:ext cx="37800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228600" y="685800"/>
            <a:ext cx="3733920" cy="4668120"/>
          </a:xfrm>
          <a:prstGeom prst="rect">
            <a:avLst/>
          </a:prstGeom>
          <a:solidFill>
            <a:srgbClr val="ccffff">
              <a:alpha val="5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95400" indent="-95400">
              <a:lnSpc>
                <a:spcPct val="100000"/>
              </a:lnSpc>
              <a:spcBef>
                <a:spcPts val="113"/>
              </a:spcBef>
              <a:spcAft>
                <a:spcPts val="113"/>
              </a:spcAft>
              <a:buClr>
                <a:srgbClr val="00cc99"/>
              </a:buClr>
              <a:buSzPct val="75000"/>
              <a:buFont typeface="Monotype Sorts" charset="2"/>
              <a:buChar char="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buClr>
                <a:srgbClr val="00cc99"/>
              </a:buClr>
              <a:buSzPct val="75000"/>
              <a:buFont typeface="Monotype Sorts" charset="2"/>
              <a:buChar char="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ffffff"/>
                </a:solidFill>
                <a:latin typeface="Arial"/>
              </a:rPr>
              <a:t>SCAPP </a:t>
            </a:r>
            <a:r>
              <a:rPr b="1" i="1" lang="ja-JP" sz="1400" spc="-1" strike="noStrike">
                <a:solidFill>
                  <a:srgbClr val="ffffff"/>
                </a:solidFill>
                <a:latin typeface="Arial"/>
              </a:rPr>
              <a:t>Step based Computer Aided Process Planning</a:t>
            </a:r>
            <a:r>
              <a:rPr b="0" lang="ja-JP" sz="1400" spc="-1" strike="noStrike">
                <a:solidFill>
                  <a:srgbClr val="ffffff"/>
                </a:solidFill>
                <a:latin typeface="Arial"/>
              </a:rPr>
              <a:t> system is developped how the STEP AP will contribute in manufacturing through desig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buClr>
                <a:srgbClr val="00cc99"/>
              </a:buClr>
              <a:buSzPct val="75000"/>
              <a:buFont typeface="Monotype Sorts" charset="2"/>
              <a:buChar char="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ffffff"/>
                </a:solidFill>
                <a:latin typeface="Arial"/>
              </a:rPr>
              <a:t>The system receives a Step file containing feature definitions,i.e AP224 file, and create process planning definition according to the AP240 specification. The system makes guidance for interactive </a:t>
            </a:r>
            <a:r>
              <a:rPr b="0" i="1" lang="ja-JP" sz="1400" spc="-1" strike="noStrike">
                <a:solidFill>
                  <a:srgbClr val="ffffff"/>
                </a:solidFill>
                <a:latin typeface="Arial"/>
              </a:rPr>
              <a:t>macro process planning</a:t>
            </a:r>
            <a:r>
              <a:rPr b="0" lang="ja-JP" sz="1400" spc="-1" strike="noStrike">
                <a:solidFill>
                  <a:srgbClr val="ffffff"/>
                </a:solidFill>
                <a:latin typeface="Arial"/>
              </a:rPr>
              <a:t>, and generates </a:t>
            </a:r>
            <a:r>
              <a:rPr b="0" i="1" lang="ja-JP" sz="1400" spc="-1" strike="noStrike">
                <a:solidFill>
                  <a:srgbClr val="ffffff"/>
                </a:solidFill>
                <a:latin typeface="Arial"/>
              </a:rPr>
              <a:t>micro process planning</a:t>
            </a:r>
            <a:r>
              <a:rPr b="0" lang="ja-JP" sz="1400" spc="-1" strike="noStrike">
                <a:solidFill>
                  <a:srgbClr val="ffffff"/>
                </a:solidFill>
                <a:latin typeface="Arial"/>
              </a:rPr>
              <a:t>, automatically,referencing the Manufacturing Technology Databas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buClr>
                <a:srgbClr val="00cc99"/>
              </a:buClr>
              <a:buSzPct val="75000"/>
              <a:buFont typeface="Monotype Sorts" charset="2"/>
              <a:buChar char="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ffffff"/>
                </a:solidFill>
                <a:latin typeface="Arial"/>
              </a:rPr>
              <a:t>The feature defined int AP224 step file is created by automatic </a:t>
            </a:r>
            <a:r>
              <a:rPr b="0" i="1" lang="ja-JP" sz="1400" spc="-1" strike="noStrike">
                <a:solidFill>
                  <a:srgbClr val="ffffff"/>
                </a:solidFill>
                <a:latin typeface="Arial"/>
              </a:rPr>
              <a:t>feature recognition</a:t>
            </a:r>
            <a:r>
              <a:rPr b="0" lang="ja-JP" sz="1400" spc="-1" strike="noStrike">
                <a:solidFill>
                  <a:srgbClr val="ffffff"/>
                </a:solidFill>
                <a:latin typeface="Arial"/>
              </a:rPr>
              <a:t> from geometry data in Step AP203/214 fi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buClr>
                <a:srgbClr val="00cc99"/>
              </a:buClr>
              <a:buSzPct val="75000"/>
              <a:buFont typeface="Monotype Sorts" charset="2"/>
              <a:buChar char="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ja-JP" sz="1400" spc="-1" strike="noStrike">
                <a:solidFill>
                  <a:srgbClr val="ffffff"/>
                </a:solidFill>
                <a:latin typeface="Arial"/>
              </a:rPr>
              <a:t>Feature based Manufacturing Technology Database</a:t>
            </a:r>
            <a:r>
              <a:rPr b="0" lang="ja-JP" sz="1400" spc="-1" strike="noStrike">
                <a:solidFill>
                  <a:srgbClr val="ffffff"/>
                </a:solidFill>
                <a:latin typeface="Arial"/>
              </a:rPr>
              <a:t> contains the data of cutting tools, workingsteps and realationships between feature and workingste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5760" y="380880"/>
            <a:ext cx="1405800" cy="4582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Outlin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5715000"/>
            <a:ext cx="3733920" cy="3834360"/>
          </a:xfrm>
          <a:prstGeom prst="rect">
            <a:avLst/>
          </a:prstGeom>
          <a:solidFill>
            <a:srgbClr val="ccffff">
              <a:alpha val="5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82800" bIns="154800" anchor="t">
            <a:spAutoFit/>
          </a:bodyPr>
          <a:p>
            <a:pPr marL="95400" indent="-95400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buClr>
                <a:srgbClr val="00cc99"/>
              </a:buClr>
              <a:buSzPct val="75000"/>
              <a:buFont typeface="Monotype Sorts" charset="2"/>
              <a:buChar char="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ffffff"/>
                </a:solidFill>
                <a:latin typeface="Arial"/>
              </a:rPr>
              <a:t>The system, for the first time, creates "feature dependency" for the basic plane to support feature assignment at the every proces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buClr>
                <a:srgbClr val="00cc99"/>
              </a:buClr>
              <a:buSzPct val="75000"/>
              <a:buFont typeface="Monotype Sorts" charset="2"/>
              <a:buChar char="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ffffff"/>
                </a:solidFill>
                <a:latin typeface="Arial"/>
              </a:rPr>
              <a:t>The system shows every candidate feature depending on the target plane for interactive macro process planni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buClr>
                <a:srgbClr val="00cc99"/>
              </a:buClr>
              <a:buSzPct val="75000"/>
              <a:buFont typeface="Monotype Sorts" charset="2"/>
              <a:buChar char="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ffffff"/>
                </a:solidFill>
                <a:latin typeface="Arial"/>
              </a:rPr>
              <a:t>The system, as micro process planning,  automatically decides a workingstep for each feature assigned according to the definition of Feature based Manufacturing Technology Databas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buClr>
                <a:srgbClr val="00cc99"/>
              </a:buClr>
              <a:buSzPct val="75000"/>
              <a:buFont typeface="Monotype Sorts" charset="2"/>
              <a:buChar char="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ja-JP" sz="1400" spc="-1" strike="noStrike">
                <a:solidFill>
                  <a:srgbClr val="ffffff"/>
                </a:solidFill>
                <a:latin typeface="Arial"/>
              </a:rPr>
              <a:t>The system maps AP240 schema and create Step file using STEP/Express-X mapping language.</a:t>
            </a:r>
            <a:r>
              <a:rPr b="0" lang="ja-JP" sz="1400" spc="-1" strike="noStrike">
                <a:solidFill>
                  <a:srgbClr val="3333cc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17520" y="5410080"/>
            <a:ext cx="1600920" cy="4582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Featur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047840" y="1219320"/>
            <a:ext cx="11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Impact"/>
              </a:rPr>
              <a:t>SCA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6120" y="8381880"/>
            <a:ext cx="3504960" cy="1284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95400" indent="-95400">
              <a:lnSpc>
                <a:spcPct val="100000"/>
              </a:lnSpc>
              <a:spcBef>
                <a:spcPts val="113"/>
              </a:spcBef>
              <a:spcAft>
                <a:spcPts val="113"/>
              </a:spcAft>
              <a:buClr>
                <a:srgbClr val="00cc99"/>
              </a:buClr>
              <a:buSzPct val="75000"/>
              <a:buFont typeface="Monotype Sorts" charset="2"/>
              <a:buChar char="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524"/>
              </a:spcBef>
              <a:spcAft>
                <a:spcPts val="524"/>
              </a:spcAft>
              <a:buClr>
                <a:srgbClr val="00cc99"/>
              </a:buClr>
              <a:buSzPct val="75000"/>
              <a:buFont typeface="Monotype Sorts" charset="2"/>
              <a:buChar char=""/>
              <a:tabLst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i="1" lang="ja-JP" sz="1400" spc="-1" strike="noStrike">
                <a:solidFill>
                  <a:srgbClr val="3333cc"/>
                </a:solidFill>
                <a:latin typeface="Arial"/>
              </a:rPr>
              <a:t>Step based Computer Aided Process Planning</a:t>
            </a:r>
            <a:r>
              <a:rPr b="0" lang="ja-JP" sz="1400" spc="-1" strike="noStrike">
                <a:solidFill>
                  <a:srgbClr val="3333cc"/>
                </a:solidFill>
                <a:latin typeface="Arial"/>
              </a:rPr>
              <a:t> has proved that the Step data can contribute seamless migration between design and manufacturing  throughout the all stage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820520" y="8077320"/>
            <a:ext cx="1749240" cy="4582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ja-JP" sz="2400" spc="-1" strike="noStrike">
                <a:solidFill>
                  <a:srgbClr val="ffffff"/>
                </a:solidFill>
                <a:latin typeface="Times New Roman"/>
              </a:rPr>
              <a:t>Summery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マイクロソフト株式会社</dc:creator>
  <dc:description/>
  <dc:language>en-US</dc:language>
  <cp:lastModifiedBy>TINOUYE</cp:lastModifiedBy>
  <cp:lastPrinted>2001-10-29T08:52:43Z</cp:lastPrinted>
  <dcterms:modified xsi:type="dcterms:W3CDTF">2004-07-08T12:07:42Z</dcterms:modified>
  <cp:revision>229</cp:revision>
  <dc:subject/>
  <dc:title>ｽﾗｲﾄﾞ ﾀｲﾄﾙなし</dc:title>
</cp:coreProperties>
</file>