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png" ContentType="image/png"/>
  <Override PartName="/ppt/media/image8.wmf" ContentType="image/x-wmf"/>
  <Override PartName="/ppt/media/image13.png" ContentType="image/png"/>
  <Override PartName="/ppt/media/image12.jpeg" ContentType="image/jpeg"/>
  <Override PartName="/ppt/media/image19.jpeg" ContentType="image/jpeg"/>
  <Override PartName="/ppt/media/image5.png" ContentType="image/png"/>
  <Override PartName="/ppt/media/image18.png" ContentType="image/png"/>
  <Override PartName="/ppt/media/image15.jpeg" ContentType="image/jpeg"/>
  <Override PartName="/ppt/media/image17.png" ContentType="image/png"/>
  <Override PartName="/ppt/media/image16.jpeg" ContentType="image/jpeg"/>
  <Override PartName="/ppt/media/image14.png" ContentType="image/png"/>
  <Override PartName="/ppt/media/image1.wmf" ContentType="image/x-wmf"/>
  <Override PartName="/ppt/media/image2.wmf" ContentType="image/x-wmf"/>
  <Override PartName="/ppt/media/image4.png" ContentType="image/png"/>
  <Override PartName="/ppt/media/image6.png" ContentType="image/png"/>
  <Override PartName="/ppt/media/image10.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GB" sz="1200" spc="-1" strike="noStrike">
                <a:solidFill>
                  <a:srgbClr val="ffff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GB" sz="1200" spc="-1" strike="noStrike">
                <a:solidFill>
                  <a:srgbClr val="ffff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GB" sz="1200" spc="-1" strike="noStrike">
                <a:solidFill>
                  <a:srgbClr val="ffff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74320" y="695160"/>
            <a:ext cx="4635720" cy="3476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lick to move the slide</a:t>
            </a:r>
            <a:endParaRPr b="0" lang="en-US" sz="4400" spc="-1" strike="noStrike">
              <a:solidFill>
                <a:srgbClr val="cc3300"/>
              </a:solidFill>
              <a:latin typeface="Times New Roman"/>
            </a:endParaRPr>
          </a:p>
        </p:txBody>
      </p:sp>
      <p:sp>
        <p:nvSpPr>
          <p:cNvPr id="48" name="PlaceHolder 4"/>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807400"/>
            <a:ext cx="3027240" cy="463680"/>
          </a:xfrm>
          <a:prstGeom prst="rect">
            <a:avLst/>
          </a:prstGeom>
          <a:noFill/>
          <a:ln w="0">
            <a:noFill/>
          </a:ln>
        </p:spPr>
        <p:txBody>
          <a:bodyPr lIns="92880" rIns="92880" tIns="46440" bIns="46440" anchor="b">
            <a:noAutofit/>
          </a:bodyPr>
          <a:lstStyle>
            <a:lvl1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GB" sz="1200" spc="-1" strike="noStrike">
                <a:solidFill>
                  <a:srgbClr val="ffff00"/>
                </a:solidFill>
                <a:latin typeface="Times New Roman"/>
              </a:defRPr>
            </a:lvl1pPr>
          </a:lstStyle>
          <a:p>
            <a:pPr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GB" sz="1200" spc="-1" strike="noStrike">
                <a:solidFill>
                  <a:srgbClr val="ffff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957480" y="8807400"/>
            <a:ext cx="302760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GB" sz="1200" spc="-1" strike="noStrike">
                <a:solidFill>
                  <a:srgbClr val="ffff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A0AB1AC-7F9A-4E26-90CC-01C555D9573E}" type="slidenum">
              <a:rPr b="0" lang="en-GB" sz="1200" spc="-1" strike="noStrike">
                <a:solidFill>
                  <a:srgbClr val="fff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74680" y="695160"/>
            <a:ext cx="4635720" cy="3476880"/>
          </a:xfrm>
          <a:prstGeom prst="rect">
            <a:avLst/>
          </a:prstGeom>
          <a:ln w="0">
            <a:noFill/>
          </a:ln>
        </p:spPr>
      </p:sp>
      <p:sp>
        <p:nvSpPr>
          <p:cNvPr id="171"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S will outline the contract environment under which we set up the RAMP Pi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C will then outline the details of how RAMP works, the use of STEP as the key enabler for it, and some of the issues which had to be over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S will then summarise with lessons learnt, and take question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74680" y="695160"/>
            <a:ext cx="4635720" cy="3476880"/>
          </a:xfrm>
          <a:prstGeom prst="rect">
            <a:avLst/>
          </a:prstGeom>
          <a:ln w="0">
            <a:noFill/>
          </a:ln>
        </p:spPr>
      </p:sp>
      <p:sp>
        <p:nvSpPr>
          <p:cNvPr id="173" name="PlaceHolder 2"/>
          <p:cNvSpPr>
            <a:spLocks noGrp="1"/>
          </p:cNvSpPr>
          <p:nvPr>
            <p:ph type="body"/>
          </p:nvPr>
        </p:nvSpPr>
        <p:spPr>
          <a:xfrm>
            <a:off x="931680" y="4403880"/>
            <a:ext cx="5121000" cy="41716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AMP manufacture is conducted with the same material allocation, processing, machines.  The main change is in the time between receipt of an order and being able to start manufacture.  All of the design information is available, it needs to be prepared as current manufacturing procedures.  This is the RAMP bi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1067CA-4EF0-4520-B19B-B45C08D34C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8A0A8-B1E3-4A2F-A268-901046CE9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1FE25-68BB-4524-B25B-4D25B7751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7C5EC-A97F-470C-89BD-3EACCD281A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59330-49C5-4309-B48A-CB4DDDE68F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B7B80D-F072-432B-9343-9D6770311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91EFB1-B505-4BC4-A591-B85B73CA1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F5AFDE-F736-42F2-A246-C8CE0516B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8B0C3B-3810-4A79-B050-B811A4258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97A0E-F206-43A1-90ED-EA4F83B0A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7BC52-4ECA-4AC2-817B-EEBC8B7EE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82DD0-45A3-4C94-ACF6-0DC63CD2C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lick to edit the title text format</a:t>
            </a:r>
            <a:endParaRPr b="0" lang="en-US" sz="4400" spc="-1" strike="noStrike">
              <a:solidFill>
                <a:srgbClr val="cc33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lick to edit the outline text format</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cond Outline Level</a:t>
            </a:r>
            <a:endParaRPr b="0" lang="en-US" sz="2400" spc="-1" strike="noStrike">
              <a:solidFill>
                <a:srgbClr val="ffff00"/>
              </a:solidFill>
              <a:latin typeface="Times New Roman"/>
            </a:endParaRPr>
          </a:p>
          <a:p>
            <a:pPr lvl="2" marL="1143000" indent="-2286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rd Outline Level</a:t>
            </a:r>
            <a:endParaRPr b="0" lang="en-US" sz="2400" spc="-1" strike="noStrike">
              <a:solidFill>
                <a:srgbClr val="ffff00"/>
              </a:solidFill>
              <a:latin typeface="Times New Roman"/>
            </a:endParaRPr>
          </a:p>
          <a:p>
            <a:pPr lvl="3" marL="1600200" indent="-2286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urth Outline Level</a:t>
            </a:r>
            <a:endParaRPr b="0" lang="en-US" sz="2400" spc="-1" strike="noStrike">
              <a:solidFill>
                <a:srgbClr val="ffff00"/>
              </a:solidFill>
              <a:latin typeface="Times New Roman"/>
            </a:endParaRPr>
          </a:p>
          <a:p>
            <a:pPr lvl="4" marL="2057400" indent="-2286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ifth Outline Level</a:t>
            </a:r>
            <a:endParaRPr b="0" lang="en-US" sz="2400" spc="-1" strike="noStrike">
              <a:solidFill>
                <a:srgbClr val="ffff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ixth Outline Level</a:t>
            </a:r>
            <a:endParaRPr b="0" lang="en-US" sz="2400" spc="-1" strike="noStrike">
              <a:solidFill>
                <a:srgbClr val="ffff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eventh Outline Level</a:t>
            </a:r>
            <a:endParaRPr b="0" lang="en-US" sz="24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00BF0-7A55-452F-90F0-8879F7AE32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0" y="0"/>
            <a:ext cx="9150480" cy="6865920"/>
          </a:xfrm>
          <a:prstGeom prst="rect">
            <a:avLst/>
          </a:prstGeom>
          <a:ln w="0">
            <a:noFill/>
          </a:ln>
        </p:spPr>
      </p:pic>
      <p:pic>
        <p:nvPicPr>
          <p:cNvPr id="6" name="" descr=""/>
          <p:cNvPicPr/>
          <p:nvPr/>
        </p:nvPicPr>
        <p:blipFill>
          <a:blip r:embed="rId3"/>
          <a:stretch/>
        </p:blipFill>
        <p:spPr>
          <a:xfrm>
            <a:off x="228600" y="228600"/>
            <a:ext cx="2209680" cy="609480"/>
          </a:xfrm>
          <a:prstGeom prst="rect">
            <a:avLst/>
          </a:prstGeom>
          <a:ln w="0">
            <a:noFill/>
          </a:ln>
        </p:spPr>
      </p:pic>
      <p:pic>
        <p:nvPicPr>
          <p:cNvPr id="7" name="" descr=""/>
          <p:cNvPicPr/>
          <p:nvPr/>
        </p:nvPicPr>
        <p:blipFill>
          <a:blip r:embed="rId4"/>
          <a:stretch/>
        </p:blipFill>
        <p:spPr>
          <a:xfrm>
            <a:off x="7010280" y="228600"/>
            <a:ext cx="1928880" cy="70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lsc.co.uk/downloads/ramp2.pdf" TargetMode="External"/><Relationship Id="rId2" Type="http://schemas.openxmlformats.org/officeDocument/2006/relationships/hyperlink" Target="http://www.lsc.co.uk/downloads/ramp2.pdf" TargetMode="Externa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jpeg"/><Relationship Id="rId9" Type="http://schemas.openxmlformats.org/officeDocument/2006/relationships/slideLayout" Target="../slideLayouts/slideLayout5.xml"/><Relationship Id="rId10"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UK initiative with RAMP</a:t>
            </a:r>
            <a:endParaRPr b="0" lang="en-US" sz="4400" spc="-1" strike="noStrike">
              <a:solidFill>
                <a:srgbClr val="cc33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Alan Crawford  alc@lsc.co.uk</a:t>
            </a:r>
            <a:endParaRPr b="0"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Team Leader, Advanced Manufacturing</a:t>
            </a:r>
            <a:endParaRPr b="0"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 </a:t>
            </a:r>
            <a:r>
              <a:rPr b="0" lang="en-GB" sz="2400" spc="-1" strike="noStrike">
                <a:solidFill>
                  <a:srgbClr val="ffff00"/>
                </a:solidFill>
                <a:latin typeface="Times New Roman"/>
              </a:rPr>
              <a:t>LSC Group</a:t>
            </a:r>
            <a:endParaRPr b="0"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00"/>
                </a:solidFill>
                <a:latin typeface="Times New Roman"/>
              </a:rPr>
              <a:t>Additional slides  from Dan Smith</a:t>
            </a:r>
            <a:endParaRPr b="0" lang="en-US" sz="2400" spc="-1" strike="noStrike">
              <a:solidFill>
                <a:srgbClr val="ffff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00"/>
                </a:solidFill>
                <a:latin typeface="Times New Roman"/>
              </a:rPr>
              <a:t>Team Leader, Marine Auxiliary Systems IPT</a:t>
            </a:r>
            <a:br>
              <a:rPr sz="2400"/>
            </a:b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6091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Background to DML RAMP pilot</a:t>
            </a:r>
            <a:endParaRPr b="0" lang="en-US" sz="4400" spc="-1" strike="noStrike">
              <a:solidFill>
                <a:srgbClr val="cc3300"/>
              </a:solidFill>
              <a:latin typeface="Times New Roman"/>
            </a:endParaRPr>
          </a:p>
        </p:txBody>
      </p:sp>
      <p:sp>
        <p:nvSpPr>
          <p:cNvPr id="79"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RAMP white paper</a:t>
            </a:r>
            <a:br>
              <a:rPr sz="2400"/>
            </a:br>
            <a:r>
              <a:rPr b="0" lang="en-GB" sz="2400" spc="-1" strike="noStrike">
                <a:solidFill>
                  <a:srgbClr val="ffff00"/>
                </a:solidFill>
                <a:latin typeface="Times New Roman"/>
              </a:rPr>
              <a:t>	</a:t>
            </a:r>
            <a:r>
              <a:rPr b="0" lang="en-GB" sz="2400" spc="-1" strike="noStrike">
                <a:solidFill>
                  <a:srgbClr val="ffff00"/>
                </a:solidFill>
                <a:latin typeface="Times New Roman"/>
              </a:rPr>
              <a:t> </a:t>
            </a:r>
            <a:r>
              <a:rPr b="0" lang="en-GB" sz="2400" spc="-1" strike="noStrike" u="sng">
                <a:solidFill>
                  <a:srgbClr val="ccccff"/>
                </a:solidFill>
                <a:uFillTx/>
                <a:latin typeface="Times New Roman"/>
                <a:hlinkClick r:id="rId1"/>
              </a:rPr>
              <a:t>http://www.lsc.co.uk/downloads/ramp2.</a:t>
            </a:r>
            <a:r>
              <a:rPr b="0" lang="en-GB" sz="2400" spc="-1" strike="noStrike" u="sng">
                <a:solidFill>
                  <a:srgbClr val="ccccff"/>
                </a:solidFill>
                <a:uFillTx/>
                <a:latin typeface="Times New Roman"/>
                <a:hlinkClick r:id="rId2"/>
              </a:rPr>
              <a:t>pdf</a:t>
            </a:r>
            <a:r>
              <a:rPr b="0" lang="en-GB" sz="2400" spc="-1" strike="noStrike">
                <a:solidFill>
                  <a:srgbClr val="ffff00"/>
                </a:solidFill>
                <a:latin typeface="Times New Roman"/>
              </a:rPr>
              <a:t> </a:t>
            </a:r>
            <a:endParaRPr b="0" lang="en-US" sz="2400" spc="-1" strike="noStrike">
              <a:solidFill>
                <a:srgbClr val="ffff00"/>
              </a:solidFill>
              <a:latin typeface="Times New Roman"/>
            </a:endParaRPr>
          </a:p>
          <a:p>
            <a:pPr marL="291600" indent="-2916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UK Navy RAMP Project</a:t>
            </a:r>
            <a:endParaRPr b="0" lang="en-US" sz="2400" spc="-1" strike="noStrike">
              <a:solidFill>
                <a:srgbClr val="ffff00"/>
              </a:solidFill>
              <a:latin typeface="Times New Roman"/>
            </a:endParaRPr>
          </a:p>
          <a:p>
            <a:pPr lvl="1" marL="631440" indent="-2426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Trial representation of ~600 items in AP224</a:t>
            </a:r>
            <a:endParaRPr b="0" lang="en-US" sz="2400" spc="-1" strike="noStrike">
              <a:solidFill>
                <a:srgbClr val="ffff00"/>
              </a:solidFill>
              <a:latin typeface="Times New Roman"/>
            </a:endParaRPr>
          </a:p>
          <a:p>
            <a:pPr lvl="1" marL="631440" indent="-2426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Trial of manufacture by two defence suppliers</a:t>
            </a:r>
            <a:endParaRPr b="0" lang="en-US" sz="2400" spc="-1" strike="noStrike">
              <a:solidFill>
                <a:srgbClr val="ffff00"/>
              </a:solidFill>
              <a:latin typeface="Times New Roman"/>
            </a:endParaRPr>
          </a:p>
          <a:p>
            <a:pPr marL="291600" indent="-2916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Mechanical RAMPability Analysis of the Naval Spares Inventory</a:t>
            </a:r>
            <a:endParaRPr b="0" lang="en-US" sz="2400" spc="-1" strike="noStrike">
              <a:solidFill>
                <a:srgbClr val="ffff00"/>
              </a:solidFill>
              <a:latin typeface="Times New Roman"/>
            </a:endParaRPr>
          </a:p>
          <a:p>
            <a:pPr lvl="1" marL="631440" indent="-2426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Evaluation of applicability of RAMP to the UK Navy</a:t>
            </a:r>
            <a:endParaRPr b="0" lang="en-US" sz="2400" spc="-1" strike="noStrike">
              <a:solidFill>
                <a:srgbClr val="ffff00"/>
              </a:solidFill>
              <a:latin typeface="Times New Roman"/>
            </a:endParaRPr>
          </a:p>
          <a:p>
            <a:pPr marL="291600" indent="-2916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DML RAMP Evaluation Project</a:t>
            </a:r>
            <a:endParaRPr b="0" lang="en-US" sz="2400" spc="-1" strike="noStrike">
              <a:solidFill>
                <a:srgbClr val="ffff00"/>
              </a:solidFill>
              <a:latin typeface="Times New Roman"/>
            </a:endParaRPr>
          </a:p>
          <a:p>
            <a:pPr lvl="1" marL="631440" indent="-2426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Comparative productivity matrix</a:t>
            </a:r>
            <a:endParaRPr b="0" lang="en-US" sz="2400" spc="-1" strike="noStrike">
              <a:solidFill>
                <a:srgbClr val="ffff00"/>
              </a:solidFill>
              <a:latin typeface="Times New Roman"/>
            </a:endParaRPr>
          </a:p>
          <a:p>
            <a:pPr marL="291600" indent="-2916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ubmarine Legacy Spares</a:t>
            </a:r>
            <a:endParaRPr b="0" lang="en-US" sz="2400" spc="-1" strike="noStrike">
              <a:solidFill>
                <a:srgbClr val="ffff00"/>
              </a:solidFill>
              <a:latin typeface="Times New Roman"/>
            </a:endParaRPr>
          </a:p>
          <a:p>
            <a:pPr lvl="1" marL="631440" indent="-2426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Pre contract estimates of technical applicability</a:t>
            </a:r>
            <a:endParaRPr b="0" lang="en-US" sz="2400" spc="-1" strike="noStrike">
              <a:solidFill>
                <a:srgbClr val="ffff00"/>
              </a:solidFill>
              <a:latin typeface="Times New Roman"/>
            </a:endParaRPr>
          </a:p>
          <a:p>
            <a:pPr lvl="1" marL="631440" indent="-2426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Project Definition Study</a:t>
            </a:r>
            <a:endParaRPr b="0" lang="en-US" sz="2400" spc="-1" strike="noStrike">
              <a:solidFill>
                <a:srgbClr val="ffff00"/>
              </a:solidFill>
              <a:latin typeface="Times New Roman"/>
            </a:endParaRPr>
          </a:p>
          <a:p>
            <a:pPr lvl="1" marL="631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2916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SLSC Project Definition Study</a:t>
            </a:r>
            <a:endParaRPr b="0" lang="en-US" sz="4400" spc="-1" strike="noStrike">
              <a:solidFill>
                <a:srgbClr val="cc33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Identify range of items suitabl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Review impact of RAMP</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Costs of preparing STEP files</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Relative costs of manufacture</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Relative stock-holding cost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Prepare a cost benefit analysi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Prepare operating procedures</a:t>
            </a:r>
            <a:endParaRPr b="0" lang="en-US" sz="2400" spc="-1" strike="noStrike">
              <a:solidFill>
                <a:srgbClr val="ffff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Item selection process</a:t>
            </a:r>
            <a:endParaRPr b="0" lang="en-US" sz="4400" spc="-1" strike="noStrike">
              <a:solidFill>
                <a:srgbClr val="cc3300"/>
              </a:solidFill>
              <a:latin typeface="Times New Roman"/>
            </a:endParaRPr>
          </a:p>
        </p:txBody>
      </p:sp>
      <p:sp>
        <p:nvSpPr>
          <p:cNvPr id="83"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Identify items for maximum automation</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Examination of sample items</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Determine design and manufacturing complexity</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elect based upon Item Name Cod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Verify that stocks can be effectively used during the SLSC</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Forecast Demand Rate and stock level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Ensure design information for item is available</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Identified from part number or previous supplier</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Remove proprietary items</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6091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Technical Item Selection process</a:t>
            </a:r>
            <a:endParaRPr b="0" lang="en-US" sz="4400" spc="-1" strike="noStrike">
              <a:solidFill>
                <a:srgbClr val="cc3300"/>
              </a:solidFill>
              <a:latin typeface="Times New Roman"/>
            </a:endParaRPr>
          </a:p>
        </p:txBody>
      </p:sp>
      <p:sp>
        <p:nvSpPr>
          <p:cNvPr id="85" name=""/>
          <p:cNvSpPr/>
          <p:nvPr/>
        </p:nvSpPr>
        <p:spPr>
          <a:xfrm>
            <a:off x="1895400" y="62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 name="decomposition" descr=""/>
          <p:cNvPicPr/>
          <p:nvPr/>
        </p:nvPicPr>
        <p:blipFill>
          <a:blip r:embed="rId1"/>
          <a:srcRect l="-2096" t="-19901" r="-2096" b="-3974"/>
          <a:stretch/>
        </p:blipFill>
        <p:spPr>
          <a:xfrm>
            <a:off x="914400" y="-104760"/>
            <a:ext cx="6754680" cy="7067520"/>
          </a:xfrm>
          <a:prstGeom prst="rect">
            <a:avLst/>
          </a:prstGeom>
          <a:ln w="0">
            <a:noFill/>
          </a:ln>
        </p:spPr>
      </p:pic>
      <p:sp>
        <p:nvSpPr>
          <p:cNvPr id="87" name=""/>
          <p:cNvSpPr/>
          <p:nvPr/>
        </p:nvSpPr>
        <p:spPr>
          <a:xfrm>
            <a:off x="4572000" y="342900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21,641 valid INC in ISIS</a:t>
            </a:r>
            <a:endParaRPr b="0" lang="en-US" sz="2800" spc="-1" strike="noStrike">
              <a:solidFill>
                <a:srgbClr val="000000"/>
              </a:solidFill>
              <a:latin typeface="Times New Roman"/>
            </a:endParaRPr>
          </a:p>
        </p:txBody>
      </p:sp>
      <p:sp>
        <p:nvSpPr>
          <p:cNvPr id="88" name=""/>
          <p:cNvSpPr/>
          <p:nvPr/>
        </p:nvSpPr>
        <p:spPr>
          <a:xfrm>
            <a:off x="4952880" y="441972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2,725 complex</a:t>
            </a:r>
            <a:endParaRPr b="0" lang="en-US" sz="2800" spc="-1" strike="noStrike">
              <a:solidFill>
                <a:srgbClr val="000000"/>
              </a:solidFill>
              <a:latin typeface="Times New Roman"/>
            </a:endParaRPr>
          </a:p>
        </p:txBody>
      </p:sp>
      <p:sp>
        <p:nvSpPr>
          <p:cNvPr id="89" name=""/>
          <p:cNvSpPr/>
          <p:nvPr/>
        </p:nvSpPr>
        <p:spPr>
          <a:xfrm>
            <a:off x="5638680" y="60958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8,920 simple</a:t>
            </a:r>
            <a:endParaRPr b="0" lang="en-US" sz="2800" spc="-1" strike="noStrike">
              <a:solidFill>
                <a:srgbClr val="000000"/>
              </a:solidFill>
              <a:latin typeface="Times New Roman"/>
            </a:endParaRPr>
          </a:p>
        </p:txBody>
      </p:sp>
      <p:sp>
        <p:nvSpPr>
          <p:cNvPr id="90" name=""/>
          <p:cNvSpPr/>
          <p:nvPr/>
        </p:nvSpPr>
        <p:spPr>
          <a:xfrm>
            <a:off x="0" y="457200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17,681 not grad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Demand Rate Item Selection</a:t>
            </a:r>
            <a:endParaRPr b="0" lang="en-US" sz="4400" spc="-1" strike="noStrike">
              <a:solidFill>
                <a:srgbClr val="cc33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RAMP requires an up-front investment in representing the design</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Investment required for STEP file generation</a:t>
            </a:r>
            <a:endParaRPr b="0" lang="en-US" sz="2400" spc="-1" strike="noStrike">
              <a:solidFill>
                <a:srgbClr val="ffff00"/>
              </a:solidFill>
              <a:latin typeface="Times New Roman"/>
            </a:endParaRPr>
          </a:p>
          <a:p>
            <a:pPr lvl="1" marL="743040" indent="-285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Obtaining &amp; verifying design information from source</a:t>
            </a:r>
            <a:endParaRPr b="0" lang="en-US" sz="2400" spc="-1" strike="noStrike">
              <a:solidFill>
                <a:srgbClr val="ffff00"/>
              </a:solidFill>
              <a:latin typeface="Times New Roman"/>
            </a:endParaRPr>
          </a:p>
          <a:p>
            <a:pPr lvl="1" marL="743040" indent="-285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Verification of designers intent</a:t>
            </a:r>
            <a:endParaRPr b="0" lang="en-US" sz="2400" spc="-1" strike="noStrike">
              <a:solidFill>
                <a:srgbClr val="ffff00"/>
              </a:solidFill>
              <a:latin typeface="Times New Roman"/>
            </a:endParaRPr>
          </a:p>
          <a:p>
            <a:pPr lvl="1" marL="743040" indent="-285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Validation of the STEP representation</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Restricted the selection to items where the DML investment could be recovered during the SLSC lifetime</a:t>
            </a:r>
            <a:endParaRPr b="0" lang="en-US" sz="2400" spc="-1" strike="noStrike">
              <a:solidFill>
                <a:srgbClr val="ffff00"/>
              </a:solidFill>
              <a:latin typeface="Times New Roman"/>
            </a:endParaRPr>
          </a:p>
          <a:p>
            <a:pPr lvl="1" marL="743040" indent="-285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CRISP Forecast Demand Rate</a:t>
            </a:r>
            <a:endParaRPr b="0" lang="en-US" sz="2400" spc="-1" strike="noStrike">
              <a:solidFill>
                <a:srgbClr val="ffff00"/>
              </a:solidFill>
              <a:latin typeface="Times New Roman"/>
            </a:endParaRPr>
          </a:p>
          <a:p>
            <a:pPr lvl="1" marL="743040" indent="-285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Current stock level</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Times New Roman"/>
              </a:rPr>
              <a:t>Manufacture Rights</a:t>
            </a:r>
            <a:endParaRPr b="0" lang="en-US" sz="4400" spc="-1" strike="noStrike">
              <a:solidFill>
                <a:srgbClr val="cc3300"/>
              </a:solidFill>
              <a:latin typeface="Times New Roman"/>
            </a:endParaRPr>
          </a:p>
        </p:txBody>
      </p:sp>
      <p:sp>
        <p:nvSpPr>
          <p:cNvPr id="94" name=""/>
          <p:cNvSpPr/>
          <p:nvPr/>
        </p:nvSpPr>
        <p:spPr>
          <a:xfrm>
            <a:off x="1933560" y="7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rights to manufacture decomposition" descr=""/>
          <p:cNvPicPr/>
          <p:nvPr/>
        </p:nvPicPr>
        <p:blipFill>
          <a:blip r:embed="rId1"/>
          <a:stretch/>
        </p:blipFill>
        <p:spPr>
          <a:xfrm>
            <a:off x="790560" y="228600"/>
            <a:ext cx="6419880" cy="6477120"/>
          </a:xfrm>
          <a:prstGeom prst="rect">
            <a:avLst/>
          </a:prstGeom>
          <a:ln w="0">
            <a:noFill/>
          </a:ln>
        </p:spPr>
      </p:pic>
      <p:sp>
        <p:nvSpPr>
          <p:cNvPr id="96" name=""/>
          <p:cNvSpPr/>
          <p:nvPr/>
        </p:nvSpPr>
        <p:spPr>
          <a:xfrm>
            <a:off x="5181480" y="160020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1,248 items proprietary</a:t>
            </a:r>
            <a:endParaRPr b="0" lang="en-US" sz="2800" spc="-1" strike="noStrike">
              <a:solidFill>
                <a:srgbClr val="000000"/>
              </a:solidFill>
              <a:latin typeface="Times New Roman"/>
            </a:endParaRPr>
          </a:p>
        </p:txBody>
      </p:sp>
      <p:sp>
        <p:nvSpPr>
          <p:cNvPr id="97" name=""/>
          <p:cNvSpPr/>
          <p:nvPr/>
        </p:nvSpPr>
        <p:spPr>
          <a:xfrm>
            <a:off x="152280" y="2955960"/>
            <a:ext cx="39625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1,448 items difficult to obtain drawings</a:t>
            </a:r>
            <a:endParaRPr b="0" lang="en-US" sz="2800" spc="-1" strike="noStrike">
              <a:solidFill>
                <a:srgbClr val="000000"/>
              </a:solidFill>
              <a:latin typeface="Times New Roman"/>
            </a:endParaRPr>
          </a:p>
        </p:txBody>
      </p:sp>
      <p:sp>
        <p:nvSpPr>
          <p:cNvPr id="98" name=""/>
          <p:cNvSpPr/>
          <p:nvPr/>
        </p:nvSpPr>
        <p:spPr>
          <a:xfrm>
            <a:off x="228600" y="472428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13,748 available design data</a:t>
            </a:r>
            <a:endParaRPr b="0" lang="en-US" sz="2800" spc="-1" strike="noStrike">
              <a:solidFill>
                <a:srgbClr val="000000"/>
              </a:solidFill>
              <a:latin typeface="Times New Roman"/>
            </a:endParaRPr>
          </a:p>
        </p:txBody>
      </p:sp>
      <p:sp>
        <p:nvSpPr>
          <p:cNvPr id="99" name=""/>
          <p:cNvSpPr/>
          <p:nvPr/>
        </p:nvSpPr>
        <p:spPr>
          <a:xfrm>
            <a:off x="304920" y="5791320"/>
            <a:ext cx="457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25,539 maximum fig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Item Selection (continued)</a:t>
            </a:r>
            <a:br>
              <a:rPr sz="4400"/>
            </a:br>
            <a:r>
              <a:rPr b="1" lang="en-GB" sz="4400" spc="-1" strike="noStrike">
                <a:solidFill>
                  <a:srgbClr val="cc3300"/>
                </a:solidFill>
                <a:latin typeface="Times New Roman"/>
              </a:rPr>
              <a:t>and Cost Comparison Process</a:t>
            </a:r>
            <a:endParaRPr b="0" lang="en-US" sz="4400" spc="-1" strike="noStrike">
              <a:solidFill>
                <a:srgbClr val="cc3300"/>
              </a:solidFill>
              <a:latin typeface="Times New Roman"/>
            </a:endParaRPr>
          </a:p>
        </p:txBody>
      </p:sp>
      <p:sp>
        <p:nvSpPr>
          <p:cNvPr id="101"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Combine all three selections of items which satisfy criteria</a:t>
            </a:r>
            <a:endParaRPr b="0" lang="en-US" sz="2400" spc="-1" strike="noStrike">
              <a:solidFill>
                <a:srgbClr val="ffff00"/>
              </a:solidFill>
              <a:latin typeface="Times New Roman"/>
            </a:endParaRPr>
          </a:p>
          <a:p>
            <a:pPr lvl="1" marL="743040" indent="-285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Technical, rights to manufacture, stock depletion</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Manual review to remove unusual items</a:t>
            </a:r>
            <a:endParaRPr b="0" lang="en-US" sz="2400" spc="-1" strike="noStrike">
              <a:solidFill>
                <a:srgbClr val="ffff00"/>
              </a:solidFill>
              <a:latin typeface="Times New Roman"/>
            </a:endParaRPr>
          </a:p>
          <a:p>
            <a:pPr lvl="1" marL="743040" indent="-285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Unexpectedly high/low price or unusual part-number</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Comparison stock level between current and RAMP</a:t>
            </a:r>
            <a:endParaRPr b="0" lang="en-US" sz="2400" spc="-1" strike="noStrike">
              <a:solidFill>
                <a:srgbClr val="ffff00"/>
              </a:solidFill>
              <a:latin typeface="Times New Roman"/>
            </a:endParaRPr>
          </a:p>
          <a:p>
            <a:pPr lvl="1" marL="743040" indent="-285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Cost of current stock level</a:t>
            </a:r>
            <a:endParaRPr b="0" lang="en-US" sz="2400" spc="-1" strike="noStrike">
              <a:solidFill>
                <a:srgbClr val="ffff00"/>
              </a:solidFill>
              <a:latin typeface="Times New Roman"/>
            </a:endParaRPr>
          </a:p>
          <a:p>
            <a:pPr lvl="1" marL="743040" indent="-285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Cost of stock replenishment without RAMP</a:t>
            </a:r>
            <a:endParaRPr b="0" lang="en-US" sz="2400" spc="-1" strike="noStrike">
              <a:solidFill>
                <a:srgbClr val="ffff00"/>
              </a:solidFill>
              <a:latin typeface="Times New Roman"/>
            </a:endParaRPr>
          </a:p>
          <a:p>
            <a:pPr lvl="1" marL="743040" indent="-285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Cost of RAMP stock level</a:t>
            </a:r>
            <a:endParaRPr b="0" lang="en-US" sz="2400" spc="-1" strike="noStrike">
              <a:solidFill>
                <a:srgbClr val="ffff00"/>
              </a:solidFill>
              <a:latin typeface="Times New Roman"/>
            </a:endParaRPr>
          </a:p>
          <a:p>
            <a:pPr lvl="1" marL="743040" indent="-285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Cost of raw material stock-holding</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The identified 1500 items  will release in excess of </a:t>
            </a:r>
            <a:br>
              <a:rPr sz="2400"/>
            </a:br>
            <a:r>
              <a:rPr b="0" lang="en-GB" sz="2400" spc="-1" strike="noStrike">
                <a:solidFill>
                  <a:srgbClr val="ffff00"/>
                </a:solidFill>
                <a:latin typeface="Times New Roman"/>
              </a:rPr>
              <a:t>                           £2million of tied in stock</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Technical, Commercial, RTM</a:t>
            </a:r>
            <a:endParaRPr b="0" lang="en-US" sz="4400" spc="-1" strike="noStrike">
              <a:solidFill>
                <a:srgbClr val="cc3300"/>
              </a:solidFill>
              <a:latin typeface="Times New Roman"/>
            </a:endParaRPr>
          </a:p>
        </p:txBody>
      </p:sp>
      <p:sp>
        <p:nvSpPr>
          <p:cNvPr id="103" name=""/>
          <p:cNvSpPr/>
          <p:nvPr/>
        </p:nvSpPr>
        <p:spPr>
          <a:xfrm>
            <a:off x="3178080" y="1601640"/>
            <a:ext cx="4926240" cy="4919760"/>
          </a:xfrm>
          <a:custGeom>
            <a:avLst/>
            <a:gdLst/>
            <a:ahLst/>
            <a:rect l="l" t="t" r="r" b="b"/>
            <a:pathLst>
              <a:path w="12411" h="12392">
                <a:moveTo>
                  <a:pt x="6206" y="0"/>
                </a:moveTo>
                <a:lnTo>
                  <a:pt x="6525" y="7"/>
                </a:lnTo>
                <a:lnTo>
                  <a:pt x="6839" y="32"/>
                </a:lnTo>
                <a:lnTo>
                  <a:pt x="7149" y="71"/>
                </a:lnTo>
                <a:lnTo>
                  <a:pt x="7454" y="126"/>
                </a:lnTo>
                <a:lnTo>
                  <a:pt x="7754" y="195"/>
                </a:lnTo>
                <a:lnTo>
                  <a:pt x="8048" y="279"/>
                </a:lnTo>
                <a:lnTo>
                  <a:pt x="8336" y="376"/>
                </a:lnTo>
                <a:lnTo>
                  <a:pt x="8617" y="487"/>
                </a:lnTo>
                <a:lnTo>
                  <a:pt x="8892" y="612"/>
                </a:lnTo>
                <a:lnTo>
                  <a:pt x="9160" y="750"/>
                </a:lnTo>
                <a:lnTo>
                  <a:pt x="9420" y="899"/>
                </a:lnTo>
                <a:lnTo>
                  <a:pt x="9671" y="1060"/>
                </a:lnTo>
                <a:lnTo>
                  <a:pt x="9915" y="1233"/>
                </a:lnTo>
                <a:lnTo>
                  <a:pt x="10150" y="1418"/>
                </a:lnTo>
                <a:lnTo>
                  <a:pt x="10375" y="1612"/>
                </a:lnTo>
                <a:lnTo>
                  <a:pt x="10591" y="1818"/>
                </a:lnTo>
                <a:lnTo>
                  <a:pt x="10796" y="2033"/>
                </a:lnTo>
                <a:lnTo>
                  <a:pt x="10991" y="2258"/>
                </a:lnTo>
                <a:lnTo>
                  <a:pt x="11176" y="2492"/>
                </a:lnTo>
                <a:lnTo>
                  <a:pt x="11350" y="2736"/>
                </a:lnTo>
                <a:lnTo>
                  <a:pt x="11511" y="2987"/>
                </a:lnTo>
                <a:lnTo>
                  <a:pt x="11660" y="3247"/>
                </a:lnTo>
                <a:lnTo>
                  <a:pt x="11798" y="3514"/>
                </a:lnTo>
                <a:lnTo>
                  <a:pt x="11923" y="3788"/>
                </a:lnTo>
                <a:lnTo>
                  <a:pt x="12034" y="4069"/>
                </a:lnTo>
                <a:lnTo>
                  <a:pt x="12132" y="4357"/>
                </a:lnTo>
                <a:lnTo>
                  <a:pt x="12216" y="4651"/>
                </a:lnTo>
                <a:lnTo>
                  <a:pt x="12285" y="4950"/>
                </a:lnTo>
                <a:lnTo>
                  <a:pt x="12340" y="5254"/>
                </a:lnTo>
                <a:lnTo>
                  <a:pt x="12379" y="5564"/>
                </a:lnTo>
                <a:lnTo>
                  <a:pt x="12404" y="5878"/>
                </a:lnTo>
                <a:lnTo>
                  <a:pt x="12411" y="6197"/>
                </a:lnTo>
                <a:lnTo>
                  <a:pt x="12404" y="6514"/>
                </a:lnTo>
                <a:lnTo>
                  <a:pt x="12379" y="6828"/>
                </a:lnTo>
                <a:lnTo>
                  <a:pt x="12340" y="7138"/>
                </a:lnTo>
                <a:lnTo>
                  <a:pt x="12285" y="7442"/>
                </a:lnTo>
                <a:lnTo>
                  <a:pt x="12216" y="7741"/>
                </a:lnTo>
                <a:lnTo>
                  <a:pt x="12132" y="8035"/>
                </a:lnTo>
                <a:lnTo>
                  <a:pt x="12034" y="8323"/>
                </a:lnTo>
                <a:lnTo>
                  <a:pt x="11923" y="8604"/>
                </a:lnTo>
                <a:lnTo>
                  <a:pt x="11798" y="8878"/>
                </a:lnTo>
                <a:lnTo>
                  <a:pt x="11660" y="9145"/>
                </a:lnTo>
                <a:lnTo>
                  <a:pt x="11511" y="9405"/>
                </a:lnTo>
                <a:lnTo>
                  <a:pt x="11350" y="9656"/>
                </a:lnTo>
                <a:lnTo>
                  <a:pt x="11176" y="9900"/>
                </a:lnTo>
                <a:lnTo>
                  <a:pt x="10991" y="10134"/>
                </a:lnTo>
                <a:lnTo>
                  <a:pt x="10796" y="10359"/>
                </a:lnTo>
                <a:lnTo>
                  <a:pt x="10591" y="10574"/>
                </a:lnTo>
                <a:lnTo>
                  <a:pt x="10375" y="10780"/>
                </a:lnTo>
                <a:lnTo>
                  <a:pt x="10150" y="10974"/>
                </a:lnTo>
                <a:lnTo>
                  <a:pt x="9915" y="11159"/>
                </a:lnTo>
                <a:lnTo>
                  <a:pt x="9671" y="11332"/>
                </a:lnTo>
                <a:lnTo>
                  <a:pt x="9420" y="11493"/>
                </a:lnTo>
                <a:lnTo>
                  <a:pt x="9160" y="11642"/>
                </a:lnTo>
                <a:lnTo>
                  <a:pt x="8892" y="11780"/>
                </a:lnTo>
                <a:lnTo>
                  <a:pt x="8617" y="11905"/>
                </a:lnTo>
                <a:lnTo>
                  <a:pt x="8336" y="12016"/>
                </a:lnTo>
                <a:lnTo>
                  <a:pt x="8048" y="12113"/>
                </a:lnTo>
                <a:lnTo>
                  <a:pt x="7754" y="12197"/>
                </a:lnTo>
                <a:lnTo>
                  <a:pt x="7454" y="12266"/>
                </a:lnTo>
                <a:lnTo>
                  <a:pt x="7149" y="12321"/>
                </a:lnTo>
                <a:lnTo>
                  <a:pt x="6839" y="12360"/>
                </a:lnTo>
                <a:lnTo>
                  <a:pt x="6525" y="12385"/>
                </a:lnTo>
                <a:lnTo>
                  <a:pt x="6206" y="12392"/>
                </a:lnTo>
                <a:lnTo>
                  <a:pt x="5888" y="12385"/>
                </a:lnTo>
                <a:lnTo>
                  <a:pt x="5573" y="12360"/>
                </a:lnTo>
                <a:lnTo>
                  <a:pt x="5264" y="12321"/>
                </a:lnTo>
                <a:lnTo>
                  <a:pt x="4958" y="12266"/>
                </a:lnTo>
                <a:lnTo>
                  <a:pt x="4658" y="12197"/>
                </a:lnTo>
                <a:lnTo>
                  <a:pt x="4364" y="12113"/>
                </a:lnTo>
                <a:lnTo>
                  <a:pt x="4076" y="12016"/>
                </a:lnTo>
                <a:lnTo>
                  <a:pt x="3795" y="11905"/>
                </a:lnTo>
                <a:lnTo>
                  <a:pt x="3520" y="11780"/>
                </a:lnTo>
                <a:lnTo>
                  <a:pt x="3253" y="11642"/>
                </a:lnTo>
                <a:lnTo>
                  <a:pt x="2992" y="11493"/>
                </a:lnTo>
                <a:lnTo>
                  <a:pt x="2741" y="11332"/>
                </a:lnTo>
                <a:lnTo>
                  <a:pt x="2497" y="11159"/>
                </a:lnTo>
                <a:lnTo>
                  <a:pt x="2263" y="10974"/>
                </a:lnTo>
                <a:lnTo>
                  <a:pt x="2037" y="10780"/>
                </a:lnTo>
                <a:lnTo>
                  <a:pt x="1821" y="10574"/>
                </a:lnTo>
                <a:lnTo>
                  <a:pt x="1616" y="10359"/>
                </a:lnTo>
                <a:lnTo>
                  <a:pt x="1421" y="10134"/>
                </a:lnTo>
                <a:lnTo>
                  <a:pt x="1236" y="9900"/>
                </a:lnTo>
                <a:lnTo>
                  <a:pt x="1063" y="9656"/>
                </a:lnTo>
                <a:lnTo>
                  <a:pt x="901" y="9405"/>
                </a:lnTo>
                <a:lnTo>
                  <a:pt x="752" y="9145"/>
                </a:lnTo>
                <a:lnTo>
                  <a:pt x="615" y="8878"/>
                </a:lnTo>
                <a:lnTo>
                  <a:pt x="490" y="8604"/>
                </a:lnTo>
                <a:lnTo>
                  <a:pt x="379" y="8323"/>
                </a:lnTo>
                <a:lnTo>
                  <a:pt x="281" y="8035"/>
                </a:lnTo>
                <a:lnTo>
                  <a:pt x="196" y="7741"/>
                </a:lnTo>
                <a:lnTo>
                  <a:pt x="127" y="7442"/>
                </a:lnTo>
                <a:lnTo>
                  <a:pt x="73" y="7138"/>
                </a:lnTo>
                <a:lnTo>
                  <a:pt x="33" y="6828"/>
                </a:lnTo>
                <a:lnTo>
                  <a:pt x="9" y="6514"/>
                </a:lnTo>
                <a:lnTo>
                  <a:pt x="0" y="6197"/>
                </a:lnTo>
                <a:lnTo>
                  <a:pt x="9" y="5878"/>
                </a:lnTo>
                <a:lnTo>
                  <a:pt x="33" y="5564"/>
                </a:lnTo>
                <a:lnTo>
                  <a:pt x="73" y="5254"/>
                </a:lnTo>
                <a:lnTo>
                  <a:pt x="127" y="4950"/>
                </a:lnTo>
                <a:lnTo>
                  <a:pt x="196" y="4651"/>
                </a:lnTo>
                <a:lnTo>
                  <a:pt x="281" y="4357"/>
                </a:lnTo>
                <a:lnTo>
                  <a:pt x="379" y="4069"/>
                </a:lnTo>
                <a:lnTo>
                  <a:pt x="490" y="3788"/>
                </a:lnTo>
                <a:lnTo>
                  <a:pt x="615" y="3514"/>
                </a:lnTo>
                <a:lnTo>
                  <a:pt x="752" y="3247"/>
                </a:lnTo>
                <a:lnTo>
                  <a:pt x="901" y="2987"/>
                </a:lnTo>
                <a:lnTo>
                  <a:pt x="1063" y="2736"/>
                </a:lnTo>
                <a:lnTo>
                  <a:pt x="1236" y="2492"/>
                </a:lnTo>
                <a:lnTo>
                  <a:pt x="1421" y="2258"/>
                </a:lnTo>
                <a:lnTo>
                  <a:pt x="1616" y="2033"/>
                </a:lnTo>
                <a:lnTo>
                  <a:pt x="1821" y="1818"/>
                </a:lnTo>
                <a:lnTo>
                  <a:pt x="2037" y="1612"/>
                </a:lnTo>
                <a:lnTo>
                  <a:pt x="2263" y="1418"/>
                </a:lnTo>
                <a:lnTo>
                  <a:pt x="2497" y="1233"/>
                </a:lnTo>
                <a:lnTo>
                  <a:pt x="2741" y="1060"/>
                </a:lnTo>
                <a:lnTo>
                  <a:pt x="2992" y="899"/>
                </a:lnTo>
                <a:lnTo>
                  <a:pt x="3253" y="750"/>
                </a:lnTo>
                <a:lnTo>
                  <a:pt x="3520" y="612"/>
                </a:lnTo>
                <a:lnTo>
                  <a:pt x="3795" y="487"/>
                </a:lnTo>
                <a:lnTo>
                  <a:pt x="4076" y="376"/>
                </a:lnTo>
                <a:lnTo>
                  <a:pt x="4364" y="279"/>
                </a:lnTo>
                <a:lnTo>
                  <a:pt x="4658" y="195"/>
                </a:lnTo>
                <a:lnTo>
                  <a:pt x="4958" y="126"/>
                </a:lnTo>
                <a:lnTo>
                  <a:pt x="5264" y="71"/>
                </a:lnTo>
                <a:lnTo>
                  <a:pt x="5573" y="32"/>
                </a:lnTo>
                <a:lnTo>
                  <a:pt x="5888" y="7"/>
                </a:lnTo>
                <a:lnTo>
                  <a:pt x="6206" y="0"/>
                </a:lnTo>
                <a:close/>
              </a:path>
            </a:pathLst>
          </a:custGeom>
          <a:solidFill>
            <a:srgbClr val="800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178080" y="1601640"/>
            <a:ext cx="4926240" cy="4919760"/>
          </a:xfrm>
          <a:custGeom>
            <a:avLst/>
            <a:gdLst/>
            <a:ahLst/>
            <a:rect l="l" t="t" r="r" b="b"/>
            <a:pathLst>
              <a:path w="12411" h="12392">
                <a:moveTo>
                  <a:pt x="6206" y="0"/>
                </a:moveTo>
                <a:lnTo>
                  <a:pt x="6287" y="0"/>
                </a:lnTo>
                <a:lnTo>
                  <a:pt x="6366" y="2"/>
                </a:lnTo>
                <a:lnTo>
                  <a:pt x="6446" y="4"/>
                </a:lnTo>
                <a:lnTo>
                  <a:pt x="6525" y="7"/>
                </a:lnTo>
                <a:lnTo>
                  <a:pt x="6604" y="12"/>
                </a:lnTo>
                <a:lnTo>
                  <a:pt x="6683" y="17"/>
                </a:lnTo>
                <a:lnTo>
                  <a:pt x="6761" y="24"/>
                </a:lnTo>
                <a:lnTo>
                  <a:pt x="6839" y="32"/>
                </a:lnTo>
                <a:lnTo>
                  <a:pt x="6917" y="40"/>
                </a:lnTo>
                <a:lnTo>
                  <a:pt x="6994" y="50"/>
                </a:lnTo>
                <a:lnTo>
                  <a:pt x="7072" y="60"/>
                </a:lnTo>
                <a:lnTo>
                  <a:pt x="7149" y="71"/>
                </a:lnTo>
                <a:lnTo>
                  <a:pt x="7226" y="83"/>
                </a:lnTo>
                <a:lnTo>
                  <a:pt x="7302" y="96"/>
                </a:lnTo>
                <a:lnTo>
                  <a:pt x="7378" y="111"/>
                </a:lnTo>
                <a:lnTo>
                  <a:pt x="7454" y="126"/>
                </a:lnTo>
                <a:lnTo>
                  <a:pt x="7530" y="142"/>
                </a:lnTo>
                <a:lnTo>
                  <a:pt x="7604" y="158"/>
                </a:lnTo>
                <a:lnTo>
                  <a:pt x="7679" y="176"/>
                </a:lnTo>
                <a:lnTo>
                  <a:pt x="7754" y="195"/>
                </a:lnTo>
                <a:lnTo>
                  <a:pt x="7828" y="215"/>
                </a:lnTo>
                <a:lnTo>
                  <a:pt x="7902" y="235"/>
                </a:lnTo>
                <a:lnTo>
                  <a:pt x="7975" y="256"/>
                </a:lnTo>
                <a:lnTo>
                  <a:pt x="8048" y="279"/>
                </a:lnTo>
                <a:lnTo>
                  <a:pt x="8121" y="302"/>
                </a:lnTo>
                <a:lnTo>
                  <a:pt x="8193" y="326"/>
                </a:lnTo>
                <a:lnTo>
                  <a:pt x="8264" y="351"/>
                </a:lnTo>
                <a:lnTo>
                  <a:pt x="8336" y="376"/>
                </a:lnTo>
                <a:lnTo>
                  <a:pt x="8407" y="403"/>
                </a:lnTo>
                <a:lnTo>
                  <a:pt x="8478" y="431"/>
                </a:lnTo>
                <a:lnTo>
                  <a:pt x="8548" y="459"/>
                </a:lnTo>
                <a:lnTo>
                  <a:pt x="8617" y="487"/>
                </a:lnTo>
                <a:lnTo>
                  <a:pt x="8687" y="517"/>
                </a:lnTo>
                <a:lnTo>
                  <a:pt x="8756" y="549"/>
                </a:lnTo>
                <a:lnTo>
                  <a:pt x="8824" y="580"/>
                </a:lnTo>
                <a:lnTo>
                  <a:pt x="8892" y="612"/>
                </a:lnTo>
                <a:lnTo>
                  <a:pt x="8960" y="645"/>
                </a:lnTo>
                <a:lnTo>
                  <a:pt x="9027" y="679"/>
                </a:lnTo>
                <a:lnTo>
                  <a:pt x="9094" y="714"/>
                </a:lnTo>
                <a:lnTo>
                  <a:pt x="9160" y="750"/>
                </a:lnTo>
                <a:lnTo>
                  <a:pt x="9226" y="785"/>
                </a:lnTo>
                <a:lnTo>
                  <a:pt x="9291" y="822"/>
                </a:lnTo>
                <a:lnTo>
                  <a:pt x="9355" y="860"/>
                </a:lnTo>
                <a:lnTo>
                  <a:pt x="9420" y="899"/>
                </a:lnTo>
                <a:lnTo>
                  <a:pt x="9483" y="938"/>
                </a:lnTo>
                <a:lnTo>
                  <a:pt x="9547" y="978"/>
                </a:lnTo>
                <a:lnTo>
                  <a:pt x="9609" y="1019"/>
                </a:lnTo>
                <a:lnTo>
                  <a:pt x="9671" y="1060"/>
                </a:lnTo>
                <a:lnTo>
                  <a:pt x="9734" y="1102"/>
                </a:lnTo>
                <a:lnTo>
                  <a:pt x="9795" y="1145"/>
                </a:lnTo>
                <a:lnTo>
                  <a:pt x="9855" y="1189"/>
                </a:lnTo>
                <a:lnTo>
                  <a:pt x="9915" y="1233"/>
                </a:lnTo>
                <a:lnTo>
                  <a:pt x="9974" y="1279"/>
                </a:lnTo>
                <a:lnTo>
                  <a:pt x="10033" y="1324"/>
                </a:lnTo>
                <a:lnTo>
                  <a:pt x="10092" y="1371"/>
                </a:lnTo>
                <a:lnTo>
                  <a:pt x="10150" y="1418"/>
                </a:lnTo>
                <a:lnTo>
                  <a:pt x="10207" y="1465"/>
                </a:lnTo>
                <a:lnTo>
                  <a:pt x="10263" y="1513"/>
                </a:lnTo>
                <a:lnTo>
                  <a:pt x="10319" y="1563"/>
                </a:lnTo>
                <a:lnTo>
                  <a:pt x="10375" y="1612"/>
                </a:lnTo>
                <a:lnTo>
                  <a:pt x="10429" y="1663"/>
                </a:lnTo>
                <a:lnTo>
                  <a:pt x="10484" y="1714"/>
                </a:lnTo>
                <a:lnTo>
                  <a:pt x="10537" y="1766"/>
                </a:lnTo>
                <a:lnTo>
                  <a:pt x="10591" y="1818"/>
                </a:lnTo>
                <a:lnTo>
                  <a:pt x="10643" y="1871"/>
                </a:lnTo>
                <a:lnTo>
                  <a:pt x="10694" y="1924"/>
                </a:lnTo>
                <a:lnTo>
                  <a:pt x="10745" y="1979"/>
                </a:lnTo>
                <a:lnTo>
                  <a:pt x="10796" y="2033"/>
                </a:lnTo>
                <a:lnTo>
                  <a:pt x="10845" y="2089"/>
                </a:lnTo>
                <a:lnTo>
                  <a:pt x="10896" y="2145"/>
                </a:lnTo>
                <a:lnTo>
                  <a:pt x="10943" y="2201"/>
                </a:lnTo>
                <a:lnTo>
                  <a:pt x="10991" y="2258"/>
                </a:lnTo>
                <a:lnTo>
                  <a:pt x="11039" y="2316"/>
                </a:lnTo>
                <a:lnTo>
                  <a:pt x="11085" y="2375"/>
                </a:lnTo>
                <a:lnTo>
                  <a:pt x="11130" y="2433"/>
                </a:lnTo>
                <a:lnTo>
                  <a:pt x="11176" y="2492"/>
                </a:lnTo>
                <a:lnTo>
                  <a:pt x="11221" y="2552"/>
                </a:lnTo>
                <a:lnTo>
                  <a:pt x="11264" y="2613"/>
                </a:lnTo>
                <a:lnTo>
                  <a:pt x="11307" y="2674"/>
                </a:lnTo>
                <a:lnTo>
                  <a:pt x="11350" y="2736"/>
                </a:lnTo>
                <a:lnTo>
                  <a:pt x="11391" y="2798"/>
                </a:lnTo>
                <a:lnTo>
                  <a:pt x="11432" y="2860"/>
                </a:lnTo>
                <a:lnTo>
                  <a:pt x="11472" y="2924"/>
                </a:lnTo>
                <a:lnTo>
                  <a:pt x="11511" y="2987"/>
                </a:lnTo>
                <a:lnTo>
                  <a:pt x="11550" y="3051"/>
                </a:lnTo>
                <a:lnTo>
                  <a:pt x="11588" y="3116"/>
                </a:lnTo>
                <a:lnTo>
                  <a:pt x="11625" y="3181"/>
                </a:lnTo>
                <a:lnTo>
                  <a:pt x="11660" y="3247"/>
                </a:lnTo>
                <a:lnTo>
                  <a:pt x="11696" y="3313"/>
                </a:lnTo>
                <a:lnTo>
                  <a:pt x="11731" y="3379"/>
                </a:lnTo>
                <a:lnTo>
                  <a:pt x="11765" y="3446"/>
                </a:lnTo>
                <a:lnTo>
                  <a:pt x="11798" y="3514"/>
                </a:lnTo>
                <a:lnTo>
                  <a:pt x="11830" y="3582"/>
                </a:lnTo>
                <a:lnTo>
                  <a:pt x="11862" y="3650"/>
                </a:lnTo>
                <a:lnTo>
                  <a:pt x="11893" y="3718"/>
                </a:lnTo>
                <a:lnTo>
                  <a:pt x="11923" y="3788"/>
                </a:lnTo>
                <a:lnTo>
                  <a:pt x="11952" y="3857"/>
                </a:lnTo>
                <a:lnTo>
                  <a:pt x="11980" y="3928"/>
                </a:lnTo>
                <a:lnTo>
                  <a:pt x="12007" y="3998"/>
                </a:lnTo>
                <a:lnTo>
                  <a:pt x="12034" y="4069"/>
                </a:lnTo>
                <a:lnTo>
                  <a:pt x="12060" y="4141"/>
                </a:lnTo>
                <a:lnTo>
                  <a:pt x="12084" y="4213"/>
                </a:lnTo>
                <a:lnTo>
                  <a:pt x="12109" y="4284"/>
                </a:lnTo>
                <a:lnTo>
                  <a:pt x="12132" y="4357"/>
                </a:lnTo>
                <a:lnTo>
                  <a:pt x="12154" y="4429"/>
                </a:lnTo>
                <a:lnTo>
                  <a:pt x="12175" y="4503"/>
                </a:lnTo>
                <a:lnTo>
                  <a:pt x="12196" y="4576"/>
                </a:lnTo>
                <a:lnTo>
                  <a:pt x="12216" y="4651"/>
                </a:lnTo>
                <a:lnTo>
                  <a:pt x="12234" y="4725"/>
                </a:lnTo>
                <a:lnTo>
                  <a:pt x="12252" y="4800"/>
                </a:lnTo>
                <a:lnTo>
                  <a:pt x="12269" y="4874"/>
                </a:lnTo>
                <a:lnTo>
                  <a:pt x="12285" y="4950"/>
                </a:lnTo>
                <a:lnTo>
                  <a:pt x="12300" y="5025"/>
                </a:lnTo>
                <a:lnTo>
                  <a:pt x="12315" y="5102"/>
                </a:lnTo>
                <a:lnTo>
                  <a:pt x="12328" y="5177"/>
                </a:lnTo>
                <a:lnTo>
                  <a:pt x="12340" y="5254"/>
                </a:lnTo>
                <a:lnTo>
                  <a:pt x="12351" y="5332"/>
                </a:lnTo>
                <a:lnTo>
                  <a:pt x="12361" y="5409"/>
                </a:lnTo>
                <a:lnTo>
                  <a:pt x="12371" y="5486"/>
                </a:lnTo>
                <a:lnTo>
                  <a:pt x="12379" y="5564"/>
                </a:lnTo>
                <a:lnTo>
                  <a:pt x="12387" y="5642"/>
                </a:lnTo>
                <a:lnTo>
                  <a:pt x="12394" y="5721"/>
                </a:lnTo>
                <a:lnTo>
                  <a:pt x="12399" y="5799"/>
                </a:lnTo>
                <a:lnTo>
                  <a:pt x="12404" y="5878"/>
                </a:lnTo>
                <a:lnTo>
                  <a:pt x="12407" y="5958"/>
                </a:lnTo>
                <a:lnTo>
                  <a:pt x="12409" y="6037"/>
                </a:lnTo>
                <a:lnTo>
                  <a:pt x="12411" y="6117"/>
                </a:lnTo>
                <a:lnTo>
                  <a:pt x="12411" y="6197"/>
                </a:lnTo>
                <a:lnTo>
                  <a:pt x="12411" y="6275"/>
                </a:lnTo>
                <a:lnTo>
                  <a:pt x="12409" y="6355"/>
                </a:lnTo>
                <a:lnTo>
                  <a:pt x="12407" y="6434"/>
                </a:lnTo>
                <a:lnTo>
                  <a:pt x="12404" y="6514"/>
                </a:lnTo>
                <a:lnTo>
                  <a:pt x="12399" y="6593"/>
                </a:lnTo>
                <a:lnTo>
                  <a:pt x="12394" y="6671"/>
                </a:lnTo>
                <a:lnTo>
                  <a:pt x="12387" y="6750"/>
                </a:lnTo>
                <a:lnTo>
                  <a:pt x="12379" y="6828"/>
                </a:lnTo>
                <a:lnTo>
                  <a:pt x="12371" y="6906"/>
                </a:lnTo>
                <a:lnTo>
                  <a:pt x="12361" y="6983"/>
                </a:lnTo>
                <a:lnTo>
                  <a:pt x="12351" y="7060"/>
                </a:lnTo>
                <a:lnTo>
                  <a:pt x="12340" y="7138"/>
                </a:lnTo>
                <a:lnTo>
                  <a:pt x="12328" y="7215"/>
                </a:lnTo>
                <a:lnTo>
                  <a:pt x="12315" y="7290"/>
                </a:lnTo>
                <a:lnTo>
                  <a:pt x="12300" y="7367"/>
                </a:lnTo>
                <a:lnTo>
                  <a:pt x="12285" y="7442"/>
                </a:lnTo>
                <a:lnTo>
                  <a:pt x="12269" y="7518"/>
                </a:lnTo>
                <a:lnTo>
                  <a:pt x="12252" y="7592"/>
                </a:lnTo>
                <a:lnTo>
                  <a:pt x="12234" y="7667"/>
                </a:lnTo>
                <a:lnTo>
                  <a:pt x="12216" y="7741"/>
                </a:lnTo>
                <a:lnTo>
                  <a:pt x="12196" y="7816"/>
                </a:lnTo>
                <a:lnTo>
                  <a:pt x="12175" y="7889"/>
                </a:lnTo>
                <a:lnTo>
                  <a:pt x="12154" y="7963"/>
                </a:lnTo>
                <a:lnTo>
                  <a:pt x="12132" y="8035"/>
                </a:lnTo>
                <a:lnTo>
                  <a:pt x="12109" y="8108"/>
                </a:lnTo>
                <a:lnTo>
                  <a:pt x="12084" y="8180"/>
                </a:lnTo>
                <a:lnTo>
                  <a:pt x="12060" y="8251"/>
                </a:lnTo>
                <a:lnTo>
                  <a:pt x="12034" y="8323"/>
                </a:lnTo>
                <a:lnTo>
                  <a:pt x="12007" y="8394"/>
                </a:lnTo>
                <a:lnTo>
                  <a:pt x="11980" y="8464"/>
                </a:lnTo>
                <a:lnTo>
                  <a:pt x="11952" y="8535"/>
                </a:lnTo>
                <a:lnTo>
                  <a:pt x="11923" y="8604"/>
                </a:lnTo>
                <a:lnTo>
                  <a:pt x="11893" y="8674"/>
                </a:lnTo>
                <a:lnTo>
                  <a:pt x="11862" y="8742"/>
                </a:lnTo>
                <a:lnTo>
                  <a:pt x="11830" y="8810"/>
                </a:lnTo>
                <a:lnTo>
                  <a:pt x="11798" y="8878"/>
                </a:lnTo>
                <a:lnTo>
                  <a:pt x="11765" y="8946"/>
                </a:lnTo>
                <a:lnTo>
                  <a:pt x="11731" y="9013"/>
                </a:lnTo>
                <a:lnTo>
                  <a:pt x="11696" y="9079"/>
                </a:lnTo>
                <a:lnTo>
                  <a:pt x="11660" y="9145"/>
                </a:lnTo>
                <a:lnTo>
                  <a:pt x="11625" y="9212"/>
                </a:lnTo>
                <a:lnTo>
                  <a:pt x="11588" y="9276"/>
                </a:lnTo>
                <a:lnTo>
                  <a:pt x="11550" y="9341"/>
                </a:lnTo>
                <a:lnTo>
                  <a:pt x="11511" y="9405"/>
                </a:lnTo>
                <a:lnTo>
                  <a:pt x="11472" y="9468"/>
                </a:lnTo>
                <a:lnTo>
                  <a:pt x="11432" y="9532"/>
                </a:lnTo>
                <a:lnTo>
                  <a:pt x="11391" y="9594"/>
                </a:lnTo>
                <a:lnTo>
                  <a:pt x="11350" y="9656"/>
                </a:lnTo>
                <a:lnTo>
                  <a:pt x="11307" y="9718"/>
                </a:lnTo>
                <a:lnTo>
                  <a:pt x="11264" y="9780"/>
                </a:lnTo>
                <a:lnTo>
                  <a:pt x="11221" y="9840"/>
                </a:lnTo>
                <a:lnTo>
                  <a:pt x="11176" y="9900"/>
                </a:lnTo>
                <a:lnTo>
                  <a:pt x="11130" y="9959"/>
                </a:lnTo>
                <a:lnTo>
                  <a:pt x="11085" y="10017"/>
                </a:lnTo>
                <a:lnTo>
                  <a:pt x="11039" y="10076"/>
                </a:lnTo>
                <a:lnTo>
                  <a:pt x="10991" y="10134"/>
                </a:lnTo>
                <a:lnTo>
                  <a:pt x="10943" y="10191"/>
                </a:lnTo>
                <a:lnTo>
                  <a:pt x="10896" y="10247"/>
                </a:lnTo>
                <a:lnTo>
                  <a:pt x="10845" y="10303"/>
                </a:lnTo>
                <a:lnTo>
                  <a:pt x="10796" y="10359"/>
                </a:lnTo>
                <a:lnTo>
                  <a:pt x="10745" y="10413"/>
                </a:lnTo>
                <a:lnTo>
                  <a:pt x="10694" y="10468"/>
                </a:lnTo>
                <a:lnTo>
                  <a:pt x="10643" y="10521"/>
                </a:lnTo>
                <a:lnTo>
                  <a:pt x="10591" y="10574"/>
                </a:lnTo>
                <a:lnTo>
                  <a:pt x="10537" y="10626"/>
                </a:lnTo>
                <a:lnTo>
                  <a:pt x="10484" y="10678"/>
                </a:lnTo>
                <a:lnTo>
                  <a:pt x="10429" y="10729"/>
                </a:lnTo>
                <a:lnTo>
                  <a:pt x="10375" y="10780"/>
                </a:lnTo>
                <a:lnTo>
                  <a:pt x="10319" y="10829"/>
                </a:lnTo>
                <a:lnTo>
                  <a:pt x="10263" y="10879"/>
                </a:lnTo>
                <a:lnTo>
                  <a:pt x="10207" y="10927"/>
                </a:lnTo>
                <a:lnTo>
                  <a:pt x="10150" y="10974"/>
                </a:lnTo>
                <a:lnTo>
                  <a:pt x="10092" y="11022"/>
                </a:lnTo>
                <a:lnTo>
                  <a:pt x="10033" y="11068"/>
                </a:lnTo>
                <a:lnTo>
                  <a:pt x="9974" y="11113"/>
                </a:lnTo>
                <a:lnTo>
                  <a:pt x="9915" y="11159"/>
                </a:lnTo>
                <a:lnTo>
                  <a:pt x="9855" y="11203"/>
                </a:lnTo>
                <a:lnTo>
                  <a:pt x="9795" y="11247"/>
                </a:lnTo>
                <a:lnTo>
                  <a:pt x="9734" y="11290"/>
                </a:lnTo>
                <a:lnTo>
                  <a:pt x="9671" y="11332"/>
                </a:lnTo>
                <a:lnTo>
                  <a:pt x="9609" y="11373"/>
                </a:lnTo>
                <a:lnTo>
                  <a:pt x="9547" y="11414"/>
                </a:lnTo>
                <a:lnTo>
                  <a:pt x="9483" y="11454"/>
                </a:lnTo>
                <a:lnTo>
                  <a:pt x="9420" y="11493"/>
                </a:lnTo>
                <a:lnTo>
                  <a:pt x="9355" y="11532"/>
                </a:lnTo>
                <a:lnTo>
                  <a:pt x="9291" y="11570"/>
                </a:lnTo>
                <a:lnTo>
                  <a:pt x="9226" y="11607"/>
                </a:lnTo>
                <a:lnTo>
                  <a:pt x="9160" y="11642"/>
                </a:lnTo>
                <a:lnTo>
                  <a:pt x="9094" y="11678"/>
                </a:lnTo>
                <a:lnTo>
                  <a:pt x="9027" y="11713"/>
                </a:lnTo>
                <a:lnTo>
                  <a:pt x="8960" y="11747"/>
                </a:lnTo>
                <a:lnTo>
                  <a:pt x="8892" y="11780"/>
                </a:lnTo>
                <a:lnTo>
                  <a:pt x="8824" y="11812"/>
                </a:lnTo>
                <a:lnTo>
                  <a:pt x="8756" y="11843"/>
                </a:lnTo>
                <a:lnTo>
                  <a:pt x="8687" y="11875"/>
                </a:lnTo>
                <a:lnTo>
                  <a:pt x="8617" y="11905"/>
                </a:lnTo>
                <a:lnTo>
                  <a:pt x="8548" y="11933"/>
                </a:lnTo>
                <a:lnTo>
                  <a:pt x="8478" y="11961"/>
                </a:lnTo>
                <a:lnTo>
                  <a:pt x="8407" y="11989"/>
                </a:lnTo>
                <a:lnTo>
                  <a:pt x="8336" y="12016"/>
                </a:lnTo>
                <a:lnTo>
                  <a:pt x="8264" y="12041"/>
                </a:lnTo>
                <a:lnTo>
                  <a:pt x="8193" y="12066"/>
                </a:lnTo>
                <a:lnTo>
                  <a:pt x="8121" y="12090"/>
                </a:lnTo>
                <a:lnTo>
                  <a:pt x="8048" y="12113"/>
                </a:lnTo>
                <a:lnTo>
                  <a:pt x="7975" y="12136"/>
                </a:lnTo>
                <a:lnTo>
                  <a:pt x="7902" y="12157"/>
                </a:lnTo>
                <a:lnTo>
                  <a:pt x="7828" y="12177"/>
                </a:lnTo>
                <a:lnTo>
                  <a:pt x="7754" y="12197"/>
                </a:lnTo>
                <a:lnTo>
                  <a:pt x="7679" y="12216"/>
                </a:lnTo>
                <a:lnTo>
                  <a:pt x="7604" y="12234"/>
                </a:lnTo>
                <a:lnTo>
                  <a:pt x="7530" y="12250"/>
                </a:lnTo>
                <a:lnTo>
                  <a:pt x="7454" y="12266"/>
                </a:lnTo>
                <a:lnTo>
                  <a:pt x="7378" y="12281"/>
                </a:lnTo>
                <a:lnTo>
                  <a:pt x="7302" y="12296"/>
                </a:lnTo>
                <a:lnTo>
                  <a:pt x="7226" y="12309"/>
                </a:lnTo>
                <a:lnTo>
                  <a:pt x="7149" y="12321"/>
                </a:lnTo>
                <a:lnTo>
                  <a:pt x="7072" y="12332"/>
                </a:lnTo>
                <a:lnTo>
                  <a:pt x="6994" y="12342"/>
                </a:lnTo>
                <a:lnTo>
                  <a:pt x="6917" y="12352"/>
                </a:lnTo>
                <a:lnTo>
                  <a:pt x="6839" y="12360"/>
                </a:lnTo>
                <a:lnTo>
                  <a:pt x="6761" y="12368"/>
                </a:lnTo>
                <a:lnTo>
                  <a:pt x="6683" y="12375"/>
                </a:lnTo>
                <a:lnTo>
                  <a:pt x="6604" y="12380"/>
                </a:lnTo>
                <a:lnTo>
                  <a:pt x="6525" y="12385"/>
                </a:lnTo>
                <a:lnTo>
                  <a:pt x="6446" y="12388"/>
                </a:lnTo>
                <a:lnTo>
                  <a:pt x="6366" y="12390"/>
                </a:lnTo>
                <a:lnTo>
                  <a:pt x="6287" y="12392"/>
                </a:lnTo>
                <a:lnTo>
                  <a:pt x="6206" y="12392"/>
                </a:lnTo>
                <a:lnTo>
                  <a:pt x="6126" y="12392"/>
                </a:lnTo>
                <a:lnTo>
                  <a:pt x="6046" y="12390"/>
                </a:lnTo>
                <a:lnTo>
                  <a:pt x="5967" y="12388"/>
                </a:lnTo>
                <a:lnTo>
                  <a:pt x="5888" y="12385"/>
                </a:lnTo>
                <a:lnTo>
                  <a:pt x="5809" y="12380"/>
                </a:lnTo>
                <a:lnTo>
                  <a:pt x="5730" y="12375"/>
                </a:lnTo>
                <a:lnTo>
                  <a:pt x="5651" y="12368"/>
                </a:lnTo>
                <a:lnTo>
                  <a:pt x="5573" y="12360"/>
                </a:lnTo>
                <a:lnTo>
                  <a:pt x="5495" y="12352"/>
                </a:lnTo>
                <a:lnTo>
                  <a:pt x="5417" y="12342"/>
                </a:lnTo>
                <a:lnTo>
                  <a:pt x="5341" y="12332"/>
                </a:lnTo>
                <a:lnTo>
                  <a:pt x="5264" y="12321"/>
                </a:lnTo>
                <a:lnTo>
                  <a:pt x="5187" y="12309"/>
                </a:lnTo>
                <a:lnTo>
                  <a:pt x="5110" y="12296"/>
                </a:lnTo>
                <a:lnTo>
                  <a:pt x="5034" y="12281"/>
                </a:lnTo>
                <a:lnTo>
                  <a:pt x="4958" y="12266"/>
                </a:lnTo>
                <a:lnTo>
                  <a:pt x="4883" y="12250"/>
                </a:lnTo>
                <a:lnTo>
                  <a:pt x="4807" y="12234"/>
                </a:lnTo>
                <a:lnTo>
                  <a:pt x="4733" y="12216"/>
                </a:lnTo>
                <a:lnTo>
                  <a:pt x="4658" y="12197"/>
                </a:lnTo>
                <a:lnTo>
                  <a:pt x="4585" y="12177"/>
                </a:lnTo>
                <a:lnTo>
                  <a:pt x="4510" y="12157"/>
                </a:lnTo>
                <a:lnTo>
                  <a:pt x="4437" y="12136"/>
                </a:lnTo>
                <a:lnTo>
                  <a:pt x="4364" y="12113"/>
                </a:lnTo>
                <a:lnTo>
                  <a:pt x="4292" y="12090"/>
                </a:lnTo>
                <a:lnTo>
                  <a:pt x="4220" y="12066"/>
                </a:lnTo>
                <a:lnTo>
                  <a:pt x="4147" y="12041"/>
                </a:lnTo>
                <a:lnTo>
                  <a:pt x="4076" y="12016"/>
                </a:lnTo>
                <a:lnTo>
                  <a:pt x="4005" y="11989"/>
                </a:lnTo>
                <a:lnTo>
                  <a:pt x="3935" y="11961"/>
                </a:lnTo>
                <a:lnTo>
                  <a:pt x="3865" y="11933"/>
                </a:lnTo>
                <a:lnTo>
                  <a:pt x="3795" y="11905"/>
                </a:lnTo>
                <a:lnTo>
                  <a:pt x="3726" y="11875"/>
                </a:lnTo>
                <a:lnTo>
                  <a:pt x="3657" y="11843"/>
                </a:lnTo>
                <a:lnTo>
                  <a:pt x="3588" y="11812"/>
                </a:lnTo>
                <a:lnTo>
                  <a:pt x="3520" y="11780"/>
                </a:lnTo>
                <a:lnTo>
                  <a:pt x="3452" y="11747"/>
                </a:lnTo>
                <a:lnTo>
                  <a:pt x="3385" y="11713"/>
                </a:lnTo>
                <a:lnTo>
                  <a:pt x="3318" y="11678"/>
                </a:lnTo>
                <a:lnTo>
                  <a:pt x="3253" y="11642"/>
                </a:lnTo>
                <a:lnTo>
                  <a:pt x="3187" y="11607"/>
                </a:lnTo>
                <a:lnTo>
                  <a:pt x="3121" y="11570"/>
                </a:lnTo>
                <a:lnTo>
                  <a:pt x="3057" y="11532"/>
                </a:lnTo>
                <a:lnTo>
                  <a:pt x="2992" y="11493"/>
                </a:lnTo>
                <a:lnTo>
                  <a:pt x="2929" y="11454"/>
                </a:lnTo>
                <a:lnTo>
                  <a:pt x="2865" y="11414"/>
                </a:lnTo>
                <a:lnTo>
                  <a:pt x="2803" y="11373"/>
                </a:lnTo>
                <a:lnTo>
                  <a:pt x="2741" y="11332"/>
                </a:lnTo>
                <a:lnTo>
                  <a:pt x="2679" y="11290"/>
                </a:lnTo>
                <a:lnTo>
                  <a:pt x="2618" y="11247"/>
                </a:lnTo>
                <a:lnTo>
                  <a:pt x="2557" y="11203"/>
                </a:lnTo>
                <a:lnTo>
                  <a:pt x="2497" y="11159"/>
                </a:lnTo>
                <a:lnTo>
                  <a:pt x="2438" y="11113"/>
                </a:lnTo>
                <a:lnTo>
                  <a:pt x="2379" y="11068"/>
                </a:lnTo>
                <a:lnTo>
                  <a:pt x="2321" y="11022"/>
                </a:lnTo>
                <a:lnTo>
                  <a:pt x="2263" y="10974"/>
                </a:lnTo>
                <a:lnTo>
                  <a:pt x="2205" y="10927"/>
                </a:lnTo>
                <a:lnTo>
                  <a:pt x="2148" y="10879"/>
                </a:lnTo>
                <a:lnTo>
                  <a:pt x="2093" y="10829"/>
                </a:lnTo>
                <a:lnTo>
                  <a:pt x="2037" y="10780"/>
                </a:lnTo>
                <a:lnTo>
                  <a:pt x="1983" y="10729"/>
                </a:lnTo>
                <a:lnTo>
                  <a:pt x="1928" y="10678"/>
                </a:lnTo>
                <a:lnTo>
                  <a:pt x="1875" y="10626"/>
                </a:lnTo>
                <a:lnTo>
                  <a:pt x="1821" y="10574"/>
                </a:lnTo>
                <a:lnTo>
                  <a:pt x="1769" y="10521"/>
                </a:lnTo>
                <a:lnTo>
                  <a:pt x="1718" y="10468"/>
                </a:lnTo>
                <a:lnTo>
                  <a:pt x="1667" y="10413"/>
                </a:lnTo>
                <a:lnTo>
                  <a:pt x="1616" y="10359"/>
                </a:lnTo>
                <a:lnTo>
                  <a:pt x="1566" y="10303"/>
                </a:lnTo>
                <a:lnTo>
                  <a:pt x="1517" y="10247"/>
                </a:lnTo>
                <a:lnTo>
                  <a:pt x="1468" y="10191"/>
                </a:lnTo>
                <a:lnTo>
                  <a:pt x="1421" y="10134"/>
                </a:lnTo>
                <a:lnTo>
                  <a:pt x="1374" y="10076"/>
                </a:lnTo>
                <a:lnTo>
                  <a:pt x="1327" y="10017"/>
                </a:lnTo>
                <a:lnTo>
                  <a:pt x="1281" y="9959"/>
                </a:lnTo>
                <a:lnTo>
                  <a:pt x="1236" y="9900"/>
                </a:lnTo>
                <a:lnTo>
                  <a:pt x="1192" y="9840"/>
                </a:lnTo>
                <a:lnTo>
                  <a:pt x="1148" y="9780"/>
                </a:lnTo>
                <a:lnTo>
                  <a:pt x="1106" y="9718"/>
                </a:lnTo>
                <a:lnTo>
                  <a:pt x="1063" y="9656"/>
                </a:lnTo>
                <a:lnTo>
                  <a:pt x="1021" y="9594"/>
                </a:lnTo>
                <a:lnTo>
                  <a:pt x="981" y="9532"/>
                </a:lnTo>
                <a:lnTo>
                  <a:pt x="941" y="9468"/>
                </a:lnTo>
                <a:lnTo>
                  <a:pt x="901" y="9405"/>
                </a:lnTo>
                <a:lnTo>
                  <a:pt x="863" y="9341"/>
                </a:lnTo>
                <a:lnTo>
                  <a:pt x="825" y="9276"/>
                </a:lnTo>
                <a:lnTo>
                  <a:pt x="788" y="9212"/>
                </a:lnTo>
                <a:lnTo>
                  <a:pt x="752" y="9145"/>
                </a:lnTo>
                <a:lnTo>
                  <a:pt x="716" y="9079"/>
                </a:lnTo>
                <a:lnTo>
                  <a:pt x="682" y="9013"/>
                </a:lnTo>
                <a:lnTo>
                  <a:pt x="647" y="8946"/>
                </a:lnTo>
                <a:lnTo>
                  <a:pt x="615" y="8878"/>
                </a:lnTo>
                <a:lnTo>
                  <a:pt x="582" y="8810"/>
                </a:lnTo>
                <a:lnTo>
                  <a:pt x="550" y="8742"/>
                </a:lnTo>
                <a:lnTo>
                  <a:pt x="520" y="8674"/>
                </a:lnTo>
                <a:lnTo>
                  <a:pt x="490" y="8604"/>
                </a:lnTo>
                <a:lnTo>
                  <a:pt x="461" y="8535"/>
                </a:lnTo>
                <a:lnTo>
                  <a:pt x="432" y="8464"/>
                </a:lnTo>
                <a:lnTo>
                  <a:pt x="404" y="8394"/>
                </a:lnTo>
                <a:lnTo>
                  <a:pt x="379" y="8323"/>
                </a:lnTo>
                <a:lnTo>
                  <a:pt x="352" y="8251"/>
                </a:lnTo>
                <a:lnTo>
                  <a:pt x="328" y="8180"/>
                </a:lnTo>
                <a:lnTo>
                  <a:pt x="304" y="8108"/>
                </a:lnTo>
                <a:lnTo>
                  <a:pt x="281" y="8035"/>
                </a:lnTo>
                <a:lnTo>
                  <a:pt x="259" y="7963"/>
                </a:lnTo>
                <a:lnTo>
                  <a:pt x="236" y="7889"/>
                </a:lnTo>
                <a:lnTo>
                  <a:pt x="216" y="7816"/>
                </a:lnTo>
                <a:lnTo>
                  <a:pt x="196" y="7741"/>
                </a:lnTo>
                <a:lnTo>
                  <a:pt x="178" y="7667"/>
                </a:lnTo>
                <a:lnTo>
                  <a:pt x="161" y="7592"/>
                </a:lnTo>
                <a:lnTo>
                  <a:pt x="143" y="7518"/>
                </a:lnTo>
                <a:lnTo>
                  <a:pt x="127" y="7442"/>
                </a:lnTo>
                <a:lnTo>
                  <a:pt x="112" y="7367"/>
                </a:lnTo>
                <a:lnTo>
                  <a:pt x="98" y="7290"/>
                </a:lnTo>
                <a:lnTo>
                  <a:pt x="85" y="7215"/>
                </a:lnTo>
                <a:lnTo>
                  <a:pt x="73" y="7138"/>
                </a:lnTo>
                <a:lnTo>
                  <a:pt x="62" y="7060"/>
                </a:lnTo>
                <a:lnTo>
                  <a:pt x="50" y="6983"/>
                </a:lnTo>
                <a:lnTo>
                  <a:pt x="42" y="6906"/>
                </a:lnTo>
                <a:lnTo>
                  <a:pt x="33" y="6828"/>
                </a:lnTo>
                <a:lnTo>
                  <a:pt x="26" y="6750"/>
                </a:lnTo>
                <a:lnTo>
                  <a:pt x="19" y="6671"/>
                </a:lnTo>
                <a:lnTo>
                  <a:pt x="14" y="6593"/>
                </a:lnTo>
                <a:lnTo>
                  <a:pt x="9" y="6514"/>
                </a:lnTo>
                <a:lnTo>
                  <a:pt x="5" y="6434"/>
                </a:lnTo>
                <a:lnTo>
                  <a:pt x="3" y="6355"/>
                </a:lnTo>
                <a:lnTo>
                  <a:pt x="1" y="6275"/>
                </a:lnTo>
                <a:lnTo>
                  <a:pt x="0" y="6197"/>
                </a:lnTo>
                <a:lnTo>
                  <a:pt x="1" y="6117"/>
                </a:lnTo>
                <a:lnTo>
                  <a:pt x="3" y="6037"/>
                </a:lnTo>
                <a:lnTo>
                  <a:pt x="5" y="5958"/>
                </a:lnTo>
                <a:lnTo>
                  <a:pt x="9" y="5878"/>
                </a:lnTo>
                <a:lnTo>
                  <a:pt x="14" y="5799"/>
                </a:lnTo>
                <a:lnTo>
                  <a:pt x="19" y="5721"/>
                </a:lnTo>
                <a:lnTo>
                  <a:pt x="26" y="5642"/>
                </a:lnTo>
                <a:lnTo>
                  <a:pt x="33" y="5564"/>
                </a:lnTo>
                <a:lnTo>
                  <a:pt x="42" y="5486"/>
                </a:lnTo>
                <a:lnTo>
                  <a:pt x="50" y="5409"/>
                </a:lnTo>
                <a:lnTo>
                  <a:pt x="62" y="5332"/>
                </a:lnTo>
                <a:lnTo>
                  <a:pt x="73" y="5254"/>
                </a:lnTo>
                <a:lnTo>
                  <a:pt x="85" y="5177"/>
                </a:lnTo>
                <a:lnTo>
                  <a:pt x="98" y="5102"/>
                </a:lnTo>
                <a:lnTo>
                  <a:pt x="112" y="5025"/>
                </a:lnTo>
                <a:lnTo>
                  <a:pt x="127" y="4950"/>
                </a:lnTo>
                <a:lnTo>
                  <a:pt x="143" y="4874"/>
                </a:lnTo>
                <a:lnTo>
                  <a:pt x="161" y="4800"/>
                </a:lnTo>
                <a:lnTo>
                  <a:pt x="178" y="4725"/>
                </a:lnTo>
                <a:lnTo>
                  <a:pt x="196" y="4651"/>
                </a:lnTo>
                <a:lnTo>
                  <a:pt x="216" y="4576"/>
                </a:lnTo>
                <a:lnTo>
                  <a:pt x="236" y="4503"/>
                </a:lnTo>
                <a:lnTo>
                  <a:pt x="259" y="4429"/>
                </a:lnTo>
                <a:lnTo>
                  <a:pt x="281" y="4357"/>
                </a:lnTo>
                <a:lnTo>
                  <a:pt x="304" y="4284"/>
                </a:lnTo>
                <a:lnTo>
                  <a:pt x="328" y="4213"/>
                </a:lnTo>
                <a:lnTo>
                  <a:pt x="352" y="4141"/>
                </a:lnTo>
                <a:lnTo>
                  <a:pt x="379" y="4069"/>
                </a:lnTo>
                <a:lnTo>
                  <a:pt x="404" y="3998"/>
                </a:lnTo>
                <a:lnTo>
                  <a:pt x="432" y="3928"/>
                </a:lnTo>
                <a:lnTo>
                  <a:pt x="461" y="3857"/>
                </a:lnTo>
                <a:lnTo>
                  <a:pt x="490" y="3788"/>
                </a:lnTo>
                <a:lnTo>
                  <a:pt x="520" y="3718"/>
                </a:lnTo>
                <a:lnTo>
                  <a:pt x="550" y="3650"/>
                </a:lnTo>
                <a:lnTo>
                  <a:pt x="582" y="3582"/>
                </a:lnTo>
                <a:lnTo>
                  <a:pt x="615" y="3514"/>
                </a:lnTo>
                <a:lnTo>
                  <a:pt x="647" y="3446"/>
                </a:lnTo>
                <a:lnTo>
                  <a:pt x="682" y="3379"/>
                </a:lnTo>
                <a:lnTo>
                  <a:pt x="716" y="3313"/>
                </a:lnTo>
                <a:lnTo>
                  <a:pt x="752" y="3247"/>
                </a:lnTo>
                <a:lnTo>
                  <a:pt x="788" y="3181"/>
                </a:lnTo>
                <a:lnTo>
                  <a:pt x="825" y="3116"/>
                </a:lnTo>
                <a:lnTo>
                  <a:pt x="863" y="3051"/>
                </a:lnTo>
                <a:lnTo>
                  <a:pt x="901" y="2987"/>
                </a:lnTo>
                <a:lnTo>
                  <a:pt x="941" y="2924"/>
                </a:lnTo>
                <a:lnTo>
                  <a:pt x="981" y="2860"/>
                </a:lnTo>
                <a:lnTo>
                  <a:pt x="1021" y="2798"/>
                </a:lnTo>
                <a:lnTo>
                  <a:pt x="1063" y="2736"/>
                </a:lnTo>
                <a:lnTo>
                  <a:pt x="1106" y="2674"/>
                </a:lnTo>
                <a:lnTo>
                  <a:pt x="1148" y="2613"/>
                </a:lnTo>
                <a:lnTo>
                  <a:pt x="1192" y="2552"/>
                </a:lnTo>
                <a:lnTo>
                  <a:pt x="1236" y="2492"/>
                </a:lnTo>
                <a:lnTo>
                  <a:pt x="1281" y="2433"/>
                </a:lnTo>
                <a:lnTo>
                  <a:pt x="1327" y="2375"/>
                </a:lnTo>
                <a:lnTo>
                  <a:pt x="1374" y="2316"/>
                </a:lnTo>
                <a:lnTo>
                  <a:pt x="1421" y="2258"/>
                </a:lnTo>
                <a:lnTo>
                  <a:pt x="1468" y="2201"/>
                </a:lnTo>
                <a:lnTo>
                  <a:pt x="1517" y="2145"/>
                </a:lnTo>
                <a:lnTo>
                  <a:pt x="1566" y="2089"/>
                </a:lnTo>
                <a:lnTo>
                  <a:pt x="1616" y="2033"/>
                </a:lnTo>
                <a:lnTo>
                  <a:pt x="1667" y="1979"/>
                </a:lnTo>
                <a:lnTo>
                  <a:pt x="1718" y="1924"/>
                </a:lnTo>
                <a:lnTo>
                  <a:pt x="1769" y="1871"/>
                </a:lnTo>
                <a:lnTo>
                  <a:pt x="1821" y="1818"/>
                </a:lnTo>
                <a:lnTo>
                  <a:pt x="1875" y="1766"/>
                </a:lnTo>
                <a:lnTo>
                  <a:pt x="1928" y="1714"/>
                </a:lnTo>
                <a:lnTo>
                  <a:pt x="1983" y="1663"/>
                </a:lnTo>
                <a:lnTo>
                  <a:pt x="2037" y="1612"/>
                </a:lnTo>
                <a:lnTo>
                  <a:pt x="2093" y="1563"/>
                </a:lnTo>
                <a:lnTo>
                  <a:pt x="2148" y="1513"/>
                </a:lnTo>
                <a:lnTo>
                  <a:pt x="2205" y="1465"/>
                </a:lnTo>
                <a:lnTo>
                  <a:pt x="2263" y="1418"/>
                </a:lnTo>
                <a:lnTo>
                  <a:pt x="2321" y="1371"/>
                </a:lnTo>
                <a:lnTo>
                  <a:pt x="2379" y="1324"/>
                </a:lnTo>
                <a:lnTo>
                  <a:pt x="2438" y="1279"/>
                </a:lnTo>
                <a:lnTo>
                  <a:pt x="2497" y="1233"/>
                </a:lnTo>
                <a:lnTo>
                  <a:pt x="2557" y="1189"/>
                </a:lnTo>
                <a:lnTo>
                  <a:pt x="2618" y="1145"/>
                </a:lnTo>
                <a:lnTo>
                  <a:pt x="2679" y="1102"/>
                </a:lnTo>
                <a:lnTo>
                  <a:pt x="2741" y="1060"/>
                </a:lnTo>
                <a:lnTo>
                  <a:pt x="2803" y="1019"/>
                </a:lnTo>
                <a:lnTo>
                  <a:pt x="2865" y="978"/>
                </a:lnTo>
                <a:lnTo>
                  <a:pt x="2929" y="938"/>
                </a:lnTo>
                <a:lnTo>
                  <a:pt x="2992" y="899"/>
                </a:lnTo>
                <a:lnTo>
                  <a:pt x="3057" y="860"/>
                </a:lnTo>
                <a:lnTo>
                  <a:pt x="3121" y="822"/>
                </a:lnTo>
                <a:lnTo>
                  <a:pt x="3187" y="785"/>
                </a:lnTo>
                <a:lnTo>
                  <a:pt x="3253" y="750"/>
                </a:lnTo>
                <a:lnTo>
                  <a:pt x="3318" y="714"/>
                </a:lnTo>
                <a:lnTo>
                  <a:pt x="3385" y="679"/>
                </a:lnTo>
                <a:lnTo>
                  <a:pt x="3452" y="645"/>
                </a:lnTo>
                <a:lnTo>
                  <a:pt x="3520" y="612"/>
                </a:lnTo>
                <a:lnTo>
                  <a:pt x="3588" y="580"/>
                </a:lnTo>
                <a:lnTo>
                  <a:pt x="3657" y="549"/>
                </a:lnTo>
                <a:lnTo>
                  <a:pt x="3726" y="517"/>
                </a:lnTo>
                <a:lnTo>
                  <a:pt x="3795" y="487"/>
                </a:lnTo>
                <a:lnTo>
                  <a:pt x="3865" y="459"/>
                </a:lnTo>
                <a:lnTo>
                  <a:pt x="3935" y="431"/>
                </a:lnTo>
                <a:lnTo>
                  <a:pt x="4005" y="403"/>
                </a:lnTo>
                <a:lnTo>
                  <a:pt x="4076" y="376"/>
                </a:lnTo>
                <a:lnTo>
                  <a:pt x="4147" y="351"/>
                </a:lnTo>
                <a:lnTo>
                  <a:pt x="4220" y="326"/>
                </a:lnTo>
                <a:lnTo>
                  <a:pt x="4292" y="302"/>
                </a:lnTo>
                <a:lnTo>
                  <a:pt x="4364" y="279"/>
                </a:lnTo>
                <a:lnTo>
                  <a:pt x="4437" y="256"/>
                </a:lnTo>
                <a:lnTo>
                  <a:pt x="4510" y="235"/>
                </a:lnTo>
                <a:lnTo>
                  <a:pt x="4585" y="215"/>
                </a:lnTo>
                <a:lnTo>
                  <a:pt x="4658" y="195"/>
                </a:lnTo>
                <a:lnTo>
                  <a:pt x="4733" y="176"/>
                </a:lnTo>
                <a:lnTo>
                  <a:pt x="4807" y="158"/>
                </a:lnTo>
                <a:lnTo>
                  <a:pt x="4883" y="142"/>
                </a:lnTo>
                <a:lnTo>
                  <a:pt x="4958" y="126"/>
                </a:lnTo>
                <a:lnTo>
                  <a:pt x="5034" y="111"/>
                </a:lnTo>
                <a:lnTo>
                  <a:pt x="5110" y="96"/>
                </a:lnTo>
                <a:lnTo>
                  <a:pt x="5187" y="83"/>
                </a:lnTo>
                <a:lnTo>
                  <a:pt x="5264" y="71"/>
                </a:lnTo>
                <a:lnTo>
                  <a:pt x="5341" y="60"/>
                </a:lnTo>
                <a:lnTo>
                  <a:pt x="5417" y="50"/>
                </a:lnTo>
                <a:lnTo>
                  <a:pt x="5495" y="40"/>
                </a:lnTo>
                <a:lnTo>
                  <a:pt x="5573" y="32"/>
                </a:lnTo>
                <a:lnTo>
                  <a:pt x="5651" y="24"/>
                </a:lnTo>
                <a:lnTo>
                  <a:pt x="5730" y="17"/>
                </a:lnTo>
                <a:lnTo>
                  <a:pt x="5809" y="12"/>
                </a:lnTo>
                <a:lnTo>
                  <a:pt x="5888" y="7"/>
                </a:lnTo>
                <a:lnTo>
                  <a:pt x="5967" y="4"/>
                </a:lnTo>
                <a:lnTo>
                  <a:pt x="6046" y="2"/>
                </a:lnTo>
                <a:lnTo>
                  <a:pt x="6126" y="0"/>
                </a:lnTo>
                <a:lnTo>
                  <a:pt x="620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281480" y="2705040"/>
            <a:ext cx="2717640" cy="2712960"/>
          </a:xfrm>
          <a:custGeom>
            <a:avLst/>
            <a:gdLst/>
            <a:ahLst/>
            <a:rect l="l" t="t" r="r" b="b"/>
            <a:pathLst>
              <a:path w="6848" h="6838">
                <a:moveTo>
                  <a:pt x="3424" y="0"/>
                </a:moveTo>
                <a:lnTo>
                  <a:pt x="3600" y="4"/>
                </a:lnTo>
                <a:lnTo>
                  <a:pt x="3773" y="18"/>
                </a:lnTo>
                <a:lnTo>
                  <a:pt x="3944" y="40"/>
                </a:lnTo>
                <a:lnTo>
                  <a:pt x="4112" y="70"/>
                </a:lnTo>
                <a:lnTo>
                  <a:pt x="4278" y="108"/>
                </a:lnTo>
                <a:lnTo>
                  <a:pt x="4441" y="154"/>
                </a:lnTo>
                <a:lnTo>
                  <a:pt x="4600" y="208"/>
                </a:lnTo>
                <a:lnTo>
                  <a:pt x="4754" y="270"/>
                </a:lnTo>
                <a:lnTo>
                  <a:pt x="4906" y="338"/>
                </a:lnTo>
                <a:lnTo>
                  <a:pt x="5054" y="413"/>
                </a:lnTo>
                <a:lnTo>
                  <a:pt x="5197" y="497"/>
                </a:lnTo>
                <a:lnTo>
                  <a:pt x="5337" y="586"/>
                </a:lnTo>
                <a:lnTo>
                  <a:pt x="5470" y="681"/>
                </a:lnTo>
                <a:lnTo>
                  <a:pt x="5600" y="782"/>
                </a:lnTo>
                <a:lnTo>
                  <a:pt x="5724" y="890"/>
                </a:lnTo>
                <a:lnTo>
                  <a:pt x="5843" y="1003"/>
                </a:lnTo>
                <a:lnTo>
                  <a:pt x="5957" y="1122"/>
                </a:lnTo>
                <a:lnTo>
                  <a:pt x="6064" y="1247"/>
                </a:lnTo>
                <a:lnTo>
                  <a:pt x="6166" y="1376"/>
                </a:lnTo>
                <a:lnTo>
                  <a:pt x="6261" y="1510"/>
                </a:lnTo>
                <a:lnTo>
                  <a:pt x="6352" y="1648"/>
                </a:lnTo>
                <a:lnTo>
                  <a:pt x="6434" y="1791"/>
                </a:lnTo>
                <a:lnTo>
                  <a:pt x="6510" y="1939"/>
                </a:lnTo>
                <a:lnTo>
                  <a:pt x="6579" y="2090"/>
                </a:lnTo>
                <a:lnTo>
                  <a:pt x="6640" y="2246"/>
                </a:lnTo>
                <a:lnTo>
                  <a:pt x="6693" y="2404"/>
                </a:lnTo>
                <a:lnTo>
                  <a:pt x="6740" y="2566"/>
                </a:lnTo>
                <a:lnTo>
                  <a:pt x="6778" y="2732"/>
                </a:lnTo>
                <a:lnTo>
                  <a:pt x="6808" y="2899"/>
                </a:lnTo>
                <a:lnTo>
                  <a:pt x="6830" y="3071"/>
                </a:lnTo>
                <a:lnTo>
                  <a:pt x="6844" y="3244"/>
                </a:lnTo>
                <a:lnTo>
                  <a:pt x="6848" y="3420"/>
                </a:lnTo>
                <a:lnTo>
                  <a:pt x="6844" y="3594"/>
                </a:lnTo>
                <a:lnTo>
                  <a:pt x="6830" y="3767"/>
                </a:lnTo>
                <a:lnTo>
                  <a:pt x="6808" y="3939"/>
                </a:lnTo>
                <a:lnTo>
                  <a:pt x="6778" y="4106"/>
                </a:lnTo>
                <a:lnTo>
                  <a:pt x="6740" y="4272"/>
                </a:lnTo>
                <a:lnTo>
                  <a:pt x="6693" y="4434"/>
                </a:lnTo>
                <a:lnTo>
                  <a:pt x="6640" y="4592"/>
                </a:lnTo>
                <a:lnTo>
                  <a:pt x="6579" y="4748"/>
                </a:lnTo>
                <a:lnTo>
                  <a:pt x="6510" y="4899"/>
                </a:lnTo>
                <a:lnTo>
                  <a:pt x="6434" y="5047"/>
                </a:lnTo>
                <a:lnTo>
                  <a:pt x="6352" y="5190"/>
                </a:lnTo>
                <a:lnTo>
                  <a:pt x="6261" y="5329"/>
                </a:lnTo>
                <a:lnTo>
                  <a:pt x="6166" y="5462"/>
                </a:lnTo>
                <a:lnTo>
                  <a:pt x="6064" y="5591"/>
                </a:lnTo>
                <a:lnTo>
                  <a:pt x="5957" y="5716"/>
                </a:lnTo>
                <a:lnTo>
                  <a:pt x="5843" y="5835"/>
                </a:lnTo>
                <a:lnTo>
                  <a:pt x="5724" y="5948"/>
                </a:lnTo>
                <a:lnTo>
                  <a:pt x="5600" y="6056"/>
                </a:lnTo>
                <a:lnTo>
                  <a:pt x="5470" y="6157"/>
                </a:lnTo>
                <a:lnTo>
                  <a:pt x="5337" y="6252"/>
                </a:lnTo>
                <a:lnTo>
                  <a:pt x="5197" y="6341"/>
                </a:lnTo>
                <a:lnTo>
                  <a:pt x="5054" y="6425"/>
                </a:lnTo>
                <a:lnTo>
                  <a:pt x="4906" y="6500"/>
                </a:lnTo>
                <a:lnTo>
                  <a:pt x="4754" y="6568"/>
                </a:lnTo>
                <a:lnTo>
                  <a:pt x="4600" y="6630"/>
                </a:lnTo>
                <a:lnTo>
                  <a:pt x="4441" y="6684"/>
                </a:lnTo>
                <a:lnTo>
                  <a:pt x="4278" y="6730"/>
                </a:lnTo>
                <a:lnTo>
                  <a:pt x="4112" y="6768"/>
                </a:lnTo>
                <a:lnTo>
                  <a:pt x="3944" y="6798"/>
                </a:lnTo>
                <a:lnTo>
                  <a:pt x="3773" y="6820"/>
                </a:lnTo>
                <a:lnTo>
                  <a:pt x="3600" y="6834"/>
                </a:lnTo>
                <a:lnTo>
                  <a:pt x="3424" y="6838"/>
                </a:lnTo>
                <a:lnTo>
                  <a:pt x="3249" y="6834"/>
                </a:lnTo>
                <a:lnTo>
                  <a:pt x="3075" y="6820"/>
                </a:lnTo>
                <a:lnTo>
                  <a:pt x="2904" y="6798"/>
                </a:lnTo>
                <a:lnTo>
                  <a:pt x="2736" y="6768"/>
                </a:lnTo>
                <a:lnTo>
                  <a:pt x="2570" y="6730"/>
                </a:lnTo>
                <a:lnTo>
                  <a:pt x="2408" y="6684"/>
                </a:lnTo>
                <a:lnTo>
                  <a:pt x="2249" y="6630"/>
                </a:lnTo>
                <a:lnTo>
                  <a:pt x="2093" y="6568"/>
                </a:lnTo>
                <a:lnTo>
                  <a:pt x="1942" y="6500"/>
                </a:lnTo>
                <a:lnTo>
                  <a:pt x="1794" y="6425"/>
                </a:lnTo>
                <a:lnTo>
                  <a:pt x="1651" y="6341"/>
                </a:lnTo>
                <a:lnTo>
                  <a:pt x="1512" y="6252"/>
                </a:lnTo>
                <a:lnTo>
                  <a:pt x="1378" y="6157"/>
                </a:lnTo>
                <a:lnTo>
                  <a:pt x="1249" y="6056"/>
                </a:lnTo>
                <a:lnTo>
                  <a:pt x="1124" y="5948"/>
                </a:lnTo>
                <a:lnTo>
                  <a:pt x="1005" y="5835"/>
                </a:lnTo>
                <a:lnTo>
                  <a:pt x="891" y="5716"/>
                </a:lnTo>
                <a:lnTo>
                  <a:pt x="783" y="5591"/>
                </a:lnTo>
                <a:lnTo>
                  <a:pt x="682" y="5462"/>
                </a:lnTo>
                <a:lnTo>
                  <a:pt x="586" y="5329"/>
                </a:lnTo>
                <a:lnTo>
                  <a:pt x="497" y="5190"/>
                </a:lnTo>
                <a:lnTo>
                  <a:pt x="415" y="5047"/>
                </a:lnTo>
                <a:lnTo>
                  <a:pt x="339" y="4899"/>
                </a:lnTo>
                <a:lnTo>
                  <a:pt x="270" y="4748"/>
                </a:lnTo>
                <a:lnTo>
                  <a:pt x="209" y="4592"/>
                </a:lnTo>
                <a:lnTo>
                  <a:pt x="154" y="4434"/>
                </a:lnTo>
                <a:lnTo>
                  <a:pt x="109" y="4272"/>
                </a:lnTo>
                <a:lnTo>
                  <a:pt x="70" y="4106"/>
                </a:lnTo>
                <a:lnTo>
                  <a:pt x="40" y="3939"/>
                </a:lnTo>
                <a:lnTo>
                  <a:pt x="18" y="3767"/>
                </a:lnTo>
                <a:lnTo>
                  <a:pt x="4" y="3594"/>
                </a:lnTo>
                <a:lnTo>
                  <a:pt x="0" y="3420"/>
                </a:lnTo>
                <a:lnTo>
                  <a:pt x="4" y="3244"/>
                </a:lnTo>
                <a:lnTo>
                  <a:pt x="18" y="3071"/>
                </a:lnTo>
                <a:lnTo>
                  <a:pt x="40" y="2899"/>
                </a:lnTo>
                <a:lnTo>
                  <a:pt x="70" y="2732"/>
                </a:lnTo>
                <a:lnTo>
                  <a:pt x="109" y="2566"/>
                </a:lnTo>
                <a:lnTo>
                  <a:pt x="154" y="2404"/>
                </a:lnTo>
                <a:lnTo>
                  <a:pt x="209" y="2246"/>
                </a:lnTo>
                <a:lnTo>
                  <a:pt x="270" y="2090"/>
                </a:lnTo>
                <a:lnTo>
                  <a:pt x="339" y="1939"/>
                </a:lnTo>
                <a:lnTo>
                  <a:pt x="415" y="1791"/>
                </a:lnTo>
                <a:lnTo>
                  <a:pt x="497" y="1648"/>
                </a:lnTo>
                <a:lnTo>
                  <a:pt x="586" y="1510"/>
                </a:lnTo>
                <a:lnTo>
                  <a:pt x="682" y="1376"/>
                </a:lnTo>
                <a:lnTo>
                  <a:pt x="783" y="1247"/>
                </a:lnTo>
                <a:lnTo>
                  <a:pt x="891" y="1122"/>
                </a:lnTo>
                <a:lnTo>
                  <a:pt x="1005" y="1003"/>
                </a:lnTo>
                <a:lnTo>
                  <a:pt x="1124" y="890"/>
                </a:lnTo>
                <a:lnTo>
                  <a:pt x="1249" y="782"/>
                </a:lnTo>
                <a:lnTo>
                  <a:pt x="1378" y="681"/>
                </a:lnTo>
                <a:lnTo>
                  <a:pt x="1512" y="586"/>
                </a:lnTo>
                <a:lnTo>
                  <a:pt x="1651" y="497"/>
                </a:lnTo>
                <a:lnTo>
                  <a:pt x="1794" y="413"/>
                </a:lnTo>
                <a:lnTo>
                  <a:pt x="1942" y="338"/>
                </a:lnTo>
                <a:lnTo>
                  <a:pt x="2093" y="270"/>
                </a:lnTo>
                <a:lnTo>
                  <a:pt x="2249" y="208"/>
                </a:lnTo>
                <a:lnTo>
                  <a:pt x="2408" y="154"/>
                </a:lnTo>
                <a:lnTo>
                  <a:pt x="2570" y="108"/>
                </a:lnTo>
                <a:lnTo>
                  <a:pt x="2736" y="70"/>
                </a:lnTo>
                <a:lnTo>
                  <a:pt x="2904" y="40"/>
                </a:lnTo>
                <a:lnTo>
                  <a:pt x="3075" y="18"/>
                </a:lnTo>
                <a:lnTo>
                  <a:pt x="3249" y="4"/>
                </a:lnTo>
                <a:lnTo>
                  <a:pt x="3424" y="0"/>
                </a:lnTo>
                <a:close/>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281480" y="2705040"/>
            <a:ext cx="2717640" cy="2712960"/>
          </a:xfrm>
          <a:custGeom>
            <a:avLst/>
            <a:gdLst/>
            <a:ahLst/>
            <a:rect l="l" t="t" r="r" b="b"/>
            <a:pathLst>
              <a:path w="6848" h="6838">
                <a:moveTo>
                  <a:pt x="3424" y="0"/>
                </a:moveTo>
                <a:lnTo>
                  <a:pt x="3512" y="1"/>
                </a:lnTo>
                <a:lnTo>
                  <a:pt x="3600" y="4"/>
                </a:lnTo>
                <a:lnTo>
                  <a:pt x="3687" y="10"/>
                </a:lnTo>
                <a:lnTo>
                  <a:pt x="3773" y="18"/>
                </a:lnTo>
                <a:lnTo>
                  <a:pt x="3860" y="28"/>
                </a:lnTo>
                <a:lnTo>
                  <a:pt x="3944" y="40"/>
                </a:lnTo>
                <a:lnTo>
                  <a:pt x="4029" y="53"/>
                </a:lnTo>
                <a:lnTo>
                  <a:pt x="4112" y="70"/>
                </a:lnTo>
                <a:lnTo>
                  <a:pt x="4196" y="88"/>
                </a:lnTo>
                <a:lnTo>
                  <a:pt x="4278" y="108"/>
                </a:lnTo>
                <a:lnTo>
                  <a:pt x="4359" y="130"/>
                </a:lnTo>
                <a:lnTo>
                  <a:pt x="4441" y="154"/>
                </a:lnTo>
                <a:lnTo>
                  <a:pt x="4521" y="180"/>
                </a:lnTo>
                <a:lnTo>
                  <a:pt x="4600" y="208"/>
                </a:lnTo>
                <a:lnTo>
                  <a:pt x="4678" y="238"/>
                </a:lnTo>
                <a:lnTo>
                  <a:pt x="4754" y="270"/>
                </a:lnTo>
                <a:lnTo>
                  <a:pt x="4831" y="303"/>
                </a:lnTo>
                <a:lnTo>
                  <a:pt x="4906" y="338"/>
                </a:lnTo>
                <a:lnTo>
                  <a:pt x="4980" y="376"/>
                </a:lnTo>
                <a:lnTo>
                  <a:pt x="5054" y="413"/>
                </a:lnTo>
                <a:lnTo>
                  <a:pt x="5126" y="454"/>
                </a:lnTo>
                <a:lnTo>
                  <a:pt x="5197" y="497"/>
                </a:lnTo>
                <a:lnTo>
                  <a:pt x="5268" y="540"/>
                </a:lnTo>
                <a:lnTo>
                  <a:pt x="5337" y="586"/>
                </a:lnTo>
                <a:lnTo>
                  <a:pt x="5403" y="632"/>
                </a:lnTo>
                <a:lnTo>
                  <a:pt x="5470" y="681"/>
                </a:lnTo>
                <a:lnTo>
                  <a:pt x="5536" y="731"/>
                </a:lnTo>
                <a:lnTo>
                  <a:pt x="5600" y="782"/>
                </a:lnTo>
                <a:lnTo>
                  <a:pt x="5663" y="836"/>
                </a:lnTo>
                <a:lnTo>
                  <a:pt x="5724" y="890"/>
                </a:lnTo>
                <a:lnTo>
                  <a:pt x="5784" y="946"/>
                </a:lnTo>
                <a:lnTo>
                  <a:pt x="5843" y="1003"/>
                </a:lnTo>
                <a:lnTo>
                  <a:pt x="5901" y="1062"/>
                </a:lnTo>
                <a:lnTo>
                  <a:pt x="5957" y="1122"/>
                </a:lnTo>
                <a:lnTo>
                  <a:pt x="6011" y="1183"/>
                </a:lnTo>
                <a:lnTo>
                  <a:pt x="6064" y="1247"/>
                </a:lnTo>
                <a:lnTo>
                  <a:pt x="6116" y="1310"/>
                </a:lnTo>
                <a:lnTo>
                  <a:pt x="6166" y="1376"/>
                </a:lnTo>
                <a:lnTo>
                  <a:pt x="6215" y="1442"/>
                </a:lnTo>
                <a:lnTo>
                  <a:pt x="6261" y="1510"/>
                </a:lnTo>
                <a:lnTo>
                  <a:pt x="6307" y="1578"/>
                </a:lnTo>
                <a:lnTo>
                  <a:pt x="6352" y="1648"/>
                </a:lnTo>
                <a:lnTo>
                  <a:pt x="6393" y="1719"/>
                </a:lnTo>
                <a:lnTo>
                  <a:pt x="6434" y="1791"/>
                </a:lnTo>
                <a:lnTo>
                  <a:pt x="6473" y="1865"/>
                </a:lnTo>
                <a:lnTo>
                  <a:pt x="6510" y="1939"/>
                </a:lnTo>
                <a:lnTo>
                  <a:pt x="6544" y="2014"/>
                </a:lnTo>
                <a:lnTo>
                  <a:pt x="6579" y="2090"/>
                </a:lnTo>
                <a:lnTo>
                  <a:pt x="6610" y="2167"/>
                </a:lnTo>
                <a:lnTo>
                  <a:pt x="6640" y="2246"/>
                </a:lnTo>
                <a:lnTo>
                  <a:pt x="6668" y="2325"/>
                </a:lnTo>
                <a:lnTo>
                  <a:pt x="6693" y="2404"/>
                </a:lnTo>
                <a:lnTo>
                  <a:pt x="6718" y="2485"/>
                </a:lnTo>
                <a:lnTo>
                  <a:pt x="6740" y="2566"/>
                </a:lnTo>
                <a:lnTo>
                  <a:pt x="6760" y="2648"/>
                </a:lnTo>
                <a:lnTo>
                  <a:pt x="6778" y="2732"/>
                </a:lnTo>
                <a:lnTo>
                  <a:pt x="6795" y="2815"/>
                </a:lnTo>
                <a:lnTo>
                  <a:pt x="6808" y="2899"/>
                </a:lnTo>
                <a:lnTo>
                  <a:pt x="6820" y="2985"/>
                </a:lnTo>
                <a:lnTo>
                  <a:pt x="6830" y="3071"/>
                </a:lnTo>
                <a:lnTo>
                  <a:pt x="6838" y="3156"/>
                </a:lnTo>
                <a:lnTo>
                  <a:pt x="6844" y="3244"/>
                </a:lnTo>
                <a:lnTo>
                  <a:pt x="6847" y="3331"/>
                </a:lnTo>
                <a:lnTo>
                  <a:pt x="6848" y="3420"/>
                </a:lnTo>
                <a:lnTo>
                  <a:pt x="6847" y="3507"/>
                </a:lnTo>
                <a:lnTo>
                  <a:pt x="6844" y="3594"/>
                </a:lnTo>
                <a:lnTo>
                  <a:pt x="6838" y="3682"/>
                </a:lnTo>
                <a:lnTo>
                  <a:pt x="6830" y="3767"/>
                </a:lnTo>
                <a:lnTo>
                  <a:pt x="6820" y="3853"/>
                </a:lnTo>
                <a:lnTo>
                  <a:pt x="6808" y="3939"/>
                </a:lnTo>
                <a:lnTo>
                  <a:pt x="6795" y="4023"/>
                </a:lnTo>
                <a:lnTo>
                  <a:pt x="6778" y="4106"/>
                </a:lnTo>
                <a:lnTo>
                  <a:pt x="6760" y="4190"/>
                </a:lnTo>
                <a:lnTo>
                  <a:pt x="6740" y="4272"/>
                </a:lnTo>
                <a:lnTo>
                  <a:pt x="6718" y="4353"/>
                </a:lnTo>
                <a:lnTo>
                  <a:pt x="6693" y="4434"/>
                </a:lnTo>
                <a:lnTo>
                  <a:pt x="6668" y="4513"/>
                </a:lnTo>
                <a:lnTo>
                  <a:pt x="6640" y="4592"/>
                </a:lnTo>
                <a:lnTo>
                  <a:pt x="6610" y="4671"/>
                </a:lnTo>
                <a:lnTo>
                  <a:pt x="6579" y="4748"/>
                </a:lnTo>
                <a:lnTo>
                  <a:pt x="6544" y="4824"/>
                </a:lnTo>
                <a:lnTo>
                  <a:pt x="6510" y="4899"/>
                </a:lnTo>
                <a:lnTo>
                  <a:pt x="6473" y="4973"/>
                </a:lnTo>
                <a:lnTo>
                  <a:pt x="6434" y="5047"/>
                </a:lnTo>
                <a:lnTo>
                  <a:pt x="6393" y="5119"/>
                </a:lnTo>
                <a:lnTo>
                  <a:pt x="6352" y="5190"/>
                </a:lnTo>
                <a:lnTo>
                  <a:pt x="6307" y="5260"/>
                </a:lnTo>
                <a:lnTo>
                  <a:pt x="6261" y="5329"/>
                </a:lnTo>
                <a:lnTo>
                  <a:pt x="6215" y="5396"/>
                </a:lnTo>
                <a:lnTo>
                  <a:pt x="6166" y="5462"/>
                </a:lnTo>
                <a:lnTo>
                  <a:pt x="6116" y="5528"/>
                </a:lnTo>
                <a:lnTo>
                  <a:pt x="6064" y="5591"/>
                </a:lnTo>
                <a:lnTo>
                  <a:pt x="6011" y="5655"/>
                </a:lnTo>
                <a:lnTo>
                  <a:pt x="5957" y="5716"/>
                </a:lnTo>
                <a:lnTo>
                  <a:pt x="5901" y="5776"/>
                </a:lnTo>
                <a:lnTo>
                  <a:pt x="5843" y="5835"/>
                </a:lnTo>
                <a:lnTo>
                  <a:pt x="5784" y="5892"/>
                </a:lnTo>
                <a:lnTo>
                  <a:pt x="5724" y="5948"/>
                </a:lnTo>
                <a:lnTo>
                  <a:pt x="5663" y="6002"/>
                </a:lnTo>
                <a:lnTo>
                  <a:pt x="5600" y="6056"/>
                </a:lnTo>
                <a:lnTo>
                  <a:pt x="5536" y="6107"/>
                </a:lnTo>
                <a:lnTo>
                  <a:pt x="5470" y="6157"/>
                </a:lnTo>
                <a:lnTo>
                  <a:pt x="5403" y="6206"/>
                </a:lnTo>
                <a:lnTo>
                  <a:pt x="5337" y="6252"/>
                </a:lnTo>
                <a:lnTo>
                  <a:pt x="5268" y="6298"/>
                </a:lnTo>
                <a:lnTo>
                  <a:pt x="5197" y="6341"/>
                </a:lnTo>
                <a:lnTo>
                  <a:pt x="5126" y="6384"/>
                </a:lnTo>
                <a:lnTo>
                  <a:pt x="5054" y="6425"/>
                </a:lnTo>
                <a:lnTo>
                  <a:pt x="4980" y="6464"/>
                </a:lnTo>
                <a:lnTo>
                  <a:pt x="4906" y="6500"/>
                </a:lnTo>
                <a:lnTo>
                  <a:pt x="4831" y="6535"/>
                </a:lnTo>
                <a:lnTo>
                  <a:pt x="4754" y="6568"/>
                </a:lnTo>
                <a:lnTo>
                  <a:pt x="4678" y="6600"/>
                </a:lnTo>
                <a:lnTo>
                  <a:pt x="4600" y="6630"/>
                </a:lnTo>
                <a:lnTo>
                  <a:pt x="4521" y="6658"/>
                </a:lnTo>
                <a:lnTo>
                  <a:pt x="4441" y="6684"/>
                </a:lnTo>
                <a:lnTo>
                  <a:pt x="4359" y="6708"/>
                </a:lnTo>
                <a:lnTo>
                  <a:pt x="4278" y="6730"/>
                </a:lnTo>
                <a:lnTo>
                  <a:pt x="4196" y="6750"/>
                </a:lnTo>
                <a:lnTo>
                  <a:pt x="4112" y="6768"/>
                </a:lnTo>
                <a:lnTo>
                  <a:pt x="4029" y="6785"/>
                </a:lnTo>
                <a:lnTo>
                  <a:pt x="3944" y="6798"/>
                </a:lnTo>
                <a:lnTo>
                  <a:pt x="3860" y="6810"/>
                </a:lnTo>
                <a:lnTo>
                  <a:pt x="3773" y="6820"/>
                </a:lnTo>
                <a:lnTo>
                  <a:pt x="3687" y="6828"/>
                </a:lnTo>
                <a:lnTo>
                  <a:pt x="3600" y="6834"/>
                </a:lnTo>
                <a:lnTo>
                  <a:pt x="3512" y="6837"/>
                </a:lnTo>
                <a:lnTo>
                  <a:pt x="3424" y="6838"/>
                </a:lnTo>
                <a:lnTo>
                  <a:pt x="3337" y="6837"/>
                </a:lnTo>
                <a:lnTo>
                  <a:pt x="3249" y="6834"/>
                </a:lnTo>
                <a:lnTo>
                  <a:pt x="3162" y="6828"/>
                </a:lnTo>
                <a:lnTo>
                  <a:pt x="3075" y="6820"/>
                </a:lnTo>
                <a:lnTo>
                  <a:pt x="2989" y="6810"/>
                </a:lnTo>
                <a:lnTo>
                  <a:pt x="2904" y="6798"/>
                </a:lnTo>
                <a:lnTo>
                  <a:pt x="2819" y="6785"/>
                </a:lnTo>
                <a:lnTo>
                  <a:pt x="2736" y="6768"/>
                </a:lnTo>
                <a:lnTo>
                  <a:pt x="2652" y="6750"/>
                </a:lnTo>
                <a:lnTo>
                  <a:pt x="2570" y="6730"/>
                </a:lnTo>
                <a:lnTo>
                  <a:pt x="2488" y="6708"/>
                </a:lnTo>
                <a:lnTo>
                  <a:pt x="2408" y="6684"/>
                </a:lnTo>
                <a:lnTo>
                  <a:pt x="2328" y="6658"/>
                </a:lnTo>
                <a:lnTo>
                  <a:pt x="2249" y="6630"/>
                </a:lnTo>
                <a:lnTo>
                  <a:pt x="2171" y="6600"/>
                </a:lnTo>
                <a:lnTo>
                  <a:pt x="2093" y="6568"/>
                </a:lnTo>
                <a:lnTo>
                  <a:pt x="2018" y="6535"/>
                </a:lnTo>
                <a:lnTo>
                  <a:pt x="1942" y="6500"/>
                </a:lnTo>
                <a:lnTo>
                  <a:pt x="1867" y="6464"/>
                </a:lnTo>
                <a:lnTo>
                  <a:pt x="1794" y="6425"/>
                </a:lnTo>
                <a:lnTo>
                  <a:pt x="1723" y="6384"/>
                </a:lnTo>
                <a:lnTo>
                  <a:pt x="1651" y="6341"/>
                </a:lnTo>
                <a:lnTo>
                  <a:pt x="1581" y="6298"/>
                </a:lnTo>
                <a:lnTo>
                  <a:pt x="1512" y="6252"/>
                </a:lnTo>
                <a:lnTo>
                  <a:pt x="1444" y="6206"/>
                </a:lnTo>
                <a:lnTo>
                  <a:pt x="1378" y="6157"/>
                </a:lnTo>
                <a:lnTo>
                  <a:pt x="1312" y="6107"/>
                </a:lnTo>
                <a:lnTo>
                  <a:pt x="1249" y="6056"/>
                </a:lnTo>
                <a:lnTo>
                  <a:pt x="1185" y="6002"/>
                </a:lnTo>
                <a:lnTo>
                  <a:pt x="1124" y="5948"/>
                </a:lnTo>
                <a:lnTo>
                  <a:pt x="1064" y="5892"/>
                </a:lnTo>
                <a:lnTo>
                  <a:pt x="1005" y="5835"/>
                </a:lnTo>
                <a:lnTo>
                  <a:pt x="948" y="5776"/>
                </a:lnTo>
                <a:lnTo>
                  <a:pt x="891" y="5716"/>
                </a:lnTo>
                <a:lnTo>
                  <a:pt x="837" y="5655"/>
                </a:lnTo>
                <a:lnTo>
                  <a:pt x="783" y="5591"/>
                </a:lnTo>
                <a:lnTo>
                  <a:pt x="732" y="5528"/>
                </a:lnTo>
                <a:lnTo>
                  <a:pt x="682" y="5462"/>
                </a:lnTo>
                <a:lnTo>
                  <a:pt x="633" y="5396"/>
                </a:lnTo>
                <a:lnTo>
                  <a:pt x="586" y="5329"/>
                </a:lnTo>
                <a:lnTo>
                  <a:pt x="541" y="5260"/>
                </a:lnTo>
                <a:lnTo>
                  <a:pt x="497" y="5190"/>
                </a:lnTo>
                <a:lnTo>
                  <a:pt x="455" y="5119"/>
                </a:lnTo>
                <a:lnTo>
                  <a:pt x="415" y="5047"/>
                </a:lnTo>
                <a:lnTo>
                  <a:pt x="376" y="4973"/>
                </a:lnTo>
                <a:lnTo>
                  <a:pt x="339" y="4899"/>
                </a:lnTo>
                <a:lnTo>
                  <a:pt x="304" y="4824"/>
                </a:lnTo>
                <a:lnTo>
                  <a:pt x="270" y="4748"/>
                </a:lnTo>
                <a:lnTo>
                  <a:pt x="238" y="4671"/>
                </a:lnTo>
                <a:lnTo>
                  <a:pt x="209" y="4592"/>
                </a:lnTo>
                <a:lnTo>
                  <a:pt x="181" y="4513"/>
                </a:lnTo>
                <a:lnTo>
                  <a:pt x="154" y="4434"/>
                </a:lnTo>
                <a:lnTo>
                  <a:pt x="130" y="4353"/>
                </a:lnTo>
                <a:lnTo>
                  <a:pt x="109" y="4272"/>
                </a:lnTo>
                <a:lnTo>
                  <a:pt x="88" y="4190"/>
                </a:lnTo>
                <a:lnTo>
                  <a:pt x="70" y="4106"/>
                </a:lnTo>
                <a:lnTo>
                  <a:pt x="54" y="4023"/>
                </a:lnTo>
                <a:lnTo>
                  <a:pt x="40" y="3939"/>
                </a:lnTo>
                <a:lnTo>
                  <a:pt x="28" y="3853"/>
                </a:lnTo>
                <a:lnTo>
                  <a:pt x="18" y="3767"/>
                </a:lnTo>
                <a:lnTo>
                  <a:pt x="10" y="3682"/>
                </a:lnTo>
                <a:lnTo>
                  <a:pt x="4" y="3594"/>
                </a:lnTo>
                <a:lnTo>
                  <a:pt x="1" y="3507"/>
                </a:lnTo>
                <a:lnTo>
                  <a:pt x="0" y="3420"/>
                </a:lnTo>
                <a:lnTo>
                  <a:pt x="1" y="3331"/>
                </a:lnTo>
                <a:lnTo>
                  <a:pt x="4" y="3244"/>
                </a:lnTo>
                <a:lnTo>
                  <a:pt x="10" y="3156"/>
                </a:lnTo>
                <a:lnTo>
                  <a:pt x="18" y="3071"/>
                </a:lnTo>
                <a:lnTo>
                  <a:pt x="28" y="2985"/>
                </a:lnTo>
                <a:lnTo>
                  <a:pt x="40" y="2899"/>
                </a:lnTo>
                <a:lnTo>
                  <a:pt x="54" y="2815"/>
                </a:lnTo>
                <a:lnTo>
                  <a:pt x="70" y="2732"/>
                </a:lnTo>
                <a:lnTo>
                  <a:pt x="88" y="2648"/>
                </a:lnTo>
                <a:lnTo>
                  <a:pt x="109" y="2566"/>
                </a:lnTo>
                <a:lnTo>
                  <a:pt x="130" y="2485"/>
                </a:lnTo>
                <a:lnTo>
                  <a:pt x="154" y="2404"/>
                </a:lnTo>
                <a:lnTo>
                  <a:pt x="181" y="2325"/>
                </a:lnTo>
                <a:lnTo>
                  <a:pt x="209" y="2246"/>
                </a:lnTo>
                <a:lnTo>
                  <a:pt x="238" y="2167"/>
                </a:lnTo>
                <a:lnTo>
                  <a:pt x="270" y="2090"/>
                </a:lnTo>
                <a:lnTo>
                  <a:pt x="304" y="2014"/>
                </a:lnTo>
                <a:lnTo>
                  <a:pt x="339" y="1939"/>
                </a:lnTo>
                <a:lnTo>
                  <a:pt x="376" y="1865"/>
                </a:lnTo>
                <a:lnTo>
                  <a:pt x="415" y="1791"/>
                </a:lnTo>
                <a:lnTo>
                  <a:pt x="455" y="1719"/>
                </a:lnTo>
                <a:lnTo>
                  <a:pt x="497" y="1648"/>
                </a:lnTo>
                <a:lnTo>
                  <a:pt x="541" y="1578"/>
                </a:lnTo>
                <a:lnTo>
                  <a:pt x="586" y="1510"/>
                </a:lnTo>
                <a:lnTo>
                  <a:pt x="633" y="1442"/>
                </a:lnTo>
                <a:lnTo>
                  <a:pt x="682" y="1376"/>
                </a:lnTo>
                <a:lnTo>
                  <a:pt x="732" y="1310"/>
                </a:lnTo>
                <a:lnTo>
                  <a:pt x="783" y="1247"/>
                </a:lnTo>
                <a:lnTo>
                  <a:pt x="837" y="1183"/>
                </a:lnTo>
                <a:lnTo>
                  <a:pt x="891" y="1122"/>
                </a:lnTo>
                <a:lnTo>
                  <a:pt x="948" y="1062"/>
                </a:lnTo>
                <a:lnTo>
                  <a:pt x="1005" y="1003"/>
                </a:lnTo>
                <a:lnTo>
                  <a:pt x="1064" y="946"/>
                </a:lnTo>
                <a:lnTo>
                  <a:pt x="1124" y="890"/>
                </a:lnTo>
                <a:lnTo>
                  <a:pt x="1185" y="836"/>
                </a:lnTo>
                <a:lnTo>
                  <a:pt x="1249" y="782"/>
                </a:lnTo>
                <a:lnTo>
                  <a:pt x="1312" y="731"/>
                </a:lnTo>
                <a:lnTo>
                  <a:pt x="1378" y="681"/>
                </a:lnTo>
                <a:lnTo>
                  <a:pt x="1444" y="632"/>
                </a:lnTo>
                <a:lnTo>
                  <a:pt x="1512" y="586"/>
                </a:lnTo>
                <a:lnTo>
                  <a:pt x="1581" y="540"/>
                </a:lnTo>
                <a:lnTo>
                  <a:pt x="1651" y="497"/>
                </a:lnTo>
                <a:lnTo>
                  <a:pt x="1723" y="454"/>
                </a:lnTo>
                <a:lnTo>
                  <a:pt x="1794" y="413"/>
                </a:lnTo>
                <a:lnTo>
                  <a:pt x="1867" y="376"/>
                </a:lnTo>
                <a:lnTo>
                  <a:pt x="1942" y="338"/>
                </a:lnTo>
                <a:lnTo>
                  <a:pt x="2018" y="303"/>
                </a:lnTo>
                <a:lnTo>
                  <a:pt x="2093" y="270"/>
                </a:lnTo>
                <a:lnTo>
                  <a:pt x="2171" y="238"/>
                </a:lnTo>
                <a:lnTo>
                  <a:pt x="2249" y="208"/>
                </a:lnTo>
                <a:lnTo>
                  <a:pt x="2328" y="180"/>
                </a:lnTo>
                <a:lnTo>
                  <a:pt x="2408" y="154"/>
                </a:lnTo>
                <a:lnTo>
                  <a:pt x="2488" y="130"/>
                </a:lnTo>
                <a:lnTo>
                  <a:pt x="2570" y="108"/>
                </a:lnTo>
                <a:lnTo>
                  <a:pt x="2652" y="88"/>
                </a:lnTo>
                <a:lnTo>
                  <a:pt x="2736" y="70"/>
                </a:lnTo>
                <a:lnTo>
                  <a:pt x="2819" y="53"/>
                </a:lnTo>
                <a:lnTo>
                  <a:pt x="2904" y="40"/>
                </a:lnTo>
                <a:lnTo>
                  <a:pt x="2989" y="28"/>
                </a:lnTo>
                <a:lnTo>
                  <a:pt x="3075" y="18"/>
                </a:lnTo>
                <a:lnTo>
                  <a:pt x="3162" y="10"/>
                </a:lnTo>
                <a:lnTo>
                  <a:pt x="3249" y="4"/>
                </a:lnTo>
                <a:lnTo>
                  <a:pt x="3337" y="1"/>
                </a:lnTo>
                <a:lnTo>
                  <a:pt x="3424"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992840" y="3414600"/>
            <a:ext cx="1295280" cy="1293840"/>
          </a:xfrm>
          <a:custGeom>
            <a:avLst/>
            <a:gdLst/>
            <a:ahLst/>
            <a:rect l="l" t="t" r="r" b="b"/>
            <a:pathLst>
              <a:path w="3263" h="3260">
                <a:moveTo>
                  <a:pt x="1631" y="0"/>
                </a:moveTo>
                <a:lnTo>
                  <a:pt x="1715" y="2"/>
                </a:lnTo>
                <a:lnTo>
                  <a:pt x="1797" y="9"/>
                </a:lnTo>
                <a:lnTo>
                  <a:pt x="1879" y="19"/>
                </a:lnTo>
                <a:lnTo>
                  <a:pt x="1960" y="34"/>
                </a:lnTo>
                <a:lnTo>
                  <a:pt x="2038" y="52"/>
                </a:lnTo>
                <a:lnTo>
                  <a:pt x="2116" y="75"/>
                </a:lnTo>
                <a:lnTo>
                  <a:pt x="2191" y="100"/>
                </a:lnTo>
                <a:lnTo>
                  <a:pt x="2265" y="129"/>
                </a:lnTo>
                <a:lnTo>
                  <a:pt x="2337" y="161"/>
                </a:lnTo>
                <a:lnTo>
                  <a:pt x="2407" y="198"/>
                </a:lnTo>
                <a:lnTo>
                  <a:pt x="2476" y="237"/>
                </a:lnTo>
                <a:lnTo>
                  <a:pt x="2542" y="279"/>
                </a:lnTo>
                <a:lnTo>
                  <a:pt x="2606" y="325"/>
                </a:lnTo>
                <a:lnTo>
                  <a:pt x="2668" y="374"/>
                </a:lnTo>
                <a:lnTo>
                  <a:pt x="2728" y="425"/>
                </a:lnTo>
                <a:lnTo>
                  <a:pt x="2783" y="479"/>
                </a:lnTo>
                <a:lnTo>
                  <a:pt x="2838" y="536"/>
                </a:lnTo>
                <a:lnTo>
                  <a:pt x="2889" y="595"/>
                </a:lnTo>
                <a:lnTo>
                  <a:pt x="2938" y="656"/>
                </a:lnTo>
                <a:lnTo>
                  <a:pt x="2984" y="720"/>
                </a:lnTo>
                <a:lnTo>
                  <a:pt x="3026" y="786"/>
                </a:lnTo>
                <a:lnTo>
                  <a:pt x="3065" y="855"/>
                </a:lnTo>
                <a:lnTo>
                  <a:pt x="3102" y="925"/>
                </a:lnTo>
                <a:lnTo>
                  <a:pt x="3134" y="997"/>
                </a:lnTo>
                <a:lnTo>
                  <a:pt x="3163" y="1070"/>
                </a:lnTo>
                <a:lnTo>
                  <a:pt x="3190" y="1146"/>
                </a:lnTo>
                <a:lnTo>
                  <a:pt x="3211" y="1224"/>
                </a:lnTo>
                <a:lnTo>
                  <a:pt x="3230" y="1303"/>
                </a:lnTo>
                <a:lnTo>
                  <a:pt x="3244" y="1383"/>
                </a:lnTo>
                <a:lnTo>
                  <a:pt x="3254" y="1464"/>
                </a:lnTo>
                <a:lnTo>
                  <a:pt x="3261" y="1546"/>
                </a:lnTo>
                <a:lnTo>
                  <a:pt x="3263" y="1631"/>
                </a:lnTo>
                <a:lnTo>
                  <a:pt x="3261" y="1714"/>
                </a:lnTo>
                <a:lnTo>
                  <a:pt x="3254" y="1796"/>
                </a:lnTo>
                <a:lnTo>
                  <a:pt x="3244" y="1877"/>
                </a:lnTo>
                <a:lnTo>
                  <a:pt x="3230" y="1957"/>
                </a:lnTo>
                <a:lnTo>
                  <a:pt x="3211" y="2036"/>
                </a:lnTo>
                <a:lnTo>
                  <a:pt x="3190" y="2114"/>
                </a:lnTo>
                <a:lnTo>
                  <a:pt x="3163" y="2190"/>
                </a:lnTo>
                <a:lnTo>
                  <a:pt x="3134" y="2263"/>
                </a:lnTo>
                <a:lnTo>
                  <a:pt x="3102" y="2335"/>
                </a:lnTo>
                <a:lnTo>
                  <a:pt x="3065" y="2405"/>
                </a:lnTo>
                <a:lnTo>
                  <a:pt x="3026" y="2474"/>
                </a:lnTo>
                <a:lnTo>
                  <a:pt x="2984" y="2540"/>
                </a:lnTo>
                <a:lnTo>
                  <a:pt x="2938" y="2604"/>
                </a:lnTo>
                <a:lnTo>
                  <a:pt x="2889" y="2665"/>
                </a:lnTo>
                <a:lnTo>
                  <a:pt x="2838" y="2724"/>
                </a:lnTo>
                <a:lnTo>
                  <a:pt x="2783" y="2781"/>
                </a:lnTo>
                <a:lnTo>
                  <a:pt x="2728" y="2835"/>
                </a:lnTo>
                <a:lnTo>
                  <a:pt x="2668" y="2886"/>
                </a:lnTo>
                <a:lnTo>
                  <a:pt x="2606" y="2935"/>
                </a:lnTo>
                <a:lnTo>
                  <a:pt x="2542" y="2981"/>
                </a:lnTo>
                <a:lnTo>
                  <a:pt x="2476" y="3023"/>
                </a:lnTo>
                <a:lnTo>
                  <a:pt x="2407" y="3062"/>
                </a:lnTo>
                <a:lnTo>
                  <a:pt x="2337" y="3099"/>
                </a:lnTo>
                <a:lnTo>
                  <a:pt x="2265" y="3131"/>
                </a:lnTo>
                <a:lnTo>
                  <a:pt x="2191" y="3160"/>
                </a:lnTo>
                <a:lnTo>
                  <a:pt x="2116" y="3185"/>
                </a:lnTo>
                <a:lnTo>
                  <a:pt x="2038" y="3208"/>
                </a:lnTo>
                <a:lnTo>
                  <a:pt x="1960" y="3226"/>
                </a:lnTo>
                <a:lnTo>
                  <a:pt x="1879" y="3241"/>
                </a:lnTo>
                <a:lnTo>
                  <a:pt x="1797" y="3251"/>
                </a:lnTo>
                <a:lnTo>
                  <a:pt x="1715" y="3258"/>
                </a:lnTo>
                <a:lnTo>
                  <a:pt x="1631" y="3260"/>
                </a:lnTo>
                <a:lnTo>
                  <a:pt x="1547" y="3258"/>
                </a:lnTo>
                <a:lnTo>
                  <a:pt x="1465" y="3251"/>
                </a:lnTo>
                <a:lnTo>
                  <a:pt x="1383" y="3241"/>
                </a:lnTo>
                <a:lnTo>
                  <a:pt x="1303" y="3226"/>
                </a:lnTo>
                <a:lnTo>
                  <a:pt x="1224" y="3208"/>
                </a:lnTo>
                <a:lnTo>
                  <a:pt x="1147" y="3185"/>
                </a:lnTo>
                <a:lnTo>
                  <a:pt x="1072" y="3160"/>
                </a:lnTo>
                <a:lnTo>
                  <a:pt x="997" y="3131"/>
                </a:lnTo>
                <a:lnTo>
                  <a:pt x="925" y="3099"/>
                </a:lnTo>
                <a:lnTo>
                  <a:pt x="855" y="3062"/>
                </a:lnTo>
                <a:lnTo>
                  <a:pt x="787" y="3023"/>
                </a:lnTo>
                <a:lnTo>
                  <a:pt x="720" y="2981"/>
                </a:lnTo>
                <a:lnTo>
                  <a:pt x="656" y="2935"/>
                </a:lnTo>
                <a:lnTo>
                  <a:pt x="594" y="2886"/>
                </a:lnTo>
                <a:lnTo>
                  <a:pt x="535" y="2835"/>
                </a:lnTo>
                <a:lnTo>
                  <a:pt x="478" y="2781"/>
                </a:lnTo>
                <a:lnTo>
                  <a:pt x="424" y="2724"/>
                </a:lnTo>
                <a:lnTo>
                  <a:pt x="373" y="2665"/>
                </a:lnTo>
                <a:lnTo>
                  <a:pt x="325" y="2604"/>
                </a:lnTo>
                <a:lnTo>
                  <a:pt x="279" y="2540"/>
                </a:lnTo>
                <a:lnTo>
                  <a:pt x="236" y="2474"/>
                </a:lnTo>
                <a:lnTo>
                  <a:pt x="197" y="2405"/>
                </a:lnTo>
                <a:lnTo>
                  <a:pt x="161" y="2335"/>
                </a:lnTo>
                <a:lnTo>
                  <a:pt x="128" y="2263"/>
                </a:lnTo>
                <a:lnTo>
                  <a:pt x="99" y="2190"/>
                </a:lnTo>
                <a:lnTo>
                  <a:pt x="73" y="2114"/>
                </a:lnTo>
                <a:lnTo>
                  <a:pt x="51" y="2036"/>
                </a:lnTo>
                <a:lnTo>
                  <a:pt x="33" y="1957"/>
                </a:lnTo>
                <a:lnTo>
                  <a:pt x="19" y="1877"/>
                </a:lnTo>
                <a:lnTo>
                  <a:pt x="8" y="1796"/>
                </a:lnTo>
                <a:lnTo>
                  <a:pt x="2" y="1714"/>
                </a:lnTo>
                <a:lnTo>
                  <a:pt x="0" y="1631"/>
                </a:lnTo>
                <a:lnTo>
                  <a:pt x="2" y="1546"/>
                </a:lnTo>
                <a:lnTo>
                  <a:pt x="8" y="1464"/>
                </a:lnTo>
                <a:lnTo>
                  <a:pt x="19" y="1383"/>
                </a:lnTo>
                <a:lnTo>
                  <a:pt x="33" y="1303"/>
                </a:lnTo>
                <a:lnTo>
                  <a:pt x="51" y="1224"/>
                </a:lnTo>
                <a:lnTo>
                  <a:pt x="73" y="1146"/>
                </a:lnTo>
                <a:lnTo>
                  <a:pt x="99" y="1070"/>
                </a:lnTo>
                <a:lnTo>
                  <a:pt x="128" y="997"/>
                </a:lnTo>
                <a:lnTo>
                  <a:pt x="161" y="925"/>
                </a:lnTo>
                <a:lnTo>
                  <a:pt x="197" y="855"/>
                </a:lnTo>
                <a:lnTo>
                  <a:pt x="236" y="786"/>
                </a:lnTo>
                <a:lnTo>
                  <a:pt x="279" y="720"/>
                </a:lnTo>
                <a:lnTo>
                  <a:pt x="325" y="656"/>
                </a:lnTo>
                <a:lnTo>
                  <a:pt x="373" y="595"/>
                </a:lnTo>
                <a:lnTo>
                  <a:pt x="424" y="536"/>
                </a:lnTo>
                <a:lnTo>
                  <a:pt x="478" y="479"/>
                </a:lnTo>
                <a:lnTo>
                  <a:pt x="535" y="425"/>
                </a:lnTo>
                <a:lnTo>
                  <a:pt x="594" y="374"/>
                </a:lnTo>
                <a:lnTo>
                  <a:pt x="656" y="325"/>
                </a:lnTo>
                <a:lnTo>
                  <a:pt x="720" y="279"/>
                </a:lnTo>
                <a:lnTo>
                  <a:pt x="787" y="237"/>
                </a:lnTo>
                <a:lnTo>
                  <a:pt x="855" y="198"/>
                </a:lnTo>
                <a:lnTo>
                  <a:pt x="925" y="161"/>
                </a:lnTo>
                <a:lnTo>
                  <a:pt x="997" y="129"/>
                </a:lnTo>
                <a:lnTo>
                  <a:pt x="1072" y="100"/>
                </a:lnTo>
                <a:lnTo>
                  <a:pt x="1147" y="75"/>
                </a:lnTo>
                <a:lnTo>
                  <a:pt x="1224" y="52"/>
                </a:lnTo>
                <a:lnTo>
                  <a:pt x="1303" y="34"/>
                </a:lnTo>
                <a:lnTo>
                  <a:pt x="1383" y="19"/>
                </a:lnTo>
                <a:lnTo>
                  <a:pt x="1465" y="9"/>
                </a:lnTo>
                <a:lnTo>
                  <a:pt x="1547" y="2"/>
                </a:lnTo>
                <a:lnTo>
                  <a:pt x="1631"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992840" y="3414600"/>
            <a:ext cx="1295280" cy="1293840"/>
          </a:xfrm>
          <a:custGeom>
            <a:avLst/>
            <a:gdLst/>
            <a:ahLst/>
            <a:rect l="l" t="t" r="r" b="b"/>
            <a:pathLst>
              <a:path w="3263" h="3260">
                <a:moveTo>
                  <a:pt x="1631" y="0"/>
                </a:moveTo>
                <a:lnTo>
                  <a:pt x="1673" y="1"/>
                </a:lnTo>
                <a:lnTo>
                  <a:pt x="1715" y="2"/>
                </a:lnTo>
                <a:lnTo>
                  <a:pt x="1756" y="6"/>
                </a:lnTo>
                <a:lnTo>
                  <a:pt x="1797" y="9"/>
                </a:lnTo>
                <a:lnTo>
                  <a:pt x="1838" y="14"/>
                </a:lnTo>
                <a:lnTo>
                  <a:pt x="1879" y="19"/>
                </a:lnTo>
                <a:lnTo>
                  <a:pt x="1920" y="26"/>
                </a:lnTo>
                <a:lnTo>
                  <a:pt x="1960" y="34"/>
                </a:lnTo>
                <a:lnTo>
                  <a:pt x="1999" y="42"/>
                </a:lnTo>
                <a:lnTo>
                  <a:pt x="2038" y="52"/>
                </a:lnTo>
                <a:lnTo>
                  <a:pt x="2077" y="62"/>
                </a:lnTo>
                <a:lnTo>
                  <a:pt x="2116" y="75"/>
                </a:lnTo>
                <a:lnTo>
                  <a:pt x="2153" y="87"/>
                </a:lnTo>
                <a:lnTo>
                  <a:pt x="2191" y="100"/>
                </a:lnTo>
                <a:lnTo>
                  <a:pt x="2228" y="114"/>
                </a:lnTo>
                <a:lnTo>
                  <a:pt x="2265" y="129"/>
                </a:lnTo>
                <a:lnTo>
                  <a:pt x="2301" y="145"/>
                </a:lnTo>
                <a:lnTo>
                  <a:pt x="2337" y="161"/>
                </a:lnTo>
                <a:lnTo>
                  <a:pt x="2373" y="179"/>
                </a:lnTo>
                <a:lnTo>
                  <a:pt x="2407" y="198"/>
                </a:lnTo>
                <a:lnTo>
                  <a:pt x="2442" y="217"/>
                </a:lnTo>
                <a:lnTo>
                  <a:pt x="2476" y="237"/>
                </a:lnTo>
                <a:lnTo>
                  <a:pt x="2510" y="258"/>
                </a:lnTo>
                <a:lnTo>
                  <a:pt x="2542" y="279"/>
                </a:lnTo>
                <a:lnTo>
                  <a:pt x="2574" y="302"/>
                </a:lnTo>
                <a:lnTo>
                  <a:pt x="2606" y="325"/>
                </a:lnTo>
                <a:lnTo>
                  <a:pt x="2638" y="349"/>
                </a:lnTo>
                <a:lnTo>
                  <a:pt x="2668" y="374"/>
                </a:lnTo>
                <a:lnTo>
                  <a:pt x="2698" y="399"/>
                </a:lnTo>
                <a:lnTo>
                  <a:pt x="2728" y="425"/>
                </a:lnTo>
                <a:lnTo>
                  <a:pt x="2756" y="451"/>
                </a:lnTo>
                <a:lnTo>
                  <a:pt x="2783" y="479"/>
                </a:lnTo>
                <a:lnTo>
                  <a:pt x="2811" y="507"/>
                </a:lnTo>
                <a:lnTo>
                  <a:pt x="2838" y="536"/>
                </a:lnTo>
                <a:lnTo>
                  <a:pt x="2864" y="565"/>
                </a:lnTo>
                <a:lnTo>
                  <a:pt x="2889" y="595"/>
                </a:lnTo>
                <a:lnTo>
                  <a:pt x="2914" y="625"/>
                </a:lnTo>
                <a:lnTo>
                  <a:pt x="2938" y="656"/>
                </a:lnTo>
                <a:lnTo>
                  <a:pt x="2961" y="688"/>
                </a:lnTo>
                <a:lnTo>
                  <a:pt x="2984" y="720"/>
                </a:lnTo>
                <a:lnTo>
                  <a:pt x="3005" y="753"/>
                </a:lnTo>
                <a:lnTo>
                  <a:pt x="3026" y="786"/>
                </a:lnTo>
                <a:lnTo>
                  <a:pt x="3046" y="820"/>
                </a:lnTo>
                <a:lnTo>
                  <a:pt x="3065" y="855"/>
                </a:lnTo>
                <a:lnTo>
                  <a:pt x="3084" y="889"/>
                </a:lnTo>
                <a:lnTo>
                  <a:pt x="3102" y="925"/>
                </a:lnTo>
                <a:lnTo>
                  <a:pt x="3118" y="960"/>
                </a:lnTo>
                <a:lnTo>
                  <a:pt x="3134" y="997"/>
                </a:lnTo>
                <a:lnTo>
                  <a:pt x="3150" y="1034"/>
                </a:lnTo>
                <a:lnTo>
                  <a:pt x="3163" y="1070"/>
                </a:lnTo>
                <a:lnTo>
                  <a:pt x="3176" y="1108"/>
                </a:lnTo>
                <a:lnTo>
                  <a:pt x="3190" y="1146"/>
                </a:lnTo>
                <a:lnTo>
                  <a:pt x="3201" y="1185"/>
                </a:lnTo>
                <a:lnTo>
                  <a:pt x="3211" y="1224"/>
                </a:lnTo>
                <a:lnTo>
                  <a:pt x="3221" y="1263"/>
                </a:lnTo>
                <a:lnTo>
                  <a:pt x="3230" y="1303"/>
                </a:lnTo>
                <a:lnTo>
                  <a:pt x="3238" y="1343"/>
                </a:lnTo>
                <a:lnTo>
                  <a:pt x="3244" y="1383"/>
                </a:lnTo>
                <a:lnTo>
                  <a:pt x="3250" y="1423"/>
                </a:lnTo>
                <a:lnTo>
                  <a:pt x="3254" y="1464"/>
                </a:lnTo>
                <a:lnTo>
                  <a:pt x="3258" y="1505"/>
                </a:lnTo>
                <a:lnTo>
                  <a:pt x="3261" y="1546"/>
                </a:lnTo>
                <a:lnTo>
                  <a:pt x="3262" y="1588"/>
                </a:lnTo>
                <a:lnTo>
                  <a:pt x="3263" y="1631"/>
                </a:lnTo>
                <a:lnTo>
                  <a:pt x="3262" y="1672"/>
                </a:lnTo>
                <a:lnTo>
                  <a:pt x="3261" y="1714"/>
                </a:lnTo>
                <a:lnTo>
                  <a:pt x="3258" y="1755"/>
                </a:lnTo>
                <a:lnTo>
                  <a:pt x="3254" y="1796"/>
                </a:lnTo>
                <a:lnTo>
                  <a:pt x="3250" y="1837"/>
                </a:lnTo>
                <a:lnTo>
                  <a:pt x="3244" y="1877"/>
                </a:lnTo>
                <a:lnTo>
                  <a:pt x="3238" y="1917"/>
                </a:lnTo>
                <a:lnTo>
                  <a:pt x="3230" y="1957"/>
                </a:lnTo>
                <a:lnTo>
                  <a:pt x="3221" y="1997"/>
                </a:lnTo>
                <a:lnTo>
                  <a:pt x="3211" y="2036"/>
                </a:lnTo>
                <a:lnTo>
                  <a:pt x="3201" y="2075"/>
                </a:lnTo>
                <a:lnTo>
                  <a:pt x="3190" y="2114"/>
                </a:lnTo>
                <a:lnTo>
                  <a:pt x="3176" y="2152"/>
                </a:lnTo>
                <a:lnTo>
                  <a:pt x="3163" y="2190"/>
                </a:lnTo>
                <a:lnTo>
                  <a:pt x="3150" y="2226"/>
                </a:lnTo>
                <a:lnTo>
                  <a:pt x="3134" y="2263"/>
                </a:lnTo>
                <a:lnTo>
                  <a:pt x="3118" y="2300"/>
                </a:lnTo>
                <a:lnTo>
                  <a:pt x="3102" y="2335"/>
                </a:lnTo>
                <a:lnTo>
                  <a:pt x="3084" y="2371"/>
                </a:lnTo>
                <a:lnTo>
                  <a:pt x="3065" y="2405"/>
                </a:lnTo>
                <a:lnTo>
                  <a:pt x="3046" y="2440"/>
                </a:lnTo>
                <a:lnTo>
                  <a:pt x="3026" y="2474"/>
                </a:lnTo>
                <a:lnTo>
                  <a:pt x="3005" y="2507"/>
                </a:lnTo>
                <a:lnTo>
                  <a:pt x="2984" y="2540"/>
                </a:lnTo>
                <a:lnTo>
                  <a:pt x="2961" y="2572"/>
                </a:lnTo>
                <a:lnTo>
                  <a:pt x="2938" y="2604"/>
                </a:lnTo>
                <a:lnTo>
                  <a:pt x="2914" y="2635"/>
                </a:lnTo>
                <a:lnTo>
                  <a:pt x="2889" y="2665"/>
                </a:lnTo>
                <a:lnTo>
                  <a:pt x="2864" y="2695"/>
                </a:lnTo>
                <a:lnTo>
                  <a:pt x="2838" y="2724"/>
                </a:lnTo>
                <a:lnTo>
                  <a:pt x="2811" y="2753"/>
                </a:lnTo>
                <a:lnTo>
                  <a:pt x="2783" y="2781"/>
                </a:lnTo>
                <a:lnTo>
                  <a:pt x="2756" y="2809"/>
                </a:lnTo>
                <a:lnTo>
                  <a:pt x="2728" y="2835"/>
                </a:lnTo>
                <a:lnTo>
                  <a:pt x="2698" y="2861"/>
                </a:lnTo>
                <a:lnTo>
                  <a:pt x="2668" y="2886"/>
                </a:lnTo>
                <a:lnTo>
                  <a:pt x="2638" y="2911"/>
                </a:lnTo>
                <a:lnTo>
                  <a:pt x="2606" y="2935"/>
                </a:lnTo>
                <a:lnTo>
                  <a:pt x="2574" y="2958"/>
                </a:lnTo>
                <a:lnTo>
                  <a:pt x="2542" y="2981"/>
                </a:lnTo>
                <a:lnTo>
                  <a:pt x="2510" y="3002"/>
                </a:lnTo>
                <a:lnTo>
                  <a:pt x="2476" y="3023"/>
                </a:lnTo>
                <a:lnTo>
                  <a:pt x="2442" y="3043"/>
                </a:lnTo>
                <a:lnTo>
                  <a:pt x="2407" y="3062"/>
                </a:lnTo>
                <a:lnTo>
                  <a:pt x="2373" y="3081"/>
                </a:lnTo>
                <a:lnTo>
                  <a:pt x="2337" y="3099"/>
                </a:lnTo>
                <a:lnTo>
                  <a:pt x="2301" y="3115"/>
                </a:lnTo>
                <a:lnTo>
                  <a:pt x="2265" y="3131"/>
                </a:lnTo>
                <a:lnTo>
                  <a:pt x="2228" y="3146"/>
                </a:lnTo>
                <a:lnTo>
                  <a:pt x="2191" y="3160"/>
                </a:lnTo>
                <a:lnTo>
                  <a:pt x="2153" y="3173"/>
                </a:lnTo>
                <a:lnTo>
                  <a:pt x="2116" y="3185"/>
                </a:lnTo>
                <a:lnTo>
                  <a:pt x="2077" y="3198"/>
                </a:lnTo>
                <a:lnTo>
                  <a:pt x="2038" y="3208"/>
                </a:lnTo>
                <a:lnTo>
                  <a:pt x="1999" y="3218"/>
                </a:lnTo>
                <a:lnTo>
                  <a:pt x="1960" y="3226"/>
                </a:lnTo>
                <a:lnTo>
                  <a:pt x="1920" y="3234"/>
                </a:lnTo>
                <a:lnTo>
                  <a:pt x="1879" y="3241"/>
                </a:lnTo>
                <a:lnTo>
                  <a:pt x="1838" y="3246"/>
                </a:lnTo>
                <a:lnTo>
                  <a:pt x="1797" y="3251"/>
                </a:lnTo>
                <a:lnTo>
                  <a:pt x="1756" y="3254"/>
                </a:lnTo>
                <a:lnTo>
                  <a:pt x="1715" y="3258"/>
                </a:lnTo>
                <a:lnTo>
                  <a:pt x="1673" y="3259"/>
                </a:lnTo>
                <a:lnTo>
                  <a:pt x="1631" y="3260"/>
                </a:lnTo>
                <a:lnTo>
                  <a:pt x="1589" y="3259"/>
                </a:lnTo>
                <a:lnTo>
                  <a:pt x="1547" y="3258"/>
                </a:lnTo>
                <a:lnTo>
                  <a:pt x="1506" y="3254"/>
                </a:lnTo>
                <a:lnTo>
                  <a:pt x="1465" y="3251"/>
                </a:lnTo>
                <a:lnTo>
                  <a:pt x="1423" y="3246"/>
                </a:lnTo>
                <a:lnTo>
                  <a:pt x="1383" y="3241"/>
                </a:lnTo>
                <a:lnTo>
                  <a:pt x="1343" y="3234"/>
                </a:lnTo>
                <a:lnTo>
                  <a:pt x="1303" y="3226"/>
                </a:lnTo>
                <a:lnTo>
                  <a:pt x="1263" y="3218"/>
                </a:lnTo>
                <a:lnTo>
                  <a:pt x="1224" y="3208"/>
                </a:lnTo>
                <a:lnTo>
                  <a:pt x="1185" y="3198"/>
                </a:lnTo>
                <a:lnTo>
                  <a:pt x="1147" y="3185"/>
                </a:lnTo>
                <a:lnTo>
                  <a:pt x="1108" y="3173"/>
                </a:lnTo>
                <a:lnTo>
                  <a:pt x="1072" y="3160"/>
                </a:lnTo>
                <a:lnTo>
                  <a:pt x="1034" y="3146"/>
                </a:lnTo>
                <a:lnTo>
                  <a:pt x="997" y="3131"/>
                </a:lnTo>
                <a:lnTo>
                  <a:pt x="960" y="3115"/>
                </a:lnTo>
                <a:lnTo>
                  <a:pt x="925" y="3099"/>
                </a:lnTo>
                <a:lnTo>
                  <a:pt x="889" y="3081"/>
                </a:lnTo>
                <a:lnTo>
                  <a:pt x="855" y="3062"/>
                </a:lnTo>
                <a:lnTo>
                  <a:pt x="820" y="3043"/>
                </a:lnTo>
                <a:lnTo>
                  <a:pt x="787" y="3023"/>
                </a:lnTo>
                <a:lnTo>
                  <a:pt x="753" y="3002"/>
                </a:lnTo>
                <a:lnTo>
                  <a:pt x="720" y="2981"/>
                </a:lnTo>
                <a:lnTo>
                  <a:pt x="688" y="2958"/>
                </a:lnTo>
                <a:lnTo>
                  <a:pt x="656" y="2935"/>
                </a:lnTo>
                <a:lnTo>
                  <a:pt x="625" y="2911"/>
                </a:lnTo>
                <a:lnTo>
                  <a:pt x="594" y="2886"/>
                </a:lnTo>
                <a:lnTo>
                  <a:pt x="564" y="2861"/>
                </a:lnTo>
                <a:lnTo>
                  <a:pt x="535" y="2835"/>
                </a:lnTo>
                <a:lnTo>
                  <a:pt x="506" y="2809"/>
                </a:lnTo>
                <a:lnTo>
                  <a:pt x="478" y="2781"/>
                </a:lnTo>
                <a:lnTo>
                  <a:pt x="451" y="2753"/>
                </a:lnTo>
                <a:lnTo>
                  <a:pt x="424" y="2724"/>
                </a:lnTo>
                <a:lnTo>
                  <a:pt x="398" y="2695"/>
                </a:lnTo>
                <a:lnTo>
                  <a:pt x="373" y="2665"/>
                </a:lnTo>
                <a:lnTo>
                  <a:pt x="348" y="2635"/>
                </a:lnTo>
                <a:lnTo>
                  <a:pt x="325" y="2604"/>
                </a:lnTo>
                <a:lnTo>
                  <a:pt x="301" y="2572"/>
                </a:lnTo>
                <a:lnTo>
                  <a:pt x="279" y="2540"/>
                </a:lnTo>
                <a:lnTo>
                  <a:pt x="257" y="2507"/>
                </a:lnTo>
                <a:lnTo>
                  <a:pt x="236" y="2474"/>
                </a:lnTo>
                <a:lnTo>
                  <a:pt x="216" y="2440"/>
                </a:lnTo>
                <a:lnTo>
                  <a:pt x="197" y="2405"/>
                </a:lnTo>
                <a:lnTo>
                  <a:pt x="178" y="2371"/>
                </a:lnTo>
                <a:lnTo>
                  <a:pt x="161" y="2335"/>
                </a:lnTo>
                <a:lnTo>
                  <a:pt x="144" y="2300"/>
                </a:lnTo>
                <a:lnTo>
                  <a:pt x="128" y="2263"/>
                </a:lnTo>
                <a:lnTo>
                  <a:pt x="113" y="2226"/>
                </a:lnTo>
                <a:lnTo>
                  <a:pt x="99" y="2190"/>
                </a:lnTo>
                <a:lnTo>
                  <a:pt x="86" y="2152"/>
                </a:lnTo>
                <a:lnTo>
                  <a:pt x="73" y="2114"/>
                </a:lnTo>
                <a:lnTo>
                  <a:pt x="61" y="2075"/>
                </a:lnTo>
                <a:lnTo>
                  <a:pt x="51" y="2036"/>
                </a:lnTo>
                <a:lnTo>
                  <a:pt x="41" y="1997"/>
                </a:lnTo>
                <a:lnTo>
                  <a:pt x="33" y="1957"/>
                </a:lnTo>
                <a:lnTo>
                  <a:pt x="25" y="1917"/>
                </a:lnTo>
                <a:lnTo>
                  <a:pt x="19" y="1877"/>
                </a:lnTo>
                <a:lnTo>
                  <a:pt x="13" y="1837"/>
                </a:lnTo>
                <a:lnTo>
                  <a:pt x="8" y="1796"/>
                </a:lnTo>
                <a:lnTo>
                  <a:pt x="4" y="1755"/>
                </a:lnTo>
                <a:lnTo>
                  <a:pt x="2" y="1714"/>
                </a:lnTo>
                <a:lnTo>
                  <a:pt x="0" y="1672"/>
                </a:lnTo>
                <a:lnTo>
                  <a:pt x="0" y="1631"/>
                </a:lnTo>
                <a:lnTo>
                  <a:pt x="0" y="1588"/>
                </a:lnTo>
                <a:lnTo>
                  <a:pt x="2" y="1546"/>
                </a:lnTo>
                <a:lnTo>
                  <a:pt x="4" y="1505"/>
                </a:lnTo>
                <a:lnTo>
                  <a:pt x="8" y="1464"/>
                </a:lnTo>
                <a:lnTo>
                  <a:pt x="13" y="1423"/>
                </a:lnTo>
                <a:lnTo>
                  <a:pt x="19" y="1383"/>
                </a:lnTo>
                <a:lnTo>
                  <a:pt x="25" y="1343"/>
                </a:lnTo>
                <a:lnTo>
                  <a:pt x="33" y="1303"/>
                </a:lnTo>
                <a:lnTo>
                  <a:pt x="41" y="1263"/>
                </a:lnTo>
                <a:lnTo>
                  <a:pt x="51" y="1224"/>
                </a:lnTo>
                <a:lnTo>
                  <a:pt x="61" y="1185"/>
                </a:lnTo>
                <a:lnTo>
                  <a:pt x="73" y="1146"/>
                </a:lnTo>
                <a:lnTo>
                  <a:pt x="86" y="1108"/>
                </a:lnTo>
                <a:lnTo>
                  <a:pt x="99" y="1070"/>
                </a:lnTo>
                <a:lnTo>
                  <a:pt x="113" y="1034"/>
                </a:lnTo>
                <a:lnTo>
                  <a:pt x="128" y="997"/>
                </a:lnTo>
                <a:lnTo>
                  <a:pt x="144" y="960"/>
                </a:lnTo>
                <a:lnTo>
                  <a:pt x="161" y="925"/>
                </a:lnTo>
                <a:lnTo>
                  <a:pt x="178" y="889"/>
                </a:lnTo>
                <a:lnTo>
                  <a:pt x="197" y="855"/>
                </a:lnTo>
                <a:lnTo>
                  <a:pt x="216" y="820"/>
                </a:lnTo>
                <a:lnTo>
                  <a:pt x="236" y="786"/>
                </a:lnTo>
                <a:lnTo>
                  <a:pt x="257" y="753"/>
                </a:lnTo>
                <a:lnTo>
                  <a:pt x="279" y="720"/>
                </a:lnTo>
                <a:lnTo>
                  <a:pt x="301" y="688"/>
                </a:lnTo>
                <a:lnTo>
                  <a:pt x="325" y="656"/>
                </a:lnTo>
                <a:lnTo>
                  <a:pt x="348" y="625"/>
                </a:lnTo>
                <a:lnTo>
                  <a:pt x="373" y="595"/>
                </a:lnTo>
                <a:lnTo>
                  <a:pt x="398" y="565"/>
                </a:lnTo>
                <a:lnTo>
                  <a:pt x="424" y="536"/>
                </a:lnTo>
                <a:lnTo>
                  <a:pt x="451" y="507"/>
                </a:lnTo>
                <a:lnTo>
                  <a:pt x="478" y="479"/>
                </a:lnTo>
                <a:lnTo>
                  <a:pt x="506" y="451"/>
                </a:lnTo>
                <a:lnTo>
                  <a:pt x="535" y="425"/>
                </a:lnTo>
                <a:lnTo>
                  <a:pt x="564" y="399"/>
                </a:lnTo>
                <a:lnTo>
                  <a:pt x="594" y="374"/>
                </a:lnTo>
                <a:lnTo>
                  <a:pt x="625" y="349"/>
                </a:lnTo>
                <a:lnTo>
                  <a:pt x="656" y="325"/>
                </a:lnTo>
                <a:lnTo>
                  <a:pt x="688" y="302"/>
                </a:lnTo>
                <a:lnTo>
                  <a:pt x="720" y="279"/>
                </a:lnTo>
                <a:lnTo>
                  <a:pt x="753" y="258"/>
                </a:lnTo>
                <a:lnTo>
                  <a:pt x="787" y="237"/>
                </a:lnTo>
                <a:lnTo>
                  <a:pt x="820" y="217"/>
                </a:lnTo>
                <a:lnTo>
                  <a:pt x="855" y="198"/>
                </a:lnTo>
                <a:lnTo>
                  <a:pt x="889" y="179"/>
                </a:lnTo>
                <a:lnTo>
                  <a:pt x="925" y="161"/>
                </a:lnTo>
                <a:lnTo>
                  <a:pt x="960" y="145"/>
                </a:lnTo>
                <a:lnTo>
                  <a:pt x="997" y="129"/>
                </a:lnTo>
                <a:lnTo>
                  <a:pt x="1034" y="114"/>
                </a:lnTo>
                <a:lnTo>
                  <a:pt x="1072" y="100"/>
                </a:lnTo>
                <a:lnTo>
                  <a:pt x="1108" y="87"/>
                </a:lnTo>
                <a:lnTo>
                  <a:pt x="1147" y="75"/>
                </a:lnTo>
                <a:lnTo>
                  <a:pt x="1185" y="62"/>
                </a:lnTo>
                <a:lnTo>
                  <a:pt x="1224" y="52"/>
                </a:lnTo>
                <a:lnTo>
                  <a:pt x="1263" y="42"/>
                </a:lnTo>
                <a:lnTo>
                  <a:pt x="1303" y="34"/>
                </a:lnTo>
                <a:lnTo>
                  <a:pt x="1343" y="26"/>
                </a:lnTo>
                <a:lnTo>
                  <a:pt x="1383" y="19"/>
                </a:lnTo>
                <a:lnTo>
                  <a:pt x="1423" y="14"/>
                </a:lnTo>
                <a:lnTo>
                  <a:pt x="1465" y="9"/>
                </a:lnTo>
                <a:lnTo>
                  <a:pt x="1506" y="6"/>
                </a:lnTo>
                <a:lnTo>
                  <a:pt x="1547" y="2"/>
                </a:lnTo>
                <a:lnTo>
                  <a:pt x="1589" y="1"/>
                </a:lnTo>
                <a:lnTo>
                  <a:pt x="1631"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043600" y="3465360"/>
            <a:ext cx="1193760" cy="1192320"/>
          </a:xfrm>
          <a:custGeom>
            <a:avLst/>
            <a:gdLst/>
            <a:ahLst/>
            <a:rect l="l" t="t" r="r" b="b"/>
            <a:pathLst>
              <a:path w="3006" h="3002">
                <a:moveTo>
                  <a:pt x="1503" y="0"/>
                </a:moveTo>
                <a:lnTo>
                  <a:pt x="1580" y="2"/>
                </a:lnTo>
                <a:lnTo>
                  <a:pt x="1656" y="8"/>
                </a:lnTo>
                <a:lnTo>
                  <a:pt x="1732" y="18"/>
                </a:lnTo>
                <a:lnTo>
                  <a:pt x="1805" y="30"/>
                </a:lnTo>
                <a:lnTo>
                  <a:pt x="1879" y="48"/>
                </a:lnTo>
                <a:lnTo>
                  <a:pt x="1950" y="68"/>
                </a:lnTo>
                <a:lnTo>
                  <a:pt x="2019" y="91"/>
                </a:lnTo>
                <a:lnTo>
                  <a:pt x="2088" y="118"/>
                </a:lnTo>
                <a:lnTo>
                  <a:pt x="2153" y="148"/>
                </a:lnTo>
                <a:lnTo>
                  <a:pt x="2219" y="181"/>
                </a:lnTo>
                <a:lnTo>
                  <a:pt x="2281" y="218"/>
                </a:lnTo>
                <a:lnTo>
                  <a:pt x="2343" y="257"/>
                </a:lnTo>
                <a:lnTo>
                  <a:pt x="2402" y="299"/>
                </a:lnTo>
                <a:lnTo>
                  <a:pt x="2458" y="344"/>
                </a:lnTo>
                <a:lnTo>
                  <a:pt x="2513" y="390"/>
                </a:lnTo>
                <a:lnTo>
                  <a:pt x="2565" y="440"/>
                </a:lnTo>
                <a:lnTo>
                  <a:pt x="2615" y="492"/>
                </a:lnTo>
                <a:lnTo>
                  <a:pt x="2662" y="547"/>
                </a:lnTo>
                <a:lnTo>
                  <a:pt x="2707" y="604"/>
                </a:lnTo>
                <a:lnTo>
                  <a:pt x="2749" y="662"/>
                </a:lnTo>
                <a:lnTo>
                  <a:pt x="2788" y="724"/>
                </a:lnTo>
                <a:lnTo>
                  <a:pt x="2825" y="787"/>
                </a:lnTo>
                <a:lnTo>
                  <a:pt x="2858" y="851"/>
                </a:lnTo>
                <a:lnTo>
                  <a:pt x="2888" y="918"/>
                </a:lnTo>
                <a:lnTo>
                  <a:pt x="2915" y="986"/>
                </a:lnTo>
                <a:lnTo>
                  <a:pt x="2938" y="1056"/>
                </a:lnTo>
                <a:lnTo>
                  <a:pt x="2959" y="1127"/>
                </a:lnTo>
                <a:lnTo>
                  <a:pt x="2976" y="1199"/>
                </a:lnTo>
                <a:lnTo>
                  <a:pt x="2989" y="1273"/>
                </a:lnTo>
                <a:lnTo>
                  <a:pt x="2998" y="1348"/>
                </a:lnTo>
                <a:lnTo>
                  <a:pt x="3004" y="1424"/>
                </a:lnTo>
                <a:lnTo>
                  <a:pt x="3006" y="1502"/>
                </a:lnTo>
                <a:lnTo>
                  <a:pt x="3004" y="1578"/>
                </a:lnTo>
                <a:lnTo>
                  <a:pt x="2998" y="1654"/>
                </a:lnTo>
                <a:lnTo>
                  <a:pt x="2989" y="1729"/>
                </a:lnTo>
                <a:lnTo>
                  <a:pt x="2976" y="1803"/>
                </a:lnTo>
                <a:lnTo>
                  <a:pt x="2959" y="1875"/>
                </a:lnTo>
                <a:lnTo>
                  <a:pt x="2938" y="1946"/>
                </a:lnTo>
                <a:lnTo>
                  <a:pt x="2915" y="2016"/>
                </a:lnTo>
                <a:lnTo>
                  <a:pt x="2888" y="2084"/>
                </a:lnTo>
                <a:lnTo>
                  <a:pt x="2858" y="2151"/>
                </a:lnTo>
                <a:lnTo>
                  <a:pt x="2825" y="2215"/>
                </a:lnTo>
                <a:lnTo>
                  <a:pt x="2788" y="2278"/>
                </a:lnTo>
                <a:lnTo>
                  <a:pt x="2749" y="2340"/>
                </a:lnTo>
                <a:lnTo>
                  <a:pt x="2707" y="2398"/>
                </a:lnTo>
                <a:lnTo>
                  <a:pt x="2662" y="2455"/>
                </a:lnTo>
                <a:lnTo>
                  <a:pt x="2615" y="2510"/>
                </a:lnTo>
                <a:lnTo>
                  <a:pt x="2565" y="2562"/>
                </a:lnTo>
                <a:lnTo>
                  <a:pt x="2513" y="2612"/>
                </a:lnTo>
                <a:lnTo>
                  <a:pt x="2458" y="2658"/>
                </a:lnTo>
                <a:lnTo>
                  <a:pt x="2402" y="2703"/>
                </a:lnTo>
                <a:lnTo>
                  <a:pt x="2343" y="2745"/>
                </a:lnTo>
                <a:lnTo>
                  <a:pt x="2281" y="2784"/>
                </a:lnTo>
                <a:lnTo>
                  <a:pt x="2219" y="2821"/>
                </a:lnTo>
                <a:lnTo>
                  <a:pt x="2153" y="2854"/>
                </a:lnTo>
                <a:lnTo>
                  <a:pt x="2088" y="2884"/>
                </a:lnTo>
                <a:lnTo>
                  <a:pt x="2019" y="2911"/>
                </a:lnTo>
                <a:lnTo>
                  <a:pt x="1950" y="2934"/>
                </a:lnTo>
                <a:lnTo>
                  <a:pt x="1879" y="2954"/>
                </a:lnTo>
                <a:lnTo>
                  <a:pt x="1805" y="2972"/>
                </a:lnTo>
                <a:lnTo>
                  <a:pt x="1732" y="2985"/>
                </a:lnTo>
                <a:lnTo>
                  <a:pt x="1656" y="2994"/>
                </a:lnTo>
                <a:lnTo>
                  <a:pt x="1580" y="3000"/>
                </a:lnTo>
                <a:lnTo>
                  <a:pt x="1503" y="3002"/>
                </a:lnTo>
                <a:lnTo>
                  <a:pt x="1426" y="3000"/>
                </a:lnTo>
                <a:lnTo>
                  <a:pt x="1350" y="2994"/>
                </a:lnTo>
                <a:lnTo>
                  <a:pt x="1274" y="2985"/>
                </a:lnTo>
                <a:lnTo>
                  <a:pt x="1201" y="2972"/>
                </a:lnTo>
                <a:lnTo>
                  <a:pt x="1128" y="2954"/>
                </a:lnTo>
                <a:lnTo>
                  <a:pt x="1057" y="2934"/>
                </a:lnTo>
                <a:lnTo>
                  <a:pt x="987" y="2911"/>
                </a:lnTo>
                <a:lnTo>
                  <a:pt x="919" y="2884"/>
                </a:lnTo>
                <a:lnTo>
                  <a:pt x="852" y="2854"/>
                </a:lnTo>
                <a:lnTo>
                  <a:pt x="788" y="2821"/>
                </a:lnTo>
                <a:lnTo>
                  <a:pt x="724" y="2784"/>
                </a:lnTo>
                <a:lnTo>
                  <a:pt x="663" y="2745"/>
                </a:lnTo>
                <a:lnTo>
                  <a:pt x="605" y="2703"/>
                </a:lnTo>
                <a:lnTo>
                  <a:pt x="547" y="2658"/>
                </a:lnTo>
                <a:lnTo>
                  <a:pt x="493" y="2612"/>
                </a:lnTo>
                <a:lnTo>
                  <a:pt x="441" y="2562"/>
                </a:lnTo>
                <a:lnTo>
                  <a:pt x="392" y="2510"/>
                </a:lnTo>
                <a:lnTo>
                  <a:pt x="344" y="2455"/>
                </a:lnTo>
                <a:lnTo>
                  <a:pt x="299" y="2398"/>
                </a:lnTo>
                <a:lnTo>
                  <a:pt x="257" y="2340"/>
                </a:lnTo>
                <a:lnTo>
                  <a:pt x="218" y="2278"/>
                </a:lnTo>
                <a:lnTo>
                  <a:pt x="182" y="2215"/>
                </a:lnTo>
                <a:lnTo>
                  <a:pt x="149" y="2151"/>
                </a:lnTo>
                <a:lnTo>
                  <a:pt x="119" y="2084"/>
                </a:lnTo>
                <a:lnTo>
                  <a:pt x="91" y="2016"/>
                </a:lnTo>
                <a:lnTo>
                  <a:pt x="68" y="1946"/>
                </a:lnTo>
                <a:lnTo>
                  <a:pt x="48" y="1875"/>
                </a:lnTo>
                <a:lnTo>
                  <a:pt x="31" y="1803"/>
                </a:lnTo>
                <a:lnTo>
                  <a:pt x="18" y="1729"/>
                </a:lnTo>
                <a:lnTo>
                  <a:pt x="8" y="1654"/>
                </a:lnTo>
                <a:lnTo>
                  <a:pt x="2" y="1578"/>
                </a:lnTo>
                <a:lnTo>
                  <a:pt x="0" y="1502"/>
                </a:lnTo>
                <a:lnTo>
                  <a:pt x="2" y="1424"/>
                </a:lnTo>
                <a:lnTo>
                  <a:pt x="8" y="1348"/>
                </a:lnTo>
                <a:lnTo>
                  <a:pt x="18" y="1273"/>
                </a:lnTo>
                <a:lnTo>
                  <a:pt x="31" y="1199"/>
                </a:lnTo>
                <a:lnTo>
                  <a:pt x="48" y="1127"/>
                </a:lnTo>
                <a:lnTo>
                  <a:pt x="68" y="1056"/>
                </a:lnTo>
                <a:lnTo>
                  <a:pt x="91" y="986"/>
                </a:lnTo>
                <a:lnTo>
                  <a:pt x="119" y="918"/>
                </a:lnTo>
                <a:lnTo>
                  <a:pt x="149" y="851"/>
                </a:lnTo>
                <a:lnTo>
                  <a:pt x="182" y="787"/>
                </a:lnTo>
                <a:lnTo>
                  <a:pt x="218" y="724"/>
                </a:lnTo>
                <a:lnTo>
                  <a:pt x="257" y="662"/>
                </a:lnTo>
                <a:lnTo>
                  <a:pt x="299" y="604"/>
                </a:lnTo>
                <a:lnTo>
                  <a:pt x="344" y="547"/>
                </a:lnTo>
                <a:lnTo>
                  <a:pt x="392" y="492"/>
                </a:lnTo>
                <a:lnTo>
                  <a:pt x="441" y="440"/>
                </a:lnTo>
                <a:lnTo>
                  <a:pt x="493" y="390"/>
                </a:lnTo>
                <a:lnTo>
                  <a:pt x="547" y="344"/>
                </a:lnTo>
                <a:lnTo>
                  <a:pt x="605" y="299"/>
                </a:lnTo>
                <a:lnTo>
                  <a:pt x="663" y="257"/>
                </a:lnTo>
                <a:lnTo>
                  <a:pt x="724" y="218"/>
                </a:lnTo>
                <a:lnTo>
                  <a:pt x="788" y="181"/>
                </a:lnTo>
                <a:lnTo>
                  <a:pt x="852" y="148"/>
                </a:lnTo>
                <a:lnTo>
                  <a:pt x="919" y="118"/>
                </a:lnTo>
                <a:lnTo>
                  <a:pt x="987" y="91"/>
                </a:lnTo>
                <a:lnTo>
                  <a:pt x="1057" y="68"/>
                </a:lnTo>
                <a:lnTo>
                  <a:pt x="1128" y="48"/>
                </a:lnTo>
                <a:lnTo>
                  <a:pt x="1201" y="30"/>
                </a:lnTo>
                <a:lnTo>
                  <a:pt x="1274" y="18"/>
                </a:lnTo>
                <a:lnTo>
                  <a:pt x="1350" y="8"/>
                </a:lnTo>
                <a:lnTo>
                  <a:pt x="1426" y="2"/>
                </a:lnTo>
                <a:lnTo>
                  <a:pt x="1503"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5043600" y="3465360"/>
            <a:ext cx="1193760" cy="1192320"/>
          </a:xfrm>
          <a:custGeom>
            <a:avLst/>
            <a:gdLst/>
            <a:ahLst/>
            <a:rect l="l" t="t" r="r" b="b"/>
            <a:pathLst>
              <a:path w="3006" h="3002">
                <a:moveTo>
                  <a:pt x="1503" y="0"/>
                </a:moveTo>
                <a:lnTo>
                  <a:pt x="1541" y="0"/>
                </a:lnTo>
                <a:lnTo>
                  <a:pt x="1580" y="2"/>
                </a:lnTo>
                <a:lnTo>
                  <a:pt x="1618" y="5"/>
                </a:lnTo>
                <a:lnTo>
                  <a:pt x="1656" y="8"/>
                </a:lnTo>
                <a:lnTo>
                  <a:pt x="1694" y="12"/>
                </a:lnTo>
                <a:lnTo>
                  <a:pt x="1732" y="18"/>
                </a:lnTo>
                <a:lnTo>
                  <a:pt x="1768" y="23"/>
                </a:lnTo>
                <a:lnTo>
                  <a:pt x="1805" y="30"/>
                </a:lnTo>
                <a:lnTo>
                  <a:pt x="1842" y="39"/>
                </a:lnTo>
                <a:lnTo>
                  <a:pt x="1879" y="48"/>
                </a:lnTo>
                <a:lnTo>
                  <a:pt x="1914" y="57"/>
                </a:lnTo>
                <a:lnTo>
                  <a:pt x="1950" y="68"/>
                </a:lnTo>
                <a:lnTo>
                  <a:pt x="1984" y="79"/>
                </a:lnTo>
                <a:lnTo>
                  <a:pt x="2019" y="91"/>
                </a:lnTo>
                <a:lnTo>
                  <a:pt x="2053" y="105"/>
                </a:lnTo>
                <a:lnTo>
                  <a:pt x="2088" y="118"/>
                </a:lnTo>
                <a:lnTo>
                  <a:pt x="2121" y="133"/>
                </a:lnTo>
                <a:lnTo>
                  <a:pt x="2153" y="148"/>
                </a:lnTo>
                <a:lnTo>
                  <a:pt x="2187" y="165"/>
                </a:lnTo>
                <a:lnTo>
                  <a:pt x="2219" y="181"/>
                </a:lnTo>
                <a:lnTo>
                  <a:pt x="2250" y="199"/>
                </a:lnTo>
                <a:lnTo>
                  <a:pt x="2281" y="218"/>
                </a:lnTo>
                <a:lnTo>
                  <a:pt x="2313" y="237"/>
                </a:lnTo>
                <a:lnTo>
                  <a:pt x="2343" y="257"/>
                </a:lnTo>
                <a:lnTo>
                  <a:pt x="2373" y="278"/>
                </a:lnTo>
                <a:lnTo>
                  <a:pt x="2402" y="299"/>
                </a:lnTo>
                <a:lnTo>
                  <a:pt x="2431" y="321"/>
                </a:lnTo>
                <a:lnTo>
                  <a:pt x="2458" y="344"/>
                </a:lnTo>
                <a:lnTo>
                  <a:pt x="2486" y="367"/>
                </a:lnTo>
                <a:lnTo>
                  <a:pt x="2513" y="390"/>
                </a:lnTo>
                <a:lnTo>
                  <a:pt x="2540" y="416"/>
                </a:lnTo>
                <a:lnTo>
                  <a:pt x="2565" y="440"/>
                </a:lnTo>
                <a:lnTo>
                  <a:pt x="2591" y="466"/>
                </a:lnTo>
                <a:lnTo>
                  <a:pt x="2615" y="492"/>
                </a:lnTo>
                <a:lnTo>
                  <a:pt x="2639" y="519"/>
                </a:lnTo>
                <a:lnTo>
                  <a:pt x="2662" y="547"/>
                </a:lnTo>
                <a:lnTo>
                  <a:pt x="2685" y="576"/>
                </a:lnTo>
                <a:lnTo>
                  <a:pt x="2707" y="604"/>
                </a:lnTo>
                <a:lnTo>
                  <a:pt x="2729" y="634"/>
                </a:lnTo>
                <a:lnTo>
                  <a:pt x="2749" y="662"/>
                </a:lnTo>
                <a:lnTo>
                  <a:pt x="2769" y="692"/>
                </a:lnTo>
                <a:lnTo>
                  <a:pt x="2788" y="724"/>
                </a:lnTo>
                <a:lnTo>
                  <a:pt x="2807" y="755"/>
                </a:lnTo>
                <a:lnTo>
                  <a:pt x="2825" y="787"/>
                </a:lnTo>
                <a:lnTo>
                  <a:pt x="2841" y="819"/>
                </a:lnTo>
                <a:lnTo>
                  <a:pt x="2858" y="851"/>
                </a:lnTo>
                <a:lnTo>
                  <a:pt x="2874" y="885"/>
                </a:lnTo>
                <a:lnTo>
                  <a:pt x="2888" y="918"/>
                </a:lnTo>
                <a:lnTo>
                  <a:pt x="2901" y="951"/>
                </a:lnTo>
                <a:lnTo>
                  <a:pt x="2915" y="986"/>
                </a:lnTo>
                <a:lnTo>
                  <a:pt x="2927" y="1020"/>
                </a:lnTo>
                <a:lnTo>
                  <a:pt x="2938" y="1056"/>
                </a:lnTo>
                <a:lnTo>
                  <a:pt x="2949" y="1091"/>
                </a:lnTo>
                <a:lnTo>
                  <a:pt x="2959" y="1127"/>
                </a:lnTo>
                <a:lnTo>
                  <a:pt x="2968" y="1163"/>
                </a:lnTo>
                <a:lnTo>
                  <a:pt x="2976" y="1199"/>
                </a:lnTo>
                <a:lnTo>
                  <a:pt x="2983" y="1236"/>
                </a:lnTo>
                <a:lnTo>
                  <a:pt x="2989" y="1273"/>
                </a:lnTo>
                <a:lnTo>
                  <a:pt x="2994" y="1310"/>
                </a:lnTo>
                <a:lnTo>
                  <a:pt x="2998" y="1348"/>
                </a:lnTo>
                <a:lnTo>
                  <a:pt x="3002" y="1386"/>
                </a:lnTo>
                <a:lnTo>
                  <a:pt x="3004" y="1424"/>
                </a:lnTo>
                <a:lnTo>
                  <a:pt x="3006" y="1463"/>
                </a:lnTo>
                <a:lnTo>
                  <a:pt x="3006" y="1502"/>
                </a:lnTo>
                <a:lnTo>
                  <a:pt x="3006" y="1539"/>
                </a:lnTo>
                <a:lnTo>
                  <a:pt x="3004" y="1578"/>
                </a:lnTo>
                <a:lnTo>
                  <a:pt x="3002" y="1616"/>
                </a:lnTo>
                <a:lnTo>
                  <a:pt x="2998" y="1654"/>
                </a:lnTo>
                <a:lnTo>
                  <a:pt x="2994" y="1692"/>
                </a:lnTo>
                <a:lnTo>
                  <a:pt x="2989" y="1729"/>
                </a:lnTo>
                <a:lnTo>
                  <a:pt x="2983" y="1766"/>
                </a:lnTo>
                <a:lnTo>
                  <a:pt x="2976" y="1803"/>
                </a:lnTo>
                <a:lnTo>
                  <a:pt x="2968" y="1839"/>
                </a:lnTo>
                <a:lnTo>
                  <a:pt x="2959" y="1875"/>
                </a:lnTo>
                <a:lnTo>
                  <a:pt x="2949" y="1912"/>
                </a:lnTo>
                <a:lnTo>
                  <a:pt x="2938" y="1946"/>
                </a:lnTo>
                <a:lnTo>
                  <a:pt x="2927" y="1982"/>
                </a:lnTo>
                <a:lnTo>
                  <a:pt x="2915" y="2016"/>
                </a:lnTo>
                <a:lnTo>
                  <a:pt x="2901" y="2051"/>
                </a:lnTo>
                <a:lnTo>
                  <a:pt x="2888" y="2084"/>
                </a:lnTo>
                <a:lnTo>
                  <a:pt x="2874" y="2117"/>
                </a:lnTo>
                <a:lnTo>
                  <a:pt x="2858" y="2151"/>
                </a:lnTo>
                <a:lnTo>
                  <a:pt x="2841" y="2184"/>
                </a:lnTo>
                <a:lnTo>
                  <a:pt x="2825" y="2215"/>
                </a:lnTo>
                <a:lnTo>
                  <a:pt x="2807" y="2247"/>
                </a:lnTo>
                <a:lnTo>
                  <a:pt x="2788" y="2278"/>
                </a:lnTo>
                <a:lnTo>
                  <a:pt x="2769" y="2310"/>
                </a:lnTo>
                <a:lnTo>
                  <a:pt x="2749" y="2340"/>
                </a:lnTo>
                <a:lnTo>
                  <a:pt x="2729" y="2368"/>
                </a:lnTo>
                <a:lnTo>
                  <a:pt x="2707" y="2398"/>
                </a:lnTo>
                <a:lnTo>
                  <a:pt x="2685" y="2427"/>
                </a:lnTo>
                <a:lnTo>
                  <a:pt x="2662" y="2455"/>
                </a:lnTo>
                <a:lnTo>
                  <a:pt x="2639" y="2483"/>
                </a:lnTo>
                <a:lnTo>
                  <a:pt x="2615" y="2510"/>
                </a:lnTo>
                <a:lnTo>
                  <a:pt x="2591" y="2536"/>
                </a:lnTo>
                <a:lnTo>
                  <a:pt x="2565" y="2562"/>
                </a:lnTo>
                <a:lnTo>
                  <a:pt x="2540" y="2586"/>
                </a:lnTo>
                <a:lnTo>
                  <a:pt x="2513" y="2612"/>
                </a:lnTo>
                <a:lnTo>
                  <a:pt x="2486" y="2635"/>
                </a:lnTo>
                <a:lnTo>
                  <a:pt x="2458" y="2658"/>
                </a:lnTo>
                <a:lnTo>
                  <a:pt x="2431" y="2681"/>
                </a:lnTo>
                <a:lnTo>
                  <a:pt x="2402" y="2703"/>
                </a:lnTo>
                <a:lnTo>
                  <a:pt x="2373" y="2724"/>
                </a:lnTo>
                <a:lnTo>
                  <a:pt x="2343" y="2745"/>
                </a:lnTo>
                <a:lnTo>
                  <a:pt x="2313" y="2765"/>
                </a:lnTo>
                <a:lnTo>
                  <a:pt x="2281" y="2784"/>
                </a:lnTo>
                <a:lnTo>
                  <a:pt x="2250" y="2803"/>
                </a:lnTo>
                <a:lnTo>
                  <a:pt x="2219" y="2821"/>
                </a:lnTo>
                <a:lnTo>
                  <a:pt x="2187" y="2837"/>
                </a:lnTo>
                <a:lnTo>
                  <a:pt x="2153" y="2854"/>
                </a:lnTo>
                <a:lnTo>
                  <a:pt x="2121" y="2870"/>
                </a:lnTo>
                <a:lnTo>
                  <a:pt x="2088" y="2884"/>
                </a:lnTo>
                <a:lnTo>
                  <a:pt x="2053" y="2897"/>
                </a:lnTo>
                <a:lnTo>
                  <a:pt x="2019" y="2911"/>
                </a:lnTo>
                <a:lnTo>
                  <a:pt x="1984" y="2923"/>
                </a:lnTo>
                <a:lnTo>
                  <a:pt x="1950" y="2934"/>
                </a:lnTo>
                <a:lnTo>
                  <a:pt x="1914" y="2945"/>
                </a:lnTo>
                <a:lnTo>
                  <a:pt x="1879" y="2954"/>
                </a:lnTo>
                <a:lnTo>
                  <a:pt x="1842" y="2963"/>
                </a:lnTo>
                <a:lnTo>
                  <a:pt x="1805" y="2972"/>
                </a:lnTo>
                <a:lnTo>
                  <a:pt x="1768" y="2979"/>
                </a:lnTo>
                <a:lnTo>
                  <a:pt x="1732" y="2985"/>
                </a:lnTo>
                <a:lnTo>
                  <a:pt x="1694" y="2990"/>
                </a:lnTo>
                <a:lnTo>
                  <a:pt x="1656" y="2994"/>
                </a:lnTo>
                <a:lnTo>
                  <a:pt x="1618" y="2997"/>
                </a:lnTo>
                <a:lnTo>
                  <a:pt x="1580" y="3000"/>
                </a:lnTo>
                <a:lnTo>
                  <a:pt x="1541" y="3002"/>
                </a:lnTo>
                <a:lnTo>
                  <a:pt x="1503" y="3002"/>
                </a:lnTo>
                <a:lnTo>
                  <a:pt x="1465" y="3002"/>
                </a:lnTo>
                <a:lnTo>
                  <a:pt x="1426" y="3000"/>
                </a:lnTo>
                <a:lnTo>
                  <a:pt x="1388" y="2997"/>
                </a:lnTo>
                <a:lnTo>
                  <a:pt x="1350" y="2994"/>
                </a:lnTo>
                <a:lnTo>
                  <a:pt x="1312" y="2990"/>
                </a:lnTo>
                <a:lnTo>
                  <a:pt x="1274" y="2985"/>
                </a:lnTo>
                <a:lnTo>
                  <a:pt x="1237" y="2979"/>
                </a:lnTo>
                <a:lnTo>
                  <a:pt x="1201" y="2972"/>
                </a:lnTo>
                <a:lnTo>
                  <a:pt x="1164" y="2963"/>
                </a:lnTo>
                <a:lnTo>
                  <a:pt x="1128" y="2954"/>
                </a:lnTo>
                <a:lnTo>
                  <a:pt x="1093" y="2945"/>
                </a:lnTo>
                <a:lnTo>
                  <a:pt x="1057" y="2934"/>
                </a:lnTo>
                <a:lnTo>
                  <a:pt x="1022" y="2923"/>
                </a:lnTo>
                <a:lnTo>
                  <a:pt x="987" y="2911"/>
                </a:lnTo>
                <a:lnTo>
                  <a:pt x="953" y="2897"/>
                </a:lnTo>
                <a:lnTo>
                  <a:pt x="919" y="2884"/>
                </a:lnTo>
                <a:lnTo>
                  <a:pt x="886" y="2870"/>
                </a:lnTo>
                <a:lnTo>
                  <a:pt x="852" y="2854"/>
                </a:lnTo>
                <a:lnTo>
                  <a:pt x="820" y="2837"/>
                </a:lnTo>
                <a:lnTo>
                  <a:pt x="788" y="2821"/>
                </a:lnTo>
                <a:lnTo>
                  <a:pt x="756" y="2803"/>
                </a:lnTo>
                <a:lnTo>
                  <a:pt x="724" y="2784"/>
                </a:lnTo>
                <a:lnTo>
                  <a:pt x="694" y="2765"/>
                </a:lnTo>
                <a:lnTo>
                  <a:pt x="663" y="2745"/>
                </a:lnTo>
                <a:lnTo>
                  <a:pt x="634" y="2724"/>
                </a:lnTo>
                <a:lnTo>
                  <a:pt x="605" y="2703"/>
                </a:lnTo>
                <a:lnTo>
                  <a:pt x="576" y="2681"/>
                </a:lnTo>
                <a:lnTo>
                  <a:pt x="547" y="2658"/>
                </a:lnTo>
                <a:lnTo>
                  <a:pt x="521" y="2635"/>
                </a:lnTo>
                <a:lnTo>
                  <a:pt x="493" y="2612"/>
                </a:lnTo>
                <a:lnTo>
                  <a:pt x="467" y="2586"/>
                </a:lnTo>
                <a:lnTo>
                  <a:pt x="441" y="2562"/>
                </a:lnTo>
                <a:lnTo>
                  <a:pt x="416" y="2536"/>
                </a:lnTo>
                <a:lnTo>
                  <a:pt x="392" y="2510"/>
                </a:lnTo>
                <a:lnTo>
                  <a:pt x="367" y="2483"/>
                </a:lnTo>
                <a:lnTo>
                  <a:pt x="344" y="2455"/>
                </a:lnTo>
                <a:lnTo>
                  <a:pt x="321" y="2427"/>
                </a:lnTo>
                <a:lnTo>
                  <a:pt x="299" y="2398"/>
                </a:lnTo>
                <a:lnTo>
                  <a:pt x="278" y="2368"/>
                </a:lnTo>
                <a:lnTo>
                  <a:pt x="257" y="2340"/>
                </a:lnTo>
                <a:lnTo>
                  <a:pt x="237" y="2310"/>
                </a:lnTo>
                <a:lnTo>
                  <a:pt x="218" y="2278"/>
                </a:lnTo>
                <a:lnTo>
                  <a:pt x="199" y="2247"/>
                </a:lnTo>
                <a:lnTo>
                  <a:pt x="182" y="2215"/>
                </a:lnTo>
                <a:lnTo>
                  <a:pt x="165" y="2184"/>
                </a:lnTo>
                <a:lnTo>
                  <a:pt x="149" y="2151"/>
                </a:lnTo>
                <a:lnTo>
                  <a:pt x="133" y="2117"/>
                </a:lnTo>
                <a:lnTo>
                  <a:pt x="119" y="2084"/>
                </a:lnTo>
                <a:lnTo>
                  <a:pt x="104" y="2051"/>
                </a:lnTo>
                <a:lnTo>
                  <a:pt x="91" y="2016"/>
                </a:lnTo>
                <a:lnTo>
                  <a:pt x="79" y="1982"/>
                </a:lnTo>
                <a:lnTo>
                  <a:pt x="68" y="1946"/>
                </a:lnTo>
                <a:lnTo>
                  <a:pt x="58" y="1912"/>
                </a:lnTo>
                <a:lnTo>
                  <a:pt x="48" y="1875"/>
                </a:lnTo>
                <a:lnTo>
                  <a:pt x="39" y="1839"/>
                </a:lnTo>
                <a:lnTo>
                  <a:pt x="31" y="1803"/>
                </a:lnTo>
                <a:lnTo>
                  <a:pt x="23" y="1766"/>
                </a:lnTo>
                <a:lnTo>
                  <a:pt x="18" y="1729"/>
                </a:lnTo>
                <a:lnTo>
                  <a:pt x="12" y="1692"/>
                </a:lnTo>
                <a:lnTo>
                  <a:pt x="8" y="1654"/>
                </a:lnTo>
                <a:lnTo>
                  <a:pt x="4" y="1616"/>
                </a:lnTo>
                <a:lnTo>
                  <a:pt x="2" y="1578"/>
                </a:lnTo>
                <a:lnTo>
                  <a:pt x="1" y="1539"/>
                </a:lnTo>
                <a:lnTo>
                  <a:pt x="0" y="1502"/>
                </a:lnTo>
                <a:lnTo>
                  <a:pt x="1" y="1463"/>
                </a:lnTo>
                <a:lnTo>
                  <a:pt x="2" y="1424"/>
                </a:lnTo>
                <a:lnTo>
                  <a:pt x="4" y="1386"/>
                </a:lnTo>
                <a:lnTo>
                  <a:pt x="8" y="1348"/>
                </a:lnTo>
                <a:lnTo>
                  <a:pt x="12" y="1310"/>
                </a:lnTo>
                <a:lnTo>
                  <a:pt x="18" y="1273"/>
                </a:lnTo>
                <a:lnTo>
                  <a:pt x="23" y="1236"/>
                </a:lnTo>
                <a:lnTo>
                  <a:pt x="31" y="1199"/>
                </a:lnTo>
                <a:lnTo>
                  <a:pt x="39" y="1163"/>
                </a:lnTo>
                <a:lnTo>
                  <a:pt x="48" y="1127"/>
                </a:lnTo>
                <a:lnTo>
                  <a:pt x="58" y="1091"/>
                </a:lnTo>
                <a:lnTo>
                  <a:pt x="68" y="1056"/>
                </a:lnTo>
                <a:lnTo>
                  <a:pt x="79" y="1020"/>
                </a:lnTo>
                <a:lnTo>
                  <a:pt x="91" y="986"/>
                </a:lnTo>
                <a:lnTo>
                  <a:pt x="104" y="951"/>
                </a:lnTo>
                <a:lnTo>
                  <a:pt x="119" y="918"/>
                </a:lnTo>
                <a:lnTo>
                  <a:pt x="133" y="885"/>
                </a:lnTo>
                <a:lnTo>
                  <a:pt x="149" y="851"/>
                </a:lnTo>
                <a:lnTo>
                  <a:pt x="165" y="819"/>
                </a:lnTo>
                <a:lnTo>
                  <a:pt x="182" y="787"/>
                </a:lnTo>
                <a:lnTo>
                  <a:pt x="199" y="755"/>
                </a:lnTo>
                <a:lnTo>
                  <a:pt x="218" y="724"/>
                </a:lnTo>
                <a:lnTo>
                  <a:pt x="237" y="692"/>
                </a:lnTo>
                <a:lnTo>
                  <a:pt x="257" y="662"/>
                </a:lnTo>
                <a:lnTo>
                  <a:pt x="278" y="634"/>
                </a:lnTo>
                <a:lnTo>
                  <a:pt x="299" y="604"/>
                </a:lnTo>
                <a:lnTo>
                  <a:pt x="321" y="576"/>
                </a:lnTo>
                <a:lnTo>
                  <a:pt x="344" y="547"/>
                </a:lnTo>
                <a:lnTo>
                  <a:pt x="367" y="519"/>
                </a:lnTo>
                <a:lnTo>
                  <a:pt x="392" y="492"/>
                </a:lnTo>
                <a:lnTo>
                  <a:pt x="416" y="466"/>
                </a:lnTo>
                <a:lnTo>
                  <a:pt x="441" y="440"/>
                </a:lnTo>
                <a:lnTo>
                  <a:pt x="467" y="416"/>
                </a:lnTo>
                <a:lnTo>
                  <a:pt x="493" y="390"/>
                </a:lnTo>
                <a:lnTo>
                  <a:pt x="521" y="367"/>
                </a:lnTo>
                <a:lnTo>
                  <a:pt x="547" y="344"/>
                </a:lnTo>
                <a:lnTo>
                  <a:pt x="576" y="321"/>
                </a:lnTo>
                <a:lnTo>
                  <a:pt x="605" y="299"/>
                </a:lnTo>
                <a:lnTo>
                  <a:pt x="634" y="278"/>
                </a:lnTo>
                <a:lnTo>
                  <a:pt x="663" y="257"/>
                </a:lnTo>
                <a:lnTo>
                  <a:pt x="694" y="237"/>
                </a:lnTo>
                <a:lnTo>
                  <a:pt x="724" y="218"/>
                </a:lnTo>
                <a:lnTo>
                  <a:pt x="756" y="199"/>
                </a:lnTo>
                <a:lnTo>
                  <a:pt x="788" y="181"/>
                </a:lnTo>
                <a:lnTo>
                  <a:pt x="820" y="165"/>
                </a:lnTo>
                <a:lnTo>
                  <a:pt x="852" y="148"/>
                </a:lnTo>
                <a:lnTo>
                  <a:pt x="886" y="133"/>
                </a:lnTo>
                <a:lnTo>
                  <a:pt x="919" y="118"/>
                </a:lnTo>
                <a:lnTo>
                  <a:pt x="953" y="105"/>
                </a:lnTo>
                <a:lnTo>
                  <a:pt x="987" y="91"/>
                </a:lnTo>
                <a:lnTo>
                  <a:pt x="1022" y="79"/>
                </a:lnTo>
                <a:lnTo>
                  <a:pt x="1057" y="68"/>
                </a:lnTo>
                <a:lnTo>
                  <a:pt x="1093" y="57"/>
                </a:lnTo>
                <a:lnTo>
                  <a:pt x="1128" y="48"/>
                </a:lnTo>
                <a:lnTo>
                  <a:pt x="1164" y="39"/>
                </a:lnTo>
                <a:lnTo>
                  <a:pt x="1201" y="30"/>
                </a:lnTo>
                <a:lnTo>
                  <a:pt x="1237" y="23"/>
                </a:lnTo>
                <a:lnTo>
                  <a:pt x="1274" y="18"/>
                </a:lnTo>
                <a:lnTo>
                  <a:pt x="1312" y="12"/>
                </a:lnTo>
                <a:lnTo>
                  <a:pt x="1350" y="8"/>
                </a:lnTo>
                <a:lnTo>
                  <a:pt x="1388" y="5"/>
                </a:lnTo>
                <a:lnTo>
                  <a:pt x="1426" y="2"/>
                </a:lnTo>
                <a:lnTo>
                  <a:pt x="1465" y="0"/>
                </a:lnTo>
                <a:lnTo>
                  <a:pt x="150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6880" y="3417840"/>
            <a:ext cx="46080" cy="136440"/>
          </a:xfrm>
          <a:custGeom>
            <a:avLst/>
            <a:gdLst/>
            <a:ahLst/>
            <a:rect l="l" t="t" r="r" b="b"/>
            <a:pathLst>
              <a:path w="113" h="346">
                <a:moveTo>
                  <a:pt x="77" y="0"/>
                </a:moveTo>
                <a:lnTo>
                  <a:pt x="77" y="296"/>
                </a:lnTo>
                <a:lnTo>
                  <a:pt x="77" y="300"/>
                </a:lnTo>
                <a:lnTo>
                  <a:pt x="77" y="304"/>
                </a:lnTo>
                <a:lnTo>
                  <a:pt x="78" y="309"/>
                </a:lnTo>
                <a:lnTo>
                  <a:pt x="78" y="312"/>
                </a:lnTo>
                <a:lnTo>
                  <a:pt x="78" y="316"/>
                </a:lnTo>
                <a:lnTo>
                  <a:pt x="79" y="319"/>
                </a:lnTo>
                <a:lnTo>
                  <a:pt x="79" y="321"/>
                </a:lnTo>
                <a:lnTo>
                  <a:pt x="80" y="323"/>
                </a:lnTo>
                <a:lnTo>
                  <a:pt x="81" y="324"/>
                </a:lnTo>
                <a:lnTo>
                  <a:pt x="82" y="327"/>
                </a:lnTo>
                <a:lnTo>
                  <a:pt x="82" y="328"/>
                </a:lnTo>
                <a:lnTo>
                  <a:pt x="83" y="329"/>
                </a:lnTo>
                <a:lnTo>
                  <a:pt x="85" y="330"/>
                </a:lnTo>
                <a:lnTo>
                  <a:pt x="87" y="331"/>
                </a:lnTo>
                <a:lnTo>
                  <a:pt x="88" y="332"/>
                </a:lnTo>
                <a:lnTo>
                  <a:pt x="89" y="333"/>
                </a:lnTo>
                <a:lnTo>
                  <a:pt x="91" y="334"/>
                </a:lnTo>
                <a:lnTo>
                  <a:pt x="93" y="334"/>
                </a:lnTo>
                <a:lnTo>
                  <a:pt x="95" y="336"/>
                </a:lnTo>
                <a:lnTo>
                  <a:pt x="99" y="336"/>
                </a:lnTo>
                <a:lnTo>
                  <a:pt x="101" y="337"/>
                </a:lnTo>
                <a:lnTo>
                  <a:pt x="104" y="337"/>
                </a:lnTo>
                <a:lnTo>
                  <a:pt x="109" y="337"/>
                </a:lnTo>
                <a:lnTo>
                  <a:pt x="113" y="337"/>
                </a:lnTo>
                <a:lnTo>
                  <a:pt x="113" y="346"/>
                </a:lnTo>
                <a:lnTo>
                  <a:pt x="3" y="346"/>
                </a:lnTo>
                <a:lnTo>
                  <a:pt x="3" y="337"/>
                </a:lnTo>
                <a:lnTo>
                  <a:pt x="8" y="337"/>
                </a:lnTo>
                <a:lnTo>
                  <a:pt x="11" y="337"/>
                </a:lnTo>
                <a:lnTo>
                  <a:pt x="14" y="337"/>
                </a:lnTo>
                <a:lnTo>
                  <a:pt x="16" y="336"/>
                </a:lnTo>
                <a:lnTo>
                  <a:pt x="19" y="336"/>
                </a:lnTo>
                <a:lnTo>
                  <a:pt x="21" y="336"/>
                </a:lnTo>
                <a:lnTo>
                  <a:pt x="23" y="334"/>
                </a:lnTo>
                <a:lnTo>
                  <a:pt x="24" y="333"/>
                </a:lnTo>
                <a:lnTo>
                  <a:pt x="25" y="332"/>
                </a:lnTo>
                <a:lnTo>
                  <a:pt x="28" y="332"/>
                </a:lnTo>
                <a:lnTo>
                  <a:pt x="29" y="331"/>
                </a:lnTo>
                <a:lnTo>
                  <a:pt x="30" y="329"/>
                </a:lnTo>
                <a:lnTo>
                  <a:pt x="31" y="328"/>
                </a:lnTo>
                <a:lnTo>
                  <a:pt x="32" y="327"/>
                </a:lnTo>
                <a:lnTo>
                  <a:pt x="32" y="324"/>
                </a:lnTo>
                <a:lnTo>
                  <a:pt x="33" y="323"/>
                </a:lnTo>
                <a:lnTo>
                  <a:pt x="34" y="321"/>
                </a:lnTo>
                <a:lnTo>
                  <a:pt x="34" y="319"/>
                </a:lnTo>
                <a:lnTo>
                  <a:pt x="35" y="316"/>
                </a:lnTo>
                <a:lnTo>
                  <a:pt x="35" y="312"/>
                </a:lnTo>
                <a:lnTo>
                  <a:pt x="36" y="309"/>
                </a:lnTo>
                <a:lnTo>
                  <a:pt x="36" y="304"/>
                </a:lnTo>
                <a:lnTo>
                  <a:pt x="36" y="300"/>
                </a:lnTo>
                <a:lnTo>
                  <a:pt x="36" y="296"/>
                </a:lnTo>
                <a:lnTo>
                  <a:pt x="36" y="93"/>
                </a:lnTo>
                <a:lnTo>
                  <a:pt x="36" y="84"/>
                </a:lnTo>
                <a:lnTo>
                  <a:pt x="36" y="76"/>
                </a:lnTo>
                <a:lnTo>
                  <a:pt x="36" y="69"/>
                </a:lnTo>
                <a:lnTo>
                  <a:pt x="36" y="62"/>
                </a:lnTo>
                <a:lnTo>
                  <a:pt x="35" y="58"/>
                </a:lnTo>
                <a:lnTo>
                  <a:pt x="35" y="53"/>
                </a:lnTo>
                <a:lnTo>
                  <a:pt x="35" y="49"/>
                </a:lnTo>
                <a:lnTo>
                  <a:pt x="34" y="47"/>
                </a:lnTo>
                <a:lnTo>
                  <a:pt x="34" y="44"/>
                </a:lnTo>
                <a:lnTo>
                  <a:pt x="34" y="43"/>
                </a:lnTo>
                <a:lnTo>
                  <a:pt x="33" y="41"/>
                </a:lnTo>
                <a:lnTo>
                  <a:pt x="32" y="40"/>
                </a:lnTo>
                <a:lnTo>
                  <a:pt x="32" y="38"/>
                </a:lnTo>
                <a:lnTo>
                  <a:pt x="31" y="37"/>
                </a:lnTo>
                <a:lnTo>
                  <a:pt x="30" y="36"/>
                </a:lnTo>
                <a:lnTo>
                  <a:pt x="30" y="34"/>
                </a:lnTo>
                <a:lnTo>
                  <a:pt x="29" y="34"/>
                </a:lnTo>
                <a:lnTo>
                  <a:pt x="28" y="33"/>
                </a:lnTo>
                <a:lnTo>
                  <a:pt x="26" y="33"/>
                </a:lnTo>
                <a:lnTo>
                  <a:pt x="25" y="32"/>
                </a:lnTo>
                <a:lnTo>
                  <a:pt x="24" y="32"/>
                </a:lnTo>
                <a:lnTo>
                  <a:pt x="22" y="32"/>
                </a:lnTo>
                <a:lnTo>
                  <a:pt x="21" y="32"/>
                </a:lnTo>
                <a:lnTo>
                  <a:pt x="20" y="32"/>
                </a:lnTo>
                <a:lnTo>
                  <a:pt x="18" y="32"/>
                </a:lnTo>
                <a:lnTo>
                  <a:pt x="16" y="32"/>
                </a:lnTo>
                <a:lnTo>
                  <a:pt x="14" y="32"/>
                </a:lnTo>
                <a:lnTo>
                  <a:pt x="12" y="32"/>
                </a:lnTo>
                <a:lnTo>
                  <a:pt x="11" y="33"/>
                </a:lnTo>
                <a:lnTo>
                  <a:pt x="9" y="34"/>
                </a:lnTo>
                <a:lnTo>
                  <a:pt x="6" y="34"/>
                </a:lnTo>
                <a:lnTo>
                  <a:pt x="3" y="36"/>
                </a:lnTo>
                <a:lnTo>
                  <a:pt x="0" y="27"/>
                </a:lnTo>
                <a:lnTo>
                  <a:pt x="65" y="0"/>
                </a:lnTo>
                <a:lnTo>
                  <a:pt x="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536920" y="3417840"/>
            <a:ext cx="20520" cy="19080"/>
          </a:xfrm>
          <a:custGeom>
            <a:avLst/>
            <a:gdLst/>
            <a:ahLst/>
            <a:rect l="l" t="t" r="r" b="b"/>
            <a:pathLst>
              <a:path w="48" h="49">
                <a:moveTo>
                  <a:pt x="24" y="0"/>
                </a:moveTo>
                <a:lnTo>
                  <a:pt x="26" y="0"/>
                </a:lnTo>
                <a:lnTo>
                  <a:pt x="28" y="0"/>
                </a:lnTo>
                <a:lnTo>
                  <a:pt x="32" y="1"/>
                </a:lnTo>
                <a:lnTo>
                  <a:pt x="34" y="2"/>
                </a:lnTo>
                <a:lnTo>
                  <a:pt x="35" y="2"/>
                </a:lnTo>
                <a:lnTo>
                  <a:pt x="37" y="4"/>
                </a:lnTo>
                <a:lnTo>
                  <a:pt x="40" y="6"/>
                </a:lnTo>
                <a:lnTo>
                  <a:pt x="42" y="7"/>
                </a:lnTo>
                <a:lnTo>
                  <a:pt x="43" y="9"/>
                </a:lnTo>
                <a:lnTo>
                  <a:pt x="45" y="11"/>
                </a:lnTo>
                <a:lnTo>
                  <a:pt x="46" y="13"/>
                </a:lnTo>
                <a:lnTo>
                  <a:pt x="47" y="16"/>
                </a:lnTo>
                <a:lnTo>
                  <a:pt x="47" y="18"/>
                </a:lnTo>
                <a:lnTo>
                  <a:pt x="48" y="20"/>
                </a:lnTo>
                <a:lnTo>
                  <a:pt x="48" y="22"/>
                </a:lnTo>
                <a:lnTo>
                  <a:pt x="48" y="24"/>
                </a:lnTo>
                <a:lnTo>
                  <a:pt x="48" y="27"/>
                </a:lnTo>
                <a:lnTo>
                  <a:pt x="48" y="29"/>
                </a:lnTo>
                <a:lnTo>
                  <a:pt x="47" y="32"/>
                </a:lnTo>
                <a:lnTo>
                  <a:pt x="47" y="34"/>
                </a:lnTo>
                <a:lnTo>
                  <a:pt x="46" y="37"/>
                </a:lnTo>
                <a:lnTo>
                  <a:pt x="45" y="38"/>
                </a:lnTo>
                <a:lnTo>
                  <a:pt x="43" y="40"/>
                </a:lnTo>
                <a:lnTo>
                  <a:pt x="42" y="42"/>
                </a:lnTo>
                <a:lnTo>
                  <a:pt x="40" y="43"/>
                </a:lnTo>
                <a:lnTo>
                  <a:pt x="37" y="46"/>
                </a:lnTo>
                <a:lnTo>
                  <a:pt x="35" y="47"/>
                </a:lnTo>
                <a:lnTo>
                  <a:pt x="34" y="48"/>
                </a:lnTo>
                <a:lnTo>
                  <a:pt x="32" y="48"/>
                </a:lnTo>
                <a:lnTo>
                  <a:pt x="28" y="49"/>
                </a:lnTo>
                <a:lnTo>
                  <a:pt x="26" y="49"/>
                </a:lnTo>
                <a:lnTo>
                  <a:pt x="24" y="49"/>
                </a:lnTo>
                <a:lnTo>
                  <a:pt x="22" y="49"/>
                </a:lnTo>
                <a:lnTo>
                  <a:pt x="20" y="49"/>
                </a:lnTo>
                <a:lnTo>
                  <a:pt x="17" y="48"/>
                </a:lnTo>
                <a:lnTo>
                  <a:pt x="15" y="48"/>
                </a:lnTo>
                <a:lnTo>
                  <a:pt x="13" y="47"/>
                </a:lnTo>
                <a:lnTo>
                  <a:pt x="11" y="46"/>
                </a:lnTo>
                <a:lnTo>
                  <a:pt x="8" y="43"/>
                </a:lnTo>
                <a:lnTo>
                  <a:pt x="6" y="42"/>
                </a:lnTo>
                <a:lnTo>
                  <a:pt x="5" y="40"/>
                </a:lnTo>
                <a:lnTo>
                  <a:pt x="3" y="38"/>
                </a:lnTo>
                <a:lnTo>
                  <a:pt x="2" y="37"/>
                </a:lnTo>
                <a:lnTo>
                  <a:pt x="1" y="34"/>
                </a:lnTo>
                <a:lnTo>
                  <a:pt x="1" y="32"/>
                </a:lnTo>
                <a:lnTo>
                  <a:pt x="0" y="29"/>
                </a:lnTo>
                <a:lnTo>
                  <a:pt x="0" y="27"/>
                </a:lnTo>
                <a:lnTo>
                  <a:pt x="0" y="24"/>
                </a:lnTo>
                <a:lnTo>
                  <a:pt x="0" y="22"/>
                </a:lnTo>
                <a:lnTo>
                  <a:pt x="0" y="20"/>
                </a:lnTo>
                <a:lnTo>
                  <a:pt x="1" y="18"/>
                </a:lnTo>
                <a:lnTo>
                  <a:pt x="1" y="16"/>
                </a:lnTo>
                <a:lnTo>
                  <a:pt x="2" y="13"/>
                </a:lnTo>
                <a:lnTo>
                  <a:pt x="3" y="11"/>
                </a:lnTo>
                <a:lnTo>
                  <a:pt x="5" y="9"/>
                </a:lnTo>
                <a:lnTo>
                  <a:pt x="6" y="7"/>
                </a:lnTo>
                <a:lnTo>
                  <a:pt x="8" y="6"/>
                </a:lnTo>
                <a:lnTo>
                  <a:pt x="11" y="4"/>
                </a:lnTo>
                <a:lnTo>
                  <a:pt x="12" y="2"/>
                </a:lnTo>
                <a:lnTo>
                  <a:pt x="14" y="2"/>
                </a:lnTo>
                <a:lnTo>
                  <a:pt x="16" y="1"/>
                </a:lnTo>
                <a:lnTo>
                  <a:pt x="20" y="0"/>
                </a:lnTo>
                <a:lnTo>
                  <a:pt x="22" y="0"/>
                </a:lnTo>
                <a:lnTo>
                  <a:pt x="24"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 name=""/>
          <p:cNvSpPr/>
          <p:nvPr/>
        </p:nvSpPr>
        <p:spPr>
          <a:xfrm>
            <a:off x="2449440" y="3059280"/>
            <a:ext cx="19080" cy="18720"/>
          </a:xfrm>
          <a:custGeom>
            <a:avLst/>
            <a:gdLst/>
            <a:ahLst/>
            <a:rect l="l" t="t" r="r" b="b"/>
            <a:pathLst>
              <a:path w="49" h="49">
                <a:moveTo>
                  <a:pt x="25" y="0"/>
                </a:moveTo>
                <a:lnTo>
                  <a:pt x="27" y="0"/>
                </a:lnTo>
                <a:lnTo>
                  <a:pt x="30" y="0"/>
                </a:lnTo>
                <a:lnTo>
                  <a:pt x="32" y="2"/>
                </a:lnTo>
                <a:lnTo>
                  <a:pt x="35" y="2"/>
                </a:lnTo>
                <a:lnTo>
                  <a:pt x="37" y="3"/>
                </a:lnTo>
                <a:lnTo>
                  <a:pt x="38" y="4"/>
                </a:lnTo>
                <a:lnTo>
                  <a:pt x="40" y="6"/>
                </a:lnTo>
                <a:lnTo>
                  <a:pt x="42" y="7"/>
                </a:lnTo>
                <a:lnTo>
                  <a:pt x="43" y="9"/>
                </a:lnTo>
                <a:lnTo>
                  <a:pt x="46" y="12"/>
                </a:lnTo>
                <a:lnTo>
                  <a:pt x="47" y="14"/>
                </a:lnTo>
                <a:lnTo>
                  <a:pt x="48" y="15"/>
                </a:lnTo>
                <a:lnTo>
                  <a:pt x="48" y="17"/>
                </a:lnTo>
                <a:lnTo>
                  <a:pt x="49" y="20"/>
                </a:lnTo>
                <a:lnTo>
                  <a:pt x="49" y="23"/>
                </a:lnTo>
                <a:lnTo>
                  <a:pt x="49" y="25"/>
                </a:lnTo>
                <a:lnTo>
                  <a:pt x="49" y="27"/>
                </a:lnTo>
                <a:lnTo>
                  <a:pt x="49" y="29"/>
                </a:lnTo>
                <a:lnTo>
                  <a:pt x="48" y="32"/>
                </a:lnTo>
                <a:lnTo>
                  <a:pt x="48" y="34"/>
                </a:lnTo>
                <a:lnTo>
                  <a:pt x="47" y="36"/>
                </a:lnTo>
                <a:lnTo>
                  <a:pt x="46" y="38"/>
                </a:lnTo>
                <a:lnTo>
                  <a:pt x="43" y="40"/>
                </a:lnTo>
                <a:lnTo>
                  <a:pt x="42" y="43"/>
                </a:lnTo>
                <a:lnTo>
                  <a:pt x="40" y="44"/>
                </a:lnTo>
                <a:lnTo>
                  <a:pt x="38" y="46"/>
                </a:lnTo>
                <a:lnTo>
                  <a:pt x="37" y="47"/>
                </a:lnTo>
                <a:lnTo>
                  <a:pt x="35" y="48"/>
                </a:lnTo>
                <a:lnTo>
                  <a:pt x="32" y="48"/>
                </a:lnTo>
                <a:lnTo>
                  <a:pt x="30" y="49"/>
                </a:lnTo>
                <a:lnTo>
                  <a:pt x="27" y="49"/>
                </a:lnTo>
                <a:lnTo>
                  <a:pt x="25" y="49"/>
                </a:lnTo>
                <a:lnTo>
                  <a:pt x="22" y="49"/>
                </a:lnTo>
                <a:lnTo>
                  <a:pt x="20" y="49"/>
                </a:lnTo>
                <a:lnTo>
                  <a:pt x="18" y="48"/>
                </a:lnTo>
                <a:lnTo>
                  <a:pt x="16" y="48"/>
                </a:lnTo>
                <a:lnTo>
                  <a:pt x="13" y="47"/>
                </a:lnTo>
                <a:lnTo>
                  <a:pt x="11" y="46"/>
                </a:lnTo>
                <a:lnTo>
                  <a:pt x="9" y="44"/>
                </a:lnTo>
                <a:lnTo>
                  <a:pt x="7" y="43"/>
                </a:lnTo>
                <a:lnTo>
                  <a:pt x="6" y="40"/>
                </a:lnTo>
                <a:lnTo>
                  <a:pt x="4" y="38"/>
                </a:lnTo>
                <a:lnTo>
                  <a:pt x="2" y="36"/>
                </a:lnTo>
                <a:lnTo>
                  <a:pt x="2" y="34"/>
                </a:lnTo>
                <a:lnTo>
                  <a:pt x="1" y="32"/>
                </a:lnTo>
                <a:lnTo>
                  <a:pt x="0" y="29"/>
                </a:lnTo>
                <a:lnTo>
                  <a:pt x="0" y="27"/>
                </a:lnTo>
                <a:lnTo>
                  <a:pt x="0" y="25"/>
                </a:lnTo>
                <a:lnTo>
                  <a:pt x="0" y="23"/>
                </a:lnTo>
                <a:lnTo>
                  <a:pt x="0" y="20"/>
                </a:lnTo>
                <a:lnTo>
                  <a:pt x="1" y="17"/>
                </a:lnTo>
                <a:lnTo>
                  <a:pt x="2" y="15"/>
                </a:lnTo>
                <a:lnTo>
                  <a:pt x="2" y="14"/>
                </a:lnTo>
                <a:lnTo>
                  <a:pt x="4" y="12"/>
                </a:lnTo>
                <a:lnTo>
                  <a:pt x="6" y="9"/>
                </a:lnTo>
                <a:lnTo>
                  <a:pt x="7" y="7"/>
                </a:lnTo>
                <a:lnTo>
                  <a:pt x="9" y="6"/>
                </a:lnTo>
                <a:lnTo>
                  <a:pt x="11" y="4"/>
                </a:lnTo>
                <a:lnTo>
                  <a:pt x="13" y="3"/>
                </a:lnTo>
                <a:lnTo>
                  <a:pt x="16" y="2"/>
                </a:lnTo>
                <a:lnTo>
                  <a:pt x="18" y="2"/>
                </a:lnTo>
                <a:lnTo>
                  <a:pt x="20" y="0"/>
                </a:lnTo>
                <a:lnTo>
                  <a:pt x="22" y="0"/>
                </a:lnTo>
                <a:lnTo>
                  <a:pt x="25" y="0"/>
                </a:lnTo>
              </a:path>
            </a:pathLst>
          </a:custGeom>
          <a:noFill/>
          <a:ln w="0">
            <a:solidFill>
              <a:srgbClr val="000000"/>
            </a:solid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4" name=""/>
          <p:cNvSpPr/>
          <p:nvPr/>
        </p:nvSpPr>
        <p:spPr>
          <a:xfrm>
            <a:off x="1187280" y="3784680"/>
            <a:ext cx="19080" cy="19080"/>
          </a:xfrm>
          <a:custGeom>
            <a:avLst/>
            <a:gdLst/>
            <a:ahLst/>
            <a:rect l="l" t="t" r="r" b="b"/>
            <a:pathLst>
              <a:path w="50" h="48">
                <a:moveTo>
                  <a:pt x="26" y="0"/>
                </a:moveTo>
                <a:lnTo>
                  <a:pt x="28" y="0"/>
                </a:lnTo>
                <a:lnTo>
                  <a:pt x="30" y="0"/>
                </a:lnTo>
                <a:lnTo>
                  <a:pt x="32" y="1"/>
                </a:lnTo>
                <a:lnTo>
                  <a:pt x="35" y="2"/>
                </a:lnTo>
                <a:lnTo>
                  <a:pt x="37" y="2"/>
                </a:lnTo>
                <a:lnTo>
                  <a:pt x="39" y="4"/>
                </a:lnTo>
                <a:lnTo>
                  <a:pt x="41" y="5"/>
                </a:lnTo>
                <a:lnTo>
                  <a:pt x="42" y="6"/>
                </a:lnTo>
                <a:lnTo>
                  <a:pt x="45" y="8"/>
                </a:lnTo>
                <a:lnTo>
                  <a:pt x="46" y="11"/>
                </a:lnTo>
                <a:lnTo>
                  <a:pt x="47" y="13"/>
                </a:lnTo>
                <a:lnTo>
                  <a:pt x="48" y="14"/>
                </a:lnTo>
                <a:lnTo>
                  <a:pt x="49" y="16"/>
                </a:lnTo>
                <a:lnTo>
                  <a:pt x="49" y="20"/>
                </a:lnTo>
                <a:lnTo>
                  <a:pt x="50" y="22"/>
                </a:lnTo>
                <a:lnTo>
                  <a:pt x="50" y="24"/>
                </a:lnTo>
                <a:lnTo>
                  <a:pt x="50" y="26"/>
                </a:lnTo>
                <a:lnTo>
                  <a:pt x="49" y="28"/>
                </a:lnTo>
                <a:lnTo>
                  <a:pt x="49" y="32"/>
                </a:lnTo>
                <a:lnTo>
                  <a:pt x="48" y="34"/>
                </a:lnTo>
                <a:lnTo>
                  <a:pt x="47" y="35"/>
                </a:lnTo>
                <a:lnTo>
                  <a:pt x="46" y="37"/>
                </a:lnTo>
                <a:lnTo>
                  <a:pt x="45" y="40"/>
                </a:lnTo>
                <a:lnTo>
                  <a:pt x="42" y="42"/>
                </a:lnTo>
                <a:lnTo>
                  <a:pt x="41" y="43"/>
                </a:lnTo>
                <a:lnTo>
                  <a:pt x="39" y="45"/>
                </a:lnTo>
                <a:lnTo>
                  <a:pt x="37" y="46"/>
                </a:lnTo>
                <a:lnTo>
                  <a:pt x="35" y="47"/>
                </a:lnTo>
                <a:lnTo>
                  <a:pt x="32" y="47"/>
                </a:lnTo>
                <a:lnTo>
                  <a:pt x="30" y="48"/>
                </a:lnTo>
                <a:lnTo>
                  <a:pt x="28" y="48"/>
                </a:lnTo>
                <a:lnTo>
                  <a:pt x="26" y="48"/>
                </a:lnTo>
                <a:lnTo>
                  <a:pt x="23" y="48"/>
                </a:lnTo>
                <a:lnTo>
                  <a:pt x="20" y="48"/>
                </a:lnTo>
                <a:lnTo>
                  <a:pt x="18" y="47"/>
                </a:lnTo>
                <a:lnTo>
                  <a:pt x="16" y="47"/>
                </a:lnTo>
                <a:lnTo>
                  <a:pt x="13" y="46"/>
                </a:lnTo>
                <a:lnTo>
                  <a:pt x="11" y="45"/>
                </a:lnTo>
                <a:lnTo>
                  <a:pt x="10" y="43"/>
                </a:lnTo>
                <a:lnTo>
                  <a:pt x="8" y="42"/>
                </a:lnTo>
                <a:lnTo>
                  <a:pt x="6" y="40"/>
                </a:lnTo>
                <a:lnTo>
                  <a:pt x="5" y="37"/>
                </a:lnTo>
                <a:lnTo>
                  <a:pt x="3" y="35"/>
                </a:lnTo>
                <a:lnTo>
                  <a:pt x="2" y="34"/>
                </a:lnTo>
                <a:lnTo>
                  <a:pt x="1" y="32"/>
                </a:lnTo>
                <a:lnTo>
                  <a:pt x="1" y="28"/>
                </a:lnTo>
                <a:lnTo>
                  <a:pt x="1" y="26"/>
                </a:lnTo>
                <a:lnTo>
                  <a:pt x="0" y="24"/>
                </a:lnTo>
                <a:lnTo>
                  <a:pt x="1" y="22"/>
                </a:lnTo>
                <a:lnTo>
                  <a:pt x="1" y="20"/>
                </a:lnTo>
                <a:lnTo>
                  <a:pt x="1" y="16"/>
                </a:lnTo>
                <a:lnTo>
                  <a:pt x="2" y="14"/>
                </a:lnTo>
                <a:lnTo>
                  <a:pt x="3" y="13"/>
                </a:lnTo>
                <a:lnTo>
                  <a:pt x="5" y="11"/>
                </a:lnTo>
                <a:lnTo>
                  <a:pt x="6" y="8"/>
                </a:lnTo>
                <a:lnTo>
                  <a:pt x="8" y="6"/>
                </a:lnTo>
                <a:lnTo>
                  <a:pt x="10" y="5"/>
                </a:lnTo>
                <a:lnTo>
                  <a:pt x="11" y="4"/>
                </a:lnTo>
                <a:lnTo>
                  <a:pt x="13" y="2"/>
                </a:lnTo>
                <a:lnTo>
                  <a:pt x="16" y="2"/>
                </a:lnTo>
                <a:lnTo>
                  <a:pt x="18" y="1"/>
                </a:lnTo>
                <a:lnTo>
                  <a:pt x="20" y="0"/>
                </a:lnTo>
                <a:lnTo>
                  <a:pt x="22" y="0"/>
                </a:lnTo>
                <a:lnTo>
                  <a:pt x="26" y="0"/>
                </a:lnTo>
              </a:path>
            </a:pathLst>
          </a:custGeom>
          <a:noFill/>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5" name=""/>
          <p:cNvSpPr/>
          <p:nvPr/>
        </p:nvSpPr>
        <p:spPr>
          <a:xfrm>
            <a:off x="2367000" y="2719440"/>
            <a:ext cx="52200" cy="119160"/>
          </a:xfrm>
          <a:custGeom>
            <a:avLst/>
            <a:gdLst/>
            <a:ahLst/>
            <a:rect l="l" t="t" r="r" b="b"/>
            <a:pathLst>
              <a:path w="134" h="299">
                <a:moveTo>
                  <a:pt x="75" y="0"/>
                </a:moveTo>
                <a:lnTo>
                  <a:pt x="75" y="72"/>
                </a:lnTo>
                <a:lnTo>
                  <a:pt x="128" y="72"/>
                </a:lnTo>
                <a:lnTo>
                  <a:pt x="128" y="90"/>
                </a:lnTo>
                <a:lnTo>
                  <a:pt x="75" y="90"/>
                </a:lnTo>
                <a:lnTo>
                  <a:pt x="75" y="234"/>
                </a:lnTo>
                <a:lnTo>
                  <a:pt x="75" y="238"/>
                </a:lnTo>
                <a:lnTo>
                  <a:pt x="75" y="244"/>
                </a:lnTo>
                <a:lnTo>
                  <a:pt x="77" y="248"/>
                </a:lnTo>
                <a:lnTo>
                  <a:pt x="77" y="252"/>
                </a:lnTo>
                <a:lnTo>
                  <a:pt x="78" y="255"/>
                </a:lnTo>
                <a:lnTo>
                  <a:pt x="79" y="258"/>
                </a:lnTo>
                <a:lnTo>
                  <a:pt x="80" y="261"/>
                </a:lnTo>
                <a:lnTo>
                  <a:pt x="81" y="263"/>
                </a:lnTo>
                <a:lnTo>
                  <a:pt x="83" y="265"/>
                </a:lnTo>
                <a:lnTo>
                  <a:pt x="84" y="266"/>
                </a:lnTo>
                <a:lnTo>
                  <a:pt x="87" y="267"/>
                </a:lnTo>
                <a:lnTo>
                  <a:pt x="89" y="268"/>
                </a:lnTo>
                <a:lnTo>
                  <a:pt x="91" y="270"/>
                </a:lnTo>
                <a:lnTo>
                  <a:pt x="93" y="270"/>
                </a:lnTo>
                <a:lnTo>
                  <a:pt x="96" y="271"/>
                </a:lnTo>
                <a:lnTo>
                  <a:pt x="98" y="271"/>
                </a:lnTo>
                <a:lnTo>
                  <a:pt x="100" y="271"/>
                </a:lnTo>
                <a:lnTo>
                  <a:pt x="101" y="270"/>
                </a:lnTo>
                <a:lnTo>
                  <a:pt x="103" y="270"/>
                </a:lnTo>
                <a:lnTo>
                  <a:pt x="106" y="270"/>
                </a:lnTo>
                <a:lnTo>
                  <a:pt x="108" y="268"/>
                </a:lnTo>
                <a:lnTo>
                  <a:pt x="109" y="267"/>
                </a:lnTo>
                <a:lnTo>
                  <a:pt x="111" y="266"/>
                </a:lnTo>
                <a:lnTo>
                  <a:pt x="113" y="265"/>
                </a:lnTo>
                <a:lnTo>
                  <a:pt x="114" y="264"/>
                </a:lnTo>
                <a:lnTo>
                  <a:pt x="117" y="263"/>
                </a:lnTo>
                <a:lnTo>
                  <a:pt x="118" y="261"/>
                </a:lnTo>
                <a:lnTo>
                  <a:pt x="120" y="260"/>
                </a:lnTo>
                <a:lnTo>
                  <a:pt x="121" y="257"/>
                </a:lnTo>
                <a:lnTo>
                  <a:pt x="122" y="255"/>
                </a:lnTo>
                <a:lnTo>
                  <a:pt x="123" y="253"/>
                </a:lnTo>
                <a:lnTo>
                  <a:pt x="124" y="251"/>
                </a:lnTo>
                <a:lnTo>
                  <a:pt x="134" y="251"/>
                </a:lnTo>
                <a:lnTo>
                  <a:pt x="132" y="256"/>
                </a:lnTo>
                <a:lnTo>
                  <a:pt x="130" y="262"/>
                </a:lnTo>
                <a:lnTo>
                  <a:pt x="127" y="267"/>
                </a:lnTo>
                <a:lnTo>
                  <a:pt x="124" y="272"/>
                </a:lnTo>
                <a:lnTo>
                  <a:pt x="121" y="276"/>
                </a:lnTo>
                <a:lnTo>
                  <a:pt x="118" y="280"/>
                </a:lnTo>
                <a:lnTo>
                  <a:pt x="114" y="283"/>
                </a:lnTo>
                <a:lnTo>
                  <a:pt x="110" y="286"/>
                </a:lnTo>
                <a:lnTo>
                  <a:pt x="107" y="290"/>
                </a:lnTo>
                <a:lnTo>
                  <a:pt x="102" y="292"/>
                </a:lnTo>
                <a:lnTo>
                  <a:pt x="99" y="294"/>
                </a:lnTo>
                <a:lnTo>
                  <a:pt x="94" y="295"/>
                </a:lnTo>
                <a:lnTo>
                  <a:pt x="90" y="297"/>
                </a:lnTo>
                <a:lnTo>
                  <a:pt x="87" y="297"/>
                </a:lnTo>
                <a:lnTo>
                  <a:pt x="82" y="299"/>
                </a:lnTo>
                <a:lnTo>
                  <a:pt x="78" y="299"/>
                </a:lnTo>
                <a:lnTo>
                  <a:pt x="75" y="299"/>
                </a:lnTo>
                <a:lnTo>
                  <a:pt x="72" y="299"/>
                </a:lnTo>
                <a:lnTo>
                  <a:pt x="70" y="297"/>
                </a:lnTo>
                <a:lnTo>
                  <a:pt x="67" y="297"/>
                </a:lnTo>
                <a:lnTo>
                  <a:pt x="64" y="296"/>
                </a:lnTo>
                <a:lnTo>
                  <a:pt x="61" y="295"/>
                </a:lnTo>
                <a:lnTo>
                  <a:pt x="59" y="294"/>
                </a:lnTo>
                <a:lnTo>
                  <a:pt x="57" y="292"/>
                </a:lnTo>
                <a:lnTo>
                  <a:pt x="53" y="291"/>
                </a:lnTo>
                <a:lnTo>
                  <a:pt x="51" y="289"/>
                </a:lnTo>
                <a:lnTo>
                  <a:pt x="49" y="287"/>
                </a:lnTo>
                <a:lnTo>
                  <a:pt x="47" y="285"/>
                </a:lnTo>
                <a:lnTo>
                  <a:pt x="44" y="283"/>
                </a:lnTo>
                <a:lnTo>
                  <a:pt x="43" y="280"/>
                </a:lnTo>
                <a:lnTo>
                  <a:pt x="42" y="277"/>
                </a:lnTo>
                <a:lnTo>
                  <a:pt x="40" y="275"/>
                </a:lnTo>
                <a:lnTo>
                  <a:pt x="39" y="272"/>
                </a:lnTo>
                <a:lnTo>
                  <a:pt x="38" y="268"/>
                </a:lnTo>
                <a:lnTo>
                  <a:pt x="38" y="264"/>
                </a:lnTo>
                <a:lnTo>
                  <a:pt x="37" y="260"/>
                </a:lnTo>
                <a:lnTo>
                  <a:pt x="35" y="255"/>
                </a:lnTo>
                <a:lnTo>
                  <a:pt x="35" y="251"/>
                </a:lnTo>
                <a:lnTo>
                  <a:pt x="35" y="245"/>
                </a:lnTo>
                <a:lnTo>
                  <a:pt x="35" y="238"/>
                </a:lnTo>
                <a:lnTo>
                  <a:pt x="35" y="90"/>
                </a:lnTo>
                <a:lnTo>
                  <a:pt x="0" y="90"/>
                </a:lnTo>
                <a:lnTo>
                  <a:pt x="0" y="82"/>
                </a:lnTo>
                <a:lnTo>
                  <a:pt x="3" y="80"/>
                </a:lnTo>
                <a:lnTo>
                  <a:pt x="6" y="78"/>
                </a:lnTo>
                <a:lnTo>
                  <a:pt x="10" y="76"/>
                </a:lnTo>
                <a:lnTo>
                  <a:pt x="13" y="74"/>
                </a:lnTo>
                <a:lnTo>
                  <a:pt x="16" y="72"/>
                </a:lnTo>
                <a:lnTo>
                  <a:pt x="20" y="70"/>
                </a:lnTo>
                <a:lnTo>
                  <a:pt x="24" y="66"/>
                </a:lnTo>
                <a:lnTo>
                  <a:pt x="28" y="63"/>
                </a:lnTo>
                <a:lnTo>
                  <a:pt x="31" y="60"/>
                </a:lnTo>
                <a:lnTo>
                  <a:pt x="34" y="56"/>
                </a:lnTo>
                <a:lnTo>
                  <a:pt x="38" y="53"/>
                </a:lnTo>
                <a:lnTo>
                  <a:pt x="41" y="50"/>
                </a:lnTo>
                <a:lnTo>
                  <a:pt x="43" y="45"/>
                </a:lnTo>
                <a:lnTo>
                  <a:pt x="47" y="42"/>
                </a:lnTo>
                <a:lnTo>
                  <a:pt x="50" y="37"/>
                </a:lnTo>
                <a:lnTo>
                  <a:pt x="52" y="33"/>
                </a:lnTo>
                <a:lnTo>
                  <a:pt x="53" y="31"/>
                </a:lnTo>
                <a:lnTo>
                  <a:pt x="55" y="27"/>
                </a:lnTo>
                <a:lnTo>
                  <a:pt x="57" y="24"/>
                </a:lnTo>
                <a:lnTo>
                  <a:pt x="59" y="20"/>
                </a:lnTo>
                <a:lnTo>
                  <a:pt x="61" y="15"/>
                </a:lnTo>
                <a:lnTo>
                  <a:pt x="63" y="11"/>
                </a:lnTo>
                <a:lnTo>
                  <a:pt x="65" y="5"/>
                </a:lnTo>
                <a:lnTo>
                  <a:pt x="68" y="0"/>
                </a:lnTo>
                <a:lnTo>
                  <a:pt x="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25680" y="2746440"/>
            <a:ext cx="85680" cy="92160"/>
          </a:xfrm>
          <a:custGeom>
            <a:avLst/>
            <a:gdLst/>
            <a:ahLst/>
            <a:rect l="l" t="t" r="r" b="b"/>
            <a:pathLst>
              <a:path w="216" h="236">
                <a:moveTo>
                  <a:pt x="108" y="0"/>
                </a:moveTo>
                <a:lnTo>
                  <a:pt x="120" y="0"/>
                </a:lnTo>
                <a:lnTo>
                  <a:pt x="132" y="2"/>
                </a:lnTo>
                <a:lnTo>
                  <a:pt x="144" y="5"/>
                </a:lnTo>
                <a:lnTo>
                  <a:pt x="154" y="9"/>
                </a:lnTo>
                <a:lnTo>
                  <a:pt x="164" y="15"/>
                </a:lnTo>
                <a:lnTo>
                  <a:pt x="173" y="21"/>
                </a:lnTo>
                <a:lnTo>
                  <a:pt x="181" y="29"/>
                </a:lnTo>
                <a:lnTo>
                  <a:pt x="189" y="38"/>
                </a:lnTo>
                <a:lnTo>
                  <a:pt x="196" y="47"/>
                </a:lnTo>
                <a:lnTo>
                  <a:pt x="200" y="55"/>
                </a:lnTo>
                <a:lnTo>
                  <a:pt x="205" y="65"/>
                </a:lnTo>
                <a:lnTo>
                  <a:pt x="209" y="74"/>
                </a:lnTo>
                <a:lnTo>
                  <a:pt x="212" y="82"/>
                </a:lnTo>
                <a:lnTo>
                  <a:pt x="214" y="92"/>
                </a:lnTo>
                <a:lnTo>
                  <a:pt x="215" y="102"/>
                </a:lnTo>
                <a:lnTo>
                  <a:pt x="216" y="114"/>
                </a:lnTo>
                <a:lnTo>
                  <a:pt x="215" y="121"/>
                </a:lnTo>
                <a:lnTo>
                  <a:pt x="215" y="128"/>
                </a:lnTo>
                <a:lnTo>
                  <a:pt x="214" y="136"/>
                </a:lnTo>
                <a:lnTo>
                  <a:pt x="212" y="144"/>
                </a:lnTo>
                <a:lnTo>
                  <a:pt x="209" y="151"/>
                </a:lnTo>
                <a:lnTo>
                  <a:pt x="207" y="159"/>
                </a:lnTo>
                <a:lnTo>
                  <a:pt x="205" y="167"/>
                </a:lnTo>
                <a:lnTo>
                  <a:pt x="201" y="174"/>
                </a:lnTo>
                <a:lnTo>
                  <a:pt x="197" y="181"/>
                </a:lnTo>
                <a:lnTo>
                  <a:pt x="194" y="188"/>
                </a:lnTo>
                <a:lnTo>
                  <a:pt x="189" y="195"/>
                </a:lnTo>
                <a:lnTo>
                  <a:pt x="184" y="201"/>
                </a:lnTo>
                <a:lnTo>
                  <a:pt x="179" y="207"/>
                </a:lnTo>
                <a:lnTo>
                  <a:pt x="174" y="211"/>
                </a:lnTo>
                <a:lnTo>
                  <a:pt x="168" y="216"/>
                </a:lnTo>
                <a:lnTo>
                  <a:pt x="161" y="220"/>
                </a:lnTo>
                <a:lnTo>
                  <a:pt x="155" y="224"/>
                </a:lnTo>
                <a:lnTo>
                  <a:pt x="148" y="227"/>
                </a:lnTo>
                <a:lnTo>
                  <a:pt x="141" y="229"/>
                </a:lnTo>
                <a:lnTo>
                  <a:pt x="135" y="231"/>
                </a:lnTo>
                <a:lnTo>
                  <a:pt x="128" y="234"/>
                </a:lnTo>
                <a:lnTo>
                  <a:pt x="120" y="235"/>
                </a:lnTo>
                <a:lnTo>
                  <a:pt x="114" y="236"/>
                </a:lnTo>
                <a:lnTo>
                  <a:pt x="106" y="236"/>
                </a:lnTo>
                <a:lnTo>
                  <a:pt x="94" y="235"/>
                </a:lnTo>
                <a:lnTo>
                  <a:pt x="81" y="234"/>
                </a:lnTo>
                <a:lnTo>
                  <a:pt x="70" y="230"/>
                </a:lnTo>
                <a:lnTo>
                  <a:pt x="60" y="226"/>
                </a:lnTo>
                <a:lnTo>
                  <a:pt x="50" y="220"/>
                </a:lnTo>
                <a:lnTo>
                  <a:pt x="41" y="214"/>
                </a:lnTo>
                <a:lnTo>
                  <a:pt x="33" y="205"/>
                </a:lnTo>
                <a:lnTo>
                  <a:pt x="26" y="196"/>
                </a:lnTo>
                <a:lnTo>
                  <a:pt x="19" y="187"/>
                </a:lnTo>
                <a:lnTo>
                  <a:pt x="15" y="178"/>
                </a:lnTo>
                <a:lnTo>
                  <a:pt x="10" y="169"/>
                </a:lnTo>
                <a:lnTo>
                  <a:pt x="7" y="160"/>
                </a:lnTo>
                <a:lnTo>
                  <a:pt x="3" y="150"/>
                </a:lnTo>
                <a:lnTo>
                  <a:pt x="2" y="140"/>
                </a:lnTo>
                <a:lnTo>
                  <a:pt x="1" y="130"/>
                </a:lnTo>
                <a:lnTo>
                  <a:pt x="0" y="120"/>
                </a:lnTo>
                <a:lnTo>
                  <a:pt x="0" y="112"/>
                </a:lnTo>
                <a:lnTo>
                  <a:pt x="1" y="105"/>
                </a:lnTo>
                <a:lnTo>
                  <a:pt x="2" y="97"/>
                </a:lnTo>
                <a:lnTo>
                  <a:pt x="4" y="89"/>
                </a:lnTo>
                <a:lnTo>
                  <a:pt x="7" y="81"/>
                </a:lnTo>
                <a:lnTo>
                  <a:pt x="9" y="74"/>
                </a:lnTo>
                <a:lnTo>
                  <a:pt x="12" y="67"/>
                </a:lnTo>
                <a:lnTo>
                  <a:pt x="16" y="59"/>
                </a:lnTo>
                <a:lnTo>
                  <a:pt x="19" y="51"/>
                </a:lnTo>
                <a:lnTo>
                  <a:pt x="23" y="45"/>
                </a:lnTo>
                <a:lnTo>
                  <a:pt x="28" y="38"/>
                </a:lnTo>
                <a:lnTo>
                  <a:pt x="33" y="32"/>
                </a:lnTo>
                <a:lnTo>
                  <a:pt x="38" y="27"/>
                </a:lnTo>
                <a:lnTo>
                  <a:pt x="43" y="22"/>
                </a:lnTo>
                <a:lnTo>
                  <a:pt x="49" y="18"/>
                </a:lnTo>
                <a:lnTo>
                  <a:pt x="56" y="15"/>
                </a:lnTo>
                <a:lnTo>
                  <a:pt x="61" y="11"/>
                </a:lnTo>
                <a:lnTo>
                  <a:pt x="68" y="8"/>
                </a:lnTo>
                <a:lnTo>
                  <a:pt x="75" y="6"/>
                </a:lnTo>
                <a:lnTo>
                  <a:pt x="81" y="4"/>
                </a:lnTo>
                <a:lnTo>
                  <a:pt x="88" y="1"/>
                </a:lnTo>
                <a:lnTo>
                  <a:pt x="95" y="0"/>
                </a:lnTo>
                <a:lnTo>
                  <a:pt x="101" y="0"/>
                </a:lnTo>
                <a:lnTo>
                  <a:pt x="108" y="0"/>
                </a:lnTo>
                <a:close/>
                <a:moveTo>
                  <a:pt x="100" y="16"/>
                </a:moveTo>
                <a:lnTo>
                  <a:pt x="97" y="16"/>
                </a:lnTo>
                <a:lnTo>
                  <a:pt x="95" y="16"/>
                </a:lnTo>
                <a:lnTo>
                  <a:pt x="91" y="17"/>
                </a:lnTo>
                <a:lnTo>
                  <a:pt x="88" y="17"/>
                </a:lnTo>
                <a:lnTo>
                  <a:pt x="85" y="18"/>
                </a:lnTo>
                <a:lnTo>
                  <a:pt x="81" y="20"/>
                </a:lnTo>
                <a:lnTo>
                  <a:pt x="78" y="21"/>
                </a:lnTo>
                <a:lnTo>
                  <a:pt x="75" y="24"/>
                </a:lnTo>
                <a:lnTo>
                  <a:pt x="71" y="26"/>
                </a:lnTo>
                <a:lnTo>
                  <a:pt x="68" y="28"/>
                </a:lnTo>
                <a:lnTo>
                  <a:pt x="66" y="30"/>
                </a:lnTo>
                <a:lnTo>
                  <a:pt x="62" y="34"/>
                </a:lnTo>
                <a:lnTo>
                  <a:pt x="60" y="37"/>
                </a:lnTo>
                <a:lnTo>
                  <a:pt x="58" y="41"/>
                </a:lnTo>
                <a:lnTo>
                  <a:pt x="56" y="46"/>
                </a:lnTo>
                <a:lnTo>
                  <a:pt x="53" y="50"/>
                </a:lnTo>
                <a:lnTo>
                  <a:pt x="51" y="55"/>
                </a:lnTo>
                <a:lnTo>
                  <a:pt x="50" y="60"/>
                </a:lnTo>
                <a:lnTo>
                  <a:pt x="49" y="66"/>
                </a:lnTo>
                <a:lnTo>
                  <a:pt x="48" y="72"/>
                </a:lnTo>
                <a:lnTo>
                  <a:pt x="47" y="78"/>
                </a:lnTo>
                <a:lnTo>
                  <a:pt x="46" y="85"/>
                </a:lnTo>
                <a:lnTo>
                  <a:pt x="46" y="92"/>
                </a:lnTo>
                <a:lnTo>
                  <a:pt x="46" y="99"/>
                </a:lnTo>
                <a:lnTo>
                  <a:pt x="46" y="111"/>
                </a:lnTo>
                <a:lnTo>
                  <a:pt x="47" y="122"/>
                </a:lnTo>
                <a:lnTo>
                  <a:pt x="48" y="134"/>
                </a:lnTo>
                <a:lnTo>
                  <a:pt x="50" y="145"/>
                </a:lnTo>
                <a:lnTo>
                  <a:pt x="53" y="155"/>
                </a:lnTo>
                <a:lnTo>
                  <a:pt x="57" y="165"/>
                </a:lnTo>
                <a:lnTo>
                  <a:pt x="60" y="175"/>
                </a:lnTo>
                <a:lnTo>
                  <a:pt x="65" y="184"/>
                </a:lnTo>
                <a:lnTo>
                  <a:pt x="70" y="191"/>
                </a:lnTo>
                <a:lnTo>
                  <a:pt x="76" y="199"/>
                </a:lnTo>
                <a:lnTo>
                  <a:pt x="81" y="205"/>
                </a:lnTo>
                <a:lnTo>
                  <a:pt x="87" y="209"/>
                </a:lnTo>
                <a:lnTo>
                  <a:pt x="94" y="214"/>
                </a:lnTo>
                <a:lnTo>
                  <a:pt x="101" y="216"/>
                </a:lnTo>
                <a:lnTo>
                  <a:pt x="108" y="218"/>
                </a:lnTo>
                <a:lnTo>
                  <a:pt x="116" y="218"/>
                </a:lnTo>
                <a:lnTo>
                  <a:pt x="121" y="218"/>
                </a:lnTo>
                <a:lnTo>
                  <a:pt x="127" y="217"/>
                </a:lnTo>
                <a:lnTo>
                  <a:pt x="132" y="216"/>
                </a:lnTo>
                <a:lnTo>
                  <a:pt x="137" y="214"/>
                </a:lnTo>
                <a:lnTo>
                  <a:pt x="143" y="211"/>
                </a:lnTo>
                <a:lnTo>
                  <a:pt x="147" y="208"/>
                </a:lnTo>
                <a:lnTo>
                  <a:pt x="151" y="204"/>
                </a:lnTo>
                <a:lnTo>
                  <a:pt x="155" y="199"/>
                </a:lnTo>
                <a:lnTo>
                  <a:pt x="158" y="194"/>
                </a:lnTo>
                <a:lnTo>
                  <a:pt x="161" y="188"/>
                </a:lnTo>
                <a:lnTo>
                  <a:pt x="165" y="180"/>
                </a:lnTo>
                <a:lnTo>
                  <a:pt x="166" y="172"/>
                </a:lnTo>
                <a:lnTo>
                  <a:pt x="168" y="164"/>
                </a:lnTo>
                <a:lnTo>
                  <a:pt x="169" y="155"/>
                </a:lnTo>
                <a:lnTo>
                  <a:pt x="170" y="144"/>
                </a:lnTo>
                <a:lnTo>
                  <a:pt x="170" y="132"/>
                </a:lnTo>
                <a:lnTo>
                  <a:pt x="170" y="118"/>
                </a:lnTo>
                <a:lnTo>
                  <a:pt x="168" y="104"/>
                </a:lnTo>
                <a:lnTo>
                  <a:pt x="167" y="91"/>
                </a:lnTo>
                <a:lnTo>
                  <a:pt x="164" y="79"/>
                </a:lnTo>
                <a:lnTo>
                  <a:pt x="160" y="68"/>
                </a:lnTo>
                <a:lnTo>
                  <a:pt x="156" y="57"/>
                </a:lnTo>
                <a:lnTo>
                  <a:pt x="150" y="48"/>
                </a:lnTo>
                <a:lnTo>
                  <a:pt x="145" y="39"/>
                </a:lnTo>
                <a:lnTo>
                  <a:pt x="140" y="34"/>
                </a:lnTo>
                <a:lnTo>
                  <a:pt x="136" y="29"/>
                </a:lnTo>
                <a:lnTo>
                  <a:pt x="130" y="25"/>
                </a:lnTo>
                <a:lnTo>
                  <a:pt x="125" y="21"/>
                </a:lnTo>
                <a:lnTo>
                  <a:pt x="119" y="19"/>
                </a:lnTo>
                <a:lnTo>
                  <a:pt x="114" y="17"/>
                </a:lnTo>
                <a:lnTo>
                  <a:pt x="107" y="16"/>
                </a:lnTo>
                <a:lnTo>
                  <a:pt x="100" y="16"/>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2133720" y="2362320"/>
            <a:ext cx="1295280" cy="609480"/>
          </a:xfrm>
          <a:custGeom>
            <a:avLst/>
            <a:gdLst/>
            <a:ahLst/>
            <a:rect l="l" t="t" r="r" b="b"/>
            <a:pathLst>
              <a:path w="424" h="255">
                <a:moveTo>
                  <a:pt x="0" y="0"/>
                </a:moveTo>
                <a:lnTo>
                  <a:pt x="424" y="255"/>
                </a:lnTo>
              </a:path>
            </a:pathLst>
          </a:custGeom>
          <a:solidFill>
            <a:srgbClr val="ffffff"/>
          </a:solidFill>
          <a:ln w="76320">
            <a:solidFill>
              <a:srgbClr val="8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3338640" y="2935440"/>
            <a:ext cx="66600" cy="80640"/>
          </a:xfrm>
          <a:custGeom>
            <a:avLst/>
            <a:gdLst/>
            <a:ahLst/>
            <a:rect l="l" t="t" r="r" b="b"/>
            <a:pathLst>
              <a:path w="167" h="206">
                <a:moveTo>
                  <a:pt x="155" y="206"/>
                </a:moveTo>
                <a:lnTo>
                  <a:pt x="167" y="170"/>
                </a:lnTo>
                <a:lnTo>
                  <a:pt x="36" y="0"/>
                </a:lnTo>
                <a:lnTo>
                  <a:pt x="0" y="28"/>
                </a:lnTo>
                <a:lnTo>
                  <a:pt x="132" y="198"/>
                </a:lnTo>
                <a:lnTo>
                  <a:pt x="144" y="162"/>
                </a:lnTo>
                <a:lnTo>
                  <a:pt x="155" y="206"/>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9" name=""/>
          <p:cNvSpPr/>
          <p:nvPr/>
        </p:nvSpPr>
        <p:spPr>
          <a:xfrm>
            <a:off x="2057400" y="3733920"/>
            <a:ext cx="2286000" cy="152280"/>
          </a:xfrm>
          <a:prstGeom prst="line">
            <a:avLst/>
          </a:prstGeom>
          <a:ln w="76320">
            <a:solidFill>
              <a:srgbClr val="00cc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349880" y="3581280"/>
            <a:ext cx="7920" cy="14400"/>
          </a:xfrm>
          <a:custGeom>
            <a:avLst/>
            <a:gdLst/>
            <a:ahLst/>
            <a:rect l="l" t="t" r="r" b="b"/>
            <a:pathLst>
              <a:path w="18" h="37">
                <a:moveTo>
                  <a:pt x="7" y="37"/>
                </a:moveTo>
                <a:lnTo>
                  <a:pt x="0" y="16"/>
                </a:lnTo>
                <a:lnTo>
                  <a:pt x="18" y="0"/>
                </a:lnTo>
                <a:lnTo>
                  <a:pt x="7" y="37"/>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1" name=""/>
          <p:cNvSpPr/>
          <p:nvPr/>
        </p:nvSpPr>
        <p:spPr>
          <a:xfrm flipV="1">
            <a:off x="2895480" y="4191120"/>
            <a:ext cx="2133720" cy="761760"/>
          </a:xfrm>
          <a:prstGeom prst="line">
            <a:avLst/>
          </a:prstGeom>
          <a:ln w="763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008680" y="3882960"/>
            <a:ext cx="6120" cy="15840"/>
          </a:xfrm>
          <a:custGeom>
            <a:avLst/>
            <a:gdLst/>
            <a:ahLst/>
            <a:rect l="l" t="t" r="r" b="b"/>
            <a:pathLst>
              <a:path w="15" h="37">
                <a:moveTo>
                  <a:pt x="9" y="37"/>
                </a:moveTo>
                <a:lnTo>
                  <a:pt x="0" y="16"/>
                </a:lnTo>
                <a:lnTo>
                  <a:pt x="15" y="0"/>
                </a:lnTo>
                <a:lnTo>
                  <a:pt x="9" y="3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flipV="1">
            <a:off x="3505320" y="4495320"/>
            <a:ext cx="1828800" cy="167652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045040" y="4044960"/>
            <a:ext cx="4680" cy="14400"/>
          </a:xfrm>
          <a:custGeom>
            <a:avLst/>
            <a:gdLst/>
            <a:ahLst/>
            <a:rect l="l" t="t" r="r" b="b"/>
            <a:pathLst>
              <a:path w="14" h="38">
                <a:moveTo>
                  <a:pt x="11" y="38"/>
                </a:moveTo>
                <a:lnTo>
                  <a:pt x="0" y="18"/>
                </a:lnTo>
                <a:lnTo>
                  <a:pt x="14" y="0"/>
                </a:lnTo>
                <a:lnTo>
                  <a:pt x="11" y="38"/>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 name=""/>
          <p:cNvSpPr/>
          <p:nvPr/>
        </p:nvSpPr>
        <p:spPr>
          <a:xfrm>
            <a:off x="382680" y="2133720"/>
            <a:ext cx="1750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SLSC total</a:t>
            </a:r>
            <a:endParaRPr b="0" lang="en-US" sz="2800" spc="-1" strike="noStrike">
              <a:solidFill>
                <a:srgbClr val="000000"/>
              </a:solidFill>
              <a:latin typeface="Times New Roman"/>
            </a:endParaRPr>
          </a:p>
        </p:txBody>
      </p:sp>
      <p:sp>
        <p:nvSpPr>
          <p:cNvPr id="126" name=""/>
          <p:cNvSpPr/>
          <p:nvPr/>
        </p:nvSpPr>
        <p:spPr>
          <a:xfrm>
            <a:off x="306360" y="3429000"/>
            <a:ext cx="1579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Technical</a:t>
            </a:r>
            <a:endParaRPr b="0" lang="en-US" sz="2800" spc="-1" strike="noStrike">
              <a:solidFill>
                <a:srgbClr val="000000"/>
              </a:solidFill>
              <a:latin typeface="Times New Roman"/>
            </a:endParaRPr>
          </a:p>
        </p:txBody>
      </p:sp>
      <p:sp>
        <p:nvSpPr>
          <p:cNvPr id="127" name=""/>
          <p:cNvSpPr/>
          <p:nvPr/>
        </p:nvSpPr>
        <p:spPr>
          <a:xfrm>
            <a:off x="380880" y="4724280"/>
            <a:ext cx="240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Stock depletion</a:t>
            </a:r>
            <a:endParaRPr b="0" lang="en-US" sz="2800" spc="-1" strike="noStrike">
              <a:solidFill>
                <a:srgbClr val="000000"/>
              </a:solidFill>
              <a:latin typeface="Times New Roman"/>
            </a:endParaRPr>
          </a:p>
        </p:txBody>
      </p:sp>
      <p:sp>
        <p:nvSpPr>
          <p:cNvPr id="128" name=""/>
          <p:cNvSpPr/>
          <p:nvPr/>
        </p:nvSpPr>
        <p:spPr>
          <a:xfrm>
            <a:off x="305280" y="6019920"/>
            <a:ext cx="320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00"/>
                </a:solidFill>
                <a:latin typeface="Times New Roman"/>
              </a:rPr>
              <a:t>Right to manufacture</a:t>
            </a:r>
            <a:endParaRPr b="0" lang="en-US" sz="2800" spc="-1" strike="noStrike">
              <a:solidFill>
                <a:srgbClr val="000000"/>
              </a:solidFill>
              <a:latin typeface="Times New Roman"/>
            </a:endParaRPr>
          </a:p>
        </p:txBody>
      </p:sp>
      <p:sp>
        <p:nvSpPr>
          <p:cNvPr id="129" name=""/>
          <p:cNvSpPr/>
          <p:nvPr/>
        </p:nvSpPr>
        <p:spPr>
          <a:xfrm>
            <a:off x="5184360" y="3657600"/>
            <a:ext cx="10432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AMP</a:t>
            </a:r>
            <a:br>
              <a:rPr sz="2400"/>
            </a:br>
            <a:r>
              <a:rPr b="0" lang="en-GB" sz="2400" spc="-1" strike="noStrike">
                <a:solidFill>
                  <a:srgbClr val="000000"/>
                </a:solidFill>
                <a:latin typeface="Times New Roman"/>
              </a:rPr>
              <a:t>i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DML RAMP Technical Centre</a:t>
            </a:r>
            <a:endParaRPr b="0" lang="en-US" sz="4400" spc="-1" strike="noStrike">
              <a:solidFill>
                <a:srgbClr val="cc33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A new facility set-up an operated within DML</a:t>
            </a:r>
            <a:endParaRPr b="0" lang="en-US" sz="2400" spc="-1" strike="noStrike">
              <a:solidFill>
                <a:srgbClr val="ffff00"/>
              </a:solidFill>
              <a:latin typeface="Times New Roman"/>
            </a:endParaRPr>
          </a:p>
          <a:p>
            <a:pPr marL="318960" indent="-3189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Technology transfer project</a:t>
            </a:r>
            <a:endParaRPr b="0" lang="en-US" sz="2400" spc="-1" strike="noStrike">
              <a:solidFill>
                <a:srgbClr val="ffff00"/>
              </a:solidFill>
              <a:latin typeface="Times New Roman"/>
            </a:endParaRPr>
          </a:p>
          <a:p>
            <a:pPr lvl="1" marL="690840" indent="-2656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Joint team from DML and LSC with input from MXS</a:t>
            </a:r>
            <a:endParaRPr b="0" lang="en-US" sz="2400" spc="-1" strike="noStrike">
              <a:solidFill>
                <a:srgbClr val="ffff00"/>
              </a:solidFill>
              <a:latin typeface="Times New Roman"/>
            </a:endParaRPr>
          </a:p>
          <a:p>
            <a:pPr lvl="1" marL="690840" indent="-2656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Moving to be DML operated</a:t>
            </a:r>
            <a:endParaRPr b="0" lang="en-US" sz="2400" spc="-1" strike="noStrike">
              <a:solidFill>
                <a:srgbClr val="ffff00"/>
              </a:solidFill>
              <a:latin typeface="Times New Roman"/>
            </a:endParaRPr>
          </a:p>
          <a:p>
            <a:pPr marL="318960" indent="-3189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Two parallel implementations Design and Manufacture</a:t>
            </a:r>
            <a:endParaRPr b="0" lang="en-US" sz="2400" spc="-1" strike="noStrike">
              <a:solidFill>
                <a:srgbClr val="ffff00"/>
              </a:solidFill>
              <a:latin typeface="Times New Roman"/>
            </a:endParaRPr>
          </a:p>
          <a:p>
            <a:pPr marL="318960" indent="-3189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The 1,500 items, effort divided into phases</a:t>
            </a:r>
            <a:endParaRPr b="0" lang="en-US" sz="2400" spc="-1" strike="noStrike">
              <a:solidFill>
                <a:srgbClr val="ffff00"/>
              </a:solidFill>
              <a:latin typeface="Times New Roman"/>
            </a:endParaRPr>
          </a:p>
          <a:p>
            <a:pPr lvl="1" marL="690840" indent="-2656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Phases scheduled by common product types</a:t>
            </a:r>
            <a:endParaRPr b="0" lang="en-US" sz="2400" spc="-1" strike="noStrike">
              <a:solidFill>
                <a:srgbClr val="ffff00"/>
              </a:solidFill>
              <a:latin typeface="Times New Roman"/>
            </a:endParaRPr>
          </a:p>
          <a:p>
            <a:pPr marL="318960" indent="-3189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Contributions from Design and Manufacture teams</a:t>
            </a:r>
            <a:endParaRPr b="0" lang="en-US" sz="2400" spc="-1" strike="noStrike">
              <a:solidFill>
                <a:srgbClr val="ffff00"/>
              </a:solidFill>
              <a:latin typeface="Times New Roman"/>
            </a:endParaRPr>
          </a:p>
          <a:p>
            <a:pPr lvl="1" marL="690840" indent="-2656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Phase initiated when items identified on CRISP as RAMP supply</a:t>
            </a:r>
            <a:endParaRPr b="0" lang="en-US" sz="2400" spc="-1" strike="noStrike">
              <a:solidFill>
                <a:srgbClr val="ffff00"/>
              </a:solidFill>
              <a:latin typeface="Times New Roman"/>
            </a:endParaRPr>
          </a:p>
          <a:p>
            <a:pPr lvl="1" marL="690840" indent="-2656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We are currently at phase 1,  286 screw and bolt items</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Times New Roman"/>
              </a:rPr>
              <a:t>DML RAMP Environment</a:t>
            </a:r>
            <a:endParaRPr b="0" lang="en-US" sz="4400" spc="-1" strike="noStrike">
              <a:solidFill>
                <a:srgbClr val="cc3300"/>
              </a:solidFill>
              <a:latin typeface="Times New Roman"/>
            </a:endParaRPr>
          </a:p>
        </p:txBody>
      </p:sp>
      <p:pic>
        <p:nvPicPr>
          <p:cNvPr id="133" name="dre" descr=""/>
          <p:cNvPicPr/>
          <p:nvPr/>
        </p:nvPicPr>
        <p:blipFill>
          <a:blip r:embed="rId1"/>
          <a:stretch/>
        </p:blipFill>
        <p:spPr>
          <a:xfrm>
            <a:off x="0" y="846000"/>
            <a:ext cx="9144000" cy="6012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6934320" y="228600"/>
            <a:ext cx="1928520" cy="703440"/>
          </a:xfrm>
          <a:prstGeom prst="rect">
            <a:avLst/>
          </a:prstGeom>
          <a:ln w="0">
            <a:noFill/>
          </a:ln>
        </p:spPr>
      </p:pic>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RAMP - MXS Perspective</a:t>
            </a:r>
            <a:endParaRPr b="0" lang="en-US" sz="4400" spc="-1" strike="noStrike">
              <a:solidFill>
                <a:srgbClr val="cc33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MXS inherits ownership of 90,000 line items</a:t>
            </a:r>
            <a:endParaRPr b="0" lang="en-US" sz="2400" spc="-1" strike="noStrike">
              <a:solidFill>
                <a:srgbClr val="ffff00"/>
              </a:solidFill>
              <a:latin typeface="Times New Roman"/>
            </a:endParaRPr>
          </a:p>
          <a:p>
            <a:pPr lvl="1" marL="743040" indent="-285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It was valued at £320M in October 03.</a:t>
            </a:r>
            <a:endParaRPr b="0" lang="en-US" sz="2400" spc="-1" strike="noStrike">
              <a:solidFill>
                <a:srgbClr val="ffff00"/>
              </a:solidFill>
              <a:latin typeface="Times New Roman"/>
            </a:endParaRPr>
          </a:p>
          <a:p>
            <a:pPr lvl="1" marL="743040" indent="-285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It ranges from consumables to complete equipments.</a:t>
            </a:r>
            <a:endParaRPr b="0" lang="en-US" sz="2400" spc="-1" strike="noStrike">
              <a:solidFill>
                <a:srgbClr val="ffff00"/>
              </a:solidFill>
              <a:latin typeface="Times New Roman"/>
            </a:endParaRPr>
          </a:p>
          <a:p>
            <a:pPr lvl="1" marL="743040" indent="-285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Usage varies from hundreds per year down to zero.</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ignificant task to rationalise</a:t>
            </a:r>
            <a:endParaRPr b="0" lang="en-US" sz="2400" spc="-1" strike="noStrike">
              <a:solidFill>
                <a:srgbClr val="ffff00"/>
              </a:solidFill>
              <a:latin typeface="Times New Roman"/>
            </a:endParaRPr>
          </a:p>
          <a:p>
            <a:pPr lvl="1" marL="743040" indent="-285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tock levels often determined by historical data only</a:t>
            </a:r>
            <a:endParaRPr b="0" lang="en-US" sz="2400" spc="-1" strike="noStrike">
              <a:solidFill>
                <a:srgbClr val="ffff00"/>
              </a:solidFill>
              <a:latin typeface="Times New Roman"/>
            </a:endParaRPr>
          </a:p>
          <a:p>
            <a:pPr lvl="1" marL="743040" indent="-285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Working with industry can share the burden</a:t>
            </a:r>
            <a:endParaRPr b="0" lang="en-US" sz="2400" spc="-1" strike="noStrike">
              <a:solidFill>
                <a:srgbClr val="ffff00"/>
              </a:solidFill>
              <a:latin typeface="Times New Roman"/>
            </a:endParaRPr>
          </a:p>
          <a:p>
            <a:pPr lvl="1" marL="743040" indent="-285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Industry have expertise to bring</a:t>
            </a:r>
            <a:endParaRPr b="0" lang="en-US" sz="2400" spc="-1" strike="noStrike">
              <a:solidFill>
                <a:srgbClr val="ffff00"/>
              </a:solidFill>
              <a:latin typeface="Times New Roman"/>
            </a:endParaRPr>
          </a:p>
          <a:p>
            <a:pPr lvl="1" marL="743040" indent="-28584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Transferring responsibility to industry can also shorten supply chain</a:t>
            </a:r>
            <a:endParaRPr b="0" lang="en-US" sz="2400" spc="-1" strike="noStrike">
              <a:solidFill>
                <a:srgbClr val="ffff00"/>
              </a:solidFill>
              <a:latin typeface="Times New Roman"/>
            </a:endParaRPr>
          </a:p>
        </p:txBody>
      </p:sp>
      <p:sp>
        <p:nvSpPr>
          <p:cNvPr id="56" name=""/>
          <p:cNvSpPr/>
          <p:nvPr/>
        </p:nvSpPr>
        <p:spPr>
          <a:xfrm>
            <a:off x="3657600" y="6095880"/>
            <a:ext cx="5486400" cy="30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an Smith Team Leader, Marine Auxiliary Systems IP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RAMP Technical Centre Operation</a:t>
            </a:r>
            <a:endParaRPr b="0" lang="en-US" sz="4400" spc="-1" strike="noStrike">
              <a:solidFill>
                <a:srgbClr val="cc3300"/>
              </a:solidFill>
              <a:latin typeface="Times New Roman"/>
            </a:endParaRPr>
          </a:p>
        </p:txBody>
      </p:sp>
      <p:sp>
        <p:nvSpPr>
          <p:cNvPr id="135" name="PlaceHolder 2"/>
          <p:cNvSpPr>
            <a:spLocks noGrp="1"/>
          </p:cNvSpPr>
          <p:nvPr>
            <p:ph/>
          </p:nvPr>
        </p:nvSpPr>
        <p:spPr>
          <a:xfrm>
            <a:off x="685800" y="1981080"/>
            <a:ext cx="7772400" cy="1447920"/>
          </a:xfrm>
          <a:prstGeom prst="rect">
            <a:avLst/>
          </a:prstGeom>
          <a:noFill/>
          <a:ln w="0">
            <a:noFill/>
          </a:ln>
        </p:spPr>
        <p:txBody>
          <a:bodyPr lIns="90000" rIns="90000" tIns="46800" bIns="46800" anchor="t">
            <a:normAutofit fontScale="31000"/>
          </a:bodyPr>
          <a:p>
            <a:pPr marL="106200" indent="-1062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Review of the commercial requirement of the SLSC items</a:t>
            </a:r>
            <a:endParaRPr b="0" lang="en-US" sz="2400" spc="-1" strike="noStrike">
              <a:solidFill>
                <a:srgbClr val="ffff00"/>
              </a:solidFill>
              <a:latin typeface="Times New Roman"/>
            </a:endParaRPr>
          </a:p>
          <a:p>
            <a:pPr marL="106200" indent="-1062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Classification of designs </a:t>
            </a:r>
            <a:endParaRPr b="0" lang="en-US" sz="2400" spc="-1" strike="noStrike">
              <a:solidFill>
                <a:srgbClr val="ffff00"/>
              </a:solidFill>
              <a:latin typeface="Times New Roman"/>
            </a:endParaRPr>
          </a:p>
          <a:p>
            <a:pPr lvl="1" marL="230040" indent="-885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Identification of product groups a </a:t>
            </a:r>
            <a:endParaRPr b="0" lang="en-US" sz="2400" spc="-1" strike="noStrike">
              <a:solidFill>
                <a:srgbClr val="ffff00"/>
              </a:solidFill>
              <a:latin typeface="Times New Roman"/>
            </a:endParaRPr>
          </a:p>
          <a:p>
            <a:pPr lvl="1" marL="230040" indent="-885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Acquisition of drawings</a:t>
            </a:r>
            <a:endParaRPr b="0" lang="en-US" sz="2400" spc="-1" strike="noStrike">
              <a:solidFill>
                <a:srgbClr val="ffff00"/>
              </a:solidFill>
              <a:latin typeface="Times New Roman"/>
            </a:endParaRPr>
          </a:p>
          <a:p>
            <a:pPr marL="106200" indent="-1062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Prepare Technical data pack and data cleansing</a:t>
            </a:r>
            <a:endParaRPr b="0" lang="en-US" sz="2400" spc="-1" strike="noStrike">
              <a:solidFill>
                <a:srgbClr val="ffff00"/>
              </a:solidFill>
              <a:latin typeface="Times New Roman"/>
            </a:endParaRPr>
          </a:p>
          <a:p>
            <a:pPr marL="106200" indent="-1062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Identification of manufacturing engineering requirements</a:t>
            </a:r>
            <a:endParaRPr b="0" lang="en-US" sz="2400" spc="-1" strike="noStrike">
              <a:solidFill>
                <a:srgbClr val="ffff00"/>
              </a:solidFill>
              <a:latin typeface="Times New Roman"/>
            </a:endParaRPr>
          </a:p>
          <a:p>
            <a:pPr lvl="1" marL="230040" indent="-885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Establish best feature represented for manufacture</a:t>
            </a:r>
            <a:endParaRPr b="0" lang="en-US" sz="2400" spc="-1" strike="noStrike">
              <a:solidFill>
                <a:srgbClr val="ffff00"/>
              </a:solidFill>
              <a:latin typeface="Times New Roman"/>
            </a:endParaRPr>
          </a:p>
          <a:p>
            <a:pPr marL="106200" indent="-1062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Generation of STEP AP224 data verification</a:t>
            </a:r>
            <a:endParaRPr b="0" lang="en-US" sz="2400" spc="-1" strike="noStrike">
              <a:solidFill>
                <a:srgbClr val="ffff00"/>
              </a:solidFill>
              <a:latin typeface="Times New Roman"/>
            </a:endParaRPr>
          </a:p>
          <a:p>
            <a:pPr marL="106200" indent="-1062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Identification of manufacturing processes</a:t>
            </a:r>
            <a:endParaRPr b="0" lang="en-US" sz="2400" spc="-1" strike="noStrike">
              <a:solidFill>
                <a:srgbClr val="ffff00"/>
              </a:solidFill>
              <a:latin typeface="Times New Roman"/>
            </a:endParaRPr>
          </a:p>
          <a:p>
            <a:pPr lvl="1" marL="230040" indent="-885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Building knowledge base around item group</a:t>
            </a:r>
            <a:endParaRPr b="0" lang="en-US" sz="2400" spc="-1" strike="noStrike">
              <a:solidFill>
                <a:srgbClr val="ffff00"/>
              </a:solidFill>
              <a:latin typeface="Times New Roman"/>
            </a:endParaRPr>
          </a:p>
          <a:p>
            <a:pPr lvl="1" marL="230040" indent="-885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Building NC command library</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DML RAMP Order Sequence</a:t>
            </a:r>
            <a:endParaRPr b="0" lang="en-US" sz="4400" spc="-1" strike="noStrike">
              <a:solidFill>
                <a:srgbClr val="cc3300"/>
              </a:solidFill>
              <a:latin typeface="Times New Roman"/>
            </a:endParaRPr>
          </a:p>
        </p:txBody>
      </p:sp>
      <p:sp>
        <p:nvSpPr>
          <p:cNvPr id="137" name=""/>
          <p:cNvSpPr/>
          <p:nvPr/>
        </p:nvSpPr>
        <p:spPr>
          <a:xfrm>
            <a:off x="2119320" y="1757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8" name="Stages in Processing a RAMP Order" descr=""/>
          <p:cNvPicPr/>
          <p:nvPr/>
        </p:nvPicPr>
        <p:blipFill>
          <a:blip r:embed="rId1"/>
          <a:srcRect l="0" t="-6021" r="0" b="-6021"/>
          <a:stretch/>
        </p:blipFill>
        <p:spPr>
          <a:xfrm>
            <a:off x="571680" y="1222200"/>
            <a:ext cx="8267400" cy="5635800"/>
          </a:xfrm>
          <a:prstGeom prst="rect">
            <a:avLst/>
          </a:prstGeom>
          <a:ln w="0">
            <a:noFill/>
          </a:ln>
        </p:spPr>
      </p:pic>
      <p:sp>
        <p:nvSpPr>
          <p:cNvPr id="139" name=""/>
          <p:cNvSpPr/>
          <p:nvPr/>
        </p:nvSpPr>
        <p:spPr>
          <a:xfrm>
            <a:off x="2895480" y="3124080"/>
            <a:ext cx="3581640" cy="1676520"/>
          </a:xfrm>
          <a:prstGeom prst="line">
            <a:avLst/>
          </a:prstGeom>
          <a:ln w="8568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172200" y="4800600"/>
            <a:ext cx="304920" cy="0"/>
          </a:xfrm>
          <a:prstGeom prst="line">
            <a:avLst/>
          </a:prstGeom>
          <a:ln w="8568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324480" y="4572000"/>
            <a:ext cx="152640" cy="228600"/>
          </a:xfrm>
          <a:prstGeom prst="line">
            <a:avLst/>
          </a:prstGeom>
          <a:ln w="85680">
            <a:solidFill>
              <a:srgbClr val="33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Design Product Group</a:t>
            </a:r>
            <a:endParaRPr b="0" lang="en-US" sz="4400" spc="-1" strike="noStrike">
              <a:solidFill>
                <a:srgbClr val="cc33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Design product grouping allows for efficiency  in the generation of item design representations as STEP files</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Model the family complexity once and re-use</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Application of standards to a range of products</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Reduced design verification time</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Ensuring that the STEP file represents the designers intent</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Group similar enquiries to the design authority </a:t>
            </a:r>
            <a:br>
              <a:rPr sz="2400"/>
            </a:br>
            <a:r>
              <a:rPr b="0" lang="en-GB" sz="2400" spc="-1" strike="noStrike">
                <a:solidFill>
                  <a:srgbClr val="ffff00"/>
                </a:solidFill>
                <a:latin typeface="Times New Roman"/>
              </a:rPr>
              <a:t>             perhaps allowing precedence examples</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Increase familiarity with design requirements</a:t>
            </a: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Times New Roman"/>
              </a:rPr>
              <a:t>Design Data Cleansing</a:t>
            </a:r>
            <a:endParaRPr b="0" lang="en-US" sz="4400" spc="-1" strike="noStrike">
              <a:solidFill>
                <a:srgbClr val="cc3300"/>
              </a:solidFill>
              <a:latin typeface="Times New Roman"/>
            </a:endParaRPr>
          </a:p>
        </p:txBody>
      </p:sp>
      <p:sp>
        <p:nvSpPr>
          <p:cNvPr id="145" name=""/>
          <p:cNvSpPr/>
          <p:nvPr/>
        </p:nvSpPr>
        <p:spPr>
          <a:xfrm>
            <a:off x="1967040" y="43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6" name="The Extended Technical Data Pack" descr=""/>
          <p:cNvPicPr/>
          <p:nvPr/>
        </p:nvPicPr>
        <p:blipFill>
          <a:blip r:embed="rId1"/>
          <a:srcRect l="0" t="-3192" r="0" b="-3192"/>
          <a:stretch/>
        </p:blipFill>
        <p:spPr>
          <a:xfrm>
            <a:off x="1585800" y="0"/>
            <a:ext cx="6172200" cy="70866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Manufacturing Product Group</a:t>
            </a:r>
            <a:endParaRPr b="0" lang="en-US" sz="4400" spc="-1" strike="noStrike">
              <a:solidFill>
                <a:srgbClr val="cc33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Organisation of Manufacturing Engineering best practice </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Optimum Material, equipment selection</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upply of cut sequences for NC generation as appropriate</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Inspection criteria, generation of quality assurance requirement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Validation experience can be applied to the product group</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Formal testing of items within a range</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RAMP in Operation</a:t>
            </a:r>
            <a:endParaRPr b="0" lang="en-US" sz="4400" spc="-1" strike="noStrike">
              <a:solidFill>
                <a:srgbClr val="cc33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Reduction in order size and the time between item orders </a:t>
            </a:r>
            <a:endParaRPr b="0" lang="en-US" sz="2400" spc="-1" strike="noStrike">
              <a:solidFill>
                <a:srgbClr val="ffff00"/>
              </a:solidFill>
              <a:latin typeface="Times New Roman"/>
            </a:endParaRPr>
          </a:p>
          <a:p>
            <a:pPr marL="318960" indent="-3189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RAMP helps with reduction in costs of processing orders</a:t>
            </a:r>
            <a:endParaRPr b="0" lang="en-US" sz="2400" spc="-1" strike="noStrike">
              <a:solidFill>
                <a:srgbClr val="ffff00"/>
              </a:solidFill>
              <a:latin typeface="Times New Roman"/>
            </a:endParaRPr>
          </a:p>
          <a:p>
            <a:pPr marL="318960" indent="-3189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Order quantities adapted/minimised by SLSC manager</a:t>
            </a:r>
            <a:endParaRPr b="0" lang="en-US" sz="2400" spc="-1" strike="noStrike">
              <a:solidFill>
                <a:srgbClr val="ffff00"/>
              </a:solidFill>
              <a:latin typeface="Times New Roman"/>
            </a:endParaRPr>
          </a:p>
          <a:p>
            <a:pPr lvl="1" marL="690840" indent="-2656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to support immediate demand </a:t>
            </a:r>
            <a:endParaRPr b="0" lang="en-US" sz="2400" spc="-1" strike="noStrike">
              <a:solidFill>
                <a:srgbClr val="ffff00"/>
              </a:solidFill>
              <a:latin typeface="Times New Roman"/>
            </a:endParaRPr>
          </a:p>
          <a:p>
            <a:pPr lvl="1" marL="690840" indent="-2656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to meet the predicted demand supply within the lead </a:t>
            </a:r>
            <a:r>
              <a:rPr b="0" lang="en-GB" sz="2400" spc="-1" strike="noStrike">
                <a:solidFill>
                  <a:srgbClr val="ffff00"/>
                </a:solidFill>
                <a:latin typeface="Times New Roman"/>
              </a:rPr>
              <a:t>	</a:t>
            </a:r>
            <a:r>
              <a:rPr b="0" lang="en-GB" sz="2400" spc="-1" strike="noStrike">
                <a:solidFill>
                  <a:srgbClr val="ffff00"/>
                </a:solidFill>
                <a:latin typeface="Times New Roman"/>
              </a:rPr>
              <a:t>	</a:t>
            </a:r>
            <a:r>
              <a:rPr b="0" lang="en-GB" sz="2400" spc="-1" strike="noStrike">
                <a:solidFill>
                  <a:srgbClr val="ffff00"/>
                </a:solidFill>
                <a:latin typeface="Times New Roman"/>
              </a:rPr>
              <a:t>	</a:t>
            </a:r>
            <a:r>
              <a:rPr b="0" lang="en-GB" sz="2400" spc="-1" strike="noStrike">
                <a:solidFill>
                  <a:srgbClr val="ffff00"/>
                </a:solidFill>
                <a:latin typeface="Times New Roman"/>
              </a:rPr>
              <a:t>time plus contingency</a:t>
            </a:r>
            <a:endParaRPr b="0" lang="en-US" sz="2400" spc="-1" strike="noStrike">
              <a:solidFill>
                <a:srgbClr val="ffff00"/>
              </a:solidFill>
              <a:latin typeface="Times New Roman"/>
            </a:endParaRPr>
          </a:p>
          <a:p>
            <a:pPr marL="318960" indent="-3189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With continued refinement in use </a:t>
            </a:r>
            <a:endParaRPr b="0" lang="en-US" sz="2400" spc="-1" strike="noStrike">
              <a:solidFill>
                <a:srgbClr val="ffff00"/>
              </a:solidFill>
              <a:latin typeface="Times New Roman"/>
            </a:endParaRPr>
          </a:p>
          <a:p>
            <a:pPr lvl="1" marL="690840" indent="-2656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Manufacturing lead time will reduce</a:t>
            </a:r>
            <a:endParaRPr b="0" lang="en-US" sz="2400" spc="-1" strike="noStrike">
              <a:solidFill>
                <a:srgbClr val="ffff00"/>
              </a:solidFill>
              <a:latin typeface="Times New Roman"/>
            </a:endParaRPr>
          </a:p>
          <a:p>
            <a:pPr lvl="1" marL="690840" indent="-2656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Contingency will reduce</a:t>
            </a:r>
            <a:endParaRPr b="0" lang="en-US" sz="2400" spc="-1" strike="noStrike">
              <a:solidFill>
                <a:srgbClr val="ffff00"/>
              </a:solidFill>
              <a:latin typeface="Times New Roman"/>
            </a:endParaRPr>
          </a:p>
          <a:p>
            <a:pPr marL="318960" indent="-3189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By partnership, </a:t>
            </a:r>
            <a:endParaRPr b="0" lang="en-US" sz="2400" spc="-1" strike="noStrike">
              <a:solidFill>
                <a:srgbClr val="ffff00"/>
              </a:solidFill>
              <a:latin typeface="Times New Roman"/>
            </a:endParaRPr>
          </a:p>
          <a:p>
            <a:pPr lvl="1" marL="690840" indent="-2656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olution for MXS &amp; DML is low stock, assured supply</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shaded%20step%20viewer%20stud" descr=""/>
          <p:cNvPicPr/>
          <p:nvPr/>
        </p:nvPicPr>
        <p:blipFill>
          <a:blip r:embed="rId1"/>
          <a:stretch/>
        </p:blipFill>
        <p:spPr>
          <a:xfrm>
            <a:off x="457200" y="343080"/>
            <a:ext cx="8686800" cy="6514920"/>
          </a:xfrm>
          <a:prstGeom prst="rect">
            <a:avLst/>
          </a:prstGeom>
          <a:ln w="0">
            <a:noFill/>
          </a:ln>
        </p:spPr>
      </p:pic>
      <p:pic>
        <p:nvPicPr>
          <p:cNvPr id="152" name="job%20doc" descr=""/>
          <p:cNvPicPr/>
          <p:nvPr/>
        </p:nvPicPr>
        <p:blipFill>
          <a:blip r:embed="rId2"/>
          <a:stretch/>
        </p:blipFill>
        <p:spPr>
          <a:xfrm>
            <a:off x="36360" y="800280"/>
            <a:ext cx="9069480" cy="5257800"/>
          </a:xfrm>
          <a:prstGeom prst="rect">
            <a:avLst/>
          </a:prstGeom>
          <a:ln w="0">
            <a:noFill/>
          </a:ln>
        </p:spPr>
      </p:pic>
      <p:pic>
        <p:nvPicPr>
          <p:cNvPr id="153" name="nc_code" descr=""/>
          <p:cNvPicPr/>
          <p:nvPr/>
        </p:nvPicPr>
        <p:blipFill>
          <a:blip r:embed="rId3"/>
          <a:stretch/>
        </p:blipFill>
        <p:spPr>
          <a:xfrm>
            <a:off x="380880" y="157320"/>
            <a:ext cx="8458200" cy="6673680"/>
          </a:xfrm>
          <a:prstGeom prst="rect">
            <a:avLst/>
          </a:prstGeom>
          <a:ln w="0">
            <a:noFill/>
          </a:ln>
        </p:spPr>
      </p:pic>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3300"/>
                </a:solidFill>
                <a:latin typeface="Times New Roman"/>
              </a:rPr>
              <a:t>RAMP Operations</a:t>
            </a:r>
            <a:endParaRPr b="0" lang="en-US" sz="4400" spc="-1" strike="noStrike">
              <a:solidFill>
                <a:srgbClr val="cc3300"/>
              </a:solidFill>
              <a:latin typeface="Times New Roman"/>
            </a:endParaRPr>
          </a:p>
        </p:txBody>
      </p:sp>
      <p:pic>
        <p:nvPicPr>
          <p:cNvPr id="155" name="04056%20D-31%20Lathe%20operator%20in%20main%20factory" descr=""/>
          <p:cNvPicPr/>
          <p:nvPr/>
        </p:nvPicPr>
        <p:blipFill>
          <a:blip r:embed="rId4"/>
          <a:stretch/>
        </p:blipFill>
        <p:spPr>
          <a:xfrm>
            <a:off x="0" y="-1440"/>
            <a:ext cx="9144000" cy="6859440"/>
          </a:xfrm>
          <a:prstGeom prst="rect">
            <a:avLst/>
          </a:prstGeom>
          <a:ln w="0">
            <a:noFill/>
          </a:ln>
        </p:spPr>
      </p:pic>
      <p:pic>
        <p:nvPicPr>
          <p:cNvPr id="156" name="04056%20D-28%20CU%20of%20studs" descr=""/>
          <p:cNvPicPr/>
          <p:nvPr/>
        </p:nvPicPr>
        <p:blipFill>
          <a:blip r:embed="rId5"/>
          <a:stretch/>
        </p:blipFill>
        <p:spPr>
          <a:xfrm>
            <a:off x="2001960" y="0"/>
            <a:ext cx="5140080" cy="6858000"/>
          </a:xfrm>
          <a:prstGeom prst="rect">
            <a:avLst/>
          </a:prstGeom>
          <a:ln w="0">
            <a:noFill/>
          </a:ln>
        </p:spPr>
      </p:pic>
      <p:pic>
        <p:nvPicPr>
          <p:cNvPr id="157" name="stud" descr=""/>
          <p:cNvPicPr/>
          <p:nvPr/>
        </p:nvPicPr>
        <p:blipFill>
          <a:blip r:embed="rId6"/>
          <a:stretch/>
        </p:blipFill>
        <p:spPr>
          <a:xfrm>
            <a:off x="666720" y="1338120"/>
            <a:ext cx="7810560" cy="5519880"/>
          </a:xfrm>
          <a:prstGeom prst="rect">
            <a:avLst/>
          </a:prstGeom>
          <a:ln w="0">
            <a:noFill/>
          </a:ln>
        </p:spPr>
      </p:pic>
      <p:pic>
        <p:nvPicPr>
          <p:cNvPr id="158" name="" descr=""/>
          <p:cNvPicPr/>
          <p:nvPr/>
        </p:nvPicPr>
        <p:blipFill>
          <a:blip r:embed="rId7"/>
          <a:srcRect l="0" t="3581" r="0" b="0"/>
          <a:stretch/>
        </p:blipFill>
        <p:spPr>
          <a:xfrm>
            <a:off x="250920" y="0"/>
            <a:ext cx="7062840" cy="8769240"/>
          </a:xfrm>
          <a:prstGeom prst="rect">
            <a:avLst/>
          </a:prstGeom>
          <a:ln w="0">
            <a:noFill/>
          </a:ln>
        </p:spPr>
      </p:pic>
      <p:pic>
        <p:nvPicPr>
          <p:cNvPr id="159" name="step%20viewer%20stud" descr=""/>
          <p:cNvPicPr/>
          <p:nvPr/>
        </p:nvPicPr>
        <p:blipFill>
          <a:blip r:embed="rId8"/>
          <a:stretch/>
        </p:blipFill>
        <p:spPr>
          <a:xfrm>
            <a:off x="380880" y="0"/>
            <a:ext cx="8382240" cy="6870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RAMP Pilot Progress</a:t>
            </a:r>
            <a:endParaRPr b="0" lang="en-US" sz="4400" spc="-1" strike="noStrike">
              <a:solidFill>
                <a:srgbClr val="cc3300"/>
              </a:solidFill>
              <a:latin typeface="Times New Roman"/>
            </a:endParaRPr>
          </a:p>
        </p:txBody>
      </p:sp>
      <p:sp>
        <p:nvSpPr>
          <p:cNvPr id="1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A prudent approach to implementation</a:t>
            </a:r>
            <a:endParaRPr b="0" lang="en-US" sz="2400" spc="-1" strike="noStrike">
              <a:solidFill>
                <a:srgbClr val="ffff00"/>
              </a:solidFill>
              <a:latin typeface="Times New Roman"/>
            </a:endParaRPr>
          </a:p>
          <a:p>
            <a:pPr lvl="1" marL="698400" indent="-2685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Not initially adopting a zero stock policy</a:t>
            </a:r>
            <a:endParaRPr b="0" lang="en-US" sz="2400" spc="-1" strike="noStrike">
              <a:solidFill>
                <a:srgbClr val="ffff00"/>
              </a:solidFill>
              <a:latin typeface="Times New Roman"/>
            </a:endParaRPr>
          </a:p>
          <a:p>
            <a:pPr lvl="1" marL="698400" indent="-2685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Preparing design and manufacture capability prior to reduced order sizes</a:t>
            </a:r>
            <a:endParaRPr b="0" lang="en-US" sz="2400" spc="-1" strike="noStrike">
              <a:solidFill>
                <a:srgbClr val="ffff00"/>
              </a:solidFill>
              <a:latin typeface="Times New Roman"/>
            </a:endParaRPr>
          </a:p>
          <a:p>
            <a:pPr marL="322200" indent="-3222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Phased introduction of RAMP</a:t>
            </a:r>
            <a:endParaRPr b="0" lang="en-US" sz="2400" spc="-1" strike="noStrike">
              <a:solidFill>
                <a:srgbClr val="ffff00"/>
              </a:solidFill>
              <a:latin typeface="Times New Roman"/>
            </a:endParaRPr>
          </a:p>
          <a:p>
            <a:pPr lvl="1" marL="698400" indent="-2685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In four phases by design/manufacture product group</a:t>
            </a:r>
            <a:endParaRPr b="0" lang="en-US" sz="2400" spc="-1" strike="noStrike">
              <a:solidFill>
                <a:srgbClr val="ffff00"/>
              </a:solidFill>
              <a:latin typeface="Times New Roman"/>
            </a:endParaRPr>
          </a:p>
          <a:p>
            <a:pPr lvl="1" marL="698400" indent="-2685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Within each phase, deplete largest stock items first</a:t>
            </a:r>
            <a:endParaRPr b="0" lang="en-US" sz="2400" spc="-1" strike="noStrike">
              <a:solidFill>
                <a:srgbClr val="ffff00"/>
              </a:solidFill>
              <a:latin typeface="Times New Roman"/>
            </a:endParaRPr>
          </a:p>
          <a:p>
            <a:pPr marL="322200" indent="-32220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Observed that the actual demand has been higher than </a:t>
            </a:r>
            <a:r>
              <a:rPr b="0" lang="en-GB" sz="2400" spc="-1" strike="noStrike">
                <a:solidFill>
                  <a:srgbClr val="ffff00"/>
                </a:solidFill>
                <a:latin typeface="Times New Roman"/>
              </a:rPr>
              <a:t>	</a:t>
            </a:r>
            <a:r>
              <a:rPr b="0" lang="en-GB" sz="2400" spc="-1" strike="noStrike">
                <a:solidFill>
                  <a:srgbClr val="ffff00"/>
                </a:solidFill>
                <a:latin typeface="Times New Roman"/>
              </a:rPr>
              <a:t>	</a:t>
            </a:r>
            <a:r>
              <a:rPr b="0" lang="en-GB" sz="2400" spc="-1" strike="noStrike">
                <a:solidFill>
                  <a:srgbClr val="ffff00"/>
                </a:solidFill>
                <a:latin typeface="Times New Roman"/>
              </a:rPr>
              <a:t>	</a:t>
            </a:r>
            <a:r>
              <a:rPr b="0" lang="en-GB" sz="2400" spc="-1" strike="noStrike">
                <a:solidFill>
                  <a:srgbClr val="ffff00"/>
                </a:solidFill>
                <a:latin typeface="Times New Roman"/>
              </a:rPr>
              <a:t>	</a:t>
            </a:r>
            <a:r>
              <a:rPr b="0" lang="en-GB" sz="2400" spc="-1" strike="noStrike">
                <a:solidFill>
                  <a:srgbClr val="ffff00"/>
                </a:solidFill>
                <a:latin typeface="Times New Roman"/>
              </a:rPr>
              <a:t>	</a:t>
            </a:r>
            <a:r>
              <a:rPr b="0" lang="en-GB" sz="2400" spc="-1" strike="noStrike">
                <a:solidFill>
                  <a:srgbClr val="ffff00"/>
                </a:solidFill>
                <a:latin typeface="Times New Roman"/>
              </a:rPr>
              <a:t>	</a:t>
            </a:r>
            <a:r>
              <a:rPr b="0" lang="en-GB" sz="2400" spc="-1" strike="noStrike">
                <a:solidFill>
                  <a:srgbClr val="ffff00"/>
                </a:solidFill>
                <a:latin typeface="Times New Roman"/>
              </a:rPr>
              <a:t>	</a:t>
            </a:r>
            <a:r>
              <a:rPr b="0" lang="en-GB" sz="2400" spc="-1" strike="noStrike">
                <a:solidFill>
                  <a:srgbClr val="ffff00"/>
                </a:solidFill>
                <a:latin typeface="Times New Roman"/>
              </a:rPr>
              <a:t>CRISP  FDR</a:t>
            </a:r>
            <a:endParaRPr b="0" lang="en-US" sz="2400" spc="-1" strike="noStrike">
              <a:solidFill>
                <a:srgbClr val="ffff00"/>
              </a:solidFill>
              <a:latin typeface="Times New Roman"/>
            </a:endParaRPr>
          </a:p>
          <a:p>
            <a:pPr lvl="1" marL="698400" indent="-2685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More items can be covered within the SLSC</a:t>
            </a:r>
            <a:endParaRPr b="0" lang="en-US" sz="2400" spc="-1" strike="noStrike">
              <a:solidFill>
                <a:srgbClr val="ffff00"/>
              </a:solidFill>
              <a:latin typeface="Times New Roman"/>
            </a:endParaRPr>
          </a:p>
          <a:p>
            <a:pPr lvl="1" marL="698400" indent="-26856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The cost benefits will be available earlier than predicted</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Lessons Learnt</a:t>
            </a:r>
            <a:endParaRPr b="0" lang="en-US" sz="4400" spc="-1" strike="noStrike">
              <a:solidFill>
                <a:srgbClr val="cc3300"/>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A healthy contractual environment is an important pre-requisite to develop RAMP as a concept.</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IPR issues are significant </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A potential stumbling block</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An important potential benefit</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Generation of STEP files will inevitably generate technical queries which must be resourced.</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The interface with existing stock management systems complicates how RAMP can be used.</a:t>
            </a:r>
            <a:endParaRPr b="0" lang="en-US" sz="2400" spc="-1" strike="noStrike">
              <a:solidFill>
                <a:srgbClr val="ffff00"/>
              </a:solidFill>
              <a:latin typeface="Times New Roman"/>
            </a:endParaRPr>
          </a:p>
        </p:txBody>
      </p:sp>
      <p:sp>
        <p:nvSpPr>
          <p:cNvPr id="164" name=""/>
          <p:cNvSpPr/>
          <p:nvPr/>
        </p:nvSpPr>
        <p:spPr>
          <a:xfrm>
            <a:off x="3657600" y="6095880"/>
            <a:ext cx="5486400" cy="30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an Smith Team Leader, Marine Auxiliary Systems IP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6934320" y="228600"/>
            <a:ext cx="1928520" cy="703440"/>
          </a:xfrm>
          <a:prstGeom prst="rect">
            <a:avLst/>
          </a:prstGeom>
          <a:ln w="0">
            <a:noFill/>
          </a:ln>
        </p:spPr>
      </p:pic>
      <p:sp>
        <p:nvSpPr>
          <p:cNvPr id="58" name="PlaceHolder 1"/>
          <p:cNvSpPr>
            <a:spLocks noGrp="1"/>
          </p:cNvSpPr>
          <p:nvPr>
            <p:ph type="title"/>
          </p:nvPr>
        </p:nvSpPr>
        <p:spPr>
          <a:xfrm>
            <a:off x="4572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RAMP - Legacy Spares Contract</a:t>
            </a:r>
            <a:endParaRPr b="0" lang="en-US" sz="4400" spc="-1" strike="noStrike">
              <a:solidFill>
                <a:srgbClr val="cc33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ubmarine Legacy spares - combined contract for 4 IPTs worth ~£5M/year - 30,000 items </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Awarded through competition to DML by MDMS IPT early 2002</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a:t>
            </a:r>
            <a:r>
              <a:rPr b="0" lang="en-GB" sz="2400" spc="-1" strike="noStrike">
                <a:solidFill>
                  <a:srgbClr val="ffff00"/>
                </a:solidFill>
                <a:latin typeface="Times New Roman"/>
              </a:rPr>
              <a:t>SMART” contract, heavily incentivised on both delivery performance </a:t>
            </a:r>
            <a:r>
              <a:rPr b="0" lang="en-GB" sz="2400" spc="-1" strike="noStrike" u="sng">
                <a:solidFill>
                  <a:srgbClr val="ffff00"/>
                </a:solidFill>
                <a:uFillTx/>
                <a:latin typeface="Times New Roman"/>
              </a:rPr>
              <a:t>and</a:t>
            </a:r>
            <a:r>
              <a:rPr b="0" lang="en-GB" sz="2400" spc="-1" strike="noStrike">
                <a:solidFill>
                  <a:srgbClr val="ffff00"/>
                </a:solidFill>
                <a:latin typeface="Times New Roman"/>
              </a:rPr>
              <a:t> delivering reduced costs </a:t>
            </a:r>
            <a:endParaRPr b="0" lang="en-US" sz="2400" spc="-1" strike="noStrike">
              <a:solidFill>
                <a:srgbClr val="ffff00"/>
              </a:solidFill>
              <a:latin typeface="Times New Roman"/>
            </a:endParaRPr>
          </a:p>
        </p:txBody>
      </p:sp>
      <p:sp>
        <p:nvSpPr>
          <p:cNvPr id="60" name=""/>
          <p:cNvSpPr/>
          <p:nvPr/>
        </p:nvSpPr>
        <p:spPr>
          <a:xfrm>
            <a:off x="3657600" y="6095880"/>
            <a:ext cx="5486400" cy="30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an Smith Team Leader, Marine Auxiliary Systems IP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Looking ahead</a:t>
            </a:r>
            <a:endParaRPr b="0" lang="en-US" sz="4400" spc="-1" strike="noStrike">
              <a:solidFill>
                <a:srgbClr val="cc33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We need to expand the range of RAMP capable items to include more technically complex parts</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We can expand the RAMP concept to other spares contracts, even to OEMs.</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We should consider requiring the supply of manufacturing data rather than spare parts for new equipments.</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RAMP can be used to hold items in lowest value form (eg casting), with different variants machined when demanded.</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We could aggregate the production of parts from STEP files to gain competitive leverage in the market.</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We could manufacture locally if required.</a:t>
            </a:r>
            <a:endParaRPr b="0" lang="en-US" sz="2400" spc="-1" strike="noStrike">
              <a:solidFill>
                <a:srgbClr val="ffff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167" name=""/>
          <p:cNvSpPr/>
          <p:nvPr/>
        </p:nvSpPr>
        <p:spPr>
          <a:xfrm>
            <a:off x="3657600" y="6095880"/>
            <a:ext cx="5486400" cy="30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an Smith Team Leader, Marine Auxiliary Systems IP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RAMP - Concept</a:t>
            </a:r>
            <a:endParaRPr b="0" lang="en-US" sz="4400" spc="-1" strike="noStrike">
              <a:solidFill>
                <a:srgbClr val="cc33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RAMP - stock reduction by assured rapid supply</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RAMP was a concept that had circulated for many years in the forerunners of the DLO but never converted into reality.</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imple in concept, holding the manufacturing information rather than parts, linked to machining centre.</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DML had the advantage of already using similar facility on small scale in support of urgent refit requirements.</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This contract formed the ideal vehicle to utilise RAMP, explore the boundaries of what was economically feasible.</a:t>
            </a:r>
            <a:endParaRPr b="0" lang="en-US" sz="2400" spc="-1" strike="noStrike">
              <a:solidFill>
                <a:srgbClr val="ffff00"/>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With very little risk to the MoD!</a:t>
            </a:r>
            <a:endParaRPr b="0" lang="en-US" sz="2400" spc="-1" strike="noStrike">
              <a:solidFill>
                <a:srgbClr val="ffff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sp>
        <p:nvSpPr>
          <p:cNvPr id="63" name=""/>
          <p:cNvSpPr/>
          <p:nvPr/>
        </p:nvSpPr>
        <p:spPr>
          <a:xfrm>
            <a:off x="3657600" y="6095880"/>
            <a:ext cx="5486400" cy="3056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Dan Smith Team Leader, Marine Auxiliary Systems IP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RAMP - Concept</a:t>
            </a:r>
            <a:endParaRPr b="0" lang="en-US" sz="4400" spc="-1" strike="noStrike">
              <a:solidFill>
                <a:srgbClr val="cc3300"/>
              </a:solidFill>
              <a:latin typeface="Times New Roman"/>
            </a:endParaRPr>
          </a:p>
        </p:txBody>
      </p:sp>
      <p:sp>
        <p:nvSpPr>
          <p:cNvPr id="65" name="PlaceHolder 2"/>
          <p:cNvSpPr>
            <a:spLocks noGrp="1"/>
          </p:cNvSpPr>
          <p:nvPr>
            <p:ph/>
          </p:nvPr>
        </p:nvSpPr>
        <p:spPr>
          <a:xfrm>
            <a:off x="685800" y="1981080"/>
            <a:ext cx="7772400" cy="2438640"/>
          </a:xfrm>
          <a:prstGeom prst="rect">
            <a:avLst/>
          </a:prstGeom>
          <a:no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upply to demand is not new</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Mainly automotive component supply</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Mainly continuous production of standard design</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Design shared between supplier and customer</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Predictable demand</a:t>
            </a:r>
            <a:endParaRPr b="0" lang="en-US" sz="2400" spc="-1" strike="noStrike">
              <a:solidFill>
                <a:srgbClr val="ffff00"/>
              </a:solidFill>
              <a:latin typeface="Times New Roman"/>
            </a:endParaRPr>
          </a:p>
        </p:txBody>
      </p:sp>
      <p:sp>
        <p:nvSpPr>
          <p:cNvPr id="66" name=""/>
          <p:cNvSpPr/>
          <p:nvPr/>
        </p:nvSpPr>
        <p:spPr>
          <a:xfrm>
            <a:off x="685800" y="4495680"/>
            <a:ext cx="7772400" cy="190512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Defence supply</a:t>
            </a:r>
            <a:endParaRPr b="0" lang="en-US" sz="2400" spc="-1" strike="noStrike">
              <a:solidFill>
                <a:srgbClr val="000000"/>
              </a:solidFill>
              <a:latin typeface="Times New Roman"/>
            </a:endParaRPr>
          </a:p>
          <a:p>
            <a:pPr lvl="1" marL="631440" indent="-2426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Use of generic engineering resource</a:t>
            </a:r>
            <a:endParaRPr b="0" lang="en-US" sz="2400" spc="-1" strike="noStrike">
              <a:solidFill>
                <a:srgbClr val="000000"/>
              </a:solidFill>
              <a:latin typeface="Times New Roman"/>
            </a:endParaRPr>
          </a:p>
          <a:p>
            <a:pPr lvl="1" marL="631440" indent="-2426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Varied designs – small volume production</a:t>
            </a:r>
            <a:endParaRPr b="0" lang="en-US" sz="2400" spc="-1" strike="noStrike">
              <a:solidFill>
                <a:srgbClr val="000000"/>
              </a:solidFill>
              <a:latin typeface="Times New Roman"/>
            </a:endParaRPr>
          </a:p>
          <a:p>
            <a:pPr lvl="1" marL="631440" indent="-2426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Design often paid for during platform development</a:t>
            </a:r>
            <a:endParaRPr b="0" lang="en-US" sz="2400" spc="-1" strike="noStrike">
              <a:solidFill>
                <a:srgbClr val="000000"/>
              </a:solidFill>
              <a:latin typeface="Times New Roman"/>
            </a:endParaRPr>
          </a:p>
          <a:p>
            <a:pPr lvl="1" marL="631440" indent="-2426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Demand difficult to predict</a:t>
            </a:r>
            <a:endParaRPr b="0" lang="en-US" sz="2400" spc="-1" strike="noStrike">
              <a:solidFill>
                <a:srgbClr val="000000"/>
              </a:solidFill>
              <a:latin typeface="Times New Roman"/>
            </a:endParaRPr>
          </a:p>
          <a:p>
            <a:pPr lvl="1" marL="631440" indent="-2426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STEP for RAMP at DML</a:t>
            </a:r>
            <a:endParaRPr b="0" lang="en-US" sz="4400" spc="-1" strike="noStrike">
              <a:solidFill>
                <a:srgbClr val="cc33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Design data sourced from a variety of source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Long timescale for design retention</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From initial supply 30 years +</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Change computer platforms</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Upgrade operating systems</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Change of CAD systems with differing formats</a:t>
            </a:r>
            <a:endParaRPr b="0" lang="en-US" sz="2400" spc="-1" strike="noStrike">
              <a:solidFill>
                <a:srgbClr val="ffff00"/>
              </a:solidFill>
              <a:latin typeface="Times New Roman"/>
            </a:endParaRPr>
          </a:p>
          <a:p>
            <a:pPr marL="343080" indent="-34308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Important distinction</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STEP as the definitive design source for an item</a:t>
            </a:r>
            <a:endParaRPr b="0" lang="en-US" sz="2400" spc="-1" strike="noStrike">
              <a:solidFill>
                <a:srgbClr val="ffff00"/>
              </a:solidFill>
              <a:latin typeface="Times New Roman"/>
            </a:endParaRPr>
          </a:p>
          <a:p>
            <a:pPr lvl="1" marL="743040" indent="-2858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Times New Roman"/>
              </a:rPr>
              <a:t>Not as exchange between proprietary systems</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cc3300"/>
                </a:solidFill>
                <a:latin typeface="Times New Roman"/>
              </a:rPr>
              <a:t>ISO 10303-224</a:t>
            </a:r>
            <a:endParaRPr b="0" lang="en-US" sz="4400" spc="-1" strike="noStrike">
              <a:solidFill>
                <a:srgbClr val="cc3300"/>
              </a:solidFill>
              <a:latin typeface="Times New Roman"/>
            </a:endParaRPr>
          </a:p>
        </p:txBody>
      </p:sp>
      <p:pic>
        <p:nvPicPr>
          <p:cNvPr id="70" name="feats" descr=""/>
          <p:cNvPicPr/>
          <p:nvPr/>
        </p:nvPicPr>
        <p:blipFill>
          <a:blip r:embed="rId1"/>
          <a:stretch/>
        </p:blipFill>
        <p:spPr>
          <a:xfrm>
            <a:off x="0" y="2013120"/>
            <a:ext cx="9144000" cy="4636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18960" y="304560"/>
            <a:ext cx="850608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c3300"/>
                </a:solidFill>
                <a:latin typeface="Times New Roman"/>
              </a:rPr>
              <a:t>Feature-based data for manufacturing</a:t>
            </a:r>
            <a:endParaRPr b="0" lang="en-US" sz="3600" spc="-1" strike="noStrike">
              <a:solidFill>
                <a:srgbClr val="cc33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Times New Roman"/>
            </a:endParaRPr>
          </a:p>
        </p:txBody>
      </p:sp>
      <p:pic>
        <p:nvPicPr>
          <p:cNvPr id="73" name="" descr=""/>
          <p:cNvPicPr/>
          <p:nvPr/>
        </p:nvPicPr>
        <p:blipFill>
          <a:blip r:embed="rId1"/>
          <a:stretch/>
        </p:blipFill>
        <p:spPr>
          <a:xfrm>
            <a:off x="609480" y="1733400"/>
            <a:ext cx="4467240" cy="3600720"/>
          </a:xfrm>
          <a:prstGeom prst="rect">
            <a:avLst/>
          </a:prstGeom>
          <a:ln w="0">
            <a:noFill/>
          </a:ln>
        </p:spPr>
      </p:pic>
      <p:pic>
        <p:nvPicPr>
          <p:cNvPr id="74" name="" descr=""/>
          <p:cNvPicPr/>
          <p:nvPr/>
        </p:nvPicPr>
        <p:blipFill>
          <a:blip r:embed="rId2"/>
          <a:stretch/>
        </p:blipFill>
        <p:spPr>
          <a:xfrm>
            <a:off x="4724280" y="3390840"/>
            <a:ext cx="3886200" cy="2781360"/>
          </a:xfrm>
          <a:prstGeom prst="rect">
            <a:avLst/>
          </a:prstGeom>
          <a:ln w="0">
            <a:noFill/>
          </a:ln>
        </p:spPr>
      </p:pic>
      <p:grpSp>
        <p:nvGrpSpPr>
          <p:cNvPr id="75" name=""/>
          <p:cNvGrpSpPr/>
          <p:nvPr/>
        </p:nvGrpSpPr>
        <p:grpSpPr>
          <a:xfrm>
            <a:off x="2946960" y="1774800"/>
            <a:ext cx="5677920" cy="3153240"/>
            <a:chOff x="2946960" y="1774800"/>
            <a:chExt cx="5677920" cy="3153240"/>
          </a:xfrm>
        </p:grpSpPr>
        <p:sp>
          <p:nvSpPr>
            <p:cNvPr id="76" name=""/>
            <p:cNvSpPr/>
            <p:nvPr/>
          </p:nvSpPr>
          <p:spPr>
            <a:xfrm rot="1437000">
              <a:off x="2895480" y="3809520"/>
              <a:ext cx="3353040" cy="457200"/>
            </a:xfrm>
            <a:custGeom>
              <a:avLst/>
              <a:gdLst>
                <a:gd name="textAreaLeft" fmla="*/ 0 w 3353040"/>
                <a:gd name="textAreaRight" fmla="*/ 3353400 w 3353040"/>
                <a:gd name="textAreaTop" fmla="*/ 0 h 457200"/>
                <a:gd name="textAreaBottom" fmla="*/ 457560 h 457200"/>
              </a:gdLst>
              <a:ahLst/>
              <a:rect l="textAreaLeft" t="textAreaTop" r="textAreaRight" b="textAreaBottom"/>
              <a:pathLst>
                <a:path w="21600" h="21600">
                  <a:moveTo>
                    <a:pt x="0" y="0"/>
                  </a:moveTo>
                  <a:lnTo>
                    <a:pt x="19698" y="0"/>
                  </a:lnTo>
                  <a:lnTo>
                    <a:pt x="21600" y="10800"/>
                  </a:lnTo>
                  <a:lnTo>
                    <a:pt x="19698" y="21600"/>
                  </a:lnTo>
                  <a:lnTo>
                    <a:pt x="0" y="21600"/>
                  </a:lnTo>
                  <a:lnTo>
                    <a:pt x="1902" y="10800"/>
                  </a:lnTo>
                  <a:close/>
                </a:path>
              </a:pathLst>
            </a:custGeom>
            <a:solidFill>
              <a:srgbClr val="bb294a"/>
            </a:solid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881680" y="1774800"/>
              <a:ext cx="2743200" cy="1312920"/>
            </a:xfrm>
            <a:prstGeom prst="borderCallout2">
              <a:avLst>
                <a:gd name="adj1" fmla="val 18750"/>
                <a:gd name="adj2" fmla="val -8333"/>
                <a:gd name="adj3" fmla="val 8708"/>
                <a:gd name="adj4" fmla="val -11805"/>
                <a:gd name="adj5" fmla="val 159129"/>
                <a:gd name="adj6" fmla="val -54166"/>
              </a:avLst>
            </a:prstGeom>
            <a:noFill/>
            <a:ln w="38160">
              <a:solidFill>
                <a:srgbClr val="cccc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ccff"/>
                  </a:solidFill>
                  <a:latin typeface="Arial"/>
                </a:rPr>
                <a:t>integration of design &amp; production through computer-aided process planning</a:t>
              </a:r>
              <a:endParaRPr b="0" lang="en-US" sz="1800" spc="-1" strike="noStrike">
                <a:solidFill>
                  <a:srgbClr val="000000"/>
                </a:solidFill>
                <a:latin typeface="Times New Roman"/>
              </a:endParaRPr>
            </a:p>
          </p:txBody>
        </p:sp>
      </p:gr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3T14:23:55Z</dcterms:created>
  <dc:creator>SSA</dc:creator>
  <dc:description/>
  <dc:language>en-US</dc:language>
  <cp:lastModifiedBy>ALC</cp:lastModifiedBy>
  <cp:lastPrinted>2004-04-14T12:35:11Z</cp:lastPrinted>
  <dcterms:modified xsi:type="dcterms:W3CDTF">2004-07-06T08:12:36Z</dcterms:modified>
  <cp:revision>71</cp:revision>
  <dc:subject/>
  <dc:title>No Slide Title</dc:title>
</cp:coreProperties>
</file>