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32888" cy="6846888"/>
  <p:notesSz cx="69977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0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3028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1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0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3028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8400" y="254160"/>
            <a:ext cx="1336680" cy="61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2120" y="133200"/>
            <a:ext cx="255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615360" y="246240"/>
            <a:ext cx="23889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4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4320" y="689040"/>
            <a:ext cx="876276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5080" y="6551640"/>
            <a:ext cx="94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126B18F-FC58-469C-A4A9-A0ACD72CE625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613320" y="6551640"/>
            <a:ext cx="1906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Copyright 2003 — STEP Tools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760" y="1493640"/>
            <a:ext cx="518796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4000" spc="-1" strike="noStrike">
                <a:solidFill>
                  <a:srgbClr val="cf0e30"/>
                </a:solidFill>
                <a:latin typeface="Arial"/>
              </a:rPr>
              <a:t>AP-238 Statu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2960" y="309600"/>
            <a:ext cx="25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32600" y="5291280"/>
            <a:ext cx="382788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6 River Street, Troy, NY 121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8) 687-2848 / (518) 687-4420 f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steptool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59040" y="2998800"/>
            <a:ext cx="51739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oitiers SC4 Meet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October 200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steptools_logo" descr=""/>
          <p:cNvPicPr/>
          <p:nvPr/>
        </p:nvPicPr>
        <p:blipFill>
          <a:blip r:embed="rId1"/>
          <a:stretch/>
        </p:blipFill>
        <p:spPr>
          <a:xfrm>
            <a:off x="304920" y="227160"/>
            <a:ext cx="2895480" cy="63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250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lot Com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363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 Ballot passed, DIS document being prepa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8 comments from 7 count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 -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- 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P -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R - 2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- 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-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 - 3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Seoul meeting, all CD ballot comments were examined and resolutions agreed up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w updating the docum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28972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ument Prog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510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ing comment resolutions and preparing DIS document for ballot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editorial fixes and notes added, updated for changes between DIS and FDIS versions of ISO 14649-111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DM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per comments, added “management” UoF with AOs and  associated mappings to clarify the handling of approvals and other PDM data.  Harmonized with the appropriate modules (ISO 10303-1012, 1015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pa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d mappings for toolpath subtypes, added all of the matching EXPRESS constraints to the relevant AIM types.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feedback for Part 10 on the toolpath its_type attribu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3544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ument Progress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37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ition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ded mappings to support ISO 14649-10 relation between two features, in addition to AP-224/AP-214 relation of two sets of faces.  Relating two features is done in a way similar to compound featur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aptive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 on discussion at Seoul ISO, it became clear that the adaptive_control ARM concept was not a strategy, but rather, a type of machining technolog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d AIM subtype machining_adaptive_control_strategy accordingl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3544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ument Progress (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518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ing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UoFs, mapping tables, and updated AIM where rules for the turning mode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ing features (P1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to bring in and verify mappings from AP-224 turning featur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ing process data (P1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done, mappings are straightforward and follow conventions established by the mill/drill mapping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ing tools (P121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global rule to restrict protrusion, marking, fillet, rib_top features present for compatibility with AP-224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number of other mapping table fix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4209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t To 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512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D&amp;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UoF and AOs for harmonized Dimensional Tolerances once consensus has been reached between Module, AP-214 and AP-224 team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ing features — Need to incorporate harmonized mappings for turning features from AP-224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ing process — No technical issues, finish mapping table text and associated AIM EXPRESS where rul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RESS-G updates for adaptive control change, new turning operation &amp; several new turning representation AIM subtyp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m AIM SELECT type values not referenced by any of the mappings (as per ballot commen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19:53:37Z</dcterms:created>
  <dc:creator>David Loffredo</dc:creator>
  <dc:description/>
  <dc:language>en-US</dc:language>
  <cp:lastModifiedBy>David Loffredo</cp:lastModifiedBy>
  <cp:lastPrinted>2001-08-16T01:33:48Z</cp:lastPrinted>
  <dcterms:modified xsi:type="dcterms:W3CDTF">2003-10-27T13:16:58Z</dcterms:modified>
  <cp:revision>407</cp:revision>
  <dc:subject/>
  <dc:title>STEP-NC Feature Harmonization</dc:title>
</cp:coreProperties>
</file>