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67D-00DE-47C0-87B0-0631DD3F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A45-856B-4F05-8BDF-FEA65C8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FDB-A6DD-4C36-8ABE-329E0A8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600-37F5-4A57-8BA7-1AEADFFE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B9B-F759-4F8A-B562-0AC59E50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B8E-1B62-4D56-AB7C-35027A9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151-EA7C-488A-B6BA-54C031F5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D23-5CC4-4EBC-9BE1-085D1FE8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136-BEC9-4A10-AA11-E8B849E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076-B98A-451C-8E42-9CCF6EE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2B2-BCBC-4A40-BD79-42B9572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FCC-0AC5-43C7-A616-619C826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AC2-F5DA-47D3-AABB-B94FD426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PT_NG%20SLIDE%20MASTER" descr=""/>
          <p:cNvPicPr/>
          <p:nvPr/>
        </p:nvPicPr>
        <p:blipFill>
          <a:blip r:embed="rId2"/>
          <a:stretch/>
        </p:blipFill>
        <p:spPr>
          <a:xfrm>
            <a:off x="0" y="0"/>
            <a:ext cx="9418680" cy="6861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08840"/>
            <a:ext cx="141912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Times New Roman"/>
              </a:rPr>
              <a:t>ISO/DIS 10303-240: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sional Toler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Graphic7" descr=""/>
          <p:cNvPicPr/>
          <p:nvPr/>
        </p:nvPicPr>
        <p:blipFill>
          <a:blip r:embed="rId1"/>
          <a:stretch/>
        </p:blipFill>
        <p:spPr>
          <a:xfrm>
            <a:off x="762120" y="798480"/>
            <a:ext cx="5546520" cy="5259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raphic8" descr=""/>
          <p:cNvPicPr/>
          <p:nvPr/>
        </p:nvPicPr>
        <p:blipFill>
          <a:blip r:embed="rId1"/>
          <a:stretch/>
        </p:blipFill>
        <p:spPr>
          <a:xfrm>
            <a:off x="228600" y="75708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P240_ARM_DIS_081203-7" descr=""/>
          <p:cNvPicPr/>
          <p:nvPr/>
        </p:nvPicPr>
        <p:blipFill>
          <a:blip r:embed="rId1"/>
          <a:stretch/>
        </p:blipFill>
        <p:spPr>
          <a:xfrm>
            <a:off x="0" y="184320"/>
            <a:ext cx="9448920" cy="6673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080" y="3049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e2 Dimensional tole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79132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e2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257800"/>
            <a:ext cx="2286000" cy="160020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8031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ropose AP214 add three AP224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Upward compatibl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P240_ARM_DIS_081203-8" descr=""/>
          <p:cNvPicPr/>
          <p:nvPr/>
        </p:nvPicPr>
        <p:blipFill>
          <a:blip r:embed="rId1"/>
          <a:stretch/>
        </p:blipFill>
        <p:spPr>
          <a:xfrm>
            <a:off x="0" y="228600"/>
            <a:ext cx="93726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720" y="6094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e2 Dimensional tole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640" y="1523880"/>
            <a:ext cx="259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No AP214 chang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P224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phic9" descr=""/>
          <p:cNvPicPr/>
          <p:nvPr/>
        </p:nvPicPr>
        <p:blipFill>
          <a:blip r:embed="rId1"/>
          <a:stretch/>
        </p:blipFill>
        <p:spPr>
          <a:xfrm>
            <a:off x="-773280" y="-345960"/>
            <a:ext cx="10692000" cy="755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0040" y="601992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Change AP224e3 to harmonize with AP214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Not upward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Times New Roman"/>
              </a:rPr>
              <a:t>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phic9" descr=""/>
          <p:cNvPicPr/>
          <p:nvPr/>
        </p:nvPicPr>
        <p:blipFill>
          <a:blip r:embed="rId1"/>
          <a:stretch/>
        </p:blipFill>
        <p:spPr>
          <a:xfrm>
            <a:off x="0" y="120600"/>
            <a:ext cx="9372600" cy="6737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8160" y="15228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Change AP224e3 to harmonize with AP214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Not upward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Times New Roman"/>
              </a:rPr>
              <a:t>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rmexpg2" descr=""/>
          <p:cNvPicPr/>
          <p:nvPr/>
        </p:nvPicPr>
        <p:blipFill>
          <a:blip r:embed="rId1"/>
          <a:stretch/>
        </p:blipFill>
        <p:spPr>
          <a:xfrm>
            <a:off x="2057400" y="0"/>
            <a:ext cx="6862680" cy="6837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520" y="1173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3400" y="2556000"/>
            <a:ext cx="1656000" cy="4597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248520" y="4267080"/>
            <a:ext cx="457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43400" y="3276360"/>
            <a:ext cx="609480" cy="1522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057400" y="3504960"/>
            <a:ext cx="609480" cy="1522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391160" y="4648320"/>
            <a:ext cx="5331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640" y="436716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Not the same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AP214e2 or AP224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3240" y="1522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Matches AP214e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409720" y="533520"/>
            <a:ext cx="304920" cy="30456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rmexpg3" descr="Figure C.3 — ARM entity level EXPRESS-G diagram 2 of 2"/>
          <p:cNvPicPr/>
          <p:nvPr/>
        </p:nvPicPr>
        <p:blipFill>
          <a:blip r:embed="rId1"/>
          <a:stretch/>
        </p:blipFill>
        <p:spPr>
          <a:xfrm>
            <a:off x="762120" y="0"/>
            <a:ext cx="70308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00ff"/>
                </a:solidFill>
                <a:uFillTx/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al tolerances shar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ISO standards – 214 and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238, AP240, AP219, AP223, 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1050 wants to add enhancements to dimensional tole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pward compatible for either AP214 or 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ow should this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hich standard should be the first to make the change, or do they need to go out all at the same time with th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mensional tolerance modu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uction_geometry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al_geometric_shape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ded_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fied_measur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aspe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dimens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property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toleranc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TS 10303-1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CD-TS 10303-11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040" y="650880"/>
            <a:ext cx="8636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if an existing AP wants to the use the 1050 modu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P does not have requirements for referenced mo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Example – 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mensional tolerance modu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uction_geometry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ived_shape_ele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al_geometric_shape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ded_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_representation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fied_measur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aspe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dimens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property_assignmen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_tolerance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TS 10303-1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/CD-TS 10303-11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CD-TS 10303-1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/TS 10303-10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650880"/>
            <a:ext cx="8636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if an existing AP wants to the use the 1050 modu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P has different requirements for referenced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Value_with_unit_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</a:rPr>
              <a:t>Development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uppose that the 1050 module and all supporting modules could be used by an existing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take 100s of hours to change existing APs to use these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14 and AP224 no longer have development teams to do the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How can they implement the mod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</a:rPr>
              <a:t>Development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24 uses measure_representation_item, qualified_representation_item, and other representations for numeric and string values for feature parameters, but differently than the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cause huge non-upward compatibl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true for AP2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hat is precedence of importance to existing APs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armonization with existing standard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upporting industry with existing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aphic2" descr=""/>
          <p:cNvPicPr/>
          <p:nvPr/>
        </p:nvPicPr>
        <p:blipFill>
          <a:blip r:embed="rId1"/>
          <a:stretch/>
        </p:blipFill>
        <p:spPr>
          <a:xfrm>
            <a:off x="0" y="838080"/>
            <a:ext cx="4510080" cy="4873680"/>
          </a:xfrm>
          <a:prstGeom prst="rect">
            <a:avLst/>
          </a:prstGeom>
          <a:ln w="0">
            <a:noFill/>
          </a:ln>
        </p:spPr>
      </p:pic>
      <p:pic>
        <p:nvPicPr>
          <p:cNvPr id="60" name="Graphic1" descr=""/>
          <p:cNvPicPr/>
          <p:nvPr/>
        </p:nvPicPr>
        <p:blipFill>
          <a:blip r:embed="rId2"/>
          <a:stretch/>
        </p:blipFill>
        <p:spPr>
          <a:xfrm>
            <a:off x="4572000" y="1603440"/>
            <a:ext cx="4836960" cy="389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Graphic3" descr=""/>
          <p:cNvPicPr/>
          <p:nvPr/>
        </p:nvPicPr>
        <p:blipFill>
          <a:blip r:embed="rId1"/>
          <a:stretch/>
        </p:blipFill>
        <p:spPr>
          <a:xfrm>
            <a:off x="36360" y="1447920"/>
            <a:ext cx="4535640" cy="2825640"/>
          </a:xfrm>
          <a:prstGeom prst="rect">
            <a:avLst/>
          </a:prstGeom>
          <a:ln w="0">
            <a:noFill/>
          </a:ln>
        </p:spPr>
      </p:pic>
      <p:pic>
        <p:nvPicPr>
          <p:cNvPr id="64" name="Graphic4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565520" cy="335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c5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670200" cy="2273040"/>
          </a:xfrm>
          <a:prstGeom prst="rect">
            <a:avLst/>
          </a:prstGeom>
          <a:ln w="0">
            <a:noFill/>
          </a:ln>
        </p:spPr>
      </p:pic>
      <p:pic>
        <p:nvPicPr>
          <p:cNvPr id="68" name="Graphic6" descr=""/>
          <p:cNvPicPr/>
          <p:nvPr/>
        </p:nvPicPr>
        <p:blipFill>
          <a:blip r:embed="rId2"/>
          <a:stretch/>
        </p:blipFill>
        <p:spPr>
          <a:xfrm>
            <a:off x="4913280" y="1832040"/>
            <a:ext cx="4230720" cy="159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5008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360" y="15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17:19Z</dcterms:created>
  <dc:creator>Len</dc:creator>
  <dc:description/>
  <dc:language>en-US</dc:language>
  <cp:lastModifiedBy>Len</cp:lastModifiedBy>
  <dcterms:modified xsi:type="dcterms:W3CDTF">2003-10-22T18:07:15Z</dcterms:modified>
  <cp:revision>16</cp:revision>
  <dc:subject/>
  <dc:title>PowerPoint Presentation</dc:title>
</cp:coreProperties>
</file>