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BDD-B5FC-4F07-8C7F-A0900A68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490-F205-4494-9FD0-5C722E01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879-D815-4FFF-B8F5-A024CA3F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093-F2F0-4DF5-B5D4-56866D2F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ADE-7419-41BA-935F-0FB0572D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1C3-1476-40F4-AC69-B381DCE8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895-4411-48C1-8F2A-E29D9F05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6CC-8500-43B2-890F-D263D8C7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C8AA-D530-4B59-9FAD-59F49EED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CD4-19F4-4FF9-B9C6-E63357A6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D25-00BB-4485-A96D-6F2644C4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335-44AF-41BB-AB93-2149F987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1E71-966E-4374-BA6A-494D967796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1120" y="977760"/>
          <a:ext cx="8863200" cy="49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977760"/>
                    <a:ext cx="886320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24 AD-Hoc Committe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ization of GD&amp;T is an issue that needs to be resolved as soon as possible and T24 has no organization to represent it between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Statement for Ad-Hoc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appropriate representatives of AP-214, AP-203 ed2 and Module 1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n action plan for harmonization between AP-203 e2, AP-214 and AP-224 with respect to GD&amp;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back to T24 in Fort Lauderd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Slovensky, Bill Danner, David Loffredo, Alan Craw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09:32:12Z</dcterms:created>
  <dc:creator>sakamoto</dc:creator>
  <dc:description/>
  <dc:language>en-US</dc:language>
  <cp:lastModifiedBy>hardwick</cp:lastModifiedBy>
  <dcterms:modified xsi:type="dcterms:W3CDTF">2003-10-30T10:43:29Z</dcterms:modified>
  <cp:revision>3</cp:revision>
  <dc:subject/>
  <dc:title>PowerPoint プレゼンテーション</dc:title>
</cp:coreProperties>
</file>