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3128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3128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2080" y="413064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3128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4480" y="198108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5800" y="198108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4480" y="413064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5800" y="413064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8FB77-7910-438C-9575-C1E7E03BE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43128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A1B10-BA42-4A05-AC11-EB6599A3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3128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4D626-D63C-4EAC-85EF-0ED48A3C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3128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A104F-6BF4-453B-94FD-29C7C30F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43128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84EDD-646E-4F2A-8EF6-A2A8BB4E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520" y="43128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90B1E-B199-4ECA-A553-BFDEB262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3128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0C2AB-C163-44F1-963F-DC0471A4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3128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43128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2080" y="413064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A69214-5CCE-42FB-B833-A12BAA9E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3128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0A24D-D432-4271-B099-8265EE2C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43128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FC767-C03F-4118-85BE-95EFC4B6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3128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2080" y="413064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CFC60-18B5-4010-968E-36F3D3122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43128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4480" y="198108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95800" y="198108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4480" y="413064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95800" y="413064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06476-B039-4645-B96A-8379EEE93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3128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3128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3128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3128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3128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3128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2080" y="413064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3128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43128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909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O TC29/WG34  Jonas Nordström Sandvik Corom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7880400" y="6207120"/>
            <a:ext cx="931680" cy="3603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79280" y="154080"/>
            <a:ext cx="8780400" cy="6549840"/>
          </a:xfrm>
          <a:prstGeom prst="roundRect">
            <a:avLst>
              <a:gd name="adj" fmla="val 2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324480" y="6019920"/>
            <a:ext cx="1219320" cy="6188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304920" y="6019920"/>
            <a:ext cx="757080" cy="6508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447920" y="5943600"/>
            <a:ext cx="761760" cy="723960"/>
          </a:xfrm>
          <a:prstGeom prst="rect">
            <a:avLst/>
          </a:prstGeom>
          <a:ln w="0">
            <a:noFill/>
          </a:ln>
        </p:spPr>
      </p:pic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228600" y="6272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7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898200" y="62722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fld id="{222825E4-58F8-4CD5-A1B4-402BECC1B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7880400" y="6207120"/>
            <a:ext cx="931680" cy="360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79280" y="154080"/>
            <a:ext cx="8780400" cy="6549840"/>
          </a:xfrm>
          <a:prstGeom prst="roundRect">
            <a:avLst>
              <a:gd name="adj" fmla="val 2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9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8600" y="16765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SO 13399 at STEP meet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itiers 2003-10-27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Jonas Nordström</a:t>
            </a: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 Black"/>
              </a:rPr>
              <a:t>ISO 13399 walk through session on Tuesday afternoon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75640" cy="39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Software demonstration of information model capabiliti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Walktrough session of ISO 13399 part 1 AI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3128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 Black"/>
              </a:rPr>
              <a:t>ISO 13399 part 1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General pa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Information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ictionary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SO 13399 – 2 Cutting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SO 13399 – 3 Tool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SO 13399 – 4 Adaptive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SO 13399 – 5 Auxiliary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SO 13399 – 100 Definitions, principles and methods (specification for the creation of dictionaries for ISO 133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ocument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SO 13399 – 1 Will be circulated for DIS in Octo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SO 13399 – 2 circulated for CD TS bal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SO 13399 – 3 Will be issues as WD in Octo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SO 13399 – 4 Adaptive to be sta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SO 13399 – 5 Auxiliary items sta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SO 13399 – 100 Definitions, principles and methods (specification for the creation of dictionaries for ISO 13399) has been circulated for 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3128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 Black"/>
              </a:rPr>
              <a:t>Potential new dictionary document par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Referens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000000"/>
                </a:solidFill>
                <a:latin typeface="Arial"/>
              </a:rPr>
              <a:t>Coordinate syste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000000"/>
                </a:solidFill>
                <a:latin typeface="Arial"/>
              </a:rPr>
              <a:t>Poi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000000"/>
                </a:solidFill>
                <a:latin typeface="Arial"/>
              </a:rPr>
              <a:t>Plan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(Cutting) Op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000000"/>
                </a:solidFill>
                <a:latin typeface="Arial"/>
              </a:rPr>
              <a:t>Mil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000000"/>
                </a:solidFill>
                <a:latin typeface="Arial"/>
              </a:rPr>
              <a:t>Dril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000000"/>
                </a:solidFill>
                <a:latin typeface="Arial"/>
              </a:rPr>
              <a:t>Turn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3128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emo implementation has been built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000000"/>
                </a:solidFill>
                <a:latin typeface="Arial"/>
              </a:rPr>
              <a:t>Test of Information mod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000000"/>
                </a:solidFill>
                <a:latin typeface="Arial"/>
              </a:rPr>
              <a:t>Show that/how the dictionary and the information model works together in an implementation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000000"/>
                </a:solidFill>
                <a:latin typeface="Arial"/>
              </a:rPr>
              <a:t>Show the capabilities built into the ISO 13399 standard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000000"/>
                </a:solidFill>
                <a:latin typeface="Arial"/>
              </a:rPr>
              <a:t>Provide knowledge of methods for implementation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000000"/>
                </a:solidFill>
                <a:latin typeface="Arial"/>
              </a:rPr>
              <a:t>Enable implementations of the information model through an AP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The implementation has been done successful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3128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 Black"/>
              </a:rPr>
              <a:t>Major work at the momen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ISO 13399 part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000000"/>
                </a:solidFill>
                <a:latin typeface="Arial"/>
              </a:rPr>
              <a:t>AIM has been includ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ISO 13399 part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000000"/>
                </a:solidFill>
                <a:latin typeface="Arial"/>
              </a:rPr>
              <a:t>Developement of property and typ defini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ISO 13399 part 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000000"/>
                </a:solidFill>
                <a:latin typeface="Arial"/>
              </a:rPr>
              <a:t>Initial work has been don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3128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 Black"/>
              </a:rPr>
              <a:t>Planned activiti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ISO TC29 WG34 development meeting november 12 – 19, Evry and Senlis Fr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ISO TC29 WG34 meeting november 20 Senl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000000"/>
                </a:solidFill>
                <a:latin typeface="Arial"/>
              </a:rPr>
              <a:t>Issue of ISO 13399-2 CD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000000"/>
                </a:solidFill>
                <a:latin typeface="Arial"/>
              </a:rPr>
              <a:t>Circulation of 13399-3 for CD ballo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ISO TC29 WG34 development meeting February/M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7T08:07:40Z</dcterms:created>
  <dc:creator>DS2176</dc:creator>
  <dc:description/>
  <dc:language>en-US</dc:language>
  <cp:lastModifiedBy>Jonas Nordström</cp:lastModifiedBy>
  <cp:lastPrinted>2002-11-11T11:39:45Z</cp:lastPrinted>
  <dcterms:modified xsi:type="dcterms:W3CDTF">2003-10-27T13:50:32Z</dcterms:modified>
  <cp:revision>68</cp:revision>
  <dc:subject/>
  <dc:title>Cutting tool classification proposal</dc:title>
</cp:coreProperties>
</file>