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Poitiers N000 2003-10-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AC4D4C8C-716B-462D-8959-7455632FB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inimil" descr=""/>
          <p:cNvPicPr/>
          <p:nvPr/>
        </p:nvPicPr>
        <p:blipFill>
          <a:blip r:embed="rId1"/>
          <a:stretch/>
        </p:blipFill>
        <p:spPr>
          <a:xfrm>
            <a:off x="4933800" y="2057400"/>
            <a:ext cx="421020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Stuttg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CD in p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DIS in p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paths m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M m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ing model being m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40 DIS sent for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Poit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 infor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possible AP-223 model for 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possible impact of Part 28/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AM specification for Automotiv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Poit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3-03-10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minute updates on al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n ASAM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3-03-11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40 DIS walkth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24 ed3 review &amp; AP-223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19 Inspection data and results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38 DIS walkth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Poit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3-03-12, 103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3-03-12, 1300-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3-03-12, 153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with Implementors Forum &amp; Wg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28/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for Poitiers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, 2003-03-13, 0800-1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eeting with ship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, 2003-03-12, 1030-1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impact of AP-203 e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f construction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f dimensional toler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n STEP-Manufacturing and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xing AIM and ARM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8 Configurations for 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on with SC1/Wg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coming meeting at AF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for Poitiers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, 2003-03-13, 0800-1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eeting with ship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, 2003-03-12, 1030-1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eeting with SC1/Wg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11 Tools for Mill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2  Data for Tu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21 Tools for Tu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3 Data for Wire-E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4 Data for Sink-ED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5 Wood, glass and stone cutting and 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data for measur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data for machining cen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3-10-23T20:39:17Z</dcterms:modified>
  <cp:revision>134</cp:revision>
  <dc:subject/>
  <dc:title>WG3 Presentation to SC4 Opening Plenary</dc:title>
</cp:coreProperties>
</file>