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89D-0572-467F-B0C1-BE7F5845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736-5AFD-4D48-854A-D60282CB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BC3-C5A7-4EAA-86F0-F34F07EC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FA5-E04A-4597-8A9E-203FDF74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391-23F2-4D30-A661-20F9417C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83F-F9EF-4544-9FAA-8EC0BF2E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32C-75DE-48BE-AB74-A709B6FB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787-4C00-4022-8567-C77BC9DC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20A-DB4C-4363-B740-6CD61663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042-3009-49C5-82B1-E5C3B890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C28-98D4-492B-ABAA-4B9FD5BB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F44-4678-4898-BB92-E8FC45A0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17C-64F5-4FA0-9171-A5F70C915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PT_NG%20SLIDE%20MASTER" descr=""/>
          <p:cNvPicPr/>
          <p:nvPr/>
        </p:nvPicPr>
        <p:blipFill>
          <a:blip r:embed="rId2"/>
          <a:stretch/>
        </p:blipFill>
        <p:spPr>
          <a:xfrm>
            <a:off x="0" y="0"/>
            <a:ext cx="9418680" cy="6861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08840"/>
            <a:ext cx="141912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Times New Roman"/>
              </a:rPr>
              <a:t>ISO/DIS 10303-240: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mensional Toler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n Slove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Graphic7" descr=""/>
          <p:cNvPicPr/>
          <p:nvPr/>
        </p:nvPicPr>
        <p:blipFill>
          <a:blip r:embed="rId1"/>
          <a:stretch/>
        </p:blipFill>
        <p:spPr>
          <a:xfrm>
            <a:off x="762120" y="798480"/>
            <a:ext cx="5546520" cy="5259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5008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Graphic8" descr=""/>
          <p:cNvPicPr/>
          <p:nvPr/>
        </p:nvPicPr>
        <p:blipFill>
          <a:blip r:embed="rId1"/>
          <a:stretch/>
        </p:blipFill>
        <p:spPr>
          <a:xfrm>
            <a:off x="228600" y="757080"/>
            <a:ext cx="7467480" cy="5342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7436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rmexpg2" descr=""/>
          <p:cNvPicPr/>
          <p:nvPr/>
        </p:nvPicPr>
        <p:blipFill>
          <a:blip r:embed="rId1"/>
          <a:stretch/>
        </p:blipFill>
        <p:spPr>
          <a:xfrm>
            <a:off x="2057400" y="0"/>
            <a:ext cx="6862680" cy="6837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7520" y="1173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Module 1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3400" y="2556000"/>
            <a:ext cx="1656000" cy="45972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248520" y="4267080"/>
            <a:ext cx="4572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3400" y="3276360"/>
            <a:ext cx="609480" cy="15228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057400" y="3504960"/>
            <a:ext cx="609480" cy="15228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391160" y="4648320"/>
            <a:ext cx="53316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640" y="436716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Times New Roman"/>
              </a:rPr>
              <a:t>Not the same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Times New Roman"/>
              </a:rPr>
              <a:t>AP214e2 or AP224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3240" y="15228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Matches AP214e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409720" y="533520"/>
            <a:ext cx="304920" cy="304560"/>
          </a:xfrm>
          <a:prstGeom prst="line">
            <a:avLst/>
          </a:prstGeom>
          <a:ln w="38160">
            <a:solidFill>
              <a:srgbClr val="cc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rmexpg3" descr="Figure C.3 — ARM entity level EXPRESS-G diagram 2 of 2"/>
          <p:cNvPicPr/>
          <p:nvPr/>
        </p:nvPicPr>
        <p:blipFill>
          <a:blip r:embed="rId1"/>
          <a:stretch/>
        </p:blipFill>
        <p:spPr>
          <a:xfrm>
            <a:off x="762120" y="0"/>
            <a:ext cx="703080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00ff"/>
                </a:solidFill>
                <a:uFillTx/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al tolerances shar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ISO standards – 214 and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238, AP240, AP219, AP223, module 1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1050 wants to add enhancements to dimensional toler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pward compatible for either AP214 or 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ow should this be d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hich standard should be the first to make the change, or do they need to go out all at the same time with the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imensional tolerance modul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ruction_geometry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rived_shape_ele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ental_geometric_shape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nded_measure_representation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ometry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ification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asure_representation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fied_measure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aspect_defini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dimens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property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tolerance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e_with_uni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/TS 10303-11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/CD-TS 10303-11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CD-TS 10303-1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CD-TS 10303-11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1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040" y="650880"/>
            <a:ext cx="86360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at if an existing AP wants to the use the 1050 module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P does not have requirements for referenced mo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Example – Derived_shape_ele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imensional tolerance modul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ruction_geometry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rived_shape_ele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ental_geometric_shape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nded_measure_representation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ometry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ification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asure_representation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fied_measure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aspect_defini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dimens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property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tolerance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e_with_uni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/TS 10303-11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/CD-TS 10303-11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CD-TS 10303-1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CD-TS 10303-11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1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240" y="650880"/>
            <a:ext cx="86360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at if an existing AP wants to the use the 1050 module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P has different requirements for referenced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Value_with_uni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ff"/>
                </a:solidFill>
                <a:latin typeface="Times New Roman"/>
              </a:rPr>
              <a:t>Development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uppose that the 1050 module and all supporting modules could be used by an existing 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ould take 100s of hours to change existing APs to use these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214 and AP224 no longer have development teams to do the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How can they implement the mod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ff"/>
                </a:solidFill>
                <a:latin typeface="Times New Roman"/>
              </a:rPr>
              <a:t>Development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224 uses measure_representation_item, qualified_representation_item, and other representations for numeric and string values for feature parameters, but differently than the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cause huge non-upward compatibl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ly true for AP2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hat is precedence of importance to existing APs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armonization with existing standards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upporting industry with existing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Graphic2" descr=""/>
          <p:cNvPicPr/>
          <p:nvPr/>
        </p:nvPicPr>
        <p:blipFill>
          <a:blip r:embed="rId1"/>
          <a:stretch/>
        </p:blipFill>
        <p:spPr>
          <a:xfrm>
            <a:off x="0" y="838080"/>
            <a:ext cx="4510080" cy="4873680"/>
          </a:xfrm>
          <a:prstGeom prst="rect">
            <a:avLst/>
          </a:prstGeom>
          <a:ln w="0">
            <a:noFill/>
          </a:ln>
        </p:spPr>
      </p:pic>
      <p:pic>
        <p:nvPicPr>
          <p:cNvPr id="60" name="Graphic1" descr=""/>
          <p:cNvPicPr/>
          <p:nvPr/>
        </p:nvPicPr>
        <p:blipFill>
          <a:blip r:embed="rId2"/>
          <a:stretch/>
        </p:blipFill>
        <p:spPr>
          <a:xfrm>
            <a:off x="4572000" y="1603440"/>
            <a:ext cx="4836960" cy="3897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5008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436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Graphic3" descr=""/>
          <p:cNvPicPr/>
          <p:nvPr/>
        </p:nvPicPr>
        <p:blipFill>
          <a:blip r:embed="rId1"/>
          <a:stretch/>
        </p:blipFill>
        <p:spPr>
          <a:xfrm>
            <a:off x="36360" y="1447920"/>
            <a:ext cx="4535640" cy="2825640"/>
          </a:xfrm>
          <a:prstGeom prst="rect">
            <a:avLst/>
          </a:prstGeom>
          <a:ln w="0">
            <a:noFill/>
          </a:ln>
        </p:spPr>
      </p:pic>
      <p:pic>
        <p:nvPicPr>
          <p:cNvPr id="64" name="Graphic4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4565520" cy="3359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5008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36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Graphic5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670200" cy="2273040"/>
          </a:xfrm>
          <a:prstGeom prst="rect">
            <a:avLst/>
          </a:prstGeom>
          <a:ln w="0">
            <a:noFill/>
          </a:ln>
        </p:spPr>
      </p:pic>
      <p:pic>
        <p:nvPicPr>
          <p:cNvPr id="68" name="Graphic6" descr=""/>
          <p:cNvPicPr/>
          <p:nvPr/>
        </p:nvPicPr>
        <p:blipFill>
          <a:blip r:embed="rId2"/>
          <a:stretch/>
        </p:blipFill>
        <p:spPr>
          <a:xfrm>
            <a:off x="4913280" y="1832040"/>
            <a:ext cx="4230720" cy="159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5008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436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17:19Z</dcterms:created>
  <dc:creator>Len</dc:creator>
  <dc:description/>
  <dc:language>en-US</dc:language>
  <cp:lastModifiedBy>Len</cp:lastModifiedBy>
  <dcterms:modified xsi:type="dcterms:W3CDTF">2003-10-29T10:26:56Z</dcterms:modified>
  <cp:revision>17</cp:revision>
  <dc:subject/>
  <dc:title>PowerPoint Presentation</dc:title>
</cp:coreProperties>
</file>