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F98A-1B89-42BF-B67D-24C9706EA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F125-A09C-42E3-A3FB-FD5EF6BF3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B1D8-E567-4B39-A06C-DE31D875D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9161-CF26-4B80-9323-60A57B7F2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59D8-CCE6-47A4-BF38-8A22F5782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9B24-0A94-4176-A071-DD6D7AEBE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5524-BCD6-4B32-844B-DA9CEFD29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99CC-C5CA-4F96-B809-8D73D7378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D6B6-C80B-4729-BB03-E2663854A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8313-7C0B-49DA-B9DC-B3C4059BB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226F-02E0-48D0-93F8-1314C13EF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C620-D747-4AF6-AAF1-7575777BC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17D6F-FA6B-49BD-BF02-976628398FE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41120" y="977760"/>
          <a:ext cx="8863200" cy="490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1120" y="977760"/>
                    <a:ext cx="8863200" cy="490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09:32:12Z</dcterms:created>
  <dc:creator>sakamoto</dc:creator>
  <dc:description/>
  <dc:language>en-US</dc:language>
  <cp:lastModifiedBy>sakamoto</cp:lastModifiedBy>
  <dcterms:modified xsi:type="dcterms:W3CDTF">2003-10-29T06:20:42Z</dcterms:modified>
  <cp:revision>2</cp:revision>
  <dc:subject/>
  <dc:title>PowerPoint プレゼンテーション</dc:title>
</cp:coreProperties>
</file>