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053-1CEA-4359-B366-BBB4FF55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A38-5D16-46F4-8C03-E7CAC08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5C9-978C-4550-AFC2-32D771AC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398-3E82-44FC-ABEA-DA61D756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339-C81D-450F-9B1F-436F26F7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C6A-6D9F-411C-A560-42DCF078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3D7-609E-4402-94E0-85E8015E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D3E-1C38-4193-99A4-DCF88EE7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9AF-E45C-40EE-9326-90031B70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3F6-DE61-415C-8E70-6168774D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DF5-804E-4CC0-B20A-7E76CCA5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3CD-DBF1-4205-B034-C71CD4A1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B324-4E6B-407D-AE8A-7BFA75B2E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24 Meeting Schedule in Poit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280" y="1295280"/>
          <a:ext cx="8863200" cy="49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86320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24 – STEP-Manufactu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mplishments in Poit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ewed AP-238 DIS Issues on ISO146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ewed AP-219 C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ewed ARM of AP-240 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ussed Differences of Dimensional Tolerance between AP-224, AP-214 and 1050 (AP-203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ewed NWI for AP-224E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ewed NWI for Casting AP (AP2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762120"/>
            <a:ext cx="8077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 in Poitier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ussed possible impact of Part 28/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uss ASAM specification for Automotive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M/ARM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greed that AIM is better than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greed that a better AIM is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t yet agreed that a better AIM can be produced at this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24 AD-Hoc Committe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ization of GD&amp;T is an issue that needs to be resolved as soon as possible and T24 has no organization to represent it between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Statement for Ad-Hoc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appropriate representatives of AP-214, AP-203 ed2 and Module 1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n action plan for harmonization between AP-203 e2, AP-214 and AP-224 with respect to GD&amp;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back to T24 in Fort Lauderd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Slovensky, Bill Danner, David Loffredo, Alan Craw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24 – STEP Manufactu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 for Lauderd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-238 for 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llection of AP-240 DIS early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-219 for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-224E3 for N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sting AP for N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armonization of Dimensional Tolerance between AP-224 , AP-214 and 1050 (AP-203E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vestigation of detail ASAM Data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23:28:50Z</dcterms:created>
  <dc:creator>sakamoto</dc:creator>
  <dc:description/>
  <dc:language>en-US</dc:language>
  <cp:lastModifiedBy>hardwick</cp:lastModifiedBy>
  <dcterms:modified xsi:type="dcterms:W3CDTF">2003-10-30T14:55:44Z</dcterms:modified>
  <cp:revision>22</cp:revision>
  <dc:subject/>
  <dc:title>PowerPoint プレゼンテーション</dc:title>
</cp:coreProperties>
</file>