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3B3FADB-BC36-4338-A066-9276188573D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3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218960"/>
            <a:ext cx="518796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DIS Walkthroug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oitiers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ctober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33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Strategies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8080" y="1976400"/>
            <a:ext cx="18633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886200"/>
            <a:ext cx="20142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_type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160" y="3887640"/>
            <a:ext cx="2372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eform_milling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352680"/>
            <a:ext cx="2034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lling_type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2440" y="2895480"/>
            <a:ext cx="34178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approach_retract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2" idx="2"/>
            <a:endCxn id="133" idx="1"/>
          </p:cNvCxnSpPr>
          <p:nvPr/>
        </p:nvCxnSpPr>
        <p:spPr>
          <a:xfrm flipH="1" rot="16200000">
            <a:off x="1417320" y="2983320"/>
            <a:ext cx="171828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38" name=""/>
          <p:cNvCxnSpPr>
            <a:stCxn id="133" idx="3"/>
            <a:endCxn id="134" idx="1"/>
          </p:cNvCxnSpPr>
          <p:nvPr/>
        </p:nvCxnSpPr>
        <p:spPr>
          <a:xfrm>
            <a:off x="4528800" y="4079880"/>
            <a:ext cx="577080" cy="2160"/>
          </a:xfrm>
          <a:prstGeom prst="bentConnector3">
            <a:avLst>
              <a:gd name="adj1" fmla="val 49812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39" name=""/>
          <p:cNvCxnSpPr>
            <a:stCxn id="132" idx="2"/>
            <a:endCxn id="135" idx="1"/>
          </p:cNvCxnSpPr>
          <p:nvPr/>
        </p:nvCxnSpPr>
        <p:spPr>
          <a:xfrm flipH="1" rot="16200000">
            <a:off x="1684080" y="2716560"/>
            <a:ext cx="118476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40" name=""/>
          <p:cNvCxnSpPr>
            <a:stCxn id="132" idx="2"/>
            <a:endCxn id="136" idx="1"/>
          </p:cNvCxnSpPr>
          <p:nvPr/>
        </p:nvCxnSpPr>
        <p:spPr>
          <a:xfrm flipH="1" rot="16200000">
            <a:off x="1912680" y="2487960"/>
            <a:ext cx="72756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41" name=""/>
          <p:cNvSpPr/>
          <p:nvPr/>
        </p:nvSpPr>
        <p:spPr>
          <a:xfrm>
            <a:off x="1317600" y="121932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32" idx="0"/>
          </p:cNvCxnSpPr>
          <p:nvPr/>
        </p:nvCxnSpPr>
        <p:spPr>
          <a:xfrm rot="5400000">
            <a:off x="1854000" y="1789560"/>
            <a:ext cx="372240" cy="252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43" name=""/>
          <p:cNvCxnSpPr>
            <a:stCxn id="141" idx="2"/>
            <a:endCxn id="144" idx="0"/>
          </p:cNvCxnSpPr>
          <p:nvPr/>
        </p:nvCxnSpPr>
        <p:spPr>
          <a:xfrm flipH="1" rot="16200000">
            <a:off x="3116880" y="528480"/>
            <a:ext cx="372240" cy="252468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1" idx="2"/>
            <a:endCxn id="146" idx="0"/>
          </p:cNvCxnSpPr>
          <p:nvPr/>
        </p:nvCxnSpPr>
        <p:spPr>
          <a:xfrm flipH="1" rot="16200000">
            <a:off x="4375800" y="-730440"/>
            <a:ext cx="372240" cy="504252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 flipH="1">
            <a:off x="227880" y="19764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47" idx="0"/>
          </p:cNvCxnSpPr>
          <p:nvPr/>
        </p:nvCxnSpPr>
        <p:spPr>
          <a:xfrm rot="5400000">
            <a:off x="1100880" y="1036440"/>
            <a:ext cx="372240" cy="150876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3506760" y="1976400"/>
            <a:ext cx="21178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7680" y="1976400"/>
            <a:ext cx="1969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5680" y="4419720"/>
            <a:ext cx="20505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turning_type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32" idx="2"/>
            <a:endCxn id="149" idx="1"/>
          </p:cNvCxnSpPr>
          <p:nvPr/>
        </p:nvCxnSpPr>
        <p:spPr>
          <a:xfrm flipH="1" rot="16200000">
            <a:off x="1150560" y="3250080"/>
            <a:ext cx="225180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51" name=""/>
          <p:cNvSpPr/>
          <p:nvPr/>
        </p:nvSpPr>
        <p:spPr>
          <a:xfrm>
            <a:off x="685800" y="4952880"/>
            <a:ext cx="774684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strategy represented using a new AIM sub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techniques as with milling/drilling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 references existing approach/retract strateg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734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ech and Functions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121932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2"/>
            <a:endCxn id="156" idx="0"/>
          </p:cNvCxnSpPr>
          <p:nvPr/>
        </p:nvCxnSpPr>
        <p:spPr>
          <a:xfrm flipH="1" rot="16200000">
            <a:off x="3116880" y="528480"/>
            <a:ext cx="372240" cy="252468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54" idx="2"/>
            <a:endCxn id="158" idx="0"/>
          </p:cNvCxnSpPr>
          <p:nvPr/>
        </p:nvCxnSpPr>
        <p:spPr>
          <a:xfrm flipH="1" rot="16200000">
            <a:off x="4375800" y="-730440"/>
            <a:ext cx="372240" cy="504252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 flipH="1">
            <a:off x="227880" y="19764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4" idx="2"/>
            <a:endCxn id="159" idx="0"/>
          </p:cNvCxnSpPr>
          <p:nvPr/>
        </p:nvCxnSpPr>
        <p:spPr>
          <a:xfrm rot="5400000">
            <a:off x="1100880" y="1036440"/>
            <a:ext cx="372240" cy="150876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156" name=""/>
          <p:cNvSpPr/>
          <p:nvPr/>
        </p:nvSpPr>
        <p:spPr>
          <a:xfrm>
            <a:off x="3506760" y="1976400"/>
            <a:ext cx="21178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976400"/>
            <a:ext cx="1969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971800"/>
            <a:ext cx="77468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echnology and machining functions did not require any new AIM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technology/functions already distinguished by an action_method.description of “milling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ction_method.description of “turning” to distinguish the turning technology/fun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roperties are common between milling/turning versions.   AIM EXPRESS rules simpl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320" y="76212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71560" y="2997360"/>
            <a:ext cx="11689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880" y="4495680"/>
            <a:ext cx="238824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ing_tool_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920" y="2209680"/>
            <a:ext cx="15987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9440" y="2997360"/>
            <a:ext cx="1271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ing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5" idx="2"/>
            <a:endCxn id="166" idx="0"/>
          </p:cNvCxnSpPr>
          <p:nvPr/>
        </p:nvCxnSpPr>
        <p:spPr>
          <a:xfrm flipH="1" rot="16200000">
            <a:off x="1376280" y="2818440"/>
            <a:ext cx="356400" cy="2520"/>
          </a:xfrm>
          <a:prstGeom prst="bentConnector3">
            <a:avLst>
              <a:gd name="adj1" fmla="val 49949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446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Tools for Turning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3640" y="4292640"/>
            <a:ext cx="21168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ing machine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6" idx="2"/>
            <a:endCxn id="169" idx="0"/>
          </p:cNvCxnSpPr>
          <p:nvPr/>
        </p:nvCxnSpPr>
        <p:spPr>
          <a:xfrm flipH="1" rot="16200000">
            <a:off x="1126080" y="3857400"/>
            <a:ext cx="864360" cy="684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1" name=""/>
          <p:cNvSpPr/>
          <p:nvPr/>
        </p:nvSpPr>
        <p:spPr>
          <a:xfrm>
            <a:off x="2856240" y="4292640"/>
            <a:ext cx="26136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ing machine tool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3" idx="2"/>
            <a:endCxn id="171" idx="0"/>
          </p:cNvCxnSpPr>
          <p:nvPr/>
        </p:nvCxnSpPr>
        <p:spPr>
          <a:xfrm flipH="1" rot="16200000">
            <a:off x="3728160" y="3856320"/>
            <a:ext cx="864360" cy="864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3" name=""/>
          <p:cNvCxnSpPr>
            <a:stCxn id="171" idx="2"/>
            <a:endCxn id="174" idx="0"/>
          </p:cNvCxnSpPr>
          <p:nvPr/>
        </p:nvCxnSpPr>
        <p:spPr>
          <a:xfrm rot="5400000">
            <a:off x="3643200" y="4813920"/>
            <a:ext cx="610560" cy="430920"/>
          </a:xfrm>
          <a:prstGeom prst="bentConnector3">
            <a:avLst>
              <a:gd name="adj1" fmla="val 4997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5" name=""/>
          <p:cNvCxnSpPr>
            <a:stCxn id="166" idx="3"/>
            <a:endCxn id="163" idx="1"/>
          </p:cNvCxnSpPr>
          <p:nvPr/>
        </p:nvCxnSpPr>
        <p:spPr>
          <a:xfrm>
            <a:off x="2192040" y="3212640"/>
            <a:ext cx="1378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3"/>
            <a:endCxn id="164" idx="1"/>
          </p:cNvCxnSpPr>
          <p:nvPr/>
        </p:nvCxnSpPr>
        <p:spPr>
          <a:xfrm>
            <a:off x="5471640" y="4508640"/>
            <a:ext cx="777240" cy="203760"/>
          </a:xfrm>
          <a:prstGeom prst="bentConnector3">
            <a:avLst>
              <a:gd name="adj1" fmla="val 4986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" y="1138680"/>
            <a:ext cx="2281320" cy="757440"/>
          </a:xfrm>
          <a:prstGeom prst="downArrow">
            <a:avLst>
              <a:gd name="adj1" fmla="val 74944"/>
              <a:gd name="adj2" fmla="val 3976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ferenced From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848040"/>
            <a:ext cx="8534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56560" y="3353040"/>
            <a:ext cx="9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3200" y="3976920"/>
            <a:ext cx="10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5334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1" idx="2"/>
            <a:endCxn id="181" idx="0"/>
          </p:cNvCxnSpPr>
          <p:nvPr/>
        </p:nvCxnSpPr>
        <p:spPr>
          <a:xfrm flipH="1" rot="16200000">
            <a:off x="4024080" y="4863240"/>
            <a:ext cx="610560" cy="332280"/>
          </a:xfrm>
          <a:prstGeom prst="bentConnector3">
            <a:avLst>
              <a:gd name="adj1" fmla="val 4997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4" name=""/>
          <p:cNvSpPr/>
          <p:nvPr/>
        </p:nvSpPr>
        <p:spPr>
          <a:xfrm>
            <a:off x="3657600" y="5334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533412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1" idx="2"/>
            <a:endCxn id="183" idx="0"/>
          </p:cNvCxnSpPr>
          <p:nvPr/>
        </p:nvCxnSpPr>
        <p:spPr>
          <a:xfrm flipH="1" rot="16200000">
            <a:off x="4406040" y="4482000"/>
            <a:ext cx="610560" cy="1094400"/>
          </a:xfrm>
          <a:prstGeom prst="bentConnector3">
            <a:avLst>
              <a:gd name="adj1" fmla="val 4997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85" name=""/>
          <p:cNvSpPr/>
          <p:nvPr/>
        </p:nvSpPr>
        <p:spPr>
          <a:xfrm>
            <a:off x="3886200" y="1356120"/>
            <a:ext cx="434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imilar to Part 111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s many tool bod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5488200"/>
            <a:ext cx="40388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ral Sub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ooving, Knurling, Threading,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 User 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10200" y="1854360"/>
            <a:ext cx="17326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6280" y="2295360"/>
            <a:ext cx="22294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resource_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1840" y="1159200"/>
            <a:ext cx="2234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ired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803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ool AIM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2280" y="3733920"/>
            <a:ext cx="77468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ools did not require any new AIM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ction resource subtype machining_tool for the ARM turning_machine_tool conce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“kind” attribute that categorizes the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value “milling cutting tool” for Part 111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add value “turning cutting tool” for Part 12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49800" y="2844720"/>
            <a:ext cx="16549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8" idx="2"/>
            <a:endCxn id="193" idx="0"/>
          </p:cNvCxnSpPr>
          <p:nvPr/>
        </p:nvCxnSpPr>
        <p:spPr>
          <a:xfrm flipH="1" rot="16200000">
            <a:off x="2998080" y="2564280"/>
            <a:ext cx="559080" cy="216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95" name=""/>
          <p:cNvCxnSpPr>
            <a:stCxn id="189" idx="1"/>
            <a:endCxn id="188" idx="3"/>
          </p:cNvCxnSpPr>
          <p:nvPr/>
        </p:nvCxnSpPr>
        <p:spPr>
          <a:xfrm rot="10800000">
            <a:off x="4144320" y="2069280"/>
            <a:ext cx="649800" cy="442080"/>
          </a:xfrm>
          <a:prstGeom prst="bentConnector3">
            <a:avLst>
              <a:gd name="adj1" fmla="val 49833"/>
            </a:avLst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224600" y="18129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1349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1349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20600" y="211788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[1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5560" y="1854360"/>
            <a:ext cx="21837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_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5880" y="1854360"/>
            <a:ext cx="15850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4440" y="1066680"/>
            <a:ext cx="27370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613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ool Body and Dimension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4038480"/>
            <a:ext cx="774684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new AIM types needed for body or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existing representation subtypes developed for Part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with all of our complex types, properties handled as various representation items with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guish tool bodies using the representation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guish milling/turning/other tool dimensions using representation.name “milling”, “turning”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6640" y="3225960"/>
            <a:ext cx="41040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tool_dimension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2" idx="2"/>
            <a:endCxn id="206" idx="1"/>
          </p:cNvCxnSpPr>
          <p:nvPr/>
        </p:nvCxnSpPr>
        <p:spPr>
          <a:xfrm flipH="1" rot="16200000">
            <a:off x="1844640" y="2379240"/>
            <a:ext cx="1156320" cy="9691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208" name=""/>
          <p:cNvSpPr/>
          <p:nvPr/>
        </p:nvSpPr>
        <p:spPr>
          <a:xfrm>
            <a:off x="2907360" y="2666880"/>
            <a:ext cx="36180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tool_bod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2" idx="2"/>
            <a:endCxn id="208" idx="1"/>
          </p:cNvCxnSpPr>
          <p:nvPr/>
        </p:nvCxnSpPr>
        <p:spPr>
          <a:xfrm flipH="1" rot="16200000">
            <a:off x="2124000" y="2099880"/>
            <a:ext cx="597600" cy="9691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210" name=""/>
          <p:cNvSpPr/>
          <p:nvPr/>
        </p:nvSpPr>
        <p:spPr>
          <a:xfrm>
            <a:off x="2863440" y="1797120"/>
            <a:ext cx="52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1" idx="1"/>
            <a:endCxn id="202" idx="3"/>
          </p:cNvCxnSpPr>
          <p:nvPr/>
        </p:nvCxnSpPr>
        <p:spPr>
          <a:xfrm rot="10800000">
            <a:off x="2733120" y="2069280"/>
            <a:ext cx="1249920" cy="1080"/>
          </a:xfrm>
          <a:prstGeom prst="bentConnector2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3200" y="82224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34760" y="1457280"/>
            <a:ext cx="13136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2720" y="3010680"/>
            <a:ext cx="9950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20560" y="2304360"/>
            <a:ext cx="17402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D 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2"/>
            <a:endCxn id="215" idx="0"/>
          </p:cNvCxnSpPr>
          <p:nvPr/>
        </p:nvCxnSpPr>
        <p:spPr>
          <a:xfrm rot="5400000">
            <a:off x="2116800" y="2111040"/>
            <a:ext cx="348480" cy="2520"/>
          </a:xfrm>
          <a:prstGeom prst="bentConnector3">
            <a:avLst>
              <a:gd name="adj1" fmla="val 4974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5" idx="2"/>
            <a:endCxn id="214" idx="0"/>
          </p:cNvCxnSpPr>
          <p:nvPr/>
        </p:nvCxnSpPr>
        <p:spPr>
          <a:xfrm rot="5400000">
            <a:off x="1310400" y="2012760"/>
            <a:ext cx="419760" cy="1540440"/>
          </a:xfrm>
          <a:prstGeom prst="bentConnector3">
            <a:avLst>
              <a:gd name="adj1" fmla="val 49957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623960" y="3034800"/>
            <a:ext cx="1334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ing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23160" y="3034440"/>
            <a:ext cx="8578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6400" y="3960360"/>
            <a:ext cx="659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5" idx="2"/>
            <a:endCxn id="218" idx="0"/>
          </p:cNvCxnSpPr>
          <p:nvPr/>
        </p:nvCxnSpPr>
        <p:spPr>
          <a:xfrm flipH="1" rot="16200000">
            <a:off x="2069280" y="2793600"/>
            <a:ext cx="443520" cy="252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2"/>
            <a:endCxn id="219" idx="0"/>
          </p:cNvCxnSpPr>
          <p:nvPr/>
        </p:nvCxnSpPr>
        <p:spPr>
          <a:xfrm flipH="1" rot="16200000">
            <a:off x="2800440" y="2063160"/>
            <a:ext cx="443520" cy="146304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177560" y="872640"/>
            <a:ext cx="22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8" idx="2"/>
            <a:endCxn id="225" idx="1"/>
          </p:cNvCxnSpPr>
          <p:nvPr/>
        </p:nvCxnSpPr>
        <p:spPr>
          <a:xfrm flipH="1" rot="16200000">
            <a:off x="1862280" y="3733920"/>
            <a:ext cx="1111680" cy="250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8" idx="2"/>
            <a:endCxn id="220" idx="3"/>
          </p:cNvCxnSpPr>
          <p:nvPr/>
        </p:nvCxnSpPr>
        <p:spPr>
          <a:xfrm rot="5400000">
            <a:off x="1540800" y="3335400"/>
            <a:ext cx="783360" cy="7200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18" idx="2"/>
            <a:endCxn id="228" idx="1"/>
          </p:cNvCxnSpPr>
          <p:nvPr/>
        </p:nvCxnSpPr>
        <p:spPr>
          <a:xfrm flipH="1" rot="16200000">
            <a:off x="2069280" y="3525480"/>
            <a:ext cx="681480" cy="237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18" idx="2"/>
            <a:endCxn id="230" idx="3"/>
          </p:cNvCxnSpPr>
          <p:nvPr/>
        </p:nvCxnSpPr>
        <p:spPr>
          <a:xfrm rot="5400000">
            <a:off x="1390320" y="3713040"/>
            <a:ext cx="1311480" cy="4928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578520" y="4975560"/>
            <a:ext cx="1333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er di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4560" y="4289040"/>
            <a:ext cx="14644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olved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4488840"/>
            <a:ext cx="10958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er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5" idx="3"/>
            <a:endCxn id="233" idx="3"/>
          </p:cNvCxnSpPr>
          <p:nvPr/>
        </p:nvCxnSpPr>
        <p:spPr>
          <a:xfrm flipH="1">
            <a:off x="3952440" y="4414680"/>
            <a:ext cx="78480" cy="79128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25" idx="3"/>
            <a:endCxn id="235" idx="3"/>
          </p:cNvCxnSpPr>
          <p:nvPr/>
        </p:nvCxnSpPr>
        <p:spPr>
          <a:xfrm flipH="1">
            <a:off x="3952440" y="4414320"/>
            <a:ext cx="78480" cy="147564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5" idx="3"/>
            <a:endCxn id="237" idx="3"/>
          </p:cNvCxnSpPr>
          <p:nvPr/>
        </p:nvCxnSpPr>
        <p:spPr>
          <a:xfrm flipH="1">
            <a:off x="3952440" y="4414320"/>
            <a:ext cx="78480" cy="113292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5" idx="3"/>
            <a:endCxn id="239" idx="3"/>
          </p:cNvCxnSpPr>
          <p:nvPr/>
        </p:nvCxnSpPr>
        <p:spPr>
          <a:xfrm flipH="1">
            <a:off x="3952440" y="4414320"/>
            <a:ext cx="78480" cy="45180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3200400" y="4739760"/>
            <a:ext cx="743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39280" y="5763600"/>
            <a:ext cx="16016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rev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5440" y="5421600"/>
            <a:ext cx="1364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olved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91440" y="5080320"/>
            <a:ext cx="1147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olved f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46280" y="3858840"/>
            <a:ext cx="569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0" idx="1"/>
            <a:endCxn id="231" idx="1"/>
          </p:cNvCxnSpPr>
          <p:nvPr/>
        </p:nvCxnSpPr>
        <p:spPr>
          <a:xfrm flipV="1" rot="10800000">
            <a:off x="564480" y="4613760"/>
            <a:ext cx="111960" cy="486360"/>
          </a:xfrm>
          <a:prstGeom prst="bentConnector3">
            <a:avLst>
              <a:gd name="adj1" fmla="val 29709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0" idx="1"/>
          </p:cNvCxnSpPr>
          <p:nvPr/>
        </p:nvCxnSpPr>
        <p:spPr>
          <a:xfrm flipV="1" rot="10800000">
            <a:off x="564480" y="4613760"/>
            <a:ext cx="111960" cy="926280"/>
          </a:xfrm>
          <a:prstGeom prst="bentConnector3">
            <a:avLst>
              <a:gd name="adj1" fmla="val 29709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570600" y="5342040"/>
            <a:ext cx="13334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er di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shou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487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170360"/>
            <a:ext cx="36576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features now appear to be harmonized between Part 12 and AP-224/AP-2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verify this as I incorporate the harmonized mappings for turning features from AP-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onal knurl helix h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knurl == catalog knur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251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url Sub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354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1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onal_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ix_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mond_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ix1_ang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ix2_angle (if missing, same as ap224 repres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ight_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_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t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353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2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onal_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ix_ang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ix_h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mond_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ix_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s Part 12 richer with the   helix2 att?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ight_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og kn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20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To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1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UoF and AOs for harmonized Dimensional Tolerances once consensus has been reached between Module, AP-214 and AP-224 tea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features — Need to incorporate harmonized mappings for turning features from AP-22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— No technical issues, finish mapping table text and associated AIM EXPRESS where ru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-G updates for adaptive control change, new turning operation &amp; several new turning representation AIM sub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m AIM SELECT type values not referenced by any of the mappings (as per ballot comm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 CC 1-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06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2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comment resolutions and preparing DIS document for ball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response to comments, added UoFs for requirements beyond ISO 14649, and also to support turning mod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mappings for toolpath sub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transition feature mappings to support both styles of relation: two features (Part 10), two face sets (AP 224/2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adaptive_control based on Seoul discus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model mostly comple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editorial fixes, mapping table fi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06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3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Os and mappings for harmonized Dimensional Tolerances once consensus has been reached between Module, AP-214 and AP-224 tea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er comments, added “management” UoF with AOs and  associated mappings to clarify the handling of approvals and other PDM dat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vals (details use of approval IR element in 14649-10, harmonized with module 10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classification (harmonized with module 101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stamp for certain process elements (as per OMAC comm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30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7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UoFs (red are n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fe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data for m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ting tools for m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manufacturing feature for turning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&gt;&gt; Part 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process data for turning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&gt;&gt; Part 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cutting tools for turning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&gt;&gt; Part 1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measurement limits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&gt;&gt; GD&amp;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management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&gt;&gt; PD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3880" y="1563840"/>
            <a:ext cx="818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000" y="2271600"/>
            <a:ext cx="132300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8160" y="2271960"/>
            <a:ext cx="9190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5" idx="2"/>
            <a:endCxn id="58" idx="0"/>
          </p:cNvCxnSpPr>
          <p:nvPr/>
        </p:nvCxnSpPr>
        <p:spPr>
          <a:xfrm flipH="1" rot="16200000">
            <a:off x="2084040" y="2040480"/>
            <a:ext cx="423000" cy="54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2"/>
            <a:endCxn id="56" idx="0"/>
          </p:cNvCxnSpPr>
          <p:nvPr/>
        </p:nvCxnSpPr>
        <p:spPr>
          <a:xfrm flipH="1" rot="16200000">
            <a:off x="2803680" y="1320480"/>
            <a:ext cx="423000" cy="14450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5" idx="2"/>
            <a:endCxn id="57" idx="0"/>
          </p:cNvCxnSpPr>
          <p:nvPr/>
        </p:nvCxnSpPr>
        <p:spPr>
          <a:xfrm rot="5400000">
            <a:off x="1405800" y="1366560"/>
            <a:ext cx="423000" cy="13532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2662200" y="2941920"/>
            <a:ext cx="12970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ter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1120" y="3360960"/>
            <a:ext cx="12589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ter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160" y="3780000"/>
            <a:ext cx="5014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8" idx="2"/>
            <a:endCxn id="62" idx="1"/>
          </p:cNvCxnSpPr>
          <p:nvPr/>
        </p:nvCxnSpPr>
        <p:spPr>
          <a:xfrm flipH="1" rot="16200000">
            <a:off x="2209320" y="2628000"/>
            <a:ext cx="527760" cy="351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1106280" y="873360"/>
            <a:ext cx="234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Tool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8" idx="2"/>
            <a:endCxn id="63" idx="1"/>
          </p:cNvCxnSpPr>
          <p:nvPr/>
        </p:nvCxnSpPr>
        <p:spPr>
          <a:xfrm flipH="1" rot="16200000">
            <a:off x="1999800" y="2837520"/>
            <a:ext cx="946800" cy="351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58" idx="2"/>
            <a:endCxn id="64" idx="1"/>
          </p:cNvCxnSpPr>
          <p:nvPr/>
        </p:nvCxnSpPr>
        <p:spPr>
          <a:xfrm flipH="1" rot="16200000">
            <a:off x="1790280" y="3047040"/>
            <a:ext cx="1365840" cy="351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>
            <a:off x="5181480" y="1080720"/>
            <a:ext cx="36576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 has an enum attribute called its_type with val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, lift, connect, non_contact, contact, trajectory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06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80200" y="5805720"/>
            <a:ext cx="326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1644480"/>
            <a:ext cx="2725560" cy="285840"/>
          </a:xfrm>
          <a:custGeom>
            <a:avLst/>
            <a:gdLst/>
            <a:ahLst/>
            <a:rect l="l" t="t" r="r" b="b"/>
            <a:pathLst>
              <a:path w="1717" h="180">
                <a:moveTo>
                  <a:pt x="1717" y="150"/>
                </a:moveTo>
                <a:cubicBezTo>
                  <a:pt x="1564" y="152"/>
                  <a:pt x="926" y="180"/>
                  <a:pt x="804" y="157"/>
                </a:cubicBezTo>
                <a:cubicBezTo>
                  <a:pt x="682" y="134"/>
                  <a:pt x="1117" y="28"/>
                  <a:pt x="983" y="14"/>
                </a:cubicBezTo>
                <a:cubicBezTo>
                  <a:pt x="849" y="0"/>
                  <a:pt x="205" y="61"/>
                  <a:pt x="0" y="73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209680"/>
            <a:ext cx="838080" cy="4191120"/>
          </a:xfrm>
          <a:custGeom>
            <a:avLst/>
            <a:gdLst>
              <a:gd name="textAreaLeft" fmla="*/ 0 w 838080"/>
              <a:gd name="textAreaRight" fmla="*/ 302760 w 838080"/>
              <a:gd name="textAreaTop" fmla="*/ 212040 h 4191120"/>
              <a:gd name="textAreaBottom" fmla="*/ 39790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8840" y="4351680"/>
            <a:ext cx="15544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ach lift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41720" y="5428080"/>
            <a:ext cx="967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3960" y="5739120"/>
            <a:ext cx="1574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 sec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57" idx="2"/>
            <a:endCxn id="74" idx="1"/>
          </p:cNvCxnSpPr>
          <p:nvPr/>
        </p:nvCxnSpPr>
        <p:spPr>
          <a:xfrm flipH="1" rot="16200000">
            <a:off x="272160" y="3421080"/>
            <a:ext cx="1724760" cy="386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57" idx="2"/>
            <a:endCxn id="75" idx="1"/>
          </p:cNvCxnSpPr>
          <p:nvPr/>
        </p:nvCxnSpPr>
        <p:spPr>
          <a:xfrm flipH="1" rot="16200000">
            <a:off x="-265680" y="3958920"/>
            <a:ext cx="2800800" cy="386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5" idx="2"/>
            <a:endCxn id="76" idx="1"/>
          </p:cNvCxnSpPr>
          <p:nvPr/>
        </p:nvCxnSpPr>
        <p:spPr>
          <a:xfrm flipH="1" rot="16200000">
            <a:off x="2128680" y="5391720"/>
            <a:ext cx="169200" cy="777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2614320" y="6142320"/>
            <a:ext cx="12970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 di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5" idx="2"/>
            <a:endCxn id="80" idx="1"/>
          </p:cNvCxnSpPr>
          <p:nvPr/>
        </p:nvCxnSpPr>
        <p:spPr>
          <a:xfrm flipH="1" rot="16200000">
            <a:off x="1927080" y="5593320"/>
            <a:ext cx="572400" cy="777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380200" y="3808800"/>
            <a:ext cx="3260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structure also seems to imply some of these “typ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33040" y="4691520"/>
            <a:ext cx="93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L 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4" idx="2"/>
            <a:endCxn id="83" idx="1"/>
          </p:cNvCxnSpPr>
          <p:nvPr/>
        </p:nvCxnSpPr>
        <p:spPr>
          <a:xfrm flipH="1" rot="16200000">
            <a:off x="2268360" y="4466520"/>
            <a:ext cx="197640" cy="5025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2631960" y="5094720"/>
            <a:ext cx="1097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L tan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74" idx="2"/>
            <a:endCxn id="85" idx="1"/>
          </p:cNvCxnSpPr>
          <p:nvPr/>
        </p:nvCxnSpPr>
        <p:spPr>
          <a:xfrm flipH="1" rot="16200000">
            <a:off x="2066760" y="4668120"/>
            <a:ext cx="600840" cy="5025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146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ean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ttribute seems to be giving some indication of how the movement is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structure does some of this too, but also indicates mathematical representation of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nstraints on usage of attrib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 entity with attribute = “approach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_lift entity with attribute = “conne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very least, change name of attribute to something more descriptive than “its_type” and indicate the relative roles of the class structure vs this attribu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30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 AIM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3840" y="2585880"/>
            <a:ext cx="1870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82960" y="182880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2" idx="2"/>
            <a:endCxn id="91" idx="0"/>
          </p:cNvCxnSpPr>
          <p:nvPr/>
        </p:nvCxnSpPr>
        <p:spPr>
          <a:xfrm rot="5400000">
            <a:off x="2602080" y="2381760"/>
            <a:ext cx="371880" cy="37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4" name=""/>
          <p:cNvCxnSpPr>
            <a:stCxn id="92" idx="2"/>
          </p:cNvCxnSpPr>
          <p:nvPr/>
        </p:nvCxnSpPr>
        <p:spPr>
          <a:xfrm flipH="1" rot="16200000">
            <a:off x="5141880" y="-121320"/>
            <a:ext cx="371880" cy="5042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95" name=""/>
          <p:cNvSpPr/>
          <p:nvPr/>
        </p:nvSpPr>
        <p:spPr>
          <a:xfrm flipH="1">
            <a:off x="993600" y="2590920"/>
            <a:ext cx="60984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 rot="5400000">
            <a:off x="1863720" y="1648440"/>
            <a:ext cx="376920" cy="1508760"/>
          </a:xfrm>
          <a:prstGeom prst="bentConnector3">
            <a:avLst>
              <a:gd name="adj1" fmla="val 49713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97" name=""/>
          <p:cNvSpPr/>
          <p:nvPr/>
        </p:nvSpPr>
        <p:spPr>
          <a:xfrm>
            <a:off x="692280" y="3657600"/>
            <a:ext cx="774684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Toolpath and subtypes are mapped to AIM machining_tool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 base class was already completely map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apping table entries and corresponding AIM EXPRESS local rules for the sub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2" idx="2"/>
          </p:cNvCxnSpPr>
          <p:nvPr/>
        </p:nvCxnSpPr>
        <p:spPr>
          <a:xfrm flipH="1" rot="16200000">
            <a:off x="3883680" y="1136160"/>
            <a:ext cx="371880" cy="25282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149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Proces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10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support for the turning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  (version 1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1  (version 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 almost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s are straightforward and follow conventions established by the mill/drill mapp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UoFs, mapping tables, and updated AIM where rules for the turning model, updated in long/short forms, and clause 5.2 AIM entity descrip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XPRESS rules for some of the representation subtypes began to get a bit lengthy, so I abstracted the common idioms into new EXPRESS fun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y_[optional/required]_rep_i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y_[length/angle]_measure_rep_ite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212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297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Operation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5800" y="1900080"/>
            <a:ext cx="19807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440" y="2743200"/>
            <a:ext cx="21315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_type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743200"/>
            <a:ext cx="21513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lling_type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2"/>
            <a:endCxn id="104" idx="0"/>
          </p:cNvCxnSpPr>
          <p:nvPr/>
        </p:nvCxnSpPr>
        <p:spPr>
          <a:xfrm rot="5400000">
            <a:off x="2551320" y="1639080"/>
            <a:ext cx="457920" cy="17517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7" name=""/>
          <p:cNvCxnSpPr>
            <a:stCxn id="104" idx="2"/>
          </p:cNvCxnSpPr>
          <p:nvPr/>
        </p:nvCxnSpPr>
        <p:spPr>
          <a:xfrm flipH="1" rot="16200000">
            <a:off x="1751040" y="3282840"/>
            <a:ext cx="613440" cy="305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8" name=""/>
          <p:cNvCxnSpPr>
            <a:stCxn id="104" idx="2"/>
          </p:cNvCxnSpPr>
          <p:nvPr/>
        </p:nvCxnSpPr>
        <p:spPr>
          <a:xfrm flipH="1" rot="16200000">
            <a:off x="1485000" y="3548520"/>
            <a:ext cx="1145160" cy="305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9" name=""/>
          <p:cNvCxnSpPr>
            <a:stCxn id="105" idx="2"/>
          </p:cNvCxnSpPr>
          <p:nvPr/>
        </p:nvCxnSpPr>
        <p:spPr>
          <a:xfrm flipH="1" rot="16200000">
            <a:off x="4116600" y="3517560"/>
            <a:ext cx="1073520" cy="29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10" name=""/>
          <p:cNvCxnSpPr>
            <a:stCxn id="103" idx="2"/>
            <a:endCxn id="105" idx="0"/>
          </p:cNvCxnSpPr>
          <p:nvPr/>
        </p:nvCxnSpPr>
        <p:spPr>
          <a:xfrm flipH="1" rot="16200000">
            <a:off x="3851280" y="2089800"/>
            <a:ext cx="457920" cy="8499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11" name=""/>
          <p:cNvCxnSpPr>
            <a:stCxn id="105" idx="2"/>
          </p:cNvCxnSpPr>
          <p:nvPr/>
        </p:nvCxnSpPr>
        <p:spPr>
          <a:xfrm flipH="1" rot="16200000">
            <a:off x="4383000" y="3251160"/>
            <a:ext cx="540360" cy="29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12" name=""/>
          <p:cNvSpPr/>
          <p:nvPr/>
        </p:nvSpPr>
        <p:spPr>
          <a:xfrm>
            <a:off x="2932200" y="121932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2"/>
            <a:endCxn id="103" idx="0"/>
          </p:cNvCxnSpPr>
          <p:nvPr/>
        </p:nvCxnSpPr>
        <p:spPr>
          <a:xfrm flipV="1" rot="10800000">
            <a:off x="3655440" y="1604880"/>
            <a:ext cx="1080" cy="29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14" name=""/>
          <p:cNvSpPr/>
          <p:nvPr/>
        </p:nvSpPr>
        <p:spPr>
          <a:xfrm>
            <a:off x="5791320" y="18288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1600200"/>
            <a:ext cx="60984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2" idx="2"/>
            <a:endCxn id="115" idx="1"/>
          </p:cNvCxnSpPr>
          <p:nvPr/>
        </p:nvCxnSpPr>
        <p:spPr>
          <a:xfrm flipH="1" rot="16200000">
            <a:off x="4478040" y="782280"/>
            <a:ext cx="110520" cy="175464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2" idx="2"/>
            <a:endCxn id="114" idx="0"/>
          </p:cNvCxnSpPr>
          <p:nvPr/>
        </p:nvCxnSpPr>
        <p:spPr>
          <a:xfrm flipH="1" rot="16200000">
            <a:off x="4763160" y="496800"/>
            <a:ext cx="224640" cy="2440440"/>
          </a:xfrm>
          <a:prstGeom prst="bentConnector3">
            <a:avLst>
              <a:gd name="adj1" fmla="val 49598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118" name=""/>
          <p:cNvSpPr/>
          <p:nvPr/>
        </p:nvSpPr>
        <p:spPr>
          <a:xfrm>
            <a:off x="6477120" y="18288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2" idx="2"/>
            <a:endCxn id="118" idx="0"/>
          </p:cNvCxnSpPr>
          <p:nvPr/>
        </p:nvCxnSpPr>
        <p:spPr>
          <a:xfrm flipH="1" rot="16200000">
            <a:off x="5106960" y="153720"/>
            <a:ext cx="224640" cy="3126240"/>
          </a:xfrm>
          <a:prstGeom prst="bentConnector3">
            <a:avLst>
              <a:gd name="adj1" fmla="val 49598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120" name=""/>
          <p:cNvSpPr/>
          <p:nvPr/>
        </p:nvSpPr>
        <p:spPr>
          <a:xfrm flipH="1">
            <a:off x="1523880" y="1600200"/>
            <a:ext cx="60984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2" idx="2"/>
            <a:endCxn id="120" idx="3"/>
          </p:cNvCxnSpPr>
          <p:nvPr/>
        </p:nvCxnSpPr>
        <p:spPr>
          <a:xfrm rot="5400000">
            <a:off x="2840040" y="897480"/>
            <a:ext cx="108720" cy="152316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 flipH="1">
            <a:off x="720000" y="18288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2" idx="2"/>
            <a:endCxn id="122" idx="0"/>
          </p:cNvCxnSpPr>
          <p:nvPr/>
        </p:nvCxnSpPr>
        <p:spPr>
          <a:xfrm rot="5400000">
            <a:off x="2228040" y="401400"/>
            <a:ext cx="224640" cy="2631240"/>
          </a:xfrm>
          <a:prstGeom prst="bentConnector3">
            <a:avLst>
              <a:gd name="adj1" fmla="val 49598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124" name=""/>
          <p:cNvSpPr/>
          <p:nvPr/>
        </p:nvSpPr>
        <p:spPr>
          <a:xfrm>
            <a:off x="6021000" y="2743200"/>
            <a:ext cx="2167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turning_type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2"/>
          </p:cNvCxnSpPr>
          <p:nvPr/>
        </p:nvCxnSpPr>
        <p:spPr>
          <a:xfrm flipH="1" rot="16200000">
            <a:off x="6716880" y="3517560"/>
            <a:ext cx="1073520" cy="295560"/>
          </a:xfrm>
          <a:prstGeom prst="bentConnector2">
            <a:avLst/>
          </a:prstGeom>
          <a:ln w="25560">
            <a:solidFill>
              <a:srgbClr val="cf0e30"/>
            </a:solidFill>
            <a:miter/>
            <a:tailEnd len="med" type="oval" w="med"/>
          </a:ln>
        </p:spPr>
      </p:cxnSp>
      <p:cxnSp>
        <p:nvCxnSpPr>
          <p:cNvPr id="126" name=""/>
          <p:cNvCxnSpPr>
            <a:stCxn id="124" idx="2"/>
          </p:cNvCxnSpPr>
          <p:nvPr/>
        </p:nvCxnSpPr>
        <p:spPr>
          <a:xfrm flipH="1" rot="16200000">
            <a:off x="6983280" y="3251160"/>
            <a:ext cx="540360" cy="295560"/>
          </a:xfrm>
          <a:prstGeom prst="bentConnector2">
            <a:avLst/>
          </a:prstGeom>
          <a:ln w="25560">
            <a:solidFill>
              <a:srgbClr val="cf0e30"/>
            </a:solidFill>
            <a:miter/>
            <a:tailEnd len="med" type="oval" w="med"/>
          </a:ln>
        </p:spPr>
      </p:cxnSp>
      <p:cxnSp>
        <p:nvCxnSpPr>
          <p:cNvPr id="127" name=""/>
          <p:cNvCxnSpPr>
            <a:stCxn id="103" idx="2"/>
            <a:endCxn id="124" idx="0"/>
          </p:cNvCxnSpPr>
          <p:nvPr/>
        </p:nvCxnSpPr>
        <p:spPr>
          <a:xfrm flipH="1" rot="16200000">
            <a:off x="5152320" y="789480"/>
            <a:ext cx="457920" cy="34502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28" name=""/>
          <p:cNvSpPr/>
          <p:nvPr/>
        </p:nvSpPr>
        <p:spPr>
          <a:xfrm>
            <a:off x="3352680" y="4420440"/>
            <a:ext cx="2438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ral Sub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2280" y="4948200"/>
            <a:ext cx="774684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operations represented using several new AIM sub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with milling/drilling, attributes represented using a collection of action properti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dc:language>en-US</dc:language>
  <cp:lastModifiedBy>David Loffredo</cp:lastModifiedBy>
  <cp:lastPrinted>2001-08-16T01:33:48Z</cp:lastPrinted>
  <dcterms:modified xsi:type="dcterms:W3CDTF">2003-10-28T08:59:25Z</dcterms:modified>
  <cp:revision>460</cp:revision>
  <dc:subject/>
  <dc:title>STEP-NC Feature Harmonization</dc:title>
</cp:coreProperties>
</file>