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75789E-6510-4C12-8641-6363E326A46A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70280" y="795960"/>
            <a:ext cx="137628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AP-23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89760" y="2209680"/>
            <a:ext cx="3827880" cy="3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x Lipat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ff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914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1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for DIS ballot in-prep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inary for Fall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for Spring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 Level Documentation as per CD ballot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M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su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volume removal bound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352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last SC4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86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of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using advanced su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integration with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wide spread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X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source code in C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libraries, plus a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-Plan (AP-203 in, AP-238 ou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-Machine (AP-238 in for Mastercam and GibbsCA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0560" y="3106800"/>
            <a:ext cx="5000400" cy="2587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Planning (AP-2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2252520"/>
            <a:ext cx="4629240" cy="297504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ment Models (AP-2X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108160"/>
            <a:ext cx="4070520" cy="2649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pection Data and Results (AP-21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81200" y="2016000"/>
            <a:ext cx="3668760" cy="229104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 Operations 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6240" y="1920960"/>
            <a:ext cx="3086280" cy="200160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 features &amp; tolerances (AP-2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92200" y="1784520"/>
            <a:ext cx="2338560" cy="15174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 ed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995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37680" y="1893960"/>
            <a:ext cx="1125720" cy="82404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560" y="78912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islands of automation and create a Manufacturing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1440" y="6013440"/>
            <a:ext cx="65588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rid is a new concept that aims to build a national framewor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computing similar to the national grid for electr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9800" y="2308320"/>
            <a:ext cx="129636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year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38920" y="3649680"/>
            <a:ext cx="176868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 TFC184/S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g3/T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44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 (1999 –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423540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 and Associates (Gibbs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ric Technology Co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 Technology (Espr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tt &amp; Whitn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 Arm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4800" y="6121440"/>
            <a:ext cx="548136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ST ATP (1999-2002) and Industry Funded (2002-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011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mplementation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040" y="1271160"/>
            <a:ext cx="776916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am participants show STEP-NC making production parts on multip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D featur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2 to 11/30/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2 to 5/31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ng deplo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3 to 11/30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3 to 5/31/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2 goals for NIST demo on June 4 and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22400" y="3828960"/>
            <a:ext cx="380844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as attach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on th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tional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mg" descr=""/>
          <p:cNvPicPr/>
          <p:nvPr/>
        </p:nvPicPr>
        <p:blipFill>
          <a:blip r:embed="rId1"/>
          <a:stretch/>
        </p:blipFill>
        <p:spPr>
          <a:xfrm>
            <a:off x="4987800" y="38671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46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Surf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3360" y="926640"/>
            <a:ext cx="776916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llows enterprises to define surfaces as Parametric Evaluation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of surface can be included in STEP-NC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and context of each surfacing operation in sequence is defined as a STEP-NC working 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final_block" descr=""/>
          <p:cNvPicPr/>
          <p:nvPr/>
        </p:nvPicPr>
        <p:blipFill>
          <a:blip r:embed="rId1"/>
          <a:stretch/>
        </p:blipFill>
        <p:spPr>
          <a:xfrm>
            <a:off x="1503360" y="3084480"/>
            <a:ext cx="6172200" cy="350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716240" y="360036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8280" y="3668760"/>
            <a:ext cx="2044800" cy="485640"/>
          </a:xfrm>
          <a:prstGeom prst="leftArrow">
            <a:avLst>
              <a:gd name="adj1" fmla="val 50000"/>
              <a:gd name="adj2" fmla="val 105263"/>
            </a:avLst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670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igent Prob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4560" y="1168200"/>
            <a:ext cx="7972560" cy="42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makes probing easier to program because it defines explicit parameters for manufacturing features and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comm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e and m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lexible manufactur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feature parameters and adjust volume before machining st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e and compens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creased accurac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ast finishing step and use result to adjust finish allowance for final machining of fe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e and set coordin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aster setu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location of part using a feature and use to set coordinat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1178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3360" y="927000"/>
            <a:ext cx="7769160" cy="32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s design data into manufacturing contro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in conjunction with Honeywell FM&amp;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s manufacturing control data into optimal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in conjunction with Mastercam and Gibbs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en source library for implementing STEP-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in conjunction with leading enterpri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9080" y="4773600"/>
            <a:ext cx="1148400" cy="642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35640" y="4913280"/>
            <a:ext cx="1463760" cy="368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2" idx="3"/>
            <a:endCxn id="79" idx="1"/>
          </p:cNvCxnSpPr>
          <p:nvPr/>
        </p:nvCxnSpPr>
        <p:spPr>
          <a:xfrm>
            <a:off x="2201400" y="5095800"/>
            <a:ext cx="121860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80" idx="1"/>
            <a:endCxn id="79" idx="3"/>
          </p:cNvCxnSpPr>
          <p:nvPr/>
        </p:nvCxnSpPr>
        <p:spPr>
          <a:xfrm flipH="1" flipV="1">
            <a:off x="4606200" y="5103000"/>
            <a:ext cx="170892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1109880" y="4917960"/>
            <a:ext cx="106920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58080" y="47926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2920" y="47829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7280" y="4586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65520" y="5572080"/>
            <a:ext cx="1378800" cy="736200"/>
          </a:xfrm>
          <a:prstGeom prst="diamond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0" idx="3"/>
            <a:endCxn id="87" idx="3"/>
          </p:cNvCxnSpPr>
          <p:nvPr/>
        </p:nvCxnSpPr>
        <p:spPr>
          <a:xfrm flipH="1">
            <a:off x="7673400" y="5106960"/>
            <a:ext cx="146520" cy="797760"/>
          </a:xfrm>
          <a:prstGeom prst="bentConnector3">
            <a:avLst>
              <a:gd name="adj1" fmla="val -1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7" idx="1"/>
            <a:endCxn id="80" idx="1"/>
          </p:cNvCxnSpPr>
          <p:nvPr/>
        </p:nvCxnSpPr>
        <p:spPr>
          <a:xfrm rot="10800000">
            <a:off x="6314400" y="5106240"/>
            <a:ext cx="121320" cy="797760"/>
          </a:xfrm>
          <a:prstGeom prst="bentConnector3">
            <a:avLst>
              <a:gd name="adj1" fmla="val 28154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236640" y="61578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62560" y="436104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on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 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>
            <a:off x="3362400" y="2895480"/>
            <a:ext cx="993600" cy="61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4800" y="2589120"/>
            <a:ext cx="0" cy="76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666880"/>
            <a:ext cx="1146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22360" y="3584520"/>
            <a:ext cx="53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1480" y="3473280"/>
            <a:ext cx="304560" cy="152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8840" y="3701880"/>
            <a:ext cx="304920" cy="152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70080" y="3701880"/>
            <a:ext cx="306360" cy="152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0" y="3890880"/>
            <a:ext cx="912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4800" y="442584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62400" y="4043520"/>
            <a:ext cx="1069920" cy="45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44760" y="3660840"/>
            <a:ext cx="458280" cy="610920"/>
            <a:chOff x="2444760" y="3660840"/>
            <a:chExt cx="458280" cy="610920"/>
          </a:xfrm>
        </p:grpSpPr>
        <p:sp>
          <p:nvSpPr>
            <p:cNvPr id="103" name=""/>
            <p:cNvSpPr/>
            <p:nvPr/>
          </p:nvSpPr>
          <p:spPr>
            <a:xfrm flipH="1">
              <a:off x="2444760" y="366084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6720" y="3660840"/>
              <a:ext cx="7632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73720" y="3660840"/>
              <a:ext cx="0" cy="61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37200" y="2819520"/>
            <a:ext cx="83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89840" y="5495760"/>
            <a:ext cx="83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43600" y="4349880"/>
            <a:ext cx="458280" cy="610560"/>
            <a:chOff x="5043600" y="4349880"/>
            <a:chExt cx="458280" cy="610560"/>
          </a:xfrm>
        </p:grpSpPr>
        <p:sp>
          <p:nvSpPr>
            <p:cNvPr id="109" name=""/>
            <p:cNvSpPr/>
            <p:nvPr/>
          </p:nvSpPr>
          <p:spPr>
            <a:xfrm flipH="1">
              <a:off x="5043600" y="4349880"/>
              <a:ext cx="76320" cy="61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5560" y="4349880"/>
              <a:ext cx="76320" cy="61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2560" y="4349880"/>
              <a:ext cx="0" cy="61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432320" y="3660840"/>
            <a:ext cx="1604880" cy="689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04720" y="5035320"/>
            <a:ext cx="2236320" cy="826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8600" y="4730760"/>
            <a:ext cx="12175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, Profi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r, Bot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37200" y="4043520"/>
            <a:ext cx="83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953400" y="3736800"/>
            <a:ext cx="686880" cy="612720"/>
            <a:chOff x="6953400" y="3736800"/>
            <a:chExt cx="686880" cy="612720"/>
          </a:xfrm>
        </p:grpSpPr>
        <p:sp>
          <p:nvSpPr>
            <p:cNvPr id="117" name=""/>
            <p:cNvSpPr/>
            <p:nvPr/>
          </p:nvSpPr>
          <p:spPr>
            <a:xfrm>
              <a:off x="7335360" y="3813120"/>
              <a:ext cx="304920" cy="15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5360" y="4119840"/>
              <a:ext cx="30492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3400" y="373680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3400" y="419652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720" y="396648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601400" y="3660840"/>
            <a:ext cx="1263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e geomet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3440" y="534348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29360" y="5572080"/>
            <a:ext cx="306360" cy="15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12040" y="5572080"/>
            <a:ext cx="304920" cy="15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17320" y="5302080"/>
            <a:ext cx="100872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0920" y="2423880"/>
            <a:ext cx="135468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720" y="2577240"/>
            <a:ext cx="18925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5760" y="3348000"/>
            <a:ext cx="173376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838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Open Source library for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3360" y="1082160"/>
            <a:ext cx="776916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to define probing and surfacing operations, and implement dynamic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376280" y="454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6840" y="4306680"/>
            <a:ext cx="173124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3600" y="4437000"/>
            <a:ext cx="304920" cy="154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1320" y="466740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2200" y="4667400"/>
            <a:ext cx="3067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520" y="4854600"/>
            <a:ext cx="1534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ing pa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953400" y="2513160"/>
            <a:ext cx="686880" cy="612360"/>
            <a:chOff x="6953400" y="2513160"/>
            <a:chExt cx="686880" cy="612360"/>
          </a:xfrm>
        </p:grpSpPr>
        <p:sp>
          <p:nvSpPr>
            <p:cNvPr id="139" name=""/>
            <p:cNvSpPr/>
            <p:nvPr/>
          </p:nvSpPr>
          <p:spPr>
            <a:xfrm>
              <a:off x="7335360" y="2589480"/>
              <a:ext cx="304920" cy="15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35360" y="2895840"/>
              <a:ext cx="30492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53400" y="251316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53400" y="297252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29720" y="2742840"/>
              <a:ext cx="305280" cy="153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26240" y="2535120"/>
            <a:ext cx="123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,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,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72200" y="3049560"/>
            <a:ext cx="0" cy="611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3280" y="5543640"/>
            <a:ext cx="53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11400" y="5302080"/>
            <a:ext cx="11239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0600" y="5432400"/>
            <a:ext cx="3063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8320" y="5662440"/>
            <a:ext cx="306360" cy="152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1000" y="5662440"/>
            <a:ext cx="304560" cy="152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6320" y="5850000"/>
            <a:ext cx="15865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67320" y="3249720"/>
            <a:ext cx="5911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3-06-23T12:03:00Z</dcterms:modified>
  <cp:revision>815</cp:revision>
  <dc:subject/>
  <dc:title>STEP-NC: Digital Manufacturing using STEP</dc:title>
</cp:coreProperties>
</file>