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720" y="0"/>
            <a:ext cx="841320" cy="676440"/>
            <a:chOff x="-720" y="0"/>
            <a:chExt cx="841320" cy="676440"/>
          </a:xfrm>
        </p:grpSpPr>
        <p:sp>
          <p:nvSpPr>
            <p:cNvPr id="3" name=""/>
            <p:cNvSpPr/>
            <p:nvPr/>
          </p:nvSpPr>
          <p:spPr>
            <a:xfrm>
              <a:off x="12960" y="0"/>
              <a:ext cx="812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S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-720" y="435240"/>
              <a:ext cx="8413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C 184/SC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681120" y="6553080"/>
            <a:ext cx="778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 TC184/SC4/WG3 Stuttgart N000 2003-06-0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fld id="{A2C84603-D91A-4C7F-A327-EB184B3EE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 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ick@steptool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u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aki Sakam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aki_sakamoto@paw.hi-ho.ne.j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minimil" descr=""/>
          <p:cNvPicPr/>
          <p:nvPr/>
        </p:nvPicPr>
        <p:blipFill>
          <a:blip r:embed="rId1"/>
          <a:stretch/>
        </p:blipFill>
        <p:spPr>
          <a:xfrm>
            <a:off x="4933800" y="2057400"/>
            <a:ext cx="4210200" cy="4800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plishments since San D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19 NWI in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38 DIS in p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40 DIS in p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tepnc-smp-part" descr=""/>
          <p:cNvPicPr/>
          <p:nvPr/>
        </p:nvPicPr>
        <p:blipFill>
          <a:blip r:embed="rId2"/>
          <a:stretch/>
        </p:blipFill>
        <p:spPr>
          <a:xfrm>
            <a:off x="457200" y="4876920"/>
            <a:ext cx="190512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 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for Stuttg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ize the AIM vs ARM resolution for STEP-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AP informatio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 with Ship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 with Para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 with SC1/Wg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on ProSTEP model for Production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on possible new integrated resources for manufact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 for Stuttg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day, 2003-03-10, 1300-1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minute updates on all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on Integrated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on Production Facil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esday, 2003-03-11, 0800-1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-224 review &amp; AIC 522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meeting with Parametrics on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-219 Inspection data and results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-238 Integrated CNC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 for Stuttgart 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nesday, 2003-03-12, 1030-1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-240 Process Planning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nesday, 2003-03-12, 1300-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-240 Process Planning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nesday, 2003-03-12, 1530-1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with Implementors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on the STEP Index Libraries for STEP-NC and the Manufacturing 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 for Stuttgart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rsday, 2003-03-13, 0800-10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 meeting with ship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rsday, 2003-03-12, 1030-17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 meeting with SC1/Wg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4649-111 Tools for Milling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4649-12  Data for Turn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4649-121 Tools for Turn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4649-13 Data for Wire-E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4649-14 Data for Sink-ED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4649-15 Wood, glass and stone cutting and conto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data for measuring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data for machining cen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rald Radack</dc:creator>
  <dc:description/>
  <dc:language>en-US</dc:language>
  <cp:lastModifiedBy>hardwick</cp:lastModifiedBy>
  <cp:lastPrinted>1999-06-02T13:49:47Z</cp:lastPrinted>
  <dcterms:modified xsi:type="dcterms:W3CDTF">2003-06-11T20:20:10Z</dcterms:modified>
  <cp:revision>133</cp:revision>
  <dc:subject/>
  <dc:title>WG3 Presentation to SC4 Opening Plenary</dc:title>
</cp:coreProperties>
</file>