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8A02-2ADE-465D-AF47-D91B2168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icit base shape has additional information to indicate if the base shape is a casting, forging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ssist the down stream process planning determine with addition information about the initial shape of the st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Parts Library (PLIB) will allow the use of standard fasteners for assemblies.  Examples of Fasteners would be bolds, screws, wash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224 defines the mating condition where two parts interact with one another.  This mating condition could be a nut and bolt fastener, with a definition of the nut and bolt found in PLI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ar feature has been added as a new AP224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down of gear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ur gears / gearsha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al gears / gearsha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vel gears / gearsha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 gears / gearsha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 quad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s &amp; 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d on Spur, Helical, and Bevel.  They are the most common and represent a high percentag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ars being manufa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003-D2E4-4AC9-BF9E-A2D6C6E0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278-D566-4472-8CC3-64B0248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6AD-9156-4D09-8406-D6D2EB0C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4B7-AAA7-4C71-B609-607705BD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E5A-94BE-4375-A304-B1E2327C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22B-32C3-4FC6-A0C9-8F47E20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C5E-E67F-4CFF-ADFA-36EEED9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DC4-E393-4F39-9C23-00871B27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EFA-793D-438A-8F8D-C596D56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B65-DA05-4E4D-A37F-229535A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623-9E87-4A4F-8747-22CB74C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26D-3A8A-4D9C-9E5A-17E64E57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132A-0239-49F0-8283-6ECBA844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19120" cy="74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762120"/>
            <a:ext cx="8001000" cy="228600"/>
          </a:xfrm>
          <a:custGeom>
            <a:avLst/>
            <a:gdLst>
              <a:gd name="textAreaLeft" fmla="*/ 365040 w 8001000"/>
              <a:gd name="textAreaRight" fmla="*/ 8366400 w 80010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986" y="4459"/>
                </a:moveTo>
                <a:cubicBezTo>
                  <a:pt x="7693" y="-11337"/>
                  <a:pt x="14893" y="20255"/>
                  <a:pt x="21600" y="4459"/>
                </a:cubicBezTo>
                <a:lnTo>
                  <a:pt x="20614" y="17141"/>
                </a:lnTo>
                <a:cubicBezTo>
                  <a:pt x="13907" y="32937"/>
                  <a:pt x="6707" y="1345"/>
                  <a:pt x="0" y="17141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the Standard for the Exchange of Product Model Data – STEP ISO 10303-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29000" y="5562720"/>
            <a:ext cx="2133720" cy="1123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Bill Free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Len Sloven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43)760-379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3)383-8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freeman@scra.org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lovensky@scra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www.nist.gov/sc5/soa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www.isg-scra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184/SC4/WG3/T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base shape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plicit_base_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tion to indicate type of explicit shape,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chined from Forgings and Ca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chined from Aluminum Plate or Block (Hog O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chined from Aluminum Extr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37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438280" cy="1963800"/>
          </a:xfrm>
          <a:prstGeom prst="rect">
            <a:avLst/>
          </a:prstGeom>
          <a:ln w="0">
            <a:noFill/>
          </a:ln>
        </p:spPr>
      </p:pic>
      <p:pic>
        <p:nvPicPr>
          <p:cNvPr id="57" name="25" descr=""/>
          <p:cNvPicPr/>
          <p:nvPr/>
        </p:nvPicPr>
        <p:blipFill>
          <a:blip r:embed="rId2"/>
          <a:stretch/>
        </p:blipFill>
        <p:spPr>
          <a:xfrm>
            <a:off x="0" y="5308560"/>
            <a:ext cx="4648320" cy="1549440"/>
          </a:xfrm>
          <a:prstGeom prst="rect">
            <a:avLst/>
          </a:prstGeom>
          <a:ln w="0">
            <a:noFill/>
          </a:ln>
        </p:spPr>
      </p:pic>
      <p:pic>
        <p:nvPicPr>
          <p:cNvPr id="58" name="27" descr=""/>
          <p:cNvPicPr/>
          <p:nvPr/>
        </p:nvPicPr>
        <p:blipFill>
          <a:blip r:embed="rId3"/>
          <a:stretch/>
        </p:blipFill>
        <p:spPr>
          <a:xfrm>
            <a:off x="6672240" y="4867200"/>
            <a:ext cx="24717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 of parts for manufactur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tandard part fasteners to the mating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24 will reference a parts library (PLIB) that contains fasteners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washers" descr=""/>
          <p:cNvPicPr/>
          <p:nvPr/>
        </p:nvPicPr>
        <p:blipFill>
          <a:blip r:embed="rId1"/>
          <a:stretch/>
        </p:blipFill>
        <p:spPr>
          <a:xfrm>
            <a:off x="6172200" y="4808520"/>
            <a:ext cx="2971800" cy="2049480"/>
          </a:xfrm>
          <a:prstGeom prst="rect">
            <a:avLst/>
          </a:prstGeom>
          <a:ln w="0">
            <a:noFill/>
          </a:ln>
        </p:spPr>
      </p:pic>
      <p:pic>
        <p:nvPicPr>
          <p:cNvPr id="61" name="socket_screw_products" descr=""/>
          <p:cNvPicPr/>
          <p:nvPr/>
        </p:nvPicPr>
        <p:blipFill>
          <a:blip r:embed="rId2"/>
          <a:stretch/>
        </p:blipFill>
        <p:spPr>
          <a:xfrm>
            <a:off x="3048120" y="4781520"/>
            <a:ext cx="300996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screw_machines" descr=""/>
          <p:cNvPicPr/>
          <p:nvPr/>
        </p:nvPicPr>
        <p:blipFill>
          <a:blip r:embed="rId3"/>
          <a:stretch/>
        </p:blipFill>
        <p:spPr>
          <a:xfrm>
            <a:off x="0" y="4572000"/>
            <a:ext cx="3314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Part fasteners (AP224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181480" y="1371600"/>
          <a:ext cx="3962520" cy="224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371600"/>
                    <a:ext cx="396252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feature (AP224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l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r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cal g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ear-spur" descr=""/>
          <p:cNvPicPr/>
          <p:nvPr/>
        </p:nvPicPr>
        <p:blipFill>
          <a:blip r:embed="rId1"/>
          <a:stretch/>
        </p:blipFill>
        <p:spPr>
          <a:xfrm>
            <a:off x="5257800" y="4264200"/>
            <a:ext cx="3886200" cy="2593800"/>
          </a:xfrm>
          <a:prstGeom prst="rect">
            <a:avLst/>
          </a:prstGeom>
          <a:ln w="0">
            <a:noFill/>
          </a:ln>
        </p:spPr>
      </p:pic>
      <p:pic>
        <p:nvPicPr>
          <p:cNvPr id="69" name="gear-bevel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124080" cy="2678040"/>
          </a:xfrm>
          <a:prstGeom prst="rect">
            <a:avLst/>
          </a:prstGeom>
          <a:ln w="0">
            <a:noFill/>
          </a:ln>
        </p:spPr>
      </p:pic>
      <p:pic>
        <p:nvPicPr>
          <p:cNvPr id="70" name="gear-helical1" descr=""/>
          <p:cNvPicPr/>
          <p:nvPr/>
        </p:nvPicPr>
        <p:blipFill>
          <a:blip r:embed="rId3"/>
          <a:stretch/>
        </p:blipFill>
        <p:spPr>
          <a:xfrm>
            <a:off x="5384880" y="1600200"/>
            <a:ext cx="37591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4" descr=""/>
          <p:cNvPicPr/>
          <p:nvPr/>
        </p:nvPicPr>
        <p:blipFill>
          <a:blip r:embed="rId1"/>
          <a:stretch/>
        </p:blipFill>
        <p:spPr>
          <a:xfrm>
            <a:off x="1219320" y="1574640"/>
            <a:ext cx="7924680" cy="5283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224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553080" cy="251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224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 and AIC522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 documents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review – underway (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review – underway (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 ballot start before October ISO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4:11:15Z</dcterms:created>
  <dc:creator>Len</dc:creator>
  <dc:description/>
  <dc:language>en-US</dc:language>
  <cp:lastModifiedBy>Len</cp:lastModifiedBy>
  <dcterms:modified xsi:type="dcterms:W3CDTF">2003-07-08T12:26:40Z</dcterms:modified>
  <cp:revision>47</cp:revision>
  <dc:subject/>
  <dc:title>Common base AP’s are built on</dc:title>
</cp:coreProperties>
</file>