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A1F0EC9-D237-4DEF-BFF6-E606DCC2A4EE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3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1493640"/>
            <a:ext cx="5187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The STIX Libr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9040" y="2998800"/>
            <a:ext cx="5173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-238 Direct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343400"/>
            <a:ext cx="517356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Loffr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ffredo@steptool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ptools_logo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340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irect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46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building a library of STEP-NC access and calculation code to simplify programming directly against AP-23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from detailed C++ applications or from lightweight COM/VB applic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STIX, for STEP Index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riting applications against AP-238 quickly and from different environ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care of most common access paths and calcul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more geometric calculation than possible with EX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for update path to modify AP-238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685800" y="2819520"/>
            <a:ext cx="7746840" cy="3657600"/>
            <a:chOff x="685800" y="2819520"/>
            <a:chExt cx="7746840" cy="3657600"/>
          </a:xfrm>
        </p:grpSpPr>
        <p:grpSp>
          <p:nvGrpSpPr>
            <p:cNvPr id="52" name=""/>
            <p:cNvGrpSpPr/>
            <p:nvPr/>
          </p:nvGrpSpPr>
          <p:grpSpPr>
            <a:xfrm>
              <a:off x="2209680" y="3429000"/>
              <a:ext cx="5943600" cy="3048120"/>
              <a:chOff x="2209680" y="3429000"/>
              <a:chExt cx="5943600" cy="3048120"/>
            </a:xfrm>
          </p:grpSpPr>
          <p:sp>
            <p:nvSpPr>
              <p:cNvPr id="53" name=""/>
              <p:cNvSpPr/>
              <p:nvPr/>
            </p:nvSpPr>
            <p:spPr>
              <a:xfrm>
                <a:off x="2209680" y="3429000"/>
                <a:ext cx="5943600" cy="30481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7440" y="3876840"/>
                <a:ext cx="72792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hel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685800" y="2819520"/>
              <a:ext cx="774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lvl="1" marL="68436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ap with COM interface for lightweight application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824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— STEP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222200"/>
            <a:ext cx="7746840" cy="41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direct interface to the AP-238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581280"/>
            <a:ext cx="1752480" cy="266724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94040" y="5846760"/>
            <a:ext cx="243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4960" y="5867280"/>
            <a:ext cx="196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tional AIM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657600"/>
            <a:ext cx="1295280" cy="26668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1643040"/>
            <a:ext cx="7746840" cy="3919680"/>
            <a:chOff x="685800" y="1643040"/>
            <a:chExt cx="7746840" cy="3919680"/>
          </a:xfrm>
        </p:grpSpPr>
        <p:grpSp>
          <p:nvGrpSpPr>
            <p:cNvPr id="63" name=""/>
            <p:cNvGrpSpPr/>
            <p:nvPr/>
          </p:nvGrpSpPr>
          <p:grpSpPr>
            <a:xfrm>
              <a:off x="4457880" y="3657600"/>
              <a:ext cx="1676160" cy="1905120"/>
              <a:chOff x="4457880" y="3657600"/>
              <a:chExt cx="1676160" cy="1905120"/>
            </a:xfrm>
          </p:grpSpPr>
          <p:sp>
            <p:nvSpPr>
              <p:cNvPr id="64" name=""/>
              <p:cNvSpPr/>
              <p:nvPr/>
            </p:nvSpPr>
            <p:spPr>
              <a:xfrm>
                <a:off x="4457880" y="5105520"/>
                <a:ext cx="167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57880" y="4648320"/>
                <a:ext cx="167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57880" y="4191120"/>
                <a:ext cx="167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29200" y="3657600"/>
                <a:ext cx="533520" cy="1905120"/>
              </a:xfrm>
              <a:custGeom>
                <a:avLst/>
                <a:gdLst>
                  <a:gd name="textAreaLeft" fmla="*/ 25920 w 533520"/>
                  <a:gd name="textAreaRight" fmla="*/ 507600 w 533520"/>
                  <a:gd name="textAreaTop" fmla="*/ 25920 h 1905120"/>
                  <a:gd name="textAreaBottom" fmla="*/ 1879200 h 1905120"/>
                </a:gdLst>
                <a:ahLst/>
                <a:rect l="textAreaLeft" t="textAreaTop" r="textAreaRight" b="textAreaBottom"/>
                <a:pathLst>
                  <a:path w="21600" h="77093">
                    <a:moveTo>
                      <a:pt x="3600" y="0"/>
                    </a:moveTo>
                    <a:arcTo wR="3600" hR="3600" stAng="16200000" swAng="-5400000"/>
                    <a:lnTo>
                      <a:pt x="0" y="73493"/>
                    </a:lnTo>
                    <a:arcTo wR="3600" hR="3600" stAng="10800000" swAng="-5400000"/>
                    <a:lnTo>
                      <a:pt x="18000" y="7709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de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5800" y="1643040"/>
              <a:ext cx="7746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lvl="1" marL="68436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d and build in-memory indices and backpointers on the AP-238 data for speed of processin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30560"/>
            <a:ext cx="7746840" cy="3332160"/>
            <a:chOff x="685800" y="2230560"/>
            <a:chExt cx="7746840" cy="3332160"/>
          </a:xfrm>
        </p:grpSpPr>
        <p:sp>
          <p:nvSpPr>
            <p:cNvPr id="70" name=""/>
            <p:cNvSpPr/>
            <p:nvPr/>
          </p:nvSpPr>
          <p:spPr>
            <a:xfrm>
              <a:off x="3581280" y="3657600"/>
              <a:ext cx="838440" cy="1905120"/>
            </a:xfrm>
            <a:custGeom>
              <a:avLst/>
              <a:gdLst>
                <a:gd name="textAreaLeft" fmla="*/ 40680 w 838440"/>
                <a:gd name="textAreaRight" fmla="*/ 797760 w 838440"/>
                <a:gd name="textAreaTop" fmla="*/ 40680 h 1905120"/>
                <a:gd name="textAreaBottom" fmla="*/ 1864440 h 1905120"/>
              </a:gdLst>
              <a:ahLst/>
              <a:rect l="textAreaLeft" t="textAreaTop" r="textAreaRight" b="textAreaBottom"/>
              <a:pathLst>
                <a:path w="21600" h="49068">
                  <a:moveTo>
                    <a:pt x="3600" y="0"/>
                  </a:moveTo>
                  <a:arcTo wR="3600" hR="3600" stAng="16200000" swAng="-5400000"/>
                  <a:lnTo>
                    <a:pt x="0" y="45468"/>
                  </a:lnTo>
                  <a:arcTo wR="3600" hR="3600" stAng="10800000" swAng="-5400000"/>
                  <a:lnTo>
                    <a:pt x="18000" y="490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++  A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2230560"/>
              <a:ext cx="7746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lvl="1" marL="68436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lify use of AP-238 data by providing API to common access paths and calculations.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flipV="1">
            <a:off x="3352680" y="3504960"/>
            <a:ext cx="9907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2004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3276720"/>
            <a:ext cx="114300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419120" y="41911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8240" y="407988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5960" y="4308480"/>
            <a:ext cx="3045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66840" y="430848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7760" y="4495680"/>
            <a:ext cx="909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up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5029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52680" y="4648320"/>
            <a:ext cx="10670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438280" y="4267080"/>
            <a:ext cx="457200" cy="609480"/>
            <a:chOff x="2438280" y="4267080"/>
            <a:chExt cx="457200" cy="609480"/>
          </a:xfrm>
        </p:grpSpPr>
        <p:sp>
          <p:nvSpPr>
            <p:cNvPr id="83" name=""/>
            <p:cNvSpPr/>
            <p:nvPr/>
          </p:nvSpPr>
          <p:spPr>
            <a:xfrm flipH="1">
              <a:off x="2438280" y="4267080"/>
              <a:ext cx="763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9160" y="4267080"/>
              <a:ext cx="763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26708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19920" y="34290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60958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29200" y="4952880"/>
            <a:ext cx="457200" cy="609480"/>
            <a:chOff x="5029200" y="4952880"/>
            <a:chExt cx="457200" cy="609480"/>
          </a:xfrm>
        </p:grpSpPr>
        <p:sp>
          <p:nvSpPr>
            <p:cNvPr id="89" name=""/>
            <p:cNvSpPr/>
            <p:nvPr/>
          </p:nvSpPr>
          <p:spPr>
            <a:xfrm flipH="1">
              <a:off x="5029200" y="4952880"/>
              <a:ext cx="763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10080" y="4952880"/>
              <a:ext cx="763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495288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419720" y="4267080"/>
            <a:ext cx="160020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3200" y="5633640"/>
            <a:ext cx="2231280" cy="82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3120" y="5334120"/>
            <a:ext cx="1213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, Profi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er, Bot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46483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934320" y="4343400"/>
            <a:ext cx="685800" cy="609480"/>
            <a:chOff x="6934320" y="4343400"/>
            <a:chExt cx="685800" cy="609480"/>
          </a:xfrm>
        </p:grpSpPr>
        <p:sp>
          <p:nvSpPr>
            <p:cNvPr id="97" name=""/>
            <p:cNvSpPr/>
            <p:nvPr/>
          </p:nvSpPr>
          <p:spPr>
            <a:xfrm>
              <a:off x="7315560" y="4419360"/>
              <a:ext cx="304560" cy="15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5560" y="4724280"/>
              <a:ext cx="30456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434340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34320" y="480060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0640" y="457200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580880" y="4267080"/>
            <a:ext cx="1259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ient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e geomet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5943600"/>
            <a:ext cx="3045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617220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6172200"/>
            <a:ext cx="3045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96800" y="5902200"/>
            <a:ext cx="1005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3720" y="3034440"/>
            <a:ext cx="135324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15680" y="3186720"/>
            <a:ext cx="189180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9280" y="3955680"/>
            <a:ext cx="173232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14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 and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13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to access major concepts, relations, an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AIM experts will find this saves time.  Already traverses through the property definitions, reps, rep item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3080" y="4910760"/>
            <a:ext cx="3097800" cy="805320"/>
            <a:chOff x="433080" y="4910760"/>
            <a:chExt cx="3097800" cy="805320"/>
          </a:xfrm>
        </p:grpSpPr>
        <p:sp>
          <p:nvSpPr>
            <p:cNvPr id="113" name=""/>
            <p:cNvSpPr/>
            <p:nvPr/>
          </p:nvSpPr>
          <p:spPr>
            <a:xfrm flipH="1">
              <a:off x="1371600" y="51530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01080" y="4910760"/>
              <a:ext cx="1729800" cy="47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st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0720" y="5041800"/>
              <a:ext cx="304560" cy="15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5270400"/>
              <a:ext cx="304920" cy="15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5270400"/>
              <a:ext cx="304560" cy="15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3080" y="5457960"/>
              <a:ext cx="1531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chining pa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934320" y="3124080"/>
            <a:ext cx="685800" cy="609480"/>
            <a:chOff x="6934320" y="3124080"/>
            <a:chExt cx="685800" cy="609480"/>
          </a:xfrm>
        </p:grpSpPr>
        <p:sp>
          <p:nvSpPr>
            <p:cNvPr id="120" name=""/>
            <p:cNvSpPr/>
            <p:nvPr/>
          </p:nvSpPr>
          <p:spPr>
            <a:xfrm>
              <a:off x="7315560" y="3200040"/>
              <a:ext cx="304560" cy="15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5560" y="3504960"/>
              <a:ext cx="30456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34320" y="312408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34320" y="358128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640" y="335268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605720" y="3146400"/>
            <a:ext cx="12337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ck,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,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6576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668240" y="614376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04200" y="5901480"/>
            <a:ext cx="112248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87360" y="603252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35080" y="626112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5960" y="626112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4880" y="6448320"/>
            <a:ext cx="1582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9040" y="3857760"/>
            <a:ext cx="587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6923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5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C++ Library available for download since M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urce GPL licensing, all source code available for download on STIX home pag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http:// www.steptools.com/st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functions well developed, some progress on creation and validation capabil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COM wrapper component now operat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used in ST-Machine for Mastercam and GibbsCA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d with STEP-NC view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quirement for ST-Develo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e for Visual Basic quick access to AP-238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5:58:55Z</dcterms:created>
  <dc:creator>David Loffredo</dc:creator>
  <dc:description/>
  <dc:language>en-US</dc:language>
  <cp:lastModifiedBy>hardwick</cp:lastModifiedBy>
  <dcterms:modified xsi:type="dcterms:W3CDTF">2003-06-25T12:02:22Z</dcterms:modified>
  <cp:revision>213</cp:revision>
  <dc:subject/>
  <dc:title>STIX Interface</dc:title>
</cp:coreProperties>
</file>