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B00-5ABD-450E-B239-4A0ADF5A7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792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92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5840" y="4349520"/>
            <a:ext cx="5026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1351080" y="804960"/>
            <a:ext cx="4284720" cy="3213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33720" y="4876920"/>
                <a:ext cx="1295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pic>
        <p:nvPicPr>
          <p:cNvPr id="161" name="Pressure_angle%202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2152800" cy="15048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9DB-554F-4E82-B4AF-518F7E0A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299-DA83-47AA-8ACE-DA41B65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86A-7790-496D-BF5F-57EA6F49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BF4-3098-4FA6-A430-5D036C02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12C-FB4C-4CF0-A415-44CBBD56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B07-B549-4FB2-A73B-6A4FF643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166-E42F-45DB-89E3-6A1CC066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6E6-6949-4097-8197-C53B8B6C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215-25A5-4AE7-9B5A-092501A0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C5A-362A-4560-B8E8-79691C4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7C2-84E8-460A-AA17-520DA7A5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30A-2C1B-4D3F-AD90-C78C254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866F-474E-4A73-A5E0-8A024462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sc" descr=""/>
          <p:cNvPicPr/>
          <p:nvPr/>
        </p:nvPicPr>
        <p:blipFill>
          <a:blip r:embed="rId2"/>
          <a:stretch/>
        </p:blipFill>
        <p:spPr>
          <a:xfrm>
            <a:off x="685800" y="6095880"/>
            <a:ext cx="355284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32600" y="6091200"/>
            <a:ext cx="26017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95560" y="2901960"/>
            <a:ext cx="6438960" cy="18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24000" indent="-324000" algn="ctr">
              <a:spcBef>
                <a:spcPts val="11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224 edition 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 algn="ctr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 algn="ctr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an Crawf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 algn="ctr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 algn="ctr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esday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une 20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 algn="ctr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ttga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Tooth For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volu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common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ully defined by reference to r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utters can be cheaply produ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sy to obtain correct intermes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lerant of centre distance vari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Gear Typ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ur and helical ge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oadest application do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llel shafting gear tra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de range of velocity rat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 speed and load capac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ideration in representation to be given to future extension to include other gear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view of representation of spur &amp; helical gear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ecification of basic geome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umber of teeth 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rmal module 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ference pressure angle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ack shift factor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minal tooth depth 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h/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ace width 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ip diameter 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411264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 dissimilar to (but more complex than) data required to specify screw threads, knu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P224 Gear Fea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pe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lindrical g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olute tee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ur &amp; helical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 informatio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 1122-1: Definitions related to geom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mbols consistent with AGMA &amp; AN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Helical_gear" descr=""/>
          <p:cNvPicPr/>
          <p:nvPr/>
        </p:nvPicPr>
        <p:blipFill>
          <a:blip r:embed="rId1"/>
          <a:stretch/>
        </p:blipFill>
        <p:spPr>
          <a:xfrm>
            <a:off x="5715000" y="3552840"/>
            <a:ext cx="1981080" cy="1512720"/>
          </a:xfrm>
          <a:prstGeom prst="rect">
            <a:avLst/>
          </a:prstGeom>
          <a:ln w="0">
            <a:noFill/>
          </a:ln>
        </p:spPr>
      </p:pic>
      <p:pic>
        <p:nvPicPr>
          <p:cNvPr id="84" name="Spur_gear" descr=""/>
          <p:cNvPicPr/>
          <p:nvPr/>
        </p:nvPicPr>
        <p:blipFill>
          <a:blip r:embed="rId2"/>
          <a:stretch/>
        </p:blipFill>
        <p:spPr>
          <a:xfrm>
            <a:off x="5715000" y="1571760"/>
            <a:ext cx="19810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 parameter s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ur gear parame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ical gear parame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rived parame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ature applic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ster Parameters (1 of 5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ch_di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meter of the pitch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itch diameter to derive diametral or circular pitch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tch_circle" descr=""/>
          <p:cNvPicPr/>
          <p:nvPr/>
        </p:nvPicPr>
        <p:blipFill>
          <a:blip r:embed="rId1"/>
          <a:stretch/>
        </p:blipFill>
        <p:spPr>
          <a:xfrm>
            <a:off x="5181480" y="4251240"/>
            <a:ext cx="358164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ster Parameters (2 of 5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_di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meter formed by the “bottom land” between tee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side_diame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meter formed by the tips of the tee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ster Parameters (3 of 5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sure_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gle subtended by a tangent to the tooth profile and a radial line, at its pitch po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16400" y="2162160"/>
                <a:ext cx="331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ressure_angle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054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ster Parameters (4 of 5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_fillet_rad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us of the fillet between the flank and the root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Root_fillet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4267080" cy="282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86400" y="2076480"/>
                <a:ext cx="37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ster Parameters (5 of 5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_of_tee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early a fundamental para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_or_external_g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property of spur and helical gears that they may be internal or exter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External_gear" descr=""/>
          <p:cNvPicPr/>
          <p:nvPr/>
        </p:nvPicPr>
        <p:blipFill>
          <a:blip r:embed="rId1"/>
          <a:stretch/>
        </p:blipFill>
        <p:spPr>
          <a:xfrm>
            <a:off x="1600200" y="5299200"/>
            <a:ext cx="2362320" cy="1253880"/>
          </a:xfrm>
          <a:prstGeom prst="rect">
            <a:avLst/>
          </a:prstGeom>
          <a:ln w="0">
            <a:noFill/>
          </a:ln>
        </p:spPr>
      </p:pic>
      <p:pic>
        <p:nvPicPr>
          <p:cNvPr id="103" name="Internal_gear" descr=""/>
          <p:cNvPicPr/>
          <p:nvPr/>
        </p:nvPicPr>
        <p:blipFill>
          <a:blip r:embed="rId2"/>
          <a:stretch/>
        </p:blipFill>
        <p:spPr>
          <a:xfrm>
            <a:off x="5257800" y="5257800"/>
            <a:ext cx="2362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tal number of units in store arou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6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tal value of stored units arou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£4,000,0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ur Gear Parameter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ur gears require no additional parameters to those defined by the superty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lical Gear Paramet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1 of 2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_or_right_tw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helical twist is defined as begin either left or right according to the right hand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lical Gear Paramet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2 of 2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ix_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gle between the tangent to the to a helix and the straight line generator of the cylinder on which it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Helix_angle" descr=""/>
          <p:cNvPicPr/>
          <p:nvPr/>
        </p:nvPicPr>
        <p:blipFill>
          <a:blip r:embed="rId1"/>
          <a:stretch/>
        </p:blipFill>
        <p:spPr>
          <a:xfrm>
            <a:off x="3352680" y="3990960"/>
            <a:ext cx="3886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rived Paramet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1 of 3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metral_pit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umber of teeth per unit length along the pitch circle (spur gea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_pit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stance along the pitch circle between corresponding flanks of adjacent teeth (spur gea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8080" y="2133720"/>
                <a:ext cx="2386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11480" y="4200480"/>
                <a:ext cx="25513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πD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rived Paramet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2 of 3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xial_pit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stance between corresponding points of adjacent teeth measured parallel to the gear axis (helical gea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mal diametral and circular pitches can also be derived for helical g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49520" y="2133720"/>
                <a:ext cx="3703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πD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ψ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rived Paramet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3 of 3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_dia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ameter of the imaginary base circle from which the involute geometry of a tooth profile is defin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10200" y="2151000"/>
                <a:ext cx="2819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1" name="Base_circle" descr=""/>
          <p:cNvPicPr/>
          <p:nvPr/>
        </p:nvPicPr>
        <p:blipFill>
          <a:blip r:embed="rId1"/>
          <a:stretch/>
        </p:blipFill>
        <p:spPr>
          <a:xfrm>
            <a:off x="4543560" y="4038480"/>
            <a:ext cx="39146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1 of 6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p relief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al of material at the tip of the too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Tip_relief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2997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2 of 6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ot relief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al of material at the root of the too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Root_relief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6576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3 of 6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 relief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ar or progressive reduction of tooth thickness towards each end face of a g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End_relief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35268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4 of 6)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cutting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ilitates subsequent machining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Corrected_pinions%202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3809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reakdown of gear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 / gearshaf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 / gearshaf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&amp; pin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5 of 6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owning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essive reduction of tooth thickness towards each end face of a g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Crowning" descr=""/>
          <p:cNvPicPr/>
          <p:nvPr/>
        </p:nvPicPr>
        <p:blipFill>
          <a:blip r:embed="rId1"/>
          <a:stretch/>
        </p:blipFill>
        <p:spPr>
          <a:xfrm>
            <a:off x="6127920" y="3962520"/>
            <a:ext cx="2330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ar Modifica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6 of 6)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ed pinions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meshing of pinions with a small number of tee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Corrected_pinions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774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ure Application Parameter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ed_sh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es the physical shape of the part that defines where the gear feature will be appl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al_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es the limitations to be applied on the gear fe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ure Application Parameter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133720"/>
          <a:ext cx="85345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5345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90720" y="169920"/>
          <a:ext cx="8001000" cy="66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920"/>
                    <a:ext cx="800100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295280"/>
          <a:ext cx="86868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523880"/>
          <a:ext cx="861048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440" y="1544760"/>
          <a:ext cx="876312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544760"/>
                    <a:ext cx="876312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4920" y="1447920"/>
          <a:ext cx="8458200" cy="45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4582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nking of types according to Nav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ur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lica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m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cks /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ar quadrants (various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sed upon analysis &amp; technical ease of representation within AP22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&gt; 50% store c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20% store c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s represent &lt; 10% store cost e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>
            <a:off x="7372080" y="3048120"/>
            <a:ext cx="398520" cy="585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flipH="1">
            <a:off x="7373520" y="4214880"/>
            <a:ext cx="3985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09:59:44Z</dcterms:created>
  <dc:creator>SSA</dc:creator>
  <dc:description/>
  <dc:language>en-US</dc:language>
  <cp:lastModifiedBy>ALC</cp:lastModifiedBy>
  <cp:lastPrinted>2002-02-18T15:57:45Z</cp:lastPrinted>
  <dcterms:modified xsi:type="dcterms:W3CDTF">2003-07-14T15:16:12Z</dcterms:modified>
  <cp:revision>22</cp:revision>
  <dc:subject/>
  <dc:title>Gear Parameterisation (1 of 2)</dc:title>
</cp:coreProperties>
</file>