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media/image13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f4e52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f4e5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f4e52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176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f4e5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f4e52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f4e5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D4E4-7EB6-41CF-AB3F-03C02640D3D0}" type="slidenum">
              <a:rPr b="0" lang="de-DE" sz="1200" spc="-1" strike="noStrike">
                <a:solidFill>
                  <a:srgbClr val="4f4e5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3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3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2271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6002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2271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7080" y="42271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6240" y="16002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7560" y="16002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2271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6240" y="42271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7560" y="42271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7080" y="16002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61760" y="304560"/>
            <a:ext cx="642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7080" y="16002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42271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7080" y="16002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7080" y="42271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7080" y="16002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2271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42271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7080" y="16002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2271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7080" y="42271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6240" y="16002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7560" y="16002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42271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6240" y="42271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7560" y="42271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7080" y="16002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1760" y="304560"/>
            <a:ext cx="642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6002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2271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6002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7080" y="42271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6002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2271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17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f4e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e5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e5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f4e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e5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e5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4e5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e5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e5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e5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 rot="16200000">
            <a:off x="8305200" y="6095880"/>
            <a:ext cx="14479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3, ProSTEP iViP Verei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320" y="6673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F9F7-757E-46DA-9260-98ABF52CA4B7}" type="datetime">
              <a:rPr b="0" lang="en-US" sz="6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267080" y="66438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49C6-B0C2-4E09-A844-C47B02A4941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roStep-Logo-neu_50mm" descr=""/>
          <p:cNvPicPr/>
          <p:nvPr/>
        </p:nvPicPr>
        <p:blipFill>
          <a:blip r:embed="rId3"/>
          <a:stretch/>
        </p:blipFill>
        <p:spPr>
          <a:xfrm>
            <a:off x="7391520" y="0"/>
            <a:ext cx="1523880" cy="955800"/>
          </a:xfrm>
          <a:prstGeom prst="rect">
            <a:avLst/>
          </a:prstGeom>
          <a:ln w="0">
            <a:noFill/>
          </a:ln>
        </p:spPr>
      </p:pic>
      <p:pic>
        <p:nvPicPr>
          <p:cNvPr id="6" name="PDTnet_logo" descr=""/>
          <p:cNvPicPr/>
          <p:nvPr/>
        </p:nvPicPr>
        <p:blipFill>
          <a:blip r:embed="rId4"/>
          <a:stretch/>
        </p:blipFill>
        <p:spPr>
          <a:xfrm>
            <a:off x="8153280" y="838080"/>
            <a:ext cx="739800" cy="71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17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 rot="16200000">
            <a:off x="8343360" y="605772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3, ProSTEP iViP Verei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6673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3CB4-8E79-4C30-906E-91B24714C698}" type="datetime">
              <a:rPr b="0" lang="en-US" sz="6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roStep-Logo-neu_50mm" descr=""/>
          <p:cNvPicPr/>
          <p:nvPr/>
        </p:nvPicPr>
        <p:blipFill>
          <a:blip r:embed="rId3"/>
          <a:stretch/>
        </p:blipFill>
        <p:spPr>
          <a:xfrm>
            <a:off x="7010280" y="38160"/>
            <a:ext cx="1789200" cy="1122480"/>
          </a:xfrm>
          <a:prstGeom prst="rect">
            <a:avLst/>
          </a:prstGeom>
          <a:ln w="0">
            <a:noFill/>
          </a:ln>
        </p:spPr>
      </p:pic>
      <p:pic>
        <p:nvPicPr>
          <p:cNvPr id="47" name="PDTnet_logo" descr=""/>
          <p:cNvPicPr/>
          <p:nvPr/>
        </p:nvPicPr>
        <p:blipFill>
          <a:blip r:embed="rId4"/>
          <a:stretch/>
        </p:blipFill>
        <p:spPr>
          <a:xfrm>
            <a:off x="304920" y="228600"/>
            <a:ext cx="1218960" cy="1171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e5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4e52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f4e52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4f4e52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4e52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f4e52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4f4e52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e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f4e52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4f4e52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4e52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4f4e52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4e52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4f4e52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4e52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4f4e5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png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50176f"/>
                </a:solidFill>
                <a:latin typeface="Arial"/>
              </a:rPr>
              <a:t>Interest Group</a:t>
            </a:r>
            <a:br>
              <a:rPr sz="2800"/>
            </a:br>
            <a:r>
              <a:rPr b="1" lang="de-DE" sz="2800" spc="-1" strike="noStrike">
                <a:solidFill>
                  <a:srgbClr val="50176f"/>
                </a:solidFill>
                <a:latin typeface="Arial"/>
              </a:rPr>
              <a:t>„Digital Plant“</a:t>
            </a: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978360"/>
            <a:ext cx="6400800" cy="1203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f4e52"/>
                </a:solidFill>
                <a:latin typeface="Arial"/>
              </a:rPr>
              <a:t>Accelerating Simultaneous Development of Automotive Products and Manufacturing Resources by Use of Data Communication Methods based on Standards</a:t>
            </a:r>
            <a:endParaRPr b="0" lang="en-US" sz="2400" spc="-1" strike="noStrike">
              <a:solidFill>
                <a:srgbClr val="4f4e5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50176f"/>
                </a:solidFill>
                <a:latin typeface="Arial"/>
              </a:rPr>
              <a:t>Standards and related data types (1)</a:t>
            </a: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4e52"/>
                </a:solidFill>
                <a:latin typeface="Arial"/>
              </a:rPr>
              <a:t>Product structure as designed - AP214-S1+S2+S3+S6+PR1 UoF.</a:t>
            </a:r>
            <a:endParaRPr b="0" lang="en-US" sz="2000" spc="-1" strike="noStrike">
              <a:solidFill>
                <a:srgbClr val="4f4e5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4e52"/>
                </a:solidFill>
                <a:latin typeface="Arial"/>
              </a:rPr>
              <a:t>Product mix (planning targets) - AP214-S7+PR1 UoF.</a:t>
            </a:r>
            <a:endParaRPr b="0" lang="en-US" sz="2000" spc="-1" strike="noStrike">
              <a:solidFill>
                <a:srgbClr val="4f4e5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4e52"/>
                </a:solidFill>
                <a:latin typeface="Arial"/>
              </a:rPr>
              <a:t>Product structure as to be manufactured - See Product structure as designed.</a:t>
            </a:r>
            <a:endParaRPr b="0" lang="en-US" sz="2000" spc="-1" strike="noStrike">
              <a:solidFill>
                <a:srgbClr val="4f4e5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4e52"/>
                </a:solidFill>
                <a:latin typeface="Arial"/>
              </a:rPr>
              <a:t>Assembly sequence - AP214-S1+S2+S3+S6+S7+S8+PR1 UoF.</a:t>
            </a:r>
            <a:endParaRPr b="0" lang="en-US" sz="2000" spc="-1" strike="noStrike">
              <a:solidFill>
                <a:srgbClr val="4f4e5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4e52"/>
                </a:solidFill>
                <a:latin typeface="Arial"/>
              </a:rPr>
              <a:t>Connections/fasteners - AP214-S1+S2+S3+S6+S7+S8+PR1 UoF; ISO13584-511.</a:t>
            </a:r>
            <a:endParaRPr b="0" lang="en-US" sz="2000" spc="-1" strike="noStrike">
              <a:solidFill>
                <a:srgbClr val="4f4e5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4e52"/>
                </a:solidFill>
                <a:latin typeface="Arial"/>
              </a:rPr>
              <a:t>Assembly path - AP214-S1+S2+S3+S7+S8+PR1+ G1/G2/G3/ G4/G5/G6/G7/G8/E1 UoF.</a:t>
            </a:r>
            <a:endParaRPr b="0" lang="en-US" sz="2000" spc="-1" strike="noStrike">
              <a:solidFill>
                <a:srgbClr val="4f4e5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4e52"/>
                </a:solidFill>
                <a:latin typeface="Arial"/>
              </a:rPr>
              <a:t>Part geometry - AP214-G1/G2/G3/G4/G5/G6/G7/G8/E1 UoF.</a:t>
            </a:r>
            <a:endParaRPr b="0" lang="en-US" sz="2000" spc="-1" strike="noStrike">
              <a:solidFill>
                <a:srgbClr val="4f4e5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4e52"/>
                </a:solidFill>
                <a:latin typeface="Arial"/>
              </a:rPr>
              <a:t>CAD model structure - AP214-E1/S2 + G1/G2/G3/G4/G5/G6/G7/G8 UoF.</a:t>
            </a:r>
            <a:endParaRPr b="0" lang="en-US" sz="2000" spc="-1" strike="noStrike">
              <a:solidFill>
                <a:srgbClr val="4f4e5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50176f"/>
                </a:solidFill>
                <a:latin typeface="Arial"/>
              </a:rPr>
              <a:t>Standards and related data types (2)</a:t>
            </a: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4e52"/>
                </a:solidFill>
                <a:latin typeface="Arial"/>
              </a:rPr>
              <a:t>Resource geometry - See Part geometry.</a:t>
            </a:r>
            <a:endParaRPr b="0" lang="en-US" sz="2000" spc="-1" strike="noStrike">
              <a:solidFill>
                <a:srgbClr val="4f4e5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4e52"/>
                </a:solidFill>
                <a:latin typeface="Arial"/>
              </a:rPr>
              <a:t>Resource structure - See Product structure as designed.</a:t>
            </a:r>
            <a:endParaRPr b="0" lang="en-US" sz="2000" spc="-1" strike="noStrike">
              <a:solidFill>
                <a:srgbClr val="4f4e5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4e52"/>
                </a:solidFill>
                <a:latin typeface="Arial"/>
              </a:rPr>
              <a:t>Material flow - AP214-S1+S2+S3+S6+S7+S8+PR1 UoF.</a:t>
            </a:r>
            <a:endParaRPr b="0" lang="en-US" sz="2000" spc="-1" strike="noStrike">
              <a:solidFill>
                <a:srgbClr val="4f4e5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4e52"/>
                </a:solidFill>
                <a:latin typeface="Arial"/>
              </a:rPr>
              <a:t>Kinematics - AP214-S1+S2+S3+S6+PR1+K1 UoF.</a:t>
            </a:r>
            <a:endParaRPr b="0" lang="en-US" sz="2000" spc="-1" strike="noStrike">
              <a:solidFill>
                <a:srgbClr val="4f4e5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4e52"/>
                </a:solidFill>
                <a:latin typeface="Arial"/>
              </a:rPr>
              <a:t>Movements - AP214-S8+PR1 UoF.</a:t>
            </a:r>
            <a:endParaRPr b="0" lang="en-US" sz="2000" spc="-1" strike="noStrike">
              <a:solidFill>
                <a:srgbClr val="4f4e5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4e52"/>
                </a:solidFill>
                <a:latin typeface="Arial"/>
              </a:rPr>
              <a:t>Shop floor geometry - See Resource geometry.</a:t>
            </a:r>
            <a:endParaRPr b="0" lang="en-US" sz="2000" spc="-1" strike="noStrike">
              <a:solidFill>
                <a:srgbClr val="4f4e5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4e52"/>
                </a:solidFill>
                <a:latin typeface="Arial"/>
              </a:rPr>
              <a:t>Shop floor structure - See Resource structure.</a:t>
            </a:r>
            <a:endParaRPr b="0" lang="en-US" sz="2000" spc="-1" strike="noStrike">
              <a:solidFill>
                <a:srgbClr val="4f4e5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4e52"/>
                </a:solidFill>
                <a:latin typeface="Arial"/>
              </a:rPr>
              <a:t>Media and installations geometry - AP212-installation + site + product_structure + physical_connectivity + properties + classification UoF.</a:t>
            </a:r>
            <a:endParaRPr b="0" lang="en-US" sz="2000" spc="-1" strike="noStrike">
              <a:solidFill>
                <a:srgbClr val="4f4e5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4e52"/>
                </a:solidFill>
                <a:latin typeface="Arial"/>
              </a:rPr>
              <a:t>Part tolerances and features - AP214-T1+FF1+FF2+FF3 UoF; AP224-part_model + shape_representation_for_machining + manufacturing_feature + feature_definition_item + feature_profile UoF.</a:t>
            </a:r>
            <a:endParaRPr b="0" lang="en-US" sz="2000" spc="-1" strike="noStrike">
              <a:solidFill>
                <a:srgbClr val="4f4e5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4e52"/>
                </a:solidFill>
                <a:latin typeface="Arial"/>
              </a:rPr>
              <a:t>Control system modules – ISO15745.</a:t>
            </a:r>
            <a:endParaRPr b="0" lang="en-US" sz="2000" spc="-1" strike="noStrike">
              <a:solidFill>
                <a:srgbClr val="4f4e5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f4e5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70572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1, ProSTEP Produktdatentechnologie Gmb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50176f"/>
                </a:solidFill>
                <a:latin typeface="Arial"/>
              </a:rPr>
              <a:t>PDTnet Goals</a:t>
            </a: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25520" y="1352160"/>
            <a:ext cx="8037360" cy="488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169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69b2"/>
                </a:solidFill>
                <a:latin typeface="Arial"/>
              </a:rPr>
              <a:t>Joint development </a:t>
            </a:r>
            <a:r>
              <a:rPr b="0" lang="de-DE" sz="1800" spc="-1" strike="noStrike">
                <a:solidFill>
                  <a:srgbClr val="4f4e52"/>
                </a:solidFill>
                <a:latin typeface="Arial"/>
              </a:rPr>
              <a:t>of methods and tools for product data exchange and integration</a:t>
            </a:r>
            <a:endParaRPr b="0" lang="en-US" sz="1800" spc="-1" strike="noStrike">
              <a:solidFill>
                <a:srgbClr val="4f4e5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4e5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f4e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f4e52"/>
                </a:solidFill>
                <a:latin typeface="Arial"/>
              </a:rPr>
              <a:t>Implementation of </a:t>
            </a:r>
            <a:r>
              <a:rPr b="1" lang="de-DE" sz="1800" spc="-1" strike="noStrike">
                <a:solidFill>
                  <a:srgbClr val="0169b2"/>
                </a:solidFill>
                <a:latin typeface="Arial"/>
              </a:rPr>
              <a:t>faster</a:t>
            </a:r>
            <a:r>
              <a:rPr b="0" lang="de-DE" sz="1800" spc="-1" strike="noStrike">
                <a:solidFill>
                  <a:srgbClr val="4f4e52"/>
                </a:solidFill>
                <a:latin typeface="Arial"/>
              </a:rPr>
              <a:t> and more </a:t>
            </a:r>
            <a:r>
              <a:rPr b="1" lang="de-DE" sz="1800" spc="-1" strike="noStrike">
                <a:solidFill>
                  <a:srgbClr val="0169b2"/>
                </a:solidFill>
                <a:latin typeface="Arial"/>
              </a:rPr>
              <a:t>cost-efficient</a:t>
            </a:r>
            <a:r>
              <a:rPr b="0" lang="de-DE" sz="1800" spc="-1" strike="noStrike">
                <a:solidFill>
                  <a:srgbClr val="4f4e52"/>
                </a:solidFill>
                <a:latin typeface="Arial"/>
              </a:rPr>
              <a:t> solutions for </a:t>
            </a:r>
            <a:r>
              <a:rPr b="1" lang="de-DE" sz="1800" spc="-1" strike="noStrike">
                <a:solidFill>
                  <a:srgbClr val="0169b2"/>
                </a:solidFill>
                <a:latin typeface="Arial"/>
              </a:rPr>
              <a:t>PDM integration</a:t>
            </a:r>
            <a:r>
              <a:rPr b="0" lang="de-DE" sz="1800" spc="-1" strike="noStrike">
                <a:solidFill>
                  <a:srgbClr val="4f4e52"/>
                </a:solidFill>
                <a:latin typeface="Arial"/>
              </a:rPr>
              <a:t> within the automotive supply chain</a:t>
            </a:r>
            <a:endParaRPr b="0" lang="en-US" sz="1800" spc="-1" strike="noStrike">
              <a:solidFill>
                <a:srgbClr val="4f4e5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4e5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169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69b2"/>
                </a:solidFill>
                <a:latin typeface="Arial"/>
              </a:rPr>
              <a:t>Increase </a:t>
            </a:r>
            <a:r>
              <a:rPr b="0" lang="de-DE" sz="1800" spc="-1" strike="noStrike">
                <a:solidFill>
                  <a:srgbClr val="4f4e52"/>
                </a:solidFill>
                <a:latin typeface="Arial"/>
              </a:rPr>
              <a:t>of </a:t>
            </a:r>
            <a:r>
              <a:rPr b="1" lang="de-DE" sz="1800" spc="-1" strike="noStrike">
                <a:solidFill>
                  <a:srgbClr val="0169b2"/>
                </a:solidFill>
                <a:latin typeface="Arial"/>
              </a:rPr>
              <a:t>PDM data quality</a:t>
            </a:r>
            <a:r>
              <a:rPr b="0" lang="de-DE" sz="1800" spc="-1" strike="noStrike">
                <a:solidFill>
                  <a:srgbClr val="4f4e52"/>
                </a:solidFill>
                <a:latin typeface="Arial"/>
              </a:rPr>
              <a:t> within </a:t>
            </a:r>
            <a:r>
              <a:rPr b="1" lang="de-DE" sz="1800" spc="-1" strike="noStrike">
                <a:solidFill>
                  <a:srgbClr val="0169b2"/>
                </a:solidFill>
                <a:latin typeface="Arial"/>
              </a:rPr>
              <a:t>collaborative engineering</a:t>
            </a:r>
            <a:r>
              <a:rPr b="0" lang="de-DE" sz="1800" spc="-1" strike="noStrike">
                <a:solidFill>
                  <a:srgbClr val="4f4e52"/>
                </a:solidFill>
                <a:latin typeface="Arial"/>
              </a:rPr>
              <a:t> projects between manufacturer and suppliers</a:t>
            </a:r>
            <a:endParaRPr b="0" lang="en-US" sz="1800" spc="-1" strike="noStrike">
              <a:solidFill>
                <a:srgbClr val="4f4e5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4e5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f4e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f4e52"/>
                </a:solidFill>
                <a:latin typeface="Arial"/>
              </a:rPr>
              <a:t>Use of existing standards</a:t>
            </a:r>
            <a:r>
              <a:rPr b="1" lang="de-DE" sz="1800" spc="-1" strike="noStrike">
                <a:solidFill>
                  <a:srgbClr val="0169b2"/>
                </a:solidFill>
                <a:latin typeface="Arial"/>
              </a:rPr>
              <a:t> (STEP AP 214, XML)</a:t>
            </a:r>
            <a:r>
              <a:rPr b="0" lang="de-DE" sz="1800" spc="-1" strike="noStrike">
                <a:solidFill>
                  <a:srgbClr val="4f4e52"/>
                </a:solidFill>
                <a:latin typeface="Arial"/>
              </a:rPr>
              <a:t> and available web technology for </a:t>
            </a:r>
            <a:r>
              <a:rPr b="1" lang="de-DE" sz="1800" spc="-1" strike="noStrike">
                <a:solidFill>
                  <a:srgbClr val="0169b2"/>
                </a:solidFill>
                <a:latin typeface="Arial"/>
              </a:rPr>
              <a:t>„e-Engineering“</a:t>
            </a:r>
            <a:r>
              <a:rPr b="0" lang="de-DE" sz="1800" spc="-1" strike="noStrike">
                <a:solidFill>
                  <a:srgbClr val="4f4e52"/>
                </a:solidFill>
                <a:latin typeface="Arial"/>
              </a:rPr>
              <a:t> in the automotive industry</a:t>
            </a:r>
            <a:endParaRPr b="0" lang="en-US" sz="1800" spc="-1" strike="noStrike">
              <a:solidFill>
                <a:srgbClr val="4f4e5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4e5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f4e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f4e52"/>
                </a:solidFill>
                <a:latin typeface="Arial"/>
              </a:rPr>
              <a:t>Results can be transferred to </a:t>
            </a:r>
            <a:r>
              <a:rPr b="1" lang="de-DE" sz="1800" spc="-1" strike="noStrike">
                <a:solidFill>
                  <a:srgbClr val="0169b2"/>
                </a:solidFill>
                <a:latin typeface="Arial"/>
              </a:rPr>
              <a:t>other industries</a:t>
            </a:r>
            <a:endParaRPr b="0" lang="en-US" sz="1800" spc="-1" strike="noStrike">
              <a:solidFill>
                <a:srgbClr val="4f4e52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176f"/>
                </a:solidFill>
                <a:latin typeface="Arial"/>
              </a:rPr>
              <a:t>IG Digital Plant Goals</a:t>
            </a: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f4e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4e52"/>
                </a:solidFill>
                <a:latin typeface="Arial"/>
              </a:rPr>
              <a:t>Preparing solutions for the integrated development of products and manufacturing resources</a:t>
            </a:r>
            <a:r>
              <a:rPr b="0" lang="en-GB" sz="2000" spc="-1" strike="noStrike">
                <a:solidFill>
                  <a:srgbClr val="4f4e5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f4e5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f4e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4e52"/>
                </a:solidFill>
                <a:latin typeface="Arial"/>
              </a:rPr>
              <a:t>Enabling and accelerating the collaboration between vehicle manufacturers and manufacturing equipment suppliers</a:t>
            </a:r>
            <a:endParaRPr b="0" lang="en-US" sz="2400" spc="-1" strike="noStrike">
              <a:solidFill>
                <a:srgbClr val="4f4e5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f4e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4e52"/>
                </a:solidFill>
                <a:latin typeface="Arial"/>
              </a:rPr>
              <a:t>Providing access to actual product, resource and process data in a heterogeneous system environment (PDM, CAx, process and manufacturing resources planning systems)</a:t>
            </a:r>
            <a:endParaRPr b="0" lang="en-US" sz="2400" spc="-1" strike="noStrike">
              <a:solidFill>
                <a:srgbClr val="4f4e5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f4e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4e52"/>
                </a:solidFill>
                <a:latin typeface="Arial"/>
              </a:rPr>
              <a:t>Enabling the coupling of systems</a:t>
            </a:r>
            <a:endParaRPr b="0" lang="en-US" sz="2400" spc="-1" strike="noStrike">
              <a:solidFill>
                <a:srgbClr val="4f4e5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f4e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4e52"/>
                </a:solidFill>
                <a:latin typeface="Arial"/>
              </a:rPr>
              <a:t>Driving vendors to develop interfaces</a:t>
            </a:r>
            <a:endParaRPr b="0" lang="en-US" sz="2400" spc="-1" strike="noStrike">
              <a:solidFill>
                <a:srgbClr val="4f4e5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f4e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4e52"/>
                </a:solidFill>
                <a:latin typeface="Arial"/>
              </a:rPr>
              <a:t>Establishing flexible and comprehensive data communication based on international standards</a:t>
            </a:r>
            <a:endParaRPr b="0" lang="en-US" sz="2400" spc="-1" strike="noStrike">
              <a:solidFill>
                <a:srgbClr val="4f4e5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4000" y="343080"/>
            <a:ext cx="7134120" cy="76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50176f"/>
                </a:solidFill>
                <a:latin typeface="Arial"/>
              </a:rPr>
              <a:t>Application Scenario</a:t>
            </a: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9144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4f4e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f4e52"/>
                </a:solidFill>
                <a:latin typeface="Arial"/>
              </a:rPr>
              <a:t>OEM - Manufacturing Equipment Supplier 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4f4e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f4e52"/>
                </a:solidFill>
                <a:latin typeface="Arial"/>
              </a:rPr>
              <a:t>Inhouse Downstream Process 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066680" y="1612800"/>
            <a:ext cx="6964920" cy="5074560"/>
            <a:chOff x="1066680" y="1612800"/>
            <a:chExt cx="6964920" cy="5074560"/>
          </a:xfrm>
        </p:grpSpPr>
        <p:sp>
          <p:nvSpPr>
            <p:cNvPr id="102" name=""/>
            <p:cNvSpPr/>
            <p:nvPr/>
          </p:nvSpPr>
          <p:spPr>
            <a:xfrm flipH="1" rot="16237800">
              <a:off x="4303800" y="5090040"/>
              <a:ext cx="777600" cy="547560"/>
            </a:xfrm>
            <a:prstGeom prst="rightArrow">
              <a:avLst>
                <a:gd name="adj1" fmla="val 50000"/>
                <a:gd name="adj2" fmla="val 35542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rot="16189800">
              <a:off x="4241160" y="5132520"/>
              <a:ext cx="770040" cy="538560"/>
            </a:xfrm>
            <a:prstGeom prst="rightArrow">
              <a:avLst>
                <a:gd name="adj1" fmla="val 50000"/>
                <a:gd name="adj2" fmla="val 35785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2264760" y="2888280"/>
              <a:ext cx="1363680" cy="2446200"/>
              <a:chOff x="2264760" y="2888280"/>
              <a:chExt cx="1363680" cy="2446200"/>
            </a:xfrm>
          </p:grpSpPr>
          <p:sp>
            <p:nvSpPr>
              <p:cNvPr id="105" name=""/>
              <p:cNvSpPr/>
              <p:nvPr/>
            </p:nvSpPr>
            <p:spPr>
              <a:xfrm rot="8400000">
                <a:off x="2592360" y="4629240"/>
                <a:ext cx="916560" cy="464760"/>
              </a:xfrm>
              <a:prstGeom prst="rightArrow">
                <a:avLst>
                  <a:gd name="adj1" fmla="val 50000"/>
                  <a:gd name="adj2" fmla="val 49358"/>
                </a:avLst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rot="2340000">
                <a:off x="2667960" y="3124800"/>
                <a:ext cx="916200" cy="464760"/>
              </a:xfrm>
              <a:prstGeom prst="rightArrow">
                <a:avLst>
                  <a:gd name="adj1" fmla="val 50000"/>
                  <a:gd name="adj2" fmla="val 49338"/>
                </a:avLst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2264760" y="3918240"/>
                <a:ext cx="916560" cy="464760"/>
              </a:xfrm>
              <a:prstGeom prst="rightArrow">
                <a:avLst>
                  <a:gd name="adj1" fmla="val 50000"/>
                  <a:gd name="adj2" fmla="val 49358"/>
                </a:avLst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 flipH="1" rot="13140000">
              <a:off x="5657760" y="4647600"/>
              <a:ext cx="916560" cy="464400"/>
            </a:xfrm>
            <a:prstGeom prst="rightArrow">
              <a:avLst>
                <a:gd name="adj1" fmla="val 50000"/>
                <a:gd name="adj2" fmla="val 49396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9200000">
              <a:off x="5583240" y="3118320"/>
              <a:ext cx="916200" cy="465120"/>
            </a:xfrm>
            <a:prstGeom prst="rightArrow">
              <a:avLst>
                <a:gd name="adj1" fmla="val 50000"/>
                <a:gd name="adj2" fmla="val 49300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86800" y="3936600"/>
              <a:ext cx="916560" cy="464760"/>
            </a:xfrm>
            <a:prstGeom prst="rightArrow">
              <a:avLst>
                <a:gd name="adj1" fmla="val 50000"/>
                <a:gd name="adj2" fmla="val 49358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26000" y="2863080"/>
              <a:ext cx="3520440" cy="23328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 rot="5410200">
              <a:off x="4201200" y="2646720"/>
              <a:ext cx="770040" cy="538920"/>
            </a:xfrm>
            <a:prstGeom prst="rightArrow">
              <a:avLst>
                <a:gd name="adj1" fmla="val 50000"/>
                <a:gd name="adj2" fmla="val 35761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261520" y="2981160"/>
              <a:ext cx="1353240" cy="2434680"/>
              <a:chOff x="2261520" y="2981160"/>
              <a:chExt cx="1353240" cy="2434680"/>
            </a:xfrm>
          </p:grpSpPr>
          <p:sp>
            <p:nvSpPr>
              <p:cNvPr id="114" name=""/>
              <p:cNvSpPr/>
              <p:nvPr/>
            </p:nvSpPr>
            <p:spPr>
              <a:xfrm rot="8400000">
                <a:off x="2589120" y="4720320"/>
                <a:ext cx="907200" cy="457200"/>
              </a:xfrm>
              <a:prstGeom prst="rightArrow">
                <a:avLst>
                  <a:gd name="adj1" fmla="val 50000"/>
                  <a:gd name="adj2" fmla="val 49661"/>
                </a:avLst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2340000">
                <a:off x="2664360" y="3215520"/>
                <a:ext cx="907200" cy="457200"/>
              </a:xfrm>
              <a:prstGeom prst="rightArrow">
                <a:avLst>
                  <a:gd name="adj1" fmla="val 50000"/>
                  <a:gd name="adj2" fmla="val 49661"/>
                </a:avLst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2261520" y="4008960"/>
                <a:ext cx="907200" cy="456840"/>
              </a:xfrm>
              <a:prstGeom prst="rightArrow">
                <a:avLst>
                  <a:gd name="adj1" fmla="val 50000"/>
                  <a:gd name="adj2" fmla="val 49700"/>
                </a:avLst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 flipH="1" rot="13140000">
              <a:off x="5655600" y="4714560"/>
              <a:ext cx="907560" cy="457200"/>
            </a:xfrm>
            <a:prstGeom prst="rightArrow">
              <a:avLst>
                <a:gd name="adj1" fmla="val 50000"/>
                <a:gd name="adj2" fmla="val 49681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9200000">
              <a:off x="5580720" y="3209040"/>
              <a:ext cx="907560" cy="457200"/>
            </a:xfrm>
            <a:prstGeom prst="rightArrow">
              <a:avLst>
                <a:gd name="adj1" fmla="val 50000"/>
                <a:gd name="adj2" fmla="val 49681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984280" y="4002840"/>
              <a:ext cx="907560" cy="457200"/>
            </a:xfrm>
            <a:prstGeom prst="rightArrow">
              <a:avLst>
                <a:gd name="adj1" fmla="val 50000"/>
                <a:gd name="adj2" fmla="val 49681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17360" y="2949120"/>
              <a:ext cx="3523320" cy="2334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4033440" y="3619440"/>
              <a:ext cx="533880" cy="45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" name=""/>
            <p:cNvGrpSpPr/>
            <p:nvPr/>
          </p:nvGrpSpPr>
          <p:grpSpPr>
            <a:xfrm>
              <a:off x="3583440" y="4330080"/>
              <a:ext cx="1037880" cy="574920"/>
              <a:chOff x="3583440" y="4330080"/>
              <a:chExt cx="1037880" cy="57492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3861360" y="4330080"/>
                <a:ext cx="599760" cy="551880"/>
                <a:chOff x="3861360" y="4330080"/>
                <a:chExt cx="599760" cy="551880"/>
              </a:xfrm>
            </p:grpSpPr>
            <p:pic>
              <p:nvPicPr>
                <p:cNvPr id="12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025160" y="4388760"/>
                  <a:ext cx="435960" cy="2538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25" name=""/>
                <p:cNvGrpSpPr/>
                <p:nvPr/>
              </p:nvGrpSpPr>
              <p:grpSpPr>
                <a:xfrm>
                  <a:off x="3861360" y="4330080"/>
                  <a:ext cx="326160" cy="345960"/>
                  <a:chOff x="3861360" y="4330080"/>
                  <a:chExt cx="326160" cy="345960"/>
                </a:xfrm>
              </p:grpSpPr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61360" y="4330080"/>
                    <a:ext cx="32616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" name=""/>
                  <p:cNvSpPr/>
                  <p:nvPr/>
                </p:nvSpPr>
                <p:spPr>
                  <a:xfrm>
                    <a:off x="3907800" y="4405320"/>
                    <a:ext cx="175680" cy="16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------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---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----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8" name=""/>
                <p:cNvGrpSpPr/>
                <p:nvPr/>
              </p:nvGrpSpPr>
              <p:grpSpPr>
                <a:xfrm>
                  <a:off x="3933360" y="4507200"/>
                  <a:ext cx="361800" cy="374760"/>
                  <a:chOff x="3933360" y="4507200"/>
                  <a:chExt cx="361800" cy="37476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3945240" y="4517280"/>
                    <a:ext cx="349920" cy="176040"/>
                  </a:xfrm>
                  <a:prstGeom prst="rect">
                    <a:avLst/>
                  </a:prstGeom>
                  <a:solidFill>
                    <a:srgbClr val="a0a0a0"/>
                  </a:solidFill>
                  <a:ln w="1260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933360" y="4507200"/>
                    <a:ext cx="349560" cy="17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978000" y="4536360"/>
                    <a:ext cx="421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55">
                        <a:moveTo>
                          <a:pt x="27" y="40"/>
                        </a:moveTo>
                        <a:lnTo>
                          <a:pt x="27" y="14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9" y="1"/>
                        </a:lnTo>
                        <a:lnTo>
                          <a:pt x="9" y="2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7" y="3"/>
                        </a:lnTo>
                        <a:lnTo>
                          <a:pt x="7" y="4"/>
                        </a:lnTo>
                        <a:lnTo>
                          <a:pt x="6" y="4"/>
                        </a:lnTo>
                        <a:lnTo>
                          <a:pt x="6" y="5"/>
                        </a:lnTo>
                        <a:lnTo>
                          <a:pt x="5" y="6"/>
                        </a:lnTo>
                        <a:lnTo>
                          <a:pt x="5" y="7"/>
                        </a:lnTo>
                        <a:lnTo>
                          <a:pt x="5" y="8"/>
                        </a:lnTo>
                        <a:lnTo>
                          <a:pt x="4" y="8"/>
                        </a:lnTo>
                        <a:lnTo>
                          <a:pt x="4" y="9"/>
                        </a:lnTo>
                        <a:lnTo>
                          <a:pt x="4" y="10"/>
                        </a:lnTo>
                        <a:lnTo>
                          <a:pt x="3" y="11"/>
                        </a:lnTo>
                        <a:lnTo>
                          <a:pt x="3" y="12"/>
                        </a:lnTo>
                        <a:lnTo>
                          <a:pt x="2" y="13"/>
                        </a:lnTo>
                        <a:lnTo>
                          <a:pt x="2" y="14"/>
                        </a:lnTo>
                        <a:lnTo>
                          <a:pt x="1" y="14"/>
                        </a:lnTo>
                        <a:lnTo>
                          <a:pt x="1" y="15"/>
                        </a:lnTo>
                        <a:lnTo>
                          <a:pt x="1" y="16"/>
                        </a:lnTo>
                        <a:lnTo>
                          <a:pt x="1" y="17"/>
                        </a:lnTo>
                        <a:lnTo>
                          <a:pt x="0" y="18"/>
                        </a:lnTo>
                        <a:lnTo>
                          <a:pt x="0" y="19"/>
                        </a:lnTo>
                        <a:lnTo>
                          <a:pt x="0" y="20"/>
                        </a:lnTo>
                        <a:lnTo>
                          <a:pt x="0" y="21"/>
                        </a:lnTo>
                        <a:lnTo>
                          <a:pt x="0" y="22"/>
                        </a:lnTo>
                        <a:lnTo>
                          <a:pt x="15" y="22"/>
                        </a:lnTo>
                        <a:lnTo>
                          <a:pt x="15" y="32"/>
                        </a:lnTo>
                        <a:lnTo>
                          <a:pt x="0" y="32"/>
                        </a:lnTo>
                        <a:lnTo>
                          <a:pt x="0" y="33"/>
                        </a:lnTo>
                        <a:lnTo>
                          <a:pt x="0" y="34"/>
                        </a:lnTo>
                        <a:lnTo>
                          <a:pt x="0" y="35"/>
                        </a:lnTo>
                        <a:lnTo>
                          <a:pt x="0" y="36"/>
                        </a:lnTo>
                        <a:lnTo>
                          <a:pt x="0" y="37"/>
                        </a:lnTo>
                        <a:lnTo>
                          <a:pt x="1" y="38"/>
                        </a:lnTo>
                        <a:lnTo>
                          <a:pt x="1" y="39"/>
                        </a:lnTo>
                        <a:lnTo>
                          <a:pt x="1" y="40"/>
                        </a:lnTo>
                        <a:lnTo>
                          <a:pt x="1" y="41"/>
                        </a:lnTo>
                        <a:lnTo>
                          <a:pt x="2" y="41"/>
                        </a:lnTo>
                        <a:lnTo>
                          <a:pt x="2" y="42"/>
                        </a:lnTo>
                        <a:lnTo>
                          <a:pt x="3" y="43"/>
                        </a:lnTo>
                        <a:lnTo>
                          <a:pt x="3" y="44"/>
                        </a:lnTo>
                        <a:lnTo>
                          <a:pt x="4" y="45"/>
                        </a:lnTo>
                        <a:lnTo>
                          <a:pt x="4" y="46"/>
                        </a:lnTo>
                        <a:lnTo>
                          <a:pt x="5" y="47"/>
                        </a:lnTo>
                        <a:lnTo>
                          <a:pt x="5" y="48"/>
                        </a:lnTo>
                        <a:lnTo>
                          <a:pt x="6" y="49"/>
                        </a:lnTo>
                        <a:lnTo>
                          <a:pt x="6" y="50"/>
                        </a:lnTo>
                        <a:lnTo>
                          <a:pt x="7" y="51"/>
                        </a:lnTo>
                        <a:lnTo>
                          <a:pt x="8" y="51"/>
                        </a:lnTo>
                        <a:lnTo>
                          <a:pt x="8" y="52"/>
                        </a:lnTo>
                        <a:lnTo>
                          <a:pt x="9" y="53"/>
                        </a:lnTo>
                        <a:lnTo>
                          <a:pt x="9" y="54"/>
                        </a:lnTo>
                        <a:lnTo>
                          <a:pt x="10" y="53"/>
                        </a:lnTo>
                        <a:lnTo>
                          <a:pt x="27" y="4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V="1">
                    <a:off x="3991680" y="4523400"/>
                    <a:ext cx="0" cy="5472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flipV="1">
                    <a:off x="3991680" y="4563360"/>
                    <a:ext cx="0" cy="5328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4158360" y="4641120"/>
                    <a:ext cx="123120" cy="406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4173480" y="4660200"/>
                    <a:ext cx="94680" cy="108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4219920" y="4654800"/>
                    <a:ext cx="1440" cy="1656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4173480" y="4672800"/>
                    <a:ext cx="28440" cy="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4242600" y="4641120"/>
                    <a:ext cx="27000" cy="108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4227480" y="4648680"/>
                    <a:ext cx="0" cy="144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4242600" y="4647600"/>
                    <a:ext cx="27000" cy="108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4242600" y="4654800"/>
                    <a:ext cx="27000" cy="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4266720" y="4674240"/>
                    <a:ext cx="0" cy="252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4277160" y="4672800"/>
                    <a:ext cx="4320" cy="108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3973680" y="4593960"/>
                    <a:ext cx="0" cy="1476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3994920" y="4624200"/>
                    <a:ext cx="199440" cy="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4213800" y="4593960"/>
                    <a:ext cx="0" cy="1368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3936240" y="4530960"/>
                    <a:ext cx="507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22">
                        <a:moveTo>
                          <a:pt x="33" y="21"/>
                        </a:moveTo>
                        <a:lnTo>
                          <a:pt x="18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4014360" y="4550400"/>
                    <a:ext cx="190800" cy="4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4201920" y="4554360"/>
                    <a:ext cx="1044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7">
                        <a:moveTo>
                          <a:pt x="6" y="5"/>
                        </a:moveTo>
                        <a:lnTo>
                          <a:pt x="6" y="21"/>
                        </a:lnTo>
                        <a:lnTo>
                          <a:pt x="0" y="26"/>
                        </a:lnTo>
                        <a:lnTo>
                          <a:pt x="0" y="0"/>
                        </a:lnTo>
                        <a:lnTo>
                          <a:pt x="6" y="5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H="1">
                    <a:off x="4005000" y="4559040"/>
                    <a:ext cx="223560" cy="144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flipH="1">
                    <a:off x="4005000" y="4581000"/>
                    <a:ext cx="223560" cy="144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4062240" y="4532400"/>
                    <a:ext cx="3456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61">
                        <a:moveTo>
                          <a:pt x="0" y="60"/>
                        </a:move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5" y="5"/>
                        </a:lnTo>
                        <a:lnTo>
                          <a:pt x="20" y="5"/>
                        </a:lnTo>
                        <a:lnTo>
                          <a:pt x="22" y="9"/>
                        </a:lnTo>
                        <a:lnTo>
                          <a:pt x="22" y="52"/>
                        </a:lnTo>
                        <a:lnTo>
                          <a:pt x="20" y="54"/>
                        </a:lnTo>
                        <a:lnTo>
                          <a:pt x="5" y="54"/>
                        </a:lnTo>
                        <a:lnTo>
                          <a:pt x="2" y="60"/>
                        </a:lnTo>
                        <a:lnTo>
                          <a:pt x="0" y="6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4066920" y="4532400"/>
                    <a:ext cx="72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9">
                        <a:moveTo>
                          <a:pt x="2" y="18"/>
                        </a:moveTo>
                        <a:lnTo>
                          <a:pt x="2" y="17"/>
                        </a:lnTo>
                        <a:lnTo>
                          <a:pt x="3" y="17"/>
                        </a:lnTo>
                        <a:lnTo>
                          <a:pt x="3" y="16"/>
                        </a:lnTo>
                        <a:lnTo>
                          <a:pt x="4" y="16"/>
                        </a:lnTo>
                        <a:lnTo>
                          <a:pt x="4" y="15"/>
                        </a:lnTo>
                        <a:lnTo>
                          <a:pt x="4" y="14"/>
                        </a:lnTo>
                        <a:lnTo>
                          <a:pt x="4" y="13"/>
                        </a:lnTo>
                        <a:lnTo>
                          <a:pt x="4" y="12"/>
                        </a:lnTo>
                        <a:lnTo>
                          <a:pt x="4" y="11"/>
                        </a:lnTo>
                        <a:lnTo>
                          <a:pt x="3" y="11"/>
                        </a:lnTo>
                        <a:lnTo>
                          <a:pt x="3" y="10"/>
                        </a:lnTo>
                        <a:lnTo>
                          <a:pt x="3" y="9"/>
                        </a:lnTo>
                        <a:lnTo>
                          <a:pt x="3" y="8"/>
                        </a:lnTo>
                        <a:lnTo>
                          <a:pt x="3" y="7"/>
                        </a:lnTo>
                        <a:lnTo>
                          <a:pt x="3" y="6"/>
                        </a:lnTo>
                        <a:lnTo>
                          <a:pt x="2" y="6"/>
                        </a:lnTo>
                        <a:lnTo>
                          <a:pt x="2" y="5"/>
                        </a:lnTo>
                        <a:lnTo>
                          <a:pt x="2" y="4"/>
                        </a:lnTo>
                        <a:lnTo>
                          <a:pt x="2" y="3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4066920" y="4587480"/>
                    <a:ext cx="720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8">
                        <a:moveTo>
                          <a:pt x="2" y="0"/>
                        </a:move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4" y="2"/>
                        </a:lnTo>
                        <a:lnTo>
                          <a:pt x="4" y="3"/>
                        </a:lnTo>
                        <a:lnTo>
                          <a:pt x="4" y="4"/>
                        </a:lnTo>
                        <a:lnTo>
                          <a:pt x="4" y="5"/>
                        </a:lnTo>
                        <a:lnTo>
                          <a:pt x="4" y="6"/>
                        </a:lnTo>
                        <a:lnTo>
                          <a:pt x="4" y="7"/>
                        </a:lnTo>
                        <a:lnTo>
                          <a:pt x="3" y="7"/>
                        </a:lnTo>
                        <a:lnTo>
                          <a:pt x="3" y="8"/>
                        </a:lnTo>
                        <a:lnTo>
                          <a:pt x="3" y="9"/>
                        </a:lnTo>
                        <a:lnTo>
                          <a:pt x="3" y="10"/>
                        </a:lnTo>
                        <a:lnTo>
                          <a:pt x="2" y="11"/>
                        </a:lnTo>
                        <a:lnTo>
                          <a:pt x="2" y="12"/>
                        </a:lnTo>
                        <a:lnTo>
                          <a:pt x="2" y="13"/>
                        </a:lnTo>
                        <a:lnTo>
                          <a:pt x="2" y="14"/>
                        </a:lnTo>
                        <a:lnTo>
                          <a:pt x="1" y="14"/>
                        </a:lnTo>
                        <a:lnTo>
                          <a:pt x="1" y="15"/>
                        </a:lnTo>
                        <a:lnTo>
                          <a:pt x="1" y="16"/>
                        </a:lnTo>
                        <a:lnTo>
                          <a:pt x="0" y="1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4069800" y="4555440"/>
                    <a:ext cx="432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6">
                        <a:moveTo>
                          <a:pt x="0" y="25"/>
                        </a:moveTo>
                        <a:lnTo>
                          <a:pt x="0" y="24"/>
                        </a:lnTo>
                        <a:lnTo>
                          <a:pt x="0" y="23"/>
                        </a:lnTo>
                        <a:lnTo>
                          <a:pt x="1" y="23"/>
                        </a:lnTo>
                        <a:lnTo>
                          <a:pt x="1" y="22"/>
                        </a:lnTo>
                        <a:lnTo>
                          <a:pt x="1" y="21"/>
                        </a:lnTo>
                        <a:lnTo>
                          <a:pt x="1" y="20"/>
                        </a:lnTo>
                        <a:lnTo>
                          <a:pt x="1" y="19"/>
                        </a:lnTo>
                        <a:lnTo>
                          <a:pt x="1" y="18"/>
                        </a:lnTo>
                        <a:lnTo>
                          <a:pt x="1" y="17"/>
                        </a:lnTo>
                        <a:lnTo>
                          <a:pt x="2" y="16"/>
                        </a:lnTo>
                        <a:lnTo>
                          <a:pt x="2" y="15"/>
                        </a:lnTo>
                        <a:lnTo>
                          <a:pt x="2" y="14"/>
                        </a:lnTo>
                        <a:lnTo>
                          <a:pt x="2" y="13"/>
                        </a:lnTo>
                        <a:lnTo>
                          <a:pt x="2" y="12"/>
                        </a:lnTo>
                        <a:lnTo>
                          <a:pt x="2" y="11"/>
                        </a:lnTo>
                        <a:lnTo>
                          <a:pt x="2" y="10"/>
                        </a:lnTo>
                        <a:lnTo>
                          <a:pt x="2" y="9"/>
                        </a:lnTo>
                        <a:lnTo>
                          <a:pt x="2" y="8"/>
                        </a:lnTo>
                        <a:lnTo>
                          <a:pt x="1" y="8"/>
                        </a:lnTo>
                        <a:lnTo>
                          <a:pt x="1" y="7"/>
                        </a:lnTo>
                        <a:lnTo>
                          <a:pt x="1" y="6"/>
                        </a:lnTo>
                        <a:lnTo>
                          <a:pt x="1" y="5"/>
                        </a:lnTo>
                        <a:lnTo>
                          <a:pt x="1" y="4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4092120" y="4587480"/>
                    <a:ext cx="468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1"/>
                        </a:moveTo>
                        <a:lnTo>
                          <a:pt x="0" y="10"/>
                        </a:lnTo>
                        <a:lnTo>
                          <a:pt x="0" y="9"/>
                        </a:lnTo>
                        <a:lnTo>
                          <a:pt x="1" y="9"/>
                        </a:lnTo>
                        <a:lnTo>
                          <a:pt x="1" y="8"/>
                        </a:lnTo>
                        <a:lnTo>
                          <a:pt x="2" y="8"/>
                        </a:lnTo>
                        <a:lnTo>
                          <a:pt x="2" y="7"/>
                        </a:lnTo>
                        <a:lnTo>
                          <a:pt x="2" y="6"/>
                        </a:lnTo>
                        <a:lnTo>
                          <a:pt x="2" y="5"/>
                        </a:lnTo>
                        <a:lnTo>
                          <a:pt x="2" y="4"/>
                        </a:lnTo>
                        <a:lnTo>
                          <a:pt x="2" y="3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4092120" y="4555440"/>
                    <a:ext cx="468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6">
                        <a:moveTo>
                          <a:pt x="0" y="25"/>
                        </a:moveTo>
                        <a:lnTo>
                          <a:pt x="0" y="24"/>
                        </a:lnTo>
                        <a:lnTo>
                          <a:pt x="0" y="23"/>
                        </a:lnTo>
                        <a:lnTo>
                          <a:pt x="0" y="22"/>
                        </a:lnTo>
                        <a:lnTo>
                          <a:pt x="0" y="21"/>
                        </a:lnTo>
                        <a:lnTo>
                          <a:pt x="1" y="21"/>
                        </a:lnTo>
                        <a:lnTo>
                          <a:pt x="1" y="20"/>
                        </a:lnTo>
                        <a:lnTo>
                          <a:pt x="1" y="19"/>
                        </a:lnTo>
                        <a:lnTo>
                          <a:pt x="1" y="18"/>
                        </a:lnTo>
                        <a:lnTo>
                          <a:pt x="2" y="18"/>
                        </a:lnTo>
                        <a:lnTo>
                          <a:pt x="2" y="17"/>
                        </a:lnTo>
                        <a:lnTo>
                          <a:pt x="2" y="16"/>
                        </a:lnTo>
                        <a:lnTo>
                          <a:pt x="2" y="15"/>
                        </a:lnTo>
                        <a:lnTo>
                          <a:pt x="2" y="14"/>
                        </a:lnTo>
                        <a:lnTo>
                          <a:pt x="2" y="13"/>
                        </a:lnTo>
                        <a:lnTo>
                          <a:pt x="2" y="12"/>
                        </a:lnTo>
                        <a:lnTo>
                          <a:pt x="2" y="11"/>
                        </a:lnTo>
                        <a:lnTo>
                          <a:pt x="2" y="10"/>
                        </a:lnTo>
                        <a:lnTo>
                          <a:pt x="2" y="9"/>
                        </a:lnTo>
                        <a:lnTo>
                          <a:pt x="2" y="8"/>
                        </a:lnTo>
                        <a:lnTo>
                          <a:pt x="2" y="7"/>
                        </a:lnTo>
                        <a:lnTo>
                          <a:pt x="1" y="6"/>
                        </a:lnTo>
                        <a:lnTo>
                          <a:pt x="1" y="5"/>
                        </a:lnTo>
                        <a:lnTo>
                          <a:pt x="1" y="4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4092120" y="4538880"/>
                    <a:ext cx="46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4">
                        <a:moveTo>
                          <a:pt x="0" y="13"/>
                        </a:moveTo>
                        <a:lnTo>
                          <a:pt x="0" y="12"/>
                        </a:lnTo>
                        <a:lnTo>
                          <a:pt x="0" y="11"/>
                        </a:lnTo>
                        <a:lnTo>
                          <a:pt x="1" y="11"/>
                        </a:lnTo>
                        <a:lnTo>
                          <a:pt x="1" y="10"/>
                        </a:lnTo>
                        <a:lnTo>
                          <a:pt x="2" y="10"/>
                        </a:lnTo>
                        <a:lnTo>
                          <a:pt x="2" y="9"/>
                        </a:lnTo>
                        <a:lnTo>
                          <a:pt x="2" y="8"/>
                        </a:lnTo>
                        <a:lnTo>
                          <a:pt x="2" y="7"/>
                        </a:lnTo>
                        <a:lnTo>
                          <a:pt x="2" y="6"/>
                        </a:lnTo>
                        <a:lnTo>
                          <a:pt x="2" y="5"/>
                        </a:lnTo>
                        <a:lnTo>
                          <a:pt x="2" y="4"/>
                        </a:lnTo>
                        <a:lnTo>
                          <a:pt x="1" y="4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flipH="1">
                    <a:off x="4056120" y="4555440"/>
                    <a:ext cx="54000" cy="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flipH="1">
                    <a:off x="4056120" y="4587480"/>
                    <a:ext cx="54000" cy="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flipV="1">
                    <a:off x="4066920" y="4519440"/>
                    <a:ext cx="0" cy="10332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4083480" y="4519800"/>
                    <a:ext cx="4932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2">
                        <a:moveTo>
                          <a:pt x="0" y="21"/>
                        </a:moveTo>
                        <a:lnTo>
                          <a:pt x="15" y="0"/>
                        </a:lnTo>
                        <a:lnTo>
                          <a:pt x="3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4156920" y="4532400"/>
                    <a:ext cx="630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30">
                        <a:moveTo>
                          <a:pt x="0" y="29"/>
                        </a:moveTo>
                        <a:lnTo>
                          <a:pt x="18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979800" y="4570560"/>
                    <a:ext cx="241560" cy="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4143240" y="4633200"/>
                    <a:ext cx="18000" cy="22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4164480" y="4661280"/>
                    <a:ext cx="18000" cy="22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7" name=""/>
              <p:cNvSpPr/>
              <p:nvPr/>
            </p:nvSpPr>
            <p:spPr>
              <a:xfrm>
                <a:off x="3583440" y="4663800"/>
                <a:ext cx="103788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Document da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5166720" y="3709080"/>
              <a:ext cx="973800" cy="564480"/>
              <a:chOff x="5166720" y="3709080"/>
              <a:chExt cx="973800" cy="56448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5435640" y="3709080"/>
                <a:ext cx="340920" cy="196200"/>
                <a:chOff x="5435640" y="3709080"/>
                <a:chExt cx="340920" cy="19620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5435640" y="3709080"/>
                  <a:ext cx="263160" cy="114840"/>
                  <a:chOff x="5435640" y="3709080"/>
                  <a:chExt cx="263160" cy="1148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5435640" y="3709080"/>
                    <a:ext cx="2631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90">
                        <a:moveTo>
                          <a:pt x="28" y="89"/>
                        </a:moveTo>
                        <a:lnTo>
                          <a:pt x="22" y="81"/>
                        </a:lnTo>
                        <a:lnTo>
                          <a:pt x="11" y="74"/>
                        </a:lnTo>
                        <a:lnTo>
                          <a:pt x="6" y="58"/>
                        </a:lnTo>
                        <a:lnTo>
                          <a:pt x="0" y="43"/>
                        </a:lnTo>
                        <a:lnTo>
                          <a:pt x="6" y="27"/>
                        </a:lnTo>
                        <a:lnTo>
                          <a:pt x="11" y="12"/>
                        </a:lnTo>
                        <a:lnTo>
                          <a:pt x="22" y="4"/>
                        </a:lnTo>
                        <a:lnTo>
                          <a:pt x="28" y="0"/>
                        </a:lnTo>
                        <a:lnTo>
                          <a:pt x="174" y="0"/>
                        </a:lnTo>
                        <a:lnTo>
                          <a:pt x="163" y="4"/>
                        </a:lnTo>
                        <a:lnTo>
                          <a:pt x="152" y="12"/>
                        </a:lnTo>
                        <a:lnTo>
                          <a:pt x="146" y="27"/>
                        </a:lnTo>
                        <a:lnTo>
                          <a:pt x="146" y="43"/>
                        </a:lnTo>
                        <a:lnTo>
                          <a:pt x="146" y="58"/>
                        </a:lnTo>
                        <a:lnTo>
                          <a:pt x="152" y="74"/>
                        </a:lnTo>
                        <a:lnTo>
                          <a:pt x="163" y="81"/>
                        </a:lnTo>
                        <a:lnTo>
                          <a:pt x="174" y="89"/>
                        </a:lnTo>
                        <a:lnTo>
                          <a:pt x="28" y="89"/>
                        </a:lnTo>
                      </a:path>
                    </a:pathLst>
                  </a:custGeom>
                  <a:solidFill>
                    <a:srgbClr val="ffcc66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5539320" y="3747240"/>
                    <a:ext cx="52200" cy="3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-9000" bIns="-9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7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- -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5464080" y="3743280"/>
                  <a:ext cx="264240" cy="116280"/>
                  <a:chOff x="5464080" y="3743280"/>
                  <a:chExt cx="264240" cy="11628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>
                    <a:off x="5464080" y="3743280"/>
                    <a:ext cx="264240" cy="116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" h="91">
                        <a:moveTo>
                          <a:pt x="28" y="90"/>
                        </a:moveTo>
                        <a:lnTo>
                          <a:pt x="23" y="82"/>
                        </a:lnTo>
                        <a:lnTo>
                          <a:pt x="11" y="74"/>
                        </a:lnTo>
                        <a:lnTo>
                          <a:pt x="6" y="59"/>
                        </a:lnTo>
                        <a:lnTo>
                          <a:pt x="0" y="43"/>
                        </a:lnTo>
                        <a:lnTo>
                          <a:pt x="6" y="28"/>
                        </a:lnTo>
                        <a:lnTo>
                          <a:pt x="11" y="12"/>
                        </a:lnTo>
                        <a:lnTo>
                          <a:pt x="23" y="4"/>
                        </a:lnTo>
                        <a:lnTo>
                          <a:pt x="28" y="0"/>
                        </a:lnTo>
                        <a:lnTo>
                          <a:pt x="175" y="0"/>
                        </a:lnTo>
                        <a:lnTo>
                          <a:pt x="164" y="4"/>
                        </a:lnTo>
                        <a:lnTo>
                          <a:pt x="152" y="12"/>
                        </a:lnTo>
                        <a:lnTo>
                          <a:pt x="147" y="28"/>
                        </a:lnTo>
                        <a:lnTo>
                          <a:pt x="147" y="43"/>
                        </a:lnTo>
                        <a:lnTo>
                          <a:pt x="147" y="59"/>
                        </a:lnTo>
                        <a:lnTo>
                          <a:pt x="152" y="74"/>
                        </a:lnTo>
                        <a:lnTo>
                          <a:pt x="164" y="82"/>
                        </a:lnTo>
                        <a:lnTo>
                          <a:pt x="175" y="90"/>
                        </a:lnTo>
                        <a:lnTo>
                          <a:pt x="28" y="90"/>
                        </a:lnTo>
                      </a:path>
                    </a:pathLst>
                  </a:custGeom>
                  <a:solidFill>
                    <a:srgbClr val="ffcc66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5569200" y="3782880"/>
                    <a:ext cx="52200" cy="3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-8640" bIns="-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7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- -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5518440" y="3788280"/>
                  <a:ext cx="258120" cy="117000"/>
                  <a:chOff x="5518440" y="3788280"/>
                  <a:chExt cx="258120" cy="11700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>
                    <a:off x="5518440" y="3788280"/>
                    <a:ext cx="25812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2" h="92">
                        <a:moveTo>
                          <a:pt x="29" y="91"/>
                        </a:moveTo>
                        <a:lnTo>
                          <a:pt x="17" y="83"/>
                        </a:lnTo>
                        <a:lnTo>
                          <a:pt x="6" y="75"/>
                        </a:lnTo>
                        <a:lnTo>
                          <a:pt x="0" y="63"/>
                        </a:lnTo>
                        <a:lnTo>
                          <a:pt x="0" y="48"/>
                        </a:lnTo>
                        <a:lnTo>
                          <a:pt x="0" y="32"/>
                        </a:lnTo>
                        <a:lnTo>
                          <a:pt x="6" y="16"/>
                        </a:lnTo>
                        <a:lnTo>
                          <a:pt x="17" y="8"/>
                        </a:lnTo>
                        <a:lnTo>
                          <a:pt x="29" y="0"/>
                        </a:lnTo>
                        <a:lnTo>
                          <a:pt x="171" y="0"/>
                        </a:lnTo>
                        <a:lnTo>
                          <a:pt x="160" y="8"/>
                        </a:lnTo>
                        <a:lnTo>
                          <a:pt x="148" y="16"/>
                        </a:lnTo>
                        <a:lnTo>
                          <a:pt x="143" y="32"/>
                        </a:lnTo>
                        <a:lnTo>
                          <a:pt x="143" y="48"/>
                        </a:lnTo>
                        <a:lnTo>
                          <a:pt x="143" y="63"/>
                        </a:lnTo>
                        <a:lnTo>
                          <a:pt x="148" y="75"/>
                        </a:lnTo>
                        <a:lnTo>
                          <a:pt x="160" y="83"/>
                        </a:lnTo>
                        <a:lnTo>
                          <a:pt x="171" y="91"/>
                        </a:lnTo>
                        <a:lnTo>
                          <a:pt x="29" y="91"/>
                        </a:lnTo>
                      </a:path>
                    </a:pathLst>
                  </a:custGeom>
                  <a:solidFill>
                    <a:srgbClr val="ffcc66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5617440" y="3828960"/>
                    <a:ext cx="52200" cy="3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-9000" bIns="-9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7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- -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9" name=""/>
              <p:cNvSpPr/>
              <p:nvPr/>
            </p:nvSpPr>
            <p:spPr>
              <a:xfrm>
                <a:off x="5166720" y="3880080"/>
                <a:ext cx="9738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Administra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3041640" y="3705120"/>
              <a:ext cx="896400" cy="545760"/>
              <a:chOff x="3041640" y="3705120"/>
              <a:chExt cx="896400" cy="54576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3041640" y="3737880"/>
                <a:ext cx="208440" cy="448200"/>
                <a:chOff x="3041640" y="3737880"/>
                <a:chExt cx="208440" cy="44820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3066840" y="3790080"/>
                  <a:ext cx="0" cy="354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089520" y="3849120"/>
                  <a:ext cx="18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140640" y="3883320"/>
                  <a:ext cx="0" cy="10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089520" y="4077720"/>
                  <a:ext cx="40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089520" y="4160880"/>
                  <a:ext cx="23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166200" y="3923280"/>
                  <a:ext cx="40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166200" y="4007520"/>
                  <a:ext cx="23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041640" y="3737880"/>
                  <a:ext cx="50760" cy="5112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115080" y="4053240"/>
                  <a:ext cx="51120" cy="51120"/>
                </a:xfrm>
                <a:prstGeom prst="ellipse">
                  <a:avLst/>
                </a:prstGeom>
                <a:solidFill>
                  <a:srgbClr val="0169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115080" y="4135320"/>
                  <a:ext cx="51120" cy="50760"/>
                </a:xfrm>
                <a:prstGeom prst="ellipse">
                  <a:avLst/>
                </a:prstGeom>
                <a:solidFill>
                  <a:srgbClr val="0169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199320" y="3901320"/>
                  <a:ext cx="50760" cy="50760"/>
                </a:xfrm>
                <a:prstGeom prst="ellipse">
                  <a:avLst/>
                </a:prstGeom>
                <a:solidFill>
                  <a:srgbClr val="0169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199320" y="3983040"/>
                  <a:ext cx="50760" cy="50760"/>
                </a:xfrm>
                <a:prstGeom prst="ellipse">
                  <a:avLst/>
                </a:prstGeom>
                <a:solidFill>
                  <a:srgbClr val="0169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115080" y="3823560"/>
                  <a:ext cx="51120" cy="5076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" name=""/>
              <p:cNvSpPr/>
              <p:nvPr/>
            </p:nvSpPr>
            <p:spPr>
              <a:xfrm>
                <a:off x="3262680" y="3705120"/>
                <a:ext cx="675360" cy="54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Produc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structur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3340440" y="3186720"/>
              <a:ext cx="2488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Product Data Standar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6557760" y="2532240"/>
              <a:ext cx="1040400" cy="843840"/>
              <a:chOff x="6557760" y="2532240"/>
              <a:chExt cx="1040400" cy="8438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6557760" y="2532240"/>
                <a:ext cx="1040400" cy="843840"/>
                <a:chOff x="6557760" y="2532240"/>
                <a:chExt cx="1040400" cy="8438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6910920" y="3260160"/>
                  <a:ext cx="17640" cy="66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6925320" y="3260160"/>
                  <a:ext cx="18360" cy="66240"/>
                </a:xfrm>
                <a:prstGeom prst="rect">
                  <a:avLst/>
                </a:prstGeom>
                <a:solidFill>
                  <a:srgbClr val="fcf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6941880" y="3260160"/>
                  <a:ext cx="16200" cy="66240"/>
                </a:xfrm>
                <a:prstGeom prst="rect">
                  <a:avLst/>
                </a:pr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955920" y="3260160"/>
                  <a:ext cx="19800" cy="662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970680" y="3260160"/>
                  <a:ext cx="17640" cy="66240"/>
                </a:xfrm>
                <a:prstGeom prst="rect">
                  <a:avLst/>
                </a:pr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985080" y="3260160"/>
                  <a:ext cx="17640" cy="6624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997680" y="3260160"/>
                  <a:ext cx="19440" cy="6624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013880" y="3260160"/>
                  <a:ext cx="19800" cy="66240"/>
                </a:xfrm>
                <a:prstGeom prst="rect">
                  <a:avLst/>
                </a:prstGeom>
                <a:solidFill>
                  <a:srgbClr val="db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028280" y="3260160"/>
                  <a:ext cx="17640" cy="66240"/>
                </a:xfrm>
                <a:prstGeom prst="rect">
                  <a:avLst/>
                </a:prstGeom>
                <a:solidFill>
                  <a:srgbClr val="d6d6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042680" y="3260160"/>
                  <a:ext cx="19800" cy="66240"/>
                </a:xfrm>
                <a:prstGeom prst="rect">
                  <a:avLst/>
                </a:prstGeom>
                <a:solidFill>
                  <a:srgbClr val="d1d1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059240" y="3260160"/>
                  <a:ext cx="17640" cy="662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073280" y="3260160"/>
                  <a:ext cx="17640" cy="66240"/>
                </a:xfrm>
                <a:prstGeom prst="rect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087680" y="3260160"/>
                  <a:ext cx="17640" cy="66240"/>
                </a:xfrm>
                <a:prstGeom prst="rect">
                  <a:avLst/>
                </a:prstGeom>
                <a:solidFill>
                  <a:srgbClr val="c1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102440" y="3260160"/>
                  <a:ext cx="19440" cy="66240"/>
                </a:xfrm>
                <a:prstGeom prst="rect">
                  <a:avLst/>
                </a:prstGeom>
                <a:solidFill>
                  <a:srgbClr val="bc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116840" y="3260160"/>
                  <a:ext cx="17640" cy="66240"/>
                </a:xfrm>
                <a:prstGeom prst="rect">
                  <a:avLst/>
                </a:prstGeom>
                <a:solidFill>
                  <a:srgbClr val="b7b7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131240" y="3260160"/>
                  <a:ext cx="17640" cy="6624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145280" y="3260160"/>
                  <a:ext cx="17640" cy="66240"/>
                </a:xfrm>
                <a:prstGeom prst="rect">
                  <a:avLst/>
                </a:prstGeom>
                <a:solidFill>
                  <a:srgbClr val="adad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158240" y="3260160"/>
                  <a:ext cx="17640" cy="66240"/>
                </a:xfrm>
                <a:prstGeom prst="rect">
                  <a:avLst/>
                </a:prstGeom>
                <a:solidFill>
                  <a:srgbClr val="a8a8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170840" y="3260160"/>
                  <a:ext cx="17640" cy="66240"/>
                </a:xfrm>
                <a:prstGeom prst="rect">
                  <a:avLst/>
                </a:prstGeom>
                <a:solidFill>
                  <a:srgbClr val="a3a3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185240" y="3260160"/>
                  <a:ext cx="16200" cy="66240"/>
                </a:xfrm>
                <a:prstGeom prst="rect">
                  <a:avLst/>
                </a:prstGeom>
                <a:solidFill>
                  <a:srgbClr val="9b9b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197840" y="3260160"/>
                  <a:ext cx="16200" cy="662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210440" y="3260160"/>
                  <a:ext cx="16200" cy="6624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224840" y="3260160"/>
                  <a:ext cx="16200" cy="66240"/>
                </a:xfrm>
                <a:prstGeom prst="rect">
                  <a:avLst/>
                </a:prstGeom>
                <a:solidFill>
                  <a:srgbClr val="8c8c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236000" y="3260160"/>
                  <a:ext cx="16200" cy="66240"/>
                </a:xfrm>
                <a:prstGeom prst="rect">
                  <a:avLst/>
                </a:prstGeom>
                <a:solidFill>
                  <a:srgbClr val="87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918480" y="3265200"/>
                  <a:ext cx="324720" cy="5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739560" y="3354480"/>
                  <a:ext cx="19800" cy="21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756120" y="3354480"/>
                  <a:ext cx="16200" cy="21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770160" y="3354480"/>
                  <a:ext cx="17640" cy="21600"/>
                </a:xfrm>
                <a:prstGeom prst="rect">
                  <a:avLst/>
                </a:prstGeom>
                <a:solidFill>
                  <a:srgbClr val="fcf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84560" y="3354480"/>
                  <a:ext cx="18360" cy="21600"/>
                </a:xfrm>
                <a:prstGeom prst="rect">
                  <a:avLst/>
                </a:prstGeom>
                <a:solidFill>
                  <a:srgbClr val="f9f9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797160" y="3354480"/>
                  <a:ext cx="17640" cy="21600"/>
                </a:xfrm>
                <a:prstGeom prst="rect">
                  <a:avLst/>
                </a:pr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813720" y="3354480"/>
                  <a:ext cx="17640" cy="216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828120" y="3354480"/>
                  <a:ext cx="17640" cy="216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842880" y="3354480"/>
                  <a:ext cx="17640" cy="21600"/>
                </a:xfrm>
                <a:prstGeom prst="rect">
                  <a:avLst/>
                </a:pr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858720" y="3354480"/>
                  <a:ext cx="17640" cy="21600"/>
                </a:xfrm>
                <a:prstGeom prst="rect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871320" y="3354480"/>
                  <a:ext cx="19800" cy="2160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885720" y="3354480"/>
                  <a:ext cx="19800" cy="2160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903720" y="3354480"/>
                  <a:ext cx="16200" cy="21600"/>
                </a:xfrm>
                <a:prstGeom prst="rect">
                  <a:avLst/>
                </a:prstGeom>
                <a:solidFill>
                  <a:srgbClr val="e2e2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916320" y="3354480"/>
                  <a:ext cx="19800" cy="2160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931080" y="3354480"/>
                  <a:ext cx="19440" cy="2160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946920" y="3354480"/>
                  <a:ext cx="17640" cy="21600"/>
                </a:xfrm>
                <a:prstGeom prst="rect">
                  <a:avLst/>
                </a:prstGeom>
                <a:solidFill>
                  <a:srgbClr val="db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961680" y="3354480"/>
                  <a:ext cx="17640" cy="21600"/>
                </a:xfrm>
                <a:prstGeom prst="rect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6976080" y="3354480"/>
                  <a:ext cx="17640" cy="21600"/>
                </a:xfrm>
                <a:prstGeom prst="rect">
                  <a:avLst/>
                </a:prstGeom>
                <a:solidFill>
                  <a:srgbClr val="d6d6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90480" y="3354480"/>
                  <a:ext cx="17640" cy="21600"/>
                </a:xfrm>
                <a:prstGeom prst="rect">
                  <a:avLst/>
                </a:prstGeom>
                <a:solidFill>
                  <a:srgbClr val="d3d3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004880" y="3354480"/>
                  <a:ext cx="18360" cy="21600"/>
                </a:xfrm>
                <a:prstGeom prst="rect">
                  <a:avLst/>
                </a:prstGeom>
                <a:solidFill>
                  <a:srgbClr val="d1d1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019280" y="3354480"/>
                  <a:ext cx="19440" cy="2160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033680" y="3354480"/>
                  <a:ext cx="19440" cy="216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048080" y="3354480"/>
                  <a:ext cx="17640" cy="21600"/>
                </a:xfrm>
                <a:prstGeom prst="rect">
                  <a:avLst/>
                </a:prstGeom>
                <a:solidFill>
                  <a:srgbClr val="c9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064280" y="3354480"/>
                  <a:ext cx="17640" cy="21600"/>
                </a:xfrm>
                <a:prstGeom prst="rect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078680" y="3354480"/>
                  <a:ext cx="17640" cy="21600"/>
                </a:xfrm>
                <a:prstGeom prst="rect">
                  <a:avLst/>
                </a:prstGeom>
                <a:solidFill>
                  <a:srgbClr val="c4c4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093440" y="3354480"/>
                  <a:ext cx="17640" cy="2160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109280" y="3354480"/>
                  <a:ext cx="17640" cy="21600"/>
                </a:xfrm>
                <a:prstGeom prst="rect">
                  <a:avLst/>
                </a:prstGeom>
                <a:solidFill>
                  <a:srgbClr val="bc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122240" y="3354480"/>
                  <a:ext cx="17640" cy="21600"/>
                </a:xfrm>
                <a:prstGeom prst="rect">
                  <a:avLst/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136280" y="3354480"/>
                  <a:ext cx="17640" cy="21600"/>
                </a:xfrm>
                <a:prstGeom prst="rect">
                  <a:avLst/>
                </a:prstGeom>
                <a:solidFill>
                  <a:srgbClr val="b7b7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151040" y="3354480"/>
                  <a:ext cx="19440" cy="21600"/>
                </a:xfrm>
                <a:prstGeom prst="rect">
                  <a:avLst/>
                </a:pr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165440" y="3354480"/>
                  <a:ext cx="19440" cy="216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7179840" y="3354480"/>
                  <a:ext cx="19800" cy="21600"/>
                </a:xfrm>
                <a:prstGeom prst="rect">
                  <a:avLst/>
                </a:prstGeom>
                <a:solidFill>
                  <a:srgbClr val="afaf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196040" y="3354480"/>
                  <a:ext cx="17640" cy="21600"/>
                </a:xfrm>
                <a:prstGeom prst="rect">
                  <a:avLst/>
                </a:prstGeom>
                <a:solidFill>
                  <a:srgbClr val="adad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210440" y="3354480"/>
                  <a:ext cx="17640" cy="21600"/>
                </a:xfrm>
                <a:prstGeom prst="rect">
                  <a:avLst/>
                </a:prstGeom>
                <a:solidFill>
                  <a:srgbClr val="aaa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224840" y="3354480"/>
                  <a:ext cx="19800" cy="21600"/>
                </a:xfrm>
                <a:prstGeom prst="rect">
                  <a:avLst/>
                </a:prstGeom>
                <a:solidFill>
                  <a:srgbClr val="a8a8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241040" y="3354480"/>
                  <a:ext cx="17640" cy="216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255440" y="3354480"/>
                  <a:ext cx="17640" cy="21600"/>
                </a:xfrm>
                <a:prstGeom prst="rect">
                  <a:avLst/>
                </a:prstGeom>
                <a:solidFill>
                  <a:srgbClr val="a3a3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270200" y="3354480"/>
                  <a:ext cx="19440" cy="21600"/>
                </a:xfrm>
                <a:prstGeom prst="rect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284600" y="3354480"/>
                  <a:ext cx="16200" cy="21600"/>
                </a:xfrm>
                <a:prstGeom prst="rect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300800" y="3354480"/>
                  <a:ext cx="15840" cy="21600"/>
                </a:xfrm>
                <a:prstGeom prst="rect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313040" y="3354480"/>
                  <a:ext cx="18360" cy="21600"/>
                </a:xfrm>
                <a:prstGeom prst="rect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327800" y="3354480"/>
                  <a:ext cx="17640" cy="216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342200" y="3354480"/>
                  <a:ext cx="17640" cy="2160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356600" y="3354480"/>
                  <a:ext cx="14400" cy="21600"/>
                </a:xfrm>
                <a:prstGeom prst="rect">
                  <a:avLst/>
                </a:prstGeom>
                <a:solidFill>
                  <a:srgbClr val="8e8e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369200" y="3354480"/>
                  <a:ext cx="16200" cy="21600"/>
                </a:xfrm>
                <a:prstGeom prst="rect">
                  <a:avLst/>
                </a:prstGeom>
                <a:solidFill>
                  <a:srgbClr val="8c8c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381800" y="3354480"/>
                  <a:ext cx="16200" cy="21600"/>
                </a:xfrm>
                <a:prstGeom prst="rect">
                  <a:avLst/>
                </a:prstGeom>
                <a:solidFill>
                  <a:srgbClr val="8989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394400" y="3354480"/>
                  <a:ext cx="16200" cy="21600"/>
                </a:xfrm>
                <a:prstGeom prst="rect">
                  <a:avLst/>
                </a:prstGeom>
                <a:solidFill>
                  <a:srgbClr val="87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407360" y="3354480"/>
                  <a:ext cx="14040" cy="21600"/>
                </a:xfrm>
                <a:prstGeom prst="rect">
                  <a:avLst/>
                </a:prstGeom>
                <a:solidFill>
                  <a:srgbClr val="8484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6747120" y="3359880"/>
                  <a:ext cx="667080" cy="10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739560" y="3307320"/>
                  <a:ext cx="683280" cy="48600"/>
                </a:xfrm>
                <a:custGeom>
                  <a:avLst/>
                  <a:gdLst/>
                  <a:ahLst/>
                  <a:rect l="l" t="t" r="r" b="b"/>
                  <a:pathLst>
                    <a:path w="379" h="38">
                      <a:moveTo>
                        <a:pt x="0" y="37"/>
                      </a:moveTo>
                      <a:lnTo>
                        <a:pt x="94" y="0"/>
                      </a:lnTo>
                      <a:lnTo>
                        <a:pt x="284" y="0"/>
                      </a:lnTo>
                      <a:lnTo>
                        <a:pt x="378" y="37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6739560" y="3307320"/>
                  <a:ext cx="683280" cy="48600"/>
                </a:xfrm>
                <a:custGeom>
                  <a:avLst/>
                  <a:gdLst/>
                  <a:ahLst/>
                  <a:rect l="l" t="t" r="r" b="b"/>
                  <a:pathLst>
                    <a:path w="379" h="38">
                      <a:moveTo>
                        <a:pt x="0" y="37"/>
                      </a:moveTo>
                      <a:lnTo>
                        <a:pt x="94" y="0"/>
                      </a:lnTo>
                      <a:lnTo>
                        <a:pt x="284" y="0"/>
                      </a:lnTo>
                      <a:lnTo>
                        <a:pt x="378" y="37"/>
                      </a:lnTo>
                      <a:lnTo>
                        <a:pt x="0" y="3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557760" y="2532240"/>
                  <a:ext cx="1040400" cy="7394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6564600" y="2536920"/>
                  <a:ext cx="1026720" cy="7293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667560" y="2610000"/>
                  <a:ext cx="827640" cy="501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674400" y="2615040"/>
                  <a:ext cx="813600" cy="4917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687360" y="2618640"/>
                  <a:ext cx="790200" cy="485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6694560" y="2624040"/>
                  <a:ext cx="771840" cy="472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584400" y="3202920"/>
                  <a:ext cx="99180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946920" y="3222000"/>
                  <a:ext cx="0" cy="34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214040" y="3222000"/>
                  <a:ext cx="0" cy="34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439400" y="3222000"/>
                  <a:ext cx="41400" cy="34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446960" y="3226680"/>
                  <a:ext cx="26640" cy="24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5" name=""/>
              <p:cNvSpPr/>
              <p:nvPr/>
            </p:nvSpPr>
            <p:spPr>
              <a:xfrm>
                <a:off x="6757560" y="2657160"/>
                <a:ext cx="716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ffff00"/>
                    </a:solidFill>
                    <a:latin typeface="Arial"/>
                  </a:rPr>
                  <a:t>Proc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ffff00"/>
                    </a:solidFill>
                    <a:latin typeface="Arial"/>
                  </a:rPr>
                  <a:t>Planni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1066680" y="3881520"/>
              <a:ext cx="1040760" cy="843840"/>
              <a:chOff x="1066680" y="3881520"/>
              <a:chExt cx="1040760" cy="843840"/>
            </a:xfrm>
          </p:grpSpPr>
          <p:grpSp>
            <p:nvGrpSpPr>
              <p:cNvPr id="287" name=""/>
              <p:cNvGrpSpPr/>
              <p:nvPr/>
            </p:nvGrpSpPr>
            <p:grpSpPr>
              <a:xfrm>
                <a:off x="1066680" y="3881520"/>
                <a:ext cx="1040760" cy="843840"/>
                <a:chOff x="1066680" y="3881520"/>
                <a:chExt cx="1040760" cy="8438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1420200" y="4609440"/>
                  <a:ext cx="18000" cy="66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434240" y="4609440"/>
                  <a:ext cx="18360" cy="66240"/>
                </a:xfrm>
                <a:prstGeom prst="rect">
                  <a:avLst/>
                </a:prstGeom>
                <a:solidFill>
                  <a:srgbClr val="fcf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1450800" y="4609440"/>
                  <a:ext cx="16200" cy="66240"/>
                </a:xfrm>
                <a:prstGeom prst="rect">
                  <a:avLst/>
                </a:pr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1465200" y="4609440"/>
                  <a:ext cx="19800" cy="662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1479960" y="4609440"/>
                  <a:ext cx="18000" cy="66240"/>
                </a:xfrm>
                <a:prstGeom prst="rect">
                  <a:avLst/>
                </a:pr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494000" y="4609440"/>
                  <a:ext cx="18000" cy="6624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1506960" y="4609440"/>
                  <a:ext cx="19440" cy="6624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522800" y="4609440"/>
                  <a:ext cx="19800" cy="66240"/>
                </a:xfrm>
                <a:prstGeom prst="rect">
                  <a:avLst/>
                </a:prstGeom>
                <a:solidFill>
                  <a:srgbClr val="db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537560" y="4609440"/>
                  <a:ext cx="18000" cy="66240"/>
                </a:xfrm>
                <a:prstGeom prst="rect">
                  <a:avLst/>
                </a:prstGeom>
                <a:solidFill>
                  <a:srgbClr val="d6d6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551960" y="4609440"/>
                  <a:ext cx="19800" cy="66240"/>
                </a:xfrm>
                <a:prstGeom prst="rect">
                  <a:avLst/>
                </a:prstGeom>
                <a:solidFill>
                  <a:srgbClr val="d1d1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1568160" y="4609440"/>
                  <a:ext cx="18000" cy="662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582560" y="4609440"/>
                  <a:ext cx="18000" cy="66240"/>
                </a:xfrm>
                <a:prstGeom prst="rect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596960" y="4609440"/>
                  <a:ext cx="18000" cy="66240"/>
                </a:xfrm>
                <a:prstGeom prst="rect">
                  <a:avLst/>
                </a:prstGeom>
                <a:solidFill>
                  <a:srgbClr val="c1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611720" y="4609440"/>
                  <a:ext cx="19440" cy="66240"/>
                </a:xfrm>
                <a:prstGeom prst="rect">
                  <a:avLst/>
                </a:prstGeom>
                <a:solidFill>
                  <a:srgbClr val="bc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625760" y="4609440"/>
                  <a:ext cx="18000" cy="66240"/>
                </a:xfrm>
                <a:prstGeom prst="rect">
                  <a:avLst/>
                </a:prstGeom>
                <a:solidFill>
                  <a:srgbClr val="b7b7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1640160" y="4609440"/>
                  <a:ext cx="18000" cy="6624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1654560" y="4609440"/>
                  <a:ext cx="18000" cy="66240"/>
                </a:xfrm>
                <a:prstGeom prst="rect">
                  <a:avLst/>
                </a:prstGeom>
                <a:solidFill>
                  <a:srgbClr val="adad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667160" y="4609440"/>
                  <a:ext cx="18000" cy="66240"/>
                </a:xfrm>
                <a:prstGeom prst="rect">
                  <a:avLst/>
                </a:prstGeom>
                <a:solidFill>
                  <a:srgbClr val="a8a8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679760" y="4609440"/>
                  <a:ext cx="18000" cy="66240"/>
                </a:xfrm>
                <a:prstGeom prst="rect">
                  <a:avLst/>
                </a:prstGeom>
                <a:solidFill>
                  <a:srgbClr val="a3a3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694160" y="4609440"/>
                  <a:ext cx="16200" cy="66240"/>
                </a:xfrm>
                <a:prstGeom prst="rect">
                  <a:avLst/>
                </a:prstGeom>
                <a:solidFill>
                  <a:srgbClr val="9b9b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706760" y="4609440"/>
                  <a:ext cx="16200" cy="662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719720" y="4609440"/>
                  <a:ext cx="16200" cy="6624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734120" y="4609440"/>
                  <a:ext cx="16200" cy="66240"/>
                </a:xfrm>
                <a:prstGeom prst="rect">
                  <a:avLst/>
                </a:prstGeom>
                <a:solidFill>
                  <a:srgbClr val="8c8c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1744920" y="4609440"/>
                  <a:ext cx="16200" cy="66240"/>
                </a:xfrm>
                <a:prstGeom prst="rect">
                  <a:avLst/>
                </a:prstGeom>
                <a:solidFill>
                  <a:srgbClr val="87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1427400" y="4614480"/>
                  <a:ext cx="324720" cy="5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1248480" y="4703760"/>
                  <a:ext cx="19800" cy="21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265040" y="4703760"/>
                  <a:ext cx="16200" cy="21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279440" y="4703760"/>
                  <a:ext cx="18000" cy="21600"/>
                </a:xfrm>
                <a:prstGeom prst="rect">
                  <a:avLst/>
                </a:prstGeom>
                <a:solidFill>
                  <a:srgbClr val="fcf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293480" y="4703760"/>
                  <a:ext cx="18360" cy="21600"/>
                </a:xfrm>
                <a:prstGeom prst="rect">
                  <a:avLst/>
                </a:prstGeom>
                <a:solidFill>
                  <a:srgbClr val="f9f9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306440" y="4703760"/>
                  <a:ext cx="18000" cy="21600"/>
                </a:xfrm>
                <a:prstGeom prst="rect">
                  <a:avLst/>
                </a:pr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22640" y="4703760"/>
                  <a:ext cx="18000" cy="216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337040" y="4703760"/>
                  <a:ext cx="18000" cy="216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351800" y="4703760"/>
                  <a:ext cx="18000" cy="21600"/>
                </a:xfrm>
                <a:prstGeom prst="rect">
                  <a:avLst/>
                </a:pr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367640" y="4703760"/>
                  <a:ext cx="18000" cy="21600"/>
                </a:xfrm>
                <a:prstGeom prst="rect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380240" y="4703760"/>
                  <a:ext cx="19800" cy="2160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394640" y="4703760"/>
                  <a:ext cx="19800" cy="2160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412640" y="4703760"/>
                  <a:ext cx="16200" cy="21600"/>
                </a:xfrm>
                <a:prstGeom prst="rect">
                  <a:avLst/>
                </a:prstGeom>
                <a:solidFill>
                  <a:srgbClr val="e2e2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425240" y="4703760"/>
                  <a:ext cx="19800" cy="2160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440000" y="4703760"/>
                  <a:ext cx="19440" cy="2160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456200" y="4703760"/>
                  <a:ext cx="18000" cy="21600"/>
                </a:xfrm>
                <a:prstGeom prst="rect">
                  <a:avLst/>
                </a:prstGeom>
                <a:solidFill>
                  <a:srgbClr val="db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470960" y="4703760"/>
                  <a:ext cx="18000" cy="21600"/>
                </a:xfrm>
                <a:prstGeom prst="rect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485000" y="4703760"/>
                  <a:ext cx="18000" cy="21600"/>
                </a:xfrm>
                <a:prstGeom prst="rect">
                  <a:avLst/>
                </a:prstGeom>
                <a:solidFill>
                  <a:srgbClr val="d6d6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499400" y="4703760"/>
                  <a:ext cx="18000" cy="21600"/>
                </a:xfrm>
                <a:prstGeom prst="rect">
                  <a:avLst/>
                </a:prstGeom>
                <a:solidFill>
                  <a:srgbClr val="d3d3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513800" y="4703760"/>
                  <a:ext cx="18360" cy="21600"/>
                </a:xfrm>
                <a:prstGeom prst="rect">
                  <a:avLst/>
                </a:prstGeom>
                <a:solidFill>
                  <a:srgbClr val="d1d1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528560" y="4703760"/>
                  <a:ext cx="19440" cy="2160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542960" y="4703760"/>
                  <a:ext cx="19440" cy="216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557000" y="4703760"/>
                  <a:ext cx="18000" cy="21600"/>
                </a:xfrm>
                <a:prstGeom prst="rect">
                  <a:avLst/>
                </a:prstGeom>
                <a:solidFill>
                  <a:srgbClr val="c9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573560" y="4703760"/>
                  <a:ext cx="18000" cy="21600"/>
                </a:xfrm>
                <a:prstGeom prst="rect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587960" y="4703760"/>
                  <a:ext cx="18000" cy="21600"/>
                </a:xfrm>
                <a:prstGeom prst="rect">
                  <a:avLst/>
                </a:prstGeom>
                <a:solidFill>
                  <a:srgbClr val="c4c4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602720" y="4703760"/>
                  <a:ext cx="18000" cy="2160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618560" y="4703760"/>
                  <a:ext cx="18000" cy="21600"/>
                </a:xfrm>
                <a:prstGeom prst="rect">
                  <a:avLst/>
                </a:prstGeom>
                <a:solidFill>
                  <a:srgbClr val="bc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631160" y="4703760"/>
                  <a:ext cx="18000" cy="21600"/>
                </a:xfrm>
                <a:prstGeom prst="rect">
                  <a:avLst/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645560" y="4703760"/>
                  <a:ext cx="18000" cy="21600"/>
                </a:xfrm>
                <a:prstGeom prst="rect">
                  <a:avLst/>
                </a:prstGeom>
                <a:solidFill>
                  <a:srgbClr val="b7b7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660320" y="4703760"/>
                  <a:ext cx="19440" cy="21600"/>
                </a:xfrm>
                <a:prstGeom prst="rect">
                  <a:avLst/>
                </a:pr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674720" y="4703760"/>
                  <a:ext cx="19440" cy="216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688760" y="4703760"/>
                  <a:ext cx="19800" cy="21600"/>
                </a:xfrm>
                <a:prstGeom prst="rect">
                  <a:avLst/>
                </a:prstGeom>
                <a:solidFill>
                  <a:srgbClr val="afaf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705320" y="4703760"/>
                  <a:ext cx="18000" cy="21600"/>
                </a:xfrm>
                <a:prstGeom prst="rect">
                  <a:avLst/>
                </a:prstGeom>
                <a:solidFill>
                  <a:srgbClr val="adad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719720" y="4703760"/>
                  <a:ext cx="18000" cy="21600"/>
                </a:xfrm>
                <a:prstGeom prst="rect">
                  <a:avLst/>
                </a:prstGeom>
                <a:solidFill>
                  <a:srgbClr val="aaa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734120" y="4703760"/>
                  <a:ext cx="19800" cy="21600"/>
                </a:xfrm>
                <a:prstGeom prst="rect">
                  <a:avLst/>
                </a:prstGeom>
                <a:solidFill>
                  <a:srgbClr val="a8a8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750320" y="4703760"/>
                  <a:ext cx="18000" cy="216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764720" y="4703760"/>
                  <a:ext cx="18000" cy="21600"/>
                </a:xfrm>
                <a:prstGeom prst="rect">
                  <a:avLst/>
                </a:prstGeom>
                <a:solidFill>
                  <a:srgbClr val="a3a3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779480" y="4703760"/>
                  <a:ext cx="19440" cy="21600"/>
                </a:xfrm>
                <a:prstGeom prst="rect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793520" y="4703760"/>
                  <a:ext cx="16200" cy="21600"/>
                </a:xfrm>
                <a:prstGeom prst="rect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810080" y="4703760"/>
                  <a:ext cx="15840" cy="21600"/>
                </a:xfrm>
                <a:prstGeom prst="rect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822320" y="4703760"/>
                  <a:ext cx="18360" cy="21600"/>
                </a:xfrm>
                <a:prstGeom prst="rect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837080" y="4703760"/>
                  <a:ext cx="18000" cy="216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851480" y="4703760"/>
                  <a:ext cx="18000" cy="2160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65880" y="4703760"/>
                  <a:ext cx="14400" cy="21600"/>
                </a:xfrm>
                <a:prstGeom prst="rect">
                  <a:avLst/>
                </a:prstGeom>
                <a:solidFill>
                  <a:srgbClr val="8e8e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878480" y="4703760"/>
                  <a:ext cx="16200" cy="21600"/>
                </a:xfrm>
                <a:prstGeom prst="rect">
                  <a:avLst/>
                </a:prstGeom>
                <a:solidFill>
                  <a:srgbClr val="8c8c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891080" y="4703760"/>
                  <a:ext cx="16200" cy="21600"/>
                </a:xfrm>
                <a:prstGeom prst="rect">
                  <a:avLst/>
                </a:prstGeom>
                <a:solidFill>
                  <a:srgbClr val="8989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903680" y="4703760"/>
                  <a:ext cx="16200" cy="21600"/>
                </a:xfrm>
                <a:prstGeom prst="rect">
                  <a:avLst/>
                </a:prstGeom>
                <a:solidFill>
                  <a:srgbClr val="87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916640" y="4703760"/>
                  <a:ext cx="14040" cy="21600"/>
                </a:xfrm>
                <a:prstGeom prst="rect">
                  <a:avLst/>
                </a:prstGeom>
                <a:solidFill>
                  <a:srgbClr val="8484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256040" y="4709160"/>
                  <a:ext cx="667440" cy="10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248480" y="4656600"/>
                  <a:ext cx="683640" cy="48600"/>
                </a:xfrm>
                <a:custGeom>
                  <a:avLst/>
                  <a:gdLst/>
                  <a:ahLst/>
                  <a:rect l="l" t="t" r="r" b="b"/>
                  <a:pathLst>
                    <a:path w="379" h="38">
                      <a:moveTo>
                        <a:pt x="0" y="37"/>
                      </a:moveTo>
                      <a:lnTo>
                        <a:pt x="94" y="0"/>
                      </a:lnTo>
                      <a:lnTo>
                        <a:pt x="284" y="0"/>
                      </a:lnTo>
                      <a:lnTo>
                        <a:pt x="378" y="37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248480" y="4656600"/>
                  <a:ext cx="683640" cy="48600"/>
                </a:xfrm>
                <a:custGeom>
                  <a:avLst/>
                  <a:gdLst/>
                  <a:ahLst/>
                  <a:rect l="l" t="t" r="r" b="b"/>
                  <a:pathLst>
                    <a:path w="379" h="38">
                      <a:moveTo>
                        <a:pt x="0" y="37"/>
                      </a:moveTo>
                      <a:lnTo>
                        <a:pt x="94" y="0"/>
                      </a:lnTo>
                      <a:lnTo>
                        <a:pt x="284" y="0"/>
                      </a:lnTo>
                      <a:lnTo>
                        <a:pt x="378" y="37"/>
                      </a:lnTo>
                      <a:lnTo>
                        <a:pt x="0" y="3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066680" y="3881520"/>
                  <a:ext cx="1040760" cy="7394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073520" y="3886200"/>
                  <a:ext cx="1027080" cy="7293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176480" y="3959280"/>
                  <a:ext cx="828000" cy="501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183680" y="3964320"/>
                  <a:ext cx="813600" cy="4917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196280" y="3967920"/>
                  <a:ext cx="790560" cy="485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203480" y="3973320"/>
                  <a:ext cx="772200" cy="472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093680" y="4552200"/>
                  <a:ext cx="99216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456200" y="4571280"/>
                  <a:ext cx="0" cy="34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723320" y="4571280"/>
                  <a:ext cx="0" cy="34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948680" y="4571280"/>
                  <a:ext cx="41400" cy="34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956240" y="4575960"/>
                  <a:ext cx="27000" cy="24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4" name=""/>
              <p:cNvSpPr/>
              <p:nvPr/>
            </p:nvSpPr>
            <p:spPr>
              <a:xfrm>
                <a:off x="1208520" y="4007520"/>
                <a:ext cx="82908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00"/>
                    </a:solidFill>
                    <a:latin typeface="Arial"/>
                  </a:rPr>
                  <a:t>Robo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00"/>
                    </a:solidFill>
                    <a:latin typeface="Arial"/>
                  </a:rPr>
                  <a:t>Simul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6629760" y="5169240"/>
              <a:ext cx="1040760" cy="843840"/>
              <a:chOff x="6629760" y="5169240"/>
              <a:chExt cx="1040760" cy="843840"/>
            </a:xfrm>
          </p:grpSpPr>
          <p:grpSp>
            <p:nvGrpSpPr>
              <p:cNvPr id="376" name=""/>
              <p:cNvGrpSpPr/>
              <p:nvPr/>
            </p:nvGrpSpPr>
            <p:grpSpPr>
              <a:xfrm>
                <a:off x="6629760" y="5169240"/>
                <a:ext cx="1040760" cy="843840"/>
                <a:chOff x="6629760" y="5169240"/>
                <a:chExt cx="1040760" cy="84384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6983280" y="5897160"/>
                  <a:ext cx="18000" cy="66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997320" y="5897160"/>
                  <a:ext cx="18360" cy="66240"/>
                </a:xfrm>
                <a:prstGeom prst="rect">
                  <a:avLst/>
                </a:prstGeom>
                <a:solidFill>
                  <a:srgbClr val="fcf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013880" y="5897160"/>
                  <a:ext cx="16200" cy="66240"/>
                </a:xfrm>
                <a:prstGeom prst="rect">
                  <a:avLst/>
                </a:pr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028280" y="5897160"/>
                  <a:ext cx="19800" cy="662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043040" y="5897160"/>
                  <a:ext cx="18000" cy="66240"/>
                </a:xfrm>
                <a:prstGeom prst="rect">
                  <a:avLst/>
                </a:pr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7057080" y="5897160"/>
                  <a:ext cx="18000" cy="6624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7070040" y="5897160"/>
                  <a:ext cx="19440" cy="6624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085880" y="5897160"/>
                  <a:ext cx="19800" cy="66240"/>
                </a:xfrm>
                <a:prstGeom prst="rect">
                  <a:avLst/>
                </a:prstGeom>
                <a:solidFill>
                  <a:srgbClr val="db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7100640" y="5897160"/>
                  <a:ext cx="18000" cy="66240"/>
                </a:xfrm>
                <a:prstGeom prst="rect">
                  <a:avLst/>
                </a:prstGeom>
                <a:solidFill>
                  <a:srgbClr val="d6d6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115040" y="5897160"/>
                  <a:ext cx="19800" cy="66240"/>
                </a:xfrm>
                <a:prstGeom prst="rect">
                  <a:avLst/>
                </a:prstGeom>
                <a:solidFill>
                  <a:srgbClr val="d1d1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131240" y="5897160"/>
                  <a:ext cx="18000" cy="662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7145640" y="5897160"/>
                  <a:ext cx="18000" cy="66240"/>
                </a:xfrm>
                <a:prstGeom prst="rect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7160040" y="5897160"/>
                  <a:ext cx="18000" cy="66240"/>
                </a:xfrm>
                <a:prstGeom prst="rect">
                  <a:avLst/>
                </a:prstGeom>
                <a:solidFill>
                  <a:srgbClr val="c1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7174800" y="5897160"/>
                  <a:ext cx="19440" cy="66240"/>
                </a:xfrm>
                <a:prstGeom prst="rect">
                  <a:avLst/>
                </a:prstGeom>
                <a:solidFill>
                  <a:srgbClr val="bc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188840" y="5897160"/>
                  <a:ext cx="18000" cy="66240"/>
                </a:xfrm>
                <a:prstGeom prst="rect">
                  <a:avLst/>
                </a:prstGeom>
                <a:solidFill>
                  <a:srgbClr val="b7b7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203240" y="5897160"/>
                  <a:ext cx="18000" cy="6624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217640" y="5897160"/>
                  <a:ext cx="18000" cy="66240"/>
                </a:xfrm>
                <a:prstGeom prst="rect">
                  <a:avLst/>
                </a:prstGeom>
                <a:solidFill>
                  <a:srgbClr val="adad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230240" y="5897160"/>
                  <a:ext cx="18000" cy="66240"/>
                </a:xfrm>
                <a:prstGeom prst="rect">
                  <a:avLst/>
                </a:prstGeom>
                <a:solidFill>
                  <a:srgbClr val="a8a8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242840" y="5897160"/>
                  <a:ext cx="18000" cy="66240"/>
                </a:xfrm>
                <a:prstGeom prst="rect">
                  <a:avLst/>
                </a:prstGeom>
                <a:solidFill>
                  <a:srgbClr val="a3a3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257240" y="5897160"/>
                  <a:ext cx="16200" cy="66240"/>
                </a:xfrm>
                <a:prstGeom prst="rect">
                  <a:avLst/>
                </a:prstGeom>
                <a:solidFill>
                  <a:srgbClr val="9b9b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269840" y="5897160"/>
                  <a:ext cx="16200" cy="662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282800" y="5897160"/>
                  <a:ext cx="16200" cy="6624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297200" y="5897160"/>
                  <a:ext cx="16200" cy="66240"/>
                </a:xfrm>
                <a:prstGeom prst="rect">
                  <a:avLst/>
                </a:prstGeom>
                <a:solidFill>
                  <a:srgbClr val="8c8c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308000" y="5897160"/>
                  <a:ext cx="16200" cy="66240"/>
                </a:xfrm>
                <a:prstGeom prst="rect">
                  <a:avLst/>
                </a:prstGeom>
                <a:solidFill>
                  <a:srgbClr val="87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6990480" y="5902200"/>
                  <a:ext cx="324720" cy="5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811560" y="5991480"/>
                  <a:ext cx="19800" cy="21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6828120" y="5991480"/>
                  <a:ext cx="16200" cy="21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842520" y="5991480"/>
                  <a:ext cx="18000" cy="21600"/>
                </a:xfrm>
                <a:prstGeom prst="rect">
                  <a:avLst/>
                </a:prstGeom>
                <a:solidFill>
                  <a:srgbClr val="fcf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856560" y="5991480"/>
                  <a:ext cx="18360" cy="21600"/>
                </a:xfrm>
                <a:prstGeom prst="rect">
                  <a:avLst/>
                </a:prstGeom>
                <a:solidFill>
                  <a:srgbClr val="f9f9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869520" y="5991480"/>
                  <a:ext cx="18000" cy="21600"/>
                </a:xfrm>
                <a:prstGeom prst="rect">
                  <a:avLst/>
                </a:pr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885720" y="5991480"/>
                  <a:ext cx="18000" cy="216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900120" y="5991480"/>
                  <a:ext cx="18000" cy="216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914880" y="5991480"/>
                  <a:ext cx="18000" cy="21600"/>
                </a:xfrm>
                <a:prstGeom prst="rect">
                  <a:avLst/>
                </a:pr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6930720" y="5991480"/>
                  <a:ext cx="18000" cy="21600"/>
                </a:xfrm>
                <a:prstGeom prst="rect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943320" y="5991480"/>
                  <a:ext cx="19800" cy="2160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957720" y="5991480"/>
                  <a:ext cx="19800" cy="2160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975720" y="5991480"/>
                  <a:ext cx="16200" cy="21600"/>
                </a:xfrm>
                <a:prstGeom prst="rect">
                  <a:avLst/>
                </a:prstGeom>
                <a:solidFill>
                  <a:srgbClr val="e2e2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988320" y="5991480"/>
                  <a:ext cx="19800" cy="2160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003080" y="5991480"/>
                  <a:ext cx="19440" cy="2160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7019280" y="5991480"/>
                  <a:ext cx="18000" cy="21600"/>
                </a:xfrm>
                <a:prstGeom prst="rect">
                  <a:avLst/>
                </a:prstGeom>
                <a:solidFill>
                  <a:srgbClr val="db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034040" y="5991480"/>
                  <a:ext cx="18000" cy="21600"/>
                </a:xfrm>
                <a:prstGeom prst="rect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048080" y="5991480"/>
                  <a:ext cx="18000" cy="21600"/>
                </a:xfrm>
                <a:prstGeom prst="rect">
                  <a:avLst/>
                </a:prstGeom>
                <a:solidFill>
                  <a:srgbClr val="d6d6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7062480" y="5991480"/>
                  <a:ext cx="18000" cy="21600"/>
                </a:xfrm>
                <a:prstGeom prst="rect">
                  <a:avLst/>
                </a:prstGeom>
                <a:solidFill>
                  <a:srgbClr val="d3d3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076880" y="5991480"/>
                  <a:ext cx="18360" cy="21600"/>
                </a:xfrm>
                <a:prstGeom prst="rect">
                  <a:avLst/>
                </a:prstGeom>
                <a:solidFill>
                  <a:srgbClr val="d1d1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7091640" y="5991480"/>
                  <a:ext cx="19440" cy="2160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7106040" y="5991480"/>
                  <a:ext cx="19440" cy="216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120080" y="5991480"/>
                  <a:ext cx="18000" cy="21600"/>
                </a:xfrm>
                <a:prstGeom prst="rect">
                  <a:avLst/>
                </a:prstGeom>
                <a:solidFill>
                  <a:srgbClr val="c9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136640" y="5991480"/>
                  <a:ext cx="18000" cy="21600"/>
                </a:xfrm>
                <a:prstGeom prst="rect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151040" y="5991480"/>
                  <a:ext cx="18000" cy="21600"/>
                </a:xfrm>
                <a:prstGeom prst="rect">
                  <a:avLst/>
                </a:prstGeom>
                <a:solidFill>
                  <a:srgbClr val="c4c4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7165800" y="5991480"/>
                  <a:ext cx="18000" cy="2160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7181640" y="5991480"/>
                  <a:ext cx="18000" cy="21600"/>
                </a:xfrm>
                <a:prstGeom prst="rect">
                  <a:avLst/>
                </a:prstGeom>
                <a:solidFill>
                  <a:srgbClr val="bc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194240" y="5991480"/>
                  <a:ext cx="18000" cy="21600"/>
                </a:xfrm>
                <a:prstGeom prst="rect">
                  <a:avLst/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208640" y="5991480"/>
                  <a:ext cx="18000" cy="21600"/>
                </a:xfrm>
                <a:prstGeom prst="rect">
                  <a:avLst/>
                </a:prstGeom>
                <a:solidFill>
                  <a:srgbClr val="b7b7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7223400" y="5991480"/>
                  <a:ext cx="19440" cy="21600"/>
                </a:xfrm>
                <a:prstGeom prst="rect">
                  <a:avLst/>
                </a:pr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237800" y="5991480"/>
                  <a:ext cx="19440" cy="216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251840" y="5991480"/>
                  <a:ext cx="19800" cy="21600"/>
                </a:xfrm>
                <a:prstGeom prst="rect">
                  <a:avLst/>
                </a:prstGeom>
                <a:solidFill>
                  <a:srgbClr val="afaf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268400" y="5991480"/>
                  <a:ext cx="18000" cy="21600"/>
                </a:xfrm>
                <a:prstGeom prst="rect">
                  <a:avLst/>
                </a:prstGeom>
                <a:solidFill>
                  <a:srgbClr val="adad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282800" y="5991480"/>
                  <a:ext cx="18000" cy="21600"/>
                </a:xfrm>
                <a:prstGeom prst="rect">
                  <a:avLst/>
                </a:prstGeom>
                <a:solidFill>
                  <a:srgbClr val="aaa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7297200" y="5991480"/>
                  <a:ext cx="19800" cy="21600"/>
                </a:xfrm>
                <a:prstGeom prst="rect">
                  <a:avLst/>
                </a:prstGeom>
                <a:solidFill>
                  <a:srgbClr val="a8a8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7313400" y="5991480"/>
                  <a:ext cx="18000" cy="216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7327800" y="5991480"/>
                  <a:ext cx="18000" cy="21600"/>
                </a:xfrm>
                <a:prstGeom prst="rect">
                  <a:avLst/>
                </a:prstGeom>
                <a:solidFill>
                  <a:srgbClr val="a3a3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7342560" y="5991480"/>
                  <a:ext cx="19440" cy="21600"/>
                </a:xfrm>
                <a:prstGeom prst="rect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7356600" y="5991480"/>
                  <a:ext cx="16200" cy="21600"/>
                </a:xfrm>
                <a:prstGeom prst="rect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373160" y="5991480"/>
                  <a:ext cx="15840" cy="21600"/>
                </a:xfrm>
                <a:prstGeom prst="rect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385400" y="5991480"/>
                  <a:ext cx="18360" cy="21600"/>
                </a:xfrm>
                <a:prstGeom prst="rect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400160" y="5991480"/>
                  <a:ext cx="18000" cy="216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414560" y="5991480"/>
                  <a:ext cx="18000" cy="2160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428960" y="5991480"/>
                  <a:ext cx="14400" cy="21600"/>
                </a:xfrm>
                <a:prstGeom prst="rect">
                  <a:avLst/>
                </a:prstGeom>
                <a:solidFill>
                  <a:srgbClr val="8e8e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441560" y="5991480"/>
                  <a:ext cx="16200" cy="21600"/>
                </a:xfrm>
                <a:prstGeom prst="rect">
                  <a:avLst/>
                </a:prstGeom>
                <a:solidFill>
                  <a:srgbClr val="8c8c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454160" y="5991480"/>
                  <a:ext cx="16200" cy="21600"/>
                </a:xfrm>
                <a:prstGeom prst="rect">
                  <a:avLst/>
                </a:prstGeom>
                <a:solidFill>
                  <a:srgbClr val="8989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7466760" y="5991480"/>
                  <a:ext cx="16200" cy="21600"/>
                </a:xfrm>
                <a:prstGeom prst="rect">
                  <a:avLst/>
                </a:prstGeom>
                <a:solidFill>
                  <a:srgbClr val="87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479720" y="5991480"/>
                  <a:ext cx="14040" cy="21600"/>
                </a:xfrm>
                <a:prstGeom prst="rect">
                  <a:avLst/>
                </a:prstGeom>
                <a:solidFill>
                  <a:srgbClr val="8484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6819120" y="5996880"/>
                  <a:ext cx="667440" cy="10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811560" y="5944320"/>
                  <a:ext cx="683640" cy="48600"/>
                </a:xfrm>
                <a:custGeom>
                  <a:avLst/>
                  <a:gdLst/>
                  <a:ahLst/>
                  <a:rect l="l" t="t" r="r" b="b"/>
                  <a:pathLst>
                    <a:path w="379" h="38">
                      <a:moveTo>
                        <a:pt x="0" y="37"/>
                      </a:moveTo>
                      <a:lnTo>
                        <a:pt x="94" y="0"/>
                      </a:lnTo>
                      <a:lnTo>
                        <a:pt x="284" y="0"/>
                      </a:lnTo>
                      <a:lnTo>
                        <a:pt x="378" y="37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6811560" y="5944320"/>
                  <a:ext cx="683640" cy="48600"/>
                </a:xfrm>
                <a:custGeom>
                  <a:avLst/>
                  <a:gdLst/>
                  <a:ahLst/>
                  <a:rect l="l" t="t" r="r" b="b"/>
                  <a:pathLst>
                    <a:path w="379" h="38">
                      <a:moveTo>
                        <a:pt x="0" y="37"/>
                      </a:moveTo>
                      <a:lnTo>
                        <a:pt x="94" y="0"/>
                      </a:lnTo>
                      <a:lnTo>
                        <a:pt x="284" y="0"/>
                      </a:lnTo>
                      <a:lnTo>
                        <a:pt x="378" y="37"/>
                      </a:lnTo>
                      <a:lnTo>
                        <a:pt x="0" y="3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629760" y="5169240"/>
                  <a:ext cx="1040760" cy="7394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6636600" y="5173920"/>
                  <a:ext cx="1027080" cy="7293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739560" y="5247000"/>
                  <a:ext cx="828000" cy="501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6746760" y="5252040"/>
                  <a:ext cx="813600" cy="4917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759360" y="5255640"/>
                  <a:ext cx="790560" cy="485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6766560" y="5261040"/>
                  <a:ext cx="772200" cy="472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656760" y="5839920"/>
                  <a:ext cx="99216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7019280" y="5859000"/>
                  <a:ext cx="0" cy="34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7286400" y="5859000"/>
                  <a:ext cx="0" cy="34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511760" y="5859000"/>
                  <a:ext cx="41400" cy="34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7519320" y="5863680"/>
                  <a:ext cx="27000" cy="24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3" name=""/>
              <p:cNvSpPr/>
              <p:nvPr/>
            </p:nvSpPr>
            <p:spPr>
              <a:xfrm>
                <a:off x="6877080" y="5216400"/>
                <a:ext cx="632520" cy="54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ffff00"/>
                    </a:solidFill>
                    <a:latin typeface="Arial"/>
                  </a:rPr>
                  <a:t>Contro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ffff00"/>
                    </a:solidFill>
                    <a:latin typeface="Arial"/>
                  </a:rPr>
                  <a:t>Syst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ffff00"/>
                    </a:solidFill>
                    <a:latin typeface="Arial"/>
                  </a:rPr>
                  <a:t>Desig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64" name=""/>
            <p:cNvGraphicFramePr/>
            <p:nvPr/>
          </p:nvGraphicFramePr>
          <p:xfrm>
            <a:off x="4566240" y="3774240"/>
            <a:ext cx="558360" cy="486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6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66240" y="3774240"/>
                      <a:ext cx="558360" cy="48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66" name=""/>
            <p:cNvGrpSpPr/>
            <p:nvPr/>
          </p:nvGrpSpPr>
          <p:grpSpPr>
            <a:xfrm>
              <a:off x="4716360" y="4350240"/>
              <a:ext cx="920520" cy="394200"/>
              <a:chOff x="4716360" y="4350240"/>
              <a:chExt cx="920520" cy="394200"/>
            </a:xfrm>
          </p:grpSpPr>
          <p:pic>
            <p:nvPicPr>
              <p:cNvPr id="46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832280" y="4350240"/>
                <a:ext cx="677160" cy="20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"/>
              <p:cNvSpPr/>
              <p:nvPr/>
            </p:nvSpPr>
            <p:spPr>
              <a:xfrm>
                <a:off x="4716360" y="4503240"/>
                <a:ext cx="9205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Process da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6991200" y="3881520"/>
              <a:ext cx="1040400" cy="843840"/>
              <a:chOff x="6991200" y="3881520"/>
              <a:chExt cx="1040400" cy="843840"/>
            </a:xfrm>
          </p:grpSpPr>
          <p:grpSp>
            <p:nvGrpSpPr>
              <p:cNvPr id="470" name=""/>
              <p:cNvGrpSpPr/>
              <p:nvPr/>
            </p:nvGrpSpPr>
            <p:grpSpPr>
              <a:xfrm>
                <a:off x="6991200" y="3881520"/>
                <a:ext cx="1040400" cy="843840"/>
                <a:chOff x="6991200" y="3881520"/>
                <a:chExt cx="1040400" cy="8438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7344360" y="4609440"/>
                  <a:ext cx="17640" cy="66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7358760" y="4609440"/>
                  <a:ext cx="18360" cy="66240"/>
                </a:xfrm>
                <a:prstGeom prst="rect">
                  <a:avLst/>
                </a:prstGeom>
                <a:solidFill>
                  <a:srgbClr val="fcf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7375320" y="4609440"/>
                  <a:ext cx="16200" cy="66240"/>
                </a:xfrm>
                <a:prstGeom prst="rect">
                  <a:avLst/>
                </a:pr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7389360" y="4609440"/>
                  <a:ext cx="19800" cy="662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404120" y="4609440"/>
                  <a:ext cx="17640" cy="66240"/>
                </a:xfrm>
                <a:prstGeom prst="rect">
                  <a:avLst/>
                </a:pr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7418520" y="4609440"/>
                  <a:ext cx="17640" cy="6624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7431120" y="4609440"/>
                  <a:ext cx="19440" cy="6624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447320" y="4609440"/>
                  <a:ext cx="19800" cy="66240"/>
                </a:xfrm>
                <a:prstGeom prst="rect">
                  <a:avLst/>
                </a:prstGeom>
                <a:solidFill>
                  <a:srgbClr val="db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461720" y="4609440"/>
                  <a:ext cx="17640" cy="66240"/>
                </a:xfrm>
                <a:prstGeom prst="rect">
                  <a:avLst/>
                </a:prstGeom>
                <a:solidFill>
                  <a:srgbClr val="d6d6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7476120" y="4609440"/>
                  <a:ext cx="19800" cy="66240"/>
                </a:xfrm>
                <a:prstGeom prst="rect">
                  <a:avLst/>
                </a:prstGeom>
                <a:solidFill>
                  <a:srgbClr val="d1d1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7492680" y="4609440"/>
                  <a:ext cx="17640" cy="662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7506720" y="4609440"/>
                  <a:ext cx="17640" cy="66240"/>
                </a:xfrm>
                <a:prstGeom prst="rect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7521120" y="4609440"/>
                  <a:ext cx="17640" cy="66240"/>
                </a:xfrm>
                <a:prstGeom prst="rect">
                  <a:avLst/>
                </a:prstGeom>
                <a:solidFill>
                  <a:srgbClr val="c1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7535880" y="4609440"/>
                  <a:ext cx="19440" cy="66240"/>
                </a:xfrm>
                <a:prstGeom prst="rect">
                  <a:avLst/>
                </a:prstGeom>
                <a:solidFill>
                  <a:srgbClr val="bc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550280" y="4609440"/>
                  <a:ext cx="17640" cy="66240"/>
                </a:xfrm>
                <a:prstGeom prst="rect">
                  <a:avLst/>
                </a:prstGeom>
                <a:solidFill>
                  <a:srgbClr val="b7b7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7564680" y="4609440"/>
                  <a:ext cx="17640" cy="6624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7578720" y="4609440"/>
                  <a:ext cx="17640" cy="66240"/>
                </a:xfrm>
                <a:prstGeom prst="rect">
                  <a:avLst/>
                </a:prstGeom>
                <a:solidFill>
                  <a:srgbClr val="adad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591680" y="4609440"/>
                  <a:ext cx="17640" cy="66240"/>
                </a:xfrm>
                <a:prstGeom prst="rect">
                  <a:avLst/>
                </a:prstGeom>
                <a:solidFill>
                  <a:srgbClr val="a8a8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7604280" y="4609440"/>
                  <a:ext cx="17640" cy="66240"/>
                </a:xfrm>
                <a:prstGeom prst="rect">
                  <a:avLst/>
                </a:prstGeom>
                <a:solidFill>
                  <a:srgbClr val="a3a3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618680" y="4609440"/>
                  <a:ext cx="16200" cy="66240"/>
                </a:xfrm>
                <a:prstGeom prst="rect">
                  <a:avLst/>
                </a:prstGeom>
                <a:solidFill>
                  <a:srgbClr val="9b9b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7631280" y="4609440"/>
                  <a:ext cx="16200" cy="662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643880" y="4609440"/>
                  <a:ext cx="16200" cy="6624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658280" y="4609440"/>
                  <a:ext cx="16200" cy="66240"/>
                </a:xfrm>
                <a:prstGeom prst="rect">
                  <a:avLst/>
                </a:prstGeom>
                <a:solidFill>
                  <a:srgbClr val="8c8c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669440" y="4609440"/>
                  <a:ext cx="16200" cy="66240"/>
                </a:xfrm>
                <a:prstGeom prst="rect">
                  <a:avLst/>
                </a:prstGeom>
                <a:solidFill>
                  <a:srgbClr val="87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7351920" y="4614480"/>
                  <a:ext cx="324720" cy="5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7173000" y="4703760"/>
                  <a:ext cx="19800" cy="21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7189560" y="4703760"/>
                  <a:ext cx="16200" cy="21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7203600" y="4703760"/>
                  <a:ext cx="17640" cy="21600"/>
                </a:xfrm>
                <a:prstGeom prst="rect">
                  <a:avLst/>
                </a:prstGeom>
                <a:solidFill>
                  <a:srgbClr val="fcf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218000" y="4703760"/>
                  <a:ext cx="18360" cy="21600"/>
                </a:xfrm>
                <a:prstGeom prst="rect">
                  <a:avLst/>
                </a:prstGeom>
                <a:solidFill>
                  <a:srgbClr val="f9f9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230600" y="4703760"/>
                  <a:ext cx="17640" cy="21600"/>
                </a:xfrm>
                <a:prstGeom prst="rect">
                  <a:avLst/>
                </a:pr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247160" y="4703760"/>
                  <a:ext cx="17640" cy="216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261560" y="4703760"/>
                  <a:ext cx="17640" cy="216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7276320" y="4703760"/>
                  <a:ext cx="17640" cy="21600"/>
                </a:xfrm>
                <a:prstGeom prst="rect">
                  <a:avLst/>
                </a:pr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7292160" y="4703760"/>
                  <a:ext cx="17640" cy="21600"/>
                </a:xfrm>
                <a:prstGeom prst="rect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7304760" y="4703760"/>
                  <a:ext cx="19800" cy="2160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7319160" y="4703760"/>
                  <a:ext cx="19800" cy="2160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7337160" y="4703760"/>
                  <a:ext cx="16200" cy="21600"/>
                </a:xfrm>
                <a:prstGeom prst="rect">
                  <a:avLst/>
                </a:prstGeom>
                <a:solidFill>
                  <a:srgbClr val="e2e2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7349760" y="4703760"/>
                  <a:ext cx="19800" cy="2160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7364520" y="4703760"/>
                  <a:ext cx="19440" cy="2160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380360" y="4703760"/>
                  <a:ext cx="17640" cy="21600"/>
                </a:xfrm>
                <a:prstGeom prst="rect">
                  <a:avLst/>
                </a:prstGeom>
                <a:solidFill>
                  <a:srgbClr val="db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395120" y="4703760"/>
                  <a:ext cx="17640" cy="21600"/>
                </a:xfrm>
                <a:prstGeom prst="rect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409520" y="4703760"/>
                  <a:ext cx="17640" cy="21600"/>
                </a:xfrm>
                <a:prstGeom prst="rect">
                  <a:avLst/>
                </a:prstGeom>
                <a:solidFill>
                  <a:srgbClr val="d6d6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7423920" y="4703760"/>
                  <a:ext cx="17640" cy="21600"/>
                </a:xfrm>
                <a:prstGeom prst="rect">
                  <a:avLst/>
                </a:prstGeom>
                <a:solidFill>
                  <a:srgbClr val="d3d3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7438320" y="4703760"/>
                  <a:ext cx="18360" cy="21600"/>
                </a:xfrm>
                <a:prstGeom prst="rect">
                  <a:avLst/>
                </a:prstGeom>
                <a:solidFill>
                  <a:srgbClr val="d1d1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7452720" y="4703760"/>
                  <a:ext cx="19440" cy="2160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7467120" y="4703760"/>
                  <a:ext cx="19440" cy="216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7481520" y="4703760"/>
                  <a:ext cx="17640" cy="21600"/>
                </a:xfrm>
                <a:prstGeom prst="rect">
                  <a:avLst/>
                </a:prstGeom>
                <a:solidFill>
                  <a:srgbClr val="c9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7497720" y="4703760"/>
                  <a:ext cx="17640" cy="21600"/>
                </a:xfrm>
                <a:prstGeom prst="rect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7512120" y="4703760"/>
                  <a:ext cx="17640" cy="21600"/>
                </a:xfrm>
                <a:prstGeom prst="rect">
                  <a:avLst/>
                </a:prstGeom>
                <a:solidFill>
                  <a:srgbClr val="c4c4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7526880" y="4703760"/>
                  <a:ext cx="17640" cy="2160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7542720" y="4703760"/>
                  <a:ext cx="17640" cy="21600"/>
                </a:xfrm>
                <a:prstGeom prst="rect">
                  <a:avLst/>
                </a:prstGeom>
                <a:solidFill>
                  <a:srgbClr val="bc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7555680" y="4703760"/>
                  <a:ext cx="17640" cy="21600"/>
                </a:xfrm>
                <a:prstGeom prst="rect">
                  <a:avLst/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7569720" y="4703760"/>
                  <a:ext cx="17640" cy="21600"/>
                </a:xfrm>
                <a:prstGeom prst="rect">
                  <a:avLst/>
                </a:prstGeom>
                <a:solidFill>
                  <a:srgbClr val="b7b7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7584480" y="4703760"/>
                  <a:ext cx="19440" cy="21600"/>
                </a:xfrm>
                <a:prstGeom prst="rect">
                  <a:avLst/>
                </a:pr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7598880" y="4703760"/>
                  <a:ext cx="19440" cy="216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7613280" y="4703760"/>
                  <a:ext cx="19800" cy="21600"/>
                </a:xfrm>
                <a:prstGeom prst="rect">
                  <a:avLst/>
                </a:prstGeom>
                <a:solidFill>
                  <a:srgbClr val="afaf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7629480" y="4703760"/>
                  <a:ext cx="17640" cy="21600"/>
                </a:xfrm>
                <a:prstGeom prst="rect">
                  <a:avLst/>
                </a:prstGeom>
                <a:solidFill>
                  <a:srgbClr val="adad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7643880" y="4703760"/>
                  <a:ext cx="17640" cy="21600"/>
                </a:xfrm>
                <a:prstGeom prst="rect">
                  <a:avLst/>
                </a:prstGeom>
                <a:solidFill>
                  <a:srgbClr val="aaa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658280" y="4703760"/>
                  <a:ext cx="19800" cy="21600"/>
                </a:xfrm>
                <a:prstGeom prst="rect">
                  <a:avLst/>
                </a:prstGeom>
                <a:solidFill>
                  <a:srgbClr val="a8a8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7674480" y="4703760"/>
                  <a:ext cx="17640" cy="216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7688880" y="4703760"/>
                  <a:ext cx="17640" cy="21600"/>
                </a:xfrm>
                <a:prstGeom prst="rect">
                  <a:avLst/>
                </a:prstGeom>
                <a:solidFill>
                  <a:srgbClr val="a3a3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7703640" y="4703760"/>
                  <a:ext cx="19440" cy="21600"/>
                </a:xfrm>
                <a:prstGeom prst="rect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7718040" y="4703760"/>
                  <a:ext cx="16200" cy="21600"/>
                </a:xfrm>
                <a:prstGeom prst="rect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7734240" y="4703760"/>
                  <a:ext cx="15840" cy="21600"/>
                </a:xfrm>
                <a:prstGeom prst="rect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746480" y="4703760"/>
                  <a:ext cx="18360" cy="21600"/>
                </a:xfrm>
                <a:prstGeom prst="rect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7761240" y="4703760"/>
                  <a:ext cx="17640" cy="216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7775640" y="4703760"/>
                  <a:ext cx="17640" cy="2160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7790040" y="4703760"/>
                  <a:ext cx="14400" cy="21600"/>
                </a:xfrm>
                <a:prstGeom prst="rect">
                  <a:avLst/>
                </a:prstGeom>
                <a:solidFill>
                  <a:srgbClr val="8e8e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7802640" y="4703760"/>
                  <a:ext cx="16200" cy="21600"/>
                </a:xfrm>
                <a:prstGeom prst="rect">
                  <a:avLst/>
                </a:prstGeom>
                <a:solidFill>
                  <a:srgbClr val="8c8c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7815240" y="4703760"/>
                  <a:ext cx="16200" cy="21600"/>
                </a:xfrm>
                <a:prstGeom prst="rect">
                  <a:avLst/>
                </a:prstGeom>
                <a:solidFill>
                  <a:srgbClr val="8989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7827840" y="4703760"/>
                  <a:ext cx="16200" cy="21600"/>
                </a:xfrm>
                <a:prstGeom prst="rect">
                  <a:avLst/>
                </a:prstGeom>
                <a:solidFill>
                  <a:srgbClr val="87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7840800" y="4703760"/>
                  <a:ext cx="14040" cy="21600"/>
                </a:xfrm>
                <a:prstGeom prst="rect">
                  <a:avLst/>
                </a:prstGeom>
                <a:solidFill>
                  <a:srgbClr val="8484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7180560" y="4709160"/>
                  <a:ext cx="667080" cy="10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7173000" y="4656600"/>
                  <a:ext cx="683280" cy="48600"/>
                </a:xfrm>
                <a:custGeom>
                  <a:avLst/>
                  <a:gdLst/>
                  <a:ahLst/>
                  <a:rect l="l" t="t" r="r" b="b"/>
                  <a:pathLst>
                    <a:path w="379" h="38">
                      <a:moveTo>
                        <a:pt x="0" y="37"/>
                      </a:moveTo>
                      <a:lnTo>
                        <a:pt x="94" y="0"/>
                      </a:lnTo>
                      <a:lnTo>
                        <a:pt x="284" y="0"/>
                      </a:lnTo>
                      <a:lnTo>
                        <a:pt x="378" y="37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7173000" y="4656600"/>
                  <a:ext cx="683280" cy="48600"/>
                </a:xfrm>
                <a:custGeom>
                  <a:avLst/>
                  <a:gdLst/>
                  <a:ahLst/>
                  <a:rect l="l" t="t" r="r" b="b"/>
                  <a:pathLst>
                    <a:path w="379" h="38">
                      <a:moveTo>
                        <a:pt x="0" y="37"/>
                      </a:moveTo>
                      <a:lnTo>
                        <a:pt x="94" y="0"/>
                      </a:lnTo>
                      <a:lnTo>
                        <a:pt x="284" y="0"/>
                      </a:lnTo>
                      <a:lnTo>
                        <a:pt x="378" y="37"/>
                      </a:lnTo>
                      <a:lnTo>
                        <a:pt x="0" y="3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991200" y="3881520"/>
                  <a:ext cx="1040400" cy="7394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998040" y="3886200"/>
                  <a:ext cx="1026720" cy="7293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7101000" y="3959280"/>
                  <a:ext cx="827640" cy="501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7107840" y="3964320"/>
                  <a:ext cx="813600" cy="4917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7120800" y="3967920"/>
                  <a:ext cx="790200" cy="485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128000" y="3973320"/>
                  <a:ext cx="771840" cy="472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017840" y="4552200"/>
                  <a:ext cx="99180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380360" y="4571280"/>
                  <a:ext cx="0" cy="34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7647480" y="4571280"/>
                  <a:ext cx="0" cy="34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7872840" y="4571280"/>
                  <a:ext cx="41400" cy="34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880400" y="4575960"/>
                  <a:ext cx="26640" cy="24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7" name=""/>
              <p:cNvSpPr/>
              <p:nvPr/>
            </p:nvSpPr>
            <p:spPr>
              <a:xfrm>
                <a:off x="7235640" y="4007520"/>
                <a:ext cx="63864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ffff00"/>
                    </a:solidFill>
                    <a:latin typeface="Arial"/>
                  </a:rPr>
                  <a:t>Factor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ffff00"/>
                    </a:solidFill>
                    <a:latin typeface="Arial"/>
                  </a:rPr>
                  <a:t>Layou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4101120" y="1612800"/>
              <a:ext cx="1042200" cy="843840"/>
              <a:chOff x="4101120" y="1612800"/>
              <a:chExt cx="1042200" cy="843840"/>
            </a:xfrm>
          </p:grpSpPr>
          <p:grpSp>
            <p:nvGrpSpPr>
              <p:cNvPr id="559" name=""/>
              <p:cNvGrpSpPr/>
              <p:nvPr/>
            </p:nvGrpSpPr>
            <p:grpSpPr>
              <a:xfrm>
                <a:off x="4101120" y="1612800"/>
                <a:ext cx="1042200" cy="843840"/>
                <a:chOff x="4101120" y="1612800"/>
                <a:chExt cx="1042200" cy="84384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4455000" y="2340720"/>
                  <a:ext cx="18000" cy="66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4469400" y="2340720"/>
                  <a:ext cx="18360" cy="66240"/>
                </a:xfrm>
                <a:prstGeom prst="rect">
                  <a:avLst/>
                </a:prstGeom>
                <a:solidFill>
                  <a:srgbClr val="fcf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4485600" y="2340720"/>
                  <a:ext cx="16200" cy="66240"/>
                </a:xfrm>
                <a:prstGeom prst="rect">
                  <a:avLst/>
                </a:pr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4500000" y="2340720"/>
                  <a:ext cx="19800" cy="662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4514760" y="2340720"/>
                  <a:ext cx="18000" cy="66240"/>
                </a:xfrm>
                <a:prstGeom prst="rect">
                  <a:avLst/>
                </a:pr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4529160" y="2340720"/>
                  <a:ext cx="18000" cy="6624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4541760" y="2340720"/>
                  <a:ext cx="19440" cy="6624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4557960" y="2340720"/>
                  <a:ext cx="19800" cy="66240"/>
                </a:xfrm>
                <a:prstGeom prst="rect">
                  <a:avLst/>
                </a:prstGeom>
                <a:solidFill>
                  <a:srgbClr val="db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4572720" y="2340720"/>
                  <a:ext cx="18000" cy="66240"/>
                </a:xfrm>
                <a:prstGeom prst="rect">
                  <a:avLst/>
                </a:prstGeom>
                <a:solidFill>
                  <a:srgbClr val="d6d6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4587120" y="2340720"/>
                  <a:ext cx="19800" cy="66240"/>
                </a:xfrm>
                <a:prstGeom prst="rect">
                  <a:avLst/>
                </a:prstGeom>
                <a:solidFill>
                  <a:srgbClr val="d1d1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4603320" y="2340720"/>
                  <a:ext cx="18000" cy="662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4617720" y="2340720"/>
                  <a:ext cx="18000" cy="66240"/>
                </a:xfrm>
                <a:prstGeom prst="rect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4632120" y="2340720"/>
                  <a:ext cx="18000" cy="66240"/>
                </a:xfrm>
                <a:prstGeom prst="rect">
                  <a:avLst/>
                </a:prstGeom>
                <a:solidFill>
                  <a:srgbClr val="c1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646880" y="2340720"/>
                  <a:ext cx="19440" cy="66240"/>
                </a:xfrm>
                <a:prstGeom prst="rect">
                  <a:avLst/>
                </a:prstGeom>
                <a:solidFill>
                  <a:srgbClr val="bc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4661280" y="2340720"/>
                  <a:ext cx="18000" cy="66240"/>
                </a:xfrm>
                <a:prstGeom prst="rect">
                  <a:avLst/>
                </a:prstGeom>
                <a:solidFill>
                  <a:srgbClr val="b7b7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4675320" y="2340720"/>
                  <a:ext cx="18000" cy="6624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689720" y="2340720"/>
                  <a:ext cx="18000" cy="66240"/>
                </a:xfrm>
                <a:prstGeom prst="rect">
                  <a:avLst/>
                </a:prstGeom>
                <a:solidFill>
                  <a:srgbClr val="adad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4702680" y="2340720"/>
                  <a:ext cx="18000" cy="66240"/>
                </a:xfrm>
                <a:prstGeom prst="rect">
                  <a:avLst/>
                </a:prstGeom>
                <a:solidFill>
                  <a:srgbClr val="a8a8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715280" y="2340720"/>
                  <a:ext cx="18000" cy="66240"/>
                </a:xfrm>
                <a:prstGeom prst="rect">
                  <a:avLst/>
                </a:prstGeom>
                <a:solidFill>
                  <a:srgbClr val="a3a3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729680" y="2340720"/>
                  <a:ext cx="16200" cy="66240"/>
                </a:xfrm>
                <a:prstGeom prst="rect">
                  <a:avLst/>
                </a:prstGeom>
                <a:solidFill>
                  <a:srgbClr val="9b9b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4742280" y="2340720"/>
                  <a:ext cx="16200" cy="662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4754880" y="2340720"/>
                  <a:ext cx="16200" cy="6624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4769280" y="2340720"/>
                  <a:ext cx="16200" cy="66240"/>
                </a:xfrm>
                <a:prstGeom prst="rect">
                  <a:avLst/>
                </a:prstGeom>
                <a:solidFill>
                  <a:srgbClr val="8c8c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4780440" y="2340720"/>
                  <a:ext cx="16200" cy="66240"/>
                </a:xfrm>
                <a:prstGeom prst="rect">
                  <a:avLst/>
                </a:prstGeom>
                <a:solidFill>
                  <a:srgbClr val="87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4462200" y="2345760"/>
                  <a:ext cx="325080" cy="5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4283280" y="2435040"/>
                  <a:ext cx="19800" cy="21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4299840" y="2435040"/>
                  <a:ext cx="16200" cy="21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4313880" y="2435040"/>
                  <a:ext cx="18000" cy="21600"/>
                </a:xfrm>
                <a:prstGeom prst="rect">
                  <a:avLst/>
                </a:prstGeom>
                <a:solidFill>
                  <a:srgbClr val="fcf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4328280" y="2435040"/>
                  <a:ext cx="18360" cy="21600"/>
                </a:xfrm>
                <a:prstGeom prst="rect">
                  <a:avLst/>
                </a:prstGeom>
                <a:solidFill>
                  <a:srgbClr val="f9f9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4341240" y="2435040"/>
                  <a:ext cx="18000" cy="21600"/>
                </a:xfrm>
                <a:prstGeom prst="rect">
                  <a:avLst/>
                </a:pr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4357440" y="2435040"/>
                  <a:ext cx="18000" cy="216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4371840" y="2435040"/>
                  <a:ext cx="18000" cy="216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4386600" y="2435040"/>
                  <a:ext cx="18000" cy="21600"/>
                </a:xfrm>
                <a:prstGeom prst="rect">
                  <a:avLst/>
                </a:pr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4402440" y="2435040"/>
                  <a:ext cx="18000" cy="21600"/>
                </a:xfrm>
                <a:prstGeom prst="rect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4415400" y="2435040"/>
                  <a:ext cx="19800" cy="2160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4429440" y="2435040"/>
                  <a:ext cx="19800" cy="2160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4447800" y="2435040"/>
                  <a:ext cx="16200" cy="21600"/>
                </a:xfrm>
                <a:prstGeom prst="rect">
                  <a:avLst/>
                </a:prstGeom>
                <a:solidFill>
                  <a:srgbClr val="e2e2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4460400" y="2435040"/>
                  <a:ext cx="19800" cy="2160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4475160" y="2435040"/>
                  <a:ext cx="19440" cy="2160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4491000" y="2435040"/>
                  <a:ext cx="18000" cy="21600"/>
                </a:xfrm>
                <a:prstGeom prst="rect">
                  <a:avLst/>
                </a:prstGeom>
                <a:solidFill>
                  <a:srgbClr val="db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4505760" y="2435040"/>
                  <a:ext cx="18000" cy="21600"/>
                </a:xfrm>
                <a:prstGeom prst="rect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4520160" y="2435040"/>
                  <a:ext cx="18000" cy="21600"/>
                </a:xfrm>
                <a:prstGeom prst="rect">
                  <a:avLst/>
                </a:prstGeom>
                <a:solidFill>
                  <a:srgbClr val="d6d6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4534560" y="2435040"/>
                  <a:ext cx="18000" cy="21600"/>
                </a:xfrm>
                <a:prstGeom prst="rect">
                  <a:avLst/>
                </a:prstGeom>
                <a:solidFill>
                  <a:srgbClr val="d3d3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4548960" y="2435040"/>
                  <a:ext cx="18360" cy="21600"/>
                </a:xfrm>
                <a:prstGeom prst="rect">
                  <a:avLst/>
                </a:prstGeom>
                <a:solidFill>
                  <a:srgbClr val="d1d1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4563720" y="2435040"/>
                  <a:ext cx="19440" cy="2160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4577760" y="2435040"/>
                  <a:ext cx="19440" cy="216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4592160" y="2435040"/>
                  <a:ext cx="18000" cy="21600"/>
                </a:xfrm>
                <a:prstGeom prst="rect">
                  <a:avLst/>
                </a:prstGeom>
                <a:solidFill>
                  <a:srgbClr val="c9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4608720" y="2435040"/>
                  <a:ext cx="18000" cy="21600"/>
                </a:xfrm>
                <a:prstGeom prst="rect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4623120" y="2435040"/>
                  <a:ext cx="18000" cy="21600"/>
                </a:xfrm>
                <a:prstGeom prst="rect">
                  <a:avLst/>
                </a:prstGeom>
                <a:solidFill>
                  <a:srgbClr val="c4c4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4637880" y="2435040"/>
                  <a:ext cx="18000" cy="2160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4653720" y="2435040"/>
                  <a:ext cx="18000" cy="21600"/>
                </a:xfrm>
                <a:prstGeom prst="rect">
                  <a:avLst/>
                </a:prstGeom>
                <a:solidFill>
                  <a:srgbClr val="bc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666320" y="2435040"/>
                  <a:ext cx="18000" cy="21600"/>
                </a:xfrm>
                <a:prstGeom prst="rect">
                  <a:avLst/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680720" y="2435040"/>
                  <a:ext cx="18000" cy="21600"/>
                </a:xfrm>
                <a:prstGeom prst="rect">
                  <a:avLst/>
                </a:prstGeom>
                <a:solidFill>
                  <a:srgbClr val="b7b7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4695480" y="2435040"/>
                  <a:ext cx="19440" cy="21600"/>
                </a:xfrm>
                <a:prstGeom prst="rect">
                  <a:avLst/>
                </a:pr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4709880" y="2435040"/>
                  <a:ext cx="19440" cy="216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724280" y="2435040"/>
                  <a:ext cx="19800" cy="21600"/>
                </a:xfrm>
                <a:prstGeom prst="rect">
                  <a:avLst/>
                </a:prstGeom>
                <a:solidFill>
                  <a:srgbClr val="afaf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4740480" y="2435040"/>
                  <a:ext cx="18000" cy="21600"/>
                </a:xfrm>
                <a:prstGeom prst="rect">
                  <a:avLst/>
                </a:prstGeom>
                <a:solidFill>
                  <a:srgbClr val="adad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4754880" y="2435040"/>
                  <a:ext cx="18000" cy="21600"/>
                </a:xfrm>
                <a:prstGeom prst="rect">
                  <a:avLst/>
                </a:prstGeom>
                <a:solidFill>
                  <a:srgbClr val="aaa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4769280" y="2435040"/>
                  <a:ext cx="19800" cy="21600"/>
                </a:xfrm>
                <a:prstGeom prst="rect">
                  <a:avLst/>
                </a:prstGeom>
                <a:solidFill>
                  <a:srgbClr val="a8a8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4785840" y="2435040"/>
                  <a:ext cx="18000" cy="216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4799880" y="2435040"/>
                  <a:ext cx="18000" cy="21600"/>
                </a:xfrm>
                <a:prstGeom prst="rect">
                  <a:avLst/>
                </a:prstGeom>
                <a:solidFill>
                  <a:srgbClr val="a3a3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4814640" y="2435040"/>
                  <a:ext cx="19440" cy="21600"/>
                </a:xfrm>
                <a:prstGeom prst="rect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4829040" y="2435040"/>
                  <a:ext cx="16200" cy="21600"/>
                </a:xfrm>
                <a:prstGeom prst="rect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4845600" y="2435040"/>
                  <a:ext cx="15840" cy="21600"/>
                </a:xfrm>
                <a:prstGeom prst="rect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4857840" y="2435040"/>
                  <a:ext cx="18360" cy="21600"/>
                </a:xfrm>
                <a:prstGeom prst="rect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4872600" y="2435040"/>
                  <a:ext cx="18000" cy="216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4887000" y="2435040"/>
                  <a:ext cx="18000" cy="2160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4901400" y="2435040"/>
                  <a:ext cx="14400" cy="21600"/>
                </a:xfrm>
                <a:prstGeom prst="rect">
                  <a:avLst/>
                </a:prstGeom>
                <a:solidFill>
                  <a:srgbClr val="8e8e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4914000" y="2435040"/>
                  <a:ext cx="16200" cy="21600"/>
                </a:xfrm>
                <a:prstGeom prst="rect">
                  <a:avLst/>
                </a:prstGeom>
                <a:solidFill>
                  <a:srgbClr val="8c8c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4926600" y="2435040"/>
                  <a:ext cx="16200" cy="21600"/>
                </a:xfrm>
                <a:prstGeom prst="rect">
                  <a:avLst/>
                </a:prstGeom>
                <a:solidFill>
                  <a:srgbClr val="8989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4939200" y="2435040"/>
                  <a:ext cx="16200" cy="21600"/>
                </a:xfrm>
                <a:prstGeom prst="rect">
                  <a:avLst/>
                </a:prstGeom>
                <a:solidFill>
                  <a:srgbClr val="87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952160" y="2435040"/>
                  <a:ext cx="14040" cy="21600"/>
                </a:xfrm>
                <a:prstGeom prst="rect">
                  <a:avLst/>
                </a:prstGeom>
                <a:solidFill>
                  <a:srgbClr val="8484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290840" y="2440440"/>
                  <a:ext cx="668160" cy="10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4283280" y="2387880"/>
                  <a:ext cx="684720" cy="48600"/>
                </a:xfrm>
                <a:custGeom>
                  <a:avLst/>
                  <a:gdLst/>
                  <a:ahLst/>
                  <a:rect l="l" t="t" r="r" b="b"/>
                  <a:pathLst>
                    <a:path w="379" h="38">
                      <a:moveTo>
                        <a:pt x="0" y="37"/>
                      </a:moveTo>
                      <a:lnTo>
                        <a:pt x="94" y="0"/>
                      </a:lnTo>
                      <a:lnTo>
                        <a:pt x="284" y="0"/>
                      </a:lnTo>
                      <a:lnTo>
                        <a:pt x="378" y="37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4283280" y="2387880"/>
                  <a:ext cx="684720" cy="48600"/>
                </a:xfrm>
                <a:custGeom>
                  <a:avLst/>
                  <a:gdLst/>
                  <a:ahLst/>
                  <a:rect l="l" t="t" r="r" b="b"/>
                  <a:pathLst>
                    <a:path w="379" h="38">
                      <a:moveTo>
                        <a:pt x="0" y="37"/>
                      </a:moveTo>
                      <a:lnTo>
                        <a:pt x="94" y="0"/>
                      </a:lnTo>
                      <a:lnTo>
                        <a:pt x="284" y="0"/>
                      </a:lnTo>
                      <a:lnTo>
                        <a:pt x="378" y="37"/>
                      </a:lnTo>
                      <a:lnTo>
                        <a:pt x="0" y="3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101120" y="1612800"/>
                  <a:ext cx="1042200" cy="7394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4107960" y="1617480"/>
                  <a:ext cx="1028520" cy="7293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4211280" y="1690560"/>
                  <a:ext cx="829080" cy="501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4218120" y="1695600"/>
                  <a:ext cx="815040" cy="4917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4230720" y="1699200"/>
                  <a:ext cx="791640" cy="485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238280" y="1704600"/>
                  <a:ext cx="772920" cy="472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128120" y="2283480"/>
                  <a:ext cx="99360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4491000" y="2302560"/>
                  <a:ext cx="0" cy="34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758480" y="2302560"/>
                  <a:ext cx="0" cy="34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984560" y="2302560"/>
                  <a:ext cx="41760" cy="34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4991760" y="2307240"/>
                  <a:ext cx="27000" cy="24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6" name=""/>
              <p:cNvSpPr/>
              <p:nvPr/>
            </p:nvSpPr>
            <p:spPr>
              <a:xfrm>
                <a:off x="4311360" y="1662480"/>
                <a:ext cx="716400" cy="54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ffff00"/>
                    </a:solidFill>
                    <a:latin typeface="Arial"/>
                  </a:rPr>
                  <a:t>Produc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ffff00"/>
                    </a:solidFill>
                    <a:latin typeface="Arial"/>
                  </a:rPr>
                  <a:t>Develop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ffff00"/>
                    </a:solidFill>
                    <a:latin typeface="Arial"/>
                  </a:rPr>
                  <a:t>me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1355760" y="5169240"/>
              <a:ext cx="1111320" cy="843840"/>
              <a:chOff x="1355760" y="5169240"/>
              <a:chExt cx="1111320" cy="843840"/>
            </a:xfrm>
          </p:grpSpPr>
          <p:grpSp>
            <p:nvGrpSpPr>
              <p:cNvPr id="648" name=""/>
              <p:cNvGrpSpPr/>
              <p:nvPr/>
            </p:nvGrpSpPr>
            <p:grpSpPr>
              <a:xfrm>
                <a:off x="1355760" y="5169240"/>
                <a:ext cx="1111320" cy="843840"/>
                <a:chOff x="1355760" y="5169240"/>
                <a:chExt cx="1111320" cy="84384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1733040" y="5897160"/>
                  <a:ext cx="19080" cy="66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748520" y="5897160"/>
                  <a:ext cx="19440" cy="66240"/>
                </a:xfrm>
                <a:prstGeom prst="rect">
                  <a:avLst/>
                </a:prstGeom>
                <a:solidFill>
                  <a:srgbClr val="fcf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1765800" y="5897160"/>
                  <a:ext cx="17280" cy="66240"/>
                </a:xfrm>
                <a:prstGeom prst="rect">
                  <a:avLst/>
                </a:pr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781280" y="5897160"/>
                  <a:ext cx="21240" cy="662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796760" y="5897160"/>
                  <a:ext cx="19080" cy="66240"/>
                </a:xfrm>
                <a:prstGeom prst="rect">
                  <a:avLst/>
                </a:pr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812240" y="5897160"/>
                  <a:ext cx="19080" cy="6624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1825560" y="5897160"/>
                  <a:ext cx="20880" cy="6624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1842840" y="5897160"/>
                  <a:ext cx="21240" cy="66240"/>
                </a:xfrm>
                <a:prstGeom prst="rect">
                  <a:avLst/>
                </a:prstGeom>
                <a:solidFill>
                  <a:srgbClr val="db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1858680" y="5897160"/>
                  <a:ext cx="19080" cy="66240"/>
                </a:xfrm>
                <a:prstGeom prst="rect">
                  <a:avLst/>
                </a:prstGeom>
                <a:solidFill>
                  <a:srgbClr val="d6d6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1873800" y="5897160"/>
                  <a:ext cx="21240" cy="66240"/>
                </a:xfrm>
                <a:prstGeom prst="rect">
                  <a:avLst/>
                </a:prstGeom>
                <a:solidFill>
                  <a:srgbClr val="d1d1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891440" y="5897160"/>
                  <a:ext cx="19080" cy="662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1906560" y="5897160"/>
                  <a:ext cx="19080" cy="66240"/>
                </a:xfrm>
                <a:prstGeom prst="rect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1922040" y="5897160"/>
                  <a:ext cx="19080" cy="66240"/>
                </a:xfrm>
                <a:prstGeom prst="rect">
                  <a:avLst/>
                </a:prstGeom>
                <a:solidFill>
                  <a:srgbClr val="c1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1937520" y="5897160"/>
                  <a:ext cx="20880" cy="66240"/>
                </a:xfrm>
                <a:prstGeom prst="rect">
                  <a:avLst/>
                </a:prstGeom>
                <a:solidFill>
                  <a:srgbClr val="bc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1953000" y="5897160"/>
                  <a:ext cx="19080" cy="66240"/>
                </a:xfrm>
                <a:prstGeom prst="rect">
                  <a:avLst/>
                </a:prstGeom>
                <a:solidFill>
                  <a:srgbClr val="b7b7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968120" y="5897160"/>
                  <a:ext cx="19080" cy="6624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983600" y="5897160"/>
                  <a:ext cx="19080" cy="66240"/>
                </a:xfrm>
                <a:prstGeom prst="rect">
                  <a:avLst/>
                </a:prstGeom>
                <a:solidFill>
                  <a:srgbClr val="adad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1996920" y="5897160"/>
                  <a:ext cx="19080" cy="66240"/>
                </a:xfrm>
                <a:prstGeom prst="rect">
                  <a:avLst/>
                </a:prstGeom>
                <a:solidFill>
                  <a:srgbClr val="a8a8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2010600" y="5897160"/>
                  <a:ext cx="19080" cy="66240"/>
                </a:xfrm>
                <a:prstGeom prst="rect">
                  <a:avLst/>
                </a:prstGeom>
                <a:solidFill>
                  <a:srgbClr val="a3a3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2025720" y="5897160"/>
                  <a:ext cx="17280" cy="66240"/>
                </a:xfrm>
                <a:prstGeom prst="rect">
                  <a:avLst/>
                </a:prstGeom>
                <a:solidFill>
                  <a:srgbClr val="9b9b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2039400" y="5897160"/>
                  <a:ext cx="17280" cy="662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053080" y="5897160"/>
                  <a:ext cx="17280" cy="6624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2068200" y="5897160"/>
                  <a:ext cx="17280" cy="66240"/>
                </a:xfrm>
                <a:prstGeom prst="rect">
                  <a:avLst/>
                </a:prstGeom>
                <a:solidFill>
                  <a:srgbClr val="8c8c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2080080" y="5897160"/>
                  <a:ext cx="17280" cy="66240"/>
                </a:xfrm>
                <a:prstGeom prst="rect">
                  <a:avLst/>
                </a:prstGeom>
                <a:solidFill>
                  <a:srgbClr val="87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1740960" y="5902200"/>
                  <a:ext cx="346680" cy="5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1550160" y="5991480"/>
                  <a:ext cx="21240" cy="21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1567440" y="5991480"/>
                  <a:ext cx="17280" cy="21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1582920" y="5991480"/>
                  <a:ext cx="19080" cy="21600"/>
                </a:xfrm>
                <a:prstGeom prst="rect">
                  <a:avLst/>
                </a:prstGeom>
                <a:solidFill>
                  <a:srgbClr val="fcf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1598040" y="5991480"/>
                  <a:ext cx="19440" cy="21600"/>
                </a:xfrm>
                <a:prstGeom prst="rect">
                  <a:avLst/>
                </a:prstGeom>
                <a:solidFill>
                  <a:srgbClr val="f9f9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1611720" y="5991480"/>
                  <a:ext cx="19080" cy="21600"/>
                </a:xfrm>
                <a:prstGeom prst="rect">
                  <a:avLst/>
                </a:pr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1629000" y="5991480"/>
                  <a:ext cx="19080" cy="216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1644480" y="5991480"/>
                  <a:ext cx="19080" cy="216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1659960" y="5991480"/>
                  <a:ext cx="19080" cy="21600"/>
                </a:xfrm>
                <a:prstGeom prst="rect">
                  <a:avLst/>
                </a:pr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1677240" y="5991480"/>
                  <a:ext cx="19080" cy="21600"/>
                </a:xfrm>
                <a:prstGeom prst="rect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1690560" y="5991480"/>
                  <a:ext cx="21240" cy="2160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1706040" y="5991480"/>
                  <a:ext cx="21240" cy="2160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1725120" y="5991480"/>
                  <a:ext cx="17280" cy="21600"/>
                </a:xfrm>
                <a:prstGeom prst="rect">
                  <a:avLst/>
                </a:prstGeom>
                <a:solidFill>
                  <a:srgbClr val="e2e2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1738800" y="5991480"/>
                  <a:ext cx="21240" cy="2160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1754640" y="5991480"/>
                  <a:ext cx="20880" cy="2160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1771560" y="5991480"/>
                  <a:ext cx="19080" cy="21600"/>
                </a:xfrm>
                <a:prstGeom prst="rect">
                  <a:avLst/>
                </a:prstGeom>
                <a:solidFill>
                  <a:srgbClr val="db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1787400" y="5991480"/>
                  <a:ext cx="19080" cy="21600"/>
                </a:xfrm>
                <a:prstGeom prst="rect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1802520" y="5991480"/>
                  <a:ext cx="19080" cy="21600"/>
                </a:xfrm>
                <a:prstGeom prst="rect">
                  <a:avLst/>
                </a:prstGeom>
                <a:solidFill>
                  <a:srgbClr val="d6d6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1818000" y="5991480"/>
                  <a:ext cx="19080" cy="21600"/>
                </a:xfrm>
                <a:prstGeom prst="rect">
                  <a:avLst/>
                </a:prstGeom>
                <a:solidFill>
                  <a:srgbClr val="d3d3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1833120" y="5991480"/>
                  <a:ext cx="19440" cy="21600"/>
                </a:xfrm>
                <a:prstGeom prst="rect">
                  <a:avLst/>
                </a:prstGeom>
                <a:solidFill>
                  <a:srgbClr val="d1d1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1848960" y="5991480"/>
                  <a:ext cx="20880" cy="2160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1864080" y="5991480"/>
                  <a:ext cx="20880" cy="216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1879560" y="5991480"/>
                  <a:ext cx="19080" cy="21600"/>
                </a:xfrm>
                <a:prstGeom prst="rect">
                  <a:avLst/>
                </a:prstGeom>
                <a:solidFill>
                  <a:srgbClr val="c9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1896840" y="5991480"/>
                  <a:ext cx="19080" cy="21600"/>
                </a:xfrm>
                <a:prstGeom prst="rect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1912320" y="5991480"/>
                  <a:ext cx="19080" cy="21600"/>
                </a:xfrm>
                <a:prstGeom prst="rect">
                  <a:avLst/>
                </a:prstGeom>
                <a:solidFill>
                  <a:srgbClr val="c4c4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928160" y="5991480"/>
                  <a:ext cx="19080" cy="2160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1945080" y="5991480"/>
                  <a:ext cx="19080" cy="21600"/>
                </a:xfrm>
                <a:prstGeom prst="rect">
                  <a:avLst/>
                </a:prstGeom>
                <a:solidFill>
                  <a:srgbClr val="bc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1958400" y="5991480"/>
                  <a:ext cx="19080" cy="21600"/>
                </a:xfrm>
                <a:prstGeom prst="rect">
                  <a:avLst/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1973880" y="5991480"/>
                  <a:ext cx="19080" cy="21600"/>
                </a:xfrm>
                <a:prstGeom prst="rect">
                  <a:avLst/>
                </a:prstGeom>
                <a:solidFill>
                  <a:srgbClr val="b7b7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1989720" y="5991480"/>
                  <a:ext cx="20880" cy="21600"/>
                </a:xfrm>
                <a:prstGeom prst="rect">
                  <a:avLst/>
                </a:pr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2004840" y="5991480"/>
                  <a:ext cx="20880" cy="216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2020320" y="5991480"/>
                  <a:ext cx="21240" cy="21600"/>
                </a:xfrm>
                <a:prstGeom prst="rect">
                  <a:avLst/>
                </a:prstGeom>
                <a:solidFill>
                  <a:srgbClr val="afaf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037600" y="5991480"/>
                  <a:ext cx="19080" cy="21600"/>
                </a:xfrm>
                <a:prstGeom prst="rect">
                  <a:avLst/>
                </a:prstGeom>
                <a:solidFill>
                  <a:srgbClr val="adad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2053080" y="5991480"/>
                  <a:ext cx="19080" cy="21600"/>
                </a:xfrm>
                <a:prstGeom prst="rect">
                  <a:avLst/>
                </a:prstGeom>
                <a:solidFill>
                  <a:srgbClr val="aaa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068200" y="5991480"/>
                  <a:ext cx="21240" cy="21600"/>
                </a:xfrm>
                <a:prstGeom prst="rect">
                  <a:avLst/>
                </a:prstGeom>
                <a:solidFill>
                  <a:srgbClr val="a8a8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2085840" y="5991480"/>
                  <a:ext cx="19080" cy="216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2100960" y="5991480"/>
                  <a:ext cx="19080" cy="21600"/>
                </a:xfrm>
                <a:prstGeom prst="rect">
                  <a:avLst/>
                </a:prstGeom>
                <a:solidFill>
                  <a:srgbClr val="a3a3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2116800" y="5991480"/>
                  <a:ext cx="20880" cy="21600"/>
                </a:xfrm>
                <a:prstGeom prst="rect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2131920" y="5991480"/>
                  <a:ext cx="17280" cy="21600"/>
                </a:xfrm>
                <a:prstGeom prst="rect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2149560" y="5991480"/>
                  <a:ext cx="16920" cy="21600"/>
                </a:xfrm>
                <a:prstGeom prst="rect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2162520" y="5991480"/>
                  <a:ext cx="19440" cy="21600"/>
                </a:xfrm>
                <a:prstGeom prst="rect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2178360" y="5991480"/>
                  <a:ext cx="19080" cy="216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2193480" y="5991480"/>
                  <a:ext cx="19080" cy="2160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208960" y="5991480"/>
                  <a:ext cx="15480" cy="21600"/>
                </a:xfrm>
                <a:prstGeom prst="rect">
                  <a:avLst/>
                </a:prstGeom>
                <a:solidFill>
                  <a:srgbClr val="8e8e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222640" y="5991480"/>
                  <a:ext cx="17280" cy="21600"/>
                </a:xfrm>
                <a:prstGeom prst="rect">
                  <a:avLst/>
                </a:prstGeom>
                <a:solidFill>
                  <a:srgbClr val="8c8c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235960" y="5991480"/>
                  <a:ext cx="17280" cy="21600"/>
                </a:xfrm>
                <a:prstGeom prst="rect">
                  <a:avLst/>
                </a:prstGeom>
                <a:solidFill>
                  <a:srgbClr val="8989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2249640" y="5991480"/>
                  <a:ext cx="17280" cy="21600"/>
                </a:xfrm>
                <a:prstGeom prst="rect">
                  <a:avLst/>
                </a:prstGeom>
                <a:solidFill>
                  <a:srgbClr val="87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2262960" y="5991480"/>
                  <a:ext cx="15120" cy="21600"/>
                </a:xfrm>
                <a:prstGeom prst="rect">
                  <a:avLst/>
                </a:prstGeom>
                <a:solidFill>
                  <a:srgbClr val="8484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1557720" y="5996880"/>
                  <a:ext cx="712440" cy="10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1550160" y="5944320"/>
                  <a:ext cx="730080" cy="48600"/>
                </a:xfrm>
                <a:custGeom>
                  <a:avLst/>
                  <a:gdLst/>
                  <a:ahLst/>
                  <a:rect l="l" t="t" r="r" b="b"/>
                  <a:pathLst>
                    <a:path w="379" h="38">
                      <a:moveTo>
                        <a:pt x="0" y="37"/>
                      </a:moveTo>
                      <a:lnTo>
                        <a:pt x="94" y="0"/>
                      </a:lnTo>
                      <a:lnTo>
                        <a:pt x="284" y="0"/>
                      </a:lnTo>
                      <a:lnTo>
                        <a:pt x="378" y="37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1550160" y="5944320"/>
                  <a:ext cx="730080" cy="48600"/>
                </a:xfrm>
                <a:custGeom>
                  <a:avLst/>
                  <a:gdLst/>
                  <a:ahLst/>
                  <a:rect l="l" t="t" r="r" b="b"/>
                  <a:pathLst>
                    <a:path w="379" h="38">
                      <a:moveTo>
                        <a:pt x="0" y="37"/>
                      </a:moveTo>
                      <a:lnTo>
                        <a:pt x="94" y="0"/>
                      </a:lnTo>
                      <a:lnTo>
                        <a:pt x="284" y="0"/>
                      </a:lnTo>
                      <a:lnTo>
                        <a:pt x="378" y="37"/>
                      </a:lnTo>
                      <a:lnTo>
                        <a:pt x="0" y="3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1355760" y="5169240"/>
                  <a:ext cx="1111320" cy="7394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1362960" y="5173920"/>
                  <a:ext cx="1096560" cy="7293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1473120" y="5247000"/>
                  <a:ext cx="884160" cy="501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1480680" y="5252040"/>
                  <a:ext cx="869040" cy="4917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1494000" y="5255640"/>
                  <a:ext cx="843840" cy="485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1501920" y="5261040"/>
                  <a:ext cx="824400" cy="472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1384560" y="5839920"/>
                  <a:ext cx="105948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1771560" y="5859000"/>
                  <a:ext cx="0" cy="34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2057040" y="5859000"/>
                  <a:ext cx="0" cy="34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2297520" y="5859000"/>
                  <a:ext cx="44280" cy="34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305440" y="5863680"/>
                  <a:ext cx="28800" cy="24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5" name=""/>
              <p:cNvSpPr/>
              <p:nvPr/>
            </p:nvSpPr>
            <p:spPr>
              <a:xfrm>
                <a:off x="1431000" y="5292000"/>
                <a:ext cx="92700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ffff00"/>
                    </a:solidFill>
                    <a:latin typeface="Arial"/>
                  </a:rPr>
                  <a:t>Materi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ffff00"/>
                    </a:solidFill>
                    <a:latin typeface="Arial"/>
                  </a:rPr>
                  <a:t>Flo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ffff00"/>
                    </a:solidFill>
                    <a:latin typeface="Arial"/>
                  </a:rPr>
                  <a:t>Simul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4117680" y="5843520"/>
              <a:ext cx="1098000" cy="843840"/>
              <a:chOff x="4117680" y="5843520"/>
              <a:chExt cx="1098000" cy="843840"/>
            </a:xfrm>
          </p:grpSpPr>
          <p:grpSp>
            <p:nvGrpSpPr>
              <p:cNvPr id="737" name=""/>
              <p:cNvGrpSpPr/>
              <p:nvPr/>
            </p:nvGrpSpPr>
            <p:grpSpPr>
              <a:xfrm>
                <a:off x="4117680" y="5843520"/>
                <a:ext cx="1098000" cy="843840"/>
                <a:chOff x="4117680" y="5843520"/>
                <a:chExt cx="1098000" cy="843840"/>
              </a:xfrm>
            </p:grpSpPr>
            <p:sp>
              <p:nvSpPr>
                <p:cNvPr id="738" name=""/>
                <p:cNvSpPr/>
                <p:nvPr/>
              </p:nvSpPr>
              <p:spPr>
                <a:xfrm>
                  <a:off x="4490640" y="6571440"/>
                  <a:ext cx="18720" cy="66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4505760" y="6571440"/>
                  <a:ext cx="19080" cy="66240"/>
                </a:xfrm>
                <a:prstGeom prst="rect">
                  <a:avLst/>
                </a:prstGeom>
                <a:solidFill>
                  <a:srgbClr val="fcf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4523040" y="6571440"/>
                  <a:ext cx="16920" cy="66240"/>
                </a:xfrm>
                <a:prstGeom prst="rect">
                  <a:avLst/>
                </a:pr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4538160" y="6571440"/>
                  <a:ext cx="20880" cy="662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4553640" y="6571440"/>
                  <a:ext cx="18720" cy="66240"/>
                </a:xfrm>
                <a:prstGeom prst="rect">
                  <a:avLst/>
                </a:pr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4568760" y="6571440"/>
                  <a:ext cx="18720" cy="6624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4582080" y="6571440"/>
                  <a:ext cx="20520" cy="6624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4599000" y="6571440"/>
                  <a:ext cx="20880" cy="66240"/>
                </a:xfrm>
                <a:prstGeom prst="rect">
                  <a:avLst/>
                </a:prstGeom>
                <a:solidFill>
                  <a:srgbClr val="db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4614480" y="6571440"/>
                  <a:ext cx="18720" cy="66240"/>
                </a:xfrm>
                <a:prstGeom prst="rect">
                  <a:avLst/>
                </a:prstGeom>
                <a:solidFill>
                  <a:srgbClr val="d6d6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629600" y="6571440"/>
                  <a:ext cx="20880" cy="66240"/>
                </a:xfrm>
                <a:prstGeom prst="rect">
                  <a:avLst/>
                </a:prstGeom>
                <a:solidFill>
                  <a:srgbClr val="d1d1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4646880" y="6571440"/>
                  <a:ext cx="18720" cy="662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4662000" y="6571440"/>
                  <a:ext cx="18720" cy="66240"/>
                </a:xfrm>
                <a:prstGeom prst="rect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4677120" y="6571440"/>
                  <a:ext cx="18720" cy="66240"/>
                </a:xfrm>
                <a:prstGeom prst="rect">
                  <a:avLst/>
                </a:prstGeom>
                <a:solidFill>
                  <a:srgbClr val="c1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4692600" y="6571440"/>
                  <a:ext cx="20520" cy="66240"/>
                </a:xfrm>
                <a:prstGeom prst="rect">
                  <a:avLst/>
                </a:prstGeom>
                <a:solidFill>
                  <a:srgbClr val="bc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4707720" y="6571440"/>
                  <a:ext cx="18720" cy="66240"/>
                </a:xfrm>
                <a:prstGeom prst="rect">
                  <a:avLst/>
                </a:prstGeom>
                <a:solidFill>
                  <a:srgbClr val="b7b7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4722840" y="6571440"/>
                  <a:ext cx="18720" cy="6624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4737960" y="6571440"/>
                  <a:ext cx="18720" cy="66240"/>
                </a:xfrm>
                <a:prstGeom prst="rect">
                  <a:avLst/>
                </a:prstGeom>
                <a:solidFill>
                  <a:srgbClr val="adad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4751280" y="6571440"/>
                  <a:ext cx="18720" cy="66240"/>
                </a:xfrm>
                <a:prstGeom prst="rect">
                  <a:avLst/>
                </a:prstGeom>
                <a:solidFill>
                  <a:srgbClr val="a8a8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4764600" y="6571440"/>
                  <a:ext cx="18720" cy="66240"/>
                </a:xfrm>
                <a:prstGeom prst="rect">
                  <a:avLst/>
                </a:prstGeom>
                <a:solidFill>
                  <a:srgbClr val="a3a3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4779720" y="6571440"/>
                  <a:ext cx="16920" cy="66240"/>
                </a:xfrm>
                <a:prstGeom prst="rect">
                  <a:avLst/>
                </a:prstGeom>
                <a:solidFill>
                  <a:srgbClr val="9b9b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4793040" y="6571440"/>
                  <a:ext cx="16920" cy="662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4806360" y="6571440"/>
                  <a:ext cx="16920" cy="6624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4821480" y="6571440"/>
                  <a:ext cx="16920" cy="66240"/>
                </a:xfrm>
                <a:prstGeom prst="rect">
                  <a:avLst/>
                </a:prstGeom>
                <a:solidFill>
                  <a:srgbClr val="8c8c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4833360" y="6571440"/>
                  <a:ext cx="16920" cy="66240"/>
                </a:xfrm>
                <a:prstGeom prst="rect">
                  <a:avLst/>
                </a:prstGeom>
                <a:solidFill>
                  <a:srgbClr val="87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4498200" y="6576480"/>
                  <a:ext cx="342720" cy="5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4309560" y="6665760"/>
                  <a:ext cx="20880" cy="21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4326840" y="6665760"/>
                  <a:ext cx="16920" cy="21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341960" y="6665760"/>
                  <a:ext cx="18720" cy="21600"/>
                </a:xfrm>
                <a:prstGeom prst="rect">
                  <a:avLst/>
                </a:prstGeom>
                <a:solidFill>
                  <a:srgbClr val="fcf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4357080" y="6665760"/>
                  <a:ext cx="19080" cy="21600"/>
                </a:xfrm>
                <a:prstGeom prst="rect">
                  <a:avLst/>
                </a:prstGeom>
                <a:solidFill>
                  <a:srgbClr val="f9f9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4370400" y="6665760"/>
                  <a:ext cx="18720" cy="21600"/>
                </a:xfrm>
                <a:prstGeom prst="rect">
                  <a:avLst/>
                </a:pr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4387680" y="6665760"/>
                  <a:ext cx="18720" cy="216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4402800" y="6665760"/>
                  <a:ext cx="18720" cy="216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418280" y="6665760"/>
                  <a:ext cx="18720" cy="21600"/>
                </a:xfrm>
                <a:prstGeom prst="rect">
                  <a:avLst/>
                </a:pr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435200" y="6665760"/>
                  <a:ext cx="18720" cy="21600"/>
                </a:xfrm>
                <a:prstGeom prst="rect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448520" y="6665760"/>
                  <a:ext cx="20880" cy="2160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4463640" y="6665760"/>
                  <a:ext cx="20880" cy="2160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4482720" y="6665760"/>
                  <a:ext cx="16920" cy="21600"/>
                </a:xfrm>
                <a:prstGeom prst="rect">
                  <a:avLst/>
                </a:prstGeom>
                <a:solidFill>
                  <a:srgbClr val="e2e2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4496040" y="6665760"/>
                  <a:ext cx="20880" cy="2160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511520" y="6665760"/>
                  <a:ext cx="20520" cy="2160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4528440" y="6665760"/>
                  <a:ext cx="18720" cy="21600"/>
                </a:xfrm>
                <a:prstGeom prst="rect">
                  <a:avLst/>
                </a:prstGeom>
                <a:solidFill>
                  <a:srgbClr val="db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4543920" y="6665760"/>
                  <a:ext cx="18720" cy="21600"/>
                </a:xfrm>
                <a:prstGeom prst="rect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4559040" y="6665760"/>
                  <a:ext cx="18720" cy="21600"/>
                </a:xfrm>
                <a:prstGeom prst="rect">
                  <a:avLst/>
                </a:prstGeom>
                <a:solidFill>
                  <a:srgbClr val="d6d6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4574160" y="6665760"/>
                  <a:ext cx="18720" cy="21600"/>
                </a:xfrm>
                <a:prstGeom prst="rect">
                  <a:avLst/>
                </a:prstGeom>
                <a:solidFill>
                  <a:srgbClr val="d3d3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4589280" y="6665760"/>
                  <a:ext cx="19080" cy="21600"/>
                </a:xfrm>
                <a:prstGeom prst="rect">
                  <a:avLst/>
                </a:prstGeom>
                <a:solidFill>
                  <a:srgbClr val="d1d1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4604760" y="6665760"/>
                  <a:ext cx="20520" cy="2160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619880" y="6665760"/>
                  <a:ext cx="20520" cy="216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4635000" y="6665760"/>
                  <a:ext cx="18720" cy="21600"/>
                </a:xfrm>
                <a:prstGeom prst="rect">
                  <a:avLst/>
                </a:prstGeom>
                <a:solidFill>
                  <a:srgbClr val="c9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4652280" y="6665760"/>
                  <a:ext cx="18720" cy="21600"/>
                </a:xfrm>
                <a:prstGeom prst="rect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4667400" y="6665760"/>
                  <a:ext cx="18720" cy="21600"/>
                </a:xfrm>
                <a:prstGeom prst="rect">
                  <a:avLst/>
                </a:prstGeom>
                <a:solidFill>
                  <a:srgbClr val="c4c4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4682880" y="6665760"/>
                  <a:ext cx="18720" cy="2160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4699800" y="6665760"/>
                  <a:ext cx="18720" cy="21600"/>
                </a:xfrm>
                <a:prstGeom prst="rect">
                  <a:avLst/>
                </a:prstGeom>
                <a:solidFill>
                  <a:srgbClr val="bc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4713120" y="6665760"/>
                  <a:ext cx="18720" cy="21600"/>
                </a:xfrm>
                <a:prstGeom prst="rect">
                  <a:avLst/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4728240" y="6665760"/>
                  <a:ext cx="18720" cy="21600"/>
                </a:xfrm>
                <a:prstGeom prst="rect">
                  <a:avLst/>
                </a:prstGeom>
                <a:solidFill>
                  <a:srgbClr val="b7b7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4744080" y="6665760"/>
                  <a:ext cx="20520" cy="21600"/>
                </a:xfrm>
                <a:prstGeom prst="rect">
                  <a:avLst/>
                </a:pr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4759200" y="6665760"/>
                  <a:ext cx="20520" cy="216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4774320" y="6665760"/>
                  <a:ext cx="20880" cy="21600"/>
                </a:xfrm>
                <a:prstGeom prst="rect">
                  <a:avLst/>
                </a:prstGeom>
                <a:solidFill>
                  <a:srgbClr val="afaf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4791240" y="6665760"/>
                  <a:ext cx="18720" cy="21600"/>
                </a:xfrm>
                <a:prstGeom prst="rect">
                  <a:avLst/>
                </a:prstGeom>
                <a:solidFill>
                  <a:srgbClr val="adad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4806360" y="6665760"/>
                  <a:ext cx="18720" cy="21600"/>
                </a:xfrm>
                <a:prstGeom prst="rect">
                  <a:avLst/>
                </a:prstGeom>
                <a:solidFill>
                  <a:srgbClr val="aaa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4821480" y="6665760"/>
                  <a:ext cx="20880" cy="21600"/>
                </a:xfrm>
                <a:prstGeom prst="rect">
                  <a:avLst/>
                </a:prstGeom>
                <a:solidFill>
                  <a:srgbClr val="a8a8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4838760" y="6665760"/>
                  <a:ext cx="18720" cy="216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4853880" y="6665760"/>
                  <a:ext cx="18720" cy="21600"/>
                </a:xfrm>
                <a:prstGeom prst="rect">
                  <a:avLst/>
                </a:prstGeom>
                <a:solidFill>
                  <a:srgbClr val="a3a3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4869720" y="6665760"/>
                  <a:ext cx="20520" cy="21600"/>
                </a:xfrm>
                <a:prstGeom prst="rect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4884840" y="6665760"/>
                  <a:ext cx="16920" cy="21600"/>
                </a:xfrm>
                <a:prstGeom prst="rect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901760" y="6665760"/>
                  <a:ext cx="16560" cy="21600"/>
                </a:xfrm>
                <a:prstGeom prst="rect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4914720" y="6665760"/>
                  <a:ext cx="19080" cy="21600"/>
                </a:xfrm>
                <a:prstGeom prst="rect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4930560" y="6665760"/>
                  <a:ext cx="18720" cy="216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4945680" y="6665760"/>
                  <a:ext cx="18720" cy="2160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4960800" y="6665760"/>
                  <a:ext cx="15480" cy="21600"/>
                </a:xfrm>
                <a:prstGeom prst="rect">
                  <a:avLst/>
                </a:prstGeom>
                <a:solidFill>
                  <a:srgbClr val="8e8e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4974120" y="6665760"/>
                  <a:ext cx="16920" cy="21600"/>
                </a:xfrm>
                <a:prstGeom prst="rect">
                  <a:avLst/>
                </a:prstGeom>
                <a:solidFill>
                  <a:srgbClr val="8c8c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4987440" y="6665760"/>
                  <a:ext cx="16920" cy="21600"/>
                </a:xfrm>
                <a:prstGeom prst="rect">
                  <a:avLst/>
                </a:prstGeom>
                <a:solidFill>
                  <a:srgbClr val="8989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000760" y="6665760"/>
                  <a:ext cx="16920" cy="21600"/>
                </a:xfrm>
                <a:prstGeom prst="rect">
                  <a:avLst/>
                </a:prstGeom>
                <a:solidFill>
                  <a:srgbClr val="87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014080" y="6665760"/>
                  <a:ext cx="14760" cy="21600"/>
                </a:xfrm>
                <a:prstGeom prst="rect">
                  <a:avLst/>
                </a:prstGeom>
                <a:solidFill>
                  <a:srgbClr val="8484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4317480" y="6671160"/>
                  <a:ext cx="703800" cy="10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4309560" y="6618600"/>
                  <a:ext cx="721080" cy="48600"/>
                </a:xfrm>
                <a:custGeom>
                  <a:avLst/>
                  <a:gdLst/>
                  <a:ahLst/>
                  <a:rect l="l" t="t" r="r" b="b"/>
                  <a:pathLst>
                    <a:path w="379" h="38">
                      <a:moveTo>
                        <a:pt x="0" y="37"/>
                      </a:moveTo>
                      <a:lnTo>
                        <a:pt x="94" y="0"/>
                      </a:lnTo>
                      <a:lnTo>
                        <a:pt x="284" y="0"/>
                      </a:lnTo>
                      <a:lnTo>
                        <a:pt x="378" y="37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4309560" y="6618600"/>
                  <a:ext cx="721080" cy="48600"/>
                </a:xfrm>
                <a:custGeom>
                  <a:avLst/>
                  <a:gdLst/>
                  <a:ahLst/>
                  <a:rect l="l" t="t" r="r" b="b"/>
                  <a:pathLst>
                    <a:path w="379" h="38">
                      <a:moveTo>
                        <a:pt x="0" y="37"/>
                      </a:moveTo>
                      <a:lnTo>
                        <a:pt x="94" y="0"/>
                      </a:lnTo>
                      <a:lnTo>
                        <a:pt x="284" y="0"/>
                      </a:lnTo>
                      <a:lnTo>
                        <a:pt x="378" y="37"/>
                      </a:lnTo>
                      <a:lnTo>
                        <a:pt x="0" y="3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4117680" y="5843520"/>
                  <a:ext cx="1098000" cy="7394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4124880" y="5848200"/>
                  <a:ext cx="1083600" cy="7293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4233600" y="5921280"/>
                  <a:ext cx="873720" cy="501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4240800" y="5926320"/>
                  <a:ext cx="858600" cy="4917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4254480" y="5929920"/>
                  <a:ext cx="833760" cy="485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4262040" y="5935320"/>
                  <a:ext cx="814320" cy="472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146120" y="6514200"/>
                  <a:ext cx="104688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4528440" y="6533280"/>
                  <a:ext cx="0" cy="34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4810320" y="6533280"/>
                  <a:ext cx="0" cy="34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048280" y="6533280"/>
                  <a:ext cx="43920" cy="34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5056200" y="6537960"/>
                  <a:ext cx="28440" cy="24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4" name=""/>
              <p:cNvSpPr/>
              <p:nvPr/>
            </p:nvSpPr>
            <p:spPr>
              <a:xfrm>
                <a:off x="4296960" y="5892120"/>
                <a:ext cx="836640" cy="54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ffff00"/>
                    </a:solidFill>
                    <a:latin typeface="Arial"/>
                  </a:rPr>
                  <a:t>Manufact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ffff00"/>
                    </a:solidFill>
                    <a:latin typeface="Arial"/>
                  </a:rPr>
                  <a:t>Equipme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ffff00"/>
                    </a:solidFill>
                    <a:latin typeface="Arial"/>
                  </a:rPr>
                  <a:t>Desig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1572480" y="2532240"/>
              <a:ext cx="1040400" cy="843840"/>
              <a:chOff x="1572480" y="2532240"/>
              <a:chExt cx="1040400" cy="843840"/>
            </a:xfrm>
          </p:grpSpPr>
          <p:grpSp>
            <p:nvGrpSpPr>
              <p:cNvPr id="826" name=""/>
              <p:cNvGrpSpPr/>
              <p:nvPr/>
            </p:nvGrpSpPr>
            <p:grpSpPr>
              <a:xfrm>
                <a:off x="1572480" y="2532240"/>
                <a:ext cx="1040400" cy="843840"/>
                <a:chOff x="1572480" y="2532240"/>
                <a:chExt cx="1040400" cy="84384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1925640" y="3260160"/>
                  <a:ext cx="17640" cy="66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1940040" y="3260160"/>
                  <a:ext cx="18360" cy="66240"/>
                </a:xfrm>
                <a:prstGeom prst="rect">
                  <a:avLst/>
                </a:prstGeom>
                <a:solidFill>
                  <a:srgbClr val="fcf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1956600" y="3260160"/>
                  <a:ext cx="16200" cy="66240"/>
                </a:xfrm>
                <a:prstGeom prst="rect">
                  <a:avLst/>
                </a:pr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1970640" y="3260160"/>
                  <a:ext cx="19800" cy="662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1985400" y="3260160"/>
                  <a:ext cx="17640" cy="66240"/>
                </a:xfrm>
                <a:prstGeom prst="rect">
                  <a:avLst/>
                </a:pr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1999800" y="3260160"/>
                  <a:ext cx="17640" cy="6624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2012400" y="3260160"/>
                  <a:ext cx="19440" cy="6624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2028600" y="3260160"/>
                  <a:ext cx="19800" cy="66240"/>
                </a:xfrm>
                <a:prstGeom prst="rect">
                  <a:avLst/>
                </a:prstGeom>
                <a:solidFill>
                  <a:srgbClr val="db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2043000" y="3260160"/>
                  <a:ext cx="17640" cy="66240"/>
                </a:xfrm>
                <a:prstGeom prst="rect">
                  <a:avLst/>
                </a:prstGeom>
                <a:solidFill>
                  <a:srgbClr val="d6d6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2057400" y="3260160"/>
                  <a:ext cx="19800" cy="66240"/>
                </a:xfrm>
                <a:prstGeom prst="rect">
                  <a:avLst/>
                </a:prstGeom>
                <a:solidFill>
                  <a:srgbClr val="d1d1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2073960" y="3260160"/>
                  <a:ext cx="17640" cy="662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2088000" y="3260160"/>
                  <a:ext cx="17640" cy="66240"/>
                </a:xfrm>
                <a:prstGeom prst="rect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2102400" y="3260160"/>
                  <a:ext cx="17640" cy="66240"/>
                </a:xfrm>
                <a:prstGeom prst="rect">
                  <a:avLst/>
                </a:prstGeom>
                <a:solidFill>
                  <a:srgbClr val="c1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2117160" y="3260160"/>
                  <a:ext cx="19440" cy="66240"/>
                </a:xfrm>
                <a:prstGeom prst="rect">
                  <a:avLst/>
                </a:prstGeom>
                <a:solidFill>
                  <a:srgbClr val="bc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2131560" y="3260160"/>
                  <a:ext cx="17640" cy="66240"/>
                </a:xfrm>
                <a:prstGeom prst="rect">
                  <a:avLst/>
                </a:prstGeom>
                <a:solidFill>
                  <a:srgbClr val="b7b7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2145960" y="3260160"/>
                  <a:ext cx="17640" cy="6624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2160000" y="3260160"/>
                  <a:ext cx="17640" cy="66240"/>
                </a:xfrm>
                <a:prstGeom prst="rect">
                  <a:avLst/>
                </a:prstGeom>
                <a:solidFill>
                  <a:srgbClr val="adad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2172960" y="3260160"/>
                  <a:ext cx="17640" cy="66240"/>
                </a:xfrm>
                <a:prstGeom prst="rect">
                  <a:avLst/>
                </a:prstGeom>
                <a:solidFill>
                  <a:srgbClr val="a8a8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2185560" y="3260160"/>
                  <a:ext cx="17640" cy="66240"/>
                </a:xfrm>
                <a:prstGeom prst="rect">
                  <a:avLst/>
                </a:prstGeom>
                <a:solidFill>
                  <a:srgbClr val="a3a3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2199960" y="3260160"/>
                  <a:ext cx="16200" cy="66240"/>
                </a:xfrm>
                <a:prstGeom prst="rect">
                  <a:avLst/>
                </a:prstGeom>
                <a:solidFill>
                  <a:srgbClr val="9b9b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2212560" y="3260160"/>
                  <a:ext cx="16200" cy="662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2225160" y="3260160"/>
                  <a:ext cx="16200" cy="6624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239560" y="3260160"/>
                  <a:ext cx="16200" cy="66240"/>
                </a:xfrm>
                <a:prstGeom prst="rect">
                  <a:avLst/>
                </a:prstGeom>
                <a:solidFill>
                  <a:srgbClr val="8c8c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2250720" y="3260160"/>
                  <a:ext cx="16200" cy="66240"/>
                </a:xfrm>
                <a:prstGeom prst="rect">
                  <a:avLst/>
                </a:prstGeom>
                <a:solidFill>
                  <a:srgbClr val="87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1933200" y="3265200"/>
                  <a:ext cx="324720" cy="53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1754280" y="3354480"/>
                  <a:ext cx="19800" cy="21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1770840" y="3354480"/>
                  <a:ext cx="16200" cy="21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1784880" y="3354480"/>
                  <a:ext cx="17640" cy="21600"/>
                </a:xfrm>
                <a:prstGeom prst="rect">
                  <a:avLst/>
                </a:prstGeom>
                <a:solidFill>
                  <a:srgbClr val="fcf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1799280" y="3354480"/>
                  <a:ext cx="18360" cy="21600"/>
                </a:xfrm>
                <a:prstGeom prst="rect">
                  <a:avLst/>
                </a:prstGeom>
                <a:solidFill>
                  <a:srgbClr val="f9f9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1811880" y="3354480"/>
                  <a:ext cx="17640" cy="21600"/>
                </a:xfrm>
                <a:prstGeom prst="rect">
                  <a:avLst/>
                </a:pr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1828440" y="3354480"/>
                  <a:ext cx="17640" cy="216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1842840" y="3354480"/>
                  <a:ext cx="17640" cy="216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1857600" y="3354480"/>
                  <a:ext cx="17640" cy="21600"/>
                </a:xfrm>
                <a:prstGeom prst="rect">
                  <a:avLst/>
                </a:pr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1873440" y="3354480"/>
                  <a:ext cx="17640" cy="21600"/>
                </a:xfrm>
                <a:prstGeom prst="rect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886040" y="3354480"/>
                  <a:ext cx="19800" cy="2160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1900440" y="3354480"/>
                  <a:ext cx="19800" cy="2160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1918440" y="3354480"/>
                  <a:ext cx="16200" cy="21600"/>
                </a:xfrm>
                <a:prstGeom prst="rect">
                  <a:avLst/>
                </a:prstGeom>
                <a:solidFill>
                  <a:srgbClr val="e2e2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1931040" y="3354480"/>
                  <a:ext cx="19800" cy="2160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1945800" y="3354480"/>
                  <a:ext cx="19440" cy="2160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1961640" y="3354480"/>
                  <a:ext cx="17640" cy="21600"/>
                </a:xfrm>
                <a:prstGeom prst="rect">
                  <a:avLst/>
                </a:prstGeom>
                <a:solidFill>
                  <a:srgbClr val="db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1976400" y="3354480"/>
                  <a:ext cx="17640" cy="21600"/>
                </a:xfrm>
                <a:prstGeom prst="rect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1990800" y="3354480"/>
                  <a:ext cx="17640" cy="21600"/>
                </a:xfrm>
                <a:prstGeom prst="rect">
                  <a:avLst/>
                </a:prstGeom>
                <a:solidFill>
                  <a:srgbClr val="d6d6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2005200" y="3354480"/>
                  <a:ext cx="17640" cy="21600"/>
                </a:xfrm>
                <a:prstGeom prst="rect">
                  <a:avLst/>
                </a:prstGeom>
                <a:solidFill>
                  <a:srgbClr val="d3d3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2019600" y="3354480"/>
                  <a:ext cx="18360" cy="21600"/>
                </a:xfrm>
                <a:prstGeom prst="rect">
                  <a:avLst/>
                </a:prstGeom>
                <a:solidFill>
                  <a:srgbClr val="d1d1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2034000" y="3354480"/>
                  <a:ext cx="19440" cy="2160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2048400" y="3354480"/>
                  <a:ext cx="19440" cy="216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2062800" y="3354480"/>
                  <a:ext cx="17640" cy="21600"/>
                </a:xfrm>
                <a:prstGeom prst="rect">
                  <a:avLst/>
                </a:prstGeom>
                <a:solidFill>
                  <a:srgbClr val="c9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079000" y="3354480"/>
                  <a:ext cx="17640" cy="21600"/>
                </a:xfrm>
                <a:prstGeom prst="rect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2093400" y="3354480"/>
                  <a:ext cx="17640" cy="21600"/>
                </a:xfrm>
                <a:prstGeom prst="rect">
                  <a:avLst/>
                </a:prstGeom>
                <a:solidFill>
                  <a:srgbClr val="c4c4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2108160" y="3354480"/>
                  <a:ext cx="17640" cy="2160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2124000" y="3354480"/>
                  <a:ext cx="17640" cy="21600"/>
                </a:xfrm>
                <a:prstGeom prst="rect">
                  <a:avLst/>
                </a:prstGeom>
                <a:solidFill>
                  <a:srgbClr val="bc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2136960" y="3354480"/>
                  <a:ext cx="17640" cy="21600"/>
                </a:xfrm>
                <a:prstGeom prst="rect">
                  <a:avLst/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2151000" y="3354480"/>
                  <a:ext cx="17640" cy="21600"/>
                </a:xfrm>
                <a:prstGeom prst="rect">
                  <a:avLst/>
                </a:prstGeom>
                <a:solidFill>
                  <a:srgbClr val="b7b7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2165760" y="3354480"/>
                  <a:ext cx="19440" cy="21600"/>
                </a:xfrm>
                <a:prstGeom prst="rect">
                  <a:avLst/>
                </a:pr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2180160" y="3354480"/>
                  <a:ext cx="19440" cy="216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2194560" y="3354480"/>
                  <a:ext cx="19800" cy="21600"/>
                </a:xfrm>
                <a:prstGeom prst="rect">
                  <a:avLst/>
                </a:prstGeom>
                <a:solidFill>
                  <a:srgbClr val="afaf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2210760" y="3354480"/>
                  <a:ext cx="17640" cy="21600"/>
                </a:xfrm>
                <a:prstGeom prst="rect">
                  <a:avLst/>
                </a:prstGeom>
                <a:solidFill>
                  <a:srgbClr val="adad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2225160" y="3354480"/>
                  <a:ext cx="17640" cy="21600"/>
                </a:xfrm>
                <a:prstGeom prst="rect">
                  <a:avLst/>
                </a:prstGeom>
                <a:solidFill>
                  <a:srgbClr val="aaa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239560" y="3354480"/>
                  <a:ext cx="19800" cy="21600"/>
                </a:xfrm>
                <a:prstGeom prst="rect">
                  <a:avLst/>
                </a:prstGeom>
                <a:solidFill>
                  <a:srgbClr val="a8a8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2255760" y="3354480"/>
                  <a:ext cx="17640" cy="216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2270160" y="3354480"/>
                  <a:ext cx="17640" cy="21600"/>
                </a:xfrm>
                <a:prstGeom prst="rect">
                  <a:avLst/>
                </a:prstGeom>
                <a:solidFill>
                  <a:srgbClr val="a3a3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2284920" y="3354480"/>
                  <a:ext cx="19440" cy="21600"/>
                </a:xfrm>
                <a:prstGeom prst="rect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2299320" y="3354480"/>
                  <a:ext cx="16200" cy="21600"/>
                </a:xfrm>
                <a:prstGeom prst="rect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2315520" y="3354480"/>
                  <a:ext cx="15840" cy="21600"/>
                </a:xfrm>
                <a:prstGeom prst="rect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2327760" y="3354480"/>
                  <a:ext cx="18360" cy="21600"/>
                </a:xfrm>
                <a:prstGeom prst="rect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2342520" y="3354480"/>
                  <a:ext cx="17640" cy="216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2356920" y="3354480"/>
                  <a:ext cx="17640" cy="2160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2371320" y="3354480"/>
                  <a:ext cx="14400" cy="21600"/>
                </a:xfrm>
                <a:prstGeom prst="rect">
                  <a:avLst/>
                </a:prstGeom>
                <a:solidFill>
                  <a:srgbClr val="8e8e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2383920" y="3354480"/>
                  <a:ext cx="16200" cy="21600"/>
                </a:xfrm>
                <a:prstGeom prst="rect">
                  <a:avLst/>
                </a:prstGeom>
                <a:solidFill>
                  <a:srgbClr val="8c8c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2396520" y="3354480"/>
                  <a:ext cx="16200" cy="21600"/>
                </a:xfrm>
                <a:prstGeom prst="rect">
                  <a:avLst/>
                </a:prstGeom>
                <a:solidFill>
                  <a:srgbClr val="8989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2409120" y="3354480"/>
                  <a:ext cx="16200" cy="21600"/>
                </a:xfrm>
                <a:prstGeom prst="rect">
                  <a:avLst/>
                </a:prstGeom>
                <a:solidFill>
                  <a:srgbClr val="87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2422080" y="3354480"/>
                  <a:ext cx="14040" cy="21600"/>
                </a:xfrm>
                <a:prstGeom prst="rect">
                  <a:avLst/>
                </a:prstGeom>
                <a:solidFill>
                  <a:srgbClr val="8484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1761840" y="3359880"/>
                  <a:ext cx="667080" cy="10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1754280" y="3307320"/>
                  <a:ext cx="683280" cy="48600"/>
                </a:xfrm>
                <a:custGeom>
                  <a:avLst/>
                  <a:gdLst/>
                  <a:ahLst/>
                  <a:rect l="l" t="t" r="r" b="b"/>
                  <a:pathLst>
                    <a:path w="379" h="38">
                      <a:moveTo>
                        <a:pt x="0" y="37"/>
                      </a:moveTo>
                      <a:lnTo>
                        <a:pt x="94" y="0"/>
                      </a:lnTo>
                      <a:lnTo>
                        <a:pt x="284" y="0"/>
                      </a:lnTo>
                      <a:lnTo>
                        <a:pt x="378" y="37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1754280" y="3307320"/>
                  <a:ext cx="683280" cy="48600"/>
                </a:xfrm>
                <a:custGeom>
                  <a:avLst/>
                  <a:gdLst/>
                  <a:ahLst/>
                  <a:rect l="l" t="t" r="r" b="b"/>
                  <a:pathLst>
                    <a:path w="379" h="38">
                      <a:moveTo>
                        <a:pt x="0" y="37"/>
                      </a:moveTo>
                      <a:lnTo>
                        <a:pt x="94" y="0"/>
                      </a:lnTo>
                      <a:lnTo>
                        <a:pt x="284" y="0"/>
                      </a:lnTo>
                      <a:lnTo>
                        <a:pt x="378" y="37"/>
                      </a:lnTo>
                      <a:lnTo>
                        <a:pt x="0" y="3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1572480" y="2532240"/>
                  <a:ext cx="1040400" cy="73944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1579320" y="2536920"/>
                  <a:ext cx="1026720" cy="7293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1682280" y="2610000"/>
                  <a:ext cx="827640" cy="501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1689120" y="2615040"/>
                  <a:ext cx="813600" cy="4917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1702080" y="2618640"/>
                  <a:ext cx="790200" cy="485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1709280" y="2624040"/>
                  <a:ext cx="771840" cy="472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1599120" y="3202920"/>
                  <a:ext cx="99180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1961640" y="3222000"/>
                  <a:ext cx="0" cy="34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2228760" y="3222000"/>
                  <a:ext cx="0" cy="34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2454120" y="3222000"/>
                  <a:ext cx="41400" cy="3420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2461680" y="3226680"/>
                  <a:ext cx="26640" cy="24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3" name=""/>
              <p:cNvSpPr/>
              <p:nvPr/>
            </p:nvSpPr>
            <p:spPr>
              <a:xfrm>
                <a:off x="1707840" y="2657160"/>
                <a:ext cx="84276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ffff00"/>
                    </a:solidFill>
                    <a:latin typeface="Arial"/>
                  </a:rPr>
                  <a:t>Ergonomi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ffff00"/>
                    </a:solidFill>
                    <a:latin typeface="Arial"/>
                  </a:rPr>
                  <a:t>Simul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50176f"/>
                </a:solidFill>
                <a:latin typeface="Arial"/>
              </a:rPr>
              <a:t>Focus of the Interest Group</a:t>
            </a: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f4e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f4e52"/>
                </a:solidFill>
                <a:latin typeface="Arial"/>
              </a:rPr>
              <a:t>Application fields</a:t>
            </a: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f4e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f4e52"/>
                </a:solidFill>
                <a:latin typeface="Arial"/>
              </a:rPr>
              <a:t>"Body-in-white-Connections" / Development of manufacturing systems</a:t>
            </a:r>
            <a:endParaRPr b="0" lang="en-US" sz="2400" spc="-1" strike="noStrike">
              <a:solidFill>
                <a:srgbClr val="4f4e5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f4e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f4e52"/>
                </a:solidFill>
                <a:latin typeface="Arial"/>
              </a:rPr>
              <a:t>Information content</a:t>
            </a: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f4e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f4e52"/>
                </a:solidFill>
                <a:latin typeface="Arial"/>
              </a:rPr>
              <a:t>Technology</a:t>
            </a: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f4e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f4e52"/>
                </a:solidFill>
                <a:latin typeface="Arial"/>
              </a:rPr>
              <a:t>System / interfaces required</a:t>
            </a: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f4e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f4e52"/>
                </a:solidFill>
                <a:latin typeface="Arial"/>
              </a:rPr>
              <a:t>Standardisation</a:t>
            </a:r>
            <a:endParaRPr b="0" lang="en-US" sz="2800" spc="-1" strike="noStrike">
              <a:solidFill>
                <a:srgbClr val="4f4e5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50176f"/>
                </a:solidFill>
                <a:latin typeface="Arial"/>
              </a:rPr>
              <a:t>White Paper Draft for Review available</a:t>
            </a: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2"/>
          <a:srcRect l="29376" t="12310" r="32503" b="19591"/>
          <a:stretch/>
        </p:blipFill>
        <p:spPr>
          <a:xfrm>
            <a:off x="2556000" y="1219320"/>
            <a:ext cx="4032000" cy="5486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176f"/>
                </a:solidFill>
                <a:latin typeface="Arial"/>
              </a:rPr>
              <a:t>High Level AAM</a:t>
            </a: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47560" y="10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47560" y="10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1" name=""/>
          <p:cNvGraphicFramePr/>
          <p:nvPr/>
        </p:nvGraphicFramePr>
        <p:xfrm>
          <a:off x="304920" y="1531800"/>
          <a:ext cx="8686800" cy="508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531800"/>
                    <a:ext cx="8686800" cy="508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50176f"/>
                </a:solidFill>
                <a:latin typeface="Arial"/>
              </a:rPr>
              <a:t>Data Exchange Matrix</a:t>
            </a: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pic>
        <p:nvPicPr>
          <p:cNvPr id="924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686800" cy="45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50176f"/>
                </a:solidFill>
                <a:latin typeface="Arial"/>
              </a:rPr>
              <a:t>Standards in Scope</a:t>
            </a:r>
            <a:endParaRPr b="1" lang="en-US" sz="2800" spc="-1" strike="noStrike">
              <a:solidFill>
                <a:srgbClr val="50176f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169056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7" name=""/>
          <p:cNvGraphicFramePr/>
          <p:nvPr/>
        </p:nvGraphicFramePr>
        <p:xfrm>
          <a:off x="838080" y="1600200"/>
          <a:ext cx="5762880" cy="22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600200"/>
                    <a:ext cx="576288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9" name=""/>
          <p:cNvSpPr/>
          <p:nvPr/>
        </p:nvSpPr>
        <p:spPr>
          <a:xfrm>
            <a:off x="169056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0" name=""/>
          <p:cNvGraphicFramePr/>
          <p:nvPr/>
        </p:nvGraphicFramePr>
        <p:xfrm>
          <a:off x="914400" y="4038480"/>
          <a:ext cx="5762520" cy="2562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4038480"/>
                    <a:ext cx="5762520" cy="25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2" name=""/>
          <p:cNvSpPr/>
          <p:nvPr/>
        </p:nvSpPr>
        <p:spPr>
          <a:xfrm>
            <a:off x="6629400" y="2057400"/>
            <a:ext cx="2362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  <a:ea typeface="Times New Roman"/>
              </a:rPr>
              <a:t>Standards from a product lifecycle perspective</a:t>
            </a:r>
            <a:r>
              <a:rPr b="1" lang="de-DE" sz="1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629400" y="4419720"/>
            <a:ext cx="2286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  <a:ea typeface="Times New Roman"/>
              </a:rPr>
              <a:t>Standards from a manufacturing system lifecycle perspective</a:t>
            </a:r>
            <a:r>
              <a:rPr b="1" lang="de-DE" sz="15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09:48:25Z</dcterms:created>
  <dc:creator>Dag Plischke</dc:creator>
  <dc:description/>
  <dc:language>en-US</dc:language>
  <cp:lastModifiedBy>Max Ungerer</cp:lastModifiedBy>
  <cp:lastPrinted>2002-02-22T09:17:28Z</cp:lastPrinted>
  <dcterms:modified xsi:type="dcterms:W3CDTF">2003-06-23T11:38:59Z</dcterms:modified>
  <cp:revision>60</cp:revision>
  <dc:subject>PDTnet</dc:subject>
  <dc:title>Status Smart PDM Tool  AP Scenario 1</dc:title>
</cp:coreProperties>
</file>