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731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29528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3845520"/>
            <a:ext cx="23306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731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384552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295280"/>
            <a:ext cx="353268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3845520"/>
            <a:ext cx="7239240" cy="23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0"/>
            <a:ext cx="11178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6477120"/>
            <a:ext cx="807732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80880" y="838080"/>
            <a:ext cx="8458200" cy="76320"/>
            <a:chOff x="380880" y="838080"/>
            <a:chExt cx="8458200" cy="76320"/>
          </a:xfrm>
        </p:grpSpPr>
        <p:sp>
          <p:nvSpPr>
            <p:cNvPr id="5" name=""/>
            <p:cNvSpPr/>
            <p:nvPr/>
          </p:nvSpPr>
          <p:spPr>
            <a:xfrm>
              <a:off x="609480" y="9144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8380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7847640" y="654696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53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June 200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" y="0"/>
            <a:ext cx="11178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477120"/>
            <a:ext cx="8077320" cy="380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7640" y="65530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eneca-I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09680"/>
            <a:ext cx="8458200" cy="76320"/>
            <a:chOff x="380880" y="2209680"/>
            <a:chExt cx="8458200" cy="76320"/>
          </a:xfrm>
        </p:grpSpPr>
        <p:sp>
          <p:nvSpPr>
            <p:cNvPr id="50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880" y="2209680"/>
              <a:ext cx="845820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0" y="6553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June 200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56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 219: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spection data &amp; resul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Arial"/>
              </a:rPr>
              <a:t>Stuttgart, Germany - June 2003</a:t>
            </a:r>
            <a:endParaRPr b="0" lang="en-US" sz="21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ill Danne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neca-I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danner@ec.rr.com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P NC harmonizatio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orkingstep preliminary requirment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XPRESS to EXP-G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anufacturing featu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ominal and/or toleranc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mensional measurement featu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arameter measurment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gram I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dentification requirement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P NC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Preliminary requirement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447920"/>
            <a:ext cx="457200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TITY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inspection_workingstep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ts_criterias : SET [1:?] OF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inspection_criteria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ts_activity 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inspection_activity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D_ENTITY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TITY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inspection_criteria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ABSTRACT SUPERTYPE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ts_id 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bel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ts_reference : ..... (*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lane, co-ordinate system,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...*)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D_ENTITY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TITY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inspection_criteria_point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SUPERTYPE OF (inspection_criteria)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ts_base_element 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ase_element_select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ts_point 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int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; (* IR 42 *)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ts_deviation (*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deviation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*) ...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.....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D_ENTITY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TYPE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base_element_select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= SELECT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achining_feature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(* AP 42 *)</a:t>
            </a:r>
            <a:br>
              <a:rPr sz="1200"/>
            </a:b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geometric_representation_item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* IR 42 *));</a:t>
            </a:r>
            <a:br>
              <a:rPr sz="1200"/>
            </a:b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D_TYPE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368720" y="3276720"/>
            <a:ext cx="1755360" cy="641520"/>
            <a:chOff x="1368720" y="3276720"/>
            <a:chExt cx="1755360" cy="641520"/>
          </a:xfrm>
        </p:grpSpPr>
        <p:sp>
          <p:nvSpPr>
            <p:cNvPr id="374" name=""/>
            <p:cNvSpPr/>
            <p:nvPr/>
          </p:nvSpPr>
          <p:spPr>
            <a:xfrm>
              <a:off x="2514600" y="3581280"/>
              <a:ext cx="609480" cy="228600"/>
            </a:xfrm>
            <a:prstGeom prst="line">
              <a:avLst/>
            </a:prstGeom>
            <a:ln w="9360">
              <a:solidFill>
                <a:srgbClr val="e5b1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68720" y="3276720"/>
              <a:ext cx="1412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5b18d"/>
                  </a:solidFill>
                  <a:latin typeface="Arial"/>
                </a:rPr>
                <a:t>assumed 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5b18d"/>
                  </a:solidFill>
                  <a:latin typeface="Arial"/>
                </a:rPr>
                <a:t>subtype o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5b18d"/>
                  </a:solidFill>
                  <a:latin typeface="Arial"/>
                </a:rPr>
                <a:t>inspection_criteria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2057400" y="1295280"/>
            <a:ext cx="2133720" cy="1219320"/>
            <a:chOff x="2057400" y="1295280"/>
            <a:chExt cx="2133720" cy="1219320"/>
          </a:xfrm>
        </p:grpSpPr>
        <p:sp>
          <p:nvSpPr>
            <p:cNvPr id="377" name=""/>
            <p:cNvSpPr/>
            <p:nvPr/>
          </p:nvSpPr>
          <p:spPr>
            <a:xfrm>
              <a:off x="2057400" y="129528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75200" y="167652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criter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29000" y="1981080"/>
            <a:ext cx="2133720" cy="1219320"/>
            <a:chOff x="3429000" y="1981080"/>
            <a:chExt cx="2133720" cy="1219320"/>
          </a:xfrm>
        </p:grpSpPr>
        <p:sp>
          <p:nvSpPr>
            <p:cNvPr id="380" name=""/>
            <p:cNvSpPr/>
            <p:nvPr/>
          </p:nvSpPr>
          <p:spPr>
            <a:xfrm>
              <a:off x="3429000" y="198108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23840" y="238752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label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67080" y="2819520"/>
            <a:ext cx="2133720" cy="1218960"/>
            <a:chOff x="4267080" y="2819520"/>
            <a:chExt cx="2133720" cy="1218960"/>
          </a:xfrm>
        </p:grpSpPr>
        <p:sp>
          <p:nvSpPr>
            <p:cNvPr id="383" name=""/>
            <p:cNvSpPr/>
            <p:nvPr/>
          </p:nvSpPr>
          <p:spPr>
            <a:xfrm>
              <a:off x="4267080" y="2819520"/>
              <a:ext cx="2133720" cy="121896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58240" y="3225960"/>
              <a:ext cx="103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criterion poi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&amp; devi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267080" y="1066680"/>
            <a:ext cx="2133720" cy="1219320"/>
            <a:chOff x="4267080" y="1066680"/>
            <a:chExt cx="2133720" cy="1219320"/>
          </a:xfrm>
        </p:grpSpPr>
        <p:sp>
          <p:nvSpPr>
            <p:cNvPr id="386" name=""/>
            <p:cNvSpPr/>
            <p:nvPr/>
          </p:nvSpPr>
          <p:spPr>
            <a:xfrm>
              <a:off x="4267080" y="106668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97440" y="1244520"/>
              <a:ext cx="92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workingstep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343400" y="4876920"/>
            <a:ext cx="2133720" cy="1218960"/>
            <a:chOff x="4343400" y="4876920"/>
            <a:chExt cx="2133720" cy="1218960"/>
          </a:xfrm>
        </p:grpSpPr>
        <p:sp>
          <p:nvSpPr>
            <p:cNvPr id="389" name=""/>
            <p:cNvSpPr/>
            <p:nvPr/>
          </p:nvSpPr>
          <p:spPr>
            <a:xfrm>
              <a:off x="4343400" y="4876920"/>
              <a:ext cx="2133720" cy="121896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15920" y="5207040"/>
              <a:ext cx="95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hape-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bas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pec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133720" y="4876920"/>
            <a:ext cx="2133360" cy="1218960"/>
            <a:chOff x="2133720" y="4876920"/>
            <a:chExt cx="2133360" cy="1218960"/>
          </a:xfrm>
        </p:grpSpPr>
        <p:sp>
          <p:nvSpPr>
            <p:cNvPr id="392" name=""/>
            <p:cNvSpPr/>
            <p:nvPr/>
          </p:nvSpPr>
          <p:spPr>
            <a:xfrm>
              <a:off x="2133720" y="4876920"/>
              <a:ext cx="2133360" cy="121896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66480" y="5130720"/>
              <a:ext cx="95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feature-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bas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pec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P NC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Preliminary requirement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24080" y="3611520"/>
            <a:ext cx="2385000" cy="2179800"/>
            <a:chOff x="3124080" y="3611520"/>
            <a:chExt cx="2385000" cy="2179800"/>
          </a:xfrm>
        </p:grpSpPr>
        <p:sp>
          <p:nvSpPr>
            <p:cNvPr id="396" name=""/>
            <p:cNvSpPr/>
            <p:nvPr/>
          </p:nvSpPr>
          <p:spPr>
            <a:xfrm>
              <a:off x="3375000" y="4210200"/>
              <a:ext cx="1790640" cy="414360"/>
            </a:xfrm>
            <a:prstGeom prst="rect">
              <a:avLst/>
            </a:prstGeom>
            <a:solidFill>
              <a:srgbClr val="ffe3b9"/>
            </a:solidFill>
            <a:ln w="792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71920" y="4210200"/>
              <a:ext cx="1440" cy="414360"/>
            </a:xfrm>
            <a:prstGeom prst="line">
              <a:avLst/>
            </a:prstGeom>
            <a:ln w="79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70640" y="4354560"/>
              <a:ext cx="110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_element_selec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24080" y="5207040"/>
              <a:ext cx="914400" cy="51120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72320" y="5330880"/>
              <a:ext cx="79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ufacturing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3480" y="54626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33920" y="5149800"/>
              <a:ext cx="844560" cy="64152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13480" y="5265720"/>
              <a:ext cx="59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08080" y="540396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resenta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12760" y="5535720"/>
              <a:ext cx="21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29080" y="4916520"/>
              <a:ext cx="1527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64200" y="4632480"/>
              <a:ext cx="1440" cy="28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529080" y="4916160"/>
              <a:ext cx="1440" cy="253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2360" y="5135400"/>
              <a:ext cx="73080" cy="716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056200" y="491616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9840" y="5068800"/>
              <a:ext cx="72720" cy="73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05240" y="3611520"/>
              <a:ext cx="858960" cy="554040"/>
            </a:xfrm>
            <a:custGeom>
              <a:avLst/>
              <a:gdLst/>
              <a:ahLst/>
              <a:rect l="l" t="t" r="r" b="b"/>
              <a:pathLst>
                <a:path w="541" h="349">
                  <a:moveTo>
                    <a:pt x="0" y="0"/>
                  </a:moveTo>
                  <a:lnTo>
                    <a:pt x="0" y="170"/>
                  </a:lnTo>
                  <a:lnTo>
                    <a:pt x="541" y="170"/>
                  </a:lnTo>
                  <a:lnTo>
                    <a:pt x="541" y="3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27480" y="412920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53040" y="3886200"/>
              <a:ext cx="80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s_base_elemen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186000" y="1600200"/>
            <a:ext cx="4051440" cy="1158840"/>
            <a:chOff x="3186000" y="1600200"/>
            <a:chExt cx="4051440" cy="1158840"/>
          </a:xfrm>
        </p:grpSpPr>
        <p:sp>
          <p:nvSpPr>
            <p:cNvPr id="416" name=""/>
            <p:cNvSpPr/>
            <p:nvPr/>
          </p:nvSpPr>
          <p:spPr>
            <a:xfrm>
              <a:off x="3186000" y="1600200"/>
              <a:ext cx="655920" cy="51120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4760" y="171756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pec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63760" y="184788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riteria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03600" y="2359080"/>
              <a:ext cx="532080" cy="39996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67400" y="248904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13600" y="2438280"/>
              <a:ext cx="720720" cy="22860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58000" y="2438280"/>
              <a:ext cx="0" cy="22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24480" y="25146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65640" y="1600200"/>
              <a:ext cx="676440" cy="51120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34040" y="171756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pec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9440" y="1847880"/>
              <a:ext cx="61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orkingstep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76840" y="1600200"/>
              <a:ext cx="655920" cy="51120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47040" y="171756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pec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49200" y="1847880"/>
              <a:ext cx="35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30600" y="2111400"/>
              <a:ext cx="1143000" cy="203040"/>
            </a:xfrm>
            <a:custGeom>
              <a:avLst/>
              <a:gdLst/>
              <a:ahLst/>
              <a:rect l="l" t="t" r="r" b="b"/>
              <a:pathLst>
                <a:path w="720" h="128">
                  <a:moveTo>
                    <a:pt x="0" y="0"/>
                  </a:moveTo>
                  <a:lnTo>
                    <a:pt x="0" y="64"/>
                  </a:lnTo>
                  <a:lnTo>
                    <a:pt x="720" y="64"/>
                  </a:lnTo>
                  <a:lnTo>
                    <a:pt x="720" y="12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37240" y="2278080"/>
              <a:ext cx="727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96440" y="2044800"/>
              <a:ext cx="24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s_i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41800" y="2556000"/>
              <a:ext cx="1128960" cy="1440"/>
            </a:xfrm>
            <a:custGeom>
              <a:avLst/>
              <a:gdLst/>
              <a:ahLst/>
              <a:rect l="l" t="t" r="r" b="b"/>
              <a:pathLst>
                <a:path w="711" h="0">
                  <a:moveTo>
                    <a:pt x="0" y="0"/>
                  </a:moveTo>
                  <a:lnTo>
                    <a:pt x="353" y="0"/>
                  </a:lnTo>
                  <a:lnTo>
                    <a:pt x="353" y="0"/>
                  </a:lnTo>
                  <a:lnTo>
                    <a:pt x="71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34040" y="2519280"/>
              <a:ext cx="73080" cy="71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14840" y="238752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84760" y="1847880"/>
              <a:ext cx="1280880" cy="1440"/>
            </a:xfrm>
            <a:custGeom>
              <a:avLst/>
              <a:gdLst/>
              <a:ahLst/>
              <a:rect l="l" t="t" r="r" b="b"/>
              <a:pathLst>
                <a:path w="807" h="0">
                  <a:moveTo>
                    <a:pt x="807" y="0"/>
                  </a:moveTo>
                  <a:lnTo>
                    <a:pt x="404" y="0"/>
                  </a:lnTo>
                  <a:lnTo>
                    <a:pt x="404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760" y="1681200"/>
              <a:ext cx="844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s_criterias 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42080" y="1847880"/>
              <a:ext cx="691920" cy="1440"/>
            </a:xfrm>
            <a:custGeom>
              <a:avLst/>
              <a:gdLst/>
              <a:ahLst/>
              <a:rect l="l" t="t" r="r" b="b"/>
              <a:pathLst>
                <a:path w="436" h="0">
                  <a:moveTo>
                    <a:pt x="0" y="0"/>
                  </a:moveTo>
                  <a:lnTo>
                    <a:pt x="220" y="0"/>
                  </a:lnTo>
                  <a:lnTo>
                    <a:pt x="220" y="0"/>
                  </a:lnTo>
                  <a:lnTo>
                    <a:pt x="43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97640" y="181116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42160" y="1644480"/>
              <a:ext cx="47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s_activity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48040" y="181116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048120" y="2111400"/>
            <a:ext cx="2334960" cy="1751040"/>
            <a:chOff x="3048120" y="2111400"/>
            <a:chExt cx="2334960" cy="1751040"/>
          </a:xfrm>
        </p:grpSpPr>
        <p:sp>
          <p:nvSpPr>
            <p:cNvPr id="443" name=""/>
            <p:cNvSpPr/>
            <p:nvPr/>
          </p:nvSpPr>
          <p:spPr>
            <a:xfrm>
              <a:off x="3405240" y="27511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05240" y="2111400"/>
              <a:ext cx="1440" cy="639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48120" y="2963880"/>
              <a:ext cx="720720" cy="69372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6520" y="314496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pec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24080" y="3284640"/>
              <a:ext cx="66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riteria_poi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19600" y="2906640"/>
              <a:ext cx="619200" cy="39996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98440" y="2971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rtesia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95920" y="31114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7800" y="3111480"/>
              <a:ext cx="858960" cy="1440"/>
            </a:xfrm>
            <a:custGeom>
              <a:avLst/>
              <a:gdLst/>
              <a:ahLst/>
              <a:rect l="l" t="t" r="r" b="b"/>
              <a:pathLst>
                <a:path w="541" h="0">
                  <a:moveTo>
                    <a:pt x="0" y="0"/>
                  </a:moveTo>
                  <a:lnTo>
                    <a:pt x="270" y="0"/>
                  </a:lnTo>
                  <a:lnTo>
                    <a:pt x="270" y="0"/>
                  </a:lnTo>
                  <a:lnTo>
                    <a:pt x="54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0400" y="3075120"/>
              <a:ext cx="7272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66920" y="294336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ts_poin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405240" y="2750760"/>
              <a:ext cx="1440" cy="16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68520" y="2882880"/>
              <a:ext cx="73080" cy="73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3809880" y="3352680"/>
              <a:ext cx="1573200" cy="509760"/>
              <a:chOff x="3809880" y="3352680"/>
              <a:chExt cx="1573200" cy="509760"/>
            </a:xfrm>
          </p:grpSpPr>
          <p:sp>
            <p:nvSpPr>
              <p:cNvPr id="457" name=""/>
              <p:cNvSpPr/>
              <p:nvPr/>
            </p:nvSpPr>
            <p:spPr>
              <a:xfrm>
                <a:off x="4711680" y="3352680"/>
                <a:ext cx="619200" cy="400320"/>
              </a:xfrm>
              <a:prstGeom prst="rect">
                <a:avLst/>
              </a:prstGeom>
              <a:solidFill>
                <a:srgbClr val="ffe3b9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54520" y="3417840"/>
                <a:ext cx="628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Deviation’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13280" y="35575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809880" y="3557520"/>
                <a:ext cx="858960" cy="1800"/>
              </a:xfrm>
              <a:custGeom>
                <a:avLst/>
                <a:gdLst/>
                <a:ahLst/>
                <a:rect l="l" t="t" r="r" b="b"/>
                <a:pathLst>
                  <a:path w="541" h="0">
                    <a:moveTo>
                      <a:pt x="0" y="0"/>
                    </a:moveTo>
                    <a:lnTo>
                      <a:pt x="270" y="0"/>
                    </a:lnTo>
                    <a:lnTo>
                      <a:pt x="270" y="0"/>
                    </a:lnTo>
                    <a:lnTo>
                      <a:pt x="54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32480" y="352116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65040" y="3389400"/>
                <a:ext cx="569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ts_deviation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1752480" y="3352680"/>
            <a:ext cx="2133720" cy="1219320"/>
            <a:chOff x="1752480" y="3352680"/>
            <a:chExt cx="2133720" cy="1219320"/>
          </a:xfrm>
        </p:grpSpPr>
        <p:sp>
          <p:nvSpPr>
            <p:cNvPr id="464" name=""/>
            <p:cNvSpPr/>
            <p:nvPr/>
          </p:nvSpPr>
          <p:spPr>
            <a:xfrm>
              <a:off x="1752480" y="335268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21280" y="3429000"/>
              <a:ext cx="103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criterion poi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&amp; devi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962520" y="3962520"/>
            <a:ext cx="2133360" cy="1218960"/>
            <a:chOff x="3962520" y="3962520"/>
            <a:chExt cx="2133360" cy="1218960"/>
          </a:xfrm>
        </p:grpSpPr>
        <p:sp>
          <p:nvSpPr>
            <p:cNvPr id="467" name=""/>
            <p:cNvSpPr/>
            <p:nvPr/>
          </p:nvSpPr>
          <p:spPr>
            <a:xfrm flipH="1">
              <a:off x="3962520" y="3962520"/>
              <a:ext cx="2133360" cy="121896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171760" y="411480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criter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781680" y="2133720"/>
            <a:ext cx="2133720" cy="1218960"/>
            <a:chOff x="6781680" y="2133720"/>
            <a:chExt cx="2133720" cy="1218960"/>
          </a:xfrm>
        </p:grpSpPr>
        <p:sp>
          <p:nvSpPr>
            <p:cNvPr id="470" name=""/>
            <p:cNvSpPr/>
            <p:nvPr/>
          </p:nvSpPr>
          <p:spPr>
            <a:xfrm>
              <a:off x="6781680" y="2133720"/>
              <a:ext cx="2133720" cy="121896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14800" y="2387520"/>
              <a:ext cx="95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feature-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bas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pec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52280" y="4267080"/>
            <a:ext cx="2133720" cy="1219320"/>
            <a:chOff x="152280" y="4267080"/>
            <a:chExt cx="2133720" cy="1219320"/>
          </a:xfrm>
        </p:grpSpPr>
        <p:sp>
          <p:nvSpPr>
            <p:cNvPr id="473" name=""/>
            <p:cNvSpPr/>
            <p:nvPr/>
          </p:nvSpPr>
          <p:spPr>
            <a:xfrm>
              <a:off x="152280" y="426708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2680" y="4444920"/>
              <a:ext cx="141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workingstep             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P NC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eature-based specificatio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322280" y="5397480"/>
            <a:ext cx="3038400" cy="503280"/>
            <a:chOff x="1322280" y="5397480"/>
            <a:chExt cx="3038400" cy="503280"/>
          </a:xfrm>
        </p:grpSpPr>
        <p:sp>
          <p:nvSpPr>
            <p:cNvPr id="477" name=""/>
            <p:cNvSpPr/>
            <p:nvPr/>
          </p:nvSpPr>
          <p:spPr>
            <a:xfrm>
              <a:off x="2788920" y="5397480"/>
              <a:ext cx="538200" cy="503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68480" y="544212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67400" y="558000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58040" y="571176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77880" y="5645160"/>
              <a:ext cx="982800" cy="1800"/>
            </a:xfrm>
            <a:custGeom>
              <a:avLst/>
              <a:gdLst/>
              <a:ahLst/>
              <a:rect l="l" t="t" r="r" b="b"/>
              <a:pathLst>
                <a:path w="619" h="0">
                  <a:moveTo>
                    <a:pt x="619" y="0"/>
                  </a:moveTo>
                  <a:lnTo>
                    <a:pt x="312" y="0"/>
                  </a:lnTo>
                  <a:lnTo>
                    <a:pt x="31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41520" y="560880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03240" y="54784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_run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22280" y="5397480"/>
              <a:ext cx="782640" cy="503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00040" y="540720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98960" y="55450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94640" y="567684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47760" y="5645160"/>
              <a:ext cx="641160" cy="1800"/>
            </a:xfrm>
            <a:custGeom>
              <a:avLst/>
              <a:gdLst/>
              <a:ahLst/>
              <a:rect l="l" t="t" r="r" b="b"/>
              <a:pathLst>
                <a:path w="404" h="0">
                  <a:moveTo>
                    <a:pt x="404" y="0"/>
                  </a:moveTo>
                  <a:lnTo>
                    <a:pt x="202" y="0"/>
                  </a:lnTo>
                  <a:lnTo>
                    <a:pt x="20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11040" y="560880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32360" y="5478480"/>
              <a:ext cx="51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_i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247720" y="5867280"/>
            <a:ext cx="35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NOTE: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 FEO (for exposition only) dia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133720" y="1600200"/>
            <a:ext cx="1035360" cy="717480"/>
            <a:chOff x="2133720" y="1600200"/>
            <a:chExt cx="1035360" cy="717480"/>
          </a:xfrm>
        </p:grpSpPr>
        <p:sp>
          <p:nvSpPr>
            <p:cNvPr id="493" name=""/>
            <p:cNvSpPr/>
            <p:nvPr/>
          </p:nvSpPr>
          <p:spPr>
            <a:xfrm>
              <a:off x="2133720" y="1904760"/>
              <a:ext cx="228600" cy="119160"/>
            </a:xfrm>
            <a:prstGeom prst="rect">
              <a:avLst/>
            </a:prstGeom>
            <a:solidFill>
              <a:srgbClr val="fffff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40080" y="160020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AP224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40080" y="184284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AP219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3720" y="1676160"/>
              <a:ext cx="228600" cy="119160"/>
            </a:xfrm>
            <a:prstGeom prst="rect">
              <a:avLst/>
            </a:prstGeom>
            <a:solidFill>
              <a:srgbClr val="d9eefd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33720" y="2133360"/>
              <a:ext cx="228600" cy="119160"/>
            </a:xfrm>
            <a:prstGeom prst="rect">
              <a:avLst/>
            </a:prstGeom>
            <a:solidFill>
              <a:srgbClr val="ffe3b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41160" y="2071440"/>
              <a:ext cx="72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STEP NC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029200" y="3276720"/>
            <a:ext cx="2868120" cy="2179440"/>
            <a:chOff x="5029200" y="3276720"/>
            <a:chExt cx="2868120" cy="2179440"/>
          </a:xfrm>
        </p:grpSpPr>
        <p:sp>
          <p:nvSpPr>
            <p:cNvPr id="500" name=""/>
            <p:cNvSpPr/>
            <p:nvPr/>
          </p:nvSpPr>
          <p:spPr>
            <a:xfrm>
              <a:off x="7373880" y="5143680"/>
              <a:ext cx="70920" cy="71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4160" y="4640400"/>
              <a:ext cx="574200" cy="1440"/>
            </a:xfrm>
            <a:custGeom>
              <a:avLst/>
              <a:gdLst/>
              <a:ahLst/>
              <a:rect l="l" t="t" r="r" b="b"/>
              <a:pathLst>
                <a:path w="362" h="0">
                  <a:moveTo>
                    <a:pt x="0" y="0"/>
                  </a:moveTo>
                  <a:lnTo>
                    <a:pt x="178" y="0"/>
                  </a:lnTo>
                  <a:lnTo>
                    <a:pt x="178" y="0"/>
                  </a:lnTo>
                  <a:lnTo>
                    <a:pt x="36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43360" y="3276720"/>
              <a:ext cx="647280" cy="53964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21480" y="3349800"/>
              <a:ext cx="59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ameter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15000" y="3481560"/>
              <a:ext cx="58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culated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11400" y="361332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29200" y="3546360"/>
              <a:ext cx="1469880" cy="1800"/>
            </a:xfrm>
            <a:custGeom>
              <a:avLst/>
              <a:gdLst/>
              <a:ahLst/>
              <a:rect l="l" t="t" r="r" b="b"/>
              <a:pathLst>
                <a:path w="926" h="0">
                  <a:moveTo>
                    <a:pt x="0" y="0"/>
                  </a:moveTo>
                  <a:lnTo>
                    <a:pt x="463" y="0"/>
                  </a:lnTo>
                  <a:lnTo>
                    <a:pt x="463" y="0"/>
                  </a:lnTo>
                  <a:lnTo>
                    <a:pt x="92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64160" y="3510000"/>
              <a:ext cx="709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06120" y="3386160"/>
              <a:ext cx="76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99040" y="3568680"/>
              <a:ext cx="1323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INV) Dmf_parameters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98920" y="3546360"/>
              <a:ext cx="661680" cy="1800"/>
            </a:xfrm>
            <a:custGeom>
              <a:avLst/>
              <a:gdLst/>
              <a:ahLst/>
              <a:rect l="l" t="t" r="r" b="b"/>
              <a:pathLst>
                <a:path w="417" h="0">
                  <a:moveTo>
                    <a:pt x="0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41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24600" y="3510000"/>
              <a:ext cx="727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50040" y="3386160"/>
              <a:ext cx="56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79800" y="4443480"/>
              <a:ext cx="723600" cy="39996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53240" y="45086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culated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47840" y="464040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21080" y="3824280"/>
              <a:ext cx="742680" cy="574920"/>
            </a:xfrm>
            <a:custGeom>
              <a:avLst/>
              <a:gdLst/>
              <a:ahLst/>
              <a:rect l="l" t="t" r="r" b="b"/>
              <a:pathLst>
                <a:path w="468" h="362">
                  <a:moveTo>
                    <a:pt x="468" y="0"/>
                  </a:moveTo>
                  <a:lnTo>
                    <a:pt x="468" y="225"/>
                  </a:lnTo>
                  <a:lnTo>
                    <a:pt x="0" y="225"/>
                  </a:lnTo>
                  <a:lnTo>
                    <a:pt x="0" y="3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84720" y="4362480"/>
              <a:ext cx="727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86440" y="4005360"/>
              <a:ext cx="761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ed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02360" y="4603680"/>
              <a:ext cx="727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53160" y="44798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46720" y="5219640"/>
              <a:ext cx="651960" cy="23652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23080" y="5219640"/>
              <a:ext cx="1080" cy="23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89200" y="529596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21080" y="4851360"/>
              <a:ext cx="1287360" cy="328680"/>
            </a:xfrm>
            <a:custGeom>
              <a:avLst/>
              <a:gdLst/>
              <a:ahLst/>
              <a:rect l="l" t="t" r="r" b="b"/>
              <a:pathLst>
                <a:path w="811" h="207">
                  <a:moveTo>
                    <a:pt x="0" y="0"/>
                  </a:moveTo>
                  <a:lnTo>
                    <a:pt x="0" y="133"/>
                  </a:lnTo>
                  <a:lnTo>
                    <a:pt x="811" y="133"/>
                  </a:lnTo>
                  <a:lnTo>
                    <a:pt x="811" y="20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65880" y="4888080"/>
              <a:ext cx="88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ion_metho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76880" y="4449960"/>
              <a:ext cx="717120" cy="39996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49600" y="4514760"/>
              <a:ext cx="58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merical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44920" y="464652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21960" y="4567320"/>
            <a:ext cx="3393720" cy="823320"/>
            <a:chOff x="921960" y="4567320"/>
            <a:chExt cx="3393720" cy="823320"/>
          </a:xfrm>
        </p:grpSpPr>
        <p:grpSp>
          <p:nvGrpSpPr>
            <p:cNvPr id="530" name=""/>
            <p:cNvGrpSpPr/>
            <p:nvPr/>
          </p:nvGrpSpPr>
          <p:grpSpPr>
            <a:xfrm>
              <a:off x="1308600" y="4567320"/>
              <a:ext cx="3007080" cy="823320"/>
              <a:chOff x="1308600" y="4567320"/>
              <a:chExt cx="3007080" cy="823320"/>
            </a:xfrm>
          </p:grpSpPr>
          <p:sp>
            <p:nvSpPr>
              <p:cNvPr id="531" name=""/>
              <p:cNvSpPr/>
              <p:nvPr/>
            </p:nvSpPr>
            <p:spPr>
              <a:xfrm>
                <a:off x="1308600" y="4567320"/>
                <a:ext cx="637920" cy="393480"/>
              </a:xfrm>
              <a:prstGeom prst="rect">
                <a:avLst/>
              </a:prstGeom>
              <a:solidFill>
                <a:srgbClr val="ffe3b9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89600" y="4609800"/>
                <a:ext cx="241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12920" y="4741560"/>
                <a:ext cx="614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orkingstep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676880" y="4966920"/>
                <a:ext cx="1440" cy="387000"/>
              </a:xfrm>
              <a:custGeom>
                <a:avLst/>
                <a:gdLst/>
                <a:ahLst/>
                <a:rect l="l" t="t" r="r" b="b"/>
                <a:pathLst>
                  <a:path w="0" h="244">
                    <a:moveTo>
                      <a:pt x="0" y="0"/>
                    </a:moveTo>
                    <a:lnTo>
                      <a:pt x="0" y="120"/>
                    </a:lnTo>
                    <a:lnTo>
                      <a:pt x="0" y="120"/>
                    </a:lnTo>
                    <a:lnTo>
                      <a:pt x="0" y="24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639080" y="5317920"/>
                <a:ext cx="7524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5360" y="509076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gram_id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953360" y="4763880"/>
                <a:ext cx="2324880" cy="1080"/>
              </a:xfrm>
              <a:custGeom>
                <a:avLst/>
                <a:gdLst/>
                <a:ahLst/>
                <a:rect l="l" t="t" r="r" b="b"/>
                <a:pathLst>
                  <a:path w="1421" h="0">
                    <a:moveTo>
                      <a:pt x="0" y="0"/>
                    </a:moveTo>
                    <a:lnTo>
                      <a:pt x="706" y="0"/>
                    </a:lnTo>
                    <a:lnTo>
                      <a:pt x="706" y="0"/>
                    </a:lnTo>
                    <a:lnTo>
                      <a:pt x="142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40800" y="4727160"/>
                <a:ext cx="7488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70360" y="4603320"/>
                <a:ext cx="2017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m_exectuion_result_measurements  S[1:?]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612880" y="4785840"/>
                <a:ext cx="977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V) workstep S[0:1]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921960" y="4573440"/>
              <a:ext cx="18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296040" y="1263600"/>
            <a:ext cx="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302000" y="2963880"/>
            <a:ext cx="1829880" cy="2936880"/>
            <a:chOff x="4302000" y="2963880"/>
            <a:chExt cx="1829880" cy="2936880"/>
          </a:xfrm>
        </p:grpSpPr>
        <p:sp>
          <p:nvSpPr>
            <p:cNvPr id="544" name=""/>
            <p:cNvSpPr/>
            <p:nvPr/>
          </p:nvSpPr>
          <p:spPr>
            <a:xfrm>
              <a:off x="4302000" y="3298680"/>
              <a:ext cx="720720" cy="503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79760" y="3349800"/>
              <a:ext cx="27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f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77600" y="3481560"/>
              <a:ext cx="58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mens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78680" y="361332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65600" y="2963880"/>
              <a:ext cx="1800" cy="298440"/>
            </a:xfrm>
            <a:custGeom>
              <a:avLst/>
              <a:gdLst/>
              <a:ahLst/>
              <a:rect l="l" t="t" r="r" b="b"/>
              <a:pathLst>
                <a:path w="0" h="188">
                  <a:moveTo>
                    <a:pt x="0" y="0"/>
                  </a:moveTo>
                  <a:lnTo>
                    <a:pt x="0" y="92"/>
                  </a:lnTo>
                  <a:lnTo>
                    <a:pt x="0" y="92"/>
                  </a:lnTo>
                  <a:lnTo>
                    <a:pt x="0" y="18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29240" y="3225960"/>
              <a:ext cx="7308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4920" y="3051000"/>
              <a:ext cx="84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{parameter_name}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16400" y="4356000"/>
              <a:ext cx="816120" cy="6336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95960" y="439884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86600" y="453852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ecu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85880" y="466884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ult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86240" y="4800600"/>
              <a:ext cx="63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asurme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65600" y="3844800"/>
              <a:ext cx="1800" cy="511200"/>
            </a:xfrm>
            <a:custGeom>
              <a:avLst/>
              <a:gdLst/>
              <a:ahLst/>
              <a:rect l="l" t="t" r="r" b="b"/>
              <a:pathLst>
                <a:path w="0" h="322">
                  <a:moveTo>
                    <a:pt x="0" y="322"/>
                  </a:move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29240" y="3809880"/>
              <a:ext cx="73080" cy="71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5800" y="402120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61040" y="5397480"/>
              <a:ext cx="695160" cy="503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0240" y="544212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30880" y="558000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ecu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30880" y="57117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65600" y="5033880"/>
              <a:ext cx="1800" cy="363600"/>
            </a:xfrm>
            <a:custGeom>
              <a:avLst/>
              <a:gdLst/>
              <a:ahLst/>
              <a:rect l="l" t="t" r="r" b="b"/>
              <a:pathLst>
                <a:path w="0" h="229">
                  <a:moveTo>
                    <a:pt x="0" y="229"/>
                  </a:moveTo>
                  <a:lnTo>
                    <a:pt x="0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29240" y="499752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31120" y="5106960"/>
              <a:ext cx="121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m_measurements 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20640" y="5303880"/>
              <a:ext cx="101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INV) execution_resul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81920" y="1143000"/>
            <a:ext cx="1936800" cy="3700440"/>
            <a:chOff x="7081920" y="1143000"/>
            <a:chExt cx="1936800" cy="3700440"/>
          </a:xfrm>
        </p:grpSpPr>
        <p:grpSp>
          <p:nvGrpSpPr>
            <p:cNvPr id="568" name=""/>
            <p:cNvGrpSpPr/>
            <p:nvPr/>
          </p:nvGrpSpPr>
          <p:grpSpPr>
            <a:xfrm>
              <a:off x="7081920" y="1790640"/>
              <a:ext cx="1936800" cy="3052800"/>
              <a:chOff x="7081920" y="1790640"/>
              <a:chExt cx="1936800" cy="3052800"/>
            </a:xfrm>
          </p:grpSpPr>
          <p:sp>
            <p:nvSpPr>
              <p:cNvPr id="569" name=""/>
              <p:cNvSpPr/>
              <p:nvPr/>
            </p:nvSpPr>
            <p:spPr>
              <a:xfrm>
                <a:off x="8384040" y="4000680"/>
                <a:ext cx="634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10000"/>
                    </a:solidFill>
                    <a:latin typeface="Arial"/>
                  </a:rPr>
                  <a:t>tolerance</a:t>
                </a:r>
                <a:r>
                  <a:rPr b="0" lang="en-US" sz="10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7860960" y="2556000"/>
                <a:ext cx="828360" cy="407880"/>
                <a:chOff x="7860960" y="2556000"/>
                <a:chExt cx="828360" cy="4078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7860960" y="2556000"/>
                  <a:ext cx="828360" cy="407880"/>
                </a:xfrm>
                <a:prstGeom prst="rect">
                  <a:avLst/>
                </a:prstGeom>
                <a:solidFill>
                  <a:srgbClr val="d9eefd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940160" y="2629080"/>
                  <a:ext cx="749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chining_     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923960" y="2760840"/>
                  <a:ext cx="358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ature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>
                <a:off x="7897680" y="3357720"/>
                <a:ext cx="891720" cy="379440"/>
              </a:xfrm>
              <a:prstGeom prst="rect">
                <a:avLst/>
              </a:prstGeom>
              <a:solidFill>
                <a:srgbClr val="d9eefd"/>
              </a:solidFill>
              <a:ln w="0">
                <a:solidFill>
                  <a:srgbClr val="000000"/>
                </a:solidFill>
              </a:ln>
              <a:effectLst>
                <a:outerShdw dist="40186" dir="4303641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42680" y="3481560"/>
                <a:ext cx="773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achining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eature_param’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67400" y="2971800"/>
                <a:ext cx="1440" cy="349200"/>
              </a:xfrm>
              <a:custGeom>
                <a:avLst/>
                <a:gdLst/>
                <a:ahLst/>
                <a:rect l="l" t="t" r="r" b="b"/>
                <a:pathLst>
                  <a:path w="0" h="220">
                    <a:moveTo>
                      <a:pt x="0" y="0"/>
                    </a:moveTo>
                    <a:lnTo>
                      <a:pt x="0" y="110"/>
                    </a:lnTo>
                    <a:lnTo>
                      <a:pt x="0" y="110"/>
                    </a:lnTo>
                    <a:lnTo>
                      <a:pt x="0" y="22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31040" y="328464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115120" y="4449960"/>
                <a:ext cx="674280" cy="393480"/>
              </a:xfrm>
              <a:prstGeom prst="rect">
                <a:avLst/>
              </a:prstGeom>
              <a:solidFill>
                <a:srgbClr val="d9eefd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159760" y="4581720"/>
                <a:ext cx="564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Tolerance’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391240" y="3737160"/>
                <a:ext cx="1440" cy="669960"/>
              </a:xfrm>
              <a:custGeom>
                <a:avLst/>
                <a:gdLst/>
                <a:ahLst/>
                <a:rect l="l" t="t" r="r" b="b"/>
                <a:pathLst>
                  <a:path w="0" h="422">
                    <a:moveTo>
                      <a:pt x="0" y="0"/>
                    </a:moveTo>
                    <a:lnTo>
                      <a:pt x="0" y="211"/>
                    </a:lnTo>
                    <a:lnTo>
                      <a:pt x="0" y="211"/>
                    </a:lnTo>
                    <a:lnTo>
                      <a:pt x="0" y="42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354880" y="437040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81920" y="4443480"/>
                <a:ext cx="717120" cy="399960"/>
              </a:xfrm>
              <a:prstGeom prst="rect">
                <a:avLst/>
              </a:prstGeom>
              <a:solidFill>
                <a:srgbClr val="d9eefd"/>
              </a:solidFill>
              <a:ln w="0">
                <a:solidFill>
                  <a:srgbClr val="000000"/>
                </a:solidFill>
              </a:ln>
              <a:effectLst>
                <a:outerShdw dist="40186" dir="4303641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154280" y="4508640"/>
                <a:ext cx="581400" cy="137520"/>
              </a:xfrm>
              <a:prstGeom prst="rect">
                <a:avLst/>
              </a:prstGeom>
              <a:solidFill>
                <a:srgbClr val="d9e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umerical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149600" y="4640400"/>
                <a:ext cx="276480" cy="137520"/>
              </a:xfrm>
              <a:prstGeom prst="rect">
                <a:avLst/>
              </a:prstGeom>
              <a:solidFill>
                <a:srgbClr val="d9e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94400" y="3737160"/>
                <a:ext cx="748800" cy="662040"/>
              </a:xfrm>
              <a:custGeom>
                <a:avLst/>
                <a:gdLst/>
                <a:ahLst/>
                <a:rect l="l" t="t" r="r" b="b"/>
                <a:pathLst>
                  <a:path w="472" h="417">
                    <a:moveTo>
                      <a:pt x="472" y="0"/>
                    </a:moveTo>
                    <a:lnTo>
                      <a:pt x="472" y="211"/>
                    </a:lnTo>
                    <a:lnTo>
                      <a:pt x="0" y="211"/>
                    </a:lnTo>
                    <a:lnTo>
                      <a:pt x="0" y="41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57680" y="436248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03560" y="3903840"/>
                <a:ext cx="357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minal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7720" y="3086280"/>
                <a:ext cx="842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{parameter_name}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289720" y="2184480"/>
                <a:ext cx="1080" cy="160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8289720" y="2344680"/>
                <a:ext cx="1080" cy="152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253360" y="2460600"/>
                <a:ext cx="72360" cy="730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7875360" y="1790640"/>
                <a:ext cx="866160" cy="407880"/>
                <a:chOff x="7875360" y="1790640"/>
                <a:chExt cx="866160" cy="407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875360" y="1790640"/>
                  <a:ext cx="828360" cy="407880"/>
                </a:xfrm>
                <a:prstGeom prst="rect">
                  <a:avLst/>
                </a:prstGeom>
                <a:solidFill>
                  <a:srgbClr val="d9eefd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916400" y="1863720"/>
                  <a:ext cx="8251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nufacturing_ 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38360" y="1995480"/>
                  <a:ext cx="358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eature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6" name=""/>
            <p:cNvGrpSpPr/>
            <p:nvPr/>
          </p:nvGrpSpPr>
          <p:grpSpPr>
            <a:xfrm>
              <a:off x="8001000" y="1143000"/>
              <a:ext cx="523800" cy="644400"/>
              <a:chOff x="8001000" y="1143000"/>
              <a:chExt cx="523800" cy="644400"/>
            </a:xfrm>
          </p:grpSpPr>
          <p:sp>
            <p:nvSpPr>
              <p:cNvPr id="597" name=""/>
              <p:cNvSpPr/>
              <p:nvPr/>
            </p:nvSpPr>
            <p:spPr>
              <a:xfrm>
                <a:off x="8292960" y="1533600"/>
                <a:ext cx="1800" cy="252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01000" y="1143000"/>
                <a:ext cx="523800" cy="393840"/>
              </a:xfrm>
              <a:prstGeom prst="rect">
                <a:avLst/>
              </a:prstGeom>
              <a:solidFill>
                <a:srgbClr val="e7f6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072640" y="1208160"/>
                <a:ext cx="40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256600" y="1714680"/>
                <a:ext cx="73080" cy="7272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1219680" y="2895480"/>
            <a:ext cx="3096720" cy="1663920"/>
            <a:chOff x="1219680" y="2895480"/>
            <a:chExt cx="3096720" cy="1663920"/>
          </a:xfrm>
        </p:grpSpPr>
        <p:sp>
          <p:nvSpPr>
            <p:cNvPr id="602" name=""/>
            <p:cNvSpPr/>
            <p:nvPr/>
          </p:nvSpPr>
          <p:spPr>
            <a:xfrm>
              <a:off x="2716200" y="4100400"/>
              <a:ext cx="1600200" cy="459000"/>
            </a:xfrm>
            <a:custGeom>
              <a:avLst/>
              <a:gdLst/>
              <a:ahLst/>
              <a:rect l="l" t="t" r="r" b="b"/>
              <a:pathLst>
                <a:path w="1008" h="289">
                  <a:moveTo>
                    <a:pt x="1008" y="289"/>
                  </a:moveTo>
                  <a:lnTo>
                    <a:pt x="504" y="289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79840" y="4064040"/>
              <a:ext cx="727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57680" y="3875040"/>
              <a:ext cx="127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asurement_points 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1600" y="2895480"/>
              <a:ext cx="663480" cy="3938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1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46120" y="2992320"/>
              <a:ext cx="49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rtesian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676520" y="411480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1676520" y="3352320"/>
              <a:ext cx="0" cy="762120"/>
            </a:xfrm>
            <a:prstGeom prst="line">
              <a:avLst/>
            </a:prstGeom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1828440" y="4038480"/>
              <a:ext cx="228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1828800" y="3352320"/>
              <a:ext cx="0" cy="685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08080" y="3903840"/>
              <a:ext cx="663840" cy="3934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83320" y="40006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poi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90640" y="330516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41600" y="329868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19680" y="3581280"/>
              <a:ext cx="41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ecte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05480" y="3581280"/>
              <a:ext cx="45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asure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4068720" y="1143000"/>
            <a:ext cx="4456080" cy="1812960"/>
            <a:chOff x="4068720" y="1143000"/>
            <a:chExt cx="4456080" cy="1812960"/>
          </a:xfrm>
        </p:grpSpPr>
        <p:sp>
          <p:nvSpPr>
            <p:cNvPr id="618" name=""/>
            <p:cNvSpPr/>
            <p:nvPr/>
          </p:nvSpPr>
          <p:spPr>
            <a:xfrm>
              <a:off x="4068720" y="2556000"/>
              <a:ext cx="1187640" cy="3999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35680" y="2752560"/>
              <a:ext cx="112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asurement_featur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45760" y="262080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mensional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665600" y="2358720"/>
              <a:ext cx="1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29240" y="2475000"/>
              <a:ext cx="73080" cy="73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65600" y="1974960"/>
              <a:ext cx="0" cy="45720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56240" y="1981080"/>
              <a:ext cx="1726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73800" y="1981080"/>
              <a:ext cx="1454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81720" y="1724040"/>
              <a:ext cx="1440" cy="258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99400" y="1943280"/>
              <a:ext cx="73080" cy="727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46880" y="1530360"/>
              <a:ext cx="574560" cy="1440"/>
            </a:xfrm>
            <a:custGeom>
              <a:avLst/>
              <a:gdLst/>
              <a:ahLst/>
              <a:rect l="l" t="t" r="r" b="b"/>
              <a:pathLst>
                <a:path w="362" h="0">
                  <a:moveTo>
                    <a:pt x="0" y="0"/>
                  </a:moveTo>
                  <a:lnTo>
                    <a:pt x="178" y="0"/>
                  </a:lnTo>
                  <a:lnTo>
                    <a:pt x="178" y="0"/>
                  </a:lnTo>
                  <a:lnTo>
                    <a:pt x="36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49920" y="1370160"/>
              <a:ext cx="21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4856040" y="1405080"/>
              <a:ext cx="652680" cy="236520"/>
              <a:chOff x="4856040" y="1405080"/>
              <a:chExt cx="652680" cy="236520"/>
            </a:xfrm>
          </p:grpSpPr>
          <p:sp>
            <p:nvSpPr>
              <p:cNvPr id="631" name=""/>
              <p:cNvSpPr/>
              <p:nvPr/>
            </p:nvSpPr>
            <p:spPr>
              <a:xfrm>
                <a:off x="4856040" y="1405080"/>
                <a:ext cx="652680" cy="23652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432400" y="1405080"/>
                <a:ext cx="1440" cy="233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98880" y="1481040"/>
                <a:ext cx="43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5522760" y="1494000"/>
              <a:ext cx="7308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22880" y="1333440"/>
              <a:ext cx="524160" cy="3938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200640" y="1398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38960" y="1568520"/>
              <a:ext cx="11772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02480" y="1447920"/>
              <a:ext cx="1292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72240" y="1413000"/>
              <a:ext cx="73080" cy="73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8001000" y="1143000"/>
              <a:ext cx="523800" cy="393840"/>
              <a:chOff x="8001000" y="1143000"/>
              <a:chExt cx="523800" cy="393840"/>
            </a:xfrm>
          </p:grpSpPr>
          <p:sp>
            <p:nvSpPr>
              <p:cNvPr id="641" name=""/>
              <p:cNvSpPr/>
              <p:nvPr/>
            </p:nvSpPr>
            <p:spPr>
              <a:xfrm>
                <a:off x="8001000" y="1143000"/>
                <a:ext cx="523800" cy="393840"/>
              </a:xfrm>
              <a:prstGeom prst="rect">
                <a:avLst/>
              </a:prstGeom>
              <a:gradFill rotWithShape="0">
                <a:gsLst>
                  <a:gs pos="0">
                    <a:srgbClr val="d7f0ff"/>
                  </a:gs>
                  <a:gs pos="100000">
                    <a:srgbClr val="ffffe3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67960" y="1219320"/>
                <a:ext cx="40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6858000" y="914400"/>
            <a:ext cx="2133720" cy="1219320"/>
            <a:chOff x="6858000" y="914400"/>
            <a:chExt cx="2133720" cy="1219320"/>
          </a:xfrm>
        </p:grpSpPr>
        <p:sp>
          <p:nvSpPr>
            <p:cNvPr id="644" name=""/>
            <p:cNvSpPr/>
            <p:nvPr/>
          </p:nvSpPr>
          <p:spPr>
            <a:xfrm>
              <a:off x="6858000" y="91440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87680" y="1447920"/>
              <a:ext cx="95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hape-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bas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pec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P NC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Shape-based specificatio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47720" y="5867280"/>
            <a:ext cx="35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NOTE: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 FEO (for exposition only) dia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96040" y="1263600"/>
            <a:ext cx="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52280" y="1143000"/>
            <a:ext cx="8953560" cy="4757760"/>
            <a:chOff x="152280" y="1143000"/>
            <a:chExt cx="8953560" cy="4757760"/>
          </a:xfrm>
        </p:grpSpPr>
        <p:grpSp>
          <p:nvGrpSpPr>
            <p:cNvPr id="650" name=""/>
            <p:cNvGrpSpPr/>
            <p:nvPr/>
          </p:nvGrpSpPr>
          <p:grpSpPr>
            <a:xfrm>
              <a:off x="152280" y="1143000"/>
              <a:ext cx="8953560" cy="4757760"/>
              <a:chOff x="152280" y="1143000"/>
              <a:chExt cx="8953560" cy="4757760"/>
            </a:xfrm>
          </p:grpSpPr>
          <p:sp>
            <p:nvSpPr>
              <p:cNvPr id="651" name=""/>
              <p:cNvSpPr/>
              <p:nvPr/>
            </p:nvSpPr>
            <p:spPr>
              <a:xfrm>
                <a:off x="6972480" y="2155680"/>
                <a:ext cx="2133360" cy="1219320"/>
              </a:xfrm>
              <a:prstGeom prst="ellipse">
                <a:avLst/>
              </a:prstGeom>
              <a:solidFill>
                <a:srgbClr val="f1f1f1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186760" y="2409840"/>
                <a:ext cx="820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     </a:t>
                </a: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feature-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   </a:t>
                </a: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based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   </a:t>
                </a: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spec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99280" y="3546360"/>
                <a:ext cx="662040" cy="1800"/>
              </a:xfrm>
              <a:custGeom>
                <a:avLst/>
                <a:gdLst/>
                <a:ahLst/>
                <a:rect l="l" t="t" r="r" b="b"/>
                <a:pathLst>
                  <a:path w="417" h="0">
                    <a:moveTo>
                      <a:pt x="0" y="0"/>
                    </a:moveTo>
                    <a:lnTo>
                      <a:pt x="206" y="0"/>
                    </a:lnTo>
                    <a:lnTo>
                      <a:pt x="206" y="0"/>
                    </a:lnTo>
                    <a:lnTo>
                      <a:pt x="41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824960" y="351000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50760" y="3386160"/>
                <a:ext cx="5644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pecification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891560" y="3286080"/>
                <a:ext cx="871560" cy="527040"/>
              </a:xfrm>
              <a:prstGeom prst="rect">
                <a:avLst/>
              </a:prstGeom>
              <a:gradFill rotWithShape="0">
                <a:gsLst>
                  <a:gs pos="0">
                    <a:srgbClr val="e3f0ff"/>
                  </a:gs>
                  <a:gs pos="100000">
                    <a:srgbClr val="fffff3"/>
                  </a:gs>
                </a:gsLst>
                <a:lin ang="10800000"/>
              </a:gradFill>
              <a:ln w="1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997760" y="3286080"/>
                <a:ext cx="1800" cy="527040"/>
              </a:xfrm>
              <a:prstGeom prst="line">
                <a:avLst/>
              </a:prstGeom>
              <a:ln w="1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283240" y="3362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9999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040600" y="3481560"/>
                <a:ext cx="654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pecification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_selec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62920" y="2590920"/>
                <a:ext cx="892080" cy="379440"/>
              </a:xfrm>
              <a:prstGeom prst="rect">
                <a:avLst/>
              </a:prstGeom>
              <a:solidFill>
                <a:srgbClr val="d9eefd"/>
              </a:solidFill>
              <a:ln w="0">
                <a:solidFill>
                  <a:srgbClr val="000000"/>
                </a:solidFill>
              </a:ln>
              <a:effectLst>
                <a:outerShdw dist="40186" dir="4303641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077320" y="2819520"/>
                <a:ext cx="30456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058240" y="2790720"/>
                <a:ext cx="74520" cy="748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8381880" y="2819520"/>
                <a:ext cx="0" cy="4572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752480" y="3352680"/>
                <a:ext cx="2133720" cy="1219320"/>
              </a:xfrm>
              <a:prstGeom prst="ellipse">
                <a:avLst/>
              </a:prstGeom>
              <a:solidFill>
                <a:srgbClr val="f1f1f1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321280" y="3429000"/>
                <a:ext cx="10324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criterion point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&amp; deviatio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962520" y="3962520"/>
                <a:ext cx="2133360" cy="1218960"/>
              </a:xfrm>
              <a:prstGeom prst="ellipse">
                <a:avLst/>
              </a:prstGeom>
              <a:solidFill>
                <a:srgbClr val="f1f1f1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5173560" y="4114800"/>
                <a:ext cx="686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criterion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52280" y="4267080"/>
                <a:ext cx="2133720" cy="1219320"/>
              </a:xfrm>
              <a:prstGeom prst="ellipse">
                <a:avLst/>
              </a:prstGeom>
              <a:solidFill>
                <a:srgbClr val="f1f1f1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92680" y="4444920"/>
                <a:ext cx="1418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9999"/>
                    </a:solidFill>
                    <a:latin typeface="Arial"/>
                  </a:rPr>
                  <a:t>workingstep              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89280" y="5397480"/>
                <a:ext cx="538200" cy="50328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868480" y="5442120"/>
                <a:ext cx="241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867400" y="5580000"/>
                <a:ext cx="491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gra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858400" y="5711760"/>
                <a:ext cx="16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un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378240" y="5645160"/>
                <a:ext cx="982800" cy="1440"/>
              </a:xfrm>
              <a:custGeom>
                <a:avLst/>
                <a:gdLst/>
                <a:ahLst/>
                <a:rect l="l" t="t" r="r" b="b"/>
                <a:pathLst>
                  <a:path w="619" h="0">
                    <a:moveTo>
                      <a:pt x="619" y="0"/>
                    </a:moveTo>
                    <a:lnTo>
                      <a:pt x="312" y="0"/>
                    </a:lnTo>
                    <a:lnTo>
                      <a:pt x="312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341520" y="5608800"/>
                <a:ext cx="7308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603240" y="5478480"/>
                <a:ext cx="581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gram_run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22280" y="5397480"/>
                <a:ext cx="782640" cy="50328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00040" y="5407200"/>
                <a:ext cx="241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98960" y="5545080"/>
                <a:ext cx="491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ogra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95000" y="5676840"/>
                <a:ext cx="64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dentification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147760" y="5645160"/>
                <a:ext cx="641520" cy="1440"/>
              </a:xfrm>
              <a:custGeom>
                <a:avLst/>
                <a:gdLst/>
                <a:ahLst/>
                <a:rect l="l" t="t" r="r" b="b"/>
                <a:pathLst>
                  <a:path w="404" h="0">
                    <a:moveTo>
                      <a:pt x="404" y="0"/>
                    </a:moveTo>
                    <a:lnTo>
                      <a:pt x="202" y="0"/>
                    </a:lnTo>
                    <a:lnTo>
                      <a:pt x="202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111400" y="5608800"/>
                <a:ext cx="7308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232720" y="547848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gram_id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008080" y="3903840"/>
                <a:ext cx="663840" cy="39348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083320" y="4000680"/>
                <a:ext cx="491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poi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16200" y="4100400"/>
                <a:ext cx="1600200" cy="459000"/>
              </a:xfrm>
              <a:custGeom>
                <a:avLst/>
                <a:gdLst/>
                <a:ahLst/>
                <a:rect l="l" t="t" r="r" b="b"/>
                <a:pathLst>
                  <a:path w="1008" h="289">
                    <a:moveTo>
                      <a:pt x="1008" y="289"/>
                    </a:moveTo>
                    <a:lnTo>
                      <a:pt x="504" y="289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79840" y="406404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57680" y="3875040"/>
                <a:ext cx="1279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asurement_points  S[1:?]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133720" y="1905120"/>
                <a:ext cx="228600" cy="118800"/>
              </a:xfrm>
              <a:prstGeom prst="rect">
                <a:avLst/>
              </a:prstGeom>
              <a:solidFill>
                <a:srgbClr val="fffff3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39720" y="160020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9999"/>
                    </a:solidFill>
                    <a:latin typeface="Arial"/>
                  </a:rPr>
                  <a:t>AP224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39720" y="184320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9999"/>
                    </a:solidFill>
                    <a:latin typeface="Arial"/>
                  </a:rPr>
                  <a:t>AP219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133720" y="1676520"/>
                <a:ext cx="228600" cy="118800"/>
              </a:xfrm>
              <a:prstGeom prst="rect">
                <a:avLst/>
              </a:prstGeom>
              <a:solidFill>
                <a:srgbClr val="d9eefd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133720" y="2133720"/>
                <a:ext cx="228600" cy="118800"/>
              </a:xfrm>
              <a:prstGeom prst="rect">
                <a:avLst/>
              </a:prstGeom>
              <a:solidFill>
                <a:srgbClr val="ffe3b9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41160" y="20718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9999"/>
                    </a:solidFill>
                    <a:latin typeface="Arial"/>
                  </a:rPr>
                  <a:t>STEP NC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73880" y="514368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64160" y="4640400"/>
                <a:ext cx="574920" cy="1440"/>
              </a:xfrm>
              <a:custGeom>
                <a:avLst/>
                <a:gdLst/>
                <a:ahLst/>
                <a:rect l="l" t="t" r="r" b="b"/>
                <a:pathLst>
                  <a:path w="362" h="0">
                    <a:moveTo>
                      <a:pt x="0" y="0"/>
                    </a:moveTo>
                    <a:lnTo>
                      <a:pt x="178" y="0"/>
                    </a:lnTo>
                    <a:lnTo>
                      <a:pt x="178" y="0"/>
                    </a:lnTo>
                    <a:lnTo>
                      <a:pt x="362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543720" y="3276720"/>
                <a:ext cx="647640" cy="539640"/>
              </a:xfrm>
              <a:prstGeom prst="rect">
                <a:avLst/>
              </a:prstGeom>
              <a:gradFill rotWithShape="0">
                <a:gsLst>
                  <a:gs pos="0">
                    <a:srgbClr val="d9eefd"/>
                  </a:gs>
                  <a:gs pos="100000">
                    <a:srgbClr val="fffff3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615000" y="3481560"/>
                <a:ext cx="584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lculated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11760" y="3613320"/>
                <a:ext cx="27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29200" y="3546360"/>
                <a:ext cx="1469880" cy="1800"/>
              </a:xfrm>
              <a:custGeom>
                <a:avLst/>
                <a:gdLst/>
                <a:ahLst/>
                <a:rect l="l" t="t" r="r" b="b"/>
                <a:pathLst>
                  <a:path w="926" h="0">
                    <a:moveTo>
                      <a:pt x="0" y="0"/>
                    </a:moveTo>
                    <a:lnTo>
                      <a:pt x="463" y="0"/>
                    </a:lnTo>
                    <a:lnTo>
                      <a:pt x="463" y="0"/>
                    </a:lnTo>
                    <a:lnTo>
                      <a:pt x="92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64160" y="3510000"/>
                <a:ext cx="7164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06480" y="3386160"/>
                <a:ext cx="764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rameter_value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099040" y="3568680"/>
                <a:ext cx="1323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INV) Dmf_parameters S[1:?]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80160" y="4443480"/>
                <a:ext cx="723960" cy="399960"/>
              </a:xfrm>
              <a:prstGeom prst="rect">
                <a:avLst/>
              </a:prstGeom>
              <a:gradFill rotWithShape="0">
                <a:gsLst>
                  <a:gs pos="0">
                    <a:srgbClr val="d9eefd"/>
                  </a:gs>
                  <a:gs pos="100000">
                    <a:srgbClr val="fffff3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53600" y="4508640"/>
                <a:ext cx="608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lculated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48200" y="4640400"/>
                <a:ext cx="27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21440" y="3824280"/>
                <a:ext cx="743040" cy="574560"/>
              </a:xfrm>
              <a:custGeom>
                <a:avLst/>
                <a:gdLst/>
                <a:ahLst/>
                <a:rect l="l" t="t" r="r" b="b"/>
                <a:pathLst>
                  <a:path w="468" h="362">
                    <a:moveTo>
                      <a:pt x="468" y="0"/>
                    </a:moveTo>
                    <a:lnTo>
                      <a:pt x="468" y="225"/>
                    </a:lnTo>
                    <a:lnTo>
                      <a:pt x="0" y="225"/>
                    </a:lnTo>
                    <a:lnTo>
                      <a:pt x="0" y="36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84720" y="436248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86800" y="4005360"/>
                <a:ext cx="76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lculated_value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02360" y="460368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653160" y="447984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147080" y="5219640"/>
                <a:ext cx="652320" cy="236520"/>
              </a:xfrm>
              <a:prstGeom prst="rect">
                <a:avLst/>
              </a:prstGeom>
              <a:gradFill rotWithShape="0">
                <a:gsLst>
                  <a:gs pos="0">
                    <a:srgbClr val="d9eefd"/>
                  </a:gs>
                  <a:gs pos="100000">
                    <a:srgbClr val="fffff3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723080" y="5219640"/>
                <a:ext cx="1800" cy="233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189920" y="5295960"/>
                <a:ext cx="43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21440" y="4851360"/>
                <a:ext cx="1287360" cy="328680"/>
              </a:xfrm>
              <a:custGeom>
                <a:avLst/>
                <a:gdLst/>
                <a:ahLst/>
                <a:rect l="l" t="t" r="r" b="b"/>
                <a:pathLst>
                  <a:path w="811" h="207">
                    <a:moveTo>
                      <a:pt x="0" y="0"/>
                    </a:moveTo>
                    <a:lnTo>
                      <a:pt x="0" y="133"/>
                    </a:lnTo>
                    <a:lnTo>
                      <a:pt x="811" y="133"/>
                    </a:lnTo>
                    <a:lnTo>
                      <a:pt x="811" y="20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66240" y="4888080"/>
                <a:ext cx="880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alculation_method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77240" y="4449600"/>
                <a:ext cx="717480" cy="400320"/>
              </a:xfrm>
              <a:prstGeom prst="rect">
                <a:avLst/>
              </a:prstGeom>
              <a:gradFill rotWithShape="0">
                <a:gsLst>
                  <a:gs pos="0">
                    <a:srgbClr val="d9eefd"/>
                  </a:gs>
                  <a:gs pos="100000">
                    <a:srgbClr val="fffff3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149960" y="4514760"/>
                <a:ext cx="581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umerical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145280" y="4646520"/>
                <a:ext cx="276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08240" y="4567320"/>
                <a:ext cx="637920" cy="393480"/>
              </a:xfrm>
              <a:prstGeom prst="rect">
                <a:avLst/>
              </a:prstGeom>
              <a:solidFill>
                <a:srgbClr val="ffe3b9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89960" y="4610160"/>
                <a:ext cx="241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12560" y="4741920"/>
                <a:ext cx="614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workingstep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76520" y="4967280"/>
                <a:ext cx="1440" cy="387360"/>
              </a:xfrm>
              <a:custGeom>
                <a:avLst/>
                <a:gdLst/>
                <a:ahLst/>
                <a:rect l="l" t="t" r="r" b="b"/>
                <a:pathLst>
                  <a:path w="0" h="244">
                    <a:moveTo>
                      <a:pt x="0" y="0"/>
                    </a:moveTo>
                    <a:lnTo>
                      <a:pt x="0" y="120"/>
                    </a:lnTo>
                    <a:lnTo>
                      <a:pt x="0" y="120"/>
                    </a:lnTo>
                    <a:lnTo>
                      <a:pt x="0" y="24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38360" y="5318280"/>
                <a:ext cx="7632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755000" y="5091120"/>
                <a:ext cx="51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gram_id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952640" y="4764240"/>
                <a:ext cx="2325600" cy="1440"/>
              </a:xfrm>
              <a:custGeom>
                <a:avLst/>
                <a:gdLst/>
                <a:ahLst/>
                <a:rect l="l" t="t" r="r" b="b"/>
                <a:pathLst>
                  <a:path w="1421" h="0">
                    <a:moveTo>
                      <a:pt x="0" y="0"/>
                    </a:moveTo>
                    <a:lnTo>
                      <a:pt x="706" y="0"/>
                    </a:lnTo>
                    <a:lnTo>
                      <a:pt x="706" y="0"/>
                    </a:lnTo>
                    <a:lnTo>
                      <a:pt x="142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241880" y="4727520"/>
                <a:ext cx="745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70360" y="4603680"/>
                <a:ext cx="2017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m_exectuion_result_measurements  S[1:?]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13240" y="4786200"/>
                <a:ext cx="977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NV) workstep S[0:1]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920880" y="4573440"/>
                <a:ext cx="1825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302000" y="3298680"/>
                <a:ext cx="720720" cy="50328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9760" y="3349800"/>
                <a:ext cx="273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f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77600" y="3481560"/>
                <a:ext cx="588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mension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378680" y="3613320"/>
                <a:ext cx="523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665600" y="2963880"/>
                <a:ext cx="1800" cy="298440"/>
              </a:xfrm>
              <a:custGeom>
                <a:avLst/>
                <a:gdLst/>
                <a:ahLst/>
                <a:rect l="l" t="t" r="r" b="b"/>
                <a:pathLst>
                  <a:path w="0" h="188">
                    <a:moveTo>
                      <a:pt x="0" y="0"/>
                    </a:moveTo>
                    <a:lnTo>
                      <a:pt x="0" y="92"/>
                    </a:lnTo>
                    <a:lnTo>
                      <a:pt x="0" y="92"/>
                    </a:lnTo>
                    <a:lnTo>
                      <a:pt x="0" y="18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29240" y="3225960"/>
                <a:ext cx="7308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804920" y="3051000"/>
                <a:ext cx="842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{parameter_name}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316400" y="4356000"/>
                <a:ext cx="816120" cy="63360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395960" y="4398840"/>
                <a:ext cx="241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386600" y="4538520"/>
                <a:ext cx="558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xecution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385880" y="4668840"/>
                <a:ext cx="34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ult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386240" y="4800600"/>
                <a:ext cx="637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me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65600" y="3844800"/>
                <a:ext cx="1800" cy="511200"/>
              </a:xfrm>
              <a:custGeom>
                <a:avLst/>
                <a:gdLst/>
                <a:ahLst/>
                <a:rect l="l" t="t" r="r" b="b"/>
                <a:pathLst>
                  <a:path w="0" h="322">
                    <a:moveTo>
                      <a:pt x="0" y="322"/>
                    </a:moveTo>
                    <a:lnTo>
                      <a:pt x="0" y="16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629240" y="38098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735800" y="4021200"/>
                <a:ext cx="464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361040" y="5397480"/>
                <a:ext cx="695160" cy="50328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440240" y="5442120"/>
                <a:ext cx="241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430880" y="5580000"/>
                <a:ext cx="558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xecution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430880" y="571176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ul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665600" y="5033880"/>
                <a:ext cx="1800" cy="363600"/>
              </a:xfrm>
              <a:custGeom>
                <a:avLst/>
                <a:gdLst/>
                <a:ahLst/>
                <a:rect l="l" t="t" r="r" b="b"/>
                <a:pathLst>
                  <a:path w="0" h="229">
                    <a:moveTo>
                      <a:pt x="0" y="229"/>
                    </a:moveTo>
                    <a:lnTo>
                      <a:pt x="0" y="114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29240" y="499752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731120" y="510696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m_measurements  S[1:?]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120640" y="5303880"/>
                <a:ext cx="1011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INV) execution_result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068720" y="2556000"/>
                <a:ext cx="1187640" cy="39996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145760" y="2620800"/>
                <a:ext cx="6973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mensional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35680" y="2752560"/>
                <a:ext cx="1123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easurement_feature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4665600" y="2358720"/>
                <a:ext cx="1800" cy="152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29240" y="247500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65600" y="1974960"/>
                <a:ext cx="0" cy="457200"/>
              </a:xfrm>
              <a:prstGeom prst="line">
                <a:avLst/>
              </a:prstGeom>
              <a:ln w="2232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656240" y="1981080"/>
                <a:ext cx="17269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001000" y="1143000"/>
                <a:ext cx="523800" cy="393840"/>
              </a:xfrm>
              <a:prstGeom prst="rect">
                <a:avLst/>
              </a:prstGeom>
              <a:solidFill>
                <a:srgbClr val="e7f6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072640" y="1208160"/>
                <a:ext cx="40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46880" y="1530360"/>
                <a:ext cx="574560" cy="1440"/>
              </a:xfrm>
              <a:custGeom>
                <a:avLst/>
                <a:gdLst/>
                <a:ahLst/>
                <a:rect l="l" t="t" r="r" b="b"/>
                <a:pathLst>
                  <a:path w="362" h="0">
                    <a:moveTo>
                      <a:pt x="0" y="0"/>
                    </a:moveTo>
                    <a:lnTo>
                      <a:pt x="178" y="0"/>
                    </a:lnTo>
                    <a:lnTo>
                      <a:pt x="178" y="0"/>
                    </a:lnTo>
                    <a:lnTo>
                      <a:pt x="362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749920" y="137016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56040" y="1405080"/>
                <a:ext cx="652680" cy="23652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32400" y="1405080"/>
                <a:ext cx="1440" cy="233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898880" y="1481040"/>
                <a:ext cx="43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22760" y="1494000"/>
                <a:ext cx="7308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122880" y="1333440"/>
                <a:ext cx="524160" cy="39384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200640" y="13986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702480" y="1447920"/>
                <a:ext cx="1292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672240" y="141300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381720" y="1724040"/>
                <a:ext cx="1440" cy="258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621480" y="3349800"/>
                <a:ext cx="59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arameter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72200" y="2133720"/>
                <a:ext cx="762120" cy="393480"/>
              </a:xfrm>
              <a:prstGeom prst="rect">
                <a:avLst/>
              </a:prstGeom>
              <a:solidFill>
                <a:srgbClr val="e7f6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20440" y="2274840"/>
                <a:ext cx="564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Tolerance’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553080" y="2819520"/>
                <a:ext cx="60984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553080" y="2590560"/>
                <a:ext cx="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16720" y="2558880"/>
                <a:ext cx="74520" cy="748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403320" y="2819520"/>
                <a:ext cx="599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olerance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223760" y="2666880"/>
                <a:ext cx="773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achining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feature_param’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1219680" y="2895480"/>
              <a:ext cx="1139040" cy="1219320"/>
              <a:chOff x="1219680" y="2895480"/>
              <a:chExt cx="1139040" cy="1219320"/>
            </a:xfrm>
          </p:grpSpPr>
          <p:sp>
            <p:nvSpPr>
              <p:cNvPr id="783" name=""/>
              <p:cNvSpPr/>
              <p:nvPr/>
            </p:nvSpPr>
            <p:spPr>
              <a:xfrm flipH="1">
                <a:off x="1828440" y="4038480"/>
                <a:ext cx="1522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371600" y="2895480"/>
                <a:ext cx="663480" cy="39384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1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446120" y="2992320"/>
                <a:ext cx="492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rtesian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_poi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1676520" y="4114800"/>
                <a:ext cx="3045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1676520" y="3352320"/>
                <a:ext cx="0" cy="76212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1828800" y="3352320"/>
                <a:ext cx="0" cy="685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90640" y="330516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641600" y="329868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219680" y="3581280"/>
                <a:ext cx="415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_point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905480" y="3581280"/>
                <a:ext cx="45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easured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_point</a:t>
                </a:r>
                <a:endParaRPr b="0" lang="en-US" sz="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8001000" y="1143000"/>
              <a:ext cx="523800" cy="393840"/>
            </a:xfrm>
            <a:prstGeom prst="rect">
              <a:avLst/>
            </a:prstGeom>
            <a:gradFill rotWithShape="0">
              <a:gsLst>
                <a:gs pos="0">
                  <a:srgbClr val="d7f0ff"/>
                </a:gs>
                <a:gs pos="100000">
                  <a:srgbClr val="ffffe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67960" y="1219320"/>
              <a:ext cx="40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hape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934320" y="1523520"/>
            <a:ext cx="1251000" cy="762480"/>
            <a:chOff x="6934320" y="1523520"/>
            <a:chExt cx="1251000" cy="762480"/>
          </a:xfrm>
        </p:grpSpPr>
        <p:sp>
          <p:nvSpPr>
            <p:cNvPr id="796" name=""/>
            <p:cNvSpPr/>
            <p:nvPr/>
          </p:nvSpPr>
          <p:spPr>
            <a:xfrm flipV="1">
              <a:off x="8153280" y="1523520"/>
              <a:ext cx="0" cy="7621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934320" y="2286000"/>
              <a:ext cx="12189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11360" y="2133720"/>
              <a:ext cx="60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10440" y="1523880"/>
              <a:ext cx="7488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8339040" y="1523520"/>
            <a:ext cx="74880" cy="1295640"/>
            <a:chOff x="8339040" y="1523520"/>
            <a:chExt cx="74880" cy="1295640"/>
          </a:xfrm>
        </p:grpSpPr>
        <p:sp>
          <p:nvSpPr>
            <p:cNvPr id="801" name=""/>
            <p:cNvSpPr/>
            <p:nvPr/>
          </p:nvSpPr>
          <p:spPr>
            <a:xfrm flipV="1">
              <a:off x="8381880" y="1523520"/>
              <a:ext cx="0" cy="12956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39040" y="1523880"/>
              <a:ext cx="7488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4648320" y="914400"/>
            <a:ext cx="2133360" cy="1219320"/>
            <a:chOff x="4648320" y="914400"/>
            <a:chExt cx="2133360" cy="1219320"/>
          </a:xfrm>
        </p:grpSpPr>
        <p:sp>
          <p:nvSpPr>
            <p:cNvPr id="804" name=""/>
            <p:cNvSpPr/>
            <p:nvPr/>
          </p:nvSpPr>
          <p:spPr>
            <a:xfrm>
              <a:off x="4648320" y="914400"/>
              <a:ext cx="213336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9240" y="106668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label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2280" y="914400"/>
            <a:ext cx="8953560" cy="5259960"/>
            <a:chOff x="152280" y="914400"/>
            <a:chExt cx="8953560" cy="5259960"/>
          </a:xfrm>
        </p:grpSpPr>
        <p:grpSp>
          <p:nvGrpSpPr>
            <p:cNvPr id="807" name=""/>
            <p:cNvGrpSpPr/>
            <p:nvPr/>
          </p:nvGrpSpPr>
          <p:grpSpPr>
            <a:xfrm>
              <a:off x="152280" y="914400"/>
              <a:ext cx="8953560" cy="5259960"/>
              <a:chOff x="152280" y="914400"/>
              <a:chExt cx="8953560" cy="5259960"/>
            </a:xfrm>
          </p:grpSpPr>
          <p:sp>
            <p:nvSpPr>
              <p:cNvPr id="808" name=""/>
              <p:cNvSpPr/>
              <p:nvPr/>
            </p:nvSpPr>
            <p:spPr>
              <a:xfrm>
                <a:off x="5247720" y="5867280"/>
                <a:ext cx="350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9999"/>
                    </a:solidFill>
                    <a:latin typeface="Arial"/>
                  </a:rPr>
                  <a:t>NOTE:</a:t>
                </a:r>
                <a:r>
                  <a:rPr b="0" lang="en-US" sz="1400" spc="-1" strike="noStrike">
                    <a:solidFill>
                      <a:srgbClr val="009999"/>
                    </a:solidFill>
                    <a:latin typeface="Arial"/>
                  </a:rPr>
                  <a:t>  FEO (for exposition only) diagra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152280" y="914400"/>
                <a:ext cx="8953560" cy="4986360"/>
                <a:chOff x="152280" y="914400"/>
                <a:chExt cx="8953560" cy="4986360"/>
              </a:xfrm>
            </p:grpSpPr>
            <p:grpSp>
              <p:nvGrpSpPr>
                <p:cNvPr id="810" name=""/>
                <p:cNvGrpSpPr/>
                <p:nvPr/>
              </p:nvGrpSpPr>
              <p:grpSpPr>
                <a:xfrm>
                  <a:off x="6858000" y="914400"/>
                  <a:ext cx="2133720" cy="1219320"/>
                  <a:chOff x="6858000" y="914400"/>
                  <a:chExt cx="2133720" cy="12193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6858000" y="914400"/>
                    <a:ext cx="2133720" cy="1219320"/>
                  </a:xfrm>
                  <a:prstGeom prst="ellipse">
                    <a:avLst/>
                  </a:prstGeom>
                  <a:solidFill>
                    <a:srgbClr val="f1f1f1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17819" dir="2700000" blurRad="0" rotWithShape="0">
                      <a:srgbClr val="0099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7087680" y="1447920"/>
                    <a:ext cx="955080" cy="55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9999"/>
                        </a:solidFill>
                        <a:latin typeface="Arial"/>
                      </a:rPr>
                      <a:t>shape-</a:t>
                    </a:r>
                    <a:endParaRPr b="0" lang="en-US" sz="1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9999"/>
                        </a:solidFill>
                        <a:latin typeface="Arial"/>
                      </a:rPr>
                      <a:t>based</a:t>
                    </a:r>
                    <a:endParaRPr b="0" lang="en-US" sz="1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9999"/>
                        </a:solidFill>
                        <a:latin typeface="Arial"/>
                      </a:rPr>
                      <a:t>specification</a:t>
                    </a:r>
                    <a:endParaRPr b="0" lang="en-US" sz="1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152280" y="1143000"/>
                  <a:ext cx="8953560" cy="4757760"/>
                  <a:chOff x="152280" y="1143000"/>
                  <a:chExt cx="8953560" cy="4757760"/>
                </a:xfrm>
              </p:grpSpPr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152280" y="1143000"/>
                    <a:ext cx="8953560" cy="4757760"/>
                    <a:chOff x="152280" y="1143000"/>
                    <a:chExt cx="8953560" cy="475776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6972480" y="2155680"/>
                      <a:ext cx="2133360" cy="1219320"/>
                    </a:xfrm>
                    <a:prstGeom prst="ellipse">
                      <a:avLst/>
                    </a:prstGeom>
                    <a:solidFill>
                      <a:srgbClr val="f1f1f1"/>
                    </a:solidFill>
                    <a:ln w="9360">
                      <a:solidFill>
                        <a:srgbClr val="009999"/>
                      </a:solidFill>
                      <a:miter/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8186760" y="2409840"/>
                      <a:ext cx="82080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eature-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ased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pec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7199280" y="3546360"/>
                      <a:ext cx="662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7" h="0">
                          <a:moveTo>
                            <a:pt x="0" y="0"/>
                          </a:moveTo>
                          <a:lnTo>
                            <a:pt x="206" y="0"/>
                          </a:lnTo>
                          <a:lnTo>
                            <a:pt x="206" y="0"/>
                          </a:lnTo>
                          <a:lnTo>
                            <a:pt x="417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prstDash val="sys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7824960" y="3510000"/>
                      <a:ext cx="7272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7250760" y="3386160"/>
                      <a:ext cx="5644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7891560" y="3286080"/>
                      <a:ext cx="871560" cy="527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e3f0ff"/>
                        </a:gs>
                        <a:gs pos="100000">
                          <a:srgbClr val="fffff3"/>
                        </a:gs>
                      </a:gsLst>
                      <a:lin ang="10800000"/>
                    </a:gradFill>
                    <a:ln w="1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7997760" y="3286080"/>
                      <a:ext cx="1800" cy="5270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283240" y="3362400"/>
                      <a:ext cx="327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8040600" y="3481560"/>
                      <a:ext cx="65448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select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7162920" y="2590920"/>
                      <a:ext cx="892080" cy="379440"/>
                    </a:xfrm>
                    <a:prstGeom prst="rect">
                      <a:avLst/>
                    </a:prstGeom>
                    <a:solidFill>
                      <a:srgbClr val="d9eefd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40186" dir="4303641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8077320" y="2819520"/>
                      <a:ext cx="304560" cy="0"/>
                    </a:xfrm>
                    <a:prstGeom prst="line">
                      <a:avLst/>
                    </a:prstGeom>
                    <a:ln w="9360">
                      <a:solidFill>
                        <a:srgbClr val="01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8058240" y="2790720"/>
                      <a:ext cx="74520" cy="74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flipV="1">
                      <a:off x="8381880" y="28195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1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1752480" y="3352680"/>
                      <a:ext cx="2133720" cy="1219320"/>
                    </a:xfrm>
                    <a:prstGeom prst="ellipse">
                      <a:avLst/>
                    </a:prstGeom>
                    <a:solidFill>
                      <a:srgbClr val="f1f1f1"/>
                    </a:solidFill>
                    <a:ln w="9360">
                      <a:solidFill>
                        <a:srgbClr val="009999"/>
                      </a:solidFill>
                      <a:miter/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2321280" y="3429000"/>
                      <a:ext cx="10324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riterion point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&amp; deviation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flipH="1">
                      <a:off x="3962520" y="3962520"/>
                      <a:ext cx="2133360" cy="1218960"/>
                    </a:xfrm>
                    <a:prstGeom prst="ellipse">
                      <a:avLst/>
                    </a:prstGeom>
                    <a:solidFill>
                      <a:srgbClr val="f1f1f1"/>
                    </a:solidFill>
                    <a:ln w="9360">
                      <a:solidFill>
                        <a:srgbClr val="009999"/>
                      </a:solidFill>
                      <a:miter/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flipH="1">
                      <a:off x="5171760" y="4114800"/>
                      <a:ext cx="6865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criterion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52280" y="4267080"/>
                      <a:ext cx="2133720" cy="1219320"/>
                    </a:xfrm>
                    <a:prstGeom prst="ellipse">
                      <a:avLst/>
                    </a:prstGeom>
                    <a:solidFill>
                      <a:srgbClr val="f1f1f1"/>
                    </a:solidFill>
                    <a:ln w="9360">
                      <a:solidFill>
                        <a:srgbClr val="009999"/>
                      </a:solidFill>
                      <a:miter/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292680" y="4444920"/>
                      <a:ext cx="14180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workingstep              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2789280" y="5397480"/>
                      <a:ext cx="538200" cy="50328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2868480" y="5442120"/>
                      <a:ext cx="2415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2867400" y="5580000"/>
                      <a:ext cx="4914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2858400" y="5711760"/>
                      <a:ext cx="1666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3378240" y="5645160"/>
                      <a:ext cx="982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9" h="0">
                          <a:moveTo>
                            <a:pt x="619" y="0"/>
                          </a:moveTo>
                          <a:lnTo>
                            <a:pt x="312" y="0"/>
                          </a:lnTo>
                          <a:lnTo>
                            <a:pt x="31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3341520" y="5608800"/>
                      <a:ext cx="73080" cy="72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3603240" y="5478480"/>
                      <a:ext cx="58140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_run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1322280" y="5397480"/>
                      <a:ext cx="782640" cy="50328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1400040" y="5407200"/>
                      <a:ext cx="2415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1398960" y="5545080"/>
                      <a:ext cx="4914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395000" y="5676840"/>
                      <a:ext cx="64224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tion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2147760" y="5645160"/>
                      <a:ext cx="6415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4" h="0">
                          <a:moveTo>
                            <a:pt x="404" y="0"/>
                          </a:moveTo>
                          <a:lnTo>
                            <a:pt x="202" y="0"/>
                          </a:lnTo>
                          <a:lnTo>
                            <a:pt x="20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2111400" y="5608800"/>
                      <a:ext cx="73080" cy="72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2232720" y="5478480"/>
                      <a:ext cx="5144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_id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2008080" y="3903840"/>
                      <a:ext cx="663840" cy="39348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2083320" y="4000680"/>
                      <a:ext cx="4914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point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2716200" y="4100400"/>
                      <a:ext cx="160020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8" h="289">
                          <a:moveTo>
                            <a:pt x="1008" y="289"/>
                          </a:moveTo>
                          <a:lnTo>
                            <a:pt x="504" y="289"/>
                          </a:lnTo>
                          <a:lnTo>
                            <a:pt x="50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2679840" y="4064040"/>
                      <a:ext cx="7272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2857680" y="3875040"/>
                      <a:ext cx="12794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_points  S[1:?]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2133720" y="1905120"/>
                      <a:ext cx="228600" cy="118800"/>
                    </a:xfrm>
                    <a:prstGeom prst="rect">
                      <a:avLst/>
                    </a:prstGeom>
                    <a:solidFill>
                      <a:srgbClr val="fffff3"/>
                    </a:solidFill>
                    <a:ln w="936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2439720" y="1600200"/>
                      <a:ext cx="55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P224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2439720" y="1843200"/>
                      <a:ext cx="558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P219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2133720" y="1676520"/>
                      <a:ext cx="228600" cy="118800"/>
                    </a:xfrm>
                    <a:prstGeom prst="rect">
                      <a:avLst/>
                    </a:prstGeom>
                    <a:solidFill>
                      <a:srgbClr val="d9eefd"/>
                    </a:solidFill>
                    <a:ln w="936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2133720" y="2133720"/>
                      <a:ext cx="228600" cy="118800"/>
                    </a:xfrm>
                    <a:prstGeom prst="rect">
                      <a:avLst/>
                    </a:prstGeom>
                    <a:solidFill>
                      <a:srgbClr val="ffe3b9"/>
                    </a:solidFill>
                    <a:ln w="936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2441160" y="2071800"/>
                      <a:ext cx="7279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TEP NC</a:t>
                      </a:r>
                      <a:endParaRPr b="0" lang="en-US" sz="10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7373880" y="5143680"/>
                      <a:ext cx="71640" cy="71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6464160" y="4640400"/>
                      <a:ext cx="5749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0">
                          <a:moveTo>
                            <a:pt x="0" y="0"/>
                          </a:moveTo>
                          <a:lnTo>
                            <a:pt x="178" y="0"/>
                          </a:lnTo>
                          <a:lnTo>
                            <a:pt x="178" y="0"/>
                          </a:lnTo>
                          <a:lnTo>
                            <a:pt x="362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6543720" y="3276720"/>
                      <a:ext cx="647640" cy="539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9eefd"/>
                        </a:gs>
                        <a:gs pos="100000">
                          <a:srgbClr val="fffff3"/>
                        </a:gs>
                      </a:gsLst>
                      <a:lin ang="10800000"/>
                    </a:gra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6615000" y="3481560"/>
                      <a:ext cx="5842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6611760" y="3613320"/>
                      <a:ext cx="2764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5029200" y="3546360"/>
                      <a:ext cx="14698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6" h="0">
                          <a:moveTo>
                            <a:pt x="0" y="0"/>
                          </a:moveTo>
                          <a:lnTo>
                            <a:pt x="463" y="0"/>
                          </a:lnTo>
                          <a:lnTo>
                            <a:pt x="463" y="0"/>
                          </a:lnTo>
                          <a:lnTo>
                            <a:pt x="926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6464160" y="3510000"/>
                      <a:ext cx="7164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5406480" y="3386160"/>
                      <a:ext cx="7642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_value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5099040" y="3568680"/>
                      <a:ext cx="132372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) Dmf_parameters S[1:?]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5780160" y="4443480"/>
                      <a:ext cx="723960" cy="399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9eefd"/>
                        </a:gs>
                        <a:gs pos="100000">
                          <a:srgbClr val="fffff3"/>
                        </a:gs>
                      </a:gsLst>
                      <a:lin ang="10800000"/>
                    </a:gra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5853600" y="4508640"/>
                      <a:ext cx="6087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5848200" y="4640400"/>
                      <a:ext cx="2764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6121440" y="3824280"/>
                      <a:ext cx="743040" cy="57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362">
                          <a:moveTo>
                            <a:pt x="468" y="0"/>
                          </a:moveTo>
                          <a:lnTo>
                            <a:pt x="468" y="225"/>
                          </a:lnTo>
                          <a:lnTo>
                            <a:pt x="0" y="225"/>
                          </a:lnTo>
                          <a:lnTo>
                            <a:pt x="0" y="362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prstDash val="sys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6084720" y="4362480"/>
                      <a:ext cx="7308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5986800" y="4005360"/>
                      <a:ext cx="7610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_value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7002360" y="4603680"/>
                      <a:ext cx="7308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6653160" y="4479840"/>
                      <a:ext cx="2444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7147080" y="5219640"/>
                      <a:ext cx="652320" cy="236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9eefd"/>
                        </a:gs>
                        <a:gs pos="100000">
                          <a:srgbClr val="fffff3"/>
                        </a:gs>
                      </a:gsLst>
                      <a:lin ang="10800000"/>
                    </a:gra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7723080" y="5219640"/>
                      <a:ext cx="1800" cy="23328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7189920" y="5295960"/>
                      <a:ext cx="4320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6121440" y="4851360"/>
                      <a:ext cx="1287360" cy="32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1" h="207">
                          <a:moveTo>
                            <a:pt x="0" y="0"/>
                          </a:moveTo>
                          <a:lnTo>
                            <a:pt x="0" y="133"/>
                          </a:lnTo>
                          <a:lnTo>
                            <a:pt x="811" y="133"/>
                          </a:lnTo>
                          <a:lnTo>
                            <a:pt x="811" y="207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prstDash val="sys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6366240" y="4888080"/>
                      <a:ext cx="88020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ion_method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7077240" y="4449600"/>
                      <a:ext cx="717480" cy="400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d9eefd"/>
                        </a:gs>
                        <a:gs pos="100000">
                          <a:srgbClr val="fffff3"/>
                        </a:gs>
                      </a:gsLst>
                      <a:lin ang="10800000"/>
                    </a:gra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7149960" y="4514760"/>
                      <a:ext cx="5814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7145280" y="4646520"/>
                      <a:ext cx="2764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308240" y="4567320"/>
                      <a:ext cx="637920" cy="393480"/>
                    </a:xfrm>
                    <a:prstGeom prst="rect">
                      <a:avLst/>
                    </a:prstGeom>
                    <a:solidFill>
                      <a:srgbClr val="ffe3b9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1389960" y="4610160"/>
                      <a:ext cx="2415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1312560" y="4741920"/>
                      <a:ext cx="6148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step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676520" y="4967280"/>
                      <a:ext cx="1440" cy="38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44">
                          <a:moveTo>
                            <a:pt x="0" y="0"/>
                          </a:moveTo>
                          <a:lnTo>
                            <a:pt x="0" y="120"/>
                          </a:lnTo>
                          <a:lnTo>
                            <a:pt x="0" y="120"/>
                          </a:lnTo>
                          <a:lnTo>
                            <a:pt x="0" y="244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638360" y="5318280"/>
                      <a:ext cx="76320" cy="72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1755000" y="5091120"/>
                      <a:ext cx="5144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_id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952640" y="4764240"/>
                      <a:ext cx="23256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1" h="0">
                          <a:moveTo>
                            <a:pt x="0" y="0"/>
                          </a:moveTo>
                          <a:lnTo>
                            <a:pt x="706" y="0"/>
                          </a:lnTo>
                          <a:lnTo>
                            <a:pt x="706" y="0"/>
                          </a:lnTo>
                          <a:lnTo>
                            <a:pt x="1421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4241880" y="4727520"/>
                      <a:ext cx="7452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2070360" y="4603680"/>
                      <a:ext cx="201708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exectuion_result_measurements  S[1:?]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2613240" y="4786200"/>
                      <a:ext cx="9777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) workstep S[0:1]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920880" y="4573440"/>
                      <a:ext cx="18252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4302000" y="3298680"/>
                      <a:ext cx="720720" cy="50328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4379760" y="3349800"/>
                      <a:ext cx="2736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f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4377600" y="3481560"/>
                      <a:ext cx="5889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4378680" y="3613320"/>
                      <a:ext cx="52344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4665600" y="2963880"/>
                      <a:ext cx="1800" cy="29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88">
                          <a:moveTo>
                            <a:pt x="0" y="0"/>
                          </a:moveTo>
                          <a:lnTo>
                            <a:pt x="0" y="92"/>
                          </a:lnTo>
                          <a:lnTo>
                            <a:pt x="0" y="92"/>
                          </a:lnTo>
                          <a:lnTo>
                            <a:pt x="0" y="188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4629240" y="3225960"/>
                      <a:ext cx="73080" cy="72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4804920" y="3051000"/>
                      <a:ext cx="8420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parameter_name}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4316400" y="4356000"/>
                      <a:ext cx="816120" cy="63360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4395960" y="4398840"/>
                      <a:ext cx="2415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4386600" y="4538520"/>
                      <a:ext cx="5583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4385880" y="4668840"/>
                      <a:ext cx="3466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4386240" y="4800600"/>
                      <a:ext cx="6379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ment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4665600" y="3844800"/>
                      <a:ext cx="1800" cy="51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22">
                          <a:moveTo>
                            <a:pt x="0" y="322"/>
                          </a:moveTo>
                          <a:lnTo>
                            <a:pt x="0" y="161"/>
                          </a:lnTo>
                          <a:lnTo>
                            <a:pt x="0" y="16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4629240" y="3809880"/>
                      <a:ext cx="73080" cy="71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4735800" y="4021200"/>
                      <a:ext cx="4640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4361040" y="5397480"/>
                      <a:ext cx="695160" cy="50328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4440240" y="5442120"/>
                      <a:ext cx="2415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4430880" y="5580000"/>
                      <a:ext cx="5583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4430880" y="5711760"/>
                      <a:ext cx="2826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4665600" y="5033880"/>
                      <a:ext cx="180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29">
                          <a:moveTo>
                            <a:pt x="0" y="229"/>
                          </a:moveTo>
                          <a:lnTo>
                            <a:pt x="0" y="114"/>
                          </a:lnTo>
                          <a:lnTo>
                            <a:pt x="0" y="1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4629240" y="4997520"/>
                      <a:ext cx="7308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4731120" y="5106960"/>
                      <a:ext cx="121680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_measurements  S[1:?]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5120640" y="5303880"/>
                      <a:ext cx="10112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) execution_result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4068720" y="2556000"/>
                      <a:ext cx="1187640" cy="39996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145760" y="2620800"/>
                      <a:ext cx="6973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al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4135680" y="2752560"/>
                      <a:ext cx="112392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_feature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flipV="1">
                      <a:off x="4665600" y="2358720"/>
                      <a:ext cx="1800" cy="15228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4629240" y="2475000"/>
                      <a:ext cx="7308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4665600" y="1974960"/>
                      <a:ext cx="0" cy="457200"/>
                    </a:xfrm>
                    <a:prstGeom prst="line">
                      <a:avLst/>
                    </a:prstGeom>
                    <a:ln w="22320">
                      <a:solidFill>
                        <a:srgbClr val="01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4656240" y="1981080"/>
                      <a:ext cx="1726920" cy="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8001000" y="1143000"/>
                      <a:ext cx="523800" cy="393840"/>
                    </a:xfrm>
                    <a:prstGeom prst="rect">
                      <a:avLst/>
                    </a:prstGeom>
                    <a:solidFill>
                      <a:srgbClr val="e7f6ff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8072640" y="1208160"/>
                      <a:ext cx="4093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5546880" y="1530360"/>
                      <a:ext cx="5745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0">
                          <a:moveTo>
                            <a:pt x="0" y="0"/>
                          </a:moveTo>
                          <a:lnTo>
                            <a:pt x="178" y="0"/>
                          </a:lnTo>
                          <a:lnTo>
                            <a:pt x="178" y="0"/>
                          </a:lnTo>
                          <a:lnTo>
                            <a:pt x="362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5749920" y="1370160"/>
                      <a:ext cx="21564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4856040" y="1405080"/>
                      <a:ext cx="652680" cy="23652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5432400" y="1405080"/>
                      <a:ext cx="1440" cy="23328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4898880" y="1481040"/>
                      <a:ext cx="43200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5522760" y="1494000"/>
                      <a:ext cx="73080" cy="727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6122880" y="1333440"/>
                      <a:ext cx="524160" cy="39384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200640" y="1398600"/>
                      <a:ext cx="39708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6702480" y="1447920"/>
                      <a:ext cx="1292040" cy="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6672240" y="1413000"/>
                      <a:ext cx="7308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6381720" y="1724040"/>
                      <a:ext cx="1440" cy="258840"/>
                    </a:xfrm>
                    <a:prstGeom prst="line">
                      <a:avLst/>
                    </a:prstGeom>
                    <a:ln w="22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6621480" y="3349800"/>
                      <a:ext cx="5997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6172200" y="2133720"/>
                      <a:ext cx="762120" cy="393480"/>
                    </a:xfrm>
                    <a:prstGeom prst="rect">
                      <a:avLst/>
                    </a:prstGeom>
                    <a:solidFill>
                      <a:srgbClr val="e7f6ff"/>
                    </a:solidFill>
                    <a:ln w="0">
                      <a:solidFill>
                        <a:srgbClr val="00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6220440" y="2274840"/>
                      <a:ext cx="56448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lerance’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H="1">
                      <a:off x="6553080" y="2819520"/>
                      <a:ext cx="609840" cy="0"/>
                    </a:xfrm>
                    <a:prstGeom prst="line">
                      <a:avLst/>
                    </a:prstGeom>
                    <a:ln w="9360">
                      <a:solidFill>
                        <a:srgbClr val="01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 flipV="1">
                      <a:off x="6553080" y="2590560"/>
                      <a:ext cx="0" cy="228600"/>
                    </a:xfrm>
                    <a:prstGeom prst="line">
                      <a:avLst/>
                    </a:prstGeom>
                    <a:ln w="9360">
                      <a:solidFill>
                        <a:srgbClr val="01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6516720" y="2558880"/>
                      <a:ext cx="74520" cy="74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403320" y="2819520"/>
                      <a:ext cx="59976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lerance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7223760" y="2666880"/>
                      <a:ext cx="77328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ng_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_param’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1219680" y="2895480"/>
                    <a:ext cx="1139040" cy="1219320"/>
                    <a:chOff x="1219680" y="2895480"/>
                    <a:chExt cx="1139040" cy="1219320"/>
                  </a:xfrm>
                </p:grpSpPr>
                <p:sp>
                  <p:nvSpPr>
                    <p:cNvPr id="947" name=""/>
                    <p:cNvSpPr/>
                    <p:nvPr/>
                  </p:nvSpPr>
                  <p:spPr>
                    <a:xfrm flipH="1">
                      <a:off x="1828440" y="403848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1371600" y="2895480"/>
                      <a:ext cx="663480" cy="393840"/>
                    </a:xfrm>
                    <a:prstGeom prst="rect">
                      <a:avLst/>
                    </a:prstGeom>
                    <a:solidFill>
                      <a:srgbClr val="ffffe3"/>
                    </a:solidFill>
                    <a:ln w="0">
                      <a:solidFill>
                        <a:srgbClr val="010000"/>
                      </a:solidFill>
                    </a:ln>
                    <a:effectLst>
                      <a:outerShdw dist="17819" dir="2700000" blurRad="0" rotWithShape="0">
                        <a:srgbClr val="0099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1446120" y="2992320"/>
                      <a:ext cx="49284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sian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point</a:t>
                      </a:r>
                      <a:endParaRPr b="0" lang="en-US" sz="9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flipH="1">
                      <a:off x="1676520" y="4114800"/>
                      <a:ext cx="304560" cy="0"/>
                    </a:xfrm>
                    <a:prstGeom prst="line">
                      <a:avLst/>
                    </a:prstGeom>
                    <a:ln w="9360">
                      <a:solidFill>
                        <a:srgbClr val="009999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 flipV="1">
                      <a:off x="1676520" y="3352320"/>
                      <a:ext cx="0" cy="762120"/>
                    </a:xfrm>
                    <a:prstGeom prst="line">
                      <a:avLst/>
                    </a:prstGeom>
                    <a:ln w="9360">
                      <a:solidFill>
                        <a:srgbClr val="009999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V="1">
                      <a:off x="1828800" y="3352320"/>
                      <a:ext cx="0" cy="685800"/>
                    </a:xfrm>
                    <a:prstGeom prst="line">
                      <a:avLst/>
                    </a:prstGeom>
                    <a:ln w="936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1790640" y="3305160"/>
                      <a:ext cx="7308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1641600" y="3298680"/>
                      <a:ext cx="73080" cy="73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1219680" y="3581280"/>
                      <a:ext cx="415080" cy="243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point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905480" y="3581280"/>
                      <a:ext cx="453240" cy="243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d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point</a:t>
                      </a:r>
                      <a:endParaRPr b="0" lang="en-US" sz="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6934320" y="1523520"/>
                  <a:ext cx="1251000" cy="762480"/>
                  <a:chOff x="6934320" y="1523520"/>
                  <a:chExt cx="1251000" cy="76248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flipV="1">
                    <a:off x="8153280" y="1523520"/>
                    <a:ext cx="0" cy="762120"/>
                  </a:xfrm>
                  <a:prstGeom prst="line">
                    <a:avLst/>
                  </a:prstGeom>
                  <a:ln w="9360">
                    <a:solidFill>
                      <a:srgbClr val="01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>
                    <a:off x="6934320" y="2286000"/>
                    <a:ext cx="1218960" cy="0"/>
                  </a:xfrm>
                  <a:prstGeom prst="line">
                    <a:avLst/>
                  </a:prstGeom>
                  <a:ln w="9360">
                    <a:solidFill>
                      <a:srgbClr val="01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7011360" y="2133720"/>
                    <a:ext cx="6012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is_applied_to</a:t>
                    </a:r>
                    <a:endParaRPr b="0" lang="en-US" sz="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8110440" y="1523880"/>
                    <a:ext cx="74880" cy="74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8339040" y="1523520"/>
                  <a:ext cx="74880" cy="1295640"/>
                  <a:chOff x="8339040" y="1523520"/>
                  <a:chExt cx="74880" cy="129564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V="1">
                    <a:off x="8381880" y="1523520"/>
                    <a:ext cx="0" cy="1295640"/>
                  </a:xfrm>
                  <a:prstGeom prst="line">
                    <a:avLst/>
                  </a:prstGeom>
                  <a:ln w="9360">
                    <a:solidFill>
                      <a:srgbClr val="01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8339040" y="1523880"/>
                    <a:ext cx="74880" cy="74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65" name=""/>
            <p:cNvGrpSpPr/>
            <p:nvPr/>
          </p:nvGrpSpPr>
          <p:grpSpPr>
            <a:xfrm>
              <a:off x="8001000" y="1143000"/>
              <a:ext cx="523800" cy="393840"/>
              <a:chOff x="8001000" y="1143000"/>
              <a:chExt cx="523800" cy="393840"/>
            </a:xfrm>
          </p:grpSpPr>
          <p:sp>
            <p:nvSpPr>
              <p:cNvPr id="966" name=""/>
              <p:cNvSpPr/>
              <p:nvPr/>
            </p:nvSpPr>
            <p:spPr>
              <a:xfrm>
                <a:off x="8001000" y="1143000"/>
                <a:ext cx="523800" cy="393840"/>
              </a:xfrm>
              <a:prstGeom prst="rect">
                <a:avLst/>
              </a:prstGeom>
              <a:gradFill rotWithShape="0">
                <a:gsLst>
                  <a:gs pos="0">
                    <a:srgbClr val="d7f0ff"/>
                  </a:gs>
                  <a:gs pos="100000">
                    <a:srgbClr val="ffffe3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67960" y="1219320"/>
                <a:ext cx="40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P NC harmonizatio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296040" y="1263600"/>
            <a:ext cx="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5333760" y="1600200"/>
            <a:ext cx="533160" cy="2590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335200" y="3808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Label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EP NC harmonizatio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296040" y="1263600"/>
            <a:ext cx="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337000" y="38088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Feature &amp; measurement labels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52280" y="914400"/>
            <a:ext cx="8953560" cy="5259960"/>
            <a:chOff x="152280" y="914400"/>
            <a:chExt cx="8953560" cy="5259960"/>
          </a:xfrm>
        </p:grpSpPr>
        <p:sp>
          <p:nvSpPr>
            <p:cNvPr id="976" name=""/>
            <p:cNvSpPr/>
            <p:nvPr/>
          </p:nvSpPr>
          <p:spPr>
            <a:xfrm>
              <a:off x="6972480" y="2155680"/>
              <a:ext cx="213336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962520" y="3962520"/>
              <a:ext cx="2133360" cy="121896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247720" y="5867280"/>
              <a:ext cx="35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NOTE:</a:t>
              </a:r>
              <a:r>
                <a:rPr b="0" lang="en-US" sz="1400" spc="-1" strike="noStrike">
                  <a:solidFill>
                    <a:srgbClr val="009999"/>
                  </a:solidFill>
                  <a:latin typeface="Arial"/>
                </a:rPr>
                <a:t>  FEO (for exposition only) diagram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858000" y="91440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087680" y="1447920"/>
              <a:ext cx="955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hape-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bas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pec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86760" y="2409840"/>
              <a:ext cx="820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     </a:t>
              </a: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feature-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bas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pec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99280" y="3546360"/>
              <a:ext cx="662040" cy="1800"/>
            </a:xfrm>
            <a:custGeom>
              <a:avLst/>
              <a:gdLst/>
              <a:ahLst/>
              <a:rect l="l" t="t" r="r" b="b"/>
              <a:pathLst>
                <a:path w="417" h="0">
                  <a:moveTo>
                    <a:pt x="0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41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24960" y="3510000"/>
              <a:ext cx="727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50760" y="3386160"/>
              <a:ext cx="56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91560" y="3286080"/>
              <a:ext cx="871560" cy="527040"/>
            </a:xfrm>
            <a:prstGeom prst="rect">
              <a:avLst/>
            </a:prstGeom>
            <a:gradFill rotWithShape="0">
              <a:gsLst>
                <a:gs pos="0">
                  <a:srgbClr val="e3f0ff"/>
                </a:gs>
                <a:gs pos="100000">
                  <a:srgbClr val="fffff3"/>
                </a:gs>
              </a:gsLst>
              <a:lin ang="10800000"/>
            </a:gradFill>
            <a:ln w="1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97760" y="3286080"/>
              <a:ext cx="1800" cy="527040"/>
            </a:xfrm>
            <a:prstGeom prst="line">
              <a:avLst/>
            </a:prstGeom>
            <a:ln w="1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283240" y="3362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040600" y="3481560"/>
              <a:ext cx="65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selec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62920" y="2590920"/>
              <a:ext cx="892080" cy="379440"/>
            </a:xfrm>
            <a:prstGeom prst="rect">
              <a:avLst/>
            </a:prstGeom>
            <a:solidFill>
              <a:srgbClr val="d9eefd"/>
            </a:solidFill>
            <a:ln w="0">
              <a:solidFill>
                <a:srgbClr val="000000"/>
              </a:solidFill>
            </a:ln>
            <a:effectLst>
              <a:outerShdw dist="40186" dir="4303641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77320" y="2819520"/>
              <a:ext cx="3045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058240" y="279072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381880" y="2819520"/>
              <a:ext cx="0" cy="4572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52480" y="335268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21280" y="3429000"/>
              <a:ext cx="103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criterion poi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&amp; devi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171760" y="4114800"/>
              <a:ext cx="68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criter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52280" y="4267080"/>
              <a:ext cx="2133720" cy="1219320"/>
            </a:xfrm>
            <a:prstGeom prst="ellipse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2680" y="4444920"/>
              <a:ext cx="141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workingstep             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89280" y="5397480"/>
              <a:ext cx="538200" cy="503280"/>
            </a:xfrm>
            <a:prstGeom prst="rect">
              <a:avLst/>
            </a:prstGeom>
            <a:gradFill rotWithShape="0">
              <a:gsLst>
                <a:gs pos="0">
                  <a:srgbClr val="ffffe3"/>
                </a:gs>
                <a:gs pos="100000">
                  <a:srgbClr val="ffe3b9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8480" y="544212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67400" y="558000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58400" y="571176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78240" y="5645160"/>
              <a:ext cx="982800" cy="1440"/>
            </a:xfrm>
            <a:custGeom>
              <a:avLst/>
              <a:gdLst/>
              <a:ahLst/>
              <a:rect l="l" t="t" r="r" b="b"/>
              <a:pathLst>
                <a:path w="619" h="0">
                  <a:moveTo>
                    <a:pt x="619" y="0"/>
                  </a:moveTo>
                  <a:lnTo>
                    <a:pt x="312" y="0"/>
                  </a:lnTo>
                  <a:lnTo>
                    <a:pt x="31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41520" y="5608800"/>
              <a:ext cx="7308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03240" y="54784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_run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22280" y="5397480"/>
              <a:ext cx="782640" cy="503280"/>
            </a:xfrm>
            <a:prstGeom prst="rect">
              <a:avLst/>
            </a:prstGeom>
            <a:gradFill rotWithShape="0">
              <a:gsLst>
                <a:gs pos="0">
                  <a:srgbClr val="ffffe3"/>
                </a:gs>
                <a:gs pos="100000">
                  <a:srgbClr val="ffe3b9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00040" y="540720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8960" y="55450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95000" y="567684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47760" y="5645160"/>
              <a:ext cx="641520" cy="1440"/>
            </a:xfrm>
            <a:custGeom>
              <a:avLst/>
              <a:gdLst/>
              <a:ahLst/>
              <a:rect l="l" t="t" r="r" b="b"/>
              <a:pathLst>
                <a:path w="404" h="0">
                  <a:moveTo>
                    <a:pt x="404" y="0"/>
                  </a:moveTo>
                  <a:lnTo>
                    <a:pt x="202" y="0"/>
                  </a:lnTo>
                  <a:lnTo>
                    <a:pt x="20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11400" y="5608800"/>
              <a:ext cx="7308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32720" y="5478480"/>
              <a:ext cx="51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_i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008080" y="3903840"/>
              <a:ext cx="663840" cy="393480"/>
            </a:xfrm>
            <a:prstGeom prst="rect">
              <a:avLst/>
            </a:prstGeom>
            <a:gradFill rotWithShape="0">
              <a:gsLst>
                <a:gs pos="0">
                  <a:srgbClr val="ffffe3"/>
                </a:gs>
                <a:gs pos="100000">
                  <a:srgbClr val="ffe3b9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83320" y="40006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poi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16200" y="4100400"/>
              <a:ext cx="1600200" cy="459000"/>
            </a:xfrm>
            <a:custGeom>
              <a:avLst/>
              <a:gdLst/>
              <a:ahLst/>
              <a:rect l="l" t="t" r="r" b="b"/>
              <a:pathLst>
                <a:path w="1008" h="289">
                  <a:moveTo>
                    <a:pt x="1008" y="289"/>
                  </a:moveTo>
                  <a:lnTo>
                    <a:pt x="504" y="289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79840" y="4064040"/>
              <a:ext cx="727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57680" y="3875040"/>
              <a:ext cx="1279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asurement_points 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133720" y="1905120"/>
              <a:ext cx="228600" cy="118800"/>
            </a:xfrm>
            <a:prstGeom prst="rect">
              <a:avLst/>
            </a:prstGeom>
            <a:solidFill>
              <a:srgbClr val="fffff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39720" y="160020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AP224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39720" y="184320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AP219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33720" y="1676520"/>
              <a:ext cx="228600" cy="118800"/>
            </a:xfrm>
            <a:prstGeom prst="rect">
              <a:avLst/>
            </a:prstGeom>
            <a:solidFill>
              <a:srgbClr val="d9eefd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33720" y="2133720"/>
              <a:ext cx="228600" cy="118800"/>
            </a:xfrm>
            <a:prstGeom prst="rect">
              <a:avLst/>
            </a:prstGeom>
            <a:solidFill>
              <a:srgbClr val="ffe3b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41160" y="2071800"/>
              <a:ext cx="72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Arial"/>
                </a:rPr>
                <a:t>STEP NC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3880" y="514368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464160" y="4640400"/>
              <a:ext cx="574920" cy="1440"/>
            </a:xfrm>
            <a:custGeom>
              <a:avLst/>
              <a:gdLst/>
              <a:ahLst/>
              <a:rect l="l" t="t" r="r" b="b"/>
              <a:pathLst>
                <a:path w="362" h="0">
                  <a:moveTo>
                    <a:pt x="0" y="0"/>
                  </a:moveTo>
                  <a:lnTo>
                    <a:pt x="178" y="0"/>
                  </a:lnTo>
                  <a:lnTo>
                    <a:pt x="178" y="0"/>
                  </a:lnTo>
                  <a:lnTo>
                    <a:pt x="36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43720" y="3276720"/>
              <a:ext cx="647640" cy="53964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15000" y="3481560"/>
              <a:ext cx="58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culated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11760" y="361332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29200" y="3546360"/>
              <a:ext cx="1469880" cy="1800"/>
            </a:xfrm>
            <a:custGeom>
              <a:avLst/>
              <a:gdLst/>
              <a:ahLst/>
              <a:rect l="l" t="t" r="r" b="b"/>
              <a:pathLst>
                <a:path w="926" h="0">
                  <a:moveTo>
                    <a:pt x="0" y="0"/>
                  </a:moveTo>
                  <a:lnTo>
                    <a:pt x="463" y="0"/>
                  </a:lnTo>
                  <a:lnTo>
                    <a:pt x="463" y="0"/>
                  </a:lnTo>
                  <a:lnTo>
                    <a:pt x="92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464160" y="3510000"/>
              <a:ext cx="7164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06480" y="3386160"/>
              <a:ext cx="76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099040" y="3568680"/>
              <a:ext cx="1323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INV) Dmf_parameters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80160" y="4443480"/>
              <a:ext cx="723960" cy="39996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53600" y="450864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culated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48200" y="464040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121440" y="3824280"/>
              <a:ext cx="743040" cy="574560"/>
            </a:xfrm>
            <a:custGeom>
              <a:avLst/>
              <a:gdLst/>
              <a:ahLst/>
              <a:rect l="l" t="t" r="r" b="b"/>
              <a:pathLst>
                <a:path w="468" h="362">
                  <a:moveTo>
                    <a:pt x="468" y="0"/>
                  </a:moveTo>
                  <a:lnTo>
                    <a:pt x="468" y="225"/>
                  </a:lnTo>
                  <a:lnTo>
                    <a:pt x="0" y="225"/>
                  </a:lnTo>
                  <a:lnTo>
                    <a:pt x="0" y="3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84720" y="436248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86800" y="4005360"/>
              <a:ext cx="761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ed_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002360" y="460368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53160" y="44798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47080" y="5219640"/>
              <a:ext cx="652320" cy="23652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723080" y="5219640"/>
              <a:ext cx="1800" cy="23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89920" y="529596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21440" y="4851360"/>
              <a:ext cx="1287360" cy="328680"/>
            </a:xfrm>
            <a:custGeom>
              <a:avLst/>
              <a:gdLst/>
              <a:ahLst/>
              <a:rect l="l" t="t" r="r" b="b"/>
              <a:pathLst>
                <a:path w="811" h="207">
                  <a:moveTo>
                    <a:pt x="0" y="0"/>
                  </a:moveTo>
                  <a:lnTo>
                    <a:pt x="0" y="133"/>
                  </a:lnTo>
                  <a:lnTo>
                    <a:pt x="811" y="133"/>
                  </a:lnTo>
                  <a:lnTo>
                    <a:pt x="811" y="20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66240" y="4888080"/>
              <a:ext cx="88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ion_metho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077240" y="4449600"/>
              <a:ext cx="717480" cy="400320"/>
            </a:xfrm>
            <a:prstGeom prst="rect">
              <a:avLst/>
            </a:prstGeom>
            <a:gradFill rotWithShape="0">
              <a:gsLst>
                <a:gs pos="0">
                  <a:srgbClr val="d9eefd"/>
                </a:gs>
                <a:gs pos="100000">
                  <a:srgbClr val="fffff3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49960" y="4514760"/>
              <a:ext cx="58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merical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145280" y="4646520"/>
              <a:ext cx="27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08240" y="4567320"/>
              <a:ext cx="637920" cy="393480"/>
            </a:xfrm>
            <a:prstGeom prst="rect">
              <a:avLst/>
            </a:prstGeom>
            <a:solidFill>
              <a:srgbClr val="ffe3b9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89960" y="461016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12560" y="4741920"/>
              <a:ext cx="61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orkingstep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76520" y="4967280"/>
              <a:ext cx="1440" cy="387360"/>
            </a:xfrm>
            <a:custGeom>
              <a:avLst/>
              <a:gdLst/>
              <a:ahLst/>
              <a:rect l="l" t="t" r="r" b="b"/>
              <a:pathLst>
                <a:path w="0" h="244">
                  <a:moveTo>
                    <a:pt x="0" y="0"/>
                  </a:moveTo>
                  <a:lnTo>
                    <a:pt x="0" y="120"/>
                  </a:lnTo>
                  <a:lnTo>
                    <a:pt x="0" y="120"/>
                  </a:lnTo>
                  <a:lnTo>
                    <a:pt x="0" y="24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8360" y="5318280"/>
              <a:ext cx="7632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55000" y="5091120"/>
              <a:ext cx="51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_i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52640" y="4764240"/>
              <a:ext cx="2325600" cy="1440"/>
            </a:xfrm>
            <a:custGeom>
              <a:avLst/>
              <a:gdLst/>
              <a:ahLst/>
              <a:rect l="l" t="t" r="r" b="b"/>
              <a:pathLst>
                <a:path w="1421" h="0">
                  <a:moveTo>
                    <a:pt x="0" y="0"/>
                  </a:moveTo>
                  <a:lnTo>
                    <a:pt x="706" y="0"/>
                  </a:lnTo>
                  <a:lnTo>
                    <a:pt x="706" y="0"/>
                  </a:lnTo>
                  <a:lnTo>
                    <a:pt x="142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241880" y="4727520"/>
              <a:ext cx="7452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70360" y="4603680"/>
              <a:ext cx="201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m_exectuion_result_measurements 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13240" y="4786200"/>
              <a:ext cx="97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V) workstep S[0:1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20880" y="4573440"/>
              <a:ext cx="182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302000" y="3298680"/>
              <a:ext cx="720720" cy="503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79760" y="3349800"/>
              <a:ext cx="27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f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377600" y="3481560"/>
              <a:ext cx="58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mens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78680" y="361332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65600" y="2963880"/>
              <a:ext cx="1800" cy="298440"/>
            </a:xfrm>
            <a:custGeom>
              <a:avLst/>
              <a:gdLst/>
              <a:ahLst/>
              <a:rect l="l" t="t" r="r" b="b"/>
              <a:pathLst>
                <a:path w="0" h="188">
                  <a:moveTo>
                    <a:pt x="0" y="0"/>
                  </a:moveTo>
                  <a:lnTo>
                    <a:pt x="0" y="92"/>
                  </a:lnTo>
                  <a:lnTo>
                    <a:pt x="0" y="92"/>
                  </a:lnTo>
                  <a:lnTo>
                    <a:pt x="0" y="18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29240" y="3225960"/>
              <a:ext cx="7308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04920" y="3051000"/>
              <a:ext cx="842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{parameter_name}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16400" y="4356000"/>
              <a:ext cx="816120" cy="633600"/>
            </a:xfrm>
            <a:prstGeom prst="rect">
              <a:avLst/>
            </a:prstGeom>
            <a:gradFill rotWithShape="0">
              <a:gsLst>
                <a:gs pos="0">
                  <a:srgbClr val="ffffe3"/>
                </a:gs>
                <a:gs pos="100000">
                  <a:srgbClr val="ffe3b9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95960" y="439884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86600" y="453852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ecu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85880" y="466884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ult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386240" y="4800600"/>
              <a:ext cx="63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asurme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65600" y="3844800"/>
              <a:ext cx="1800" cy="511200"/>
            </a:xfrm>
            <a:custGeom>
              <a:avLst/>
              <a:gdLst/>
              <a:ahLst/>
              <a:rect l="l" t="t" r="r" b="b"/>
              <a:pathLst>
                <a:path w="0" h="322">
                  <a:moveTo>
                    <a:pt x="0" y="322"/>
                  </a:move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29240" y="3809880"/>
              <a:ext cx="73080" cy="71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735800" y="402120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361040" y="5397480"/>
              <a:ext cx="695160" cy="503280"/>
            </a:xfrm>
            <a:prstGeom prst="rect">
              <a:avLst/>
            </a:prstGeom>
            <a:gradFill rotWithShape="0">
              <a:gsLst>
                <a:gs pos="0">
                  <a:srgbClr val="ffffe3"/>
                </a:gs>
                <a:gs pos="100000">
                  <a:srgbClr val="ffe3b9"/>
                </a:gs>
              </a:gsLst>
              <a:lin ang="10800000"/>
            </a:gra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40240" y="544212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430880" y="558000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ecution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430880" y="571176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65600" y="5033880"/>
              <a:ext cx="1800" cy="363600"/>
            </a:xfrm>
            <a:custGeom>
              <a:avLst/>
              <a:gdLst/>
              <a:ahLst/>
              <a:rect l="l" t="t" r="r" b="b"/>
              <a:pathLst>
                <a:path w="0" h="229">
                  <a:moveTo>
                    <a:pt x="0" y="229"/>
                  </a:moveTo>
                  <a:lnTo>
                    <a:pt x="0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9240" y="499752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1600" y="5029200"/>
              <a:ext cx="1216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m_measurements  S[1:?]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28280" y="5181480"/>
              <a:ext cx="101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INV) execution_resul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68720" y="2556000"/>
              <a:ext cx="1187640" cy="3999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45760" y="2620800"/>
              <a:ext cx="69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mensional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135680" y="2752560"/>
              <a:ext cx="112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asurement_featur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4665600" y="2358720"/>
              <a:ext cx="180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29240" y="2475000"/>
              <a:ext cx="73080" cy="73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65600" y="1974960"/>
              <a:ext cx="0" cy="45720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56240" y="1981080"/>
              <a:ext cx="1726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001000" y="1143000"/>
              <a:ext cx="523800" cy="393840"/>
            </a:xfrm>
            <a:prstGeom prst="rect">
              <a:avLst/>
            </a:prstGeom>
            <a:solidFill>
              <a:srgbClr val="e7f6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072640" y="1208160"/>
              <a:ext cx="40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hape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46880" y="1530360"/>
              <a:ext cx="574560" cy="1440"/>
            </a:xfrm>
            <a:custGeom>
              <a:avLst/>
              <a:gdLst/>
              <a:ahLst/>
              <a:rect l="l" t="t" r="r" b="b"/>
              <a:pathLst>
                <a:path w="362" h="0">
                  <a:moveTo>
                    <a:pt x="0" y="0"/>
                  </a:moveTo>
                  <a:lnTo>
                    <a:pt x="178" y="0"/>
                  </a:lnTo>
                  <a:lnTo>
                    <a:pt x="178" y="0"/>
                  </a:lnTo>
                  <a:lnTo>
                    <a:pt x="36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56040" y="1405080"/>
              <a:ext cx="652680" cy="2365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32400" y="1405080"/>
              <a:ext cx="1440" cy="23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98880" y="1481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22760" y="1494000"/>
              <a:ext cx="73080" cy="72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122880" y="1333440"/>
              <a:ext cx="524160" cy="3938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00640" y="1398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702480" y="1447920"/>
              <a:ext cx="1292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72240" y="1413000"/>
              <a:ext cx="73080" cy="73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81720" y="1724040"/>
              <a:ext cx="1440" cy="258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621480" y="3349800"/>
              <a:ext cx="59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ameter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72200" y="2133720"/>
              <a:ext cx="762120" cy="393480"/>
            </a:xfrm>
            <a:prstGeom prst="rect">
              <a:avLst/>
            </a:prstGeom>
            <a:solidFill>
              <a:srgbClr val="e7f6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20440" y="2274840"/>
              <a:ext cx="56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Tolerance’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6553080" y="2819520"/>
              <a:ext cx="60984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553080" y="2590560"/>
              <a:ext cx="0" cy="22860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516720" y="255888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403320" y="281952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23760" y="2666880"/>
              <a:ext cx="77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Machining_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feature_param’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1828440" y="4038480"/>
              <a:ext cx="1522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71600" y="2895480"/>
              <a:ext cx="663480" cy="393840"/>
            </a:xfrm>
            <a:prstGeom prst="rect">
              <a:avLst/>
            </a:prstGeom>
            <a:gradFill rotWithShape="0">
              <a:gsLst>
                <a:gs pos="0">
                  <a:srgbClr val="ffffe3"/>
                </a:gs>
                <a:gs pos="100000">
                  <a:srgbClr val="ffe3b9"/>
                </a:gs>
              </a:gsLst>
              <a:lin ang="10800000"/>
            </a:gradFill>
            <a:ln w="0">
              <a:solidFill>
                <a:srgbClr val="01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46120" y="2992320"/>
              <a:ext cx="49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rtesian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9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1676520" y="4114800"/>
              <a:ext cx="30456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1676520" y="3352320"/>
              <a:ext cx="0" cy="762120"/>
            </a:xfrm>
            <a:prstGeom prst="line">
              <a:avLst/>
            </a:prstGeom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1828800" y="3352320"/>
              <a:ext cx="0" cy="685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90640" y="330516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41600" y="3298680"/>
              <a:ext cx="73080" cy="73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219680" y="3581280"/>
              <a:ext cx="41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ecte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05480" y="3581280"/>
              <a:ext cx="45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asured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8153280" y="1523520"/>
              <a:ext cx="0" cy="7621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934320" y="2286000"/>
              <a:ext cx="12189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11360" y="2133720"/>
              <a:ext cx="60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110440" y="1523880"/>
              <a:ext cx="7488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8381880" y="1523520"/>
              <a:ext cx="0" cy="12956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339040" y="1523880"/>
              <a:ext cx="7488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15000" y="1371600"/>
              <a:ext cx="2156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8001000" y="1143000"/>
              <a:ext cx="523800" cy="393840"/>
              <a:chOff x="8001000" y="1143000"/>
              <a:chExt cx="523800" cy="393840"/>
            </a:xfrm>
          </p:grpSpPr>
          <p:sp>
            <p:nvSpPr>
              <p:cNvPr id="1127" name=""/>
              <p:cNvSpPr/>
              <p:nvPr/>
            </p:nvSpPr>
            <p:spPr>
              <a:xfrm>
                <a:off x="8001000" y="1143000"/>
                <a:ext cx="523800" cy="393840"/>
              </a:xfrm>
              <a:prstGeom prst="rect">
                <a:avLst/>
              </a:prstGeom>
              <a:gradFill rotWithShape="0">
                <a:gsLst>
                  <a:gs pos="0">
                    <a:srgbClr val="d7f0ff"/>
                  </a:gs>
                  <a:gs pos="100000">
                    <a:srgbClr val="ffffe3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067960" y="1219320"/>
                <a:ext cx="409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9" name=""/>
          <p:cNvGrpSpPr/>
          <p:nvPr/>
        </p:nvGrpSpPr>
        <p:grpSpPr>
          <a:xfrm>
            <a:off x="4307040" y="4356000"/>
            <a:ext cx="2474640" cy="1549440"/>
            <a:chOff x="4307040" y="4356000"/>
            <a:chExt cx="2474640" cy="1549440"/>
          </a:xfrm>
        </p:grpSpPr>
        <p:grpSp>
          <p:nvGrpSpPr>
            <p:cNvPr id="1130" name=""/>
            <p:cNvGrpSpPr/>
            <p:nvPr/>
          </p:nvGrpSpPr>
          <p:grpSpPr>
            <a:xfrm>
              <a:off x="4307040" y="4356000"/>
              <a:ext cx="2474640" cy="1511280"/>
              <a:chOff x="4307040" y="4356000"/>
              <a:chExt cx="2474640" cy="151128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648320" y="4648320"/>
                <a:ext cx="2133360" cy="1218960"/>
                <a:chOff x="4648320" y="4648320"/>
                <a:chExt cx="2133360" cy="1218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4648320" y="4648320"/>
                  <a:ext cx="2133360" cy="1218960"/>
                </a:xfrm>
                <a:prstGeom prst="ellipse">
                  <a:avLst/>
                </a:prstGeom>
                <a:solidFill>
                  <a:srgbClr val="f1f1f1"/>
                </a:solidFill>
                <a:ln w="9360">
                  <a:solidFill>
                    <a:srgbClr val="009999"/>
                  </a:solidFill>
                  <a:miter/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021000" y="5334120"/>
                  <a:ext cx="468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9999"/>
                      </a:solidFill>
                      <a:latin typeface="Arial"/>
                    </a:rPr>
                    <a:t>label</a:t>
                  </a: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214960" y="5257800"/>
                  <a:ext cx="652320" cy="23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e3"/>
                    </a:gs>
                    <a:gs pos="100000">
                      <a:srgbClr val="ffe3b9"/>
                    </a:gs>
                  </a:gsLst>
                  <a:lin ang="10800000"/>
                </a:gra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791320" y="5257800"/>
                  <a:ext cx="1440" cy="233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257800" y="5334120"/>
                  <a:ext cx="4320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RING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140440" y="4876920"/>
                  <a:ext cx="19368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334120" y="4876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297400" y="5194440"/>
                  <a:ext cx="73080" cy="72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410080" y="4952880"/>
                  <a:ext cx="623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easurement</a:t>
                  </a: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_label</a:t>
                  </a: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4307040" y="4356000"/>
                <a:ext cx="815760" cy="633240"/>
                <a:chOff x="4307040" y="4356000"/>
                <a:chExt cx="815760" cy="63324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307040" y="4356000"/>
                  <a:ext cx="815760" cy="633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e3"/>
                    </a:gs>
                    <a:gs pos="100000">
                      <a:srgbClr val="ffe3b9"/>
                    </a:gs>
                  </a:gsLst>
                  <a:lin ang="10800000"/>
                </a:gra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385880" y="4398840"/>
                  <a:ext cx="2415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m_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376880" y="4538520"/>
                  <a:ext cx="5583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xecution_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376160" y="4668480"/>
                  <a:ext cx="34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esult_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376880" y="4800240"/>
                  <a:ext cx="63792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easurment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5775480" y="4419720"/>
                <a:ext cx="723600" cy="399960"/>
                <a:chOff x="5775480" y="4419720"/>
                <a:chExt cx="723600" cy="39996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5775480" y="4419720"/>
                  <a:ext cx="723600" cy="399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eefd"/>
                    </a:gs>
                    <a:gs pos="100000">
                      <a:srgbClr val="fffff3"/>
                    </a:gs>
                  </a:gsLst>
                  <a:lin ang="10800000"/>
                </a:gra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848560" y="4484880"/>
                  <a:ext cx="608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alculated_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843160" y="4616640"/>
                  <a:ext cx="2764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ue</a:t>
                  </a:r>
                  <a:endParaRPr b="0" lang="en-US" sz="9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1" name=""/>
            <p:cNvGrpSpPr/>
            <p:nvPr/>
          </p:nvGrpSpPr>
          <p:grpSpPr>
            <a:xfrm>
              <a:off x="4367160" y="5402160"/>
              <a:ext cx="695160" cy="503280"/>
              <a:chOff x="4367160" y="5402160"/>
              <a:chExt cx="695160" cy="503280"/>
            </a:xfrm>
          </p:grpSpPr>
          <p:sp>
            <p:nvSpPr>
              <p:cNvPr id="1152" name=""/>
              <p:cNvSpPr/>
              <p:nvPr/>
            </p:nvSpPr>
            <p:spPr>
              <a:xfrm>
                <a:off x="4367160" y="5402160"/>
                <a:ext cx="695160" cy="503280"/>
              </a:xfrm>
              <a:prstGeom prst="rect">
                <a:avLst/>
              </a:prstGeom>
              <a:gradFill rotWithShape="0">
                <a:gsLst>
                  <a:gs pos="0">
                    <a:srgbClr val="ffffe3"/>
                  </a:gs>
                  <a:gs pos="100000">
                    <a:srgbClr val="ffe3b9"/>
                  </a:gs>
                </a:gsLst>
                <a:lin ang="10800000"/>
              </a:gra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446360" y="5446800"/>
                <a:ext cx="241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437360" y="5585040"/>
                <a:ext cx="558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execution_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437000" y="5716800"/>
                <a:ext cx="28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sult</a:t>
                </a:r>
                <a:endParaRPr b="0" lang="en-US" sz="9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639400" y="1371600"/>
            <a:ext cx="317880" cy="350640"/>
            <a:chOff x="5639400" y="1371600"/>
            <a:chExt cx="317880" cy="350640"/>
          </a:xfrm>
        </p:grpSpPr>
        <p:sp>
          <p:nvSpPr>
            <p:cNvPr id="1157" name=""/>
            <p:cNvSpPr/>
            <p:nvPr/>
          </p:nvSpPr>
          <p:spPr>
            <a:xfrm>
              <a:off x="5639400" y="1371600"/>
              <a:ext cx="31788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661360" y="1600200"/>
              <a:ext cx="27216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_label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facturing harmonization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Mapping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523880" y="2590920"/>
            <a:ext cx="6838920" cy="2095200"/>
            <a:chOff x="1523880" y="2590920"/>
            <a:chExt cx="6838920" cy="209520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90920"/>
              <a:ext cx="2091960" cy="2095200"/>
              <a:chOff x="1523880" y="2590920"/>
              <a:chExt cx="2091960" cy="209520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1561680" y="3596400"/>
                <a:ext cx="1177200" cy="1089720"/>
                <a:chOff x="1561680" y="3596400"/>
                <a:chExt cx="1177200" cy="10897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1686960" y="3895560"/>
                  <a:ext cx="895320" cy="207000"/>
                </a:xfrm>
                <a:prstGeom prst="rect">
                  <a:avLst/>
                </a:prstGeom>
                <a:solidFill>
                  <a:srgbClr val="ffe3b9"/>
                </a:solidFill>
                <a:ln w="7920">
                  <a:solidFill>
                    <a:srgbClr val="000000"/>
                  </a:solidFill>
                  <a:prstDash val="sysDash"/>
                  <a:miter/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785600" y="3895560"/>
                  <a:ext cx="720" cy="207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921680" y="3968640"/>
                  <a:ext cx="4762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Base_element_select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561680" y="4394160"/>
                  <a:ext cx="457200" cy="25560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1611720" y="4456080"/>
                  <a:ext cx="3420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Manufacturing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649880" y="4522680"/>
                  <a:ext cx="1548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feature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316600" y="4365360"/>
                  <a:ext cx="422280" cy="32076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374560" y="4424040"/>
                  <a:ext cx="2581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Geometric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2381760" y="4492440"/>
                  <a:ext cx="345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representation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363040" y="4559040"/>
                  <a:ext cx="936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1764000" y="4248720"/>
                  <a:ext cx="763560" cy="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131560" y="4106880"/>
                  <a:ext cx="720" cy="141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1764000" y="4248720"/>
                  <a:ext cx="720" cy="126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745640" y="4358160"/>
                  <a:ext cx="36360" cy="3564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2527560" y="4248720"/>
                  <a:ext cx="720" cy="943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509560" y="4325040"/>
                  <a:ext cx="36360" cy="3636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702080" y="3596400"/>
                  <a:ext cx="429480" cy="276840"/>
                </a:xfrm>
                <a:custGeom>
                  <a:avLst/>
                  <a:gdLst/>
                  <a:ahLst/>
                  <a:rect l="l" t="t" r="r" b="b"/>
                  <a:pathLst>
                    <a:path w="541" h="349">
                      <a:moveTo>
                        <a:pt x="0" y="0"/>
                      </a:moveTo>
                      <a:lnTo>
                        <a:pt x="0" y="170"/>
                      </a:lnTo>
                      <a:lnTo>
                        <a:pt x="541" y="170"/>
                      </a:lnTo>
                      <a:lnTo>
                        <a:pt x="541" y="349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113200" y="3855240"/>
                  <a:ext cx="3636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681920" y="3733560"/>
                  <a:ext cx="3895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ts_base_element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1592640" y="2590920"/>
                <a:ext cx="2023200" cy="579240"/>
                <a:chOff x="1592640" y="2590920"/>
                <a:chExt cx="2023200" cy="57924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592640" y="2590920"/>
                  <a:ext cx="327960" cy="25560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645920" y="2649600"/>
                  <a:ext cx="255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nspection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642680" y="2714760"/>
                  <a:ext cx="15012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criteria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51440" y="2970360"/>
                  <a:ext cx="266040" cy="19980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343240" y="3035160"/>
                  <a:ext cx="1209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Label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106440" y="3009960"/>
                  <a:ext cx="360360" cy="11412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28640" y="3009960"/>
                  <a:ext cx="0" cy="11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174840" y="3048120"/>
                  <a:ext cx="1911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STRING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582280" y="2590920"/>
                  <a:ext cx="338040" cy="25560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636280" y="2649600"/>
                  <a:ext cx="255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nspection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640600" y="2714760"/>
                  <a:ext cx="2674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workingstep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287880" y="2590920"/>
                  <a:ext cx="327960" cy="25560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342960" y="2649600"/>
                  <a:ext cx="255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nspection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336840" y="2714760"/>
                  <a:ext cx="1548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activity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814760" y="2846520"/>
                  <a:ext cx="571320" cy="101520"/>
                </a:xfrm>
                <a:custGeom>
                  <a:avLst/>
                  <a:gdLst/>
                  <a:ahLst/>
                  <a:rect l="l" t="t" r="r" b="b"/>
                  <a:pathLst>
                    <a:path w="720" h="128">
                      <a:moveTo>
                        <a:pt x="0" y="0"/>
                      </a:moveTo>
                      <a:lnTo>
                        <a:pt x="0" y="64"/>
                      </a:lnTo>
                      <a:lnTo>
                        <a:pt x="720" y="64"/>
                      </a:lnTo>
                      <a:lnTo>
                        <a:pt x="720" y="12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68080" y="2929680"/>
                  <a:ext cx="3636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050200" y="2813040"/>
                  <a:ext cx="1166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ts_id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520360" y="3068640"/>
                  <a:ext cx="564480" cy="720"/>
                </a:xfrm>
                <a:custGeom>
                  <a:avLst/>
                  <a:gdLst/>
                  <a:ahLst/>
                  <a:rect l="l" t="t" r="r" b="b"/>
                  <a:pathLst>
                    <a:path w="711" h="0">
                      <a:moveTo>
                        <a:pt x="0" y="0"/>
                      </a:moveTo>
                      <a:lnTo>
                        <a:pt x="353" y="0"/>
                      </a:lnTo>
                      <a:lnTo>
                        <a:pt x="353" y="0"/>
                      </a:lnTo>
                      <a:lnTo>
                        <a:pt x="71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066480" y="3050280"/>
                  <a:ext cx="36360" cy="35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760480" y="2984400"/>
                  <a:ext cx="388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d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941840" y="2714760"/>
                  <a:ext cx="640440" cy="720"/>
                </a:xfrm>
                <a:custGeom>
                  <a:avLst/>
                  <a:gdLst/>
                  <a:ahLst/>
                  <a:rect l="l" t="t" r="r" b="b"/>
                  <a:pathLst>
                    <a:path w="807" h="0">
                      <a:moveTo>
                        <a:pt x="807" y="0"/>
                      </a:moveTo>
                      <a:lnTo>
                        <a:pt x="404" y="0"/>
                      </a:lnTo>
                      <a:lnTo>
                        <a:pt x="40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052000" y="2631960"/>
                  <a:ext cx="4107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ts_criterias  S[1:?]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920680" y="2714760"/>
                  <a:ext cx="345960" cy="720"/>
                </a:xfrm>
                <a:custGeom>
                  <a:avLst/>
                  <a:gdLst/>
                  <a:ahLst/>
                  <a:rect l="l" t="t" r="r" b="b"/>
                  <a:pathLst>
                    <a:path w="436" h="0">
                      <a:moveTo>
                        <a:pt x="0" y="0"/>
                      </a:move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436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248280" y="2696400"/>
                  <a:ext cx="3636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973960" y="2612880"/>
                  <a:ext cx="23220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ts_activity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923480" y="2696400"/>
                  <a:ext cx="3636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1523880" y="2846520"/>
                <a:ext cx="1145160" cy="820800"/>
                <a:chOff x="1523880" y="2846520"/>
                <a:chExt cx="1145160" cy="82080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1702440" y="3166200"/>
                  <a:ext cx="720" cy="7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702440" y="2846520"/>
                  <a:ext cx="720" cy="3196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23880" y="3272760"/>
                  <a:ext cx="360360" cy="34668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1577880" y="3363840"/>
                  <a:ext cx="2552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nspection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584000" y="3433680"/>
                  <a:ext cx="2840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criteria_point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359440" y="3243960"/>
                  <a:ext cx="309600" cy="199800"/>
                </a:xfrm>
                <a:prstGeom prst="rect">
                  <a:avLst/>
                </a:prstGeom>
                <a:solidFill>
                  <a:srgbClr val="ffe3b9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417040" y="3276720"/>
                  <a:ext cx="24156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Cartesian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06600" y="3346560"/>
                  <a:ext cx="10728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point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908720" y="3346560"/>
                  <a:ext cx="429480" cy="720"/>
                </a:xfrm>
                <a:custGeom>
                  <a:avLst/>
                  <a:gdLst/>
                  <a:ahLst/>
                  <a:rect l="l" t="t" r="r" b="b"/>
                  <a:pathLst>
                    <a:path w="541" h="0">
                      <a:moveTo>
                        <a:pt x="0" y="0"/>
                      </a:moveTo>
                      <a:lnTo>
                        <a:pt x="270" y="0"/>
                      </a:lnTo>
                      <a:lnTo>
                        <a:pt x="270" y="0"/>
                      </a:lnTo>
                      <a:lnTo>
                        <a:pt x="54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319840" y="3328200"/>
                  <a:ext cx="3636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035800" y="3262320"/>
                  <a:ext cx="185040" cy="6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its_point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1702440" y="3165840"/>
                  <a:ext cx="720" cy="838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684080" y="3232080"/>
                  <a:ext cx="36360" cy="3636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1904760" y="3467160"/>
                  <a:ext cx="764280" cy="200160"/>
                  <a:chOff x="1904760" y="3467160"/>
                  <a:chExt cx="764280" cy="20016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2355480" y="3467160"/>
                    <a:ext cx="309600" cy="200160"/>
                  </a:xfrm>
                  <a:prstGeom prst="rect">
                    <a:avLst/>
                  </a:prstGeom>
                  <a:solidFill>
                    <a:srgbClr val="ffe3b9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17819" dir="2700000" blurRad="0" rotWithShape="0">
                      <a:srgbClr val="0099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398680" y="3500640"/>
                    <a:ext cx="2703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‘</a:t>
                    </a:r>
                    <a:r>
                      <a:rPr b="0" i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Deviation’</a:t>
                    </a:r>
                    <a:r>
                      <a:rPr b="0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endParaRPr b="0" lang="en-US" sz="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457000" y="3570480"/>
                    <a:ext cx="360" cy="6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1904760" y="3569400"/>
                    <a:ext cx="4294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1" h="0">
                        <a:moveTo>
                          <a:pt x="0" y="0"/>
                        </a:moveTo>
                        <a:lnTo>
                          <a:pt x="270" y="0"/>
                        </a:lnTo>
                        <a:lnTo>
                          <a:pt x="270" y="0"/>
                        </a:lnTo>
                        <a:lnTo>
                          <a:pt x="541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315880" y="3551400"/>
                    <a:ext cx="36360" cy="36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1986120" y="3486240"/>
                    <a:ext cx="276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its_deviation</a:t>
                    </a:r>
                    <a:endParaRPr b="0" lang="en-US" sz="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30" name=""/>
            <p:cNvSpPr/>
            <p:nvPr/>
          </p:nvSpPr>
          <p:spPr>
            <a:xfrm>
              <a:off x="3886200" y="3200400"/>
              <a:ext cx="1230480" cy="582480"/>
            </a:xfrm>
            <a:prstGeom prst="leftRightArrow">
              <a:avLst>
                <a:gd name="adj1" fmla="val 50000"/>
                <a:gd name="adj2" fmla="val 42054"/>
              </a:avLst>
            </a:prstGeom>
            <a:solidFill>
              <a:srgbClr val="ff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753320" y="3511440"/>
              <a:ext cx="252360" cy="1800"/>
            </a:xfrm>
            <a:custGeom>
              <a:avLst/>
              <a:gdLst/>
              <a:ahLst/>
              <a:rect l="l" t="t" r="r" b="b"/>
              <a:pathLst>
                <a:path w="417" h="0">
                  <a:moveTo>
                    <a:pt x="0" y="0"/>
                  </a:moveTo>
                  <a:lnTo>
                    <a:pt x="206" y="0"/>
                  </a:lnTo>
                  <a:lnTo>
                    <a:pt x="206" y="0"/>
                  </a:lnTo>
                  <a:lnTo>
                    <a:pt x="41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3080" y="349884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41800" y="3451320"/>
              <a:ext cx="2750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016840" y="3413160"/>
              <a:ext cx="335160" cy="201600"/>
            </a:xfrm>
            <a:prstGeom prst="rect">
              <a:avLst/>
            </a:prstGeom>
            <a:solidFill>
              <a:srgbClr val="ffffe3"/>
            </a:solidFill>
            <a:ln w="1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058240" y="3413160"/>
              <a:ext cx="1440" cy="201600"/>
            </a:xfrm>
            <a:prstGeom prst="line">
              <a:avLst/>
            </a:prstGeom>
            <a:ln w="1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80200" y="348768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_selec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738920" y="3144960"/>
              <a:ext cx="341280" cy="1458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40186" dir="4303641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89920" y="3233880"/>
              <a:ext cx="1159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82000" y="322272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8205840" y="3233520"/>
              <a:ext cx="0" cy="1760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60960" y="4221000"/>
              <a:ext cx="206640" cy="1936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85800" y="4238640"/>
              <a:ext cx="105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77880" y="4292640"/>
              <a:ext cx="212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gram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82920" y="4341960"/>
              <a:ext cx="7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88120" y="4316400"/>
              <a:ext cx="374760" cy="360"/>
            </a:xfrm>
            <a:custGeom>
              <a:avLst/>
              <a:gdLst/>
              <a:ahLst/>
              <a:rect l="l" t="t" r="r" b="b"/>
              <a:pathLst>
                <a:path w="619" h="0">
                  <a:moveTo>
                    <a:pt x="619" y="0"/>
                  </a:moveTo>
                  <a:lnTo>
                    <a:pt x="312" y="0"/>
                  </a:lnTo>
                  <a:lnTo>
                    <a:pt x="31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72280" y="4302000"/>
              <a:ext cx="28440" cy="28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342840" y="4254480"/>
              <a:ext cx="2840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gram_run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99000" y="4221000"/>
              <a:ext cx="300240" cy="1936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20600" y="4226040"/>
              <a:ext cx="105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15920" y="4278240"/>
              <a:ext cx="212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gram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67040" y="4419720"/>
              <a:ext cx="2750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815080" y="4316400"/>
              <a:ext cx="245880" cy="360"/>
            </a:xfrm>
            <a:custGeom>
              <a:avLst/>
              <a:gdLst/>
              <a:ahLst/>
              <a:rect l="l" t="t" r="r" b="b"/>
              <a:pathLst>
                <a:path w="404" h="0">
                  <a:moveTo>
                    <a:pt x="404" y="0"/>
                  </a:moveTo>
                  <a:lnTo>
                    <a:pt x="202" y="0"/>
                  </a:lnTo>
                  <a:lnTo>
                    <a:pt x="20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802480" y="4302000"/>
              <a:ext cx="27000" cy="28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19760" y="4254480"/>
              <a:ext cx="250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gram_id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61080" y="3649680"/>
              <a:ext cx="255600" cy="1508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78720" y="3686040"/>
              <a:ext cx="212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poin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32520" y="3724200"/>
              <a:ext cx="614520" cy="176400"/>
            </a:xfrm>
            <a:custGeom>
              <a:avLst/>
              <a:gdLst/>
              <a:ahLst/>
              <a:rect l="l" t="t" r="r" b="b"/>
              <a:pathLst>
                <a:path w="1008" h="289">
                  <a:moveTo>
                    <a:pt x="1008" y="289"/>
                  </a:moveTo>
                  <a:lnTo>
                    <a:pt x="504" y="289"/>
                  </a:lnTo>
                  <a:lnTo>
                    <a:pt x="504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18120" y="3711600"/>
              <a:ext cx="288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23520" y="3638520"/>
              <a:ext cx="621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easurement_points  S[1:?]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819920" y="412416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69280" y="3932280"/>
              <a:ext cx="222120" cy="360"/>
            </a:xfrm>
            <a:custGeom>
              <a:avLst/>
              <a:gdLst/>
              <a:ahLst/>
              <a:rect l="l" t="t" r="r" b="b"/>
              <a:pathLst>
                <a:path w="362" h="0">
                  <a:moveTo>
                    <a:pt x="0" y="0"/>
                  </a:moveTo>
                  <a:lnTo>
                    <a:pt x="178" y="0"/>
                  </a:lnTo>
                  <a:lnTo>
                    <a:pt x="178" y="0"/>
                  </a:lnTo>
                  <a:lnTo>
                    <a:pt x="36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500960" y="3409920"/>
              <a:ext cx="247680" cy="206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15360" y="3487680"/>
              <a:ext cx="25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lculated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521120" y="3538440"/>
              <a:ext cx="11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919920" y="3511440"/>
              <a:ext cx="563400" cy="1800"/>
            </a:xfrm>
            <a:custGeom>
              <a:avLst/>
              <a:gdLst/>
              <a:ahLst/>
              <a:rect l="l" t="t" r="r" b="b"/>
              <a:pathLst>
                <a:path w="926" h="0">
                  <a:moveTo>
                    <a:pt x="0" y="0"/>
                  </a:moveTo>
                  <a:lnTo>
                    <a:pt x="463" y="0"/>
                  </a:lnTo>
                  <a:lnTo>
                    <a:pt x="463" y="0"/>
                  </a:lnTo>
                  <a:lnTo>
                    <a:pt x="92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469280" y="3498840"/>
              <a:ext cx="2844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26480" y="3451320"/>
              <a:ext cx="3726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arameter_valu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878160" y="3521160"/>
              <a:ext cx="645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INV) Dmf_parameters S[1:?]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207200" y="3855960"/>
              <a:ext cx="277920" cy="152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21960" y="3881520"/>
              <a:ext cx="262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lculated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229160" y="3932280"/>
              <a:ext cx="11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38960" y="3619440"/>
              <a:ext cx="284040" cy="219240"/>
            </a:xfrm>
            <a:custGeom>
              <a:avLst/>
              <a:gdLst/>
              <a:ahLst/>
              <a:rect l="l" t="t" r="r" b="b"/>
              <a:pathLst>
                <a:path w="468" h="362">
                  <a:moveTo>
                    <a:pt x="468" y="0"/>
                  </a:moveTo>
                  <a:lnTo>
                    <a:pt x="468" y="225"/>
                  </a:lnTo>
                  <a:lnTo>
                    <a:pt x="0" y="225"/>
                  </a:lnTo>
                  <a:lnTo>
                    <a:pt x="0" y="3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24560" y="3824280"/>
              <a:ext cx="28800" cy="28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46800" y="3687840"/>
              <a:ext cx="37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lculated_valu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677000" y="3917880"/>
              <a:ext cx="288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30840" y="3870360"/>
              <a:ext cx="11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732800" y="4152960"/>
              <a:ext cx="249120" cy="92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53480" y="4152960"/>
              <a:ext cx="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736400" y="4183200"/>
              <a:ext cx="19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338960" y="4013280"/>
              <a:ext cx="493920" cy="125280"/>
            </a:xfrm>
            <a:custGeom>
              <a:avLst/>
              <a:gdLst/>
              <a:ahLst/>
              <a:rect l="l" t="t" r="r" b="b"/>
              <a:pathLst>
                <a:path w="811" h="207">
                  <a:moveTo>
                    <a:pt x="0" y="0"/>
                  </a:moveTo>
                  <a:lnTo>
                    <a:pt x="0" y="133"/>
                  </a:lnTo>
                  <a:lnTo>
                    <a:pt x="811" y="133"/>
                  </a:lnTo>
                  <a:lnTo>
                    <a:pt x="811" y="20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88640" y="4027320"/>
              <a:ext cx="427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lculation_method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05800" y="3857760"/>
              <a:ext cx="274680" cy="1537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19840" y="3882960"/>
              <a:ext cx="25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Numerical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724520" y="3933720"/>
              <a:ext cx="11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94320" y="3903840"/>
              <a:ext cx="244440" cy="1504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17720" y="3919680"/>
              <a:ext cx="105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78120" y="3970440"/>
              <a:ext cx="26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workingstep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34000" y="4057560"/>
              <a:ext cx="360" cy="147600"/>
            </a:xfrm>
            <a:custGeom>
              <a:avLst/>
              <a:gdLst/>
              <a:ahLst/>
              <a:rect l="l" t="t" r="r" b="b"/>
              <a:pathLst>
                <a:path w="0" h="244">
                  <a:moveTo>
                    <a:pt x="0" y="0"/>
                  </a:moveTo>
                  <a:lnTo>
                    <a:pt x="0" y="120"/>
                  </a:lnTo>
                  <a:lnTo>
                    <a:pt x="0" y="120"/>
                  </a:lnTo>
                  <a:lnTo>
                    <a:pt x="0" y="24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619600" y="4191120"/>
              <a:ext cx="28800" cy="28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637240" y="4105440"/>
              <a:ext cx="250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rogram_id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40560" y="3978360"/>
              <a:ext cx="892080" cy="1440"/>
            </a:xfrm>
            <a:custGeom>
              <a:avLst/>
              <a:gdLst/>
              <a:ahLst/>
              <a:rect l="l" t="t" r="r" b="b"/>
              <a:pathLst>
                <a:path w="1421" h="0">
                  <a:moveTo>
                    <a:pt x="0" y="0"/>
                  </a:moveTo>
                  <a:lnTo>
                    <a:pt x="706" y="0"/>
                  </a:lnTo>
                  <a:lnTo>
                    <a:pt x="706" y="0"/>
                  </a:lnTo>
                  <a:lnTo>
                    <a:pt x="142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618240" y="3965400"/>
              <a:ext cx="288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681880" y="3917880"/>
              <a:ext cx="982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exectuion_result_measurements  S[1:?]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43600" y="3989520"/>
              <a:ext cx="476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INV) workstep S[0:1]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3417840"/>
              <a:ext cx="274680" cy="1922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65760" y="3436920"/>
              <a:ext cx="11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f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55680" y="348768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imension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57480" y="3538440"/>
              <a:ext cx="226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780240" y="3289320"/>
              <a:ext cx="1440" cy="114120"/>
            </a:xfrm>
            <a:custGeom>
              <a:avLst/>
              <a:gdLst/>
              <a:ahLst/>
              <a:rect l="l" t="t" r="r" b="b"/>
              <a:pathLst>
                <a:path w="0" h="188">
                  <a:moveTo>
                    <a:pt x="0" y="0"/>
                  </a:moveTo>
                  <a:lnTo>
                    <a:pt x="0" y="92"/>
                  </a:lnTo>
                  <a:lnTo>
                    <a:pt x="0" y="92"/>
                  </a:lnTo>
                  <a:lnTo>
                    <a:pt x="0" y="18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67640" y="338940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791400" y="3322800"/>
              <a:ext cx="410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{parameter_name}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47040" y="3822840"/>
              <a:ext cx="312480" cy="242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71880" y="3840120"/>
              <a:ext cx="105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60720" y="3892680"/>
              <a:ext cx="241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xecution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4680" y="3941640"/>
              <a:ext cx="15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esult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57840" y="3992400"/>
              <a:ext cx="27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easurmen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80240" y="3625920"/>
              <a:ext cx="1440" cy="196920"/>
            </a:xfrm>
            <a:custGeom>
              <a:avLst/>
              <a:gdLst/>
              <a:ahLst/>
              <a:rect l="l" t="t" r="r" b="b"/>
              <a:pathLst>
                <a:path w="0" h="322">
                  <a:moveTo>
                    <a:pt x="0" y="322"/>
                  </a:move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67640" y="3613320"/>
              <a:ext cx="27000" cy="26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82760" y="3693960"/>
              <a:ext cx="226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662880" y="4221000"/>
              <a:ext cx="268200" cy="1936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689160" y="4238640"/>
              <a:ext cx="1058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678360" y="4292640"/>
              <a:ext cx="2415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xecution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83040" y="4341960"/>
              <a:ext cx="122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80240" y="4081320"/>
              <a:ext cx="1440" cy="139680"/>
            </a:xfrm>
            <a:custGeom>
              <a:avLst/>
              <a:gdLst/>
              <a:ahLst/>
              <a:rect l="l" t="t" r="r" b="b"/>
              <a:pathLst>
                <a:path w="0" h="229">
                  <a:moveTo>
                    <a:pt x="0" y="229"/>
                  </a:moveTo>
                  <a:lnTo>
                    <a:pt x="0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67640" y="406728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214320" y="4081320"/>
              <a:ext cx="592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m_measurements  S[1:?]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54280" y="4138560"/>
              <a:ext cx="494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INV) execution_resul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551640" y="3132000"/>
              <a:ext cx="455760" cy="1540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63880" y="3157560"/>
              <a:ext cx="300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imensional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50920" y="3208320"/>
              <a:ext cx="4852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easurement_featur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6780240" y="3057120"/>
              <a:ext cx="1440" cy="58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67640" y="3102120"/>
              <a:ext cx="27000" cy="27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80240" y="2909880"/>
              <a:ext cx="0" cy="174600"/>
            </a:xfrm>
            <a:prstGeom prst="line">
              <a:avLst/>
            </a:prstGeom>
            <a:ln w="2232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77000" y="2911320"/>
              <a:ext cx="662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059680" y="2590920"/>
              <a:ext cx="200160" cy="150840"/>
            </a:xfrm>
            <a:prstGeom prst="rect">
              <a:avLst/>
            </a:prstGeom>
            <a:solidFill>
              <a:srgbClr val="e7f6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78760" y="261612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hape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18280" y="2738520"/>
              <a:ext cx="220680" cy="1440"/>
            </a:xfrm>
            <a:custGeom>
              <a:avLst/>
              <a:gdLst/>
              <a:ahLst/>
              <a:rect l="l" t="t" r="r" b="b"/>
              <a:pathLst>
                <a:path w="362" h="0">
                  <a:moveTo>
                    <a:pt x="0" y="0"/>
                  </a:moveTo>
                  <a:lnTo>
                    <a:pt x="178" y="0"/>
                  </a:lnTo>
                  <a:lnTo>
                    <a:pt x="178" y="0"/>
                  </a:lnTo>
                  <a:lnTo>
                    <a:pt x="36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54760" y="2690640"/>
              <a:ext cx="249480" cy="907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75440" y="2690640"/>
              <a:ext cx="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56920" y="2720880"/>
              <a:ext cx="19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08920" y="2725560"/>
              <a:ext cx="2844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340760" y="2664000"/>
              <a:ext cx="199800" cy="1504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1280" y="2689200"/>
              <a:ext cx="171360" cy="12204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eatur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561440" y="2708280"/>
              <a:ext cx="495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50280" y="2693880"/>
              <a:ext cx="28440" cy="288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439040" y="2814480"/>
              <a:ext cx="0" cy="9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17520" y="343692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arameter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358040" y="2970360"/>
              <a:ext cx="291960" cy="1508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63440" y="3024360"/>
              <a:ext cx="24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Tolerance’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7504200" y="3233880"/>
              <a:ext cx="2347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7504200" y="3144600"/>
              <a:ext cx="0" cy="889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489800" y="3133800"/>
              <a:ext cx="28440" cy="28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369560" y="3267000"/>
              <a:ext cx="3848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743960" y="3174840"/>
              <a:ext cx="33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Machining_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" spc="-1" strike="noStrike">
                  <a:solidFill>
                    <a:srgbClr val="000000"/>
                  </a:solidFill>
                  <a:latin typeface="Arial"/>
                </a:rPr>
                <a:t>feature_param’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692320" y="3700440"/>
              <a:ext cx="586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518080" y="3262320"/>
              <a:ext cx="254160" cy="152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1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31760" y="3298680"/>
              <a:ext cx="21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rtesian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5634000" y="3730680"/>
              <a:ext cx="11736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5634000" y="3438360"/>
              <a:ext cx="0" cy="292320"/>
            </a:xfrm>
            <a:prstGeom prst="line">
              <a:avLst/>
            </a:prstGeom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5692680" y="3438360"/>
              <a:ext cx="0" cy="262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78640" y="3419640"/>
              <a:ext cx="27000" cy="28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621400" y="341784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12240" y="3524400"/>
              <a:ext cx="20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xpected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724720" y="352440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easured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_point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8118360" y="2736720"/>
              <a:ext cx="0" cy="2923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649640" y="3029040"/>
              <a:ext cx="4683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650000" y="2971800"/>
              <a:ext cx="291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1080" y="2736720"/>
              <a:ext cx="28440" cy="28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8205840" y="2736360"/>
              <a:ext cx="0" cy="497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190000" y="2736720"/>
              <a:ext cx="28440" cy="28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72640" y="2678040"/>
              <a:ext cx="10440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8059680" y="2590920"/>
              <a:ext cx="200160" cy="151560"/>
              <a:chOff x="8059680" y="2590920"/>
              <a:chExt cx="200160" cy="151560"/>
            </a:xfrm>
          </p:grpSpPr>
          <p:sp>
            <p:nvSpPr>
              <p:cNvPr id="1363" name=""/>
              <p:cNvSpPr/>
              <p:nvPr/>
            </p:nvSpPr>
            <p:spPr>
              <a:xfrm>
                <a:off x="8059680" y="2590920"/>
                <a:ext cx="200160" cy="15084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8075880" y="2620440"/>
                <a:ext cx="176040" cy="122040"/>
              </a:xfrm>
              <a:prstGeom prst="rect">
                <a:avLst/>
              </a:prstGeom>
              <a:solidFill>
                <a:srgbClr val="fff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anufacturing harmonization:  </a:t>
            </a: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ARM integra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110280" y="351936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744120" y="184680"/>
            <a:ext cx="8493840" cy="7022520"/>
            <a:chOff x="744120" y="184680"/>
            <a:chExt cx="8493840" cy="7022520"/>
          </a:xfrm>
        </p:grpSpPr>
        <p:sp>
          <p:nvSpPr>
            <p:cNvPr id="1368" name=""/>
            <p:cNvSpPr/>
            <p:nvPr/>
          </p:nvSpPr>
          <p:spPr>
            <a:xfrm flipH="1" rot="1674000">
              <a:off x="1218600" y="1371600"/>
              <a:ext cx="5943600" cy="3505680"/>
            </a:xfrm>
            <a:prstGeom prst="ellipse">
              <a:avLst/>
            </a:prstGeom>
            <a:solidFill>
              <a:srgbClr val="ffff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19926000">
              <a:off x="1219320" y="2438280"/>
              <a:ext cx="5943600" cy="3505320"/>
            </a:xfrm>
            <a:prstGeom prst="ellipse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rot="1674000">
              <a:off x="2818800" y="2514600"/>
              <a:ext cx="5943600" cy="3505680"/>
            </a:xfrm>
            <a:prstGeom prst="ellipse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19926000">
              <a:off x="2819520" y="1371600"/>
              <a:ext cx="5943600" cy="3505320"/>
            </a:xfrm>
            <a:prstGeom prst="ellipse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19926000">
              <a:off x="1219320" y="2438280"/>
              <a:ext cx="5943600" cy="350532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3354840" y="2666880"/>
              <a:ext cx="2950560" cy="1824120"/>
              <a:chOff x="3354840" y="2666880"/>
              <a:chExt cx="2950560" cy="1824120"/>
            </a:xfrm>
          </p:grpSpPr>
          <p:sp>
            <p:nvSpPr>
              <p:cNvPr id="1374" name=""/>
              <p:cNvSpPr/>
              <p:nvPr/>
            </p:nvSpPr>
            <p:spPr>
              <a:xfrm>
                <a:off x="5695920" y="3587760"/>
                <a:ext cx="252360" cy="1440"/>
              </a:xfrm>
              <a:custGeom>
                <a:avLst/>
                <a:gdLst/>
                <a:ahLst/>
                <a:rect l="l" t="t" r="r" b="b"/>
                <a:pathLst>
                  <a:path w="417" h="0">
                    <a:moveTo>
                      <a:pt x="0" y="0"/>
                    </a:moveTo>
                    <a:lnTo>
                      <a:pt x="206" y="0"/>
                    </a:lnTo>
                    <a:lnTo>
                      <a:pt x="206" y="0"/>
                    </a:lnTo>
                    <a:lnTo>
                      <a:pt x="41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935680" y="35751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684400" y="3527280"/>
                <a:ext cx="2750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cification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59440" y="3489480"/>
                <a:ext cx="335160" cy="201600"/>
              </a:xfrm>
              <a:prstGeom prst="rect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000840" y="3489480"/>
                <a:ext cx="1440" cy="20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022800" y="3564000"/>
                <a:ext cx="282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pecification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_selec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81520" y="3220920"/>
                <a:ext cx="341280" cy="146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40186" dir="4303641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032520" y="3309840"/>
                <a:ext cx="11592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024600" y="329868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6148440" y="3309840"/>
                <a:ext cx="0" cy="1764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003560" y="4297320"/>
                <a:ext cx="206640" cy="193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028400" y="4314960"/>
                <a:ext cx="105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020480" y="4368960"/>
                <a:ext cx="212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rogram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025520" y="4417920"/>
                <a:ext cx="7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un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30720" y="4392720"/>
                <a:ext cx="374760" cy="360"/>
              </a:xfrm>
              <a:custGeom>
                <a:avLst/>
                <a:gdLst/>
                <a:ahLst/>
                <a:rect l="l" t="t" r="r" b="b"/>
                <a:pathLst>
                  <a:path w="619" h="0">
                    <a:moveTo>
                      <a:pt x="619" y="0"/>
                    </a:moveTo>
                    <a:lnTo>
                      <a:pt x="312" y="0"/>
                    </a:lnTo>
                    <a:lnTo>
                      <a:pt x="312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14880" y="4378320"/>
                <a:ext cx="28440" cy="28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85440" y="4330800"/>
                <a:ext cx="2840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rogram_run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441600" y="4297320"/>
                <a:ext cx="300240" cy="193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463200" y="4302000"/>
                <a:ext cx="105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58520" y="4354560"/>
                <a:ext cx="212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rogram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454200" y="4406760"/>
                <a:ext cx="2750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dentification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757680" y="4392720"/>
                <a:ext cx="245880" cy="360"/>
              </a:xfrm>
              <a:custGeom>
                <a:avLst/>
                <a:gdLst/>
                <a:ahLst/>
                <a:rect l="l" t="t" r="r" b="b"/>
                <a:pathLst>
                  <a:path w="404" h="0">
                    <a:moveTo>
                      <a:pt x="404" y="0"/>
                    </a:moveTo>
                    <a:lnTo>
                      <a:pt x="202" y="0"/>
                    </a:lnTo>
                    <a:lnTo>
                      <a:pt x="202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745080" y="4378320"/>
                <a:ext cx="27000" cy="28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762360" y="4330800"/>
                <a:ext cx="2505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rogram_id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703680" y="3726000"/>
                <a:ext cx="2556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721320" y="3762360"/>
                <a:ext cx="2124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poin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975120" y="3800520"/>
                <a:ext cx="614520" cy="176040"/>
              </a:xfrm>
              <a:custGeom>
                <a:avLst/>
                <a:gdLst/>
                <a:ahLst/>
                <a:rect l="l" t="t" r="r" b="b"/>
                <a:pathLst>
                  <a:path w="1008" h="289">
                    <a:moveTo>
                      <a:pt x="1008" y="289"/>
                    </a:moveTo>
                    <a:lnTo>
                      <a:pt x="504" y="289"/>
                    </a:lnTo>
                    <a:lnTo>
                      <a:pt x="504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960720" y="378792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966120" y="3714840"/>
                <a:ext cx="621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easurement_points  S[1:?]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762520" y="42004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411880" y="4008600"/>
                <a:ext cx="222120" cy="360"/>
              </a:xfrm>
              <a:custGeom>
                <a:avLst/>
                <a:gdLst/>
                <a:ahLst/>
                <a:rect l="l" t="t" r="r" b="b"/>
                <a:pathLst>
                  <a:path w="362" h="0">
                    <a:moveTo>
                      <a:pt x="0" y="0"/>
                    </a:moveTo>
                    <a:lnTo>
                      <a:pt x="178" y="0"/>
                    </a:lnTo>
                    <a:lnTo>
                      <a:pt x="178" y="0"/>
                    </a:lnTo>
                    <a:lnTo>
                      <a:pt x="362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443560" y="3486240"/>
                <a:ext cx="247680" cy="206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457960" y="3564000"/>
                <a:ext cx="25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alculated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463720" y="3614760"/>
                <a:ext cx="11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862520" y="3587760"/>
                <a:ext cx="563400" cy="1440"/>
              </a:xfrm>
              <a:custGeom>
                <a:avLst/>
                <a:gdLst/>
                <a:ahLst/>
                <a:rect l="l" t="t" r="r" b="b"/>
                <a:pathLst>
                  <a:path w="926" h="0">
                    <a:moveTo>
                      <a:pt x="0" y="0"/>
                    </a:moveTo>
                    <a:lnTo>
                      <a:pt x="463" y="0"/>
                    </a:lnTo>
                    <a:lnTo>
                      <a:pt x="463" y="0"/>
                    </a:lnTo>
                    <a:lnTo>
                      <a:pt x="92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411880" y="357516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69080" y="3527280"/>
                <a:ext cx="3726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rameter_valu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820760" y="3597120"/>
                <a:ext cx="6454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INV) Dmf_parameters S[1:?]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149800" y="3932280"/>
                <a:ext cx="27792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164560" y="3957480"/>
                <a:ext cx="2628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alculated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171760" y="4008600"/>
                <a:ext cx="11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81560" y="3695760"/>
                <a:ext cx="284040" cy="218880"/>
              </a:xfrm>
              <a:custGeom>
                <a:avLst/>
                <a:gdLst/>
                <a:ahLst/>
                <a:rect l="l" t="t" r="r" b="b"/>
                <a:pathLst>
                  <a:path w="468" h="362">
                    <a:moveTo>
                      <a:pt x="468" y="0"/>
                    </a:moveTo>
                    <a:lnTo>
                      <a:pt x="468" y="225"/>
                    </a:lnTo>
                    <a:lnTo>
                      <a:pt x="0" y="225"/>
                    </a:lnTo>
                    <a:lnTo>
                      <a:pt x="0" y="36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67160" y="3900600"/>
                <a:ext cx="28800" cy="28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89400" y="3763800"/>
                <a:ext cx="371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alculated_valu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619600" y="399420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473440" y="3946680"/>
                <a:ext cx="11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5400" y="4229280"/>
                <a:ext cx="249120" cy="91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96080" y="4229280"/>
                <a:ext cx="0" cy="9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679000" y="4259160"/>
                <a:ext cx="191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281560" y="4089240"/>
                <a:ext cx="493920" cy="125640"/>
              </a:xfrm>
              <a:custGeom>
                <a:avLst/>
                <a:gdLst/>
                <a:ahLst/>
                <a:rect l="l" t="t" r="r" b="b"/>
                <a:pathLst>
                  <a:path w="811" h="207">
                    <a:moveTo>
                      <a:pt x="0" y="0"/>
                    </a:moveTo>
                    <a:lnTo>
                      <a:pt x="0" y="133"/>
                    </a:lnTo>
                    <a:lnTo>
                      <a:pt x="811" y="133"/>
                    </a:lnTo>
                    <a:lnTo>
                      <a:pt x="811" y="20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331240" y="4103640"/>
                <a:ext cx="4273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alculation_method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648400" y="3933720"/>
                <a:ext cx="27468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662440" y="3959280"/>
                <a:ext cx="252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Numerical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667120" y="4010040"/>
                <a:ext cx="11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36920" y="3979800"/>
                <a:ext cx="24444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60320" y="3995640"/>
                <a:ext cx="105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20720" y="4046400"/>
                <a:ext cx="2674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orkingstep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76600" y="4133880"/>
                <a:ext cx="360" cy="147600"/>
              </a:xfrm>
              <a:custGeom>
                <a:avLst/>
                <a:gdLst/>
                <a:ahLst/>
                <a:rect l="l" t="t" r="r" b="b"/>
                <a:pathLst>
                  <a:path w="0" h="244">
                    <a:moveTo>
                      <a:pt x="0" y="0"/>
                    </a:moveTo>
                    <a:lnTo>
                      <a:pt x="0" y="120"/>
                    </a:lnTo>
                    <a:lnTo>
                      <a:pt x="0" y="120"/>
                    </a:lnTo>
                    <a:lnTo>
                      <a:pt x="0" y="24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562200" y="4267080"/>
                <a:ext cx="2880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79840" y="4181400"/>
                <a:ext cx="2505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rogram_id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683160" y="4054320"/>
                <a:ext cx="892080" cy="1800"/>
              </a:xfrm>
              <a:custGeom>
                <a:avLst/>
                <a:gdLst/>
                <a:ahLst/>
                <a:rect l="l" t="t" r="r" b="b"/>
                <a:pathLst>
                  <a:path w="1421" h="0">
                    <a:moveTo>
                      <a:pt x="0" y="0"/>
                    </a:moveTo>
                    <a:lnTo>
                      <a:pt x="706" y="0"/>
                    </a:lnTo>
                    <a:lnTo>
                      <a:pt x="706" y="0"/>
                    </a:lnTo>
                    <a:lnTo>
                      <a:pt x="142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560840" y="4041720"/>
                <a:ext cx="288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624480" y="3994200"/>
                <a:ext cx="982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exectuion_result_measurements  S[1:?]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886200" y="4065480"/>
                <a:ext cx="4762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INV) workstep S[0:1]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584600" y="3494160"/>
                <a:ext cx="274680" cy="191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08360" y="3513240"/>
                <a:ext cx="1195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f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598280" y="3564000"/>
                <a:ext cx="2538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imension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600080" y="3614760"/>
                <a:ext cx="226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722840" y="3365640"/>
                <a:ext cx="1440" cy="114120"/>
              </a:xfrm>
              <a:custGeom>
                <a:avLst/>
                <a:gdLst/>
                <a:ahLst/>
                <a:rect l="l" t="t" r="r" b="b"/>
                <a:pathLst>
                  <a:path w="0" h="188">
                    <a:moveTo>
                      <a:pt x="0" y="0"/>
                    </a:moveTo>
                    <a:lnTo>
                      <a:pt x="0" y="92"/>
                    </a:lnTo>
                    <a:lnTo>
                      <a:pt x="0" y="92"/>
                    </a:lnTo>
                    <a:lnTo>
                      <a:pt x="0" y="18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710240" y="346536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734000" y="3398760"/>
                <a:ext cx="410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</a:rPr>
                  <a:t>{parameter_name}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589640" y="3898800"/>
                <a:ext cx="312480" cy="243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614480" y="3916440"/>
                <a:ext cx="105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03320" y="3968640"/>
                <a:ext cx="2415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xecution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07280" y="4017960"/>
                <a:ext cx="1501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esult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00440" y="4068720"/>
                <a:ext cx="2764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easurmen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722840" y="3701880"/>
                <a:ext cx="1440" cy="196920"/>
              </a:xfrm>
              <a:custGeom>
                <a:avLst/>
                <a:gdLst/>
                <a:ahLst/>
                <a:rect l="l" t="t" r="r" b="b"/>
                <a:pathLst>
                  <a:path w="0" h="322">
                    <a:moveTo>
                      <a:pt x="0" y="322"/>
                    </a:moveTo>
                    <a:lnTo>
                      <a:pt x="0" y="16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710240" y="36892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25360" y="3770280"/>
                <a:ext cx="226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05480" y="4297320"/>
                <a:ext cx="268200" cy="193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631760" y="4314960"/>
                <a:ext cx="105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620960" y="4368960"/>
                <a:ext cx="2415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xecution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625640" y="4417920"/>
                <a:ext cx="122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esul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722840" y="415764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0" h="229">
                    <a:moveTo>
                      <a:pt x="0" y="229"/>
                    </a:moveTo>
                    <a:lnTo>
                      <a:pt x="0" y="114"/>
                    </a:lnTo>
                    <a:lnTo>
                      <a:pt x="0" y="114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710240" y="414324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156920" y="4157640"/>
                <a:ext cx="592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m_measurements  S[1:?]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196880" y="4214880"/>
                <a:ext cx="494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INV) execution_resul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494240" y="3208320"/>
                <a:ext cx="4557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506480" y="3233880"/>
                <a:ext cx="3009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imensional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493520" y="3284640"/>
                <a:ext cx="4852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easurement_featur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4722840" y="3133440"/>
                <a:ext cx="1440" cy="58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710240" y="317808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722840" y="2986200"/>
                <a:ext cx="0" cy="174600"/>
              </a:xfrm>
              <a:prstGeom prst="line">
                <a:avLst/>
              </a:prstGeom>
              <a:ln w="2232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19600" y="2987640"/>
                <a:ext cx="662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002280" y="2666880"/>
                <a:ext cx="200160" cy="150840"/>
              </a:xfrm>
              <a:prstGeom prst="rect">
                <a:avLst/>
              </a:prstGeom>
              <a:solidFill>
                <a:srgbClr val="e7f6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021360" y="2692440"/>
                <a:ext cx="17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060880" y="2814480"/>
                <a:ext cx="220680" cy="1800"/>
              </a:xfrm>
              <a:custGeom>
                <a:avLst/>
                <a:gdLst/>
                <a:ahLst/>
                <a:rect l="l" t="t" r="r" b="b"/>
                <a:pathLst>
                  <a:path w="362" h="0">
                    <a:moveTo>
                      <a:pt x="0" y="0"/>
                    </a:moveTo>
                    <a:lnTo>
                      <a:pt x="178" y="0"/>
                    </a:lnTo>
                    <a:lnTo>
                      <a:pt x="178" y="0"/>
                    </a:lnTo>
                    <a:lnTo>
                      <a:pt x="362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97360" y="2766960"/>
                <a:ext cx="249480" cy="9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018040" y="2766960"/>
                <a:ext cx="0" cy="8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99520" y="2797200"/>
                <a:ext cx="191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051520" y="280188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283360" y="2739960"/>
                <a:ext cx="199800" cy="15084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303880" y="2765520"/>
                <a:ext cx="171360" cy="12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504040" y="2784600"/>
                <a:ext cx="495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492880" y="2770200"/>
                <a:ext cx="28440" cy="284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381640" y="2890800"/>
                <a:ext cx="0" cy="98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460120" y="3513240"/>
                <a:ext cx="25992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rameter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300640" y="3046320"/>
                <a:ext cx="2919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306040" y="3100320"/>
                <a:ext cx="243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</a:rPr>
                  <a:t>Tolerance’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5446800" y="3309840"/>
                <a:ext cx="23472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5446800" y="3220560"/>
                <a:ext cx="0" cy="889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432400" y="3209760"/>
                <a:ext cx="2844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312160" y="3343320"/>
                <a:ext cx="3848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olerance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686560" y="3251160"/>
                <a:ext cx="333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</a:rPr>
                  <a:t>Machining_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" spc="-1" strike="noStrike">
                    <a:solidFill>
                      <a:srgbClr val="000000"/>
                    </a:solidFill>
                    <a:latin typeface="Arial"/>
                  </a:rPr>
                  <a:t>feature_param’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3634920" y="3776760"/>
                <a:ext cx="586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460680" y="3338640"/>
                <a:ext cx="2541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1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474360" y="3375000"/>
                <a:ext cx="21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artesian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_poin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3576600" y="3807000"/>
                <a:ext cx="1173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3576600" y="3514680"/>
                <a:ext cx="0" cy="29232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3635280" y="3514680"/>
                <a:ext cx="0" cy="26208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621240" y="3495600"/>
                <a:ext cx="2700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564000" y="3494160"/>
                <a:ext cx="27000" cy="27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354840" y="3600360"/>
                <a:ext cx="20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_poin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667320" y="3600360"/>
                <a:ext cx="22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easured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_point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6060960" y="2812680"/>
                <a:ext cx="0" cy="29196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5592240" y="3105000"/>
                <a:ext cx="46836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592600" y="3048120"/>
                <a:ext cx="2919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is_applied_to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043680" y="2813040"/>
                <a:ext cx="28440" cy="28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6148440" y="2813040"/>
                <a:ext cx="0" cy="49680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132600" y="2813040"/>
                <a:ext cx="28440" cy="28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115240" y="2754360"/>
                <a:ext cx="10440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505" name=""/>
              <p:cNvGrpSpPr/>
              <p:nvPr/>
            </p:nvGrpSpPr>
            <p:grpSpPr>
              <a:xfrm>
                <a:off x="6002280" y="2666880"/>
                <a:ext cx="200160" cy="151560"/>
                <a:chOff x="6002280" y="2666880"/>
                <a:chExt cx="200160" cy="151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6002280" y="2666880"/>
                  <a:ext cx="200160" cy="150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0099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018480" y="2696400"/>
                  <a:ext cx="176040" cy="12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Shape_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element</a:t>
                  </a:r>
                  <a:endParaRPr b="0" lang="en-US" sz="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8" name=""/>
            <p:cNvSpPr/>
            <p:nvPr/>
          </p:nvSpPr>
          <p:spPr>
            <a:xfrm rot="19926000">
              <a:off x="2819520" y="1371600"/>
              <a:ext cx="5943600" cy="350532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74000">
              <a:off x="1218600" y="1371600"/>
              <a:ext cx="5943600" cy="350568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rot="1674000">
              <a:off x="2818800" y="2514600"/>
              <a:ext cx="5943600" cy="350568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135160" y="167652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AP224 AR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78560" y="167652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AP219 AR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58840" y="518148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AP240 AR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402240" y="518148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AP238 AR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523880" y="2057400"/>
            <a:ext cx="5028840" cy="3886200"/>
            <a:chOff x="1523880" y="2057400"/>
            <a:chExt cx="5028840" cy="3886200"/>
          </a:xfrm>
        </p:grpSpPr>
        <p:sp>
          <p:nvSpPr>
            <p:cNvPr id="93" name=""/>
            <p:cNvSpPr/>
            <p:nvPr/>
          </p:nvSpPr>
          <p:spPr>
            <a:xfrm>
              <a:off x="1523880" y="2819520"/>
              <a:ext cx="5028840" cy="761760"/>
            </a:xfrm>
            <a:prstGeom prst="rect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3880" y="5181480"/>
              <a:ext cx="5028840" cy="762120"/>
            </a:xfrm>
            <a:prstGeom prst="rect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2057400"/>
              <a:ext cx="5028840" cy="762120"/>
            </a:xfrm>
            <a:prstGeom prst="rect">
              <a:avLst/>
            </a:prstGeom>
            <a:solidFill>
              <a:srgbClr val="f1f1f1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219 activitie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WI applic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allot closed 20 Jun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IAG-DML harmoniz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reliminary mapping complet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 224 harmoniz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harmonization complete; test part instance data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equirements document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IST draft to include DML harmonization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equirements mapping to IR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orking draft for October review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EP NC harmoniza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ome preliminary requirements identified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armonizatio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78240" y="1230480"/>
            <a:ext cx="71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.  Harmonization through mapping between requirement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666880" y="1828800"/>
            <a:ext cx="4497120" cy="1812600"/>
            <a:chOff x="2666880" y="1828800"/>
            <a:chExt cx="4497120" cy="1812600"/>
          </a:xfrm>
        </p:grpSpPr>
        <p:sp>
          <p:nvSpPr>
            <p:cNvPr id="101" name=""/>
            <p:cNvSpPr/>
            <p:nvPr/>
          </p:nvSpPr>
          <p:spPr>
            <a:xfrm>
              <a:off x="2666880" y="1828800"/>
              <a:ext cx="1230480" cy="841680"/>
            </a:xfrm>
            <a:prstGeom prst="ellipse">
              <a:avLst/>
            </a:prstGeom>
            <a:solidFill>
              <a:srgbClr val="d7ffc9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M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22240" y="2022840"/>
              <a:ext cx="1841760" cy="1259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P 219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160" y="1958400"/>
              <a:ext cx="1230480" cy="582480"/>
            </a:xfrm>
            <a:prstGeom prst="leftRightArrow">
              <a:avLst>
                <a:gd name="adj1" fmla="val 50000"/>
                <a:gd name="adj2" fmla="val 42054"/>
              </a:avLst>
            </a:prstGeom>
            <a:solidFill>
              <a:srgbClr val="ff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1680" y="2799720"/>
              <a:ext cx="1230120" cy="841680"/>
            </a:xfrm>
            <a:prstGeom prst="ellipse">
              <a:avLst/>
            </a:prstGeom>
            <a:solidFill>
              <a:srgbClr val="ffc3c3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IA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M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26960" y="2864520"/>
              <a:ext cx="1165680" cy="582480"/>
            </a:xfrm>
            <a:prstGeom prst="leftRightArrow">
              <a:avLst>
                <a:gd name="adj1" fmla="val 50000"/>
                <a:gd name="adj2" fmla="val 39839"/>
              </a:avLst>
            </a:prstGeom>
            <a:solidFill>
              <a:srgbClr val="ff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18840" y="3809880"/>
            <a:ext cx="58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I.  Harmonization through integration of AR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124080" y="4572000"/>
            <a:ext cx="3213360" cy="1260360"/>
            <a:chOff x="3124080" y="4572000"/>
            <a:chExt cx="3213360" cy="1260360"/>
          </a:xfrm>
        </p:grpSpPr>
        <p:sp>
          <p:nvSpPr>
            <p:cNvPr id="108" name=""/>
            <p:cNvSpPr/>
            <p:nvPr/>
          </p:nvSpPr>
          <p:spPr>
            <a:xfrm>
              <a:off x="3124080" y="4572000"/>
              <a:ext cx="1841760" cy="1260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95680" y="4572000"/>
              <a:ext cx="1841760" cy="12603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P 219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4572000"/>
              <a:ext cx="1841760" cy="126036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P 22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armonizatio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78960" y="1230480"/>
            <a:ext cx="57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II.  Harmonization through integration of AIM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66880" y="1828800"/>
            <a:ext cx="5105520" cy="1812960"/>
            <a:chOff x="2666880" y="1828800"/>
            <a:chExt cx="5105520" cy="1812960"/>
          </a:xfrm>
        </p:grpSpPr>
        <p:sp>
          <p:nvSpPr>
            <p:cNvPr id="114" name=""/>
            <p:cNvSpPr/>
            <p:nvPr/>
          </p:nvSpPr>
          <p:spPr>
            <a:xfrm>
              <a:off x="2666880" y="1828800"/>
              <a:ext cx="1230480" cy="841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P22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2520" y="1959120"/>
              <a:ext cx="1371600" cy="582480"/>
            </a:xfrm>
            <a:prstGeom prst="leftRightArrow">
              <a:avLst>
                <a:gd name="adj1" fmla="val 50000"/>
                <a:gd name="adj2" fmla="val 46877"/>
              </a:avLst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IR 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32040" y="2800440"/>
              <a:ext cx="1230480" cy="841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P 214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27320" y="2865600"/>
              <a:ext cx="1306800" cy="582480"/>
            </a:xfrm>
            <a:prstGeom prst="leftRightArrow">
              <a:avLst>
                <a:gd name="adj1" fmla="val 50000"/>
                <a:gd name="adj2" fmla="val 44662"/>
              </a:avLst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IR 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410080" y="2209680"/>
              <a:ext cx="2362320" cy="838440"/>
              <a:chOff x="5410080" y="2209680"/>
              <a:chExt cx="2362320" cy="838440"/>
            </a:xfrm>
          </p:grpSpPr>
          <p:sp>
            <p:nvSpPr>
              <p:cNvPr id="119" name=""/>
              <p:cNvSpPr/>
              <p:nvPr/>
            </p:nvSpPr>
            <p:spPr>
              <a:xfrm>
                <a:off x="5410080" y="2209680"/>
                <a:ext cx="1353960" cy="838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18440" y="2209680"/>
                <a:ext cx="1353960" cy="8384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99"/>
                    </a:solidFill>
                    <a:latin typeface="Arial"/>
                  </a:rPr>
                  <a:t>AP 214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99"/>
                    </a:solidFill>
                    <a:latin typeface="Arial"/>
                  </a:rPr>
                  <a:t>A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10080" y="2209680"/>
                <a:ext cx="1353960" cy="838440"/>
              </a:xfrm>
              <a:prstGeom prst="ellipse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99"/>
                    </a:solidFill>
                    <a:latin typeface="Arial"/>
                  </a:rPr>
                  <a:t>AP 224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99"/>
                    </a:solidFill>
                    <a:latin typeface="Arial"/>
                  </a:rPr>
                  <a:t>A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flipH="1" flipV="1">
              <a:off x="6552720" y="2666520"/>
              <a:ext cx="228600" cy="762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3120" y="327672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AIC519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51200" y="4064040"/>
            <a:ext cx="428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tegration at level of AIC 519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vides for interoperabilit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5600" y="490212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99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tential integration based on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mmon semantic representation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vides the possibility of interop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IAG-DML harmonizatio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2392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mple mapping (naming), additional requirement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mensional measurement featur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mple mapping (naming), additional requirement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mension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mple mapping (naming), complex mapping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Geometric toleranc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mple mapping (naming), complex mapping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L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Par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65520" y="1814400"/>
            <a:ext cx="4620960" cy="4181760"/>
            <a:chOff x="2765520" y="1814400"/>
            <a:chExt cx="4620960" cy="4181760"/>
          </a:xfrm>
        </p:grpSpPr>
        <p:sp>
          <p:nvSpPr>
            <p:cNvPr id="130" name=""/>
            <p:cNvSpPr/>
            <p:nvPr/>
          </p:nvSpPr>
          <p:spPr>
            <a:xfrm>
              <a:off x="2779560" y="1982880"/>
              <a:ext cx="641520" cy="5461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09440" y="2133720"/>
              <a:ext cx="563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cad_info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1828800"/>
              <a:ext cx="1062000" cy="19382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40680" y="1828800"/>
              <a:ext cx="1440" cy="19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27432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7560" y="2039760"/>
              <a:ext cx="2852640" cy="1800"/>
            </a:xfrm>
            <a:custGeom>
              <a:avLst/>
              <a:gdLst/>
              <a:ahLst/>
              <a:rect l="l" t="t" r="r" b="b"/>
              <a:pathLst>
                <a:path w="1797" h="0">
                  <a:moveTo>
                    <a:pt x="0" y="0"/>
                  </a:moveTo>
                  <a:lnTo>
                    <a:pt x="899" y="0"/>
                  </a:lnTo>
                  <a:lnTo>
                    <a:pt x="899" y="0"/>
                  </a:lnTo>
                  <a:lnTo>
                    <a:pt x="179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37360" y="1996920"/>
              <a:ext cx="8712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51640" y="1828800"/>
              <a:ext cx="63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t_id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id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7560" y="2098800"/>
              <a:ext cx="2852640" cy="152280"/>
            </a:xfrm>
            <a:custGeom>
              <a:avLst/>
              <a:gdLst/>
              <a:ahLst/>
              <a:rect l="l" t="t" r="r" b="b"/>
              <a:pathLst>
                <a:path w="1797" h="96">
                  <a:moveTo>
                    <a:pt x="0" y="0"/>
                  </a:moveTo>
                  <a:lnTo>
                    <a:pt x="642" y="0"/>
                  </a:lnTo>
                  <a:lnTo>
                    <a:pt x="642" y="96"/>
                  </a:lnTo>
                  <a:lnTo>
                    <a:pt x="1797" y="9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37360" y="2208240"/>
              <a:ext cx="8712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5680" y="2057400"/>
              <a:ext cx="145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t_revision_id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version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7560" y="2157480"/>
              <a:ext cx="2852640" cy="306360"/>
            </a:xfrm>
            <a:custGeom>
              <a:avLst/>
              <a:gdLst/>
              <a:ahLst/>
              <a:rect l="l" t="t" r="r" b="b"/>
              <a:pathLst>
                <a:path w="1797" h="193">
                  <a:moveTo>
                    <a:pt x="0" y="0"/>
                  </a:moveTo>
                  <a:lnTo>
                    <a:pt x="523" y="0"/>
                  </a:lnTo>
                  <a:lnTo>
                    <a:pt x="523" y="193"/>
                  </a:lnTo>
                  <a:lnTo>
                    <a:pt x="1797" y="19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7360" y="2419200"/>
              <a:ext cx="8712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7960" y="228600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t_name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name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7560" y="2214720"/>
              <a:ext cx="2852640" cy="466560"/>
            </a:xfrm>
            <a:custGeom>
              <a:avLst/>
              <a:gdLst/>
              <a:ahLst/>
              <a:rect l="l" t="t" r="r" b="b"/>
              <a:pathLst>
                <a:path w="1797" h="294">
                  <a:moveTo>
                    <a:pt x="0" y="0"/>
                  </a:moveTo>
                  <a:lnTo>
                    <a:pt x="422" y="0"/>
                  </a:lnTo>
                  <a:lnTo>
                    <a:pt x="422" y="294"/>
                  </a:lnTo>
                  <a:lnTo>
                    <a:pt x="1797" y="29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7360" y="2638440"/>
              <a:ext cx="8712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79280" y="247824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t_descrip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7560" y="2273400"/>
              <a:ext cx="2852640" cy="619200"/>
            </a:xfrm>
            <a:custGeom>
              <a:avLst/>
              <a:gdLst/>
              <a:ahLst/>
              <a:rect l="l" t="t" r="r" b="b"/>
              <a:pathLst>
                <a:path w="1797" h="390">
                  <a:moveTo>
                    <a:pt x="0" y="0"/>
                  </a:moveTo>
                  <a:lnTo>
                    <a:pt x="362" y="0"/>
                  </a:lnTo>
                  <a:lnTo>
                    <a:pt x="362" y="390"/>
                  </a:lnTo>
                  <a:lnTo>
                    <a:pt x="1797" y="39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37360" y="2849400"/>
              <a:ext cx="8712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268920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ity_class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97160" y="4329000"/>
              <a:ext cx="1281240" cy="8953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97160" y="4546440"/>
              <a:ext cx="1281240" cy="379440"/>
            </a:xfrm>
            <a:prstGeom prst="roundRect">
              <a:avLst>
                <a:gd name="adj" fmla="val 2884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65520" y="181440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65520" y="181440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5520" y="181440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65520" y="181440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04520" y="4664160"/>
              <a:ext cx="10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pe_arm.Shap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00320" y="2535120"/>
              <a:ext cx="1636920" cy="1743120"/>
            </a:xfrm>
            <a:custGeom>
              <a:avLst/>
              <a:gdLst/>
              <a:ahLst/>
              <a:rect l="l" t="t" r="r" b="b"/>
              <a:pathLst>
                <a:path w="1031" h="1098">
                  <a:moveTo>
                    <a:pt x="0" y="0"/>
                  </a:moveTo>
                  <a:lnTo>
                    <a:pt x="0" y="960"/>
                  </a:lnTo>
                  <a:lnTo>
                    <a:pt x="1031" y="960"/>
                  </a:lnTo>
                  <a:lnTo>
                    <a:pt x="1031" y="109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94400" y="4233960"/>
              <a:ext cx="8712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22680" y="3862440"/>
              <a:ext cx="78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_for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7560" y="2332080"/>
              <a:ext cx="2852640" cy="771480"/>
            </a:xfrm>
            <a:custGeom>
              <a:avLst/>
              <a:gdLst/>
              <a:ahLst/>
              <a:rect l="l" t="t" r="r" b="b"/>
              <a:pathLst>
                <a:path w="1797" h="486">
                  <a:moveTo>
                    <a:pt x="0" y="0"/>
                  </a:moveTo>
                  <a:lnTo>
                    <a:pt x="229" y="0"/>
                  </a:lnTo>
                  <a:lnTo>
                    <a:pt x="229" y="486"/>
                  </a:lnTo>
                  <a:lnTo>
                    <a:pt x="1797" y="486"/>
                  </a:lnTo>
                </a:path>
              </a:pathLst>
            </a:custGeom>
            <a:noFill/>
            <a:ln w="792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37360" y="3060720"/>
              <a:ext cx="8712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6760" y="2900520"/>
              <a:ext cx="146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ial_number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serial_no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7560" y="2390760"/>
              <a:ext cx="2852640" cy="925560"/>
            </a:xfrm>
            <a:custGeom>
              <a:avLst/>
              <a:gdLst/>
              <a:ahLst/>
              <a:rect l="l" t="t" r="r" b="b"/>
              <a:pathLst>
                <a:path w="1797" h="583">
                  <a:moveTo>
                    <a:pt x="0" y="0"/>
                  </a:moveTo>
                  <a:lnTo>
                    <a:pt x="133" y="0"/>
                  </a:lnTo>
                  <a:lnTo>
                    <a:pt x="133" y="583"/>
                  </a:lnTo>
                  <a:lnTo>
                    <a:pt x="1797" y="583"/>
                  </a:lnTo>
                </a:path>
              </a:pathLst>
            </a:custGeom>
            <a:noFill/>
            <a:ln w="792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37360" y="3271680"/>
              <a:ext cx="8712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27560" y="3111480"/>
              <a:ext cx="113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lot_number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(lot_no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20960" y="5843520"/>
              <a:ext cx="103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rt_arm (1 of 1)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7560" y="2448000"/>
              <a:ext cx="2852640" cy="1079280"/>
            </a:xfrm>
            <a:custGeom>
              <a:avLst/>
              <a:gdLst/>
              <a:ahLst/>
              <a:rect l="l" t="t" r="r" b="b"/>
              <a:pathLst>
                <a:path w="1797" h="680">
                  <a:moveTo>
                    <a:pt x="0" y="0"/>
                  </a:moveTo>
                  <a:lnTo>
                    <a:pt x="60" y="0"/>
                  </a:lnTo>
                  <a:lnTo>
                    <a:pt x="60" y="680"/>
                  </a:lnTo>
                  <a:lnTo>
                    <a:pt x="1797" y="68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37360" y="3483000"/>
              <a:ext cx="8712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4080" y="3352680"/>
              <a:ext cx="89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10000"/>
                  </a:solidFill>
                  <a:latin typeface="Arial"/>
                </a:rPr>
                <a:t>vendor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(vendor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L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Dimensional measurement feature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09680" y="1523880"/>
            <a:ext cx="5562720" cy="4197600"/>
            <a:chOff x="2209680" y="1523880"/>
            <a:chExt cx="5562720" cy="4197600"/>
          </a:xfrm>
        </p:grpSpPr>
        <p:sp>
          <p:nvSpPr>
            <p:cNvPr id="172" name=""/>
            <p:cNvSpPr/>
            <p:nvPr/>
          </p:nvSpPr>
          <p:spPr>
            <a:xfrm>
              <a:off x="4299120" y="3571920"/>
              <a:ext cx="1455480" cy="1440"/>
            </a:xfrm>
            <a:custGeom>
              <a:avLst/>
              <a:gdLst/>
              <a:ahLst/>
              <a:rect l="l" t="t" r="r" b="b"/>
              <a:pathLst>
                <a:path w="917" h="0">
                  <a:moveTo>
                    <a:pt x="0" y="0"/>
                  </a:moveTo>
                  <a:lnTo>
                    <a:pt x="454" y="0"/>
                  </a:lnTo>
                  <a:lnTo>
                    <a:pt x="454" y="0"/>
                  </a:lnTo>
                  <a:lnTo>
                    <a:pt x="91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57600" y="3295800"/>
              <a:ext cx="990720" cy="560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18080" y="3490920"/>
              <a:ext cx="84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mf_circl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circle_feature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09680" y="3425760"/>
              <a:ext cx="662040" cy="298440"/>
            </a:xfrm>
            <a:prstGeom prst="roundRect">
              <a:avLst>
                <a:gd name="adj" fmla="val 58537"/>
              </a:avLst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07680" y="350676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2 (1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60920" y="1523880"/>
              <a:ext cx="4011480" cy="8161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0920" y="1728720"/>
              <a:ext cx="4011480" cy="335160"/>
            </a:xfrm>
            <a:prstGeom prst="roundRect">
              <a:avLst>
                <a:gd name="adj" fmla="val 32606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19600" y="1830240"/>
              <a:ext cx="37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al_measurement_parameter_arm.Dm_vector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7920" y="4570560"/>
              <a:ext cx="2224080" cy="11509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7920" y="4854600"/>
              <a:ext cx="2224080" cy="480960"/>
            </a:xfrm>
            <a:prstGeom prst="roundRect">
              <a:avLst>
                <a:gd name="adj" fmla="val 2272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92200" y="4970520"/>
              <a:ext cx="160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al_measuremen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82120" y="5087880"/>
              <a:ext cx="208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_arm.Dm_point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7440" y="3316320"/>
              <a:ext cx="1236600" cy="511200"/>
            </a:xfrm>
            <a:prstGeom prst="roundRect">
              <a:avLst>
                <a:gd name="adj" fmla="val 34287"/>
              </a:avLst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75280" y="3462480"/>
              <a:ext cx="99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,1 Inner_oute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7080" y="357192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numer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08480" y="4562640"/>
              <a:ext cx="2487600" cy="11523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08480" y="4846680"/>
              <a:ext cx="2487600" cy="480960"/>
            </a:xfrm>
            <a:prstGeom prst="roundRect">
              <a:avLst>
                <a:gd name="adj" fmla="val 2272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19360" y="4964040"/>
              <a:ext cx="22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al_measurement_paramete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43840" y="5079960"/>
              <a:ext cx="174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m.Dm_dimension_paramet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14800" y="3571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79640" y="3571920"/>
              <a:ext cx="3351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214440" y="3571920"/>
              <a:ext cx="399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78360" y="2384280"/>
              <a:ext cx="1579320" cy="911520"/>
            </a:xfrm>
            <a:custGeom>
              <a:avLst/>
              <a:gdLst/>
              <a:ahLst/>
              <a:rect l="l" t="t" r="r" b="b"/>
              <a:pathLst>
                <a:path w="995" h="574">
                  <a:moveTo>
                    <a:pt x="0" y="574"/>
                  </a:moveTo>
                  <a:lnTo>
                    <a:pt x="0" y="289"/>
                  </a:lnTo>
                  <a:lnTo>
                    <a:pt x="995" y="289"/>
                  </a:lnTo>
                  <a:lnTo>
                    <a:pt x="99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7320" y="2668680"/>
              <a:ext cx="190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xis_direction_vector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normal)     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24240" y="3855960"/>
              <a:ext cx="544320" cy="669960"/>
            </a:xfrm>
            <a:custGeom>
              <a:avLst/>
              <a:gdLst/>
              <a:ahLst/>
              <a:rect l="l" t="t" r="r" b="b"/>
              <a:pathLst>
                <a:path w="343" h="422">
                  <a:moveTo>
                    <a:pt x="343" y="0"/>
                  </a:moveTo>
                  <a:lnTo>
                    <a:pt x="343" y="211"/>
                  </a:lnTo>
                  <a:lnTo>
                    <a:pt x="0" y="211"/>
                  </a:lnTo>
                  <a:lnTo>
                    <a:pt x="0" y="42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22720" y="4016520"/>
              <a:ext cx="154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nter_point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center_point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8640" y="3414600"/>
              <a:ext cx="99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ner_outer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type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79880" y="3855960"/>
              <a:ext cx="2263680" cy="663480"/>
            </a:xfrm>
            <a:custGeom>
              <a:avLst/>
              <a:gdLst/>
              <a:ahLst/>
              <a:rect l="l" t="t" r="r" b="b"/>
              <a:pathLst>
                <a:path w="1426" h="418">
                  <a:moveTo>
                    <a:pt x="0" y="0"/>
                  </a:moveTo>
                  <a:lnTo>
                    <a:pt x="0" y="197"/>
                  </a:lnTo>
                  <a:lnTo>
                    <a:pt x="1426" y="197"/>
                  </a:lnTo>
                  <a:lnTo>
                    <a:pt x="142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7160" y="3994200"/>
              <a:ext cx="110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ameter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diameter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21480" y="3535200"/>
              <a:ext cx="7596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1280" y="354168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18080" y="23670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02520" y="4481640"/>
              <a:ext cx="75960" cy="7596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82840" y="4491000"/>
              <a:ext cx="76320" cy="76320"/>
            </a:xfrm>
            <a:prstGeom prst="ellipse">
              <a:avLst/>
            </a:prstGeom>
            <a:solidFill>
              <a:srgbClr val="fffff3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L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Dimension tolerance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752480" y="1295280"/>
            <a:ext cx="6278760" cy="4648320"/>
            <a:chOff x="1752480" y="1295280"/>
            <a:chExt cx="6278760" cy="4648320"/>
          </a:xfrm>
        </p:grpSpPr>
        <p:sp>
          <p:nvSpPr>
            <p:cNvPr id="208" name=""/>
            <p:cNvSpPr/>
            <p:nvPr/>
          </p:nvSpPr>
          <p:spPr>
            <a:xfrm>
              <a:off x="1998720" y="2187720"/>
              <a:ext cx="811080" cy="7952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2560" y="232740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33360" y="249408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0120" y="265896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52480" y="3692520"/>
              <a:ext cx="733680" cy="6285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77400" y="375300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3520" y="3919680"/>
              <a:ext cx="54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ation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84600" y="408636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03440" y="3726000"/>
              <a:ext cx="733680" cy="6318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7640" y="37879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2600" y="3954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z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35560" y="412128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1520" y="1295280"/>
              <a:ext cx="969840" cy="3142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06600" y="1295280"/>
              <a:ext cx="1800" cy="31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2600" y="140004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05120" y="4978440"/>
              <a:ext cx="1676160" cy="965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5181480"/>
              <a:ext cx="1676160" cy="568440"/>
            </a:xfrm>
            <a:prstGeom prst="roundRect">
              <a:avLst>
                <a:gd name="adj" fmla="val 23079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34880" y="5329080"/>
              <a:ext cx="95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pe_elemen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8920" y="5460840"/>
              <a:ext cx="113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m.Shape_el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9960" y="4854600"/>
              <a:ext cx="733680" cy="6303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37040" y="491652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gular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22640" y="508320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z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9920" y="524844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2320" y="1584360"/>
              <a:ext cx="1135080" cy="4636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87240" y="16462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07040" y="181116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with_un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6640" y="2763720"/>
              <a:ext cx="795240" cy="5875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288756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umerical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53560" y="305424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94400" y="2763720"/>
              <a:ext cx="847800" cy="5875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55240" y="297180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limi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0240" y="1514520"/>
              <a:ext cx="1041480" cy="4554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75680" y="1514520"/>
              <a:ext cx="1440" cy="45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167652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67240" y="2755800"/>
              <a:ext cx="873360" cy="595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09720" y="2971800"/>
              <a:ext cx="71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rang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61040" y="2057400"/>
              <a:ext cx="970200" cy="3747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6480" y="2057400"/>
              <a:ext cx="1440" cy="37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9240" y="220968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1400" y="3228840"/>
              <a:ext cx="16588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98680" y="2982960"/>
              <a:ext cx="1800" cy="245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3720" y="301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111400" y="3228840"/>
              <a:ext cx="1440" cy="409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66760" y="3594240"/>
              <a:ext cx="87480" cy="88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770280" y="3228840"/>
              <a:ext cx="1800" cy="446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26000" y="3630600"/>
              <a:ext cx="87120" cy="874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98680" y="1663560"/>
              <a:ext cx="533520" cy="524160"/>
            </a:xfrm>
            <a:custGeom>
              <a:avLst/>
              <a:gdLst/>
              <a:ahLst/>
              <a:rect l="l" t="t" r="r" b="b"/>
              <a:pathLst>
                <a:path w="280" h="275">
                  <a:moveTo>
                    <a:pt x="0" y="275"/>
                  </a:moveTo>
                  <a:lnTo>
                    <a:pt x="0" y="115"/>
                  </a:lnTo>
                  <a:lnTo>
                    <a:pt x="280" y="115"/>
                  </a:lnTo>
                  <a:lnTo>
                    <a:pt x="28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87560" y="1619280"/>
              <a:ext cx="8748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1960" y="1679400"/>
              <a:ext cx="9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65520" y="4357800"/>
              <a:ext cx="873000" cy="566640"/>
            </a:xfrm>
            <a:custGeom>
              <a:avLst/>
              <a:gdLst/>
              <a:ahLst/>
              <a:rect l="l" t="t" r="r" b="b"/>
              <a:pathLst>
                <a:path w="458" h="298">
                  <a:moveTo>
                    <a:pt x="458" y="0"/>
                  </a:moveTo>
                  <a:lnTo>
                    <a:pt x="458" y="119"/>
                  </a:lnTo>
                  <a:lnTo>
                    <a:pt x="0" y="119"/>
                  </a:lnTo>
                  <a:lnTo>
                    <a:pt x="0" y="29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22680" y="4881600"/>
              <a:ext cx="8712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92440" y="436392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4760" y="4567320"/>
              <a:ext cx="1290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4760" y="4357800"/>
              <a:ext cx="1440" cy="20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0080" y="435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175360" y="4567320"/>
              <a:ext cx="1440" cy="234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32520" y="4759200"/>
              <a:ext cx="87120" cy="874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30760" y="2467080"/>
              <a:ext cx="21924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30760" y="2048040"/>
              <a:ext cx="144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740120" y="2466720"/>
              <a:ext cx="1800" cy="245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95840" y="2668680"/>
              <a:ext cx="87120" cy="871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923160" y="2466720"/>
              <a:ext cx="1440" cy="245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78520" y="2668680"/>
              <a:ext cx="87480" cy="871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803920" y="2466720"/>
              <a:ext cx="1440" cy="236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61080" y="2658960"/>
              <a:ext cx="87120" cy="874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97400" y="1741320"/>
              <a:ext cx="1162080" cy="1800"/>
            </a:xfrm>
            <a:custGeom>
              <a:avLst/>
              <a:gdLst/>
              <a:ahLst/>
              <a:rect l="l" t="t" r="r" b="b"/>
              <a:pathLst>
                <a:path w="610" h="0">
                  <a:moveTo>
                    <a:pt x="0" y="0"/>
                  </a:moveTo>
                  <a:lnTo>
                    <a:pt x="303" y="0"/>
                  </a:lnTo>
                  <a:lnTo>
                    <a:pt x="303" y="0"/>
                  </a:lnTo>
                  <a:lnTo>
                    <a:pt x="61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15200" y="1697040"/>
              <a:ext cx="8892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9080" y="15318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t_compon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97400" y="1889280"/>
              <a:ext cx="1712880" cy="360360"/>
            </a:xfrm>
            <a:custGeom>
              <a:avLst/>
              <a:gdLst/>
              <a:ahLst/>
              <a:rect l="l" t="t" r="r" b="b"/>
              <a:pathLst>
                <a:path w="899" h="189">
                  <a:moveTo>
                    <a:pt x="0" y="0"/>
                  </a:moveTo>
                  <a:lnTo>
                    <a:pt x="28" y="0"/>
                  </a:lnTo>
                  <a:lnTo>
                    <a:pt x="28" y="189"/>
                  </a:lnTo>
                  <a:lnTo>
                    <a:pt x="899" y="18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66000" y="2206800"/>
              <a:ext cx="87120" cy="85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98080" y="203832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ificant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7720" y="1811160"/>
              <a:ext cx="1293840" cy="770040"/>
            </a:xfrm>
            <a:custGeom>
              <a:avLst/>
              <a:gdLst/>
              <a:ahLst/>
              <a:rect l="l" t="t" r="r" b="b"/>
              <a:pathLst>
                <a:path w="679" h="404">
                  <a:moveTo>
                    <a:pt x="0" y="404"/>
                  </a:moveTo>
                  <a:lnTo>
                    <a:pt x="592" y="404"/>
                  </a:lnTo>
                  <a:lnTo>
                    <a:pt x="592" y="0"/>
                  </a:lnTo>
                  <a:lnTo>
                    <a:pt x="67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7280" y="1768320"/>
              <a:ext cx="8712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02320" y="2362320"/>
              <a:ext cx="94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mension_valu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33920" y="3886200"/>
              <a:ext cx="77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angle_delta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4600" y="4191120"/>
              <a:ext cx="72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angle_limit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334120" y="4343400"/>
              <a:ext cx="3045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15000" y="3352320"/>
              <a:ext cx="990720" cy="8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648320" y="3352680"/>
              <a:ext cx="76176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4114800"/>
              <a:ext cx="30456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25360" y="21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ML harmonization: 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Geometric tolerance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286000" y="1447920"/>
            <a:ext cx="6433200" cy="4589280"/>
            <a:chOff x="2286000" y="1447920"/>
            <a:chExt cx="6433200" cy="4589280"/>
          </a:xfrm>
        </p:grpSpPr>
        <p:grpSp>
          <p:nvGrpSpPr>
            <p:cNvPr id="291" name=""/>
            <p:cNvGrpSpPr/>
            <p:nvPr/>
          </p:nvGrpSpPr>
          <p:grpSpPr>
            <a:xfrm>
              <a:off x="5119560" y="5423040"/>
              <a:ext cx="2067480" cy="555480"/>
              <a:chOff x="5119560" y="5423040"/>
              <a:chExt cx="2067480" cy="555480"/>
            </a:xfrm>
          </p:grpSpPr>
          <p:sp>
            <p:nvSpPr>
              <p:cNvPr id="292" name=""/>
              <p:cNvSpPr/>
              <p:nvPr/>
            </p:nvSpPr>
            <p:spPr>
              <a:xfrm>
                <a:off x="6487920" y="5423040"/>
                <a:ext cx="691920" cy="555480"/>
              </a:xfrm>
              <a:prstGeom prst="rect">
                <a:avLst/>
              </a:prstGeom>
              <a:solidFill>
                <a:srgbClr val="ffffe3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00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53800" y="551340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olerance_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64240" y="5704200"/>
                <a:ext cx="55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zone_def 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163840" y="5704200"/>
                <a:ext cx="1324080" cy="2880"/>
              </a:xfrm>
              <a:custGeom>
                <a:avLst/>
                <a:gdLst/>
                <a:ahLst/>
                <a:rect l="l" t="t" r="r" b="b"/>
                <a:pathLst>
                  <a:path w="834" h="0">
                    <a:moveTo>
                      <a:pt x="834" y="0"/>
                    </a:moveTo>
                    <a:lnTo>
                      <a:pt x="422" y="0"/>
                    </a:lnTo>
                    <a:lnTo>
                      <a:pt x="422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19560" y="5651640"/>
                <a:ext cx="8712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65880" y="5450040"/>
                <a:ext cx="60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s_defining</a:t>
                </a:r>
                <a:endParaRPr b="0" lang="en-US" sz="1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3214800" y="1841400"/>
              <a:ext cx="213336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81400" y="1447920"/>
              <a:ext cx="799920" cy="25304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62400" y="243216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46200" y="261288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50520" y="280368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48160" y="1460520"/>
              <a:ext cx="1905120" cy="68580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48160" y="1571760"/>
              <a:ext cx="1905120" cy="446040"/>
            </a:xfrm>
            <a:prstGeom prst="roundRect">
              <a:avLst>
                <a:gd name="adj" fmla="val 30611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25920" y="1719360"/>
              <a:ext cx="157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pe_arm.Shape_eleme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4480" y="2374920"/>
              <a:ext cx="804960" cy="181116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76800" y="2400480"/>
              <a:ext cx="1800" cy="18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65600" y="322092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35440" y="4660920"/>
              <a:ext cx="692280" cy="53352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99880" y="473724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08520" y="491976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1040" y="1790640"/>
              <a:ext cx="87120" cy="111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76560" y="168912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applied_to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87800" y="2066760"/>
              <a:ext cx="2176200" cy="567000"/>
            </a:xfrm>
            <a:custGeom>
              <a:avLst/>
              <a:gdLst/>
              <a:ahLst/>
              <a:rect l="l" t="t" r="r" b="b"/>
              <a:pathLst>
                <a:path w="1206" h="271">
                  <a:moveTo>
                    <a:pt x="0" y="0"/>
                  </a:moveTo>
                  <a:lnTo>
                    <a:pt x="303" y="0"/>
                  </a:lnTo>
                  <a:lnTo>
                    <a:pt x="303" y="271"/>
                  </a:lnTo>
                  <a:lnTo>
                    <a:pt x="1206" y="27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0880" y="2575080"/>
              <a:ext cx="87120" cy="109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05160" y="2427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87800" y="2386080"/>
              <a:ext cx="2189160" cy="492120"/>
            </a:xfrm>
            <a:custGeom>
              <a:avLst/>
              <a:gdLst/>
              <a:ahLst/>
              <a:rect l="l" t="t" r="r" b="b"/>
              <a:pathLst>
                <a:path w="1206" h="239">
                  <a:moveTo>
                    <a:pt x="0" y="0"/>
                  </a:moveTo>
                  <a:lnTo>
                    <a:pt x="243" y="0"/>
                  </a:lnTo>
                  <a:lnTo>
                    <a:pt x="243" y="239"/>
                  </a:lnTo>
                  <a:lnTo>
                    <a:pt x="1206" y="23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0880" y="2828880"/>
              <a:ext cx="87120" cy="109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00240" y="2679840"/>
              <a:ext cx="84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ualifying_not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87800" y="2695680"/>
              <a:ext cx="2236680" cy="441360"/>
            </a:xfrm>
            <a:custGeom>
              <a:avLst/>
              <a:gdLst/>
              <a:ahLst/>
              <a:rect l="l" t="t" r="r" b="b"/>
              <a:pathLst>
                <a:path w="1206" h="211">
                  <a:moveTo>
                    <a:pt x="0" y="0"/>
                  </a:moveTo>
                  <a:lnTo>
                    <a:pt x="207" y="0"/>
                  </a:lnTo>
                  <a:lnTo>
                    <a:pt x="207" y="211"/>
                  </a:lnTo>
                  <a:lnTo>
                    <a:pt x="1206" y="21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0880" y="3086280"/>
              <a:ext cx="87120" cy="107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9880" y="2908440"/>
              <a:ext cx="78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gment_siz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87800" y="3005280"/>
              <a:ext cx="2236680" cy="360360"/>
            </a:xfrm>
            <a:custGeom>
              <a:avLst/>
              <a:gdLst/>
              <a:ahLst/>
              <a:rect l="l" t="t" r="r" b="b"/>
              <a:pathLst>
                <a:path w="1206" h="184">
                  <a:moveTo>
                    <a:pt x="0" y="0"/>
                  </a:moveTo>
                  <a:lnTo>
                    <a:pt x="156" y="0"/>
                  </a:lnTo>
                  <a:lnTo>
                    <a:pt x="156" y="184"/>
                  </a:lnTo>
                  <a:lnTo>
                    <a:pt x="1206" y="18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0880" y="3340080"/>
              <a:ext cx="87120" cy="108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73880" y="317340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gnificant_digits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7800" y="3324240"/>
              <a:ext cx="2222280" cy="331920"/>
            </a:xfrm>
            <a:custGeom>
              <a:avLst/>
              <a:gdLst/>
              <a:ahLst/>
              <a:rect l="l" t="t" r="r" b="b"/>
              <a:pathLst>
                <a:path w="1206" h="151">
                  <a:moveTo>
                    <a:pt x="0" y="0"/>
                  </a:moveTo>
                  <a:lnTo>
                    <a:pt x="120" y="0"/>
                  </a:lnTo>
                  <a:lnTo>
                    <a:pt x="120" y="151"/>
                  </a:lnTo>
                  <a:lnTo>
                    <a:pt x="1206" y="15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0880" y="3595680"/>
              <a:ext cx="87120" cy="109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4680" y="3441600"/>
              <a:ext cx="190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_value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tolerance_value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7800" y="3633840"/>
              <a:ext cx="2236680" cy="264960"/>
            </a:xfrm>
            <a:custGeom>
              <a:avLst/>
              <a:gdLst/>
              <a:ahLst/>
              <a:rect l="l" t="t" r="r" b="b"/>
              <a:pathLst>
                <a:path w="1206" h="124">
                  <a:moveTo>
                    <a:pt x="0" y="0"/>
                  </a:moveTo>
                  <a:lnTo>
                    <a:pt x="65" y="0"/>
                  </a:lnTo>
                  <a:lnTo>
                    <a:pt x="65" y="124"/>
                  </a:lnTo>
                  <a:lnTo>
                    <a:pt x="1206" y="12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30880" y="3849840"/>
              <a:ext cx="87120" cy="107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87760" y="3660840"/>
              <a:ext cx="113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_determin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9240" y="3978360"/>
              <a:ext cx="1149480" cy="628560"/>
            </a:xfrm>
            <a:custGeom>
              <a:avLst/>
              <a:gdLst/>
              <a:ahLst/>
              <a:rect l="l" t="t" r="r" b="b"/>
              <a:pathLst>
                <a:path w="724" h="317">
                  <a:moveTo>
                    <a:pt x="0" y="0"/>
                  </a:moveTo>
                  <a:lnTo>
                    <a:pt x="0" y="161"/>
                  </a:lnTo>
                  <a:lnTo>
                    <a:pt x="724" y="161"/>
                  </a:lnTo>
                  <a:lnTo>
                    <a:pt x="724" y="31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25880" y="4551480"/>
              <a:ext cx="87480" cy="109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18760" y="4062240"/>
              <a:ext cx="67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difica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2000" y="4260960"/>
              <a:ext cx="1325520" cy="399960"/>
            </a:xfrm>
            <a:custGeom>
              <a:avLst/>
              <a:gdLst/>
              <a:ahLst/>
              <a:rect l="l" t="t" r="r" b="b"/>
              <a:pathLst>
                <a:path w="651" h="220">
                  <a:moveTo>
                    <a:pt x="0" y="220"/>
                  </a:moveTo>
                  <a:lnTo>
                    <a:pt x="0" y="106"/>
                  </a:lnTo>
                  <a:lnTo>
                    <a:pt x="651" y="106"/>
                  </a:lnTo>
                  <a:lnTo>
                    <a:pt x="65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62720" y="4195800"/>
              <a:ext cx="87120" cy="109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54360" y="4197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49600" y="5299200"/>
              <a:ext cx="1440" cy="2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49600" y="3978360"/>
              <a:ext cx="1440" cy="1320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649600" y="5298840"/>
              <a:ext cx="1440" cy="338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4248000"/>
              <a:ext cx="1096920" cy="1516320"/>
            </a:xfrm>
            <a:custGeom>
              <a:avLst/>
              <a:gdLst/>
              <a:ahLst/>
              <a:rect l="l" t="t" r="r" b="b"/>
              <a:pathLst>
                <a:path w="499" h="776">
                  <a:moveTo>
                    <a:pt x="0" y="776"/>
                  </a:moveTo>
                  <a:lnTo>
                    <a:pt x="0" y="390"/>
                  </a:lnTo>
                  <a:lnTo>
                    <a:pt x="499" y="390"/>
                  </a:lnTo>
                  <a:lnTo>
                    <a:pt x="49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45240" y="4195800"/>
              <a:ext cx="87120" cy="109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90600" y="504180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m_typ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6000" y="5335560"/>
              <a:ext cx="706320" cy="70164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5840" y="549900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gularity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56560" y="568944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67160" y="5408640"/>
              <a:ext cx="692280" cy="555480"/>
            </a:xfrm>
            <a:prstGeom prst="rect">
              <a:avLst/>
            </a:prstGeom>
            <a:solidFill>
              <a:srgbClr val="ffffe3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3040" y="549900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lerance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44200" y="56894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2360" y="5226120"/>
              <a:ext cx="87480" cy="1094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3080" y="5689440"/>
              <a:ext cx="1324080" cy="3240"/>
            </a:xfrm>
            <a:custGeom>
              <a:avLst/>
              <a:gdLst/>
              <a:ahLst/>
              <a:rect l="l" t="t" r="r" b="b"/>
              <a:pathLst>
                <a:path w="834" h="0">
                  <a:moveTo>
                    <a:pt x="834" y="0"/>
                  </a:moveTo>
                  <a:lnTo>
                    <a:pt x="422" y="0"/>
                  </a:lnTo>
                  <a:lnTo>
                    <a:pt x="42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98800" y="5637240"/>
              <a:ext cx="87480" cy="108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19760" y="5435640"/>
              <a:ext cx="10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s_zone_for  S[1:?]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81160" y="4203720"/>
              <a:ext cx="123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angularity_cyl_zone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986200" y="4280040"/>
              <a:ext cx="441936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043240" y="4280040"/>
              <a:ext cx="236196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186600" y="4280040"/>
              <a:ext cx="12189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99640" y="4813200"/>
              <a:ext cx="73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‘cylindrical’)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6719400" y="4280040"/>
              <a:ext cx="68580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4738680" y="3593880"/>
              <a:ext cx="266688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719760" y="2146320"/>
              <a:ext cx="0" cy="32767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948360" y="2146320"/>
              <a:ext cx="0" cy="3276720"/>
            </a:xfrm>
            <a:prstGeom prst="line">
              <a:avLst/>
            </a:prstGeom>
            <a:ln w="9360">
              <a:solidFill>
                <a:srgbClr val="01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69000" y="2174760"/>
              <a:ext cx="87480" cy="111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92920" y="2157480"/>
              <a:ext cx="87480" cy="110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38880" y="3060720"/>
              <a:ext cx="27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rst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?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23240" y="3060720"/>
              <a:ext cx="479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_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m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(?)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6523200" y="3511080"/>
              <a:ext cx="868320" cy="75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7162920" y="3580920"/>
              <a:ext cx="242640" cy="69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Rosalie Ruegg</cp:lastModifiedBy>
  <dcterms:modified xsi:type="dcterms:W3CDTF">2003-06-24T08:59:11Z</dcterms:modified>
  <cp:revision>286</cp:revision>
  <dc:subject/>
  <dc:title>No Slide Title</dc:title>
</cp:coreProperties>
</file>