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27520" y="6404040"/>
            <a:ext cx="1514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10760" y="6384960"/>
            <a:ext cx="15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63760" y="6446880"/>
            <a:ext cx="73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WSA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33440" y="6384960"/>
            <a:ext cx="7810560" cy="648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160" y="5943600"/>
            <a:ext cx="1295280" cy="88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78080" y="2538000"/>
            <a:ext cx="6502320" cy="762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7520" y="6404040"/>
            <a:ext cx="1514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459400" y="1966680"/>
            <a:ext cx="152280" cy="838440"/>
            <a:chOff x="5459400" y="1966680"/>
            <a:chExt cx="152280" cy="838440"/>
          </a:xfrm>
        </p:grpSpPr>
        <p:sp>
          <p:nvSpPr>
            <p:cNvPr id="47" name=""/>
            <p:cNvSpPr/>
            <p:nvPr/>
          </p:nvSpPr>
          <p:spPr>
            <a:xfrm>
              <a:off x="5459400" y="26528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535360" y="196668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646280" y="6391440"/>
            <a:ext cx="749772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63760" y="6446880"/>
            <a:ext cx="73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WSA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1000" y="5943600"/>
            <a:ext cx="1295280" cy="880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ff33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ff33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wsadtechwls3b@wsa.dlo.mod.uk" TargetMode="External"/><Relationship Id="rId2" Type="http://schemas.openxmlformats.org/officeDocument/2006/relationships/hyperlink" Target="mailto:wsadtechwls3b@wsa.dlo.mod.uk" TargetMode="External"/><Relationship Id="rId3" Type="http://schemas.openxmlformats.org/officeDocument/2006/relationships/hyperlink" Target="mailto:wsadtechwls3b@wsa.dlo.mod.uk" TargetMode="External"/><Relationship Id="rId4" Type="http://schemas.openxmlformats.org/officeDocument/2006/relationships/hyperlink" Target="mailto:wsadtechwls3b@wsa.dlo.mod.uk" TargetMode="External"/><Relationship Id="rId5" Type="http://schemas.openxmlformats.org/officeDocument/2006/relationships/hyperlink" Target="mailto:wsadtechwls3b@wsa.dlo.mod.uk" TargetMode="External"/><Relationship Id="rId6" Type="http://schemas.openxmlformats.org/officeDocument/2006/relationships/hyperlink" Target="mailto:wsadtechwls3b@wsa.dlo.mod.uk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ending Mach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lwf0(Bend%20Mach%2002)" descr=""/>
          <p:cNvPicPr/>
          <p:nvPr/>
        </p:nvPicPr>
        <p:blipFill>
          <a:blip r:embed="rId1"/>
          <a:stretch/>
        </p:blipFill>
        <p:spPr>
          <a:xfrm>
            <a:off x="1211400" y="1181160"/>
            <a:ext cx="706248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achine Pipe Bendin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C Bending Mach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3D Representation of Bending Pla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3D Representation of Rotation Plan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imensional val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ending Machine (Plane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2" descr=""/>
          <p:cNvPicPr/>
          <p:nvPr/>
        </p:nvPicPr>
        <p:blipFill>
          <a:blip r:embed="rId1"/>
          <a:stretch/>
        </p:blipFill>
        <p:spPr>
          <a:xfrm>
            <a:off x="-509760" y="888840"/>
            <a:ext cx="10653840" cy="50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ending Machine ( Dimensions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lwf0(Bend%20Mach%2005)" descr=""/>
          <p:cNvPicPr/>
          <p:nvPr/>
        </p:nvPicPr>
        <p:blipFill>
          <a:blip r:embed="rId1"/>
          <a:stretch/>
        </p:blipFill>
        <p:spPr>
          <a:xfrm>
            <a:off x="0" y="844560"/>
            <a:ext cx="9548640" cy="3465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371600" y="4309920"/>
            <a:ext cx="77724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 = Shortest straight pipe between 2 bends (Grip lengt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1 = Minimum length of straight pipe to the first bend of a pipe without fl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2 – Minimum length of straight pipe to the last bend of a pipe with fl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ending Machine dat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ending Dimension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ending Collision Pla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urning Collision Pla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retch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pring-back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ximum Pipe Leng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retch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ending Dimension Dat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44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all Thick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 Mea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1 Mea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2 Mea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C Mea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nding radi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ending Collision Plane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lwf0(Bend%20Mach%2001)" descr=""/>
          <p:cNvPicPr/>
          <p:nvPr/>
        </p:nvPicPr>
        <p:blipFill>
          <a:blip r:embed="rId1"/>
          <a:stretch/>
        </p:blipFill>
        <p:spPr>
          <a:xfrm>
            <a:off x="1353960" y="861840"/>
            <a:ext cx="671220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urning Collision Pla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lwf0(Bend%20Mach%2003)" descr=""/>
          <p:cNvPicPr/>
          <p:nvPr/>
        </p:nvPicPr>
        <p:blipFill>
          <a:blip r:embed="rId1"/>
          <a:stretch/>
        </p:blipFill>
        <p:spPr>
          <a:xfrm>
            <a:off x="1378080" y="1181160"/>
            <a:ext cx="7570800" cy="47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tretch Facto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0680" y="141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 coefficient defining the stretching of pipe material that occurs during the bending process.  This consists of one constant (C) and one proportional (P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following formula defines the stretch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L = (C-P x ALPHA/2) x B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L is the arc length after ben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L is the arc length before ben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LPHA is the bending ang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pring-back Dat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0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ring back is used to control the accuracy of bend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en a pipe is bent it is normal that the pipe springs back to something less than the actual ben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spring-back is adjusted by the use of two key valu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he resultant angle at 20 degre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resultant angle at 120 degre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se figures are then used with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D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Wall Thicknes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Material Co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20480" y="934560"/>
            <a:ext cx="6782040" cy="10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Warship Support Agency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Maritime Product Data Standard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33720" y="2831760"/>
            <a:ext cx="678168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sentation on Pipe Bending to Joint T24/T23 Manufacturing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832200" y="4244760"/>
            <a:ext cx="152280" cy="838440"/>
            <a:chOff x="3832200" y="4244760"/>
            <a:chExt cx="152280" cy="838440"/>
          </a:xfrm>
        </p:grpSpPr>
        <p:sp>
          <p:nvSpPr>
            <p:cNvPr id="92" name=""/>
            <p:cNvSpPr/>
            <p:nvPr/>
          </p:nvSpPr>
          <p:spPr>
            <a:xfrm>
              <a:off x="3832200" y="49309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908160" y="4244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708520" y="5135400"/>
            <a:ext cx="343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5154480"/>
            <a:ext cx="3706560" cy="476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4080" y="515448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uttgart  - 2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27840" y="5083200"/>
            <a:ext cx="271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365960" y="4244760"/>
            <a:ext cx="152280" cy="838440"/>
            <a:chOff x="7365960" y="4244760"/>
            <a:chExt cx="152280" cy="838440"/>
          </a:xfrm>
        </p:grpSpPr>
        <p:sp>
          <p:nvSpPr>
            <p:cNvPr id="99" name=""/>
            <p:cNvSpPr/>
            <p:nvPr/>
          </p:nvSpPr>
          <p:spPr>
            <a:xfrm>
              <a:off x="7365960" y="49309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7441920" y="4244760"/>
              <a:ext cx="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027840" y="5083200"/>
            <a:ext cx="288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ony Fry MOD(U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78640" y="5083200"/>
            <a:ext cx="1879560" cy="82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aximum Pipe Length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49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maximum feed allowed in one bending ope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nding Machine function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2848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Flange Welding Mach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319040" y="2116080"/>
            <a:ext cx="314640" cy="178596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70720" y="2116080"/>
            <a:ext cx="314280" cy="178596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2579760"/>
            <a:ext cx="6151680" cy="927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33680" y="2116080"/>
            <a:ext cx="0" cy="163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70720" y="2268360"/>
            <a:ext cx="0" cy="163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42400" y="2565360"/>
            <a:ext cx="515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42400" y="3506760"/>
            <a:ext cx="515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00880" y="2116080"/>
            <a:ext cx="0" cy="44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8294760" y="3506400"/>
            <a:ext cx="0" cy="927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319040" y="1436760"/>
            <a:ext cx="0" cy="52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785000" y="1468440"/>
            <a:ext cx="0" cy="496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19040" y="1619280"/>
            <a:ext cx="6465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633680" y="3749760"/>
            <a:ext cx="1226880" cy="32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35240" y="1181160"/>
            <a:ext cx="27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x and Min 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6280" y="4433760"/>
            <a:ext cx="27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x and Min 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16040" y="3846600"/>
            <a:ext cx="27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lange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62080" y="5054760"/>
            <a:ext cx="66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r input data for 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oss Extrusio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oss Machine Dimension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in Length to 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oss Dimensional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oss D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ain Pipe D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New distance Val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343400" y="1447920"/>
            <a:ext cx="0" cy="388620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8120" y="1197000"/>
            <a:ext cx="41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ffffff"/>
                </a:solidFill>
                <a:uFillTx/>
                <a:latin typeface="Arial Black"/>
              </a:rPr>
              <a:t>Capability Requirement to Materiel Solution Transformation Mod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447920"/>
            <a:ext cx="0" cy="4619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85440" y="3733920"/>
            <a:ext cx="991080" cy="304560"/>
            <a:chOff x="685440" y="3733920"/>
            <a:chExt cx="991080" cy="304560"/>
          </a:xfrm>
        </p:grpSpPr>
        <p:sp>
          <p:nvSpPr>
            <p:cNvPr id="253" name=""/>
            <p:cNvSpPr/>
            <p:nvPr/>
          </p:nvSpPr>
          <p:spPr>
            <a:xfrm flipH="1">
              <a:off x="685440" y="388620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90720" y="3733920"/>
              <a:ext cx="685800" cy="304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MOD H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828800" y="3733920"/>
            <a:ext cx="6781320" cy="304560"/>
            <a:chOff x="1828800" y="3733920"/>
            <a:chExt cx="6781320" cy="304560"/>
          </a:xfrm>
        </p:grpSpPr>
        <p:sp>
          <p:nvSpPr>
            <p:cNvPr id="256" name=""/>
            <p:cNvSpPr/>
            <p:nvPr/>
          </p:nvSpPr>
          <p:spPr>
            <a:xfrm>
              <a:off x="1828800" y="3733920"/>
              <a:ext cx="6400440" cy="304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IPTs Naval Bases, Industry Providers, Material Provider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314840" y="3886200"/>
              <a:ext cx="12952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85440" y="4114800"/>
            <a:ext cx="3581280" cy="304920"/>
            <a:chOff x="685440" y="4114800"/>
            <a:chExt cx="3581280" cy="304920"/>
          </a:xfrm>
        </p:grpSpPr>
        <p:sp>
          <p:nvSpPr>
            <p:cNvPr id="259" name=""/>
            <p:cNvSpPr/>
            <p:nvPr/>
          </p:nvSpPr>
          <p:spPr>
            <a:xfrm flipH="1">
              <a:off x="685440" y="4267080"/>
              <a:ext cx="407160" cy="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11240" y="4114800"/>
              <a:ext cx="3255480" cy="304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99"/>
                  </a:solidFill>
                  <a:latin typeface="Arial Black"/>
                </a:rPr>
                <a:t>Design Decider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343400" y="4114800"/>
            <a:ext cx="4190760" cy="304920"/>
            <a:chOff x="4343400" y="4114800"/>
            <a:chExt cx="4190760" cy="304920"/>
          </a:xfrm>
        </p:grpSpPr>
        <p:sp>
          <p:nvSpPr>
            <p:cNvPr id="262" name=""/>
            <p:cNvSpPr/>
            <p:nvPr/>
          </p:nvSpPr>
          <p:spPr>
            <a:xfrm>
              <a:off x="4343400" y="4114800"/>
              <a:ext cx="3809880" cy="304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99"/>
                  </a:solidFill>
                  <a:latin typeface="Arial Black"/>
                </a:rPr>
                <a:t>Materiel, Material Providers &amp; Materiel User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8152920" y="4267080"/>
              <a:ext cx="381240" cy="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87320" y="4572000"/>
            <a:ext cx="7772400" cy="228600"/>
            <a:chOff x="787320" y="4572000"/>
            <a:chExt cx="7772400" cy="228600"/>
          </a:xfrm>
        </p:grpSpPr>
        <p:sp>
          <p:nvSpPr>
            <p:cNvPr id="265" name=""/>
            <p:cNvSpPr/>
            <p:nvPr/>
          </p:nvSpPr>
          <p:spPr>
            <a:xfrm>
              <a:off x="787320" y="4572000"/>
              <a:ext cx="9144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NEE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54000" y="4572000"/>
              <a:ext cx="243864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0000"/>
                  </a:solidFill>
                  <a:latin typeface="Arial Black"/>
                </a:rPr>
                <a:t>C A D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 [Info &amp; Knowledge Mgt]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4920" y="4572000"/>
              <a:ext cx="41148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0000"/>
                  </a:solidFill>
                  <a:latin typeface="Arial Black"/>
                </a:rPr>
                <a:t>M       I        D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           [Materiel Activity]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6474240" y="1371600"/>
            <a:ext cx="201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ritical Flow Model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-  Excludes controls from Mgt Process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-  Simplified Mechanis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55720" y="3429000"/>
            <a:ext cx="62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85640" y="2233440"/>
            <a:ext cx="99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Black"/>
              </a:rPr>
              <a:t>Materiel Solu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96920" y="1585800"/>
            <a:ext cx="8718120" cy="2057400"/>
            <a:chOff x="196920" y="1585800"/>
            <a:chExt cx="8718120" cy="2057400"/>
          </a:xfrm>
        </p:grpSpPr>
        <p:sp>
          <p:nvSpPr>
            <p:cNvPr id="272" name=""/>
            <p:cNvSpPr/>
            <p:nvPr/>
          </p:nvSpPr>
          <p:spPr>
            <a:xfrm>
              <a:off x="6019560" y="310968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1760" y="2195280"/>
              <a:ext cx="838080" cy="762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RQM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24680" y="2576520"/>
              <a:ext cx="761760" cy="761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USE I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1680" y="2576520"/>
              <a:ext cx="914400" cy="761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SHI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76560" y="1814400"/>
              <a:ext cx="83808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MATERIAL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SUPPLY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SUPPOR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7440" y="2881080"/>
              <a:ext cx="83844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ENGINEERING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FUNCT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61960" y="1814400"/>
              <a:ext cx="83808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DESIG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42840" y="2881080"/>
              <a:ext cx="83844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SUPPORT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DESIG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00"/>
                  </a:solidFill>
                  <a:latin typeface="Arial Black"/>
                </a:rPr>
                <a:t>(Supportability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n-GB" sz="600" spc="-1" strike="noStrike">
                  <a:solidFill>
                    <a:srgbClr val="ffff00"/>
                  </a:solidFill>
                  <a:latin typeface="Arial Black"/>
                </a:rPr>
                <a:t>Analysis )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99840" y="25765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57040" y="204300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57040" y="204300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57040" y="31860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81280" y="2957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3560" y="265212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209320" y="26524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209680" y="21952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09680" y="2195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00040" y="2271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352680" y="22716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361960" y="272880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361960" y="272844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61960" y="30337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62160" y="25765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1640" y="204300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00040" y="204300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81280" y="31860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62160" y="204300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1640" y="204300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71640" y="31860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95880" y="2957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248160" y="265212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647600" y="26524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4647960" y="21952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7960" y="21952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14640" y="2271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867280" y="22716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876560" y="272880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876560" y="272844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76560" y="30337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560" y="3643200"/>
              <a:ext cx="8458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26524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2652480"/>
              <a:ext cx="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828440" y="2576160"/>
              <a:ext cx="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04760" y="1662120"/>
              <a:ext cx="2362320" cy="182880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19360" y="1662120"/>
              <a:ext cx="1981080" cy="1828800"/>
            </a:xfrm>
            <a:prstGeom prst="rect">
              <a:avLst/>
            </a:prstGeom>
            <a:noFill/>
            <a:ln cap="rnd" w="1260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96080" y="29574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05360" y="31096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72040" y="295740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686440" y="29574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762760" y="295740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6524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9480" y="2652480"/>
              <a:ext cx="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6920" y="1585800"/>
              <a:ext cx="80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Capability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Requiremen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6840" y="189072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6840" y="250020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04560" y="1890720"/>
              <a:ext cx="0" cy="17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14440" y="2576520"/>
              <a:ext cx="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24480" y="1966680"/>
              <a:ext cx="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714640" y="1966680"/>
              <a:ext cx="609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05160" y="33382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05160" y="3338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90560" y="33382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0560" y="3338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6933960" y="2576520"/>
              <a:ext cx="58104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TEP Based Through Life Struc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7320" y="5059440"/>
            <a:ext cx="1955880" cy="5094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23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52480" y="5568840"/>
            <a:ext cx="2629080" cy="641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59520" y="5568840"/>
            <a:ext cx="1600200" cy="641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5120" y="53341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54360" y="556884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203, 212, 215, 216, 218, 2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45280" y="575316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2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3960" y="6210360"/>
            <a:ext cx="784872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O 10303 STEP Data Ex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5059440"/>
            <a:ext cx="5829480" cy="5094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239(PLCS) &amp; TR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05240" y="5753160"/>
            <a:ext cx="24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81560" y="5568840"/>
            <a:ext cx="2577960" cy="64152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19720" y="556884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210, 223,224, 238,2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552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Further Inform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ny F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SA/DTECH/WLS3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el: 01225 8830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ax: 01225 8857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-mail: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wsadtechwls3b@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  <a:hlinkClick r:id="rId2"/>
              </a:rPr>
              <a:t>wsa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  <a:hlinkClick r:id="rId3"/>
              </a:rPr>
              <a:t>.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  <a:hlinkClick r:id="rId4"/>
              </a:rPr>
              <a:t>dlo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  <a:hlinkClick r:id="rId5"/>
              </a:rPr>
              <a:t>.mod.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  <a:hlinkClick r:id="rId6"/>
              </a:rPr>
              <a:t>u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4520" y="207720"/>
            <a:ext cx="7886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066320"/>
            <a:ext cx="8821800" cy="470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049"/>
              </a:spcAft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ackr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049"/>
              </a:spcAft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ipbuilding Manufactu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049"/>
              </a:spcAft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ipe Be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049"/>
              </a:spcAft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049"/>
              </a:spcAft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Questions and Answ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343400" y="1447920"/>
            <a:ext cx="0" cy="388620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120" y="1197000"/>
            <a:ext cx="41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ffffff"/>
                </a:solidFill>
                <a:uFillTx/>
                <a:latin typeface="Arial Black"/>
              </a:rPr>
              <a:t>Capability Requirement to Materiel Solution Transformation Mod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447920"/>
            <a:ext cx="0" cy="38862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5440" y="3733920"/>
            <a:ext cx="991080" cy="304560"/>
            <a:chOff x="685440" y="3733920"/>
            <a:chExt cx="991080" cy="304560"/>
          </a:xfrm>
        </p:grpSpPr>
        <p:sp>
          <p:nvSpPr>
            <p:cNvPr id="109" name=""/>
            <p:cNvSpPr/>
            <p:nvPr/>
          </p:nvSpPr>
          <p:spPr>
            <a:xfrm flipH="1">
              <a:off x="685440" y="388620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0720" y="3733920"/>
              <a:ext cx="685800" cy="304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MOD H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28800" y="3733920"/>
            <a:ext cx="6781320" cy="304560"/>
            <a:chOff x="1828800" y="3733920"/>
            <a:chExt cx="6781320" cy="304560"/>
          </a:xfrm>
        </p:grpSpPr>
        <p:sp>
          <p:nvSpPr>
            <p:cNvPr id="112" name=""/>
            <p:cNvSpPr/>
            <p:nvPr/>
          </p:nvSpPr>
          <p:spPr>
            <a:xfrm>
              <a:off x="1828800" y="3733920"/>
              <a:ext cx="6400440" cy="304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IPTs Naval Bases, Industry Providers, Material Provider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314840" y="3886200"/>
              <a:ext cx="12952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440" y="4267080"/>
            <a:ext cx="3581280" cy="304920"/>
            <a:chOff x="685440" y="4267080"/>
            <a:chExt cx="3581280" cy="304920"/>
          </a:xfrm>
        </p:grpSpPr>
        <p:sp>
          <p:nvSpPr>
            <p:cNvPr id="115" name=""/>
            <p:cNvSpPr/>
            <p:nvPr/>
          </p:nvSpPr>
          <p:spPr>
            <a:xfrm flipH="1">
              <a:off x="685440" y="4419360"/>
              <a:ext cx="407160" cy="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11240" y="4267080"/>
              <a:ext cx="3255480" cy="304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99"/>
                  </a:solidFill>
                  <a:latin typeface="Arial Black"/>
                </a:rPr>
                <a:t>Design Decider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419720" y="4267080"/>
            <a:ext cx="4190400" cy="304920"/>
            <a:chOff x="4419720" y="4267080"/>
            <a:chExt cx="4190400" cy="304920"/>
          </a:xfrm>
        </p:grpSpPr>
        <p:sp>
          <p:nvSpPr>
            <p:cNvPr id="118" name=""/>
            <p:cNvSpPr/>
            <p:nvPr/>
          </p:nvSpPr>
          <p:spPr>
            <a:xfrm>
              <a:off x="4419720" y="4267080"/>
              <a:ext cx="3809520" cy="304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99"/>
                  </a:solidFill>
                  <a:latin typeface="Arial Black"/>
                </a:rPr>
                <a:t>Materiel, Material Providers &amp; Materiel User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229240" y="4419360"/>
              <a:ext cx="380880" cy="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62120" y="4800600"/>
            <a:ext cx="7772400" cy="228600"/>
            <a:chOff x="762120" y="4800600"/>
            <a:chExt cx="7772400" cy="228600"/>
          </a:xfrm>
        </p:grpSpPr>
        <p:sp>
          <p:nvSpPr>
            <p:cNvPr id="121" name=""/>
            <p:cNvSpPr/>
            <p:nvPr/>
          </p:nvSpPr>
          <p:spPr>
            <a:xfrm>
              <a:off x="762120" y="4800600"/>
              <a:ext cx="9144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NEE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4800600"/>
              <a:ext cx="243864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0000"/>
                  </a:solidFill>
                  <a:latin typeface="Arial Black"/>
                </a:rPr>
                <a:t>C A D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 [Info &amp; Knowledge Mgt]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720" y="4800600"/>
              <a:ext cx="411480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0000"/>
                  </a:solidFill>
                  <a:latin typeface="Arial Black"/>
                </a:rPr>
                <a:t>M       I        D</a:t>
              </a:r>
              <a:r>
                <a:rPr b="0" lang="en-GB" sz="1000" spc="-1" strike="noStrike">
                  <a:solidFill>
                    <a:srgbClr val="ffffff"/>
                  </a:solidFill>
                  <a:latin typeface="Arial Black"/>
                </a:rPr>
                <a:t>           [Materiel Activity]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87680" y="5029200"/>
            <a:ext cx="91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roject Initiator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4240" y="1371600"/>
            <a:ext cx="201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ritical Flow Model: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-  Excludes controls from Mgt Process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-  Simplified Mechanis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55720" y="3429000"/>
            <a:ext cx="62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85640" y="2233440"/>
            <a:ext cx="99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Black"/>
              </a:rPr>
              <a:t>Materiel Solu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6920" y="1585800"/>
            <a:ext cx="8718120" cy="2057400"/>
            <a:chOff x="196920" y="1585800"/>
            <a:chExt cx="8718120" cy="2057400"/>
          </a:xfrm>
        </p:grpSpPr>
        <p:sp>
          <p:nvSpPr>
            <p:cNvPr id="129" name=""/>
            <p:cNvSpPr/>
            <p:nvPr/>
          </p:nvSpPr>
          <p:spPr>
            <a:xfrm>
              <a:off x="6019560" y="310968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1760" y="2195280"/>
              <a:ext cx="838080" cy="762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RQM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24680" y="2576520"/>
              <a:ext cx="761760" cy="761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USE I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81680" y="2576520"/>
              <a:ext cx="914400" cy="761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SHI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6560" y="1814400"/>
              <a:ext cx="83808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MATERIAL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SUPPLY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SUPPOR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57440" y="2881080"/>
              <a:ext cx="83844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ENGINEERING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FUNCT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1960" y="1814400"/>
              <a:ext cx="83808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DESIG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42840" y="2881080"/>
              <a:ext cx="83844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SUPPORT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00"/>
                  </a:solidFill>
                  <a:latin typeface="Arial Black"/>
                </a:rPr>
                <a:t>DESIG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00"/>
                  </a:solidFill>
                  <a:latin typeface="Arial Black"/>
                </a:rPr>
                <a:t>(Supportability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n-GB" sz="600" spc="-1" strike="noStrike">
                  <a:solidFill>
                    <a:srgbClr val="ffff00"/>
                  </a:solidFill>
                  <a:latin typeface="Arial Black"/>
                </a:rPr>
                <a:t>Analysis )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99840" y="25765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57040" y="204300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7040" y="204300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57040" y="31860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1280" y="2957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733560" y="265212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209320" y="26524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209680" y="21952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2195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00040" y="2271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352680" y="22716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361960" y="272880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361960" y="272844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61960" y="30337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160" y="25765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1640" y="204300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040" y="204300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81280" y="31860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62160" y="204300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1640" y="204300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1640" y="31860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5880" y="29574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248160" y="265212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647600" y="26524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647960" y="21952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7960" y="21952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14640" y="2271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867280" y="22716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876560" y="272880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876560" y="272844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76560" y="30337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560" y="3643200"/>
              <a:ext cx="8458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480" y="26524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480" y="2652480"/>
              <a:ext cx="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828440" y="2576160"/>
              <a:ext cx="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04760" y="1662120"/>
              <a:ext cx="2362320" cy="182880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360" y="1662120"/>
              <a:ext cx="1981080" cy="1828800"/>
            </a:xfrm>
            <a:prstGeom prst="rect">
              <a:avLst/>
            </a:prstGeom>
            <a:noFill/>
            <a:ln cap="rnd" w="1260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96080" y="29574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05360" y="31096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2040" y="295740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86440" y="29574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762760" y="295740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480" y="26524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80" y="2652480"/>
              <a:ext cx="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6920" y="1585800"/>
              <a:ext cx="80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Capability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Arial Black"/>
                </a:rPr>
                <a:t>Requiremen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6840" y="189072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6840" y="250020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04560" y="1890720"/>
              <a:ext cx="0" cy="17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4440" y="2576520"/>
              <a:ext cx="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1966680"/>
              <a:ext cx="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714640" y="1966680"/>
              <a:ext cx="609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05160" y="33382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05160" y="3338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90560" y="33382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560" y="33382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6933960" y="2576520"/>
              <a:ext cx="58104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Through Life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duct Anomaly Dat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ilure/defect - inherent mal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760" indent="-957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mage - external influence (e.g. human or other failure or battle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760" indent="-957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orrect state - role change, mod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4400" y="-28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 Recent Examp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NOTT02-80D-20%20copy" descr=""/>
          <p:cNvPicPr/>
          <p:nvPr/>
        </p:nvPicPr>
        <p:blipFill>
          <a:blip r:embed="rId1"/>
          <a:stretch/>
        </p:blipFill>
        <p:spPr>
          <a:xfrm>
            <a:off x="4886280" y="665280"/>
            <a:ext cx="3774960" cy="5602320"/>
          </a:xfrm>
          <a:prstGeom prst="rect">
            <a:avLst/>
          </a:prstGeom>
          <a:ln w="0">
            <a:noFill/>
          </a:ln>
        </p:spPr>
      </p:pic>
      <p:pic>
        <p:nvPicPr>
          <p:cNvPr id="198" name="PA220175" descr=""/>
          <p:cNvPicPr/>
          <p:nvPr/>
        </p:nvPicPr>
        <p:blipFill>
          <a:blip r:embed="rId2"/>
          <a:stretch/>
        </p:blipFill>
        <p:spPr>
          <a:xfrm>
            <a:off x="247680" y="3029040"/>
            <a:ext cx="3851280" cy="2889000"/>
          </a:xfrm>
          <a:prstGeom prst="rect">
            <a:avLst/>
          </a:prstGeom>
          <a:ln w="0">
            <a:noFill/>
          </a:ln>
        </p:spPr>
      </p:pic>
      <p:pic>
        <p:nvPicPr>
          <p:cNvPr id="199" name="PA220188" descr=""/>
          <p:cNvPicPr/>
          <p:nvPr/>
        </p:nvPicPr>
        <p:blipFill>
          <a:blip r:embed="rId3"/>
          <a:stretch/>
        </p:blipFill>
        <p:spPr>
          <a:xfrm>
            <a:off x="1590840" y="488880"/>
            <a:ext cx="3695400" cy="27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hipbuilding Manufac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6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late Cu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late Be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late Fabr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l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ipe Manufac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iping Manufac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lwf0(Bend%20Mach%2006)" descr=""/>
          <p:cNvPicPr/>
          <p:nvPr/>
        </p:nvPicPr>
        <p:blipFill>
          <a:blip r:embed="rId1"/>
          <a:stretch/>
        </p:blipFill>
        <p:spPr>
          <a:xfrm>
            <a:off x="966960" y="857160"/>
            <a:ext cx="7278480" cy="50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951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iping Manufactu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35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ipe Be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lange Wel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ss Extr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ss D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0:40:49Z</dcterms:created>
  <dc:creator>Simon Dick</dc:creator>
  <dc:description/>
  <dc:language>en-US</dc:language>
  <cp:lastModifiedBy>Fry</cp:lastModifiedBy>
  <cp:lastPrinted>2000-09-10T15:50:14Z</cp:lastPrinted>
  <dcterms:modified xsi:type="dcterms:W3CDTF">2003-06-26T06:48:26Z</dcterms:modified>
  <cp:revision>54</cp:revision>
  <dc:subject>TRILS &amp; PLCS</dc:subject>
  <dc:title>WSA Logistic Support Data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S_Author">
    <vt:lpwstr>-Not assigned-</vt:lpwstr>
  </property>
  <property fmtid="{D5CDD505-2E9C-101B-9397-08002B2CF9AE}" pid="3" name="ES_Availability">
    <vt:lpwstr>-Not assigned-</vt:lpwstr>
  </property>
  <property fmtid="{D5CDD505-2E9C-101B-9397-08002B2CF9AE}" pid="4" name="ES_Classification">
    <vt:lpwstr>A.B,C,E,I,L,M,P,Q,R,S,T,U,W</vt:lpwstr>
  </property>
  <property fmtid="{D5CDD505-2E9C-101B-9397-08002B2CF9AE}" pid="5" name="ES_File Format">
    <vt:lpwstr>MS Powerpoint 97</vt:lpwstr>
  </property>
  <property fmtid="{D5CDD505-2E9C-101B-9397-08002B2CF9AE}" pid="6" name="ES_File Name">
    <vt:lpwstr>-Not assigned-</vt:lpwstr>
  </property>
  <property fmtid="{D5CDD505-2E9C-101B-9397-08002B2CF9AE}" pid="7" name="ES_Initiator">
    <vt:lpwstr>-Not assigned-</vt:lpwstr>
  </property>
  <property fmtid="{D5CDD505-2E9C-101B-9397-08002B2CF9AE}" pid="8" name="ES_Item Creation date">
    <vt:filetime>1979-12-31T22:00:00Z</vt:filetime>
  </property>
  <property fmtid="{D5CDD505-2E9C-101B-9397-08002B2CF9AE}" pid="9" name="ES_Item Number">
    <vt:lpwstr>Eurostep.?node?.?number?</vt:lpwstr>
  </property>
  <property fmtid="{D5CDD505-2E9C-101B-9397-08002B2CF9AE}" pid="10" name="ES_Owner">
    <vt:lpwstr>Eurostep Group</vt:lpwstr>
  </property>
  <property fmtid="{D5CDD505-2E9C-101B-9397-08002B2CF9AE}" pid="11" name="ES_Project Number">
    <vt:lpwstr>-Not assigned-</vt:lpwstr>
  </property>
  <property fmtid="{D5CDD505-2E9C-101B-9397-08002B2CF9AE}" pid="12" name="ES_ProjectPhase">
    <vt:lpwstr>-Single phase project-</vt:lpwstr>
  </property>
  <property fmtid="{D5CDD505-2E9C-101B-9397-08002B2CF9AE}" pid="13" name="ES_Status">
    <vt:lpwstr>-Not assigned-</vt:lpwstr>
  </property>
  <property fmtid="{D5CDD505-2E9C-101B-9397-08002B2CF9AE}" pid="14" name="ES_Template Author">
    <vt:lpwstr>ES_Template Author</vt:lpwstr>
  </property>
  <property fmtid="{D5CDD505-2E9C-101B-9397-08002B2CF9AE}" pid="15" name="ES_Template Availability">
    <vt:lpwstr>Eurostep Group</vt:lpwstr>
  </property>
  <property fmtid="{D5CDD505-2E9C-101B-9397-08002B2CF9AE}" pid="16" name="ES_Template Creation date">
    <vt:filetime>1999-06-19T22:00:00Z</vt:filetime>
  </property>
  <property fmtid="{D5CDD505-2E9C-101B-9397-08002B2CF9AE}" pid="17" name="ES_Template File Name">
    <vt:lpwstr>New Logo - No Banner.pot</vt:lpwstr>
  </property>
  <property fmtid="{D5CDD505-2E9C-101B-9397-08002B2CF9AE}" pid="18" name="ES_Template Initiator">
    <vt:lpwstr>Brad Harris</vt:lpwstr>
  </property>
  <property fmtid="{D5CDD505-2E9C-101B-9397-08002B2CF9AE}" pid="19" name="ES_Template Number">
    <vt:lpwstr>Eurostep.ESDEPC01.000001</vt:lpwstr>
  </property>
  <property fmtid="{D5CDD505-2E9C-101B-9397-08002B2CF9AE}" pid="20" name="ES_Template Owner">
    <vt:lpwstr>Eurostep Group</vt:lpwstr>
  </property>
  <property fmtid="{D5CDD505-2E9C-101B-9397-08002B2CF9AE}" pid="21" name="ES_Template Project Number">
    <vt:lpwstr>2031, Quality Assurance</vt:lpwstr>
  </property>
  <property fmtid="{D5CDD505-2E9C-101B-9397-08002B2CF9AE}" pid="22" name="ES_Template Status">
    <vt:lpwstr>Draft</vt:lpwstr>
  </property>
  <property fmtid="{D5CDD505-2E9C-101B-9397-08002B2CF9AE}" pid="23" name="ES_Template Title">
    <vt:lpwstr>New Logo - No Banner.pot</vt:lpwstr>
  </property>
  <property fmtid="{D5CDD505-2E9C-101B-9397-08002B2CF9AE}" pid="24" name="ES_Template Version Creation Date">
    <vt:lpwstr>11.5.99</vt:lpwstr>
  </property>
  <property fmtid="{D5CDD505-2E9C-101B-9397-08002B2CF9AE}" pid="25" name="ES_Template Version Number">
    <vt:r8>0.1</vt:r8>
  </property>
  <property fmtid="{D5CDD505-2E9C-101B-9397-08002B2CF9AE}" pid="26" name="ES_Title">
    <vt:lpwstr>-Not assigned-</vt:lpwstr>
  </property>
  <property fmtid="{D5CDD505-2E9C-101B-9397-08002B2CF9AE}" pid="27" name="ES_Version Creation Date">
    <vt:filetime>1979-12-31T22:00:00Z</vt:filetime>
  </property>
  <property fmtid="{D5CDD505-2E9C-101B-9397-08002B2CF9AE}" pid="28" name="ES_Version Number">
    <vt:lpwstr>0,1</vt:lpwstr>
  </property>
</Properties>
</file>