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Funchal N001 2001-02-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00E216B7-476B-42E6-A479-5D1D18ED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66440" y="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TC184/SC4/WG3/Myrtle Beach/N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mplishments in 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RM and AIM of AP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RM of AP-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IM of 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STEP-NC Milling Model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STEP-NC Turning Model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STEP-NC EDM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T23 on Contour cutting and Pipe 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solution of Implementation Issu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4 team to investigate dividing AP-238 into conformanc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1 SC1 business c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2 SC4 busines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1 team to investigate use of STIX library for converting ARM implementation to A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 in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 AP-240 CD ballot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SC1/Wg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T23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resolution of STEP-NC implementatio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3-03-13T19:35:48Z</dcterms:modified>
  <cp:revision>135</cp:revision>
  <dc:subject/>
  <dc:title>WG3 Presentation to SC4 Opening Plenary</dc:title>
</cp:coreProperties>
</file>