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88175" cy="9274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7600" cy="9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4621-8AB8-4730-AB5D-C97A3E8FAFC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95928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928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5928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5928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5928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5928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2040" y="44035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95928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928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928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928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5928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928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79EE-EBDE-4C2A-9C96-EB065AB5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189-774F-49E1-AAC3-61BF77D8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9851-4E30-4D3C-866F-8101DB65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7AD7-6A54-4E9E-888F-D6185EFD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62C-1697-4EE0-87C9-64035612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643A-BD25-420D-B739-C05AE357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B24B-75CE-4160-A91B-672B2B29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F6D-2540-4B67-83E4-F6C30699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6542-983E-4019-9C84-7C6A67FD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F0A-F0A5-40BF-9E0E-06BACF2B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C5D-3E65-4B8F-9BB4-F35CE852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C11C-17BC-444B-9430-7432AF15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7920" y="6248520"/>
            <a:ext cx="441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34160" y="647676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2A8C-3202-4C00-8182-ACBE6E57C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5970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5970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970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5970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579132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5970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 PARAMETRIC  EVALUATOR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DVANCED  INTEGRATED MATHEMATICAL  SYSTEM</a:t>
            </a:r>
            <a:br>
              <a:rPr sz="4000"/>
            </a:br>
            <a:br>
              <a:rPr sz="28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Brief Overview &amp; NC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5600" y="5932440"/>
            <a:ext cx="2100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m Me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eing Technical F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DS, Information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65160" y="498600"/>
            <a:ext cx="20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450720"/>
            <a:ext cx="3485880" cy="1073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287600" y="5943600"/>
            <a:ext cx="477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yright Unpublished –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l rights reserved under the copyright laws by The Boeing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930240"/>
            <a:ext cx="7696080" cy="5546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7160" y="1219320"/>
            <a:ext cx="31251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cedural Offset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ed by CA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1905120"/>
            <a:ext cx="0" cy="152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1752480"/>
            <a:ext cx="1447560" cy="1447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1905120"/>
            <a:ext cx="9144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0480"/>
            <a:ext cx="91440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FFSET OF FOREIGN PROCEDURAL SURFACES IN CATIA V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AIMS/PE Interf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001000" cy="5715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0480" y="0"/>
            <a:ext cx="9083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MS SHADOW SURFACE IN CATIA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AIMS/PE Interf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54800" cy="4741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228600"/>
            <a:ext cx="9144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IGN GEOMETRY IN UNI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Without Translation or Approximation – AIMS/PE Inter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7280" y="380880"/>
            <a:ext cx="849312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MS ACCESS TO OTH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Bi-Directional Communication &amp; Functiona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84760" y="34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3627360"/>
            <a:ext cx="1752840" cy="83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IMS  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4479840"/>
            <a:ext cx="0" cy="44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24480" y="4923000"/>
            <a:ext cx="18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19360" y="4923000"/>
            <a:ext cx="18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4937040"/>
            <a:ext cx="0" cy="44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5380200"/>
            <a:ext cx="129564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86920" y="5318280"/>
            <a:ext cx="1197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r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5365800"/>
            <a:ext cx="129564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15720" y="5303880"/>
            <a:ext cx="1197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r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29400" y="5365800"/>
            <a:ext cx="12952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20840" y="5303880"/>
            <a:ext cx="1197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r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4937040"/>
            <a:ext cx="0" cy="44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4937040"/>
            <a:ext cx="0" cy="44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1758960"/>
            <a:ext cx="1752840" cy="128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D/Soli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2800" y="2813040"/>
            <a:ext cx="1736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52920" y="2727360"/>
            <a:ext cx="1695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 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30481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1752480"/>
            <a:ext cx="4572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812960"/>
            <a:ext cx="3207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1752480"/>
            <a:ext cx="198144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919160"/>
            <a:ext cx="1981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79640" y="1828800"/>
            <a:ext cx="3207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1752480"/>
            <a:ext cx="4572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5" idx="3"/>
            <a:endCxn id="120" idx="1"/>
          </p:cNvCxnSpPr>
          <p:nvPr/>
        </p:nvCxnSpPr>
        <p:spPr>
          <a:xfrm>
            <a:off x="3276720" y="2400120"/>
            <a:ext cx="76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98680" y="3200400"/>
            <a:ext cx="34632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vanced Curve &amp; Surface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tics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ser Beam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ational Fluid Dynam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Ex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ecial CAD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685800" y="735120"/>
          <a:ext cx="7772400" cy="597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35120"/>
                    <a:ext cx="7772400" cy="59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IC PART WITH PROCEDURAL SU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5970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5970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5970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5970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579132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5970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129492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s Presentation of The Parametric Evaluator (PE) and Advanced Integrated Mathematical System (AIMS) is for Information Purposes.  It is Not an Endorsement of Any Specific Effort Regarding Automated-NC.  However, it Does Propose  the Use of the PE and Other AIMS Operating Concepts in All Automated-NC Effo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65160" y="498600"/>
            <a:ext cx="20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25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ferring High-Precision Complex Curves and Surfaces from the Defining System to Down-Stream Applications and Using them in those Applications without Change/Approx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4648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3962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PE and AIMS Type Processing of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jor Production Use since 197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VE AND SURFAC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y Mathematical Ways to Represent Curves and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aly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RBS/Rational Parametric Polynom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miting but Mathematically Simple and Explicit (Parametric Formula).  One Size Fits All Approach - Can Compromise Purity and Exactness of Sha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 Limiting but Mathematically Complex.  Usually Many Systems of Non-Linear Equations all Interrelated to Produce Implicit Definition of Curve or Surface.  Captures Purity of  Shape; no Approximation.  Usually no Explicit Formula or Parameter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ffset-1" descr=""/>
          <p:cNvPicPr/>
          <p:nvPr/>
        </p:nvPicPr>
        <p:blipFill>
          <a:blip r:embed="rId1"/>
          <a:srcRect l="1488" t="1479" r="2404" b="2412"/>
          <a:stretch/>
        </p:blipFill>
        <p:spPr>
          <a:xfrm>
            <a:off x="533520" y="299880"/>
            <a:ext cx="8001000" cy="6197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 OFFSET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1080" y="428148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e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05960" y="3581280"/>
            <a:ext cx="174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fset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shadow-2" descr=""/>
          <p:cNvPicPr/>
          <p:nvPr/>
        </p:nvPicPr>
        <p:blipFill>
          <a:blip r:embed="rId1"/>
          <a:srcRect l="571" t="564" r="2404" b="2412"/>
          <a:stretch/>
        </p:blipFill>
        <p:spPr>
          <a:xfrm>
            <a:off x="457200" y="241200"/>
            <a:ext cx="8077320" cy="6256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42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MS SHADOW SURFACE (PROCED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76440" y="1766880"/>
            <a:ext cx="239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structing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6520" y="4495680"/>
            <a:ext cx="22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ing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6960" y="358128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dow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809880"/>
            <a:ext cx="13716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aper-1" descr=""/>
          <p:cNvPicPr/>
          <p:nvPr/>
        </p:nvPicPr>
        <p:blipFill>
          <a:blip r:embed="rId1"/>
          <a:srcRect l="571" t="564" r="571" b="2736"/>
          <a:stretch/>
        </p:blipFill>
        <p:spPr>
          <a:xfrm>
            <a:off x="457200" y="533520"/>
            <a:ext cx="8229600" cy="5867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498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DOW SURFACES ON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amp; FUNCTIONAL OFFSET SU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11334" descr=""/>
          <p:cNvPicPr/>
          <p:nvPr/>
        </p:nvPicPr>
        <p:blipFill>
          <a:blip r:embed="rId1"/>
          <a:stretch/>
        </p:blipFill>
        <p:spPr>
          <a:xfrm>
            <a:off x="85680" y="828720"/>
            <a:ext cx="8972640" cy="5877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MS-DEFINED PROCEDURAL SURFACES IN CATIA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ATIA V5/AIMS Interface Workshop - Paris/June 19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0" r="0" b="2469"/>
          <a:stretch/>
        </p:blipFill>
        <p:spPr>
          <a:xfrm>
            <a:off x="609480" y="838080"/>
            <a:ext cx="7925040" cy="5639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7632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FOREIGN PROCEDURAL SURFACES IN CATIA V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Without Translation or Approximation - AIMS/PE Interf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6T14:50:44Z</dcterms:created>
  <dc:creator>Tom Melson</dc:creator>
  <dc:description/>
  <cp:keywords>AIMS parametric Evaluator</cp:keywords>
  <dc:language>en-US</dc:language>
  <cp:lastModifiedBy>hardwick</cp:lastModifiedBy>
  <dcterms:modified xsi:type="dcterms:W3CDTF">2003-03-11T16:50:53Z</dcterms:modified>
  <cp:revision>259</cp:revision>
  <dc:subject/>
  <dc:title>AIMS-PE NC</dc:title>
</cp:coreProperties>
</file>