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B9C0-C12E-4C06-952A-05687D87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138-ABDD-4ECA-9B23-06B76C47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792-E7C2-44B3-8620-932D40D5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6FD-F620-476E-B648-0A9023BA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DD1-44B5-4609-8159-49C563DC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DDAE-A7C3-46BD-81FF-710057A2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C22-A84A-4855-999F-67BEB207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62D-B0DA-4868-A538-A211EABA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809-EDC2-4428-83F2-55BDEF6B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F096-A695-4DDF-9181-EB1911BC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A7BF-5557-492C-864B-E1D8AFE6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8AD-45BA-46DB-8893-4AF11CFF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0CE7-A225-457F-B8B0-86F651ABA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 TC 29/WG 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s March 10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dvik Coromant/ Jonas Nordström/ 2003-03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meeting held since last SC4 meet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team Chester November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ed meeting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team Furth/Paris April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TC29 WG34 meeting April 10:th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TC29 meeting April 11:th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team august/september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dvik Coromant/ Jonas Nordström/ 2003-03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8880" cy="4121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dvik Coromant/ Jonas Nordström/ 2003-03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ctionar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O 13399 – 2 Cutting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O 13399 – 3 Tool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O 13399 – 4 Adaptive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O 13399 – 5 Auxiliary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O 13399 – 100 Definitions, principles and methods (specification for the creation of dictionaries for ISO 133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dvik Coromant/ Jonas Nordström/ 2003-03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pplication of ISO 13584 to cutting tools has been 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xpertise of Sandvik and Kennametal has been captured and comb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pecification for the development of future dictionaries has been esta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ictionary supports the information model to provide a dynamic solution for future developments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ctionary 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dvik Coromant/ Jonas Nordström/ 2003-03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test/guidelines will start and be developed during the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dvik Coromant/ Jonas Nordström/ 2003-03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S2176</cp:lastModifiedBy>
  <dcterms:modified xsi:type="dcterms:W3CDTF">2003-03-10T22:28:55Z</dcterms:modified>
  <cp:revision>40</cp:revision>
  <dc:subject/>
  <dc:title>PowerPoint Presentation</dc:title>
</cp:coreProperties>
</file>