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San Diego N000 2003-02-1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A43BE62D-2F76-4747-A149-21914E03E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inimil" descr=""/>
          <p:cNvPicPr/>
          <p:nvPr/>
        </p:nvPicPr>
        <p:blipFill>
          <a:blip r:embed="rId1"/>
          <a:stretch/>
        </p:blipFill>
        <p:spPr>
          <a:xfrm>
            <a:off x="4857840" y="1716120"/>
            <a:ext cx="4209840" cy="5141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Se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40 sent out for C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NWI in p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DIS in p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tepnc-smp-part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19051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San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on format for STEP-NC exchange 14649 or AP-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P infor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with Ship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with Para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with SC1/Wg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San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2003-03-10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minute updates on al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3-03-11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24 review &amp; AP-240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Parametrics on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19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38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surface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San Diego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3-03-12, 103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3-03-12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with Implementors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ate on what format to use for STEP-NC data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49 P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 P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for San Diego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, 2003-03-13, 0800-1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meeting with ship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, 2003-03-12, 1030-1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meeting with SC1/Wg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11 Tools for Mill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2 Data for Tu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21 Tools for Tu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3 Data for Wire-E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4 Data for Sink-ED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5 Wood, glass and stone cutting and 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data for measur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data for machining cen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3-03-13T23:43:02Z</dcterms:modified>
  <cp:revision>135</cp:revision>
  <dc:subject/>
  <dc:title>WG3 Presentation to SC4 Opening Plenary</dc:title>
</cp:coreProperties>
</file>