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17840" y="35470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788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924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4100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1784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2924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4100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17840" y="1079280"/>
            <a:ext cx="6245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6245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8920" y="178200"/>
            <a:ext cx="72136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17840" y="1079280"/>
            <a:ext cx="6245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788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17840" y="35470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788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24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41000" y="10792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1784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2924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41000" y="3547080"/>
            <a:ext cx="20106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6245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8920" y="178200"/>
            <a:ext cx="72136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7880" y="35470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784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7880" y="1079280"/>
            <a:ext cx="30474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17840" y="3547080"/>
            <a:ext cx="62452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920" y="178200"/>
            <a:ext cx="72136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920" y="574560"/>
            <a:ext cx="899784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920" y="6153120"/>
            <a:ext cx="899784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17840" y="6246720"/>
          <a:ext cx="102852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7840" y="6246720"/>
                    <a:ext cx="10285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8176320" y="5991120"/>
            <a:ext cx="889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© WZL RWTH Aach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7120" y="6599160"/>
            <a:ext cx="287964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</a:t>
            </a:r>
            <a:fld id="{17F8402B-B259-4D5F-BB3C-DCB4A90B8D74}" type="slidenum">
              <a:rPr b="0" lang="en-GB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517840" y="1079280"/>
            <a:ext cx="6245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171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171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1713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8920" y="574560"/>
            <a:ext cx="899784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6153120"/>
            <a:ext cx="899784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17840" y="6246720"/>
          <a:ext cx="102852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7840" y="6246720"/>
                    <a:ext cx="10285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7840" y="1258560"/>
            <a:ext cx="57578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07120" y="6599160"/>
            <a:ext cx="287964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</a:t>
            </a:r>
            <a:fld id="{0B234853-9159-4438-A7CB-AA85C1879BCF}" type="slidenum">
              <a:rPr b="0" lang="en-GB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609480"/>
            <a:ext cx="876312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828800"/>
            <a:ext cx="876312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200400"/>
            <a:ext cx="8763120" cy="27432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8920" y="-187560"/>
            <a:ext cx="43149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tion of Machin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685800"/>
            <a:ext cx="11430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523880"/>
            <a:ext cx="11430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2819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105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0" idx="3"/>
            <a:endCxn id="91" idx="0"/>
          </p:cNvCxnSpPr>
          <p:nvPr/>
        </p:nvCxnSpPr>
        <p:spPr>
          <a:xfrm>
            <a:off x="3276720" y="1066680"/>
            <a:ext cx="2247840" cy="4575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3504240" y="6858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3"/>
            <a:endCxn id="92" idx="1"/>
          </p:cNvCxnSpPr>
          <p:nvPr/>
        </p:nvCxnSpPr>
        <p:spPr>
          <a:xfrm>
            <a:off x="6095880" y="1904760"/>
            <a:ext cx="686160" cy="1296000"/>
          </a:xfrm>
          <a:prstGeom prst="bentConnector3">
            <a:avLst>
              <a:gd name="adj1" fmla="val 49973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518520" y="198108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1" idx="1"/>
            <a:endCxn id="99" idx="3"/>
          </p:cNvCxnSpPr>
          <p:nvPr/>
        </p:nvCxnSpPr>
        <p:spPr>
          <a:xfrm flipV="1" rot="10800000">
            <a:off x="4191120" y="1904400"/>
            <a:ext cx="762120" cy="1296000"/>
          </a:xfrm>
          <a:prstGeom prst="bentConnector3">
            <a:avLst>
              <a:gd name="adj1" fmla="val 50047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429000" y="198108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u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819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9" idx="2"/>
            <a:endCxn id="93" idx="0"/>
          </p:cNvCxnSpPr>
          <p:nvPr/>
        </p:nvCxnSpPr>
        <p:spPr>
          <a:xfrm rot="5400000">
            <a:off x="2057040" y="3543480"/>
            <a:ext cx="1524600" cy="160056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648320" y="5105520"/>
            <a:ext cx="121896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9" idx="2"/>
            <a:endCxn id="102" idx="0"/>
          </p:cNvCxnSpPr>
          <p:nvPr/>
        </p:nvCxnSpPr>
        <p:spPr>
          <a:xfrm flipH="1" rot="16200000">
            <a:off x="3676320" y="3524040"/>
            <a:ext cx="1524600" cy="163872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2" idx="2"/>
            <a:endCxn id="105" idx="0"/>
          </p:cNvCxnSpPr>
          <p:nvPr/>
        </p:nvCxnSpPr>
        <p:spPr>
          <a:xfrm flipH="1" rot="16200000">
            <a:off x="7009920" y="3924000"/>
            <a:ext cx="1524600" cy="8388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620120" y="5105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800" y="3581280"/>
            <a:ext cx="13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97640" y="3581280"/>
            <a:ext cx="13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358128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chin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2767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STEP-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120" y="1905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AP 240 </a:t>
            </a:r>
            <a:r>
              <a:rPr b="0" lang="de-DE" sz="2000" spc="-1" strike="noStrike">
                <a:solidFill>
                  <a:srgbClr val="0033cc"/>
                </a:solidFill>
                <a:latin typeface="Arial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2860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STEP-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0560" y="6858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 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155880" y="4112640"/>
            <a:ext cx="4852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Mach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155880" y="1928880"/>
            <a:ext cx="485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155880" y="760320"/>
            <a:ext cx="4852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52480" y="5486400"/>
            <a:ext cx="99072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920" y="-187560"/>
            <a:ext cx="3013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chining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762120"/>
            <a:ext cx="3581280" cy="2361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ometr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 203, IR 4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685800"/>
            <a:ext cx="4495680" cy="2895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es &amp; Sequence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 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1981080"/>
            <a:ext cx="5334120" cy="3886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chining Working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rations, Technology, Strateg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O 146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2057400"/>
            <a:ext cx="2971800" cy="1752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ology 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es &amp; Sequence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O 146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5181480"/>
            <a:ext cx="1295640" cy="838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3720" y="6094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066320" y="990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800" y="4708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458200" y="2971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009920" y="3276360"/>
            <a:ext cx="129564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2080" y="548640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4038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81680" y="48765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5720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752480" y="44953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2667240" cy="1447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xiliary geometr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O 146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257440" y="3809880"/>
            <a:ext cx="2895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8920" y="-187560"/>
            <a:ext cx="3013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chining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3623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90720" y="1371600"/>
            <a:ext cx="4572000" cy="1981080"/>
            <a:chOff x="990720" y="1371600"/>
            <a:chExt cx="4572000" cy="1981080"/>
          </a:xfrm>
        </p:grpSpPr>
        <p:sp>
          <p:nvSpPr>
            <p:cNvPr id="138" name=""/>
            <p:cNvSpPr/>
            <p:nvPr/>
          </p:nvSpPr>
          <p:spPr>
            <a:xfrm>
              <a:off x="990720" y="1371600"/>
              <a:ext cx="914400" cy="1981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76720" y="1942920"/>
              <a:ext cx="2286000" cy="837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5120" y="1638000"/>
              <a:ext cx="1371600" cy="1447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ap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905120" y="1371600"/>
            <a:ext cx="1371600" cy="2286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371600"/>
            <a:ext cx="2286000" cy="53352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3124080"/>
            <a:ext cx="22860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‘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2819520"/>
            <a:ext cx="22860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981080"/>
            <a:ext cx="228600" cy="990720"/>
          </a:xfrm>
          <a:custGeom>
            <a:avLst/>
            <a:gdLst>
              <a:gd name="textAreaLeft" fmla="*/ 30600 w 228600"/>
              <a:gd name="textAreaRight" fmla="*/ 198000 w 2286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09720" y="1523880"/>
            <a:ext cx="11430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8400" y="114300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/ form fea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ted by 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410080" y="2743200"/>
            <a:ext cx="10670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97560" y="2514600"/>
            <a:ext cx="282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 adds geometr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to describ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mes to be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10080" y="2895480"/>
            <a:ext cx="10670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3124080"/>
            <a:ext cx="1371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441972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plan (use of several machine tools and technologies) requires to machine geometries/volumes which are not directly related to the design feature. The final executing NC cannot determine this process plan, as it is just a milling NC or turning NC and has no idea about hardening, grinding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19520" y="4952880"/>
            <a:ext cx="36576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&gt;&gt; STEP-NC &lt;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09480"/>
            <a:ext cx="4114800" cy="426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09480"/>
            <a:ext cx="4114800" cy="426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560" y="178200"/>
            <a:ext cx="3252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chining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676520"/>
            <a:ext cx="1905120" cy="3047760"/>
          </a:xfrm>
          <a:prstGeom prst="can">
            <a:avLst>
              <a:gd name="adj" fmla="val 113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chine Da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xes‘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xes kin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to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feed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accel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ff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1295280"/>
            <a:ext cx="1905120" cy="3048120"/>
          </a:xfrm>
          <a:prstGeom prst="can">
            <a:avLst>
              <a:gd name="adj" fmla="val 113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ol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l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l wear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 of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371600"/>
            <a:ext cx="1905120" cy="3048120"/>
          </a:xfrm>
          <a:prstGeom prst="can">
            <a:avLst>
              <a:gd name="adj" fmla="val 113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ailable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ailable machin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cess 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tting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er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1676520"/>
            <a:ext cx="1905120" cy="3047760"/>
          </a:xfrm>
          <a:prstGeom prst="can">
            <a:avLst>
              <a:gd name="adj" fmla="val 113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ol Cata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l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l us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6240" y="6094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 Planning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AP, CAM, SF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609480"/>
            <a:ext cx="23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 Executio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 / Machine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9960" y="434340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 sto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8880" y="403848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 sto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59480" y="434340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 sto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0560" y="396252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 sto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0360" y="4952880"/>
            <a:ext cx="35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irements Pro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4" idx="2"/>
            <a:endCxn id="167" idx="1"/>
          </p:cNvCxnSpPr>
          <p:nvPr/>
        </p:nvCxnSpPr>
        <p:spPr>
          <a:xfrm flipH="1" rot="16200000">
            <a:off x="2452320" y="4632840"/>
            <a:ext cx="275400" cy="76284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7" idx="3"/>
            <a:endCxn id="155" idx="2"/>
          </p:cNvCxnSpPr>
          <p:nvPr/>
        </p:nvCxnSpPr>
        <p:spPr>
          <a:xfrm flipV="1">
            <a:off x="6472080" y="4876200"/>
            <a:ext cx="462960" cy="27540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968920" y="56386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ort of execu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70" idx="1"/>
          </p:cNvCxnSpPr>
          <p:nvPr/>
        </p:nvCxnSpPr>
        <p:spPr>
          <a:xfrm rot="10800000">
            <a:off x="1675800" y="4952160"/>
            <a:ext cx="1296000" cy="885240"/>
          </a:xfrm>
          <a:prstGeom prst="bentConnector3">
            <a:avLst>
              <a:gd name="adj1" fmla="val 101444"/>
            </a:avLst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endCxn id="170" idx="3"/>
          </p:cNvCxnSpPr>
          <p:nvPr/>
        </p:nvCxnSpPr>
        <p:spPr>
          <a:xfrm flipH="1">
            <a:off x="6048000" y="5028120"/>
            <a:ext cx="1419840" cy="808920"/>
          </a:xfrm>
          <a:prstGeom prst="bentConnector3">
            <a:avLst>
              <a:gd name="adj1" fmla="val -1547"/>
            </a:avLst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029200" y="762120"/>
            <a:ext cx="3809880" cy="5105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8560" y="178200"/>
            <a:ext cx="3252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chining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36480" y="2743200"/>
            <a:ext cx="295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 value: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feed</a:t>
            </a:r>
            <a:r>
              <a:rPr b="1" lang="en-GB" sz="1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= 10m/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295280"/>
            <a:ext cx="11430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2"/>
            <a:endCxn id="175" idx="1"/>
          </p:cNvCxnSpPr>
          <p:nvPr/>
        </p:nvCxnSpPr>
        <p:spPr>
          <a:xfrm flipH="1" rot="16200000">
            <a:off x="844200" y="2240640"/>
            <a:ext cx="870840" cy="50364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5181480" y="1295280"/>
            <a:ext cx="20574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5" idx="3"/>
            <a:endCxn id="178" idx="1"/>
          </p:cNvCxnSpPr>
          <p:nvPr/>
        </p:nvCxnSpPr>
        <p:spPr>
          <a:xfrm flipV="1">
            <a:off x="4495320" y="1675800"/>
            <a:ext cx="686520" cy="1251720"/>
          </a:xfrm>
          <a:prstGeom prst="bentConnector3">
            <a:avLst>
              <a:gd name="adj1" fmla="val 50000"/>
            </a:avLst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181480" y="2666880"/>
            <a:ext cx="20574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inematik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4191120"/>
            <a:ext cx="20574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xes Velocit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2"/>
            <a:endCxn id="180" idx="0"/>
          </p:cNvCxnSpPr>
          <p:nvPr/>
        </p:nvCxnSpPr>
        <p:spPr>
          <a:xfrm flipV="1" rot="10800000">
            <a:off x="6209640" y="2057040"/>
            <a:ext cx="1080" cy="61020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2"/>
            <a:endCxn id="181" idx="0"/>
          </p:cNvCxnSpPr>
          <p:nvPr/>
        </p:nvCxnSpPr>
        <p:spPr>
          <a:xfrm flipV="1" rot="10800000">
            <a:off x="6209640" y="3428640"/>
            <a:ext cx="1080" cy="76284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6706440" y="22096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ed = 10 m/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6440" y="367200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ed = 10 m/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6440" y="50292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feed = 7 m/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47520" y="4235400"/>
            <a:ext cx="1575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7   m/mi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12 m/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V="1" rot="10800000">
            <a:off x="6209640" y="4952520"/>
            <a:ext cx="1080" cy="61056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3276720" y="304812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4343040" y="4267080"/>
            <a:ext cx="2438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114800" y="3581280"/>
            <a:ext cx="380880" cy="106704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343400"/>
            <a:ext cx="441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C machine tool can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er than its mechanic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w to 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C program is a proposal, tha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C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houl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nsider as a guide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029200" y="762120"/>
            <a:ext cx="3962520" cy="3429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560" y="178200"/>
            <a:ext cx="32526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chining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295280"/>
            <a:ext cx="114300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5" idx="2"/>
          </p:cNvCxnSpPr>
          <p:nvPr/>
        </p:nvCxnSpPr>
        <p:spPr>
          <a:xfrm flipH="1" rot="16200000">
            <a:off x="540360" y="2240280"/>
            <a:ext cx="870840" cy="50400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5181480" y="990720"/>
            <a:ext cx="16002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9" idx="3"/>
            <a:endCxn id="197" idx="1"/>
          </p:cNvCxnSpPr>
          <p:nvPr/>
        </p:nvCxnSpPr>
        <p:spPr>
          <a:xfrm flipV="1">
            <a:off x="2393640" y="1371240"/>
            <a:ext cx="2788200" cy="1404000"/>
          </a:xfrm>
          <a:prstGeom prst="bentConnector3">
            <a:avLst>
              <a:gd name="adj1" fmla="val 50000"/>
            </a:avLst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7" idx="2"/>
            <a:endCxn id="201" idx="1"/>
          </p:cNvCxnSpPr>
          <p:nvPr/>
        </p:nvCxnSpPr>
        <p:spPr>
          <a:xfrm flipH="1" rot="16200000">
            <a:off x="5542560" y="2190600"/>
            <a:ext cx="1524960" cy="64836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6567480" y="4265640"/>
            <a:ext cx="249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l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tting edge = …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ngth = 110.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890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9520" y="25909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M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2424240"/>
          <a:ext cx="476280" cy="91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24240"/>
                    <a:ext cx="47628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830240" y="2895480"/>
            <a:ext cx="24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Cutting edge = ….</a:t>
            </a:r>
            <a:br>
              <a:rPr sz="1800"/>
            </a:b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Length = 110.123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32520" y="4267080"/>
          <a:ext cx="47628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2520" y="4267080"/>
                    <a:ext cx="4762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6629400" y="2895480"/>
            <a:ext cx="190512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ol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5560" y="3657600"/>
            <a:ext cx="339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ol status from Jan.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4920" y="2117880"/>
            <a:ext cx="283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ol magazine statu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March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267080" y="36572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57800" y="25146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800600" y="2743200"/>
            <a:ext cx="380880" cy="106668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843440"/>
            <a:ext cx="8991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O 14649 delivers all necessary data to take decisions and to machine the part. Even as the ISO 14649 has to contain a “running” machining task descriptive, its parameters might be adapted by the 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V="1" rot="10800000">
            <a:off x="7619400" y="3657240"/>
            <a:ext cx="1080" cy="610200"/>
          </a:xfrm>
          <a:prstGeom prst="bentConnector2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8560" y="178200"/>
            <a:ext cx="2965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ime Data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685800"/>
            <a:ext cx="3657600" cy="30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ventional G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10 G01 X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2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-5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3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2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4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2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5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-2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6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-20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70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685800"/>
            <a:ext cx="5105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O 146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11=MACHINING_WORKIGNSTEP(….)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12=ROUND_HOLE(….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13=SIDE_ROUGH_MILLING (….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3429000"/>
            <a:ext cx="61722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P 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52712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11=MACHINING_WORKIGNSTEP(….)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12=ROUND_HOLE(….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282=PROCESS_PROPERTY_ASSOCIATION(…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218=ACTION_RESOURCE_TYPE(…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286=PROPERTY_PROCESS(…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287=MACHINING_WORKINGSTEP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438280"/>
            <a:ext cx="312444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sequen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low leve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2286000"/>
            <a:ext cx="312444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task 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powerful data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4876920"/>
            <a:ext cx="426744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task oriented like ISO 146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elements with few conten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exponential number of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9:14:13Z</dcterms:created>
  <dc:creator>Jochen Wolf</dc:creator>
  <dc:description/>
  <dc:language>en-US</dc:language>
  <cp:lastModifiedBy>Merlin/Assistant</cp:lastModifiedBy>
  <dcterms:modified xsi:type="dcterms:W3CDTF">2003-03-07T13:51:52Z</dcterms:modified>
  <cp:revision>33</cp:revision>
  <dc:subject/>
  <dc:title>IMS project High Tech Intermediate report on the development progress since the last review meeting</dc:title>
</cp:coreProperties>
</file>