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C55-2A4D-4070-8F4A-A19C461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264-0807-463C-8917-90174BB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FAA-4AC0-4702-8F9A-9492A1D2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0B1-48A3-4BA4-BCA3-79AAE40C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092-C4EF-45C9-82C9-6E27ADD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417-C360-4CB5-A344-A4C0F044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97B-C783-41B6-A5B7-92E4E62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3C8-B0E5-430C-BD28-DC57E5B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2A9-0FF7-4D7B-9C7F-1BF2D4D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ABB-AE2F-4885-92CA-AFC4B1C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7B2-DF40-4C9F-96B8-E3A84FD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157-9491-4392-B472-8157DF0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C6E-6758-42B3-BF49-0585CDF9E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828440"/>
            <a:ext cx="380988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P240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5105520"/>
            <a:ext cx="3276720" cy="1752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ject lead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aki Sakam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990720"/>
            <a:ext cx="2895480" cy="990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process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 feature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876920"/>
            <a:ext cx="312408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model and 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piece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d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and implicit base shape of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495680"/>
            <a:ext cx="21333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lerances and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nsional 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 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743200"/>
            <a:ext cx="213372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 moun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 unm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hand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lo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achin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seque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914400"/>
            <a:ext cx="228600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chine too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ture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assembly libra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ferences to pa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for tooling 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895480"/>
            <a:ext cx="25909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requirement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s (fixture, tool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 and illu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 (hardcopy or dig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arge_clevis_white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202392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2286000" cy="203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P240-Process plans for machined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048120" y="236232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25146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4267080"/>
            <a:ext cx="83844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ballot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286000"/>
          <a:ext cx="8305920" cy="4075200"/>
        </p:xfrm>
        <a:graphic>
          <a:graphicData uri="http://schemas.openxmlformats.org/drawingml/2006/table">
            <a:tbl>
              <a:tblPr/>
              <a:tblGrid>
                <a:gridCol w="1447920"/>
                <a:gridCol w="5486400"/>
                <a:gridCol w="1371600"/>
              </a:tblGrid>
              <a:tr h="24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cal Committee 18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Organization for Standard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committee 4: Industrial dat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184/SC4 N142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 date - 2003-01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 date – 2003-04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05756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0285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306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C4Logo" descr="SC4 Logo"/>
          <p:cNvPicPr/>
          <p:nvPr/>
        </p:nvPicPr>
        <p:blipFill>
          <a:blip r:embed="rId3"/>
          <a:stretch/>
        </p:blipFill>
        <p:spPr>
          <a:xfrm>
            <a:off x="7620120" y="24382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609588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D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40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ballot started – January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ballot closed – April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ballot issues available 30 days after close – May 10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 ballot resolution workshop – Stuttgart ISO meeting – June 20-2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240 document workshop – Sapporo, August 12-14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roadway"/>
              </a:rPr>
              <a:t>Curren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33720" y="2514600"/>
            <a:ext cx="5257800" cy="352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14400" y="5486400"/>
            <a:ext cx="7108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en – developing test case based on the AP240 AIM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1371600"/>
            <a:ext cx="76579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iaki – developing test case based on the AP240 ARM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895480"/>
            <a:ext cx="320040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9880"/>
            <a:ext cx="1295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80" y="26319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505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Based on STEP-NC test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Test case has created issues related to the AP240 AR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Issues written and being reviewed at this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ithograp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ithograph"/>
              </a:rPr>
              <a:t>Minor ARM changes may result from this re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86400" y="990720"/>
          <a:ext cx="365760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990720"/>
                    <a:ext cx="365760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 txBox="1"/>
          <p:nvPr/>
        </p:nvSpPr>
        <p:spPr>
          <a:xfrm>
            <a:off x="2819520" y="304920"/>
            <a:ext cx="364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M test c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90720"/>
            <a:ext cx="9144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ISO-10303-2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HEAD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FILE_DESCRIPTION((),'2;1'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FILE_NAME('FQS-MER','2003-02-20T16:43:48'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('sdai-user'),('ANONYMOUS ORGANISATION'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'EXPRESS Data Manager version 20020321',$, $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FILE_SCHEMA(('AP240_ARM_022003'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ENDSE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DATA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10=Single_piece_part(‘Sample part’,‘2005’,‘Rev-0’,‘1111-22-3333’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800,$,#20,(), (#11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11 = Material_property ((#13), (#14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13 = Descriptive_parameter (‘Material_name’, ‘FC200’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14 = Hardness (180., ‘Brinell’, 220., 200.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#20 = Process_plan_version (#21, ‘101-22-AAA’, ‘Example_process_plan’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Arial"/>
              </a:rPr>
              <a:t>(#100, #200, #300), (), ‘500’, ‘PPV-01’, #810, $, $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24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AP224 test cases were modified as necessary to create AP240 test case. Data unchanged:</a:t>
            </a: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Toler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19520" y="304920"/>
            <a:ext cx="364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M test ca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4572000" cy="307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3048120"/>
            <a:ext cx="3504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New test cases hand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Tests all AP24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Global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Minor errors found in Local and global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Determined that a few new entities needed to be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oadway"/>
              </a:rPr>
              <a:t>Problems submitted as CD ballot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2514600"/>
          <a:ext cx="2362320" cy="14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14600"/>
                    <a:ext cx="23623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50840" y="41148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par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/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2209680" cy="147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62320" y="3276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9480" y="129528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t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400800" y="2438280"/>
            <a:ext cx="2590920" cy="173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3200" y="1295280"/>
            <a:ext cx="25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t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P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276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est" descr=""/>
          <p:cNvPicPr/>
          <p:nvPr/>
        </p:nvPicPr>
        <p:blipFill>
          <a:blip r:embed="rId6"/>
          <a:stretch/>
        </p:blipFill>
        <p:spPr>
          <a:xfrm>
            <a:off x="678168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43800" y="41911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88240" y="4419720"/>
            <a:ext cx="251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238/ISO-146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13:45:51Z</dcterms:created>
  <dc:creator>Len</dc:creator>
  <dc:description/>
  <dc:language>en-US</dc:language>
  <cp:lastModifiedBy>Len</cp:lastModifiedBy>
  <dcterms:modified xsi:type="dcterms:W3CDTF">2003-03-11T00:08:56Z</dcterms:modified>
  <cp:revision>12</cp:revision>
  <dc:subject/>
  <dc:title>PowerPoint Presentation</dc:title>
</cp:coreProperties>
</file>