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8263-CCA4-426A-9373-66F8C950C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4300560"/>
            <a:ext cx="5027760" cy="4118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slide represents the  highlights of AP224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list of items in each box represents a sample of what AP224 contai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summarize - AP224 contains everything found on a drawing of a 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8825-18A2-4EED-A633-0FEAB7D0D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12C0-A015-420E-8AD8-B0BAA002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4D3A-A7A7-4CF5-AB73-F4ABF2EB3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ED91-8921-4B7C-BBB8-C6877B179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EF4F-0C95-4B41-BBA8-77224B92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F6DA-68B8-4B2A-A85F-62A30966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B926-852A-4702-9B41-D8D74220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54EA-95D5-4C03-B771-72943A28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5A7C-E1DE-4B68-9B21-B59AA8A8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BBAC-514F-4DD0-AADF-D32BA72B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5F3E-C538-400E-94E0-216E1C9E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6690-2931-4BA5-A311-1C785B5F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128D-05AC-41D4-AAA8-DBB366FD9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224 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dition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14600" y="1523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Lead: Alan Crawf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itor: Len Slovens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5615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224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28880" y="2641680"/>
            <a:ext cx="4629240" cy="31161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3840" y="1765440"/>
            <a:ext cx="2273040" cy="1450800"/>
          </a:xfrm>
          <a:prstGeom prst="rect">
            <a:avLst/>
          </a:prstGeom>
          <a:solidFill>
            <a:srgbClr val="ffffff"/>
          </a:solidFill>
          <a:ln w="25560">
            <a:solidFill>
              <a:srgbClr val="b2b2b2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ufacturing Fe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uter 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ham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3840" y="3813120"/>
            <a:ext cx="1965240" cy="1346400"/>
          </a:xfrm>
          <a:prstGeom prst="rect">
            <a:avLst/>
          </a:prstGeom>
          <a:solidFill>
            <a:srgbClr val="ffffff"/>
          </a:solidFill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ature definition i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cc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cc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cc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cc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le bot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cc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o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3840" y="5346720"/>
            <a:ext cx="2508120" cy="100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t administration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cc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pro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cc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 and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cc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42120" y="5313240"/>
            <a:ext cx="2636640" cy="1103400"/>
          </a:xfrm>
          <a:prstGeom prst="rect">
            <a:avLst/>
          </a:prstGeom>
          <a:solidFill>
            <a:srgbClr val="ffffff"/>
          </a:solidFill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e 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cc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ep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cc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icit base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cc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licit base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356520" y="3498840"/>
            <a:ext cx="2622240" cy="1217520"/>
          </a:xfrm>
          <a:prstGeom prst="rect">
            <a:avLst/>
          </a:prstGeom>
          <a:solidFill>
            <a:srgbClr val="ffffff"/>
          </a:solidFill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ler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cc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ometric toler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cc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mension toler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cc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terial condition modif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cc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lerance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342120" y="1765440"/>
            <a:ext cx="2636640" cy="11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nufacturing Part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cc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terial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cc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rface fi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cc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ss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cc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r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49520" y="234648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IC522 sup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274320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emoved features from AP224s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hort listing (clause 5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hanged mapping tables to reference AIC522 instead of clause 5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Recreated EXPRESS short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mpiled successfully on multiple compi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uccessfully tested new schema with test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33520" y="228600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embly of parts for manufactur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standard part fasteners to the mating defi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224 will reference a parts library (PLIB) that contains fasteners defi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washers" descr=""/>
          <p:cNvPicPr/>
          <p:nvPr/>
        </p:nvPicPr>
        <p:blipFill>
          <a:blip r:embed="rId1"/>
          <a:stretch/>
        </p:blipFill>
        <p:spPr>
          <a:xfrm>
            <a:off x="5829480" y="4572000"/>
            <a:ext cx="331452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wire_frames" descr=""/>
          <p:cNvPicPr/>
          <p:nvPr/>
        </p:nvPicPr>
        <p:blipFill>
          <a:blip r:embed="rId2"/>
          <a:stretch/>
        </p:blipFill>
        <p:spPr>
          <a:xfrm>
            <a:off x="0" y="4572000"/>
            <a:ext cx="3314880" cy="2286000"/>
          </a:xfrm>
          <a:prstGeom prst="rect">
            <a:avLst/>
          </a:prstGeom>
          <a:ln w="0">
            <a:noFill/>
          </a:ln>
        </p:spPr>
      </p:pic>
      <p:pic>
        <p:nvPicPr>
          <p:cNvPr id="64" name="socket_screw_products" descr=""/>
          <p:cNvPicPr/>
          <p:nvPr/>
        </p:nvPicPr>
        <p:blipFill>
          <a:blip r:embed="rId3"/>
          <a:stretch/>
        </p:blipFill>
        <p:spPr>
          <a:xfrm>
            <a:off x="5829480" y="0"/>
            <a:ext cx="3314520" cy="2286000"/>
          </a:xfrm>
          <a:prstGeom prst="rect">
            <a:avLst/>
          </a:prstGeom>
          <a:ln w="0">
            <a:noFill/>
          </a:ln>
        </p:spPr>
      </p:pic>
      <p:pic>
        <p:nvPicPr>
          <p:cNvPr id="65" name="screw_machines" descr=""/>
          <p:cNvPicPr/>
          <p:nvPr/>
        </p:nvPicPr>
        <p:blipFill>
          <a:blip r:embed="rId4"/>
          <a:stretch/>
        </p:blipFill>
        <p:spPr>
          <a:xfrm>
            <a:off x="0" y="0"/>
            <a:ext cx="3314880" cy="2286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a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sten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licit base shape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dd information to indicate type of explicit shape, for 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achined from Forgings and Cast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achined from Aluminum Plate or Block (Hog O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achined from Aluminum Extru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37" descr=""/>
          <p:cNvPicPr/>
          <p:nvPr/>
        </p:nvPicPr>
        <p:blipFill>
          <a:blip r:embed="rId1"/>
          <a:stretch/>
        </p:blipFill>
        <p:spPr>
          <a:xfrm>
            <a:off x="6705720" y="1066680"/>
            <a:ext cx="2438280" cy="1963800"/>
          </a:xfrm>
          <a:prstGeom prst="rect">
            <a:avLst/>
          </a:prstGeom>
          <a:ln w="0">
            <a:noFill/>
          </a:ln>
        </p:spPr>
      </p:pic>
      <p:pic>
        <p:nvPicPr>
          <p:cNvPr id="70" name="25" descr=""/>
          <p:cNvPicPr/>
          <p:nvPr/>
        </p:nvPicPr>
        <p:blipFill>
          <a:blip r:embed="rId2"/>
          <a:stretch/>
        </p:blipFill>
        <p:spPr>
          <a:xfrm>
            <a:off x="3657600" y="5029200"/>
            <a:ext cx="5486400" cy="1828800"/>
          </a:xfrm>
          <a:prstGeom prst="rect">
            <a:avLst/>
          </a:prstGeom>
          <a:ln w="0">
            <a:noFill/>
          </a:ln>
        </p:spPr>
      </p:pic>
      <p:pic>
        <p:nvPicPr>
          <p:cNvPr id="71" name="27" descr=""/>
          <p:cNvPicPr/>
          <p:nvPr/>
        </p:nvPicPr>
        <p:blipFill>
          <a:blip r:embed="rId3"/>
          <a:stretch/>
        </p:blipFill>
        <p:spPr>
          <a:xfrm>
            <a:off x="6324480" y="3124080"/>
            <a:ext cx="247176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cket fe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58672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harmonize with AP238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ed attribute to Pocket feature to have relationship with Boss fe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267080" y="3505320"/>
          <a:ext cx="4648320" cy="29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3505320"/>
                    <a:ext cx="4648320" cy="29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 flipH="1" flipV="1">
            <a:off x="5105520" y="2742840"/>
            <a:ext cx="1218960" cy="25146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ar fe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vel g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ur g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ical g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gear-spur" descr=""/>
          <p:cNvPicPr/>
          <p:nvPr/>
        </p:nvPicPr>
        <p:blipFill>
          <a:blip r:embed="rId1"/>
          <a:stretch/>
        </p:blipFill>
        <p:spPr>
          <a:xfrm>
            <a:off x="5257800" y="4264200"/>
            <a:ext cx="3886200" cy="2593800"/>
          </a:xfrm>
          <a:prstGeom prst="rect">
            <a:avLst/>
          </a:prstGeom>
          <a:ln w="0">
            <a:noFill/>
          </a:ln>
        </p:spPr>
      </p:pic>
      <p:pic>
        <p:nvPicPr>
          <p:cNvPr id="80" name="gear-bevel" descr=""/>
          <p:cNvPicPr/>
          <p:nvPr/>
        </p:nvPicPr>
        <p:blipFill>
          <a:blip r:embed="rId2"/>
          <a:stretch/>
        </p:blipFill>
        <p:spPr>
          <a:xfrm>
            <a:off x="457200" y="3962520"/>
            <a:ext cx="3124080" cy="2678040"/>
          </a:xfrm>
          <a:prstGeom prst="rect">
            <a:avLst/>
          </a:prstGeom>
          <a:ln w="0">
            <a:noFill/>
          </a:ln>
        </p:spPr>
      </p:pic>
      <p:pic>
        <p:nvPicPr>
          <p:cNvPr id="81" name="gear-helical1" descr=""/>
          <p:cNvPicPr/>
          <p:nvPr/>
        </p:nvPicPr>
        <p:blipFill>
          <a:blip r:embed="rId3"/>
          <a:stretch/>
        </p:blipFill>
        <p:spPr>
          <a:xfrm>
            <a:off x="5384880" y="1600200"/>
            <a:ext cx="375912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C522 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4266720"/>
            <a:ext cx="7772400" cy="2590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dd new gear fe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dd pocket – boss relation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ix two entity constraint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224 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dition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5638680" cy="2210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90% comp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 ballot start April/May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19:01:23Z</dcterms:created>
  <dc:creator>Len</dc:creator>
  <dc:description/>
  <dc:language>en-US</dc:language>
  <cp:lastModifiedBy>Len</cp:lastModifiedBy>
  <dcterms:modified xsi:type="dcterms:W3CDTF">2003-03-11T00:51:12Z</dcterms:modified>
  <cp:revision>5</cp:revision>
  <dc:subject/>
  <dc:title>AP224 3rd Edition status</dc:title>
</cp:coreProperties>
</file>