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494F-FC10-430D-B7A3-99E6114F36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of STEP-NC Implementation Iss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4 team to investigate dividing AP-238 into conformance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1 SC1 business 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2 SC4 business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1 team to investigate use of STIX library for converting ARM implementation to AI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back in Stuttg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3-03-24T21:08:20Z</dcterms:modified>
  <cp:revision>138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