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B73A753-9DCD-45A6-94E7-6B9A09BEC863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60840" y="1224000"/>
            <a:ext cx="520200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Direct</a:t>
            </a:r>
            <a:br>
              <a:rPr sz="4000"/>
            </a:b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Interf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50240" y="5310360"/>
            <a:ext cx="38278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teptools_logo" descr=""/>
          <p:cNvPicPr/>
          <p:nvPr/>
        </p:nvPicPr>
        <p:blipFill>
          <a:blip r:embed="rId1"/>
          <a:stretch/>
        </p:blipFill>
        <p:spPr>
          <a:xfrm>
            <a:off x="306360" y="228600"/>
            <a:ext cx="2903400" cy="64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flipV="1">
            <a:off x="4737240" y="3747600"/>
            <a:ext cx="0" cy="382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72080" y="3747600"/>
            <a:ext cx="0" cy="382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7163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Avoid Having to Learn Th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7760" y="1705680"/>
            <a:ext cx="221976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in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stanced_fe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und_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0840" y="4115520"/>
            <a:ext cx="1353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2560" y="4910040"/>
            <a:ext cx="17290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5080" y="3234240"/>
            <a:ext cx="190260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7" idx="0"/>
            <a:endCxn id="229" idx="2"/>
          </p:cNvCxnSpPr>
          <p:nvPr/>
        </p:nvCxnSpPr>
        <p:spPr>
          <a:xfrm flipV="1">
            <a:off x="1542600" y="3940920"/>
            <a:ext cx="1080" cy="151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7" idx="2"/>
            <a:endCxn id="228" idx="0"/>
          </p:cNvCxnSpPr>
          <p:nvPr/>
        </p:nvCxnSpPr>
        <p:spPr>
          <a:xfrm flipV="1" rot="10800000">
            <a:off x="1542240" y="456228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0"/>
            <a:endCxn id="226" idx="2"/>
          </p:cNvCxnSpPr>
          <p:nvPr/>
        </p:nvCxnSpPr>
        <p:spPr>
          <a:xfrm flipV="1">
            <a:off x="1542600" y="2904840"/>
            <a:ext cx="1080" cy="173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699120" y="5807880"/>
            <a:ext cx="16970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orient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8" idx="2"/>
            <a:endCxn id="233" idx="0"/>
          </p:cNvCxnSpPr>
          <p:nvPr/>
        </p:nvCxnSpPr>
        <p:spPr>
          <a:xfrm>
            <a:off x="1542600" y="5354280"/>
            <a:ext cx="252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4285080" y="2026440"/>
            <a:ext cx="260064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_feature_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= “linea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07160" y="4102920"/>
            <a:ext cx="1353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19600" y="4896720"/>
            <a:ext cx="17290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0440" y="3354120"/>
            <a:ext cx="19713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6" idx="2"/>
            <a:endCxn id="237" idx="0"/>
          </p:cNvCxnSpPr>
          <p:nvPr/>
        </p:nvCxnSpPr>
        <p:spPr>
          <a:xfrm flipV="1" rot="10800000">
            <a:off x="6465240" y="454932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8" idx="0"/>
            <a:endCxn id="235" idx="2"/>
          </p:cNvCxnSpPr>
          <p:nvPr/>
        </p:nvCxnSpPr>
        <p:spPr>
          <a:xfrm flipV="1">
            <a:off x="5570280" y="2981160"/>
            <a:ext cx="1080" cy="340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6824520" y="5471280"/>
            <a:ext cx="21099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dist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5440" y="1917720"/>
            <a:ext cx="127332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15440" y="3110040"/>
            <a:ext cx="109332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  <a:endCxn id="242" idx="2"/>
          </p:cNvCxnSpPr>
          <p:nvPr/>
        </p:nvCxnSpPr>
        <p:spPr>
          <a:xfrm flipV="1">
            <a:off x="8140320" y="2752200"/>
            <a:ext cx="1080" cy="324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5" idx="3"/>
            <a:endCxn id="243" idx="1"/>
          </p:cNvCxnSpPr>
          <p:nvPr/>
        </p:nvCxnSpPr>
        <p:spPr>
          <a:xfrm>
            <a:off x="6892560" y="2488680"/>
            <a:ext cx="680040" cy="1019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4004280" y="1142280"/>
            <a:ext cx="12610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14800" y="2076840"/>
            <a:ext cx="82512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3"/>
            <a:endCxn id="235" idx="0"/>
          </p:cNvCxnSpPr>
          <p:nvPr/>
        </p:nvCxnSpPr>
        <p:spPr>
          <a:xfrm>
            <a:off x="5257440" y="1364760"/>
            <a:ext cx="313560" cy="63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6" idx="1"/>
            <a:endCxn id="247" idx="0"/>
          </p:cNvCxnSpPr>
          <p:nvPr/>
        </p:nvCxnSpPr>
        <p:spPr>
          <a:xfrm flipV="1" rot="10800000">
            <a:off x="3617280" y="1364040"/>
            <a:ext cx="369000" cy="683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7" idx="1"/>
            <a:endCxn id="229" idx="3"/>
          </p:cNvCxnSpPr>
          <p:nvPr/>
        </p:nvCxnSpPr>
        <p:spPr>
          <a:xfrm flipV="1" rot="10800000">
            <a:off x="2515320" y="2356920"/>
            <a:ext cx="670680" cy="1153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3962880" y="4102920"/>
            <a:ext cx="1530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69440" y="4896720"/>
            <a:ext cx="13129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2"/>
            <a:endCxn id="252" idx="0"/>
          </p:cNvCxnSpPr>
          <p:nvPr/>
        </p:nvCxnSpPr>
        <p:spPr>
          <a:xfrm rot="5400000">
            <a:off x="4552200" y="4709520"/>
            <a:ext cx="322920" cy="2520"/>
          </a:xfrm>
          <a:prstGeom prst="bentConnector3">
            <a:avLst>
              <a:gd name="adj1" fmla="val 496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4312440" y="5684040"/>
            <a:ext cx="8283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2" idx="2"/>
            <a:endCxn id="254" idx="0"/>
          </p:cNvCxnSpPr>
          <p:nvPr/>
        </p:nvCxnSpPr>
        <p:spPr>
          <a:xfrm>
            <a:off x="4712760" y="5341680"/>
            <a:ext cx="108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6820560" y="6219000"/>
            <a:ext cx="160380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37" idx="2"/>
            <a:endCxn id="241" idx="1"/>
          </p:cNvCxnSpPr>
          <p:nvPr/>
        </p:nvCxnSpPr>
        <p:spPr>
          <a:xfrm flipH="1" rot="16200000">
            <a:off x="6418440" y="5389200"/>
            <a:ext cx="429120" cy="334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37" idx="2"/>
            <a:endCxn id="256" idx="1"/>
          </p:cNvCxnSpPr>
          <p:nvPr/>
        </p:nvCxnSpPr>
        <p:spPr>
          <a:xfrm flipH="1" rot="16200000">
            <a:off x="6136560" y="5671080"/>
            <a:ext cx="992880" cy="334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230040" y="993600"/>
            <a:ext cx="19972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Hole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021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75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a simpl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harness during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676600"/>
            <a:ext cx="8051760" cy="367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EP-NC Index Contents Report ------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jects: 1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name = 1 (id #18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orkplan = machining operations (id #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ups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orkpieces: 2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name = 1 A A (id #17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pe = advanced_brep_shape_representation (id #6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pe length unit = millime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= &lt;no-name&gt; A A (id #1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length unit = millime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min/max X = 0 / 125  (1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min/max Y = 0 / 75  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min/max Z = 0 / 50  (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1]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[ . . . the stock . . .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7120" y="1084680"/>
            <a:ext cx="2851200" cy="1370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stix.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ixNC stepn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epnc.load (argv[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epnc.dump_repor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67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Example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wr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960" y="1069920"/>
            <a:ext cx="8051760" cy="520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ot Workplan: workplan machining operations (id #7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up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 - 1] workplan Drill-2 (id #7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up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 - 1] workingstep drilling (#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ent = Drill-2 (#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 = Drill-1-Micro-1-Hol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tion type = Drilling (drilling_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security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retrac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cutting 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ol: type: 12.7000 mm TWIST_DRILL (id #3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: TL DRILL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ameter: 1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(flute) length: 21.18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radiu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ircumference angl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chnology (#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cut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s (#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coo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-process feature = round hole (#1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al feature = round hole (#1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67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Example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wr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4960" y="1069920"/>
            <a:ext cx="8051760" cy="4971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s: 2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round hole (id #14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 faces: #423 #4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r 0 name=[hole depth] desc=[path feature component u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ear path desc=[linear] ed_desc=[hole depth occurr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r 1 name=[diameter] desc=[profile u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osed circular profile desc=[boundary] ed_desc=[diameter occurr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r 2 desc=[hole bottom u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recongized aspect desc=[conical] ed_desc=[bottom condition occurr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 depth: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 orient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axis: 1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axis: 0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-axis: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100 40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ols: 1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type: 12.7000 mm TWIST_DRILL (id #3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: TL DRILL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ameter: 1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(flute) length: 21.18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radiu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ircumference angl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8640" y="4356000"/>
            <a:ext cx="896760" cy="473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6"/>
            <a:endCxn id="272" idx="0"/>
          </p:cNvCxnSpPr>
          <p:nvPr/>
        </p:nvCxnSpPr>
        <p:spPr>
          <a:xfrm>
            <a:off x="2320920" y="4566960"/>
            <a:ext cx="175176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1155600" y="3757680"/>
            <a:ext cx="1535040" cy="124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08520" y="3205080"/>
            <a:ext cx="3710160" cy="2764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840040" y="4289400"/>
            <a:ext cx="9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00640" y="35193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00640" y="37609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00640" y="39639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0640" y="42051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2940840" y="4443840"/>
            <a:ext cx="2600280" cy="29340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p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0640" y="4422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00640" y="46623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00640" y="48672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0640" y="51069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00640" y="53244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0640" y="55641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00640" y="57690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3060720"/>
            <a:ext cx="578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357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93360" y="1010880"/>
            <a:ext cx="7769160" cy="174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for the breadth of Manufac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 of optimization using information compi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independent CNC contro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ng, Tu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, Robo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9800" y="3382920"/>
            <a:ext cx="23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ufacturing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chine" descr=""/>
          <p:cNvPicPr/>
          <p:nvPr/>
        </p:nvPicPr>
        <p:blipFill>
          <a:blip r:embed="rId1"/>
          <a:stretch/>
        </p:blipFill>
        <p:spPr>
          <a:xfrm>
            <a:off x="325440" y="2003400"/>
            <a:ext cx="2413080" cy="1982880"/>
          </a:xfrm>
          <a:prstGeom prst="rect">
            <a:avLst/>
          </a:prstGeom>
          <a:ln w="0">
            <a:noFill/>
          </a:ln>
        </p:spPr>
      </p:pic>
      <p:pic>
        <p:nvPicPr>
          <p:cNvPr id="48" name="Bild11" descr=""/>
          <p:cNvPicPr/>
          <p:nvPr/>
        </p:nvPicPr>
        <p:blipFill>
          <a:blip r:embed="rId2"/>
          <a:stretch/>
        </p:blipFill>
        <p:spPr>
          <a:xfrm>
            <a:off x="196920" y="3997440"/>
            <a:ext cx="2819160" cy="243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37440" y="1530360"/>
            <a:ext cx="2654280" cy="26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57840" y="4186080"/>
            <a:ext cx="223524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eople-Dcp_1765" descr=""/>
          <p:cNvPicPr/>
          <p:nvPr/>
        </p:nvPicPr>
        <p:blipFill>
          <a:blip r:embed="rId5"/>
          <a:stretch/>
        </p:blipFill>
        <p:spPr>
          <a:xfrm>
            <a:off x="3021120" y="1365120"/>
            <a:ext cx="3252600" cy="2347920"/>
          </a:xfrm>
          <a:prstGeom prst="rect">
            <a:avLst/>
          </a:prstGeom>
          <a:ln w="0">
            <a:noFill/>
          </a:ln>
        </p:spPr>
      </p:pic>
      <p:pic>
        <p:nvPicPr>
          <p:cNvPr id="52" name="Bild11" descr=""/>
          <p:cNvPicPr/>
          <p:nvPr/>
        </p:nvPicPr>
        <p:blipFill>
          <a:blip r:embed="rId6"/>
          <a:stretch/>
        </p:blipFill>
        <p:spPr>
          <a:xfrm>
            <a:off x="3137040" y="3755880"/>
            <a:ext cx="1711080" cy="139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97120" y="1582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7360" y="9889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lling, Drilling,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79000" y="1365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ild15" descr=""/>
          <p:cNvPicPr/>
          <p:nvPr/>
        </p:nvPicPr>
        <p:blipFill>
          <a:blip r:embed="rId7"/>
          <a:stretch/>
        </p:blipFill>
        <p:spPr>
          <a:xfrm>
            <a:off x="4965840" y="3811680"/>
            <a:ext cx="1542960" cy="2828880"/>
          </a:xfrm>
          <a:prstGeom prst="rect">
            <a:avLst/>
          </a:prstGeom>
          <a:ln w="0">
            <a:noFill/>
          </a:ln>
        </p:spPr>
      </p:pic>
      <p:pic>
        <p:nvPicPr>
          <p:cNvPr id="57" name="Bild14" descr=""/>
          <p:cNvPicPr/>
          <p:nvPr/>
        </p:nvPicPr>
        <p:blipFill>
          <a:blip r:embed="rId8"/>
          <a:stretch/>
        </p:blipFill>
        <p:spPr>
          <a:xfrm>
            <a:off x="3087720" y="5208480"/>
            <a:ext cx="18176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062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curr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3360" y="1060560"/>
            <a:ext cx="7769160" cy="19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process is in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sends incomplet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makes fixes but does not document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sult is a control file that can only run on one machine at one supp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274D is more than 40 years 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5680" y="5989680"/>
            <a:ext cx="6124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 CMM to check the geometry of as-built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2480" y="4218120"/>
            <a:ext cx="2751480" cy="1447920"/>
            <a:chOff x="222480" y="4218120"/>
            <a:chExt cx="2751480" cy="1447920"/>
          </a:xfrm>
        </p:grpSpPr>
        <p:sp>
          <p:nvSpPr>
            <p:cNvPr id="62" name=""/>
            <p:cNvSpPr/>
            <p:nvPr/>
          </p:nvSpPr>
          <p:spPr>
            <a:xfrm>
              <a:off x="222480" y="48402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pl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97960" y="4842000"/>
              <a:ext cx="147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th “issues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9720" y="4254480"/>
              <a:ext cx="412920" cy="486000"/>
            </a:xfrm>
            <a:prstGeom prst="upArrow">
              <a:avLst>
                <a:gd name="adj1" fmla="val 50000"/>
                <a:gd name="adj2" fmla="val 29425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9320" y="4218120"/>
              <a:ext cx="412560" cy="485640"/>
            </a:xfrm>
            <a:prstGeom prst="upArrow">
              <a:avLst>
                <a:gd name="adj1" fmla="val 50000"/>
                <a:gd name="adj2" fmla="val 2942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659320" y="4226040"/>
            <a:ext cx="1652760" cy="1206000"/>
            <a:chOff x="2659320" y="4226040"/>
            <a:chExt cx="1652760" cy="1206000"/>
          </a:xfrm>
        </p:grpSpPr>
        <p:sp>
          <p:nvSpPr>
            <p:cNvPr id="67" name=""/>
            <p:cNvSpPr/>
            <p:nvPr/>
          </p:nvSpPr>
          <p:spPr>
            <a:xfrm>
              <a:off x="2659320" y="4851360"/>
              <a:ext cx="165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docum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s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7960" y="4226040"/>
              <a:ext cx="412920" cy="485640"/>
            </a:xfrm>
            <a:prstGeom prst="upArrow">
              <a:avLst>
                <a:gd name="adj1" fmla="val 50000"/>
                <a:gd name="adj2" fmla="val 29403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340240" y="4087800"/>
            <a:ext cx="3797280" cy="1389240"/>
            <a:chOff x="5340240" y="4087800"/>
            <a:chExt cx="3797280" cy="1389240"/>
          </a:xfrm>
        </p:grpSpPr>
        <p:sp>
          <p:nvSpPr>
            <p:cNvPr id="70" name=""/>
            <p:cNvSpPr/>
            <p:nvPr/>
          </p:nvSpPr>
          <p:spPr>
            <a:xfrm>
              <a:off x="7804080" y="4087800"/>
              <a:ext cx="412920" cy="485640"/>
            </a:xfrm>
            <a:prstGeom prst="upArrow">
              <a:avLst>
                <a:gd name="adj1" fmla="val 50000"/>
                <a:gd name="adj2" fmla="val 29403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93040" y="4653000"/>
              <a:ext cx="25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 specifi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 that works only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conditions corr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40240" y="4648320"/>
              <a:ext cx="12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 specif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8960"/>
              <a:ext cx="412560" cy="485640"/>
            </a:xfrm>
            <a:prstGeom prst="upArrow">
              <a:avLst>
                <a:gd name="adj1" fmla="val 50000"/>
                <a:gd name="adj2" fmla="val 2942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235400" y="4270320"/>
            <a:ext cx="1370160" cy="1406880"/>
            <a:chOff x="4235400" y="4270320"/>
            <a:chExt cx="1370160" cy="1406880"/>
          </a:xfrm>
        </p:grpSpPr>
        <p:sp>
          <p:nvSpPr>
            <p:cNvPr id="75" name=""/>
            <p:cNvSpPr/>
            <p:nvPr/>
          </p:nvSpPr>
          <p:spPr>
            <a:xfrm>
              <a:off x="4235400" y="4853160"/>
              <a:ext cx="1370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ing information is 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92840" y="4270320"/>
              <a:ext cx="412560" cy="486000"/>
            </a:xfrm>
            <a:prstGeom prst="upArrow">
              <a:avLst>
                <a:gd name="adj1" fmla="val 50000"/>
                <a:gd name="adj2" fmla="val 29450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7" name=""/>
          <p:cNvCxnSpPr>
            <a:stCxn id="78" idx="3"/>
            <a:endCxn id="79" idx="1"/>
          </p:cNvCxnSpPr>
          <p:nvPr/>
        </p:nvCxnSpPr>
        <p:spPr>
          <a:xfrm>
            <a:off x="1325520" y="3927240"/>
            <a:ext cx="626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8560" y="3749760"/>
            <a:ext cx="85572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52840" y="3738600"/>
            <a:ext cx="1756440" cy="368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2" idx="1"/>
            <a:endCxn id="79" idx="3"/>
          </p:cNvCxnSpPr>
          <p:nvPr/>
        </p:nvCxnSpPr>
        <p:spPr>
          <a:xfrm flipH="1">
            <a:off x="4860360" y="3927240"/>
            <a:ext cx="748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976760" y="3749760"/>
            <a:ext cx="2858400" cy="3373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ffcc81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 and Path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29680" y="3749760"/>
            <a:ext cx="61956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2" idx="3"/>
            <a:endCxn id="80" idx="1"/>
          </p:cNvCxnSpPr>
          <p:nvPr/>
        </p:nvCxnSpPr>
        <p:spPr>
          <a:xfrm>
            <a:off x="6270120" y="3927240"/>
            <a:ext cx="86292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302480" y="3457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4840" y="3286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67400" y="326880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12880" y="345744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4800" y="32860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67120" y="344808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286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at NASA JP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3360" y="1004760"/>
            <a:ext cx="776916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ly manufacture AP-238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making ordinary parts on multi-axis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tolerances and finishes set using Crib she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rdinary machinists with little CAM training to be competitive w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d machinists with extensive CAM tra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9080" y="3784680"/>
            <a:ext cx="1148400" cy="6426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68280" y="3635280"/>
            <a:ext cx="1858680" cy="916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al CNC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bbsCA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5" idx="3"/>
            <a:endCxn id="92" idx="1"/>
          </p:cNvCxnSpPr>
          <p:nvPr/>
        </p:nvCxnSpPr>
        <p:spPr>
          <a:xfrm>
            <a:off x="2012760" y="4106880"/>
            <a:ext cx="14072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3" idx="1"/>
            <a:endCxn id="92" idx="3"/>
          </p:cNvCxnSpPr>
          <p:nvPr/>
        </p:nvCxnSpPr>
        <p:spPr>
          <a:xfrm flipH="1">
            <a:off x="4606200" y="4103280"/>
            <a:ext cx="204228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64600" y="335268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0880" y="3929040"/>
            <a:ext cx="106920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6840" y="3803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5120" y="3794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2520" y="35971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680" y="320508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63640" y="4627440"/>
            <a:ext cx="1102680" cy="1528920"/>
            <a:chOff x="863640" y="4627440"/>
            <a:chExt cx="1102680" cy="1528920"/>
          </a:xfrm>
        </p:grpSpPr>
        <p:sp>
          <p:nvSpPr>
            <p:cNvPr id="103" name=""/>
            <p:cNvSpPr/>
            <p:nvPr/>
          </p:nvSpPr>
          <p:spPr>
            <a:xfrm>
              <a:off x="863640" y="5332320"/>
              <a:ext cx="110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54160" y="4627440"/>
              <a:ext cx="485640" cy="750960"/>
            </a:xfrm>
            <a:prstGeom prst="upArrow">
              <a:avLst>
                <a:gd name="adj1" fmla="val 50000"/>
                <a:gd name="adj2" fmla="val 3865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33720" y="4660920"/>
            <a:ext cx="2014200" cy="2030040"/>
            <a:chOff x="3033720" y="4660920"/>
            <a:chExt cx="2014200" cy="2030040"/>
          </a:xfrm>
        </p:grpSpPr>
        <p:sp>
          <p:nvSpPr>
            <p:cNvPr id="106" name=""/>
            <p:cNvSpPr/>
            <p:nvPr/>
          </p:nvSpPr>
          <p:spPr>
            <a:xfrm>
              <a:off x="3033720" y="5380200"/>
              <a:ext cx="2014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zard to def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ler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es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ol 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8320" y="4660920"/>
              <a:ext cx="485640" cy="750960"/>
            </a:xfrm>
            <a:prstGeom prst="upArrow">
              <a:avLst>
                <a:gd name="adj1" fmla="val 50000"/>
                <a:gd name="adj2" fmla="val 3865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700520" y="4338720"/>
            <a:ext cx="2286000" cy="1538280"/>
            <a:chOff x="4700520" y="4338720"/>
            <a:chExt cx="2286000" cy="1538280"/>
          </a:xfrm>
        </p:grpSpPr>
        <p:sp>
          <p:nvSpPr>
            <p:cNvPr id="109" name=""/>
            <p:cNvSpPr/>
            <p:nvPr/>
          </p:nvSpPr>
          <p:spPr>
            <a:xfrm>
              <a:off x="4700520" y="505296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ependent CNC Contro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0920" y="4338720"/>
              <a:ext cx="486000" cy="750960"/>
            </a:xfrm>
            <a:prstGeom prst="upArrow">
              <a:avLst>
                <a:gd name="adj1" fmla="val 50000"/>
                <a:gd name="adj2" fmla="val 38630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2600" y="4797360"/>
            <a:ext cx="1527120" cy="1164600"/>
          </a:xfrm>
          <a:prstGeom prst="ellipse">
            <a:avLst/>
          </a:prstGeom>
          <a:solidFill>
            <a:srgbClr val="f5f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658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6480" y="1770120"/>
            <a:ext cx="20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l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20600" y="1770120"/>
            <a:ext cx="1976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20960" y="1774800"/>
            <a:ext cx="216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2400" y="887400"/>
            <a:ext cx="69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d at 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RB meeting at NASA JPL on January 30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160" y="1552680"/>
            <a:ext cx="7170840" cy="3066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880" y="5029200"/>
            <a:ext cx="776916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the first sa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saving occurs when easier programming leads to better machines being used for smaller jo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saving when drawings no longer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94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46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building a library of STEP-NC access and calculation code to simplify programming directly against AP-23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from detailed C++ applications or from lightweight COM/VB appli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STIX, for STEP Index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-left licensing for testing and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riting applications against AP-238 quickly and from different environ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care of most common access paths and calcul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for update path to modify AP-238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63560" y="5140440"/>
            <a:ext cx="860760" cy="719640"/>
          </a:xfrm>
          <a:prstGeom prst="flowChartDocumen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406760"/>
            <a:ext cx="1571760" cy="3556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3560" y="4046400"/>
            <a:ext cx="1584360" cy="3556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3560" y="3443400"/>
            <a:ext cx="1584360" cy="6001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960" y="5140440"/>
            <a:ext cx="860760" cy="719640"/>
          </a:xfrm>
          <a:prstGeom prst="flowChartDocumen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60920" y="4419720"/>
            <a:ext cx="1571760" cy="355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3824280"/>
            <a:ext cx="1571760" cy="60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0920" y="3465360"/>
            <a:ext cx="1571760" cy="3556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6400" y="2513160"/>
            <a:ext cx="1179000" cy="719640"/>
          </a:xfrm>
          <a:prstGeom prst="flowChartDocument">
            <a:avLst/>
          </a:prstGeom>
          <a:solidFill>
            <a:srgbClr val="7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0920" y="1866960"/>
            <a:ext cx="1571760" cy="355680"/>
          </a:xfrm>
          <a:prstGeom prst="rect">
            <a:avLst/>
          </a:prstGeom>
          <a:solidFill>
            <a:srgbClr val="7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60920" y="1258920"/>
            <a:ext cx="1571760" cy="6001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1760" y="3930480"/>
            <a:ext cx="1346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35720" y="3403440"/>
            <a:ext cx="1311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B Part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6320" y="1828800"/>
            <a:ext cx="655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8280" y="6388200"/>
            <a:ext cx="78073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9240" y="5859360"/>
            <a:ext cx="0" cy="54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84880" y="5843520"/>
            <a:ext cx="0" cy="54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2" idx="2"/>
            <a:endCxn id="121" idx="0"/>
          </p:cNvCxnSpPr>
          <p:nvPr/>
        </p:nvCxnSpPr>
        <p:spPr>
          <a:xfrm flipH="1">
            <a:off x="2985840" y="4754520"/>
            <a:ext cx="2160" cy="35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25" idx="0"/>
            <a:endCxn id="126" idx="2"/>
          </p:cNvCxnSpPr>
          <p:nvPr/>
        </p:nvCxnSpPr>
        <p:spPr>
          <a:xfrm flipV="1">
            <a:off x="5432040" y="4766400"/>
            <a:ext cx="1080" cy="34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8" idx="0"/>
            <a:endCxn id="129" idx="2"/>
          </p:cNvCxnSpPr>
          <p:nvPr/>
        </p:nvCxnSpPr>
        <p:spPr>
          <a:xfrm flipH="1" flipV="1">
            <a:off x="5430600" y="3195360"/>
            <a:ext cx="2160" cy="248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9" idx="0"/>
            <a:endCxn id="130" idx="2"/>
          </p:cNvCxnSpPr>
          <p:nvPr/>
        </p:nvCxnSpPr>
        <p:spPr>
          <a:xfrm flipV="1">
            <a:off x="5430960" y="2223720"/>
            <a:ext cx="2160" cy="27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flipH="1">
            <a:off x="4235040" y="720720"/>
            <a:ext cx="11160" cy="5692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3160" y="809640"/>
            <a:ext cx="65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4080" y="804960"/>
            <a:ext cx="61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1480" y="2571840"/>
            <a:ext cx="2055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for Proto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94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240" y="1300320"/>
            <a:ext cx="328644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s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er 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er to 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sophisticated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9800" y="3441600"/>
            <a:ext cx="6265800" cy="3059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68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– STEP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89840" y="3594240"/>
            <a:ext cx="1757160" cy="267804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9720" y="3672000"/>
            <a:ext cx="841320" cy="2293920"/>
          </a:xfrm>
          <a:custGeom>
            <a:avLst/>
            <a:gdLst>
              <a:gd name="textAreaLeft" fmla="*/ 41040 w 841320"/>
              <a:gd name="textAreaRight" fmla="*/ 800280 w 841320"/>
              <a:gd name="textAreaTop" fmla="*/ 41040 h 2293920"/>
              <a:gd name="textAreaBottom" fmla="*/ 2252880 h 2293920"/>
            </a:gdLst>
            <a:ahLst/>
            <a:rect l="textAreaLeft" t="textAreaTop" r="textAreaRight" b="textAreaBottom"/>
            <a:pathLst>
              <a:path w="21600" h="58878">
                <a:moveTo>
                  <a:pt x="3600" y="0"/>
                </a:moveTo>
                <a:arcTo wR="3600" hR="3600" stAng="16200000" swAng="-5400000"/>
                <a:lnTo>
                  <a:pt x="0" y="55278"/>
                </a:lnTo>
                <a:arcTo wR="3600" hR="3600" stAng="10800000" swAng="-5400000"/>
                <a:lnTo>
                  <a:pt x="18000" y="588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97360" y="4359240"/>
            <a:ext cx="2254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3976560"/>
            <a:ext cx="2254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3600" y="3672000"/>
            <a:ext cx="534960" cy="993600"/>
          </a:xfrm>
          <a:custGeom>
            <a:avLst/>
            <a:gdLst>
              <a:gd name="textAreaLeft" fmla="*/ 25920 w 534960"/>
              <a:gd name="textAreaRight" fmla="*/ 509040 w 534960"/>
              <a:gd name="textAreaTop" fmla="*/ 25920 h 993600"/>
              <a:gd name="textAreaBottom" fmla="*/ 967680 h 993600"/>
            </a:gdLst>
            <a:ahLst/>
            <a:rect l="textAreaLeft" t="textAreaTop" r="textAreaRight" b="textAreaBottom"/>
            <a:pathLst>
              <a:path w="21600" h="40106">
                <a:moveTo>
                  <a:pt x="3600" y="0"/>
                </a:moveTo>
                <a:arcTo wR="3600" hR="3600" stAng="16200000" swAng="-5400000"/>
                <a:lnTo>
                  <a:pt x="0" y="36506"/>
                </a:lnTo>
                <a:arcTo wR="3600" hR="3600" stAng="10800000" swAng="-5400000"/>
                <a:lnTo>
                  <a:pt x="18000" y="4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6040" y="6194520"/>
            <a:ext cx="3193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6840" y="3747960"/>
            <a:ext cx="7315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91200" y="5364000"/>
            <a:ext cx="1312200" cy="647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91560" y="4828680"/>
            <a:ext cx="1314720" cy="37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8640" y="3672000"/>
            <a:ext cx="1298880" cy="26762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57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direct interface to the AP-238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nd build in-memory indices and backpointers on the AP-238 data for speed of process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y use of AP-238 data by providing API to common access paths and calcul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V="1">
            <a:off x="3362400" y="3517920"/>
            <a:ext cx="993600" cy="61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4800" y="3211560"/>
            <a:ext cx="0" cy="76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3289320"/>
            <a:ext cx="1146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22360" y="4206960"/>
            <a:ext cx="53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41480" y="409572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43243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0080" y="4324320"/>
            <a:ext cx="3063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9200" y="4513320"/>
            <a:ext cx="912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74800" y="504828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62400" y="4665240"/>
            <a:ext cx="1069920" cy="459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44760" y="4282920"/>
            <a:ext cx="458280" cy="610920"/>
            <a:chOff x="2444760" y="4282920"/>
            <a:chExt cx="458280" cy="610920"/>
          </a:xfrm>
        </p:grpSpPr>
        <p:sp>
          <p:nvSpPr>
            <p:cNvPr id="172" name=""/>
            <p:cNvSpPr/>
            <p:nvPr/>
          </p:nvSpPr>
          <p:spPr>
            <a:xfrm flipH="1">
              <a:off x="2444760" y="4282920"/>
              <a:ext cx="7632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26720" y="4282920"/>
              <a:ext cx="7632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3720" y="4282920"/>
              <a:ext cx="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37200" y="3441600"/>
            <a:ext cx="83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89840" y="6118200"/>
            <a:ext cx="83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043600" y="4971960"/>
            <a:ext cx="458280" cy="610920"/>
            <a:chOff x="5043600" y="4971960"/>
            <a:chExt cx="458280" cy="610920"/>
          </a:xfrm>
        </p:grpSpPr>
        <p:sp>
          <p:nvSpPr>
            <p:cNvPr id="178" name=""/>
            <p:cNvSpPr/>
            <p:nvPr/>
          </p:nvSpPr>
          <p:spPr>
            <a:xfrm flipH="1">
              <a:off x="5043600" y="4971960"/>
              <a:ext cx="7632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560" y="4971960"/>
              <a:ext cx="7632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72560" y="4971960"/>
              <a:ext cx="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432320" y="4282920"/>
            <a:ext cx="1604880" cy="689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04720" y="5657760"/>
            <a:ext cx="2236320" cy="826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08600" y="5353200"/>
            <a:ext cx="1217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, Profi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r, Bot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37200" y="4665600"/>
            <a:ext cx="83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53400" y="4359240"/>
            <a:ext cx="686880" cy="612360"/>
            <a:chOff x="6953400" y="4359240"/>
            <a:chExt cx="686880" cy="612360"/>
          </a:xfrm>
        </p:grpSpPr>
        <p:sp>
          <p:nvSpPr>
            <p:cNvPr id="186" name=""/>
            <p:cNvSpPr/>
            <p:nvPr/>
          </p:nvSpPr>
          <p:spPr>
            <a:xfrm>
              <a:off x="7335360" y="4435560"/>
              <a:ext cx="304920" cy="15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35360" y="4741920"/>
              <a:ext cx="30492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53400" y="435924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53400" y="481860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29720" y="458892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601040" y="4282920"/>
            <a:ext cx="1263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e geomet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83440" y="59659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29360" y="6194520"/>
            <a:ext cx="306360" cy="153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12040" y="6194520"/>
            <a:ext cx="304920" cy="153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17320" y="5924520"/>
            <a:ext cx="100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0920" y="3046320"/>
            <a:ext cx="135468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9720" y="3199680"/>
            <a:ext cx="189252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5760" y="3970080"/>
            <a:ext cx="173376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227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and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99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to access major concepts, relations, an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er need to be an AIM expert to do something usefu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AIM experts will find this saves time.  Already traverses through the property definitions, reps, rep item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34520" y="4929120"/>
            <a:ext cx="3103560" cy="804240"/>
            <a:chOff x="434520" y="4929120"/>
            <a:chExt cx="3103560" cy="804240"/>
          </a:xfrm>
        </p:grpSpPr>
        <p:sp>
          <p:nvSpPr>
            <p:cNvPr id="202" name=""/>
            <p:cNvSpPr/>
            <p:nvPr/>
          </p:nvSpPr>
          <p:spPr>
            <a:xfrm flipH="1">
              <a:off x="1374840" y="5171400"/>
              <a:ext cx="53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6840" y="4929120"/>
              <a:ext cx="1731240" cy="47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t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3240" y="505980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0240" y="5289120"/>
              <a:ext cx="30564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2560" y="528912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520" y="5477400"/>
              <a:ext cx="153468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 pa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953400" y="3135240"/>
            <a:ext cx="686880" cy="612360"/>
            <a:chOff x="6953400" y="3135240"/>
            <a:chExt cx="686880" cy="612360"/>
          </a:xfrm>
        </p:grpSpPr>
        <p:sp>
          <p:nvSpPr>
            <p:cNvPr id="209" name=""/>
            <p:cNvSpPr/>
            <p:nvPr/>
          </p:nvSpPr>
          <p:spPr>
            <a:xfrm>
              <a:off x="7335360" y="3211560"/>
              <a:ext cx="304920" cy="15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35360" y="3517920"/>
              <a:ext cx="30492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53400" y="313524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3400" y="359460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9720" y="336492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625880" y="3157560"/>
            <a:ext cx="123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,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,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72200" y="3672000"/>
            <a:ext cx="0" cy="61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73280" y="6165720"/>
            <a:ext cx="53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11400" y="5924520"/>
            <a:ext cx="112392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0600" y="6054840"/>
            <a:ext cx="3063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38320" y="6284880"/>
            <a:ext cx="3063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1000" y="628488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7040" y="6472080"/>
            <a:ext cx="15865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67320" y="3871800"/>
            <a:ext cx="5911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3-03-17T18:18:55Z</dcterms:modified>
  <cp:revision>717</cp:revision>
  <dc:subject/>
  <dc:title>STEP-NC: Digital Manufacturing using STEP</dc:title>
</cp:coreProperties>
</file>