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E909-CC66-4DB8-8E3D-079D135F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5B9C-686F-42D0-9DF3-BFCC02F6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B464-B32C-42C6-861E-9D3CB00B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120C-37B0-4352-8625-A1C76058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AF15-BFEC-4A52-9E6F-87437968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79F0-87A0-4B2F-8CBE-50D0B992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94E7-2FB1-4717-9106-1745197D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39AC-ECD3-4F3B-B743-07809029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D287-9C4D-4DF1-A04E-2F1DCE77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4938-D2E1-4577-B93F-2CAAB852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ED55-2B34-44B6-8FF1-E9F0216C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8C81-5A68-4A1B-A8D6-3DB238CD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177D-368E-4ED2-A4FD-847511C23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or-enabled AP-2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-Han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-238 with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-238 allows the attachment of Generator API for the CAM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4191120"/>
            <a:ext cx="10666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98120" y="4800600"/>
            <a:ext cx="94104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17440" y="4800600"/>
            <a:ext cx="114372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18160" y="5638680"/>
            <a:ext cx="201852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ve (black-b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 Eng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4419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96680" y="3429000"/>
            <a:ext cx="6897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3657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3657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9200" y="2819520"/>
            <a:ext cx="140904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79400" y="4800600"/>
            <a:ext cx="120780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80480" y="5638680"/>
            <a:ext cx="201852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ve (black-b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 Eng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4419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3657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bout CN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same thinking, we can define a set of “Control” API to drive the machine tools (from the given toolpath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pefully the efforts of OMAC may lead to this eventu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 little easier to push for a standard API than a standard data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e or eliminate the data loss from trans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ower STEP/STEP-NC with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STEP/STEP-NC competitors into al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out of the business of defining every detail of the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ing data is too semantic and diverg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and STEP-NC are data standards and don’t provide the “methods” to evaluate geometry and machine the 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processing must be done in the native modes of commercial systems that provide the “method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cation of any commercial system involves a round trip translation and translation causes data loss and distor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17880" y="346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84800" y="3352680"/>
            <a:ext cx="110412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36200" y="3429000"/>
            <a:ext cx="9410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37480" y="3429000"/>
            <a:ext cx="110412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88120" y="5181480"/>
            <a:ext cx="100512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Y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9040" y="3429000"/>
            <a:ext cx="100512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Q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55720" y="5181480"/>
            <a:ext cx="9410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80280" y="5181480"/>
            <a:ext cx="110412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37339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3809880"/>
            <a:ext cx="609480" cy="152640"/>
          </a:xfrm>
          <a:prstGeom prst="rightArrow">
            <a:avLst>
              <a:gd name="adj1" fmla="val 50000"/>
              <a:gd name="adj2" fmla="val 998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53080" y="4343400"/>
            <a:ext cx="304920" cy="838080"/>
          </a:xfrm>
          <a:prstGeom prst="downArrow">
            <a:avLst>
              <a:gd name="adj1" fmla="val 50000"/>
              <a:gd name="adj2" fmla="val 687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5410080"/>
            <a:ext cx="533520" cy="228600"/>
          </a:xfrm>
          <a:prstGeom prst="leftArrow">
            <a:avLst>
              <a:gd name="adj1" fmla="val 50000"/>
              <a:gd name="adj2" fmla="val 5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08040" y="1447920"/>
            <a:ext cx="6721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illustrates the stages of data translation using the Super Model project as ex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2895480"/>
            <a:ext cx="30481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39200" y="28558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-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4952880"/>
            <a:ext cx="2743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92000" y="61326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-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ing Data L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previous page, the same modeling data is translated 4 times (ABC    AP203    DEF    AP203    GHI), even though the 3 modeling engines ABC, DEF, and GHI may be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 jeopardizes the high precision of models, especially when the underline geometrical representations are diffe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29400" y="2362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29600" y="2362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Key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nufacturing applications (such as Super Model), we only need to access (evaluate) the modeling data and rarely modify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we need is a set of functions/methods (API) to evaluate the geometrical data and don’t care about how the modeling data is constru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or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a standard set of (portable) Evaluator API for modeling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D data comes with the “methods” (API) from the black-box en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guarantees that all CAD data are evaluated (through the standard API) in the native m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-238 with Evalu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-238 allows the attachment of Evaluator API for the CAD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4191120"/>
            <a:ext cx="10666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8120" y="4800600"/>
            <a:ext cx="94104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17440" y="4800600"/>
            <a:ext cx="114372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18160" y="5638680"/>
            <a:ext cx="201852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ve (black-b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 Eng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4419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6680" y="3429000"/>
            <a:ext cx="6897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3657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3657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9200" y="2819520"/>
            <a:ext cx="140904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ilar Problem with C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, STEP-NC doesn’t provide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methods” to machine the 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with the compatibility/interoperability between on-line/off-line CAM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loss from the translation between AP-238 and commercial CAM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or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 application like ST-Machine, all we need is a set of methods to compute the toolpaths (from the given operatio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define a standard set of API for toolpath “Generator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M data comes with the Generator API for the black-box en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21:49:27Z</dcterms:created>
  <dc:creator> </dc:creator>
  <dc:description/>
  <dc:language>en-US</dc:language>
  <cp:lastModifiedBy>Chen-Han Lee</cp:lastModifiedBy>
  <dcterms:modified xsi:type="dcterms:W3CDTF">2003-03-11T00:27:42Z</dcterms:modified>
  <cp:revision>6</cp:revision>
  <dc:subject/>
  <dc:title>Evaluator-based AP-238</dc:title>
</cp:coreProperties>
</file>