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37680" y="24768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8B3BA25-B98F-44C7-8FA5-7C0F6308BE2D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25920" y="657540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2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51400" y="722880"/>
            <a:ext cx="34970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STEP-NC for plate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cut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293000" y="2498760"/>
            <a:ext cx="38278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ir Dow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859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 scena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81600" y="5083200"/>
            <a:ext cx="1621080" cy="337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87720" y="3195720"/>
            <a:ext cx="642600" cy="337320"/>
          </a:xfrm>
          <a:prstGeom prst="rect">
            <a:avLst/>
          </a:prstGeom>
          <a:gradFill rotWithShape="0">
            <a:gsLst>
              <a:gs pos="0">
                <a:srgbClr val="ef9100"/>
              </a:gs>
              <a:gs pos="100000">
                <a:srgbClr val="009688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7160" y="5124600"/>
            <a:ext cx="1902960" cy="337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cy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1480" y="4759200"/>
            <a:ext cx="26571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Compiler (C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5" idx="0"/>
            <a:endCxn id="311" idx="2"/>
          </p:cNvCxnSpPr>
          <p:nvPr/>
        </p:nvCxnSpPr>
        <p:spPr>
          <a:xfrm flipH="1" flipV="1" rot="5400000">
            <a:off x="2715480" y="2972880"/>
            <a:ext cx="1007280" cy="2181960"/>
          </a:xfrm>
          <a:prstGeom prst="bentConnector3">
            <a:avLst>
              <a:gd name="adj1" fmla="val 4998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"/>
          <p:cNvCxnSpPr>
            <a:stCxn id="311" idx="2"/>
            <a:endCxn id="317" idx="0"/>
          </p:cNvCxnSpPr>
          <p:nvPr/>
        </p:nvCxnSpPr>
        <p:spPr>
          <a:xfrm flipH="1" rot="16200000">
            <a:off x="4941000" y="2929320"/>
            <a:ext cx="1015200" cy="2277360"/>
          </a:xfrm>
          <a:prstGeom prst="bentConnector3">
            <a:avLst>
              <a:gd name="adj1" fmla="val 4991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5254560" y="3348000"/>
            <a:ext cx="11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9960" y="4576680"/>
            <a:ext cx="2917800" cy="1270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21360" y="4584600"/>
            <a:ext cx="2928960" cy="1270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1" idx="2"/>
            <a:endCxn id="311" idx="3"/>
          </p:cNvCxnSpPr>
          <p:nvPr/>
        </p:nvCxnSpPr>
        <p:spPr>
          <a:xfrm flipH="1" flipV="1" rot="5400000">
            <a:off x="4386600" y="3296160"/>
            <a:ext cx="187920" cy="342000"/>
          </a:xfrm>
          <a:prstGeom prst="bentConnector4">
            <a:avLst>
              <a:gd name="adj1" fmla="val -116890"/>
              <a:gd name="adj2" fmla="val 16417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3995280" y="2382840"/>
            <a:ext cx="619560" cy="33732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11" idx="0"/>
          </p:cNvCxnSpPr>
          <p:nvPr/>
        </p:nvCxnSpPr>
        <p:spPr>
          <a:xfrm>
            <a:off x="4304880" y="2747520"/>
            <a:ext cx="540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4345920" y="277668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AP 2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70040" y="407340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21440" y="4761000"/>
            <a:ext cx="26571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Compiler (C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0840" y="5110200"/>
            <a:ext cx="8264520" cy="11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94040" y="486252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e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 PC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720" y="820800"/>
            <a:ext cx="776916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EP-NC to control b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 design defines piping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fting extracts and completes pipe bend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52360" y="3035160"/>
            <a:ext cx="14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17920" y="3168720"/>
            <a:ext cx="976320" cy="379440"/>
          </a:xfrm>
          <a:prstGeom prst="rightArrow">
            <a:avLst>
              <a:gd name="adj1" fmla="val 50000"/>
              <a:gd name="adj2" fmla="val 6432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497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data model for pipe be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5240" y="801720"/>
            <a:ext cx="8991360" cy="534996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21680" y="1074600"/>
            <a:ext cx="1203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25000" y="2065320"/>
            <a:ext cx="11804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t_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05680" y="15318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24462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80120" y="259884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53960" y="3056040"/>
            <a:ext cx="19695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d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27360" y="1074600"/>
            <a:ext cx="1100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45240" y="2065320"/>
            <a:ext cx="2207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d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34680" y="1531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4156200" y="2209680"/>
            <a:ext cx="1482480" cy="7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080" bIns="-82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rot="16200000">
            <a:off x="4152960" y="1798560"/>
            <a:ext cx="838080" cy="22860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2370240"/>
            <a:ext cx="45720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6552000" y="3751200"/>
            <a:ext cx="762120" cy="30492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52840" y="4056120"/>
            <a:ext cx="616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6880" y="466560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rot="16200000">
            <a:off x="6172200" y="3979800"/>
            <a:ext cx="137160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752480" y="1303200"/>
            <a:ext cx="10670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752120" y="2286000"/>
            <a:ext cx="1150920" cy="7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080" bIns="-82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480" y="11509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1986120"/>
            <a:ext cx="1265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227 pip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41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9816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AP- STEP-NC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17880" y="3427560"/>
            <a:ext cx="626760" cy="582480"/>
          </a:xfrm>
          <a:custGeom>
            <a:avLst/>
            <a:gdLst/>
            <a:ahLst/>
            <a:rect l="l" t="t" r="r" b="b"/>
            <a:pathLst>
              <a:path w="889" h="821">
                <a:moveTo>
                  <a:pt x="143" y="0"/>
                </a:moveTo>
                <a:lnTo>
                  <a:pt x="112" y="4"/>
                </a:lnTo>
                <a:lnTo>
                  <a:pt x="83" y="12"/>
                </a:lnTo>
                <a:lnTo>
                  <a:pt x="58" y="25"/>
                </a:lnTo>
                <a:lnTo>
                  <a:pt x="39" y="43"/>
                </a:lnTo>
                <a:lnTo>
                  <a:pt x="21" y="64"/>
                </a:lnTo>
                <a:lnTo>
                  <a:pt x="10" y="87"/>
                </a:lnTo>
                <a:lnTo>
                  <a:pt x="2" y="112"/>
                </a:lnTo>
                <a:lnTo>
                  <a:pt x="0" y="137"/>
                </a:lnTo>
                <a:lnTo>
                  <a:pt x="0" y="685"/>
                </a:lnTo>
                <a:lnTo>
                  <a:pt x="2" y="710"/>
                </a:lnTo>
                <a:lnTo>
                  <a:pt x="10" y="735"/>
                </a:lnTo>
                <a:lnTo>
                  <a:pt x="21" y="758"/>
                </a:lnTo>
                <a:lnTo>
                  <a:pt x="39" y="779"/>
                </a:lnTo>
                <a:lnTo>
                  <a:pt x="58" y="796"/>
                </a:lnTo>
                <a:lnTo>
                  <a:pt x="83" y="810"/>
                </a:lnTo>
                <a:lnTo>
                  <a:pt x="112" y="818"/>
                </a:lnTo>
                <a:lnTo>
                  <a:pt x="143" y="821"/>
                </a:lnTo>
                <a:lnTo>
                  <a:pt x="746" y="821"/>
                </a:lnTo>
                <a:lnTo>
                  <a:pt x="777" y="818"/>
                </a:lnTo>
                <a:lnTo>
                  <a:pt x="806" y="810"/>
                </a:lnTo>
                <a:lnTo>
                  <a:pt x="831" y="796"/>
                </a:lnTo>
                <a:lnTo>
                  <a:pt x="850" y="779"/>
                </a:lnTo>
                <a:lnTo>
                  <a:pt x="867" y="758"/>
                </a:lnTo>
                <a:lnTo>
                  <a:pt x="879" y="735"/>
                </a:lnTo>
                <a:lnTo>
                  <a:pt x="887" y="710"/>
                </a:lnTo>
                <a:lnTo>
                  <a:pt x="889" y="685"/>
                </a:lnTo>
                <a:lnTo>
                  <a:pt x="889" y="137"/>
                </a:lnTo>
                <a:lnTo>
                  <a:pt x="887" y="112"/>
                </a:lnTo>
                <a:lnTo>
                  <a:pt x="879" y="87"/>
                </a:lnTo>
                <a:lnTo>
                  <a:pt x="867" y="64"/>
                </a:lnTo>
                <a:lnTo>
                  <a:pt x="850" y="43"/>
                </a:lnTo>
                <a:lnTo>
                  <a:pt x="831" y="25"/>
                </a:lnTo>
                <a:lnTo>
                  <a:pt x="806" y="12"/>
                </a:lnTo>
                <a:lnTo>
                  <a:pt x="777" y="4"/>
                </a:lnTo>
                <a:lnTo>
                  <a:pt x="746" y="0"/>
                </a:lnTo>
                <a:lnTo>
                  <a:pt x="143" y="0"/>
                </a:lnTo>
                <a:close/>
              </a:path>
            </a:pathLst>
          </a:custGeom>
          <a:solidFill>
            <a:srgbClr val="cccc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82680" y="1090440"/>
            <a:ext cx="1576440" cy="36039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43520" y="1041480"/>
            <a:ext cx="1363680" cy="390600"/>
          </a:xfrm>
          <a:prstGeom prst="rect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45120" y="1077840"/>
            <a:ext cx="1208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5480" y="1084320"/>
            <a:ext cx="106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C INSTRUC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44840" y="4691160"/>
            <a:ext cx="1273320" cy="220680"/>
          </a:xfrm>
          <a:custGeom>
            <a:avLst/>
            <a:gdLst/>
            <a:ahLst/>
            <a:rect l="l" t="t" r="r" b="b"/>
            <a:pathLst>
              <a:path w="1812" h="309">
                <a:moveTo>
                  <a:pt x="0" y="309"/>
                </a:moveTo>
                <a:lnTo>
                  <a:pt x="1812" y="309"/>
                </a:lnTo>
                <a:lnTo>
                  <a:pt x="181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94400" y="4656240"/>
            <a:ext cx="60120" cy="60120"/>
          </a:xfrm>
          <a:custGeom>
            <a:avLst/>
            <a:gdLst/>
            <a:ahLst/>
            <a:rect l="l" t="t" r="r" b="b"/>
            <a:pathLst>
              <a:path w="89" h="85">
                <a:moveTo>
                  <a:pt x="89" y="85"/>
                </a:moveTo>
                <a:lnTo>
                  <a:pt x="37" y="0"/>
                </a:lnTo>
                <a:lnTo>
                  <a:pt x="0" y="85"/>
                </a:lnTo>
                <a:lnTo>
                  <a:pt x="89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44840" y="4691160"/>
            <a:ext cx="1273320" cy="220680"/>
          </a:xfrm>
          <a:custGeom>
            <a:avLst/>
            <a:gdLst/>
            <a:ahLst/>
            <a:rect l="l" t="t" r="r" b="b"/>
            <a:pathLst>
              <a:path w="1812" h="309">
                <a:moveTo>
                  <a:pt x="0" y="309"/>
                </a:moveTo>
                <a:lnTo>
                  <a:pt x="1812" y="309"/>
                </a:lnTo>
                <a:lnTo>
                  <a:pt x="181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94400" y="4656240"/>
            <a:ext cx="60120" cy="60120"/>
          </a:xfrm>
          <a:custGeom>
            <a:avLst/>
            <a:gdLst/>
            <a:ahLst/>
            <a:rect l="l" t="t" r="r" b="b"/>
            <a:pathLst>
              <a:path w="89" h="85">
                <a:moveTo>
                  <a:pt x="89" y="85"/>
                </a:moveTo>
                <a:lnTo>
                  <a:pt x="37" y="0"/>
                </a:lnTo>
                <a:lnTo>
                  <a:pt x="0" y="85"/>
                </a:lnTo>
                <a:lnTo>
                  <a:pt x="89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92840" y="2708280"/>
            <a:ext cx="1314360" cy="392040"/>
          </a:xfrm>
          <a:prstGeom prst="rect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70680" y="2746440"/>
            <a:ext cx="12081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70680" y="2752560"/>
            <a:ext cx="106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C INSTRUC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43440" y="1322280"/>
            <a:ext cx="1251000" cy="390600"/>
          </a:xfrm>
          <a:prstGeom prst="rect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10120" y="1357200"/>
            <a:ext cx="11145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09760" y="1365120"/>
            <a:ext cx="98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ATERIAL LI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30760" y="1587600"/>
            <a:ext cx="1262160" cy="393480"/>
          </a:xfrm>
          <a:prstGeom prst="rect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00760" y="1638360"/>
            <a:ext cx="923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01480" y="1644480"/>
            <a:ext cx="81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ABR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80240" y="1785960"/>
            <a:ext cx="9889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80240" y="1790640"/>
            <a:ext cx="869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30680" y="1941480"/>
            <a:ext cx="1312920" cy="392040"/>
          </a:xfrm>
          <a:prstGeom prst="rect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8240" y="1979640"/>
            <a:ext cx="1162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17160" y="1986120"/>
            <a:ext cx="102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IPE ASSEMBL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32080" y="3559320"/>
            <a:ext cx="1100160" cy="682560"/>
          </a:xfrm>
          <a:prstGeom prst="rect">
            <a:avLst/>
          </a:prstGeom>
          <a:solidFill>
            <a:srgbClr val="ffff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45000" y="3573360"/>
            <a:ext cx="3492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45360" y="3584520"/>
            <a:ext cx="31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i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38640" y="3790800"/>
            <a:ext cx="9712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38640" y="3801960"/>
            <a:ext cx="869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37000" y="4010040"/>
            <a:ext cx="576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37000" y="402120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68720" y="2746440"/>
            <a:ext cx="738000" cy="826920"/>
          </a:xfrm>
          <a:prstGeom prst="rect">
            <a:avLst/>
          </a:prstGeom>
          <a:solidFill>
            <a:srgbClr val="ffff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06600" y="2841480"/>
            <a:ext cx="535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06600" y="285264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98760" y="3049560"/>
            <a:ext cx="3700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98760" y="30607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00480" y="3267000"/>
            <a:ext cx="574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00480" y="327816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8000" y="2222640"/>
            <a:ext cx="1212840" cy="352440"/>
          </a:xfrm>
          <a:prstGeom prst="rect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8920" y="2257560"/>
            <a:ext cx="9018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68560" y="2265480"/>
            <a:ext cx="79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IPE DETAI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08160" y="2162160"/>
            <a:ext cx="685800" cy="681120"/>
          </a:xfrm>
          <a:prstGeom prst="rect">
            <a:avLst/>
          </a:prstGeom>
          <a:solidFill>
            <a:srgbClr val="ffff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95640" y="2392200"/>
            <a:ext cx="595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96000" y="240336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MA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32080" y="2890800"/>
            <a:ext cx="788760" cy="390600"/>
          </a:xfrm>
          <a:prstGeom prst="rect">
            <a:avLst/>
          </a:prstGeom>
          <a:solidFill>
            <a:srgbClr val="cccc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55920" y="2975040"/>
            <a:ext cx="628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56280" y="2987640"/>
            <a:ext cx="57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70200" y="2647800"/>
            <a:ext cx="1087200" cy="243000"/>
          </a:xfrm>
          <a:custGeom>
            <a:avLst/>
            <a:gdLst/>
            <a:ahLst/>
            <a:rect l="l" t="t" r="r" b="b"/>
            <a:pathLst>
              <a:path w="1545" h="343">
                <a:moveTo>
                  <a:pt x="0" y="343"/>
                </a:moveTo>
                <a:lnTo>
                  <a:pt x="0" y="0"/>
                </a:lnTo>
                <a:lnTo>
                  <a:pt x="154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30400" y="2622600"/>
            <a:ext cx="63720" cy="61920"/>
          </a:xfrm>
          <a:custGeom>
            <a:avLst/>
            <a:gdLst/>
            <a:ahLst/>
            <a:rect l="l" t="t" r="r" b="b"/>
            <a:pathLst>
              <a:path w="88" h="85">
                <a:moveTo>
                  <a:pt x="0" y="85"/>
                </a:moveTo>
                <a:lnTo>
                  <a:pt x="88" y="35"/>
                </a:lnTo>
                <a:lnTo>
                  <a:pt x="0" y="0"/>
                </a:lnTo>
                <a:lnTo>
                  <a:pt x="0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70200" y="2647800"/>
            <a:ext cx="1087200" cy="243000"/>
          </a:xfrm>
          <a:custGeom>
            <a:avLst/>
            <a:gdLst/>
            <a:ahLst/>
            <a:rect l="l" t="t" r="r" b="b"/>
            <a:pathLst>
              <a:path w="1545" h="343">
                <a:moveTo>
                  <a:pt x="0" y="343"/>
                </a:moveTo>
                <a:lnTo>
                  <a:pt x="0" y="0"/>
                </a:lnTo>
                <a:lnTo>
                  <a:pt x="154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30400" y="2622600"/>
            <a:ext cx="63720" cy="61920"/>
          </a:xfrm>
          <a:custGeom>
            <a:avLst/>
            <a:gdLst/>
            <a:ahLst/>
            <a:rect l="l" t="t" r="r" b="b"/>
            <a:pathLst>
              <a:path w="88" h="85">
                <a:moveTo>
                  <a:pt x="0" y="85"/>
                </a:moveTo>
                <a:lnTo>
                  <a:pt x="88" y="35"/>
                </a:lnTo>
                <a:lnTo>
                  <a:pt x="0" y="0"/>
                </a:lnTo>
                <a:lnTo>
                  <a:pt x="0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81040" y="4106880"/>
            <a:ext cx="739800" cy="488880"/>
          </a:xfrm>
          <a:prstGeom prst="rect">
            <a:avLst/>
          </a:prstGeom>
          <a:solidFill>
            <a:srgbClr val="cccc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20720" y="4167360"/>
            <a:ext cx="574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21080" y="417816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V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36640" y="4413240"/>
            <a:ext cx="29232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36640" y="4417920"/>
            <a:ext cx="27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(N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60720" y="3487680"/>
            <a:ext cx="6080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60360" y="35020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09120" y="3502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471400" y="350208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81240" y="3706920"/>
            <a:ext cx="5414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79440" y="3713040"/>
            <a:ext cx="50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D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84280" y="3854520"/>
            <a:ext cx="1461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83560" y="385920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57240" y="3719520"/>
            <a:ext cx="225720" cy="387360"/>
          </a:xfrm>
          <a:custGeom>
            <a:avLst/>
            <a:gdLst/>
            <a:ahLst/>
            <a:rect l="l" t="t" r="r" b="b"/>
            <a:pathLst>
              <a:path w="320" h="547">
                <a:moveTo>
                  <a:pt x="0" y="547"/>
                </a:moveTo>
                <a:lnTo>
                  <a:pt x="0" y="0"/>
                </a:lnTo>
                <a:lnTo>
                  <a:pt x="32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55960" y="3693960"/>
            <a:ext cx="61920" cy="61920"/>
          </a:xfrm>
          <a:custGeom>
            <a:avLst/>
            <a:gdLst/>
            <a:ahLst/>
            <a:rect l="l" t="t" r="r" b="b"/>
            <a:pathLst>
              <a:path w="89" h="87">
                <a:moveTo>
                  <a:pt x="0" y="87"/>
                </a:moveTo>
                <a:lnTo>
                  <a:pt x="89" y="35"/>
                </a:lnTo>
                <a:lnTo>
                  <a:pt x="0" y="0"/>
                </a:lnTo>
                <a:lnTo>
                  <a:pt x="0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57240" y="3719520"/>
            <a:ext cx="225720" cy="387360"/>
          </a:xfrm>
          <a:custGeom>
            <a:avLst/>
            <a:gdLst/>
            <a:ahLst/>
            <a:rect l="l" t="t" r="r" b="b"/>
            <a:pathLst>
              <a:path w="320" h="547">
                <a:moveTo>
                  <a:pt x="0" y="547"/>
                </a:moveTo>
                <a:lnTo>
                  <a:pt x="0" y="0"/>
                </a:lnTo>
                <a:lnTo>
                  <a:pt x="32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55960" y="3693960"/>
            <a:ext cx="61920" cy="61920"/>
          </a:xfrm>
          <a:custGeom>
            <a:avLst/>
            <a:gdLst/>
            <a:ahLst/>
            <a:rect l="l" t="t" r="r" b="b"/>
            <a:pathLst>
              <a:path w="89" h="87">
                <a:moveTo>
                  <a:pt x="0" y="87"/>
                </a:moveTo>
                <a:lnTo>
                  <a:pt x="89" y="35"/>
                </a:lnTo>
                <a:lnTo>
                  <a:pt x="0" y="0"/>
                </a:lnTo>
                <a:lnTo>
                  <a:pt x="0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19280" y="2746440"/>
            <a:ext cx="411120" cy="681120"/>
          </a:xfrm>
          <a:custGeom>
            <a:avLst/>
            <a:gdLst/>
            <a:ahLst/>
            <a:rect l="l" t="t" r="r" b="b"/>
            <a:pathLst>
              <a:path w="586" h="959">
                <a:moveTo>
                  <a:pt x="0" y="959"/>
                </a:moveTo>
                <a:lnTo>
                  <a:pt x="0" y="0"/>
                </a:lnTo>
                <a:lnTo>
                  <a:pt x="58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06640" y="2720880"/>
            <a:ext cx="63720" cy="61920"/>
          </a:xfrm>
          <a:custGeom>
            <a:avLst/>
            <a:gdLst/>
            <a:ahLst/>
            <a:rect l="l" t="t" r="r" b="b"/>
            <a:pathLst>
              <a:path w="89" h="87">
                <a:moveTo>
                  <a:pt x="0" y="87"/>
                </a:moveTo>
                <a:lnTo>
                  <a:pt x="89" y="35"/>
                </a:lnTo>
                <a:lnTo>
                  <a:pt x="0" y="0"/>
                </a:lnTo>
                <a:lnTo>
                  <a:pt x="0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9280" y="2746440"/>
            <a:ext cx="411120" cy="681120"/>
          </a:xfrm>
          <a:custGeom>
            <a:avLst/>
            <a:gdLst/>
            <a:ahLst/>
            <a:rect l="l" t="t" r="r" b="b"/>
            <a:pathLst>
              <a:path w="586" h="959">
                <a:moveTo>
                  <a:pt x="0" y="959"/>
                </a:moveTo>
                <a:lnTo>
                  <a:pt x="0" y="0"/>
                </a:lnTo>
                <a:lnTo>
                  <a:pt x="58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06640" y="2720880"/>
            <a:ext cx="63720" cy="61920"/>
          </a:xfrm>
          <a:custGeom>
            <a:avLst/>
            <a:gdLst/>
            <a:ahLst/>
            <a:rect l="l" t="t" r="r" b="b"/>
            <a:pathLst>
              <a:path w="89" h="87">
                <a:moveTo>
                  <a:pt x="0" y="87"/>
                </a:moveTo>
                <a:lnTo>
                  <a:pt x="89" y="35"/>
                </a:lnTo>
                <a:lnTo>
                  <a:pt x="0" y="0"/>
                </a:lnTo>
                <a:lnTo>
                  <a:pt x="0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25600" y="1139760"/>
            <a:ext cx="1351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22360" y="1149480"/>
            <a:ext cx="123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put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82680" y="1382760"/>
            <a:ext cx="15750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20840" y="4886280"/>
            <a:ext cx="8366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16240" y="4923000"/>
            <a:ext cx="5810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15160" y="4929120"/>
            <a:ext cx="11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4400" y="49291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81120" y="4929120"/>
            <a:ext cx="39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94200" y="4594320"/>
            <a:ext cx="1363680" cy="633240"/>
          </a:xfrm>
          <a:custGeom>
            <a:avLst/>
            <a:gdLst/>
            <a:ahLst/>
            <a:rect l="l" t="t" r="r" b="b"/>
            <a:pathLst>
              <a:path w="1937" h="891">
                <a:moveTo>
                  <a:pt x="977" y="0"/>
                </a:moveTo>
                <a:lnTo>
                  <a:pt x="0" y="446"/>
                </a:lnTo>
                <a:lnTo>
                  <a:pt x="977" y="891"/>
                </a:lnTo>
                <a:lnTo>
                  <a:pt x="1937" y="446"/>
                </a:lnTo>
                <a:lnTo>
                  <a:pt x="977" y="0"/>
                </a:lnTo>
                <a:close/>
              </a:path>
            </a:pathLst>
          </a:custGeom>
          <a:solidFill>
            <a:srgbClr val="00cc99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14680" y="4691160"/>
            <a:ext cx="6080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14320" y="470520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63440" y="47052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7160" y="470520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39960" y="4933800"/>
            <a:ext cx="34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38520" y="4950000"/>
            <a:ext cx="31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92680" y="2647800"/>
            <a:ext cx="790560" cy="390600"/>
          </a:xfrm>
          <a:prstGeom prst="ellipse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32520" y="2720880"/>
            <a:ext cx="1458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31800" y="2727360"/>
            <a:ext cx="13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16520" y="2855880"/>
            <a:ext cx="56844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16160" y="2860560"/>
            <a:ext cx="531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HIPY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57880" y="2841480"/>
            <a:ext cx="298440" cy="2070360"/>
          </a:xfrm>
          <a:custGeom>
            <a:avLst/>
            <a:gdLst/>
            <a:ahLst/>
            <a:rect l="l" t="t" r="r" b="b"/>
            <a:pathLst>
              <a:path w="426" h="2913">
                <a:moveTo>
                  <a:pt x="0" y="2913"/>
                </a:moveTo>
                <a:lnTo>
                  <a:pt x="249" y="2913"/>
                </a:lnTo>
                <a:lnTo>
                  <a:pt x="249" y="0"/>
                </a:lnTo>
                <a:lnTo>
                  <a:pt x="42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30760" y="2819520"/>
            <a:ext cx="61920" cy="60120"/>
          </a:xfrm>
          <a:custGeom>
            <a:avLst/>
            <a:gdLst/>
            <a:ahLst/>
            <a:rect l="l" t="t" r="r" b="b"/>
            <a:pathLst>
              <a:path w="89" h="86">
                <a:moveTo>
                  <a:pt x="0" y="86"/>
                </a:moveTo>
                <a:lnTo>
                  <a:pt x="89" y="34"/>
                </a:lnTo>
                <a:lnTo>
                  <a:pt x="0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57880" y="2841480"/>
            <a:ext cx="298440" cy="2070360"/>
          </a:xfrm>
          <a:custGeom>
            <a:avLst/>
            <a:gdLst/>
            <a:ahLst/>
            <a:rect l="l" t="t" r="r" b="b"/>
            <a:pathLst>
              <a:path w="426" h="2913">
                <a:moveTo>
                  <a:pt x="0" y="2913"/>
                </a:moveTo>
                <a:lnTo>
                  <a:pt x="249" y="2913"/>
                </a:lnTo>
                <a:lnTo>
                  <a:pt x="249" y="0"/>
                </a:lnTo>
                <a:lnTo>
                  <a:pt x="42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30760" y="2819520"/>
            <a:ext cx="61920" cy="60120"/>
          </a:xfrm>
          <a:custGeom>
            <a:avLst/>
            <a:gdLst/>
            <a:ahLst/>
            <a:rect l="l" t="t" r="r" b="b"/>
            <a:pathLst>
              <a:path w="89" h="86">
                <a:moveTo>
                  <a:pt x="0" y="86"/>
                </a:moveTo>
                <a:lnTo>
                  <a:pt x="89" y="34"/>
                </a:lnTo>
                <a:lnTo>
                  <a:pt x="0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4200" y="2951280"/>
            <a:ext cx="1311480" cy="390240"/>
          </a:xfrm>
          <a:prstGeom prst="rect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81760" y="2989440"/>
            <a:ext cx="116208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80680" y="2995560"/>
            <a:ext cx="102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IPE ASSEMBL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81520" y="3243240"/>
            <a:ext cx="1211400" cy="392040"/>
          </a:xfrm>
          <a:prstGeom prst="rect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31000" y="3279600"/>
            <a:ext cx="901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30640" y="3287880"/>
            <a:ext cx="79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IPE DETAI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92600" y="3706920"/>
            <a:ext cx="939960" cy="438120"/>
          </a:xfrm>
          <a:prstGeom prst="ellipse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83200" y="3803760"/>
            <a:ext cx="22068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83200" y="3811680"/>
            <a:ext cx="20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03920" y="3936960"/>
            <a:ext cx="5680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03560" y="3944880"/>
            <a:ext cx="531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HIPY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67440" y="3440160"/>
            <a:ext cx="476280" cy="266760"/>
          </a:xfrm>
          <a:custGeom>
            <a:avLst/>
            <a:gdLst/>
            <a:ahLst/>
            <a:rect l="l" t="t" r="r" b="b"/>
            <a:pathLst>
              <a:path w="675" h="376">
                <a:moveTo>
                  <a:pt x="0" y="376"/>
                </a:moveTo>
                <a:lnTo>
                  <a:pt x="0" y="0"/>
                </a:lnTo>
                <a:lnTo>
                  <a:pt x="67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18160" y="3414600"/>
            <a:ext cx="63360" cy="60480"/>
          </a:xfrm>
          <a:custGeom>
            <a:avLst/>
            <a:gdLst/>
            <a:ahLst/>
            <a:rect l="l" t="t" r="r" b="b"/>
            <a:pathLst>
              <a:path w="88" h="85">
                <a:moveTo>
                  <a:pt x="0" y="85"/>
                </a:moveTo>
                <a:lnTo>
                  <a:pt x="88" y="35"/>
                </a:lnTo>
                <a:lnTo>
                  <a:pt x="0" y="0"/>
                </a:lnTo>
                <a:lnTo>
                  <a:pt x="0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67440" y="3440160"/>
            <a:ext cx="476280" cy="266760"/>
          </a:xfrm>
          <a:custGeom>
            <a:avLst/>
            <a:gdLst/>
            <a:ahLst/>
            <a:rect l="l" t="t" r="r" b="b"/>
            <a:pathLst>
              <a:path w="675" h="376">
                <a:moveTo>
                  <a:pt x="0" y="376"/>
                </a:moveTo>
                <a:lnTo>
                  <a:pt x="0" y="0"/>
                </a:lnTo>
                <a:lnTo>
                  <a:pt x="67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18160" y="3414600"/>
            <a:ext cx="63360" cy="60480"/>
          </a:xfrm>
          <a:custGeom>
            <a:avLst/>
            <a:gdLst/>
            <a:ahLst/>
            <a:rect l="l" t="t" r="r" b="b"/>
            <a:pathLst>
              <a:path w="88" h="85">
                <a:moveTo>
                  <a:pt x="0" y="85"/>
                </a:moveTo>
                <a:lnTo>
                  <a:pt x="88" y="35"/>
                </a:lnTo>
                <a:lnTo>
                  <a:pt x="0" y="0"/>
                </a:lnTo>
                <a:lnTo>
                  <a:pt x="0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80040" y="2405160"/>
            <a:ext cx="201600" cy="268200"/>
          </a:xfrm>
          <a:custGeom>
            <a:avLst/>
            <a:gdLst/>
            <a:ahLst/>
            <a:rect l="l" t="t" r="r" b="b"/>
            <a:pathLst>
              <a:path w="284" h="377">
                <a:moveTo>
                  <a:pt x="0" y="377"/>
                </a:moveTo>
                <a:lnTo>
                  <a:pt x="0" y="0"/>
                </a:lnTo>
                <a:lnTo>
                  <a:pt x="28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56080" y="2379600"/>
            <a:ext cx="61920" cy="61920"/>
          </a:xfrm>
          <a:custGeom>
            <a:avLst/>
            <a:gdLst/>
            <a:ahLst/>
            <a:rect l="l" t="t" r="r" b="b"/>
            <a:pathLst>
              <a:path w="89" h="87">
                <a:moveTo>
                  <a:pt x="0" y="87"/>
                </a:moveTo>
                <a:lnTo>
                  <a:pt x="89" y="35"/>
                </a:lnTo>
                <a:lnTo>
                  <a:pt x="0" y="0"/>
                </a:lnTo>
                <a:lnTo>
                  <a:pt x="0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80040" y="2405160"/>
            <a:ext cx="201600" cy="268200"/>
          </a:xfrm>
          <a:custGeom>
            <a:avLst/>
            <a:gdLst/>
            <a:ahLst/>
            <a:rect l="l" t="t" r="r" b="b"/>
            <a:pathLst>
              <a:path w="284" h="377">
                <a:moveTo>
                  <a:pt x="0" y="377"/>
                </a:moveTo>
                <a:lnTo>
                  <a:pt x="0" y="0"/>
                </a:lnTo>
                <a:lnTo>
                  <a:pt x="28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56080" y="2379600"/>
            <a:ext cx="61920" cy="61920"/>
          </a:xfrm>
          <a:custGeom>
            <a:avLst/>
            <a:gdLst/>
            <a:ahLst/>
            <a:rect l="l" t="t" r="r" b="b"/>
            <a:pathLst>
              <a:path w="89" h="87">
                <a:moveTo>
                  <a:pt x="0" y="87"/>
                </a:moveTo>
                <a:lnTo>
                  <a:pt x="89" y="35"/>
                </a:lnTo>
                <a:lnTo>
                  <a:pt x="0" y="0"/>
                </a:lnTo>
                <a:lnTo>
                  <a:pt x="0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94320" y="4194000"/>
            <a:ext cx="536400" cy="717840"/>
          </a:xfrm>
          <a:custGeom>
            <a:avLst/>
            <a:gdLst/>
            <a:ahLst/>
            <a:rect l="l" t="t" r="r" b="b"/>
            <a:pathLst>
              <a:path w="763" h="1010">
                <a:moveTo>
                  <a:pt x="0" y="1010"/>
                </a:moveTo>
                <a:lnTo>
                  <a:pt x="763" y="1010"/>
                </a:lnTo>
                <a:lnTo>
                  <a:pt x="76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06960" y="4157640"/>
            <a:ext cx="60480" cy="58680"/>
          </a:xfrm>
          <a:custGeom>
            <a:avLst/>
            <a:gdLst/>
            <a:ahLst/>
            <a:rect l="l" t="t" r="r" b="b"/>
            <a:pathLst>
              <a:path w="89" h="84">
                <a:moveTo>
                  <a:pt x="89" y="84"/>
                </a:moveTo>
                <a:lnTo>
                  <a:pt x="35" y="0"/>
                </a:lnTo>
                <a:lnTo>
                  <a:pt x="0" y="84"/>
                </a:lnTo>
                <a:lnTo>
                  <a:pt x="89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94320" y="4194000"/>
            <a:ext cx="536400" cy="717840"/>
          </a:xfrm>
          <a:custGeom>
            <a:avLst/>
            <a:gdLst/>
            <a:ahLst/>
            <a:rect l="l" t="t" r="r" b="b"/>
            <a:pathLst>
              <a:path w="763" h="1010">
                <a:moveTo>
                  <a:pt x="0" y="1010"/>
                </a:moveTo>
                <a:lnTo>
                  <a:pt x="763" y="1010"/>
                </a:lnTo>
                <a:lnTo>
                  <a:pt x="76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06960" y="4157640"/>
            <a:ext cx="60480" cy="58680"/>
          </a:xfrm>
          <a:custGeom>
            <a:avLst/>
            <a:gdLst/>
            <a:ahLst/>
            <a:rect l="l" t="t" r="r" b="b"/>
            <a:pathLst>
              <a:path w="89" h="84">
                <a:moveTo>
                  <a:pt x="89" y="84"/>
                </a:moveTo>
                <a:lnTo>
                  <a:pt x="35" y="0"/>
                </a:lnTo>
                <a:lnTo>
                  <a:pt x="0" y="84"/>
                </a:lnTo>
                <a:lnTo>
                  <a:pt x="89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16480" y="4251240"/>
            <a:ext cx="949320" cy="438120"/>
          </a:xfrm>
          <a:prstGeom prst="ellipse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11680" y="4336920"/>
            <a:ext cx="392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11320" y="4343400"/>
            <a:ext cx="36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87840" y="4481640"/>
            <a:ext cx="62892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87840" y="4489560"/>
            <a:ext cx="58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HIPYAR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68560" y="4741920"/>
            <a:ext cx="1025640" cy="169920"/>
          </a:xfrm>
          <a:custGeom>
            <a:avLst/>
            <a:gdLst/>
            <a:ahLst/>
            <a:rect l="l" t="t" r="r" b="b"/>
            <a:pathLst>
              <a:path w="1457" h="239">
                <a:moveTo>
                  <a:pt x="1457" y="239"/>
                </a:moveTo>
                <a:lnTo>
                  <a:pt x="0" y="239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44800" y="4703760"/>
            <a:ext cx="63360" cy="61920"/>
          </a:xfrm>
          <a:custGeom>
            <a:avLst/>
            <a:gdLst/>
            <a:ahLst/>
            <a:rect l="l" t="t" r="r" b="b"/>
            <a:pathLst>
              <a:path w="89" h="86">
                <a:moveTo>
                  <a:pt x="89" y="86"/>
                </a:moveTo>
                <a:lnTo>
                  <a:pt x="35" y="0"/>
                </a:lnTo>
                <a:lnTo>
                  <a:pt x="0" y="86"/>
                </a:lnTo>
                <a:lnTo>
                  <a:pt x="89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68560" y="4741920"/>
            <a:ext cx="1025640" cy="169920"/>
          </a:xfrm>
          <a:custGeom>
            <a:avLst/>
            <a:gdLst/>
            <a:ahLst/>
            <a:rect l="l" t="t" r="r" b="b"/>
            <a:pathLst>
              <a:path w="1457" h="239">
                <a:moveTo>
                  <a:pt x="1457" y="239"/>
                </a:moveTo>
                <a:lnTo>
                  <a:pt x="0" y="239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4800" y="4703760"/>
            <a:ext cx="63360" cy="61920"/>
          </a:xfrm>
          <a:custGeom>
            <a:avLst/>
            <a:gdLst/>
            <a:ahLst/>
            <a:rect l="l" t="t" r="r" b="b"/>
            <a:pathLst>
              <a:path w="89" h="86">
                <a:moveTo>
                  <a:pt x="89" y="86"/>
                </a:moveTo>
                <a:lnTo>
                  <a:pt x="35" y="0"/>
                </a:lnTo>
                <a:lnTo>
                  <a:pt x="0" y="86"/>
                </a:lnTo>
                <a:lnTo>
                  <a:pt x="89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30880" y="4886280"/>
            <a:ext cx="1299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40320" y="4923000"/>
            <a:ext cx="104616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39240" y="4929120"/>
            <a:ext cx="98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ESIGN APPRO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81440" y="4229280"/>
            <a:ext cx="1440" cy="328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43280" y="4533840"/>
            <a:ext cx="61920" cy="60480"/>
          </a:xfrm>
          <a:custGeom>
            <a:avLst/>
            <a:gdLst/>
            <a:ahLst/>
            <a:rect l="l" t="t" r="r" b="b"/>
            <a:pathLst>
              <a:path w="89" h="84">
                <a:moveTo>
                  <a:pt x="0" y="0"/>
                </a:moveTo>
                <a:lnTo>
                  <a:pt x="54" y="84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781440" y="4229280"/>
            <a:ext cx="1440" cy="328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43280" y="4533840"/>
            <a:ext cx="61920" cy="60480"/>
          </a:xfrm>
          <a:custGeom>
            <a:avLst/>
            <a:gdLst/>
            <a:ahLst/>
            <a:rect l="l" t="t" r="r" b="b"/>
            <a:pathLst>
              <a:path w="89" h="84">
                <a:moveTo>
                  <a:pt x="0" y="0"/>
                </a:moveTo>
                <a:lnTo>
                  <a:pt x="54" y="84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29400" y="4789440"/>
            <a:ext cx="365040" cy="109440"/>
          </a:xfrm>
          <a:prstGeom prst="ellipse">
            <a:avLst/>
          </a:prstGeom>
          <a:solidFill>
            <a:srgbClr val="cccc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29400" y="4959360"/>
            <a:ext cx="365040" cy="100080"/>
          </a:xfrm>
          <a:prstGeom prst="ellipse">
            <a:avLst/>
          </a:prstGeom>
          <a:solidFill>
            <a:srgbClr val="ffff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29400" y="5118120"/>
            <a:ext cx="365040" cy="109440"/>
          </a:xfrm>
          <a:prstGeom prst="ellipse">
            <a:avLst/>
          </a:prstGeom>
          <a:solidFill>
            <a:srgbClr val="ffcc99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05600" y="4741920"/>
            <a:ext cx="11127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210360" y="4789440"/>
            <a:ext cx="91584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08200" y="47941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72640" y="4794120"/>
            <a:ext cx="802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PUT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29360" y="4911840"/>
            <a:ext cx="9889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3880" y="4948200"/>
            <a:ext cx="6516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03520" y="49579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81640" y="4948200"/>
            <a:ext cx="74628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80200" y="4954680"/>
            <a:ext cx="70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XECU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18200" y="505764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27640" y="5094360"/>
            <a:ext cx="103032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25840" y="51004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0280" y="5100480"/>
            <a:ext cx="91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UTPUT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25560" y="3281400"/>
            <a:ext cx="211320" cy="243000"/>
          </a:xfrm>
          <a:custGeom>
            <a:avLst/>
            <a:gdLst/>
            <a:ahLst/>
            <a:rect l="l" t="t" r="r" b="b"/>
            <a:pathLst>
              <a:path w="301" h="343">
                <a:moveTo>
                  <a:pt x="0" y="0"/>
                </a:moveTo>
                <a:lnTo>
                  <a:pt x="0" y="343"/>
                </a:lnTo>
                <a:lnTo>
                  <a:pt x="301" y="343"/>
                </a:lnTo>
              </a:path>
            </a:pathLst>
          </a:custGeom>
          <a:noFill/>
          <a:ln w="5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33640" y="3481560"/>
            <a:ext cx="84240" cy="87120"/>
          </a:xfrm>
          <a:custGeom>
            <a:avLst/>
            <a:gdLst/>
            <a:ahLst/>
            <a:rect l="l" t="t" r="r" b="b"/>
            <a:pathLst>
              <a:path w="119" h="122">
                <a:moveTo>
                  <a:pt x="0" y="122"/>
                </a:moveTo>
                <a:lnTo>
                  <a:pt x="119" y="62"/>
                </a:lnTo>
                <a:lnTo>
                  <a:pt x="0" y="0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011400" y="4608360"/>
            <a:ext cx="1440000" cy="679680"/>
            <a:chOff x="3011400" y="4608360"/>
            <a:chExt cx="1440000" cy="679680"/>
          </a:xfrm>
        </p:grpSpPr>
        <p:sp>
          <p:nvSpPr>
            <p:cNvPr id="509" name=""/>
            <p:cNvSpPr/>
            <p:nvPr/>
          </p:nvSpPr>
          <p:spPr>
            <a:xfrm>
              <a:off x="3011400" y="4616280"/>
              <a:ext cx="1432080" cy="663840"/>
            </a:xfrm>
            <a:custGeom>
              <a:avLst/>
              <a:gdLst/>
              <a:ahLst/>
              <a:rect l="l" t="t" r="r" b="b"/>
              <a:pathLst>
                <a:path w="1874" h="935">
                  <a:moveTo>
                    <a:pt x="0" y="873"/>
                  </a:moveTo>
                  <a:lnTo>
                    <a:pt x="62" y="885"/>
                  </a:lnTo>
                  <a:lnTo>
                    <a:pt x="124" y="895"/>
                  </a:lnTo>
                  <a:lnTo>
                    <a:pt x="243" y="912"/>
                  </a:lnTo>
                  <a:lnTo>
                    <a:pt x="293" y="920"/>
                  </a:lnTo>
                  <a:lnTo>
                    <a:pt x="343" y="923"/>
                  </a:lnTo>
                  <a:lnTo>
                    <a:pt x="392" y="929"/>
                  </a:lnTo>
                  <a:lnTo>
                    <a:pt x="440" y="935"/>
                  </a:lnTo>
                  <a:lnTo>
                    <a:pt x="471" y="935"/>
                  </a:lnTo>
                  <a:lnTo>
                    <a:pt x="499" y="935"/>
                  </a:lnTo>
                  <a:lnTo>
                    <a:pt x="526" y="935"/>
                  </a:lnTo>
                  <a:lnTo>
                    <a:pt x="550" y="933"/>
                  </a:lnTo>
                  <a:lnTo>
                    <a:pt x="571" y="933"/>
                  </a:lnTo>
                  <a:lnTo>
                    <a:pt x="590" y="931"/>
                  </a:lnTo>
                  <a:lnTo>
                    <a:pt x="623" y="929"/>
                  </a:lnTo>
                  <a:lnTo>
                    <a:pt x="648" y="927"/>
                  </a:lnTo>
                  <a:lnTo>
                    <a:pt x="671" y="925"/>
                  </a:lnTo>
                  <a:lnTo>
                    <a:pt x="690" y="925"/>
                  </a:lnTo>
                  <a:lnTo>
                    <a:pt x="708" y="923"/>
                  </a:lnTo>
                  <a:lnTo>
                    <a:pt x="744" y="918"/>
                  </a:lnTo>
                  <a:lnTo>
                    <a:pt x="783" y="912"/>
                  </a:lnTo>
                  <a:lnTo>
                    <a:pt x="819" y="906"/>
                  </a:lnTo>
                  <a:lnTo>
                    <a:pt x="854" y="900"/>
                  </a:lnTo>
                  <a:lnTo>
                    <a:pt x="887" y="893"/>
                  </a:lnTo>
                  <a:lnTo>
                    <a:pt x="918" y="887"/>
                  </a:lnTo>
                  <a:lnTo>
                    <a:pt x="951" y="877"/>
                  </a:lnTo>
                  <a:lnTo>
                    <a:pt x="983" y="868"/>
                  </a:lnTo>
                  <a:lnTo>
                    <a:pt x="1016" y="862"/>
                  </a:lnTo>
                  <a:lnTo>
                    <a:pt x="1049" y="856"/>
                  </a:lnTo>
                  <a:lnTo>
                    <a:pt x="1116" y="839"/>
                  </a:lnTo>
                  <a:lnTo>
                    <a:pt x="1190" y="823"/>
                  </a:lnTo>
                  <a:lnTo>
                    <a:pt x="1226" y="816"/>
                  </a:lnTo>
                  <a:lnTo>
                    <a:pt x="1265" y="806"/>
                  </a:lnTo>
                  <a:lnTo>
                    <a:pt x="1303" y="800"/>
                  </a:lnTo>
                  <a:lnTo>
                    <a:pt x="1344" y="792"/>
                  </a:lnTo>
                  <a:lnTo>
                    <a:pt x="1388" y="785"/>
                  </a:lnTo>
                  <a:lnTo>
                    <a:pt x="1434" y="777"/>
                  </a:lnTo>
                  <a:lnTo>
                    <a:pt x="1481" y="773"/>
                  </a:lnTo>
                  <a:lnTo>
                    <a:pt x="1527" y="767"/>
                  </a:lnTo>
                  <a:lnTo>
                    <a:pt x="1575" y="760"/>
                  </a:lnTo>
                  <a:lnTo>
                    <a:pt x="1627" y="756"/>
                  </a:lnTo>
                  <a:lnTo>
                    <a:pt x="1685" y="756"/>
                  </a:lnTo>
                  <a:lnTo>
                    <a:pt x="1747" y="754"/>
                  </a:lnTo>
                  <a:lnTo>
                    <a:pt x="1808" y="752"/>
                  </a:lnTo>
                  <a:lnTo>
                    <a:pt x="1874" y="750"/>
                  </a:lnTo>
                  <a:lnTo>
                    <a:pt x="1874" y="0"/>
                  </a:lnTo>
                  <a:lnTo>
                    <a:pt x="0" y="0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e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14640" y="4608360"/>
              <a:ext cx="1436760" cy="679680"/>
            </a:xfrm>
            <a:custGeom>
              <a:avLst/>
              <a:gdLst/>
              <a:ahLst/>
              <a:rect l="l" t="t" r="r" b="b"/>
              <a:pathLst>
                <a:path w="1896" h="958">
                  <a:moveTo>
                    <a:pt x="73" y="907"/>
                  </a:moveTo>
                  <a:lnTo>
                    <a:pt x="135" y="917"/>
                  </a:lnTo>
                  <a:lnTo>
                    <a:pt x="252" y="934"/>
                  </a:lnTo>
                  <a:lnTo>
                    <a:pt x="304" y="942"/>
                  </a:lnTo>
                  <a:lnTo>
                    <a:pt x="354" y="946"/>
                  </a:lnTo>
                  <a:lnTo>
                    <a:pt x="403" y="952"/>
                  </a:lnTo>
                  <a:lnTo>
                    <a:pt x="449" y="958"/>
                  </a:lnTo>
                  <a:lnTo>
                    <a:pt x="449" y="958"/>
                  </a:lnTo>
                  <a:lnTo>
                    <a:pt x="451" y="958"/>
                  </a:lnTo>
                  <a:lnTo>
                    <a:pt x="482" y="958"/>
                  </a:lnTo>
                  <a:lnTo>
                    <a:pt x="510" y="958"/>
                  </a:lnTo>
                  <a:lnTo>
                    <a:pt x="537" y="958"/>
                  </a:lnTo>
                  <a:lnTo>
                    <a:pt x="561" y="956"/>
                  </a:lnTo>
                  <a:lnTo>
                    <a:pt x="582" y="956"/>
                  </a:lnTo>
                  <a:lnTo>
                    <a:pt x="601" y="954"/>
                  </a:lnTo>
                  <a:lnTo>
                    <a:pt x="634" y="952"/>
                  </a:lnTo>
                  <a:lnTo>
                    <a:pt x="659" y="950"/>
                  </a:lnTo>
                  <a:lnTo>
                    <a:pt x="682" y="948"/>
                  </a:lnTo>
                  <a:lnTo>
                    <a:pt x="701" y="948"/>
                  </a:lnTo>
                  <a:lnTo>
                    <a:pt x="719" y="946"/>
                  </a:lnTo>
                  <a:lnTo>
                    <a:pt x="721" y="946"/>
                  </a:lnTo>
                  <a:lnTo>
                    <a:pt x="721" y="946"/>
                  </a:lnTo>
                  <a:lnTo>
                    <a:pt x="755" y="940"/>
                  </a:lnTo>
                  <a:lnTo>
                    <a:pt x="794" y="934"/>
                  </a:lnTo>
                  <a:lnTo>
                    <a:pt x="830" y="929"/>
                  </a:lnTo>
                  <a:lnTo>
                    <a:pt x="867" y="923"/>
                  </a:lnTo>
                  <a:lnTo>
                    <a:pt x="902" y="915"/>
                  </a:lnTo>
                  <a:lnTo>
                    <a:pt x="935" y="907"/>
                  </a:lnTo>
                  <a:lnTo>
                    <a:pt x="965" y="900"/>
                  </a:lnTo>
                  <a:lnTo>
                    <a:pt x="998" y="890"/>
                  </a:lnTo>
                  <a:lnTo>
                    <a:pt x="994" y="879"/>
                  </a:lnTo>
                  <a:lnTo>
                    <a:pt x="996" y="890"/>
                  </a:lnTo>
                  <a:lnTo>
                    <a:pt x="1027" y="884"/>
                  </a:lnTo>
                  <a:lnTo>
                    <a:pt x="1060" y="879"/>
                  </a:lnTo>
                  <a:lnTo>
                    <a:pt x="1066" y="877"/>
                  </a:lnTo>
                  <a:lnTo>
                    <a:pt x="1131" y="861"/>
                  </a:lnTo>
                  <a:lnTo>
                    <a:pt x="1127" y="850"/>
                  </a:lnTo>
                  <a:lnTo>
                    <a:pt x="1129" y="861"/>
                  </a:lnTo>
                  <a:lnTo>
                    <a:pt x="1201" y="846"/>
                  </a:lnTo>
                  <a:lnTo>
                    <a:pt x="1206" y="844"/>
                  </a:lnTo>
                  <a:lnTo>
                    <a:pt x="1243" y="836"/>
                  </a:lnTo>
                  <a:lnTo>
                    <a:pt x="1278" y="828"/>
                  </a:lnTo>
                  <a:lnTo>
                    <a:pt x="1276" y="817"/>
                  </a:lnTo>
                  <a:lnTo>
                    <a:pt x="1278" y="828"/>
                  </a:lnTo>
                  <a:lnTo>
                    <a:pt x="1314" y="823"/>
                  </a:lnTo>
                  <a:lnTo>
                    <a:pt x="1355" y="815"/>
                  </a:lnTo>
                  <a:lnTo>
                    <a:pt x="1399" y="807"/>
                  </a:lnTo>
                  <a:lnTo>
                    <a:pt x="1447" y="800"/>
                  </a:lnTo>
                  <a:lnTo>
                    <a:pt x="1492" y="796"/>
                  </a:lnTo>
                  <a:lnTo>
                    <a:pt x="1538" y="790"/>
                  </a:lnTo>
                  <a:lnTo>
                    <a:pt x="1586" y="782"/>
                  </a:lnTo>
                  <a:lnTo>
                    <a:pt x="1640" y="778"/>
                  </a:lnTo>
                  <a:lnTo>
                    <a:pt x="1638" y="767"/>
                  </a:lnTo>
                  <a:lnTo>
                    <a:pt x="1638" y="778"/>
                  </a:lnTo>
                  <a:lnTo>
                    <a:pt x="1696" y="778"/>
                  </a:lnTo>
                  <a:lnTo>
                    <a:pt x="1758" y="776"/>
                  </a:lnTo>
                  <a:lnTo>
                    <a:pt x="1819" y="774"/>
                  </a:lnTo>
                  <a:lnTo>
                    <a:pt x="1885" y="773"/>
                  </a:lnTo>
                  <a:lnTo>
                    <a:pt x="1896" y="773"/>
                  </a:lnTo>
                  <a:lnTo>
                    <a:pt x="1896" y="761"/>
                  </a:lnTo>
                  <a:lnTo>
                    <a:pt x="1896" y="11"/>
                  </a:lnTo>
                  <a:lnTo>
                    <a:pt x="1896" y="0"/>
                  </a:lnTo>
                  <a:lnTo>
                    <a:pt x="1885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884"/>
                  </a:lnTo>
                  <a:lnTo>
                    <a:pt x="0" y="894"/>
                  </a:lnTo>
                  <a:lnTo>
                    <a:pt x="9" y="896"/>
                  </a:lnTo>
                  <a:lnTo>
                    <a:pt x="73" y="907"/>
                  </a:lnTo>
                  <a:close/>
                  <a:moveTo>
                    <a:pt x="13" y="873"/>
                  </a:moveTo>
                  <a:lnTo>
                    <a:pt x="11" y="884"/>
                  </a:lnTo>
                  <a:lnTo>
                    <a:pt x="23" y="884"/>
                  </a:lnTo>
                  <a:lnTo>
                    <a:pt x="23" y="11"/>
                  </a:lnTo>
                  <a:lnTo>
                    <a:pt x="11" y="11"/>
                  </a:lnTo>
                  <a:lnTo>
                    <a:pt x="11" y="23"/>
                  </a:lnTo>
                  <a:lnTo>
                    <a:pt x="1885" y="23"/>
                  </a:lnTo>
                  <a:lnTo>
                    <a:pt x="1885" y="11"/>
                  </a:lnTo>
                  <a:lnTo>
                    <a:pt x="1873" y="11"/>
                  </a:lnTo>
                  <a:lnTo>
                    <a:pt x="1873" y="761"/>
                  </a:lnTo>
                  <a:lnTo>
                    <a:pt x="1885" y="761"/>
                  </a:lnTo>
                  <a:lnTo>
                    <a:pt x="1885" y="749"/>
                  </a:lnTo>
                  <a:lnTo>
                    <a:pt x="1819" y="751"/>
                  </a:lnTo>
                  <a:lnTo>
                    <a:pt x="1758" y="753"/>
                  </a:lnTo>
                  <a:lnTo>
                    <a:pt x="1696" y="755"/>
                  </a:lnTo>
                  <a:lnTo>
                    <a:pt x="1638" y="755"/>
                  </a:lnTo>
                  <a:lnTo>
                    <a:pt x="1636" y="755"/>
                  </a:lnTo>
                  <a:lnTo>
                    <a:pt x="1638" y="755"/>
                  </a:lnTo>
                  <a:lnTo>
                    <a:pt x="1586" y="759"/>
                  </a:lnTo>
                  <a:lnTo>
                    <a:pt x="1538" y="767"/>
                  </a:lnTo>
                  <a:lnTo>
                    <a:pt x="1492" y="773"/>
                  </a:lnTo>
                  <a:lnTo>
                    <a:pt x="1445" y="776"/>
                  </a:lnTo>
                  <a:lnTo>
                    <a:pt x="1399" y="784"/>
                  </a:lnTo>
                  <a:lnTo>
                    <a:pt x="1355" y="792"/>
                  </a:lnTo>
                  <a:lnTo>
                    <a:pt x="1314" y="800"/>
                  </a:lnTo>
                  <a:lnTo>
                    <a:pt x="1276" y="805"/>
                  </a:lnTo>
                  <a:lnTo>
                    <a:pt x="1272" y="805"/>
                  </a:lnTo>
                  <a:lnTo>
                    <a:pt x="1274" y="805"/>
                  </a:lnTo>
                  <a:lnTo>
                    <a:pt x="1233" y="815"/>
                  </a:lnTo>
                  <a:lnTo>
                    <a:pt x="1197" y="823"/>
                  </a:lnTo>
                  <a:lnTo>
                    <a:pt x="1201" y="834"/>
                  </a:lnTo>
                  <a:lnTo>
                    <a:pt x="1201" y="823"/>
                  </a:lnTo>
                  <a:lnTo>
                    <a:pt x="1125" y="838"/>
                  </a:lnTo>
                  <a:lnTo>
                    <a:pt x="1147" y="834"/>
                  </a:lnTo>
                  <a:lnTo>
                    <a:pt x="1125" y="840"/>
                  </a:lnTo>
                  <a:lnTo>
                    <a:pt x="1056" y="855"/>
                  </a:lnTo>
                  <a:lnTo>
                    <a:pt x="1060" y="867"/>
                  </a:lnTo>
                  <a:lnTo>
                    <a:pt x="1060" y="855"/>
                  </a:lnTo>
                  <a:lnTo>
                    <a:pt x="1027" y="861"/>
                  </a:lnTo>
                  <a:lnTo>
                    <a:pt x="994" y="867"/>
                  </a:lnTo>
                  <a:lnTo>
                    <a:pt x="994" y="867"/>
                  </a:lnTo>
                  <a:lnTo>
                    <a:pt x="990" y="869"/>
                  </a:lnTo>
                  <a:lnTo>
                    <a:pt x="956" y="879"/>
                  </a:lnTo>
                  <a:lnTo>
                    <a:pt x="925" y="886"/>
                  </a:lnTo>
                  <a:lnTo>
                    <a:pt x="892" y="894"/>
                  </a:lnTo>
                  <a:lnTo>
                    <a:pt x="863" y="900"/>
                  </a:lnTo>
                  <a:lnTo>
                    <a:pt x="830" y="906"/>
                  </a:lnTo>
                  <a:lnTo>
                    <a:pt x="794" y="911"/>
                  </a:lnTo>
                  <a:lnTo>
                    <a:pt x="755" y="917"/>
                  </a:lnTo>
                  <a:lnTo>
                    <a:pt x="719" y="923"/>
                  </a:lnTo>
                  <a:lnTo>
                    <a:pt x="719" y="934"/>
                  </a:lnTo>
                  <a:lnTo>
                    <a:pt x="719" y="923"/>
                  </a:lnTo>
                  <a:lnTo>
                    <a:pt x="701" y="925"/>
                  </a:lnTo>
                  <a:lnTo>
                    <a:pt x="682" y="925"/>
                  </a:lnTo>
                  <a:lnTo>
                    <a:pt x="659" y="927"/>
                  </a:lnTo>
                  <a:lnTo>
                    <a:pt x="634" y="929"/>
                  </a:lnTo>
                  <a:lnTo>
                    <a:pt x="601" y="931"/>
                  </a:lnTo>
                  <a:lnTo>
                    <a:pt x="582" y="933"/>
                  </a:lnTo>
                  <a:lnTo>
                    <a:pt x="561" y="933"/>
                  </a:lnTo>
                  <a:lnTo>
                    <a:pt x="537" y="934"/>
                  </a:lnTo>
                  <a:lnTo>
                    <a:pt x="510" y="934"/>
                  </a:lnTo>
                  <a:lnTo>
                    <a:pt x="482" y="934"/>
                  </a:lnTo>
                  <a:lnTo>
                    <a:pt x="451" y="934"/>
                  </a:lnTo>
                  <a:lnTo>
                    <a:pt x="451" y="946"/>
                  </a:lnTo>
                  <a:lnTo>
                    <a:pt x="453" y="934"/>
                  </a:lnTo>
                  <a:lnTo>
                    <a:pt x="403" y="929"/>
                  </a:lnTo>
                  <a:lnTo>
                    <a:pt x="354" y="923"/>
                  </a:lnTo>
                  <a:lnTo>
                    <a:pt x="304" y="919"/>
                  </a:lnTo>
                  <a:lnTo>
                    <a:pt x="256" y="911"/>
                  </a:lnTo>
                  <a:lnTo>
                    <a:pt x="135" y="894"/>
                  </a:lnTo>
                  <a:lnTo>
                    <a:pt x="73" y="884"/>
                  </a:lnTo>
                  <a:lnTo>
                    <a:pt x="13" y="8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3997440" y="1087560"/>
            <a:ext cx="13366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34640" y="1135080"/>
            <a:ext cx="5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74080" y="1346040"/>
            <a:ext cx="72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79440" y="1555920"/>
            <a:ext cx="37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49240" y="1766880"/>
            <a:ext cx="70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14560" y="4619520"/>
            <a:ext cx="160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17240" y="47023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4480" y="47023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11720" y="4702320"/>
            <a:ext cx="10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8 enh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60440" y="4913280"/>
            <a:ext cx="119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pipe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5464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TEP-NC for pipe be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520" y="938160"/>
            <a:ext cx="7769160" cy="498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 drawings with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-NC data is self docume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er program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initial work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p floor optimization - adjustments to as-designed pipe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pipe needed for clam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d Shrink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interference checking (floor, ceiling, mach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er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are tied to AP-227 and AP-238 not a system specific data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7604280" y="3670200"/>
            <a:ext cx="353880" cy="555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52680" y="3100320"/>
            <a:ext cx="3122640" cy="2732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43640" y="4748040"/>
            <a:ext cx="1246320" cy="484200"/>
          </a:xfrm>
          <a:custGeom>
            <a:avLst/>
            <a:gdLst/>
            <a:ahLst/>
            <a:rect l="l" t="t" r="r" b="b"/>
            <a:pathLst>
              <a:path w="785" h="305">
                <a:moveTo>
                  <a:pt x="161" y="4"/>
                </a:moveTo>
                <a:lnTo>
                  <a:pt x="0" y="305"/>
                </a:lnTo>
                <a:lnTo>
                  <a:pt x="647" y="305"/>
                </a:lnTo>
                <a:lnTo>
                  <a:pt x="785" y="0"/>
                </a:lnTo>
                <a:lnTo>
                  <a:pt x="161" y="4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97880" y="4172760"/>
            <a:ext cx="738000" cy="3985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t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958160" y="3452760"/>
            <a:ext cx="91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t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21560" y="4579920"/>
            <a:ext cx="73080" cy="382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7240" y="266400"/>
            <a:ext cx="4179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pe Bending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93360" y="938160"/>
            <a:ext cx="7769160" cy="14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enabled Pipe Be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of AP-227 to MMAP for process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of extended AP-238 for driving of machines at EB or N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AP can still post G-codes direc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21000" y="3746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Verdana"/>
              </a:rPr>
              <a:t>C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33" idx="3"/>
            <a:endCxn id="534" idx="1"/>
          </p:cNvCxnSpPr>
          <p:nvPr/>
        </p:nvCxnSpPr>
        <p:spPr>
          <a:xfrm>
            <a:off x="5310360" y="4835160"/>
            <a:ext cx="76248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4" idx="3"/>
            <a:endCxn id="523" idx="1"/>
          </p:cNvCxnSpPr>
          <p:nvPr/>
        </p:nvCxnSpPr>
        <p:spPr>
          <a:xfrm flipV="1">
            <a:off x="7027920" y="3947760"/>
            <a:ext cx="567360" cy="891360"/>
          </a:xfrm>
          <a:prstGeom prst="bentConnector3">
            <a:avLst>
              <a:gd name="adj1" fmla="val 4984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6094440" y="4647240"/>
            <a:ext cx="911160" cy="38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24400" y="4218120"/>
            <a:ext cx="1555560" cy="580680"/>
          </a:xfrm>
          <a:prstGeom prst="rect">
            <a:avLst/>
          </a:prstGeom>
          <a:solidFill>
            <a:srgbClr val="00968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37160" y="4648680"/>
            <a:ext cx="655560" cy="373320"/>
          </a:xfrm>
          <a:prstGeom prst="roundRect">
            <a:avLst>
              <a:gd name="adj" fmla="val 16667"/>
            </a:avLst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59760" y="4278960"/>
            <a:ext cx="840240" cy="576360"/>
          </a:xfrm>
          <a:prstGeom prst="roundRect">
            <a:avLst>
              <a:gd name="adj" fmla="val 16667"/>
            </a:avLst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ug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5080" y="43466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37720" y="4240440"/>
            <a:ext cx="695880" cy="673920"/>
          </a:xfrm>
          <a:prstGeom prst="rightArrow">
            <a:avLst>
              <a:gd name="adj1" fmla="val 50000"/>
              <a:gd name="adj2" fmla="val 25815"/>
            </a:avLst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5400" y="5194440"/>
            <a:ext cx="1444320" cy="41940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AP 2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40" idx="3"/>
            <a:endCxn id="537" idx="2"/>
          </p:cNvCxnSpPr>
          <p:nvPr/>
        </p:nvCxnSpPr>
        <p:spPr>
          <a:xfrm flipV="1">
            <a:off x="1739880" y="4868640"/>
            <a:ext cx="1440360" cy="535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"/>
          <p:cNvSpPr/>
          <p:nvPr/>
        </p:nvSpPr>
        <p:spPr>
          <a:xfrm>
            <a:off x="5837400" y="3098880"/>
            <a:ext cx="3122280" cy="2732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43760" y="5924520"/>
            <a:ext cx="4108320" cy="72252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AP 238 extended with bending 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ipe bend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6" idx="2"/>
            <a:endCxn id="543" idx="0"/>
          </p:cNvCxnSpPr>
          <p:nvPr/>
        </p:nvCxnSpPr>
        <p:spPr>
          <a:xfrm rot="5400000">
            <a:off x="3460680" y="5073840"/>
            <a:ext cx="1078560" cy="603720"/>
          </a:xfrm>
          <a:prstGeom prst="bentConnector3">
            <a:avLst>
              <a:gd name="adj1" fmla="val 4948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46" idx="2"/>
          </p:cNvCxnSpPr>
          <p:nvPr/>
        </p:nvCxnSpPr>
        <p:spPr>
          <a:xfrm flipV="1">
            <a:off x="5778000" y="6050880"/>
            <a:ext cx="2226240" cy="235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7495560" y="5461200"/>
            <a:ext cx="1017000" cy="576360"/>
          </a:xfrm>
          <a:prstGeom prst="roundRect">
            <a:avLst>
              <a:gd name="adj" fmla="val 16667"/>
            </a:avLst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ug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205320" y="245124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 at EB or N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other pipe b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223960" y="43070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857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for Pipe Be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3720" y="1227240"/>
            <a:ext cx="4384800" cy="399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ding machines need three key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 ang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d ang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cal work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pipe forward "z" i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45 degree b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pipe forward "y" i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 pipe by 180 degr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45 degree b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pipe forward "x" i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049720" y="1405080"/>
            <a:ext cx="3968280" cy="3435120"/>
            <a:chOff x="5049720" y="1405080"/>
            <a:chExt cx="3968280" cy="3435120"/>
          </a:xfrm>
        </p:grpSpPr>
        <p:graphicFrame>
          <p:nvGraphicFramePr>
            <p:cNvPr id="552" name=""/>
            <p:cNvGraphicFramePr/>
            <p:nvPr/>
          </p:nvGraphicFramePr>
          <p:xfrm>
            <a:off x="5049720" y="1405080"/>
            <a:ext cx="3068640" cy="3435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49720" y="1405080"/>
                      <a:ext cx="3068640" cy="343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4" name=""/>
            <p:cNvSpPr/>
            <p:nvPr/>
          </p:nvSpPr>
          <p:spPr>
            <a:xfrm>
              <a:off x="8693640" y="1576440"/>
              <a:ext cx="0" cy="14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8262000" y="3251160"/>
              <a:ext cx="33552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62000" y="3831120"/>
              <a:ext cx="0" cy="9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685000" y="1867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97360" y="3350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254800" y="405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062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ME Plug-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sme_explorer" descr=""/>
          <p:cNvPicPr/>
          <p:nvPr/>
        </p:nvPicPr>
        <p:blipFill>
          <a:blip r:embed="rId1"/>
          <a:stretch/>
        </p:blipFill>
        <p:spPr>
          <a:xfrm>
            <a:off x="1954080" y="824040"/>
            <a:ext cx="5380200" cy="5406840"/>
          </a:xfrm>
          <a:prstGeom prst="rect">
            <a:avLst/>
          </a:prstGeom>
          <a:ln w="0">
            <a:noFill/>
          </a:ln>
        </p:spPr>
      </p:pic>
      <p:pic>
        <p:nvPicPr>
          <p:cNvPr id="562" name="swept_bend_pipe" descr=""/>
          <p:cNvPicPr/>
          <p:nvPr/>
        </p:nvPicPr>
        <p:blipFill>
          <a:blip r:embed="rId2"/>
          <a:stretch/>
        </p:blipFill>
        <p:spPr>
          <a:xfrm>
            <a:off x="2433600" y="3403440"/>
            <a:ext cx="24256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95360" y="1695600"/>
            <a:ext cx="4226040" cy="307332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facturing work plans/sp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32280" y="2038320"/>
            <a:ext cx="2778120" cy="625680"/>
          </a:xfrm>
          <a:prstGeom prst="rect">
            <a:avLst/>
          </a:prstGeom>
          <a:solidFill>
            <a:srgbClr val="63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pe component sub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5602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Ship Manufacturing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1440" y="5905440"/>
            <a:ext cx="73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Tools is leading the development of AP-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30480" y="3510000"/>
            <a:ext cx="2790720" cy="647640"/>
          </a:xfrm>
          <a:prstGeom prst="rect">
            <a:avLst/>
          </a:prstGeom>
          <a:solidFill>
            <a:srgbClr val="63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 component sub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1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52800" y="2778120"/>
            <a:ext cx="2778120" cy="625320"/>
          </a:xfrm>
          <a:prstGeom prst="rect">
            <a:avLst/>
          </a:prstGeom>
          <a:solidFill>
            <a:srgbClr val="63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VAC component sub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7200" y="1611360"/>
            <a:ext cx="184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subset contains just the manufacturing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5480" y="2797200"/>
            <a:ext cx="37638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late Cutting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51292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Architecture for Plate Cu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360" y="820800"/>
            <a:ext cx="7769160" cy="108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EP-NC to control cu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 design defines ship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fting extracts and completes plate defin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32920" y="3051000"/>
            <a:ext cx="86508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f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92440" y="4979880"/>
            <a:ext cx="1329840" cy="337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maN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72200" y="4614840"/>
            <a:ext cx="1555200" cy="33732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ME Plug-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92640" y="39895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2" idx="0"/>
            <a:endCxn id="57" idx="2"/>
          </p:cNvCxnSpPr>
          <p:nvPr/>
        </p:nvCxnSpPr>
        <p:spPr>
          <a:xfrm flipV="1">
            <a:off x="4265280" y="3415680"/>
            <a:ext cx="1080" cy="100692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2705040" y="4432320"/>
            <a:ext cx="3119400" cy="1270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 Cut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7" idx="2"/>
            <a:endCxn id="57" idx="3"/>
          </p:cNvCxnSpPr>
          <p:nvPr/>
        </p:nvCxnSpPr>
        <p:spPr>
          <a:xfrm flipH="1" flipV="1" rot="5400000">
            <a:off x="4399560" y="3094200"/>
            <a:ext cx="188280" cy="456480"/>
          </a:xfrm>
          <a:prstGeom prst="bentConnector4">
            <a:avLst>
              <a:gd name="adj1" fmla="val -116858"/>
              <a:gd name="adj2" fmla="val 14806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952440" y="2238480"/>
            <a:ext cx="619560" cy="33732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2"/>
            <a:endCxn id="57" idx="0"/>
          </p:cNvCxnSpPr>
          <p:nvPr/>
        </p:nvCxnSpPr>
        <p:spPr>
          <a:xfrm>
            <a:off x="4262040" y="2603160"/>
            <a:ext cx="396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270680" y="26319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35305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52360" y="2846520"/>
            <a:ext cx="14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17920" y="2979720"/>
            <a:ext cx="976320" cy="379440"/>
          </a:xfrm>
          <a:prstGeom prst="rightArrow">
            <a:avLst>
              <a:gd name="adj1" fmla="val 50000"/>
              <a:gd name="adj2" fmla="val 6432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2600" y="4533840"/>
            <a:ext cx="2172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erospa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vy equipme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tary, glass, w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8120" y="4581360"/>
            <a:ext cx="234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d any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ed data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 process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60680" y="258588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 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5080" y="3440160"/>
            <a:ext cx="207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plates to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e by machine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5415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data model for plate cu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5240" y="801720"/>
            <a:ext cx="8991360" cy="534996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21680" y="1074600"/>
            <a:ext cx="1203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89920" y="2065320"/>
            <a:ext cx="16542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680" y="15318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4462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80120" y="259884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13360" y="3056040"/>
            <a:ext cx="18460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7360" y="1074600"/>
            <a:ext cx="1100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57440" y="2065320"/>
            <a:ext cx="1372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680" y="1531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40240" y="2195640"/>
            <a:ext cx="1719360" cy="28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7120" bIns="-87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rot="16200000">
            <a:off x="4152960" y="1798560"/>
            <a:ext cx="838080" cy="22860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3160" y="2403360"/>
            <a:ext cx="1265040" cy="81612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6200000">
            <a:off x="6552000" y="3751200"/>
            <a:ext cx="762120" cy="30492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52840" y="4056120"/>
            <a:ext cx="616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66880" y="466560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rot="16200000">
            <a:off x="6172200" y="3979800"/>
            <a:ext cx="137160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52480" y="1303200"/>
            <a:ext cx="10670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752120" y="2293560"/>
            <a:ext cx="841320" cy="32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480" y="11509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2720" y="1986120"/>
            <a:ext cx="1163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218 pl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64240" y="239868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470560" y="4008240"/>
            <a:ext cx="144756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90320" y="35132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137120" y="496080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3680" y="475776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46760" y="48085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43120" y="1889280"/>
            <a:ext cx="1243080" cy="241128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3704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based on tex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9880" y="1735200"/>
            <a:ext cx="155520" cy="154080"/>
          </a:xfrm>
          <a:custGeom>
            <a:avLst/>
            <a:gdLst/>
            <a:ahLst/>
            <a:rect l="l" t="t" r="r" b="b"/>
            <a:pathLst>
              <a:path w="98" h="97">
                <a:moveTo>
                  <a:pt x="98" y="0"/>
                </a:moveTo>
                <a:lnTo>
                  <a:pt x="53" y="97"/>
                </a:lnTo>
                <a:lnTo>
                  <a:pt x="0" y="0"/>
                </a:lnTo>
                <a:lnTo>
                  <a:pt x="9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6520" y="1685880"/>
            <a:ext cx="14256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90" y="0"/>
                </a:moveTo>
                <a:lnTo>
                  <a:pt x="45" y="102"/>
                </a:lnTo>
                <a:lnTo>
                  <a:pt x="0" y="0"/>
                </a:lnTo>
                <a:lnTo>
                  <a:pt x="9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03720" y="1414440"/>
            <a:ext cx="54756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14880" y="1414440"/>
            <a:ext cx="5223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39360" y="1417680"/>
            <a:ext cx="51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bel Su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08480" y="1563840"/>
            <a:ext cx="314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29720" y="1568520"/>
            <a:ext cx="31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70840" y="164448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90" y="0"/>
                </a:moveTo>
                <a:lnTo>
                  <a:pt x="45" y="102"/>
                </a:lnTo>
                <a:lnTo>
                  <a:pt x="0" y="0"/>
                </a:lnTo>
                <a:lnTo>
                  <a:pt x="9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1373040"/>
            <a:ext cx="61884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1880" y="1373040"/>
            <a:ext cx="39060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3840" y="1378080"/>
            <a:ext cx="38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fg 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88280" y="1514520"/>
            <a:ext cx="5824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41200" y="1517760"/>
            <a:ext cx="55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 Typ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33960" y="1928880"/>
            <a:ext cx="1025280" cy="39348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89480" y="2028960"/>
            <a:ext cx="7891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24400" y="203832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e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06720" y="3844800"/>
            <a:ext cx="7653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854520"/>
            <a:ext cx="343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2480" y="3863880"/>
            <a:ext cx="3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0800" y="4035600"/>
            <a:ext cx="650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95360" y="404496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ffe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06720" y="3400560"/>
            <a:ext cx="76536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7600" y="3409920"/>
            <a:ext cx="351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2160" y="34196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3591000"/>
            <a:ext cx="6508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5360" y="360216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ffe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6720" y="2957400"/>
            <a:ext cx="7653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39920" y="2967120"/>
            <a:ext cx="6764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6320" y="297648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kl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60800" y="3147840"/>
            <a:ext cx="650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95360" y="315756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ffe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6440" y="2522520"/>
            <a:ext cx="102564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87720" y="2532240"/>
            <a:ext cx="369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1200" y="25416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5040" y="2712960"/>
            <a:ext cx="6080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3240" y="272412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c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6440" y="2079720"/>
            <a:ext cx="10256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22480" y="2179800"/>
            <a:ext cx="720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57040" y="218916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_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33960" y="2360520"/>
            <a:ext cx="1025280" cy="39528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ef9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35640" y="2463840"/>
            <a:ext cx="455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69840" y="2473200"/>
            <a:ext cx="45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33960" y="3219480"/>
            <a:ext cx="1025280" cy="39384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ef9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65520" y="3319560"/>
            <a:ext cx="387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00080" y="332892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48440" y="2360520"/>
            <a:ext cx="1025280" cy="39528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57680" y="2373480"/>
            <a:ext cx="444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93680" y="23828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75240" y="2554200"/>
            <a:ext cx="6224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1600" y="256392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48440" y="3219480"/>
            <a:ext cx="1025280" cy="39384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40240" y="3319560"/>
            <a:ext cx="90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0" y="3328920"/>
            <a:ext cx="90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33960" y="2795760"/>
            <a:ext cx="1025280" cy="39528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17840" y="2805120"/>
            <a:ext cx="941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281448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ut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0000" y="2987640"/>
            <a:ext cx="7304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44560" y="2997360"/>
            <a:ext cx="72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33960" y="3651120"/>
            <a:ext cx="10252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03600" y="3754440"/>
            <a:ext cx="5256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37800" y="3763800"/>
            <a:ext cx="52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33960" y="4084560"/>
            <a:ext cx="1025280" cy="39708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ef9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2800" y="4094280"/>
            <a:ext cx="545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1000" y="41054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54360" y="4278240"/>
            <a:ext cx="4287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88200" y="4287960"/>
            <a:ext cx="42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48440" y="2795760"/>
            <a:ext cx="1025280" cy="39528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46880" y="2895480"/>
            <a:ext cx="461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2160" y="2905200"/>
            <a:ext cx="45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48440" y="3651120"/>
            <a:ext cx="1025280" cy="39528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ef9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52920" y="3754440"/>
            <a:ext cx="6652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9280" y="376380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48440" y="1928880"/>
            <a:ext cx="102528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19720" y="2028960"/>
            <a:ext cx="955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3920" y="2038320"/>
            <a:ext cx="95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/Nea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22720" y="1847880"/>
            <a:ext cx="2274840" cy="35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5320" y="1876320"/>
            <a:ext cx="1025640" cy="39528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72480" y="1979640"/>
            <a:ext cx="641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9560" y="1989000"/>
            <a:ext cx="63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45320" y="2320920"/>
            <a:ext cx="10256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47000" y="2422440"/>
            <a:ext cx="4809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43760" y="2432160"/>
            <a:ext cx="47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45320" y="3197160"/>
            <a:ext cx="102564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10560" y="3300480"/>
            <a:ext cx="763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44760" y="330984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Jig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45320" y="2754360"/>
            <a:ext cx="10256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69160" y="2765520"/>
            <a:ext cx="847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05880" y="277668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 B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48520" y="2948040"/>
            <a:ext cx="2602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82000" y="29574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45320" y="3632040"/>
            <a:ext cx="10256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78520" y="3732120"/>
            <a:ext cx="839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12720" y="374184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Set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45320" y="4075200"/>
            <a:ext cx="102564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0560" y="4084560"/>
            <a:ext cx="755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45480" y="4095720"/>
            <a:ext cx="75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48520" y="4267080"/>
            <a:ext cx="2602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82000" y="42768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48440" y="4084560"/>
            <a:ext cx="102528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40240" y="4094280"/>
            <a:ext cx="9064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5880" y="4105440"/>
            <a:ext cx="90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49960" y="4278240"/>
            <a:ext cx="8856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85240" y="4287960"/>
            <a:ext cx="87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33960" y="4510080"/>
            <a:ext cx="102528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67160" y="4519440"/>
            <a:ext cx="820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02800" y="452916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c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38720" y="4700520"/>
            <a:ext cx="8856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74000" y="4710240"/>
            <a:ext cx="87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48440" y="4510080"/>
            <a:ext cx="1025280" cy="39384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ef9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3840" y="4610160"/>
            <a:ext cx="6922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70200" y="4619520"/>
            <a:ext cx="68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33960" y="4941720"/>
            <a:ext cx="10252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1160" y="4952880"/>
            <a:ext cx="6904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57160" y="4962600"/>
            <a:ext cx="68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5520" y="5133960"/>
            <a:ext cx="4273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00800" y="5145120"/>
            <a:ext cx="42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48440" y="4941720"/>
            <a:ext cx="1025280" cy="39528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05480" y="5043600"/>
            <a:ext cx="5493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41120" y="505476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uck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73680" y="1806480"/>
            <a:ext cx="1138320" cy="27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0480" y="1947960"/>
            <a:ext cx="102564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2640" y="2048040"/>
            <a:ext cx="934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7560" y="205740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L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480" y="2382840"/>
            <a:ext cx="1025640" cy="40464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07920" y="2492280"/>
            <a:ext cx="648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6440" y="250200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480" y="3257640"/>
            <a:ext cx="1025640" cy="40788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4560" y="3360600"/>
            <a:ext cx="7779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80920" y="3370320"/>
            <a:ext cx="7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0480" y="2825640"/>
            <a:ext cx="1025640" cy="39528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60480" y="2925720"/>
            <a:ext cx="5144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6120" y="2935440"/>
            <a:ext cx="51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0480" y="3700440"/>
            <a:ext cx="102564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4560" y="3803760"/>
            <a:ext cx="7873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3813120"/>
            <a:ext cx="78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um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0480" y="4135320"/>
            <a:ext cx="1025640" cy="39528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4560" y="4175280"/>
            <a:ext cx="71604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66880" y="417996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ms: Sigh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8800" y="4325760"/>
            <a:ext cx="55080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52560" y="4330800"/>
            <a:ext cx="29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k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51360" y="43308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lk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9200" y="1866960"/>
            <a:ext cx="1211040" cy="416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0480" y="4610160"/>
            <a:ext cx="10256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4960" y="4710240"/>
            <a:ext cx="9014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41320" y="4719600"/>
            <a:ext cx="89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0480" y="5081760"/>
            <a:ext cx="102564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3280" y="5184720"/>
            <a:ext cx="9428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8200" y="519444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ing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0480" y="5556240"/>
            <a:ext cx="102564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50760" y="5568840"/>
            <a:ext cx="567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84960" y="5578560"/>
            <a:ext cx="56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5749920"/>
            <a:ext cx="48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25640" y="575928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6240" y="1716120"/>
            <a:ext cx="154080" cy="150840"/>
          </a:xfrm>
          <a:custGeom>
            <a:avLst/>
            <a:gdLst/>
            <a:ahLst/>
            <a:rect l="l" t="t" r="r" b="b"/>
            <a:pathLst>
              <a:path w="97" h="95">
                <a:moveTo>
                  <a:pt x="97" y="0"/>
                </a:moveTo>
                <a:lnTo>
                  <a:pt x="52" y="95"/>
                </a:lnTo>
                <a:lnTo>
                  <a:pt x="0" y="0"/>
                </a:lnTo>
                <a:lnTo>
                  <a:pt x="9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9840" y="1444680"/>
            <a:ext cx="67284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9200" y="1442880"/>
            <a:ext cx="6634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1160" y="1446120"/>
            <a:ext cx="65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king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1520" y="1585800"/>
            <a:ext cx="581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3000" y="1589040"/>
            <a:ext cx="55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 Typ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13120" y="1473120"/>
            <a:ext cx="8366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13120" y="1463760"/>
            <a:ext cx="79200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34000" y="14684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 Sub Typ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41800" y="5484960"/>
            <a:ext cx="258444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73080" y="5489640"/>
            <a:ext cx="1128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 Possible Entit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95200" y="5489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10560" y="5484960"/>
            <a:ext cx="331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4320" y="54896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41800" y="5638680"/>
            <a:ext cx="43419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5840" y="5641920"/>
            <a:ext cx="431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GHTENING HOLES, LIMBER HOLES, PORT HOLES, RABBET, BREAST HOO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72600" y="56419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41800" y="5778360"/>
            <a:ext cx="411336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55840" y="5783400"/>
            <a:ext cx="411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USSET PLATES, FACE PLATES, FLANGES, STANCHIONS, FOUNDATION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41800" y="5919840"/>
            <a:ext cx="20811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69520" y="5923080"/>
            <a:ext cx="207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WSEPIPE, MANHOLES, SCUPP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82880" y="938160"/>
            <a:ext cx="153720" cy="2620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89160" y="89676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18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46720" y="934920"/>
            <a:ext cx="153720" cy="2620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97560" y="9050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440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93360" y="893880"/>
            <a:ext cx="7769160" cy="56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ting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ing operations (many kin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line cut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e component (taken from AP-218 and reproduced in AP-23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values for stock thickness and mate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values for b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ometric shape of the component includes information about the periphery, chamfers and cutout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ty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604280" y="3670200"/>
            <a:ext cx="353880" cy="555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52680" y="3100320"/>
            <a:ext cx="3122640" cy="2732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43640" y="4748040"/>
            <a:ext cx="1246320" cy="484200"/>
          </a:xfrm>
          <a:custGeom>
            <a:avLst/>
            <a:gdLst/>
            <a:ahLst/>
            <a:rect l="l" t="t" r="r" b="b"/>
            <a:pathLst>
              <a:path w="785" h="305">
                <a:moveTo>
                  <a:pt x="161" y="4"/>
                </a:moveTo>
                <a:lnTo>
                  <a:pt x="0" y="305"/>
                </a:lnTo>
                <a:lnTo>
                  <a:pt x="647" y="305"/>
                </a:lnTo>
                <a:lnTo>
                  <a:pt x="785" y="0"/>
                </a:lnTo>
                <a:lnTo>
                  <a:pt x="161" y="4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97880" y="4172760"/>
            <a:ext cx="738000" cy="3985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t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958160" y="3452760"/>
            <a:ext cx="91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t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560" y="4579920"/>
            <a:ext cx="73080" cy="382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7240" y="266400"/>
            <a:ext cx="21510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93360" y="938160"/>
            <a:ext cx="7769160" cy="208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enabled Plate Cu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of concept demon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fting system reads the AP 218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fting system writes AP-238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ing system reads AP-238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21000" y="3746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Verdana"/>
              </a:rPr>
              <a:t>C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96" idx="3"/>
            <a:endCxn id="297" idx="1"/>
          </p:cNvCxnSpPr>
          <p:nvPr/>
        </p:nvCxnSpPr>
        <p:spPr>
          <a:xfrm>
            <a:off x="5310360" y="4835160"/>
            <a:ext cx="76248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7" idx="3"/>
            <a:endCxn id="286" idx="1"/>
          </p:cNvCxnSpPr>
          <p:nvPr/>
        </p:nvCxnSpPr>
        <p:spPr>
          <a:xfrm flipV="1">
            <a:off x="7027920" y="3947760"/>
            <a:ext cx="567360" cy="891360"/>
          </a:xfrm>
          <a:prstGeom prst="bentConnector3">
            <a:avLst>
              <a:gd name="adj1" fmla="val 4984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6094440" y="4647240"/>
            <a:ext cx="911160" cy="38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24400" y="4096440"/>
            <a:ext cx="1555560" cy="824040"/>
          </a:xfrm>
          <a:prstGeom prst="rect">
            <a:avLst/>
          </a:prstGeom>
          <a:solidFill>
            <a:srgbClr val="00968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gmaN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37160" y="4648680"/>
            <a:ext cx="655560" cy="373320"/>
          </a:xfrm>
          <a:prstGeom prst="roundRect">
            <a:avLst>
              <a:gd name="adj" fmla="val 16667"/>
            </a:avLst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59760" y="4278960"/>
            <a:ext cx="840240" cy="576360"/>
          </a:xfrm>
          <a:prstGeom prst="roundRect">
            <a:avLst>
              <a:gd name="adj" fmla="val 16667"/>
            </a:avLst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ug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5080" y="43466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37720" y="4240440"/>
            <a:ext cx="695880" cy="673920"/>
          </a:xfrm>
          <a:prstGeom prst="rightArrow">
            <a:avLst>
              <a:gd name="adj1" fmla="val 50000"/>
              <a:gd name="adj2" fmla="val 25815"/>
            </a:avLst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3960" y="5194440"/>
            <a:ext cx="1444320" cy="102528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AP 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3" idx="3"/>
            <a:endCxn id="300" idx="2"/>
          </p:cNvCxnSpPr>
          <p:nvPr/>
        </p:nvCxnSpPr>
        <p:spPr>
          <a:xfrm flipV="1">
            <a:off x="1738440" y="4868640"/>
            <a:ext cx="1442160" cy="8402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4812840" y="5896080"/>
            <a:ext cx="152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erent PC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37400" y="3098880"/>
            <a:ext cx="3122280" cy="2732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27800" y="979560"/>
            <a:ext cx="2328840" cy="82404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ME Plug-in is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 progr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58520" y="2797200"/>
            <a:ext cx="39006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ipe Bending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David Loffredo</dc:creator>
  <dc:description/>
  <dc:language>en-US</dc:language>
  <cp:lastModifiedBy>David Loffredo</cp:lastModifiedBy>
  <cp:lastPrinted>1996-02-28T13:41:35Z</cp:lastPrinted>
  <dcterms:modified xsi:type="dcterms:W3CDTF">2002-11-07T14:03:28Z</dcterms:modified>
  <cp:revision>500</cp:revision>
  <dc:subject/>
  <dc:title>STEP-NC: E-Manufacturing using STEP</dc:title>
</cp:coreProperties>
</file>