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Seoul N001 2002-06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6AEF21AE-27F0-44C7-9F19-73E32CB73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_sakamoto@KEG.komatsu.co.j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Stockho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40 (Process Planning) passed NWI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(Integrated CNC) passed NWI and CD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4649-12 (Turning) passed CD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4649-15 (Glass and Wood cutting) releas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tepnc-smp-part" descr=""/>
          <p:cNvPicPr/>
          <p:nvPr/>
        </p:nvPicPr>
        <p:blipFill>
          <a:blip r:embed="rId1"/>
          <a:stretch/>
        </p:blipFill>
        <p:spPr>
          <a:xfrm>
            <a:off x="457200" y="4876920"/>
            <a:ext cx="19051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inimil" descr=""/>
          <p:cNvPicPr/>
          <p:nvPr/>
        </p:nvPicPr>
        <p:blipFill>
          <a:blip r:embed="rId1"/>
          <a:stretch/>
        </p:blipFill>
        <p:spPr>
          <a:xfrm>
            <a:off x="4857840" y="1716120"/>
            <a:ext cx="4209840" cy="5141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Se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 AP-238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-2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for Seo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, 2002-11-04, 1300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minute updates o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, 2002-11-05, 0800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 CD ballot commen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, 2002-11-06, 1030-1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19 Inspection data an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40 Process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, 2002-11-07, 0800-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eeting with shipbuilding on pipe bending and plate cu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2-10-24T19:03:58Z</dcterms:modified>
  <cp:revision>134</cp:revision>
  <dc:subject/>
  <dc:title>WG3 Presentation to SC4 Opening Plenary</dc:title>
</cp:coreProperties>
</file>