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E2D5C-BD18-46D9-BEEE-9C88EA4C0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42739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CA9A-1197-4E07-9F1D-0C70E34B5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4479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2739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42739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BDAB-A48B-47FF-9F76-A48BFF8C5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4479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4479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42739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42739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42739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CC44-727B-4B64-B9E8-8AA7567899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6041-0166-44E2-BD93-2BF954340E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277E-CA5E-458B-8CB0-7853F6CC3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4479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A9F3-4988-4400-97D2-6F9E23622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9D49-5847-4A99-850A-B7BBD311E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B44F-E4B5-4A09-827B-602FEB78E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4479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42739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D7DF-D80A-4F4B-BA04-40822E3E8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4479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42739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4ABD-FA8A-47BF-AE7F-9FD94A8E5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4479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42739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9DDA5-72CE-405E-A528-D11A630595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0bc"/>
            </a:gs>
            <a:gs pos="100000">
              <a:srgbClr val="0109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4800" indent="-334800">
              <a:spcBef>
                <a:spcPts val="901"/>
              </a:spcBef>
              <a:buClr>
                <a:srgbClr val="fc0128"/>
              </a:buClr>
              <a:buSzPct val="89000"/>
              <a:buFont typeface="Monotype Sorts" charset="2"/>
              <a:buChar char="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901"/>
              </a:spcBef>
              <a:buClr>
                <a:srgbClr val="fafd00"/>
              </a:buClr>
              <a:buSzPct val="89000"/>
              <a:buFont typeface="Monotype Sorts" charset="2"/>
              <a:buChar char="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09520" indent="-220680">
              <a:spcBef>
                <a:spcPts val="901"/>
              </a:spcBef>
              <a:buClr>
                <a:srgbClr val="00b7a5"/>
              </a:buClr>
              <a:buSzPct val="125000"/>
              <a:buFont typeface="Arial"/>
              <a:buChar char="»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54120" indent="-222120">
              <a:spcBef>
                <a:spcPts val="901"/>
              </a:spcBef>
              <a:buClr>
                <a:srgbClr val="ffffff"/>
              </a:buClr>
              <a:buSzPct val="64000"/>
              <a:buFont typeface="Monotype Sorts" charset="2"/>
              <a:buChar char="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222120">
              <a:spcBef>
                <a:spcPts val="901"/>
              </a:spcBef>
              <a:buClr>
                <a:srgbClr val="fafd00"/>
              </a:buClr>
              <a:buSzPct val="64000"/>
              <a:buFont typeface="Monotype Sorts" charset="2"/>
              <a:buChar char="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222120">
              <a:spcBef>
                <a:spcPts val="901"/>
              </a:spcBef>
              <a:buClr>
                <a:srgbClr val="ffffff"/>
              </a:buClr>
              <a:buSzPct val="64000"/>
              <a:buFont typeface="Monotype Sorts" charset="2"/>
              <a:buChar char="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222120">
              <a:spcBef>
                <a:spcPts val="901"/>
              </a:spcBef>
              <a:buClr>
                <a:srgbClr val="ffffff"/>
              </a:buClr>
              <a:buSzPct val="64000"/>
              <a:buFont typeface="Monotype Sorts" charset="2"/>
              <a:buChar char="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600" y="184320"/>
            <a:ext cx="16239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99400" y="301680"/>
            <a:ext cx="1984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aec5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2A9A-F66C-4A9A-B23D-DDF2240C8874}" type="slidenum">
              <a:rPr b="0" lang="en-US" sz="1600" spc="-1" strike="noStrike">
                <a:solidFill>
                  <a:srgbClr val="eaec5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0bc"/>
            </a:gs>
            <a:gs pos="100000">
              <a:srgbClr val="0109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666880"/>
            <a:ext cx="914400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une 10, 200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G 3/T 23 Ship Team Meet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ockholm, Swed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80880"/>
            <a:ext cx="8991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Integrated Steel Processing Environment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(ISPE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3760" y="5486400"/>
            <a:ext cx="46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Ron W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Northrop Grumman Ship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3EC1-6D18-41C9-A2E9-D7A42D18138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0bc"/>
            </a:gs>
            <a:gs pos="100000">
              <a:srgbClr val="0109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ISPE Participant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89000"/>
              <a:buFont typeface="Monotype Sorts" charset="2"/>
              <a:buChar char="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throp Grumman Ship Systems – Avond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89000"/>
              <a:buFont typeface="Monotype Sorts" charset="2"/>
              <a:buChar char="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throp Grumman Ship Systems – Inga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89000"/>
              <a:buFont typeface="Monotype Sorts" charset="2"/>
              <a:buChar char="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ctric Bo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89000"/>
              <a:buFont typeface="Monotype Sorts" charset="2"/>
              <a:buChar char="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throp Grumman Newport N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89000"/>
              <a:buFont typeface="Monotype Sorts" charset="2"/>
              <a:buChar char="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mat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89000"/>
              <a:buFont typeface="Monotype Sorts" charset="2"/>
              <a:buChar char="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eroHyd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89000"/>
              <a:buFont typeface="Monotype Sorts" charset="2"/>
              <a:buChar char="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throp Grumman Information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89000"/>
              <a:buFont typeface="Monotype Sorts" charset="2"/>
              <a:buChar char="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fc0128"/>
              </a:buClr>
              <a:buSzPct val="89000"/>
              <a:buFont typeface="Monotype Sorts" charset="2"/>
              <a:buChar char="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fc0128"/>
              </a:buClr>
              <a:buSzPct val="89000"/>
              <a:buFont typeface="Monotype Sorts" charset="2"/>
              <a:buChar char="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3DC7-6C30-4748-BCE3-C16ABC9ACE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0bc"/>
            </a:gs>
            <a:gs pos="100000">
              <a:srgbClr val="0109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ISPE Summar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914400"/>
            <a:ext cx="8305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57760" indent="-25776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89000"/>
              <a:buFont typeface="Monotype Sorts" charset="2"/>
              <a:buChar char="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.S. National Ship Research Program Projec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5840" indent="-2098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89000"/>
              <a:buFont typeface="Monotype Sorts" charset="2"/>
              <a:buChar char="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warded May 31,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55840" indent="-2098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89000"/>
              <a:buFont typeface="Monotype Sorts" charset="2"/>
              <a:buChar char="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se 0 – Project Defi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760" indent="-25776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89000"/>
              <a:buFont typeface="Monotype Sorts" charset="2"/>
              <a:buChar char="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D &amp; CAM Exchanges us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5840" indent="-2098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89000"/>
              <a:buFont typeface="Monotype Sorts" charset="2"/>
              <a:buChar char="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218 (Struct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55840" indent="-2098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89000"/>
              <a:buFont typeface="Monotype Sorts" charset="2"/>
              <a:buChar char="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238 (N/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55840" indent="-2098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89000"/>
              <a:buFont typeface="Monotype Sorts" charset="2"/>
              <a:buChar char="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224 Mech. Product Def. for Process Plans using Machining Fea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55840" indent="-2098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89000"/>
              <a:buFont typeface="Monotype Sorts" charset="2"/>
              <a:buChar char="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216 (Moulded Form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55840" indent="-2098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89000"/>
              <a:buFont typeface="Monotype Sorts" charset="2"/>
              <a:buChar char="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760" indent="-25776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89000"/>
              <a:buFont typeface="Monotype Sorts" charset="2"/>
              <a:buChar char="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ludes requirements for nesting, fairing, unit detailing, plate development, manufacturing aids, yard specific re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F9F9-E6A5-430E-89CB-A13AECEB14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5T00:25:49Z</dcterms:created>
  <dc:creator>J. Howell</dc:creator>
  <dc:description> </dc:description>
  <dc:language>en-US</dc:language>
  <cp:lastModifiedBy>Ron Wood</cp:lastModifiedBy>
  <cp:lastPrinted>2000-02-09T18:57:45Z</cp:lastPrinted>
  <dcterms:modified xsi:type="dcterms:W3CDTF">2002-06-10T09:33:12Z</dcterms:modified>
  <cp:revision>104</cp:revision>
  <dc:subject>MariSTEP - Annual Meeting</dc:subject>
  <dc:title> MariSTEP </dc:title>
</cp:coreProperties>
</file>