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731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731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0"/>
            <a:ext cx="11178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6477120"/>
            <a:ext cx="807732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90880" y="65502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eneca-IT.co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880" y="838080"/>
            <a:ext cx="8458200" cy="76320"/>
            <a:chOff x="380880" y="838080"/>
            <a:chExt cx="8458200" cy="76320"/>
          </a:xfrm>
        </p:grpSpPr>
        <p:sp>
          <p:nvSpPr>
            <p:cNvPr id="6" name=""/>
            <p:cNvSpPr/>
            <p:nvPr/>
          </p:nvSpPr>
          <p:spPr>
            <a:xfrm>
              <a:off x="609480" y="914400"/>
              <a:ext cx="82296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838080"/>
              <a:ext cx="8458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080" y="655308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4 Jun 02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56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0"/>
            <a:ext cx="11178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477120"/>
            <a:ext cx="807732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90880" y="65502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eneca-IT.co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09680"/>
            <a:ext cx="8458200" cy="76320"/>
            <a:chOff x="380880" y="2209680"/>
            <a:chExt cx="8458200" cy="76320"/>
          </a:xfrm>
        </p:grpSpPr>
        <p:sp>
          <p:nvSpPr>
            <p:cNvPr id="50" name=""/>
            <p:cNvSpPr/>
            <p:nvPr/>
          </p:nvSpPr>
          <p:spPr>
            <a:xfrm>
              <a:off x="609480" y="2286000"/>
              <a:ext cx="82296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880" y="2209680"/>
              <a:ext cx="8458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3040" y="655308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4 Jun 0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56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Arial"/>
              </a:rPr>
              <a:t>AP219 Dimensional inspection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5640" y="297180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formation requirements documen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Bill Danner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eneca-IT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Simon Frechette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IST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Ted Vorburger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IST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. Feature parameter arm: 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Dim_tol_ar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523880" y="1295280"/>
            <a:ext cx="6973920" cy="4903920"/>
            <a:chOff x="1523880" y="1295280"/>
            <a:chExt cx="6973920" cy="4903920"/>
          </a:xfrm>
        </p:grpSpPr>
        <p:sp>
          <p:nvSpPr>
            <p:cNvPr id="480" name=""/>
            <p:cNvSpPr/>
            <p:nvPr/>
          </p:nvSpPr>
          <p:spPr>
            <a:xfrm>
              <a:off x="4183200" y="1962000"/>
              <a:ext cx="1095120" cy="5176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85080" y="2144880"/>
              <a:ext cx="88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limi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0200" y="2895480"/>
              <a:ext cx="1413000" cy="11638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0200" y="3184560"/>
              <a:ext cx="1413000" cy="487440"/>
            </a:xfrm>
            <a:prstGeom prst="roundRect">
              <a:avLst>
                <a:gd name="adj" fmla="val 23440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35560" y="3313080"/>
              <a:ext cx="95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with_uni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28720" y="3427560"/>
              <a:ext cx="11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m.Numerical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8240" y="3043080"/>
              <a:ext cx="1041480" cy="27324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07080" y="3043080"/>
              <a:ext cx="1800" cy="27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35400" y="313380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43320" y="3567240"/>
              <a:ext cx="2121120" cy="434880"/>
            </a:xfrm>
            <a:prstGeom prst="rect">
              <a:avLst/>
            </a:prstGeom>
            <a:solidFill>
              <a:srgbClr val="e9f7ff"/>
            </a:solidFill>
            <a:ln w="79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79840" y="3567240"/>
              <a:ext cx="1800" cy="434880"/>
            </a:xfrm>
            <a:prstGeom prst="line">
              <a:avLst/>
            </a:prstGeom>
            <a:ln w="79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48240" y="3711600"/>
              <a:ext cx="151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ation_definition_selec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42360" y="3666960"/>
              <a:ext cx="934920" cy="20484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62800" y="3666960"/>
              <a:ext cx="180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12360" y="371952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66880" y="2209680"/>
              <a:ext cx="1535400" cy="76320"/>
            </a:xfrm>
            <a:custGeom>
              <a:avLst/>
              <a:gdLst/>
              <a:ahLst/>
              <a:rect l="l" t="t" r="r" b="b"/>
              <a:pathLst>
                <a:path w="823" h="0">
                  <a:moveTo>
                    <a:pt x="0" y="0"/>
                  </a:moveTo>
                  <a:lnTo>
                    <a:pt x="411" y="0"/>
                  </a:lnTo>
                  <a:lnTo>
                    <a:pt x="411" y="0"/>
                  </a:lnTo>
                  <a:lnTo>
                    <a:pt x="8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1840" y="2057400"/>
              <a:ext cx="73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05360" y="2487600"/>
              <a:ext cx="1330200" cy="509760"/>
            </a:xfrm>
            <a:custGeom>
              <a:avLst/>
              <a:gdLst/>
              <a:ahLst/>
              <a:rect l="l" t="t" r="r" b="b"/>
              <a:pathLst>
                <a:path w="838" h="321">
                  <a:moveTo>
                    <a:pt x="0" y="0"/>
                  </a:moveTo>
                  <a:lnTo>
                    <a:pt x="0" y="163"/>
                  </a:lnTo>
                  <a:lnTo>
                    <a:pt x="838" y="163"/>
                  </a:lnTo>
                  <a:lnTo>
                    <a:pt x="838" y="3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09640" y="2563920"/>
              <a:ext cx="51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48240" y="2487600"/>
              <a:ext cx="760320" cy="1035000"/>
            </a:xfrm>
            <a:custGeom>
              <a:avLst/>
              <a:gdLst/>
              <a:ahLst/>
              <a:rect l="l" t="t" r="r" b="b"/>
              <a:pathLst>
                <a:path w="479" h="652">
                  <a:moveTo>
                    <a:pt x="0" y="0"/>
                  </a:moveTo>
                  <a:lnTo>
                    <a:pt x="0" y="378"/>
                  </a:lnTo>
                  <a:lnTo>
                    <a:pt x="479" y="378"/>
                  </a:lnTo>
                  <a:lnTo>
                    <a:pt x="479" y="6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95040" y="2882880"/>
              <a:ext cx="77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_defined_by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24560" y="4267080"/>
              <a:ext cx="235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08560" y="4002120"/>
              <a:ext cx="1800" cy="264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624560" y="4267080"/>
              <a:ext cx="1440" cy="18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80400" y="4267080"/>
              <a:ext cx="1440" cy="19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67760" y="3925800"/>
              <a:ext cx="645840" cy="585720"/>
            </a:xfrm>
            <a:custGeom>
              <a:avLst/>
              <a:gdLst/>
              <a:ahLst/>
              <a:rect l="l" t="t" r="r" b="b"/>
              <a:pathLst>
                <a:path w="407" h="369">
                  <a:moveTo>
                    <a:pt x="0" y="369"/>
                  </a:moveTo>
                  <a:lnTo>
                    <a:pt x="0" y="182"/>
                  </a:lnTo>
                  <a:lnTo>
                    <a:pt x="407" y="182"/>
                  </a:lnTo>
                  <a:lnTo>
                    <a:pt x="40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48800" y="4040280"/>
              <a:ext cx="92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ificant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72040" y="5870520"/>
              <a:ext cx="995400" cy="3286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58000" y="5870520"/>
              <a:ext cx="1440" cy="32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4960" y="59961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63040" y="5918040"/>
              <a:ext cx="734760" cy="28116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86920" y="5918040"/>
              <a:ext cx="144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77320" y="601992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67080" y="4819680"/>
              <a:ext cx="997200" cy="1003320"/>
            </a:xfrm>
            <a:custGeom>
              <a:avLst/>
              <a:gdLst/>
              <a:ahLst/>
              <a:rect l="l" t="t" r="r" b="b"/>
              <a:pathLst>
                <a:path w="613" h="599">
                  <a:moveTo>
                    <a:pt x="0" y="0"/>
                  </a:moveTo>
                  <a:lnTo>
                    <a:pt x="0" y="475"/>
                  </a:lnTo>
                  <a:lnTo>
                    <a:pt x="613" y="475"/>
                  </a:lnTo>
                  <a:lnTo>
                    <a:pt x="613" y="59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76520" y="542304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tting_typ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29160" y="4819680"/>
              <a:ext cx="930240" cy="1003320"/>
            </a:xfrm>
            <a:custGeom>
              <a:avLst/>
              <a:gdLst/>
              <a:ahLst/>
              <a:rect l="l" t="t" r="r" b="b"/>
              <a:pathLst>
                <a:path w="573" h="599">
                  <a:moveTo>
                    <a:pt x="0" y="0"/>
                  </a:moveTo>
                  <a:lnTo>
                    <a:pt x="0" y="296"/>
                  </a:lnTo>
                  <a:lnTo>
                    <a:pt x="573" y="296"/>
                  </a:lnTo>
                  <a:lnTo>
                    <a:pt x="573" y="59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67400" y="512460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vi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2960" y="4819680"/>
              <a:ext cx="866880" cy="1003320"/>
            </a:xfrm>
            <a:custGeom>
              <a:avLst/>
              <a:gdLst/>
              <a:ahLst/>
              <a:rect l="l" t="t" r="r" b="b"/>
              <a:pathLst>
                <a:path w="534" h="599">
                  <a:moveTo>
                    <a:pt x="0" y="0"/>
                  </a:moveTo>
                  <a:lnTo>
                    <a:pt x="0" y="143"/>
                  </a:lnTo>
                  <a:lnTo>
                    <a:pt x="534" y="143"/>
                  </a:lnTo>
                  <a:lnTo>
                    <a:pt x="534" y="59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19120" y="486900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46760" y="4830840"/>
              <a:ext cx="1030320" cy="992160"/>
            </a:xfrm>
            <a:custGeom>
              <a:avLst/>
              <a:gdLst/>
              <a:ahLst/>
              <a:rect l="l" t="t" r="r" b="b"/>
              <a:pathLst>
                <a:path w="634" h="592">
                  <a:moveTo>
                    <a:pt x="634" y="0"/>
                  </a:moveTo>
                  <a:lnTo>
                    <a:pt x="634" y="296"/>
                  </a:lnTo>
                  <a:lnTo>
                    <a:pt x="0" y="296"/>
                  </a:lnTo>
                  <a:lnTo>
                    <a:pt x="0" y="5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15360" y="5029200"/>
              <a:ext cx="76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termin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72280" y="4830840"/>
              <a:ext cx="828720" cy="1039680"/>
            </a:xfrm>
            <a:custGeom>
              <a:avLst/>
              <a:gdLst/>
              <a:ahLst/>
              <a:rect l="l" t="t" r="r" b="b"/>
              <a:pathLst>
                <a:path w="510" h="621">
                  <a:moveTo>
                    <a:pt x="0" y="0"/>
                  </a:moveTo>
                  <a:lnTo>
                    <a:pt x="0" y="425"/>
                  </a:lnTo>
                  <a:lnTo>
                    <a:pt x="510" y="425"/>
                  </a:lnTo>
                  <a:lnTo>
                    <a:pt x="510" y="6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38520" y="5334120"/>
              <a:ext cx="72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er_boun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67480" y="4830840"/>
              <a:ext cx="774720" cy="1039680"/>
            </a:xfrm>
            <a:custGeom>
              <a:avLst/>
              <a:gdLst/>
              <a:ahLst/>
              <a:rect l="l" t="t" r="r" b="b"/>
              <a:pathLst>
                <a:path w="477" h="621">
                  <a:moveTo>
                    <a:pt x="0" y="0"/>
                  </a:moveTo>
                  <a:lnTo>
                    <a:pt x="0" y="243"/>
                  </a:lnTo>
                  <a:lnTo>
                    <a:pt x="477" y="243"/>
                  </a:lnTo>
                  <a:lnTo>
                    <a:pt x="477" y="6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42360" y="5029200"/>
              <a:ext cx="74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per_boun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6880" y="2286000"/>
              <a:ext cx="0" cy="60948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23880" y="1295280"/>
              <a:ext cx="1447920" cy="5176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65720" y="1447920"/>
              <a:ext cx="122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ometric_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05120" y="1828800"/>
              <a:ext cx="0" cy="106668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19360" y="2800440"/>
              <a:ext cx="109440" cy="10944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51120" y="2781360"/>
              <a:ext cx="109440" cy="10944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67160" y="3448080"/>
              <a:ext cx="109800" cy="10944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72560" y="3886200"/>
              <a:ext cx="109440" cy="10944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10280" y="5743440"/>
              <a:ext cx="109440" cy="10980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91000" y="5753160"/>
              <a:ext cx="109800" cy="10944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91160" y="5743440"/>
              <a:ext cx="109440" cy="10980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43760" y="5810400"/>
              <a:ext cx="109800" cy="10944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82080" y="5791320"/>
              <a:ext cx="109440" cy="10944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1320" y="5743440"/>
              <a:ext cx="109440" cy="10980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30640" y="4487760"/>
              <a:ext cx="995400" cy="35100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21360" y="4595760"/>
              <a:ext cx="84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s_and_f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00960" y="4511520"/>
              <a:ext cx="1139760" cy="3430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6440" y="4610160"/>
              <a:ext cx="1137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us_minus_bound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81440" y="1981080"/>
              <a:ext cx="57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. Feature parameter arm: 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Dim_tol_ar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Geometric dimension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34200" y="1828800"/>
            <a:ext cx="4871520" cy="3581280"/>
            <a:chOff x="1834200" y="1828800"/>
            <a:chExt cx="4871520" cy="3581280"/>
          </a:xfrm>
        </p:grpSpPr>
        <p:sp>
          <p:nvSpPr>
            <p:cNvPr id="547" name=""/>
            <p:cNvSpPr/>
            <p:nvPr/>
          </p:nvSpPr>
          <p:spPr>
            <a:xfrm>
              <a:off x="1834200" y="1828800"/>
              <a:ext cx="370404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Location_dimens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Angular_location_dimens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Curved_distance_dimens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Linear_distance_dimens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Size_dimens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Angular_size_dimens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General_size_dimens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Thickness_dimens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83280" y="1828800"/>
              <a:ext cx="63792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2. DM execution result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451240" y="2268360"/>
            <a:ext cx="4534920" cy="2592720"/>
            <a:chOff x="2451240" y="2268360"/>
            <a:chExt cx="4534920" cy="2592720"/>
          </a:xfrm>
        </p:grpSpPr>
        <p:grpSp>
          <p:nvGrpSpPr>
            <p:cNvPr id="552" name=""/>
            <p:cNvGrpSpPr/>
            <p:nvPr/>
          </p:nvGrpSpPr>
          <p:grpSpPr>
            <a:xfrm>
              <a:off x="2451240" y="2268360"/>
              <a:ext cx="2079000" cy="565200"/>
              <a:chOff x="2451240" y="2268360"/>
              <a:chExt cx="2079000" cy="565200"/>
            </a:xfrm>
          </p:grpSpPr>
          <p:sp>
            <p:nvSpPr>
              <p:cNvPr id="553" name=""/>
              <p:cNvSpPr/>
              <p:nvPr/>
            </p:nvSpPr>
            <p:spPr>
              <a:xfrm>
                <a:off x="2451240" y="2268360"/>
                <a:ext cx="2079000" cy="56520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51240" y="2519640"/>
                <a:ext cx="2079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2603520" y="2268360"/>
              <a:ext cx="180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Feature_param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4114800" y="2895480"/>
              <a:ext cx="2871360" cy="1965600"/>
              <a:chOff x="4114800" y="2895480"/>
              <a:chExt cx="2871360" cy="19656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4114800" y="2895480"/>
                <a:ext cx="2842560" cy="1328760"/>
                <a:chOff x="4114800" y="2895480"/>
                <a:chExt cx="2842560" cy="13287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4114800" y="2895480"/>
                  <a:ext cx="0" cy="1890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head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114800" y="3084480"/>
                  <a:ext cx="145548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4878360" y="3273480"/>
                  <a:ext cx="2079000" cy="565200"/>
                  <a:chOff x="4878360" y="3273480"/>
                  <a:chExt cx="2079000" cy="56520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4878360" y="3273480"/>
                    <a:ext cx="2079000" cy="565200"/>
                  </a:xfrm>
                  <a:prstGeom prst="rect">
                    <a:avLst/>
                  </a:prstGeom>
                  <a:solidFill>
                    <a:srgbClr val="ffffe3"/>
                  </a:solidFill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878360" y="3524760"/>
                    <a:ext cx="2079000" cy="0"/>
                  </a:xfrm>
                  <a:prstGeom prst="line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4984560" y="3273480"/>
                  <a:ext cx="1875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Arial"/>
                    </a:rPr>
                    <a:t>DM_exec_result_ar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5570280" y="3084120"/>
                  <a:ext cx="0" cy="1890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886360" y="3846600"/>
                  <a:ext cx="0" cy="37764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906800" y="4295880"/>
                <a:ext cx="2079360" cy="565200"/>
                <a:chOff x="4906800" y="4295880"/>
                <a:chExt cx="2079360" cy="56520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4906800" y="4295880"/>
                  <a:ext cx="2079360" cy="565200"/>
                  <a:chOff x="4906800" y="4295880"/>
                  <a:chExt cx="2079360" cy="5652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4906800" y="4295880"/>
                    <a:ext cx="2079360" cy="565200"/>
                  </a:xfrm>
                  <a:prstGeom prst="rect">
                    <a:avLst/>
                  </a:prstGeom>
                  <a:solidFill>
                    <a:srgbClr val="ffffe3"/>
                  </a:solidFill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906800" y="4547160"/>
                    <a:ext cx="2079360" cy="0"/>
                  </a:xfrm>
                  <a:prstGeom prst="line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0" name=""/>
                <p:cNvSpPr/>
                <p:nvPr/>
              </p:nvSpPr>
              <p:spPr>
                <a:xfrm>
                  <a:off x="5175360" y="4295880"/>
                  <a:ext cx="1555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Arial"/>
                    </a:rPr>
                    <a:t>DM_prog_id_ar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2. DM execution result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220760" y="1219320"/>
            <a:ext cx="7319880" cy="4960800"/>
            <a:chOff x="1220760" y="1219320"/>
            <a:chExt cx="7319880" cy="4960800"/>
          </a:xfrm>
        </p:grpSpPr>
        <p:sp>
          <p:nvSpPr>
            <p:cNvPr id="573" name=""/>
            <p:cNvSpPr/>
            <p:nvPr/>
          </p:nvSpPr>
          <p:spPr>
            <a:xfrm>
              <a:off x="5638680" y="1219320"/>
              <a:ext cx="2901960" cy="14176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0760" y="1757520"/>
              <a:ext cx="1368360" cy="441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71600" y="3092400"/>
              <a:ext cx="1055520" cy="649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181480"/>
              <a:ext cx="3479760" cy="998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81280" y="1752480"/>
              <a:ext cx="1368720" cy="4413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38680" y="4267080"/>
              <a:ext cx="1752840" cy="14176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38680" y="1568520"/>
              <a:ext cx="2901960" cy="592200"/>
            </a:xfrm>
            <a:prstGeom prst="roundRect">
              <a:avLst>
                <a:gd name="adj" fmla="val 29412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41560" y="1714680"/>
              <a:ext cx="2810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mensional_measurement_progra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dentification_arm.Dm_program_identific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47120" y="18842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m_execute_resul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67000" y="314964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M_execut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79960" y="332424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sul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2560" y="3498840"/>
              <a:ext cx="85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05120" y="5425920"/>
              <a:ext cx="3479760" cy="417600"/>
            </a:xfrm>
            <a:prstGeom prst="roundRect">
              <a:avLst>
                <a:gd name="adj" fmla="val 4166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79160" y="5564160"/>
              <a:ext cx="3044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mensional_measurement_point_arm.Dm_poi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17720" y="1600200"/>
              <a:ext cx="569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run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05120" y="2198520"/>
              <a:ext cx="1440" cy="835200"/>
            </a:xfrm>
            <a:custGeom>
              <a:avLst/>
              <a:gdLst/>
              <a:ahLst/>
              <a:rect l="l" t="t" r="r" b="b"/>
              <a:pathLst>
                <a:path w="0" h="526">
                  <a:moveTo>
                    <a:pt x="0" y="0"/>
                  </a:moveTo>
                  <a:lnTo>
                    <a:pt x="0" y="263"/>
                  </a:lnTo>
                  <a:lnTo>
                    <a:pt x="0" y="263"/>
                  </a:lnTo>
                  <a:lnTo>
                    <a:pt x="0" y="52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59040" y="298764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93680" y="2581200"/>
              <a:ext cx="179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m_measurements  S[1:?]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68560" y="3741840"/>
              <a:ext cx="1576440" cy="1382760"/>
            </a:xfrm>
            <a:custGeom>
              <a:avLst/>
              <a:gdLst/>
              <a:ahLst/>
              <a:rect l="l" t="t" r="r" b="b"/>
              <a:pathLst>
                <a:path w="993" h="871">
                  <a:moveTo>
                    <a:pt x="0" y="0"/>
                  </a:moveTo>
                  <a:lnTo>
                    <a:pt x="0" y="724"/>
                  </a:lnTo>
                  <a:lnTo>
                    <a:pt x="993" y="724"/>
                  </a:lnTo>
                  <a:lnTo>
                    <a:pt x="993" y="87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98920" y="5076720"/>
              <a:ext cx="9216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65400" y="4670280"/>
              <a:ext cx="191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ement_points  S[1:?]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98720" y="350532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m_paramet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08520" y="4724280"/>
              <a:ext cx="16009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eature_parameter_arm.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_Feature_parameter   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267080" y="5029200"/>
              <a:ext cx="13716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267080" y="3428640"/>
              <a:ext cx="0" cy="16002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438280" y="3429000"/>
              <a:ext cx="18288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590560" y="1981080"/>
              <a:ext cx="99036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31040" y="1905120"/>
              <a:ext cx="109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m_program_ru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952520" y="1981080"/>
              <a:ext cx="6858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43640" y="1920960"/>
              <a:ext cx="9360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86240" y="1920960"/>
              <a:ext cx="9360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27400" y="1523880"/>
              <a:ext cx="569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id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38680" y="2743200"/>
              <a:ext cx="2210040" cy="14176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38680" y="3092400"/>
              <a:ext cx="2210040" cy="592200"/>
            </a:xfrm>
            <a:prstGeom prst="roundRect">
              <a:avLst>
                <a:gd name="adj" fmla="val 29412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43640" y="3444840"/>
              <a:ext cx="9360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572000" y="2209320"/>
              <a:ext cx="0" cy="12956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572000" y="3505320"/>
              <a:ext cx="9907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38680" y="4616280"/>
              <a:ext cx="1752840" cy="592200"/>
            </a:xfrm>
            <a:prstGeom prst="roundRect">
              <a:avLst>
                <a:gd name="adj" fmla="val 29412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43640" y="4968720"/>
              <a:ext cx="93600" cy="93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45800" y="3124080"/>
              <a:ext cx="88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n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o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5789880" y="3200400"/>
              <a:ext cx="1893960" cy="405000"/>
              <a:chOff x="5789880" y="3200400"/>
              <a:chExt cx="1893960" cy="405000"/>
            </a:xfrm>
          </p:grpSpPr>
          <p:sp>
            <p:nvSpPr>
              <p:cNvPr id="614" name=""/>
              <p:cNvSpPr/>
              <p:nvPr/>
            </p:nvSpPr>
            <p:spPr>
              <a:xfrm>
                <a:off x="5793840" y="3200400"/>
                <a:ext cx="1229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erson_organisation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35960" y="3325680"/>
                <a:ext cx="1847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rm.Organisation_or_person_in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789880" y="3452760"/>
                <a:ext cx="1089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rganisation_selec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3. DM execution result arm: 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DM prog id ar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819520" y="1687680"/>
            <a:ext cx="4727520" cy="3589200"/>
            <a:chOff x="2819520" y="1687680"/>
            <a:chExt cx="4727520" cy="3589200"/>
          </a:xfrm>
        </p:grpSpPr>
        <p:sp>
          <p:nvSpPr>
            <p:cNvPr id="619" name=""/>
            <p:cNvSpPr/>
            <p:nvPr/>
          </p:nvSpPr>
          <p:spPr>
            <a:xfrm>
              <a:off x="3851280" y="1687680"/>
              <a:ext cx="2265480" cy="16174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51280" y="2092320"/>
              <a:ext cx="2265480" cy="669960"/>
            </a:xfrm>
            <a:prstGeom prst="roundRect">
              <a:avLst>
                <a:gd name="adj" fmla="val 28301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91840" y="2232000"/>
              <a:ext cx="122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son_organisation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33960" y="2357280"/>
              <a:ext cx="184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m.Organisation_or_person_in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87880" y="2484360"/>
              <a:ext cx="108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sation_selec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19520" y="3962520"/>
              <a:ext cx="1046160" cy="13143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41920" y="446724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progra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50560" y="4619520"/>
              <a:ext cx="70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64200" y="3887640"/>
              <a:ext cx="1482840" cy="42876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75680" y="3887640"/>
              <a:ext cx="144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34200" y="4057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65680" y="4040280"/>
              <a:ext cx="2146320" cy="363600"/>
            </a:xfrm>
            <a:custGeom>
              <a:avLst/>
              <a:gdLst/>
              <a:ahLst/>
              <a:rect l="l" t="t" r="r" b="b"/>
              <a:pathLst>
                <a:path w="1064" h="190">
                  <a:moveTo>
                    <a:pt x="0" y="190"/>
                  </a:moveTo>
                  <a:lnTo>
                    <a:pt x="407" y="190"/>
                  </a:lnTo>
                  <a:lnTo>
                    <a:pt x="407" y="0"/>
                  </a:lnTo>
                  <a:lnTo>
                    <a:pt x="106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72040" y="4000680"/>
              <a:ext cx="777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21160" y="3357720"/>
              <a:ext cx="1469880" cy="604800"/>
            </a:xfrm>
            <a:custGeom>
              <a:avLst/>
              <a:gdLst/>
              <a:ahLst/>
              <a:rect l="l" t="t" r="r" b="b"/>
              <a:pathLst>
                <a:path w="729" h="315">
                  <a:moveTo>
                    <a:pt x="0" y="315"/>
                  </a:moveTo>
                  <a:lnTo>
                    <a:pt x="0" y="157"/>
                  </a:lnTo>
                  <a:lnTo>
                    <a:pt x="729" y="157"/>
                  </a:lnTo>
                  <a:lnTo>
                    <a:pt x="72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51440" y="3319560"/>
              <a:ext cx="810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65680" y="4178160"/>
              <a:ext cx="2146320" cy="669960"/>
            </a:xfrm>
            <a:custGeom>
              <a:avLst/>
              <a:gdLst/>
              <a:ahLst/>
              <a:rect l="l" t="t" r="r" b="b"/>
              <a:pathLst>
                <a:path w="1064" h="349">
                  <a:moveTo>
                    <a:pt x="0" y="349"/>
                  </a:moveTo>
                  <a:lnTo>
                    <a:pt x="538" y="349"/>
                  </a:lnTo>
                  <a:lnTo>
                    <a:pt x="538" y="0"/>
                  </a:lnTo>
                  <a:lnTo>
                    <a:pt x="106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72040" y="413856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22320" y="344808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rogram_custodia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49640" y="459108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ver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74760" y="4133880"/>
              <a:ext cx="65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identifi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828880" y="3981600"/>
              <a:ext cx="0" cy="129528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3. DM feature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2476800" y="2649600"/>
            <a:ext cx="4555440" cy="1569600"/>
            <a:chOff x="2476800" y="2649600"/>
            <a:chExt cx="4555440" cy="1569600"/>
          </a:xfrm>
        </p:grpSpPr>
        <p:grpSp>
          <p:nvGrpSpPr>
            <p:cNvPr id="642" name=""/>
            <p:cNvGrpSpPr/>
            <p:nvPr/>
          </p:nvGrpSpPr>
          <p:grpSpPr>
            <a:xfrm>
              <a:off x="2527200" y="2649600"/>
              <a:ext cx="2079360" cy="565200"/>
              <a:chOff x="2527200" y="2649600"/>
              <a:chExt cx="2079360" cy="565200"/>
            </a:xfrm>
          </p:grpSpPr>
          <p:sp>
            <p:nvSpPr>
              <p:cNvPr id="643" name=""/>
              <p:cNvSpPr/>
              <p:nvPr/>
            </p:nvSpPr>
            <p:spPr>
              <a:xfrm>
                <a:off x="2527200" y="2649600"/>
                <a:ext cx="2079360" cy="56520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27200" y="2900880"/>
                <a:ext cx="2079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2476800" y="2649600"/>
              <a:ext cx="217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Shape_prop_assign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4191120" y="3276360"/>
              <a:ext cx="2840760" cy="942840"/>
              <a:chOff x="4191120" y="3276360"/>
              <a:chExt cx="2840760" cy="9428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4952880" y="3654360"/>
                <a:ext cx="2079000" cy="564840"/>
                <a:chOff x="4952880" y="3654360"/>
                <a:chExt cx="2079000" cy="5648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952880" y="3654360"/>
                  <a:ext cx="2079000" cy="564840"/>
                </a:xfrm>
                <a:prstGeom prst="rect">
                  <a:avLst/>
                </a:prstGeom>
                <a:solidFill>
                  <a:srgbClr val="ffffe3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952880" y="3905280"/>
                  <a:ext cx="20790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>
                <a:off x="5236200" y="3654360"/>
                <a:ext cx="151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DM_feature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4191120" y="3276720"/>
                <a:ext cx="0" cy="1886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191120" y="3465360"/>
                <a:ext cx="14554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46600" y="3465360"/>
                <a:ext cx="0" cy="1886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5992920" y="3276360"/>
                <a:ext cx="0" cy="3776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4952880" y="2649600"/>
              <a:ext cx="2079360" cy="565200"/>
              <a:chOff x="4952880" y="2649600"/>
              <a:chExt cx="2079360" cy="565200"/>
            </a:xfrm>
          </p:grpSpPr>
          <p:sp>
            <p:nvSpPr>
              <p:cNvPr id="656" name=""/>
              <p:cNvSpPr/>
              <p:nvPr/>
            </p:nvSpPr>
            <p:spPr>
              <a:xfrm>
                <a:off x="4952880" y="2649600"/>
                <a:ext cx="2079360" cy="56520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952880" y="2900880"/>
                <a:ext cx="2079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5105160" y="2649600"/>
              <a:ext cx="180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Feature_param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3. DM feature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386080" y="1928880"/>
            <a:ext cx="5492520" cy="3409920"/>
            <a:chOff x="2386080" y="1928880"/>
            <a:chExt cx="5492520" cy="3409920"/>
          </a:xfrm>
        </p:grpSpPr>
        <p:sp>
          <p:nvSpPr>
            <p:cNvPr id="661" name=""/>
            <p:cNvSpPr/>
            <p:nvPr/>
          </p:nvSpPr>
          <p:spPr>
            <a:xfrm>
              <a:off x="3349800" y="4349880"/>
              <a:ext cx="1252440" cy="9889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87680" y="463392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6320" y="483552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m_feature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27880" y="3346560"/>
              <a:ext cx="1350720" cy="48564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691400" y="3346560"/>
              <a:ext cx="1800" cy="48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74480" y="350532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86080" y="1928880"/>
              <a:ext cx="4465440" cy="11905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86080" y="2220840"/>
              <a:ext cx="4465440" cy="501840"/>
            </a:xfrm>
            <a:prstGeom prst="roundRect">
              <a:avLst>
                <a:gd name="adj" fmla="val 24194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44800" y="2374920"/>
              <a:ext cx="367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ape_property_assignment_arm.Shape_element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73480" y="3897360"/>
              <a:ext cx="3025800" cy="452520"/>
            </a:xfrm>
            <a:custGeom>
              <a:avLst/>
              <a:gdLst/>
              <a:ahLst/>
              <a:rect l="l" t="t" r="r" b="b"/>
              <a:pathLst>
                <a:path w="1906" h="285">
                  <a:moveTo>
                    <a:pt x="0" y="285"/>
                  </a:moveTo>
                  <a:lnTo>
                    <a:pt x="0" y="148"/>
                  </a:lnTo>
                  <a:lnTo>
                    <a:pt x="1906" y="148"/>
                  </a:lnTo>
                  <a:lnTo>
                    <a:pt x="190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42040" y="3840120"/>
              <a:ext cx="112680" cy="112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80640" y="387180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60920" y="3662280"/>
              <a:ext cx="849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10160" y="3127320"/>
              <a:ext cx="144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760920" y="3661920"/>
              <a:ext cx="144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05120" y="4229280"/>
              <a:ext cx="112680" cy="1126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3. DM feature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imensional measurement featur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834920" y="1828800"/>
            <a:ext cx="6737040" cy="4235760"/>
            <a:chOff x="1834920" y="1828800"/>
            <a:chExt cx="6737040" cy="4235760"/>
          </a:xfrm>
        </p:grpSpPr>
        <p:sp>
          <p:nvSpPr>
            <p:cNvPr id="680" name=""/>
            <p:cNvSpPr/>
            <p:nvPr/>
          </p:nvSpPr>
          <p:spPr>
            <a:xfrm>
              <a:off x="1834920" y="1828800"/>
              <a:ext cx="3181320" cy="42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arc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circle</a:t>
              </a: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con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cylinder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ellips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geometric_curv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geometric_surfa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generic_featur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line_bounded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line_closed_parall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87960" y="1828800"/>
              <a:ext cx="3384000" cy="38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line_unbounded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patter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plan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plane_closed_parall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plane_symmetric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point</a:t>
              </a: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point_edg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spher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Dmf_toru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3. DM feature arm: 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DMF circle radiu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819520" y="2286000"/>
            <a:ext cx="3886200" cy="2617920"/>
            <a:chOff x="2819520" y="2286000"/>
            <a:chExt cx="3886200" cy="2617920"/>
          </a:xfrm>
        </p:grpSpPr>
        <p:sp>
          <p:nvSpPr>
            <p:cNvPr id="685" name=""/>
            <p:cNvSpPr/>
            <p:nvPr/>
          </p:nvSpPr>
          <p:spPr>
            <a:xfrm>
              <a:off x="2819520" y="2286000"/>
              <a:ext cx="990360" cy="7063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61720" y="255096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circ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99080" y="3881520"/>
              <a:ext cx="2006640" cy="10224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99080" y="4137120"/>
              <a:ext cx="2006640" cy="419040"/>
            </a:xfrm>
            <a:prstGeom prst="roundRect">
              <a:avLst>
                <a:gd name="adj" fmla="val 36583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78000" y="4191120"/>
              <a:ext cx="1566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feature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arm.Dimension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30720" y="2992320"/>
              <a:ext cx="2865240" cy="827280"/>
            </a:xfrm>
            <a:custGeom>
              <a:avLst/>
              <a:gdLst/>
              <a:ahLst/>
              <a:rect l="l" t="t" r="r" b="b"/>
              <a:pathLst>
                <a:path w="1733" h="482">
                  <a:moveTo>
                    <a:pt x="0" y="0"/>
                  </a:moveTo>
                  <a:lnTo>
                    <a:pt x="0" y="232"/>
                  </a:lnTo>
                  <a:lnTo>
                    <a:pt x="1733" y="232"/>
                  </a:lnTo>
                  <a:lnTo>
                    <a:pt x="1733" y="4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00080" y="317484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diu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59600" y="3795840"/>
              <a:ext cx="7596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4. Manufacturing feature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433960" y="2666880"/>
            <a:ext cx="4573080" cy="1585800"/>
            <a:chOff x="2433960" y="2666880"/>
            <a:chExt cx="4573080" cy="1585800"/>
          </a:xfrm>
        </p:grpSpPr>
        <p:sp>
          <p:nvSpPr>
            <p:cNvPr id="695" name=""/>
            <p:cNvSpPr/>
            <p:nvPr/>
          </p:nvSpPr>
          <p:spPr>
            <a:xfrm>
              <a:off x="2484000" y="3687480"/>
              <a:ext cx="2079720" cy="5652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84000" y="3938400"/>
              <a:ext cx="20797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3960" y="3687480"/>
              <a:ext cx="217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Shape_prop_assign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09680" y="3687480"/>
              <a:ext cx="2079720" cy="5652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09680" y="3938400"/>
              <a:ext cx="20797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61960" y="3687480"/>
              <a:ext cx="180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Feature_param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27320" y="2666880"/>
              <a:ext cx="2079720" cy="565200"/>
            </a:xfrm>
            <a:prstGeom prst="rect">
              <a:avLst/>
            </a:prstGeom>
            <a:solidFill>
              <a:srgbClr val="ffff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27320" y="2917800"/>
              <a:ext cx="20797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20280" y="266688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anuf_feature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65200" y="3427200"/>
              <a:ext cx="0" cy="189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65200" y="3427200"/>
              <a:ext cx="14558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621040" y="3238560"/>
              <a:ext cx="0" cy="188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30640" y="3230280"/>
              <a:ext cx="0" cy="378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AP219:  Usage scenario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80360" y="1676520"/>
            <a:ext cx="6440040" cy="3571920"/>
            <a:chOff x="1980360" y="1676520"/>
            <a:chExt cx="6440040" cy="3571920"/>
          </a:xfrm>
        </p:grpSpPr>
        <p:sp>
          <p:nvSpPr>
            <p:cNvPr id="94" name=""/>
            <p:cNvSpPr/>
            <p:nvPr/>
          </p:nvSpPr>
          <p:spPr>
            <a:xfrm>
              <a:off x="3992400" y="3967200"/>
              <a:ext cx="3067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92400" y="3173040"/>
              <a:ext cx="0" cy="793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749760" y="3173400"/>
              <a:ext cx="2426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440" y="36576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pro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162160" y="3173040"/>
              <a:ext cx="3540240" cy="1946160"/>
              <a:chOff x="2162160" y="3173040"/>
              <a:chExt cx="3540240" cy="19461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2162160" y="3173040"/>
                <a:ext cx="3540240" cy="1789200"/>
                <a:chOff x="2162160" y="3173040"/>
                <a:chExt cx="3540240" cy="17892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19160" y="4088520"/>
                  <a:ext cx="18288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702400" y="4088520"/>
                  <a:ext cx="0" cy="4878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2162160" y="4576320"/>
                  <a:ext cx="354024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162160" y="3173040"/>
                  <a:ext cx="0" cy="14029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162160" y="3173400"/>
                  <a:ext cx="36612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36680" y="4685760"/>
                  <a:ext cx="138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Arial"/>
                    </a:rPr>
                    <a:t>modified DM prog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2814480" y="4844880"/>
                <a:ext cx="18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824440" y="4759200"/>
              <a:ext cx="3668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824440" y="3844800"/>
              <a:ext cx="0" cy="9144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519880" y="3844800"/>
              <a:ext cx="3045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91280" y="4394160"/>
              <a:ext cx="1219320" cy="731880"/>
            </a:xfrm>
            <a:prstGeom prst="rect">
              <a:avLst/>
            </a:prstGeom>
            <a:solidFill>
              <a:srgbClr val="ffffe3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Analyz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99120" y="3540240"/>
              <a:ext cx="1220760" cy="731880"/>
            </a:xfrm>
            <a:prstGeom prst="rect">
              <a:avLst/>
            </a:prstGeom>
            <a:solidFill>
              <a:srgbClr val="ffffe3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/ Modify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29000" y="2685960"/>
              <a:ext cx="1220760" cy="731880"/>
            </a:xfrm>
            <a:prstGeom prst="rect">
              <a:avLst/>
            </a:prstGeom>
            <a:solidFill>
              <a:srgbClr val="ffffe3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la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49760" y="2806560"/>
              <a:ext cx="34131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40080" y="2362320"/>
              <a:ext cx="17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DM feature parameter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9760" y="2928960"/>
              <a:ext cx="3260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2819520"/>
              <a:ext cx="0" cy="1573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15280" y="4743360"/>
              <a:ext cx="731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0760" y="2023920"/>
              <a:ext cx="0" cy="6717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0880" y="1828800"/>
              <a:ext cx="1149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esign and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0360" y="1981080"/>
              <a:ext cx="9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3733920"/>
              <a:ext cx="12952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61240" y="3733920"/>
              <a:ext cx="0" cy="6602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08600" y="2924280"/>
              <a:ext cx="0" cy="61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2520" y="2106720"/>
              <a:ext cx="2624400" cy="31417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2040" y="3733920"/>
              <a:ext cx="554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exec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resul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2971800"/>
              <a:ext cx="657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featur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327672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prog ID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62800" y="16765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Comic Sans MS"/>
                </a:rPr>
                <a:t>Scenario 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8560" y="4114800"/>
              <a:ext cx="9518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featur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paramet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(calc vals) 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2944800"/>
              <a:ext cx="0" cy="14479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62440" y="2028960"/>
              <a:ext cx="0" cy="6714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05520" y="2819520"/>
              <a:ext cx="0" cy="704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4. Manufacturing feature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386080" y="1928880"/>
            <a:ext cx="5492520" cy="3409920"/>
            <a:chOff x="2386080" y="1928880"/>
            <a:chExt cx="5492520" cy="3409920"/>
          </a:xfrm>
        </p:grpSpPr>
        <p:sp>
          <p:nvSpPr>
            <p:cNvPr id="710" name=""/>
            <p:cNvSpPr/>
            <p:nvPr/>
          </p:nvSpPr>
          <p:spPr>
            <a:xfrm>
              <a:off x="2971800" y="4349880"/>
              <a:ext cx="1905120" cy="9889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87680" y="463392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05720" y="4835520"/>
              <a:ext cx="164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nufacturing_feature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27880" y="3346560"/>
              <a:ext cx="1350720" cy="48564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1400" y="3346560"/>
              <a:ext cx="1800" cy="48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74480" y="350532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86080" y="1928880"/>
              <a:ext cx="4465440" cy="11905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86080" y="2220840"/>
              <a:ext cx="4465440" cy="501840"/>
            </a:xfrm>
            <a:prstGeom prst="roundRect">
              <a:avLst>
                <a:gd name="adj" fmla="val 24194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44800" y="2374920"/>
              <a:ext cx="367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ape_property_assignment_arm.Shape_element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173480" y="3897360"/>
              <a:ext cx="3025800" cy="452520"/>
            </a:xfrm>
            <a:custGeom>
              <a:avLst/>
              <a:gdLst/>
              <a:ahLst/>
              <a:rect l="l" t="t" r="r" b="b"/>
              <a:pathLst>
                <a:path w="1906" h="285">
                  <a:moveTo>
                    <a:pt x="0" y="285"/>
                  </a:moveTo>
                  <a:lnTo>
                    <a:pt x="0" y="148"/>
                  </a:lnTo>
                  <a:lnTo>
                    <a:pt x="1906" y="148"/>
                  </a:lnTo>
                  <a:lnTo>
                    <a:pt x="190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42040" y="3840120"/>
              <a:ext cx="112680" cy="112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80640" y="387180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3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60920" y="3662280"/>
              <a:ext cx="849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10160" y="3127320"/>
              <a:ext cx="144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760920" y="3661920"/>
              <a:ext cx="144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05120" y="4229280"/>
              <a:ext cx="112680" cy="1126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5. Shape property assignment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672560" y="1905120"/>
            <a:ext cx="7007760" cy="3580560"/>
            <a:chOff x="1672560" y="1905120"/>
            <a:chExt cx="7007760" cy="3580560"/>
          </a:xfrm>
        </p:grpSpPr>
        <p:grpSp>
          <p:nvGrpSpPr>
            <p:cNvPr id="728" name=""/>
            <p:cNvGrpSpPr/>
            <p:nvPr/>
          </p:nvGrpSpPr>
          <p:grpSpPr>
            <a:xfrm>
              <a:off x="1747800" y="1905120"/>
              <a:ext cx="6932520" cy="564840"/>
              <a:chOff x="1747800" y="1905120"/>
              <a:chExt cx="6932520" cy="564840"/>
            </a:xfrm>
          </p:grpSpPr>
          <p:sp>
            <p:nvSpPr>
              <p:cNvPr id="729" name=""/>
              <p:cNvSpPr/>
              <p:nvPr/>
            </p:nvSpPr>
            <p:spPr>
              <a:xfrm>
                <a:off x="6600600" y="1905120"/>
                <a:ext cx="2079720" cy="56484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600600" y="2156040"/>
                <a:ext cx="20797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38360" y="1905120"/>
                <a:ext cx="120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Prod_id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74200" y="1905120"/>
                <a:ext cx="2079720" cy="56484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74200" y="2156040"/>
                <a:ext cx="20797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394880" y="1905120"/>
                <a:ext cx="163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Prod_version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47800" y="1905120"/>
                <a:ext cx="2079720" cy="56484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47800" y="2156040"/>
                <a:ext cx="20797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899720" y="1905120"/>
                <a:ext cx="176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Prod_view_def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27520" y="2219040"/>
                <a:ext cx="2772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253920" y="2219040"/>
                <a:ext cx="2768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1672560" y="2533680"/>
              <a:ext cx="2221200" cy="2952000"/>
              <a:chOff x="1672560" y="2533680"/>
              <a:chExt cx="2221200" cy="295200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1747080" y="2910240"/>
                <a:ext cx="2079360" cy="565200"/>
                <a:chOff x="1747080" y="2910240"/>
                <a:chExt cx="2079360" cy="5652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1747080" y="2910240"/>
                  <a:ext cx="2079360" cy="565200"/>
                </a:xfrm>
                <a:prstGeom prst="rect">
                  <a:avLst/>
                </a:prstGeom>
                <a:solidFill>
                  <a:srgbClr val="e9f7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747080" y="3161520"/>
                  <a:ext cx="207936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1672560" y="2910240"/>
                <a:ext cx="222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Prod_view_def_prop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745" name=""/>
              <p:cNvGrpSpPr/>
              <p:nvPr/>
            </p:nvGrpSpPr>
            <p:grpSpPr>
              <a:xfrm>
                <a:off x="1747080" y="3915720"/>
                <a:ext cx="2079360" cy="565200"/>
                <a:chOff x="1747080" y="3915720"/>
                <a:chExt cx="2079360" cy="5652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1747080" y="3915720"/>
                  <a:ext cx="2079360" cy="565200"/>
                </a:xfrm>
                <a:prstGeom prst="rect">
                  <a:avLst/>
                </a:prstGeom>
                <a:solidFill>
                  <a:srgbClr val="e9f7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747080" y="4167000"/>
                  <a:ext cx="207936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697760" y="3916800"/>
                <a:ext cx="2172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Shape_prop_assign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747080" y="4920480"/>
                <a:ext cx="2079360" cy="565200"/>
                <a:chOff x="1747080" y="4920480"/>
                <a:chExt cx="2079360" cy="56520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747080" y="4920480"/>
                  <a:ext cx="2079360" cy="565200"/>
                </a:xfrm>
                <a:prstGeom prst="rect">
                  <a:avLst/>
                </a:prstGeom>
                <a:solidFill>
                  <a:srgbClr val="e9f7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747080" y="5171760"/>
                  <a:ext cx="207936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1826280" y="4920480"/>
                <a:ext cx="191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Shape_prop_rep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2718000" y="2533680"/>
                <a:ext cx="0" cy="3765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2718000" y="3538800"/>
                <a:ext cx="0" cy="3765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718000" y="4480920"/>
                <a:ext cx="0" cy="3765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5. Shape property assignment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AP219:  Scenario 1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6705720" y="1143000"/>
            <a:ext cx="1976400" cy="2365200"/>
            <a:chOff x="6705720" y="1143000"/>
            <a:chExt cx="1976400" cy="2365200"/>
          </a:xfrm>
        </p:grpSpPr>
        <p:sp>
          <p:nvSpPr>
            <p:cNvPr id="759" name=""/>
            <p:cNvSpPr/>
            <p:nvPr/>
          </p:nvSpPr>
          <p:spPr>
            <a:xfrm>
              <a:off x="7259040" y="1143000"/>
              <a:ext cx="79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6699"/>
                  </a:solidFill>
                  <a:latin typeface="Comic Sans MS"/>
                </a:rPr>
                <a:t>Scenario 1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6705720" y="1419120"/>
              <a:ext cx="1976400" cy="2089080"/>
              <a:chOff x="6705720" y="1419120"/>
              <a:chExt cx="1976400" cy="2089080"/>
            </a:xfrm>
          </p:grpSpPr>
          <p:sp>
            <p:nvSpPr>
              <p:cNvPr id="761" name=""/>
              <p:cNvSpPr/>
              <p:nvPr/>
            </p:nvSpPr>
            <p:spPr>
              <a:xfrm>
                <a:off x="6751800" y="3157560"/>
                <a:ext cx="2761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6751800" y="2501640"/>
                <a:ext cx="0" cy="6555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753240" y="2543040"/>
                <a:ext cx="3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DM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exec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res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27920" y="2895480"/>
                <a:ext cx="919080" cy="525600"/>
              </a:xfrm>
              <a:prstGeom prst="rect">
                <a:avLst/>
              </a:prstGeom>
              <a:solidFill>
                <a:srgbClr val="ffffe3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6699"/>
                    </a:solidFill>
                    <a:latin typeface="Arial"/>
                  </a:rPr>
                  <a:t>Analyz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98280" y="152568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DM feature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parameters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59800" y="1965240"/>
                <a:ext cx="0" cy="9302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950240" y="3146400"/>
                <a:ext cx="5508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003520" y="2666880"/>
                <a:ext cx="6728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feature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parameter 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(calc vals)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532640" y="1933560"/>
                <a:ext cx="0" cy="9619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705720" y="1419120"/>
                <a:ext cx="1976400" cy="20890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74920" y="1981080"/>
                <a:ext cx="49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DM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feature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82560" y="198108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DM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6699"/>
                    </a:solidFill>
                    <a:latin typeface="Arial"/>
                  </a:rPr>
                  <a:t>prog ID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45320" y="1857240"/>
                <a:ext cx="0" cy="10382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4952880" y="1600200"/>
            <a:ext cx="2895480" cy="1066320"/>
            <a:chOff x="4952880" y="1600200"/>
            <a:chExt cx="2895480" cy="1066320"/>
          </a:xfrm>
        </p:grpSpPr>
        <p:sp>
          <p:nvSpPr>
            <p:cNvPr id="775" name=""/>
            <p:cNvSpPr/>
            <p:nvPr/>
          </p:nvSpPr>
          <p:spPr>
            <a:xfrm>
              <a:off x="7424640" y="2524680"/>
              <a:ext cx="423720" cy="1418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4952880" y="1600200"/>
              <a:ext cx="2401200" cy="9244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4572000" y="3276360"/>
            <a:ext cx="2286000" cy="5331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800600" y="3352680"/>
            <a:ext cx="350532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00200" y="36576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Input to ANALYZ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9966"/>
              </a:buClr>
              <a:buSzPct val="8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M execution resul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00200" y="4648320"/>
            <a:ext cx="7238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Output of ANALYZ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eature parame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M feature (optional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anufacturing feature (optional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02000" y="1384200"/>
            <a:ext cx="180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76520" y="12952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ontrol for ANALYZ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9966"/>
              </a:buClr>
              <a:buSzPct val="8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M execution resul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9966"/>
              </a:buClr>
              <a:buSzPct val="8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M featur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9966"/>
              </a:buClr>
              <a:buSzPct val="8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anufacturing featur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DMF circle:  Radius and cylindricity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(FEO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471760" y="1279440"/>
            <a:ext cx="5015520" cy="4971960"/>
            <a:chOff x="2471760" y="1279440"/>
            <a:chExt cx="5015520" cy="4971960"/>
          </a:xfrm>
        </p:grpSpPr>
        <p:sp>
          <p:nvSpPr>
            <p:cNvPr id="785" name=""/>
            <p:cNvSpPr/>
            <p:nvPr/>
          </p:nvSpPr>
          <p:spPr>
            <a:xfrm>
              <a:off x="2600280" y="1279440"/>
              <a:ext cx="647640" cy="611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02160" y="133524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03600" y="150192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ecut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00360" y="165888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65360" y="3892680"/>
              <a:ext cx="500040" cy="4442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9040" y="394812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67240" y="411480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92640" y="2298600"/>
              <a:ext cx="693720" cy="6127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04240" y="236376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02800" y="252108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tur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11800" y="26798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16680" y="1279440"/>
              <a:ext cx="925560" cy="611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148800" y="141768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progra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33320" y="1576440"/>
              <a:ext cx="70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71760" y="2224080"/>
              <a:ext cx="906480" cy="7700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73640" y="2281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75080" y="24382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ecut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72920" y="260496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ul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93800" y="276228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1279440"/>
              <a:ext cx="657000" cy="611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34120" y="133524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40240" y="150192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gra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25480" y="1658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59200" y="3505320"/>
              <a:ext cx="777960" cy="6109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969360" y="372744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78000" y="388476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43720" y="3505320"/>
              <a:ext cx="760320" cy="6109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645600" y="35686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56400" y="3727440"/>
              <a:ext cx="62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53160" y="388476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71760" y="4673520"/>
              <a:ext cx="804960" cy="4446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570400" y="47293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489600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featu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59200" y="4589640"/>
              <a:ext cx="787320" cy="6109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81240" y="472932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78720" y="489600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15120" y="4589640"/>
              <a:ext cx="768240" cy="6109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535000" y="472932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al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17720" y="489600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79920" y="3587760"/>
              <a:ext cx="638280" cy="44460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75320" y="364320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83600" y="3809880"/>
              <a:ext cx="49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53080" y="4589640"/>
              <a:ext cx="750960" cy="6109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662160" y="47293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50640" y="489600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47920" y="1576440"/>
              <a:ext cx="1028880" cy="1440"/>
            </a:xfrm>
            <a:custGeom>
              <a:avLst/>
              <a:gdLst/>
              <a:ahLst/>
              <a:rect l="l" t="t" r="r" b="b"/>
              <a:pathLst>
                <a:path w="648" h="0">
                  <a:moveTo>
                    <a:pt x="0" y="0"/>
                  </a:moveTo>
                  <a:lnTo>
                    <a:pt x="321" y="0"/>
                  </a:lnTo>
                  <a:lnTo>
                    <a:pt x="321" y="0"/>
                  </a:lnTo>
                  <a:lnTo>
                    <a:pt x="6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1240" y="138096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gram_ru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89600" y="1576440"/>
              <a:ext cx="981000" cy="1440"/>
            </a:xfrm>
            <a:custGeom>
              <a:avLst/>
              <a:gdLst/>
              <a:ahLst/>
              <a:rect l="l" t="t" r="r" b="b"/>
              <a:pathLst>
                <a:path w="618" h="0">
                  <a:moveTo>
                    <a:pt x="0" y="0"/>
                  </a:moveTo>
                  <a:lnTo>
                    <a:pt x="309" y="0"/>
                  </a:lnTo>
                  <a:lnTo>
                    <a:pt x="309" y="0"/>
                  </a:lnTo>
                  <a:lnTo>
                    <a:pt x="6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97680" y="138096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gram_i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16360" y="1890720"/>
              <a:ext cx="1440" cy="277920"/>
            </a:xfrm>
            <a:custGeom>
              <a:avLst/>
              <a:gdLst/>
              <a:ahLst/>
              <a:rect l="l" t="t" r="r" b="b"/>
              <a:pathLst>
                <a:path w="0" h="175">
                  <a:moveTo>
                    <a:pt x="0" y="0"/>
                  </a:moveTo>
                  <a:lnTo>
                    <a:pt x="0" y="88"/>
                  </a:lnTo>
                  <a:lnTo>
                    <a:pt x="0" y="88"/>
                  </a:lnTo>
                  <a:lnTo>
                    <a:pt x="0" y="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30120" y="1984320"/>
              <a:ext cx="1482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measurements  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78240" y="2604960"/>
              <a:ext cx="1768320" cy="1800"/>
            </a:xfrm>
            <a:custGeom>
              <a:avLst/>
              <a:gdLst/>
              <a:ahLst/>
              <a:rect l="l" t="t" r="r" b="b"/>
              <a:pathLst>
                <a:path w="1114" h="0">
                  <a:moveTo>
                    <a:pt x="0" y="0"/>
                  </a:moveTo>
                  <a:lnTo>
                    <a:pt x="560" y="0"/>
                  </a:lnTo>
                  <a:lnTo>
                    <a:pt x="560" y="0"/>
                  </a:lnTo>
                  <a:lnTo>
                    <a:pt x="11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00480" y="255888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92680" y="240048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57720" y="3152880"/>
              <a:ext cx="26654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45080" y="2911320"/>
              <a:ext cx="1800" cy="241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4257720" y="3152880"/>
              <a:ext cx="1440" cy="304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11640" y="3411360"/>
              <a:ext cx="92160" cy="9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6923160" y="3152880"/>
              <a:ext cx="1440" cy="304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77080" y="3411360"/>
              <a:ext cx="93600" cy="9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65400" y="4108320"/>
              <a:ext cx="693720" cy="1800"/>
            </a:xfrm>
            <a:custGeom>
              <a:avLst/>
              <a:gdLst/>
              <a:ahLst/>
              <a:rect l="l" t="t" r="r" b="b"/>
              <a:pathLst>
                <a:path w="437" h="0">
                  <a:moveTo>
                    <a:pt x="0" y="0"/>
                  </a:moveTo>
                  <a:lnTo>
                    <a:pt x="216" y="0"/>
                  </a:lnTo>
                  <a:lnTo>
                    <a:pt x="216" y="0"/>
                  </a:lnTo>
                  <a:lnTo>
                    <a:pt x="4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13040" y="4062240"/>
              <a:ext cx="92160" cy="93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04000" y="388620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10080" y="373392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99880" y="3505320"/>
              <a:ext cx="590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nominal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814480" y="4708440"/>
              <a:ext cx="18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4480" y="4394160"/>
              <a:ext cx="1800" cy="314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56240" y="4896000"/>
              <a:ext cx="712800" cy="1440"/>
            </a:xfrm>
            <a:custGeom>
              <a:avLst/>
              <a:gdLst/>
              <a:ahLst/>
              <a:rect l="l" t="t" r="r" b="b"/>
              <a:pathLst>
                <a:path w="449" h="0">
                  <a:moveTo>
                    <a:pt x="0" y="0"/>
                  </a:moveTo>
                  <a:lnTo>
                    <a:pt x="221" y="0"/>
                  </a:lnTo>
                  <a:lnTo>
                    <a:pt x="221" y="0"/>
                  </a:lnTo>
                  <a:lnTo>
                    <a:pt x="4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22960" y="484992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756680" y="469116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94200" y="4041720"/>
              <a:ext cx="1800" cy="501840"/>
            </a:xfrm>
            <a:custGeom>
              <a:avLst/>
              <a:gdLst/>
              <a:ahLst/>
              <a:rect l="l" t="t" r="r" b="b"/>
              <a:pathLst>
                <a:path w="0" h="316">
                  <a:moveTo>
                    <a:pt x="0" y="0"/>
                  </a:moveTo>
                  <a:lnTo>
                    <a:pt x="0" y="158"/>
                  </a:lnTo>
                  <a:lnTo>
                    <a:pt x="0" y="158"/>
                  </a:lnTo>
                  <a:lnTo>
                    <a:pt x="0" y="3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48480" y="4497480"/>
              <a:ext cx="918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66880" y="4175280"/>
              <a:ext cx="372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23160" y="4116240"/>
              <a:ext cx="1440" cy="427320"/>
            </a:xfrm>
            <a:custGeom>
              <a:avLst/>
              <a:gdLst/>
              <a:ahLst/>
              <a:rect l="l" t="t" r="r" b="b"/>
              <a:pathLst>
                <a:path w="0" h="269">
                  <a:moveTo>
                    <a:pt x="0" y="0"/>
                  </a:moveTo>
                  <a:lnTo>
                    <a:pt x="0" y="134"/>
                  </a:lnTo>
                  <a:lnTo>
                    <a:pt x="0" y="134"/>
                  </a:lnTo>
                  <a:lnTo>
                    <a:pt x="0" y="2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77080" y="4497480"/>
              <a:ext cx="936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6720" y="417528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zon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76880" y="5641920"/>
              <a:ext cx="795240" cy="6094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64720" y="5783400"/>
              <a:ext cx="72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60040" y="594360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523960" y="5726160"/>
              <a:ext cx="584280" cy="4492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10000" y="578340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hap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604240" y="594360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553080" y="5641920"/>
              <a:ext cx="835200" cy="60948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42000" y="577548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irc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612480" y="59356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13040" y="53910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2813040" y="5390640"/>
              <a:ext cx="1440" cy="33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13040" y="5159520"/>
              <a:ext cx="1440" cy="23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59000" y="5943600"/>
              <a:ext cx="2117880" cy="1440"/>
            </a:xfrm>
            <a:custGeom>
              <a:avLst/>
              <a:gdLst/>
              <a:ahLst/>
              <a:rect l="l" t="t" r="r" b="b"/>
              <a:pathLst>
                <a:path w="1334" h="0">
                  <a:moveTo>
                    <a:pt x="1334" y="0"/>
                  </a:moveTo>
                  <a:lnTo>
                    <a:pt x="667" y="0"/>
                  </a:lnTo>
                  <a:lnTo>
                    <a:pt x="667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4720" y="5899320"/>
              <a:ext cx="88920" cy="88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49760" y="5745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_applied_to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84880" y="594360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72120" y="5943600"/>
              <a:ext cx="21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6284880" y="5943600"/>
              <a:ext cx="217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58040" y="5899320"/>
              <a:ext cx="88920" cy="885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668920" y="5186520"/>
              <a:ext cx="1219320" cy="404640"/>
            </a:xfrm>
            <a:custGeom>
              <a:avLst/>
              <a:gdLst/>
              <a:ahLst/>
              <a:rect l="l" t="t" r="r" b="b"/>
              <a:pathLst>
                <a:path w="768" h="255">
                  <a:moveTo>
                    <a:pt x="768" y="0"/>
                  </a:moveTo>
                  <a:lnTo>
                    <a:pt x="768" y="161"/>
                  </a:lnTo>
                  <a:lnTo>
                    <a:pt x="0" y="161"/>
                  </a:lnTo>
                  <a:lnTo>
                    <a:pt x="0" y="25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63320" y="523728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_zone_fo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65520" y="5118120"/>
              <a:ext cx="8892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68760" y="4343400"/>
              <a:ext cx="8892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879640" y="2133720"/>
              <a:ext cx="8892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45120" y="1530360"/>
              <a:ext cx="8892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21280" y="1523880"/>
              <a:ext cx="8892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35800" y="5543640"/>
              <a:ext cx="8856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48320" y="3809880"/>
              <a:ext cx="83808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048120" y="3429000"/>
              <a:ext cx="739440" cy="270000"/>
              <a:chOff x="3048120" y="3429000"/>
              <a:chExt cx="739440" cy="270000"/>
            </a:xfrm>
          </p:grpSpPr>
          <p:sp>
            <p:nvSpPr>
              <p:cNvPr id="890" name=""/>
              <p:cNvSpPr/>
              <p:nvPr/>
            </p:nvSpPr>
            <p:spPr>
              <a:xfrm>
                <a:off x="3048120" y="3651480"/>
                <a:ext cx="693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216" y="0"/>
                    </a:lnTo>
                    <a:lnTo>
                      <a:pt x="216" y="0"/>
                    </a:lnTo>
                    <a:lnTo>
                      <a:pt x="4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95760" y="3605400"/>
                <a:ext cx="91800" cy="93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186360" y="34290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ameter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2562120" y="3298680"/>
              <a:ext cx="500040" cy="444600"/>
              <a:chOff x="2562120" y="3298680"/>
              <a:chExt cx="500040" cy="444600"/>
            </a:xfrm>
          </p:grpSpPr>
          <p:sp>
            <p:nvSpPr>
              <p:cNvPr id="894" name=""/>
              <p:cNvSpPr/>
              <p:nvPr/>
            </p:nvSpPr>
            <p:spPr>
              <a:xfrm>
                <a:off x="2562120" y="3298680"/>
                <a:ext cx="500040" cy="444600"/>
              </a:xfrm>
              <a:prstGeom prst="rect">
                <a:avLst/>
              </a:prstGeom>
              <a:solidFill>
                <a:srgbClr val="e9f7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61840" y="3375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und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657160" y="3521160"/>
                <a:ext cx="30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_hol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Simplified model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(FEO - for exposition only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0" y="1219320"/>
            <a:ext cx="5334120" cy="4995720"/>
            <a:chOff x="2286000" y="1219320"/>
            <a:chExt cx="5334120" cy="4995720"/>
          </a:xfrm>
        </p:grpSpPr>
        <p:sp>
          <p:nvSpPr>
            <p:cNvPr id="135" name=""/>
            <p:cNvSpPr/>
            <p:nvPr/>
          </p:nvSpPr>
          <p:spPr>
            <a:xfrm>
              <a:off x="2887560" y="2065320"/>
              <a:ext cx="846360" cy="45864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0880" y="223668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featu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57800" y="2085840"/>
              <a:ext cx="1066680" cy="45900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5680" y="2189160"/>
              <a:ext cx="87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ufacturing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2320" y="23115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0" y="1219320"/>
              <a:ext cx="1066680" cy="45720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84280" y="1382760"/>
              <a:ext cx="88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pe_el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880" y="2851200"/>
              <a:ext cx="1371600" cy="45072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295740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1800" y="3110040"/>
              <a:ext cx="108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ture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05320" y="3643200"/>
              <a:ext cx="838080" cy="45900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30600" y="374652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35280" y="386856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87560" y="1866960"/>
              <a:ext cx="2863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87560" y="1676520"/>
              <a:ext cx="180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255840" y="1866960"/>
              <a:ext cx="180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20920" y="1996920"/>
              <a:ext cx="6840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751360" y="1866960"/>
              <a:ext cx="18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8240" y="2011320"/>
              <a:ext cx="6804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6520" y="2544840"/>
              <a:ext cx="1104840" cy="272880"/>
            </a:xfrm>
            <a:custGeom>
              <a:avLst/>
              <a:gdLst/>
              <a:ahLst/>
              <a:rect l="l" t="t" r="r" b="b"/>
              <a:pathLst>
                <a:path w="696" h="172">
                  <a:moveTo>
                    <a:pt x="696" y="0"/>
                  </a:moveTo>
                  <a:lnTo>
                    <a:pt x="696" y="86"/>
                  </a:lnTo>
                  <a:lnTo>
                    <a:pt x="0" y="86"/>
                  </a:lnTo>
                  <a:lnTo>
                    <a:pt x="0" y="17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13400" y="2782800"/>
              <a:ext cx="6804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7880" y="2530440"/>
              <a:ext cx="46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5840" y="2530440"/>
              <a:ext cx="1090800" cy="287280"/>
            </a:xfrm>
            <a:custGeom>
              <a:avLst/>
              <a:gdLst/>
              <a:ahLst/>
              <a:rect l="l" t="t" r="r" b="b"/>
              <a:pathLst>
                <a:path w="687" h="181">
                  <a:moveTo>
                    <a:pt x="0" y="0"/>
                  </a:moveTo>
                  <a:lnTo>
                    <a:pt x="0" y="90"/>
                  </a:lnTo>
                  <a:lnTo>
                    <a:pt x="687" y="90"/>
                  </a:lnTo>
                  <a:lnTo>
                    <a:pt x="687" y="18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13160" y="278280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97680" y="2536920"/>
              <a:ext cx="46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97360" y="3452760"/>
              <a:ext cx="118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7480" y="3301920"/>
              <a:ext cx="144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97360" y="3452400"/>
              <a:ext cx="144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62440" y="3568680"/>
              <a:ext cx="6804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4756320"/>
              <a:ext cx="1106640" cy="44748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7480" y="4938840"/>
              <a:ext cx="88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limi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76840" y="4756320"/>
              <a:ext cx="1104840" cy="46008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7120" y="492588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al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1960" y="5737320"/>
              <a:ext cx="1373040" cy="47124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9200" y="585144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62840" y="5972040"/>
              <a:ext cx="122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ometric_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4762440"/>
              <a:ext cx="838080" cy="46044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2000" y="480996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0840" y="493236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91560" y="505296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32160" y="5754600"/>
              <a:ext cx="782640" cy="46044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72840" y="58579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85080" y="59785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40320" y="4986360"/>
              <a:ext cx="1100160" cy="1440"/>
            </a:xfrm>
            <a:custGeom>
              <a:avLst/>
              <a:gdLst/>
              <a:ahLst/>
              <a:rect l="l" t="t" r="r" b="b"/>
              <a:pathLst>
                <a:path w="693" h="0">
                  <a:moveTo>
                    <a:pt x="0" y="0"/>
                  </a:moveTo>
                  <a:lnTo>
                    <a:pt x="347" y="0"/>
                  </a:lnTo>
                  <a:lnTo>
                    <a:pt x="347" y="0"/>
                  </a:lnTo>
                  <a:lnTo>
                    <a:pt x="69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89080" y="4835520"/>
              <a:ext cx="59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mited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0280" y="5257800"/>
              <a:ext cx="1195560" cy="479520"/>
            </a:xfrm>
            <a:custGeom>
              <a:avLst/>
              <a:gdLst/>
              <a:ahLst/>
              <a:rect l="l" t="t" r="r" b="b"/>
              <a:pathLst>
                <a:path w="753" h="302">
                  <a:moveTo>
                    <a:pt x="0" y="302"/>
                  </a:moveTo>
                  <a:lnTo>
                    <a:pt x="0" y="149"/>
                  </a:lnTo>
                  <a:lnTo>
                    <a:pt x="753" y="149"/>
                  </a:lnTo>
                  <a:lnTo>
                    <a:pt x="75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8720" y="5349960"/>
              <a:ext cx="765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mension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81480" y="4100400"/>
              <a:ext cx="978120" cy="598680"/>
            </a:xfrm>
            <a:custGeom>
              <a:avLst/>
              <a:gdLst/>
              <a:ahLst/>
              <a:rect l="l" t="t" r="r" b="b"/>
              <a:pathLst>
                <a:path w="616" h="377">
                  <a:moveTo>
                    <a:pt x="0" y="0"/>
                  </a:moveTo>
                  <a:lnTo>
                    <a:pt x="0" y="263"/>
                  </a:lnTo>
                  <a:lnTo>
                    <a:pt x="616" y="263"/>
                  </a:lnTo>
                  <a:lnTo>
                    <a:pt x="616" y="37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34280" y="4367160"/>
              <a:ext cx="65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minal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440" y="3276720"/>
              <a:ext cx="761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ed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4114800"/>
              <a:ext cx="1069920" cy="611280"/>
            </a:xfrm>
            <a:custGeom>
              <a:avLst/>
              <a:gdLst/>
              <a:ahLst/>
              <a:rect l="l" t="t" r="r" b="b"/>
              <a:pathLst>
                <a:path w="674" h="385">
                  <a:moveTo>
                    <a:pt x="674" y="0"/>
                  </a:moveTo>
                  <a:lnTo>
                    <a:pt x="674" y="191"/>
                  </a:lnTo>
                  <a:lnTo>
                    <a:pt x="0" y="191"/>
                  </a:lnTo>
                  <a:lnTo>
                    <a:pt x="0" y="3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61160" y="426708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6440" y="5264280"/>
              <a:ext cx="863640" cy="490320"/>
            </a:xfrm>
            <a:custGeom>
              <a:avLst/>
              <a:gdLst/>
              <a:ahLst/>
              <a:rect l="l" t="t" r="r" b="b"/>
              <a:pathLst>
                <a:path w="544" h="309">
                  <a:moveTo>
                    <a:pt x="544" y="309"/>
                  </a:moveTo>
                  <a:lnTo>
                    <a:pt x="544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14920" y="5361120"/>
              <a:ext cx="52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_zone_fo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920" y="1685880"/>
              <a:ext cx="1440" cy="3057480"/>
            </a:xfrm>
            <a:custGeom>
              <a:avLst/>
              <a:gdLst/>
              <a:ahLst/>
              <a:rect l="l" t="t" r="r" b="b"/>
              <a:pathLst>
                <a:path w="0" h="1926">
                  <a:moveTo>
                    <a:pt x="0" y="1926"/>
                  </a:moveTo>
                  <a:lnTo>
                    <a:pt x="0" y="966"/>
                  </a:lnTo>
                  <a:lnTo>
                    <a:pt x="0" y="96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96480" y="3186000"/>
              <a:ext cx="60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_applied_to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5040" y="523404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05600" y="5243400"/>
              <a:ext cx="7596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4680" y="4660920"/>
              <a:ext cx="7596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00440" y="4691160"/>
              <a:ext cx="7596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27520" y="494496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50960" y="1687680"/>
              <a:ext cx="68400" cy="68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4280" y="3643200"/>
              <a:ext cx="762120" cy="45720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10680" y="375300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4640" y="38768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083200" y="3452400"/>
              <a:ext cx="14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49720" y="3575160"/>
              <a:ext cx="68400" cy="68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81480" y="3200400"/>
              <a:ext cx="129564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3200400"/>
              <a:ext cx="0" cy="152388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6629400" y="3048120"/>
              <a:ext cx="730080" cy="277560"/>
              <a:chOff x="6629400" y="3048120"/>
              <a:chExt cx="730080" cy="277560"/>
            </a:xfrm>
          </p:grpSpPr>
          <p:sp>
            <p:nvSpPr>
              <p:cNvPr id="205" name=""/>
              <p:cNvSpPr/>
              <p:nvPr/>
            </p:nvSpPr>
            <p:spPr>
              <a:xfrm>
                <a:off x="6629400" y="3048120"/>
                <a:ext cx="730080" cy="277560"/>
              </a:xfrm>
              <a:prstGeom prst="rect">
                <a:avLst/>
              </a:prstGeom>
              <a:solidFill>
                <a:srgbClr val="cdff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278480" y="3048120"/>
                <a:ext cx="108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880680" y="3135240"/>
                <a:ext cx="386280" cy="122040"/>
              </a:xfrm>
              <a:prstGeom prst="rect">
                <a:avLst/>
              </a:prstGeom>
              <a:solidFill>
                <a:srgbClr val="cd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656680" y="2971800"/>
              <a:ext cx="88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ion_metho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1480" y="3124080"/>
              <a:ext cx="144792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29240" y="467028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46960" y="3095640"/>
              <a:ext cx="7596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50000" y="1981080"/>
              <a:ext cx="870120" cy="666720"/>
            </a:xfrm>
            <a:prstGeom prst="rect">
              <a:avLst/>
            </a:prstGeom>
            <a:solidFill>
              <a:srgbClr val="cd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16600" y="203184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2280" y="217008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ecu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18040" y="230976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ult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13720" y="2448000"/>
              <a:ext cx="70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19640" y="2309760"/>
              <a:ext cx="1530360" cy="623880"/>
            </a:xfrm>
            <a:custGeom>
              <a:avLst/>
              <a:gdLst/>
              <a:ahLst/>
              <a:rect l="l" t="t" r="r" b="b"/>
              <a:pathLst>
                <a:path w="1268" h="393">
                  <a:moveTo>
                    <a:pt x="1268" y="0"/>
                  </a:moveTo>
                  <a:lnTo>
                    <a:pt x="1158" y="0"/>
                  </a:lnTo>
                  <a:lnTo>
                    <a:pt x="1158" y="393"/>
                  </a:lnTo>
                  <a:lnTo>
                    <a:pt x="0" y="39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1480" y="2892600"/>
              <a:ext cx="73080" cy="83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07360" y="2763720"/>
              <a:ext cx="46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AP219 info reqs:  Schema level diagra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3960" y="1523880"/>
            <a:ext cx="7007760" cy="3581640"/>
            <a:chOff x="1443960" y="1523880"/>
            <a:chExt cx="7007760" cy="3581640"/>
          </a:xfrm>
        </p:grpSpPr>
        <p:sp>
          <p:nvSpPr>
            <p:cNvPr id="222" name=""/>
            <p:cNvSpPr/>
            <p:nvPr/>
          </p:nvSpPr>
          <p:spPr>
            <a:xfrm>
              <a:off x="6372360" y="1523880"/>
              <a:ext cx="2079360" cy="565200"/>
            </a:xfrm>
            <a:prstGeom prst="rect">
              <a:avLst/>
            </a:prstGeom>
            <a:solidFill>
              <a:srgbClr val="e9f7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72360" y="1774800"/>
              <a:ext cx="2079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09760" y="152388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Prod_id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4880" y="1523880"/>
              <a:ext cx="2081160" cy="565200"/>
            </a:xfrm>
            <a:prstGeom prst="rect">
              <a:avLst/>
            </a:prstGeom>
            <a:solidFill>
              <a:srgbClr val="e9f7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44880" y="1774800"/>
              <a:ext cx="20811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67000" y="1523880"/>
              <a:ext cx="163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Prod_version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9200" y="1523880"/>
              <a:ext cx="2079720" cy="565200"/>
            </a:xfrm>
            <a:prstGeom prst="rect">
              <a:avLst/>
            </a:prstGeom>
            <a:solidFill>
              <a:srgbClr val="e9f7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19200" y="1774800"/>
              <a:ext cx="20797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0760" y="1523880"/>
              <a:ext cx="176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Prod_view_def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98920" y="1838160"/>
              <a:ext cx="27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6040" y="1838160"/>
              <a:ext cx="2764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519200" y="2529000"/>
              <a:ext cx="2079360" cy="566640"/>
              <a:chOff x="1519200" y="2529000"/>
              <a:chExt cx="2079360" cy="566640"/>
            </a:xfrm>
          </p:grpSpPr>
          <p:sp>
            <p:nvSpPr>
              <p:cNvPr id="234" name=""/>
              <p:cNvSpPr/>
              <p:nvPr/>
            </p:nvSpPr>
            <p:spPr>
              <a:xfrm>
                <a:off x="1519200" y="2529000"/>
                <a:ext cx="2079360" cy="56664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519200" y="2780640"/>
                <a:ext cx="2079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443960" y="2529000"/>
              <a:ext cx="222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Prod_view_def_prop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519200" y="4540320"/>
              <a:ext cx="2079360" cy="565200"/>
              <a:chOff x="1519200" y="4540320"/>
              <a:chExt cx="2079360" cy="565200"/>
            </a:xfrm>
          </p:grpSpPr>
          <p:sp>
            <p:nvSpPr>
              <p:cNvPr id="238" name=""/>
              <p:cNvSpPr/>
              <p:nvPr/>
            </p:nvSpPr>
            <p:spPr>
              <a:xfrm>
                <a:off x="1519200" y="4540320"/>
                <a:ext cx="2079360" cy="56520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19200" y="4791600"/>
                <a:ext cx="2079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597680" y="4540320"/>
              <a:ext cx="191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Shape_prop_rep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489040" y="2152440"/>
              <a:ext cx="0" cy="376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489040" y="3157200"/>
              <a:ext cx="0" cy="37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9040" y="4100400"/>
              <a:ext cx="0" cy="376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468800" y="3535200"/>
            <a:ext cx="4555440" cy="1570320"/>
            <a:chOff x="1468800" y="3535200"/>
            <a:chExt cx="4555440" cy="1570320"/>
          </a:xfrm>
        </p:grpSpPr>
        <p:grpSp>
          <p:nvGrpSpPr>
            <p:cNvPr id="245" name=""/>
            <p:cNvGrpSpPr/>
            <p:nvPr/>
          </p:nvGrpSpPr>
          <p:grpSpPr>
            <a:xfrm>
              <a:off x="1519200" y="3535200"/>
              <a:ext cx="2079360" cy="565200"/>
              <a:chOff x="1519200" y="3535200"/>
              <a:chExt cx="2079360" cy="565200"/>
            </a:xfrm>
          </p:grpSpPr>
          <p:sp>
            <p:nvSpPr>
              <p:cNvPr id="246" name=""/>
              <p:cNvSpPr/>
              <p:nvPr/>
            </p:nvSpPr>
            <p:spPr>
              <a:xfrm>
                <a:off x="1519200" y="3535200"/>
                <a:ext cx="2079360" cy="56520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519200" y="3786480"/>
                <a:ext cx="2079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468800" y="3535200"/>
              <a:ext cx="217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Shape_prop_assign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182760" y="4161960"/>
              <a:ext cx="2841480" cy="943560"/>
              <a:chOff x="3182760" y="4161960"/>
              <a:chExt cx="2841480" cy="94356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3944880" y="4540320"/>
                <a:ext cx="2079360" cy="565200"/>
                <a:chOff x="3944880" y="4540320"/>
                <a:chExt cx="2079360" cy="5652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944880" y="4540320"/>
                  <a:ext cx="2079360" cy="565200"/>
                </a:xfrm>
                <a:prstGeom prst="rect">
                  <a:avLst/>
                </a:prstGeom>
                <a:solidFill>
                  <a:srgbClr val="ffffe3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44880" y="4791600"/>
                  <a:ext cx="207936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4228560" y="4540320"/>
                <a:ext cx="151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DM_feature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3182760" y="4161960"/>
                <a:ext cx="0" cy="189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82760" y="4351320"/>
                <a:ext cx="14558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38600" y="4351320"/>
                <a:ext cx="0" cy="189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984920" y="4162320"/>
                <a:ext cx="0" cy="378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3944880" y="2529000"/>
            <a:ext cx="4606560" cy="1571400"/>
            <a:chOff x="3944880" y="2529000"/>
            <a:chExt cx="4606560" cy="1571400"/>
          </a:xfrm>
        </p:grpSpPr>
        <p:grpSp>
          <p:nvGrpSpPr>
            <p:cNvPr id="259" name=""/>
            <p:cNvGrpSpPr/>
            <p:nvPr/>
          </p:nvGrpSpPr>
          <p:grpSpPr>
            <a:xfrm>
              <a:off x="6372360" y="2529000"/>
              <a:ext cx="2079000" cy="565200"/>
              <a:chOff x="6372360" y="2529000"/>
              <a:chExt cx="2079000" cy="565200"/>
            </a:xfrm>
          </p:grpSpPr>
          <p:sp>
            <p:nvSpPr>
              <p:cNvPr id="260" name=""/>
              <p:cNvSpPr/>
              <p:nvPr/>
            </p:nvSpPr>
            <p:spPr>
              <a:xfrm>
                <a:off x="6372360" y="2529000"/>
                <a:ext cx="2079000" cy="56520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72360" y="2780280"/>
                <a:ext cx="2079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90280" y="2529000"/>
              <a:ext cx="22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Dimension_tolerance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944880" y="3535200"/>
              <a:ext cx="2079360" cy="565200"/>
              <a:chOff x="3944880" y="3535200"/>
              <a:chExt cx="2079360" cy="565200"/>
            </a:xfrm>
          </p:grpSpPr>
          <p:sp>
            <p:nvSpPr>
              <p:cNvPr id="264" name=""/>
              <p:cNvSpPr/>
              <p:nvPr/>
            </p:nvSpPr>
            <p:spPr>
              <a:xfrm>
                <a:off x="3944880" y="3535200"/>
                <a:ext cx="2079360" cy="565200"/>
              </a:xfrm>
              <a:prstGeom prst="rect">
                <a:avLst/>
              </a:prstGeom>
              <a:solidFill>
                <a:srgbClr val="ffffe3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44880" y="3786480"/>
                <a:ext cx="2079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097160" y="3535200"/>
              <a:ext cx="180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Feature_param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372360" y="3535200"/>
              <a:ext cx="2079000" cy="565200"/>
              <a:chOff x="6372360" y="3535200"/>
              <a:chExt cx="2079000" cy="565200"/>
            </a:xfrm>
          </p:grpSpPr>
          <p:sp>
            <p:nvSpPr>
              <p:cNvPr id="268" name=""/>
              <p:cNvSpPr/>
              <p:nvPr/>
            </p:nvSpPr>
            <p:spPr>
              <a:xfrm>
                <a:off x="6372360" y="3535200"/>
                <a:ext cx="2079000" cy="56520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72360" y="3786480"/>
                <a:ext cx="2079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300000" y="3535200"/>
              <a:ext cx="22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Geometric_tolerance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540400" y="3346560"/>
              <a:ext cx="0" cy="188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412040" y="3157200"/>
              <a:ext cx="0" cy="189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40400" y="3346560"/>
              <a:ext cx="18716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024600" y="3911760"/>
              <a:ext cx="27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523880" y="5486400"/>
            <a:ext cx="2257200" cy="685800"/>
            <a:chOff x="1523880" y="5486400"/>
            <a:chExt cx="2257200" cy="685800"/>
          </a:xfrm>
        </p:grpSpPr>
        <p:grpSp>
          <p:nvGrpSpPr>
            <p:cNvPr id="276" name=""/>
            <p:cNvGrpSpPr/>
            <p:nvPr/>
          </p:nvGrpSpPr>
          <p:grpSpPr>
            <a:xfrm>
              <a:off x="1523880" y="5486400"/>
              <a:ext cx="762120" cy="304920"/>
              <a:chOff x="1523880" y="5486400"/>
              <a:chExt cx="762120" cy="304920"/>
            </a:xfrm>
          </p:grpSpPr>
          <p:sp>
            <p:nvSpPr>
              <p:cNvPr id="277" name=""/>
              <p:cNvSpPr/>
              <p:nvPr/>
            </p:nvSpPr>
            <p:spPr>
              <a:xfrm>
                <a:off x="1523880" y="5486400"/>
                <a:ext cx="762120" cy="30492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23880" y="5621760"/>
                <a:ext cx="7621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523880" y="5867280"/>
              <a:ext cx="762120" cy="304920"/>
              <a:chOff x="1523880" y="5867280"/>
              <a:chExt cx="762120" cy="304920"/>
            </a:xfrm>
          </p:grpSpPr>
          <p:sp>
            <p:nvSpPr>
              <p:cNvPr id="280" name=""/>
              <p:cNvSpPr/>
              <p:nvPr/>
            </p:nvSpPr>
            <p:spPr>
              <a:xfrm>
                <a:off x="1523880" y="5867280"/>
                <a:ext cx="762120" cy="304920"/>
              </a:xfrm>
              <a:prstGeom prst="rect">
                <a:avLst/>
              </a:prstGeom>
              <a:solidFill>
                <a:srgbClr val="ffffe3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23880" y="6002640"/>
                <a:ext cx="7621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2288520" y="5486400"/>
              <a:ext cx="124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Comic Sans MS"/>
                </a:rPr>
                <a:t>Used by AP219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95720" y="5867280"/>
              <a:ext cx="148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Comic Sans MS"/>
                </a:rPr>
                <a:t>Defined by AP219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608800" y="4162320"/>
            <a:ext cx="2871360" cy="1965600"/>
            <a:chOff x="5608800" y="4162320"/>
            <a:chExt cx="2871360" cy="1965600"/>
          </a:xfrm>
        </p:grpSpPr>
        <p:grpSp>
          <p:nvGrpSpPr>
            <p:cNvPr id="285" name=""/>
            <p:cNvGrpSpPr/>
            <p:nvPr/>
          </p:nvGrpSpPr>
          <p:grpSpPr>
            <a:xfrm>
              <a:off x="5608800" y="4162320"/>
              <a:ext cx="2842560" cy="1328760"/>
              <a:chOff x="5608800" y="4162320"/>
              <a:chExt cx="2842560" cy="1328760"/>
            </a:xfrm>
          </p:grpSpPr>
          <p:sp>
            <p:nvSpPr>
              <p:cNvPr id="286" name=""/>
              <p:cNvSpPr/>
              <p:nvPr/>
            </p:nvSpPr>
            <p:spPr>
              <a:xfrm>
                <a:off x="5608800" y="4162320"/>
                <a:ext cx="0" cy="189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608800" y="4351320"/>
                <a:ext cx="14554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6372360" y="4540320"/>
                <a:ext cx="2079000" cy="565200"/>
                <a:chOff x="6372360" y="4540320"/>
                <a:chExt cx="2079000" cy="5652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6372360" y="4540320"/>
                  <a:ext cx="2079000" cy="565200"/>
                </a:xfrm>
                <a:prstGeom prst="rect">
                  <a:avLst/>
                </a:prstGeom>
                <a:solidFill>
                  <a:srgbClr val="ffffe3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372360" y="4791600"/>
                  <a:ext cx="20790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6478560" y="4540320"/>
                <a:ext cx="187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DM_exec_result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7064280" y="4350960"/>
                <a:ext cx="0" cy="189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80360" y="5113440"/>
                <a:ext cx="0" cy="3776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400800" y="5562720"/>
              <a:ext cx="2079360" cy="565200"/>
              <a:chOff x="6400800" y="5562720"/>
              <a:chExt cx="2079360" cy="565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400800" y="5562720"/>
                <a:ext cx="2079360" cy="565200"/>
                <a:chOff x="6400800" y="5562720"/>
                <a:chExt cx="2079360" cy="565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400800" y="5562720"/>
                  <a:ext cx="2079360" cy="565200"/>
                </a:xfrm>
                <a:prstGeom prst="rect">
                  <a:avLst/>
                </a:prstGeom>
                <a:solidFill>
                  <a:srgbClr val="ffffe3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400800" y="5814000"/>
                  <a:ext cx="207936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669360" y="556272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DM_prog_id_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3200400" y="2514600"/>
            <a:ext cx="2841120" cy="948960"/>
            <a:chOff x="3200400" y="2514600"/>
            <a:chExt cx="2841120" cy="948960"/>
          </a:xfrm>
        </p:grpSpPr>
        <p:grpSp>
          <p:nvGrpSpPr>
            <p:cNvPr id="300" name=""/>
            <p:cNvGrpSpPr/>
            <p:nvPr/>
          </p:nvGrpSpPr>
          <p:grpSpPr>
            <a:xfrm>
              <a:off x="3962520" y="2514600"/>
              <a:ext cx="2079000" cy="565200"/>
              <a:chOff x="3962520" y="2514600"/>
              <a:chExt cx="2079000" cy="565200"/>
            </a:xfrm>
          </p:grpSpPr>
          <p:sp>
            <p:nvSpPr>
              <p:cNvPr id="301" name=""/>
              <p:cNvSpPr/>
              <p:nvPr/>
            </p:nvSpPr>
            <p:spPr>
              <a:xfrm>
                <a:off x="3962520" y="2514600"/>
                <a:ext cx="2079000" cy="565200"/>
              </a:xfrm>
              <a:prstGeom prst="rect">
                <a:avLst/>
              </a:prstGeom>
              <a:solidFill>
                <a:srgbClr val="ffffe3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62520" y="2765880"/>
                <a:ext cx="2079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4155480" y="251460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anuf_feature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200400" y="3085920"/>
              <a:ext cx="1455480" cy="377640"/>
              <a:chOff x="3200400" y="3085920"/>
              <a:chExt cx="1455480" cy="37764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0400" y="3274920"/>
                <a:ext cx="0" cy="1886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0400" y="3274920"/>
                <a:ext cx="14554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4655880" y="3085920"/>
                <a:ext cx="0" cy="189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965840" y="3078000"/>
              <a:ext cx="0" cy="378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AP219:  Usage scenario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56680" y="1676520"/>
            <a:ext cx="6753240" cy="4481280"/>
            <a:chOff x="2056680" y="1676520"/>
            <a:chExt cx="6753240" cy="4481280"/>
          </a:xfrm>
        </p:grpSpPr>
        <p:grpSp>
          <p:nvGrpSpPr>
            <p:cNvPr id="311" name=""/>
            <p:cNvGrpSpPr/>
            <p:nvPr/>
          </p:nvGrpSpPr>
          <p:grpSpPr>
            <a:xfrm>
              <a:off x="5238360" y="1676520"/>
              <a:ext cx="3571560" cy="4481280"/>
              <a:chOff x="5238360" y="1676520"/>
              <a:chExt cx="3571560" cy="44812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5762520" y="1676520"/>
                <a:ext cx="2624400" cy="3571920"/>
                <a:chOff x="5762520" y="1676520"/>
                <a:chExt cx="2624400" cy="3571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62520" y="2106720"/>
                  <a:ext cx="2624400" cy="3141720"/>
                </a:xfrm>
                <a:prstGeom prst="rect">
                  <a:avLst/>
                </a:prstGeom>
                <a:noFill/>
                <a:ln w="57240">
                  <a:solidFill>
                    <a:srgbClr val="3366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562800" y="1676520"/>
                  <a:ext cx="1218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6699"/>
                      </a:solidFill>
                      <a:latin typeface="Comic Sans MS"/>
                    </a:rPr>
                    <a:t>Scenario 1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5238360" y="5424480"/>
                <a:ext cx="35715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e5b18d"/>
                    </a:solidFill>
                    <a:latin typeface="Comic Sans MS"/>
                  </a:rPr>
                  <a:t>2. DM execution result 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e5b18d"/>
                    </a:solidFill>
                    <a:latin typeface="Comic Sans MS"/>
                  </a:rPr>
                  <a:t>3. DM feature arm (optional)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e5b18d"/>
                    </a:solidFill>
                    <a:latin typeface="Comic Sans MS"/>
                  </a:rPr>
                  <a:t>4. Manufacturing feature ar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056680" y="1828800"/>
              <a:ext cx="6321240" cy="3297240"/>
              <a:chOff x="2056680" y="1828800"/>
              <a:chExt cx="6321240" cy="3297240"/>
            </a:xfrm>
          </p:grpSpPr>
          <p:sp>
            <p:nvSpPr>
              <p:cNvPr id="317" name=""/>
              <p:cNvSpPr/>
              <p:nvPr/>
            </p:nvSpPr>
            <p:spPr>
              <a:xfrm>
                <a:off x="3992400" y="3967200"/>
                <a:ext cx="3067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992400" y="3173040"/>
                <a:ext cx="0" cy="793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749760" y="3173400"/>
                <a:ext cx="24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124440" y="3657600"/>
                <a:ext cx="76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 prog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2162160" y="3173040"/>
                <a:ext cx="3540240" cy="1946160"/>
                <a:chOff x="2162160" y="3173040"/>
                <a:chExt cx="3540240" cy="194616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2162160" y="3173040"/>
                  <a:ext cx="3540240" cy="1789200"/>
                  <a:chOff x="2162160" y="3173040"/>
                  <a:chExt cx="3540240" cy="178920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519160" y="4088520"/>
                    <a:ext cx="182880" cy="0"/>
                  </a:xfrm>
                  <a:prstGeom prst="line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02400" y="4088520"/>
                    <a:ext cx="0" cy="487800"/>
                  </a:xfrm>
                  <a:prstGeom prst="line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>
                    <a:off x="2162160" y="4576320"/>
                    <a:ext cx="3540240" cy="0"/>
                  </a:xfrm>
                  <a:prstGeom prst="line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V="1">
                    <a:off x="2162160" y="3173040"/>
                    <a:ext cx="0" cy="1402920"/>
                  </a:xfrm>
                  <a:prstGeom prst="line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62160" y="3173400"/>
                    <a:ext cx="366120" cy="0"/>
                  </a:xfrm>
                  <a:prstGeom prst="line">
                    <a:avLst/>
                  </a:prstGeom>
                  <a:ln w="936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136680" y="4685760"/>
                    <a:ext cx="1386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9999"/>
                        </a:solidFill>
                        <a:latin typeface="Arial"/>
                      </a:rPr>
                      <a:t>modified DM prog</a:t>
                    </a:r>
                    <a:endParaRPr b="0" lang="en-US" sz="12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2814480" y="484488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824440" y="4759200"/>
                <a:ext cx="3668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824440" y="3844800"/>
                <a:ext cx="0" cy="9144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519880" y="3844800"/>
                <a:ext cx="3045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91280" y="4394160"/>
                <a:ext cx="1219320" cy="731880"/>
              </a:xfrm>
              <a:prstGeom prst="rect">
                <a:avLst/>
              </a:prstGeom>
              <a:solidFill>
                <a:srgbClr val="ffffe3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Analyz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99120" y="3540240"/>
                <a:ext cx="1220760" cy="731880"/>
              </a:xfrm>
              <a:prstGeom prst="rect">
                <a:avLst/>
              </a:prstGeom>
              <a:solidFill>
                <a:srgbClr val="ffffe3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99"/>
                    </a:solidFill>
                    <a:latin typeface="Arial"/>
                  </a:rPr>
                  <a:t>Execut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99"/>
                    </a:solidFill>
                    <a:latin typeface="Arial"/>
                  </a:rPr>
                  <a:t>/ Modify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9000" y="2685960"/>
                <a:ext cx="1220760" cy="731880"/>
              </a:xfrm>
              <a:prstGeom prst="rect">
                <a:avLst/>
              </a:prstGeom>
              <a:solidFill>
                <a:srgbClr val="ffffe3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99"/>
                    </a:solidFill>
                    <a:latin typeface="Arial"/>
                  </a:rPr>
                  <a:t>Pla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49760" y="2806560"/>
                <a:ext cx="34131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19920" y="2362320"/>
                <a:ext cx="936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DM feature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parameter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49760" y="2928960"/>
                <a:ext cx="32605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2819520"/>
                <a:ext cx="0" cy="15732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415280" y="4743360"/>
                <a:ext cx="7318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90760" y="2023920"/>
                <a:ext cx="0" cy="6717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50880" y="1828800"/>
                <a:ext cx="114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esign and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manufacturing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information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56680" y="1981080"/>
                <a:ext cx="936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par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information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62720" y="3733920"/>
                <a:ext cx="12952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61240" y="3733920"/>
                <a:ext cx="0" cy="6602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08600" y="2933640"/>
                <a:ext cx="0" cy="6066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92040" y="3733920"/>
                <a:ext cx="554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DM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exec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resul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24480" y="2971800"/>
                <a:ext cx="657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DM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feature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91320" y="3276720"/>
                <a:ext cx="682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DM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prog ID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68560" y="4114800"/>
                <a:ext cx="90936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feature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parameter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(calc vals)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010280" y="2944800"/>
                <a:ext cx="0" cy="14479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8120" y="2057400"/>
                <a:ext cx="0" cy="6714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. Feature parameter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666880" y="2438280"/>
            <a:ext cx="4606560" cy="1571400"/>
            <a:chOff x="2666880" y="2438280"/>
            <a:chExt cx="4606560" cy="1571400"/>
          </a:xfrm>
        </p:grpSpPr>
        <p:grpSp>
          <p:nvGrpSpPr>
            <p:cNvPr id="355" name=""/>
            <p:cNvGrpSpPr/>
            <p:nvPr/>
          </p:nvGrpSpPr>
          <p:grpSpPr>
            <a:xfrm>
              <a:off x="5094360" y="2438280"/>
              <a:ext cx="2079000" cy="565200"/>
              <a:chOff x="5094360" y="2438280"/>
              <a:chExt cx="2079000" cy="565200"/>
            </a:xfrm>
          </p:grpSpPr>
          <p:sp>
            <p:nvSpPr>
              <p:cNvPr id="356" name=""/>
              <p:cNvSpPr/>
              <p:nvPr/>
            </p:nvSpPr>
            <p:spPr>
              <a:xfrm>
                <a:off x="5094360" y="2438280"/>
                <a:ext cx="2079000" cy="56520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94360" y="2689560"/>
                <a:ext cx="2079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012280" y="2438280"/>
              <a:ext cx="22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Dimension_tolerance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2666880" y="3444480"/>
              <a:ext cx="2079360" cy="565200"/>
              <a:chOff x="2666880" y="3444480"/>
              <a:chExt cx="2079360" cy="565200"/>
            </a:xfrm>
          </p:grpSpPr>
          <p:sp>
            <p:nvSpPr>
              <p:cNvPr id="360" name=""/>
              <p:cNvSpPr/>
              <p:nvPr/>
            </p:nvSpPr>
            <p:spPr>
              <a:xfrm>
                <a:off x="2666880" y="3444480"/>
                <a:ext cx="2079360" cy="565200"/>
              </a:xfrm>
              <a:prstGeom prst="rect">
                <a:avLst/>
              </a:prstGeom>
              <a:solidFill>
                <a:srgbClr val="ffffe3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66880" y="3695760"/>
                <a:ext cx="2079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819160" y="3444480"/>
              <a:ext cx="180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Feature_param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5094360" y="3444480"/>
              <a:ext cx="2079000" cy="565200"/>
              <a:chOff x="5094360" y="3444480"/>
              <a:chExt cx="2079000" cy="565200"/>
            </a:xfrm>
          </p:grpSpPr>
          <p:sp>
            <p:nvSpPr>
              <p:cNvPr id="364" name=""/>
              <p:cNvSpPr/>
              <p:nvPr/>
            </p:nvSpPr>
            <p:spPr>
              <a:xfrm>
                <a:off x="5094360" y="3444480"/>
                <a:ext cx="2079000" cy="56520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94360" y="3695760"/>
                <a:ext cx="2079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022000" y="3444480"/>
              <a:ext cx="22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Geometric_tolerance_ar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262400" y="3255840"/>
              <a:ext cx="0" cy="188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134040" y="3066480"/>
              <a:ext cx="0" cy="189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62400" y="3255840"/>
              <a:ext cx="18716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746600" y="3821040"/>
              <a:ext cx="27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. Feature parameter arm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889280" y="1079640"/>
            <a:ext cx="5095800" cy="5221080"/>
            <a:chOff x="1889280" y="1079640"/>
            <a:chExt cx="5095800" cy="5221080"/>
          </a:xfrm>
        </p:grpSpPr>
        <p:sp>
          <p:nvSpPr>
            <p:cNvPr id="373" name=""/>
            <p:cNvSpPr/>
            <p:nvPr/>
          </p:nvSpPr>
          <p:spPr>
            <a:xfrm>
              <a:off x="2311560" y="4149720"/>
              <a:ext cx="682560" cy="5778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0160" y="426096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ature_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55120" y="4383000"/>
              <a:ext cx="52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_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60520" y="45068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7720" y="3954600"/>
              <a:ext cx="1861920" cy="69984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27720" y="4125960"/>
              <a:ext cx="1861920" cy="295200"/>
            </a:xfrm>
            <a:prstGeom prst="roundRect">
              <a:avLst>
                <a:gd name="adj" fmla="val 62500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5960" y="4211640"/>
              <a:ext cx="173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ue_with_unit_arm.Numerical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54360" y="1411200"/>
              <a:ext cx="480960" cy="2702160"/>
            </a:xfrm>
            <a:custGeom>
              <a:avLst/>
              <a:gdLst/>
              <a:ahLst/>
              <a:rect l="l" t="t" r="r" b="b"/>
              <a:pathLst>
                <a:path w="303" h="1702">
                  <a:moveTo>
                    <a:pt x="303" y="0"/>
                  </a:moveTo>
                  <a:lnTo>
                    <a:pt x="303" y="673"/>
                  </a:lnTo>
                  <a:lnTo>
                    <a:pt x="0" y="673"/>
                  </a:lnTo>
                  <a:lnTo>
                    <a:pt x="0" y="17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94120" y="4297320"/>
              <a:ext cx="1495440" cy="147600"/>
            </a:xfrm>
            <a:custGeom>
              <a:avLst/>
              <a:gdLst/>
              <a:ahLst/>
              <a:rect l="l" t="t" r="r" b="b"/>
              <a:pathLst>
                <a:path w="942" h="93">
                  <a:moveTo>
                    <a:pt x="0" y="93"/>
                  </a:moveTo>
                  <a:lnTo>
                    <a:pt x="471" y="93"/>
                  </a:lnTo>
                  <a:lnTo>
                    <a:pt x="471" y="0"/>
                  </a:lnTo>
                  <a:lnTo>
                    <a:pt x="9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02080" y="5108400"/>
              <a:ext cx="923760" cy="24624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99120" y="5108400"/>
              <a:ext cx="1440" cy="2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78840" y="5181480"/>
              <a:ext cx="38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11560" y="5722920"/>
              <a:ext cx="1341360" cy="4539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82120" y="5832360"/>
              <a:ext cx="117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ature_parameter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83920" y="594360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_with_limits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38360" y="5219640"/>
              <a:ext cx="216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38360" y="4740120"/>
              <a:ext cx="1800" cy="4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754360" y="5219280"/>
              <a:ext cx="1440" cy="4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54360" y="4740120"/>
              <a:ext cx="1216080" cy="331920"/>
            </a:xfrm>
            <a:custGeom>
              <a:avLst/>
              <a:gdLst/>
              <a:ahLst/>
              <a:rect l="l" t="t" r="r" b="b"/>
              <a:pathLst>
                <a:path w="766" h="209">
                  <a:moveTo>
                    <a:pt x="0" y="0"/>
                  </a:moveTo>
                  <a:lnTo>
                    <a:pt x="0" y="100"/>
                  </a:lnTo>
                  <a:lnTo>
                    <a:pt x="766" y="100"/>
                  </a:lnTo>
                  <a:lnTo>
                    <a:pt x="766" y="2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97160" y="5403960"/>
              <a:ext cx="773280" cy="31896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0" y="201"/>
                  </a:moveTo>
                  <a:lnTo>
                    <a:pt x="0" y="100"/>
                  </a:lnTo>
                  <a:lnTo>
                    <a:pt x="487" y="100"/>
                  </a:lnTo>
                  <a:lnTo>
                    <a:pt x="4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5943600"/>
              <a:ext cx="1508040" cy="1440"/>
            </a:xfrm>
            <a:custGeom>
              <a:avLst/>
              <a:gdLst/>
              <a:ahLst/>
              <a:rect l="l" t="t" r="r" b="b"/>
              <a:pathLst>
                <a:path w="950" h="0">
                  <a:moveTo>
                    <a:pt x="0" y="0"/>
                  </a:moveTo>
                  <a:lnTo>
                    <a:pt x="471" y="0"/>
                  </a:lnTo>
                  <a:lnTo>
                    <a:pt x="471" y="0"/>
                  </a:lnTo>
                  <a:lnTo>
                    <a:pt x="9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11720" y="5599080"/>
              <a:ext cx="1773360" cy="70164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11720" y="5772240"/>
              <a:ext cx="1773360" cy="293760"/>
            </a:xfrm>
            <a:prstGeom prst="roundRect">
              <a:avLst>
                <a:gd name="adj" fmla="val 62500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33760" y="5870520"/>
              <a:ext cx="1532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ue_with_unit_arm.Value_limits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17640" y="407664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38800" y="4260960"/>
              <a:ext cx="7596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24360" y="502272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43440" y="5356080"/>
              <a:ext cx="7596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53040" y="590868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50640" y="4648320"/>
              <a:ext cx="106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10000"/>
                  </a:solidFill>
                  <a:latin typeface="Arial"/>
                </a:rPr>
                <a:t>calculation_metho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2920" y="5334120"/>
              <a:ext cx="81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10000"/>
                  </a:solidFill>
                  <a:latin typeface="Arial"/>
                </a:rPr>
                <a:t>limits_metho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7640" y="5648400"/>
              <a:ext cx="7632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37920" y="4038480"/>
              <a:ext cx="941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10000"/>
                  </a:solidFill>
                  <a:latin typeface="Arial"/>
                </a:rPr>
                <a:t>calculated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89280" y="2209680"/>
              <a:ext cx="1290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10000"/>
                  </a:solidFill>
                  <a:latin typeface="Arial"/>
                </a:rPr>
                <a:t>calculated_values S[0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560" y="5715000"/>
              <a:ext cx="122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10000"/>
                  </a:solidFill>
                  <a:latin typeface="Arial"/>
                </a:rPr>
                <a:t>calculated_limits S[0:2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54360" y="1079640"/>
              <a:ext cx="1512720" cy="2919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85040" y="1174680"/>
              <a:ext cx="120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ature_parameter (A BS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08480" y="1893960"/>
              <a:ext cx="487080" cy="4284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75160" y="19368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40800" y="2049480"/>
              <a:ext cx="62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mension_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49880" y="216216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 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67320" y="1882800"/>
              <a:ext cx="530280" cy="4287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34000" y="192420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09800" y="2036880"/>
              <a:ext cx="52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08720" y="215100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 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95840" y="2668680"/>
              <a:ext cx="1295280" cy="928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95840" y="2900520"/>
              <a:ext cx="1295280" cy="387360"/>
            </a:xfrm>
            <a:prstGeom prst="roundRect">
              <a:avLst>
                <a:gd name="adj" fmla="val 23079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42720" y="3002040"/>
              <a:ext cx="1014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mension_tolerance_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39560" y="3090960"/>
              <a:ext cx="963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m.Numerical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99200" y="2662200"/>
              <a:ext cx="1330200" cy="9288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9200" y="2894040"/>
              <a:ext cx="1330200" cy="387360"/>
            </a:xfrm>
            <a:prstGeom prst="roundRect">
              <a:avLst>
                <a:gd name="adj" fmla="val 23079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78760" y="2989440"/>
              <a:ext cx="100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ometric_tolerance_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65440" y="3084480"/>
              <a:ext cx="118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m. Geometric_toleranc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2920" y="1668600"/>
              <a:ext cx="1182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52920" y="1393920"/>
              <a:ext cx="144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652920" y="1668240"/>
              <a:ext cx="1440" cy="1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22680" y="1828800"/>
              <a:ext cx="60480" cy="60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835520" y="1668600"/>
              <a:ext cx="144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5280" y="1817640"/>
              <a:ext cx="60480" cy="58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52920" y="2322360"/>
              <a:ext cx="790560" cy="309600"/>
            </a:xfrm>
            <a:custGeom>
              <a:avLst/>
              <a:gdLst/>
              <a:ahLst/>
              <a:rect l="l" t="t" r="r" b="b"/>
              <a:pathLst>
                <a:path w="498" h="195">
                  <a:moveTo>
                    <a:pt x="0" y="0"/>
                  </a:moveTo>
                  <a:lnTo>
                    <a:pt x="0" y="120"/>
                  </a:lnTo>
                  <a:lnTo>
                    <a:pt x="498" y="120"/>
                  </a:lnTo>
                  <a:lnTo>
                    <a:pt x="498" y="19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13240" y="2603520"/>
              <a:ext cx="6048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7880" y="2370240"/>
              <a:ext cx="669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oleranced_nominal</a:t>
              </a: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35520" y="2311560"/>
              <a:ext cx="1046160" cy="315720"/>
            </a:xfrm>
            <a:custGeom>
              <a:avLst/>
              <a:gdLst/>
              <a:ahLst/>
              <a:rect l="l" t="t" r="r" b="b"/>
              <a:pathLst>
                <a:path w="659" h="199">
                  <a:moveTo>
                    <a:pt x="0" y="0"/>
                  </a:moveTo>
                  <a:lnTo>
                    <a:pt x="0" y="120"/>
                  </a:lnTo>
                  <a:lnTo>
                    <a:pt x="659" y="120"/>
                  </a:lnTo>
                  <a:lnTo>
                    <a:pt x="659" y="19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51440" y="2597040"/>
              <a:ext cx="6048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97520" y="2359080"/>
              <a:ext cx="316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7920" y="1357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. Feature parameter arm: 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Geo_tol_ar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25520" y="1905120"/>
            <a:ext cx="5655240" cy="3227400"/>
            <a:chOff x="2225520" y="1905120"/>
            <a:chExt cx="5655240" cy="3227400"/>
          </a:xfrm>
        </p:grpSpPr>
        <p:sp>
          <p:nvSpPr>
            <p:cNvPr id="441" name=""/>
            <p:cNvSpPr/>
            <p:nvPr/>
          </p:nvSpPr>
          <p:spPr>
            <a:xfrm>
              <a:off x="6019920" y="1905120"/>
              <a:ext cx="1752480" cy="6001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25520" y="1920960"/>
              <a:ext cx="1382760" cy="6001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71760" y="2141640"/>
              <a:ext cx="100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lerance_zon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19520" y="2863800"/>
              <a:ext cx="903240" cy="30492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72280" y="28638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38480" y="297036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25520" y="3792600"/>
              <a:ext cx="1900440" cy="63180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26040" y="4021200"/>
              <a:ext cx="164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lerance_zone_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14920" y="3770280"/>
              <a:ext cx="2233800" cy="1362240"/>
            </a:xfrm>
            <a:prstGeom prst="rect">
              <a:avLst/>
            </a:prstGeom>
            <a:solidFill>
              <a:srgbClr val="e9f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14920" y="4105440"/>
              <a:ext cx="2233800" cy="569880"/>
            </a:xfrm>
            <a:prstGeom prst="roundRect">
              <a:avLst>
                <a:gd name="adj" fmla="val 20000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69800" y="4255920"/>
              <a:ext cx="186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hape_property_assign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72680" y="439416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rm.Shape_eleme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37040" y="2521080"/>
              <a:ext cx="1938240" cy="290520"/>
            </a:xfrm>
            <a:custGeom>
              <a:avLst/>
              <a:gdLst/>
              <a:ahLst/>
              <a:rect l="l" t="t" r="r" b="b"/>
              <a:pathLst>
                <a:path w="1221" h="183">
                  <a:moveTo>
                    <a:pt x="0" y="0"/>
                  </a:moveTo>
                  <a:lnTo>
                    <a:pt x="0" y="91"/>
                  </a:lnTo>
                  <a:lnTo>
                    <a:pt x="1221" y="91"/>
                  </a:lnTo>
                  <a:lnTo>
                    <a:pt x="1221" y="18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71720" y="246060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m_typ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81280" y="2575080"/>
              <a:ext cx="501480" cy="1217520"/>
            </a:xfrm>
            <a:custGeom>
              <a:avLst/>
              <a:gdLst/>
              <a:ahLst/>
              <a:rect l="l" t="t" r="r" b="b"/>
              <a:pathLst>
                <a:path w="316" h="767">
                  <a:moveTo>
                    <a:pt x="316" y="767"/>
                  </a:moveTo>
                  <a:lnTo>
                    <a:pt x="316" y="388"/>
                  </a:lnTo>
                  <a:lnTo>
                    <a:pt x="0" y="388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40320" y="2978280"/>
              <a:ext cx="60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_defin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32440" y="3997440"/>
              <a:ext cx="1428480" cy="228600"/>
            </a:xfrm>
            <a:custGeom>
              <a:avLst/>
              <a:gdLst/>
              <a:ahLst/>
              <a:rect l="l" t="t" r="r" b="b"/>
              <a:pathLst>
                <a:path w="900" h="144">
                  <a:moveTo>
                    <a:pt x="0" y="0"/>
                  </a:moveTo>
                  <a:lnTo>
                    <a:pt x="149" y="0"/>
                  </a:lnTo>
                  <a:lnTo>
                    <a:pt x="149" y="144"/>
                  </a:lnTo>
                  <a:lnTo>
                    <a:pt x="900" y="14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23040" y="4021200"/>
              <a:ext cx="72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st_el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32440" y="4203720"/>
              <a:ext cx="1428480" cy="479520"/>
            </a:xfrm>
            <a:custGeom>
              <a:avLst/>
              <a:gdLst/>
              <a:ahLst/>
              <a:rect l="l" t="t" r="r" b="b"/>
              <a:pathLst>
                <a:path w="900" h="302">
                  <a:moveTo>
                    <a:pt x="0" y="0"/>
                  </a:moveTo>
                  <a:lnTo>
                    <a:pt x="77" y="0"/>
                  </a:lnTo>
                  <a:lnTo>
                    <a:pt x="77" y="302"/>
                  </a:lnTo>
                  <a:lnTo>
                    <a:pt x="900" y="30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40880" y="4478400"/>
              <a:ext cx="92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_el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41320" y="2163600"/>
              <a:ext cx="1341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metric_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16200" y="2224080"/>
              <a:ext cx="2340000" cy="1440"/>
            </a:xfrm>
            <a:custGeom>
              <a:avLst/>
              <a:gdLst/>
              <a:ahLst/>
              <a:rect l="l" t="t" r="r" b="b"/>
              <a:pathLst>
                <a:path w="1474" h="0">
                  <a:moveTo>
                    <a:pt x="0" y="0"/>
                  </a:moveTo>
                  <a:lnTo>
                    <a:pt x="737" y="0"/>
                  </a:lnTo>
                  <a:lnTo>
                    <a:pt x="737" y="0"/>
                  </a:lnTo>
                  <a:lnTo>
                    <a:pt x="147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54920" y="2011320"/>
              <a:ext cx="10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_zone_for  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4000" y="2160720"/>
              <a:ext cx="110880" cy="110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25960" y="2778120"/>
              <a:ext cx="111240" cy="111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17960" y="36622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8320" y="4164120"/>
              <a:ext cx="111240" cy="110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0800" y="46162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57080" y="3071880"/>
              <a:ext cx="82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_applied_to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58000" y="2514600"/>
              <a:ext cx="0" cy="12193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19840" y="3638520"/>
              <a:ext cx="111240" cy="111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. Feature parameter arm: 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Geo_tol_ar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Geometric toleranc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834200" y="1828800"/>
            <a:ext cx="6688080" cy="3581280"/>
            <a:chOff x="1834200" y="1828800"/>
            <a:chExt cx="6688080" cy="3581280"/>
          </a:xfrm>
        </p:grpSpPr>
        <p:sp>
          <p:nvSpPr>
            <p:cNvPr id="475" name=""/>
            <p:cNvSpPr/>
            <p:nvPr/>
          </p:nvSpPr>
          <p:spPr>
            <a:xfrm>
              <a:off x="1834200" y="1828800"/>
              <a:ext cx="3259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Angularity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Circular_runout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Circularity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Coaxiality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Concentricity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Cylindricity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Flatness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Line_profile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86880" y="1828800"/>
              <a:ext cx="3335400" cy="26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Parallelism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Perpendicularity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Position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Straightness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Surface_profile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Symmetry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Total_runout_toleranc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tvtv</cp:lastModifiedBy>
  <dcterms:modified xsi:type="dcterms:W3CDTF">2002-06-14T15:22:51Z</dcterms:modified>
  <cp:revision>373</cp:revision>
  <dc:subject/>
  <dc:title>No Slide Title</dc:title>
</cp:coreProperties>
</file>