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720" y="0"/>
            <a:ext cx="841320" cy="676440"/>
            <a:chOff x="-720" y="0"/>
            <a:chExt cx="841320" cy="676440"/>
          </a:xfrm>
        </p:grpSpPr>
        <p:sp>
          <p:nvSpPr>
            <p:cNvPr id="3" name=""/>
            <p:cNvSpPr/>
            <p:nvPr/>
          </p:nvSpPr>
          <p:spPr>
            <a:xfrm>
              <a:off x="12960" y="0"/>
              <a:ext cx="812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S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-720" y="435240"/>
              <a:ext cx="8413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C 184/SC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681120" y="6553080"/>
            <a:ext cx="7781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 TC184/SC4/WG3 Myrtle Beach N001 2001-02-1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fld id="{11F84179-040F-4FC0-985B-631391AD2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38880" y="0"/>
            <a:ext cx="265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 TC184/SC4/WG3/Stockholm/N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tin Hardw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ick@steptool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u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aki Sakam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aki_sakamoto@KEG.komatsu.co.j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mplishments since Myrtle B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WI for AP-2XX Process Planning in ball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WI/CD for AP-238 sent to 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 ISO 14649-12 (Turning) sent to 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tepnc-smp-part" descr=""/>
          <p:cNvPicPr/>
          <p:nvPr/>
        </p:nvPicPr>
        <p:blipFill>
          <a:blip r:embed="rId1"/>
          <a:stretch/>
        </p:blipFill>
        <p:spPr>
          <a:xfrm>
            <a:off x="2895480" y="3581280"/>
            <a:ext cx="342900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 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 for Stockho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minimil" descr=""/>
          <p:cNvPicPr/>
          <p:nvPr/>
        </p:nvPicPr>
        <p:blipFill>
          <a:blip r:embed="rId1"/>
          <a:stretch/>
        </p:blipFill>
        <p:spPr>
          <a:xfrm>
            <a:off x="4419720" y="1716120"/>
            <a:ext cx="420984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 for Stockho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day, 2002-06-10, 1300-1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minute updates on all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esday, 2002-06-11, 0800-1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-2XX process planning 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dnesday, 2002-06-12, 1030-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-219 Inspection data and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rsday, 2002-06-13, 0800-1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-NC and AP-2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rald Radack</dc:creator>
  <dc:description/>
  <dc:language>en-US</dc:language>
  <cp:lastModifiedBy>hardwick</cp:lastModifiedBy>
  <cp:lastPrinted>1999-06-02T13:49:47Z</cp:lastPrinted>
  <dcterms:modified xsi:type="dcterms:W3CDTF">2002-06-10T08:42:43Z</dcterms:modified>
  <cp:revision>132</cp:revision>
  <dc:subject/>
  <dc:title>WG3 Presentation to SC4 Opening Plenary</dc:title>
</cp:coreProperties>
</file>