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6858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828800" y="3918600"/>
            <a:ext cx="6858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3120" y="137124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828800" y="391860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343120" y="391860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22078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47560" y="1371240"/>
            <a:ext cx="22078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65960" y="1371240"/>
            <a:ext cx="22078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828800" y="3918600"/>
            <a:ext cx="22078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147560" y="3918600"/>
            <a:ext cx="22078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65960" y="3918600"/>
            <a:ext cx="22078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828800" y="1371240"/>
            <a:ext cx="68580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6858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33465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343120" y="1371240"/>
            <a:ext cx="33465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343120" y="1371240"/>
            <a:ext cx="33465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828800" y="391860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828800" y="1371240"/>
            <a:ext cx="68580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33465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43120" y="137124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43120" y="391860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43120" y="137124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828800" y="3918600"/>
            <a:ext cx="6858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6858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828800" y="3918600"/>
            <a:ext cx="6858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43120" y="137124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828800" y="391860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343120" y="391860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22078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147560" y="1371240"/>
            <a:ext cx="22078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465960" y="1371240"/>
            <a:ext cx="22078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828800" y="3918600"/>
            <a:ext cx="22078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147560" y="3918600"/>
            <a:ext cx="22078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465960" y="3918600"/>
            <a:ext cx="22078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6858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33465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343120" y="1371240"/>
            <a:ext cx="33465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43120" y="1371240"/>
            <a:ext cx="33465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828800" y="391860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33465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43120" y="137124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43120" y="391860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43120" y="137124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828800" y="3918600"/>
            <a:ext cx="6858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8800" y="1371240"/>
            <a:ext cx="6858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82880" y="1371240"/>
            <a:ext cx="716112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6732000" y="648648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neca-I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828800" y="2133720"/>
            <a:ext cx="6934320" cy="0"/>
          </a:xfrm>
          <a:prstGeom prst="line">
            <a:avLst/>
          </a:prstGeom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498240" y="6486480"/>
            <a:ext cx="14104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AF9DD-D5C8-419B-9C2D-7EC49FFEFEE1}" type="datetime5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Jul 31, 20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8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414800" y="533520"/>
            <a:ext cx="6314760" cy="6485400"/>
            <a:chOff x="1414800" y="533520"/>
            <a:chExt cx="6314760" cy="6485400"/>
          </a:xfrm>
        </p:grpSpPr>
        <p:pic>
          <p:nvPicPr>
            <p:cNvPr id="79" name="" descr=""/>
            <p:cNvPicPr/>
            <p:nvPr/>
          </p:nvPicPr>
          <p:blipFill>
            <a:blip r:embed="rId1"/>
            <a:stretch/>
          </p:blipFill>
          <p:spPr>
            <a:xfrm>
              <a:off x="1447920" y="1143000"/>
              <a:ext cx="6248160" cy="11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3767040" y="3362400"/>
              <a:ext cx="1295640" cy="5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1414800" y="1498680"/>
              <a:ext cx="6314760" cy="55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d Vorburger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(tvtv@nist.gov)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and Simon Frechette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EL/NI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ill Dan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neca-IT.c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C4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ockholm, Swed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June 10, 200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60160" y="533520"/>
              <a:ext cx="263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3300"/>
                  </a:solidFill>
                  <a:latin typeface="Arial"/>
                </a:rPr>
                <a:t>Report on AP2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105520" y="6095880"/>
            <a:ext cx="2120760" cy="4194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28600" y="0"/>
            <a:ext cx="801036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8466840" y="6669000"/>
            <a:ext cx="5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685800"/>
            <a:ext cx="411480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mf_cyl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XPRESS-G Dia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29200" y="617220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6705720" y="6172200"/>
            <a:ext cx="2120760" cy="4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203480" y="1163520"/>
            <a:ext cx="6721200" cy="42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op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ties since February SC4 Meeti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us of Draft Technical 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armonization with DM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ture 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985080" y="6415200"/>
            <a:ext cx="2120760" cy="3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5051520" cy="65851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6997680" y="6445080"/>
            <a:ext cx="2120760" cy="3873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5130720" y="2117880"/>
            <a:ext cx="3858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Dimensional Measur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face Standard, Version 4.0”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mitted to ISO Secretari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ISO 2209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838080"/>
            <a:ext cx="8153280" cy="43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AP219 - DMIS Harmonization Eff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ld Joint Meetings with DMIS National Standard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Committee: 9/00, 11/00, 1/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fted three Excel Charts linking DMIS words an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variables to AP219, AP214, and AP224 entities an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attributes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-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- Geometric Toler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- Dimension Tolerances</a:t>
            </a: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985080" y="6445080"/>
            <a:ext cx="2120760" cy="3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880" y="30492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Portion of AP219-DMIS Excel Chart for Fe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522440" y="1371600"/>
          <a:ext cx="6234120" cy="401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440" y="1371600"/>
                    <a:ext cx="6234120" cy="40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1522440" y="1384200"/>
          <a:ext cx="6234120" cy="45291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440" y="1384200"/>
                    <a:ext cx="6234120" cy="45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533520" y="1066680"/>
            <a:ext cx="784836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/CYLND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mf_cylinder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ner/Outer fla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ner/Outer Enume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tion/Center Po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er Po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on/Axial Dir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xis Direction Ve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me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me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gth (Optiona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Po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Po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unda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t/P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6985080" y="6445080"/>
            <a:ext cx="2120760" cy="3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80880" y="5335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Portion of AP219-DMIS Excel Chart for Dimension Tolera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997680" y="6432480"/>
            <a:ext cx="2120760" cy="3873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457200" y="182880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80880" y="1828800"/>
          <a:ext cx="7696440" cy="4419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828800"/>
                    <a:ext cx="769644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380880" y="13716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219 ARM                   DMIS 4.0                      Com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04920" y="533520"/>
            <a:ext cx="8458200" cy="51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ff"/>
                </a:solidFill>
                <a:latin typeface="Arial"/>
              </a:rPr>
              <a:t>Future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 Dimensional Inspection Information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(ARM), Version 0.5, consisting of 6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- Projected Completion 7/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 NISTIR/STEP Technical Report on the 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- Projected Completion 8/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requirements arising from  the  Metr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operability Project &amp; include in 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- Projected Completion 10/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ork Item under STEP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submit early FY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997680" y="6413400"/>
            <a:ext cx="2120760" cy="3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203480" y="1163520"/>
            <a:ext cx="672120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ff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cope</a:t>
            </a:r>
            <a:br>
              <a:rPr sz="2800"/>
            </a:b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ties since February SC4 Meeti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us of Draft Technical Repor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monization with DM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ture 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985080" y="6415200"/>
            <a:ext cx="2120760" cy="3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88080" y="822240"/>
            <a:ext cx="82566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Scope and Functional Requirements as St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in the PW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Application Protocol (AP) will specify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s to manage dimensional inspection of so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s or assemblies, which includes administeri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, and  executing dimensional inspection as well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analyz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archiving the results. Dimensional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occur at any  stage of the life cycle of a product 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ing for conformance with a design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requi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985080" y="6445080"/>
            <a:ext cx="2120760" cy="3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P219 Usage Scenario Activity Model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71800" y="1371600"/>
            <a:ext cx="8588880" cy="4211640"/>
            <a:chOff x="271800" y="1371600"/>
            <a:chExt cx="8588880" cy="4211640"/>
          </a:xfrm>
        </p:grpSpPr>
        <p:sp>
          <p:nvSpPr>
            <p:cNvPr id="89" name=""/>
            <p:cNvSpPr/>
            <p:nvPr/>
          </p:nvSpPr>
          <p:spPr>
            <a:xfrm>
              <a:off x="3352680" y="41353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3352680" y="314460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3048120" y="31449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755000" y="3754440"/>
              <a:ext cx="152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im meas pro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1066320" y="3144600"/>
              <a:ext cx="4420080" cy="2361960"/>
              <a:chOff x="1066320" y="3144600"/>
              <a:chExt cx="4420080" cy="2361960"/>
            </a:xfrm>
          </p:grpSpPr>
          <p:grpSp>
            <p:nvGrpSpPr>
              <p:cNvPr id="94" name=""/>
              <p:cNvGrpSpPr/>
              <p:nvPr/>
            </p:nvGrpSpPr>
            <p:grpSpPr>
              <a:xfrm>
                <a:off x="1066320" y="3144600"/>
                <a:ext cx="4420080" cy="2166120"/>
                <a:chOff x="1066320" y="3144600"/>
                <a:chExt cx="4420080" cy="216612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5257800" y="42876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5486400" y="4287600"/>
                  <a:ext cx="0" cy="609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 flipH="1">
                  <a:off x="1066320" y="4897080"/>
                  <a:ext cx="4419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 flipV="1">
                  <a:off x="1066680" y="3144600"/>
                  <a:ext cx="0" cy="175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1066680" y="314496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2288160" y="4973400"/>
                  <a:ext cx="2347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modified dim meas prog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905120" y="5049720"/>
                <a:ext cx="18396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5638680" y="5126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5638680" y="398268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5257800" y="39830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640480" y="3906720"/>
              <a:ext cx="6775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i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095880" y="4668840"/>
              <a:ext cx="1524240" cy="9144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1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nalyz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733920" y="3602160"/>
              <a:ext cx="1523880" cy="9144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1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xecu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/ Modif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523880" y="2535120"/>
              <a:ext cx="1524240" cy="9144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1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l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048120" y="2687760"/>
              <a:ext cx="236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2560" y="2306520"/>
              <a:ext cx="2235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im meas prog arch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48120" y="2840040"/>
              <a:ext cx="4038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86600" y="284004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86600" y="2992320"/>
              <a:ext cx="13114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i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dent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14520" y="2971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24800" y="51055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14720" y="16765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700040" y="4287960"/>
              <a:ext cx="1160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im me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aramet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sul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92840" y="1371600"/>
              <a:ext cx="1467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sign 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nufactu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form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71800" y="2443320"/>
              <a:ext cx="118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form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2992320"/>
              <a:ext cx="388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34320" y="2992320"/>
              <a:ext cx="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936760" y="2992320"/>
              <a:ext cx="9136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i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eatu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&amp; to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495680" y="299232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562720" y="2230560"/>
            <a:ext cx="3297960" cy="3504960"/>
            <a:chOff x="5562720" y="2230560"/>
            <a:chExt cx="3297960" cy="3504960"/>
          </a:xfrm>
        </p:grpSpPr>
        <p:sp>
          <p:nvSpPr>
            <p:cNvPr id="125" name=""/>
            <p:cNvSpPr/>
            <p:nvPr/>
          </p:nvSpPr>
          <p:spPr>
            <a:xfrm>
              <a:off x="5562720" y="2763720"/>
              <a:ext cx="3276360" cy="297180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50200" y="3906720"/>
              <a:ext cx="6775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99"/>
                  </a:solidFill>
                  <a:latin typeface="Arial"/>
                </a:rPr>
                <a:t>di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99"/>
                  </a:solidFill>
                  <a:latin typeface="Arial"/>
                </a:rPr>
                <a:t>me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99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095960" y="2992320"/>
              <a:ext cx="13114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99"/>
                  </a:solidFill>
                  <a:latin typeface="Arial"/>
                </a:rPr>
                <a:t>di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99"/>
                  </a:solidFill>
                  <a:latin typeface="Arial"/>
                </a:rPr>
                <a:t>me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99"/>
                  </a:solidFill>
                  <a:latin typeface="Arial"/>
                </a:rPr>
                <a:t>pro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99"/>
                  </a:solidFill>
                  <a:latin typeface="Arial"/>
                </a:rPr>
                <a:t>ident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46120" y="2992320"/>
              <a:ext cx="9136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99"/>
                  </a:solidFill>
                  <a:latin typeface="Arial"/>
                </a:rPr>
                <a:t>di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99"/>
                  </a:solidFill>
                  <a:latin typeface="Arial"/>
                </a:rPr>
                <a:t>me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99"/>
                  </a:solidFill>
                  <a:latin typeface="Arial"/>
                </a:rPr>
                <a:t>featu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99"/>
                  </a:solidFill>
                  <a:latin typeface="Arial"/>
                </a:rPr>
                <a:t>&amp; to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590160" y="2230560"/>
              <a:ext cx="1424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6699"/>
                  </a:solidFill>
                  <a:latin typeface="Comic Sans MS"/>
                </a:rPr>
                <a:t>Scenario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00040" y="4287960"/>
              <a:ext cx="1160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99"/>
                  </a:solidFill>
                  <a:latin typeface="Arial"/>
                </a:rPr>
                <a:t>dim me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99"/>
                  </a:solidFill>
                  <a:latin typeface="Arial"/>
                </a:rPr>
                <a:t>paramet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99"/>
                  </a:solidFill>
                  <a:latin typeface="Arial"/>
                </a:rPr>
                <a:t>resul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985080" y="6445080"/>
            <a:ext cx="2120760" cy="3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813960" y="1085760"/>
            <a:ext cx="792864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ff"/>
                </a:solidFill>
                <a:latin typeface="Arial"/>
              </a:rPr>
              <a:t>Project Activities since February SC4 Meeting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ld conference calls April 17, May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tended March meeting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rology Interoperability Project 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ft technical report in proces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985080" y="6429240"/>
            <a:ext cx="2120760" cy="3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533520" y="1143000"/>
            <a:ext cx="5562360" cy="52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oe Schafer  -  Tecnomat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y Tornquist  -  Xy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ohn Wootton  -  L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ll Danner  -  Seneca-I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m Hendrix, Alan Jones, Don Laib -  Boe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urtis Brown  -  Honeyw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ob Waite  -  DaimlerChrys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rk Cluff  -  Wilco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iao Peng -  UNC Charlot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en Allen  -  F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ed Vorburger, Simon Frechette -  N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eff Freeman -  Electric Bo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rtin Hardwick - STEP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972480" y="6432480"/>
            <a:ext cx="2120760" cy="3873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62520" y="473040"/>
            <a:ext cx="575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Arial"/>
              </a:rPr>
              <a:t>Current Participants Inclu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raft Technical Report to con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-G ARMS and Object Definitions for Six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Description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(draft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Shape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mensional Measurement Feature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(draft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mensional Measurement Tolerance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(partially draft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mensional Measurement Execute Result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(draft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mensional Measurement Feature Parameter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(draft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mensional_measurement_program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(draft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972480" y="6413400"/>
            <a:ext cx="2120760" cy="3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80880" y="533520"/>
            <a:ext cx="815364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Dmf_cyl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(Definition in Dimensional Measurement Feature Modu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1600200"/>
            <a:ext cx="8534160" cy="65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mf_cyli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 Dmf_cylinder is a shape_element used in dimensional measurement to evaluate the parameters of a cylindrical surface. The parameters are derived from measured or simulated coordinate data points.  A related concept is described in Part 4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he data associated with Dmf_cylinder are the follow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xis_direction_vector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he direction of the axis of the c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nner_outer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termines whether the part material is outside or inside the cylinder surfa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iameter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wice the radius of the cylind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985080" y="6419880"/>
            <a:ext cx="2120760" cy="3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80880" y="1371600"/>
            <a:ext cx="8534520" cy="20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tart_point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or cylinders with bounded length, a point that defines the extreme start point of the cylindrical surfa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nd_point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or cylinders with bounded length, a point that defines the extreme end point of the cylindrical surfa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3657600"/>
            <a:ext cx="5029200" cy="26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enter_point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 point on the axis direction vector indicating the location of the center of the cylinder surfa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boundary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or a bounded cylinder, coordinate points describing the boundary of the cylinder in ‘connect-the-dots’ fash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685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Dmf_cylinder (cont’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562720" y="3225960"/>
            <a:ext cx="2971800" cy="27939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985080" y="6458040"/>
            <a:ext cx="2120760" cy="3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5T13:08:34Z</dcterms:created>
  <dc:creator>Bill Danner</dc:creator>
  <dc:description/>
  <dc:language>en-US</dc:language>
  <cp:lastModifiedBy>tvtv</cp:lastModifiedBy>
  <cp:lastPrinted>2002-06-07T03:41:58Z</cp:lastPrinted>
  <dcterms:modified xsi:type="dcterms:W3CDTF">2002-07-05T14:38:43Z</dcterms:modified>
  <cp:revision>386</cp:revision>
  <dc:subject/>
  <dc:title>No Slide Title</dc:title>
</cp:coreProperties>
</file>