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Funchal N001 2001-02-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B50E371A-4DBC-444B-A25F-BC2282F5C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66440" y="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TC184/SC4/WG3/Myrtle Beach/N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mplishments in Stock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 with T23 to discuss cutting and 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AM and ARM of AP2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P-219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P-238 STEP-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Se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T23 to discuss cutting and 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P-2XX Process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P-219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P-238 STEP-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2-06-13T13:50:33Z</dcterms:modified>
  <cp:revision>133</cp:revision>
  <dc:subject/>
  <dc:title>WG3 Presentation to SC4 Opening Plenary</dc:title>
</cp:coreProperties>
</file>