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105-5717-44FC-A238-FF3F1987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804-E456-45FE-91EB-9AE5F295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4FB-9850-435C-93A7-3231F24C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FD8-7E5C-4A57-904E-7282EDA8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1B8-9D8C-42C6-B676-E7C73F7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771-3DAD-477F-A349-E1AA8817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A96-AE65-4428-B730-500A807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B88-096C-4A87-9C41-7BAC995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54B-781B-4AE6-96B0-1FFDB36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894-3F3E-4B26-870A-54A9675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F3B-3A33-44A9-BBB1-7EF11F0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062-FD31-4F1C-8376-D73EE36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CA11-4E2E-450B-BDC1-4FE5C56DA3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rtle Beach Meeting Agend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Manufacturing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esday Feb. 26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:00-10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rmation of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 Note T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f Issues Log (Authors’ Review Report on SC4 N1266 : Comments on N1214 - N12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 on Issues 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:3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f Draft IMTF Final Report and Requirements Definition Document : R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 on R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 on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rtle Beach Meeting Agend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Manufacturing Task Forc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esday Feb. 26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:00-15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inalize Recommended Plan for the Next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action items and 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 and Publish the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WI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G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04:26:58Z</dcterms:created>
  <dc:creator>岸浪建史</dc:creator>
  <dc:description/>
  <dc:language>en-US</dc:language>
  <cp:lastModifiedBy>ISIKAWA Yoshiaki</cp:lastModifiedBy>
  <dcterms:modified xsi:type="dcterms:W3CDTF">2002-02-26T15:32:01Z</dcterms:modified>
  <cp:revision>25</cp:revision>
  <dc:subject/>
  <dc:title>What is Machining Feature?</dc:title>
</cp:coreProperties>
</file>