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452-731E-4668-A136-DC7C29AA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B1C-D81C-4FC2-ADB3-C09532BC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ED7-DC7C-46C3-A95F-A496CEF2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A3B-2B94-4841-B3C4-8569FFF6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209-088A-4613-A646-0FD9A695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F71-14D8-42FC-B092-A0EE1103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41F-AC20-4D70-8F69-7EC4863C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5FC-65F3-4CC5-98A1-85FFA631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F13-95B7-4BCE-BEF8-639592FF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F358-D7C7-4C3A-B7E0-2072DE80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F84-F6AB-4AE4-9D09-56A306A8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0BC-12FB-4E28-A4FF-CFEAECD8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A291-58EE-48C8-BD07-11B3CF8C6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 planning for machined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 Sloven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throp Grumman / SC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nt of process planning 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haring between dissimilar CAPP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haring between CAPP and 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capture and archive of legacy process plann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migration of process plan data from outdated planning systems to more robus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process plans through the system faster and provide a more consistent way to establish and enforce part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gital vs pap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for a cost-effective and dependable means for identifying and estimating the labor and material constituents of the total par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nt of process planning 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consistency in process plan structure and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tooling classifications of cutting tools for identifying optimum machine feed rates and spindle sp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selection and classification of tools based on part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213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are within the scope of this part of ISO 1030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from the planning activity that is contained in the NC process plans for machined par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structions for the tasks required to manufacture a part, using numerical control, which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references to the resources required to perform the wor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the sequences of the work instruction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relationships of the work to the part geome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 to standards and specifications declared in the process pla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213 -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are within the scope of this part of ISO 1030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required to support NC programming of processes specified in the process pla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  - This includes product definition, administrative data, machine, tooling, and material requir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required to support in-process inspection specified in the process pla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 - In-process inspection includes such tasks as using gauge blocks or performing a probing operation to verify the dimensional constraints placed upon the p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p floor information specified in the process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 - Shop floor information contains such items as part routing, machine setup, and part loading instru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2XX expanding scope of AP2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2XX is the packaging of data for macro process planning, contains the drawing, tool sheets, fixture sheets, and process she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plans need to take into account macro and micro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2XX is not a static macro file, but a dynamic file used as input and output by micro and ma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ro needs to handle both the older M and G code standard and handle the new ISO-14649 stand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2XX activities need to be made more rob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ail activities at a lower level than AP213 curr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ities to use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ities could be made more granular, material removal activity can b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ough cut, finish cu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ities to support non-NC activities: heat treat, welding, grinding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ites to support machining of an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ities that can address 85% of indust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2XX expanding scope of AP2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anufacturing APs must be consistent.  Features constant across activities, of A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213 currently identifies NC part program as input to an activ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en AP2XX to also include ISO-14649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ings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ometrically_bounded_surface_shape_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ometrically_bounded_wireframe_shape_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2XX needs to support AP224 Feat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n AP2XX Would be the Input to a process that creates ISO-14649 dat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uld Include All the Process Info - Fixtures, Tools, Material, Geometry, and Fea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2XX expanding scope of AP2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&amp; T needed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pection activ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line  quality insurance,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rocess gauging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sure consistancy. all manufacturing application protocols need to have the same product    structure, they need to be harmonized with the current PDM schema being developed within SC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486400" y="2743200"/>
            <a:ext cx="2362320" cy="1828800"/>
          </a:xfrm>
          <a:prstGeom prst="rect">
            <a:avLst/>
          </a:prstGeom>
          <a:noFill/>
          <a:ln w="38160">
            <a:solidFill>
              <a:srgbClr val="66ff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 AP 213 with AP 224 and ISO 1464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 Data Flow Diagram 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219320"/>
            <a:ext cx="114300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276720"/>
            <a:ext cx="114300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057400"/>
            <a:ext cx="1143000" cy="243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3352680"/>
            <a:ext cx="13716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5029200"/>
            <a:ext cx="137160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88416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P 2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‘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s designed’ Manufacturing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600200"/>
            <a:ext cx="6629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1600200"/>
            <a:ext cx="0" cy="1676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4114800"/>
            <a:ext cx="0" cy="9907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2973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P 2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5562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3733920"/>
            <a:ext cx="91440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41148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09360" y="3200040"/>
            <a:ext cx="103428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3812400"/>
            <a:ext cx="1219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P 2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st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fix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#se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……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4114800"/>
            <a:ext cx="137160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41911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P 2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3429000"/>
            <a:ext cx="914400" cy="0"/>
          </a:xfrm>
          <a:prstGeom prst="line">
            <a:avLst/>
          </a:prstGeom>
          <a:ln w="2844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228672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ISO 146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(AP23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work pi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495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4267080"/>
            <a:ext cx="0" cy="762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60020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1600200"/>
            <a:ext cx="0" cy="17524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34320" y="4267080"/>
            <a:ext cx="0" cy="1524240"/>
          </a:xfrm>
          <a:prstGeom prst="line">
            <a:avLst/>
          </a:prstGeom>
          <a:ln w="2844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591336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281844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3657600"/>
            <a:ext cx="9907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2560" y="51811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720" y="51804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42480" y="365760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to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6095880"/>
            <a:ext cx="50292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57913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P 213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1905120"/>
            <a:ext cx="13716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1600200"/>
            <a:ext cx="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2209680"/>
            <a:ext cx="2971800" cy="0"/>
          </a:xfrm>
          <a:prstGeom prst="line">
            <a:avLst/>
          </a:prstGeom>
          <a:ln w="28440">
            <a:solidFill>
              <a:srgbClr val="f511c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9051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11cf"/>
                </a:solidFill>
                <a:latin typeface="Arial"/>
              </a:rPr>
              <a:t>AP219 inspection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74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3581280"/>
            <a:ext cx="1371600" cy="0"/>
          </a:xfrm>
          <a:prstGeom prst="line">
            <a:avLst/>
          </a:prstGeom>
          <a:ln w="2844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4120" y="312408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imes New Roman"/>
              </a:rPr>
              <a:t>Propriet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3:44:35Z</dcterms:created>
  <dc:creator>Len</dc:creator>
  <dc:description/>
  <dc:language>en-US</dc:language>
  <cp:lastModifiedBy>Len</cp:lastModifiedBy>
  <dcterms:modified xsi:type="dcterms:W3CDTF">2002-03-01T13:45:42Z</dcterms:modified>
  <cp:revision>11</cp:revision>
  <dc:subject/>
  <dc:title>Intent of AP213</dc:title>
</cp:coreProperties>
</file>