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72388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520" y="3845520"/>
            <a:ext cx="72388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960" y="129528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520" y="384552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960" y="384552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2416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7180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52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2416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7180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353232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960" y="1295280"/>
            <a:ext cx="353232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7467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960" y="1295280"/>
            <a:ext cx="353232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520" y="384552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353232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960" y="129528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960" y="384552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960" y="129528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76520" y="3845520"/>
            <a:ext cx="72388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72388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76520" y="3845520"/>
            <a:ext cx="72388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960" y="129528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76520" y="384552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960" y="384552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2416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7180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7652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12416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7180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353232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960" y="1295280"/>
            <a:ext cx="353232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7467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960" y="1295280"/>
            <a:ext cx="353232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520" y="384552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353232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960" y="129528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960" y="384552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960" y="1295280"/>
            <a:ext cx="353232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520" y="3845520"/>
            <a:ext cx="72388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0" y="0"/>
            <a:ext cx="76068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477120"/>
            <a:ext cx="8381880" cy="380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55840" y="655308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eneca-IT.co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80880" y="838080"/>
            <a:ext cx="8458200" cy="76320"/>
            <a:chOff x="380880" y="838080"/>
            <a:chExt cx="8458200" cy="76320"/>
          </a:xfrm>
        </p:grpSpPr>
        <p:sp>
          <p:nvSpPr>
            <p:cNvPr id="6" name=""/>
            <p:cNvSpPr/>
            <p:nvPr/>
          </p:nvSpPr>
          <p:spPr>
            <a:xfrm>
              <a:off x="609480" y="914400"/>
              <a:ext cx="82296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838080"/>
              <a:ext cx="8458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0" y="65530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eb 0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56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0" y="0"/>
            <a:ext cx="76068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477120"/>
            <a:ext cx="8381880" cy="380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55840" y="655308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eneca-IT.co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2209680"/>
            <a:ext cx="8458200" cy="76320"/>
            <a:chOff x="380880" y="2209680"/>
            <a:chExt cx="8458200" cy="76320"/>
          </a:xfrm>
        </p:grpSpPr>
        <p:sp>
          <p:nvSpPr>
            <p:cNvPr id="50" name=""/>
            <p:cNvSpPr/>
            <p:nvPr/>
          </p:nvSpPr>
          <p:spPr>
            <a:xfrm>
              <a:off x="609480" y="2286000"/>
              <a:ext cx="82296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0880" y="2209680"/>
              <a:ext cx="8458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0" y="65530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eb 0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56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P 219 Dimensional Inspec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297180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Information requirements documentation</a:t>
            </a:r>
            <a:endParaRPr b="1" lang="en-US" sz="2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Bill Danner, Seneca-IT</a:t>
            </a:r>
            <a:endParaRPr b="1" lang="en-US" sz="21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Ted Vorburger, NIST</a:t>
            </a:r>
            <a:endParaRPr b="1" lang="en-US" sz="21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plicate and transition featu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1600" y="2286000"/>
          <a:ext cx="7391520" cy="188136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4881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eplicate feature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ransition feature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ircular pattern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hamfer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General pattern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dge round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Rectangular pattern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illet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 featu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68520" y="4410000"/>
            <a:ext cx="1211400" cy="897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45920" y="4475160"/>
            <a:ext cx="40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43400" y="4667400"/>
            <a:ext cx="8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_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3040" y="4851360"/>
            <a:ext cx="102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_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44480" y="5041800"/>
            <a:ext cx="47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40400" y="3497400"/>
            <a:ext cx="1305000" cy="441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66120" y="349740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88080" y="3608280"/>
            <a:ext cx="57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2209680"/>
            <a:ext cx="4314960" cy="1081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2475000"/>
            <a:ext cx="4314960" cy="455400"/>
          </a:xfrm>
          <a:prstGeom prst="roundRect">
            <a:avLst>
              <a:gd name="adj" fmla="val 24194"/>
            </a:avLst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9960" y="2614680"/>
            <a:ext cx="34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_property_assignment_arm.Shape_element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65560" y="3997440"/>
            <a:ext cx="2924280" cy="412560"/>
          </a:xfrm>
          <a:custGeom>
            <a:avLst/>
            <a:gdLst/>
            <a:ahLst/>
            <a:rect l="l" t="t" r="r" b="b"/>
            <a:pathLst>
              <a:path w="2135" h="320">
                <a:moveTo>
                  <a:pt x="0" y="320"/>
                </a:moveTo>
                <a:lnTo>
                  <a:pt x="0" y="166"/>
                </a:lnTo>
                <a:lnTo>
                  <a:pt x="2135" y="166"/>
                </a:lnTo>
                <a:lnTo>
                  <a:pt x="21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34040" y="3946680"/>
            <a:ext cx="109800" cy="102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6520" y="3976560"/>
            <a:ext cx="26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86000" y="3786120"/>
            <a:ext cx="2301840" cy="237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87840" y="3298680"/>
            <a:ext cx="1800" cy="4860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767040" y="3784680"/>
            <a:ext cx="1800" cy="5666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11600" y="4299120"/>
            <a:ext cx="109440" cy="102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87480" y="4435560"/>
            <a:ext cx="1211400" cy="89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64880" y="4500720"/>
            <a:ext cx="40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61640" y="4692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2360" y="4876920"/>
            <a:ext cx="56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featur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286000" y="3809520"/>
            <a:ext cx="1440" cy="5670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30560" y="4324320"/>
            <a:ext cx="109440" cy="103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2200" y="342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 feature (Dmf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371600" y="1371600"/>
          <a:ext cx="7391160" cy="4648320"/>
        </p:xfrm>
        <a:graphic>
          <a:graphicData uri="http://schemas.openxmlformats.org/drawingml/2006/table">
            <a:tbl>
              <a:tblPr/>
              <a:tblGrid>
                <a:gridCol w="3695760"/>
                <a:gridCol w="3695400"/>
              </a:tblGrid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arc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line_unbounded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circl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pattern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con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plan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cylinder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plane_closed_parallel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ellips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plane_symmetric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geometric_curv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point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geometric_surfac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point_edg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geometric_featur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spher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line_bounded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torus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Dmf_line_closed_parallel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arc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600200" y="1295280"/>
          <a:ext cx="653112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95280"/>
                    <a:ext cx="653112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circ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7920" y="1371600"/>
          <a:ext cx="6962760" cy="46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96276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con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057400" y="1219320"/>
          <a:ext cx="5521320" cy="51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219320"/>
                    <a:ext cx="5521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cylinde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5120" y="1219320"/>
          <a:ext cx="594180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19320"/>
                    <a:ext cx="59418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ellips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3880" y="1295280"/>
          <a:ext cx="6683400" cy="482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95280"/>
                    <a:ext cx="6683400" cy="48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geometric_curv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209680" y="1219320"/>
          <a:ext cx="5208840" cy="50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520884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geometric_surfa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905120" y="1295280"/>
          <a:ext cx="589572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89572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219 AR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oduct description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oduct shape description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Dimensional measurement feature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Dimensional measurement tolerance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Dimensioal measurement execute result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Dimensional measurement feature parameter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Dimensional measurement program run identification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generic_featu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371600" y="990720"/>
          <a:ext cx="6759720" cy="54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675972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line_bound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905120" y="1371600"/>
          <a:ext cx="6124320" cy="48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612432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line_closed_parall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219320"/>
          <a:ext cx="6784920" cy="50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78492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line_unbound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828800" y="1295280"/>
          <a:ext cx="5896080" cy="48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95280"/>
                    <a:ext cx="5896080" cy="48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patter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828800" y="1523880"/>
          <a:ext cx="6429240" cy="44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3880"/>
                    <a:ext cx="6429240" cy="44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plan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828800" y="1295280"/>
          <a:ext cx="5972040" cy="48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95280"/>
                    <a:ext cx="597204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plane_closed_parall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447920" y="990720"/>
          <a:ext cx="6734160" cy="54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90720"/>
                    <a:ext cx="6734160" cy="54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plane_symmetric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600200" y="1143000"/>
          <a:ext cx="6759720" cy="52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143000"/>
                    <a:ext cx="675972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poin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133720" y="1523880"/>
          <a:ext cx="5589360" cy="459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589360" cy="45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point_ed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590920" y="1219320"/>
          <a:ext cx="4268520" cy="51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26852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duct descrip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oduct identification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oduct categorisa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erson organisation assignmen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erson organisation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oduct version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pprov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ontrac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curity classifica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e time assignmen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ate tim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oduct view definition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sphe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905120" y="990720"/>
          <a:ext cx="6151320" cy="54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990720"/>
                    <a:ext cx="615132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f_toru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447920" y="1143000"/>
          <a:ext cx="673416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43000"/>
                    <a:ext cx="67341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ner_outer and End_kind enumer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362320" y="1523880"/>
          <a:ext cx="478152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523880"/>
                    <a:ext cx="478152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790600" y="266688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(inner, outer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2480" y="579132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(round, square) 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 tolera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Dimensional measurement tolerance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Geometric toleranc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anufacturing dimensional toleranc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anufacturing tolerance definition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anufacturing feature parameter toleranc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esign feature parameter toleranc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Geometric tolera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AIC 519 based modules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nufacturing dimensional tolera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28800" y="1600200"/>
          <a:ext cx="642924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642924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1219320" y="228600"/>
          <a:ext cx="6937200" cy="62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937200" cy="62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nufacturing tol def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19320" y="838080"/>
            <a:ext cx="342900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914400"/>
            <a:ext cx="350532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nufacturing feature parameter tolera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828800" y="1905120"/>
          <a:ext cx="617544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05120"/>
                    <a:ext cx="617544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 execute resul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Dimensional measurement execute result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oduct view defini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M program identifica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Geometric toleranc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imensional toleranc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imensional measurement feature paramete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3200400" y="304920"/>
          <a:ext cx="4917960" cy="61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04920"/>
                    <a:ext cx="4917960" cy="61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 execute resul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838080"/>
            <a:ext cx="15242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914400"/>
            <a:ext cx="152424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duct description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(selected entities)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52480" y="3048120"/>
            <a:ext cx="6096240" cy="609480"/>
            <a:chOff x="1752480" y="3048120"/>
            <a:chExt cx="6096240" cy="609480"/>
          </a:xfrm>
        </p:grpSpPr>
        <p:sp>
          <p:nvSpPr>
            <p:cNvPr id="98" name=""/>
            <p:cNvSpPr/>
            <p:nvPr/>
          </p:nvSpPr>
          <p:spPr>
            <a:xfrm>
              <a:off x="1752480" y="3048120"/>
              <a:ext cx="1227240" cy="609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6280" y="3179520"/>
              <a:ext cx="100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ct_view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7000" y="3352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02320" y="3048120"/>
              <a:ext cx="841320" cy="609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77560" y="317952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ct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78280" y="3352680"/>
              <a:ext cx="49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83280" y="3054240"/>
              <a:ext cx="865440" cy="59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22600" y="326700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43640" y="3352680"/>
              <a:ext cx="1377720" cy="1080"/>
            </a:xfrm>
            <a:custGeom>
              <a:avLst/>
              <a:gdLst/>
              <a:ahLst/>
              <a:rect l="l" t="t" r="r" b="b"/>
              <a:pathLst>
                <a:path w="999" h="0">
                  <a:moveTo>
                    <a:pt x="0" y="0"/>
                  </a:moveTo>
                  <a:lnTo>
                    <a:pt x="496" y="0"/>
                  </a:lnTo>
                  <a:lnTo>
                    <a:pt x="496" y="0"/>
                  </a:lnTo>
                  <a:lnTo>
                    <a:pt x="9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42440" y="313344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_produc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9720" y="3352680"/>
              <a:ext cx="1660680" cy="1080"/>
            </a:xfrm>
            <a:custGeom>
              <a:avLst/>
              <a:gdLst/>
              <a:ahLst/>
              <a:rect l="l" t="t" r="r" b="b"/>
              <a:pathLst>
                <a:path w="1205" h="0">
                  <a:moveTo>
                    <a:pt x="0" y="0"/>
                  </a:moveTo>
                  <a:lnTo>
                    <a:pt x="605" y="0"/>
                  </a:lnTo>
                  <a:lnTo>
                    <a:pt x="605" y="0"/>
                  </a:lnTo>
                  <a:lnTo>
                    <a:pt x="120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8520" y="3133440"/>
              <a:ext cx="72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finition_fo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8000" y="3276360"/>
              <a:ext cx="109440" cy="1029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3276360"/>
              <a:ext cx="109440" cy="1029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 feature paramete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Dimensional measurement feature parameter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esign feature parameter toleranc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anufacturing feature parameter toleranc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alue with uni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_measurement_feature_paramete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057400" y="990720"/>
          <a:ext cx="5484960" cy="54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484960" cy="54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 program run identifica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Dimensional measurement program identification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erson organisa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e tim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 program identifica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828800" y="990720"/>
          <a:ext cx="5997600" cy="54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0720"/>
                    <a:ext cx="599760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duct shape descrip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oduct view definition properties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operty assignmen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Shape property assignment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Shape property representation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operty representa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oundation representation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lemental geometric shap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duct shape description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(selected entities)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1295280"/>
            <a:ext cx="7520040" cy="4953240"/>
            <a:chOff x="1143000" y="1295280"/>
            <a:chExt cx="7520040" cy="4953240"/>
          </a:xfrm>
        </p:grpSpPr>
        <p:sp>
          <p:nvSpPr>
            <p:cNvPr id="116" name=""/>
            <p:cNvSpPr/>
            <p:nvPr/>
          </p:nvSpPr>
          <p:spPr>
            <a:xfrm>
              <a:off x="4871880" y="1295280"/>
              <a:ext cx="3791160" cy="654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1880" y="1459080"/>
              <a:ext cx="3791160" cy="268200"/>
            </a:xfrm>
            <a:prstGeom prst="roundRect">
              <a:avLst>
                <a:gd name="adj" fmla="val 65218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77360" y="1541520"/>
              <a:ext cx="362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ct_view_definition_arm.Product_view_definition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31800" y="1400040"/>
              <a:ext cx="2721240" cy="44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0880" y="1400040"/>
              <a:ext cx="3240" cy="44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94320" y="1523880"/>
              <a:ext cx="234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ct_view_definition_property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1880" y="167652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ignmen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03600" y="2135160"/>
              <a:ext cx="1536840" cy="374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6240" y="2263680"/>
              <a:ext cx="120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ment_property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91040" y="2849400"/>
              <a:ext cx="1243080" cy="373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81400" y="2978280"/>
              <a:ext cx="107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pe_elemen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73920" y="2135160"/>
              <a:ext cx="1204920" cy="36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64000" y="2263680"/>
              <a:ext cx="80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em_shap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11680" y="2544840"/>
              <a:ext cx="1749600" cy="304560"/>
            </a:xfrm>
            <a:custGeom>
              <a:avLst/>
              <a:gdLst/>
              <a:ahLst/>
              <a:rect l="l" t="t" r="r" b="b"/>
              <a:pathLst>
                <a:path w="514" h="149">
                  <a:moveTo>
                    <a:pt x="0" y="149"/>
                  </a:moveTo>
                  <a:lnTo>
                    <a:pt x="0" y="75"/>
                  </a:lnTo>
                  <a:lnTo>
                    <a:pt x="514" y="75"/>
                  </a:lnTo>
                  <a:lnTo>
                    <a:pt x="51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04040" y="2509920"/>
              <a:ext cx="115920" cy="698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72280" y="2324160"/>
              <a:ext cx="32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40440" y="2324160"/>
              <a:ext cx="2318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272280" y="2324160"/>
              <a:ext cx="6429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0" y="2287440"/>
              <a:ext cx="115920" cy="7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68560" y="3584520"/>
              <a:ext cx="912960" cy="530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4520" y="3581280"/>
              <a:ext cx="52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pe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3440" y="3735360"/>
              <a:ext cx="63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ment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3440" y="388620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78160" y="3257640"/>
              <a:ext cx="2122560" cy="326880"/>
            </a:xfrm>
            <a:custGeom>
              <a:avLst/>
              <a:gdLst/>
              <a:ahLst/>
              <a:rect l="l" t="t" r="r" b="b"/>
              <a:pathLst>
                <a:path w="623" h="160">
                  <a:moveTo>
                    <a:pt x="0" y="160"/>
                  </a:moveTo>
                  <a:lnTo>
                    <a:pt x="0" y="28"/>
                  </a:lnTo>
                  <a:lnTo>
                    <a:pt x="623" y="28"/>
                  </a:lnTo>
                  <a:lnTo>
                    <a:pt x="6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38800" y="3222720"/>
              <a:ext cx="119160" cy="698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920" y="3257640"/>
              <a:ext cx="2233440" cy="326880"/>
            </a:xfrm>
            <a:custGeom>
              <a:avLst/>
              <a:gdLst/>
              <a:ahLst/>
              <a:rect l="l" t="t" r="r" b="b"/>
              <a:pathLst>
                <a:path w="656" h="160">
                  <a:moveTo>
                    <a:pt x="0" y="160"/>
                  </a:moveTo>
                  <a:lnTo>
                    <a:pt x="0" y="126"/>
                  </a:lnTo>
                  <a:lnTo>
                    <a:pt x="656" y="126"/>
                  </a:lnTo>
                  <a:lnTo>
                    <a:pt x="6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48480" y="3222720"/>
              <a:ext cx="118800" cy="698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10360" y="4051440"/>
              <a:ext cx="132084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46800" y="4051440"/>
              <a:ext cx="3240" cy="315720"/>
            </a:xfrm>
            <a:prstGeom prst="line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19880" y="415764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pe_selec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29560" y="2544480"/>
              <a:ext cx="3240" cy="150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729200" y="4051440"/>
              <a:ext cx="4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43440" y="3795840"/>
              <a:ext cx="378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1520" y="3760920"/>
              <a:ext cx="119160" cy="6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13320" y="3024360"/>
              <a:ext cx="1416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54640" y="2987640"/>
              <a:ext cx="115920" cy="7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729200" y="2544840"/>
              <a:ext cx="4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11920" y="2509920"/>
              <a:ext cx="115920" cy="6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05240" y="4648320"/>
              <a:ext cx="2544840" cy="33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5240" y="4648320"/>
              <a:ext cx="3240" cy="339480"/>
            </a:xfrm>
            <a:prstGeom prst="line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85760" y="4764240"/>
              <a:ext cx="181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pe_model_assignmen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486480" y="4495680"/>
              <a:ext cx="3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70960" y="4402080"/>
              <a:ext cx="288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11920" y="4367160"/>
              <a:ext cx="115920" cy="6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25800" y="4824360"/>
              <a:ext cx="2119320" cy="1800"/>
            </a:xfrm>
            <a:custGeom>
              <a:avLst/>
              <a:gdLst/>
              <a:ahLst/>
              <a:rect l="l" t="t" r="r" b="b"/>
              <a:pathLst>
                <a:path w="622" h="0">
                  <a:moveTo>
                    <a:pt x="0" y="0"/>
                  </a:moveTo>
                  <a:lnTo>
                    <a:pt x="531" y="0"/>
                  </a:lnTo>
                  <a:lnTo>
                    <a:pt x="531" y="0"/>
                  </a:lnTo>
                  <a:lnTo>
                    <a:pt x="6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6440" y="4786200"/>
              <a:ext cx="118800" cy="716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53960" y="5641920"/>
              <a:ext cx="2391120" cy="31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09560" y="5641920"/>
              <a:ext cx="3240" cy="31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37720" y="5745240"/>
              <a:ext cx="162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pe_definition_selec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43040" y="5045040"/>
              <a:ext cx="3240" cy="561960"/>
            </a:xfrm>
            <a:custGeom>
              <a:avLst/>
              <a:gdLst/>
              <a:ahLst/>
              <a:rect l="l" t="t" r="r" b="b"/>
              <a:pathLst>
                <a:path w="0" h="275">
                  <a:moveTo>
                    <a:pt x="0" y="0"/>
                  </a:moveTo>
                  <a:lnTo>
                    <a:pt x="0" y="137"/>
                  </a:lnTo>
                  <a:lnTo>
                    <a:pt x="0" y="137"/>
                  </a:lnTo>
                  <a:lnTo>
                    <a:pt x="0" y="2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4360" y="5568840"/>
              <a:ext cx="115920" cy="730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43400" y="5324400"/>
              <a:ext cx="2428920" cy="924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43400" y="5546880"/>
              <a:ext cx="2428920" cy="387360"/>
            </a:xfrm>
            <a:prstGeom prst="roundRect">
              <a:avLst>
                <a:gd name="adj" fmla="val 45454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32920" y="5562720"/>
              <a:ext cx="1521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mental_geometric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33640" y="5753160"/>
              <a:ext cx="166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pe.Geometric_mode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27480" y="5757840"/>
              <a:ext cx="115920" cy="6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3000" y="2381400"/>
              <a:ext cx="2428920" cy="35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95360" y="2381400"/>
              <a:ext cx="3240" cy="350640"/>
            </a:xfrm>
            <a:prstGeom prst="line">
              <a:avLst/>
            </a:prstGeom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1800" y="2514600"/>
              <a:ext cx="19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perty_assignment_selec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29160" y="2324160"/>
              <a:ext cx="874440" cy="231840"/>
            </a:xfrm>
            <a:custGeom>
              <a:avLst/>
              <a:gdLst/>
              <a:ahLst/>
              <a:rect l="l" t="t" r="r" b="b"/>
              <a:pathLst>
                <a:path w="257" h="114">
                  <a:moveTo>
                    <a:pt x="257" y="0"/>
                  </a:moveTo>
                  <a:lnTo>
                    <a:pt x="131" y="0"/>
                  </a:lnTo>
                  <a:lnTo>
                    <a:pt x="131" y="114"/>
                  </a:lnTo>
                  <a:lnTo>
                    <a:pt x="0" y="1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71920" y="2522520"/>
              <a:ext cx="115920" cy="684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65200" y="2205000"/>
              <a:ext cx="525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365200" y="2205000"/>
              <a:ext cx="324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90800" y="1878120"/>
              <a:ext cx="324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2120" y="1843200"/>
              <a:ext cx="11592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41760" y="162252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3560" y="1622520"/>
              <a:ext cx="268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541400" y="1622520"/>
              <a:ext cx="27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56320" y="1587600"/>
              <a:ext cx="115560" cy="6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55960" y="4613400"/>
              <a:ext cx="954000" cy="568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0120" y="4648320"/>
              <a:ext cx="52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pe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30120" y="4800600"/>
              <a:ext cx="82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cription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31200" y="495288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9400" y="259092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described_el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22080" y="2438280"/>
              <a:ext cx="8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composi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9760" y="3048120"/>
              <a:ext cx="59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relating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8880" y="3276720"/>
              <a:ext cx="56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relat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1480" y="4572000"/>
              <a:ext cx="141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is_defining_shape_fo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8680" y="5257800"/>
              <a:ext cx="121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defining_geometry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733920" y="5791320"/>
              <a:ext cx="13716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495680"/>
              <a:ext cx="129528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 featu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72388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Design feature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Manufacturing feature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Dimensional measurement feature</a:t>
            </a:r>
            <a:endParaRPr b="1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nufacturing featu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1828800"/>
            <a:ext cx="4314600" cy="1081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90920" y="2093760"/>
            <a:ext cx="4314600" cy="455760"/>
          </a:xfrm>
          <a:prstGeom prst="roundRect">
            <a:avLst>
              <a:gd name="adj" fmla="val 24194"/>
            </a:avLst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82600" y="2233440"/>
            <a:ext cx="34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_property_assignment_arm.Shape_element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3429000"/>
            <a:ext cx="2320920" cy="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40120" y="2917800"/>
            <a:ext cx="1800" cy="4856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39760" y="4054320"/>
            <a:ext cx="1211400" cy="746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17160" y="4119480"/>
            <a:ext cx="40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13920" y="431172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5000" y="4495680"/>
            <a:ext cx="56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featur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38280" y="3429000"/>
            <a:ext cx="1800" cy="5666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82840" y="3943440"/>
            <a:ext cx="109440" cy="102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259080" y="4190760"/>
            <a:ext cx="3751200" cy="190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68560" y="4816440"/>
            <a:ext cx="1211400" cy="746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44880" y="5073480"/>
            <a:ext cx="69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ing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43800" y="5257800"/>
            <a:ext cx="56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featur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267080" y="4191120"/>
            <a:ext cx="1800" cy="5666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11640" y="4705200"/>
            <a:ext cx="109440" cy="103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40160" y="4816440"/>
            <a:ext cx="1211400" cy="746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15400" y="5073480"/>
            <a:ext cx="63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icat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15400" y="5257800"/>
            <a:ext cx="56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featur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638680" y="4191120"/>
            <a:ext cx="1800" cy="5666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83240" y="4705200"/>
            <a:ext cx="109440" cy="103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11760" y="4816440"/>
            <a:ext cx="1211400" cy="746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87720" y="50734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87000" y="5257800"/>
            <a:ext cx="56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featur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010280" y="4191120"/>
            <a:ext cx="1800" cy="5666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54840" y="4705200"/>
            <a:ext cx="109440" cy="103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chining featu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371600" y="1752480"/>
          <a:ext cx="7391520" cy="371808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oss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Pocket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General outside profil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Protrusion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General removal profil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Revolved featur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Hol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Rounded end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Knurl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lot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arking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pherical cap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Outer round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tep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Planar face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99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hread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13:08:34Z</dcterms:created>
  <dc:creator>Bill Danner</dc:creator>
  <dc:description/>
  <dc:language>en-US</dc:language>
  <cp:lastModifiedBy>tvtv</cp:lastModifiedBy>
  <dcterms:modified xsi:type="dcterms:W3CDTF">2002-03-01T20:31:33Z</dcterms:modified>
  <cp:revision>184</cp:revision>
  <dc:subject/>
  <dc:title>No Slide Title</dc:title>
</cp:coreProperties>
</file>