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8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732000" y="64864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eca-I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28800" y="2133720"/>
            <a:ext cx="6934320" cy="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98240" y="648648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04FF-D914-493C-8F3D-E28FF72F41BB}" type="datetime5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ul 30, 20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447920" y="533520"/>
            <a:ext cx="6248160" cy="6485400"/>
            <a:chOff x="1447920" y="533520"/>
            <a:chExt cx="6248160" cy="6485400"/>
          </a:xfrm>
        </p:grpSpPr>
        <p:pic>
          <p:nvPicPr>
            <p:cNvPr id="79" name="dim-insp_logo" descr=""/>
            <p:cNvPicPr/>
            <p:nvPr/>
          </p:nvPicPr>
          <p:blipFill>
            <a:blip r:embed="rId1"/>
            <a:stretch/>
          </p:blipFill>
          <p:spPr>
            <a:xfrm>
              <a:off x="1447920" y="1143000"/>
              <a:ext cx="624816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webidblue_2linecentr" descr=""/>
            <p:cNvPicPr/>
            <p:nvPr/>
          </p:nvPicPr>
          <p:blipFill>
            <a:blip r:embed="rId2"/>
            <a:stretch/>
          </p:blipFill>
          <p:spPr>
            <a:xfrm>
              <a:off x="3767040" y="3362400"/>
              <a:ext cx="129564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099520" y="1498680"/>
              <a:ext cx="4938480" cy="55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d Vorburger and Simon Frechett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ufacturing Engineering Labora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Dan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eca-IT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4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yrtle Beach, South Carolina, U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bruary 25, 2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60160" y="533520"/>
              <a:ext cx="263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Report on AP2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DMFeatures_2-19-02_02" descr=""/>
          <p:cNvPicPr/>
          <p:nvPr/>
        </p:nvPicPr>
        <p:blipFill>
          <a:blip r:embed="rId1"/>
          <a:srcRect l="12469" t="6063" r="8842" b="44159"/>
          <a:stretch/>
        </p:blipFill>
        <p:spPr>
          <a:xfrm>
            <a:off x="380880" y="228600"/>
            <a:ext cx="8001000" cy="611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8328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dim-insp-logo-sm" descr=""/>
          <p:cNvPicPr/>
          <p:nvPr/>
        </p:nvPicPr>
        <p:blipFill>
          <a:blip r:embed="rId2"/>
          <a:stretch/>
        </p:blipFill>
        <p:spPr>
          <a:xfrm>
            <a:off x="7021440" y="632448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03480" y="1163520"/>
            <a:ext cx="67212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since October SC4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of Draft Technical 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rmonization Efforts</a:t>
            </a:r>
            <a:br>
              <a:rPr sz="2800"/>
            </a:b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dim-insp-logo-sm" descr=""/>
          <p:cNvPicPr/>
          <p:nvPr/>
        </p:nvPicPr>
        <p:blipFill>
          <a:blip r:embed="rId1"/>
          <a:stretch/>
        </p:blipFill>
        <p:spPr>
          <a:xfrm>
            <a:off x="7010280" y="63644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219 Dimensional Inspec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onization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EP Modules (Part identification) / PDM Schem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P224 (Mech prod def using machining features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P214 (Automotive mechanical design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IC519 (Geometric tolerances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rt 47 (Shape Variation Tolerances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MIS (Dimensional Measuring Interface Standard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IAG MIC Common Data Formatting W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EP NC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3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sima_9-18-01_DMISpage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51520" cy="6585120"/>
          </a:xfrm>
          <a:prstGeom prst="rect">
            <a:avLst/>
          </a:prstGeom>
          <a:ln w="0">
            <a:noFill/>
          </a:ln>
        </p:spPr>
      </p:pic>
      <p:pic>
        <p:nvPicPr>
          <p:cNvPr id="155" name="dim-insp-logo-sm" descr=""/>
          <p:cNvPicPr/>
          <p:nvPr/>
        </p:nvPicPr>
        <p:blipFill>
          <a:blip r:embed="rId2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30720" y="2117880"/>
            <a:ext cx="38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Dimensional Measu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Standard, Version 4.0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to ISO as ISO 2209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28600" y="1449360"/>
          <a:ext cx="8686800" cy="457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9360"/>
                    <a:ext cx="868680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053360" y="622440"/>
            <a:ext cx="71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Portion of Harmonization Table for Geometric Toler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dim-insp-logo-sm" descr=""/>
          <p:cNvPicPr/>
          <p:nvPr/>
        </p:nvPicPr>
        <p:blipFill>
          <a:blip r:embed="rId3"/>
          <a:stretch/>
        </p:blipFill>
        <p:spPr>
          <a:xfrm>
            <a:off x="6989760" y="644832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4760" y="482760"/>
            <a:ext cx="762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utomotive Industry Action Group (AI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Metrology Interoperability Consortium (M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ommon Data Formatting Work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057400"/>
            <a:ext cx="792504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able: Create a common measurement data format standard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elop specifications/user requirements for reporting measurement data. Develop an object model describing required information flow leveraging XM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 with vendors to identify/create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ourage vendor implementation of a standard that meets the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ry out a pilot conformance and interoperability testing program for the measurement data standard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Metrology Test Bed (MTB) will be utilized as a resource for test creation and implementation. Deliverable will be pilot test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8516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dim-insp-logo-sm" descr=""/>
          <p:cNvPicPr/>
          <p:nvPr/>
        </p:nvPicPr>
        <p:blipFill>
          <a:blip r:embed="rId1"/>
          <a:stretch/>
        </p:blipFill>
        <p:spPr>
          <a:xfrm>
            <a:off x="6705720" y="624852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533520"/>
            <a:ext cx="845820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imensional Inspection Information Requirements                           Model (ARM), Version 0.5, consisting of 6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 Projected Completion 3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NISTIR/STEP Technical Report on the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 Projected Completion 4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the  MIC Common Data Formatting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: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onference call February 28, Meeting, March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ork Item under STEP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ubmit early FY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dim-insp-logo-sm" descr=""/>
          <p:cNvPicPr/>
          <p:nvPr/>
        </p:nvPicPr>
        <p:blipFill>
          <a:blip r:embed="rId1"/>
          <a:stretch/>
        </p:blipFill>
        <p:spPr>
          <a:xfrm>
            <a:off x="7010280" y="646740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03480" y="1163520"/>
            <a:ext cx="67212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cope</a:t>
            </a:r>
            <a:br>
              <a:rPr sz="2800"/>
            </a:b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since October SC4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of Draft Technical 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 Eff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dim-insp-logo-sm" descr=""/>
          <p:cNvPicPr/>
          <p:nvPr/>
        </p:nvPicPr>
        <p:blipFill>
          <a:blip r:embed="rId1"/>
          <a:stretch/>
        </p:blipFill>
        <p:spPr>
          <a:xfrm>
            <a:off x="7010280" y="63644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43960" y="1173240"/>
            <a:ext cx="81529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Scope and 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pplication Protocol (AP) will specif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manage dimensional inspection of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or assemblies, which includes administe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, and  executing dimensional inspection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and archiving the results. Dimensional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ccur at any  stage of the life cycle of a product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for conformance with a design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219 Usage Scenario Activity Mod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71800" y="1371600"/>
            <a:ext cx="8588880" cy="4211640"/>
            <a:chOff x="271800" y="1371600"/>
            <a:chExt cx="8588880" cy="4211640"/>
          </a:xfrm>
        </p:grpSpPr>
        <p:sp>
          <p:nvSpPr>
            <p:cNvPr id="89" name=""/>
            <p:cNvSpPr/>
            <p:nvPr/>
          </p:nvSpPr>
          <p:spPr>
            <a:xfrm>
              <a:off x="3352680" y="413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352680" y="31446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048120" y="3144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5000" y="375444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 meas pr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066320" y="3144600"/>
              <a:ext cx="4420080" cy="2361960"/>
              <a:chOff x="1066320" y="3144600"/>
              <a:chExt cx="4420080" cy="23619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066320" y="3144600"/>
                <a:ext cx="4420080" cy="2166120"/>
                <a:chOff x="1066320" y="3144600"/>
                <a:chExt cx="4420080" cy="216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257800" y="42876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486400" y="428760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1066320" y="4897080"/>
                  <a:ext cx="441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1066680" y="3144600"/>
                  <a:ext cx="0" cy="175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680" y="31449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288160" y="4973400"/>
                  <a:ext cx="23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odified dim meas pro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905120" y="50497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638680" y="512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638680" y="3982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257800" y="398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40480" y="390672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5880" y="466884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aly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33920" y="3602160"/>
              <a:ext cx="152388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ec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 Modif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3880" y="253512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26877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2560" y="230652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 meas prog arch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28400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86600" y="28400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6600" y="299232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4520" y="2971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4800" y="510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14720" y="1676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00040" y="428796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92840" y="1371600"/>
              <a:ext cx="1467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1800" y="244332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29923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2992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6760" y="299232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29923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562720" y="2230560"/>
            <a:ext cx="3297960" cy="3504960"/>
            <a:chOff x="5562720" y="2230560"/>
            <a:chExt cx="3297960" cy="3504960"/>
          </a:xfrm>
        </p:grpSpPr>
        <p:sp>
          <p:nvSpPr>
            <p:cNvPr id="125" name=""/>
            <p:cNvSpPr/>
            <p:nvPr/>
          </p:nvSpPr>
          <p:spPr>
            <a:xfrm>
              <a:off x="5562720" y="2763720"/>
              <a:ext cx="3276360" cy="297180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0200" y="390672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5960" y="299232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46120" y="299232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90160" y="223056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99"/>
                  </a:solidFill>
                  <a:latin typeface="Comic Sans MS"/>
                </a:rPr>
                <a:t>Scenario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00040" y="428796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1066680"/>
            <a:ext cx="8096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Project Activities since October SC4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d conference calls  November 16 and January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ed meeting (November 7,8) and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(December 12,18) of the Automotiv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Group (AIAG), Metrology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rtium (MIC), Common Data Formatting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technical report 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dim-insp-logo-sm" descr=""/>
          <p:cNvPicPr/>
          <p:nvPr/>
        </p:nvPicPr>
        <p:blipFill>
          <a:blip r:embed="rId1"/>
          <a:stretch/>
        </p:blipFill>
        <p:spPr>
          <a:xfrm>
            <a:off x="6781680" y="6248520"/>
            <a:ext cx="21211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1371600"/>
            <a:ext cx="83059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e Schafer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nomat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 Tornquist  -  Xy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Wootton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Danner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neca-I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 Jones &amp; Tom Hendrix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tis Brown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ao Peng &amp; Bob Wilhelm 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C Charlo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- Step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 Edgeworth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Hong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grated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 Vorburger, Simon Frechette -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dim-insp-logo-sm" descr=""/>
          <p:cNvPicPr/>
          <p:nvPr/>
        </p:nvPicPr>
        <p:blipFill>
          <a:blip r:embed="rId1"/>
          <a:stretch/>
        </p:blipFill>
        <p:spPr>
          <a:xfrm>
            <a:off x="7010280" y="6470640"/>
            <a:ext cx="2121120" cy="38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609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Recent Participants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Technical Report to co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-G ARMS and Object Definitions for six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_description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draf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_shape_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_measurement_feature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draf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_measurement_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_measurement_ execute_result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draf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_measurement_program_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One more module was added to the plan on 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, 2002.  See the file “AP219_MB-2-02.ppt” attach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inutes of the AP219 Review on 2/27/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im-insp-logo-sm" descr=""/>
          <p:cNvPicPr/>
          <p:nvPr/>
        </p:nvPicPr>
        <p:blipFill>
          <a:blip r:embed="rId1"/>
          <a:stretch/>
        </p:blipFill>
        <p:spPr>
          <a:xfrm>
            <a:off x="6629400" y="601992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Dm_execute_result_arm" descr=""/>
          <p:cNvPicPr/>
          <p:nvPr/>
        </p:nvPicPr>
        <p:blipFill>
          <a:blip r:embed="rId1"/>
          <a:srcRect l="3923" t="4548" r="5901" b="9050"/>
          <a:stretch/>
        </p:blipFill>
        <p:spPr>
          <a:xfrm>
            <a:off x="838080" y="152280"/>
            <a:ext cx="6248520" cy="6553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80240" y="62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dim-insp-logo-sm" descr=""/>
          <p:cNvPicPr/>
          <p:nvPr/>
        </p:nvPicPr>
        <p:blipFill>
          <a:blip r:embed="rId2"/>
          <a:stretch/>
        </p:blipFill>
        <p:spPr>
          <a:xfrm>
            <a:off x="7023240" y="6324480"/>
            <a:ext cx="21207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DMFeatures_2-19-02_01" descr=""/>
          <p:cNvPicPr/>
          <p:nvPr/>
        </p:nvPicPr>
        <p:blipFill>
          <a:blip r:embed="rId1"/>
          <a:srcRect l="4409" t="0" r="5943" b="11364"/>
          <a:stretch/>
        </p:blipFill>
        <p:spPr>
          <a:xfrm>
            <a:off x="3200400" y="152280"/>
            <a:ext cx="5486400" cy="6477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4920" y="3276720"/>
            <a:ext cx="39621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Dimensional_measurement_feature_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p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8516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dim-insp-logo-sm" descr=""/>
          <p:cNvPicPr/>
          <p:nvPr/>
        </p:nvPicPr>
        <p:blipFill>
          <a:blip r:embed="rId2"/>
          <a:stretch/>
        </p:blipFill>
        <p:spPr>
          <a:xfrm>
            <a:off x="7021440" y="6324480"/>
            <a:ext cx="21211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tvtv</cp:lastModifiedBy>
  <cp:lastPrinted>2002-02-23T20:39:21Z</cp:lastPrinted>
  <dcterms:modified xsi:type="dcterms:W3CDTF">2002-03-11T19:12:15Z</dcterms:modified>
  <cp:revision>377</cp:revision>
  <dc:subject/>
  <dc:title>No Slide Title</dc:title>
</cp:coreProperties>
</file>