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720" y="0"/>
            <a:ext cx="841320" cy="676440"/>
            <a:chOff x="-720" y="0"/>
            <a:chExt cx="841320" cy="676440"/>
          </a:xfrm>
        </p:grpSpPr>
        <p:sp>
          <p:nvSpPr>
            <p:cNvPr id="3" name=""/>
            <p:cNvSpPr/>
            <p:nvPr/>
          </p:nvSpPr>
          <p:spPr>
            <a:xfrm>
              <a:off x="12960" y="0"/>
              <a:ext cx="812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S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-720" y="435240"/>
              <a:ext cx="8413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C 184/SC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681120" y="6553080"/>
            <a:ext cx="7781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 TC184/SC4/WG3 Funchal N001 2001-02-1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fld id="{AC7D3D82-966F-4BC2-94C7-6F4D16078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166440" y="0"/>
            <a:ext cx="282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 TC184/SC4/WG3/Myrtle Beach/N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ick@steptool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u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aki Sakam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aki_sakamoto@KEG.komatsu.co.j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plishments since San Francis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38 CD ballot version uploaded to SO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for Myrtle B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all manufacturing related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possible new edition of AP-2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ISO 146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AP-238 (integrated CN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AP-219 (inspection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AP-224 ed3 (manufacturing feat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demonstrations of prototype STEP-NC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 for Myrtle B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day, 2002-02-25, 1300-1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 minute review of all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esday, 2002-02-26, 0800-1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-238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-224 ed3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ing Task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esday, 2002-02-26, 1300-1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 14649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 13399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 for Myrtle Beach 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nesday, 2002-02-27, 0800-1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-219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nesday, 2002-02-27, 1300-1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-219 issues continu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-NC demonst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nesday, 2002-02-27, 1730-1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IMS STEP-NC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 for Myrtle Beach 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rsday, 2002-02-28, 0800-1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-213 scope and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rsday, 2002-02-28, 1300-1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m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rald Radack</dc:creator>
  <dc:description/>
  <dc:language>en-US</dc:language>
  <cp:lastModifiedBy>hardwick</cp:lastModifiedBy>
  <cp:lastPrinted>1999-06-02T13:49:47Z</cp:lastPrinted>
  <dcterms:modified xsi:type="dcterms:W3CDTF">2002-02-19T21:51:49Z</dcterms:modified>
  <cp:revision>129</cp:revision>
  <dc:subject/>
  <dc:title>WG3 Presentation to SC4 Opening Plenary</dc:title>
</cp:coreProperties>
</file>