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42000" cy="96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42840" y="634680"/>
            <a:ext cx="4770720" cy="357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4200" y="4586040"/>
            <a:ext cx="531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0640" y="739800"/>
            <a:ext cx="4844880" cy="3632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3520" y="4595760"/>
            <a:ext cx="4841640" cy="43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Keeping in mind that let me get into the first item; On the nonlinear process plan (NLP); which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- To repres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- To introduc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Note that the choice is made by the CNC giving flexibility for the STEP-CNC, which is key for the intelligent CN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To represent NLP, we found that 7 entities are n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- Sequential (“linear” or “serial” process plan mostly assumed in the current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- Conditional Choic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31880"/>
            <a:ext cx="4808520" cy="3605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5600" y="4584240"/>
            <a:ext cx="487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5960" y="4540320"/>
            <a:ext cx="4868640" cy="434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B7CAE79-4E21-4F95-A98D-80816D939398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2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9040" y="2998800"/>
            <a:ext cx="5173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rtle Beach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4343400"/>
            <a:ext cx="51735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1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2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describe material removal ar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re represented as shape aspects on the workpiece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ly defined features are described by a profile moving along a pa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ly defined features are described by surfaces from the workpiece sha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s, paths and other conditions are defined as shape aspects associated with the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033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0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is the “root” of a STEP-NC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to the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to one or more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is represented as a 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use all of the PDM information to track the project as well as the workpie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has a workplan and set of workpie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 related as previously describ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9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to do within the feature context given by a workingstep — plane mill, center drill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nge strategies, tool path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2"/>
            <a:endCxn id="137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2"/>
            <a:endCxn id="135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6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7" idx="2"/>
            <a:endCxn id="141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7" idx="2"/>
            <a:endCxn id="142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37" idx="2"/>
            <a:endCxn id="143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8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36" idx="2"/>
            <a:endCxn id="153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6" idx="2"/>
            <a:endCxn id="154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36" idx="2"/>
            <a:endCxn id="155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36" idx="2"/>
            <a:endCxn id="159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4" idx="2"/>
            <a:endCxn id="167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4" idx="2"/>
            <a:endCxn id="165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4" idx="2"/>
            <a:endCxn id="166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2"/>
            <a:endCxn id="171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7" idx="2"/>
            <a:endCxn id="172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7" idx="2"/>
            <a:endCxn id="173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181480" y="114120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a simple machin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rk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ing a sequence of Workingst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8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6" idx="2"/>
            <a:endCxn id="180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66" idx="2"/>
            <a:endCxn id="181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6" idx="2"/>
            <a:endCxn id="182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6" idx="2"/>
            <a:endCxn id="186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Machining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12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rk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list of workingsteps to be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orking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an operation that describes what to d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a feature that describes a location and material removal volu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security plane for moving to/from other 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executables (workplans and workingste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n id so you can refer to th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355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supports a rich set of control flow for machining work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ypes of programs than simple linear sequences of machining workingste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s, parallel segments, feedback from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 for future intelligent controllers to optim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other types of workingstep and functions are avail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ntrol flow options are avail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controlling expressions represen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3" idx="2"/>
            <a:endCxn id="196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3" idx="2"/>
            <a:endCxn id="194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3" idx="2"/>
            <a:endCxn id="195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6" idx="2"/>
            <a:endCxn id="200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6" idx="2"/>
            <a:endCxn id="201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8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5" idx="2"/>
            <a:endCxn id="212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195" idx="2"/>
            <a:endCxn id="213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95" idx="2"/>
            <a:endCxn id="214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95" idx="2"/>
            <a:endCxn id="218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48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ypes of Working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92280" y="1222200"/>
            <a:ext cx="3797280" cy="29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_ho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 Prob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probing (offset in one dir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complete_probing (x, y, z offs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_prob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_length_prob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_radius_prob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302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_mes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hange_pa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_pa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_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_s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_s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_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load_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_for_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48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linear Control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2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supports seven kinds of control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 (Sequential) : execution by a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ordered Serial : all executables have to be executed but the order of execution does not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: all executables are started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: all executables don’t need to be started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ment : binary choice according to the given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: execute only one among several execu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Statement : repetitive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62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through 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5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P-238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ckbone:  Workpiece and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ckbone: Executables and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Operations and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Too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s and Set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Control Flow fo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19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RM defines machining control flow (if/then, while, etc) controlled by expres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s use literal values and variables that are associated with the result of a measurement op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expressions using PLIB Part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 with expression repres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IB definitions only references PLIB th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some way to relate this to a STEP repres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90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6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Working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sequence of material removals, location, and associated parame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steps are organized into a work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equential_method, a type of action method relationship, to describe the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related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are described by a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lated to an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n action method 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lated to features and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ction, of which the workplan is the chosen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24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M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5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D Machin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 and side mill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an move in the X-Y plane or along the Z axis, but not at the same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form Machin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culpted su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moves in the Z ax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024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All Machin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3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chining Operations can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utting tool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tart point and retract pla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parameters, which are grouped and shared between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 speed, feedrate, feedrate per tooth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settings, which are grouped and can be shared between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, misting, chip removal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can also have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perations can have an associated machining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illing operations can also have an associated plunge strategy and a retract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8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D M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88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D Machin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 and side mill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an move in the X-Y plane or along the Z axis, but not at the same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_and_side_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perations have rough and finish 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gh milling leaves an allowance of 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milling goes right to the feature bound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49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D Milling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219320"/>
          <a:ext cx="412416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41241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33520" y="2971800"/>
          <a:ext cx="3024000" cy="7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30240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835600" y="3886200"/>
          <a:ext cx="1581120" cy="97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5600" y="3886200"/>
                    <a:ext cx="15811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495680" y="1828800"/>
          <a:ext cx="399276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828800"/>
                    <a:ext cx="39927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60840" y="2864520"/>
            <a:ext cx="24530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directional Contou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 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02880" y="4954320"/>
            <a:ext cx="25689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 Parallel &amp; Spi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092240" y="4548240"/>
          <a:ext cx="218448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92240" y="4548240"/>
                    <a:ext cx="2184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413000" y="5540040"/>
            <a:ext cx="152028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 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07600" y="2211120"/>
            <a:ext cx="153108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9520" y="3787560"/>
            <a:ext cx="140760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60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form M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22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form Machin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culpted su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pecial sub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for use with region feature or other explicit surface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scallop height and chord parameters to help controllers decide how to generate toolpath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form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ter contact, cutter location, UV, leading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73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6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moves in the Z ax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lling_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lling, center_drilling, counter_sinking, multistep_dril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ing_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ing, ream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_b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_dr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one drilling strategy, but with many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rates for starting, ending, and retract, dwell, depth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90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what is to be do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supports 2.5D milling, freeform milling, dr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many strategies and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editions will add operations for other machining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9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0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peration can have a tool associ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ool requirements, not a physical tool on a mach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some best-fit optimization by the control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important parameters should be set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re constrained the tool is, the less flexibility the controller will h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ly, G&amp;M codes just reference tool #1, #2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ot able to add any value to th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38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P-238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escribes machining pro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maps the ISO 14649 information requirements to the integrated definitions used by all other A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you can use existing CAD systems, viewer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,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p geometry harmonized with AP-203/AP-2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details harmonized with PDM schem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AIC 519 tolerance defini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with AP-224 repres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, General Operation, Milling Operations, and Milling Tool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and process resource description using Part 49, Part 41, and PLIB expressions for conditional contr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355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 allow us to capture exact machine axis mov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 still has “macro” plan with features and ope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tures a “micro” plan for particular ope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lexible to give a controller a macro plan and let it generate the micro plan itsel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ypes of tool paths can we specif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they represented in the AI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they attached to an oper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83880" y="1563840"/>
            <a:ext cx="818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9000" y="2271600"/>
            <a:ext cx="132300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8160" y="2271960"/>
            <a:ext cx="919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4" idx="2"/>
            <a:endCxn id="267" idx="0"/>
          </p:cNvCxnSpPr>
          <p:nvPr/>
        </p:nvCxnSpPr>
        <p:spPr>
          <a:xfrm flipH="1" rot="16200000">
            <a:off x="2084040" y="2040480"/>
            <a:ext cx="423000" cy="54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 flipH="1" rot="16200000">
            <a:off x="2803680" y="1320480"/>
            <a:ext cx="423000" cy="1445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4" idx="2"/>
            <a:endCxn id="266" idx="0"/>
          </p:cNvCxnSpPr>
          <p:nvPr/>
        </p:nvCxnSpPr>
        <p:spPr>
          <a:xfrm rot="5400000">
            <a:off x="1405800" y="1366560"/>
            <a:ext cx="423000" cy="13532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2662200" y="2941920"/>
            <a:ext cx="1297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ter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1120" y="3360960"/>
            <a:ext cx="12589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ter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160" y="3780000"/>
            <a:ext cx="501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67" idx="2"/>
            <a:endCxn id="271" idx="1"/>
          </p:cNvCxnSpPr>
          <p:nvPr/>
        </p:nvCxnSpPr>
        <p:spPr>
          <a:xfrm flipH="1" rot="16200000">
            <a:off x="2209320" y="2628000"/>
            <a:ext cx="52776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106280" y="873360"/>
            <a:ext cx="23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Tool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7" idx="2"/>
            <a:endCxn id="272" idx="1"/>
          </p:cNvCxnSpPr>
          <p:nvPr/>
        </p:nvCxnSpPr>
        <p:spPr>
          <a:xfrm flipH="1" rot="16200000">
            <a:off x="1999800" y="2837520"/>
            <a:ext cx="94680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7" idx="2"/>
            <a:endCxn id="273" idx="1"/>
          </p:cNvCxnSpPr>
          <p:nvPr/>
        </p:nvCxnSpPr>
        <p:spPr>
          <a:xfrm flipH="1" rot="16200000">
            <a:off x="1790280" y="3047040"/>
            <a:ext cx="1365840" cy="351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5181480" y="1433880"/>
            <a:ext cx="365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ell at a part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for Toolpath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80200" y="5166360"/>
            <a:ext cx="326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s generated by the controller using certain parame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343400"/>
            <a:ext cx="838080" cy="2057400"/>
          </a:xfrm>
          <a:custGeom>
            <a:avLst/>
            <a:gdLst>
              <a:gd name="textAreaLeft" fmla="*/ 0 w 838080"/>
              <a:gd name="textAreaRight" fmla="*/ 302760 w 838080"/>
              <a:gd name="textAreaTop" fmla="*/ 104040 h 2057400"/>
              <a:gd name="textAreaBottom" fmla="*/ 19533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38840" y="4351680"/>
            <a:ext cx="1554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ach lift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41720" y="5428080"/>
            <a:ext cx="967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13960" y="5739120"/>
            <a:ext cx="1574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 sec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66" idx="2"/>
            <a:endCxn id="283" idx="1"/>
          </p:cNvCxnSpPr>
          <p:nvPr/>
        </p:nvCxnSpPr>
        <p:spPr>
          <a:xfrm flipH="1" rot="16200000">
            <a:off x="272160" y="3421080"/>
            <a:ext cx="1724760" cy="386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66" idx="2"/>
            <a:endCxn id="284" idx="1"/>
          </p:cNvCxnSpPr>
          <p:nvPr/>
        </p:nvCxnSpPr>
        <p:spPr>
          <a:xfrm flipH="1" rot="16200000">
            <a:off x="-265680" y="3958920"/>
            <a:ext cx="2800800" cy="386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2"/>
            <a:endCxn id="285" idx="1"/>
          </p:cNvCxnSpPr>
          <p:nvPr/>
        </p:nvCxnSpPr>
        <p:spPr>
          <a:xfrm flipH="1" rot="16200000">
            <a:off x="2128680" y="5391720"/>
            <a:ext cx="169200" cy="77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2614320" y="6142320"/>
            <a:ext cx="12970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 di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4" idx="2"/>
            <a:endCxn id="289" idx="1"/>
          </p:cNvCxnSpPr>
          <p:nvPr/>
        </p:nvCxnSpPr>
        <p:spPr>
          <a:xfrm flipH="1" rot="16200000">
            <a:off x="1927080" y="5593320"/>
            <a:ext cx="572400" cy="77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5380200" y="3032640"/>
            <a:ext cx="326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s following explicit curves with respect to certain reference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2819520"/>
            <a:ext cx="838080" cy="1295280"/>
          </a:xfrm>
          <a:custGeom>
            <a:avLst/>
            <a:gdLst>
              <a:gd name="textAreaLeft" fmla="*/ 0 w 838080"/>
              <a:gd name="textAreaRight" fmla="*/ 302760 w 838080"/>
              <a:gd name="textAreaTop" fmla="*/ 72360 h 1295280"/>
              <a:gd name="textAreaBottom" fmla="*/ 12229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33040" y="4691520"/>
            <a:ext cx="93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L 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83" idx="2"/>
            <a:endCxn id="293" idx="1"/>
          </p:cNvCxnSpPr>
          <p:nvPr/>
        </p:nvCxnSpPr>
        <p:spPr>
          <a:xfrm flipH="1" rot="16200000">
            <a:off x="2268360" y="4466520"/>
            <a:ext cx="197640" cy="502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631960" y="5094720"/>
            <a:ext cx="1097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L tan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3" idx="2"/>
            <a:endCxn id="295" idx="1"/>
          </p:cNvCxnSpPr>
          <p:nvPr/>
        </p:nvCxnSpPr>
        <p:spPr>
          <a:xfrm flipH="1" rot="16200000">
            <a:off x="2066760" y="4668120"/>
            <a:ext cx="600840" cy="502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8240" y="4129560"/>
            <a:ext cx="4521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9680" y="5393160"/>
            <a:ext cx="4362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M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2600" y="3009960"/>
            <a:ext cx="265320" cy="1765080"/>
          </a:xfrm>
          <a:custGeom>
            <a:avLst/>
            <a:gdLst>
              <a:gd name="textAreaLeft" fmla="*/ 0 w 265320"/>
              <a:gd name="textAreaRight" fmla="*/ 186120 w 265320"/>
              <a:gd name="textAreaTop" fmla="*/ 73440 h 1765080"/>
              <a:gd name="textAreaBottom" fmla="*/ 1691640 h 17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88040" y="3480480"/>
            <a:ext cx="986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94440" y="3009960"/>
            <a:ext cx="279360" cy="2997000"/>
          </a:xfrm>
          <a:custGeom>
            <a:avLst/>
            <a:gdLst>
              <a:gd name="textAreaLeft" fmla="*/ 0 w 279360"/>
              <a:gd name="textAreaRight" fmla="*/ 195840 w 279360"/>
              <a:gd name="textAreaTop" fmla="*/ 87480 h 2997000"/>
              <a:gd name="textAreaBottom" fmla="*/ 2909520 h 29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33"/>
                  <a:pt x="21600" y="1265"/>
                </a:cubicBezTo>
                <a:lnTo>
                  <a:pt x="21600" y="20335"/>
                </a:lnTo>
                <a:cubicBezTo>
                  <a:pt x="21600" y="2096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81800" y="4491720"/>
            <a:ext cx="110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846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will cover all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edition covers mil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 will extend with turning and ED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s can add others as nee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08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 and St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2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 describes the final output of a manufactur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defines stock, with geometry and materi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STEP products, so the standard PDM schema information can be appl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er, Approval, Release Dat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846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0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up describes the orientation and locations of workpieces on the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 a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ly similar to an assemb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tup may have many copies of the same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describes “keep out” regions where fixtures may b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87560" y="3583080"/>
          <a:ext cx="698976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3583080"/>
                    <a:ext cx="698976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ampart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18040" y="248904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32440" y="248904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200400"/>
            <a:ext cx="3276720" cy="1600200"/>
          </a:xfrm>
          <a:custGeom>
            <a:avLst/>
            <a:gdLst/>
            <a:ahLst/>
            <a:rect l="l" t="t" r="r" b="b"/>
            <a:pathLst>
              <a:path w="1968" h="720">
                <a:moveTo>
                  <a:pt x="1968" y="0"/>
                </a:moveTo>
                <a:cubicBezTo>
                  <a:pt x="1484" y="132"/>
                  <a:pt x="1000" y="264"/>
                  <a:pt x="672" y="384"/>
                </a:cubicBezTo>
                <a:cubicBezTo>
                  <a:pt x="344" y="504"/>
                  <a:pt x="172" y="612"/>
                  <a:pt x="0" y="72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693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65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" y="82224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34760" y="1457280"/>
            <a:ext cx="13136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" y="2304360"/>
            <a:ext cx="908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3040" y="2304360"/>
            <a:ext cx="6782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0560" y="2304360"/>
            <a:ext cx="17402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D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8" idx="2"/>
            <a:endCxn id="91" idx="0"/>
          </p:cNvCxnSpPr>
          <p:nvPr/>
        </p:nvCxnSpPr>
        <p:spPr>
          <a:xfrm rot="5400000">
            <a:off x="2116800" y="2111040"/>
            <a:ext cx="348480" cy="2520"/>
          </a:xfrm>
          <a:prstGeom prst="bentConnector3">
            <a:avLst>
              <a:gd name="adj1" fmla="val 4974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8" idx="2"/>
            <a:endCxn id="89" idx="0"/>
          </p:cNvCxnSpPr>
          <p:nvPr/>
        </p:nvCxnSpPr>
        <p:spPr>
          <a:xfrm rot="5400000">
            <a:off x="1356480" y="1350720"/>
            <a:ext cx="348480" cy="1523160"/>
          </a:xfrm>
          <a:prstGeom prst="bentConnector3">
            <a:avLst>
              <a:gd name="adj1" fmla="val 4974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8" idx="2"/>
            <a:endCxn id="90" idx="0"/>
          </p:cNvCxnSpPr>
          <p:nvPr/>
        </p:nvCxnSpPr>
        <p:spPr>
          <a:xfrm flipH="1" rot="16200000">
            <a:off x="2863800" y="1366560"/>
            <a:ext cx="348480" cy="1491120"/>
          </a:xfrm>
          <a:prstGeom prst="bentConnector3">
            <a:avLst>
              <a:gd name="adj1" fmla="val 4974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1487520" y="3034800"/>
            <a:ext cx="16016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3160" y="3034440"/>
            <a:ext cx="8578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9960" y="5853240"/>
            <a:ext cx="668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1120" y="5100120"/>
            <a:ext cx="5198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57520" y="4681080"/>
            <a:ext cx="106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ar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9120" y="4997520"/>
            <a:ext cx="8182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0400" y="6096960"/>
            <a:ext cx="521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1480" y="5598720"/>
            <a:ext cx="461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69240" y="5349240"/>
            <a:ext cx="7102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840" y="3880440"/>
            <a:ext cx="1014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1" idx="2"/>
            <a:endCxn id="95" idx="0"/>
          </p:cNvCxnSpPr>
          <p:nvPr/>
        </p:nvCxnSpPr>
        <p:spPr>
          <a:xfrm rot="5400000">
            <a:off x="2067840" y="2793960"/>
            <a:ext cx="443520" cy="21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1" idx="2"/>
            <a:endCxn id="96" idx="0"/>
          </p:cNvCxnSpPr>
          <p:nvPr/>
        </p:nvCxnSpPr>
        <p:spPr>
          <a:xfrm flipH="1" rot="16200000">
            <a:off x="2800440" y="2063160"/>
            <a:ext cx="443520" cy="146304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1177560" y="872640"/>
            <a:ext cx="22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5" idx="2"/>
            <a:endCxn id="98" idx="1"/>
          </p:cNvCxnSpPr>
          <p:nvPr/>
        </p:nvCxnSpPr>
        <p:spPr>
          <a:xfrm flipH="1" rot="16200000">
            <a:off x="1504080" y="4087800"/>
            <a:ext cx="1923120" cy="3546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3" idx="1"/>
          </p:cNvCxnSpPr>
          <p:nvPr/>
        </p:nvCxnSpPr>
        <p:spPr>
          <a:xfrm flipH="1" rot="16200000">
            <a:off x="1735200" y="3857400"/>
            <a:ext cx="2171880" cy="10641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5" idx="2"/>
            <a:endCxn id="102" idx="1"/>
          </p:cNvCxnSpPr>
          <p:nvPr/>
        </p:nvCxnSpPr>
        <p:spPr>
          <a:xfrm flipH="1" rot="16200000">
            <a:off x="1254960" y="4336920"/>
            <a:ext cx="2421360" cy="3546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5" idx="2"/>
            <a:endCxn id="99" idx="1"/>
          </p:cNvCxnSpPr>
          <p:nvPr/>
        </p:nvCxnSpPr>
        <p:spPr>
          <a:xfrm flipH="1" rot="16200000">
            <a:off x="1713600" y="3878280"/>
            <a:ext cx="1504080" cy="3546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95" idx="2"/>
            <a:endCxn id="97" idx="1"/>
          </p:cNvCxnSpPr>
          <p:nvPr/>
        </p:nvCxnSpPr>
        <p:spPr>
          <a:xfrm flipH="1" rot="16200000">
            <a:off x="1483560" y="4109040"/>
            <a:ext cx="2675520" cy="10641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95" idx="2"/>
            <a:endCxn id="101" idx="1"/>
          </p:cNvCxnSpPr>
          <p:nvPr/>
        </p:nvCxnSpPr>
        <p:spPr>
          <a:xfrm flipH="1" rot="16200000">
            <a:off x="1005480" y="4586040"/>
            <a:ext cx="2919960" cy="3546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95" idx="2"/>
            <a:endCxn id="104" idx="3"/>
          </p:cNvCxnSpPr>
          <p:nvPr/>
        </p:nvCxnSpPr>
        <p:spPr>
          <a:xfrm rot="5400000">
            <a:off x="1406880" y="3231360"/>
            <a:ext cx="810360" cy="954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5" idx="2"/>
            <a:endCxn id="100" idx="3"/>
          </p:cNvCxnSpPr>
          <p:nvPr/>
        </p:nvCxnSpPr>
        <p:spPr>
          <a:xfrm rot="5400000">
            <a:off x="1037520" y="3978000"/>
            <a:ext cx="1926360" cy="577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5181480" y="147852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 geometry, points out a surface for freeform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 axis and s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82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9960" y="4951800"/>
            <a:ext cx="326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ly described using profile and path parameters, not explicit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28800"/>
            <a:ext cx="9907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4419720"/>
            <a:ext cx="838080" cy="1981080"/>
          </a:xfrm>
          <a:custGeom>
            <a:avLst/>
            <a:gdLst>
              <a:gd name="textAreaLeft" fmla="*/ 0 w 838080"/>
              <a:gd name="textAreaRight" fmla="*/ 302760 w 838080"/>
              <a:gd name="textAreaTop" fmla="*/ 100080 h 1981080"/>
              <a:gd name="textAreaBottom" fmla="*/ 18810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666880" y="4692600"/>
          <a:ext cx="3787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692600"/>
                    <a:ext cx="3787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946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 Descrip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2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are described parametrically using a combination of Profiles and Path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ofile is swept over the entire length of a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les described by key parameters, like length, radiu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a round_hole is defined by a Complete_circular_profile and a Linear_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809880"/>
            <a:ext cx="1447920" cy="121932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12" y="0"/>
                </a:moveTo>
                <a:cubicBezTo>
                  <a:pt x="736" y="124"/>
                  <a:pt x="560" y="248"/>
                  <a:pt x="528" y="288"/>
                </a:cubicBezTo>
                <a:cubicBezTo>
                  <a:pt x="496" y="328"/>
                  <a:pt x="808" y="160"/>
                  <a:pt x="720" y="240"/>
                </a:cubicBezTo>
                <a:cubicBezTo>
                  <a:pt x="632" y="320"/>
                  <a:pt x="128" y="720"/>
                  <a:pt x="0" y="76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886200"/>
            <a:ext cx="1371600" cy="990720"/>
          </a:xfrm>
          <a:custGeom>
            <a:avLst/>
            <a:gdLst/>
            <a:ahLst/>
            <a:rect l="l" t="t" r="r" b="b"/>
            <a:pathLst>
              <a:path w="864" h="624">
                <a:moveTo>
                  <a:pt x="864" y="624"/>
                </a:moveTo>
                <a:cubicBezTo>
                  <a:pt x="692" y="524"/>
                  <a:pt x="520" y="424"/>
                  <a:pt x="480" y="384"/>
                </a:cubicBezTo>
                <a:cubicBezTo>
                  <a:pt x="440" y="344"/>
                  <a:pt x="704" y="448"/>
                  <a:pt x="624" y="384"/>
                </a:cubicBezTo>
                <a:cubicBezTo>
                  <a:pt x="544" y="320"/>
                  <a:pt x="272" y="1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58:55Z</dcterms:created>
  <dc:creator>David Loffredo</dc:creator>
  <dc:description/>
  <dc:language>en-US</dc:language>
  <cp:lastModifiedBy>David Loffredo</cp:lastModifiedBy>
  <cp:lastPrinted>2001-10-02T07:52:18Z</cp:lastPrinted>
  <dcterms:modified xsi:type="dcterms:W3CDTF">2002-03-06T20:41:07Z</dcterms:modified>
  <cp:revision>78</cp:revision>
  <dc:subject/>
  <dc:title>STEP-NC and CAM</dc:title>
</cp:coreProperties>
</file>