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San Francisco N001 2001-06-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D7551C1B-0CF9-4F71-9953-0A6E37DC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tep-manufacturing@steptools.com" TargetMode="External"/><Relationship Id="rId2" Type="http://schemas.openxmlformats.org/officeDocument/2006/relationships/hyperlink" Target="http://www.steptool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Schedule (1/4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 Afternoon - Joint meeting with SC1/Wg7 and Manufacturing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projects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4649 – Mr. Glantsch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4 e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OM AP-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manufacturing (2/4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 3:30PM to 5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thru of the AP-238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manufacturing (3/4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Joint with Implementor’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AM to Noon STEP-NC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LS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M to 3P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3/AP-224/AP-238 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process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manufacturing (4/4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M to 3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30PM to 5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osing Plenar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38 to be submitted for combined NWI and CD ballot before nex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49-12 Turning model to be submitted for CD ballot in SC1 before nex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13 “tiger team” to consider if new AP-213 should be standalone or become part of  AP-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e-mail exploder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step-manufacturing@step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://www.step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for SC4 (far left of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 of all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1-10-04T23:29:20Z</dcterms:modified>
  <cp:revision>146</cp:revision>
  <dc:subject/>
  <dc:title>WG3 Presentation to SC4 Opening Plenary</dc:title>
</cp:coreProperties>
</file>