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8DB-36EF-4CFF-B26D-69671A7ED01D}" type="datetime5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l 31, 20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47920" y="533520"/>
            <a:ext cx="6248160" cy="6485400"/>
            <a:chOff x="1447920" y="533520"/>
            <a:chExt cx="6248160" cy="6485400"/>
          </a:xfrm>
        </p:grpSpPr>
        <p:pic>
          <p:nvPicPr>
            <p:cNvPr id="79" name="dim-insp_logo" descr=""/>
            <p:cNvPicPr/>
            <p:nvPr/>
          </p:nvPicPr>
          <p:blipFill>
            <a:blip r:embed="rId1"/>
            <a:stretch/>
          </p:blipFill>
          <p:spPr>
            <a:xfrm>
              <a:off x="1447920" y="1143000"/>
              <a:ext cx="62481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webidblue_2linecentr" descr=""/>
            <p:cNvPicPr/>
            <p:nvPr/>
          </p:nvPicPr>
          <p:blipFill>
            <a:blip r:embed="rId2"/>
            <a:stretch/>
          </p:blipFill>
          <p:spPr>
            <a:xfrm>
              <a:off x="3767040" y="3362400"/>
              <a:ext cx="129564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370240" y="1498680"/>
              <a:ext cx="4395960" cy="55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d Vorburger and Simon Frechett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/N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D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eca-IT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4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kuoka, Ja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ctober 1, 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60160" y="533520"/>
              <a:ext cx="26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Report on AP2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Dimensional Inspec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EP Modules (Part identification) / PDM Schem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P224 (Mech prod def using machining feature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P214 (Automotive mechanical desig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IC519 (Geometric tolerance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MIS (Dimensional Measuring Interface Standar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eb Dimensional Measurement Analysis Projec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EP NC (future activit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19920" y="57913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 Tolerance harmonization AP214 &amp; AP224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68080" y="1114560"/>
            <a:ext cx="3620160" cy="1427040"/>
            <a:chOff x="3268080" y="1114560"/>
            <a:chExt cx="3620160" cy="1427040"/>
          </a:xfrm>
        </p:grpSpPr>
        <p:sp>
          <p:nvSpPr>
            <p:cNvPr id="150" name=""/>
            <p:cNvSpPr/>
            <p:nvPr/>
          </p:nvSpPr>
          <p:spPr>
            <a:xfrm>
              <a:off x="6018120" y="207036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68160" y="21844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54480" y="231300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8480" y="111456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7120" y="129384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111456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4800" y="114300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4720" y="115092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3720" y="129564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8680" y="142560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07000" y="187668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07000" y="163368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232680" y="187632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2720" y="200664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3600" y="163368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32560" y="160200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3920" y="1665360"/>
              <a:ext cx="720720" cy="23976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160020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68080" y="160020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de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0880" y="1066680"/>
            <a:ext cx="2548080" cy="4647960"/>
            <a:chOff x="380880" y="1066680"/>
            <a:chExt cx="2548080" cy="4647960"/>
          </a:xfrm>
        </p:grpSpPr>
        <p:grpSp>
          <p:nvGrpSpPr>
            <p:cNvPr id="170" name=""/>
            <p:cNvGrpSpPr/>
            <p:nvPr/>
          </p:nvGrpSpPr>
          <p:grpSpPr>
            <a:xfrm>
              <a:off x="380880" y="1066680"/>
              <a:ext cx="2548080" cy="631800"/>
              <a:chOff x="380880" y="1066680"/>
              <a:chExt cx="2548080" cy="631800"/>
            </a:xfrm>
          </p:grpSpPr>
          <p:sp>
            <p:nvSpPr>
              <p:cNvPr id="171" name=""/>
              <p:cNvSpPr/>
              <p:nvPr/>
            </p:nvSpPr>
            <p:spPr>
              <a:xfrm>
                <a:off x="380880" y="1066680"/>
                <a:ext cx="9651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9000" y="111420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5440" y="124452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7240" y="137448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6760" y="1518840"/>
                <a:ext cx="482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76560" y="1228320"/>
                <a:ext cx="752400" cy="27468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27400" y="130932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65120" y="1374480"/>
                <a:ext cx="754200" cy="1800"/>
              </a:xfrm>
              <a:custGeom>
                <a:avLst/>
                <a:gdLst/>
                <a:ahLst/>
                <a:rect l="l" t="t" r="r" b="b"/>
                <a:pathLst>
                  <a:path w="357" h="0">
                    <a:moveTo>
                      <a:pt x="0" y="0"/>
                    </a:moveTo>
                    <a:lnTo>
                      <a:pt x="174" y="0"/>
                    </a:lnTo>
                    <a:lnTo>
                      <a:pt x="174" y="0"/>
                    </a:lnTo>
                    <a:lnTo>
                      <a:pt x="357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9720" y="1341360"/>
                <a:ext cx="759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15960" y="121896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abe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90480" y="1742760"/>
              <a:ext cx="790560" cy="862200"/>
              <a:chOff x="690480" y="1742760"/>
              <a:chExt cx="790560" cy="862200"/>
            </a:xfrm>
          </p:grpSpPr>
          <p:sp>
            <p:nvSpPr>
              <p:cNvPr id="182" name=""/>
              <p:cNvSpPr/>
              <p:nvPr/>
            </p:nvSpPr>
            <p:spPr>
              <a:xfrm>
                <a:off x="861840" y="1939680"/>
                <a:ext cx="214560" cy="32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864720" y="1742760"/>
                <a:ext cx="180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076400" y="1939680"/>
                <a:ext cx="1440" cy="146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36800" y="2054160"/>
                <a:ext cx="77760" cy="648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0480" y="2136600"/>
                <a:ext cx="790560" cy="468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6400" y="2296800"/>
                <a:ext cx="67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circ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01920" y="2620800"/>
              <a:ext cx="1190880" cy="1262160"/>
              <a:chOff x="601920" y="2620800"/>
              <a:chExt cx="1190880" cy="1262160"/>
            </a:xfrm>
          </p:grpSpPr>
          <p:sp>
            <p:nvSpPr>
              <p:cNvPr id="189" name=""/>
              <p:cNvSpPr/>
              <p:nvPr/>
            </p:nvSpPr>
            <p:spPr>
              <a:xfrm>
                <a:off x="882720" y="3382560"/>
                <a:ext cx="869760" cy="500400"/>
              </a:xfrm>
              <a:prstGeom prst="rect">
                <a:avLst/>
              </a:prstGeom>
              <a:solidFill>
                <a:srgbClr val="f2be9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49680" y="3430440"/>
                <a:ext cx="32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17280" y="356040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27360" y="370656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76400" y="2620800"/>
                <a:ext cx="96840" cy="712800"/>
              </a:xfrm>
              <a:custGeom>
                <a:avLst/>
                <a:gdLst/>
                <a:ahLst/>
                <a:rect l="l" t="t" r="r" b="b"/>
                <a:pathLst>
                  <a:path w="46" h="401">
                    <a:moveTo>
                      <a:pt x="0" y="0"/>
                    </a:moveTo>
                    <a:lnTo>
                      <a:pt x="0" y="110"/>
                    </a:lnTo>
                    <a:lnTo>
                      <a:pt x="46" y="110"/>
                    </a:lnTo>
                    <a:lnTo>
                      <a:pt x="46" y="40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31840" y="3300120"/>
                <a:ext cx="795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1920" y="289548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44040" y="3882960"/>
              <a:ext cx="1251720" cy="1831680"/>
              <a:chOff x="644040" y="3882960"/>
              <a:chExt cx="1251720" cy="1831680"/>
            </a:xfrm>
          </p:grpSpPr>
          <p:sp>
            <p:nvSpPr>
              <p:cNvPr id="197" name=""/>
              <p:cNvSpPr/>
              <p:nvPr/>
            </p:nvSpPr>
            <p:spPr>
              <a:xfrm>
                <a:off x="1057320" y="5082840"/>
                <a:ext cx="7509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31840" y="513072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1400" y="526068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1480" y="538920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43000" y="553536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08240" y="3882960"/>
                <a:ext cx="1440" cy="1150920"/>
              </a:xfrm>
              <a:custGeom>
                <a:avLst/>
                <a:gdLst/>
                <a:ahLst/>
                <a:rect l="l" t="t" r="r" b="b"/>
                <a:pathLst>
                  <a:path w="0" h="648">
                    <a:moveTo>
                      <a:pt x="0" y="0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6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68280" y="500040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4040" y="419076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6345360" y="1147680"/>
            <a:ext cx="2570040" cy="2314440"/>
            <a:chOff x="6345360" y="1147680"/>
            <a:chExt cx="2570040" cy="2314440"/>
          </a:xfrm>
        </p:grpSpPr>
        <p:sp>
          <p:nvSpPr>
            <p:cNvPr id="206" name=""/>
            <p:cNvSpPr/>
            <p:nvPr/>
          </p:nvSpPr>
          <p:spPr>
            <a:xfrm>
              <a:off x="6927840" y="114768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560" y="114768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6000" y="129528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63000" y="216828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685360" y="2209680"/>
              <a:ext cx="144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59480" y="221904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8400" y="296208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88520" y="296208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4560" y="300960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9520" y="313992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43240" y="328428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3640" y="156996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59680" y="153504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56400" y="156996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48400" y="153504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8240" y="231264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67600" y="228096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3640" y="255708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63000" y="287964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9280" y="259056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4920" y="21333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5360" y="159984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35880" y="175248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784680" y="2133720"/>
            <a:ext cx="2509920" cy="2468160"/>
            <a:chOff x="3784680" y="2133720"/>
            <a:chExt cx="2509920" cy="2468160"/>
          </a:xfrm>
        </p:grpSpPr>
        <p:sp>
          <p:nvSpPr>
            <p:cNvPr id="230" name=""/>
            <p:cNvSpPr/>
            <p:nvPr/>
          </p:nvSpPr>
          <p:spPr>
            <a:xfrm>
              <a:off x="5521320" y="4313520"/>
              <a:ext cx="77328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8280" y="431352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04560" y="44341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784680" y="2133720"/>
              <a:ext cx="1908000" cy="2120760"/>
              <a:chOff x="3784680" y="2133720"/>
              <a:chExt cx="1908000" cy="2120760"/>
            </a:xfrm>
          </p:grpSpPr>
          <p:sp>
            <p:nvSpPr>
              <p:cNvPr id="234" name=""/>
              <p:cNvSpPr/>
              <p:nvPr/>
            </p:nvSpPr>
            <p:spPr>
              <a:xfrm>
                <a:off x="4919760" y="2944800"/>
                <a:ext cx="772920" cy="50004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0760" y="299268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71600" y="3138480"/>
                <a:ext cx="64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85640" y="3267360"/>
                <a:ext cx="60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uni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07120" y="3461040"/>
                <a:ext cx="1440" cy="1792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4556160" y="3639960"/>
                <a:ext cx="1440" cy="96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16560" y="3705480"/>
                <a:ext cx="75960" cy="6336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5680" y="2133720"/>
                <a:ext cx="755640" cy="27612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11640" y="2148120"/>
                <a:ext cx="32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73080" y="222408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TR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83040" y="2457720"/>
                <a:ext cx="424080" cy="487080"/>
              </a:xfrm>
              <a:custGeom>
                <a:avLst/>
                <a:gdLst/>
                <a:ahLst/>
                <a:rect l="l" t="t" r="r" b="b"/>
                <a:pathLst>
                  <a:path w="201" h="274">
                    <a:moveTo>
                      <a:pt x="201" y="274"/>
                    </a:moveTo>
                    <a:lnTo>
                      <a:pt x="201" y="137"/>
                    </a:lnTo>
                    <a:lnTo>
                      <a:pt x="0" y="13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4880" y="2425680"/>
                <a:ext cx="7488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11200" y="2529000"/>
                <a:ext cx="26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ni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559040" y="3646440"/>
                <a:ext cx="780840" cy="0"/>
              </a:xfrm>
              <a:prstGeom prst="line">
                <a:avLst/>
              </a:prstGeom>
              <a:ln w="381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91120" y="3705480"/>
                <a:ext cx="77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79800" y="3786480"/>
                <a:ext cx="752400" cy="4680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15800" y="3881520"/>
                <a:ext cx="60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ominal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23360" y="4011840"/>
                <a:ext cx="354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84680" y="2425680"/>
                <a:ext cx="446040" cy="1311480"/>
              </a:xfrm>
              <a:custGeom>
                <a:avLst/>
                <a:gdLst/>
                <a:ahLst/>
                <a:rect l="l" t="t" r="r" b="b"/>
                <a:pathLst>
                  <a:path w="211" h="738">
                    <a:moveTo>
                      <a:pt x="0" y="0"/>
                    </a:moveTo>
                    <a:lnTo>
                      <a:pt x="0" y="693"/>
                    </a:lnTo>
                    <a:lnTo>
                      <a:pt x="211" y="693"/>
                    </a:lnTo>
                    <a:lnTo>
                      <a:pt x="211" y="7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96920" y="2986200"/>
                <a:ext cx="874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ed_valu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4908240" y="405288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8280" y="397692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1280" y="3976920"/>
              <a:ext cx="0" cy="304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0520" y="4233960"/>
              <a:ext cx="7632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172200" y="571500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67480" y="571500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95280" y="1681200"/>
            <a:ext cx="1947600" cy="1686600"/>
            <a:chOff x="1295280" y="1681200"/>
            <a:chExt cx="1947600" cy="1686600"/>
          </a:xfrm>
        </p:grpSpPr>
        <p:sp>
          <p:nvSpPr>
            <p:cNvPr id="261" name=""/>
            <p:cNvSpPr/>
            <p:nvPr/>
          </p:nvSpPr>
          <p:spPr>
            <a:xfrm>
              <a:off x="1481760" y="3200040"/>
              <a:ext cx="1761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s S[1:?]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7920" y="2638080"/>
              <a:ext cx="1752480" cy="358560"/>
            </a:xfrm>
            <a:prstGeom prst="rect">
              <a:avLst/>
            </a:prstGeom>
            <a:solidFill>
              <a:srgbClr val="ffffcc"/>
            </a:solidFill>
            <a:ln w="144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4200" y="2692080"/>
              <a:ext cx="0" cy="304560"/>
            </a:xfrm>
            <a:prstGeom prst="line">
              <a:avLst/>
            </a:prstGeom>
            <a:ln w="1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560" y="2744640"/>
              <a:ext cx="156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dp_tolerance_sel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317160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828800" y="3019320"/>
              <a:ext cx="0" cy="15192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286000" y="2104920"/>
              <a:ext cx="0" cy="532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38480" y="2133360"/>
              <a:ext cx="79200" cy="63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7400" y="2997000"/>
              <a:ext cx="79560" cy="63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693800" y="1681200"/>
              <a:ext cx="1465200" cy="406080"/>
              <a:chOff x="1693800" y="1681200"/>
              <a:chExt cx="1465200" cy="406080"/>
            </a:xfrm>
          </p:grpSpPr>
          <p:sp>
            <p:nvSpPr>
              <p:cNvPr id="271" name=""/>
              <p:cNvSpPr/>
              <p:nvPr/>
            </p:nvSpPr>
            <p:spPr>
              <a:xfrm>
                <a:off x="1693800" y="1681200"/>
                <a:ext cx="1465200" cy="4060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0680" y="173808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62560" y="188100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V="1">
              <a:off x="1295280" y="319968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286000" y="1917720"/>
            <a:ext cx="1986120" cy="471600"/>
            <a:chOff x="2286000" y="1917720"/>
            <a:chExt cx="1986120" cy="471600"/>
          </a:xfrm>
        </p:grpSpPr>
        <p:sp>
          <p:nvSpPr>
            <p:cNvPr id="276" name=""/>
            <p:cNvSpPr/>
            <p:nvPr/>
          </p:nvSpPr>
          <p:spPr>
            <a:xfrm>
              <a:off x="3517920" y="191772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8120" y="2016360"/>
              <a:ext cx="41688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0920" y="2162160"/>
              <a:ext cx="63000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0" y="2286000"/>
              <a:ext cx="12193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1080" y="225108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05320" y="3625560"/>
            <a:ext cx="3254400" cy="1732320"/>
            <a:chOff x="5305320" y="3625560"/>
            <a:chExt cx="3254400" cy="1732320"/>
          </a:xfrm>
        </p:grpSpPr>
        <p:sp>
          <p:nvSpPr>
            <p:cNvPr id="282" name=""/>
            <p:cNvSpPr/>
            <p:nvPr/>
          </p:nvSpPr>
          <p:spPr>
            <a:xfrm flipV="1">
              <a:off x="6599160" y="3625560"/>
              <a:ext cx="1800" cy="12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305320" y="3646080"/>
              <a:ext cx="12938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9560" y="482292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50040" y="488952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3120" y="506736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51400" y="518004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58120" y="396252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49920" y="401328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2320" y="414036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2880" y="4800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46920" y="449604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858000" y="411444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000" y="411480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72440" y="407700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867280" y="5029200"/>
              <a:ext cx="4572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867280" y="457200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30920" y="459432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37600" y="396252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467480" y="5334120"/>
            <a:ext cx="1219320" cy="30456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4320" y="454032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828800" y="4889520"/>
            <a:ext cx="4460760" cy="840960"/>
            <a:chOff x="1828800" y="4889520"/>
            <a:chExt cx="4460760" cy="840960"/>
          </a:xfrm>
        </p:grpSpPr>
        <p:grpSp>
          <p:nvGrpSpPr>
            <p:cNvPr id="303" name=""/>
            <p:cNvGrpSpPr/>
            <p:nvPr/>
          </p:nvGrpSpPr>
          <p:grpSpPr>
            <a:xfrm>
              <a:off x="1828800" y="4921200"/>
              <a:ext cx="4460760" cy="809280"/>
              <a:chOff x="1828800" y="4921200"/>
              <a:chExt cx="4460760" cy="80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828800" y="5211720"/>
                <a:ext cx="4460760" cy="292320"/>
              </a:xfrm>
              <a:custGeom>
                <a:avLst/>
                <a:gdLst/>
                <a:ahLst/>
                <a:rect l="l" t="t" r="r" b="b"/>
                <a:pathLst>
                  <a:path w="2112" h="164">
                    <a:moveTo>
                      <a:pt x="0" y="164"/>
                    </a:moveTo>
                    <a:lnTo>
                      <a:pt x="1902" y="164"/>
                    </a:lnTo>
                    <a:lnTo>
                      <a:pt x="1902" y="0"/>
                    </a:lnTo>
                    <a:lnTo>
                      <a:pt x="211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28800" y="4921200"/>
                <a:ext cx="1487520" cy="371520"/>
              </a:xfrm>
              <a:custGeom>
                <a:avLst/>
                <a:gdLst/>
                <a:ahLst/>
                <a:rect l="l" t="t" r="r" b="b"/>
                <a:pathLst>
                  <a:path w="704" h="209">
                    <a:moveTo>
                      <a:pt x="0" y="209"/>
                    </a:moveTo>
                    <a:lnTo>
                      <a:pt x="347" y="209"/>
                    </a:lnTo>
                    <a:lnTo>
                      <a:pt x="347" y="0"/>
                    </a:lnTo>
                    <a:lnTo>
                      <a:pt x="70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66120" y="5562720"/>
                <a:ext cx="1495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_limits S[1:2]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54560" y="5105520"/>
                <a:ext cx="78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_metho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276720" y="488952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517760" y="3809880"/>
            <a:ext cx="2590560" cy="1257120"/>
            <a:chOff x="1517760" y="3809880"/>
            <a:chExt cx="2590560" cy="1257120"/>
          </a:xfrm>
        </p:grpSpPr>
        <p:sp>
          <p:nvSpPr>
            <p:cNvPr id="310" name=""/>
            <p:cNvSpPr/>
            <p:nvPr/>
          </p:nvSpPr>
          <p:spPr>
            <a:xfrm>
              <a:off x="1924200" y="4095360"/>
              <a:ext cx="753840" cy="500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3880" y="428904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1720" y="441792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1880" y="4694040"/>
              <a:ext cx="781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4038480"/>
              <a:ext cx="1208160" cy="357120"/>
            </a:xfrm>
            <a:custGeom>
              <a:avLst/>
              <a:gdLst/>
              <a:ahLst/>
              <a:rect l="l" t="t" r="r" b="b"/>
              <a:pathLst>
                <a:path w="274" h="201">
                  <a:moveTo>
                    <a:pt x="0" y="201"/>
                  </a:moveTo>
                  <a:lnTo>
                    <a:pt x="137" y="201"/>
                  </a:lnTo>
                  <a:lnTo>
                    <a:pt x="137" y="0"/>
                  </a:lnTo>
                  <a:lnTo>
                    <a:pt x="27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6200" y="402552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52680" y="4775040"/>
              <a:ext cx="755640" cy="276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41040" y="48542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27120" y="4613040"/>
              <a:ext cx="1312920" cy="112680"/>
            </a:xfrm>
            <a:custGeom>
              <a:avLst/>
              <a:gdLst/>
              <a:ahLst/>
              <a:rect l="l" t="t" r="r" b="b"/>
              <a:pathLst>
                <a:path w="622" h="63">
                  <a:moveTo>
                    <a:pt x="0" y="0"/>
                  </a:moveTo>
                  <a:lnTo>
                    <a:pt x="0" y="45"/>
                  </a:lnTo>
                  <a:lnTo>
                    <a:pt x="622" y="45"/>
                  </a:lnTo>
                  <a:lnTo>
                    <a:pt x="622" y="6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0840" y="457164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_meth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0080" y="3809880"/>
              <a:ext cx="669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57360" y="4806720"/>
              <a:ext cx="6192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76560" y="4613040"/>
              <a:ext cx="1440" cy="193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57360" y="4806360"/>
              <a:ext cx="3240" cy="227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17760" y="50004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5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943600" y="586728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Features harmonization AP224 &amp; AP214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5791320"/>
            <a:ext cx="11430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5791320"/>
            <a:ext cx="121932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354720" y="3543480"/>
            <a:ext cx="1697040" cy="1035000"/>
            <a:chOff x="6354720" y="3543480"/>
            <a:chExt cx="1697040" cy="1035000"/>
          </a:xfrm>
        </p:grpSpPr>
        <p:sp>
          <p:nvSpPr>
            <p:cNvPr id="331" name=""/>
            <p:cNvSpPr/>
            <p:nvPr/>
          </p:nvSpPr>
          <p:spPr>
            <a:xfrm>
              <a:off x="6354720" y="4038480"/>
              <a:ext cx="960480" cy="5400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18080" y="416232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18440" y="4308480"/>
              <a:ext cx="86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9560" y="3543480"/>
              <a:ext cx="1222200" cy="450720"/>
            </a:xfrm>
            <a:custGeom>
              <a:avLst/>
              <a:gdLst/>
              <a:ahLst/>
              <a:rect l="l" t="t" r="r" b="b"/>
              <a:pathLst>
                <a:path w="770" h="284">
                  <a:moveTo>
                    <a:pt x="770" y="0"/>
                  </a:moveTo>
                  <a:lnTo>
                    <a:pt x="770" y="142"/>
                  </a:lnTo>
                  <a:lnTo>
                    <a:pt x="0" y="142"/>
                  </a:lnTo>
                  <a:lnTo>
                    <a:pt x="0" y="2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78800" y="3948120"/>
              <a:ext cx="99720" cy="90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81200" y="375300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6200" y="4038480"/>
            <a:ext cx="2768760" cy="1677960"/>
            <a:chOff x="3886200" y="4038480"/>
            <a:chExt cx="2768760" cy="1677960"/>
          </a:xfrm>
        </p:grpSpPr>
        <p:grpSp>
          <p:nvGrpSpPr>
            <p:cNvPr id="338" name=""/>
            <p:cNvGrpSpPr/>
            <p:nvPr/>
          </p:nvGrpSpPr>
          <p:grpSpPr>
            <a:xfrm>
              <a:off x="3886200" y="4038480"/>
              <a:ext cx="2768760" cy="1677960"/>
              <a:chOff x="3886200" y="4038480"/>
              <a:chExt cx="2768760" cy="1677960"/>
            </a:xfrm>
          </p:grpSpPr>
          <p:sp>
            <p:nvSpPr>
              <p:cNvPr id="339" name=""/>
              <p:cNvSpPr/>
              <p:nvPr/>
            </p:nvSpPr>
            <p:spPr>
              <a:xfrm>
                <a:off x="4944960" y="426384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3886200" y="4038480"/>
                <a:ext cx="2768760" cy="1677960"/>
                <a:chOff x="3886200" y="4038480"/>
                <a:chExt cx="2768760" cy="16779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886200" y="4038480"/>
                  <a:ext cx="1047600" cy="5396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037760" y="4190760"/>
                  <a:ext cx="576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numeric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035600" y="433692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995720" y="4308480"/>
                  <a:ext cx="1359000" cy="1440"/>
                </a:xfrm>
                <a:custGeom>
                  <a:avLst/>
                  <a:gdLst/>
                  <a:ahLst/>
                  <a:rect l="l" t="t" r="r" b="b"/>
                  <a:pathLst>
                    <a:path w="856" h="0">
                      <a:moveTo>
                        <a:pt x="856" y="0"/>
                      </a:moveTo>
                      <a:lnTo>
                        <a:pt x="432" y="0"/>
                      </a:lnTo>
                      <a:lnTo>
                        <a:pt x="43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70600" y="5400720"/>
                  <a:ext cx="79848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743440" y="540072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58520" y="5491080"/>
                  <a:ext cx="365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856120" y="4916520"/>
                  <a:ext cx="79884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29320" y="491652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94000" y="4992480"/>
                  <a:ext cx="529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0000" y="4589280"/>
                  <a:ext cx="1058760" cy="766800"/>
                </a:xfrm>
                <a:custGeom>
                  <a:avLst/>
                  <a:gdLst/>
                  <a:ahLst/>
                  <a:rect l="l" t="t" r="r" b="b"/>
                  <a:pathLst>
                    <a:path w="667" h="483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667" y="171"/>
                      </a:lnTo>
                      <a:lnTo>
                        <a:pt x="667" y="48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19800" y="5310000"/>
                  <a:ext cx="10008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672080" y="4589280"/>
                  <a:ext cx="1582560" cy="271440"/>
                </a:xfrm>
                <a:custGeom>
                  <a:avLst/>
                  <a:gdLst/>
                  <a:ahLst/>
                  <a:rect l="l" t="t" r="r" b="b"/>
                  <a:pathLst>
                    <a:path w="997" h="17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997" y="64"/>
                      </a:lnTo>
                      <a:lnTo>
                        <a:pt x="997" y="1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205680" y="4814640"/>
                  <a:ext cx="9972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252400" y="4057560"/>
                  <a:ext cx="7812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iamet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102280" y="4438440"/>
                  <a:ext cx="1204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uni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4103280" y="4895640"/>
              <a:ext cx="129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7467480" y="5334120"/>
            <a:ext cx="1219320" cy="30456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324480" y="1066680"/>
            <a:ext cx="2113200" cy="2476440"/>
            <a:chOff x="6324480" y="1066680"/>
            <a:chExt cx="2113200" cy="2476440"/>
          </a:xfrm>
        </p:grpSpPr>
        <p:grpSp>
          <p:nvGrpSpPr>
            <p:cNvPr id="360" name=""/>
            <p:cNvGrpSpPr/>
            <p:nvPr/>
          </p:nvGrpSpPr>
          <p:grpSpPr>
            <a:xfrm>
              <a:off x="6324480" y="1981080"/>
              <a:ext cx="823680" cy="541440"/>
              <a:chOff x="6324480" y="1981080"/>
              <a:chExt cx="823680" cy="5414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24480" y="1981080"/>
                <a:ext cx="82368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87840" y="2094120"/>
                <a:ext cx="70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ulti_axis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85680" y="225288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380280" y="3001680"/>
              <a:ext cx="79848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55320" y="319392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62920" y="2286000"/>
              <a:ext cx="2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55000" y="224784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40640" y="3001680"/>
              <a:ext cx="79704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5160" y="319392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705720" y="2514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40560" y="293364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65960" y="327348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78760" y="3273480"/>
              <a:ext cx="18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365960" y="327348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0560" y="32274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7467480" y="1599840"/>
              <a:ext cx="923760" cy="952920"/>
              <a:chOff x="7467480" y="1599840"/>
              <a:chExt cx="923760" cy="952920"/>
            </a:xfrm>
          </p:grpSpPr>
          <p:sp>
            <p:nvSpPr>
              <p:cNvPr id="377" name=""/>
              <p:cNvSpPr/>
              <p:nvPr/>
            </p:nvSpPr>
            <p:spPr>
              <a:xfrm>
                <a:off x="7467480" y="2011320"/>
                <a:ext cx="82224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29400" y="212436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7240" y="228312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89800" y="2283120"/>
                <a:ext cx="1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89720" y="2283120"/>
                <a:ext cx="1000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60960" y="159984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96160" y="192276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315200" y="1066680"/>
              <a:ext cx="1047600" cy="609120"/>
              <a:chOff x="7315200" y="1066680"/>
              <a:chExt cx="1047600" cy="609120"/>
            </a:xfrm>
          </p:grpSpPr>
          <p:sp>
            <p:nvSpPr>
              <p:cNvPr id="385" name=""/>
              <p:cNvSpPr/>
              <p:nvPr/>
            </p:nvSpPr>
            <p:spPr>
              <a:xfrm>
                <a:off x="7315200" y="1066680"/>
                <a:ext cx="1047600" cy="6091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4600" y="1209600"/>
                <a:ext cx="96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nufacturing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4960" y="137808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705720" y="13716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80200" y="13302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143000" y="1009800"/>
            <a:ext cx="3478320" cy="1275840"/>
            <a:chOff x="1143000" y="1009800"/>
            <a:chExt cx="3478320" cy="1275840"/>
          </a:xfrm>
        </p:grpSpPr>
        <p:sp>
          <p:nvSpPr>
            <p:cNvPr id="391" name=""/>
            <p:cNvSpPr/>
            <p:nvPr/>
          </p:nvSpPr>
          <p:spPr>
            <a:xfrm>
              <a:off x="342900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49760" y="1484280"/>
              <a:ext cx="100080" cy="9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43000" y="1009800"/>
              <a:ext cx="3478320" cy="1275840"/>
              <a:chOff x="1143000" y="1009800"/>
              <a:chExt cx="3478320" cy="1275840"/>
            </a:xfrm>
          </p:grpSpPr>
          <p:sp>
            <p:nvSpPr>
              <p:cNvPr id="394" name=""/>
              <p:cNvSpPr/>
              <p:nvPr/>
            </p:nvSpPr>
            <p:spPr>
              <a:xfrm>
                <a:off x="2585160" y="160020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1143000" y="1009800"/>
                <a:ext cx="3478320" cy="615240"/>
                <a:chOff x="1143000" y="1009800"/>
                <a:chExt cx="3478320" cy="615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822840" y="1064880"/>
                  <a:ext cx="798480" cy="5410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885840" y="1177560"/>
                  <a:ext cx="459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hape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85120" y="1325160"/>
                  <a:ext cx="413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pec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1143000" y="1085400"/>
                  <a:ext cx="960480" cy="539640"/>
                  <a:chOff x="1143000" y="1085400"/>
                  <a:chExt cx="960480" cy="5396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1143000" y="1085400"/>
                    <a:ext cx="960480" cy="53964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371600" y="1275840"/>
                    <a:ext cx="381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shap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304360" y="1009800"/>
                  <a:ext cx="12124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elements S[0:?]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133720" y="1314000"/>
                  <a:ext cx="167616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714840" y="1269720"/>
                  <a:ext cx="100080" cy="90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 flipV="1">
                <a:off x="3429000" y="1523880"/>
                <a:ext cx="0" cy="7617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4038480" y="3048120"/>
            <a:ext cx="932040" cy="990000"/>
            <a:chOff x="4038480" y="3048120"/>
            <a:chExt cx="932040" cy="990000"/>
          </a:xfrm>
        </p:grpSpPr>
        <p:grpSp>
          <p:nvGrpSpPr>
            <p:cNvPr id="407" name=""/>
            <p:cNvGrpSpPr/>
            <p:nvPr/>
          </p:nvGrpSpPr>
          <p:grpSpPr>
            <a:xfrm>
              <a:off x="4038480" y="3048120"/>
              <a:ext cx="808920" cy="539640"/>
              <a:chOff x="4038480" y="3048120"/>
              <a:chExt cx="808920" cy="539640"/>
            </a:xfrm>
          </p:grpSpPr>
          <p:sp>
            <p:nvSpPr>
              <p:cNvPr id="408" name=""/>
              <p:cNvSpPr/>
              <p:nvPr/>
            </p:nvSpPr>
            <p:spPr>
              <a:xfrm>
                <a:off x="4038480" y="304812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98240" y="3171960"/>
                <a:ext cx="749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um_para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ith_to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4968720" y="3273480"/>
              <a:ext cx="18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19720" y="365760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68960" y="3622680"/>
              <a:ext cx="99720" cy="9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821040" y="2209680"/>
            <a:ext cx="761040" cy="812880"/>
            <a:chOff x="3821040" y="2209680"/>
            <a:chExt cx="761040" cy="812880"/>
          </a:xfrm>
        </p:grpSpPr>
        <p:sp>
          <p:nvSpPr>
            <p:cNvPr id="414" name=""/>
            <p:cNvSpPr/>
            <p:nvPr/>
          </p:nvSpPr>
          <p:spPr>
            <a:xfrm>
              <a:off x="3821040" y="2666880"/>
              <a:ext cx="5223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266688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21080" y="2931840"/>
              <a:ext cx="10008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6840" y="2209680"/>
              <a:ext cx="615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assoc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648320" y="1066680"/>
            <a:ext cx="2017440" cy="539640"/>
            <a:chOff x="4648320" y="1066680"/>
            <a:chExt cx="2017440" cy="539640"/>
          </a:xfrm>
        </p:grpSpPr>
        <p:grpSp>
          <p:nvGrpSpPr>
            <p:cNvPr id="419" name=""/>
            <p:cNvGrpSpPr/>
            <p:nvPr/>
          </p:nvGrpSpPr>
          <p:grpSpPr>
            <a:xfrm>
              <a:off x="5867280" y="1066680"/>
              <a:ext cx="798480" cy="539640"/>
              <a:chOff x="5867280" y="1066680"/>
              <a:chExt cx="798480" cy="539640"/>
            </a:xfrm>
          </p:grpSpPr>
          <p:sp>
            <p:nvSpPr>
              <p:cNvPr id="420" name=""/>
              <p:cNvSpPr/>
              <p:nvPr/>
            </p:nvSpPr>
            <p:spPr>
              <a:xfrm>
                <a:off x="5867280" y="106668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28840" y="11793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28120" y="132516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664160" y="1066680"/>
              <a:ext cx="117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elements S[0:?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8320" y="1371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5760" y="1315800"/>
              <a:ext cx="100080" cy="90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04560" y="2001960"/>
            <a:ext cx="3439080" cy="4061880"/>
            <a:chOff x="304560" y="2001960"/>
            <a:chExt cx="3439080" cy="4061880"/>
          </a:xfrm>
        </p:grpSpPr>
        <p:sp>
          <p:nvSpPr>
            <p:cNvPr id="427" name=""/>
            <p:cNvSpPr/>
            <p:nvPr/>
          </p:nvSpPr>
          <p:spPr>
            <a:xfrm>
              <a:off x="1523880" y="373356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95400" y="3686040"/>
              <a:ext cx="100080" cy="9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304560" y="2001960"/>
              <a:ext cx="3439080" cy="4061880"/>
              <a:chOff x="304560" y="2001960"/>
              <a:chExt cx="3439080" cy="4061880"/>
            </a:xfrm>
          </p:grpSpPr>
          <p:sp>
            <p:nvSpPr>
              <p:cNvPr id="430" name=""/>
              <p:cNvSpPr/>
              <p:nvPr/>
            </p:nvSpPr>
            <p:spPr>
              <a:xfrm>
                <a:off x="3429000" y="3733560"/>
                <a:ext cx="0" cy="60948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66800" y="4781520"/>
                <a:ext cx="9810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609480" y="3352680"/>
                <a:ext cx="922320" cy="731520"/>
                <a:chOff x="609480" y="3352680"/>
                <a:chExt cx="922320" cy="7315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09480" y="3352680"/>
                  <a:ext cx="922320" cy="731520"/>
                </a:xfrm>
                <a:prstGeom prst="rect">
                  <a:avLst/>
                </a:prstGeom>
                <a:solidFill>
                  <a:srgbClr val="e5b18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69600" y="3407760"/>
                  <a:ext cx="313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mf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2120" y="3565080"/>
                  <a:ext cx="823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imensional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68520" y="3712680"/>
                  <a:ext cx="718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71400" y="3869640"/>
                  <a:ext cx="700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soci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700200" y="2001960"/>
                <a:ext cx="922320" cy="5745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0320" y="2057400"/>
                <a:ext cx="313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2840" y="2216160"/>
                <a:ext cx="82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9240" y="236196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838080" y="4647960"/>
                <a:ext cx="776160" cy="577440"/>
                <a:chOff x="838080" y="4647960"/>
                <a:chExt cx="776160" cy="5774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838080" y="4647960"/>
                  <a:ext cx="776160" cy="57744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92080" y="4763520"/>
                  <a:ext cx="630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included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903600" y="4925160"/>
                  <a:ext cx="48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 flipV="1">
                <a:off x="1066680" y="2590560"/>
                <a:ext cx="0" cy="7617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15920" y="261756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74960" y="3449520"/>
                <a:ext cx="1218960" cy="609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  <a:prstDash val="lgDash"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55600" y="3504960"/>
                <a:ext cx="91980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dp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ssoc_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_param_selec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41640" y="3449520"/>
                <a:ext cx="6480" cy="58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00200" y="4724280"/>
                <a:ext cx="100080" cy="90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03440" y="2819160"/>
                <a:ext cx="67752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560" y="2743200"/>
                <a:ext cx="764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dmf_di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2438280" y="5486400"/>
                <a:ext cx="776160" cy="577440"/>
                <a:chOff x="2438280" y="5486400"/>
                <a:chExt cx="776160" cy="5774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438280" y="5486400"/>
                  <a:ext cx="776160" cy="57744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516400" y="5601960"/>
                  <a:ext cx="544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482560" y="5763600"/>
                  <a:ext cx="701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paramet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3400560" y="4267080"/>
                <a:ext cx="99720" cy="90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2666880" y="4343400"/>
                <a:ext cx="922320" cy="574200"/>
                <a:chOff x="2666880" y="4343400"/>
                <a:chExt cx="922320" cy="5742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666880" y="4343400"/>
                  <a:ext cx="922320" cy="574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743200" y="4419360"/>
                  <a:ext cx="489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esign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740680" y="4578120"/>
                  <a:ext cx="51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feature_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39960" y="472392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200400" y="37335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3048120" y="4952520"/>
                <a:ext cx="0" cy="5331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87640" y="5427720"/>
                <a:ext cx="100080" cy="90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23040" y="480060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28400" y="5029200"/>
                <a:ext cx="6152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para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2895480" y="2286000"/>
            <a:ext cx="947880" cy="1447560"/>
            <a:chOff x="2895480" y="2286000"/>
            <a:chExt cx="947880" cy="1447560"/>
          </a:xfrm>
        </p:grpSpPr>
        <p:sp>
          <p:nvSpPr>
            <p:cNvPr id="470" name=""/>
            <p:cNvSpPr/>
            <p:nvPr/>
          </p:nvSpPr>
          <p:spPr>
            <a:xfrm>
              <a:off x="3841920" y="2622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95480" y="2286000"/>
              <a:ext cx="922320" cy="574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72160" y="236196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69640" y="252072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68920" y="266688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86160" y="289548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429000" y="2971800"/>
              <a:ext cx="0" cy="7617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7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Geometric tolerance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 Tolerance harmonization AIC519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103560" y="911160"/>
            <a:ext cx="2881440" cy="612720"/>
            <a:chOff x="3103560" y="911160"/>
            <a:chExt cx="2881440" cy="612720"/>
          </a:xfrm>
        </p:grpSpPr>
        <p:sp>
          <p:nvSpPr>
            <p:cNvPr id="480" name=""/>
            <p:cNvSpPr/>
            <p:nvPr/>
          </p:nvSpPr>
          <p:spPr>
            <a:xfrm>
              <a:off x="4028760" y="911160"/>
              <a:ext cx="195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d_shape_e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03560" y="106380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71600" y="11635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71600" y="128736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60800" y="1287360"/>
              <a:ext cx="1860480" cy="123840"/>
            </a:xfrm>
            <a:custGeom>
              <a:avLst/>
              <a:gdLst/>
              <a:ahLst/>
              <a:rect l="l" t="t" r="r" b="b"/>
              <a:pathLst>
                <a:path w="825" h="78">
                  <a:moveTo>
                    <a:pt x="825" y="78"/>
                  </a:moveTo>
                  <a:lnTo>
                    <a:pt x="409" y="78"/>
                  </a:lnTo>
                  <a:lnTo>
                    <a:pt x="40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05360" y="1249560"/>
              <a:ext cx="1080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614600" y="1387440"/>
            <a:ext cx="3119400" cy="4861080"/>
            <a:chOff x="1614600" y="1387440"/>
            <a:chExt cx="3119400" cy="4861080"/>
          </a:xfrm>
        </p:grpSpPr>
        <p:sp>
          <p:nvSpPr>
            <p:cNvPr id="487" name=""/>
            <p:cNvSpPr/>
            <p:nvPr/>
          </p:nvSpPr>
          <p:spPr>
            <a:xfrm>
              <a:off x="1614600" y="1387440"/>
              <a:ext cx="992160" cy="6206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4800" y="143676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0920" y="15732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90560" y="169704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datum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93440" y="1835280"/>
              <a:ext cx="6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54320" y="184644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25240" y="194616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ngularit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0200" y="2070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54320" y="2381400"/>
              <a:ext cx="88596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42520" y="243216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22720" y="2568600"/>
              <a:ext cx="51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out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20200" y="27050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54320" y="2965680"/>
              <a:ext cx="108432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45760" y="3078360"/>
              <a:ext cx="90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centricit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0200" y="32148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54320" y="3525840"/>
              <a:ext cx="941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19840" y="362592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llelism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20200" y="37623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54320" y="4084560"/>
              <a:ext cx="127800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25600" y="4210200"/>
              <a:ext cx="114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pendicularit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20200" y="43340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54320" y="4645080"/>
              <a:ext cx="8859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23800" y="47451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sition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20200" y="48816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54320" y="521676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27040" y="531648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ymmetr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0200" y="54532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54320" y="5789520"/>
              <a:ext cx="1011240" cy="4590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0720" y="588816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tal_runout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20200" y="60246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58960" y="1598760"/>
              <a:ext cx="207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06760" y="156060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819520" y="1796760"/>
              <a:ext cx="1440" cy="422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06760" y="1797120"/>
              <a:ext cx="212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819160" y="207000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20336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819160" y="26305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25923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819160" y="32148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317808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819160" y="376236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72420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819160" y="433404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8120" y="429732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819160" y="48816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8120" y="48434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819160" y="545328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8120" y="54165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2819160" y="60246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8120" y="59882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33520" y="2021040"/>
            <a:ext cx="2273760" cy="3369600"/>
            <a:chOff x="533520" y="2021040"/>
            <a:chExt cx="2273760" cy="3369600"/>
          </a:xfrm>
        </p:grpSpPr>
        <p:sp>
          <p:nvSpPr>
            <p:cNvPr id="538" name=""/>
            <p:cNvSpPr/>
            <p:nvPr/>
          </p:nvSpPr>
          <p:spPr>
            <a:xfrm>
              <a:off x="1820520" y="289224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ecedenc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533520" y="2021040"/>
              <a:ext cx="1914480" cy="3369600"/>
              <a:chOff x="533520" y="2021040"/>
              <a:chExt cx="1914480" cy="336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887400" y="2517480"/>
                <a:ext cx="887400" cy="46008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952200" y="2617560"/>
                <a:ext cx="497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66240" y="2754000"/>
                <a:ext cx="636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33520" y="4097160"/>
                <a:ext cx="884160" cy="45972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920" y="4258800"/>
                <a:ext cx="43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58800" y="3363480"/>
                <a:ext cx="889200" cy="27288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59080" y="3363480"/>
                <a:ext cx="144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77600" y="343512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976320" y="2990520"/>
                <a:ext cx="210960" cy="1069560"/>
              </a:xfrm>
              <a:custGeom>
                <a:avLst/>
                <a:gdLst/>
                <a:ahLst/>
                <a:rect l="l" t="t" r="r" b="b"/>
                <a:pathLst>
                  <a:path w="94" h="674">
                    <a:moveTo>
                      <a:pt x="94" y="0"/>
                    </a:moveTo>
                    <a:lnTo>
                      <a:pt x="94" y="282"/>
                    </a:lnTo>
                    <a:lnTo>
                      <a:pt x="0" y="282"/>
                    </a:lnTo>
                    <a:lnTo>
                      <a:pt x="0" y="6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20880" y="4022280"/>
                <a:ext cx="10944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30200" y="2021040"/>
                <a:ext cx="781200" cy="460080"/>
              </a:xfrm>
              <a:custGeom>
                <a:avLst/>
                <a:gdLst/>
                <a:ahLst/>
                <a:rect l="l" t="t" r="r" b="b"/>
                <a:pathLst>
                  <a:path w="346" h="290">
                    <a:moveTo>
                      <a:pt x="346" y="0"/>
                    </a:moveTo>
                    <a:lnTo>
                      <a:pt x="346" y="172"/>
                    </a:lnTo>
                    <a:lnTo>
                      <a:pt x="0" y="172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78000" y="2442960"/>
                <a:ext cx="106200" cy="74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473120" y="2990520"/>
                <a:ext cx="531720" cy="336240"/>
              </a:xfrm>
              <a:custGeom>
                <a:avLst/>
                <a:gdLst/>
                <a:ahLst/>
                <a:rect l="l" t="t" r="r" b="b"/>
                <a:pathLst>
                  <a:path w="236" h="212">
                    <a:moveTo>
                      <a:pt x="0" y="0"/>
                    </a:moveTo>
                    <a:lnTo>
                      <a:pt x="0" y="102"/>
                    </a:lnTo>
                    <a:lnTo>
                      <a:pt x="236" y="102"/>
                    </a:lnTo>
                    <a:lnTo>
                      <a:pt x="236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200" y="3288960"/>
                <a:ext cx="104760" cy="74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17680" y="5117760"/>
                <a:ext cx="887400" cy="27288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94080" y="519228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76320" y="4570200"/>
                <a:ext cx="885960" cy="509040"/>
              </a:xfrm>
              <a:custGeom>
                <a:avLst/>
                <a:gdLst/>
                <a:ahLst/>
                <a:rect l="l" t="t" r="r" b="b"/>
                <a:pathLst>
                  <a:path w="393" h="321">
                    <a:moveTo>
                      <a:pt x="0" y="0"/>
                    </a:moveTo>
                    <a:lnTo>
                      <a:pt x="0" y="157"/>
                    </a:lnTo>
                    <a:lnTo>
                      <a:pt x="393" y="157"/>
                    </a:lnTo>
                    <a:lnTo>
                      <a:pt x="393" y="3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808280" y="5043240"/>
                <a:ext cx="104760" cy="74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74920" y="2053800"/>
                <a:ext cx="156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system S[0:?]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920880" y="3730320"/>
                <a:ext cx="1436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d_datum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02240" y="4568400"/>
                <a:ext cx="108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cation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733640" y="1598400"/>
            <a:ext cx="3543480" cy="4538880"/>
            <a:chOff x="4733640" y="1598400"/>
            <a:chExt cx="3543480" cy="4538880"/>
          </a:xfrm>
        </p:grpSpPr>
        <p:sp>
          <p:nvSpPr>
            <p:cNvPr id="562" name=""/>
            <p:cNvSpPr/>
            <p:nvPr/>
          </p:nvSpPr>
          <p:spPr>
            <a:xfrm>
              <a:off x="5300640" y="3737160"/>
              <a:ext cx="97488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95320" y="3836880"/>
              <a:ext cx="71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it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63280" y="39607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65760" y="4084560"/>
              <a:ext cx="10461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61520" y="418464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ylindricity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30200" y="43084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00640" y="4483080"/>
              <a:ext cx="887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89920" y="45705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latness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63280" y="4707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00640" y="5229360"/>
              <a:ext cx="10810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82000" y="5342040"/>
              <a:ext cx="8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aightness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63280" y="54784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47040" y="2530440"/>
              <a:ext cx="118872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20480" y="258120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37760" y="2718000"/>
              <a:ext cx="103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with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26240" y="284184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_un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00640" y="3065400"/>
              <a:ext cx="887400" cy="49716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2640" y="311472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d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69400" y="325296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63280" y="33768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1520" y="3121200"/>
              <a:ext cx="885600" cy="360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72360" y="3140280"/>
              <a:ext cx="18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7040" y="318924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29680" y="33148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di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65760" y="4843440"/>
              <a:ext cx="88596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894200"/>
              <a:ext cx="43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near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52520" y="501804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30200" y="515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65760" y="5640480"/>
              <a:ext cx="88596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53960" y="5689800"/>
              <a:ext cx="54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urfac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52520" y="581364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30200" y="59500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734000" y="1598400"/>
              <a:ext cx="3240" cy="42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734000" y="1598760"/>
              <a:ext cx="11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733640" y="2779920"/>
              <a:ext cx="1842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24640" y="274176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734000" y="331488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95880" y="327672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05680" y="3314880"/>
              <a:ext cx="1096920" cy="144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4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0040" y="327672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734000" y="396072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95880" y="392436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734000" y="4308480"/>
              <a:ext cx="1876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59560" y="427212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734000" y="470700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95880" y="467064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734000" y="509292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59560" y="50547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734000" y="547848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95880" y="5440320"/>
              <a:ext cx="10476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734000" y="588816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59560" y="585144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30960" y="2208240"/>
              <a:ext cx="941400" cy="322200"/>
            </a:xfrm>
            <a:custGeom>
              <a:avLst/>
              <a:gdLst/>
              <a:ahLst/>
              <a:rect l="l" t="t" r="r" b="b"/>
              <a:pathLst>
                <a:path w="417" h="203">
                  <a:moveTo>
                    <a:pt x="0" y="203"/>
                  </a:moveTo>
                  <a:lnTo>
                    <a:pt x="0" y="109"/>
                  </a:lnTo>
                  <a:lnTo>
                    <a:pt x="417" y="109"/>
                  </a:lnTo>
                  <a:lnTo>
                    <a:pt x="4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16920" y="2170080"/>
              <a:ext cx="10800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48360" y="2130480"/>
              <a:ext cx="75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00800" y="3273480"/>
              <a:ext cx="74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09480" y="5788080"/>
            <a:ext cx="12193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2520" y="97632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Geo 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541840" y="1189080"/>
            <a:ext cx="3144960" cy="1279440"/>
            <a:chOff x="5541840" y="1189080"/>
            <a:chExt cx="3144960" cy="1279440"/>
          </a:xfrm>
        </p:grpSpPr>
        <p:sp>
          <p:nvSpPr>
            <p:cNvPr id="621" name=""/>
            <p:cNvSpPr/>
            <p:nvPr/>
          </p:nvSpPr>
          <p:spPr>
            <a:xfrm>
              <a:off x="5921280" y="1238400"/>
              <a:ext cx="922320" cy="54612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10560" y="131292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0040" y="143676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84280" y="15732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00840" y="1274760"/>
              <a:ext cx="885960" cy="273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33480" y="134928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72160" y="2195640"/>
              <a:ext cx="887400" cy="272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48560" y="2257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14960" y="1784520"/>
              <a:ext cx="249480" cy="360360"/>
            </a:xfrm>
            <a:custGeom>
              <a:avLst/>
              <a:gdLst/>
              <a:ahLst/>
              <a:rect l="l" t="t" r="r" b="b"/>
              <a:pathLst>
                <a:path w="110" h="227">
                  <a:moveTo>
                    <a:pt x="110" y="0"/>
                  </a:moveTo>
                  <a:lnTo>
                    <a:pt x="110" y="118"/>
                  </a:lnTo>
                  <a:lnTo>
                    <a:pt x="0" y="118"/>
                  </a:lnTo>
                  <a:lnTo>
                    <a:pt x="0" y="2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62760" y="2108160"/>
              <a:ext cx="10476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43600" y="1411200"/>
              <a:ext cx="901800" cy="1800"/>
            </a:xfrm>
            <a:custGeom>
              <a:avLst/>
              <a:gdLst/>
              <a:ahLst/>
              <a:rect l="l" t="t" r="r" b="b"/>
              <a:pathLst>
                <a:path w="400" h="0">
                  <a:moveTo>
                    <a:pt x="0" y="0"/>
                  </a:moveTo>
                  <a:lnTo>
                    <a:pt x="196" y="0"/>
                  </a:lnTo>
                  <a:lnTo>
                    <a:pt x="196" y="0"/>
                  </a:lnTo>
                  <a:lnTo>
                    <a:pt x="4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94640" y="1374840"/>
              <a:ext cx="1062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28120" y="1697040"/>
              <a:ext cx="8856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560" y="179712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06600" y="193356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43600" y="1598760"/>
              <a:ext cx="833400" cy="334800"/>
            </a:xfrm>
            <a:custGeom>
              <a:avLst/>
              <a:gdLst/>
              <a:ahLst/>
              <a:rect l="l" t="t" r="r" b="b"/>
              <a:pathLst>
                <a:path w="369" h="211">
                  <a:moveTo>
                    <a:pt x="0" y="0"/>
                  </a:moveTo>
                  <a:lnTo>
                    <a:pt x="39" y="0"/>
                  </a:lnTo>
                  <a:lnTo>
                    <a:pt x="39" y="211"/>
                  </a:lnTo>
                  <a:lnTo>
                    <a:pt x="369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560" y="189720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95160" y="1189080"/>
              <a:ext cx="66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sc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0480" y="1596960"/>
              <a:ext cx="47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a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41840" y="182556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1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sima_9-18-01_DMISpage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51520" cy="6585120"/>
          </a:xfrm>
          <a:prstGeom prst="rect">
            <a:avLst/>
          </a:prstGeom>
          <a:ln w="0">
            <a:noFill/>
          </a:ln>
        </p:spPr>
      </p:pic>
      <p:pic>
        <p:nvPicPr>
          <p:cNvPr id="643" name="dim-insp-logo-sm" descr=""/>
          <p:cNvPicPr/>
          <p:nvPr/>
        </p:nvPicPr>
        <p:blipFill>
          <a:blip r:embed="rId2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5130720" y="2117880"/>
            <a:ext cx="38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mensional Measu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Standard, Version 4.0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to ISO as ISO 220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228600" y="1449360"/>
          <a:ext cx="8686800" cy="45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9360"/>
                    <a:ext cx="868680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1053360" y="622440"/>
            <a:ext cx="71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Portion of Harmonization Table for Geometric 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dim-insp-logo-sm" descr=""/>
          <p:cNvPicPr/>
          <p:nvPr/>
        </p:nvPicPr>
        <p:blipFill>
          <a:blip r:embed="rId3"/>
          <a:stretch/>
        </p:blipFill>
        <p:spPr>
          <a:xfrm>
            <a:off x="6989760" y="644832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530280" y="968400"/>
            <a:ext cx="8075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he WebAnalysis Projec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e Fallert, DaimlerChrysl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s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solidate the current dimensional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reporting processes and products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mlerChrysler (and elsewhere) into one robu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and process using industry standard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ly available, Web-based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dim-insp-logo-sm" descr=""/>
          <p:cNvPicPr/>
          <p:nvPr/>
        </p:nvPicPr>
        <p:blipFill>
          <a:blip r:embed="rId1"/>
          <a:stretch/>
        </p:blipFill>
        <p:spPr>
          <a:xfrm>
            <a:off x="6989760" y="641340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6600" y="152280"/>
            <a:ext cx="6257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Analysis &amp; Reporting Corp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11240" y="543240"/>
            <a:ext cx="8850240" cy="5935320"/>
            <a:chOff x="111240" y="543240"/>
            <a:chExt cx="8850240" cy="5935320"/>
          </a:xfrm>
        </p:grpSpPr>
        <p:sp>
          <p:nvSpPr>
            <p:cNvPr id="653" name=""/>
            <p:cNvSpPr/>
            <p:nvPr/>
          </p:nvSpPr>
          <p:spPr>
            <a:xfrm>
              <a:off x="4272840" y="6110280"/>
              <a:ext cx="15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Times New Roman"/>
                </a:rPr>
                <a:t>Supplier 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4" name="Supplier" descr=""/>
            <p:cNvPicPr/>
            <p:nvPr/>
          </p:nvPicPr>
          <p:blipFill>
            <a:blip r:embed="rId1"/>
            <a:stretch/>
          </p:blipFill>
          <p:spPr>
            <a:xfrm>
              <a:off x="353880" y="896760"/>
              <a:ext cx="1133640" cy="80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"/>
            <p:cNvGrpSpPr/>
            <p:nvPr/>
          </p:nvGrpSpPr>
          <p:grpSpPr>
            <a:xfrm>
              <a:off x="326880" y="5065560"/>
              <a:ext cx="1060200" cy="739440"/>
              <a:chOff x="326880" y="5065560"/>
              <a:chExt cx="1060200" cy="739440"/>
            </a:xfrm>
          </p:grpSpPr>
          <p:sp>
            <p:nvSpPr>
              <p:cNvPr id="656" name=""/>
              <p:cNvSpPr/>
              <p:nvPr/>
            </p:nvSpPr>
            <p:spPr>
              <a:xfrm>
                <a:off x="414720" y="5069880"/>
                <a:ext cx="708840" cy="424800"/>
              </a:xfrm>
              <a:custGeom>
                <a:avLst/>
                <a:gdLst/>
                <a:ahLst/>
                <a:rect l="l" t="t" r="r" b="b"/>
                <a:pathLst>
                  <a:path w="10991" h="5154">
                    <a:moveTo>
                      <a:pt x="10947" y="1805"/>
                    </a:moveTo>
                    <a:lnTo>
                      <a:pt x="0" y="5154"/>
                    </a:lnTo>
                    <a:lnTo>
                      <a:pt x="0" y="4402"/>
                    </a:lnTo>
                    <a:lnTo>
                      <a:pt x="10991" y="0"/>
                    </a:lnTo>
                    <a:lnTo>
                      <a:pt x="10947" y="180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19600" y="5072760"/>
                <a:ext cx="231840" cy="632160"/>
              </a:xfrm>
              <a:custGeom>
                <a:avLst/>
                <a:gdLst/>
                <a:ahLst/>
                <a:rect l="l" t="t" r="r" b="b"/>
                <a:pathLst>
                  <a:path w="3593" h="7675">
                    <a:moveTo>
                      <a:pt x="0" y="7115"/>
                    </a:moveTo>
                    <a:lnTo>
                      <a:pt x="0" y="0"/>
                    </a:lnTo>
                    <a:lnTo>
                      <a:pt x="3593" y="2981"/>
                    </a:lnTo>
                    <a:lnTo>
                      <a:pt x="3555" y="4254"/>
                    </a:lnTo>
                    <a:lnTo>
                      <a:pt x="3308" y="4123"/>
                    </a:lnTo>
                    <a:lnTo>
                      <a:pt x="3308" y="5226"/>
                    </a:lnTo>
                    <a:lnTo>
                      <a:pt x="3511" y="5315"/>
                    </a:lnTo>
                    <a:lnTo>
                      <a:pt x="3511" y="6094"/>
                    </a:lnTo>
                    <a:lnTo>
                      <a:pt x="3308" y="6000"/>
                    </a:lnTo>
                    <a:lnTo>
                      <a:pt x="3308" y="7033"/>
                    </a:lnTo>
                    <a:lnTo>
                      <a:pt x="3483" y="7143"/>
                    </a:lnTo>
                    <a:lnTo>
                      <a:pt x="3483" y="7675"/>
                    </a:lnTo>
                    <a:lnTo>
                      <a:pt x="0" y="7115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6880" y="5730480"/>
                <a:ext cx="1060200" cy="17640"/>
              </a:xfrm>
              <a:custGeom>
                <a:avLst/>
                <a:gdLst/>
                <a:ahLst/>
                <a:rect l="l" t="t" r="r" b="b"/>
                <a:pathLst>
                  <a:path w="16461" h="214">
                    <a:moveTo>
                      <a:pt x="16461" y="109"/>
                    </a:moveTo>
                    <a:lnTo>
                      <a:pt x="16461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6461" y="214"/>
                    </a:lnTo>
                    <a:lnTo>
                      <a:pt x="16461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119600" y="5067720"/>
                <a:ext cx="233640" cy="250560"/>
              </a:xfrm>
              <a:custGeom>
                <a:avLst/>
                <a:gdLst/>
                <a:ahLst/>
                <a:rect l="l" t="t" r="r" b="b"/>
                <a:pathLst>
                  <a:path w="3611" h="3036">
                    <a:moveTo>
                      <a:pt x="3611" y="2997"/>
                    </a:moveTo>
                    <a:lnTo>
                      <a:pt x="3595" y="2954"/>
                    </a:lnTo>
                    <a:lnTo>
                      <a:pt x="72" y="0"/>
                    </a:lnTo>
                    <a:lnTo>
                      <a:pt x="0" y="82"/>
                    </a:lnTo>
                    <a:lnTo>
                      <a:pt x="3523" y="3036"/>
                    </a:lnTo>
                    <a:lnTo>
                      <a:pt x="3512" y="2997"/>
                    </a:lnTo>
                    <a:lnTo>
                      <a:pt x="3611" y="2997"/>
                    </a:lnTo>
                    <a:lnTo>
                      <a:pt x="3611" y="2970"/>
                    </a:lnTo>
                    <a:lnTo>
                      <a:pt x="3595" y="2954"/>
                    </a:lnTo>
                    <a:lnTo>
                      <a:pt x="3611" y="29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480" y="5313240"/>
                <a:ext cx="5760" cy="120600"/>
              </a:xfrm>
              <a:custGeom>
                <a:avLst/>
                <a:gdLst/>
                <a:ahLst/>
                <a:rect l="l" t="t" r="r" b="b"/>
                <a:pathLst>
                  <a:path w="99" h="1439">
                    <a:moveTo>
                      <a:pt x="17" y="1383"/>
                    </a:moveTo>
                    <a:lnTo>
                      <a:pt x="99" y="133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34"/>
                    </a:lnTo>
                    <a:lnTo>
                      <a:pt x="76" y="1291"/>
                    </a:lnTo>
                    <a:lnTo>
                      <a:pt x="17" y="1383"/>
                    </a:lnTo>
                    <a:lnTo>
                      <a:pt x="99" y="1439"/>
                    </a:lnTo>
                    <a:lnTo>
                      <a:pt x="99" y="1334"/>
                    </a:lnTo>
                    <a:lnTo>
                      <a:pt x="17" y="13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117800" y="5213520"/>
                <a:ext cx="233640" cy="215280"/>
              </a:xfrm>
              <a:custGeom>
                <a:avLst/>
                <a:gdLst/>
                <a:ahLst/>
                <a:rect l="l" t="t" r="r" b="b"/>
                <a:pathLst>
                  <a:path w="3621" h="2590">
                    <a:moveTo>
                      <a:pt x="44" y="104"/>
                    </a:moveTo>
                    <a:lnTo>
                      <a:pt x="0" y="98"/>
                    </a:lnTo>
                    <a:lnTo>
                      <a:pt x="3562" y="2590"/>
                    </a:lnTo>
                    <a:lnTo>
                      <a:pt x="3621" y="2498"/>
                    </a:lnTo>
                    <a:lnTo>
                      <a:pt x="61" y="11"/>
                    </a:lnTo>
                    <a:lnTo>
                      <a:pt x="11" y="5"/>
                    </a:lnTo>
                    <a:lnTo>
                      <a:pt x="61" y="11"/>
                    </a:lnTo>
                    <a:lnTo>
                      <a:pt x="39" y="0"/>
                    </a:lnTo>
                    <a:lnTo>
                      <a:pt x="11" y="5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0400" y="5216400"/>
                <a:ext cx="711000" cy="286560"/>
              </a:xfrm>
              <a:custGeom>
                <a:avLst/>
                <a:gdLst/>
                <a:ahLst/>
                <a:rect l="l" t="t" r="r" b="b"/>
                <a:pathLst>
                  <a:path w="11017" h="3469">
                    <a:moveTo>
                      <a:pt x="0" y="3398"/>
                    </a:moveTo>
                    <a:lnTo>
                      <a:pt x="71" y="3448"/>
                    </a:lnTo>
                    <a:lnTo>
                      <a:pt x="11017" y="99"/>
                    </a:lnTo>
                    <a:lnTo>
                      <a:pt x="10984" y="0"/>
                    </a:lnTo>
                    <a:lnTo>
                      <a:pt x="38" y="3349"/>
                    </a:lnTo>
                    <a:lnTo>
                      <a:pt x="109" y="3398"/>
                    </a:lnTo>
                    <a:lnTo>
                      <a:pt x="0" y="3398"/>
                    </a:lnTo>
                    <a:lnTo>
                      <a:pt x="0" y="3469"/>
                    </a:lnTo>
                    <a:lnTo>
                      <a:pt x="71" y="3448"/>
                    </a:lnTo>
                    <a:lnTo>
                      <a:pt x="0" y="33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10400" y="5428800"/>
                <a:ext cx="7920" cy="65880"/>
              </a:xfrm>
              <a:custGeom>
                <a:avLst/>
                <a:gdLst/>
                <a:ahLst/>
                <a:rect l="l" t="t" r="r" b="b"/>
                <a:pathLst>
                  <a:path w="109" h="801">
                    <a:moveTo>
                      <a:pt x="33" y="0"/>
                    </a:moveTo>
                    <a:lnTo>
                      <a:pt x="0" y="49"/>
                    </a:lnTo>
                    <a:lnTo>
                      <a:pt x="0" y="801"/>
                    </a:lnTo>
                    <a:lnTo>
                      <a:pt x="109" y="801"/>
                    </a:lnTo>
                    <a:lnTo>
                      <a:pt x="109" y="49"/>
                    </a:lnTo>
                    <a:lnTo>
                      <a:pt x="76" y="93"/>
                    </a:lnTo>
                    <a:lnTo>
                      <a:pt x="33" y="0"/>
                    </a:lnTo>
                    <a:lnTo>
                      <a:pt x="0" y="11"/>
                    </a:lnTo>
                    <a:lnTo>
                      <a:pt x="0" y="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2200" y="5065560"/>
                <a:ext cx="713160" cy="370800"/>
              </a:xfrm>
              <a:custGeom>
                <a:avLst/>
                <a:gdLst/>
                <a:ahLst/>
                <a:rect l="l" t="t" r="r" b="b"/>
                <a:pathLst>
                  <a:path w="11045" h="4507">
                    <a:moveTo>
                      <a:pt x="11045" y="22"/>
                    </a:moveTo>
                    <a:lnTo>
                      <a:pt x="10989" y="11"/>
                    </a:lnTo>
                    <a:lnTo>
                      <a:pt x="0" y="4414"/>
                    </a:lnTo>
                    <a:lnTo>
                      <a:pt x="43" y="4507"/>
                    </a:lnTo>
                    <a:lnTo>
                      <a:pt x="11029" y="110"/>
                    </a:lnTo>
                    <a:lnTo>
                      <a:pt x="10973" y="104"/>
                    </a:lnTo>
                    <a:lnTo>
                      <a:pt x="11045" y="22"/>
                    </a:lnTo>
                    <a:lnTo>
                      <a:pt x="11017" y="0"/>
                    </a:lnTo>
                    <a:lnTo>
                      <a:pt x="10989" y="11"/>
                    </a:lnTo>
                    <a:lnTo>
                      <a:pt x="11045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119600" y="5659200"/>
                <a:ext cx="211680" cy="140400"/>
              </a:xfrm>
              <a:custGeom>
                <a:avLst/>
                <a:gdLst/>
                <a:ahLst/>
                <a:rect l="l" t="t" r="r" b="b"/>
                <a:pathLst>
                  <a:path w="3281" h="1696">
                    <a:moveTo>
                      <a:pt x="5" y="1696"/>
                    </a:moveTo>
                    <a:lnTo>
                      <a:pt x="0" y="0"/>
                    </a:lnTo>
                    <a:lnTo>
                      <a:pt x="3281" y="576"/>
                    </a:lnTo>
                    <a:lnTo>
                      <a:pt x="3281" y="939"/>
                    </a:lnTo>
                    <a:lnTo>
                      <a:pt x="5" y="16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16000" y="5654160"/>
                <a:ext cx="7560" cy="145440"/>
              </a:xfrm>
              <a:custGeom>
                <a:avLst/>
                <a:gdLst/>
                <a:ahLst/>
                <a:rect l="l" t="t" r="r" b="b"/>
                <a:pathLst>
                  <a:path w="115" h="1757">
                    <a:moveTo>
                      <a:pt x="66" y="11"/>
                    </a:moveTo>
                    <a:lnTo>
                      <a:pt x="0" y="61"/>
                    </a:lnTo>
                    <a:lnTo>
                      <a:pt x="6" y="1757"/>
                    </a:lnTo>
                    <a:lnTo>
                      <a:pt x="115" y="1757"/>
                    </a:lnTo>
                    <a:lnTo>
                      <a:pt x="110" y="61"/>
                    </a:lnTo>
                    <a:lnTo>
                      <a:pt x="44" y="115"/>
                    </a:lnTo>
                    <a:lnTo>
                      <a:pt x="66" y="1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19600" y="5656320"/>
                <a:ext cx="213480" cy="53640"/>
              </a:xfrm>
              <a:custGeom>
                <a:avLst/>
                <a:gdLst/>
                <a:ahLst/>
                <a:rect l="l" t="t" r="r" b="b"/>
                <a:pathLst>
                  <a:path w="3342" h="676">
                    <a:moveTo>
                      <a:pt x="3342" y="626"/>
                    </a:moveTo>
                    <a:lnTo>
                      <a:pt x="3304" y="577"/>
                    </a:lnTo>
                    <a:lnTo>
                      <a:pt x="22" y="0"/>
                    </a:lnTo>
                    <a:lnTo>
                      <a:pt x="0" y="104"/>
                    </a:lnTo>
                    <a:lnTo>
                      <a:pt x="3281" y="676"/>
                    </a:lnTo>
                    <a:lnTo>
                      <a:pt x="3243" y="626"/>
                    </a:lnTo>
                    <a:lnTo>
                      <a:pt x="3342" y="626"/>
                    </a:lnTo>
                    <a:lnTo>
                      <a:pt x="3342" y="582"/>
                    </a:lnTo>
                    <a:lnTo>
                      <a:pt x="3304" y="577"/>
                    </a:lnTo>
                    <a:lnTo>
                      <a:pt x="3342" y="6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27320" y="5707440"/>
                <a:ext cx="5760" cy="33480"/>
              </a:xfrm>
              <a:custGeom>
                <a:avLst/>
                <a:gdLst/>
                <a:ahLst/>
                <a:rect l="l" t="t" r="r" b="b"/>
                <a:pathLst>
                  <a:path w="99" h="412">
                    <a:moveTo>
                      <a:pt x="61" y="412"/>
                    </a:moveTo>
                    <a:lnTo>
                      <a:pt x="99" y="36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63"/>
                    </a:lnTo>
                    <a:lnTo>
                      <a:pt x="38" y="313"/>
                    </a:lnTo>
                    <a:lnTo>
                      <a:pt x="61" y="412"/>
                    </a:lnTo>
                    <a:lnTo>
                      <a:pt x="99" y="401"/>
                    </a:lnTo>
                    <a:lnTo>
                      <a:pt x="99" y="363"/>
                    </a:lnTo>
                    <a:lnTo>
                      <a:pt x="61" y="4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116000" y="5733720"/>
                <a:ext cx="215280" cy="71280"/>
              </a:xfrm>
              <a:custGeom>
                <a:avLst/>
                <a:gdLst/>
                <a:ahLst/>
                <a:rect l="l" t="t" r="r" b="b"/>
                <a:pathLst>
                  <a:path w="3342" h="873">
                    <a:moveTo>
                      <a:pt x="0" y="807"/>
                    </a:moveTo>
                    <a:lnTo>
                      <a:pt x="66" y="857"/>
                    </a:lnTo>
                    <a:lnTo>
                      <a:pt x="3342" y="99"/>
                    </a:lnTo>
                    <a:lnTo>
                      <a:pt x="3319" y="0"/>
                    </a:lnTo>
                    <a:lnTo>
                      <a:pt x="44" y="758"/>
                    </a:lnTo>
                    <a:lnTo>
                      <a:pt x="109" y="807"/>
                    </a:lnTo>
                    <a:lnTo>
                      <a:pt x="0" y="807"/>
                    </a:lnTo>
                    <a:lnTo>
                      <a:pt x="0" y="873"/>
                    </a:lnTo>
                    <a:lnTo>
                      <a:pt x="66" y="857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2720" y="5661720"/>
                <a:ext cx="686520" cy="135720"/>
              </a:xfrm>
              <a:custGeom>
                <a:avLst/>
                <a:gdLst/>
                <a:ahLst/>
                <a:rect l="l" t="t" r="r" b="b"/>
                <a:pathLst>
                  <a:path w="10656" h="1659">
                    <a:moveTo>
                      <a:pt x="0" y="923"/>
                    </a:moveTo>
                    <a:lnTo>
                      <a:pt x="0" y="527"/>
                    </a:lnTo>
                    <a:lnTo>
                      <a:pt x="10656" y="0"/>
                    </a:lnTo>
                    <a:lnTo>
                      <a:pt x="10656" y="1659"/>
                    </a:lnTo>
                    <a:lnTo>
                      <a:pt x="0" y="9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0560" y="5699880"/>
                <a:ext cx="5760" cy="35640"/>
              </a:xfrm>
              <a:custGeom>
                <a:avLst/>
                <a:gdLst/>
                <a:ahLst/>
                <a:rect l="l" t="t" r="r" b="b"/>
                <a:pathLst>
                  <a:path w="110" h="450">
                    <a:moveTo>
                      <a:pt x="55" y="0"/>
                    </a:moveTo>
                    <a:lnTo>
                      <a:pt x="0" y="54"/>
                    </a:lnTo>
                    <a:lnTo>
                      <a:pt x="0" y="450"/>
                    </a:lnTo>
                    <a:lnTo>
                      <a:pt x="110" y="450"/>
                    </a:lnTo>
                    <a:lnTo>
                      <a:pt x="110" y="54"/>
                    </a:lnTo>
                    <a:lnTo>
                      <a:pt x="55" y="104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2720" y="5656320"/>
                <a:ext cx="690480" cy="50760"/>
              </a:xfrm>
              <a:custGeom>
                <a:avLst/>
                <a:gdLst/>
                <a:ahLst/>
                <a:rect l="l" t="t" r="r" b="b"/>
                <a:pathLst>
                  <a:path w="10705" h="631">
                    <a:moveTo>
                      <a:pt x="10705" y="54"/>
                    </a:moveTo>
                    <a:lnTo>
                      <a:pt x="10656" y="5"/>
                    </a:lnTo>
                    <a:lnTo>
                      <a:pt x="0" y="527"/>
                    </a:lnTo>
                    <a:lnTo>
                      <a:pt x="0" y="631"/>
                    </a:lnTo>
                    <a:lnTo>
                      <a:pt x="10656" y="104"/>
                    </a:lnTo>
                    <a:lnTo>
                      <a:pt x="10606" y="54"/>
                    </a:lnTo>
                    <a:lnTo>
                      <a:pt x="10705" y="54"/>
                    </a:lnTo>
                    <a:lnTo>
                      <a:pt x="10705" y="0"/>
                    </a:lnTo>
                    <a:lnTo>
                      <a:pt x="10656" y="5"/>
                    </a:lnTo>
                    <a:lnTo>
                      <a:pt x="10705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117800" y="5661720"/>
                <a:ext cx="5760" cy="140760"/>
              </a:xfrm>
              <a:custGeom>
                <a:avLst/>
                <a:gdLst/>
                <a:ahLst/>
                <a:rect l="l" t="t" r="r" b="b"/>
                <a:pathLst>
                  <a:path w="99" h="1713">
                    <a:moveTo>
                      <a:pt x="45" y="1713"/>
                    </a:moveTo>
                    <a:lnTo>
                      <a:pt x="99" y="16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659"/>
                    </a:lnTo>
                    <a:lnTo>
                      <a:pt x="55" y="1609"/>
                    </a:lnTo>
                    <a:lnTo>
                      <a:pt x="45" y="1713"/>
                    </a:lnTo>
                    <a:lnTo>
                      <a:pt x="99" y="1713"/>
                    </a:lnTo>
                    <a:lnTo>
                      <a:pt x="99" y="1659"/>
                    </a:lnTo>
                    <a:lnTo>
                      <a:pt x="45" y="17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0560" y="5733720"/>
                <a:ext cx="688680" cy="68760"/>
              </a:xfrm>
              <a:custGeom>
                <a:avLst/>
                <a:gdLst/>
                <a:ahLst/>
                <a:rect l="l" t="t" r="r" b="b"/>
                <a:pathLst>
                  <a:path w="10716" h="840">
                    <a:moveTo>
                      <a:pt x="0" y="50"/>
                    </a:moveTo>
                    <a:lnTo>
                      <a:pt x="49" y="99"/>
                    </a:lnTo>
                    <a:lnTo>
                      <a:pt x="10706" y="840"/>
                    </a:lnTo>
                    <a:lnTo>
                      <a:pt x="10716" y="736"/>
                    </a:lnTo>
                    <a:lnTo>
                      <a:pt x="61" y="0"/>
                    </a:lnTo>
                    <a:lnTo>
                      <a:pt x="110" y="50"/>
                    </a:lnTo>
                    <a:lnTo>
                      <a:pt x="0" y="50"/>
                    </a:lnTo>
                    <a:lnTo>
                      <a:pt x="0" y="99"/>
                    </a:lnTo>
                    <a:lnTo>
                      <a:pt x="49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117800" y="5554080"/>
                <a:ext cx="5760" cy="11232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61" y="1252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39" y="1350"/>
                    </a:lnTo>
                    <a:lnTo>
                      <a:pt x="0" y="1301"/>
                    </a:lnTo>
                    <a:lnTo>
                      <a:pt x="0" y="1345"/>
                    </a:lnTo>
                    <a:lnTo>
                      <a:pt x="39" y="1350"/>
                    </a:lnTo>
                    <a:lnTo>
                      <a:pt x="61" y="12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119600" y="5659200"/>
                <a:ext cx="231840" cy="53280"/>
              </a:xfrm>
              <a:custGeom>
                <a:avLst/>
                <a:gdLst/>
                <a:ahLst/>
                <a:rect l="l" t="t" r="r" b="b"/>
                <a:pathLst>
                  <a:path w="3599" h="648">
                    <a:moveTo>
                      <a:pt x="3484" y="587"/>
                    </a:moveTo>
                    <a:lnTo>
                      <a:pt x="3550" y="538"/>
                    </a:lnTo>
                    <a:lnTo>
                      <a:pt x="22" y="0"/>
                    </a:lnTo>
                    <a:lnTo>
                      <a:pt x="0" y="98"/>
                    </a:lnTo>
                    <a:lnTo>
                      <a:pt x="3533" y="637"/>
                    </a:lnTo>
                    <a:lnTo>
                      <a:pt x="3599" y="587"/>
                    </a:lnTo>
                    <a:lnTo>
                      <a:pt x="3533" y="637"/>
                    </a:lnTo>
                    <a:lnTo>
                      <a:pt x="3599" y="648"/>
                    </a:lnTo>
                    <a:lnTo>
                      <a:pt x="3599" y="587"/>
                    </a:lnTo>
                    <a:lnTo>
                      <a:pt x="3484" y="5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3160" y="5654160"/>
                <a:ext cx="7920" cy="53280"/>
              </a:xfrm>
              <a:custGeom>
                <a:avLst/>
                <a:gdLst/>
                <a:ahLst/>
                <a:rect l="l" t="t" r="r" b="b"/>
                <a:pathLst>
                  <a:path w="115" h="631">
                    <a:moveTo>
                      <a:pt x="38" y="104"/>
                    </a:moveTo>
                    <a:lnTo>
                      <a:pt x="0" y="50"/>
                    </a:lnTo>
                    <a:lnTo>
                      <a:pt x="0" y="631"/>
                    </a:lnTo>
                    <a:lnTo>
                      <a:pt x="115" y="631"/>
                    </a:lnTo>
                    <a:lnTo>
                      <a:pt x="115" y="50"/>
                    </a:lnTo>
                    <a:lnTo>
                      <a:pt x="77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77" y="0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117800" y="5549040"/>
                <a:ext cx="231840" cy="114840"/>
              </a:xfrm>
              <a:custGeom>
                <a:avLst/>
                <a:gdLst/>
                <a:ahLst/>
                <a:rect l="l" t="t" r="r" b="b"/>
                <a:pathLst>
                  <a:path w="3600" h="1388">
                    <a:moveTo>
                      <a:pt x="99" y="76"/>
                    </a:moveTo>
                    <a:lnTo>
                      <a:pt x="28" y="125"/>
                    </a:lnTo>
                    <a:lnTo>
                      <a:pt x="3561" y="1388"/>
                    </a:lnTo>
                    <a:lnTo>
                      <a:pt x="3600" y="1284"/>
                    </a:lnTo>
                    <a:lnTo>
                      <a:pt x="71" y="21"/>
                    </a:lnTo>
                    <a:lnTo>
                      <a:pt x="0" y="76"/>
                    </a:lnTo>
                    <a:lnTo>
                      <a:pt x="71" y="21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99" y="7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4720" y="5554080"/>
                <a:ext cx="704520" cy="150840"/>
              </a:xfrm>
              <a:custGeom>
                <a:avLst/>
                <a:gdLst/>
                <a:ahLst/>
                <a:rect l="l" t="t" r="r" b="b"/>
                <a:pathLst>
                  <a:path w="10947" h="1806">
                    <a:moveTo>
                      <a:pt x="10947" y="0"/>
                    </a:moveTo>
                    <a:lnTo>
                      <a:pt x="0" y="1301"/>
                    </a:lnTo>
                    <a:lnTo>
                      <a:pt x="0" y="1806"/>
                    </a:lnTo>
                    <a:lnTo>
                      <a:pt x="10947" y="1258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10400" y="5551200"/>
                <a:ext cx="708840" cy="115200"/>
              </a:xfrm>
              <a:custGeom>
                <a:avLst/>
                <a:gdLst/>
                <a:ahLst/>
                <a:rect l="l" t="t" r="r" b="b"/>
                <a:pathLst>
                  <a:path w="11001" h="1405">
                    <a:moveTo>
                      <a:pt x="99" y="1356"/>
                    </a:moveTo>
                    <a:lnTo>
                      <a:pt x="54" y="1405"/>
                    </a:lnTo>
                    <a:lnTo>
                      <a:pt x="11001" y="104"/>
                    </a:lnTo>
                    <a:lnTo>
                      <a:pt x="10991" y="0"/>
                    </a:lnTo>
                    <a:lnTo>
                      <a:pt x="44" y="1307"/>
                    </a:lnTo>
                    <a:lnTo>
                      <a:pt x="0" y="1356"/>
                    </a:lnTo>
                    <a:lnTo>
                      <a:pt x="44" y="1307"/>
                    </a:lnTo>
                    <a:lnTo>
                      <a:pt x="0" y="1307"/>
                    </a:lnTo>
                    <a:lnTo>
                      <a:pt x="0" y="1356"/>
                    </a:lnTo>
                    <a:lnTo>
                      <a:pt x="99" y="13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0400" y="5661720"/>
                <a:ext cx="7920" cy="45720"/>
              </a:xfrm>
              <a:custGeom>
                <a:avLst/>
                <a:gdLst/>
                <a:ahLst/>
                <a:rect l="l" t="t" r="r" b="b"/>
                <a:pathLst>
                  <a:path w="99" h="560">
                    <a:moveTo>
                      <a:pt x="49" y="451"/>
                    </a:moveTo>
                    <a:lnTo>
                      <a:pt x="99" y="50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505"/>
                    </a:lnTo>
                    <a:lnTo>
                      <a:pt x="49" y="555"/>
                    </a:lnTo>
                    <a:lnTo>
                      <a:pt x="0" y="505"/>
                    </a:lnTo>
                    <a:lnTo>
                      <a:pt x="0" y="560"/>
                    </a:lnTo>
                    <a:lnTo>
                      <a:pt x="49" y="555"/>
                    </a:lnTo>
                    <a:lnTo>
                      <a:pt x="49" y="4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14720" y="5654160"/>
                <a:ext cx="708840" cy="53280"/>
              </a:xfrm>
              <a:custGeom>
                <a:avLst/>
                <a:gdLst/>
                <a:ahLst/>
                <a:rect l="l" t="t" r="r" b="b"/>
                <a:pathLst>
                  <a:path w="11001" h="648">
                    <a:moveTo>
                      <a:pt x="10892" y="50"/>
                    </a:moveTo>
                    <a:lnTo>
                      <a:pt x="10947" y="0"/>
                    </a:lnTo>
                    <a:lnTo>
                      <a:pt x="0" y="544"/>
                    </a:lnTo>
                    <a:lnTo>
                      <a:pt x="0" y="648"/>
                    </a:lnTo>
                    <a:lnTo>
                      <a:pt x="10947" y="104"/>
                    </a:lnTo>
                    <a:lnTo>
                      <a:pt x="11001" y="50"/>
                    </a:lnTo>
                    <a:lnTo>
                      <a:pt x="10947" y="104"/>
                    </a:lnTo>
                    <a:lnTo>
                      <a:pt x="11001" y="104"/>
                    </a:lnTo>
                    <a:lnTo>
                      <a:pt x="11001" y="50"/>
                    </a:lnTo>
                    <a:lnTo>
                      <a:pt x="10892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116000" y="5549040"/>
                <a:ext cx="7560" cy="110160"/>
              </a:xfrm>
              <a:custGeom>
                <a:avLst/>
                <a:gdLst/>
                <a:ahLst/>
                <a:rect l="l" t="t" r="r" b="b"/>
                <a:pathLst>
                  <a:path w="109" h="1324">
                    <a:moveTo>
                      <a:pt x="60" y="115"/>
                    </a:moveTo>
                    <a:lnTo>
                      <a:pt x="0" y="66"/>
                    </a:lnTo>
                    <a:lnTo>
                      <a:pt x="0" y="1324"/>
                    </a:lnTo>
                    <a:lnTo>
                      <a:pt x="109" y="1324"/>
                    </a:lnTo>
                    <a:lnTo>
                      <a:pt x="109" y="66"/>
                    </a:lnTo>
                    <a:lnTo>
                      <a:pt x="50" y="11"/>
                    </a:lnTo>
                    <a:lnTo>
                      <a:pt x="109" y="66"/>
                    </a:lnTo>
                    <a:lnTo>
                      <a:pt x="109" y="0"/>
                    </a:lnTo>
                    <a:lnTo>
                      <a:pt x="50" y="11"/>
                    </a:lnTo>
                    <a:lnTo>
                      <a:pt x="60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14720" y="5336640"/>
                <a:ext cx="704520" cy="263520"/>
              </a:xfrm>
              <a:custGeom>
                <a:avLst/>
                <a:gdLst/>
                <a:ahLst/>
                <a:rect l="l" t="t" r="r" b="b"/>
                <a:pathLst>
                  <a:path w="10947" h="3205">
                    <a:moveTo>
                      <a:pt x="10947" y="0"/>
                    </a:moveTo>
                    <a:lnTo>
                      <a:pt x="10947" y="1361"/>
                    </a:lnTo>
                    <a:lnTo>
                      <a:pt x="0" y="3205"/>
                    </a:lnTo>
                    <a:lnTo>
                      <a:pt x="0" y="2662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17800" y="5336640"/>
                <a:ext cx="5760" cy="11484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61" y="1416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39" y="1311"/>
                    </a:lnTo>
                    <a:lnTo>
                      <a:pt x="61" y="1416"/>
                    </a:lnTo>
                    <a:lnTo>
                      <a:pt x="99" y="1410"/>
                    </a:lnTo>
                    <a:lnTo>
                      <a:pt x="99" y="1361"/>
                    </a:lnTo>
                    <a:lnTo>
                      <a:pt x="61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0400" y="5443920"/>
                <a:ext cx="711000" cy="161280"/>
              </a:xfrm>
              <a:custGeom>
                <a:avLst/>
                <a:gdLst/>
                <a:ahLst/>
                <a:rect l="l" t="t" r="r" b="b"/>
                <a:pathLst>
                  <a:path w="11012" h="1955">
                    <a:moveTo>
                      <a:pt x="0" y="1894"/>
                    </a:moveTo>
                    <a:lnTo>
                      <a:pt x="66" y="1944"/>
                    </a:lnTo>
                    <a:lnTo>
                      <a:pt x="11012" y="105"/>
                    </a:lnTo>
                    <a:lnTo>
                      <a:pt x="10990" y="0"/>
                    </a:lnTo>
                    <a:lnTo>
                      <a:pt x="43" y="1840"/>
                    </a:lnTo>
                    <a:lnTo>
                      <a:pt x="109" y="1894"/>
                    </a:lnTo>
                    <a:lnTo>
                      <a:pt x="0" y="1894"/>
                    </a:lnTo>
                    <a:lnTo>
                      <a:pt x="0" y="1955"/>
                    </a:lnTo>
                    <a:lnTo>
                      <a:pt x="66" y="1944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10400" y="5551200"/>
                <a:ext cx="7920" cy="48600"/>
              </a:xfrm>
              <a:custGeom>
                <a:avLst/>
                <a:gdLst/>
                <a:ahLst/>
                <a:rect l="l" t="t" r="r" b="b"/>
                <a:pathLst>
                  <a:path w="109" h="598">
                    <a:moveTo>
                      <a:pt x="43" y="0"/>
                    </a:moveTo>
                    <a:lnTo>
                      <a:pt x="0" y="55"/>
                    </a:lnTo>
                    <a:lnTo>
                      <a:pt x="0" y="598"/>
                    </a:lnTo>
                    <a:lnTo>
                      <a:pt x="109" y="598"/>
                    </a:lnTo>
                    <a:lnTo>
                      <a:pt x="109" y="55"/>
                    </a:lnTo>
                    <a:lnTo>
                      <a:pt x="66" y="104"/>
                    </a:lnTo>
                    <a:lnTo>
                      <a:pt x="43" y="0"/>
                    </a:lnTo>
                    <a:lnTo>
                      <a:pt x="0" y="12"/>
                    </a:lnTo>
                    <a:lnTo>
                      <a:pt x="0" y="5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14720" y="5329080"/>
                <a:ext cx="708840" cy="230400"/>
              </a:xfrm>
              <a:custGeom>
                <a:avLst/>
                <a:gdLst/>
                <a:ahLst/>
                <a:rect l="l" t="t" r="r" b="b"/>
                <a:pathLst>
                  <a:path w="11007" h="2777">
                    <a:moveTo>
                      <a:pt x="11007" y="66"/>
                    </a:moveTo>
                    <a:lnTo>
                      <a:pt x="10947" y="17"/>
                    </a:lnTo>
                    <a:lnTo>
                      <a:pt x="0" y="2673"/>
                    </a:lnTo>
                    <a:lnTo>
                      <a:pt x="23" y="2777"/>
                    </a:lnTo>
                    <a:lnTo>
                      <a:pt x="10969" y="116"/>
                    </a:lnTo>
                    <a:lnTo>
                      <a:pt x="10908" y="66"/>
                    </a:lnTo>
                    <a:lnTo>
                      <a:pt x="11007" y="66"/>
                    </a:lnTo>
                    <a:lnTo>
                      <a:pt x="11007" y="0"/>
                    </a:lnTo>
                    <a:lnTo>
                      <a:pt x="10947" y="17"/>
                    </a:lnTo>
                    <a:lnTo>
                      <a:pt x="1100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17800" y="5336640"/>
                <a:ext cx="5760" cy="11484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71" y="1311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28" y="1416"/>
                    </a:lnTo>
                    <a:lnTo>
                      <a:pt x="0" y="1361"/>
                    </a:lnTo>
                    <a:lnTo>
                      <a:pt x="0" y="1400"/>
                    </a:lnTo>
                    <a:lnTo>
                      <a:pt x="28" y="1416"/>
                    </a:lnTo>
                    <a:lnTo>
                      <a:pt x="71" y="13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17800" y="5443920"/>
                <a:ext cx="233640" cy="140760"/>
              </a:xfrm>
              <a:custGeom>
                <a:avLst/>
                <a:gdLst/>
                <a:ahLst/>
                <a:rect l="l" t="t" r="r" b="b"/>
                <a:pathLst>
                  <a:path w="3610" h="1719">
                    <a:moveTo>
                      <a:pt x="3495" y="1637"/>
                    </a:moveTo>
                    <a:lnTo>
                      <a:pt x="3572" y="1588"/>
                    </a:lnTo>
                    <a:lnTo>
                      <a:pt x="43" y="0"/>
                    </a:lnTo>
                    <a:lnTo>
                      <a:pt x="0" y="105"/>
                    </a:lnTo>
                    <a:lnTo>
                      <a:pt x="3533" y="1692"/>
                    </a:lnTo>
                    <a:lnTo>
                      <a:pt x="3610" y="1637"/>
                    </a:lnTo>
                    <a:lnTo>
                      <a:pt x="3533" y="1692"/>
                    </a:lnTo>
                    <a:lnTo>
                      <a:pt x="3610" y="1719"/>
                    </a:lnTo>
                    <a:lnTo>
                      <a:pt x="3610" y="1637"/>
                    </a:lnTo>
                    <a:lnTo>
                      <a:pt x="3495" y="16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3160" y="5510520"/>
                <a:ext cx="7920" cy="68760"/>
              </a:xfrm>
              <a:custGeom>
                <a:avLst/>
                <a:gdLst/>
                <a:ahLst/>
                <a:rect l="l" t="t" r="r" b="b"/>
                <a:pathLst>
                  <a:path w="115" h="840">
                    <a:moveTo>
                      <a:pt x="33" y="93"/>
                    </a:moveTo>
                    <a:lnTo>
                      <a:pt x="0" y="50"/>
                    </a:lnTo>
                    <a:lnTo>
                      <a:pt x="0" y="840"/>
                    </a:lnTo>
                    <a:lnTo>
                      <a:pt x="115" y="840"/>
                    </a:lnTo>
                    <a:lnTo>
                      <a:pt x="115" y="50"/>
                    </a:lnTo>
                    <a:lnTo>
                      <a:pt x="82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82" y="0"/>
                    </a:ln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17800" y="5326200"/>
                <a:ext cx="231840" cy="191880"/>
              </a:xfrm>
              <a:custGeom>
                <a:avLst/>
                <a:gdLst/>
                <a:ahLst/>
                <a:rect l="l" t="t" r="r" b="b"/>
                <a:pathLst>
                  <a:path w="3605" h="2300">
                    <a:moveTo>
                      <a:pt x="99" y="99"/>
                    </a:moveTo>
                    <a:lnTo>
                      <a:pt x="28" y="142"/>
                    </a:lnTo>
                    <a:lnTo>
                      <a:pt x="3556" y="2300"/>
                    </a:lnTo>
                    <a:lnTo>
                      <a:pt x="3605" y="2207"/>
                    </a:lnTo>
                    <a:lnTo>
                      <a:pt x="78" y="55"/>
                    </a:lnTo>
                    <a:lnTo>
                      <a:pt x="0" y="99"/>
                    </a:lnTo>
                    <a:lnTo>
                      <a:pt x="78" y="55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116000" y="5069880"/>
                <a:ext cx="7560" cy="146160"/>
              </a:xfrm>
              <a:custGeom>
                <a:avLst/>
                <a:gdLst/>
                <a:ahLst/>
                <a:rect l="l" t="t" r="r" b="b"/>
                <a:pathLst>
                  <a:path w="109" h="1767">
                    <a:moveTo>
                      <a:pt x="55" y="0"/>
                    </a:moveTo>
                    <a:lnTo>
                      <a:pt x="0" y="0"/>
                    </a:lnTo>
                    <a:lnTo>
                      <a:pt x="0" y="1767"/>
                    </a:lnTo>
                    <a:lnTo>
                      <a:pt x="109" y="1767"/>
                    </a:lnTo>
                    <a:lnTo>
                      <a:pt x="109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41760" y="5221440"/>
                <a:ext cx="177480" cy="168840"/>
              </a:xfrm>
              <a:custGeom>
                <a:avLst/>
                <a:gdLst/>
                <a:ahLst/>
                <a:rect l="l" t="t" r="r" b="b"/>
                <a:pathLst>
                  <a:path w="2754" h="2020">
                    <a:moveTo>
                      <a:pt x="2754" y="0"/>
                    </a:moveTo>
                    <a:lnTo>
                      <a:pt x="2754" y="1367"/>
                    </a:lnTo>
                    <a:lnTo>
                      <a:pt x="0" y="2020"/>
                    </a:lnTo>
                    <a:lnTo>
                      <a:pt x="0" y="829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117800" y="5221440"/>
                <a:ext cx="5760" cy="117000"/>
              </a:xfrm>
              <a:custGeom>
                <a:avLst/>
                <a:gdLst/>
                <a:ahLst/>
                <a:rect l="l" t="t" r="r" b="b"/>
                <a:pathLst>
                  <a:path w="99" h="1417">
                    <a:moveTo>
                      <a:pt x="61" y="1417"/>
                    </a:moveTo>
                    <a:lnTo>
                      <a:pt x="99" y="136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7"/>
                    </a:lnTo>
                    <a:lnTo>
                      <a:pt x="39" y="1318"/>
                    </a:lnTo>
                    <a:lnTo>
                      <a:pt x="61" y="1417"/>
                    </a:lnTo>
                    <a:lnTo>
                      <a:pt x="99" y="1405"/>
                    </a:lnTo>
                    <a:lnTo>
                      <a:pt x="99" y="1367"/>
                    </a:lnTo>
                    <a:lnTo>
                      <a:pt x="61" y="14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39960" y="5331240"/>
                <a:ext cx="181440" cy="63720"/>
              </a:xfrm>
              <a:custGeom>
                <a:avLst/>
                <a:gdLst/>
                <a:ahLst/>
                <a:rect l="l" t="t" r="r" b="b"/>
                <a:pathLst>
                  <a:path w="2821" h="768">
                    <a:moveTo>
                      <a:pt x="0" y="702"/>
                    </a:moveTo>
                    <a:lnTo>
                      <a:pt x="66" y="751"/>
                    </a:lnTo>
                    <a:lnTo>
                      <a:pt x="2821" y="99"/>
                    </a:lnTo>
                    <a:lnTo>
                      <a:pt x="2799" y="0"/>
                    </a:lnTo>
                    <a:lnTo>
                      <a:pt x="44" y="647"/>
                    </a:lnTo>
                    <a:lnTo>
                      <a:pt x="110" y="702"/>
                    </a:lnTo>
                    <a:lnTo>
                      <a:pt x="0" y="702"/>
                    </a:lnTo>
                    <a:lnTo>
                      <a:pt x="6" y="768"/>
                    </a:lnTo>
                    <a:lnTo>
                      <a:pt x="66" y="751"/>
                    </a:lnTo>
                    <a:lnTo>
                      <a:pt x="0" y="7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939960" y="5285520"/>
                <a:ext cx="5760" cy="104760"/>
              </a:xfrm>
              <a:custGeom>
                <a:avLst/>
                <a:gdLst/>
                <a:ahLst/>
                <a:rect l="l" t="t" r="r" b="b"/>
                <a:pathLst>
                  <a:path w="110" h="1246">
                    <a:moveTo>
                      <a:pt x="39" y="0"/>
                    </a:moveTo>
                    <a:lnTo>
                      <a:pt x="0" y="55"/>
                    </a:lnTo>
                    <a:lnTo>
                      <a:pt x="0" y="1246"/>
                    </a:lnTo>
                    <a:lnTo>
                      <a:pt x="110" y="1246"/>
                    </a:lnTo>
                    <a:lnTo>
                      <a:pt x="110" y="55"/>
                    </a:lnTo>
                    <a:lnTo>
                      <a:pt x="72" y="104"/>
                    </a:lnTo>
                    <a:lnTo>
                      <a:pt x="39" y="0"/>
                    </a:lnTo>
                    <a:lnTo>
                      <a:pt x="0" y="11"/>
                    </a:lnTo>
                    <a:lnTo>
                      <a:pt x="0" y="5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41760" y="5216400"/>
                <a:ext cx="181440" cy="78840"/>
              </a:xfrm>
              <a:custGeom>
                <a:avLst/>
                <a:gdLst/>
                <a:ahLst/>
                <a:rect l="l" t="t" r="r" b="b"/>
                <a:pathLst>
                  <a:path w="2820" h="950">
                    <a:moveTo>
                      <a:pt x="2820" y="72"/>
                    </a:moveTo>
                    <a:lnTo>
                      <a:pt x="2754" y="17"/>
                    </a:lnTo>
                    <a:lnTo>
                      <a:pt x="0" y="846"/>
                    </a:lnTo>
                    <a:lnTo>
                      <a:pt x="33" y="950"/>
                    </a:lnTo>
                    <a:lnTo>
                      <a:pt x="2787" y="122"/>
                    </a:lnTo>
                    <a:lnTo>
                      <a:pt x="2721" y="72"/>
                    </a:lnTo>
                    <a:lnTo>
                      <a:pt x="2820" y="72"/>
                    </a:lnTo>
                    <a:lnTo>
                      <a:pt x="2820" y="0"/>
                    </a:lnTo>
                    <a:lnTo>
                      <a:pt x="2754" y="17"/>
                    </a:lnTo>
                    <a:lnTo>
                      <a:pt x="2820" y="7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1960" y="5308560"/>
                <a:ext cx="149760" cy="142560"/>
              </a:xfrm>
              <a:custGeom>
                <a:avLst/>
                <a:gdLst/>
                <a:ahLst/>
                <a:rect l="l" t="t" r="r" b="b"/>
                <a:pathLst>
                  <a:path w="2314" h="1719">
                    <a:moveTo>
                      <a:pt x="2314" y="1169"/>
                    </a:moveTo>
                    <a:lnTo>
                      <a:pt x="0" y="1719"/>
                    </a:lnTo>
                    <a:lnTo>
                      <a:pt x="0" y="698"/>
                    </a:lnTo>
                    <a:lnTo>
                      <a:pt x="2314" y="0"/>
                    </a:lnTo>
                    <a:lnTo>
                      <a:pt x="2314" y="116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8000" y="5400360"/>
                <a:ext cx="153720" cy="56160"/>
              </a:xfrm>
              <a:custGeom>
                <a:avLst/>
                <a:gdLst/>
                <a:ahLst/>
                <a:rect l="l" t="t" r="r" b="b"/>
                <a:pathLst>
                  <a:path w="2382" h="670">
                    <a:moveTo>
                      <a:pt x="0" y="604"/>
                    </a:moveTo>
                    <a:lnTo>
                      <a:pt x="66" y="653"/>
                    </a:lnTo>
                    <a:lnTo>
                      <a:pt x="2382" y="104"/>
                    </a:lnTo>
                    <a:lnTo>
                      <a:pt x="2360" y="0"/>
                    </a:lnTo>
                    <a:lnTo>
                      <a:pt x="44" y="548"/>
                    </a:lnTo>
                    <a:lnTo>
                      <a:pt x="110" y="604"/>
                    </a:lnTo>
                    <a:lnTo>
                      <a:pt x="0" y="604"/>
                    </a:lnTo>
                    <a:lnTo>
                      <a:pt x="0" y="670"/>
                    </a:lnTo>
                    <a:lnTo>
                      <a:pt x="66" y="653"/>
                    </a:lnTo>
                    <a:lnTo>
                      <a:pt x="0" y="6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8000" y="5362200"/>
                <a:ext cx="7920" cy="89280"/>
              </a:xfrm>
              <a:custGeom>
                <a:avLst/>
                <a:gdLst/>
                <a:ahLst/>
                <a:rect l="l" t="t" r="r" b="b"/>
                <a:pathLst>
                  <a:path w="110" h="1077">
                    <a:moveTo>
                      <a:pt x="39" y="0"/>
                    </a:moveTo>
                    <a:lnTo>
                      <a:pt x="0" y="56"/>
                    </a:lnTo>
                    <a:lnTo>
                      <a:pt x="0" y="1077"/>
                    </a:lnTo>
                    <a:lnTo>
                      <a:pt x="110" y="1077"/>
                    </a:lnTo>
                    <a:lnTo>
                      <a:pt x="110" y="56"/>
                    </a:lnTo>
                    <a:lnTo>
                      <a:pt x="72" y="105"/>
                    </a:lnTo>
                    <a:lnTo>
                      <a:pt x="39" y="0"/>
                    </a:lnTo>
                    <a:lnTo>
                      <a:pt x="0" y="12"/>
                    </a:lnTo>
                    <a:lnTo>
                      <a:pt x="0" y="5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0160" y="5303520"/>
                <a:ext cx="153360" cy="65880"/>
              </a:xfrm>
              <a:custGeom>
                <a:avLst/>
                <a:gdLst/>
                <a:ahLst/>
                <a:rect l="l" t="t" r="r" b="b"/>
                <a:pathLst>
                  <a:path w="2387" h="818">
                    <a:moveTo>
                      <a:pt x="2387" y="71"/>
                    </a:moveTo>
                    <a:lnTo>
                      <a:pt x="2315" y="22"/>
                    </a:lnTo>
                    <a:lnTo>
                      <a:pt x="0" y="713"/>
                    </a:lnTo>
                    <a:lnTo>
                      <a:pt x="33" y="818"/>
                    </a:lnTo>
                    <a:lnTo>
                      <a:pt x="2348" y="127"/>
                    </a:lnTo>
                    <a:lnTo>
                      <a:pt x="2282" y="71"/>
                    </a:lnTo>
                    <a:lnTo>
                      <a:pt x="2387" y="71"/>
                    </a:lnTo>
                    <a:lnTo>
                      <a:pt x="2387" y="0"/>
                    </a:lnTo>
                    <a:lnTo>
                      <a:pt x="2315" y="22"/>
                    </a:lnTo>
                    <a:lnTo>
                      <a:pt x="2387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8120" y="5308560"/>
                <a:ext cx="5760" cy="101880"/>
              </a:xfrm>
              <a:custGeom>
                <a:avLst/>
                <a:gdLst/>
                <a:ahLst/>
                <a:rect l="l" t="t" r="r" b="b"/>
                <a:pathLst>
                  <a:path w="105" h="1219">
                    <a:moveTo>
                      <a:pt x="61" y="1219"/>
                    </a:moveTo>
                    <a:lnTo>
                      <a:pt x="105" y="116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1169"/>
                    </a:lnTo>
                    <a:lnTo>
                      <a:pt x="39" y="1115"/>
                    </a:lnTo>
                    <a:lnTo>
                      <a:pt x="61" y="1219"/>
                    </a:lnTo>
                    <a:lnTo>
                      <a:pt x="105" y="1208"/>
                    </a:lnTo>
                    <a:lnTo>
                      <a:pt x="105" y="1169"/>
                    </a:lnTo>
                    <a:lnTo>
                      <a:pt x="61" y="12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19600" y="5221440"/>
                <a:ext cx="211680" cy="209520"/>
              </a:xfrm>
              <a:custGeom>
                <a:avLst/>
                <a:gdLst/>
                <a:ahLst/>
                <a:rect l="l" t="t" r="r" b="b"/>
                <a:pathLst>
                  <a:path w="3276" h="2536">
                    <a:moveTo>
                      <a:pt x="0" y="0"/>
                    </a:moveTo>
                    <a:lnTo>
                      <a:pt x="0" y="395"/>
                    </a:lnTo>
                    <a:lnTo>
                      <a:pt x="3276" y="2536"/>
                    </a:lnTo>
                    <a:lnTo>
                      <a:pt x="3276" y="23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117800" y="5221440"/>
                <a:ext cx="5760" cy="38160"/>
              </a:xfrm>
              <a:custGeom>
                <a:avLst/>
                <a:gdLst/>
                <a:ahLst/>
                <a:rect l="l" t="t" r="r" b="b"/>
                <a:pathLst>
                  <a:path w="99" h="439">
                    <a:moveTo>
                      <a:pt x="83" y="351"/>
                    </a:moveTo>
                    <a:lnTo>
                      <a:pt x="99" y="3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22" y="439"/>
                    </a:lnTo>
                    <a:lnTo>
                      <a:pt x="0" y="395"/>
                    </a:lnTo>
                    <a:lnTo>
                      <a:pt x="0" y="422"/>
                    </a:lnTo>
                    <a:lnTo>
                      <a:pt x="22" y="439"/>
                    </a:lnTo>
                    <a:lnTo>
                      <a:pt x="8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17800" y="5251680"/>
                <a:ext cx="217800" cy="186840"/>
              </a:xfrm>
              <a:custGeom>
                <a:avLst/>
                <a:gdLst/>
                <a:ahLst/>
                <a:rect l="l" t="t" r="r" b="b"/>
                <a:pathLst>
                  <a:path w="3358" h="2278">
                    <a:moveTo>
                      <a:pt x="3249" y="2185"/>
                    </a:moveTo>
                    <a:lnTo>
                      <a:pt x="3336" y="2141"/>
                    </a:lnTo>
                    <a:lnTo>
                      <a:pt x="61" y="0"/>
                    </a:lnTo>
                    <a:lnTo>
                      <a:pt x="0" y="88"/>
                    </a:lnTo>
                    <a:lnTo>
                      <a:pt x="3271" y="2224"/>
                    </a:lnTo>
                    <a:lnTo>
                      <a:pt x="3358" y="2185"/>
                    </a:lnTo>
                    <a:lnTo>
                      <a:pt x="3271" y="2224"/>
                    </a:lnTo>
                    <a:lnTo>
                      <a:pt x="3358" y="2278"/>
                    </a:lnTo>
                    <a:lnTo>
                      <a:pt x="3358" y="2185"/>
                    </a:lnTo>
                    <a:lnTo>
                      <a:pt x="3249" y="21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27320" y="5410800"/>
                <a:ext cx="7920" cy="20160"/>
              </a:xfrm>
              <a:custGeom>
                <a:avLst/>
                <a:gdLst/>
                <a:ahLst/>
                <a:rect l="l" t="t" r="r" b="b"/>
                <a:pathLst>
                  <a:path w="109" h="258">
                    <a:moveTo>
                      <a:pt x="22" y="88"/>
                    </a:moveTo>
                    <a:lnTo>
                      <a:pt x="0" y="44"/>
                    </a:lnTo>
                    <a:lnTo>
                      <a:pt x="0" y="258"/>
                    </a:lnTo>
                    <a:lnTo>
                      <a:pt x="109" y="258"/>
                    </a:lnTo>
                    <a:lnTo>
                      <a:pt x="109" y="44"/>
                    </a:lnTo>
                    <a:lnTo>
                      <a:pt x="87" y="0"/>
                    </a:lnTo>
                    <a:lnTo>
                      <a:pt x="109" y="44"/>
                    </a:lnTo>
                    <a:lnTo>
                      <a:pt x="109" y="22"/>
                    </a:lnTo>
                    <a:lnTo>
                      <a:pt x="87" y="0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117800" y="5213520"/>
                <a:ext cx="215280" cy="204840"/>
              </a:xfrm>
              <a:custGeom>
                <a:avLst/>
                <a:gdLst/>
                <a:ahLst/>
                <a:rect l="l" t="t" r="r" b="b"/>
                <a:pathLst>
                  <a:path w="3358" h="2471">
                    <a:moveTo>
                      <a:pt x="99" y="105"/>
                    </a:moveTo>
                    <a:lnTo>
                      <a:pt x="22" y="148"/>
                    </a:lnTo>
                    <a:lnTo>
                      <a:pt x="3293" y="2471"/>
                    </a:lnTo>
                    <a:lnTo>
                      <a:pt x="3358" y="2383"/>
                    </a:lnTo>
                    <a:lnTo>
                      <a:pt x="83" y="56"/>
                    </a:lnTo>
                    <a:lnTo>
                      <a:pt x="0" y="105"/>
                    </a:lnTo>
                    <a:lnTo>
                      <a:pt x="83" y="56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99" y="1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19600" y="5451480"/>
                <a:ext cx="211680" cy="135720"/>
              </a:xfrm>
              <a:custGeom>
                <a:avLst/>
                <a:gdLst/>
                <a:ahLst/>
                <a:rect l="l" t="t" r="r" b="b"/>
                <a:pathLst>
                  <a:path w="3287" h="1652">
                    <a:moveTo>
                      <a:pt x="0" y="0"/>
                    </a:moveTo>
                    <a:lnTo>
                      <a:pt x="0" y="290"/>
                    </a:lnTo>
                    <a:lnTo>
                      <a:pt x="3287" y="1652"/>
                    </a:lnTo>
                    <a:lnTo>
                      <a:pt x="3287" y="14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17800" y="5451480"/>
                <a:ext cx="5760" cy="2844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71" y="236"/>
                    </a:moveTo>
                    <a:lnTo>
                      <a:pt x="99" y="290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28" y="340"/>
                    </a:lnTo>
                    <a:lnTo>
                      <a:pt x="0" y="290"/>
                    </a:lnTo>
                    <a:lnTo>
                      <a:pt x="0" y="323"/>
                    </a:lnTo>
                    <a:lnTo>
                      <a:pt x="28" y="340"/>
                    </a:lnTo>
                    <a:lnTo>
                      <a:pt x="71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17800" y="5469480"/>
                <a:ext cx="217800" cy="125280"/>
              </a:xfrm>
              <a:custGeom>
                <a:avLst/>
                <a:gdLst/>
                <a:ahLst/>
                <a:rect l="l" t="t" r="r" b="b"/>
                <a:pathLst>
                  <a:path w="3363" h="1498">
                    <a:moveTo>
                      <a:pt x="3253" y="1416"/>
                    </a:moveTo>
                    <a:lnTo>
                      <a:pt x="3330" y="1367"/>
                    </a:lnTo>
                    <a:lnTo>
                      <a:pt x="43" y="0"/>
                    </a:lnTo>
                    <a:lnTo>
                      <a:pt x="0" y="104"/>
                    </a:lnTo>
                    <a:lnTo>
                      <a:pt x="3286" y="1465"/>
                    </a:lnTo>
                    <a:lnTo>
                      <a:pt x="3363" y="1416"/>
                    </a:lnTo>
                    <a:lnTo>
                      <a:pt x="3286" y="1465"/>
                    </a:lnTo>
                    <a:lnTo>
                      <a:pt x="3363" y="1498"/>
                    </a:lnTo>
                    <a:lnTo>
                      <a:pt x="3363" y="1416"/>
                    </a:lnTo>
                    <a:lnTo>
                      <a:pt x="3253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27320" y="5567040"/>
                <a:ext cx="7920" cy="201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33" y="104"/>
                    </a:moveTo>
                    <a:lnTo>
                      <a:pt x="0" y="55"/>
                    </a:lnTo>
                    <a:lnTo>
                      <a:pt x="0" y="236"/>
                    </a:lnTo>
                    <a:lnTo>
                      <a:pt x="110" y="236"/>
                    </a:lnTo>
                    <a:lnTo>
                      <a:pt x="110" y="55"/>
                    </a:lnTo>
                    <a:lnTo>
                      <a:pt x="77" y="0"/>
                    </a:lnTo>
                    <a:lnTo>
                      <a:pt x="110" y="55"/>
                    </a:lnTo>
                    <a:lnTo>
                      <a:pt x="105" y="17"/>
                    </a:lnTo>
                    <a:lnTo>
                      <a:pt x="77" y="0"/>
                    </a:lnTo>
                    <a:lnTo>
                      <a:pt x="3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17800" y="5443920"/>
                <a:ext cx="215280" cy="133200"/>
              </a:xfrm>
              <a:custGeom>
                <a:avLst/>
                <a:gdLst/>
                <a:ahLst/>
                <a:rect l="l" t="t" r="r" b="b"/>
                <a:pathLst>
                  <a:path w="3358" h="1602">
                    <a:moveTo>
                      <a:pt x="99" y="82"/>
                    </a:moveTo>
                    <a:lnTo>
                      <a:pt x="28" y="131"/>
                    </a:lnTo>
                    <a:lnTo>
                      <a:pt x="3314" y="1602"/>
                    </a:lnTo>
                    <a:lnTo>
                      <a:pt x="3358" y="1498"/>
                    </a:lnTo>
                    <a:lnTo>
                      <a:pt x="71" y="26"/>
                    </a:lnTo>
                    <a:lnTo>
                      <a:pt x="0" y="82"/>
                    </a:lnTo>
                    <a:lnTo>
                      <a:pt x="71" y="26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99" y="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15440" y="5574600"/>
                <a:ext cx="19800" cy="79200"/>
              </a:xfrm>
              <a:custGeom>
                <a:avLst/>
                <a:gdLst/>
                <a:ahLst/>
                <a:rect l="l" t="t" r="r" b="b"/>
                <a:pathLst>
                  <a:path w="312" h="944">
                    <a:moveTo>
                      <a:pt x="312" y="0"/>
                    </a:moveTo>
                    <a:lnTo>
                      <a:pt x="312" y="944"/>
                    </a:lnTo>
                    <a:lnTo>
                      <a:pt x="0" y="840"/>
                    </a:lnTo>
                    <a:lnTo>
                      <a:pt x="0" y="82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31280" y="5574600"/>
                <a:ext cx="7920" cy="84600"/>
              </a:xfrm>
              <a:custGeom>
                <a:avLst/>
                <a:gdLst/>
                <a:ahLst/>
                <a:rect l="l" t="t" r="r" b="b"/>
                <a:pathLst>
                  <a:path w="99" h="1010">
                    <a:moveTo>
                      <a:pt x="33" y="993"/>
                    </a:moveTo>
                    <a:lnTo>
                      <a:pt x="99" y="94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44"/>
                    </a:lnTo>
                    <a:lnTo>
                      <a:pt x="66" y="889"/>
                    </a:lnTo>
                    <a:lnTo>
                      <a:pt x="33" y="993"/>
                    </a:lnTo>
                    <a:lnTo>
                      <a:pt x="99" y="1010"/>
                    </a:lnTo>
                    <a:lnTo>
                      <a:pt x="99" y="944"/>
                    </a:lnTo>
                    <a:lnTo>
                      <a:pt x="33" y="9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11480" y="5641200"/>
                <a:ext cx="25560" cy="14760"/>
              </a:xfrm>
              <a:custGeom>
                <a:avLst/>
                <a:gdLst/>
                <a:ahLst/>
                <a:rect l="l" t="t" r="r" b="b"/>
                <a:pathLst>
                  <a:path w="390" h="203">
                    <a:moveTo>
                      <a:pt x="0" y="50"/>
                    </a:moveTo>
                    <a:lnTo>
                      <a:pt x="44" y="99"/>
                    </a:lnTo>
                    <a:lnTo>
                      <a:pt x="357" y="203"/>
                    </a:lnTo>
                    <a:lnTo>
                      <a:pt x="390" y="99"/>
                    </a:lnTo>
                    <a:lnTo>
                      <a:pt x="72" y="0"/>
                    </a:lnTo>
                    <a:lnTo>
                      <a:pt x="115" y="50"/>
                    </a:lnTo>
                    <a:lnTo>
                      <a:pt x="0" y="50"/>
                    </a:lnTo>
                    <a:lnTo>
                      <a:pt x="0" y="88"/>
                    </a:lnTo>
                    <a:lnTo>
                      <a:pt x="44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11480" y="5577480"/>
                <a:ext cx="7560" cy="65880"/>
              </a:xfrm>
              <a:custGeom>
                <a:avLst/>
                <a:gdLst/>
                <a:ahLst/>
                <a:rect l="l" t="t" r="r" b="b"/>
                <a:pathLst>
                  <a:path w="115" h="807">
                    <a:moveTo>
                      <a:pt x="44" y="0"/>
                    </a:moveTo>
                    <a:lnTo>
                      <a:pt x="0" y="49"/>
                    </a:lnTo>
                    <a:lnTo>
                      <a:pt x="0" y="807"/>
                    </a:lnTo>
                    <a:lnTo>
                      <a:pt x="115" y="807"/>
                    </a:lnTo>
                    <a:lnTo>
                      <a:pt x="115" y="49"/>
                    </a:lnTo>
                    <a:lnTo>
                      <a:pt x="72" y="99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13280" y="5569200"/>
                <a:ext cx="25920" cy="15480"/>
              </a:xfrm>
              <a:custGeom>
                <a:avLst/>
                <a:gdLst/>
                <a:ahLst/>
                <a:rect l="l" t="t" r="r" b="b"/>
                <a:pathLst>
                  <a:path w="379" h="198">
                    <a:moveTo>
                      <a:pt x="379" y="66"/>
                    </a:moveTo>
                    <a:lnTo>
                      <a:pt x="313" y="16"/>
                    </a:lnTo>
                    <a:lnTo>
                      <a:pt x="0" y="99"/>
                    </a:lnTo>
                    <a:lnTo>
                      <a:pt x="28" y="198"/>
                    </a:lnTo>
                    <a:lnTo>
                      <a:pt x="346" y="115"/>
                    </a:lnTo>
                    <a:lnTo>
                      <a:pt x="280" y="66"/>
                    </a:lnTo>
                    <a:lnTo>
                      <a:pt x="379" y="66"/>
                    </a:lnTo>
                    <a:lnTo>
                      <a:pt x="379" y="0"/>
                    </a:lnTo>
                    <a:lnTo>
                      <a:pt x="313" y="16"/>
                    </a:lnTo>
                    <a:lnTo>
                      <a:pt x="379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15440" y="5412960"/>
                <a:ext cx="19800" cy="89640"/>
              </a:xfrm>
              <a:custGeom>
                <a:avLst/>
                <a:gdLst/>
                <a:ahLst/>
                <a:rect l="l" t="t" r="r" b="b"/>
                <a:pathLst>
                  <a:path w="307" h="1059">
                    <a:moveTo>
                      <a:pt x="307" y="0"/>
                    </a:moveTo>
                    <a:lnTo>
                      <a:pt x="307" y="1059"/>
                    </a:lnTo>
                    <a:lnTo>
                      <a:pt x="0" y="883"/>
                    </a:lnTo>
                    <a:lnTo>
                      <a:pt x="0" y="27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31280" y="5412960"/>
                <a:ext cx="7920" cy="97200"/>
              </a:xfrm>
              <a:custGeom>
                <a:avLst/>
                <a:gdLst/>
                <a:ahLst/>
                <a:rect l="l" t="t" r="r" b="b"/>
                <a:pathLst>
                  <a:path w="99" h="1153">
                    <a:moveTo>
                      <a:pt x="22" y="1104"/>
                    </a:moveTo>
                    <a:lnTo>
                      <a:pt x="99" y="10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59"/>
                    </a:lnTo>
                    <a:lnTo>
                      <a:pt x="77" y="1015"/>
                    </a:lnTo>
                    <a:lnTo>
                      <a:pt x="22" y="1104"/>
                    </a:lnTo>
                    <a:lnTo>
                      <a:pt x="99" y="1153"/>
                    </a:lnTo>
                    <a:lnTo>
                      <a:pt x="99" y="1059"/>
                    </a:lnTo>
                    <a:lnTo>
                      <a:pt x="22" y="1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11480" y="5482080"/>
                <a:ext cx="25560" cy="23040"/>
              </a:xfrm>
              <a:custGeom>
                <a:avLst/>
                <a:gdLst/>
                <a:ahLst/>
                <a:rect l="l" t="t" r="r" b="b"/>
                <a:pathLst>
                  <a:path w="390" h="264">
                    <a:moveTo>
                      <a:pt x="0" y="43"/>
                    </a:moveTo>
                    <a:lnTo>
                      <a:pt x="33" y="93"/>
                    </a:lnTo>
                    <a:lnTo>
                      <a:pt x="335" y="264"/>
                    </a:lnTo>
                    <a:lnTo>
                      <a:pt x="390" y="175"/>
                    </a:lnTo>
                    <a:lnTo>
                      <a:pt x="83" y="0"/>
                    </a:lnTo>
                    <a:lnTo>
                      <a:pt x="115" y="43"/>
                    </a:lnTo>
                    <a:lnTo>
                      <a:pt x="0" y="43"/>
                    </a:lnTo>
                    <a:lnTo>
                      <a:pt x="5" y="76"/>
                    </a:lnTo>
                    <a:lnTo>
                      <a:pt x="33" y="9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11480" y="5412960"/>
                <a:ext cx="7560" cy="74160"/>
              </a:xfrm>
              <a:custGeom>
                <a:avLst/>
                <a:gdLst/>
                <a:ahLst/>
                <a:rect l="l" t="t" r="r" b="b"/>
                <a:pathLst>
                  <a:path w="115" h="905">
                    <a:moveTo>
                      <a:pt x="55" y="0"/>
                    </a:moveTo>
                    <a:lnTo>
                      <a:pt x="0" y="49"/>
                    </a:lnTo>
                    <a:lnTo>
                      <a:pt x="0" y="905"/>
                    </a:lnTo>
                    <a:lnTo>
                      <a:pt x="115" y="905"/>
                    </a:lnTo>
                    <a:lnTo>
                      <a:pt x="115" y="49"/>
                    </a:lnTo>
                    <a:lnTo>
                      <a:pt x="61" y="9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15440" y="541080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357" h="131">
                    <a:moveTo>
                      <a:pt x="357" y="55"/>
                    </a:moveTo>
                    <a:lnTo>
                      <a:pt x="302" y="6"/>
                    </a:lnTo>
                    <a:lnTo>
                      <a:pt x="0" y="33"/>
                    </a:lnTo>
                    <a:lnTo>
                      <a:pt x="6" y="131"/>
                    </a:lnTo>
                    <a:lnTo>
                      <a:pt x="313" y="105"/>
                    </a:lnTo>
                    <a:lnTo>
                      <a:pt x="258" y="55"/>
                    </a:lnTo>
                    <a:lnTo>
                      <a:pt x="357" y="55"/>
                    </a:lnTo>
                    <a:lnTo>
                      <a:pt x="357" y="0"/>
                    </a:lnTo>
                    <a:lnTo>
                      <a:pt x="302" y="6"/>
                    </a:lnTo>
                    <a:lnTo>
                      <a:pt x="357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285200" y="5392800"/>
                <a:ext cx="6120" cy="76320"/>
              </a:xfrm>
              <a:custGeom>
                <a:avLst/>
                <a:gdLst/>
                <a:ahLst/>
                <a:rect l="l" t="t" r="r" b="b"/>
                <a:pathLst>
                  <a:path w="89" h="932">
                    <a:moveTo>
                      <a:pt x="89" y="109"/>
                    </a:moveTo>
                    <a:lnTo>
                      <a:pt x="89" y="932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287360" y="5400360"/>
                <a:ext cx="5760" cy="74160"/>
              </a:xfrm>
              <a:custGeom>
                <a:avLst/>
                <a:gdLst/>
                <a:ahLst/>
                <a:rect l="l" t="t" r="r" b="b"/>
                <a:pathLst>
                  <a:path w="98" h="879">
                    <a:moveTo>
                      <a:pt x="10" y="862"/>
                    </a:moveTo>
                    <a:lnTo>
                      <a:pt x="98" y="823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23"/>
                    </a:lnTo>
                    <a:lnTo>
                      <a:pt x="92" y="790"/>
                    </a:lnTo>
                    <a:lnTo>
                      <a:pt x="0" y="823"/>
                    </a:lnTo>
                    <a:lnTo>
                      <a:pt x="16" y="862"/>
                    </a:lnTo>
                    <a:lnTo>
                      <a:pt x="49" y="879"/>
                    </a:lnTo>
                    <a:lnTo>
                      <a:pt x="87" y="862"/>
                    </a:lnTo>
                    <a:lnTo>
                      <a:pt x="98" y="823"/>
                    </a:lnTo>
                    <a:lnTo>
                      <a:pt x="10" y="86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281600" y="5456520"/>
                <a:ext cx="11520" cy="1548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0" y="55"/>
                    </a:moveTo>
                    <a:lnTo>
                      <a:pt x="16" y="88"/>
                    </a:lnTo>
                    <a:lnTo>
                      <a:pt x="104" y="181"/>
                    </a:lnTo>
                    <a:lnTo>
                      <a:pt x="186" y="109"/>
                    </a:lnTo>
                    <a:lnTo>
                      <a:pt x="99" y="17"/>
                    </a:lnTo>
                    <a:lnTo>
                      <a:pt x="115" y="55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22" y="11"/>
                    </a:lnTo>
                    <a:lnTo>
                      <a:pt x="0" y="50"/>
                    </a:lnTo>
                    <a:lnTo>
                      <a:pt x="16" y="8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281600" y="5387400"/>
                <a:ext cx="7560" cy="74160"/>
              </a:xfrm>
              <a:custGeom>
                <a:avLst/>
                <a:gdLst/>
                <a:ahLst/>
                <a:rect l="l" t="t" r="r" b="b"/>
                <a:pathLst>
                  <a:path w="115" h="901">
                    <a:moveTo>
                      <a:pt x="99" y="23"/>
                    </a:moveTo>
                    <a:lnTo>
                      <a:pt x="0" y="56"/>
                    </a:lnTo>
                    <a:lnTo>
                      <a:pt x="0" y="901"/>
                    </a:lnTo>
                    <a:lnTo>
                      <a:pt x="115" y="901"/>
                    </a:lnTo>
                    <a:lnTo>
                      <a:pt x="115" y="56"/>
                    </a:lnTo>
                    <a:lnTo>
                      <a:pt x="16" y="89"/>
                    </a:lnTo>
                    <a:lnTo>
                      <a:pt x="115" y="56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6"/>
                    </a:lnTo>
                    <a:lnTo>
                      <a:pt x="9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281600" y="539064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76" h="198">
                    <a:moveTo>
                      <a:pt x="176" y="142"/>
                    </a:moveTo>
                    <a:lnTo>
                      <a:pt x="170" y="115"/>
                    </a:lnTo>
                    <a:lnTo>
                      <a:pt x="83" y="0"/>
                    </a:lnTo>
                    <a:lnTo>
                      <a:pt x="0" y="66"/>
                    </a:lnTo>
                    <a:lnTo>
                      <a:pt x="88" y="175"/>
                    </a:lnTo>
                    <a:lnTo>
                      <a:pt x="78" y="142"/>
                    </a:lnTo>
                    <a:lnTo>
                      <a:pt x="88" y="175"/>
                    </a:lnTo>
                    <a:lnTo>
                      <a:pt x="121" y="198"/>
                    </a:lnTo>
                    <a:lnTo>
                      <a:pt x="160" y="181"/>
                    </a:lnTo>
                    <a:lnTo>
                      <a:pt x="176" y="148"/>
                    </a:lnTo>
                    <a:lnTo>
                      <a:pt x="170" y="115"/>
                    </a:lnTo>
                    <a:lnTo>
                      <a:pt x="176" y="14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257480" y="5372640"/>
                <a:ext cx="5760" cy="74160"/>
              </a:xfrm>
              <a:custGeom>
                <a:avLst/>
                <a:gdLst/>
                <a:ahLst/>
                <a:rect l="l" t="t" r="r" b="b"/>
                <a:pathLst>
                  <a:path w="93" h="906">
                    <a:moveTo>
                      <a:pt x="93" y="71"/>
                    </a:moveTo>
                    <a:lnTo>
                      <a:pt x="93" y="906"/>
                    </a:lnTo>
                    <a:lnTo>
                      <a:pt x="0" y="840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261800" y="537768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16" y="880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82" y="786"/>
                    </a:lnTo>
                    <a:lnTo>
                      <a:pt x="0" y="835"/>
                    </a:lnTo>
                    <a:lnTo>
                      <a:pt x="16" y="868"/>
                    </a:lnTo>
                    <a:lnTo>
                      <a:pt x="49" y="885"/>
                    </a:lnTo>
                    <a:lnTo>
                      <a:pt x="87" y="868"/>
                    </a:lnTo>
                    <a:lnTo>
                      <a:pt x="99" y="835"/>
                    </a:lnTo>
                    <a:lnTo>
                      <a:pt x="16" y="88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53520" y="54363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81" h="165">
                    <a:moveTo>
                      <a:pt x="0" y="54"/>
                    </a:moveTo>
                    <a:lnTo>
                      <a:pt x="27" y="104"/>
                    </a:lnTo>
                    <a:lnTo>
                      <a:pt x="115" y="165"/>
                    </a:lnTo>
                    <a:lnTo>
                      <a:pt x="181" y="71"/>
                    </a:lnTo>
                    <a:lnTo>
                      <a:pt x="88" y="10"/>
                    </a:lnTo>
                    <a:lnTo>
                      <a:pt x="115" y="54"/>
                    </a:lnTo>
                    <a:lnTo>
                      <a:pt x="88" y="10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0" y="66"/>
                    </a:lnTo>
                    <a:lnTo>
                      <a:pt x="27" y="10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253520" y="5367240"/>
                <a:ext cx="7920" cy="74160"/>
              </a:xfrm>
              <a:custGeom>
                <a:avLst/>
                <a:gdLst/>
                <a:ahLst/>
                <a:rect l="l" t="t" r="r" b="b"/>
                <a:pathLst>
                  <a:path w="115" h="894">
                    <a:moveTo>
                      <a:pt x="88" y="10"/>
                    </a:moveTo>
                    <a:lnTo>
                      <a:pt x="0" y="54"/>
                    </a:lnTo>
                    <a:lnTo>
                      <a:pt x="0" y="894"/>
                    </a:lnTo>
                    <a:lnTo>
                      <a:pt x="115" y="894"/>
                    </a:lnTo>
                    <a:lnTo>
                      <a:pt x="115" y="54"/>
                    </a:lnTo>
                    <a:lnTo>
                      <a:pt x="27" y="93"/>
                    </a:lnTo>
                    <a:lnTo>
                      <a:pt x="115" y="54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4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55320" y="5367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5"/>
                    </a:moveTo>
                    <a:lnTo>
                      <a:pt x="154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5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54" y="72"/>
                    </a:lnTo>
                    <a:lnTo>
                      <a:pt x="171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233720" y="5349240"/>
                <a:ext cx="5760" cy="7920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93" y="104"/>
                    </a:moveTo>
                    <a:lnTo>
                      <a:pt x="93" y="971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235520" y="5356800"/>
                <a:ext cx="5760" cy="77040"/>
              </a:xfrm>
              <a:custGeom>
                <a:avLst/>
                <a:gdLst/>
                <a:ahLst/>
                <a:rect l="l" t="t" r="r" b="b"/>
                <a:pathLst>
                  <a:path w="104" h="917">
                    <a:moveTo>
                      <a:pt x="27" y="911"/>
                    </a:moveTo>
                    <a:lnTo>
                      <a:pt x="104" y="86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67"/>
                    </a:lnTo>
                    <a:lnTo>
                      <a:pt x="76" y="818"/>
                    </a:lnTo>
                    <a:lnTo>
                      <a:pt x="0" y="867"/>
                    </a:lnTo>
                    <a:lnTo>
                      <a:pt x="16" y="900"/>
                    </a:lnTo>
                    <a:lnTo>
                      <a:pt x="54" y="917"/>
                    </a:lnTo>
                    <a:lnTo>
                      <a:pt x="87" y="900"/>
                    </a:lnTo>
                    <a:lnTo>
                      <a:pt x="104" y="867"/>
                    </a:lnTo>
                    <a:lnTo>
                      <a:pt x="27" y="9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229400" y="542124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70" h="154">
                    <a:moveTo>
                      <a:pt x="0" y="50"/>
                    </a:moveTo>
                    <a:lnTo>
                      <a:pt x="28" y="99"/>
                    </a:lnTo>
                    <a:lnTo>
                      <a:pt x="121" y="154"/>
                    </a:lnTo>
                    <a:lnTo>
                      <a:pt x="170" y="61"/>
                    </a:lnTo>
                    <a:lnTo>
                      <a:pt x="83" y="5"/>
                    </a:lnTo>
                    <a:lnTo>
                      <a:pt x="110" y="50"/>
                    </a:lnTo>
                    <a:lnTo>
                      <a:pt x="83" y="5"/>
                    </a:lnTo>
                    <a:lnTo>
                      <a:pt x="38" y="0"/>
                    </a:lnTo>
                    <a:lnTo>
                      <a:pt x="12" y="28"/>
                    </a:lnTo>
                    <a:lnTo>
                      <a:pt x="5" y="66"/>
                    </a:lnTo>
                    <a:lnTo>
                      <a:pt x="2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29400" y="5344200"/>
                <a:ext cx="5760" cy="79200"/>
              </a:xfrm>
              <a:custGeom>
                <a:avLst/>
                <a:gdLst/>
                <a:ahLst/>
                <a:rect l="l" t="t" r="r" b="b"/>
                <a:pathLst>
                  <a:path w="110" h="972">
                    <a:moveTo>
                      <a:pt x="94" y="22"/>
                    </a:moveTo>
                    <a:lnTo>
                      <a:pt x="0" y="61"/>
                    </a:lnTo>
                    <a:lnTo>
                      <a:pt x="0" y="972"/>
                    </a:lnTo>
                    <a:lnTo>
                      <a:pt x="110" y="972"/>
                    </a:lnTo>
                    <a:lnTo>
                      <a:pt x="110" y="61"/>
                    </a:lnTo>
                    <a:lnTo>
                      <a:pt x="17" y="94"/>
                    </a:lnTo>
                    <a:lnTo>
                      <a:pt x="110" y="61"/>
                    </a:lnTo>
                    <a:lnTo>
                      <a:pt x="94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4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229400" y="534708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70" y="110"/>
                    </a:lnTo>
                    <a:lnTo>
                      <a:pt x="77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77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70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205640" y="5326200"/>
                <a:ext cx="5760" cy="77040"/>
              </a:xfrm>
              <a:custGeom>
                <a:avLst/>
                <a:gdLst/>
                <a:ahLst/>
                <a:rect l="l" t="t" r="r" b="b"/>
                <a:pathLst>
                  <a:path w="93" h="932">
                    <a:moveTo>
                      <a:pt x="93" y="104"/>
                    </a:moveTo>
                    <a:lnTo>
                      <a:pt x="93" y="932"/>
                    </a:lnTo>
                    <a:lnTo>
                      <a:pt x="0" y="916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07800" y="5334120"/>
                <a:ext cx="5760" cy="73440"/>
              </a:xfrm>
              <a:custGeom>
                <a:avLst/>
                <a:gdLst/>
                <a:ahLst/>
                <a:rect l="l" t="t" r="r" b="b"/>
                <a:pathLst>
                  <a:path w="99" h="878">
                    <a:moveTo>
                      <a:pt x="38" y="878"/>
                    </a:moveTo>
                    <a:lnTo>
                      <a:pt x="99" y="8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28"/>
                    </a:lnTo>
                    <a:lnTo>
                      <a:pt x="60" y="779"/>
                    </a:lnTo>
                    <a:lnTo>
                      <a:pt x="0" y="828"/>
                    </a:lnTo>
                    <a:lnTo>
                      <a:pt x="10" y="868"/>
                    </a:lnTo>
                    <a:lnTo>
                      <a:pt x="49" y="878"/>
                    </a:lnTo>
                    <a:lnTo>
                      <a:pt x="82" y="868"/>
                    </a:lnTo>
                    <a:lnTo>
                      <a:pt x="99" y="828"/>
                    </a:lnTo>
                    <a:lnTo>
                      <a:pt x="38" y="8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01320" y="53978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59" h="115">
                    <a:moveTo>
                      <a:pt x="0" y="49"/>
                    </a:moveTo>
                    <a:lnTo>
                      <a:pt x="43" y="105"/>
                    </a:lnTo>
                    <a:lnTo>
                      <a:pt x="137" y="115"/>
                    </a:lnTo>
                    <a:lnTo>
                      <a:pt x="159" y="16"/>
                    </a:lnTo>
                    <a:lnTo>
                      <a:pt x="66" y="0"/>
                    </a:lnTo>
                    <a:lnTo>
                      <a:pt x="109" y="49"/>
                    </a:lnTo>
                    <a:lnTo>
                      <a:pt x="66" y="0"/>
                    </a:lnTo>
                    <a:lnTo>
                      <a:pt x="27" y="11"/>
                    </a:lnTo>
                    <a:lnTo>
                      <a:pt x="5" y="44"/>
                    </a:lnTo>
                    <a:lnTo>
                      <a:pt x="10" y="82"/>
                    </a:lnTo>
                    <a:lnTo>
                      <a:pt x="43" y="105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01320" y="5321520"/>
                <a:ext cx="6120" cy="78840"/>
              </a:xfrm>
              <a:custGeom>
                <a:avLst/>
                <a:gdLst/>
                <a:ahLst/>
                <a:rect l="l" t="t" r="r" b="b"/>
                <a:pathLst>
                  <a:path w="109" h="977">
                    <a:moveTo>
                      <a:pt x="99" y="22"/>
                    </a:moveTo>
                    <a:lnTo>
                      <a:pt x="0" y="61"/>
                    </a:lnTo>
                    <a:lnTo>
                      <a:pt x="0" y="977"/>
                    </a:lnTo>
                    <a:lnTo>
                      <a:pt x="109" y="977"/>
                    </a:lnTo>
                    <a:lnTo>
                      <a:pt x="109" y="61"/>
                    </a:lnTo>
                    <a:lnTo>
                      <a:pt x="17" y="94"/>
                    </a:lnTo>
                    <a:lnTo>
                      <a:pt x="109" y="61"/>
                    </a:lnTo>
                    <a:lnTo>
                      <a:pt x="99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01320" y="5323680"/>
                <a:ext cx="11880" cy="1476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69" y="110"/>
                    </a:lnTo>
                    <a:lnTo>
                      <a:pt x="82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82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69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77560" y="5303520"/>
                <a:ext cx="6120" cy="83880"/>
              </a:xfrm>
              <a:custGeom>
                <a:avLst/>
                <a:gdLst/>
                <a:ahLst/>
                <a:rect l="l" t="t" r="r" b="b"/>
                <a:pathLst>
                  <a:path w="88" h="999">
                    <a:moveTo>
                      <a:pt x="88" y="71"/>
                    </a:moveTo>
                    <a:lnTo>
                      <a:pt x="88" y="999"/>
                    </a:lnTo>
                    <a:lnTo>
                      <a:pt x="0" y="906"/>
                    </a:lnTo>
                    <a:lnTo>
                      <a:pt x="0" y="0"/>
                    </a:lnTo>
                    <a:lnTo>
                      <a:pt x="88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81520" y="5311080"/>
                <a:ext cx="5760" cy="79200"/>
              </a:xfrm>
              <a:custGeom>
                <a:avLst/>
                <a:gdLst/>
                <a:ahLst/>
                <a:rect l="l" t="t" r="r" b="b"/>
                <a:pathLst>
                  <a:path w="99" h="977">
                    <a:moveTo>
                      <a:pt x="6" y="961"/>
                    </a:moveTo>
                    <a:lnTo>
                      <a:pt x="99" y="9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28"/>
                    </a:lnTo>
                    <a:lnTo>
                      <a:pt x="89" y="895"/>
                    </a:lnTo>
                    <a:lnTo>
                      <a:pt x="0" y="928"/>
                    </a:lnTo>
                    <a:lnTo>
                      <a:pt x="12" y="961"/>
                    </a:lnTo>
                    <a:lnTo>
                      <a:pt x="50" y="977"/>
                    </a:lnTo>
                    <a:lnTo>
                      <a:pt x="83" y="961"/>
                    </a:lnTo>
                    <a:lnTo>
                      <a:pt x="99" y="928"/>
                    </a:lnTo>
                    <a:lnTo>
                      <a:pt x="6" y="9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75760" y="537480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181" h="175">
                    <a:moveTo>
                      <a:pt x="0" y="49"/>
                    </a:moveTo>
                    <a:lnTo>
                      <a:pt x="16" y="87"/>
                    </a:lnTo>
                    <a:lnTo>
                      <a:pt x="98" y="175"/>
                    </a:lnTo>
                    <a:lnTo>
                      <a:pt x="181" y="109"/>
                    </a:lnTo>
                    <a:lnTo>
                      <a:pt x="98" y="16"/>
                    </a:lnTo>
                    <a:lnTo>
                      <a:pt x="109" y="49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21" y="10"/>
                    </a:lnTo>
                    <a:lnTo>
                      <a:pt x="0" y="43"/>
                    </a:lnTo>
                    <a:lnTo>
                      <a:pt x="16" y="8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75760" y="5300640"/>
                <a:ext cx="5760" cy="79200"/>
              </a:xfrm>
              <a:custGeom>
                <a:avLst/>
                <a:gdLst/>
                <a:ahLst/>
                <a:rect l="l" t="t" r="r" b="b"/>
                <a:pathLst>
                  <a:path w="109" h="961">
                    <a:moveTo>
                      <a:pt x="92" y="16"/>
                    </a:moveTo>
                    <a:lnTo>
                      <a:pt x="0" y="55"/>
                    </a:lnTo>
                    <a:lnTo>
                      <a:pt x="0" y="961"/>
                    </a:lnTo>
                    <a:lnTo>
                      <a:pt x="109" y="961"/>
                    </a:lnTo>
                    <a:lnTo>
                      <a:pt x="109" y="55"/>
                    </a:lnTo>
                    <a:lnTo>
                      <a:pt x="21" y="99"/>
                    </a:lnTo>
                    <a:lnTo>
                      <a:pt x="109" y="55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75760" y="5300640"/>
                <a:ext cx="11520" cy="15480"/>
              </a:xfrm>
              <a:custGeom>
                <a:avLst/>
                <a:gdLst/>
                <a:ahLst/>
                <a:rect l="l" t="t" r="r" b="b"/>
                <a:pathLst>
                  <a:path w="170" h="171">
                    <a:moveTo>
                      <a:pt x="170" y="110"/>
                    </a:moveTo>
                    <a:lnTo>
                      <a:pt x="154" y="72"/>
                    </a:lnTo>
                    <a:lnTo>
                      <a:pt x="71" y="0"/>
                    </a:lnTo>
                    <a:lnTo>
                      <a:pt x="0" y="83"/>
                    </a:lnTo>
                    <a:lnTo>
                      <a:pt x="83" y="155"/>
                    </a:lnTo>
                    <a:lnTo>
                      <a:pt x="71" y="110"/>
                    </a:lnTo>
                    <a:lnTo>
                      <a:pt x="83" y="155"/>
                    </a:lnTo>
                    <a:lnTo>
                      <a:pt x="127" y="171"/>
                    </a:lnTo>
                    <a:lnTo>
                      <a:pt x="160" y="148"/>
                    </a:lnTo>
                    <a:lnTo>
                      <a:pt x="170" y="110"/>
                    </a:lnTo>
                    <a:lnTo>
                      <a:pt x="154" y="72"/>
                    </a:lnTo>
                    <a:lnTo>
                      <a:pt x="170" y="1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85200" y="5561640"/>
                <a:ext cx="6120" cy="71640"/>
              </a:xfrm>
              <a:custGeom>
                <a:avLst/>
                <a:gdLst/>
                <a:ahLst/>
                <a:rect l="l" t="t" r="r" b="b"/>
                <a:pathLst>
                  <a:path w="89" h="845">
                    <a:moveTo>
                      <a:pt x="89" y="39"/>
                    </a:moveTo>
                    <a:lnTo>
                      <a:pt x="89" y="845"/>
                    </a:lnTo>
                    <a:lnTo>
                      <a:pt x="0" y="818"/>
                    </a:lnTo>
                    <a:lnTo>
                      <a:pt x="0" y="0"/>
                    </a:lnTo>
                    <a:lnTo>
                      <a:pt x="89" y="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87360" y="5567040"/>
                <a:ext cx="5760" cy="68760"/>
              </a:xfrm>
              <a:custGeom>
                <a:avLst/>
                <a:gdLst/>
                <a:ahLst/>
                <a:rect l="l" t="t" r="r" b="b"/>
                <a:pathLst>
                  <a:path w="98" h="856">
                    <a:moveTo>
                      <a:pt x="32" y="856"/>
                    </a:moveTo>
                    <a:lnTo>
                      <a:pt x="98" y="806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06"/>
                    </a:lnTo>
                    <a:lnTo>
                      <a:pt x="65" y="757"/>
                    </a:lnTo>
                    <a:lnTo>
                      <a:pt x="0" y="806"/>
                    </a:lnTo>
                    <a:lnTo>
                      <a:pt x="16" y="845"/>
                    </a:lnTo>
                    <a:lnTo>
                      <a:pt x="49" y="856"/>
                    </a:lnTo>
                    <a:lnTo>
                      <a:pt x="87" y="845"/>
                    </a:lnTo>
                    <a:lnTo>
                      <a:pt x="98" y="806"/>
                    </a:lnTo>
                    <a:lnTo>
                      <a:pt x="32" y="8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81600" y="56257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59" h="127">
                    <a:moveTo>
                      <a:pt x="0" y="50"/>
                    </a:moveTo>
                    <a:lnTo>
                      <a:pt x="44" y="105"/>
                    </a:lnTo>
                    <a:lnTo>
                      <a:pt x="126" y="127"/>
                    </a:lnTo>
                    <a:lnTo>
                      <a:pt x="159" y="28"/>
                    </a:lnTo>
                    <a:lnTo>
                      <a:pt x="71" y="0"/>
                    </a:lnTo>
                    <a:lnTo>
                      <a:pt x="115" y="50"/>
                    </a:lnTo>
                    <a:lnTo>
                      <a:pt x="71" y="0"/>
                    </a:lnTo>
                    <a:lnTo>
                      <a:pt x="33" y="6"/>
                    </a:lnTo>
                    <a:lnTo>
                      <a:pt x="5" y="39"/>
                    </a:lnTo>
                    <a:lnTo>
                      <a:pt x="11" y="77"/>
                    </a:lnTo>
                    <a:lnTo>
                      <a:pt x="44" y="10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281600" y="5556600"/>
                <a:ext cx="7560" cy="74160"/>
              </a:xfrm>
              <a:custGeom>
                <a:avLst/>
                <a:gdLst/>
                <a:ahLst/>
                <a:rect l="l" t="t" r="r" b="b"/>
                <a:pathLst>
                  <a:path w="115" h="873">
                    <a:moveTo>
                      <a:pt x="77" y="6"/>
                    </a:moveTo>
                    <a:lnTo>
                      <a:pt x="0" y="55"/>
                    </a:lnTo>
                    <a:lnTo>
                      <a:pt x="0" y="873"/>
                    </a:lnTo>
                    <a:lnTo>
                      <a:pt x="115" y="873"/>
                    </a:lnTo>
                    <a:lnTo>
                      <a:pt x="115" y="55"/>
                    </a:lnTo>
                    <a:lnTo>
                      <a:pt x="38" y="110"/>
                    </a:lnTo>
                    <a:lnTo>
                      <a:pt x="115" y="55"/>
                    </a:lnTo>
                    <a:lnTo>
                      <a:pt x="99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283400" y="5559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54" h="137">
                    <a:moveTo>
                      <a:pt x="154" y="88"/>
                    </a:moveTo>
                    <a:lnTo>
                      <a:pt x="127" y="33"/>
                    </a:lnTo>
                    <a:lnTo>
                      <a:pt x="39" y="0"/>
                    </a:lnTo>
                    <a:lnTo>
                      <a:pt x="0" y="104"/>
                    </a:lnTo>
                    <a:lnTo>
                      <a:pt x="82" y="137"/>
                    </a:lnTo>
                    <a:lnTo>
                      <a:pt x="56" y="88"/>
                    </a:lnTo>
                    <a:lnTo>
                      <a:pt x="82" y="137"/>
                    </a:lnTo>
                    <a:lnTo>
                      <a:pt x="132" y="137"/>
                    </a:lnTo>
                    <a:lnTo>
                      <a:pt x="154" y="104"/>
                    </a:lnTo>
                    <a:lnTo>
                      <a:pt x="154" y="66"/>
                    </a:lnTo>
                    <a:lnTo>
                      <a:pt x="127" y="33"/>
                    </a:lnTo>
                    <a:lnTo>
                      <a:pt x="154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257480" y="5546520"/>
                <a:ext cx="5760" cy="73440"/>
              </a:xfrm>
              <a:custGeom>
                <a:avLst/>
                <a:gdLst/>
                <a:ahLst/>
                <a:rect l="l" t="t" r="r" b="b"/>
                <a:pathLst>
                  <a:path w="93" h="890">
                    <a:moveTo>
                      <a:pt x="93" y="38"/>
                    </a:moveTo>
                    <a:lnTo>
                      <a:pt x="93" y="890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61800" y="5551200"/>
                <a:ext cx="5760" cy="74160"/>
              </a:xfrm>
              <a:custGeom>
                <a:avLst/>
                <a:gdLst/>
                <a:ahLst/>
                <a:rect l="l" t="t" r="r" b="b"/>
                <a:pathLst>
                  <a:path w="99" h="901">
                    <a:moveTo>
                      <a:pt x="22" y="895"/>
                    </a:moveTo>
                    <a:lnTo>
                      <a:pt x="99" y="852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2"/>
                    </a:lnTo>
                    <a:lnTo>
                      <a:pt x="76" y="807"/>
                    </a:lnTo>
                    <a:lnTo>
                      <a:pt x="0" y="852"/>
                    </a:lnTo>
                    <a:lnTo>
                      <a:pt x="16" y="890"/>
                    </a:lnTo>
                    <a:lnTo>
                      <a:pt x="49" y="901"/>
                    </a:lnTo>
                    <a:lnTo>
                      <a:pt x="87" y="890"/>
                    </a:lnTo>
                    <a:lnTo>
                      <a:pt x="99" y="852"/>
                    </a:lnTo>
                    <a:lnTo>
                      <a:pt x="22" y="8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53520" y="56127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54"/>
                    </a:moveTo>
                    <a:lnTo>
                      <a:pt x="33" y="99"/>
                    </a:lnTo>
                    <a:lnTo>
                      <a:pt x="121" y="142"/>
                    </a:lnTo>
                    <a:lnTo>
                      <a:pt x="175" y="54"/>
                    </a:lnTo>
                    <a:lnTo>
                      <a:pt x="83" y="5"/>
                    </a:lnTo>
                    <a:lnTo>
                      <a:pt x="115" y="54"/>
                    </a:lnTo>
                    <a:lnTo>
                      <a:pt x="83" y="5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5" y="71"/>
                    </a:lnTo>
                    <a:lnTo>
                      <a:pt x="33" y="9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3520" y="5543640"/>
                <a:ext cx="7920" cy="74160"/>
              </a:xfrm>
              <a:custGeom>
                <a:avLst/>
                <a:gdLst/>
                <a:ahLst/>
                <a:rect l="l" t="t" r="r" b="b"/>
                <a:pathLst>
                  <a:path w="115" h="900">
                    <a:moveTo>
                      <a:pt x="76" y="6"/>
                    </a:moveTo>
                    <a:lnTo>
                      <a:pt x="0" y="55"/>
                    </a:lnTo>
                    <a:lnTo>
                      <a:pt x="0" y="900"/>
                    </a:lnTo>
                    <a:lnTo>
                      <a:pt x="115" y="900"/>
                    </a:lnTo>
                    <a:lnTo>
                      <a:pt x="115" y="55"/>
                    </a:lnTo>
                    <a:lnTo>
                      <a:pt x="38" y="105"/>
                    </a:lnTo>
                    <a:lnTo>
                      <a:pt x="115" y="55"/>
                    </a:lnTo>
                    <a:lnTo>
                      <a:pt x="99" y="11"/>
                    </a:lnTo>
                    <a:lnTo>
                      <a:pt x="55" y="0"/>
                    </a:lnTo>
                    <a:lnTo>
                      <a:pt x="17" y="11"/>
                    </a:lnTo>
                    <a:lnTo>
                      <a:pt x="0" y="55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57480" y="554364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160" h="142">
                    <a:moveTo>
                      <a:pt x="160" y="87"/>
                    </a:moveTo>
                    <a:lnTo>
                      <a:pt x="132" y="38"/>
                    </a:lnTo>
                    <a:lnTo>
                      <a:pt x="38" y="0"/>
                    </a:lnTo>
                    <a:lnTo>
                      <a:pt x="0" y="99"/>
                    </a:lnTo>
                    <a:lnTo>
                      <a:pt x="88" y="142"/>
                    </a:lnTo>
                    <a:lnTo>
                      <a:pt x="61" y="87"/>
                    </a:lnTo>
                    <a:lnTo>
                      <a:pt x="88" y="142"/>
                    </a:lnTo>
                    <a:lnTo>
                      <a:pt x="137" y="142"/>
                    </a:lnTo>
                    <a:lnTo>
                      <a:pt x="160" y="109"/>
                    </a:lnTo>
                    <a:lnTo>
                      <a:pt x="160" y="71"/>
                    </a:lnTo>
                    <a:lnTo>
                      <a:pt x="132" y="38"/>
                    </a:lnTo>
                    <a:lnTo>
                      <a:pt x="160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33720" y="553608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93" h="878">
                    <a:moveTo>
                      <a:pt x="93" y="38"/>
                    </a:moveTo>
                    <a:lnTo>
                      <a:pt x="93" y="878"/>
                    </a:lnTo>
                    <a:lnTo>
                      <a:pt x="0" y="862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35520" y="5538600"/>
                <a:ext cx="5760" cy="74160"/>
              </a:xfrm>
              <a:custGeom>
                <a:avLst/>
                <a:gdLst/>
                <a:ahLst/>
                <a:rect l="l" t="t" r="r" b="b"/>
                <a:pathLst>
                  <a:path w="104" h="896">
                    <a:moveTo>
                      <a:pt x="43" y="896"/>
                    </a:moveTo>
                    <a:lnTo>
                      <a:pt x="104" y="840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40"/>
                    </a:lnTo>
                    <a:lnTo>
                      <a:pt x="66" y="791"/>
                    </a:lnTo>
                    <a:lnTo>
                      <a:pt x="0" y="840"/>
                    </a:lnTo>
                    <a:lnTo>
                      <a:pt x="16" y="879"/>
                    </a:lnTo>
                    <a:lnTo>
                      <a:pt x="54" y="896"/>
                    </a:lnTo>
                    <a:lnTo>
                      <a:pt x="87" y="879"/>
                    </a:lnTo>
                    <a:lnTo>
                      <a:pt x="104" y="840"/>
                    </a:lnTo>
                    <a:lnTo>
                      <a:pt x="43" y="8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29400" y="560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60" h="127">
                    <a:moveTo>
                      <a:pt x="0" y="55"/>
                    </a:moveTo>
                    <a:lnTo>
                      <a:pt x="45" y="104"/>
                    </a:lnTo>
                    <a:lnTo>
                      <a:pt x="137" y="127"/>
                    </a:lnTo>
                    <a:lnTo>
                      <a:pt x="160" y="22"/>
                    </a:lnTo>
                    <a:lnTo>
                      <a:pt x="66" y="0"/>
                    </a:lnTo>
                    <a:lnTo>
                      <a:pt x="110" y="55"/>
                    </a:lnTo>
                    <a:lnTo>
                      <a:pt x="66" y="0"/>
                    </a:lnTo>
                    <a:lnTo>
                      <a:pt x="22" y="11"/>
                    </a:lnTo>
                    <a:lnTo>
                      <a:pt x="5" y="44"/>
                    </a:lnTo>
                    <a:lnTo>
                      <a:pt x="12" y="83"/>
                    </a:lnTo>
                    <a:lnTo>
                      <a:pt x="45" y="10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29400" y="5531040"/>
                <a:ext cx="5760" cy="76320"/>
              </a:xfrm>
              <a:custGeom>
                <a:avLst/>
                <a:gdLst/>
                <a:ahLst/>
                <a:rect l="l" t="t" r="r" b="b"/>
                <a:pathLst>
                  <a:path w="110" h="916">
                    <a:moveTo>
                      <a:pt x="77" y="5"/>
                    </a:moveTo>
                    <a:lnTo>
                      <a:pt x="0" y="54"/>
                    </a:lnTo>
                    <a:lnTo>
                      <a:pt x="0" y="916"/>
                    </a:lnTo>
                    <a:lnTo>
                      <a:pt x="110" y="916"/>
                    </a:lnTo>
                    <a:lnTo>
                      <a:pt x="110" y="54"/>
                    </a:lnTo>
                    <a:lnTo>
                      <a:pt x="33" y="104"/>
                    </a:lnTo>
                    <a:lnTo>
                      <a:pt x="110" y="54"/>
                    </a:lnTo>
                    <a:lnTo>
                      <a:pt x="94" y="16"/>
                    </a:lnTo>
                    <a:lnTo>
                      <a:pt x="55" y="0"/>
                    </a:lnTo>
                    <a:lnTo>
                      <a:pt x="17" y="16"/>
                    </a:lnTo>
                    <a:lnTo>
                      <a:pt x="0" y="54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31200" y="553104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65" h="143">
                    <a:moveTo>
                      <a:pt x="165" y="87"/>
                    </a:moveTo>
                    <a:lnTo>
                      <a:pt x="132" y="38"/>
                    </a:lnTo>
                    <a:lnTo>
                      <a:pt x="44" y="0"/>
                    </a:lnTo>
                    <a:lnTo>
                      <a:pt x="0" y="99"/>
                    </a:lnTo>
                    <a:lnTo>
                      <a:pt x="94" y="143"/>
                    </a:lnTo>
                    <a:lnTo>
                      <a:pt x="61" y="87"/>
                    </a:lnTo>
                    <a:lnTo>
                      <a:pt x="94" y="143"/>
                    </a:lnTo>
                    <a:lnTo>
                      <a:pt x="137" y="143"/>
                    </a:lnTo>
                    <a:lnTo>
                      <a:pt x="165" y="110"/>
                    </a:lnTo>
                    <a:lnTo>
                      <a:pt x="165" y="71"/>
                    </a:lnTo>
                    <a:lnTo>
                      <a:pt x="132" y="38"/>
                    </a:lnTo>
                    <a:lnTo>
                      <a:pt x="165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05640" y="5518080"/>
                <a:ext cx="5760" cy="76320"/>
              </a:xfrm>
              <a:custGeom>
                <a:avLst/>
                <a:gdLst/>
                <a:ahLst/>
                <a:rect l="l" t="t" r="r" b="b"/>
                <a:pathLst>
                  <a:path w="93" h="927">
                    <a:moveTo>
                      <a:pt x="93" y="71"/>
                    </a:moveTo>
                    <a:lnTo>
                      <a:pt x="93" y="927"/>
                    </a:lnTo>
                    <a:lnTo>
                      <a:pt x="0" y="889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07800" y="5525640"/>
                <a:ext cx="5760" cy="74160"/>
              </a:xfrm>
              <a:custGeom>
                <a:avLst/>
                <a:gdLst/>
                <a:ahLst/>
                <a:rect l="l" t="t" r="r" b="b"/>
                <a:pathLst>
                  <a:path w="99" h="912">
                    <a:moveTo>
                      <a:pt x="27" y="912"/>
                    </a:moveTo>
                    <a:lnTo>
                      <a:pt x="99" y="856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6"/>
                    </a:lnTo>
                    <a:lnTo>
                      <a:pt x="71" y="807"/>
                    </a:lnTo>
                    <a:lnTo>
                      <a:pt x="0" y="856"/>
                    </a:lnTo>
                    <a:lnTo>
                      <a:pt x="10" y="895"/>
                    </a:lnTo>
                    <a:lnTo>
                      <a:pt x="49" y="912"/>
                    </a:lnTo>
                    <a:lnTo>
                      <a:pt x="82" y="895"/>
                    </a:lnTo>
                    <a:lnTo>
                      <a:pt x="99" y="856"/>
                    </a:lnTo>
                    <a:lnTo>
                      <a:pt x="27" y="9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01320" y="5590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70" h="144">
                    <a:moveTo>
                      <a:pt x="0" y="50"/>
                    </a:moveTo>
                    <a:lnTo>
                      <a:pt x="38" y="99"/>
                    </a:lnTo>
                    <a:lnTo>
                      <a:pt x="126" y="144"/>
                    </a:lnTo>
                    <a:lnTo>
                      <a:pt x="170" y="39"/>
                    </a:lnTo>
                    <a:lnTo>
                      <a:pt x="76" y="0"/>
                    </a:lnTo>
                    <a:lnTo>
                      <a:pt x="109" y="50"/>
                    </a:lnTo>
                    <a:lnTo>
                      <a:pt x="76" y="0"/>
                    </a:lnTo>
                    <a:lnTo>
                      <a:pt x="33" y="0"/>
                    </a:lnTo>
                    <a:lnTo>
                      <a:pt x="5" y="28"/>
                    </a:lnTo>
                    <a:lnTo>
                      <a:pt x="5" y="71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201320" y="5515920"/>
                <a:ext cx="6120" cy="76320"/>
              </a:xfrm>
              <a:custGeom>
                <a:avLst/>
                <a:gdLst/>
                <a:ahLst/>
                <a:rect l="l" t="t" r="r" b="b"/>
                <a:pathLst>
                  <a:path w="109" h="944">
                    <a:moveTo>
                      <a:pt x="88" y="10"/>
                    </a:moveTo>
                    <a:lnTo>
                      <a:pt x="0" y="55"/>
                    </a:lnTo>
                    <a:lnTo>
                      <a:pt x="0" y="944"/>
                    </a:lnTo>
                    <a:lnTo>
                      <a:pt x="109" y="944"/>
                    </a:lnTo>
                    <a:lnTo>
                      <a:pt x="109" y="55"/>
                    </a:lnTo>
                    <a:lnTo>
                      <a:pt x="27" y="93"/>
                    </a:lnTo>
                    <a:lnTo>
                      <a:pt x="109" y="55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5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203840" y="55159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6"/>
                    </a:moveTo>
                    <a:lnTo>
                      <a:pt x="148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6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48" y="72"/>
                    </a:lnTo>
                    <a:lnTo>
                      <a:pt x="171" y="1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77560" y="5505480"/>
                <a:ext cx="6120" cy="79200"/>
              </a:xfrm>
              <a:custGeom>
                <a:avLst/>
                <a:gdLst/>
                <a:ahLst/>
                <a:rect l="l" t="t" r="r" b="b"/>
                <a:pathLst>
                  <a:path w="88" h="944">
                    <a:moveTo>
                      <a:pt x="88" y="49"/>
                    </a:moveTo>
                    <a:lnTo>
                      <a:pt x="88" y="944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81520" y="5510520"/>
                <a:ext cx="5760" cy="76320"/>
              </a:xfrm>
              <a:custGeom>
                <a:avLst/>
                <a:gdLst/>
                <a:ahLst/>
                <a:rect l="l" t="t" r="r" b="b"/>
                <a:pathLst>
                  <a:path w="99" h="944">
                    <a:moveTo>
                      <a:pt x="33" y="944"/>
                    </a:moveTo>
                    <a:lnTo>
                      <a:pt x="99" y="8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95"/>
                    </a:lnTo>
                    <a:lnTo>
                      <a:pt x="66" y="840"/>
                    </a:lnTo>
                    <a:lnTo>
                      <a:pt x="0" y="895"/>
                    </a:lnTo>
                    <a:lnTo>
                      <a:pt x="12" y="928"/>
                    </a:lnTo>
                    <a:lnTo>
                      <a:pt x="50" y="944"/>
                    </a:lnTo>
                    <a:lnTo>
                      <a:pt x="83" y="928"/>
                    </a:lnTo>
                    <a:lnTo>
                      <a:pt x="99" y="895"/>
                    </a:lnTo>
                    <a:lnTo>
                      <a:pt x="33" y="9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75760" y="5577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0" y="50"/>
                    </a:moveTo>
                    <a:lnTo>
                      <a:pt x="38" y="99"/>
                    </a:lnTo>
                    <a:lnTo>
                      <a:pt x="125" y="132"/>
                    </a:lnTo>
                    <a:lnTo>
                      <a:pt x="158" y="28"/>
                    </a:lnTo>
                    <a:lnTo>
                      <a:pt x="71" y="0"/>
                    </a:lnTo>
                    <a:lnTo>
                      <a:pt x="109" y="50"/>
                    </a:lnTo>
                    <a:lnTo>
                      <a:pt x="71" y="0"/>
                    </a:lnTo>
                    <a:lnTo>
                      <a:pt x="33" y="7"/>
                    </a:lnTo>
                    <a:lnTo>
                      <a:pt x="5" y="33"/>
                    </a:lnTo>
                    <a:lnTo>
                      <a:pt x="10" y="78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75760" y="5500080"/>
                <a:ext cx="5760" cy="81720"/>
              </a:xfrm>
              <a:custGeom>
                <a:avLst/>
                <a:gdLst/>
                <a:ahLst/>
                <a:rect l="l" t="t" r="r" b="b"/>
                <a:pathLst>
                  <a:path w="109" h="966">
                    <a:moveTo>
                      <a:pt x="82" y="11"/>
                    </a:moveTo>
                    <a:lnTo>
                      <a:pt x="0" y="55"/>
                    </a:lnTo>
                    <a:lnTo>
                      <a:pt x="0" y="966"/>
                    </a:lnTo>
                    <a:lnTo>
                      <a:pt x="109" y="966"/>
                    </a:lnTo>
                    <a:lnTo>
                      <a:pt x="109" y="55"/>
                    </a:lnTo>
                    <a:lnTo>
                      <a:pt x="33" y="99"/>
                    </a:lnTo>
                    <a:lnTo>
                      <a:pt x="109" y="55"/>
                    </a:lnTo>
                    <a:lnTo>
                      <a:pt x="98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5"/>
                    </a:lnTo>
                    <a:lnTo>
                      <a:pt x="82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77560" y="550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58" h="148">
                    <a:moveTo>
                      <a:pt x="158" y="93"/>
                    </a:moveTo>
                    <a:lnTo>
                      <a:pt x="136" y="49"/>
                    </a:lnTo>
                    <a:lnTo>
                      <a:pt x="49" y="0"/>
                    </a:lnTo>
                    <a:lnTo>
                      <a:pt x="0" y="88"/>
                    </a:lnTo>
                    <a:lnTo>
                      <a:pt x="82" y="143"/>
                    </a:lnTo>
                    <a:lnTo>
                      <a:pt x="59" y="93"/>
                    </a:lnTo>
                    <a:lnTo>
                      <a:pt x="82" y="143"/>
                    </a:lnTo>
                    <a:lnTo>
                      <a:pt x="125" y="148"/>
                    </a:lnTo>
                    <a:lnTo>
                      <a:pt x="153" y="115"/>
                    </a:lnTo>
                    <a:lnTo>
                      <a:pt x="158" y="82"/>
                    </a:lnTo>
                    <a:lnTo>
                      <a:pt x="136" y="49"/>
                    </a:lnTo>
                    <a:lnTo>
                      <a:pt x="158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41760" y="5446800"/>
                <a:ext cx="177480" cy="135000"/>
              </a:xfrm>
              <a:custGeom>
                <a:avLst/>
                <a:gdLst/>
                <a:ahLst/>
                <a:rect l="l" t="t" r="r" b="b"/>
                <a:pathLst>
                  <a:path w="2754" h="1625">
                    <a:moveTo>
                      <a:pt x="2754" y="0"/>
                    </a:moveTo>
                    <a:lnTo>
                      <a:pt x="2754" y="1301"/>
                    </a:lnTo>
                    <a:lnTo>
                      <a:pt x="0" y="1625"/>
                    </a:lnTo>
                    <a:lnTo>
                      <a:pt x="0" y="467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17800" y="5446800"/>
                <a:ext cx="5760" cy="11232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55" y="1350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45" y="1246"/>
                    </a:lnTo>
                    <a:lnTo>
                      <a:pt x="55" y="1350"/>
                    </a:lnTo>
                    <a:lnTo>
                      <a:pt x="99" y="1345"/>
                    </a:lnTo>
                    <a:lnTo>
                      <a:pt x="99" y="1301"/>
                    </a:lnTo>
                    <a:lnTo>
                      <a:pt x="55" y="1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39960" y="5551200"/>
                <a:ext cx="179280" cy="35640"/>
              </a:xfrm>
              <a:custGeom>
                <a:avLst/>
                <a:gdLst/>
                <a:ahLst/>
                <a:rect l="l" t="t" r="r" b="b"/>
                <a:pathLst>
                  <a:path w="2815" h="440">
                    <a:moveTo>
                      <a:pt x="0" y="379"/>
                    </a:moveTo>
                    <a:lnTo>
                      <a:pt x="61" y="429"/>
                    </a:lnTo>
                    <a:lnTo>
                      <a:pt x="2815" y="104"/>
                    </a:lnTo>
                    <a:lnTo>
                      <a:pt x="2805" y="0"/>
                    </a:lnTo>
                    <a:lnTo>
                      <a:pt x="50" y="330"/>
                    </a:lnTo>
                    <a:lnTo>
                      <a:pt x="110" y="379"/>
                    </a:lnTo>
                    <a:lnTo>
                      <a:pt x="0" y="379"/>
                    </a:lnTo>
                    <a:lnTo>
                      <a:pt x="0" y="440"/>
                    </a:lnTo>
                    <a:lnTo>
                      <a:pt x="61" y="42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939960" y="5482080"/>
                <a:ext cx="5760" cy="99720"/>
              </a:xfrm>
              <a:custGeom>
                <a:avLst/>
                <a:gdLst/>
                <a:ahLst/>
                <a:rect l="l" t="t" r="r" b="b"/>
                <a:pathLst>
                  <a:path w="110" h="1207">
                    <a:moveTo>
                      <a:pt x="44" y="0"/>
                    </a:moveTo>
                    <a:lnTo>
                      <a:pt x="0" y="49"/>
                    </a:lnTo>
                    <a:lnTo>
                      <a:pt x="0" y="1207"/>
                    </a:lnTo>
                    <a:lnTo>
                      <a:pt x="110" y="1207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941760" y="5443920"/>
                <a:ext cx="181440" cy="46440"/>
              </a:xfrm>
              <a:custGeom>
                <a:avLst/>
                <a:gdLst/>
                <a:ahLst/>
                <a:rect l="l" t="t" r="r" b="b"/>
                <a:pathLst>
                  <a:path w="2815" h="582">
                    <a:moveTo>
                      <a:pt x="2815" y="60"/>
                    </a:moveTo>
                    <a:lnTo>
                      <a:pt x="2755" y="10"/>
                    </a:lnTo>
                    <a:lnTo>
                      <a:pt x="0" y="478"/>
                    </a:lnTo>
                    <a:lnTo>
                      <a:pt x="22" y="582"/>
                    </a:lnTo>
                    <a:lnTo>
                      <a:pt x="2777" y="115"/>
                    </a:lnTo>
                    <a:lnTo>
                      <a:pt x="2716" y="60"/>
                    </a:lnTo>
                    <a:lnTo>
                      <a:pt x="2815" y="60"/>
                    </a:lnTo>
                    <a:lnTo>
                      <a:pt x="2815" y="0"/>
                    </a:lnTo>
                    <a:lnTo>
                      <a:pt x="2755" y="10"/>
                    </a:lnTo>
                    <a:lnTo>
                      <a:pt x="2815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0160" y="5497920"/>
                <a:ext cx="149400" cy="114840"/>
              </a:xfrm>
              <a:custGeom>
                <a:avLst/>
                <a:gdLst/>
                <a:ahLst/>
                <a:rect l="l" t="t" r="r" b="b"/>
                <a:pathLst>
                  <a:path w="2321" h="1378">
                    <a:moveTo>
                      <a:pt x="2321" y="1087"/>
                    </a:moveTo>
                    <a:lnTo>
                      <a:pt x="0" y="1378"/>
                    </a:lnTo>
                    <a:lnTo>
                      <a:pt x="0" y="407"/>
                    </a:lnTo>
                    <a:lnTo>
                      <a:pt x="2321" y="0"/>
                    </a:lnTo>
                    <a:lnTo>
                      <a:pt x="2321" y="10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6200" y="5585040"/>
                <a:ext cx="153360" cy="32760"/>
              </a:xfrm>
              <a:custGeom>
                <a:avLst/>
                <a:gdLst/>
                <a:ahLst/>
                <a:rect l="l" t="t" r="r" b="b"/>
                <a:pathLst>
                  <a:path w="2382" h="401">
                    <a:moveTo>
                      <a:pt x="0" y="340"/>
                    </a:moveTo>
                    <a:lnTo>
                      <a:pt x="61" y="390"/>
                    </a:lnTo>
                    <a:lnTo>
                      <a:pt x="2382" y="99"/>
                    </a:lnTo>
                    <a:lnTo>
                      <a:pt x="2370" y="0"/>
                    </a:lnTo>
                    <a:lnTo>
                      <a:pt x="49" y="286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401"/>
                    </a:lnTo>
                    <a:lnTo>
                      <a:pt x="61" y="39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6200" y="5525640"/>
                <a:ext cx="7560" cy="86760"/>
              </a:xfrm>
              <a:custGeom>
                <a:avLst/>
                <a:gdLst/>
                <a:ahLst/>
                <a:rect l="l" t="t" r="r" b="b"/>
                <a:pathLst>
                  <a:path w="110" h="1026">
                    <a:moveTo>
                      <a:pt x="44" y="0"/>
                    </a:moveTo>
                    <a:lnTo>
                      <a:pt x="0" y="55"/>
                    </a:lnTo>
                    <a:lnTo>
                      <a:pt x="0" y="1026"/>
                    </a:lnTo>
                    <a:lnTo>
                      <a:pt x="110" y="1026"/>
                    </a:lnTo>
                    <a:lnTo>
                      <a:pt x="110" y="55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5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38000" y="5492520"/>
                <a:ext cx="153720" cy="43200"/>
              </a:xfrm>
              <a:custGeom>
                <a:avLst/>
                <a:gdLst/>
                <a:ahLst/>
                <a:rect l="l" t="t" r="r" b="b"/>
                <a:pathLst>
                  <a:path w="2381" h="522">
                    <a:moveTo>
                      <a:pt x="2381" y="66"/>
                    </a:moveTo>
                    <a:lnTo>
                      <a:pt x="2321" y="12"/>
                    </a:lnTo>
                    <a:lnTo>
                      <a:pt x="0" y="418"/>
                    </a:lnTo>
                    <a:lnTo>
                      <a:pt x="22" y="522"/>
                    </a:lnTo>
                    <a:lnTo>
                      <a:pt x="2343" y="116"/>
                    </a:lnTo>
                    <a:lnTo>
                      <a:pt x="2282" y="66"/>
                    </a:lnTo>
                    <a:lnTo>
                      <a:pt x="2381" y="66"/>
                    </a:lnTo>
                    <a:lnTo>
                      <a:pt x="2381" y="0"/>
                    </a:lnTo>
                    <a:lnTo>
                      <a:pt x="2321" y="12"/>
                    </a:lnTo>
                    <a:lnTo>
                      <a:pt x="2381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86320" y="5497920"/>
                <a:ext cx="5760" cy="94320"/>
              </a:xfrm>
              <a:custGeom>
                <a:avLst/>
                <a:gdLst/>
                <a:ahLst/>
                <a:rect l="l" t="t" r="r" b="b"/>
                <a:pathLst>
                  <a:path w="99" h="1137">
                    <a:moveTo>
                      <a:pt x="56" y="1137"/>
                    </a:moveTo>
                    <a:lnTo>
                      <a:pt x="99" y="108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87"/>
                    </a:lnTo>
                    <a:lnTo>
                      <a:pt x="44" y="1038"/>
                    </a:lnTo>
                    <a:lnTo>
                      <a:pt x="56" y="1137"/>
                    </a:lnTo>
                    <a:lnTo>
                      <a:pt x="99" y="1131"/>
                    </a:lnTo>
                    <a:lnTo>
                      <a:pt x="99" y="1087"/>
                    </a:lnTo>
                    <a:lnTo>
                      <a:pt x="56" y="11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2120" y="5380200"/>
                <a:ext cx="121680" cy="122760"/>
              </a:xfrm>
              <a:custGeom>
                <a:avLst/>
                <a:gdLst/>
                <a:ahLst/>
                <a:rect l="l" t="t" r="r" b="b"/>
                <a:pathLst>
                  <a:path w="1898" h="1482">
                    <a:moveTo>
                      <a:pt x="1898" y="1021"/>
                    </a:moveTo>
                    <a:lnTo>
                      <a:pt x="0" y="1482"/>
                    </a:lnTo>
                    <a:lnTo>
                      <a:pt x="0" y="604"/>
                    </a:lnTo>
                    <a:lnTo>
                      <a:pt x="1887" y="0"/>
                    </a:lnTo>
                    <a:lnTo>
                      <a:pt x="1898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8160" y="5461920"/>
                <a:ext cx="125640" cy="45720"/>
              </a:xfrm>
              <a:custGeom>
                <a:avLst/>
                <a:gdLst/>
                <a:ahLst/>
                <a:rect l="l" t="t" r="r" b="b"/>
                <a:pathLst>
                  <a:path w="1970" h="577">
                    <a:moveTo>
                      <a:pt x="0" y="511"/>
                    </a:moveTo>
                    <a:lnTo>
                      <a:pt x="66" y="560"/>
                    </a:lnTo>
                    <a:lnTo>
                      <a:pt x="1970" y="99"/>
                    </a:lnTo>
                    <a:lnTo>
                      <a:pt x="1948" y="0"/>
                    </a:lnTo>
                    <a:lnTo>
                      <a:pt x="50" y="456"/>
                    </a:lnTo>
                    <a:lnTo>
                      <a:pt x="115" y="511"/>
                    </a:lnTo>
                    <a:lnTo>
                      <a:pt x="0" y="511"/>
                    </a:lnTo>
                    <a:lnTo>
                      <a:pt x="0" y="577"/>
                    </a:lnTo>
                    <a:lnTo>
                      <a:pt x="66" y="560"/>
                    </a:lnTo>
                    <a:lnTo>
                      <a:pt x="0" y="5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8160" y="5425920"/>
                <a:ext cx="7920" cy="7704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44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71" y="104"/>
                    </a:lnTo>
                    <a:lnTo>
                      <a:pt x="44" y="0"/>
                    </a:lnTo>
                    <a:lnTo>
                      <a:pt x="0" y="10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0320" y="5374800"/>
                <a:ext cx="125640" cy="61200"/>
              </a:xfrm>
              <a:custGeom>
                <a:avLst/>
                <a:gdLst/>
                <a:ahLst/>
                <a:rect l="l" t="t" r="r" b="b"/>
                <a:pathLst>
                  <a:path w="1959" h="730">
                    <a:moveTo>
                      <a:pt x="1959" y="71"/>
                    </a:moveTo>
                    <a:lnTo>
                      <a:pt x="1894" y="21"/>
                    </a:lnTo>
                    <a:lnTo>
                      <a:pt x="0" y="626"/>
                    </a:lnTo>
                    <a:lnTo>
                      <a:pt x="27" y="730"/>
                    </a:lnTo>
                    <a:lnTo>
                      <a:pt x="1920" y="120"/>
                    </a:lnTo>
                    <a:lnTo>
                      <a:pt x="1854" y="71"/>
                    </a:lnTo>
                    <a:lnTo>
                      <a:pt x="1959" y="71"/>
                    </a:lnTo>
                    <a:lnTo>
                      <a:pt x="1959" y="0"/>
                    </a:lnTo>
                    <a:lnTo>
                      <a:pt x="1894" y="21"/>
                    </a:lnTo>
                    <a:lnTo>
                      <a:pt x="1959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9840" y="5380200"/>
                <a:ext cx="7920" cy="89280"/>
              </a:xfrm>
              <a:custGeom>
                <a:avLst/>
                <a:gdLst/>
                <a:ahLst/>
                <a:rect l="l" t="t" r="r" b="b"/>
                <a:pathLst>
                  <a:path w="116" h="1070">
                    <a:moveTo>
                      <a:pt x="72" y="1070"/>
                    </a:moveTo>
                    <a:lnTo>
                      <a:pt x="110" y="1021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12" y="1021"/>
                    </a:lnTo>
                    <a:lnTo>
                      <a:pt x="50" y="971"/>
                    </a:lnTo>
                    <a:lnTo>
                      <a:pt x="72" y="1070"/>
                    </a:lnTo>
                    <a:lnTo>
                      <a:pt x="116" y="1065"/>
                    </a:lnTo>
                    <a:lnTo>
                      <a:pt x="110" y="1021"/>
                    </a:lnTo>
                    <a:lnTo>
                      <a:pt x="72" y="10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2120" y="5538600"/>
                <a:ext cx="121680" cy="97200"/>
              </a:xfrm>
              <a:custGeom>
                <a:avLst/>
                <a:gdLst/>
                <a:ahLst/>
                <a:rect l="l" t="t" r="r" b="b"/>
                <a:pathLst>
                  <a:path w="1909" h="1202">
                    <a:moveTo>
                      <a:pt x="1909" y="971"/>
                    </a:moveTo>
                    <a:lnTo>
                      <a:pt x="0" y="1202"/>
                    </a:lnTo>
                    <a:lnTo>
                      <a:pt x="0" y="324"/>
                    </a:lnTo>
                    <a:lnTo>
                      <a:pt x="1909" y="0"/>
                    </a:lnTo>
                    <a:lnTo>
                      <a:pt x="1909" y="9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8160" y="5612760"/>
                <a:ext cx="128160" cy="28440"/>
              </a:xfrm>
              <a:custGeom>
                <a:avLst/>
                <a:gdLst/>
                <a:ahLst/>
                <a:rect l="l" t="t" r="r" b="b"/>
                <a:pathLst>
                  <a:path w="1976" h="346">
                    <a:moveTo>
                      <a:pt x="0" y="285"/>
                    </a:moveTo>
                    <a:lnTo>
                      <a:pt x="61" y="341"/>
                    </a:lnTo>
                    <a:lnTo>
                      <a:pt x="1976" y="104"/>
                    </a:lnTo>
                    <a:lnTo>
                      <a:pt x="1964" y="0"/>
                    </a:lnTo>
                    <a:lnTo>
                      <a:pt x="55" y="236"/>
                    </a:lnTo>
                    <a:lnTo>
                      <a:pt x="115" y="285"/>
                    </a:lnTo>
                    <a:lnTo>
                      <a:pt x="0" y="285"/>
                    </a:lnTo>
                    <a:lnTo>
                      <a:pt x="0" y="346"/>
                    </a:lnTo>
                    <a:lnTo>
                      <a:pt x="61" y="341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8160" y="5559480"/>
                <a:ext cx="7920" cy="7632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50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66" y="98"/>
                    </a:lnTo>
                    <a:lnTo>
                      <a:pt x="50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0320" y="5533920"/>
                <a:ext cx="127440" cy="35280"/>
              </a:xfrm>
              <a:custGeom>
                <a:avLst/>
                <a:gdLst/>
                <a:ahLst/>
                <a:rect l="l" t="t" r="r" b="b"/>
                <a:pathLst>
                  <a:path w="1970" h="433">
                    <a:moveTo>
                      <a:pt x="1970" y="60"/>
                    </a:moveTo>
                    <a:lnTo>
                      <a:pt x="1909" y="5"/>
                    </a:lnTo>
                    <a:lnTo>
                      <a:pt x="0" y="335"/>
                    </a:lnTo>
                    <a:lnTo>
                      <a:pt x="16" y="433"/>
                    </a:lnTo>
                    <a:lnTo>
                      <a:pt x="1931" y="109"/>
                    </a:lnTo>
                    <a:lnTo>
                      <a:pt x="1871" y="60"/>
                    </a:lnTo>
                    <a:lnTo>
                      <a:pt x="1970" y="60"/>
                    </a:lnTo>
                    <a:lnTo>
                      <a:pt x="1970" y="0"/>
                    </a:lnTo>
                    <a:lnTo>
                      <a:pt x="1909" y="5"/>
                    </a:lnTo>
                    <a:lnTo>
                      <a:pt x="1970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02360" y="5538600"/>
                <a:ext cx="5760" cy="81720"/>
              </a:xfrm>
              <a:custGeom>
                <a:avLst/>
                <a:gdLst/>
                <a:ahLst/>
                <a:rect l="l" t="t" r="r" b="b"/>
                <a:pathLst>
                  <a:path w="99" h="1021">
                    <a:moveTo>
                      <a:pt x="55" y="1021"/>
                    </a:moveTo>
                    <a:lnTo>
                      <a:pt x="99" y="97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71"/>
                    </a:lnTo>
                    <a:lnTo>
                      <a:pt x="43" y="917"/>
                    </a:lnTo>
                    <a:lnTo>
                      <a:pt x="55" y="1021"/>
                    </a:lnTo>
                    <a:lnTo>
                      <a:pt x="99" y="1016"/>
                    </a:lnTo>
                    <a:lnTo>
                      <a:pt x="99" y="971"/>
                    </a:lnTo>
                    <a:lnTo>
                      <a:pt x="55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2400" y="5572080"/>
                <a:ext cx="77760" cy="78840"/>
              </a:xfrm>
              <a:custGeom>
                <a:avLst/>
                <a:gdLst/>
                <a:ahLst/>
                <a:rect l="l" t="t" r="r" b="b"/>
                <a:pathLst>
                  <a:path w="1202" h="983">
                    <a:moveTo>
                      <a:pt x="1202" y="835"/>
                    </a:moveTo>
                    <a:lnTo>
                      <a:pt x="0" y="983"/>
                    </a:lnTo>
                    <a:lnTo>
                      <a:pt x="0" y="165"/>
                    </a:lnTo>
                    <a:lnTo>
                      <a:pt x="1202" y="0"/>
                    </a:lnTo>
                    <a:lnTo>
                      <a:pt x="1202" y="8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78440" y="5636160"/>
                <a:ext cx="81720" cy="20160"/>
              </a:xfrm>
              <a:custGeom>
                <a:avLst/>
                <a:gdLst/>
                <a:ahLst/>
                <a:rect l="l" t="t" r="r" b="b"/>
                <a:pathLst>
                  <a:path w="1268" h="257">
                    <a:moveTo>
                      <a:pt x="0" y="197"/>
                    </a:moveTo>
                    <a:lnTo>
                      <a:pt x="66" y="247"/>
                    </a:lnTo>
                    <a:lnTo>
                      <a:pt x="1268" y="99"/>
                    </a:lnTo>
                    <a:lnTo>
                      <a:pt x="1257" y="0"/>
                    </a:lnTo>
                    <a:lnTo>
                      <a:pt x="55" y="142"/>
                    </a:lnTo>
                    <a:lnTo>
                      <a:pt x="116" y="197"/>
                    </a:lnTo>
                    <a:lnTo>
                      <a:pt x="0" y="197"/>
                    </a:lnTo>
                    <a:lnTo>
                      <a:pt x="0" y="257"/>
                    </a:lnTo>
                    <a:lnTo>
                      <a:pt x="66" y="24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78440" y="5579640"/>
                <a:ext cx="7920" cy="71280"/>
              </a:xfrm>
              <a:custGeom>
                <a:avLst/>
                <a:gdLst/>
                <a:ahLst/>
                <a:rect l="l" t="t" r="r" b="b"/>
                <a:pathLst>
                  <a:path w="116" h="867">
                    <a:moveTo>
                      <a:pt x="55" y="0"/>
                    </a:moveTo>
                    <a:lnTo>
                      <a:pt x="0" y="49"/>
                    </a:lnTo>
                    <a:lnTo>
                      <a:pt x="0" y="867"/>
                    </a:lnTo>
                    <a:lnTo>
                      <a:pt x="116" y="867"/>
                    </a:lnTo>
                    <a:lnTo>
                      <a:pt x="116" y="49"/>
                    </a:lnTo>
                    <a:lnTo>
                      <a:pt x="66" y="104"/>
                    </a:lnTo>
                    <a:lnTo>
                      <a:pt x="55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2400" y="5567040"/>
                <a:ext cx="81720" cy="23040"/>
              </a:xfrm>
              <a:custGeom>
                <a:avLst/>
                <a:gdLst/>
                <a:ahLst/>
                <a:rect l="l" t="t" r="r" b="b"/>
                <a:pathLst>
                  <a:path w="1257" h="280">
                    <a:moveTo>
                      <a:pt x="1257" y="60"/>
                    </a:moveTo>
                    <a:lnTo>
                      <a:pt x="1202" y="11"/>
                    </a:lnTo>
                    <a:lnTo>
                      <a:pt x="0" y="176"/>
                    </a:lnTo>
                    <a:lnTo>
                      <a:pt x="11" y="280"/>
                    </a:lnTo>
                    <a:lnTo>
                      <a:pt x="1213" y="110"/>
                    </a:lnTo>
                    <a:lnTo>
                      <a:pt x="1158" y="60"/>
                    </a:lnTo>
                    <a:lnTo>
                      <a:pt x="1257" y="60"/>
                    </a:lnTo>
                    <a:lnTo>
                      <a:pt x="1257" y="0"/>
                    </a:lnTo>
                    <a:lnTo>
                      <a:pt x="1202" y="11"/>
                    </a:lnTo>
                    <a:lnTo>
                      <a:pt x="1257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58360" y="5572080"/>
                <a:ext cx="6120" cy="7128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55" y="885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44" y="786"/>
                    </a:lnTo>
                    <a:lnTo>
                      <a:pt x="55" y="885"/>
                    </a:lnTo>
                    <a:lnTo>
                      <a:pt x="99" y="878"/>
                    </a:lnTo>
                    <a:lnTo>
                      <a:pt x="99" y="835"/>
                    </a:lnTo>
                    <a:lnTo>
                      <a:pt x="55" y="8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2400" y="5436360"/>
                <a:ext cx="77760" cy="97200"/>
              </a:xfrm>
              <a:custGeom>
                <a:avLst/>
                <a:gdLst/>
                <a:ahLst/>
                <a:rect l="l" t="t" r="r" b="b"/>
                <a:pathLst>
                  <a:path w="1202" h="1169">
                    <a:moveTo>
                      <a:pt x="1202" y="883"/>
                    </a:moveTo>
                    <a:lnTo>
                      <a:pt x="0" y="1169"/>
                    </a:lnTo>
                    <a:lnTo>
                      <a:pt x="0" y="400"/>
                    </a:lnTo>
                    <a:lnTo>
                      <a:pt x="1202" y="0"/>
                    </a:lnTo>
                    <a:lnTo>
                      <a:pt x="1202" y="8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8440" y="5505480"/>
                <a:ext cx="83520" cy="32760"/>
              </a:xfrm>
              <a:custGeom>
                <a:avLst/>
                <a:gdLst/>
                <a:ahLst/>
                <a:rect l="l" t="t" r="r" b="b"/>
                <a:pathLst>
                  <a:path w="1273" h="407">
                    <a:moveTo>
                      <a:pt x="0" y="341"/>
                    </a:moveTo>
                    <a:lnTo>
                      <a:pt x="66" y="396"/>
                    </a:lnTo>
                    <a:lnTo>
                      <a:pt x="1273" y="104"/>
                    </a:lnTo>
                    <a:lnTo>
                      <a:pt x="1251" y="0"/>
                    </a:lnTo>
                    <a:lnTo>
                      <a:pt x="50" y="292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407"/>
                    </a:lnTo>
                    <a:lnTo>
                      <a:pt x="66" y="396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8440" y="5464800"/>
                <a:ext cx="7920" cy="68760"/>
              </a:xfrm>
              <a:custGeom>
                <a:avLst/>
                <a:gdLst/>
                <a:ahLst/>
                <a:rect l="l" t="t" r="r" b="b"/>
                <a:pathLst>
                  <a:path w="116" h="823">
                    <a:moveTo>
                      <a:pt x="45" y="0"/>
                    </a:moveTo>
                    <a:lnTo>
                      <a:pt x="0" y="54"/>
                    </a:lnTo>
                    <a:lnTo>
                      <a:pt x="0" y="823"/>
                    </a:lnTo>
                    <a:lnTo>
                      <a:pt x="116" y="823"/>
                    </a:lnTo>
                    <a:lnTo>
                      <a:pt x="116" y="54"/>
                    </a:lnTo>
                    <a:lnTo>
                      <a:pt x="71" y="104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5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2400" y="5430960"/>
                <a:ext cx="81720" cy="41040"/>
              </a:xfrm>
              <a:custGeom>
                <a:avLst/>
                <a:gdLst/>
                <a:ahLst/>
                <a:rect l="l" t="t" r="r" b="b"/>
                <a:pathLst>
                  <a:path w="1267" h="516">
                    <a:moveTo>
                      <a:pt x="1267" y="66"/>
                    </a:moveTo>
                    <a:lnTo>
                      <a:pt x="1201" y="22"/>
                    </a:lnTo>
                    <a:lnTo>
                      <a:pt x="0" y="412"/>
                    </a:lnTo>
                    <a:lnTo>
                      <a:pt x="26" y="516"/>
                    </a:lnTo>
                    <a:lnTo>
                      <a:pt x="1234" y="120"/>
                    </a:lnTo>
                    <a:lnTo>
                      <a:pt x="1168" y="66"/>
                    </a:lnTo>
                    <a:lnTo>
                      <a:pt x="1267" y="66"/>
                    </a:lnTo>
                    <a:lnTo>
                      <a:pt x="1267" y="0"/>
                    </a:lnTo>
                    <a:lnTo>
                      <a:pt x="1201" y="22"/>
                    </a:lnTo>
                    <a:lnTo>
                      <a:pt x="126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58360" y="5436360"/>
                <a:ext cx="6120" cy="76320"/>
              </a:xfrm>
              <a:custGeom>
                <a:avLst/>
                <a:gdLst/>
                <a:ahLst/>
                <a:rect l="l" t="t" r="r" b="b"/>
                <a:pathLst>
                  <a:path w="99" h="932">
                    <a:moveTo>
                      <a:pt x="60" y="932"/>
                    </a:moveTo>
                    <a:lnTo>
                      <a:pt x="99" y="88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83"/>
                    </a:lnTo>
                    <a:lnTo>
                      <a:pt x="38" y="828"/>
                    </a:lnTo>
                    <a:lnTo>
                      <a:pt x="60" y="932"/>
                    </a:lnTo>
                    <a:lnTo>
                      <a:pt x="99" y="922"/>
                    </a:lnTo>
                    <a:lnTo>
                      <a:pt x="99" y="883"/>
                    </a:lnTo>
                    <a:lnTo>
                      <a:pt x="60" y="9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0560" y="5474520"/>
                <a:ext cx="37800" cy="74160"/>
              </a:xfrm>
              <a:custGeom>
                <a:avLst/>
                <a:gdLst/>
                <a:ahLst/>
                <a:rect l="l" t="t" r="r" b="b"/>
                <a:pathLst>
                  <a:path w="576" h="901">
                    <a:moveTo>
                      <a:pt x="576" y="758"/>
                    </a:moveTo>
                    <a:lnTo>
                      <a:pt x="0" y="901"/>
                    </a:lnTo>
                    <a:lnTo>
                      <a:pt x="0" y="160"/>
                    </a:lnTo>
                    <a:lnTo>
                      <a:pt x="576" y="0"/>
                    </a:lnTo>
                    <a:lnTo>
                      <a:pt x="576" y="7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6240" y="5533920"/>
                <a:ext cx="42120" cy="20160"/>
              </a:xfrm>
              <a:custGeom>
                <a:avLst/>
                <a:gdLst/>
                <a:ahLst/>
                <a:rect l="l" t="t" r="r" b="b"/>
                <a:pathLst>
                  <a:path w="647" h="264">
                    <a:moveTo>
                      <a:pt x="0" y="198"/>
                    </a:moveTo>
                    <a:lnTo>
                      <a:pt x="71" y="247"/>
                    </a:lnTo>
                    <a:lnTo>
                      <a:pt x="647" y="104"/>
                    </a:lnTo>
                    <a:lnTo>
                      <a:pt x="614" y="0"/>
                    </a:lnTo>
                    <a:lnTo>
                      <a:pt x="38" y="143"/>
                    </a:lnTo>
                    <a:lnTo>
                      <a:pt x="110" y="198"/>
                    </a:lnTo>
                    <a:lnTo>
                      <a:pt x="0" y="198"/>
                    </a:lnTo>
                    <a:lnTo>
                      <a:pt x="0" y="264"/>
                    </a:lnTo>
                    <a:lnTo>
                      <a:pt x="71" y="24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26240" y="5484960"/>
                <a:ext cx="7920" cy="63720"/>
              </a:xfrm>
              <a:custGeom>
                <a:avLst/>
                <a:gdLst/>
                <a:ahLst/>
                <a:rect l="l" t="t" r="r" b="b"/>
                <a:pathLst>
                  <a:path w="110" h="791">
                    <a:moveTo>
                      <a:pt x="38" y="0"/>
                    </a:moveTo>
                    <a:lnTo>
                      <a:pt x="0" y="50"/>
                    </a:lnTo>
                    <a:lnTo>
                      <a:pt x="0" y="791"/>
                    </a:lnTo>
                    <a:lnTo>
                      <a:pt x="110" y="791"/>
                    </a:lnTo>
                    <a:lnTo>
                      <a:pt x="110" y="50"/>
                    </a:lnTo>
                    <a:lnTo>
                      <a:pt x="71" y="99"/>
                    </a:lnTo>
                    <a:lnTo>
                      <a:pt x="38" y="0"/>
                    </a:lnTo>
                    <a:lnTo>
                      <a:pt x="0" y="1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30560" y="5469480"/>
                <a:ext cx="39600" cy="23040"/>
              </a:xfrm>
              <a:custGeom>
                <a:avLst/>
                <a:gdLst/>
                <a:ahLst/>
                <a:rect l="l" t="t" r="r" b="b"/>
                <a:pathLst>
                  <a:path w="642" h="280">
                    <a:moveTo>
                      <a:pt x="642" y="71"/>
                    </a:moveTo>
                    <a:lnTo>
                      <a:pt x="576" y="17"/>
                    </a:lnTo>
                    <a:lnTo>
                      <a:pt x="0" y="181"/>
                    </a:lnTo>
                    <a:lnTo>
                      <a:pt x="33" y="280"/>
                    </a:lnTo>
                    <a:lnTo>
                      <a:pt x="609" y="121"/>
                    </a:lnTo>
                    <a:lnTo>
                      <a:pt x="543" y="71"/>
                    </a:lnTo>
                    <a:lnTo>
                      <a:pt x="642" y="71"/>
                    </a:lnTo>
                    <a:lnTo>
                      <a:pt x="642" y="0"/>
                    </a:lnTo>
                    <a:lnTo>
                      <a:pt x="576" y="17"/>
                    </a:lnTo>
                    <a:lnTo>
                      <a:pt x="642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4400" y="547452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99" h="807">
                    <a:moveTo>
                      <a:pt x="66" y="807"/>
                    </a:moveTo>
                    <a:lnTo>
                      <a:pt x="99" y="75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758"/>
                    </a:lnTo>
                    <a:lnTo>
                      <a:pt x="33" y="703"/>
                    </a:lnTo>
                    <a:lnTo>
                      <a:pt x="66" y="807"/>
                    </a:lnTo>
                    <a:lnTo>
                      <a:pt x="99" y="797"/>
                    </a:lnTo>
                    <a:lnTo>
                      <a:pt x="99" y="758"/>
                    </a:lnTo>
                    <a:lnTo>
                      <a:pt x="66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0560" y="5587200"/>
                <a:ext cx="37800" cy="74160"/>
              </a:xfrm>
              <a:custGeom>
                <a:avLst/>
                <a:gdLst/>
                <a:ahLst/>
                <a:rect l="l" t="t" r="r" b="b"/>
                <a:pathLst>
                  <a:path w="576" h="884">
                    <a:moveTo>
                      <a:pt x="576" y="813"/>
                    </a:moveTo>
                    <a:lnTo>
                      <a:pt x="0" y="884"/>
                    </a:lnTo>
                    <a:lnTo>
                      <a:pt x="0" y="110"/>
                    </a:lnTo>
                    <a:lnTo>
                      <a:pt x="576" y="0"/>
                    </a:lnTo>
                    <a:lnTo>
                      <a:pt x="576" y="8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26240" y="5651280"/>
                <a:ext cx="42120" cy="15480"/>
              </a:xfrm>
              <a:custGeom>
                <a:avLst/>
                <a:gdLst/>
                <a:ahLst/>
                <a:rect l="l" t="t" r="r" b="b"/>
                <a:pathLst>
                  <a:path w="637" h="181">
                    <a:moveTo>
                      <a:pt x="0" y="120"/>
                    </a:moveTo>
                    <a:lnTo>
                      <a:pt x="60" y="170"/>
                    </a:lnTo>
                    <a:lnTo>
                      <a:pt x="637" y="99"/>
                    </a:lnTo>
                    <a:lnTo>
                      <a:pt x="625" y="0"/>
                    </a:lnTo>
                    <a:lnTo>
                      <a:pt x="49" y="71"/>
                    </a:lnTo>
                    <a:lnTo>
                      <a:pt x="110" y="120"/>
                    </a:lnTo>
                    <a:lnTo>
                      <a:pt x="0" y="120"/>
                    </a:lnTo>
                    <a:lnTo>
                      <a:pt x="0" y="181"/>
                    </a:lnTo>
                    <a:lnTo>
                      <a:pt x="60" y="17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6240" y="5592600"/>
                <a:ext cx="7920" cy="68760"/>
              </a:xfrm>
              <a:custGeom>
                <a:avLst/>
                <a:gdLst/>
                <a:ahLst/>
                <a:rect l="l" t="t" r="r" b="b"/>
                <a:pathLst>
                  <a:path w="110" h="823">
                    <a:moveTo>
                      <a:pt x="44" y="0"/>
                    </a:moveTo>
                    <a:lnTo>
                      <a:pt x="0" y="49"/>
                    </a:lnTo>
                    <a:lnTo>
                      <a:pt x="0" y="823"/>
                    </a:lnTo>
                    <a:lnTo>
                      <a:pt x="110" y="823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0560" y="558216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66"/>
                    </a:moveTo>
                    <a:lnTo>
                      <a:pt x="576" y="17"/>
                    </a:lnTo>
                    <a:lnTo>
                      <a:pt x="0" y="127"/>
                    </a:lnTo>
                    <a:lnTo>
                      <a:pt x="22" y="231"/>
                    </a:lnTo>
                    <a:lnTo>
                      <a:pt x="598" y="116"/>
                    </a:lnTo>
                    <a:lnTo>
                      <a:pt x="537" y="66"/>
                    </a:lnTo>
                    <a:lnTo>
                      <a:pt x="636" y="66"/>
                    </a:lnTo>
                    <a:lnTo>
                      <a:pt x="636" y="0"/>
                    </a:lnTo>
                    <a:lnTo>
                      <a:pt x="576" y="17"/>
                    </a:lnTo>
                    <a:lnTo>
                      <a:pt x="636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4400" y="5587200"/>
                <a:ext cx="5760" cy="71640"/>
              </a:xfrm>
              <a:custGeom>
                <a:avLst/>
                <a:gdLst/>
                <a:ahLst/>
                <a:rect l="l" t="t" r="r" b="b"/>
                <a:pathLst>
                  <a:path w="99" h="863">
                    <a:moveTo>
                      <a:pt x="56" y="863"/>
                    </a:moveTo>
                    <a:lnTo>
                      <a:pt x="99" y="81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44" y="764"/>
                    </a:lnTo>
                    <a:lnTo>
                      <a:pt x="56" y="863"/>
                    </a:lnTo>
                    <a:lnTo>
                      <a:pt x="99" y="857"/>
                    </a:lnTo>
                    <a:lnTo>
                      <a:pt x="99" y="813"/>
                    </a:lnTo>
                    <a:lnTo>
                      <a:pt x="56" y="8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943440" y="2529000"/>
              <a:ext cx="1935000" cy="128520"/>
            </a:xfrm>
            <a:custGeom>
              <a:avLst/>
              <a:gdLst/>
              <a:ahLst/>
              <a:rect l="l" t="t" r="r" b="b"/>
              <a:pathLst>
                <a:path w="11945" h="1094">
                  <a:moveTo>
                    <a:pt x="11945" y="677"/>
                  </a:moveTo>
                  <a:lnTo>
                    <a:pt x="11945" y="1094"/>
                  </a:lnTo>
                  <a:lnTo>
                    <a:pt x="0" y="1094"/>
                  </a:lnTo>
                  <a:lnTo>
                    <a:pt x="0" y="0"/>
                  </a:lnTo>
                  <a:lnTo>
                    <a:pt x="5858" y="0"/>
                  </a:lnTo>
                  <a:lnTo>
                    <a:pt x="5887" y="6"/>
                  </a:lnTo>
                  <a:lnTo>
                    <a:pt x="5964" y="16"/>
                  </a:lnTo>
                  <a:lnTo>
                    <a:pt x="6082" y="44"/>
                  </a:lnTo>
                  <a:lnTo>
                    <a:pt x="6238" y="71"/>
                  </a:lnTo>
                  <a:lnTo>
                    <a:pt x="6428" y="109"/>
                  </a:lnTo>
                  <a:lnTo>
                    <a:pt x="6640" y="146"/>
                  </a:lnTo>
                  <a:lnTo>
                    <a:pt x="6857" y="195"/>
                  </a:lnTo>
                  <a:lnTo>
                    <a:pt x="7098" y="239"/>
                  </a:lnTo>
                  <a:lnTo>
                    <a:pt x="7326" y="282"/>
                  </a:lnTo>
                  <a:lnTo>
                    <a:pt x="7550" y="331"/>
                  </a:lnTo>
                  <a:lnTo>
                    <a:pt x="7757" y="374"/>
                  </a:lnTo>
                  <a:lnTo>
                    <a:pt x="7946" y="412"/>
                  </a:lnTo>
                  <a:lnTo>
                    <a:pt x="8103" y="455"/>
                  </a:lnTo>
                  <a:lnTo>
                    <a:pt x="8231" y="487"/>
                  </a:lnTo>
                  <a:lnTo>
                    <a:pt x="8310" y="515"/>
                  </a:lnTo>
                  <a:lnTo>
                    <a:pt x="8338" y="531"/>
                  </a:lnTo>
                  <a:lnTo>
                    <a:pt x="8360" y="542"/>
                  </a:lnTo>
                  <a:lnTo>
                    <a:pt x="8427" y="558"/>
                  </a:lnTo>
                  <a:lnTo>
                    <a:pt x="8522" y="575"/>
                  </a:lnTo>
                  <a:lnTo>
                    <a:pt x="8650" y="591"/>
                  </a:lnTo>
                  <a:lnTo>
                    <a:pt x="8807" y="607"/>
                  </a:lnTo>
                  <a:lnTo>
                    <a:pt x="8974" y="623"/>
                  </a:lnTo>
                  <a:lnTo>
                    <a:pt x="9159" y="633"/>
                  </a:lnTo>
                  <a:lnTo>
                    <a:pt x="9348" y="645"/>
                  </a:lnTo>
                  <a:lnTo>
                    <a:pt x="9538" y="661"/>
                  </a:lnTo>
                  <a:lnTo>
                    <a:pt x="9717" y="672"/>
                  </a:lnTo>
                  <a:lnTo>
                    <a:pt x="9889" y="688"/>
                  </a:lnTo>
                  <a:lnTo>
                    <a:pt x="10040" y="698"/>
                  </a:lnTo>
                  <a:lnTo>
                    <a:pt x="10169" y="704"/>
                  </a:lnTo>
                  <a:lnTo>
                    <a:pt x="10270" y="710"/>
                  </a:lnTo>
                  <a:lnTo>
                    <a:pt x="10331" y="715"/>
                  </a:lnTo>
                  <a:lnTo>
                    <a:pt x="10353" y="715"/>
                  </a:lnTo>
                  <a:lnTo>
                    <a:pt x="11945" y="6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3720" y="2651040"/>
              <a:ext cx="1944720" cy="12960"/>
            </a:xfrm>
            <a:custGeom>
              <a:avLst/>
              <a:gdLst/>
              <a:ahLst/>
              <a:rect l="l" t="t" r="r" b="b"/>
              <a:pathLst>
                <a:path w="12000" h="109">
                  <a:moveTo>
                    <a:pt x="0" y="55"/>
                  </a:moveTo>
                  <a:lnTo>
                    <a:pt x="55" y="109"/>
                  </a:lnTo>
                  <a:lnTo>
                    <a:pt x="12000" y="109"/>
                  </a:lnTo>
                  <a:lnTo>
                    <a:pt x="12000" y="0"/>
                  </a:lnTo>
                  <a:lnTo>
                    <a:pt x="55" y="0"/>
                  </a:lnTo>
                  <a:lnTo>
                    <a:pt x="112" y="55"/>
                  </a:lnTo>
                  <a:lnTo>
                    <a:pt x="0" y="55"/>
                  </a:lnTo>
                  <a:lnTo>
                    <a:pt x="0" y="109"/>
                  </a:lnTo>
                  <a:lnTo>
                    <a:pt x="55" y="10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43440" y="2523960"/>
              <a:ext cx="949320" cy="9720"/>
            </a:xfrm>
            <a:custGeom>
              <a:avLst/>
              <a:gdLst/>
              <a:ahLst/>
              <a:rect l="l" t="t" r="r" b="b"/>
              <a:pathLst>
                <a:path w="5864" h="98">
                  <a:moveTo>
                    <a:pt x="5864" y="0"/>
                  </a:moveTo>
                  <a:lnTo>
                    <a:pt x="5858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858" y="98"/>
                  </a:lnTo>
                  <a:lnTo>
                    <a:pt x="5847" y="98"/>
                  </a:lnTo>
                  <a:lnTo>
                    <a:pt x="5864" y="0"/>
                  </a:lnTo>
                  <a:lnTo>
                    <a:pt x="5858" y="0"/>
                  </a:lnTo>
                  <a:lnTo>
                    <a:pt x="586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3933720" y="907920"/>
              <a:ext cx="869760" cy="1749240"/>
              <a:chOff x="3933720" y="907920"/>
              <a:chExt cx="869760" cy="1749240"/>
            </a:xfrm>
          </p:grpSpPr>
          <p:sp>
            <p:nvSpPr>
              <p:cNvPr id="818" name=""/>
              <p:cNvSpPr/>
              <p:nvPr/>
            </p:nvSpPr>
            <p:spPr>
              <a:xfrm>
                <a:off x="3933720" y="2525040"/>
                <a:ext cx="17280" cy="132120"/>
              </a:xfrm>
              <a:custGeom>
                <a:avLst/>
                <a:gdLst/>
                <a:ahLst/>
                <a:rect l="l" t="t" r="r" b="b"/>
                <a:pathLst>
                  <a:path w="112" h="1143">
                    <a:moveTo>
                      <a:pt x="55" y="0"/>
                    </a:moveTo>
                    <a:lnTo>
                      <a:pt x="0" y="49"/>
                    </a:lnTo>
                    <a:lnTo>
                      <a:pt x="0" y="1143"/>
                    </a:lnTo>
                    <a:lnTo>
                      <a:pt x="112" y="1143"/>
                    </a:lnTo>
                    <a:lnTo>
                      <a:pt x="112" y="49"/>
                    </a:lnTo>
                    <a:lnTo>
                      <a:pt x="55" y="9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187880" y="2534760"/>
                <a:ext cx="607680" cy="34200"/>
              </a:xfrm>
              <a:prstGeom prst="rect">
                <a:avLst/>
              </a:prstGeom>
              <a:solidFill>
                <a:srgbClr val="55b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187880" y="2528280"/>
                <a:ext cx="615600" cy="12960"/>
              </a:xfrm>
              <a:custGeom>
                <a:avLst/>
                <a:gdLst/>
                <a:ahLst/>
                <a:rect l="l" t="t" r="r" b="b"/>
                <a:pathLst>
                  <a:path w="3797" h="102">
                    <a:moveTo>
                      <a:pt x="3797" y="54"/>
                    </a:moveTo>
                    <a:lnTo>
                      <a:pt x="3747" y="0"/>
                    </a:lnTo>
                    <a:lnTo>
                      <a:pt x="0" y="0"/>
                    </a:lnTo>
                    <a:lnTo>
                      <a:pt x="0" y="102"/>
                    </a:lnTo>
                    <a:lnTo>
                      <a:pt x="3747" y="102"/>
                    </a:lnTo>
                    <a:lnTo>
                      <a:pt x="3696" y="54"/>
                    </a:lnTo>
                    <a:lnTo>
                      <a:pt x="3797" y="54"/>
                    </a:lnTo>
                    <a:lnTo>
                      <a:pt x="3797" y="0"/>
                    </a:lnTo>
                    <a:lnTo>
                      <a:pt x="3747" y="0"/>
                    </a:lnTo>
                    <a:lnTo>
                      <a:pt x="3797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87640" y="2534760"/>
                <a:ext cx="15840" cy="41040"/>
              </a:xfrm>
              <a:custGeom>
                <a:avLst/>
                <a:gdLst/>
                <a:ahLst/>
                <a:rect l="l" t="t" r="r" b="b"/>
                <a:pathLst>
                  <a:path w="101" h="352">
                    <a:moveTo>
                      <a:pt x="51" y="352"/>
                    </a:moveTo>
                    <a:lnTo>
                      <a:pt x="101" y="297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51" y="243"/>
                    </a:lnTo>
                    <a:lnTo>
                      <a:pt x="51" y="352"/>
                    </a:lnTo>
                    <a:lnTo>
                      <a:pt x="101" y="352"/>
                    </a:lnTo>
                    <a:lnTo>
                      <a:pt x="101" y="297"/>
                    </a:lnTo>
                    <a:lnTo>
                      <a:pt x="51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78160" y="2564280"/>
                <a:ext cx="617040" cy="11160"/>
              </a:xfrm>
              <a:custGeom>
                <a:avLst/>
                <a:gdLst/>
                <a:ahLst/>
                <a:rect l="l" t="t" r="r" b="b"/>
                <a:pathLst>
                  <a:path w="3803" h="109">
                    <a:moveTo>
                      <a:pt x="0" y="54"/>
                    </a:moveTo>
                    <a:lnTo>
                      <a:pt x="56" y="109"/>
                    </a:lnTo>
                    <a:lnTo>
                      <a:pt x="3803" y="109"/>
                    </a:lnTo>
                    <a:lnTo>
                      <a:pt x="3803" y="0"/>
                    </a:lnTo>
                    <a:lnTo>
                      <a:pt x="56" y="0"/>
                    </a:lnTo>
                    <a:lnTo>
                      <a:pt x="112" y="54"/>
                    </a:lnTo>
                    <a:lnTo>
                      <a:pt x="0" y="54"/>
                    </a:lnTo>
                    <a:lnTo>
                      <a:pt x="0" y="109"/>
                    </a:lnTo>
                    <a:lnTo>
                      <a:pt x="56" y="10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178160" y="2528280"/>
                <a:ext cx="17280" cy="40680"/>
              </a:xfrm>
              <a:custGeom>
                <a:avLst/>
                <a:gdLst/>
                <a:ahLst/>
                <a:rect l="l" t="t" r="r" b="b"/>
                <a:pathLst>
                  <a:path w="112" h="351">
                    <a:moveTo>
                      <a:pt x="56" y="0"/>
                    </a:moveTo>
                    <a:lnTo>
                      <a:pt x="0" y="54"/>
                    </a:lnTo>
                    <a:lnTo>
                      <a:pt x="0" y="351"/>
                    </a:lnTo>
                    <a:lnTo>
                      <a:pt x="112" y="351"/>
                    </a:lnTo>
                    <a:lnTo>
                      <a:pt x="112" y="54"/>
                    </a:lnTo>
                    <a:lnTo>
                      <a:pt x="56" y="102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94360" y="914400"/>
                <a:ext cx="588240" cy="1621800"/>
              </a:xfrm>
              <a:prstGeom prst="rect">
                <a:avLst/>
              </a:prstGeom>
              <a:solidFill>
                <a:srgbClr val="d2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94360" y="907920"/>
                <a:ext cx="596160" cy="11160"/>
              </a:xfrm>
              <a:custGeom>
                <a:avLst/>
                <a:gdLst/>
                <a:ahLst/>
                <a:rect l="l" t="t" r="r" b="b"/>
                <a:pathLst>
                  <a:path w="3686" h="97">
                    <a:moveTo>
                      <a:pt x="3686" y="48"/>
                    </a:moveTo>
                    <a:lnTo>
                      <a:pt x="3635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3635" y="97"/>
                    </a:lnTo>
                    <a:lnTo>
                      <a:pt x="3580" y="48"/>
                    </a:lnTo>
                    <a:lnTo>
                      <a:pt x="3686" y="48"/>
                    </a:lnTo>
                    <a:lnTo>
                      <a:pt x="3686" y="0"/>
                    </a:lnTo>
                    <a:lnTo>
                      <a:pt x="3635" y="0"/>
                    </a:lnTo>
                    <a:lnTo>
                      <a:pt x="3686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74680" y="914400"/>
                <a:ext cx="15840" cy="1628280"/>
              </a:xfrm>
              <a:custGeom>
                <a:avLst/>
                <a:gdLst/>
                <a:ahLst/>
                <a:rect l="l" t="t" r="r" b="b"/>
                <a:pathLst>
                  <a:path w="106" h="13956">
                    <a:moveTo>
                      <a:pt x="55" y="13956"/>
                    </a:moveTo>
                    <a:lnTo>
                      <a:pt x="106" y="13902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3902"/>
                    </a:lnTo>
                    <a:lnTo>
                      <a:pt x="55" y="13847"/>
                    </a:lnTo>
                    <a:lnTo>
                      <a:pt x="55" y="13956"/>
                    </a:lnTo>
                    <a:lnTo>
                      <a:pt x="106" y="13956"/>
                    </a:lnTo>
                    <a:lnTo>
                      <a:pt x="106" y="13902"/>
                    </a:lnTo>
                    <a:lnTo>
                      <a:pt x="55" y="139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84640" y="2529720"/>
                <a:ext cx="597960" cy="12960"/>
              </a:xfrm>
              <a:custGeom>
                <a:avLst/>
                <a:gdLst/>
                <a:ahLst/>
                <a:rect l="l" t="t" r="r" b="b"/>
                <a:pathLst>
                  <a:path w="3690" h="109">
                    <a:moveTo>
                      <a:pt x="0" y="55"/>
                    </a:moveTo>
                    <a:lnTo>
                      <a:pt x="55" y="109"/>
                    </a:lnTo>
                    <a:lnTo>
                      <a:pt x="3690" y="109"/>
                    </a:lnTo>
                    <a:lnTo>
                      <a:pt x="3690" y="0"/>
                    </a:lnTo>
                    <a:lnTo>
                      <a:pt x="55" y="0"/>
                    </a:lnTo>
                    <a:lnTo>
                      <a:pt x="111" y="55"/>
                    </a:lnTo>
                    <a:lnTo>
                      <a:pt x="0" y="55"/>
                    </a:lnTo>
                    <a:lnTo>
                      <a:pt x="0" y="109"/>
                    </a:lnTo>
                    <a:lnTo>
                      <a:pt x="55" y="10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84640" y="907920"/>
                <a:ext cx="18000" cy="1628640"/>
              </a:xfrm>
              <a:custGeom>
                <a:avLst/>
                <a:gdLst/>
                <a:ahLst/>
                <a:rect l="l" t="t" r="r" b="b"/>
                <a:pathLst>
                  <a:path w="111" h="13950">
                    <a:moveTo>
                      <a:pt x="55" y="0"/>
                    </a:moveTo>
                    <a:lnTo>
                      <a:pt x="0" y="48"/>
                    </a:lnTo>
                    <a:lnTo>
                      <a:pt x="0" y="13950"/>
                    </a:lnTo>
                    <a:lnTo>
                      <a:pt x="111" y="13950"/>
                    </a:lnTo>
                    <a:lnTo>
                      <a:pt x="111" y="48"/>
                    </a:lnTo>
                    <a:lnTo>
                      <a:pt x="55" y="97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957840" y="921240"/>
                <a:ext cx="239760" cy="1615320"/>
              </a:xfrm>
              <a:custGeom>
                <a:avLst/>
                <a:gdLst/>
                <a:ahLst/>
                <a:rect l="l" t="t" r="r" b="b"/>
                <a:pathLst>
                  <a:path w="1484" h="13848">
                    <a:moveTo>
                      <a:pt x="1484" y="0"/>
                    </a:moveTo>
                    <a:lnTo>
                      <a:pt x="0" y="921"/>
                    </a:lnTo>
                    <a:lnTo>
                      <a:pt x="0" y="13549"/>
                    </a:lnTo>
                    <a:lnTo>
                      <a:pt x="1462" y="13848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55b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49560" y="915840"/>
                <a:ext cx="252720" cy="117720"/>
              </a:xfrm>
              <a:custGeom>
                <a:avLst/>
                <a:gdLst/>
                <a:ahLst/>
                <a:rect l="l" t="t" r="r" b="b"/>
                <a:pathLst>
                  <a:path w="1563" h="1006">
                    <a:moveTo>
                      <a:pt x="101" y="964"/>
                    </a:moveTo>
                    <a:lnTo>
                      <a:pt x="78" y="1006"/>
                    </a:lnTo>
                    <a:lnTo>
                      <a:pt x="1563" y="87"/>
                    </a:lnTo>
                    <a:lnTo>
                      <a:pt x="1508" y="0"/>
                    </a:lnTo>
                    <a:lnTo>
                      <a:pt x="22" y="920"/>
                    </a:lnTo>
                    <a:lnTo>
                      <a:pt x="0" y="964"/>
                    </a:lnTo>
                    <a:lnTo>
                      <a:pt x="22" y="920"/>
                    </a:lnTo>
                    <a:lnTo>
                      <a:pt x="0" y="936"/>
                    </a:lnTo>
                    <a:lnTo>
                      <a:pt x="0" y="964"/>
                    </a:lnTo>
                    <a:lnTo>
                      <a:pt x="101" y="9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949560" y="1028880"/>
                <a:ext cx="15840" cy="1477800"/>
              </a:xfrm>
              <a:custGeom>
                <a:avLst/>
                <a:gdLst/>
                <a:ahLst/>
                <a:rect l="l" t="t" r="r" b="b"/>
                <a:pathLst>
                  <a:path w="101" h="12677">
                    <a:moveTo>
                      <a:pt x="61" y="12580"/>
                    </a:moveTo>
                    <a:lnTo>
                      <a:pt x="101" y="12628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12628"/>
                    </a:lnTo>
                    <a:lnTo>
                      <a:pt x="39" y="12677"/>
                    </a:lnTo>
                    <a:lnTo>
                      <a:pt x="0" y="12628"/>
                    </a:lnTo>
                    <a:lnTo>
                      <a:pt x="0" y="12672"/>
                    </a:lnTo>
                    <a:lnTo>
                      <a:pt x="39" y="12677"/>
                    </a:lnTo>
                    <a:lnTo>
                      <a:pt x="61" y="1258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954600" y="2495880"/>
                <a:ext cx="247680" cy="48600"/>
              </a:xfrm>
              <a:custGeom>
                <a:avLst/>
                <a:gdLst/>
                <a:ahLst/>
                <a:rect l="l" t="t" r="r" b="b"/>
                <a:pathLst>
                  <a:path w="1530" h="412">
                    <a:moveTo>
                      <a:pt x="1419" y="347"/>
                    </a:moveTo>
                    <a:lnTo>
                      <a:pt x="1486" y="298"/>
                    </a:lnTo>
                    <a:lnTo>
                      <a:pt x="22" y="0"/>
                    </a:lnTo>
                    <a:lnTo>
                      <a:pt x="0" y="97"/>
                    </a:lnTo>
                    <a:lnTo>
                      <a:pt x="1463" y="396"/>
                    </a:lnTo>
                    <a:lnTo>
                      <a:pt x="1530" y="347"/>
                    </a:lnTo>
                    <a:lnTo>
                      <a:pt x="1463" y="396"/>
                    </a:lnTo>
                    <a:lnTo>
                      <a:pt x="1530" y="412"/>
                    </a:lnTo>
                    <a:lnTo>
                      <a:pt x="1530" y="347"/>
                    </a:lnTo>
                    <a:lnTo>
                      <a:pt x="1419" y="34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184640" y="909720"/>
                <a:ext cx="22680" cy="1626840"/>
              </a:xfrm>
              <a:custGeom>
                <a:avLst/>
                <a:gdLst/>
                <a:ahLst/>
                <a:rect l="l" t="t" r="r" b="b"/>
                <a:pathLst>
                  <a:path w="134" h="13940">
                    <a:moveTo>
                      <a:pt x="105" y="136"/>
                    </a:moveTo>
                    <a:lnTo>
                      <a:pt x="22" y="92"/>
                    </a:lnTo>
                    <a:lnTo>
                      <a:pt x="0" y="13940"/>
                    </a:lnTo>
                    <a:lnTo>
                      <a:pt x="111" y="13940"/>
                    </a:lnTo>
                    <a:lnTo>
                      <a:pt x="134" y="92"/>
                    </a:lnTo>
                    <a:lnTo>
                      <a:pt x="50" y="49"/>
                    </a:lnTo>
                    <a:lnTo>
                      <a:pt x="134" y="92"/>
                    </a:lnTo>
                    <a:lnTo>
                      <a:pt x="134" y="0"/>
                    </a:lnTo>
                    <a:lnTo>
                      <a:pt x="50" y="49"/>
                    </a:lnTo>
                    <a:lnTo>
                      <a:pt x="105" y="1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199040" y="1040040"/>
                <a:ext cx="578160" cy="22680"/>
              </a:xfrm>
              <a:custGeom>
                <a:avLst/>
                <a:gdLst/>
                <a:ahLst/>
                <a:rect l="l" t="t" r="r" b="b"/>
                <a:pathLst>
                  <a:path w="3568" h="205">
                    <a:moveTo>
                      <a:pt x="3568" y="103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68" y="205"/>
                    </a:lnTo>
                    <a:lnTo>
                      <a:pt x="3568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199040" y="115308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05">
                    <a:moveTo>
                      <a:pt x="3568" y="102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68" y="205"/>
                    </a:lnTo>
                    <a:lnTo>
                      <a:pt x="3568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199040" y="1267200"/>
                <a:ext cx="578160" cy="24480"/>
              </a:xfrm>
              <a:custGeom>
                <a:avLst/>
                <a:gdLst/>
                <a:ahLst/>
                <a:rect l="l" t="t" r="r" b="b"/>
                <a:pathLst>
                  <a:path w="3568" h="206">
                    <a:moveTo>
                      <a:pt x="3568" y="103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568" y="206"/>
                    </a:lnTo>
                    <a:lnTo>
                      <a:pt x="3568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99040" y="1381680"/>
                <a:ext cx="578160" cy="22680"/>
              </a:xfrm>
              <a:custGeom>
                <a:avLst/>
                <a:gdLst/>
                <a:ahLst/>
                <a:rect l="l" t="t" r="r" b="b"/>
                <a:pathLst>
                  <a:path w="3568" h="206">
                    <a:moveTo>
                      <a:pt x="3568" y="102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568" y="206"/>
                    </a:lnTo>
                    <a:lnTo>
                      <a:pt x="3568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99040" y="149400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06">
                    <a:moveTo>
                      <a:pt x="3568" y="102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568" y="206"/>
                    </a:lnTo>
                    <a:lnTo>
                      <a:pt x="3568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9040" y="160848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11">
                    <a:moveTo>
                      <a:pt x="3568" y="108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3568" y="211"/>
                    </a:lnTo>
                    <a:lnTo>
                      <a:pt x="3568" y="10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199040" y="180792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05">
                    <a:moveTo>
                      <a:pt x="3568" y="102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68" y="205"/>
                    </a:lnTo>
                    <a:lnTo>
                      <a:pt x="3568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99040" y="192240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05">
                    <a:moveTo>
                      <a:pt x="3568" y="103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68" y="205"/>
                    </a:lnTo>
                    <a:lnTo>
                      <a:pt x="3568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9040" y="2036520"/>
                <a:ext cx="578160" cy="22680"/>
              </a:xfrm>
              <a:custGeom>
                <a:avLst/>
                <a:gdLst/>
                <a:ahLst/>
                <a:rect l="l" t="t" r="r" b="b"/>
                <a:pathLst>
                  <a:path w="3568" h="206">
                    <a:moveTo>
                      <a:pt x="3568" y="103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568" y="206"/>
                    </a:lnTo>
                    <a:lnTo>
                      <a:pt x="3568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199040" y="2149560"/>
                <a:ext cx="578160" cy="24120"/>
              </a:xfrm>
              <a:custGeom>
                <a:avLst/>
                <a:gdLst/>
                <a:ahLst/>
                <a:rect l="l" t="t" r="r" b="b"/>
                <a:pathLst>
                  <a:path w="3568" h="205">
                    <a:moveTo>
                      <a:pt x="3568" y="102"/>
                    </a:moveTo>
                    <a:lnTo>
                      <a:pt x="3568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68" y="205"/>
                    </a:lnTo>
                    <a:lnTo>
                      <a:pt x="3568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89680" y="2257200"/>
                <a:ext cx="597600" cy="24120"/>
              </a:xfrm>
              <a:custGeom>
                <a:avLst/>
                <a:gdLst/>
                <a:ahLst/>
                <a:rect l="l" t="t" r="r" b="b"/>
                <a:pathLst>
                  <a:path w="3685" h="212">
                    <a:moveTo>
                      <a:pt x="3685" y="103"/>
                    </a:moveTo>
                    <a:lnTo>
                      <a:pt x="3685" y="0"/>
                    </a:lnTo>
                    <a:lnTo>
                      <a:pt x="0" y="0"/>
                    </a:lnTo>
                    <a:lnTo>
                      <a:pt x="0" y="212"/>
                    </a:lnTo>
                    <a:lnTo>
                      <a:pt x="3685" y="212"/>
                    </a:lnTo>
                    <a:lnTo>
                      <a:pt x="3685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96600" y="1061640"/>
                <a:ext cx="9360" cy="1207080"/>
              </a:xfrm>
              <a:custGeom>
                <a:avLst/>
                <a:gdLst/>
                <a:ahLst/>
                <a:rect l="l" t="t" r="r" b="b"/>
                <a:pathLst>
                  <a:path w="55" h="10340">
                    <a:moveTo>
                      <a:pt x="28" y="10340"/>
                    </a:moveTo>
                    <a:lnTo>
                      <a:pt x="55" y="1034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8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79400" y="1061640"/>
                <a:ext cx="7920" cy="1207080"/>
              </a:xfrm>
              <a:custGeom>
                <a:avLst/>
                <a:gdLst/>
                <a:ahLst/>
                <a:rect l="l" t="t" r="r" b="b"/>
                <a:pathLst>
                  <a:path w="56" h="10340">
                    <a:moveTo>
                      <a:pt x="29" y="10340"/>
                    </a:moveTo>
                    <a:lnTo>
                      <a:pt x="56" y="1034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9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60040" y="1061640"/>
                <a:ext cx="9720" cy="1207080"/>
              </a:xfrm>
              <a:custGeom>
                <a:avLst/>
                <a:gdLst/>
                <a:ahLst/>
                <a:rect l="l" t="t" r="r" b="b"/>
                <a:pathLst>
                  <a:path w="55" h="10340">
                    <a:moveTo>
                      <a:pt x="28" y="10340"/>
                    </a:moveTo>
                    <a:lnTo>
                      <a:pt x="55" y="1034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8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541400" y="1061640"/>
                <a:ext cx="9360" cy="1207080"/>
              </a:xfrm>
              <a:custGeom>
                <a:avLst/>
                <a:gdLst/>
                <a:ahLst/>
                <a:rect l="l" t="t" r="r" b="b"/>
                <a:pathLst>
                  <a:path w="56" h="10340">
                    <a:moveTo>
                      <a:pt x="29" y="10340"/>
                    </a:moveTo>
                    <a:lnTo>
                      <a:pt x="56" y="1034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9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3840" y="1061640"/>
                <a:ext cx="7920" cy="1207080"/>
              </a:xfrm>
              <a:custGeom>
                <a:avLst/>
                <a:gdLst/>
                <a:ahLst/>
                <a:rect l="l" t="t" r="r" b="b"/>
                <a:pathLst>
                  <a:path w="56" h="10340">
                    <a:moveTo>
                      <a:pt x="28" y="10340"/>
                    </a:moveTo>
                    <a:lnTo>
                      <a:pt x="56" y="1034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8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704840" y="1061640"/>
                <a:ext cx="7920" cy="1207080"/>
              </a:xfrm>
              <a:custGeom>
                <a:avLst/>
                <a:gdLst/>
                <a:ahLst/>
                <a:rect l="l" t="t" r="r" b="b"/>
                <a:pathLst>
                  <a:path w="55" h="10340">
                    <a:moveTo>
                      <a:pt x="28" y="10340"/>
                    </a:moveTo>
                    <a:lnTo>
                      <a:pt x="55" y="1034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0340"/>
                    </a:lnTo>
                    <a:lnTo>
                      <a:pt x="28" y="10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05880" y="1692000"/>
                <a:ext cx="571680" cy="37080"/>
              </a:xfrm>
              <a:custGeom>
                <a:avLst/>
                <a:gdLst/>
                <a:ahLst/>
                <a:rect l="l" t="t" r="r" b="b"/>
                <a:pathLst>
                  <a:path w="3535" h="335">
                    <a:moveTo>
                      <a:pt x="3535" y="172"/>
                    </a:moveTo>
                    <a:lnTo>
                      <a:pt x="3535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3535" y="335"/>
                    </a:lnTo>
                    <a:lnTo>
                      <a:pt x="3535" y="17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194360" y="919080"/>
                <a:ext cx="584640" cy="35640"/>
              </a:xfrm>
              <a:custGeom>
                <a:avLst/>
                <a:gdLst/>
                <a:ahLst/>
                <a:rect l="l" t="t" r="r" b="b"/>
                <a:pathLst>
                  <a:path w="3607" h="309">
                    <a:moveTo>
                      <a:pt x="3607" y="151"/>
                    </a:moveTo>
                    <a:lnTo>
                      <a:pt x="3607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607" y="309"/>
                    </a:lnTo>
                    <a:lnTo>
                      <a:pt x="3607" y="1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954600" y="1045080"/>
                <a:ext cx="246240" cy="84600"/>
              </a:xfrm>
              <a:custGeom>
                <a:avLst/>
                <a:gdLst/>
                <a:ahLst/>
                <a:rect l="l" t="t" r="r" b="b"/>
                <a:pathLst>
                  <a:path w="1524" h="737">
                    <a:moveTo>
                      <a:pt x="27" y="672"/>
                    </a:moveTo>
                    <a:lnTo>
                      <a:pt x="55" y="737"/>
                    </a:lnTo>
                    <a:lnTo>
                      <a:pt x="1524" y="125"/>
                    </a:lnTo>
                    <a:lnTo>
                      <a:pt x="1468" y="0"/>
                    </a:lnTo>
                    <a:lnTo>
                      <a:pt x="0" y="607"/>
                    </a:lnTo>
                    <a:lnTo>
                      <a:pt x="27" y="67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954600" y="1159200"/>
                <a:ext cx="241200" cy="78480"/>
              </a:xfrm>
              <a:custGeom>
                <a:avLst/>
                <a:gdLst/>
                <a:ahLst/>
                <a:rect l="l" t="t" r="r" b="b"/>
                <a:pathLst>
                  <a:path w="1486" h="671">
                    <a:moveTo>
                      <a:pt x="22" y="606"/>
                    </a:moveTo>
                    <a:lnTo>
                      <a:pt x="50" y="671"/>
                    </a:lnTo>
                    <a:lnTo>
                      <a:pt x="1486" y="124"/>
                    </a:lnTo>
                    <a:lnTo>
                      <a:pt x="1435" y="0"/>
                    </a:lnTo>
                    <a:lnTo>
                      <a:pt x="0" y="546"/>
                    </a:lnTo>
                    <a:lnTo>
                      <a:pt x="22" y="60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953160" y="1273680"/>
                <a:ext cx="247680" cy="74880"/>
              </a:xfrm>
              <a:custGeom>
                <a:avLst/>
                <a:gdLst/>
                <a:ahLst/>
                <a:rect l="l" t="t" r="r" b="b"/>
                <a:pathLst>
                  <a:path w="1525" h="650">
                    <a:moveTo>
                      <a:pt x="24" y="585"/>
                    </a:moveTo>
                    <a:lnTo>
                      <a:pt x="46" y="650"/>
                    </a:lnTo>
                    <a:lnTo>
                      <a:pt x="1525" y="125"/>
                    </a:lnTo>
                    <a:lnTo>
                      <a:pt x="1481" y="0"/>
                    </a:lnTo>
                    <a:lnTo>
                      <a:pt x="0" y="526"/>
                    </a:lnTo>
                    <a:lnTo>
                      <a:pt x="24" y="5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948120" y="1386360"/>
                <a:ext cx="242640" cy="65520"/>
              </a:xfrm>
              <a:custGeom>
                <a:avLst/>
                <a:gdLst/>
                <a:ahLst/>
                <a:rect l="l" t="t" r="r" b="b"/>
                <a:pathLst>
                  <a:path w="1502" h="562">
                    <a:moveTo>
                      <a:pt x="17" y="504"/>
                    </a:moveTo>
                    <a:lnTo>
                      <a:pt x="40" y="562"/>
                    </a:lnTo>
                    <a:lnTo>
                      <a:pt x="1502" y="124"/>
                    </a:lnTo>
                    <a:lnTo>
                      <a:pt x="1469" y="0"/>
                    </a:lnTo>
                    <a:lnTo>
                      <a:pt x="0" y="439"/>
                    </a:lnTo>
                    <a:lnTo>
                      <a:pt x="17" y="5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9640" y="1494000"/>
                <a:ext cx="231480" cy="61920"/>
              </a:xfrm>
              <a:custGeom>
                <a:avLst/>
                <a:gdLst/>
                <a:ahLst/>
                <a:rect l="l" t="t" r="r" b="b"/>
                <a:pathLst>
                  <a:path w="1435" h="531">
                    <a:moveTo>
                      <a:pt x="23" y="471"/>
                    </a:moveTo>
                    <a:lnTo>
                      <a:pt x="40" y="531"/>
                    </a:lnTo>
                    <a:lnTo>
                      <a:pt x="1435" y="125"/>
                    </a:lnTo>
                    <a:lnTo>
                      <a:pt x="1402" y="0"/>
                    </a:lnTo>
                    <a:lnTo>
                      <a:pt x="0" y="406"/>
                    </a:lnTo>
                    <a:lnTo>
                      <a:pt x="23" y="4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954600" y="1609920"/>
                <a:ext cx="241200" cy="55440"/>
              </a:xfrm>
              <a:custGeom>
                <a:avLst/>
                <a:gdLst/>
                <a:ahLst/>
                <a:rect l="l" t="t" r="r" b="b"/>
                <a:pathLst>
                  <a:path w="1491" h="471">
                    <a:moveTo>
                      <a:pt x="17" y="401"/>
                    </a:moveTo>
                    <a:lnTo>
                      <a:pt x="27" y="471"/>
                    </a:lnTo>
                    <a:lnTo>
                      <a:pt x="1491" y="136"/>
                    </a:lnTo>
                    <a:lnTo>
                      <a:pt x="1462" y="0"/>
                    </a:lnTo>
                    <a:lnTo>
                      <a:pt x="0" y="336"/>
                    </a:lnTo>
                    <a:lnTo>
                      <a:pt x="17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959640" y="2245680"/>
                <a:ext cx="236160" cy="37080"/>
              </a:xfrm>
              <a:custGeom>
                <a:avLst/>
                <a:gdLst/>
                <a:ahLst/>
                <a:rect l="l" t="t" r="r" b="b"/>
                <a:pathLst>
                  <a:path w="1458" h="325">
                    <a:moveTo>
                      <a:pt x="11" y="65"/>
                    </a:moveTo>
                    <a:lnTo>
                      <a:pt x="0" y="136"/>
                    </a:lnTo>
                    <a:lnTo>
                      <a:pt x="1435" y="325"/>
                    </a:lnTo>
                    <a:lnTo>
                      <a:pt x="1458" y="190"/>
                    </a:lnTo>
                    <a:lnTo>
                      <a:pt x="22" y="0"/>
                    </a:lnTo>
                    <a:lnTo>
                      <a:pt x="11" y="6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956400" y="2142720"/>
                <a:ext cx="244440" cy="26280"/>
              </a:xfrm>
              <a:custGeom>
                <a:avLst/>
                <a:gdLst/>
                <a:ahLst/>
                <a:rect l="l" t="t" r="r" b="b"/>
                <a:pathLst>
                  <a:path w="1508" h="217">
                    <a:moveTo>
                      <a:pt x="7" y="65"/>
                    </a:moveTo>
                    <a:lnTo>
                      <a:pt x="0" y="130"/>
                    </a:lnTo>
                    <a:lnTo>
                      <a:pt x="1503" y="217"/>
                    </a:lnTo>
                    <a:lnTo>
                      <a:pt x="1508" y="81"/>
                    </a:lnTo>
                    <a:lnTo>
                      <a:pt x="12" y="0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959640" y="2033640"/>
                <a:ext cx="257400" cy="17640"/>
              </a:xfrm>
              <a:custGeom>
                <a:avLst/>
                <a:gdLst/>
                <a:ahLst/>
                <a:rect l="l" t="t" r="r" b="b"/>
                <a:pathLst>
                  <a:path w="1598" h="151">
                    <a:moveTo>
                      <a:pt x="0" y="65"/>
                    </a:moveTo>
                    <a:lnTo>
                      <a:pt x="0" y="130"/>
                    </a:lnTo>
                    <a:lnTo>
                      <a:pt x="1598" y="151"/>
                    </a:lnTo>
                    <a:lnTo>
                      <a:pt x="1598" y="16"/>
                    </a:lnTo>
                    <a:lnTo>
                      <a:pt x="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957840" y="1928520"/>
                <a:ext cx="241200" cy="16200"/>
              </a:xfrm>
              <a:custGeom>
                <a:avLst/>
                <a:gdLst/>
                <a:ahLst/>
                <a:rect l="l" t="t" r="r" b="b"/>
                <a:pathLst>
                  <a:path w="1496" h="151">
                    <a:moveTo>
                      <a:pt x="0" y="86"/>
                    </a:moveTo>
                    <a:lnTo>
                      <a:pt x="0" y="151"/>
                    </a:lnTo>
                    <a:lnTo>
                      <a:pt x="1496" y="135"/>
                    </a:lnTo>
                    <a:lnTo>
                      <a:pt x="1496" y="0"/>
                    </a:lnTo>
                    <a:lnTo>
                      <a:pt x="0" y="1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961080" y="1809360"/>
                <a:ext cx="257400" cy="37440"/>
              </a:xfrm>
              <a:custGeom>
                <a:avLst/>
                <a:gdLst/>
                <a:ahLst/>
                <a:rect l="l" t="t" r="r" b="b"/>
                <a:pathLst>
                  <a:path w="1591" h="319">
                    <a:moveTo>
                      <a:pt x="11" y="255"/>
                    </a:moveTo>
                    <a:lnTo>
                      <a:pt x="16" y="319"/>
                    </a:lnTo>
                    <a:lnTo>
                      <a:pt x="1591" y="135"/>
                    </a:lnTo>
                    <a:lnTo>
                      <a:pt x="1574" y="0"/>
                    </a:lnTo>
                    <a:lnTo>
                      <a:pt x="0" y="183"/>
                    </a:lnTo>
                    <a:lnTo>
                      <a:pt x="11" y="2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53160" y="1703520"/>
                <a:ext cx="244440" cy="56880"/>
              </a:xfrm>
              <a:custGeom>
                <a:avLst/>
                <a:gdLst/>
                <a:ahLst/>
                <a:rect l="l" t="t" r="r" b="b"/>
                <a:pathLst>
                  <a:path w="1508" h="494">
                    <a:moveTo>
                      <a:pt x="24" y="396"/>
                    </a:moveTo>
                    <a:lnTo>
                      <a:pt x="46" y="494"/>
                    </a:lnTo>
                    <a:lnTo>
                      <a:pt x="1508" y="195"/>
                    </a:lnTo>
                    <a:lnTo>
                      <a:pt x="1464" y="0"/>
                    </a:lnTo>
                    <a:lnTo>
                      <a:pt x="0" y="299"/>
                    </a:lnTo>
                    <a:lnTo>
                      <a:pt x="24" y="3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01280" y="2378160"/>
                <a:ext cx="407880" cy="150120"/>
              </a:xfrm>
              <a:prstGeom prst="rect">
                <a:avLst/>
              </a:prstGeom>
              <a:solidFill>
                <a:srgbClr val="9c6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01280" y="2374560"/>
                <a:ext cx="412920" cy="7920"/>
              </a:xfrm>
              <a:custGeom>
                <a:avLst/>
                <a:gdLst/>
                <a:ahLst/>
                <a:rect l="l" t="t" r="r" b="b"/>
                <a:pathLst>
                  <a:path w="2546" h="65">
                    <a:moveTo>
                      <a:pt x="2546" y="33"/>
                    </a:moveTo>
                    <a:lnTo>
                      <a:pt x="25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2513" y="65"/>
                    </a:lnTo>
                    <a:lnTo>
                      <a:pt x="2485" y="33"/>
                    </a:lnTo>
                    <a:lnTo>
                      <a:pt x="2546" y="33"/>
                    </a:lnTo>
                    <a:lnTo>
                      <a:pt x="2546" y="0"/>
                    </a:lnTo>
                    <a:lnTo>
                      <a:pt x="2513" y="0"/>
                    </a:lnTo>
                    <a:lnTo>
                      <a:pt x="2546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704840" y="2378160"/>
                <a:ext cx="9360" cy="155160"/>
              </a:xfrm>
              <a:custGeom>
                <a:avLst/>
                <a:gdLst/>
                <a:ahLst/>
                <a:rect l="l" t="t" r="r" b="b"/>
                <a:pathLst>
                  <a:path w="61" h="1321">
                    <a:moveTo>
                      <a:pt x="28" y="1321"/>
                    </a:moveTo>
                    <a:lnTo>
                      <a:pt x="61" y="128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8" y="1250"/>
                    </a:lnTo>
                    <a:lnTo>
                      <a:pt x="28" y="1321"/>
                    </a:lnTo>
                    <a:lnTo>
                      <a:pt x="61" y="1321"/>
                    </a:lnTo>
                    <a:lnTo>
                      <a:pt x="61" y="1289"/>
                    </a:lnTo>
                    <a:lnTo>
                      <a:pt x="28" y="13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96600" y="2525040"/>
                <a:ext cx="412920" cy="7920"/>
              </a:xfrm>
              <a:custGeom>
                <a:avLst/>
                <a:gdLst/>
                <a:ahLst/>
                <a:rect l="l" t="t" r="r" b="b"/>
                <a:pathLst>
                  <a:path w="2546" h="71">
                    <a:moveTo>
                      <a:pt x="0" y="39"/>
                    </a:moveTo>
                    <a:lnTo>
                      <a:pt x="33" y="71"/>
                    </a:lnTo>
                    <a:lnTo>
                      <a:pt x="2546" y="71"/>
                    </a:lnTo>
                    <a:lnTo>
                      <a:pt x="2546" y="0"/>
                    </a:lnTo>
                    <a:lnTo>
                      <a:pt x="33" y="0"/>
                    </a:lnTo>
                    <a:lnTo>
                      <a:pt x="72" y="39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33" y="7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96600" y="2374560"/>
                <a:ext cx="11160" cy="153720"/>
              </a:xfrm>
              <a:custGeom>
                <a:avLst/>
                <a:gdLst/>
                <a:ahLst/>
                <a:rect l="l" t="t" r="r" b="b"/>
                <a:pathLst>
                  <a:path w="72" h="1322">
                    <a:moveTo>
                      <a:pt x="33" y="0"/>
                    </a:moveTo>
                    <a:lnTo>
                      <a:pt x="0" y="33"/>
                    </a:lnTo>
                    <a:lnTo>
                      <a:pt x="0" y="1322"/>
                    </a:lnTo>
                    <a:lnTo>
                      <a:pt x="72" y="1322"/>
                    </a:lnTo>
                    <a:lnTo>
                      <a:pt x="72" y="33"/>
                    </a:lnTo>
                    <a:lnTo>
                      <a:pt x="33" y="65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92000" y="2430360"/>
                <a:ext cx="204120" cy="9468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92000" y="2425320"/>
                <a:ext cx="208800" cy="7920"/>
              </a:xfrm>
              <a:custGeom>
                <a:avLst/>
                <a:gdLst/>
                <a:ahLst/>
                <a:rect l="l" t="t" r="r" b="b"/>
                <a:pathLst>
                  <a:path w="1290" h="65">
                    <a:moveTo>
                      <a:pt x="1290" y="32"/>
                    </a:moveTo>
                    <a:lnTo>
                      <a:pt x="1257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1257" y="65"/>
                    </a:lnTo>
                    <a:lnTo>
                      <a:pt x="1223" y="32"/>
                    </a:lnTo>
                    <a:lnTo>
                      <a:pt x="1290" y="32"/>
                    </a:lnTo>
                    <a:lnTo>
                      <a:pt x="1290" y="0"/>
                    </a:lnTo>
                    <a:lnTo>
                      <a:pt x="1257" y="0"/>
                    </a:lnTo>
                    <a:lnTo>
                      <a:pt x="129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589640" y="2430360"/>
                <a:ext cx="11160" cy="97920"/>
              </a:xfrm>
              <a:custGeom>
                <a:avLst/>
                <a:gdLst/>
                <a:ahLst/>
                <a:rect l="l" t="t" r="r" b="b"/>
                <a:pathLst>
                  <a:path w="67" h="851">
                    <a:moveTo>
                      <a:pt x="34" y="851"/>
                    </a:moveTo>
                    <a:lnTo>
                      <a:pt x="67" y="81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812"/>
                    </a:lnTo>
                    <a:lnTo>
                      <a:pt x="34" y="775"/>
                    </a:lnTo>
                    <a:lnTo>
                      <a:pt x="34" y="851"/>
                    </a:lnTo>
                    <a:lnTo>
                      <a:pt x="67" y="851"/>
                    </a:lnTo>
                    <a:lnTo>
                      <a:pt x="67" y="812"/>
                    </a:lnTo>
                    <a:lnTo>
                      <a:pt x="34" y="8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85520" y="2520360"/>
                <a:ext cx="210600" cy="7920"/>
              </a:xfrm>
              <a:custGeom>
                <a:avLst/>
                <a:gdLst/>
                <a:ahLst/>
                <a:rect l="l" t="t" r="r" b="b"/>
                <a:pathLst>
                  <a:path w="1296" h="76">
                    <a:moveTo>
                      <a:pt x="0" y="37"/>
                    </a:moveTo>
                    <a:lnTo>
                      <a:pt x="39" y="76"/>
                    </a:lnTo>
                    <a:lnTo>
                      <a:pt x="1296" y="76"/>
                    </a:lnTo>
                    <a:lnTo>
                      <a:pt x="1296" y="0"/>
                    </a:lnTo>
                    <a:lnTo>
                      <a:pt x="39" y="0"/>
                    </a:lnTo>
                    <a:lnTo>
                      <a:pt x="73" y="37"/>
                    </a:lnTo>
                    <a:lnTo>
                      <a:pt x="0" y="37"/>
                    </a:lnTo>
                    <a:lnTo>
                      <a:pt x="0" y="76"/>
                    </a:lnTo>
                    <a:lnTo>
                      <a:pt x="39" y="76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385520" y="2425320"/>
                <a:ext cx="11160" cy="99360"/>
              </a:xfrm>
              <a:custGeom>
                <a:avLst/>
                <a:gdLst/>
                <a:ahLst/>
                <a:rect l="l" t="t" r="r" b="b"/>
                <a:pathLst>
                  <a:path w="73" h="844">
                    <a:moveTo>
                      <a:pt x="39" y="0"/>
                    </a:moveTo>
                    <a:lnTo>
                      <a:pt x="0" y="32"/>
                    </a:lnTo>
                    <a:lnTo>
                      <a:pt x="0" y="844"/>
                    </a:lnTo>
                    <a:lnTo>
                      <a:pt x="73" y="844"/>
                    </a:lnTo>
                    <a:lnTo>
                      <a:pt x="73" y="32"/>
                    </a:lnTo>
                    <a:lnTo>
                      <a:pt x="39" y="6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59640" y="2351880"/>
                <a:ext cx="233280" cy="37440"/>
              </a:xfrm>
              <a:custGeom>
                <a:avLst/>
                <a:gdLst/>
                <a:ahLst/>
                <a:rect l="l" t="t" r="r" b="b"/>
                <a:pathLst>
                  <a:path w="1441" h="330">
                    <a:moveTo>
                      <a:pt x="11" y="49"/>
                    </a:moveTo>
                    <a:lnTo>
                      <a:pt x="0" y="98"/>
                    </a:lnTo>
                    <a:lnTo>
                      <a:pt x="1424" y="330"/>
                    </a:lnTo>
                    <a:lnTo>
                      <a:pt x="1441" y="233"/>
                    </a:lnTo>
                    <a:lnTo>
                      <a:pt x="22" y="0"/>
                    </a:lnTo>
                    <a:lnTo>
                      <a:pt x="11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61080" y="2438280"/>
                <a:ext cx="234720" cy="45720"/>
              </a:xfrm>
              <a:custGeom>
                <a:avLst/>
                <a:gdLst/>
                <a:ahLst/>
                <a:rect l="l" t="t" r="r" b="b"/>
                <a:pathLst>
                  <a:path w="1452" h="400">
                    <a:moveTo>
                      <a:pt x="11" y="49"/>
                    </a:moveTo>
                    <a:lnTo>
                      <a:pt x="0" y="98"/>
                    </a:lnTo>
                    <a:lnTo>
                      <a:pt x="1429" y="400"/>
                    </a:lnTo>
                    <a:lnTo>
                      <a:pt x="1452" y="303"/>
                    </a:lnTo>
                    <a:lnTo>
                      <a:pt x="16" y="0"/>
                    </a:lnTo>
                    <a:lnTo>
                      <a:pt x="11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94360" y="2307600"/>
                <a:ext cx="588240" cy="22680"/>
              </a:xfrm>
              <a:custGeom>
                <a:avLst/>
                <a:gdLst/>
                <a:ahLst/>
                <a:rect l="l" t="t" r="r" b="b"/>
                <a:pathLst>
                  <a:path w="3630" h="205">
                    <a:moveTo>
                      <a:pt x="3630" y="102"/>
                    </a:moveTo>
                    <a:lnTo>
                      <a:pt x="3630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630" y="205"/>
                    </a:lnTo>
                    <a:lnTo>
                      <a:pt x="3630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49560" y="2503800"/>
                <a:ext cx="234720" cy="68400"/>
              </a:xfrm>
              <a:custGeom>
                <a:avLst/>
                <a:gdLst/>
                <a:ahLst/>
                <a:rect l="l" t="t" r="r" b="b"/>
                <a:pathLst>
                  <a:path w="1451" h="578">
                    <a:moveTo>
                      <a:pt x="1451" y="578"/>
                    </a:moveTo>
                    <a:lnTo>
                      <a:pt x="0" y="318"/>
                    </a:lnTo>
                    <a:lnTo>
                      <a:pt x="0" y="0"/>
                    </a:lnTo>
                    <a:lnTo>
                      <a:pt x="95" y="16"/>
                    </a:lnTo>
                    <a:lnTo>
                      <a:pt x="1451" y="265"/>
                    </a:lnTo>
                    <a:lnTo>
                      <a:pt x="1451" y="578"/>
                    </a:lnTo>
                    <a:close/>
                  </a:path>
                </a:pathLst>
              </a:custGeom>
              <a:solidFill>
                <a:srgbClr val="4a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0200" y="2534760"/>
                <a:ext cx="245880" cy="42480"/>
              </a:xfrm>
              <a:custGeom>
                <a:avLst/>
                <a:gdLst/>
                <a:ahLst/>
                <a:rect l="l" t="t" r="r" b="b"/>
                <a:pathLst>
                  <a:path w="1519" h="368">
                    <a:moveTo>
                      <a:pt x="0" y="53"/>
                    </a:moveTo>
                    <a:lnTo>
                      <a:pt x="45" y="102"/>
                    </a:lnTo>
                    <a:lnTo>
                      <a:pt x="1497" y="368"/>
                    </a:lnTo>
                    <a:lnTo>
                      <a:pt x="1519" y="265"/>
                    </a:lnTo>
                    <a:lnTo>
                      <a:pt x="62" y="0"/>
                    </a:lnTo>
                    <a:lnTo>
                      <a:pt x="112" y="53"/>
                    </a:lnTo>
                    <a:lnTo>
                      <a:pt x="0" y="53"/>
                    </a:lnTo>
                    <a:lnTo>
                      <a:pt x="0" y="97"/>
                    </a:lnTo>
                    <a:lnTo>
                      <a:pt x="45" y="102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940200" y="2497320"/>
                <a:ext cx="17280" cy="43920"/>
              </a:xfrm>
              <a:custGeom>
                <a:avLst/>
                <a:gdLst/>
                <a:ahLst/>
                <a:rect l="l" t="t" r="r" b="b"/>
                <a:pathLst>
                  <a:path w="112" h="383">
                    <a:moveTo>
                      <a:pt x="62" y="16"/>
                    </a:moveTo>
                    <a:lnTo>
                      <a:pt x="0" y="65"/>
                    </a:lnTo>
                    <a:lnTo>
                      <a:pt x="0" y="383"/>
                    </a:lnTo>
                    <a:lnTo>
                      <a:pt x="112" y="383"/>
                    </a:lnTo>
                    <a:lnTo>
                      <a:pt x="112" y="65"/>
                    </a:lnTo>
                    <a:lnTo>
                      <a:pt x="45" y="113"/>
                    </a:lnTo>
                    <a:lnTo>
                      <a:pt x="62" y="16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62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946320" y="249876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117" y="16"/>
                    </a:moveTo>
                    <a:lnTo>
                      <a:pt x="17" y="0"/>
                    </a:lnTo>
                    <a:lnTo>
                      <a:pt x="0" y="97"/>
                    </a:lnTo>
                    <a:lnTo>
                      <a:pt x="100" y="114"/>
                    </a:lnTo>
                    <a:lnTo>
                      <a:pt x="117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62520" y="2500560"/>
                <a:ext cx="230040" cy="40680"/>
              </a:xfrm>
              <a:custGeom>
                <a:avLst/>
                <a:gdLst/>
                <a:ahLst/>
                <a:rect l="l" t="t" r="r" b="b"/>
                <a:pathLst>
                  <a:path w="1413" h="346">
                    <a:moveTo>
                      <a:pt x="1413" y="298"/>
                    </a:moveTo>
                    <a:lnTo>
                      <a:pt x="1374" y="244"/>
                    </a:lnTo>
                    <a:lnTo>
                      <a:pt x="17" y="0"/>
                    </a:lnTo>
                    <a:lnTo>
                      <a:pt x="0" y="98"/>
                    </a:lnTo>
                    <a:lnTo>
                      <a:pt x="1352" y="346"/>
                    </a:lnTo>
                    <a:lnTo>
                      <a:pt x="1312" y="298"/>
                    </a:lnTo>
                    <a:lnTo>
                      <a:pt x="1413" y="298"/>
                    </a:lnTo>
                    <a:lnTo>
                      <a:pt x="1413" y="249"/>
                    </a:lnTo>
                    <a:lnTo>
                      <a:pt x="1374" y="244"/>
                    </a:lnTo>
                    <a:lnTo>
                      <a:pt x="1413" y="2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76360" y="2534760"/>
                <a:ext cx="16200" cy="43920"/>
              </a:xfrm>
              <a:custGeom>
                <a:avLst/>
                <a:gdLst/>
                <a:ahLst/>
                <a:rect l="l" t="t" r="r" b="b"/>
                <a:pathLst>
                  <a:path w="101" h="378">
                    <a:moveTo>
                      <a:pt x="40" y="368"/>
                    </a:moveTo>
                    <a:lnTo>
                      <a:pt x="101" y="313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313"/>
                    </a:lnTo>
                    <a:lnTo>
                      <a:pt x="62" y="265"/>
                    </a:lnTo>
                    <a:lnTo>
                      <a:pt x="40" y="368"/>
                    </a:lnTo>
                    <a:lnTo>
                      <a:pt x="101" y="378"/>
                    </a:lnTo>
                    <a:lnTo>
                      <a:pt x="101" y="313"/>
                    </a:lnTo>
                    <a:lnTo>
                      <a:pt x="40" y="3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267080" y="2376360"/>
                <a:ext cx="38880" cy="24120"/>
              </a:xfrm>
              <a:custGeom>
                <a:avLst/>
                <a:gdLst/>
                <a:ahLst/>
                <a:rect l="l" t="t" r="r" b="b"/>
                <a:pathLst>
                  <a:path w="239" h="206">
                    <a:moveTo>
                      <a:pt x="67" y="178"/>
                    </a:moveTo>
                    <a:lnTo>
                      <a:pt x="55" y="206"/>
                    </a:lnTo>
                    <a:lnTo>
                      <a:pt x="239" y="54"/>
                    </a:lnTo>
                    <a:lnTo>
                      <a:pt x="195" y="0"/>
                    </a:lnTo>
                    <a:lnTo>
                      <a:pt x="11" y="152"/>
                    </a:lnTo>
                    <a:lnTo>
                      <a:pt x="0" y="178"/>
                    </a:lnTo>
                    <a:lnTo>
                      <a:pt x="11" y="152"/>
                    </a:lnTo>
                    <a:lnTo>
                      <a:pt x="0" y="168"/>
                    </a:lnTo>
                    <a:lnTo>
                      <a:pt x="0" y="178"/>
                    </a:lnTo>
                    <a:lnTo>
                      <a:pt x="67" y="1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267080" y="2397600"/>
                <a:ext cx="11160" cy="132120"/>
              </a:xfrm>
              <a:custGeom>
                <a:avLst/>
                <a:gdLst/>
                <a:ahLst/>
                <a:rect l="l" t="t" r="r" b="b"/>
                <a:pathLst>
                  <a:path w="67" h="1143">
                    <a:moveTo>
                      <a:pt x="33" y="1143"/>
                    </a:moveTo>
                    <a:lnTo>
                      <a:pt x="67" y="114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143"/>
                    </a:lnTo>
                    <a:lnTo>
                      <a:pt x="33" y="1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86320" y="2430360"/>
                <a:ext cx="9360" cy="91440"/>
              </a:xfrm>
              <a:custGeom>
                <a:avLst/>
                <a:gdLst/>
                <a:ahLst/>
                <a:rect l="l" t="t" r="r" b="b"/>
                <a:pathLst>
                  <a:path w="67" h="780">
                    <a:moveTo>
                      <a:pt x="33" y="780"/>
                    </a:moveTo>
                    <a:lnTo>
                      <a:pt x="67" y="780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780"/>
                    </a:lnTo>
                    <a:lnTo>
                      <a:pt x="33" y="7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4876920" y="770040"/>
              <a:ext cx="1009080" cy="1893600"/>
              <a:chOff x="4876920" y="770040"/>
              <a:chExt cx="1009080" cy="1893600"/>
            </a:xfrm>
          </p:grpSpPr>
          <p:sp>
            <p:nvSpPr>
              <p:cNvPr id="888" name=""/>
              <p:cNvSpPr/>
              <p:nvPr/>
            </p:nvSpPr>
            <p:spPr>
              <a:xfrm>
                <a:off x="5870160" y="2608200"/>
                <a:ext cx="15840" cy="55440"/>
              </a:xfrm>
              <a:custGeom>
                <a:avLst/>
                <a:gdLst/>
                <a:ahLst/>
                <a:rect l="l" t="t" r="r" b="b"/>
                <a:pathLst>
                  <a:path w="101" h="471">
                    <a:moveTo>
                      <a:pt x="51" y="471"/>
                    </a:moveTo>
                    <a:lnTo>
                      <a:pt x="101" y="417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417"/>
                    </a:lnTo>
                    <a:lnTo>
                      <a:pt x="51" y="362"/>
                    </a:lnTo>
                    <a:lnTo>
                      <a:pt x="51" y="471"/>
                    </a:lnTo>
                    <a:lnTo>
                      <a:pt x="101" y="471"/>
                    </a:lnTo>
                    <a:lnTo>
                      <a:pt x="101" y="417"/>
                    </a:lnTo>
                    <a:lnTo>
                      <a:pt x="51" y="4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89880" y="2525040"/>
                <a:ext cx="411120" cy="70200"/>
              </a:xfrm>
              <a:custGeom>
                <a:avLst/>
                <a:gdLst/>
                <a:ahLst/>
                <a:rect l="l" t="t" r="r" b="b"/>
                <a:pathLst>
                  <a:path w="2541" h="612">
                    <a:moveTo>
                      <a:pt x="2541" y="580"/>
                    </a:moveTo>
                    <a:lnTo>
                      <a:pt x="2485" y="515"/>
                    </a:lnTo>
                    <a:lnTo>
                      <a:pt x="2396" y="488"/>
                    </a:lnTo>
                    <a:lnTo>
                      <a:pt x="2273" y="455"/>
                    </a:lnTo>
                    <a:lnTo>
                      <a:pt x="2116" y="412"/>
                    </a:lnTo>
                    <a:lnTo>
                      <a:pt x="1921" y="374"/>
                    </a:lnTo>
                    <a:lnTo>
                      <a:pt x="1714" y="331"/>
                    </a:lnTo>
                    <a:lnTo>
                      <a:pt x="1491" y="282"/>
                    </a:lnTo>
                    <a:lnTo>
                      <a:pt x="1256" y="239"/>
                    </a:lnTo>
                    <a:lnTo>
                      <a:pt x="1022" y="195"/>
                    </a:lnTo>
                    <a:lnTo>
                      <a:pt x="799" y="146"/>
                    </a:lnTo>
                    <a:lnTo>
                      <a:pt x="592" y="109"/>
                    </a:lnTo>
                    <a:lnTo>
                      <a:pt x="402" y="71"/>
                    </a:lnTo>
                    <a:lnTo>
                      <a:pt x="246" y="39"/>
                    </a:lnTo>
                    <a:lnTo>
                      <a:pt x="124" y="17"/>
                    </a:lnTo>
                    <a:lnTo>
                      <a:pt x="45" y="6"/>
                    </a:lnTo>
                    <a:lnTo>
                      <a:pt x="17" y="0"/>
                    </a:lnTo>
                    <a:lnTo>
                      <a:pt x="0" y="98"/>
                    </a:lnTo>
                    <a:lnTo>
                      <a:pt x="28" y="104"/>
                    </a:lnTo>
                    <a:lnTo>
                      <a:pt x="107" y="120"/>
                    </a:lnTo>
                    <a:lnTo>
                      <a:pt x="229" y="141"/>
                    </a:lnTo>
                    <a:lnTo>
                      <a:pt x="385" y="169"/>
                    </a:lnTo>
                    <a:lnTo>
                      <a:pt x="575" y="206"/>
                    </a:lnTo>
                    <a:lnTo>
                      <a:pt x="782" y="250"/>
                    </a:lnTo>
                    <a:lnTo>
                      <a:pt x="1005" y="293"/>
                    </a:lnTo>
                    <a:lnTo>
                      <a:pt x="1240" y="336"/>
                    </a:lnTo>
                    <a:lnTo>
                      <a:pt x="1474" y="380"/>
                    </a:lnTo>
                    <a:lnTo>
                      <a:pt x="1692" y="429"/>
                    </a:lnTo>
                    <a:lnTo>
                      <a:pt x="1904" y="471"/>
                    </a:lnTo>
                    <a:lnTo>
                      <a:pt x="2089" y="515"/>
                    </a:lnTo>
                    <a:lnTo>
                      <a:pt x="2245" y="552"/>
                    </a:lnTo>
                    <a:lnTo>
                      <a:pt x="2367" y="585"/>
                    </a:lnTo>
                    <a:lnTo>
                      <a:pt x="2441" y="612"/>
                    </a:lnTo>
                    <a:lnTo>
                      <a:pt x="2441" y="580"/>
                    </a:lnTo>
                    <a:lnTo>
                      <a:pt x="2541" y="58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285160" y="2586960"/>
                <a:ext cx="335160" cy="32760"/>
              </a:xfrm>
              <a:custGeom>
                <a:avLst/>
                <a:gdLst/>
                <a:ahLst/>
                <a:rect l="l" t="t" r="r" b="b"/>
                <a:pathLst>
                  <a:path w="2071" h="270">
                    <a:moveTo>
                      <a:pt x="2065" y="173"/>
                    </a:moveTo>
                    <a:lnTo>
                      <a:pt x="2071" y="173"/>
                    </a:lnTo>
                    <a:lnTo>
                      <a:pt x="2049" y="173"/>
                    </a:lnTo>
                    <a:lnTo>
                      <a:pt x="1982" y="168"/>
                    </a:lnTo>
                    <a:lnTo>
                      <a:pt x="1886" y="163"/>
                    </a:lnTo>
                    <a:lnTo>
                      <a:pt x="1759" y="152"/>
                    </a:lnTo>
                    <a:lnTo>
                      <a:pt x="1601" y="146"/>
                    </a:lnTo>
                    <a:lnTo>
                      <a:pt x="1434" y="130"/>
                    </a:lnTo>
                    <a:lnTo>
                      <a:pt x="1250" y="119"/>
                    </a:lnTo>
                    <a:lnTo>
                      <a:pt x="1060" y="103"/>
                    </a:lnTo>
                    <a:lnTo>
                      <a:pt x="871" y="92"/>
                    </a:lnTo>
                    <a:lnTo>
                      <a:pt x="692" y="75"/>
                    </a:lnTo>
                    <a:lnTo>
                      <a:pt x="519" y="65"/>
                    </a:lnTo>
                    <a:lnTo>
                      <a:pt x="368" y="49"/>
                    </a:lnTo>
                    <a:lnTo>
                      <a:pt x="245" y="33"/>
                    </a:lnTo>
                    <a:lnTo>
                      <a:pt x="144" y="17"/>
                    </a:lnTo>
                    <a:lnTo>
                      <a:pt x="89" y="0"/>
                    </a:lnTo>
                    <a:lnTo>
                      <a:pt x="100" y="38"/>
                    </a:lnTo>
                    <a:lnTo>
                      <a:pt x="0" y="38"/>
                    </a:lnTo>
                    <a:lnTo>
                      <a:pt x="60" y="103"/>
                    </a:lnTo>
                    <a:lnTo>
                      <a:pt x="127" y="114"/>
                    </a:lnTo>
                    <a:lnTo>
                      <a:pt x="223" y="130"/>
                    </a:lnTo>
                    <a:lnTo>
                      <a:pt x="357" y="146"/>
                    </a:lnTo>
                    <a:lnTo>
                      <a:pt x="513" y="163"/>
                    </a:lnTo>
                    <a:lnTo>
                      <a:pt x="680" y="179"/>
                    </a:lnTo>
                    <a:lnTo>
                      <a:pt x="864" y="189"/>
                    </a:lnTo>
                    <a:lnTo>
                      <a:pt x="1055" y="205"/>
                    </a:lnTo>
                    <a:lnTo>
                      <a:pt x="1244" y="217"/>
                    </a:lnTo>
                    <a:lnTo>
                      <a:pt x="1423" y="233"/>
                    </a:lnTo>
                    <a:lnTo>
                      <a:pt x="1596" y="244"/>
                    </a:lnTo>
                    <a:lnTo>
                      <a:pt x="1747" y="254"/>
                    </a:lnTo>
                    <a:lnTo>
                      <a:pt x="1876" y="260"/>
                    </a:lnTo>
                    <a:lnTo>
                      <a:pt x="1976" y="265"/>
                    </a:lnTo>
                    <a:lnTo>
                      <a:pt x="2037" y="270"/>
                    </a:lnTo>
                    <a:lnTo>
                      <a:pt x="2065" y="270"/>
                    </a:lnTo>
                    <a:lnTo>
                      <a:pt x="2065" y="17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20680" y="2603520"/>
                <a:ext cx="265320" cy="16200"/>
              </a:xfrm>
              <a:custGeom>
                <a:avLst/>
                <a:gdLst/>
                <a:ahLst/>
                <a:rect l="l" t="t" r="r" b="b"/>
                <a:pathLst>
                  <a:path w="1642" h="140">
                    <a:moveTo>
                      <a:pt x="1642" y="54"/>
                    </a:moveTo>
                    <a:lnTo>
                      <a:pt x="1592" y="5"/>
                    </a:lnTo>
                    <a:lnTo>
                      <a:pt x="0" y="43"/>
                    </a:lnTo>
                    <a:lnTo>
                      <a:pt x="0" y="140"/>
                    </a:lnTo>
                    <a:lnTo>
                      <a:pt x="1592" y="103"/>
                    </a:lnTo>
                    <a:lnTo>
                      <a:pt x="1541" y="54"/>
                    </a:lnTo>
                    <a:lnTo>
                      <a:pt x="1642" y="54"/>
                    </a:lnTo>
                    <a:lnTo>
                      <a:pt x="1642" y="0"/>
                    </a:lnTo>
                    <a:lnTo>
                      <a:pt x="1592" y="5"/>
                    </a:lnTo>
                    <a:lnTo>
                      <a:pt x="1642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52320" y="2568960"/>
                <a:ext cx="662400" cy="39240"/>
              </a:xfrm>
              <a:prstGeom prst="rect">
                <a:avLst/>
              </a:prstGeom>
              <a:solidFill>
                <a:srgbClr val="55b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52320" y="2564280"/>
                <a:ext cx="670680" cy="11160"/>
              </a:xfrm>
              <a:custGeom>
                <a:avLst/>
                <a:gdLst/>
                <a:ahLst/>
                <a:rect l="l" t="t" r="r" b="b"/>
                <a:pathLst>
                  <a:path w="4150" h="98">
                    <a:moveTo>
                      <a:pt x="4150" y="49"/>
                    </a:moveTo>
                    <a:lnTo>
                      <a:pt x="4099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4099" y="98"/>
                    </a:lnTo>
                    <a:lnTo>
                      <a:pt x="4049" y="49"/>
                    </a:lnTo>
                    <a:lnTo>
                      <a:pt x="4150" y="49"/>
                    </a:lnTo>
                    <a:lnTo>
                      <a:pt x="4150" y="0"/>
                    </a:lnTo>
                    <a:lnTo>
                      <a:pt x="4099" y="0"/>
                    </a:lnTo>
                    <a:lnTo>
                      <a:pt x="415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06800" y="2568960"/>
                <a:ext cx="15840" cy="45360"/>
              </a:xfrm>
              <a:custGeom>
                <a:avLst/>
                <a:gdLst/>
                <a:ahLst/>
                <a:rect l="l" t="t" r="r" b="b"/>
                <a:pathLst>
                  <a:path w="101" h="390">
                    <a:moveTo>
                      <a:pt x="50" y="390"/>
                    </a:moveTo>
                    <a:lnTo>
                      <a:pt x="101" y="336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50" y="282"/>
                    </a:lnTo>
                    <a:lnTo>
                      <a:pt x="50" y="390"/>
                    </a:lnTo>
                    <a:lnTo>
                      <a:pt x="101" y="390"/>
                    </a:lnTo>
                    <a:lnTo>
                      <a:pt x="101" y="336"/>
                    </a:lnTo>
                    <a:lnTo>
                      <a:pt x="50" y="3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42600" y="2603520"/>
                <a:ext cx="672120" cy="10800"/>
              </a:xfrm>
              <a:custGeom>
                <a:avLst/>
                <a:gdLst/>
                <a:ahLst/>
                <a:rect l="l" t="t" r="r" b="b"/>
                <a:pathLst>
                  <a:path w="4154" h="108">
                    <a:moveTo>
                      <a:pt x="0" y="54"/>
                    </a:moveTo>
                    <a:lnTo>
                      <a:pt x="55" y="108"/>
                    </a:lnTo>
                    <a:lnTo>
                      <a:pt x="4154" y="108"/>
                    </a:lnTo>
                    <a:lnTo>
                      <a:pt x="4154" y="0"/>
                    </a:lnTo>
                    <a:lnTo>
                      <a:pt x="55" y="0"/>
                    </a:lnTo>
                    <a:lnTo>
                      <a:pt x="112" y="54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55" y="10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142600" y="2564280"/>
                <a:ext cx="17280" cy="43920"/>
              </a:xfrm>
              <a:custGeom>
                <a:avLst/>
                <a:gdLst/>
                <a:ahLst/>
                <a:rect l="l" t="t" r="r" b="b"/>
                <a:pathLst>
                  <a:path w="112" h="385">
                    <a:moveTo>
                      <a:pt x="55" y="0"/>
                    </a:moveTo>
                    <a:lnTo>
                      <a:pt x="0" y="49"/>
                    </a:lnTo>
                    <a:lnTo>
                      <a:pt x="0" y="385"/>
                    </a:lnTo>
                    <a:lnTo>
                      <a:pt x="112" y="385"/>
                    </a:lnTo>
                    <a:lnTo>
                      <a:pt x="112" y="49"/>
                    </a:lnTo>
                    <a:lnTo>
                      <a:pt x="55" y="9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155560" y="777960"/>
                <a:ext cx="652680" cy="1791000"/>
              </a:xfrm>
              <a:prstGeom prst="rect">
                <a:avLst/>
              </a:prstGeom>
              <a:solidFill>
                <a:srgbClr val="d2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155560" y="773280"/>
                <a:ext cx="662040" cy="9720"/>
              </a:xfrm>
              <a:custGeom>
                <a:avLst/>
                <a:gdLst/>
                <a:ahLst/>
                <a:rect l="l" t="t" r="r" b="b"/>
                <a:pathLst>
                  <a:path w="4088" h="98">
                    <a:moveTo>
                      <a:pt x="4088" y="49"/>
                    </a:moveTo>
                    <a:lnTo>
                      <a:pt x="40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4031" y="98"/>
                    </a:lnTo>
                    <a:lnTo>
                      <a:pt x="3981" y="49"/>
                    </a:lnTo>
                    <a:lnTo>
                      <a:pt x="4088" y="49"/>
                    </a:lnTo>
                    <a:lnTo>
                      <a:pt x="4088" y="0"/>
                    </a:lnTo>
                    <a:lnTo>
                      <a:pt x="4031" y="0"/>
                    </a:lnTo>
                    <a:lnTo>
                      <a:pt x="4088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00320" y="777960"/>
                <a:ext cx="17280" cy="1795680"/>
              </a:xfrm>
              <a:custGeom>
                <a:avLst/>
                <a:gdLst/>
                <a:ahLst/>
                <a:rect l="l" t="t" r="r" b="b"/>
                <a:pathLst>
                  <a:path w="107" h="15407">
                    <a:moveTo>
                      <a:pt x="50" y="15407"/>
                    </a:moveTo>
                    <a:lnTo>
                      <a:pt x="107" y="15353"/>
                    </a:lnTo>
                    <a:lnTo>
                      <a:pt x="107" y="0"/>
                    </a:lnTo>
                    <a:lnTo>
                      <a:pt x="0" y="0"/>
                    </a:lnTo>
                    <a:lnTo>
                      <a:pt x="0" y="15353"/>
                    </a:lnTo>
                    <a:lnTo>
                      <a:pt x="50" y="15298"/>
                    </a:lnTo>
                    <a:lnTo>
                      <a:pt x="50" y="15407"/>
                    </a:lnTo>
                    <a:lnTo>
                      <a:pt x="107" y="15407"/>
                    </a:lnTo>
                    <a:lnTo>
                      <a:pt x="107" y="15353"/>
                    </a:lnTo>
                    <a:lnTo>
                      <a:pt x="50" y="154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45480" y="2562480"/>
                <a:ext cx="662400" cy="11160"/>
              </a:xfrm>
              <a:custGeom>
                <a:avLst/>
                <a:gdLst/>
                <a:ahLst/>
                <a:rect l="l" t="t" r="r" b="b"/>
                <a:pathLst>
                  <a:path w="4087" h="109">
                    <a:moveTo>
                      <a:pt x="0" y="55"/>
                    </a:moveTo>
                    <a:lnTo>
                      <a:pt x="56" y="109"/>
                    </a:lnTo>
                    <a:lnTo>
                      <a:pt x="4087" y="109"/>
                    </a:lnTo>
                    <a:lnTo>
                      <a:pt x="4087" y="0"/>
                    </a:lnTo>
                    <a:lnTo>
                      <a:pt x="56" y="0"/>
                    </a:lnTo>
                    <a:lnTo>
                      <a:pt x="112" y="55"/>
                    </a:lnTo>
                    <a:lnTo>
                      <a:pt x="0" y="55"/>
                    </a:lnTo>
                    <a:lnTo>
                      <a:pt x="0" y="109"/>
                    </a:lnTo>
                    <a:lnTo>
                      <a:pt x="56" y="10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45480" y="773280"/>
                <a:ext cx="17640" cy="1795680"/>
              </a:xfrm>
              <a:custGeom>
                <a:avLst/>
                <a:gdLst/>
                <a:ahLst/>
                <a:rect l="l" t="t" r="r" b="b"/>
                <a:pathLst>
                  <a:path w="112" h="15402">
                    <a:moveTo>
                      <a:pt x="56" y="0"/>
                    </a:moveTo>
                    <a:lnTo>
                      <a:pt x="0" y="49"/>
                    </a:lnTo>
                    <a:lnTo>
                      <a:pt x="0" y="15402"/>
                    </a:lnTo>
                    <a:lnTo>
                      <a:pt x="112" y="15402"/>
                    </a:lnTo>
                    <a:lnTo>
                      <a:pt x="112" y="49"/>
                    </a:lnTo>
                    <a:lnTo>
                      <a:pt x="56" y="98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891320" y="783360"/>
                <a:ext cx="263880" cy="1790640"/>
              </a:xfrm>
              <a:custGeom>
                <a:avLst/>
                <a:gdLst/>
                <a:ahLst/>
                <a:rect l="l" t="t" r="r" b="b"/>
                <a:pathLst>
                  <a:path w="1625" h="15358">
                    <a:moveTo>
                      <a:pt x="1625" y="0"/>
                    </a:moveTo>
                    <a:lnTo>
                      <a:pt x="0" y="990"/>
                    </a:lnTo>
                    <a:lnTo>
                      <a:pt x="0" y="15152"/>
                    </a:lnTo>
                    <a:lnTo>
                      <a:pt x="1625" y="15358"/>
                    </a:lnTo>
                    <a:lnTo>
                      <a:pt x="1625" y="0"/>
                    </a:lnTo>
                    <a:close/>
                  </a:path>
                </a:pathLst>
              </a:custGeom>
              <a:solidFill>
                <a:srgbClr val="55b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883400" y="777960"/>
                <a:ext cx="276840" cy="125640"/>
              </a:xfrm>
              <a:custGeom>
                <a:avLst/>
                <a:gdLst/>
                <a:ahLst/>
                <a:rect l="l" t="t" r="r" b="b"/>
                <a:pathLst>
                  <a:path w="1703" h="1083">
                    <a:moveTo>
                      <a:pt x="101" y="1034"/>
                    </a:moveTo>
                    <a:lnTo>
                      <a:pt x="79" y="1083"/>
                    </a:lnTo>
                    <a:lnTo>
                      <a:pt x="1703" y="92"/>
                    </a:lnTo>
                    <a:lnTo>
                      <a:pt x="1647" y="0"/>
                    </a:lnTo>
                    <a:lnTo>
                      <a:pt x="22" y="991"/>
                    </a:lnTo>
                    <a:lnTo>
                      <a:pt x="0" y="1034"/>
                    </a:lnTo>
                    <a:lnTo>
                      <a:pt x="22" y="991"/>
                    </a:lnTo>
                    <a:lnTo>
                      <a:pt x="0" y="1007"/>
                    </a:lnTo>
                    <a:lnTo>
                      <a:pt x="0" y="1034"/>
                    </a:lnTo>
                    <a:lnTo>
                      <a:pt x="101" y="103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83400" y="898920"/>
                <a:ext cx="15840" cy="1656720"/>
              </a:xfrm>
              <a:custGeom>
                <a:avLst/>
                <a:gdLst/>
                <a:ahLst/>
                <a:rect l="l" t="t" r="r" b="b"/>
                <a:pathLst>
                  <a:path w="101" h="14210">
                    <a:moveTo>
                      <a:pt x="56" y="14108"/>
                    </a:moveTo>
                    <a:lnTo>
                      <a:pt x="101" y="14162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14162"/>
                    </a:lnTo>
                    <a:lnTo>
                      <a:pt x="45" y="14210"/>
                    </a:lnTo>
                    <a:lnTo>
                      <a:pt x="0" y="14162"/>
                    </a:lnTo>
                    <a:lnTo>
                      <a:pt x="0" y="14205"/>
                    </a:lnTo>
                    <a:lnTo>
                      <a:pt x="45" y="14210"/>
                    </a:lnTo>
                    <a:lnTo>
                      <a:pt x="56" y="1410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91320" y="2544480"/>
                <a:ext cx="272160" cy="35640"/>
              </a:xfrm>
              <a:custGeom>
                <a:avLst/>
                <a:gdLst/>
                <a:ahLst/>
                <a:rect l="l" t="t" r="r" b="b"/>
                <a:pathLst>
                  <a:path w="1686" h="319">
                    <a:moveTo>
                      <a:pt x="1574" y="260"/>
                    </a:moveTo>
                    <a:lnTo>
                      <a:pt x="1636" y="211"/>
                    </a:lnTo>
                    <a:lnTo>
                      <a:pt x="11" y="0"/>
                    </a:lnTo>
                    <a:lnTo>
                      <a:pt x="0" y="102"/>
                    </a:lnTo>
                    <a:lnTo>
                      <a:pt x="1630" y="308"/>
                    </a:lnTo>
                    <a:lnTo>
                      <a:pt x="1686" y="260"/>
                    </a:lnTo>
                    <a:lnTo>
                      <a:pt x="1630" y="308"/>
                    </a:lnTo>
                    <a:lnTo>
                      <a:pt x="1686" y="319"/>
                    </a:lnTo>
                    <a:lnTo>
                      <a:pt x="1686" y="260"/>
                    </a:lnTo>
                    <a:lnTo>
                      <a:pt x="1574" y="2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45480" y="773280"/>
                <a:ext cx="17640" cy="1800360"/>
              </a:xfrm>
              <a:custGeom>
                <a:avLst/>
                <a:gdLst/>
                <a:ahLst/>
                <a:rect l="l" t="t" r="r" b="b"/>
                <a:pathLst>
                  <a:path w="112" h="15445">
                    <a:moveTo>
                      <a:pt x="84" y="135"/>
                    </a:moveTo>
                    <a:lnTo>
                      <a:pt x="0" y="87"/>
                    </a:lnTo>
                    <a:lnTo>
                      <a:pt x="0" y="15445"/>
                    </a:lnTo>
                    <a:lnTo>
                      <a:pt x="112" y="15445"/>
                    </a:lnTo>
                    <a:lnTo>
                      <a:pt x="112" y="87"/>
                    </a:lnTo>
                    <a:lnTo>
                      <a:pt x="28" y="43"/>
                    </a:lnTo>
                    <a:lnTo>
                      <a:pt x="112" y="87"/>
                    </a:lnTo>
                    <a:lnTo>
                      <a:pt x="112" y="0"/>
                    </a:lnTo>
                    <a:lnTo>
                      <a:pt x="28" y="43"/>
                    </a:lnTo>
                    <a:lnTo>
                      <a:pt x="84" y="1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162040" y="913320"/>
                <a:ext cx="641160" cy="22680"/>
              </a:xfrm>
              <a:custGeom>
                <a:avLst/>
                <a:gdLst/>
                <a:ahLst/>
                <a:rect l="l" t="t" r="r" b="b"/>
                <a:pathLst>
                  <a:path w="3959" h="205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959" y="205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62040" y="103932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4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162040" y="116532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62040" y="1292760"/>
                <a:ext cx="641160" cy="22320"/>
              </a:xfrm>
              <a:custGeom>
                <a:avLst/>
                <a:gdLst/>
                <a:ahLst/>
                <a:rect l="l" t="t" r="r" b="b"/>
                <a:pathLst>
                  <a:path w="3959" h="205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959" y="205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62040" y="1419840"/>
                <a:ext cx="641160" cy="22320"/>
              </a:xfrm>
              <a:custGeom>
                <a:avLst/>
                <a:gdLst/>
                <a:ahLst/>
                <a:rect l="l" t="t" r="r" b="b"/>
                <a:pathLst>
                  <a:path w="3959" h="205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959" y="205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162040" y="154404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162040" y="176760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11">
                    <a:moveTo>
                      <a:pt x="3959" y="109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3959" y="211"/>
                    </a:lnTo>
                    <a:lnTo>
                      <a:pt x="3959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162040" y="189288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62040" y="2020320"/>
                <a:ext cx="641160" cy="2268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62040" y="2146320"/>
                <a:ext cx="641160" cy="24120"/>
              </a:xfrm>
              <a:custGeom>
                <a:avLst/>
                <a:gdLst/>
                <a:ahLst/>
                <a:rect l="l" t="t" r="r" b="b"/>
                <a:pathLst>
                  <a:path w="3959" h="205">
                    <a:moveTo>
                      <a:pt x="3959" y="103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959" y="205"/>
                    </a:lnTo>
                    <a:lnTo>
                      <a:pt x="3959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2040" y="2271600"/>
                <a:ext cx="641160" cy="24480"/>
              </a:xfrm>
              <a:custGeom>
                <a:avLst/>
                <a:gdLst/>
                <a:ahLst/>
                <a:rect l="l" t="t" r="r" b="b"/>
                <a:pathLst>
                  <a:path w="3959" h="206">
                    <a:moveTo>
                      <a:pt x="3959" y="104"/>
                    </a:moveTo>
                    <a:lnTo>
                      <a:pt x="39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3959" y="206"/>
                    </a:lnTo>
                    <a:lnTo>
                      <a:pt x="3959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70400" y="936360"/>
                <a:ext cx="7920" cy="1338480"/>
              </a:xfrm>
              <a:custGeom>
                <a:avLst/>
                <a:gdLst/>
                <a:ahLst/>
                <a:rect l="l" t="t" r="r" b="b"/>
                <a:pathLst>
                  <a:path w="56" h="11482">
                    <a:moveTo>
                      <a:pt x="29" y="11482"/>
                    </a:moveTo>
                    <a:lnTo>
                      <a:pt x="56" y="11482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9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61120" y="936360"/>
                <a:ext cx="7920" cy="1338480"/>
              </a:xfrm>
              <a:custGeom>
                <a:avLst/>
                <a:gdLst/>
                <a:ahLst/>
                <a:rect l="l" t="t" r="r" b="b"/>
                <a:pathLst>
                  <a:path w="50" h="11482">
                    <a:moveTo>
                      <a:pt x="27" y="11482"/>
                    </a:moveTo>
                    <a:lnTo>
                      <a:pt x="50" y="11482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7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50040" y="936360"/>
                <a:ext cx="9720" cy="1338480"/>
              </a:xfrm>
              <a:custGeom>
                <a:avLst/>
                <a:gdLst/>
                <a:ahLst/>
                <a:rect l="l" t="t" r="r" b="b"/>
                <a:pathLst>
                  <a:path w="56" h="11482">
                    <a:moveTo>
                      <a:pt x="28" y="11482"/>
                    </a:moveTo>
                    <a:lnTo>
                      <a:pt x="56" y="11482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8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540760" y="936360"/>
                <a:ext cx="9720" cy="1338480"/>
              </a:xfrm>
              <a:custGeom>
                <a:avLst/>
                <a:gdLst/>
                <a:ahLst/>
                <a:rect l="l" t="t" r="r" b="b"/>
                <a:pathLst>
                  <a:path w="56" h="11482">
                    <a:moveTo>
                      <a:pt x="29" y="11482"/>
                    </a:moveTo>
                    <a:lnTo>
                      <a:pt x="56" y="11482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9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33280" y="936360"/>
                <a:ext cx="7920" cy="1338480"/>
              </a:xfrm>
              <a:custGeom>
                <a:avLst/>
                <a:gdLst/>
                <a:ahLst/>
                <a:rect l="l" t="t" r="r" b="b"/>
                <a:pathLst>
                  <a:path w="55" h="11482">
                    <a:moveTo>
                      <a:pt x="27" y="11482"/>
                    </a:moveTo>
                    <a:lnTo>
                      <a:pt x="55" y="1148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7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722200" y="936360"/>
                <a:ext cx="9720" cy="1338480"/>
              </a:xfrm>
              <a:custGeom>
                <a:avLst/>
                <a:gdLst/>
                <a:ahLst/>
                <a:rect l="l" t="t" r="r" b="b"/>
                <a:pathLst>
                  <a:path w="55" h="11482">
                    <a:moveTo>
                      <a:pt x="27" y="11482"/>
                    </a:moveTo>
                    <a:lnTo>
                      <a:pt x="55" y="1148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1482"/>
                    </a:lnTo>
                    <a:lnTo>
                      <a:pt x="27" y="114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50880" y="1638360"/>
                <a:ext cx="652680" cy="39240"/>
              </a:xfrm>
              <a:custGeom>
                <a:avLst/>
                <a:gdLst/>
                <a:ahLst/>
                <a:rect l="l" t="t" r="r" b="b"/>
                <a:pathLst>
                  <a:path w="4026" h="341">
                    <a:moveTo>
                      <a:pt x="4026" y="168"/>
                    </a:moveTo>
                    <a:lnTo>
                      <a:pt x="4026" y="0"/>
                    </a:lnTo>
                    <a:lnTo>
                      <a:pt x="0" y="0"/>
                    </a:lnTo>
                    <a:lnTo>
                      <a:pt x="0" y="341"/>
                    </a:lnTo>
                    <a:lnTo>
                      <a:pt x="4026" y="341"/>
                    </a:lnTo>
                    <a:lnTo>
                      <a:pt x="4026" y="1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55560" y="770040"/>
                <a:ext cx="657360" cy="35640"/>
              </a:xfrm>
              <a:custGeom>
                <a:avLst/>
                <a:gdLst/>
                <a:ahLst/>
                <a:rect l="l" t="t" r="r" b="b"/>
                <a:pathLst>
                  <a:path w="4060" h="309">
                    <a:moveTo>
                      <a:pt x="4060" y="157"/>
                    </a:moveTo>
                    <a:lnTo>
                      <a:pt x="4060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4060" y="309"/>
                    </a:lnTo>
                    <a:lnTo>
                      <a:pt x="4060" y="1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891320" y="916920"/>
                <a:ext cx="272160" cy="94680"/>
              </a:xfrm>
              <a:custGeom>
                <a:avLst/>
                <a:gdLst/>
                <a:ahLst/>
                <a:rect l="l" t="t" r="r" b="b"/>
                <a:pathLst>
                  <a:path w="1681" h="807">
                    <a:moveTo>
                      <a:pt x="27" y="742"/>
                    </a:moveTo>
                    <a:lnTo>
                      <a:pt x="56" y="807"/>
                    </a:lnTo>
                    <a:lnTo>
                      <a:pt x="1681" y="125"/>
                    </a:lnTo>
                    <a:lnTo>
                      <a:pt x="1624" y="0"/>
                    </a:lnTo>
                    <a:lnTo>
                      <a:pt x="0" y="677"/>
                    </a:lnTo>
                    <a:lnTo>
                      <a:pt x="27" y="74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891320" y="1046160"/>
                <a:ext cx="263880" cy="83160"/>
              </a:xfrm>
              <a:custGeom>
                <a:avLst/>
                <a:gdLst/>
                <a:ahLst/>
                <a:rect l="l" t="t" r="r" b="b"/>
                <a:pathLst>
                  <a:path w="1625" h="726">
                    <a:moveTo>
                      <a:pt x="22" y="661"/>
                    </a:moveTo>
                    <a:lnTo>
                      <a:pt x="46" y="726"/>
                    </a:lnTo>
                    <a:lnTo>
                      <a:pt x="1625" y="125"/>
                    </a:lnTo>
                    <a:lnTo>
                      <a:pt x="1580" y="0"/>
                    </a:lnTo>
                    <a:lnTo>
                      <a:pt x="0" y="601"/>
                    </a:lnTo>
                    <a:lnTo>
                      <a:pt x="22" y="6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888080" y="1171440"/>
                <a:ext cx="273960" cy="83160"/>
              </a:xfrm>
              <a:custGeom>
                <a:avLst/>
                <a:gdLst/>
                <a:ahLst/>
                <a:rect l="l" t="t" r="r" b="b"/>
                <a:pathLst>
                  <a:path w="1690" h="709">
                    <a:moveTo>
                      <a:pt x="21" y="650"/>
                    </a:moveTo>
                    <a:lnTo>
                      <a:pt x="43" y="709"/>
                    </a:lnTo>
                    <a:lnTo>
                      <a:pt x="1690" y="125"/>
                    </a:lnTo>
                    <a:lnTo>
                      <a:pt x="1646" y="0"/>
                    </a:lnTo>
                    <a:lnTo>
                      <a:pt x="0" y="585"/>
                    </a:lnTo>
                    <a:lnTo>
                      <a:pt x="21" y="6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83400" y="1297440"/>
                <a:ext cx="268560" cy="71640"/>
              </a:xfrm>
              <a:custGeom>
                <a:avLst/>
                <a:gdLst/>
                <a:ahLst/>
                <a:rect l="l" t="t" r="r" b="b"/>
                <a:pathLst>
                  <a:path w="1657" h="617">
                    <a:moveTo>
                      <a:pt x="17" y="552"/>
                    </a:moveTo>
                    <a:lnTo>
                      <a:pt x="34" y="617"/>
                    </a:lnTo>
                    <a:lnTo>
                      <a:pt x="1657" y="125"/>
                    </a:lnTo>
                    <a:lnTo>
                      <a:pt x="1624" y="0"/>
                    </a:lnTo>
                    <a:lnTo>
                      <a:pt x="0" y="493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896360" y="1418040"/>
                <a:ext cx="255960" cy="66960"/>
              </a:xfrm>
              <a:custGeom>
                <a:avLst/>
                <a:gdLst/>
                <a:ahLst/>
                <a:rect l="l" t="t" r="r" b="b"/>
                <a:pathLst>
                  <a:path w="1580" h="575">
                    <a:moveTo>
                      <a:pt x="17" y="510"/>
                    </a:moveTo>
                    <a:lnTo>
                      <a:pt x="40" y="575"/>
                    </a:lnTo>
                    <a:lnTo>
                      <a:pt x="1580" y="125"/>
                    </a:lnTo>
                    <a:lnTo>
                      <a:pt x="1547" y="0"/>
                    </a:lnTo>
                    <a:lnTo>
                      <a:pt x="0" y="450"/>
                    </a:lnTo>
                    <a:lnTo>
                      <a:pt x="17" y="5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889880" y="1546920"/>
                <a:ext cx="268560" cy="58680"/>
              </a:xfrm>
              <a:custGeom>
                <a:avLst/>
                <a:gdLst/>
                <a:ahLst/>
                <a:rect l="l" t="t" r="r" b="b"/>
                <a:pathLst>
                  <a:path w="1658" h="510">
                    <a:moveTo>
                      <a:pt x="16" y="445"/>
                    </a:moveTo>
                    <a:lnTo>
                      <a:pt x="28" y="510"/>
                    </a:lnTo>
                    <a:lnTo>
                      <a:pt x="1658" y="136"/>
                    </a:lnTo>
                    <a:lnTo>
                      <a:pt x="1630" y="0"/>
                    </a:lnTo>
                    <a:lnTo>
                      <a:pt x="0" y="374"/>
                    </a:lnTo>
                    <a:lnTo>
                      <a:pt x="16" y="4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93120" y="2262240"/>
                <a:ext cx="262080" cy="30960"/>
              </a:xfrm>
              <a:custGeom>
                <a:avLst/>
                <a:gdLst/>
                <a:ahLst/>
                <a:rect l="l" t="t" r="r" b="b"/>
                <a:pathLst>
                  <a:path w="1625" h="260">
                    <a:moveTo>
                      <a:pt x="0" y="65"/>
                    </a:moveTo>
                    <a:lnTo>
                      <a:pt x="0" y="135"/>
                    </a:lnTo>
                    <a:lnTo>
                      <a:pt x="1619" y="260"/>
                    </a:lnTo>
                    <a:lnTo>
                      <a:pt x="1625" y="125"/>
                    </a:lnTo>
                    <a:lnTo>
                      <a:pt x="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891320" y="2138040"/>
                <a:ext cx="270720" cy="27720"/>
              </a:xfrm>
              <a:custGeom>
                <a:avLst/>
                <a:gdLst/>
                <a:ahLst/>
                <a:rect l="l" t="t" r="r" b="b"/>
                <a:pathLst>
                  <a:path w="1674" h="228">
                    <a:moveTo>
                      <a:pt x="5" y="65"/>
                    </a:moveTo>
                    <a:lnTo>
                      <a:pt x="0" y="135"/>
                    </a:lnTo>
                    <a:lnTo>
                      <a:pt x="1664" y="228"/>
                    </a:lnTo>
                    <a:lnTo>
                      <a:pt x="1674" y="92"/>
                    </a:lnTo>
                    <a:lnTo>
                      <a:pt x="11" y="0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894560" y="2015640"/>
                <a:ext cx="267120" cy="24120"/>
              </a:xfrm>
              <a:custGeom>
                <a:avLst/>
                <a:gdLst/>
                <a:ahLst/>
                <a:rect l="l" t="t" r="r" b="b"/>
                <a:pathLst>
                  <a:path w="1652" h="205">
                    <a:moveTo>
                      <a:pt x="5" y="70"/>
                    </a:moveTo>
                    <a:lnTo>
                      <a:pt x="0" y="135"/>
                    </a:lnTo>
                    <a:lnTo>
                      <a:pt x="1642" y="205"/>
                    </a:lnTo>
                    <a:lnTo>
                      <a:pt x="1652" y="75"/>
                    </a:lnTo>
                    <a:lnTo>
                      <a:pt x="12" y="0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891320" y="1899720"/>
                <a:ext cx="270720" cy="17640"/>
              </a:xfrm>
              <a:custGeom>
                <a:avLst/>
                <a:gdLst/>
                <a:ahLst/>
                <a:rect l="l" t="t" r="r" b="b"/>
                <a:pathLst>
                  <a:path w="1664" h="152">
                    <a:moveTo>
                      <a:pt x="0" y="87"/>
                    </a:moveTo>
                    <a:lnTo>
                      <a:pt x="0" y="152"/>
                    </a:lnTo>
                    <a:lnTo>
                      <a:pt x="1664" y="136"/>
                    </a:lnTo>
                    <a:lnTo>
                      <a:pt x="1664" y="0"/>
                    </a:lnTo>
                    <a:lnTo>
                      <a:pt x="0" y="2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98160" y="1767600"/>
                <a:ext cx="282960" cy="39240"/>
              </a:xfrm>
              <a:custGeom>
                <a:avLst/>
                <a:gdLst/>
                <a:ahLst/>
                <a:rect l="l" t="t" r="r" b="b"/>
                <a:pathLst>
                  <a:path w="1753" h="341">
                    <a:moveTo>
                      <a:pt x="5" y="276"/>
                    </a:moveTo>
                    <a:lnTo>
                      <a:pt x="17" y="341"/>
                    </a:lnTo>
                    <a:lnTo>
                      <a:pt x="1753" y="135"/>
                    </a:lnTo>
                    <a:lnTo>
                      <a:pt x="1736" y="0"/>
                    </a:lnTo>
                    <a:lnTo>
                      <a:pt x="0" y="205"/>
                    </a:lnTo>
                    <a:lnTo>
                      <a:pt x="5" y="27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888080" y="1649880"/>
                <a:ext cx="272160" cy="63360"/>
              </a:xfrm>
              <a:custGeom>
                <a:avLst/>
                <a:gdLst/>
                <a:ahLst/>
                <a:rect l="l" t="t" r="r" b="b"/>
                <a:pathLst>
                  <a:path w="1674" h="536">
                    <a:moveTo>
                      <a:pt x="21" y="438"/>
                    </a:moveTo>
                    <a:lnTo>
                      <a:pt x="43" y="536"/>
                    </a:lnTo>
                    <a:lnTo>
                      <a:pt x="1674" y="194"/>
                    </a:lnTo>
                    <a:lnTo>
                      <a:pt x="1623" y="0"/>
                    </a:lnTo>
                    <a:lnTo>
                      <a:pt x="0" y="341"/>
                    </a:lnTo>
                    <a:lnTo>
                      <a:pt x="21" y="4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75440" y="2399040"/>
                <a:ext cx="452160" cy="166320"/>
              </a:xfrm>
              <a:prstGeom prst="rect">
                <a:avLst/>
              </a:prstGeom>
              <a:solidFill>
                <a:srgbClr val="9c6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75440" y="2394360"/>
                <a:ext cx="456840" cy="7920"/>
              </a:xfrm>
              <a:custGeom>
                <a:avLst/>
                <a:gdLst/>
                <a:ahLst/>
                <a:rect l="l" t="t" r="r" b="b"/>
                <a:pathLst>
                  <a:path w="2824" h="65">
                    <a:moveTo>
                      <a:pt x="2824" y="32"/>
                    </a:moveTo>
                    <a:lnTo>
                      <a:pt x="2791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2791" y="65"/>
                    </a:lnTo>
                    <a:lnTo>
                      <a:pt x="2757" y="32"/>
                    </a:lnTo>
                    <a:lnTo>
                      <a:pt x="2824" y="32"/>
                    </a:lnTo>
                    <a:lnTo>
                      <a:pt x="2824" y="0"/>
                    </a:lnTo>
                    <a:lnTo>
                      <a:pt x="2791" y="0"/>
                    </a:lnTo>
                    <a:lnTo>
                      <a:pt x="2824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720760" y="2399040"/>
                <a:ext cx="11160" cy="169920"/>
              </a:xfrm>
              <a:custGeom>
                <a:avLst/>
                <a:gdLst/>
                <a:ahLst/>
                <a:rect l="l" t="t" r="r" b="b"/>
                <a:pathLst>
                  <a:path w="67" h="1462">
                    <a:moveTo>
                      <a:pt x="34" y="1462"/>
                    </a:moveTo>
                    <a:lnTo>
                      <a:pt x="67" y="1430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30"/>
                    </a:lnTo>
                    <a:lnTo>
                      <a:pt x="34" y="1392"/>
                    </a:lnTo>
                    <a:lnTo>
                      <a:pt x="34" y="1462"/>
                    </a:lnTo>
                    <a:lnTo>
                      <a:pt x="67" y="1462"/>
                    </a:lnTo>
                    <a:lnTo>
                      <a:pt x="67" y="1430"/>
                    </a:lnTo>
                    <a:lnTo>
                      <a:pt x="34" y="146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268960" y="2561040"/>
                <a:ext cx="458280" cy="7920"/>
              </a:xfrm>
              <a:custGeom>
                <a:avLst/>
                <a:gdLst/>
                <a:ahLst/>
                <a:rect l="l" t="t" r="r" b="b"/>
                <a:pathLst>
                  <a:path w="2825" h="70">
                    <a:moveTo>
                      <a:pt x="0" y="38"/>
                    </a:moveTo>
                    <a:lnTo>
                      <a:pt x="34" y="70"/>
                    </a:lnTo>
                    <a:lnTo>
                      <a:pt x="2825" y="70"/>
                    </a:lnTo>
                    <a:lnTo>
                      <a:pt x="2825" y="0"/>
                    </a:lnTo>
                    <a:lnTo>
                      <a:pt x="34" y="0"/>
                    </a:lnTo>
                    <a:lnTo>
                      <a:pt x="72" y="38"/>
                    </a:lnTo>
                    <a:lnTo>
                      <a:pt x="0" y="38"/>
                    </a:lnTo>
                    <a:lnTo>
                      <a:pt x="0" y="70"/>
                    </a:lnTo>
                    <a:lnTo>
                      <a:pt x="34" y="7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268960" y="2394360"/>
                <a:ext cx="10800" cy="171360"/>
              </a:xfrm>
              <a:custGeom>
                <a:avLst/>
                <a:gdLst/>
                <a:ahLst/>
                <a:rect l="l" t="t" r="r" b="b"/>
                <a:pathLst>
                  <a:path w="72" h="1462">
                    <a:moveTo>
                      <a:pt x="34" y="0"/>
                    </a:moveTo>
                    <a:lnTo>
                      <a:pt x="0" y="32"/>
                    </a:lnTo>
                    <a:lnTo>
                      <a:pt x="0" y="1462"/>
                    </a:lnTo>
                    <a:lnTo>
                      <a:pt x="72" y="1462"/>
                    </a:lnTo>
                    <a:lnTo>
                      <a:pt x="72" y="32"/>
                    </a:lnTo>
                    <a:lnTo>
                      <a:pt x="34" y="65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378760" y="2461320"/>
                <a:ext cx="226800" cy="9612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78760" y="2458080"/>
                <a:ext cx="231480" cy="7920"/>
              </a:xfrm>
              <a:custGeom>
                <a:avLst/>
                <a:gdLst/>
                <a:ahLst/>
                <a:rect l="l" t="t" r="r" b="b"/>
                <a:pathLst>
                  <a:path w="1430" h="59">
                    <a:moveTo>
                      <a:pt x="1430" y="26"/>
                    </a:moveTo>
                    <a:lnTo>
                      <a:pt x="1402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1402" y="59"/>
                    </a:lnTo>
                    <a:lnTo>
                      <a:pt x="1368" y="26"/>
                    </a:lnTo>
                    <a:lnTo>
                      <a:pt x="1430" y="26"/>
                    </a:lnTo>
                    <a:lnTo>
                      <a:pt x="1430" y="0"/>
                    </a:lnTo>
                    <a:lnTo>
                      <a:pt x="1402" y="0"/>
                    </a:lnTo>
                    <a:lnTo>
                      <a:pt x="1430" y="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601240" y="2461320"/>
                <a:ext cx="9360" cy="100800"/>
              </a:xfrm>
              <a:custGeom>
                <a:avLst/>
                <a:gdLst/>
                <a:ahLst/>
                <a:rect l="l" t="t" r="r" b="b"/>
                <a:pathLst>
                  <a:path w="62" h="867">
                    <a:moveTo>
                      <a:pt x="34" y="867"/>
                    </a:moveTo>
                    <a:lnTo>
                      <a:pt x="62" y="82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29"/>
                    </a:lnTo>
                    <a:lnTo>
                      <a:pt x="34" y="791"/>
                    </a:lnTo>
                    <a:lnTo>
                      <a:pt x="34" y="867"/>
                    </a:lnTo>
                    <a:lnTo>
                      <a:pt x="62" y="867"/>
                    </a:lnTo>
                    <a:lnTo>
                      <a:pt x="62" y="829"/>
                    </a:lnTo>
                    <a:lnTo>
                      <a:pt x="34" y="8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080" y="2554200"/>
                <a:ext cx="231480" cy="7920"/>
              </a:xfrm>
              <a:custGeom>
                <a:avLst/>
                <a:gdLst/>
                <a:ahLst/>
                <a:rect l="l" t="t" r="r" b="b"/>
                <a:pathLst>
                  <a:path w="1436" h="76">
                    <a:moveTo>
                      <a:pt x="0" y="38"/>
                    </a:moveTo>
                    <a:lnTo>
                      <a:pt x="34" y="76"/>
                    </a:lnTo>
                    <a:lnTo>
                      <a:pt x="1436" y="76"/>
                    </a:lnTo>
                    <a:lnTo>
                      <a:pt x="1436" y="0"/>
                    </a:lnTo>
                    <a:lnTo>
                      <a:pt x="34" y="0"/>
                    </a:lnTo>
                    <a:lnTo>
                      <a:pt x="73" y="38"/>
                    </a:lnTo>
                    <a:lnTo>
                      <a:pt x="0" y="38"/>
                    </a:lnTo>
                    <a:lnTo>
                      <a:pt x="0" y="76"/>
                    </a:lnTo>
                    <a:lnTo>
                      <a:pt x="34" y="7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74080" y="2458080"/>
                <a:ext cx="11160" cy="99360"/>
              </a:xfrm>
              <a:custGeom>
                <a:avLst/>
                <a:gdLst/>
                <a:ahLst/>
                <a:rect l="l" t="t" r="r" b="b"/>
                <a:pathLst>
                  <a:path w="73" h="855">
                    <a:moveTo>
                      <a:pt x="34" y="0"/>
                    </a:moveTo>
                    <a:lnTo>
                      <a:pt x="0" y="26"/>
                    </a:lnTo>
                    <a:lnTo>
                      <a:pt x="0" y="855"/>
                    </a:lnTo>
                    <a:lnTo>
                      <a:pt x="73" y="855"/>
                    </a:lnTo>
                    <a:lnTo>
                      <a:pt x="73" y="26"/>
                    </a:lnTo>
                    <a:lnTo>
                      <a:pt x="34" y="5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883400" y="2378160"/>
                <a:ext cx="268560" cy="32400"/>
              </a:xfrm>
              <a:custGeom>
                <a:avLst/>
                <a:gdLst/>
                <a:ahLst/>
                <a:rect l="l" t="t" r="r" b="b"/>
                <a:pathLst>
                  <a:path w="1659" h="281">
                    <a:moveTo>
                      <a:pt x="5" y="48"/>
                    </a:moveTo>
                    <a:lnTo>
                      <a:pt x="0" y="97"/>
                    </a:lnTo>
                    <a:lnTo>
                      <a:pt x="1647" y="281"/>
                    </a:lnTo>
                    <a:lnTo>
                      <a:pt x="1659" y="183"/>
                    </a:lnTo>
                    <a:lnTo>
                      <a:pt x="12" y="0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98160" y="2485800"/>
                <a:ext cx="257400" cy="30960"/>
              </a:xfrm>
              <a:custGeom>
                <a:avLst/>
                <a:gdLst/>
                <a:ahLst/>
                <a:rect l="l" t="t" r="r" b="b"/>
                <a:pathLst>
                  <a:path w="1597" h="265">
                    <a:moveTo>
                      <a:pt x="5" y="49"/>
                    </a:moveTo>
                    <a:lnTo>
                      <a:pt x="0" y="98"/>
                    </a:lnTo>
                    <a:lnTo>
                      <a:pt x="1591" y="265"/>
                    </a:lnTo>
                    <a:lnTo>
                      <a:pt x="1597" y="163"/>
                    </a:lnTo>
                    <a:lnTo>
                      <a:pt x="12" y="0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50880" y="2320920"/>
                <a:ext cx="657360" cy="24120"/>
              </a:xfrm>
              <a:custGeom>
                <a:avLst/>
                <a:gdLst/>
                <a:ahLst/>
                <a:rect l="l" t="t" r="r" b="b"/>
                <a:pathLst>
                  <a:path w="4059" h="206">
                    <a:moveTo>
                      <a:pt x="4059" y="102"/>
                    </a:moveTo>
                    <a:lnTo>
                      <a:pt x="4059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4059" y="206"/>
                    </a:lnTo>
                    <a:lnTo>
                      <a:pt x="4059" y="1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884840" y="2549520"/>
                <a:ext cx="267120" cy="61920"/>
              </a:xfrm>
              <a:custGeom>
                <a:avLst/>
                <a:gdLst/>
                <a:ahLst/>
                <a:rect l="l" t="t" r="r" b="b"/>
                <a:pathLst>
                  <a:path w="1640" h="524">
                    <a:moveTo>
                      <a:pt x="1640" y="524"/>
                    </a:moveTo>
                    <a:lnTo>
                      <a:pt x="17" y="336"/>
                    </a:lnTo>
                    <a:lnTo>
                      <a:pt x="0" y="0"/>
                    </a:lnTo>
                    <a:lnTo>
                      <a:pt x="134" y="32"/>
                    </a:lnTo>
                    <a:lnTo>
                      <a:pt x="1624" y="206"/>
                    </a:lnTo>
                    <a:lnTo>
                      <a:pt x="1640" y="524"/>
                    </a:lnTo>
                    <a:close/>
                  </a:path>
                </a:pathLst>
              </a:custGeom>
              <a:solidFill>
                <a:srgbClr val="4a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880160" y="2583720"/>
                <a:ext cx="272160" cy="32400"/>
              </a:xfrm>
              <a:custGeom>
                <a:avLst/>
                <a:gdLst/>
                <a:ahLst/>
                <a:rect l="l" t="t" r="r" b="b"/>
                <a:pathLst>
                  <a:path w="1681" h="286">
                    <a:moveTo>
                      <a:pt x="0" y="54"/>
                    </a:moveTo>
                    <a:lnTo>
                      <a:pt x="51" y="97"/>
                    </a:lnTo>
                    <a:lnTo>
                      <a:pt x="1669" y="286"/>
                    </a:lnTo>
                    <a:lnTo>
                      <a:pt x="1681" y="184"/>
                    </a:lnTo>
                    <a:lnTo>
                      <a:pt x="56" y="0"/>
                    </a:lnTo>
                    <a:lnTo>
                      <a:pt x="106" y="42"/>
                    </a:lnTo>
                    <a:lnTo>
                      <a:pt x="0" y="54"/>
                    </a:lnTo>
                    <a:lnTo>
                      <a:pt x="0" y="91"/>
                    </a:lnTo>
                    <a:lnTo>
                      <a:pt x="51" y="97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876920" y="2541240"/>
                <a:ext cx="21240" cy="48600"/>
              </a:xfrm>
              <a:custGeom>
                <a:avLst/>
                <a:gdLst/>
                <a:ahLst/>
                <a:rect l="l" t="t" r="r" b="b"/>
                <a:pathLst>
                  <a:path w="129" h="411">
                    <a:moveTo>
                      <a:pt x="74" y="16"/>
                    </a:moveTo>
                    <a:lnTo>
                      <a:pt x="6" y="70"/>
                    </a:lnTo>
                    <a:lnTo>
                      <a:pt x="23" y="411"/>
                    </a:lnTo>
                    <a:lnTo>
                      <a:pt x="129" y="399"/>
                    </a:lnTo>
                    <a:lnTo>
                      <a:pt x="107" y="65"/>
                    </a:lnTo>
                    <a:lnTo>
                      <a:pt x="45" y="118"/>
                    </a:lnTo>
                    <a:lnTo>
                      <a:pt x="74" y="16"/>
                    </a:lnTo>
                    <a:lnTo>
                      <a:pt x="0" y="0"/>
                    </a:lnTo>
                    <a:lnTo>
                      <a:pt x="6" y="70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883400" y="254448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163" h="135">
                    <a:moveTo>
                      <a:pt x="151" y="37"/>
                    </a:moveTo>
                    <a:lnTo>
                      <a:pt x="163" y="37"/>
                    </a:lnTo>
                    <a:lnTo>
                      <a:pt x="29" y="0"/>
                    </a:lnTo>
                    <a:lnTo>
                      <a:pt x="0" y="102"/>
                    </a:lnTo>
                    <a:lnTo>
                      <a:pt x="134" y="135"/>
                    </a:lnTo>
                    <a:lnTo>
                      <a:pt x="139" y="135"/>
                    </a:lnTo>
                    <a:lnTo>
                      <a:pt x="151" y="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06080" y="2548080"/>
                <a:ext cx="250560" cy="32400"/>
              </a:xfrm>
              <a:custGeom>
                <a:avLst/>
                <a:gdLst/>
                <a:ahLst/>
                <a:rect l="l" t="t" r="r" b="b"/>
                <a:pathLst>
                  <a:path w="1547" h="271">
                    <a:moveTo>
                      <a:pt x="1547" y="217"/>
                    </a:moveTo>
                    <a:lnTo>
                      <a:pt x="1503" y="174"/>
                    </a:lnTo>
                    <a:lnTo>
                      <a:pt x="12" y="0"/>
                    </a:lnTo>
                    <a:lnTo>
                      <a:pt x="0" y="98"/>
                    </a:lnTo>
                    <a:lnTo>
                      <a:pt x="1491" y="271"/>
                    </a:lnTo>
                    <a:lnTo>
                      <a:pt x="1446" y="228"/>
                    </a:lnTo>
                    <a:lnTo>
                      <a:pt x="1547" y="217"/>
                    </a:lnTo>
                    <a:lnTo>
                      <a:pt x="1547" y="174"/>
                    </a:lnTo>
                    <a:lnTo>
                      <a:pt x="1503" y="174"/>
                    </a:lnTo>
                    <a:lnTo>
                      <a:pt x="1547" y="2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140800" y="257400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124" h="379">
                    <a:moveTo>
                      <a:pt x="62" y="373"/>
                    </a:moveTo>
                    <a:lnTo>
                      <a:pt x="118" y="319"/>
                    </a:lnTo>
                    <a:lnTo>
                      <a:pt x="101" y="0"/>
                    </a:lnTo>
                    <a:lnTo>
                      <a:pt x="0" y="11"/>
                    </a:lnTo>
                    <a:lnTo>
                      <a:pt x="17" y="324"/>
                    </a:lnTo>
                    <a:lnTo>
                      <a:pt x="74" y="271"/>
                    </a:lnTo>
                    <a:lnTo>
                      <a:pt x="62" y="373"/>
                    </a:lnTo>
                    <a:lnTo>
                      <a:pt x="124" y="379"/>
                    </a:lnTo>
                    <a:lnTo>
                      <a:pt x="118" y="319"/>
                    </a:lnTo>
                    <a:lnTo>
                      <a:pt x="62" y="37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234760" y="2394360"/>
                <a:ext cx="42120" cy="26280"/>
              </a:xfrm>
              <a:custGeom>
                <a:avLst/>
                <a:gdLst/>
                <a:ahLst/>
                <a:rect l="l" t="t" r="r" b="b"/>
                <a:pathLst>
                  <a:path w="263" h="221">
                    <a:moveTo>
                      <a:pt x="68" y="195"/>
                    </a:moveTo>
                    <a:lnTo>
                      <a:pt x="56" y="221"/>
                    </a:lnTo>
                    <a:lnTo>
                      <a:pt x="263" y="54"/>
                    </a:lnTo>
                    <a:lnTo>
                      <a:pt x="213" y="0"/>
                    </a:lnTo>
                    <a:lnTo>
                      <a:pt x="12" y="167"/>
                    </a:lnTo>
                    <a:lnTo>
                      <a:pt x="0" y="195"/>
                    </a:lnTo>
                    <a:lnTo>
                      <a:pt x="12" y="167"/>
                    </a:lnTo>
                    <a:lnTo>
                      <a:pt x="0" y="184"/>
                    </a:lnTo>
                    <a:lnTo>
                      <a:pt x="0" y="195"/>
                    </a:lnTo>
                    <a:lnTo>
                      <a:pt x="68" y="1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34760" y="2417400"/>
                <a:ext cx="11160" cy="154800"/>
              </a:xfrm>
              <a:custGeom>
                <a:avLst/>
                <a:gdLst/>
                <a:ahLst/>
                <a:rect l="l" t="t" r="r" b="b"/>
                <a:pathLst>
                  <a:path w="68" h="1331">
                    <a:moveTo>
                      <a:pt x="34" y="1331"/>
                    </a:moveTo>
                    <a:lnTo>
                      <a:pt x="68" y="1331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31"/>
                    </a:lnTo>
                    <a:lnTo>
                      <a:pt x="34" y="1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92520" y="2469600"/>
                <a:ext cx="9720" cy="86400"/>
              </a:xfrm>
              <a:custGeom>
                <a:avLst/>
                <a:gdLst/>
                <a:ahLst/>
                <a:rect l="l" t="t" r="r" b="b"/>
                <a:pathLst>
                  <a:path w="60" h="747">
                    <a:moveTo>
                      <a:pt x="33" y="747"/>
                    </a:moveTo>
                    <a:lnTo>
                      <a:pt x="60" y="747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747"/>
                    </a:lnTo>
                    <a:lnTo>
                      <a:pt x="33" y="7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60" name="Supplier" descr=""/>
            <p:cNvPicPr/>
            <p:nvPr/>
          </p:nvPicPr>
          <p:blipFill>
            <a:blip r:embed="rId2"/>
            <a:stretch/>
          </p:blipFill>
          <p:spPr>
            <a:xfrm>
              <a:off x="8091360" y="1898640"/>
              <a:ext cx="865440" cy="6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1" name=""/>
            <p:cNvGrpSpPr/>
            <p:nvPr/>
          </p:nvGrpSpPr>
          <p:grpSpPr>
            <a:xfrm>
              <a:off x="7985160" y="4711680"/>
              <a:ext cx="915480" cy="721440"/>
              <a:chOff x="7985160" y="4711680"/>
              <a:chExt cx="915480" cy="721440"/>
            </a:xfrm>
          </p:grpSpPr>
          <p:sp>
            <p:nvSpPr>
              <p:cNvPr id="962" name=""/>
              <p:cNvSpPr/>
              <p:nvPr/>
            </p:nvSpPr>
            <p:spPr>
              <a:xfrm>
                <a:off x="8060760" y="4716000"/>
                <a:ext cx="612000" cy="414720"/>
              </a:xfrm>
              <a:custGeom>
                <a:avLst/>
                <a:gdLst/>
                <a:ahLst/>
                <a:rect l="l" t="t" r="r" b="b"/>
                <a:pathLst>
                  <a:path w="10991" h="5154">
                    <a:moveTo>
                      <a:pt x="10947" y="1805"/>
                    </a:moveTo>
                    <a:lnTo>
                      <a:pt x="0" y="5154"/>
                    </a:lnTo>
                    <a:lnTo>
                      <a:pt x="0" y="4402"/>
                    </a:lnTo>
                    <a:lnTo>
                      <a:pt x="10991" y="0"/>
                    </a:lnTo>
                    <a:lnTo>
                      <a:pt x="10947" y="180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669520" y="4718880"/>
                <a:ext cx="200160" cy="617040"/>
              </a:xfrm>
              <a:custGeom>
                <a:avLst/>
                <a:gdLst/>
                <a:ahLst/>
                <a:rect l="l" t="t" r="r" b="b"/>
                <a:pathLst>
                  <a:path w="3593" h="7675">
                    <a:moveTo>
                      <a:pt x="0" y="7115"/>
                    </a:moveTo>
                    <a:lnTo>
                      <a:pt x="0" y="0"/>
                    </a:lnTo>
                    <a:lnTo>
                      <a:pt x="3593" y="2981"/>
                    </a:lnTo>
                    <a:lnTo>
                      <a:pt x="3555" y="4254"/>
                    </a:lnTo>
                    <a:lnTo>
                      <a:pt x="3308" y="4123"/>
                    </a:lnTo>
                    <a:lnTo>
                      <a:pt x="3308" y="5226"/>
                    </a:lnTo>
                    <a:lnTo>
                      <a:pt x="3511" y="5315"/>
                    </a:lnTo>
                    <a:lnTo>
                      <a:pt x="3511" y="6094"/>
                    </a:lnTo>
                    <a:lnTo>
                      <a:pt x="3308" y="6000"/>
                    </a:lnTo>
                    <a:lnTo>
                      <a:pt x="3308" y="7033"/>
                    </a:lnTo>
                    <a:lnTo>
                      <a:pt x="3483" y="7143"/>
                    </a:lnTo>
                    <a:lnTo>
                      <a:pt x="3483" y="7675"/>
                    </a:lnTo>
                    <a:lnTo>
                      <a:pt x="0" y="7115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985160" y="5360760"/>
                <a:ext cx="915480" cy="17280"/>
              </a:xfrm>
              <a:custGeom>
                <a:avLst/>
                <a:gdLst/>
                <a:ahLst/>
                <a:rect l="l" t="t" r="r" b="b"/>
                <a:pathLst>
                  <a:path w="16461" h="214">
                    <a:moveTo>
                      <a:pt x="16461" y="109"/>
                    </a:moveTo>
                    <a:lnTo>
                      <a:pt x="16461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6461" y="214"/>
                    </a:lnTo>
                    <a:lnTo>
                      <a:pt x="16461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669520" y="4713840"/>
                <a:ext cx="201600" cy="244800"/>
              </a:xfrm>
              <a:custGeom>
                <a:avLst/>
                <a:gdLst/>
                <a:ahLst/>
                <a:rect l="l" t="t" r="r" b="b"/>
                <a:pathLst>
                  <a:path w="3611" h="3036">
                    <a:moveTo>
                      <a:pt x="3611" y="2997"/>
                    </a:moveTo>
                    <a:lnTo>
                      <a:pt x="3595" y="2954"/>
                    </a:lnTo>
                    <a:lnTo>
                      <a:pt x="72" y="0"/>
                    </a:lnTo>
                    <a:lnTo>
                      <a:pt x="0" y="82"/>
                    </a:lnTo>
                    <a:lnTo>
                      <a:pt x="3523" y="3036"/>
                    </a:lnTo>
                    <a:lnTo>
                      <a:pt x="3512" y="2997"/>
                    </a:lnTo>
                    <a:lnTo>
                      <a:pt x="3611" y="2997"/>
                    </a:lnTo>
                    <a:lnTo>
                      <a:pt x="3611" y="2970"/>
                    </a:lnTo>
                    <a:lnTo>
                      <a:pt x="3595" y="2954"/>
                    </a:lnTo>
                    <a:lnTo>
                      <a:pt x="3611" y="29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866440" y="4953600"/>
                <a:ext cx="5040" cy="117720"/>
              </a:xfrm>
              <a:custGeom>
                <a:avLst/>
                <a:gdLst/>
                <a:ahLst/>
                <a:rect l="l" t="t" r="r" b="b"/>
                <a:pathLst>
                  <a:path w="99" h="1439">
                    <a:moveTo>
                      <a:pt x="17" y="1383"/>
                    </a:moveTo>
                    <a:lnTo>
                      <a:pt x="99" y="133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34"/>
                    </a:lnTo>
                    <a:lnTo>
                      <a:pt x="76" y="1291"/>
                    </a:lnTo>
                    <a:lnTo>
                      <a:pt x="17" y="1383"/>
                    </a:lnTo>
                    <a:lnTo>
                      <a:pt x="99" y="1439"/>
                    </a:lnTo>
                    <a:lnTo>
                      <a:pt x="99" y="1334"/>
                    </a:lnTo>
                    <a:lnTo>
                      <a:pt x="17" y="13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668080" y="4856040"/>
                <a:ext cx="201600" cy="209880"/>
              </a:xfrm>
              <a:custGeom>
                <a:avLst/>
                <a:gdLst/>
                <a:ahLst/>
                <a:rect l="l" t="t" r="r" b="b"/>
                <a:pathLst>
                  <a:path w="3621" h="2590">
                    <a:moveTo>
                      <a:pt x="44" y="104"/>
                    </a:moveTo>
                    <a:lnTo>
                      <a:pt x="0" y="98"/>
                    </a:lnTo>
                    <a:lnTo>
                      <a:pt x="3562" y="2590"/>
                    </a:lnTo>
                    <a:lnTo>
                      <a:pt x="3621" y="2498"/>
                    </a:lnTo>
                    <a:lnTo>
                      <a:pt x="61" y="11"/>
                    </a:lnTo>
                    <a:lnTo>
                      <a:pt x="11" y="5"/>
                    </a:lnTo>
                    <a:lnTo>
                      <a:pt x="61" y="11"/>
                    </a:lnTo>
                    <a:lnTo>
                      <a:pt x="39" y="0"/>
                    </a:lnTo>
                    <a:lnTo>
                      <a:pt x="11" y="5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057520" y="4858920"/>
                <a:ext cx="614160" cy="279720"/>
              </a:xfrm>
              <a:custGeom>
                <a:avLst/>
                <a:gdLst/>
                <a:ahLst/>
                <a:rect l="l" t="t" r="r" b="b"/>
                <a:pathLst>
                  <a:path w="11017" h="3469">
                    <a:moveTo>
                      <a:pt x="0" y="3398"/>
                    </a:moveTo>
                    <a:lnTo>
                      <a:pt x="71" y="3448"/>
                    </a:lnTo>
                    <a:lnTo>
                      <a:pt x="11017" y="99"/>
                    </a:lnTo>
                    <a:lnTo>
                      <a:pt x="10984" y="0"/>
                    </a:lnTo>
                    <a:lnTo>
                      <a:pt x="38" y="3349"/>
                    </a:lnTo>
                    <a:lnTo>
                      <a:pt x="109" y="3398"/>
                    </a:lnTo>
                    <a:lnTo>
                      <a:pt x="0" y="3398"/>
                    </a:lnTo>
                    <a:lnTo>
                      <a:pt x="0" y="3469"/>
                    </a:lnTo>
                    <a:lnTo>
                      <a:pt x="71" y="3448"/>
                    </a:lnTo>
                    <a:lnTo>
                      <a:pt x="0" y="33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57520" y="5066280"/>
                <a:ext cx="6840" cy="64440"/>
              </a:xfrm>
              <a:custGeom>
                <a:avLst/>
                <a:gdLst/>
                <a:ahLst/>
                <a:rect l="l" t="t" r="r" b="b"/>
                <a:pathLst>
                  <a:path w="109" h="801">
                    <a:moveTo>
                      <a:pt x="33" y="0"/>
                    </a:moveTo>
                    <a:lnTo>
                      <a:pt x="0" y="49"/>
                    </a:lnTo>
                    <a:lnTo>
                      <a:pt x="0" y="801"/>
                    </a:lnTo>
                    <a:lnTo>
                      <a:pt x="109" y="801"/>
                    </a:lnTo>
                    <a:lnTo>
                      <a:pt x="109" y="49"/>
                    </a:lnTo>
                    <a:lnTo>
                      <a:pt x="76" y="93"/>
                    </a:lnTo>
                    <a:lnTo>
                      <a:pt x="33" y="0"/>
                    </a:lnTo>
                    <a:lnTo>
                      <a:pt x="0" y="11"/>
                    </a:lnTo>
                    <a:lnTo>
                      <a:pt x="0" y="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58960" y="4711680"/>
                <a:ext cx="615960" cy="361800"/>
              </a:xfrm>
              <a:custGeom>
                <a:avLst/>
                <a:gdLst/>
                <a:ahLst/>
                <a:rect l="l" t="t" r="r" b="b"/>
                <a:pathLst>
                  <a:path w="11045" h="4507">
                    <a:moveTo>
                      <a:pt x="11045" y="22"/>
                    </a:moveTo>
                    <a:lnTo>
                      <a:pt x="10989" y="11"/>
                    </a:lnTo>
                    <a:lnTo>
                      <a:pt x="0" y="4414"/>
                    </a:lnTo>
                    <a:lnTo>
                      <a:pt x="43" y="4507"/>
                    </a:lnTo>
                    <a:lnTo>
                      <a:pt x="11029" y="110"/>
                    </a:lnTo>
                    <a:lnTo>
                      <a:pt x="10973" y="104"/>
                    </a:lnTo>
                    <a:lnTo>
                      <a:pt x="11045" y="22"/>
                    </a:lnTo>
                    <a:lnTo>
                      <a:pt x="11017" y="0"/>
                    </a:lnTo>
                    <a:lnTo>
                      <a:pt x="10989" y="11"/>
                    </a:lnTo>
                    <a:lnTo>
                      <a:pt x="11045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669520" y="5291280"/>
                <a:ext cx="182880" cy="136800"/>
              </a:xfrm>
              <a:custGeom>
                <a:avLst/>
                <a:gdLst/>
                <a:ahLst/>
                <a:rect l="l" t="t" r="r" b="b"/>
                <a:pathLst>
                  <a:path w="3281" h="1696">
                    <a:moveTo>
                      <a:pt x="5" y="1696"/>
                    </a:moveTo>
                    <a:lnTo>
                      <a:pt x="0" y="0"/>
                    </a:lnTo>
                    <a:lnTo>
                      <a:pt x="3281" y="576"/>
                    </a:lnTo>
                    <a:lnTo>
                      <a:pt x="3281" y="939"/>
                    </a:lnTo>
                    <a:lnTo>
                      <a:pt x="5" y="16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666280" y="5286240"/>
                <a:ext cx="6480" cy="142200"/>
              </a:xfrm>
              <a:custGeom>
                <a:avLst/>
                <a:gdLst/>
                <a:ahLst/>
                <a:rect l="l" t="t" r="r" b="b"/>
                <a:pathLst>
                  <a:path w="115" h="1757">
                    <a:moveTo>
                      <a:pt x="66" y="11"/>
                    </a:moveTo>
                    <a:lnTo>
                      <a:pt x="0" y="61"/>
                    </a:lnTo>
                    <a:lnTo>
                      <a:pt x="6" y="1757"/>
                    </a:lnTo>
                    <a:lnTo>
                      <a:pt x="115" y="1757"/>
                    </a:lnTo>
                    <a:lnTo>
                      <a:pt x="110" y="61"/>
                    </a:lnTo>
                    <a:lnTo>
                      <a:pt x="44" y="115"/>
                    </a:lnTo>
                    <a:lnTo>
                      <a:pt x="66" y="1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669520" y="5288400"/>
                <a:ext cx="184320" cy="52560"/>
              </a:xfrm>
              <a:custGeom>
                <a:avLst/>
                <a:gdLst/>
                <a:ahLst/>
                <a:rect l="l" t="t" r="r" b="b"/>
                <a:pathLst>
                  <a:path w="3342" h="676">
                    <a:moveTo>
                      <a:pt x="3342" y="626"/>
                    </a:moveTo>
                    <a:lnTo>
                      <a:pt x="3304" y="577"/>
                    </a:lnTo>
                    <a:lnTo>
                      <a:pt x="22" y="0"/>
                    </a:lnTo>
                    <a:lnTo>
                      <a:pt x="0" y="104"/>
                    </a:lnTo>
                    <a:lnTo>
                      <a:pt x="3281" y="676"/>
                    </a:lnTo>
                    <a:lnTo>
                      <a:pt x="3243" y="626"/>
                    </a:lnTo>
                    <a:lnTo>
                      <a:pt x="3342" y="626"/>
                    </a:lnTo>
                    <a:lnTo>
                      <a:pt x="3342" y="582"/>
                    </a:lnTo>
                    <a:lnTo>
                      <a:pt x="3304" y="577"/>
                    </a:lnTo>
                    <a:lnTo>
                      <a:pt x="3342" y="6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849160" y="5338080"/>
                <a:ext cx="5040" cy="32760"/>
              </a:xfrm>
              <a:custGeom>
                <a:avLst/>
                <a:gdLst/>
                <a:ahLst/>
                <a:rect l="l" t="t" r="r" b="b"/>
                <a:pathLst>
                  <a:path w="99" h="412">
                    <a:moveTo>
                      <a:pt x="61" y="412"/>
                    </a:moveTo>
                    <a:lnTo>
                      <a:pt x="99" y="36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63"/>
                    </a:lnTo>
                    <a:lnTo>
                      <a:pt x="38" y="313"/>
                    </a:lnTo>
                    <a:lnTo>
                      <a:pt x="61" y="412"/>
                    </a:lnTo>
                    <a:lnTo>
                      <a:pt x="99" y="401"/>
                    </a:lnTo>
                    <a:lnTo>
                      <a:pt x="99" y="363"/>
                    </a:lnTo>
                    <a:lnTo>
                      <a:pt x="61" y="4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666280" y="5363640"/>
                <a:ext cx="186120" cy="69480"/>
              </a:xfrm>
              <a:custGeom>
                <a:avLst/>
                <a:gdLst/>
                <a:ahLst/>
                <a:rect l="l" t="t" r="r" b="b"/>
                <a:pathLst>
                  <a:path w="3342" h="873">
                    <a:moveTo>
                      <a:pt x="0" y="807"/>
                    </a:moveTo>
                    <a:lnTo>
                      <a:pt x="66" y="857"/>
                    </a:lnTo>
                    <a:lnTo>
                      <a:pt x="3342" y="99"/>
                    </a:lnTo>
                    <a:lnTo>
                      <a:pt x="3319" y="0"/>
                    </a:lnTo>
                    <a:lnTo>
                      <a:pt x="44" y="758"/>
                    </a:lnTo>
                    <a:lnTo>
                      <a:pt x="109" y="807"/>
                    </a:lnTo>
                    <a:lnTo>
                      <a:pt x="0" y="807"/>
                    </a:lnTo>
                    <a:lnTo>
                      <a:pt x="0" y="873"/>
                    </a:lnTo>
                    <a:lnTo>
                      <a:pt x="66" y="857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76600" y="5293440"/>
                <a:ext cx="592920" cy="132480"/>
              </a:xfrm>
              <a:custGeom>
                <a:avLst/>
                <a:gdLst/>
                <a:ahLst/>
                <a:rect l="l" t="t" r="r" b="b"/>
                <a:pathLst>
                  <a:path w="10656" h="1659">
                    <a:moveTo>
                      <a:pt x="0" y="923"/>
                    </a:moveTo>
                    <a:lnTo>
                      <a:pt x="0" y="527"/>
                    </a:lnTo>
                    <a:lnTo>
                      <a:pt x="10656" y="0"/>
                    </a:lnTo>
                    <a:lnTo>
                      <a:pt x="10656" y="1659"/>
                    </a:lnTo>
                    <a:lnTo>
                      <a:pt x="0" y="9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074440" y="5330880"/>
                <a:ext cx="5040" cy="34920"/>
              </a:xfrm>
              <a:custGeom>
                <a:avLst/>
                <a:gdLst/>
                <a:ahLst/>
                <a:rect l="l" t="t" r="r" b="b"/>
                <a:pathLst>
                  <a:path w="110" h="450">
                    <a:moveTo>
                      <a:pt x="55" y="0"/>
                    </a:moveTo>
                    <a:lnTo>
                      <a:pt x="0" y="54"/>
                    </a:lnTo>
                    <a:lnTo>
                      <a:pt x="0" y="450"/>
                    </a:lnTo>
                    <a:lnTo>
                      <a:pt x="110" y="450"/>
                    </a:lnTo>
                    <a:lnTo>
                      <a:pt x="110" y="54"/>
                    </a:lnTo>
                    <a:lnTo>
                      <a:pt x="55" y="104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76600" y="5288400"/>
                <a:ext cx="596520" cy="49680"/>
              </a:xfrm>
              <a:custGeom>
                <a:avLst/>
                <a:gdLst/>
                <a:ahLst/>
                <a:rect l="l" t="t" r="r" b="b"/>
                <a:pathLst>
                  <a:path w="10705" h="631">
                    <a:moveTo>
                      <a:pt x="10705" y="54"/>
                    </a:moveTo>
                    <a:lnTo>
                      <a:pt x="10656" y="5"/>
                    </a:lnTo>
                    <a:lnTo>
                      <a:pt x="0" y="527"/>
                    </a:lnTo>
                    <a:lnTo>
                      <a:pt x="0" y="631"/>
                    </a:lnTo>
                    <a:lnTo>
                      <a:pt x="10656" y="104"/>
                    </a:lnTo>
                    <a:lnTo>
                      <a:pt x="10606" y="54"/>
                    </a:lnTo>
                    <a:lnTo>
                      <a:pt x="10705" y="54"/>
                    </a:lnTo>
                    <a:lnTo>
                      <a:pt x="10705" y="0"/>
                    </a:lnTo>
                    <a:lnTo>
                      <a:pt x="10656" y="5"/>
                    </a:lnTo>
                    <a:lnTo>
                      <a:pt x="10705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668080" y="5293440"/>
                <a:ext cx="5040" cy="137520"/>
              </a:xfrm>
              <a:custGeom>
                <a:avLst/>
                <a:gdLst/>
                <a:ahLst/>
                <a:rect l="l" t="t" r="r" b="b"/>
                <a:pathLst>
                  <a:path w="99" h="1713">
                    <a:moveTo>
                      <a:pt x="45" y="1713"/>
                    </a:moveTo>
                    <a:lnTo>
                      <a:pt x="99" y="16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659"/>
                    </a:lnTo>
                    <a:lnTo>
                      <a:pt x="55" y="1609"/>
                    </a:lnTo>
                    <a:lnTo>
                      <a:pt x="45" y="1713"/>
                    </a:lnTo>
                    <a:lnTo>
                      <a:pt x="99" y="1713"/>
                    </a:lnTo>
                    <a:lnTo>
                      <a:pt x="99" y="1659"/>
                    </a:lnTo>
                    <a:lnTo>
                      <a:pt x="45" y="17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074440" y="5363640"/>
                <a:ext cx="594720" cy="67320"/>
              </a:xfrm>
              <a:custGeom>
                <a:avLst/>
                <a:gdLst/>
                <a:ahLst/>
                <a:rect l="l" t="t" r="r" b="b"/>
                <a:pathLst>
                  <a:path w="10716" h="840">
                    <a:moveTo>
                      <a:pt x="0" y="50"/>
                    </a:moveTo>
                    <a:lnTo>
                      <a:pt x="49" y="99"/>
                    </a:lnTo>
                    <a:lnTo>
                      <a:pt x="10706" y="840"/>
                    </a:lnTo>
                    <a:lnTo>
                      <a:pt x="10716" y="736"/>
                    </a:lnTo>
                    <a:lnTo>
                      <a:pt x="61" y="0"/>
                    </a:lnTo>
                    <a:lnTo>
                      <a:pt x="110" y="50"/>
                    </a:lnTo>
                    <a:lnTo>
                      <a:pt x="0" y="50"/>
                    </a:lnTo>
                    <a:lnTo>
                      <a:pt x="0" y="99"/>
                    </a:lnTo>
                    <a:lnTo>
                      <a:pt x="49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668080" y="5188680"/>
                <a:ext cx="5040" cy="10980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61" y="1252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39" y="1350"/>
                    </a:lnTo>
                    <a:lnTo>
                      <a:pt x="0" y="1301"/>
                    </a:lnTo>
                    <a:lnTo>
                      <a:pt x="0" y="1345"/>
                    </a:lnTo>
                    <a:lnTo>
                      <a:pt x="39" y="1350"/>
                    </a:lnTo>
                    <a:lnTo>
                      <a:pt x="61" y="12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669520" y="5291280"/>
                <a:ext cx="200160" cy="51840"/>
              </a:xfrm>
              <a:custGeom>
                <a:avLst/>
                <a:gdLst/>
                <a:ahLst/>
                <a:rect l="l" t="t" r="r" b="b"/>
                <a:pathLst>
                  <a:path w="3599" h="648">
                    <a:moveTo>
                      <a:pt x="3484" y="587"/>
                    </a:moveTo>
                    <a:lnTo>
                      <a:pt x="3550" y="538"/>
                    </a:lnTo>
                    <a:lnTo>
                      <a:pt x="22" y="0"/>
                    </a:lnTo>
                    <a:lnTo>
                      <a:pt x="0" y="98"/>
                    </a:lnTo>
                    <a:lnTo>
                      <a:pt x="3533" y="637"/>
                    </a:lnTo>
                    <a:lnTo>
                      <a:pt x="3599" y="587"/>
                    </a:lnTo>
                    <a:lnTo>
                      <a:pt x="3533" y="637"/>
                    </a:lnTo>
                    <a:lnTo>
                      <a:pt x="3599" y="648"/>
                    </a:lnTo>
                    <a:lnTo>
                      <a:pt x="3599" y="587"/>
                    </a:lnTo>
                    <a:lnTo>
                      <a:pt x="3484" y="5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862840" y="5286240"/>
                <a:ext cx="6840" cy="51840"/>
              </a:xfrm>
              <a:custGeom>
                <a:avLst/>
                <a:gdLst/>
                <a:ahLst/>
                <a:rect l="l" t="t" r="r" b="b"/>
                <a:pathLst>
                  <a:path w="115" h="631">
                    <a:moveTo>
                      <a:pt x="38" y="104"/>
                    </a:moveTo>
                    <a:lnTo>
                      <a:pt x="0" y="50"/>
                    </a:lnTo>
                    <a:lnTo>
                      <a:pt x="0" y="631"/>
                    </a:lnTo>
                    <a:lnTo>
                      <a:pt x="115" y="631"/>
                    </a:lnTo>
                    <a:lnTo>
                      <a:pt x="115" y="50"/>
                    </a:lnTo>
                    <a:lnTo>
                      <a:pt x="77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77" y="0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668080" y="5183640"/>
                <a:ext cx="200160" cy="111960"/>
              </a:xfrm>
              <a:custGeom>
                <a:avLst/>
                <a:gdLst/>
                <a:ahLst/>
                <a:rect l="l" t="t" r="r" b="b"/>
                <a:pathLst>
                  <a:path w="3600" h="1388">
                    <a:moveTo>
                      <a:pt x="99" y="76"/>
                    </a:moveTo>
                    <a:lnTo>
                      <a:pt x="28" y="125"/>
                    </a:lnTo>
                    <a:lnTo>
                      <a:pt x="3561" y="1388"/>
                    </a:lnTo>
                    <a:lnTo>
                      <a:pt x="3600" y="1284"/>
                    </a:lnTo>
                    <a:lnTo>
                      <a:pt x="71" y="21"/>
                    </a:lnTo>
                    <a:lnTo>
                      <a:pt x="0" y="76"/>
                    </a:lnTo>
                    <a:lnTo>
                      <a:pt x="71" y="21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99" y="7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60760" y="5188680"/>
                <a:ext cx="608400" cy="147240"/>
              </a:xfrm>
              <a:custGeom>
                <a:avLst/>
                <a:gdLst/>
                <a:ahLst/>
                <a:rect l="l" t="t" r="r" b="b"/>
                <a:pathLst>
                  <a:path w="10947" h="1806">
                    <a:moveTo>
                      <a:pt x="10947" y="0"/>
                    </a:moveTo>
                    <a:lnTo>
                      <a:pt x="0" y="1301"/>
                    </a:lnTo>
                    <a:lnTo>
                      <a:pt x="0" y="1806"/>
                    </a:lnTo>
                    <a:lnTo>
                      <a:pt x="10947" y="1258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057520" y="5185800"/>
                <a:ext cx="612000" cy="112680"/>
              </a:xfrm>
              <a:custGeom>
                <a:avLst/>
                <a:gdLst/>
                <a:ahLst/>
                <a:rect l="l" t="t" r="r" b="b"/>
                <a:pathLst>
                  <a:path w="11001" h="1405">
                    <a:moveTo>
                      <a:pt x="99" y="1356"/>
                    </a:moveTo>
                    <a:lnTo>
                      <a:pt x="54" y="1405"/>
                    </a:lnTo>
                    <a:lnTo>
                      <a:pt x="11001" y="104"/>
                    </a:lnTo>
                    <a:lnTo>
                      <a:pt x="10991" y="0"/>
                    </a:lnTo>
                    <a:lnTo>
                      <a:pt x="44" y="1307"/>
                    </a:lnTo>
                    <a:lnTo>
                      <a:pt x="0" y="1356"/>
                    </a:lnTo>
                    <a:lnTo>
                      <a:pt x="44" y="1307"/>
                    </a:lnTo>
                    <a:lnTo>
                      <a:pt x="0" y="1307"/>
                    </a:lnTo>
                    <a:lnTo>
                      <a:pt x="0" y="1356"/>
                    </a:lnTo>
                    <a:lnTo>
                      <a:pt x="99" y="13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57520" y="5293440"/>
                <a:ext cx="6840" cy="44640"/>
              </a:xfrm>
              <a:custGeom>
                <a:avLst/>
                <a:gdLst/>
                <a:ahLst/>
                <a:rect l="l" t="t" r="r" b="b"/>
                <a:pathLst>
                  <a:path w="99" h="560">
                    <a:moveTo>
                      <a:pt x="49" y="451"/>
                    </a:moveTo>
                    <a:lnTo>
                      <a:pt x="99" y="50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505"/>
                    </a:lnTo>
                    <a:lnTo>
                      <a:pt x="49" y="555"/>
                    </a:lnTo>
                    <a:lnTo>
                      <a:pt x="0" y="505"/>
                    </a:lnTo>
                    <a:lnTo>
                      <a:pt x="0" y="560"/>
                    </a:lnTo>
                    <a:lnTo>
                      <a:pt x="49" y="555"/>
                    </a:lnTo>
                    <a:lnTo>
                      <a:pt x="49" y="4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060760" y="5286240"/>
                <a:ext cx="612000" cy="51840"/>
              </a:xfrm>
              <a:custGeom>
                <a:avLst/>
                <a:gdLst/>
                <a:ahLst/>
                <a:rect l="l" t="t" r="r" b="b"/>
                <a:pathLst>
                  <a:path w="11001" h="648">
                    <a:moveTo>
                      <a:pt x="10892" y="50"/>
                    </a:moveTo>
                    <a:lnTo>
                      <a:pt x="10947" y="0"/>
                    </a:lnTo>
                    <a:lnTo>
                      <a:pt x="0" y="544"/>
                    </a:lnTo>
                    <a:lnTo>
                      <a:pt x="0" y="648"/>
                    </a:lnTo>
                    <a:lnTo>
                      <a:pt x="10947" y="104"/>
                    </a:lnTo>
                    <a:lnTo>
                      <a:pt x="11001" y="50"/>
                    </a:lnTo>
                    <a:lnTo>
                      <a:pt x="10947" y="104"/>
                    </a:lnTo>
                    <a:lnTo>
                      <a:pt x="11001" y="104"/>
                    </a:lnTo>
                    <a:lnTo>
                      <a:pt x="11001" y="50"/>
                    </a:lnTo>
                    <a:lnTo>
                      <a:pt x="10892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666280" y="5183640"/>
                <a:ext cx="6480" cy="107640"/>
              </a:xfrm>
              <a:custGeom>
                <a:avLst/>
                <a:gdLst/>
                <a:ahLst/>
                <a:rect l="l" t="t" r="r" b="b"/>
                <a:pathLst>
                  <a:path w="109" h="1324">
                    <a:moveTo>
                      <a:pt x="60" y="115"/>
                    </a:moveTo>
                    <a:lnTo>
                      <a:pt x="0" y="66"/>
                    </a:lnTo>
                    <a:lnTo>
                      <a:pt x="0" y="1324"/>
                    </a:lnTo>
                    <a:lnTo>
                      <a:pt x="109" y="1324"/>
                    </a:lnTo>
                    <a:lnTo>
                      <a:pt x="109" y="66"/>
                    </a:lnTo>
                    <a:lnTo>
                      <a:pt x="50" y="11"/>
                    </a:lnTo>
                    <a:lnTo>
                      <a:pt x="109" y="66"/>
                    </a:lnTo>
                    <a:lnTo>
                      <a:pt x="109" y="0"/>
                    </a:lnTo>
                    <a:lnTo>
                      <a:pt x="50" y="11"/>
                    </a:lnTo>
                    <a:lnTo>
                      <a:pt x="60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60760" y="4976280"/>
                <a:ext cx="608400" cy="257040"/>
              </a:xfrm>
              <a:custGeom>
                <a:avLst/>
                <a:gdLst/>
                <a:ahLst/>
                <a:rect l="l" t="t" r="r" b="b"/>
                <a:pathLst>
                  <a:path w="10947" h="3205">
                    <a:moveTo>
                      <a:pt x="10947" y="0"/>
                    </a:moveTo>
                    <a:lnTo>
                      <a:pt x="10947" y="1361"/>
                    </a:lnTo>
                    <a:lnTo>
                      <a:pt x="0" y="3205"/>
                    </a:lnTo>
                    <a:lnTo>
                      <a:pt x="0" y="2662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668080" y="4976280"/>
                <a:ext cx="5040" cy="11196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61" y="1416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39" y="1311"/>
                    </a:lnTo>
                    <a:lnTo>
                      <a:pt x="61" y="1416"/>
                    </a:lnTo>
                    <a:lnTo>
                      <a:pt x="99" y="1410"/>
                    </a:lnTo>
                    <a:lnTo>
                      <a:pt x="99" y="1361"/>
                    </a:lnTo>
                    <a:lnTo>
                      <a:pt x="61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57520" y="5081040"/>
                <a:ext cx="614160" cy="157320"/>
              </a:xfrm>
              <a:custGeom>
                <a:avLst/>
                <a:gdLst/>
                <a:ahLst/>
                <a:rect l="l" t="t" r="r" b="b"/>
                <a:pathLst>
                  <a:path w="11012" h="1955">
                    <a:moveTo>
                      <a:pt x="0" y="1894"/>
                    </a:moveTo>
                    <a:lnTo>
                      <a:pt x="66" y="1944"/>
                    </a:lnTo>
                    <a:lnTo>
                      <a:pt x="11012" y="105"/>
                    </a:lnTo>
                    <a:lnTo>
                      <a:pt x="10990" y="0"/>
                    </a:lnTo>
                    <a:lnTo>
                      <a:pt x="43" y="1840"/>
                    </a:lnTo>
                    <a:lnTo>
                      <a:pt x="109" y="1894"/>
                    </a:lnTo>
                    <a:lnTo>
                      <a:pt x="0" y="1894"/>
                    </a:lnTo>
                    <a:lnTo>
                      <a:pt x="0" y="1955"/>
                    </a:lnTo>
                    <a:lnTo>
                      <a:pt x="66" y="1944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57520" y="5185800"/>
                <a:ext cx="6840" cy="47520"/>
              </a:xfrm>
              <a:custGeom>
                <a:avLst/>
                <a:gdLst/>
                <a:ahLst/>
                <a:rect l="l" t="t" r="r" b="b"/>
                <a:pathLst>
                  <a:path w="109" h="598">
                    <a:moveTo>
                      <a:pt x="43" y="0"/>
                    </a:moveTo>
                    <a:lnTo>
                      <a:pt x="0" y="55"/>
                    </a:lnTo>
                    <a:lnTo>
                      <a:pt x="0" y="598"/>
                    </a:lnTo>
                    <a:lnTo>
                      <a:pt x="109" y="598"/>
                    </a:lnTo>
                    <a:lnTo>
                      <a:pt x="109" y="55"/>
                    </a:lnTo>
                    <a:lnTo>
                      <a:pt x="66" y="104"/>
                    </a:lnTo>
                    <a:lnTo>
                      <a:pt x="43" y="0"/>
                    </a:lnTo>
                    <a:lnTo>
                      <a:pt x="0" y="12"/>
                    </a:lnTo>
                    <a:lnTo>
                      <a:pt x="0" y="5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060760" y="4968720"/>
                <a:ext cx="612000" cy="224640"/>
              </a:xfrm>
              <a:custGeom>
                <a:avLst/>
                <a:gdLst/>
                <a:ahLst/>
                <a:rect l="l" t="t" r="r" b="b"/>
                <a:pathLst>
                  <a:path w="11007" h="2777">
                    <a:moveTo>
                      <a:pt x="11007" y="66"/>
                    </a:moveTo>
                    <a:lnTo>
                      <a:pt x="10947" y="17"/>
                    </a:lnTo>
                    <a:lnTo>
                      <a:pt x="0" y="2673"/>
                    </a:lnTo>
                    <a:lnTo>
                      <a:pt x="23" y="2777"/>
                    </a:lnTo>
                    <a:lnTo>
                      <a:pt x="10969" y="116"/>
                    </a:lnTo>
                    <a:lnTo>
                      <a:pt x="10908" y="66"/>
                    </a:lnTo>
                    <a:lnTo>
                      <a:pt x="11007" y="66"/>
                    </a:lnTo>
                    <a:lnTo>
                      <a:pt x="11007" y="0"/>
                    </a:lnTo>
                    <a:lnTo>
                      <a:pt x="10947" y="17"/>
                    </a:lnTo>
                    <a:lnTo>
                      <a:pt x="1100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668080" y="4976280"/>
                <a:ext cx="5040" cy="11196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71" y="1311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28" y="1416"/>
                    </a:lnTo>
                    <a:lnTo>
                      <a:pt x="0" y="1361"/>
                    </a:lnTo>
                    <a:lnTo>
                      <a:pt x="0" y="1400"/>
                    </a:lnTo>
                    <a:lnTo>
                      <a:pt x="28" y="1416"/>
                    </a:lnTo>
                    <a:lnTo>
                      <a:pt x="71" y="13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668080" y="5081040"/>
                <a:ext cx="201600" cy="137520"/>
              </a:xfrm>
              <a:custGeom>
                <a:avLst/>
                <a:gdLst/>
                <a:ahLst/>
                <a:rect l="l" t="t" r="r" b="b"/>
                <a:pathLst>
                  <a:path w="3610" h="1719">
                    <a:moveTo>
                      <a:pt x="3495" y="1637"/>
                    </a:moveTo>
                    <a:lnTo>
                      <a:pt x="3572" y="1588"/>
                    </a:lnTo>
                    <a:lnTo>
                      <a:pt x="43" y="0"/>
                    </a:lnTo>
                    <a:lnTo>
                      <a:pt x="0" y="105"/>
                    </a:lnTo>
                    <a:lnTo>
                      <a:pt x="3533" y="1692"/>
                    </a:lnTo>
                    <a:lnTo>
                      <a:pt x="3610" y="1637"/>
                    </a:lnTo>
                    <a:lnTo>
                      <a:pt x="3533" y="1692"/>
                    </a:lnTo>
                    <a:lnTo>
                      <a:pt x="3610" y="1719"/>
                    </a:lnTo>
                    <a:lnTo>
                      <a:pt x="3610" y="1637"/>
                    </a:lnTo>
                    <a:lnTo>
                      <a:pt x="3495" y="16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862840" y="5146200"/>
                <a:ext cx="6840" cy="67320"/>
              </a:xfrm>
              <a:custGeom>
                <a:avLst/>
                <a:gdLst/>
                <a:ahLst/>
                <a:rect l="l" t="t" r="r" b="b"/>
                <a:pathLst>
                  <a:path w="115" h="840">
                    <a:moveTo>
                      <a:pt x="33" y="93"/>
                    </a:moveTo>
                    <a:lnTo>
                      <a:pt x="0" y="50"/>
                    </a:lnTo>
                    <a:lnTo>
                      <a:pt x="0" y="840"/>
                    </a:lnTo>
                    <a:lnTo>
                      <a:pt x="115" y="840"/>
                    </a:lnTo>
                    <a:lnTo>
                      <a:pt x="115" y="50"/>
                    </a:lnTo>
                    <a:lnTo>
                      <a:pt x="82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82" y="0"/>
                    </a:ln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668080" y="4965840"/>
                <a:ext cx="200160" cy="187560"/>
              </a:xfrm>
              <a:custGeom>
                <a:avLst/>
                <a:gdLst/>
                <a:ahLst/>
                <a:rect l="l" t="t" r="r" b="b"/>
                <a:pathLst>
                  <a:path w="3605" h="2300">
                    <a:moveTo>
                      <a:pt x="99" y="99"/>
                    </a:moveTo>
                    <a:lnTo>
                      <a:pt x="28" y="142"/>
                    </a:lnTo>
                    <a:lnTo>
                      <a:pt x="3556" y="2300"/>
                    </a:lnTo>
                    <a:lnTo>
                      <a:pt x="3605" y="2207"/>
                    </a:lnTo>
                    <a:lnTo>
                      <a:pt x="78" y="55"/>
                    </a:lnTo>
                    <a:lnTo>
                      <a:pt x="0" y="99"/>
                    </a:lnTo>
                    <a:lnTo>
                      <a:pt x="78" y="55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666280" y="4716000"/>
                <a:ext cx="6480" cy="142560"/>
              </a:xfrm>
              <a:custGeom>
                <a:avLst/>
                <a:gdLst/>
                <a:ahLst/>
                <a:rect l="l" t="t" r="r" b="b"/>
                <a:pathLst>
                  <a:path w="109" h="1767">
                    <a:moveTo>
                      <a:pt x="55" y="0"/>
                    </a:moveTo>
                    <a:lnTo>
                      <a:pt x="0" y="0"/>
                    </a:lnTo>
                    <a:lnTo>
                      <a:pt x="0" y="1767"/>
                    </a:lnTo>
                    <a:lnTo>
                      <a:pt x="109" y="1767"/>
                    </a:lnTo>
                    <a:lnTo>
                      <a:pt x="109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516160" y="4863960"/>
                <a:ext cx="153000" cy="164880"/>
              </a:xfrm>
              <a:custGeom>
                <a:avLst/>
                <a:gdLst/>
                <a:ahLst/>
                <a:rect l="l" t="t" r="r" b="b"/>
                <a:pathLst>
                  <a:path w="2754" h="2020">
                    <a:moveTo>
                      <a:pt x="2754" y="0"/>
                    </a:moveTo>
                    <a:lnTo>
                      <a:pt x="2754" y="1367"/>
                    </a:lnTo>
                    <a:lnTo>
                      <a:pt x="0" y="2020"/>
                    </a:lnTo>
                    <a:lnTo>
                      <a:pt x="0" y="829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668080" y="4863960"/>
                <a:ext cx="5040" cy="114120"/>
              </a:xfrm>
              <a:custGeom>
                <a:avLst/>
                <a:gdLst/>
                <a:ahLst/>
                <a:rect l="l" t="t" r="r" b="b"/>
                <a:pathLst>
                  <a:path w="99" h="1417">
                    <a:moveTo>
                      <a:pt x="61" y="1417"/>
                    </a:moveTo>
                    <a:lnTo>
                      <a:pt x="99" y="136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7"/>
                    </a:lnTo>
                    <a:lnTo>
                      <a:pt x="39" y="1318"/>
                    </a:lnTo>
                    <a:lnTo>
                      <a:pt x="61" y="1417"/>
                    </a:lnTo>
                    <a:lnTo>
                      <a:pt x="99" y="1405"/>
                    </a:lnTo>
                    <a:lnTo>
                      <a:pt x="99" y="1367"/>
                    </a:lnTo>
                    <a:lnTo>
                      <a:pt x="61" y="14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514720" y="4970880"/>
                <a:ext cx="156600" cy="62280"/>
              </a:xfrm>
              <a:custGeom>
                <a:avLst/>
                <a:gdLst/>
                <a:ahLst/>
                <a:rect l="l" t="t" r="r" b="b"/>
                <a:pathLst>
                  <a:path w="2821" h="768">
                    <a:moveTo>
                      <a:pt x="0" y="702"/>
                    </a:moveTo>
                    <a:lnTo>
                      <a:pt x="66" y="751"/>
                    </a:lnTo>
                    <a:lnTo>
                      <a:pt x="2821" y="99"/>
                    </a:lnTo>
                    <a:lnTo>
                      <a:pt x="2799" y="0"/>
                    </a:lnTo>
                    <a:lnTo>
                      <a:pt x="44" y="647"/>
                    </a:lnTo>
                    <a:lnTo>
                      <a:pt x="110" y="702"/>
                    </a:lnTo>
                    <a:lnTo>
                      <a:pt x="0" y="702"/>
                    </a:lnTo>
                    <a:lnTo>
                      <a:pt x="6" y="768"/>
                    </a:lnTo>
                    <a:lnTo>
                      <a:pt x="66" y="751"/>
                    </a:lnTo>
                    <a:lnTo>
                      <a:pt x="0" y="7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514720" y="4926240"/>
                <a:ext cx="5040" cy="102240"/>
              </a:xfrm>
              <a:custGeom>
                <a:avLst/>
                <a:gdLst/>
                <a:ahLst/>
                <a:rect l="l" t="t" r="r" b="b"/>
                <a:pathLst>
                  <a:path w="110" h="1246">
                    <a:moveTo>
                      <a:pt x="39" y="0"/>
                    </a:moveTo>
                    <a:lnTo>
                      <a:pt x="0" y="55"/>
                    </a:lnTo>
                    <a:lnTo>
                      <a:pt x="0" y="1246"/>
                    </a:lnTo>
                    <a:lnTo>
                      <a:pt x="110" y="1246"/>
                    </a:lnTo>
                    <a:lnTo>
                      <a:pt x="110" y="55"/>
                    </a:lnTo>
                    <a:lnTo>
                      <a:pt x="72" y="104"/>
                    </a:lnTo>
                    <a:lnTo>
                      <a:pt x="39" y="0"/>
                    </a:lnTo>
                    <a:lnTo>
                      <a:pt x="0" y="11"/>
                    </a:lnTo>
                    <a:lnTo>
                      <a:pt x="0" y="5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516160" y="4858920"/>
                <a:ext cx="156600" cy="77040"/>
              </a:xfrm>
              <a:custGeom>
                <a:avLst/>
                <a:gdLst/>
                <a:ahLst/>
                <a:rect l="l" t="t" r="r" b="b"/>
                <a:pathLst>
                  <a:path w="2820" h="950">
                    <a:moveTo>
                      <a:pt x="2820" y="72"/>
                    </a:moveTo>
                    <a:lnTo>
                      <a:pt x="2754" y="17"/>
                    </a:lnTo>
                    <a:lnTo>
                      <a:pt x="0" y="846"/>
                    </a:lnTo>
                    <a:lnTo>
                      <a:pt x="33" y="950"/>
                    </a:lnTo>
                    <a:lnTo>
                      <a:pt x="2787" y="122"/>
                    </a:lnTo>
                    <a:lnTo>
                      <a:pt x="2721" y="72"/>
                    </a:lnTo>
                    <a:lnTo>
                      <a:pt x="2820" y="72"/>
                    </a:lnTo>
                    <a:lnTo>
                      <a:pt x="2820" y="0"/>
                    </a:lnTo>
                    <a:lnTo>
                      <a:pt x="2754" y="17"/>
                    </a:lnTo>
                    <a:lnTo>
                      <a:pt x="2820" y="7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343720" y="4948920"/>
                <a:ext cx="129240" cy="139320"/>
              </a:xfrm>
              <a:custGeom>
                <a:avLst/>
                <a:gdLst/>
                <a:ahLst/>
                <a:rect l="l" t="t" r="r" b="b"/>
                <a:pathLst>
                  <a:path w="2314" h="1719">
                    <a:moveTo>
                      <a:pt x="2314" y="1169"/>
                    </a:moveTo>
                    <a:lnTo>
                      <a:pt x="0" y="1719"/>
                    </a:lnTo>
                    <a:lnTo>
                      <a:pt x="0" y="698"/>
                    </a:lnTo>
                    <a:lnTo>
                      <a:pt x="2314" y="0"/>
                    </a:lnTo>
                    <a:lnTo>
                      <a:pt x="2314" y="116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340120" y="5038560"/>
                <a:ext cx="132840" cy="54720"/>
              </a:xfrm>
              <a:custGeom>
                <a:avLst/>
                <a:gdLst/>
                <a:ahLst/>
                <a:rect l="l" t="t" r="r" b="b"/>
                <a:pathLst>
                  <a:path w="2382" h="670">
                    <a:moveTo>
                      <a:pt x="0" y="604"/>
                    </a:moveTo>
                    <a:lnTo>
                      <a:pt x="66" y="653"/>
                    </a:lnTo>
                    <a:lnTo>
                      <a:pt x="2382" y="104"/>
                    </a:lnTo>
                    <a:lnTo>
                      <a:pt x="2360" y="0"/>
                    </a:lnTo>
                    <a:lnTo>
                      <a:pt x="44" y="548"/>
                    </a:lnTo>
                    <a:lnTo>
                      <a:pt x="110" y="604"/>
                    </a:lnTo>
                    <a:lnTo>
                      <a:pt x="0" y="604"/>
                    </a:lnTo>
                    <a:lnTo>
                      <a:pt x="0" y="670"/>
                    </a:lnTo>
                    <a:lnTo>
                      <a:pt x="66" y="653"/>
                    </a:lnTo>
                    <a:lnTo>
                      <a:pt x="0" y="6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340120" y="5001120"/>
                <a:ext cx="6840" cy="87120"/>
              </a:xfrm>
              <a:custGeom>
                <a:avLst/>
                <a:gdLst/>
                <a:ahLst/>
                <a:rect l="l" t="t" r="r" b="b"/>
                <a:pathLst>
                  <a:path w="110" h="1077">
                    <a:moveTo>
                      <a:pt x="39" y="0"/>
                    </a:moveTo>
                    <a:lnTo>
                      <a:pt x="0" y="56"/>
                    </a:lnTo>
                    <a:lnTo>
                      <a:pt x="0" y="1077"/>
                    </a:lnTo>
                    <a:lnTo>
                      <a:pt x="110" y="1077"/>
                    </a:lnTo>
                    <a:lnTo>
                      <a:pt x="110" y="56"/>
                    </a:lnTo>
                    <a:lnTo>
                      <a:pt x="72" y="105"/>
                    </a:lnTo>
                    <a:lnTo>
                      <a:pt x="39" y="0"/>
                    </a:lnTo>
                    <a:lnTo>
                      <a:pt x="0" y="12"/>
                    </a:lnTo>
                    <a:lnTo>
                      <a:pt x="0" y="5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342280" y="4943880"/>
                <a:ext cx="132480" cy="64440"/>
              </a:xfrm>
              <a:custGeom>
                <a:avLst/>
                <a:gdLst/>
                <a:ahLst/>
                <a:rect l="l" t="t" r="r" b="b"/>
                <a:pathLst>
                  <a:path w="2387" h="818">
                    <a:moveTo>
                      <a:pt x="2387" y="71"/>
                    </a:moveTo>
                    <a:lnTo>
                      <a:pt x="2315" y="22"/>
                    </a:lnTo>
                    <a:lnTo>
                      <a:pt x="0" y="713"/>
                    </a:lnTo>
                    <a:lnTo>
                      <a:pt x="33" y="818"/>
                    </a:lnTo>
                    <a:lnTo>
                      <a:pt x="2348" y="127"/>
                    </a:lnTo>
                    <a:lnTo>
                      <a:pt x="2282" y="71"/>
                    </a:lnTo>
                    <a:lnTo>
                      <a:pt x="2387" y="71"/>
                    </a:lnTo>
                    <a:lnTo>
                      <a:pt x="2387" y="0"/>
                    </a:lnTo>
                    <a:lnTo>
                      <a:pt x="2315" y="22"/>
                    </a:lnTo>
                    <a:lnTo>
                      <a:pt x="2387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69720" y="4948920"/>
                <a:ext cx="5040" cy="99720"/>
              </a:xfrm>
              <a:custGeom>
                <a:avLst/>
                <a:gdLst/>
                <a:ahLst/>
                <a:rect l="l" t="t" r="r" b="b"/>
                <a:pathLst>
                  <a:path w="105" h="1219">
                    <a:moveTo>
                      <a:pt x="61" y="1219"/>
                    </a:moveTo>
                    <a:lnTo>
                      <a:pt x="105" y="116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1169"/>
                    </a:lnTo>
                    <a:lnTo>
                      <a:pt x="39" y="1115"/>
                    </a:lnTo>
                    <a:lnTo>
                      <a:pt x="61" y="1219"/>
                    </a:lnTo>
                    <a:lnTo>
                      <a:pt x="105" y="1208"/>
                    </a:lnTo>
                    <a:lnTo>
                      <a:pt x="105" y="1169"/>
                    </a:lnTo>
                    <a:lnTo>
                      <a:pt x="61" y="12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669520" y="4863960"/>
                <a:ext cx="182880" cy="204480"/>
              </a:xfrm>
              <a:custGeom>
                <a:avLst/>
                <a:gdLst/>
                <a:ahLst/>
                <a:rect l="l" t="t" r="r" b="b"/>
                <a:pathLst>
                  <a:path w="3276" h="2536">
                    <a:moveTo>
                      <a:pt x="0" y="0"/>
                    </a:moveTo>
                    <a:lnTo>
                      <a:pt x="0" y="395"/>
                    </a:lnTo>
                    <a:lnTo>
                      <a:pt x="3276" y="2536"/>
                    </a:lnTo>
                    <a:lnTo>
                      <a:pt x="3276" y="23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668080" y="4863960"/>
                <a:ext cx="5040" cy="37080"/>
              </a:xfrm>
              <a:custGeom>
                <a:avLst/>
                <a:gdLst/>
                <a:ahLst/>
                <a:rect l="l" t="t" r="r" b="b"/>
                <a:pathLst>
                  <a:path w="99" h="439">
                    <a:moveTo>
                      <a:pt x="83" y="351"/>
                    </a:moveTo>
                    <a:lnTo>
                      <a:pt x="99" y="3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22" y="439"/>
                    </a:lnTo>
                    <a:lnTo>
                      <a:pt x="0" y="395"/>
                    </a:lnTo>
                    <a:lnTo>
                      <a:pt x="0" y="422"/>
                    </a:lnTo>
                    <a:lnTo>
                      <a:pt x="22" y="439"/>
                    </a:lnTo>
                    <a:lnTo>
                      <a:pt x="8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668080" y="4893480"/>
                <a:ext cx="187920" cy="182160"/>
              </a:xfrm>
              <a:custGeom>
                <a:avLst/>
                <a:gdLst/>
                <a:ahLst/>
                <a:rect l="l" t="t" r="r" b="b"/>
                <a:pathLst>
                  <a:path w="3358" h="2278">
                    <a:moveTo>
                      <a:pt x="3249" y="2185"/>
                    </a:moveTo>
                    <a:lnTo>
                      <a:pt x="3336" y="2141"/>
                    </a:lnTo>
                    <a:lnTo>
                      <a:pt x="61" y="0"/>
                    </a:lnTo>
                    <a:lnTo>
                      <a:pt x="0" y="88"/>
                    </a:lnTo>
                    <a:lnTo>
                      <a:pt x="3271" y="2224"/>
                    </a:lnTo>
                    <a:lnTo>
                      <a:pt x="3358" y="2185"/>
                    </a:lnTo>
                    <a:lnTo>
                      <a:pt x="3271" y="2224"/>
                    </a:lnTo>
                    <a:lnTo>
                      <a:pt x="3358" y="2278"/>
                    </a:lnTo>
                    <a:lnTo>
                      <a:pt x="3358" y="2185"/>
                    </a:lnTo>
                    <a:lnTo>
                      <a:pt x="3249" y="21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849160" y="5048640"/>
                <a:ext cx="6840" cy="19800"/>
              </a:xfrm>
              <a:custGeom>
                <a:avLst/>
                <a:gdLst/>
                <a:ahLst/>
                <a:rect l="l" t="t" r="r" b="b"/>
                <a:pathLst>
                  <a:path w="109" h="258">
                    <a:moveTo>
                      <a:pt x="22" y="88"/>
                    </a:moveTo>
                    <a:lnTo>
                      <a:pt x="0" y="44"/>
                    </a:lnTo>
                    <a:lnTo>
                      <a:pt x="0" y="258"/>
                    </a:lnTo>
                    <a:lnTo>
                      <a:pt x="109" y="258"/>
                    </a:lnTo>
                    <a:lnTo>
                      <a:pt x="109" y="44"/>
                    </a:lnTo>
                    <a:lnTo>
                      <a:pt x="87" y="0"/>
                    </a:lnTo>
                    <a:lnTo>
                      <a:pt x="109" y="44"/>
                    </a:lnTo>
                    <a:lnTo>
                      <a:pt x="109" y="22"/>
                    </a:lnTo>
                    <a:lnTo>
                      <a:pt x="87" y="0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668080" y="4856040"/>
                <a:ext cx="186120" cy="199800"/>
              </a:xfrm>
              <a:custGeom>
                <a:avLst/>
                <a:gdLst/>
                <a:ahLst/>
                <a:rect l="l" t="t" r="r" b="b"/>
                <a:pathLst>
                  <a:path w="3358" h="2471">
                    <a:moveTo>
                      <a:pt x="99" y="105"/>
                    </a:moveTo>
                    <a:lnTo>
                      <a:pt x="22" y="148"/>
                    </a:lnTo>
                    <a:lnTo>
                      <a:pt x="3293" y="2471"/>
                    </a:lnTo>
                    <a:lnTo>
                      <a:pt x="3358" y="2383"/>
                    </a:lnTo>
                    <a:lnTo>
                      <a:pt x="83" y="56"/>
                    </a:lnTo>
                    <a:lnTo>
                      <a:pt x="0" y="105"/>
                    </a:lnTo>
                    <a:lnTo>
                      <a:pt x="83" y="56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99" y="1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669520" y="5088240"/>
                <a:ext cx="182880" cy="132480"/>
              </a:xfrm>
              <a:custGeom>
                <a:avLst/>
                <a:gdLst/>
                <a:ahLst/>
                <a:rect l="l" t="t" r="r" b="b"/>
                <a:pathLst>
                  <a:path w="3287" h="1652">
                    <a:moveTo>
                      <a:pt x="0" y="0"/>
                    </a:moveTo>
                    <a:lnTo>
                      <a:pt x="0" y="290"/>
                    </a:lnTo>
                    <a:lnTo>
                      <a:pt x="3287" y="1652"/>
                    </a:lnTo>
                    <a:lnTo>
                      <a:pt x="3287" y="14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668080" y="5088240"/>
                <a:ext cx="5040" cy="2772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71" y="236"/>
                    </a:moveTo>
                    <a:lnTo>
                      <a:pt x="99" y="290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28" y="340"/>
                    </a:lnTo>
                    <a:lnTo>
                      <a:pt x="0" y="290"/>
                    </a:lnTo>
                    <a:lnTo>
                      <a:pt x="0" y="323"/>
                    </a:lnTo>
                    <a:lnTo>
                      <a:pt x="28" y="340"/>
                    </a:lnTo>
                    <a:lnTo>
                      <a:pt x="71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668080" y="5105880"/>
                <a:ext cx="187920" cy="122400"/>
              </a:xfrm>
              <a:custGeom>
                <a:avLst/>
                <a:gdLst/>
                <a:ahLst/>
                <a:rect l="l" t="t" r="r" b="b"/>
                <a:pathLst>
                  <a:path w="3363" h="1498">
                    <a:moveTo>
                      <a:pt x="3253" y="1416"/>
                    </a:moveTo>
                    <a:lnTo>
                      <a:pt x="3330" y="1367"/>
                    </a:lnTo>
                    <a:lnTo>
                      <a:pt x="43" y="0"/>
                    </a:lnTo>
                    <a:lnTo>
                      <a:pt x="0" y="104"/>
                    </a:lnTo>
                    <a:lnTo>
                      <a:pt x="3286" y="1465"/>
                    </a:lnTo>
                    <a:lnTo>
                      <a:pt x="3363" y="1416"/>
                    </a:lnTo>
                    <a:lnTo>
                      <a:pt x="3286" y="1465"/>
                    </a:lnTo>
                    <a:lnTo>
                      <a:pt x="3363" y="1498"/>
                    </a:lnTo>
                    <a:lnTo>
                      <a:pt x="3363" y="1416"/>
                    </a:lnTo>
                    <a:lnTo>
                      <a:pt x="3253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849160" y="5201280"/>
                <a:ext cx="6840" cy="1980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33" y="104"/>
                    </a:moveTo>
                    <a:lnTo>
                      <a:pt x="0" y="55"/>
                    </a:lnTo>
                    <a:lnTo>
                      <a:pt x="0" y="236"/>
                    </a:lnTo>
                    <a:lnTo>
                      <a:pt x="110" y="236"/>
                    </a:lnTo>
                    <a:lnTo>
                      <a:pt x="110" y="55"/>
                    </a:lnTo>
                    <a:lnTo>
                      <a:pt x="77" y="0"/>
                    </a:lnTo>
                    <a:lnTo>
                      <a:pt x="110" y="55"/>
                    </a:lnTo>
                    <a:lnTo>
                      <a:pt x="105" y="17"/>
                    </a:lnTo>
                    <a:lnTo>
                      <a:pt x="77" y="0"/>
                    </a:lnTo>
                    <a:lnTo>
                      <a:pt x="3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668080" y="5081040"/>
                <a:ext cx="186120" cy="130320"/>
              </a:xfrm>
              <a:custGeom>
                <a:avLst/>
                <a:gdLst/>
                <a:ahLst/>
                <a:rect l="l" t="t" r="r" b="b"/>
                <a:pathLst>
                  <a:path w="3358" h="1602">
                    <a:moveTo>
                      <a:pt x="99" y="82"/>
                    </a:moveTo>
                    <a:lnTo>
                      <a:pt x="28" y="131"/>
                    </a:lnTo>
                    <a:lnTo>
                      <a:pt x="3314" y="1602"/>
                    </a:lnTo>
                    <a:lnTo>
                      <a:pt x="3358" y="1498"/>
                    </a:lnTo>
                    <a:lnTo>
                      <a:pt x="71" y="26"/>
                    </a:lnTo>
                    <a:lnTo>
                      <a:pt x="0" y="82"/>
                    </a:lnTo>
                    <a:lnTo>
                      <a:pt x="71" y="26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99" y="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839080" y="5208480"/>
                <a:ext cx="16920" cy="77400"/>
              </a:xfrm>
              <a:custGeom>
                <a:avLst/>
                <a:gdLst/>
                <a:ahLst/>
                <a:rect l="l" t="t" r="r" b="b"/>
                <a:pathLst>
                  <a:path w="312" h="944">
                    <a:moveTo>
                      <a:pt x="312" y="0"/>
                    </a:moveTo>
                    <a:lnTo>
                      <a:pt x="312" y="944"/>
                    </a:lnTo>
                    <a:lnTo>
                      <a:pt x="0" y="840"/>
                    </a:lnTo>
                    <a:lnTo>
                      <a:pt x="0" y="82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852760" y="5208480"/>
                <a:ext cx="6840" cy="82440"/>
              </a:xfrm>
              <a:custGeom>
                <a:avLst/>
                <a:gdLst/>
                <a:ahLst/>
                <a:rect l="l" t="t" r="r" b="b"/>
                <a:pathLst>
                  <a:path w="99" h="1010">
                    <a:moveTo>
                      <a:pt x="33" y="993"/>
                    </a:moveTo>
                    <a:lnTo>
                      <a:pt x="99" y="94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44"/>
                    </a:lnTo>
                    <a:lnTo>
                      <a:pt x="66" y="889"/>
                    </a:lnTo>
                    <a:lnTo>
                      <a:pt x="33" y="993"/>
                    </a:lnTo>
                    <a:lnTo>
                      <a:pt x="99" y="1010"/>
                    </a:lnTo>
                    <a:lnTo>
                      <a:pt x="99" y="944"/>
                    </a:lnTo>
                    <a:lnTo>
                      <a:pt x="33" y="9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835480" y="52736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90" h="203">
                    <a:moveTo>
                      <a:pt x="0" y="50"/>
                    </a:moveTo>
                    <a:lnTo>
                      <a:pt x="44" y="99"/>
                    </a:lnTo>
                    <a:lnTo>
                      <a:pt x="357" y="203"/>
                    </a:lnTo>
                    <a:lnTo>
                      <a:pt x="390" y="99"/>
                    </a:lnTo>
                    <a:lnTo>
                      <a:pt x="72" y="0"/>
                    </a:lnTo>
                    <a:lnTo>
                      <a:pt x="115" y="50"/>
                    </a:lnTo>
                    <a:lnTo>
                      <a:pt x="0" y="50"/>
                    </a:lnTo>
                    <a:lnTo>
                      <a:pt x="0" y="88"/>
                    </a:lnTo>
                    <a:lnTo>
                      <a:pt x="44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835480" y="5211360"/>
                <a:ext cx="6480" cy="64440"/>
              </a:xfrm>
              <a:custGeom>
                <a:avLst/>
                <a:gdLst/>
                <a:ahLst/>
                <a:rect l="l" t="t" r="r" b="b"/>
                <a:pathLst>
                  <a:path w="115" h="807">
                    <a:moveTo>
                      <a:pt x="44" y="0"/>
                    </a:moveTo>
                    <a:lnTo>
                      <a:pt x="0" y="49"/>
                    </a:lnTo>
                    <a:lnTo>
                      <a:pt x="0" y="807"/>
                    </a:lnTo>
                    <a:lnTo>
                      <a:pt x="115" y="807"/>
                    </a:lnTo>
                    <a:lnTo>
                      <a:pt x="115" y="49"/>
                    </a:lnTo>
                    <a:lnTo>
                      <a:pt x="72" y="99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836920" y="5203440"/>
                <a:ext cx="22680" cy="15120"/>
              </a:xfrm>
              <a:custGeom>
                <a:avLst/>
                <a:gdLst/>
                <a:ahLst/>
                <a:rect l="l" t="t" r="r" b="b"/>
                <a:pathLst>
                  <a:path w="379" h="198">
                    <a:moveTo>
                      <a:pt x="379" y="66"/>
                    </a:moveTo>
                    <a:lnTo>
                      <a:pt x="313" y="16"/>
                    </a:lnTo>
                    <a:lnTo>
                      <a:pt x="0" y="99"/>
                    </a:lnTo>
                    <a:lnTo>
                      <a:pt x="28" y="198"/>
                    </a:lnTo>
                    <a:lnTo>
                      <a:pt x="346" y="115"/>
                    </a:lnTo>
                    <a:lnTo>
                      <a:pt x="280" y="66"/>
                    </a:lnTo>
                    <a:lnTo>
                      <a:pt x="379" y="66"/>
                    </a:lnTo>
                    <a:lnTo>
                      <a:pt x="379" y="0"/>
                    </a:lnTo>
                    <a:lnTo>
                      <a:pt x="313" y="16"/>
                    </a:lnTo>
                    <a:lnTo>
                      <a:pt x="379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839080" y="5050800"/>
                <a:ext cx="16920" cy="87480"/>
              </a:xfrm>
              <a:custGeom>
                <a:avLst/>
                <a:gdLst/>
                <a:ahLst/>
                <a:rect l="l" t="t" r="r" b="b"/>
                <a:pathLst>
                  <a:path w="307" h="1059">
                    <a:moveTo>
                      <a:pt x="307" y="0"/>
                    </a:moveTo>
                    <a:lnTo>
                      <a:pt x="307" y="1059"/>
                    </a:lnTo>
                    <a:lnTo>
                      <a:pt x="0" y="883"/>
                    </a:lnTo>
                    <a:lnTo>
                      <a:pt x="0" y="27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852760" y="5050800"/>
                <a:ext cx="6840" cy="95040"/>
              </a:xfrm>
              <a:custGeom>
                <a:avLst/>
                <a:gdLst/>
                <a:ahLst/>
                <a:rect l="l" t="t" r="r" b="b"/>
                <a:pathLst>
                  <a:path w="99" h="1153">
                    <a:moveTo>
                      <a:pt x="22" y="1104"/>
                    </a:moveTo>
                    <a:lnTo>
                      <a:pt x="99" y="10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59"/>
                    </a:lnTo>
                    <a:lnTo>
                      <a:pt x="77" y="1015"/>
                    </a:lnTo>
                    <a:lnTo>
                      <a:pt x="22" y="1104"/>
                    </a:lnTo>
                    <a:lnTo>
                      <a:pt x="99" y="1153"/>
                    </a:lnTo>
                    <a:lnTo>
                      <a:pt x="99" y="1059"/>
                    </a:lnTo>
                    <a:lnTo>
                      <a:pt x="22" y="1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835480" y="51184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390" h="264">
                    <a:moveTo>
                      <a:pt x="0" y="43"/>
                    </a:moveTo>
                    <a:lnTo>
                      <a:pt x="33" y="93"/>
                    </a:lnTo>
                    <a:lnTo>
                      <a:pt x="335" y="264"/>
                    </a:lnTo>
                    <a:lnTo>
                      <a:pt x="390" y="175"/>
                    </a:lnTo>
                    <a:lnTo>
                      <a:pt x="83" y="0"/>
                    </a:lnTo>
                    <a:lnTo>
                      <a:pt x="115" y="43"/>
                    </a:lnTo>
                    <a:lnTo>
                      <a:pt x="0" y="43"/>
                    </a:lnTo>
                    <a:lnTo>
                      <a:pt x="5" y="76"/>
                    </a:lnTo>
                    <a:lnTo>
                      <a:pt x="33" y="9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835480" y="5050800"/>
                <a:ext cx="6480" cy="72360"/>
              </a:xfrm>
              <a:custGeom>
                <a:avLst/>
                <a:gdLst/>
                <a:ahLst/>
                <a:rect l="l" t="t" r="r" b="b"/>
                <a:pathLst>
                  <a:path w="115" h="905">
                    <a:moveTo>
                      <a:pt x="55" y="0"/>
                    </a:moveTo>
                    <a:lnTo>
                      <a:pt x="0" y="49"/>
                    </a:lnTo>
                    <a:lnTo>
                      <a:pt x="0" y="905"/>
                    </a:lnTo>
                    <a:lnTo>
                      <a:pt x="115" y="905"/>
                    </a:lnTo>
                    <a:lnTo>
                      <a:pt x="115" y="49"/>
                    </a:lnTo>
                    <a:lnTo>
                      <a:pt x="61" y="9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839080" y="5048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357" h="131">
                    <a:moveTo>
                      <a:pt x="357" y="55"/>
                    </a:moveTo>
                    <a:lnTo>
                      <a:pt x="302" y="6"/>
                    </a:lnTo>
                    <a:lnTo>
                      <a:pt x="0" y="33"/>
                    </a:lnTo>
                    <a:lnTo>
                      <a:pt x="6" y="131"/>
                    </a:lnTo>
                    <a:lnTo>
                      <a:pt x="313" y="105"/>
                    </a:lnTo>
                    <a:lnTo>
                      <a:pt x="258" y="55"/>
                    </a:lnTo>
                    <a:lnTo>
                      <a:pt x="357" y="55"/>
                    </a:lnTo>
                    <a:lnTo>
                      <a:pt x="357" y="0"/>
                    </a:lnTo>
                    <a:lnTo>
                      <a:pt x="302" y="6"/>
                    </a:lnTo>
                    <a:lnTo>
                      <a:pt x="357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812800" y="5031000"/>
                <a:ext cx="5400" cy="74520"/>
              </a:xfrm>
              <a:custGeom>
                <a:avLst/>
                <a:gdLst/>
                <a:ahLst/>
                <a:rect l="l" t="t" r="r" b="b"/>
                <a:pathLst>
                  <a:path w="89" h="932">
                    <a:moveTo>
                      <a:pt x="89" y="109"/>
                    </a:moveTo>
                    <a:lnTo>
                      <a:pt x="89" y="932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814600" y="5038560"/>
                <a:ext cx="5040" cy="72360"/>
              </a:xfrm>
              <a:custGeom>
                <a:avLst/>
                <a:gdLst/>
                <a:ahLst/>
                <a:rect l="l" t="t" r="r" b="b"/>
                <a:pathLst>
                  <a:path w="98" h="879">
                    <a:moveTo>
                      <a:pt x="10" y="862"/>
                    </a:moveTo>
                    <a:lnTo>
                      <a:pt x="98" y="823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23"/>
                    </a:lnTo>
                    <a:lnTo>
                      <a:pt x="92" y="790"/>
                    </a:lnTo>
                    <a:lnTo>
                      <a:pt x="0" y="823"/>
                    </a:lnTo>
                    <a:lnTo>
                      <a:pt x="16" y="862"/>
                    </a:lnTo>
                    <a:lnTo>
                      <a:pt x="49" y="879"/>
                    </a:lnTo>
                    <a:lnTo>
                      <a:pt x="87" y="862"/>
                    </a:lnTo>
                    <a:lnTo>
                      <a:pt x="98" y="823"/>
                    </a:lnTo>
                    <a:lnTo>
                      <a:pt x="10" y="86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809560" y="50932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0" y="55"/>
                    </a:moveTo>
                    <a:lnTo>
                      <a:pt x="16" y="88"/>
                    </a:lnTo>
                    <a:lnTo>
                      <a:pt x="104" y="181"/>
                    </a:lnTo>
                    <a:lnTo>
                      <a:pt x="186" y="109"/>
                    </a:lnTo>
                    <a:lnTo>
                      <a:pt x="99" y="17"/>
                    </a:lnTo>
                    <a:lnTo>
                      <a:pt x="115" y="55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22" y="11"/>
                    </a:lnTo>
                    <a:lnTo>
                      <a:pt x="0" y="50"/>
                    </a:lnTo>
                    <a:lnTo>
                      <a:pt x="16" y="8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809560" y="5025960"/>
                <a:ext cx="6480" cy="72360"/>
              </a:xfrm>
              <a:custGeom>
                <a:avLst/>
                <a:gdLst/>
                <a:ahLst/>
                <a:rect l="l" t="t" r="r" b="b"/>
                <a:pathLst>
                  <a:path w="115" h="901">
                    <a:moveTo>
                      <a:pt x="99" y="23"/>
                    </a:moveTo>
                    <a:lnTo>
                      <a:pt x="0" y="56"/>
                    </a:lnTo>
                    <a:lnTo>
                      <a:pt x="0" y="901"/>
                    </a:lnTo>
                    <a:lnTo>
                      <a:pt x="115" y="901"/>
                    </a:lnTo>
                    <a:lnTo>
                      <a:pt x="115" y="56"/>
                    </a:lnTo>
                    <a:lnTo>
                      <a:pt x="16" y="89"/>
                    </a:lnTo>
                    <a:lnTo>
                      <a:pt x="115" y="56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6"/>
                    </a:lnTo>
                    <a:lnTo>
                      <a:pt x="9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9560" y="5028840"/>
                <a:ext cx="10080" cy="14400"/>
              </a:xfrm>
              <a:custGeom>
                <a:avLst/>
                <a:gdLst/>
                <a:ahLst/>
                <a:rect l="l" t="t" r="r" b="b"/>
                <a:pathLst>
                  <a:path w="176" h="198">
                    <a:moveTo>
                      <a:pt x="176" y="142"/>
                    </a:moveTo>
                    <a:lnTo>
                      <a:pt x="170" y="115"/>
                    </a:lnTo>
                    <a:lnTo>
                      <a:pt x="83" y="0"/>
                    </a:lnTo>
                    <a:lnTo>
                      <a:pt x="0" y="66"/>
                    </a:lnTo>
                    <a:lnTo>
                      <a:pt x="88" y="175"/>
                    </a:lnTo>
                    <a:lnTo>
                      <a:pt x="78" y="142"/>
                    </a:lnTo>
                    <a:lnTo>
                      <a:pt x="88" y="175"/>
                    </a:lnTo>
                    <a:lnTo>
                      <a:pt x="121" y="198"/>
                    </a:lnTo>
                    <a:lnTo>
                      <a:pt x="160" y="181"/>
                    </a:lnTo>
                    <a:lnTo>
                      <a:pt x="176" y="148"/>
                    </a:lnTo>
                    <a:lnTo>
                      <a:pt x="170" y="115"/>
                    </a:lnTo>
                    <a:lnTo>
                      <a:pt x="176" y="14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789040" y="5011200"/>
                <a:ext cx="5040" cy="72360"/>
              </a:xfrm>
              <a:custGeom>
                <a:avLst/>
                <a:gdLst/>
                <a:ahLst/>
                <a:rect l="l" t="t" r="r" b="b"/>
                <a:pathLst>
                  <a:path w="93" h="906">
                    <a:moveTo>
                      <a:pt x="93" y="71"/>
                    </a:moveTo>
                    <a:lnTo>
                      <a:pt x="93" y="906"/>
                    </a:lnTo>
                    <a:lnTo>
                      <a:pt x="0" y="840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792280" y="501624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16" y="880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82" y="786"/>
                    </a:lnTo>
                    <a:lnTo>
                      <a:pt x="0" y="835"/>
                    </a:lnTo>
                    <a:lnTo>
                      <a:pt x="16" y="868"/>
                    </a:lnTo>
                    <a:lnTo>
                      <a:pt x="49" y="885"/>
                    </a:lnTo>
                    <a:lnTo>
                      <a:pt x="87" y="868"/>
                    </a:lnTo>
                    <a:lnTo>
                      <a:pt x="99" y="835"/>
                    </a:lnTo>
                    <a:lnTo>
                      <a:pt x="16" y="88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785440" y="5073480"/>
                <a:ext cx="10080" cy="12240"/>
              </a:xfrm>
              <a:custGeom>
                <a:avLst/>
                <a:gdLst/>
                <a:ahLst/>
                <a:rect l="l" t="t" r="r" b="b"/>
                <a:pathLst>
                  <a:path w="181" h="165">
                    <a:moveTo>
                      <a:pt x="0" y="54"/>
                    </a:moveTo>
                    <a:lnTo>
                      <a:pt x="27" y="104"/>
                    </a:lnTo>
                    <a:lnTo>
                      <a:pt x="115" y="165"/>
                    </a:lnTo>
                    <a:lnTo>
                      <a:pt x="181" y="71"/>
                    </a:lnTo>
                    <a:lnTo>
                      <a:pt x="88" y="10"/>
                    </a:lnTo>
                    <a:lnTo>
                      <a:pt x="115" y="54"/>
                    </a:lnTo>
                    <a:lnTo>
                      <a:pt x="88" y="10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0" y="66"/>
                    </a:lnTo>
                    <a:lnTo>
                      <a:pt x="27" y="10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785440" y="5006160"/>
                <a:ext cx="6840" cy="72360"/>
              </a:xfrm>
              <a:custGeom>
                <a:avLst/>
                <a:gdLst/>
                <a:ahLst/>
                <a:rect l="l" t="t" r="r" b="b"/>
                <a:pathLst>
                  <a:path w="115" h="894">
                    <a:moveTo>
                      <a:pt x="88" y="10"/>
                    </a:moveTo>
                    <a:lnTo>
                      <a:pt x="0" y="54"/>
                    </a:lnTo>
                    <a:lnTo>
                      <a:pt x="0" y="894"/>
                    </a:lnTo>
                    <a:lnTo>
                      <a:pt x="115" y="894"/>
                    </a:lnTo>
                    <a:lnTo>
                      <a:pt x="115" y="54"/>
                    </a:lnTo>
                    <a:lnTo>
                      <a:pt x="27" y="93"/>
                    </a:lnTo>
                    <a:lnTo>
                      <a:pt x="115" y="54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4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786880" y="500616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5"/>
                    </a:moveTo>
                    <a:lnTo>
                      <a:pt x="154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5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54" y="72"/>
                    </a:lnTo>
                    <a:lnTo>
                      <a:pt x="171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768160" y="4988520"/>
                <a:ext cx="5040" cy="7740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93" y="104"/>
                    </a:moveTo>
                    <a:lnTo>
                      <a:pt x="93" y="971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769600" y="4996080"/>
                <a:ext cx="5040" cy="75240"/>
              </a:xfrm>
              <a:custGeom>
                <a:avLst/>
                <a:gdLst/>
                <a:ahLst/>
                <a:rect l="l" t="t" r="r" b="b"/>
                <a:pathLst>
                  <a:path w="104" h="917">
                    <a:moveTo>
                      <a:pt x="27" y="911"/>
                    </a:moveTo>
                    <a:lnTo>
                      <a:pt x="104" y="86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67"/>
                    </a:lnTo>
                    <a:lnTo>
                      <a:pt x="76" y="818"/>
                    </a:lnTo>
                    <a:lnTo>
                      <a:pt x="0" y="867"/>
                    </a:lnTo>
                    <a:lnTo>
                      <a:pt x="16" y="900"/>
                    </a:lnTo>
                    <a:lnTo>
                      <a:pt x="54" y="917"/>
                    </a:lnTo>
                    <a:lnTo>
                      <a:pt x="87" y="900"/>
                    </a:lnTo>
                    <a:lnTo>
                      <a:pt x="104" y="867"/>
                    </a:lnTo>
                    <a:lnTo>
                      <a:pt x="27" y="9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764560" y="505872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70" h="154">
                    <a:moveTo>
                      <a:pt x="0" y="50"/>
                    </a:moveTo>
                    <a:lnTo>
                      <a:pt x="28" y="99"/>
                    </a:lnTo>
                    <a:lnTo>
                      <a:pt x="121" y="154"/>
                    </a:lnTo>
                    <a:lnTo>
                      <a:pt x="170" y="61"/>
                    </a:lnTo>
                    <a:lnTo>
                      <a:pt x="83" y="5"/>
                    </a:lnTo>
                    <a:lnTo>
                      <a:pt x="110" y="50"/>
                    </a:lnTo>
                    <a:lnTo>
                      <a:pt x="83" y="5"/>
                    </a:lnTo>
                    <a:lnTo>
                      <a:pt x="38" y="0"/>
                    </a:lnTo>
                    <a:lnTo>
                      <a:pt x="12" y="28"/>
                    </a:lnTo>
                    <a:lnTo>
                      <a:pt x="5" y="66"/>
                    </a:lnTo>
                    <a:lnTo>
                      <a:pt x="2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764560" y="4983480"/>
                <a:ext cx="5040" cy="77400"/>
              </a:xfrm>
              <a:custGeom>
                <a:avLst/>
                <a:gdLst/>
                <a:ahLst/>
                <a:rect l="l" t="t" r="r" b="b"/>
                <a:pathLst>
                  <a:path w="110" h="972">
                    <a:moveTo>
                      <a:pt x="94" y="22"/>
                    </a:moveTo>
                    <a:lnTo>
                      <a:pt x="0" y="61"/>
                    </a:lnTo>
                    <a:lnTo>
                      <a:pt x="0" y="972"/>
                    </a:lnTo>
                    <a:lnTo>
                      <a:pt x="110" y="972"/>
                    </a:lnTo>
                    <a:lnTo>
                      <a:pt x="110" y="61"/>
                    </a:lnTo>
                    <a:lnTo>
                      <a:pt x="17" y="94"/>
                    </a:lnTo>
                    <a:lnTo>
                      <a:pt x="110" y="61"/>
                    </a:lnTo>
                    <a:lnTo>
                      <a:pt x="94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4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764560" y="4986360"/>
                <a:ext cx="10080" cy="1440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70" y="110"/>
                    </a:lnTo>
                    <a:lnTo>
                      <a:pt x="77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77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70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744040" y="4965840"/>
                <a:ext cx="5040" cy="75240"/>
              </a:xfrm>
              <a:custGeom>
                <a:avLst/>
                <a:gdLst/>
                <a:ahLst/>
                <a:rect l="l" t="t" r="r" b="b"/>
                <a:pathLst>
                  <a:path w="93" h="932">
                    <a:moveTo>
                      <a:pt x="93" y="104"/>
                    </a:moveTo>
                    <a:lnTo>
                      <a:pt x="93" y="932"/>
                    </a:lnTo>
                    <a:lnTo>
                      <a:pt x="0" y="916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45840" y="4973760"/>
                <a:ext cx="5040" cy="71640"/>
              </a:xfrm>
              <a:custGeom>
                <a:avLst/>
                <a:gdLst/>
                <a:ahLst/>
                <a:rect l="l" t="t" r="r" b="b"/>
                <a:pathLst>
                  <a:path w="99" h="878">
                    <a:moveTo>
                      <a:pt x="38" y="878"/>
                    </a:moveTo>
                    <a:lnTo>
                      <a:pt x="99" y="8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28"/>
                    </a:lnTo>
                    <a:lnTo>
                      <a:pt x="60" y="779"/>
                    </a:lnTo>
                    <a:lnTo>
                      <a:pt x="0" y="828"/>
                    </a:lnTo>
                    <a:lnTo>
                      <a:pt x="10" y="868"/>
                    </a:lnTo>
                    <a:lnTo>
                      <a:pt x="49" y="878"/>
                    </a:lnTo>
                    <a:lnTo>
                      <a:pt x="82" y="868"/>
                    </a:lnTo>
                    <a:lnTo>
                      <a:pt x="99" y="828"/>
                    </a:lnTo>
                    <a:lnTo>
                      <a:pt x="38" y="8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740440" y="5036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59" h="115">
                    <a:moveTo>
                      <a:pt x="0" y="49"/>
                    </a:moveTo>
                    <a:lnTo>
                      <a:pt x="43" y="105"/>
                    </a:lnTo>
                    <a:lnTo>
                      <a:pt x="137" y="115"/>
                    </a:lnTo>
                    <a:lnTo>
                      <a:pt x="159" y="16"/>
                    </a:lnTo>
                    <a:lnTo>
                      <a:pt x="66" y="0"/>
                    </a:lnTo>
                    <a:lnTo>
                      <a:pt x="109" y="49"/>
                    </a:lnTo>
                    <a:lnTo>
                      <a:pt x="66" y="0"/>
                    </a:lnTo>
                    <a:lnTo>
                      <a:pt x="27" y="11"/>
                    </a:lnTo>
                    <a:lnTo>
                      <a:pt x="5" y="44"/>
                    </a:lnTo>
                    <a:lnTo>
                      <a:pt x="10" y="82"/>
                    </a:lnTo>
                    <a:lnTo>
                      <a:pt x="43" y="105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740440" y="4961520"/>
                <a:ext cx="5400" cy="77040"/>
              </a:xfrm>
              <a:custGeom>
                <a:avLst/>
                <a:gdLst/>
                <a:ahLst/>
                <a:rect l="l" t="t" r="r" b="b"/>
                <a:pathLst>
                  <a:path w="109" h="977">
                    <a:moveTo>
                      <a:pt x="99" y="22"/>
                    </a:moveTo>
                    <a:lnTo>
                      <a:pt x="0" y="61"/>
                    </a:lnTo>
                    <a:lnTo>
                      <a:pt x="0" y="977"/>
                    </a:lnTo>
                    <a:lnTo>
                      <a:pt x="109" y="977"/>
                    </a:lnTo>
                    <a:lnTo>
                      <a:pt x="109" y="61"/>
                    </a:lnTo>
                    <a:lnTo>
                      <a:pt x="17" y="94"/>
                    </a:lnTo>
                    <a:lnTo>
                      <a:pt x="109" y="61"/>
                    </a:lnTo>
                    <a:lnTo>
                      <a:pt x="99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740440" y="49636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69" y="110"/>
                    </a:lnTo>
                    <a:lnTo>
                      <a:pt x="82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82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69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719560" y="4943880"/>
                <a:ext cx="5400" cy="82080"/>
              </a:xfrm>
              <a:custGeom>
                <a:avLst/>
                <a:gdLst/>
                <a:ahLst/>
                <a:rect l="l" t="t" r="r" b="b"/>
                <a:pathLst>
                  <a:path w="88" h="999">
                    <a:moveTo>
                      <a:pt x="88" y="71"/>
                    </a:moveTo>
                    <a:lnTo>
                      <a:pt x="88" y="999"/>
                    </a:lnTo>
                    <a:lnTo>
                      <a:pt x="0" y="906"/>
                    </a:lnTo>
                    <a:lnTo>
                      <a:pt x="0" y="0"/>
                    </a:lnTo>
                    <a:lnTo>
                      <a:pt x="88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723160" y="4951080"/>
                <a:ext cx="5040" cy="77400"/>
              </a:xfrm>
              <a:custGeom>
                <a:avLst/>
                <a:gdLst/>
                <a:ahLst/>
                <a:rect l="l" t="t" r="r" b="b"/>
                <a:pathLst>
                  <a:path w="99" h="977">
                    <a:moveTo>
                      <a:pt x="6" y="961"/>
                    </a:moveTo>
                    <a:lnTo>
                      <a:pt x="99" y="9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28"/>
                    </a:lnTo>
                    <a:lnTo>
                      <a:pt x="89" y="895"/>
                    </a:lnTo>
                    <a:lnTo>
                      <a:pt x="0" y="928"/>
                    </a:lnTo>
                    <a:lnTo>
                      <a:pt x="12" y="961"/>
                    </a:lnTo>
                    <a:lnTo>
                      <a:pt x="50" y="977"/>
                    </a:lnTo>
                    <a:lnTo>
                      <a:pt x="83" y="961"/>
                    </a:lnTo>
                    <a:lnTo>
                      <a:pt x="99" y="928"/>
                    </a:lnTo>
                    <a:lnTo>
                      <a:pt x="6" y="9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718120" y="5013720"/>
                <a:ext cx="8280" cy="15120"/>
              </a:xfrm>
              <a:custGeom>
                <a:avLst/>
                <a:gdLst/>
                <a:ahLst/>
                <a:rect l="l" t="t" r="r" b="b"/>
                <a:pathLst>
                  <a:path w="181" h="175">
                    <a:moveTo>
                      <a:pt x="0" y="49"/>
                    </a:moveTo>
                    <a:lnTo>
                      <a:pt x="16" y="87"/>
                    </a:lnTo>
                    <a:lnTo>
                      <a:pt x="98" y="175"/>
                    </a:lnTo>
                    <a:lnTo>
                      <a:pt x="181" y="109"/>
                    </a:lnTo>
                    <a:lnTo>
                      <a:pt x="98" y="16"/>
                    </a:lnTo>
                    <a:lnTo>
                      <a:pt x="109" y="49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21" y="10"/>
                    </a:lnTo>
                    <a:lnTo>
                      <a:pt x="0" y="43"/>
                    </a:lnTo>
                    <a:lnTo>
                      <a:pt x="16" y="8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718120" y="4941000"/>
                <a:ext cx="5040" cy="77400"/>
              </a:xfrm>
              <a:custGeom>
                <a:avLst/>
                <a:gdLst/>
                <a:ahLst/>
                <a:rect l="l" t="t" r="r" b="b"/>
                <a:pathLst>
                  <a:path w="109" h="961">
                    <a:moveTo>
                      <a:pt x="92" y="16"/>
                    </a:moveTo>
                    <a:lnTo>
                      <a:pt x="0" y="55"/>
                    </a:lnTo>
                    <a:lnTo>
                      <a:pt x="0" y="961"/>
                    </a:lnTo>
                    <a:lnTo>
                      <a:pt x="109" y="961"/>
                    </a:lnTo>
                    <a:lnTo>
                      <a:pt x="109" y="55"/>
                    </a:lnTo>
                    <a:lnTo>
                      <a:pt x="21" y="99"/>
                    </a:lnTo>
                    <a:lnTo>
                      <a:pt x="109" y="55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718120" y="4941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70" h="171">
                    <a:moveTo>
                      <a:pt x="170" y="110"/>
                    </a:moveTo>
                    <a:lnTo>
                      <a:pt x="154" y="72"/>
                    </a:lnTo>
                    <a:lnTo>
                      <a:pt x="71" y="0"/>
                    </a:lnTo>
                    <a:lnTo>
                      <a:pt x="0" y="83"/>
                    </a:lnTo>
                    <a:lnTo>
                      <a:pt x="83" y="155"/>
                    </a:lnTo>
                    <a:lnTo>
                      <a:pt x="71" y="110"/>
                    </a:lnTo>
                    <a:lnTo>
                      <a:pt x="83" y="155"/>
                    </a:lnTo>
                    <a:lnTo>
                      <a:pt x="127" y="171"/>
                    </a:lnTo>
                    <a:lnTo>
                      <a:pt x="160" y="148"/>
                    </a:lnTo>
                    <a:lnTo>
                      <a:pt x="170" y="110"/>
                    </a:lnTo>
                    <a:lnTo>
                      <a:pt x="154" y="72"/>
                    </a:lnTo>
                    <a:lnTo>
                      <a:pt x="170" y="1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812800" y="5195880"/>
                <a:ext cx="5400" cy="70200"/>
              </a:xfrm>
              <a:custGeom>
                <a:avLst/>
                <a:gdLst/>
                <a:ahLst/>
                <a:rect l="l" t="t" r="r" b="b"/>
                <a:pathLst>
                  <a:path w="89" h="845">
                    <a:moveTo>
                      <a:pt x="89" y="39"/>
                    </a:moveTo>
                    <a:lnTo>
                      <a:pt x="89" y="845"/>
                    </a:lnTo>
                    <a:lnTo>
                      <a:pt x="0" y="818"/>
                    </a:lnTo>
                    <a:lnTo>
                      <a:pt x="0" y="0"/>
                    </a:lnTo>
                    <a:lnTo>
                      <a:pt x="89" y="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814600" y="5201280"/>
                <a:ext cx="5040" cy="67320"/>
              </a:xfrm>
              <a:custGeom>
                <a:avLst/>
                <a:gdLst/>
                <a:ahLst/>
                <a:rect l="l" t="t" r="r" b="b"/>
                <a:pathLst>
                  <a:path w="98" h="856">
                    <a:moveTo>
                      <a:pt x="32" y="856"/>
                    </a:moveTo>
                    <a:lnTo>
                      <a:pt x="98" y="806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06"/>
                    </a:lnTo>
                    <a:lnTo>
                      <a:pt x="65" y="757"/>
                    </a:lnTo>
                    <a:lnTo>
                      <a:pt x="0" y="806"/>
                    </a:lnTo>
                    <a:lnTo>
                      <a:pt x="16" y="845"/>
                    </a:lnTo>
                    <a:lnTo>
                      <a:pt x="49" y="856"/>
                    </a:lnTo>
                    <a:lnTo>
                      <a:pt x="87" y="845"/>
                    </a:lnTo>
                    <a:lnTo>
                      <a:pt x="98" y="806"/>
                    </a:lnTo>
                    <a:lnTo>
                      <a:pt x="32" y="8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809560" y="525852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59" h="127">
                    <a:moveTo>
                      <a:pt x="0" y="50"/>
                    </a:moveTo>
                    <a:lnTo>
                      <a:pt x="44" y="105"/>
                    </a:lnTo>
                    <a:lnTo>
                      <a:pt x="126" y="127"/>
                    </a:lnTo>
                    <a:lnTo>
                      <a:pt x="159" y="28"/>
                    </a:lnTo>
                    <a:lnTo>
                      <a:pt x="71" y="0"/>
                    </a:lnTo>
                    <a:lnTo>
                      <a:pt x="115" y="50"/>
                    </a:lnTo>
                    <a:lnTo>
                      <a:pt x="71" y="0"/>
                    </a:lnTo>
                    <a:lnTo>
                      <a:pt x="33" y="6"/>
                    </a:lnTo>
                    <a:lnTo>
                      <a:pt x="5" y="39"/>
                    </a:lnTo>
                    <a:lnTo>
                      <a:pt x="11" y="77"/>
                    </a:lnTo>
                    <a:lnTo>
                      <a:pt x="44" y="10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809560" y="5190840"/>
                <a:ext cx="6480" cy="72360"/>
              </a:xfrm>
              <a:custGeom>
                <a:avLst/>
                <a:gdLst/>
                <a:ahLst/>
                <a:rect l="l" t="t" r="r" b="b"/>
                <a:pathLst>
                  <a:path w="115" h="873">
                    <a:moveTo>
                      <a:pt x="77" y="6"/>
                    </a:moveTo>
                    <a:lnTo>
                      <a:pt x="0" y="55"/>
                    </a:lnTo>
                    <a:lnTo>
                      <a:pt x="0" y="873"/>
                    </a:lnTo>
                    <a:lnTo>
                      <a:pt x="115" y="873"/>
                    </a:lnTo>
                    <a:lnTo>
                      <a:pt x="115" y="55"/>
                    </a:lnTo>
                    <a:lnTo>
                      <a:pt x="38" y="110"/>
                    </a:lnTo>
                    <a:lnTo>
                      <a:pt x="115" y="55"/>
                    </a:lnTo>
                    <a:lnTo>
                      <a:pt x="99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811360" y="51937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54" h="137">
                    <a:moveTo>
                      <a:pt x="154" y="88"/>
                    </a:moveTo>
                    <a:lnTo>
                      <a:pt x="127" y="33"/>
                    </a:lnTo>
                    <a:lnTo>
                      <a:pt x="39" y="0"/>
                    </a:lnTo>
                    <a:lnTo>
                      <a:pt x="0" y="104"/>
                    </a:lnTo>
                    <a:lnTo>
                      <a:pt x="82" y="137"/>
                    </a:lnTo>
                    <a:lnTo>
                      <a:pt x="56" y="88"/>
                    </a:lnTo>
                    <a:lnTo>
                      <a:pt x="82" y="137"/>
                    </a:lnTo>
                    <a:lnTo>
                      <a:pt x="132" y="137"/>
                    </a:lnTo>
                    <a:lnTo>
                      <a:pt x="154" y="104"/>
                    </a:lnTo>
                    <a:lnTo>
                      <a:pt x="154" y="66"/>
                    </a:lnTo>
                    <a:lnTo>
                      <a:pt x="127" y="33"/>
                    </a:lnTo>
                    <a:lnTo>
                      <a:pt x="154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789040" y="5181120"/>
                <a:ext cx="5040" cy="71640"/>
              </a:xfrm>
              <a:custGeom>
                <a:avLst/>
                <a:gdLst/>
                <a:ahLst/>
                <a:rect l="l" t="t" r="r" b="b"/>
                <a:pathLst>
                  <a:path w="93" h="890">
                    <a:moveTo>
                      <a:pt x="93" y="38"/>
                    </a:moveTo>
                    <a:lnTo>
                      <a:pt x="93" y="890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92280" y="5185800"/>
                <a:ext cx="5040" cy="72360"/>
              </a:xfrm>
              <a:custGeom>
                <a:avLst/>
                <a:gdLst/>
                <a:ahLst/>
                <a:rect l="l" t="t" r="r" b="b"/>
                <a:pathLst>
                  <a:path w="99" h="901">
                    <a:moveTo>
                      <a:pt x="22" y="895"/>
                    </a:moveTo>
                    <a:lnTo>
                      <a:pt x="99" y="852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2"/>
                    </a:lnTo>
                    <a:lnTo>
                      <a:pt x="76" y="807"/>
                    </a:lnTo>
                    <a:lnTo>
                      <a:pt x="0" y="852"/>
                    </a:lnTo>
                    <a:lnTo>
                      <a:pt x="16" y="890"/>
                    </a:lnTo>
                    <a:lnTo>
                      <a:pt x="49" y="901"/>
                    </a:lnTo>
                    <a:lnTo>
                      <a:pt x="87" y="890"/>
                    </a:lnTo>
                    <a:lnTo>
                      <a:pt x="99" y="852"/>
                    </a:lnTo>
                    <a:lnTo>
                      <a:pt x="22" y="8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785440" y="5245920"/>
                <a:ext cx="10080" cy="1224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54"/>
                    </a:moveTo>
                    <a:lnTo>
                      <a:pt x="33" y="99"/>
                    </a:lnTo>
                    <a:lnTo>
                      <a:pt x="121" y="142"/>
                    </a:lnTo>
                    <a:lnTo>
                      <a:pt x="175" y="54"/>
                    </a:lnTo>
                    <a:lnTo>
                      <a:pt x="83" y="5"/>
                    </a:lnTo>
                    <a:lnTo>
                      <a:pt x="115" y="54"/>
                    </a:lnTo>
                    <a:lnTo>
                      <a:pt x="83" y="5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5" y="71"/>
                    </a:lnTo>
                    <a:lnTo>
                      <a:pt x="33" y="9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785440" y="5178600"/>
                <a:ext cx="6840" cy="72360"/>
              </a:xfrm>
              <a:custGeom>
                <a:avLst/>
                <a:gdLst/>
                <a:ahLst/>
                <a:rect l="l" t="t" r="r" b="b"/>
                <a:pathLst>
                  <a:path w="115" h="900">
                    <a:moveTo>
                      <a:pt x="76" y="6"/>
                    </a:moveTo>
                    <a:lnTo>
                      <a:pt x="0" y="55"/>
                    </a:lnTo>
                    <a:lnTo>
                      <a:pt x="0" y="900"/>
                    </a:lnTo>
                    <a:lnTo>
                      <a:pt x="115" y="900"/>
                    </a:lnTo>
                    <a:lnTo>
                      <a:pt x="115" y="55"/>
                    </a:lnTo>
                    <a:lnTo>
                      <a:pt x="38" y="105"/>
                    </a:lnTo>
                    <a:lnTo>
                      <a:pt x="115" y="55"/>
                    </a:lnTo>
                    <a:lnTo>
                      <a:pt x="99" y="11"/>
                    </a:lnTo>
                    <a:lnTo>
                      <a:pt x="55" y="0"/>
                    </a:lnTo>
                    <a:lnTo>
                      <a:pt x="17" y="11"/>
                    </a:lnTo>
                    <a:lnTo>
                      <a:pt x="0" y="55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789040" y="517860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60" h="142">
                    <a:moveTo>
                      <a:pt x="160" y="87"/>
                    </a:moveTo>
                    <a:lnTo>
                      <a:pt x="132" y="38"/>
                    </a:lnTo>
                    <a:lnTo>
                      <a:pt x="38" y="0"/>
                    </a:lnTo>
                    <a:lnTo>
                      <a:pt x="0" y="99"/>
                    </a:lnTo>
                    <a:lnTo>
                      <a:pt x="88" y="142"/>
                    </a:lnTo>
                    <a:lnTo>
                      <a:pt x="61" y="87"/>
                    </a:lnTo>
                    <a:lnTo>
                      <a:pt x="88" y="142"/>
                    </a:lnTo>
                    <a:lnTo>
                      <a:pt x="137" y="142"/>
                    </a:lnTo>
                    <a:lnTo>
                      <a:pt x="160" y="109"/>
                    </a:lnTo>
                    <a:lnTo>
                      <a:pt x="160" y="71"/>
                    </a:lnTo>
                    <a:lnTo>
                      <a:pt x="132" y="38"/>
                    </a:lnTo>
                    <a:lnTo>
                      <a:pt x="160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768160" y="517104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93" h="878">
                    <a:moveTo>
                      <a:pt x="93" y="38"/>
                    </a:moveTo>
                    <a:lnTo>
                      <a:pt x="93" y="878"/>
                    </a:lnTo>
                    <a:lnTo>
                      <a:pt x="0" y="862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769600" y="5173200"/>
                <a:ext cx="5040" cy="72360"/>
              </a:xfrm>
              <a:custGeom>
                <a:avLst/>
                <a:gdLst/>
                <a:ahLst/>
                <a:rect l="l" t="t" r="r" b="b"/>
                <a:pathLst>
                  <a:path w="104" h="896">
                    <a:moveTo>
                      <a:pt x="43" y="896"/>
                    </a:moveTo>
                    <a:lnTo>
                      <a:pt x="104" y="840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40"/>
                    </a:lnTo>
                    <a:lnTo>
                      <a:pt x="66" y="791"/>
                    </a:lnTo>
                    <a:lnTo>
                      <a:pt x="0" y="840"/>
                    </a:lnTo>
                    <a:lnTo>
                      <a:pt x="16" y="879"/>
                    </a:lnTo>
                    <a:lnTo>
                      <a:pt x="54" y="896"/>
                    </a:lnTo>
                    <a:lnTo>
                      <a:pt x="87" y="879"/>
                    </a:lnTo>
                    <a:lnTo>
                      <a:pt x="104" y="840"/>
                    </a:lnTo>
                    <a:lnTo>
                      <a:pt x="43" y="8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764560" y="52362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60" h="127">
                    <a:moveTo>
                      <a:pt x="0" y="55"/>
                    </a:moveTo>
                    <a:lnTo>
                      <a:pt x="45" y="104"/>
                    </a:lnTo>
                    <a:lnTo>
                      <a:pt x="137" y="127"/>
                    </a:lnTo>
                    <a:lnTo>
                      <a:pt x="160" y="22"/>
                    </a:lnTo>
                    <a:lnTo>
                      <a:pt x="66" y="0"/>
                    </a:lnTo>
                    <a:lnTo>
                      <a:pt x="110" y="55"/>
                    </a:lnTo>
                    <a:lnTo>
                      <a:pt x="66" y="0"/>
                    </a:lnTo>
                    <a:lnTo>
                      <a:pt x="22" y="11"/>
                    </a:lnTo>
                    <a:lnTo>
                      <a:pt x="5" y="44"/>
                    </a:lnTo>
                    <a:lnTo>
                      <a:pt x="12" y="83"/>
                    </a:lnTo>
                    <a:lnTo>
                      <a:pt x="45" y="10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764560" y="5166000"/>
                <a:ext cx="5040" cy="74520"/>
              </a:xfrm>
              <a:custGeom>
                <a:avLst/>
                <a:gdLst/>
                <a:ahLst/>
                <a:rect l="l" t="t" r="r" b="b"/>
                <a:pathLst>
                  <a:path w="110" h="916">
                    <a:moveTo>
                      <a:pt x="77" y="5"/>
                    </a:moveTo>
                    <a:lnTo>
                      <a:pt x="0" y="54"/>
                    </a:lnTo>
                    <a:lnTo>
                      <a:pt x="0" y="916"/>
                    </a:lnTo>
                    <a:lnTo>
                      <a:pt x="110" y="916"/>
                    </a:lnTo>
                    <a:lnTo>
                      <a:pt x="110" y="54"/>
                    </a:lnTo>
                    <a:lnTo>
                      <a:pt x="33" y="104"/>
                    </a:lnTo>
                    <a:lnTo>
                      <a:pt x="110" y="54"/>
                    </a:lnTo>
                    <a:lnTo>
                      <a:pt x="94" y="16"/>
                    </a:lnTo>
                    <a:lnTo>
                      <a:pt x="55" y="0"/>
                    </a:lnTo>
                    <a:lnTo>
                      <a:pt x="17" y="16"/>
                    </a:lnTo>
                    <a:lnTo>
                      <a:pt x="0" y="54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766360" y="516600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65" h="143">
                    <a:moveTo>
                      <a:pt x="165" y="87"/>
                    </a:moveTo>
                    <a:lnTo>
                      <a:pt x="132" y="38"/>
                    </a:lnTo>
                    <a:lnTo>
                      <a:pt x="44" y="0"/>
                    </a:lnTo>
                    <a:lnTo>
                      <a:pt x="0" y="99"/>
                    </a:lnTo>
                    <a:lnTo>
                      <a:pt x="94" y="143"/>
                    </a:lnTo>
                    <a:lnTo>
                      <a:pt x="61" y="87"/>
                    </a:lnTo>
                    <a:lnTo>
                      <a:pt x="94" y="143"/>
                    </a:lnTo>
                    <a:lnTo>
                      <a:pt x="137" y="143"/>
                    </a:lnTo>
                    <a:lnTo>
                      <a:pt x="165" y="110"/>
                    </a:lnTo>
                    <a:lnTo>
                      <a:pt x="165" y="71"/>
                    </a:lnTo>
                    <a:lnTo>
                      <a:pt x="132" y="38"/>
                    </a:lnTo>
                    <a:lnTo>
                      <a:pt x="165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744040" y="5153400"/>
                <a:ext cx="5040" cy="74520"/>
              </a:xfrm>
              <a:custGeom>
                <a:avLst/>
                <a:gdLst/>
                <a:ahLst/>
                <a:rect l="l" t="t" r="r" b="b"/>
                <a:pathLst>
                  <a:path w="93" h="927">
                    <a:moveTo>
                      <a:pt x="93" y="71"/>
                    </a:moveTo>
                    <a:lnTo>
                      <a:pt x="93" y="927"/>
                    </a:lnTo>
                    <a:lnTo>
                      <a:pt x="0" y="889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745840" y="5160960"/>
                <a:ext cx="5040" cy="72360"/>
              </a:xfrm>
              <a:custGeom>
                <a:avLst/>
                <a:gdLst/>
                <a:ahLst/>
                <a:rect l="l" t="t" r="r" b="b"/>
                <a:pathLst>
                  <a:path w="99" h="912">
                    <a:moveTo>
                      <a:pt x="27" y="912"/>
                    </a:moveTo>
                    <a:lnTo>
                      <a:pt x="99" y="856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6"/>
                    </a:lnTo>
                    <a:lnTo>
                      <a:pt x="71" y="807"/>
                    </a:lnTo>
                    <a:lnTo>
                      <a:pt x="0" y="856"/>
                    </a:lnTo>
                    <a:lnTo>
                      <a:pt x="10" y="895"/>
                    </a:lnTo>
                    <a:lnTo>
                      <a:pt x="49" y="912"/>
                    </a:lnTo>
                    <a:lnTo>
                      <a:pt x="82" y="895"/>
                    </a:lnTo>
                    <a:lnTo>
                      <a:pt x="99" y="856"/>
                    </a:lnTo>
                    <a:lnTo>
                      <a:pt x="27" y="9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740440" y="52239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70" h="144">
                    <a:moveTo>
                      <a:pt x="0" y="50"/>
                    </a:moveTo>
                    <a:lnTo>
                      <a:pt x="38" y="99"/>
                    </a:lnTo>
                    <a:lnTo>
                      <a:pt x="126" y="144"/>
                    </a:lnTo>
                    <a:lnTo>
                      <a:pt x="170" y="39"/>
                    </a:lnTo>
                    <a:lnTo>
                      <a:pt x="76" y="0"/>
                    </a:lnTo>
                    <a:lnTo>
                      <a:pt x="109" y="50"/>
                    </a:lnTo>
                    <a:lnTo>
                      <a:pt x="76" y="0"/>
                    </a:lnTo>
                    <a:lnTo>
                      <a:pt x="33" y="0"/>
                    </a:lnTo>
                    <a:lnTo>
                      <a:pt x="5" y="28"/>
                    </a:lnTo>
                    <a:lnTo>
                      <a:pt x="5" y="71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740440" y="5151240"/>
                <a:ext cx="5400" cy="74520"/>
              </a:xfrm>
              <a:custGeom>
                <a:avLst/>
                <a:gdLst/>
                <a:ahLst/>
                <a:rect l="l" t="t" r="r" b="b"/>
                <a:pathLst>
                  <a:path w="109" h="944">
                    <a:moveTo>
                      <a:pt x="88" y="10"/>
                    </a:moveTo>
                    <a:lnTo>
                      <a:pt x="0" y="55"/>
                    </a:lnTo>
                    <a:lnTo>
                      <a:pt x="0" y="944"/>
                    </a:lnTo>
                    <a:lnTo>
                      <a:pt x="109" y="944"/>
                    </a:lnTo>
                    <a:lnTo>
                      <a:pt x="109" y="55"/>
                    </a:lnTo>
                    <a:lnTo>
                      <a:pt x="27" y="93"/>
                    </a:lnTo>
                    <a:lnTo>
                      <a:pt x="109" y="55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5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742240" y="515124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6"/>
                    </a:moveTo>
                    <a:lnTo>
                      <a:pt x="148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6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48" y="72"/>
                    </a:lnTo>
                    <a:lnTo>
                      <a:pt x="171" y="1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719560" y="5141160"/>
                <a:ext cx="5400" cy="77400"/>
              </a:xfrm>
              <a:custGeom>
                <a:avLst/>
                <a:gdLst/>
                <a:ahLst/>
                <a:rect l="l" t="t" r="r" b="b"/>
                <a:pathLst>
                  <a:path w="88" h="944">
                    <a:moveTo>
                      <a:pt x="88" y="49"/>
                    </a:moveTo>
                    <a:lnTo>
                      <a:pt x="88" y="944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723160" y="5146200"/>
                <a:ext cx="5040" cy="74520"/>
              </a:xfrm>
              <a:custGeom>
                <a:avLst/>
                <a:gdLst/>
                <a:ahLst/>
                <a:rect l="l" t="t" r="r" b="b"/>
                <a:pathLst>
                  <a:path w="99" h="944">
                    <a:moveTo>
                      <a:pt x="33" y="944"/>
                    </a:moveTo>
                    <a:lnTo>
                      <a:pt x="99" y="8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95"/>
                    </a:lnTo>
                    <a:lnTo>
                      <a:pt x="66" y="840"/>
                    </a:lnTo>
                    <a:lnTo>
                      <a:pt x="0" y="895"/>
                    </a:lnTo>
                    <a:lnTo>
                      <a:pt x="12" y="928"/>
                    </a:lnTo>
                    <a:lnTo>
                      <a:pt x="50" y="944"/>
                    </a:lnTo>
                    <a:lnTo>
                      <a:pt x="83" y="928"/>
                    </a:lnTo>
                    <a:lnTo>
                      <a:pt x="99" y="895"/>
                    </a:lnTo>
                    <a:lnTo>
                      <a:pt x="33" y="9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718120" y="52113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0" y="50"/>
                    </a:moveTo>
                    <a:lnTo>
                      <a:pt x="38" y="99"/>
                    </a:lnTo>
                    <a:lnTo>
                      <a:pt x="125" y="132"/>
                    </a:lnTo>
                    <a:lnTo>
                      <a:pt x="158" y="28"/>
                    </a:lnTo>
                    <a:lnTo>
                      <a:pt x="71" y="0"/>
                    </a:lnTo>
                    <a:lnTo>
                      <a:pt x="109" y="50"/>
                    </a:lnTo>
                    <a:lnTo>
                      <a:pt x="71" y="0"/>
                    </a:lnTo>
                    <a:lnTo>
                      <a:pt x="33" y="7"/>
                    </a:lnTo>
                    <a:lnTo>
                      <a:pt x="5" y="33"/>
                    </a:lnTo>
                    <a:lnTo>
                      <a:pt x="10" y="78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718120" y="5136120"/>
                <a:ext cx="5040" cy="79560"/>
              </a:xfrm>
              <a:custGeom>
                <a:avLst/>
                <a:gdLst/>
                <a:ahLst/>
                <a:rect l="l" t="t" r="r" b="b"/>
                <a:pathLst>
                  <a:path w="109" h="966">
                    <a:moveTo>
                      <a:pt x="82" y="11"/>
                    </a:moveTo>
                    <a:lnTo>
                      <a:pt x="0" y="55"/>
                    </a:lnTo>
                    <a:lnTo>
                      <a:pt x="0" y="966"/>
                    </a:lnTo>
                    <a:lnTo>
                      <a:pt x="109" y="966"/>
                    </a:lnTo>
                    <a:lnTo>
                      <a:pt x="109" y="55"/>
                    </a:lnTo>
                    <a:lnTo>
                      <a:pt x="33" y="99"/>
                    </a:lnTo>
                    <a:lnTo>
                      <a:pt x="109" y="55"/>
                    </a:lnTo>
                    <a:lnTo>
                      <a:pt x="98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5"/>
                    </a:lnTo>
                    <a:lnTo>
                      <a:pt x="82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719560" y="51386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58" h="148">
                    <a:moveTo>
                      <a:pt x="158" y="93"/>
                    </a:moveTo>
                    <a:lnTo>
                      <a:pt x="136" y="49"/>
                    </a:lnTo>
                    <a:lnTo>
                      <a:pt x="49" y="0"/>
                    </a:lnTo>
                    <a:lnTo>
                      <a:pt x="0" y="88"/>
                    </a:lnTo>
                    <a:lnTo>
                      <a:pt x="82" y="143"/>
                    </a:lnTo>
                    <a:lnTo>
                      <a:pt x="59" y="93"/>
                    </a:lnTo>
                    <a:lnTo>
                      <a:pt x="82" y="143"/>
                    </a:lnTo>
                    <a:lnTo>
                      <a:pt x="125" y="148"/>
                    </a:lnTo>
                    <a:lnTo>
                      <a:pt x="153" y="115"/>
                    </a:lnTo>
                    <a:lnTo>
                      <a:pt x="158" y="82"/>
                    </a:lnTo>
                    <a:lnTo>
                      <a:pt x="136" y="49"/>
                    </a:lnTo>
                    <a:lnTo>
                      <a:pt x="158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516160" y="5083920"/>
                <a:ext cx="153000" cy="131760"/>
              </a:xfrm>
              <a:custGeom>
                <a:avLst/>
                <a:gdLst/>
                <a:ahLst/>
                <a:rect l="l" t="t" r="r" b="b"/>
                <a:pathLst>
                  <a:path w="2754" h="1625">
                    <a:moveTo>
                      <a:pt x="2754" y="0"/>
                    </a:moveTo>
                    <a:lnTo>
                      <a:pt x="2754" y="1301"/>
                    </a:lnTo>
                    <a:lnTo>
                      <a:pt x="0" y="1625"/>
                    </a:lnTo>
                    <a:lnTo>
                      <a:pt x="0" y="467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668080" y="5083920"/>
                <a:ext cx="5040" cy="10980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55" y="1350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45" y="1246"/>
                    </a:lnTo>
                    <a:lnTo>
                      <a:pt x="55" y="1350"/>
                    </a:lnTo>
                    <a:lnTo>
                      <a:pt x="99" y="1345"/>
                    </a:lnTo>
                    <a:lnTo>
                      <a:pt x="99" y="1301"/>
                    </a:lnTo>
                    <a:lnTo>
                      <a:pt x="55" y="1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514720" y="5185800"/>
                <a:ext cx="154800" cy="34920"/>
              </a:xfrm>
              <a:custGeom>
                <a:avLst/>
                <a:gdLst/>
                <a:ahLst/>
                <a:rect l="l" t="t" r="r" b="b"/>
                <a:pathLst>
                  <a:path w="2815" h="440">
                    <a:moveTo>
                      <a:pt x="0" y="379"/>
                    </a:moveTo>
                    <a:lnTo>
                      <a:pt x="61" y="429"/>
                    </a:lnTo>
                    <a:lnTo>
                      <a:pt x="2815" y="104"/>
                    </a:lnTo>
                    <a:lnTo>
                      <a:pt x="2805" y="0"/>
                    </a:lnTo>
                    <a:lnTo>
                      <a:pt x="50" y="330"/>
                    </a:lnTo>
                    <a:lnTo>
                      <a:pt x="110" y="379"/>
                    </a:lnTo>
                    <a:lnTo>
                      <a:pt x="0" y="379"/>
                    </a:lnTo>
                    <a:lnTo>
                      <a:pt x="0" y="440"/>
                    </a:lnTo>
                    <a:lnTo>
                      <a:pt x="61" y="42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514720" y="5118480"/>
                <a:ext cx="5040" cy="97200"/>
              </a:xfrm>
              <a:custGeom>
                <a:avLst/>
                <a:gdLst/>
                <a:ahLst/>
                <a:rect l="l" t="t" r="r" b="b"/>
                <a:pathLst>
                  <a:path w="110" h="1207">
                    <a:moveTo>
                      <a:pt x="44" y="0"/>
                    </a:moveTo>
                    <a:lnTo>
                      <a:pt x="0" y="49"/>
                    </a:lnTo>
                    <a:lnTo>
                      <a:pt x="0" y="1207"/>
                    </a:lnTo>
                    <a:lnTo>
                      <a:pt x="110" y="1207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516160" y="5081040"/>
                <a:ext cx="156600" cy="45000"/>
              </a:xfrm>
              <a:custGeom>
                <a:avLst/>
                <a:gdLst/>
                <a:ahLst/>
                <a:rect l="l" t="t" r="r" b="b"/>
                <a:pathLst>
                  <a:path w="2815" h="582">
                    <a:moveTo>
                      <a:pt x="2815" y="60"/>
                    </a:moveTo>
                    <a:lnTo>
                      <a:pt x="2755" y="10"/>
                    </a:lnTo>
                    <a:lnTo>
                      <a:pt x="0" y="478"/>
                    </a:lnTo>
                    <a:lnTo>
                      <a:pt x="22" y="582"/>
                    </a:lnTo>
                    <a:lnTo>
                      <a:pt x="2777" y="115"/>
                    </a:lnTo>
                    <a:lnTo>
                      <a:pt x="2716" y="60"/>
                    </a:lnTo>
                    <a:lnTo>
                      <a:pt x="2815" y="60"/>
                    </a:lnTo>
                    <a:lnTo>
                      <a:pt x="2815" y="0"/>
                    </a:lnTo>
                    <a:lnTo>
                      <a:pt x="2755" y="10"/>
                    </a:lnTo>
                    <a:lnTo>
                      <a:pt x="2815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42280" y="5133600"/>
                <a:ext cx="128880" cy="111960"/>
              </a:xfrm>
              <a:custGeom>
                <a:avLst/>
                <a:gdLst/>
                <a:ahLst/>
                <a:rect l="l" t="t" r="r" b="b"/>
                <a:pathLst>
                  <a:path w="2321" h="1378">
                    <a:moveTo>
                      <a:pt x="2321" y="1087"/>
                    </a:moveTo>
                    <a:lnTo>
                      <a:pt x="0" y="1378"/>
                    </a:lnTo>
                    <a:lnTo>
                      <a:pt x="0" y="407"/>
                    </a:lnTo>
                    <a:lnTo>
                      <a:pt x="2321" y="0"/>
                    </a:lnTo>
                    <a:lnTo>
                      <a:pt x="2321" y="10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338680" y="5218560"/>
                <a:ext cx="132480" cy="32040"/>
              </a:xfrm>
              <a:custGeom>
                <a:avLst/>
                <a:gdLst/>
                <a:ahLst/>
                <a:rect l="l" t="t" r="r" b="b"/>
                <a:pathLst>
                  <a:path w="2382" h="401">
                    <a:moveTo>
                      <a:pt x="0" y="340"/>
                    </a:moveTo>
                    <a:lnTo>
                      <a:pt x="61" y="390"/>
                    </a:lnTo>
                    <a:lnTo>
                      <a:pt x="2382" y="99"/>
                    </a:lnTo>
                    <a:lnTo>
                      <a:pt x="2370" y="0"/>
                    </a:lnTo>
                    <a:lnTo>
                      <a:pt x="49" y="286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401"/>
                    </a:lnTo>
                    <a:lnTo>
                      <a:pt x="61" y="39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38680" y="5160960"/>
                <a:ext cx="6480" cy="84960"/>
              </a:xfrm>
              <a:custGeom>
                <a:avLst/>
                <a:gdLst/>
                <a:ahLst/>
                <a:rect l="l" t="t" r="r" b="b"/>
                <a:pathLst>
                  <a:path w="110" h="1026">
                    <a:moveTo>
                      <a:pt x="44" y="0"/>
                    </a:moveTo>
                    <a:lnTo>
                      <a:pt x="0" y="55"/>
                    </a:lnTo>
                    <a:lnTo>
                      <a:pt x="0" y="1026"/>
                    </a:lnTo>
                    <a:lnTo>
                      <a:pt x="110" y="1026"/>
                    </a:lnTo>
                    <a:lnTo>
                      <a:pt x="110" y="55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5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40120" y="5128560"/>
                <a:ext cx="132840" cy="42480"/>
              </a:xfrm>
              <a:custGeom>
                <a:avLst/>
                <a:gdLst/>
                <a:ahLst/>
                <a:rect l="l" t="t" r="r" b="b"/>
                <a:pathLst>
                  <a:path w="2381" h="522">
                    <a:moveTo>
                      <a:pt x="2381" y="66"/>
                    </a:moveTo>
                    <a:lnTo>
                      <a:pt x="2321" y="12"/>
                    </a:lnTo>
                    <a:lnTo>
                      <a:pt x="0" y="418"/>
                    </a:lnTo>
                    <a:lnTo>
                      <a:pt x="22" y="522"/>
                    </a:lnTo>
                    <a:lnTo>
                      <a:pt x="2343" y="116"/>
                    </a:lnTo>
                    <a:lnTo>
                      <a:pt x="2282" y="66"/>
                    </a:lnTo>
                    <a:lnTo>
                      <a:pt x="2381" y="66"/>
                    </a:lnTo>
                    <a:lnTo>
                      <a:pt x="2381" y="0"/>
                    </a:lnTo>
                    <a:lnTo>
                      <a:pt x="2321" y="12"/>
                    </a:lnTo>
                    <a:lnTo>
                      <a:pt x="2381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468280" y="513360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99" h="1137">
                    <a:moveTo>
                      <a:pt x="56" y="1137"/>
                    </a:moveTo>
                    <a:lnTo>
                      <a:pt x="99" y="108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87"/>
                    </a:lnTo>
                    <a:lnTo>
                      <a:pt x="44" y="1038"/>
                    </a:lnTo>
                    <a:lnTo>
                      <a:pt x="56" y="1137"/>
                    </a:lnTo>
                    <a:lnTo>
                      <a:pt x="99" y="1131"/>
                    </a:lnTo>
                    <a:lnTo>
                      <a:pt x="99" y="1087"/>
                    </a:lnTo>
                    <a:lnTo>
                      <a:pt x="56" y="11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205480" y="5018760"/>
                <a:ext cx="105120" cy="119880"/>
              </a:xfrm>
              <a:custGeom>
                <a:avLst/>
                <a:gdLst/>
                <a:ahLst/>
                <a:rect l="l" t="t" r="r" b="b"/>
                <a:pathLst>
                  <a:path w="1898" h="1482">
                    <a:moveTo>
                      <a:pt x="1898" y="1021"/>
                    </a:moveTo>
                    <a:lnTo>
                      <a:pt x="0" y="1482"/>
                    </a:lnTo>
                    <a:lnTo>
                      <a:pt x="0" y="604"/>
                    </a:lnTo>
                    <a:lnTo>
                      <a:pt x="1887" y="0"/>
                    </a:lnTo>
                    <a:lnTo>
                      <a:pt x="1898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202240" y="5098680"/>
                <a:ext cx="108720" cy="44640"/>
              </a:xfrm>
              <a:custGeom>
                <a:avLst/>
                <a:gdLst/>
                <a:ahLst/>
                <a:rect l="l" t="t" r="r" b="b"/>
                <a:pathLst>
                  <a:path w="1970" h="577">
                    <a:moveTo>
                      <a:pt x="0" y="511"/>
                    </a:moveTo>
                    <a:lnTo>
                      <a:pt x="66" y="560"/>
                    </a:lnTo>
                    <a:lnTo>
                      <a:pt x="1970" y="99"/>
                    </a:lnTo>
                    <a:lnTo>
                      <a:pt x="1948" y="0"/>
                    </a:lnTo>
                    <a:lnTo>
                      <a:pt x="50" y="456"/>
                    </a:lnTo>
                    <a:lnTo>
                      <a:pt x="115" y="511"/>
                    </a:lnTo>
                    <a:lnTo>
                      <a:pt x="0" y="511"/>
                    </a:lnTo>
                    <a:lnTo>
                      <a:pt x="0" y="577"/>
                    </a:lnTo>
                    <a:lnTo>
                      <a:pt x="66" y="560"/>
                    </a:lnTo>
                    <a:lnTo>
                      <a:pt x="0" y="5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202240" y="5063400"/>
                <a:ext cx="6840" cy="7524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44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71" y="104"/>
                    </a:lnTo>
                    <a:lnTo>
                      <a:pt x="44" y="0"/>
                    </a:lnTo>
                    <a:lnTo>
                      <a:pt x="0" y="10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204040" y="5013720"/>
                <a:ext cx="108720" cy="59760"/>
              </a:xfrm>
              <a:custGeom>
                <a:avLst/>
                <a:gdLst/>
                <a:ahLst/>
                <a:rect l="l" t="t" r="r" b="b"/>
                <a:pathLst>
                  <a:path w="1959" h="730">
                    <a:moveTo>
                      <a:pt x="1959" y="71"/>
                    </a:moveTo>
                    <a:lnTo>
                      <a:pt x="1894" y="21"/>
                    </a:lnTo>
                    <a:lnTo>
                      <a:pt x="0" y="626"/>
                    </a:lnTo>
                    <a:lnTo>
                      <a:pt x="27" y="730"/>
                    </a:lnTo>
                    <a:lnTo>
                      <a:pt x="1920" y="120"/>
                    </a:lnTo>
                    <a:lnTo>
                      <a:pt x="1854" y="71"/>
                    </a:lnTo>
                    <a:lnTo>
                      <a:pt x="1959" y="71"/>
                    </a:lnTo>
                    <a:lnTo>
                      <a:pt x="1959" y="0"/>
                    </a:lnTo>
                    <a:lnTo>
                      <a:pt x="1894" y="21"/>
                    </a:lnTo>
                    <a:lnTo>
                      <a:pt x="1959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07360" y="5018760"/>
                <a:ext cx="6840" cy="87120"/>
              </a:xfrm>
              <a:custGeom>
                <a:avLst/>
                <a:gdLst/>
                <a:ahLst/>
                <a:rect l="l" t="t" r="r" b="b"/>
                <a:pathLst>
                  <a:path w="116" h="1070">
                    <a:moveTo>
                      <a:pt x="72" y="1070"/>
                    </a:moveTo>
                    <a:lnTo>
                      <a:pt x="110" y="1021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12" y="1021"/>
                    </a:lnTo>
                    <a:lnTo>
                      <a:pt x="50" y="971"/>
                    </a:lnTo>
                    <a:lnTo>
                      <a:pt x="72" y="1070"/>
                    </a:lnTo>
                    <a:lnTo>
                      <a:pt x="116" y="1065"/>
                    </a:lnTo>
                    <a:lnTo>
                      <a:pt x="110" y="1021"/>
                    </a:lnTo>
                    <a:lnTo>
                      <a:pt x="72" y="10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205480" y="5173200"/>
                <a:ext cx="105120" cy="95040"/>
              </a:xfrm>
              <a:custGeom>
                <a:avLst/>
                <a:gdLst/>
                <a:ahLst/>
                <a:rect l="l" t="t" r="r" b="b"/>
                <a:pathLst>
                  <a:path w="1909" h="1202">
                    <a:moveTo>
                      <a:pt x="1909" y="971"/>
                    </a:moveTo>
                    <a:lnTo>
                      <a:pt x="0" y="1202"/>
                    </a:lnTo>
                    <a:lnTo>
                      <a:pt x="0" y="324"/>
                    </a:lnTo>
                    <a:lnTo>
                      <a:pt x="1909" y="0"/>
                    </a:lnTo>
                    <a:lnTo>
                      <a:pt x="1909" y="9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202240" y="5245920"/>
                <a:ext cx="110520" cy="27720"/>
              </a:xfrm>
              <a:custGeom>
                <a:avLst/>
                <a:gdLst/>
                <a:ahLst/>
                <a:rect l="l" t="t" r="r" b="b"/>
                <a:pathLst>
                  <a:path w="1976" h="346">
                    <a:moveTo>
                      <a:pt x="0" y="285"/>
                    </a:moveTo>
                    <a:lnTo>
                      <a:pt x="61" y="341"/>
                    </a:lnTo>
                    <a:lnTo>
                      <a:pt x="1976" y="104"/>
                    </a:lnTo>
                    <a:lnTo>
                      <a:pt x="1964" y="0"/>
                    </a:lnTo>
                    <a:lnTo>
                      <a:pt x="55" y="236"/>
                    </a:lnTo>
                    <a:lnTo>
                      <a:pt x="115" y="285"/>
                    </a:lnTo>
                    <a:lnTo>
                      <a:pt x="0" y="285"/>
                    </a:lnTo>
                    <a:lnTo>
                      <a:pt x="0" y="346"/>
                    </a:lnTo>
                    <a:lnTo>
                      <a:pt x="61" y="341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202240" y="5193720"/>
                <a:ext cx="6840" cy="7452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50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66" y="98"/>
                    </a:lnTo>
                    <a:lnTo>
                      <a:pt x="50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204040" y="5168880"/>
                <a:ext cx="110160" cy="34560"/>
              </a:xfrm>
              <a:custGeom>
                <a:avLst/>
                <a:gdLst/>
                <a:ahLst/>
                <a:rect l="l" t="t" r="r" b="b"/>
                <a:pathLst>
                  <a:path w="1970" h="433">
                    <a:moveTo>
                      <a:pt x="1970" y="60"/>
                    </a:moveTo>
                    <a:lnTo>
                      <a:pt x="1909" y="5"/>
                    </a:lnTo>
                    <a:lnTo>
                      <a:pt x="0" y="335"/>
                    </a:lnTo>
                    <a:lnTo>
                      <a:pt x="16" y="433"/>
                    </a:lnTo>
                    <a:lnTo>
                      <a:pt x="1931" y="109"/>
                    </a:lnTo>
                    <a:lnTo>
                      <a:pt x="1871" y="60"/>
                    </a:lnTo>
                    <a:lnTo>
                      <a:pt x="1970" y="60"/>
                    </a:lnTo>
                    <a:lnTo>
                      <a:pt x="1970" y="0"/>
                    </a:lnTo>
                    <a:lnTo>
                      <a:pt x="1909" y="5"/>
                    </a:lnTo>
                    <a:lnTo>
                      <a:pt x="1970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309160" y="5173200"/>
                <a:ext cx="5040" cy="79560"/>
              </a:xfrm>
              <a:custGeom>
                <a:avLst/>
                <a:gdLst/>
                <a:ahLst/>
                <a:rect l="l" t="t" r="r" b="b"/>
                <a:pathLst>
                  <a:path w="99" h="1021">
                    <a:moveTo>
                      <a:pt x="55" y="1021"/>
                    </a:moveTo>
                    <a:lnTo>
                      <a:pt x="99" y="97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71"/>
                    </a:lnTo>
                    <a:lnTo>
                      <a:pt x="43" y="917"/>
                    </a:lnTo>
                    <a:lnTo>
                      <a:pt x="55" y="1021"/>
                    </a:lnTo>
                    <a:lnTo>
                      <a:pt x="99" y="1016"/>
                    </a:lnTo>
                    <a:lnTo>
                      <a:pt x="99" y="971"/>
                    </a:lnTo>
                    <a:lnTo>
                      <a:pt x="55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119440" y="5206320"/>
                <a:ext cx="66960" cy="77040"/>
              </a:xfrm>
              <a:custGeom>
                <a:avLst/>
                <a:gdLst/>
                <a:ahLst/>
                <a:rect l="l" t="t" r="r" b="b"/>
                <a:pathLst>
                  <a:path w="1202" h="983">
                    <a:moveTo>
                      <a:pt x="1202" y="835"/>
                    </a:moveTo>
                    <a:lnTo>
                      <a:pt x="0" y="983"/>
                    </a:lnTo>
                    <a:lnTo>
                      <a:pt x="0" y="165"/>
                    </a:lnTo>
                    <a:lnTo>
                      <a:pt x="1202" y="0"/>
                    </a:lnTo>
                    <a:lnTo>
                      <a:pt x="1202" y="8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116200" y="5268600"/>
                <a:ext cx="70560" cy="19800"/>
              </a:xfrm>
              <a:custGeom>
                <a:avLst/>
                <a:gdLst/>
                <a:ahLst/>
                <a:rect l="l" t="t" r="r" b="b"/>
                <a:pathLst>
                  <a:path w="1268" h="257">
                    <a:moveTo>
                      <a:pt x="0" y="197"/>
                    </a:moveTo>
                    <a:lnTo>
                      <a:pt x="66" y="247"/>
                    </a:lnTo>
                    <a:lnTo>
                      <a:pt x="1268" y="99"/>
                    </a:lnTo>
                    <a:lnTo>
                      <a:pt x="1257" y="0"/>
                    </a:lnTo>
                    <a:lnTo>
                      <a:pt x="55" y="142"/>
                    </a:lnTo>
                    <a:lnTo>
                      <a:pt x="116" y="197"/>
                    </a:lnTo>
                    <a:lnTo>
                      <a:pt x="0" y="197"/>
                    </a:lnTo>
                    <a:lnTo>
                      <a:pt x="0" y="257"/>
                    </a:lnTo>
                    <a:lnTo>
                      <a:pt x="66" y="24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116200" y="5213520"/>
                <a:ext cx="6840" cy="69480"/>
              </a:xfrm>
              <a:custGeom>
                <a:avLst/>
                <a:gdLst/>
                <a:ahLst/>
                <a:rect l="l" t="t" r="r" b="b"/>
                <a:pathLst>
                  <a:path w="116" h="867">
                    <a:moveTo>
                      <a:pt x="55" y="0"/>
                    </a:moveTo>
                    <a:lnTo>
                      <a:pt x="0" y="49"/>
                    </a:lnTo>
                    <a:lnTo>
                      <a:pt x="0" y="867"/>
                    </a:lnTo>
                    <a:lnTo>
                      <a:pt x="116" y="867"/>
                    </a:lnTo>
                    <a:lnTo>
                      <a:pt x="116" y="49"/>
                    </a:lnTo>
                    <a:lnTo>
                      <a:pt x="66" y="104"/>
                    </a:lnTo>
                    <a:lnTo>
                      <a:pt x="55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119440" y="5201280"/>
                <a:ext cx="70560" cy="22320"/>
              </a:xfrm>
              <a:custGeom>
                <a:avLst/>
                <a:gdLst/>
                <a:ahLst/>
                <a:rect l="l" t="t" r="r" b="b"/>
                <a:pathLst>
                  <a:path w="1257" h="280">
                    <a:moveTo>
                      <a:pt x="1257" y="60"/>
                    </a:moveTo>
                    <a:lnTo>
                      <a:pt x="1202" y="11"/>
                    </a:lnTo>
                    <a:lnTo>
                      <a:pt x="0" y="176"/>
                    </a:lnTo>
                    <a:lnTo>
                      <a:pt x="11" y="280"/>
                    </a:lnTo>
                    <a:lnTo>
                      <a:pt x="1213" y="110"/>
                    </a:lnTo>
                    <a:lnTo>
                      <a:pt x="1158" y="60"/>
                    </a:lnTo>
                    <a:lnTo>
                      <a:pt x="1257" y="60"/>
                    </a:lnTo>
                    <a:lnTo>
                      <a:pt x="1257" y="0"/>
                    </a:lnTo>
                    <a:lnTo>
                      <a:pt x="1202" y="11"/>
                    </a:lnTo>
                    <a:lnTo>
                      <a:pt x="1257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184960" y="5206320"/>
                <a:ext cx="5400" cy="6948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55" y="885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44" y="786"/>
                    </a:lnTo>
                    <a:lnTo>
                      <a:pt x="55" y="885"/>
                    </a:lnTo>
                    <a:lnTo>
                      <a:pt x="99" y="878"/>
                    </a:lnTo>
                    <a:lnTo>
                      <a:pt x="99" y="835"/>
                    </a:lnTo>
                    <a:lnTo>
                      <a:pt x="55" y="8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119440" y="5073480"/>
                <a:ext cx="66960" cy="95040"/>
              </a:xfrm>
              <a:custGeom>
                <a:avLst/>
                <a:gdLst/>
                <a:ahLst/>
                <a:rect l="l" t="t" r="r" b="b"/>
                <a:pathLst>
                  <a:path w="1202" h="1169">
                    <a:moveTo>
                      <a:pt x="1202" y="883"/>
                    </a:moveTo>
                    <a:lnTo>
                      <a:pt x="0" y="1169"/>
                    </a:lnTo>
                    <a:lnTo>
                      <a:pt x="0" y="400"/>
                    </a:lnTo>
                    <a:lnTo>
                      <a:pt x="1202" y="0"/>
                    </a:lnTo>
                    <a:lnTo>
                      <a:pt x="1202" y="8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116200" y="5141160"/>
                <a:ext cx="72360" cy="32040"/>
              </a:xfrm>
              <a:custGeom>
                <a:avLst/>
                <a:gdLst/>
                <a:ahLst/>
                <a:rect l="l" t="t" r="r" b="b"/>
                <a:pathLst>
                  <a:path w="1273" h="407">
                    <a:moveTo>
                      <a:pt x="0" y="341"/>
                    </a:moveTo>
                    <a:lnTo>
                      <a:pt x="66" y="396"/>
                    </a:lnTo>
                    <a:lnTo>
                      <a:pt x="1273" y="104"/>
                    </a:lnTo>
                    <a:lnTo>
                      <a:pt x="1251" y="0"/>
                    </a:lnTo>
                    <a:lnTo>
                      <a:pt x="50" y="292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407"/>
                    </a:lnTo>
                    <a:lnTo>
                      <a:pt x="66" y="396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116200" y="5101200"/>
                <a:ext cx="6840" cy="67320"/>
              </a:xfrm>
              <a:custGeom>
                <a:avLst/>
                <a:gdLst/>
                <a:ahLst/>
                <a:rect l="l" t="t" r="r" b="b"/>
                <a:pathLst>
                  <a:path w="116" h="823">
                    <a:moveTo>
                      <a:pt x="45" y="0"/>
                    </a:moveTo>
                    <a:lnTo>
                      <a:pt x="0" y="54"/>
                    </a:lnTo>
                    <a:lnTo>
                      <a:pt x="0" y="823"/>
                    </a:lnTo>
                    <a:lnTo>
                      <a:pt x="116" y="823"/>
                    </a:lnTo>
                    <a:lnTo>
                      <a:pt x="116" y="54"/>
                    </a:lnTo>
                    <a:lnTo>
                      <a:pt x="71" y="104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5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19440" y="5068440"/>
                <a:ext cx="70560" cy="39960"/>
              </a:xfrm>
              <a:custGeom>
                <a:avLst/>
                <a:gdLst/>
                <a:ahLst/>
                <a:rect l="l" t="t" r="r" b="b"/>
                <a:pathLst>
                  <a:path w="1267" h="516">
                    <a:moveTo>
                      <a:pt x="1267" y="66"/>
                    </a:moveTo>
                    <a:lnTo>
                      <a:pt x="1201" y="22"/>
                    </a:lnTo>
                    <a:lnTo>
                      <a:pt x="0" y="412"/>
                    </a:lnTo>
                    <a:lnTo>
                      <a:pt x="26" y="516"/>
                    </a:lnTo>
                    <a:lnTo>
                      <a:pt x="1234" y="120"/>
                    </a:lnTo>
                    <a:lnTo>
                      <a:pt x="1168" y="66"/>
                    </a:lnTo>
                    <a:lnTo>
                      <a:pt x="1267" y="66"/>
                    </a:lnTo>
                    <a:lnTo>
                      <a:pt x="1267" y="0"/>
                    </a:lnTo>
                    <a:lnTo>
                      <a:pt x="1201" y="22"/>
                    </a:lnTo>
                    <a:lnTo>
                      <a:pt x="126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184960" y="5073480"/>
                <a:ext cx="5400" cy="74520"/>
              </a:xfrm>
              <a:custGeom>
                <a:avLst/>
                <a:gdLst/>
                <a:ahLst/>
                <a:rect l="l" t="t" r="r" b="b"/>
                <a:pathLst>
                  <a:path w="99" h="932">
                    <a:moveTo>
                      <a:pt x="60" y="932"/>
                    </a:moveTo>
                    <a:lnTo>
                      <a:pt x="99" y="88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83"/>
                    </a:lnTo>
                    <a:lnTo>
                      <a:pt x="38" y="828"/>
                    </a:lnTo>
                    <a:lnTo>
                      <a:pt x="60" y="932"/>
                    </a:lnTo>
                    <a:lnTo>
                      <a:pt x="99" y="922"/>
                    </a:lnTo>
                    <a:lnTo>
                      <a:pt x="99" y="883"/>
                    </a:lnTo>
                    <a:lnTo>
                      <a:pt x="60" y="9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74440" y="5110920"/>
                <a:ext cx="32760" cy="72360"/>
              </a:xfrm>
              <a:custGeom>
                <a:avLst/>
                <a:gdLst/>
                <a:ahLst/>
                <a:rect l="l" t="t" r="r" b="b"/>
                <a:pathLst>
                  <a:path w="576" h="901">
                    <a:moveTo>
                      <a:pt x="576" y="758"/>
                    </a:moveTo>
                    <a:lnTo>
                      <a:pt x="0" y="901"/>
                    </a:lnTo>
                    <a:lnTo>
                      <a:pt x="0" y="160"/>
                    </a:lnTo>
                    <a:lnTo>
                      <a:pt x="576" y="0"/>
                    </a:lnTo>
                    <a:lnTo>
                      <a:pt x="576" y="7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071200" y="5168880"/>
                <a:ext cx="36360" cy="19800"/>
              </a:xfrm>
              <a:custGeom>
                <a:avLst/>
                <a:gdLst/>
                <a:ahLst/>
                <a:rect l="l" t="t" r="r" b="b"/>
                <a:pathLst>
                  <a:path w="647" h="264">
                    <a:moveTo>
                      <a:pt x="0" y="198"/>
                    </a:moveTo>
                    <a:lnTo>
                      <a:pt x="71" y="247"/>
                    </a:lnTo>
                    <a:lnTo>
                      <a:pt x="647" y="104"/>
                    </a:lnTo>
                    <a:lnTo>
                      <a:pt x="614" y="0"/>
                    </a:lnTo>
                    <a:lnTo>
                      <a:pt x="38" y="143"/>
                    </a:lnTo>
                    <a:lnTo>
                      <a:pt x="110" y="198"/>
                    </a:lnTo>
                    <a:lnTo>
                      <a:pt x="0" y="198"/>
                    </a:lnTo>
                    <a:lnTo>
                      <a:pt x="0" y="264"/>
                    </a:lnTo>
                    <a:lnTo>
                      <a:pt x="71" y="24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071200" y="5121360"/>
                <a:ext cx="6840" cy="62280"/>
              </a:xfrm>
              <a:custGeom>
                <a:avLst/>
                <a:gdLst/>
                <a:ahLst/>
                <a:rect l="l" t="t" r="r" b="b"/>
                <a:pathLst>
                  <a:path w="110" h="791">
                    <a:moveTo>
                      <a:pt x="38" y="0"/>
                    </a:moveTo>
                    <a:lnTo>
                      <a:pt x="0" y="50"/>
                    </a:lnTo>
                    <a:lnTo>
                      <a:pt x="0" y="791"/>
                    </a:lnTo>
                    <a:lnTo>
                      <a:pt x="110" y="791"/>
                    </a:lnTo>
                    <a:lnTo>
                      <a:pt x="110" y="50"/>
                    </a:lnTo>
                    <a:lnTo>
                      <a:pt x="71" y="99"/>
                    </a:lnTo>
                    <a:lnTo>
                      <a:pt x="38" y="0"/>
                    </a:lnTo>
                    <a:lnTo>
                      <a:pt x="0" y="1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074440" y="5105880"/>
                <a:ext cx="34200" cy="22320"/>
              </a:xfrm>
              <a:custGeom>
                <a:avLst/>
                <a:gdLst/>
                <a:ahLst/>
                <a:rect l="l" t="t" r="r" b="b"/>
                <a:pathLst>
                  <a:path w="642" h="280">
                    <a:moveTo>
                      <a:pt x="642" y="71"/>
                    </a:moveTo>
                    <a:lnTo>
                      <a:pt x="576" y="17"/>
                    </a:lnTo>
                    <a:lnTo>
                      <a:pt x="0" y="181"/>
                    </a:lnTo>
                    <a:lnTo>
                      <a:pt x="33" y="280"/>
                    </a:lnTo>
                    <a:lnTo>
                      <a:pt x="609" y="121"/>
                    </a:lnTo>
                    <a:lnTo>
                      <a:pt x="543" y="71"/>
                    </a:lnTo>
                    <a:lnTo>
                      <a:pt x="642" y="71"/>
                    </a:lnTo>
                    <a:lnTo>
                      <a:pt x="642" y="0"/>
                    </a:lnTo>
                    <a:lnTo>
                      <a:pt x="576" y="17"/>
                    </a:lnTo>
                    <a:lnTo>
                      <a:pt x="642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103960" y="5110920"/>
                <a:ext cx="5040" cy="65160"/>
              </a:xfrm>
              <a:custGeom>
                <a:avLst/>
                <a:gdLst/>
                <a:ahLst/>
                <a:rect l="l" t="t" r="r" b="b"/>
                <a:pathLst>
                  <a:path w="99" h="807">
                    <a:moveTo>
                      <a:pt x="66" y="807"/>
                    </a:moveTo>
                    <a:lnTo>
                      <a:pt x="99" y="75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758"/>
                    </a:lnTo>
                    <a:lnTo>
                      <a:pt x="33" y="703"/>
                    </a:lnTo>
                    <a:lnTo>
                      <a:pt x="66" y="807"/>
                    </a:lnTo>
                    <a:lnTo>
                      <a:pt x="99" y="797"/>
                    </a:lnTo>
                    <a:lnTo>
                      <a:pt x="99" y="758"/>
                    </a:lnTo>
                    <a:lnTo>
                      <a:pt x="66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74440" y="5221080"/>
                <a:ext cx="32760" cy="72360"/>
              </a:xfrm>
              <a:custGeom>
                <a:avLst/>
                <a:gdLst/>
                <a:ahLst/>
                <a:rect l="l" t="t" r="r" b="b"/>
                <a:pathLst>
                  <a:path w="576" h="884">
                    <a:moveTo>
                      <a:pt x="576" y="813"/>
                    </a:moveTo>
                    <a:lnTo>
                      <a:pt x="0" y="884"/>
                    </a:lnTo>
                    <a:lnTo>
                      <a:pt x="0" y="110"/>
                    </a:lnTo>
                    <a:lnTo>
                      <a:pt x="576" y="0"/>
                    </a:lnTo>
                    <a:lnTo>
                      <a:pt x="576" y="8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071200" y="5283360"/>
                <a:ext cx="36360" cy="15120"/>
              </a:xfrm>
              <a:custGeom>
                <a:avLst/>
                <a:gdLst/>
                <a:ahLst/>
                <a:rect l="l" t="t" r="r" b="b"/>
                <a:pathLst>
                  <a:path w="637" h="181">
                    <a:moveTo>
                      <a:pt x="0" y="120"/>
                    </a:moveTo>
                    <a:lnTo>
                      <a:pt x="60" y="170"/>
                    </a:lnTo>
                    <a:lnTo>
                      <a:pt x="637" y="99"/>
                    </a:lnTo>
                    <a:lnTo>
                      <a:pt x="625" y="0"/>
                    </a:lnTo>
                    <a:lnTo>
                      <a:pt x="49" y="71"/>
                    </a:lnTo>
                    <a:lnTo>
                      <a:pt x="110" y="120"/>
                    </a:lnTo>
                    <a:lnTo>
                      <a:pt x="0" y="120"/>
                    </a:lnTo>
                    <a:lnTo>
                      <a:pt x="0" y="181"/>
                    </a:lnTo>
                    <a:lnTo>
                      <a:pt x="60" y="17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071200" y="5226120"/>
                <a:ext cx="6840" cy="67320"/>
              </a:xfrm>
              <a:custGeom>
                <a:avLst/>
                <a:gdLst/>
                <a:ahLst/>
                <a:rect l="l" t="t" r="r" b="b"/>
                <a:pathLst>
                  <a:path w="110" h="823">
                    <a:moveTo>
                      <a:pt x="44" y="0"/>
                    </a:moveTo>
                    <a:lnTo>
                      <a:pt x="0" y="49"/>
                    </a:lnTo>
                    <a:lnTo>
                      <a:pt x="0" y="823"/>
                    </a:lnTo>
                    <a:lnTo>
                      <a:pt x="110" y="823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074440" y="5215680"/>
                <a:ext cx="34200" cy="1728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66"/>
                    </a:moveTo>
                    <a:lnTo>
                      <a:pt x="576" y="17"/>
                    </a:lnTo>
                    <a:lnTo>
                      <a:pt x="0" y="127"/>
                    </a:lnTo>
                    <a:lnTo>
                      <a:pt x="22" y="231"/>
                    </a:lnTo>
                    <a:lnTo>
                      <a:pt x="598" y="116"/>
                    </a:lnTo>
                    <a:lnTo>
                      <a:pt x="537" y="66"/>
                    </a:lnTo>
                    <a:lnTo>
                      <a:pt x="636" y="66"/>
                    </a:lnTo>
                    <a:lnTo>
                      <a:pt x="636" y="0"/>
                    </a:lnTo>
                    <a:lnTo>
                      <a:pt x="576" y="17"/>
                    </a:lnTo>
                    <a:lnTo>
                      <a:pt x="636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103960" y="5221080"/>
                <a:ext cx="5040" cy="70200"/>
              </a:xfrm>
              <a:custGeom>
                <a:avLst/>
                <a:gdLst/>
                <a:ahLst/>
                <a:rect l="l" t="t" r="r" b="b"/>
                <a:pathLst>
                  <a:path w="99" h="863">
                    <a:moveTo>
                      <a:pt x="56" y="863"/>
                    </a:moveTo>
                    <a:lnTo>
                      <a:pt x="99" y="81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44" y="764"/>
                    </a:lnTo>
                    <a:lnTo>
                      <a:pt x="56" y="863"/>
                    </a:lnTo>
                    <a:lnTo>
                      <a:pt x="99" y="857"/>
                    </a:lnTo>
                    <a:lnTo>
                      <a:pt x="99" y="813"/>
                    </a:lnTo>
                    <a:lnTo>
                      <a:pt x="56" y="8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1500120" y="4334040"/>
              <a:ext cx="550800" cy="54108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Stamp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l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721" idx="0"/>
              <a:endCxn id="1120" idx="3"/>
            </p:cNvCxnSpPr>
            <p:nvPr/>
          </p:nvCxnSpPr>
          <p:spPr>
            <a:xfrm flipV="1">
              <a:off x="1337760" y="4874400"/>
              <a:ext cx="438840" cy="623160"/>
            </a:xfrm>
            <a:prstGeom prst="bentConnector2">
              <a:avLst/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22" name=""/>
            <p:cNvSpPr/>
            <p:nvPr/>
          </p:nvSpPr>
          <p:spPr>
            <a:xfrm>
              <a:off x="4705200" y="2943360"/>
              <a:ext cx="698760" cy="7984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900" spc="-1" strike="noStrike">
                  <a:solidFill>
                    <a:srgbClr val="336699"/>
                  </a:solidFill>
                  <a:latin typeface="Times New Roman"/>
                </a:rPr>
                <a:t>CMDA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900" spc="-1" strike="noStrike">
                  <a:solidFill>
                    <a:srgbClr val="336699"/>
                  </a:solidFill>
                  <a:latin typeface="Times New Roman"/>
                </a:rPr>
                <a:t>D 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3" name=""/>
            <p:cNvCxnSpPr>
              <a:stCxn id="1120" idx="4"/>
              <a:endCxn id="1122" idx="2"/>
            </p:cNvCxnSpPr>
            <p:nvPr/>
          </p:nvCxnSpPr>
          <p:spPr>
            <a:xfrm flipV="1">
              <a:off x="2050560" y="3342960"/>
              <a:ext cx="2655000" cy="12628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24" name=""/>
            <p:cNvSpPr/>
            <p:nvPr/>
          </p:nvSpPr>
          <p:spPr>
            <a:xfrm>
              <a:off x="1754280" y="1744560"/>
              <a:ext cx="476280" cy="59220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Assemb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l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5" name=""/>
            <p:cNvCxnSpPr>
              <a:stCxn id="654" idx="3"/>
              <a:endCxn id="1124" idx="1"/>
            </p:cNvCxnSpPr>
            <p:nvPr/>
          </p:nvCxnSpPr>
          <p:spPr>
            <a:xfrm>
              <a:off x="1487520" y="1301760"/>
              <a:ext cx="505440" cy="443520"/>
            </a:xfrm>
            <a:prstGeom prst="bentConnector2">
              <a:avLst/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26" name=""/>
            <p:cNvCxnSpPr>
              <a:stCxn id="1124" idx="4"/>
              <a:endCxn id="1122" idx="2"/>
            </p:cNvCxnSpPr>
            <p:nvPr/>
          </p:nvCxnSpPr>
          <p:spPr>
            <a:xfrm>
              <a:off x="2230560" y="2041560"/>
              <a:ext cx="2475360" cy="1302480"/>
            </a:xfrm>
            <a:prstGeom prst="bentConnector3">
              <a:avLst>
                <a:gd name="adj1" fmla="val 49963"/>
              </a:avLst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27" name=""/>
            <p:cNvSpPr/>
            <p:nvPr/>
          </p:nvSpPr>
          <p:spPr>
            <a:xfrm>
              <a:off x="7039080" y="4081320"/>
              <a:ext cx="565200" cy="63036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owertr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l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8" name=""/>
            <p:cNvCxnSpPr>
              <a:stCxn id="994" idx="0"/>
              <a:endCxn id="1127" idx="3"/>
            </p:cNvCxnSpPr>
            <p:nvPr/>
          </p:nvCxnSpPr>
          <p:spPr>
            <a:xfrm rot="10800000">
              <a:off x="7320960" y="4710960"/>
              <a:ext cx="741960" cy="483480"/>
            </a:xfrm>
            <a:prstGeom prst="bentConnector2">
              <a:avLst/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29" name=""/>
            <p:cNvSpPr/>
            <p:nvPr/>
          </p:nvSpPr>
          <p:spPr>
            <a:xfrm>
              <a:off x="7026120" y="2590920"/>
              <a:ext cx="487440" cy="49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owertr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Assemb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Pl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Times New Roman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0" name=""/>
            <p:cNvCxnSpPr>
              <a:stCxn id="960" idx="1"/>
              <a:endCxn id="1129" idx="1"/>
            </p:cNvCxnSpPr>
            <p:nvPr/>
          </p:nvCxnSpPr>
          <p:spPr>
            <a:xfrm flipV="1" rot="10800000">
              <a:off x="7270200" y="2223000"/>
              <a:ext cx="821160" cy="367560"/>
            </a:xfrm>
            <a:prstGeom prst="bentConnector2">
              <a:avLst/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31" name=""/>
            <p:cNvCxnSpPr>
              <a:stCxn id="1129" idx="2"/>
              <a:endCxn id="1122" idx="4"/>
            </p:cNvCxnSpPr>
            <p:nvPr/>
          </p:nvCxnSpPr>
          <p:spPr>
            <a:xfrm flipV="1" rot="10800000">
              <a:off x="5403240" y="2835360"/>
              <a:ext cx="1622880" cy="506880"/>
            </a:xfrm>
            <a:prstGeom prst="bentConnector3">
              <a:avLst>
                <a:gd name="adj1" fmla="val 49988"/>
              </a:avLst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32" name=""/>
            <p:cNvCxnSpPr>
              <a:stCxn id="1127" idx="2"/>
              <a:endCxn id="1122" idx="4"/>
            </p:cNvCxnSpPr>
            <p:nvPr/>
          </p:nvCxnSpPr>
          <p:spPr>
            <a:xfrm rot="10800000">
              <a:off x="5403240" y="3342600"/>
              <a:ext cx="1635840" cy="1054800"/>
            </a:xfrm>
            <a:prstGeom prst="bentConnector3">
              <a:avLst>
                <a:gd name="adj1" fmla="val 49988"/>
              </a:avLst>
            </a:prstGeom>
            <a:ln w="19080">
              <a:solidFill>
                <a:srgbClr val="336699"/>
              </a:solidFill>
              <a:miter/>
              <a:headEnd len="lg" type="triangle" w="lg"/>
              <a:tailEnd len="lg" type="triangle" w="lg"/>
            </a:ln>
          </p:spPr>
        </p:cxnSp>
        <p:pic>
          <p:nvPicPr>
            <p:cNvPr id="1133" name="Supplier" descr=""/>
            <p:cNvPicPr/>
            <p:nvPr/>
          </p:nvPicPr>
          <p:blipFill>
            <a:blip r:embed="rId3"/>
            <a:stretch/>
          </p:blipFill>
          <p:spPr>
            <a:xfrm>
              <a:off x="3228840" y="5549760"/>
              <a:ext cx="91944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Supplier" descr=""/>
            <p:cNvPicPr/>
            <p:nvPr/>
          </p:nvPicPr>
          <p:blipFill>
            <a:blip r:embed="rId4"/>
            <a:stretch/>
          </p:blipFill>
          <p:spPr>
            <a:xfrm>
              <a:off x="5769000" y="5538960"/>
              <a:ext cx="919080" cy="50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35" name=""/>
            <p:cNvCxnSpPr>
              <a:stCxn id="1133" idx="0"/>
              <a:endCxn id="1122" idx="3"/>
            </p:cNvCxnSpPr>
            <p:nvPr/>
          </p:nvCxnSpPr>
          <p:spPr>
            <a:xfrm flipH="1" flipV="1" rot="5400000">
              <a:off x="3467160" y="3962880"/>
              <a:ext cx="1808640" cy="1365840"/>
            </a:xfrm>
            <a:prstGeom prst="bentConnector3">
              <a:avLst>
                <a:gd name="adj1" fmla="val 49950"/>
              </a:avLst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136" name=""/>
            <p:cNvCxnSpPr/>
            <p:nvPr/>
          </p:nvCxnSpPr>
          <p:spPr>
            <a:xfrm flipV="1" rot="16200000">
              <a:off x="4743000" y="4055400"/>
              <a:ext cx="1797480" cy="1175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37" name=""/>
            <p:cNvSpPr/>
            <p:nvPr/>
          </p:nvSpPr>
          <p:spPr>
            <a:xfrm>
              <a:off x="3542040" y="2981160"/>
              <a:ext cx="63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Times New Roman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65960" y="2979720"/>
              <a:ext cx="63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Times New Roman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00440" y="4665600"/>
              <a:ext cx="22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Times New Roman"/>
                </a:rPr>
                <a:t>Supplier Support         Auto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97360" y="2619360"/>
              <a:ext cx="21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Times New Roman"/>
                </a:rPr>
                <a:t>WebAnalysis@DCX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95600" y="1494000"/>
              <a:ext cx="1123920" cy="853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2" name="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995560" y="1851120"/>
              <a:ext cx="655560" cy="482400"/>
            </a:xfrm>
            <a:prstGeom prst="rect">
              <a:avLst/>
            </a:prstGeom>
            <a:ln w="12600">
              <a:solidFill>
                <a:srgbClr val="c0c0c0"/>
              </a:solidFill>
              <a:miter/>
            </a:ln>
          </p:spPr>
        </p:pic>
        <p:grpSp>
          <p:nvGrpSpPr>
            <p:cNvPr id="1143" name=""/>
            <p:cNvGrpSpPr/>
            <p:nvPr/>
          </p:nvGrpSpPr>
          <p:grpSpPr>
            <a:xfrm>
              <a:off x="2657520" y="1631880"/>
              <a:ext cx="225360" cy="93600"/>
              <a:chOff x="2657520" y="1631880"/>
              <a:chExt cx="225360" cy="93600"/>
            </a:xfrm>
          </p:grpSpPr>
          <p:sp>
            <p:nvSpPr>
              <p:cNvPr id="1144" name=""/>
              <p:cNvSpPr/>
              <p:nvPr/>
            </p:nvSpPr>
            <p:spPr>
              <a:xfrm>
                <a:off x="2657520" y="1631880"/>
                <a:ext cx="225360" cy="9360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659680" y="1672920"/>
                <a:ext cx="218160" cy="2736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19440" bIns="-19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3460680" y="1544760"/>
              <a:ext cx="222480" cy="91800"/>
              <a:chOff x="3460680" y="1544760"/>
              <a:chExt cx="222480" cy="91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60680" y="1544760"/>
                <a:ext cx="222480" cy="9180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5000" bIns="45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62840" y="1585080"/>
                <a:ext cx="215640" cy="2700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19800" bIns="-19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639880" y="1789200"/>
              <a:ext cx="222480" cy="90360"/>
              <a:chOff x="2639880" y="1789200"/>
              <a:chExt cx="222480" cy="903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639880" y="1789200"/>
                <a:ext cx="222480" cy="903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3560" bIns="43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42040" y="1828800"/>
                <a:ext cx="215640" cy="2664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2862360" y="1835280"/>
              <a:ext cx="193680" cy="66600"/>
            </a:xfrm>
            <a:custGeom>
              <a:avLst/>
              <a:gdLst/>
              <a:ahLst/>
              <a:rect l="l" t="t" r="r" b="b"/>
              <a:pathLst>
                <a:path w="195" h="69">
                  <a:moveTo>
                    <a:pt x="0" y="0"/>
                  </a:moveTo>
                  <a:lnTo>
                    <a:pt x="81" y="0"/>
                  </a:lnTo>
                  <a:lnTo>
                    <a:pt x="195" y="6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19800" bIns="1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86120" y="1684440"/>
              <a:ext cx="217440" cy="250560"/>
            </a:xfrm>
            <a:custGeom>
              <a:avLst/>
              <a:gdLst/>
              <a:ahLst/>
              <a:rect l="l" t="t" r="r" b="b"/>
              <a:pathLst>
                <a:path w="195" h="69">
                  <a:moveTo>
                    <a:pt x="0" y="0"/>
                  </a:moveTo>
                  <a:lnTo>
                    <a:pt x="81" y="0"/>
                  </a:lnTo>
                  <a:lnTo>
                    <a:pt x="195" y="6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195720" y="1574640"/>
              <a:ext cx="268200" cy="285840"/>
            </a:xfrm>
            <a:custGeom>
              <a:avLst/>
              <a:gdLst/>
              <a:ahLst/>
              <a:rect l="l" t="t" r="r" b="b"/>
              <a:pathLst>
                <a:path w="246" h="249">
                  <a:moveTo>
                    <a:pt x="246" y="0"/>
                  </a:moveTo>
                  <a:lnTo>
                    <a:pt x="192" y="0"/>
                  </a:lnTo>
                  <a:lnTo>
                    <a:pt x="0" y="24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7240" y="1038240"/>
              <a:ext cx="101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Exterior Bu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Objec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3476520" y="1681200"/>
              <a:ext cx="223920" cy="90360"/>
              <a:chOff x="3476520" y="1681200"/>
              <a:chExt cx="223920" cy="90360"/>
            </a:xfrm>
          </p:grpSpPr>
          <p:sp>
            <p:nvSpPr>
              <p:cNvPr id="1157" name=""/>
              <p:cNvSpPr/>
              <p:nvPr/>
            </p:nvSpPr>
            <p:spPr>
              <a:xfrm>
                <a:off x="3476520" y="1681200"/>
                <a:ext cx="223920" cy="903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3560" bIns="43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478680" y="1720800"/>
                <a:ext cx="216720" cy="2664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3259080" y="1733400"/>
              <a:ext cx="214200" cy="146160"/>
            </a:xfrm>
            <a:custGeom>
              <a:avLst/>
              <a:gdLst/>
              <a:ahLst/>
              <a:rect l="l" t="t" r="r" b="b"/>
              <a:pathLst>
                <a:path w="246" h="249">
                  <a:moveTo>
                    <a:pt x="246" y="0"/>
                  </a:moveTo>
                  <a:lnTo>
                    <a:pt x="192" y="0"/>
                  </a:lnTo>
                  <a:lnTo>
                    <a:pt x="0" y="24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3080" y="3675240"/>
              <a:ext cx="955440" cy="811080"/>
            </a:xfrm>
            <a:prstGeom prst="rect">
              <a:avLst/>
            </a:prstGeom>
            <a:solidFill>
              <a:srgbClr val="cc3300"/>
            </a:solidFill>
            <a:ln w="3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1" name="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3797280" y="3735360"/>
              <a:ext cx="25092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3983040" y="3862440"/>
              <a:ext cx="76320" cy="363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0" y="0"/>
                  </a:moveTo>
                  <a:lnTo>
                    <a:pt x="192" y="192"/>
                  </a:lnTo>
                  <a:lnTo>
                    <a:pt x="432" y="192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10440" bIns="-10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7"/>
            <a:stretch/>
          </p:blipFill>
          <p:spPr>
            <a:xfrm>
              <a:off x="3753000" y="3933720"/>
              <a:ext cx="2174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3787920" y="4006800"/>
              <a:ext cx="33120" cy="77760"/>
            </a:xfrm>
            <a:custGeom>
              <a:avLst/>
              <a:gdLst/>
              <a:ahLst/>
              <a:rect l="l" t="t" r="r" b="b"/>
              <a:pathLst>
                <a:path w="373" h="804">
                  <a:moveTo>
                    <a:pt x="246" y="0"/>
                  </a:moveTo>
                  <a:lnTo>
                    <a:pt x="247" y="0"/>
                  </a:lnTo>
                  <a:lnTo>
                    <a:pt x="252" y="16"/>
                  </a:lnTo>
                  <a:lnTo>
                    <a:pt x="253" y="34"/>
                  </a:lnTo>
                  <a:lnTo>
                    <a:pt x="256" y="44"/>
                  </a:lnTo>
                  <a:lnTo>
                    <a:pt x="256" y="55"/>
                  </a:lnTo>
                  <a:lnTo>
                    <a:pt x="257" y="57"/>
                  </a:lnTo>
                  <a:lnTo>
                    <a:pt x="257" y="65"/>
                  </a:lnTo>
                  <a:lnTo>
                    <a:pt x="258" y="67"/>
                  </a:lnTo>
                  <a:lnTo>
                    <a:pt x="257" y="71"/>
                  </a:lnTo>
                  <a:lnTo>
                    <a:pt x="258" y="73"/>
                  </a:lnTo>
                  <a:lnTo>
                    <a:pt x="258" y="80"/>
                  </a:lnTo>
                  <a:lnTo>
                    <a:pt x="260" y="82"/>
                  </a:lnTo>
                  <a:lnTo>
                    <a:pt x="258" y="83"/>
                  </a:lnTo>
                  <a:lnTo>
                    <a:pt x="260" y="85"/>
                  </a:lnTo>
                  <a:lnTo>
                    <a:pt x="260" y="97"/>
                  </a:lnTo>
                  <a:lnTo>
                    <a:pt x="261" y="100"/>
                  </a:lnTo>
                  <a:lnTo>
                    <a:pt x="261" y="118"/>
                  </a:lnTo>
                  <a:lnTo>
                    <a:pt x="262" y="121"/>
                  </a:lnTo>
                  <a:lnTo>
                    <a:pt x="262" y="132"/>
                  </a:lnTo>
                  <a:lnTo>
                    <a:pt x="263" y="133"/>
                  </a:lnTo>
                  <a:lnTo>
                    <a:pt x="263" y="155"/>
                  </a:lnTo>
                  <a:lnTo>
                    <a:pt x="264" y="158"/>
                  </a:lnTo>
                  <a:lnTo>
                    <a:pt x="263" y="161"/>
                  </a:lnTo>
                  <a:lnTo>
                    <a:pt x="264" y="166"/>
                  </a:lnTo>
                  <a:lnTo>
                    <a:pt x="266" y="189"/>
                  </a:lnTo>
                  <a:lnTo>
                    <a:pt x="267" y="191"/>
                  </a:lnTo>
                  <a:lnTo>
                    <a:pt x="267" y="204"/>
                  </a:lnTo>
                  <a:lnTo>
                    <a:pt x="268" y="207"/>
                  </a:lnTo>
                  <a:lnTo>
                    <a:pt x="267" y="211"/>
                  </a:lnTo>
                  <a:lnTo>
                    <a:pt x="268" y="213"/>
                  </a:lnTo>
                  <a:lnTo>
                    <a:pt x="268" y="243"/>
                  </a:lnTo>
                  <a:lnTo>
                    <a:pt x="267" y="247"/>
                  </a:lnTo>
                  <a:lnTo>
                    <a:pt x="267" y="256"/>
                  </a:lnTo>
                  <a:lnTo>
                    <a:pt x="263" y="263"/>
                  </a:lnTo>
                  <a:lnTo>
                    <a:pt x="260" y="268"/>
                  </a:lnTo>
                  <a:lnTo>
                    <a:pt x="247" y="269"/>
                  </a:lnTo>
                  <a:lnTo>
                    <a:pt x="227" y="298"/>
                  </a:lnTo>
                  <a:lnTo>
                    <a:pt x="227" y="300"/>
                  </a:lnTo>
                  <a:lnTo>
                    <a:pt x="213" y="325"/>
                  </a:lnTo>
                  <a:lnTo>
                    <a:pt x="213" y="326"/>
                  </a:lnTo>
                  <a:lnTo>
                    <a:pt x="179" y="407"/>
                  </a:lnTo>
                  <a:lnTo>
                    <a:pt x="171" y="426"/>
                  </a:lnTo>
                  <a:lnTo>
                    <a:pt x="165" y="435"/>
                  </a:lnTo>
                  <a:lnTo>
                    <a:pt x="165" y="438"/>
                  </a:lnTo>
                  <a:lnTo>
                    <a:pt x="143" y="473"/>
                  </a:lnTo>
                  <a:lnTo>
                    <a:pt x="128" y="486"/>
                  </a:lnTo>
                  <a:lnTo>
                    <a:pt x="123" y="489"/>
                  </a:lnTo>
                  <a:lnTo>
                    <a:pt x="121" y="493"/>
                  </a:lnTo>
                  <a:lnTo>
                    <a:pt x="109" y="499"/>
                  </a:lnTo>
                  <a:lnTo>
                    <a:pt x="83" y="517"/>
                  </a:lnTo>
                  <a:lnTo>
                    <a:pt x="56" y="541"/>
                  </a:lnTo>
                  <a:lnTo>
                    <a:pt x="56" y="544"/>
                  </a:lnTo>
                  <a:lnTo>
                    <a:pt x="48" y="550"/>
                  </a:lnTo>
                  <a:lnTo>
                    <a:pt x="48" y="552"/>
                  </a:lnTo>
                  <a:lnTo>
                    <a:pt x="45" y="552"/>
                  </a:lnTo>
                  <a:lnTo>
                    <a:pt x="45" y="555"/>
                  </a:lnTo>
                  <a:lnTo>
                    <a:pt x="33" y="568"/>
                  </a:lnTo>
                  <a:lnTo>
                    <a:pt x="32" y="572"/>
                  </a:lnTo>
                  <a:lnTo>
                    <a:pt x="22" y="584"/>
                  </a:lnTo>
                  <a:lnTo>
                    <a:pt x="22" y="586"/>
                  </a:lnTo>
                  <a:lnTo>
                    <a:pt x="12" y="610"/>
                  </a:lnTo>
                  <a:lnTo>
                    <a:pt x="12" y="618"/>
                  </a:lnTo>
                  <a:lnTo>
                    <a:pt x="9" y="636"/>
                  </a:lnTo>
                  <a:lnTo>
                    <a:pt x="9" y="641"/>
                  </a:lnTo>
                  <a:lnTo>
                    <a:pt x="8" y="642"/>
                  </a:lnTo>
                  <a:lnTo>
                    <a:pt x="8" y="672"/>
                  </a:lnTo>
                  <a:lnTo>
                    <a:pt x="9" y="675"/>
                  </a:lnTo>
                  <a:lnTo>
                    <a:pt x="10" y="693"/>
                  </a:lnTo>
                  <a:lnTo>
                    <a:pt x="9" y="696"/>
                  </a:lnTo>
                  <a:lnTo>
                    <a:pt x="11" y="702"/>
                  </a:lnTo>
                  <a:lnTo>
                    <a:pt x="11" y="710"/>
                  </a:lnTo>
                  <a:lnTo>
                    <a:pt x="21" y="742"/>
                  </a:lnTo>
                  <a:lnTo>
                    <a:pt x="33" y="775"/>
                  </a:lnTo>
                  <a:lnTo>
                    <a:pt x="36" y="781"/>
                  </a:lnTo>
                  <a:lnTo>
                    <a:pt x="55" y="790"/>
                  </a:lnTo>
                  <a:lnTo>
                    <a:pt x="59" y="790"/>
                  </a:lnTo>
                  <a:lnTo>
                    <a:pt x="59" y="787"/>
                  </a:lnTo>
                  <a:lnTo>
                    <a:pt x="56" y="782"/>
                  </a:lnTo>
                  <a:lnTo>
                    <a:pt x="54" y="782"/>
                  </a:lnTo>
                  <a:lnTo>
                    <a:pt x="48" y="767"/>
                  </a:lnTo>
                  <a:lnTo>
                    <a:pt x="38" y="728"/>
                  </a:lnTo>
                  <a:lnTo>
                    <a:pt x="37" y="709"/>
                  </a:lnTo>
                  <a:lnTo>
                    <a:pt x="36" y="707"/>
                  </a:lnTo>
                  <a:lnTo>
                    <a:pt x="36" y="687"/>
                  </a:lnTo>
                  <a:lnTo>
                    <a:pt x="39" y="663"/>
                  </a:lnTo>
                  <a:lnTo>
                    <a:pt x="42" y="657"/>
                  </a:lnTo>
                  <a:lnTo>
                    <a:pt x="40" y="654"/>
                  </a:lnTo>
                  <a:lnTo>
                    <a:pt x="43" y="638"/>
                  </a:lnTo>
                  <a:lnTo>
                    <a:pt x="55" y="608"/>
                  </a:lnTo>
                  <a:lnTo>
                    <a:pt x="65" y="589"/>
                  </a:lnTo>
                  <a:lnTo>
                    <a:pt x="79" y="569"/>
                  </a:lnTo>
                  <a:lnTo>
                    <a:pt x="92" y="558"/>
                  </a:lnTo>
                  <a:lnTo>
                    <a:pt x="116" y="547"/>
                  </a:lnTo>
                  <a:lnTo>
                    <a:pt x="121" y="546"/>
                  </a:lnTo>
                  <a:lnTo>
                    <a:pt x="128" y="547"/>
                  </a:lnTo>
                  <a:lnTo>
                    <a:pt x="131" y="546"/>
                  </a:lnTo>
                  <a:lnTo>
                    <a:pt x="150" y="545"/>
                  </a:lnTo>
                  <a:lnTo>
                    <a:pt x="151" y="544"/>
                  </a:lnTo>
                  <a:lnTo>
                    <a:pt x="159" y="545"/>
                  </a:lnTo>
                  <a:lnTo>
                    <a:pt x="161" y="544"/>
                  </a:lnTo>
                  <a:lnTo>
                    <a:pt x="165" y="545"/>
                  </a:lnTo>
                  <a:lnTo>
                    <a:pt x="169" y="544"/>
                  </a:lnTo>
                  <a:lnTo>
                    <a:pt x="173" y="545"/>
                  </a:lnTo>
                  <a:lnTo>
                    <a:pt x="179" y="545"/>
                  </a:lnTo>
                  <a:lnTo>
                    <a:pt x="197" y="551"/>
                  </a:lnTo>
                  <a:lnTo>
                    <a:pt x="202" y="551"/>
                  </a:lnTo>
                  <a:lnTo>
                    <a:pt x="219" y="558"/>
                  </a:lnTo>
                  <a:lnTo>
                    <a:pt x="222" y="558"/>
                  </a:lnTo>
                  <a:lnTo>
                    <a:pt x="263" y="579"/>
                  </a:lnTo>
                  <a:lnTo>
                    <a:pt x="294" y="600"/>
                  </a:lnTo>
                  <a:lnTo>
                    <a:pt x="312" y="615"/>
                  </a:lnTo>
                  <a:lnTo>
                    <a:pt x="312" y="618"/>
                  </a:lnTo>
                  <a:lnTo>
                    <a:pt x="314" y="618"/>
                  </a:lnTo>
                  <a:lnTo>
                    <a:pt x="319" y="623"/>
                  </a:lnTo>
                  <a:lnTo>
                    <a:pt x="319" y="625"/>
                  </a:lnTo>
                  <a:lnTo>
                    <a:pt x="322" y="625"/>
                  </a:lnTo>
                  <a:lnTo>
                    <a:pt x="347" y="657"/>
                  </a:lnTo>
                  <a:lnTo>
                    <a:pt x="367" y="683"/>
                  </a:lnTo>
                  <a:lnTo>
                    <a:pt x="373" y="686"/>
                  </a:lnTo>
                  <a:lnTo>
                    <a:pt x="367" y="693"/>
                  </a:lnTo>
                  <a:lnTo>
                    <a:pt x="366" y="693"/>
                  </a:lnTo>
                  <a:lnTo>
                    <a:pt x="323" y="634"/>
                  </a:lnTo>
                  <a:lnTo>
                    <a:pt x="320" y="634"/>
                  </a:lnTo>
                  <a:lnTo>
                    <a:pt x="295" y="609"/>
                  </a:lnTo>
                  <a:lnTo>
                    <a:pt x="262" y="586"/>
                  </a:lnTo>
                  <a:lnTo>
                    <a:pt x="261" y="586"/>
                  </a:lnTo>
                  <a:lnTo>
                    <a:pt x="241" y="574"/>
                  </a:lnTo>
                  <a:lnTo>
                    <a:pt x="239" y="574"/>
                  </a:lnTo>
                  <a:lnTo>
                    <a:pt x="219" y="564"/>
                  </a:lnTo>
                  <a:lnTo>
                    <a:pt x="217" y="564"/>
                  </a:lnTo>
                  <a:lnTo>
                    <a:pt x="199" y="557"/>
                  </a:lnTo>
                  <a:lnTo>
                    <a:pt x="180" y="553"/>
                  </a:lnTo>
                  <a:lnTo>
                    <a:pt x="174" y="551"/>
                  </a:lnTo>
                  <a:lnTo>
                    <a:pt x="148" y="551"/>
                  </a:lnTo>
                  <a:lnTo>
                    <a:pt x="128" y="558"/>
                  </a:lnTo>
                  <a:lnTo>
                    <a:pt x="112" y="569"/>
                  </a:lnTo>
                  <a:lnTo>
                    <a:pt x="93" y="590"/>
                  </a:lnTo>
                  <a:lnTo>
                    <a:pt x="92" y="593"/>
                  </a:lnTo>
                  <a:lnTo>
                    <a:pt x="85" y="602"/>
                  </a:lnTo>
                  <a:lnTo>
                    <a:pt x="74" y="631"/>
                  </a:lnTo>
                  <a:lnTo>
                    <a:pt x="73" y="641"/>
                  </a:lnTo>
                  <a:lnTo>
                    <a:pt x="71" y="645"/>
                  </a:lnTo>
                  <a:lnTo>
                    <a:pt x="70" y="658"/>
                  </a:lnTo>
                  <a:lnTo>
                    <a:pt x="67" y="663"/>
                  </a:lnTo>
                  <a:lnTo>
                    <a:pt x="67" y="670"/>
                  </a:lnTo>
                  <a:lnTo>
                    <a:pt x="66" y="671"/>
                  </a:lnTo>
                  <a:lnTo>
                    <a:pt x="66" y="702"/>
                  </a:lnTo>
                  <a:lnTo>
                    <a:pt x="67" y="704"/>
                  </a:lnTo>
                  <a:lnTo>
                    <a:pt x="67" y="722"/>
                  </a:lnTo>
                  <a:lnTo>
                    <a:pt x="71" y="736"/>
                  </a:lnTo>
                  <a:lnTo>
                    <a:pt x="70" y="738"/>
                  </a:lnTo>
                  <a:lnTo>
                    <a:pt x="78" y="769"/>
                  </a:lnTo>
                  <a:lnTo>
                    <a:pt x="93" y="794"/>
                  </a:lnTo>
                  <a:lnTo>
                    <a:pt x="93" y="798"/>
                  </a:lnTo>
                  <a:lnTo>
                    <a:pt x="94" y="800"/>
                  </a:lnTo>
                  <a:lnTo>
                    <a:pt x="89" y="804"/>
                  </a:lnTo>
                  <a:lnTo>
                    <a:pt x="77" y="804"/>
                  </a:lnTo>
                  <a:lnTo>
                    <a:pt x="71" y="803"/>
                  </a:lnTo>
                  <a:lnTo>
                    <a:pt x="34" y="788"/>
                  </a:lnTo>
                  <a:lnTo>
                    <a:pt x="34" y="778"/>
                  </a:lnTo>
                  <a:lnTo>
                    <a:pt x="23" y="778"/>
                  </a:lnTo>
                  <a:lnTo>
                    <a:pt x="23" y="776"/>
                  </a:lnTo>
                  <a:lnTo>
                    <a:pt x="20" y="775"/>
                  </a:lnTo>
                  <a:lnTo>
                    <a:pt x="20" y="773"/>
                  </a:lnTo>
                  <a:lnTo>
                    <a:pt x="27" y="776"/>
                  </a:lnTo>
                  <a:lnTo>
                    <a:pt x="27" y="773"/>
                  </a:lnTo>
                  <a:lnTo>
                    <a:pt x="21" y="766"/>
                  </a:lnTo>
                  <a:lnTo>
                    <a:pt x="9" y="728"/>
                  </a:lnTo>
                  <a:lnTo>
                    <a:pt x="4" y="704"/>
                  </a:lnTo>
                  <a:lnTo>
                    <a:pt x="3" y="690"/>
                  </a:lnTo>
                  <a:lnTo>
                    <a:pt x="1" y="688"/>
                  </a:lnTo>
                  <a:lnTo>
                    <a:pt x="3" y="687"/>
                  </a:lnTo>
                  <a:lnTo>
                    <a:pt x="1" y="685"/>
                  </a:lnTo>
                  <a:lnTo>
                    <a:pt x="0" y="664"/>
                  </a:lnTo>
                  <a:lnTo>
                    <a:pt x="1" y="660"/>
                  </a:lnTo>
                  <a:lnTo>
                    <a:pt x="0" y="659"/>
                  </a:lnTo>
                  <a:lnTo>
                    <a:pt x="1" y="655"/>
                  </a:lnTo>
                  <a:lnTo>
                    <a:pt x="1" y="638"/>
                  </a:lnTo>
                  <a:lnTo>
                    <a:pt x="3" y="635"/>
                  </a:lnTo>
                  <a:lnTo>
                    <a:pt x="1" y="630"/>
                  </a:lnTo>
                  <a:lnTo>
                    <a:pt x="6" y="610"/>
                  </a:lnTo>
                  <a:lnTo>
                    <a:pt x="6" y="608"/>
                  </a:lnTo>
                  <a:lnTo>
                    <a:pt x="11" y="595"/>
                  </a:lnTo>
                  <a:lnTo>
                    <a:pt x="20" y="578"/>
                  </a:lnTo>
                  <a:lnTo>
                    <a:pt x="27" y="569"/>
                  </a:lnTo>
                  <a:lnTo>
                    <a:pt x="27" y="566"/>
                  </a:lnTo>
                  <a:lnTo>
                    <a:pt x="28" y="563"/>
                  </a:lnTo>
                  <a:lnTo>
                    <a:pt x="31" y="563"/>
                  </a:lnTo>
                  <a:lnTo>
                    <a:pt x="31" y="561"/>
                  </a:lnTo>
                  <a:lnTo>
                    <a:pt x="46" y="541"/>
                  </a:lnTo>
                  <a:lnTo>
                    <a:pt x="79" y="510"/>
                  </a:lnTo>
                  <a:lnTo>
                    <a:pt x="95" y="499"/>
                  </a:lnTo>
                  <a:lnTo>
                    <a:pt x="120" y="480"/>
                  </a:lnTo>
                  <a:lnTo>
                    <a:pt x="122" y="480"/>
                  </a:lnTo>
                  <a:lnTo>
                    <a:pt x="122" y="479"/>
                  </a:lnTo>
                  <a:lnTo>
                    <a:pt x="127" y="477"/>
                  </a:lnTo>
                  <a:lnTo>
                    <a:pt x="138" y="465"/>
                  </a:lnTo>
                  <a:lnTo>
                    <a:pt x="140" y="465"/>
                  </a:lnTo>
                  <a:lnTo>
                    <a:pt x="140" y="462"/>
                  </a:lnTo>
                  <a:lnTo>
                    <a:pt x="148" y="454"/>
                  </a:lnTo>
                  <a:lnTo>
                    <a:pt x="150" y="454"/>
                  </a:lnTo>
                  <a:lnTo>
                    <a:pt x="155" y="448"/>
                  </a:lnTo>
                  <a:lnTo>
                    <a:pt x="154" y="443"/>
                  </a:lnTo>
                  <a:lnTo>
                    <a:pt x="160" y="438"/>
                  </a:lnTo>
                  <a:lnTo>
                    <a:pt x="161" y="434"/>
                  </a:lnTo>
                  <a:lnTo>
                    <a:pt x="160" y="429"/>
                  </a:lnTo>
                  <a:lnTo>
                    <a:pt x="166" y="422"/>
                  </a:lnTo>
                  <a:lnTo>
                    <a:pt x="185" y="375"/>
                  </a:lnTo>
                  <a:lnTo>
                    <a:pt x="189" y="369"/>
                  </a:lnTo>
                  <a:lnTo>
                    <a:pt x="189" y="365"/>
                  </a:lnTo>
                  <a:lnTo>
                    <a:pt x="195" y="350"/>
                  </a:lnTo>
                  <a:lnTo>
                    <a:pt x="195" y="347"/>
                  </a:lnTo>
                  <a:lnTo>
                    <a:pt x="206" y="320"/>
                  </a:lnTo>
                  <a:lnTo>
                    <a:pt x="206" y="319"/>
                  </a:lnTo>
                  <a:lnTo>
                    <a:pt x="235" y="270"/>
                  </a:lnTo>
                  <a:lnTo>
                    <a:pt x="240" y="274"/>
                  </a:lnTo>
                  <a:lnTo>
                    <a:pt x="240" y="269"/>
                  </a:lnTo>
                  <a:lnTo>
                    <a:pt x="238" y="268"/>
                  </a:lnTo>
                  <a:lnTo>
                    <a:pt x="244" y="265"/>
                  </a:lnTo>
                  <a:lnTo>
                    <a:pt x="256" y="257"/>
                  </a:lnTo>
                  <a:lnTo>
                    <a:pt x="261" y="256"/>
                  </a:lnTo>
                  <a:lnTo>
                    <a:pt x="262" y="249"/>
                  </a:lnTo>
                  <a:lnTo>
                    <a:pt x="261" y="245"/>
                  </a:lnTo>
                  <a:lnTo>
                    <a:pt x="262" y="243"/>
                  </a:lnTo>
                  <a:lnTo>
                    <a:pt x="262" y="201"/>
                  </a:lnTo>
                  <a:lnTo>
                    <a:pt x="261" y="201"/>
                  </a:lnTo>
                  <a:lnTo>
                    <a:pt x="261" y="178"/>
                  </a:lnTo>
                  <a:lnTo>
                    <a:pt x="258" y="168"/>
                  </a:lnTo>
                  <a:lnTo>
                    <a:pt x="258" y="149"/>
                  </a:lnTo>
                  <a:lnTo>
                    <a:pt x="257" y="147"/>
                  </a:lnTo>
                  <a:lnTo>
                    <a:pt x="257" y="123"/>
                  </a:lnTo>
                  <a:lnTo>
                    <a:pt x="255" y="117"/>
                  </a:lnTo>
                  <a:lnTo>
                    <a:pt x="256" y="106"/>
                  </a:lnTo>
                  <a:lnTo>
                    <a:pt x="255" y="104"/>
                  </a:lnTo>
                  <a:lnTo>
                    <a:pt x="256" y="102"/>
                  </a:lnTo>
                  <a:lnTo>
                    <a:pt x="255" y="100"/>
                  </a:lnTo>
                  <a:lnTo>
                    <a:pt x="255" y="82"/>
                  </a:lnTo>
                  <a:lnTo>
                    <a:pt x="253" y="79"/>
                  </a:lnTo>
                  <a:lnTo>
                    <a:pt x="253" y="70"/>
                  </a:lnTo>
                  <a:lnTo>
                    <a:pt x="251" y="61"/>
                  </a:lnTo>
                  <a:lnTo>
                    <a:pt x="251" y="48"/>
                  </a:lnTo>
                  <a:lnTo>
                    <a:pt x="250" y="46"/>
                  </a:lnTo>
                  <a:lnTo>
                    <a:pt x="251" y="45"/>
                  </a:lnTo>
                  <a:lnTo>
                    <a:pt x="250" y="43"/>
                  </a:lnTo>
                  <a:lnTo>
                    <a:pt x="249" y="23"/>
                  </a:lnTo>
                  <a:lnTo>
                    <a:pt x="246" y="14"/>
                  </a:lnTo>
                  <a:lnTo>
                    <a:pt x="246" y="6"/>
                  </a:lnTo>
                  <a:lnTo>
                    <a:pt x="245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30960" bIns="30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7000" y="4037040"/>
              <a:ext cx="360" cy="14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lnTo>
                    <a:pt x="1" y="5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5360" bIns="-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5200" y="4038480"/>
              <a:ext cx="1800" cy="1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4" y="3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5000" bIns="-45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90800" y="4062240"/>
              <a:ext cx="6480" cy="2232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73" y="1"/>
                  </a:moveTo>
                  <a:lnTo>
                    <a:pt x="58" y="7"/>
                  </a:lnTo>
                  <a:lnTo>
                    <a:pt x="45" y="18"/>
                  </a:lnTo>
                  <a:lnTo>
                    <a:pt x="28" y="43"/>
                  </a:lnTo>
                  <a:lnTo>
                    <a:pt x="17" y="67"/>
                  </a:lnTo>
                  <a:lnTo>
                    <a:pt x="7" y="96"/>
                  </a:lnTo>
                  <a:lnTo>
                    <a:pt x="6" y="110"/>
                  </a:lnTo>
                  <a:lnTo>
                    <a:pt x="1" y="134"/>
                  </a:lnTo>
                  <a:lnTo>
                    <a:pt x="1" y="139"/>
                  </a:lnTo>
                  <a:lnTo>
                    <a:pt x="0" y="140"/>
                  </a:lnTo>
                  <a:lnTo>
                    <a:pt x="1" y="142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2" y="170"/>
                  </a:lnTo>
                  <a:lnTo>
                    <a:pt x="5" y="180"/>
                  </a:lnTo>
                  <a:lnTo>
                    <a:pt x="5" y="185"/>
                  </a:lnTo>
                  <a:lnTo>
                    <a:pt x="7" y="191"/>
                  </a:lnTo>
                  <a:lnTo>
                    <a:pt x="7" y="196"/>
                  </a:lnTo>
                  <a:lnTo>
                    <a:pt x="10" y="201"/>
                  </a:lnTo>
                  <a:lnTo>
                    <a:pt x="10" y="204"/>
                  </a:lnTo>
                  <a:lnTo>
                    <a:pt x="13" y="217"/>
                  </a:lnTo>
                  <a:lnTo>
                    <a:pt x="23" y="235"/>
                  </a:lnTo>
                  <a:lnTo>
                    <a:pt x="34" y="244"/>
                  </a:lnTo>
                  <a:lnTo>
                    <a:pt x="38" y="244"/>
                  </a:lnTo>
                  <a:lnTo>
                    <a:pt x="41" y="246"/>
                  </a:lnTo>
                  <a:lnTo>
                    <a:pt x="47" y="244"/>
                  </a:lnTo>
                  <a:lnTo>
                    <a:pt x="47" y="240"/>
                  </a:lnTo>
                  <a:lnTo>
                    <a:pt x="40" y="230"/>
                  </a:lnTo>
                  <a:lnTo>
                    <a:pt x="33" y="212"/>
                  </a:lnTo>
                  <a:lnTo>
                    <a:pt x="33" y="208"/>
                  </a:lnTo>
                  <a:lnTo>
                    <a:pt x="27" y="190"/>
                  </a:lnTo>
                  <a:lnTo>
                    <a:pt x="26" y="174"/>
                  </a:lnTo>
                  <a:lnTo>
                    <a:pt x="24" y="172"/>
                  </a:lnTo>
                  <a:lnTo>
                    <a:pt x="24" y="167"/>
                  </a:lnTo>
                  <a:lnTo>
                    <a:pt x="23" y="165"/>
                  </a:lnTo>
                  <a:lnTo>
                    <a:pt x="23" y="139"/>
                  </a:lnTo>
                  <a:lnTo>
                    <a:pt x="22" y="136"/>
                  </a:lnTo>
                  <a:lnTo>
                    <a:pt x="22" y="119"/>
                  </a:lnTo>
                  <a:lnTo>
                    <a:pt x="27" y="91"/>
                  </a:lnTo>
                  <a:lnTo>
                    <a:pt x="30" y="83"/>
                  </a:lnTo>
                  <a:lnTo>
                    <a:pt x="30" y="77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41" y="48"/>
                  </a:lnTo>
                  <a:lnTo>
                    <a:pt x="63" y="18"/>
                  </a:lnTo>
                  <a:lnTo>
                    <a:pt x="80" y="6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24480" bIns="-24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22840" y="4013280"/>
              <a:ext cx="25200" cy="34920"/>
            </a:xfrm>
            <a:custGeom>
              <a:avLst/>
              <a:gdLst/>
              <a:ahLst/>
              <a:rect l="l" t="t" r="r" b="b"/>
              <a:pathLst>
                <a:path w="276" h="344">
                  <a:moveTo>
                    <a:pt x="0" y="0"/>
                  </a:moveTo>
                  <a:lnTo>
                    <a:pt x="3" y="0"/>
                  </a:lnTo>
                  <a:lnTo>
                    <a:pt x="8" y="7"/>
                  </a:lnTo>
                  <a:lnTo>
                    <a:pt x="9" y="14"/>
                  </a:lnTo>
                  <a:lnTo>
                    <a:pt x="37" y="79"/>
                  </a:lnTo>
                  <a:lnTo>
                    <a:pt x="49" y="107"/>
                  </a:lnTo>
                  <a:lnTo>
                    <a:pt x="56" y="122"/>
                  </a:lnTo>
                  <a:lnTo>
                    <a:pt x="71" y="158"/>
                  </a:lnTo>
                  <a:lnTo>
                    <a:pt x="95" y="213"/>
                  </a:lnTo>
                  <a:lnTo>
                    <a:pt x="109" y="240"/>
                  </a:lnTo>
                  <a:lnTo>
                    <a:pt x="131" y="262"/>
                  </a:lnTo>
                  <a:lnTo>
                    <a:pt x="140" y="265"/>
                  </a:lnTo>
                  <a:lnTo>
                    <a:pt x="162" y="264"/>
                  </a:lnTo>
                  <a:lnTo>
                    <a:pt x="166" y="271"/>
                  </a:lnTo>
                  <a:lnTo>
                    <a:pt x="182" y="283"/>
                  </a:lnTo>
                  <a:lnTo>
                    <a:pt x="200" y="292"/>
                  </a:lnTo>
                  <a:lnTo>
                    <a:pt x="203" y="292"/>
                  </a:lnTo>
                  <a:lnTo>
                    <a:pt x="222" y="308"/>
                  </a:lnTo>
                  <a:lnTo>
                    <a:pt x="224" y="308"/>
                  </a:lnTo>
                  <a:lnTo>
                    <a:pt x="224" y="310"/>
                  </a:lnTo>
                  <a:lnTo>
                    <a:pt x="227" y="310"/>
                  </a:lnTo>
                  <a:lnTo>
                    <a:pt x="252" y="326"/>
                  </a:lnTo>
                  <a:lnTo>
                    <a:pt x="261" y="332"/>
                  </a:lnTo>
                  <a:lnTo>
                    <a:pt x="261" y="334"/>
                  </a:lnTo>
                  <a:lnTo>
                    <a:pt x="263" y="334"/>
                  </a:lnTo>
                  <a:lnTo>
                    <a:pt x="268" y="337"/>
                  </a:lnTo>
                  <a:lnTo>
                    <a:pt x="268" y="338"/>
                  </a:lnTo>
                  <a:lnTo>
                    <a:pt x="273" y="338"/>
                  </a:lnTo>
                  <a:lnTo>
                    <a:pt x="276" y="343"/>
                  </a:lnTo>
                  <a:lnTo>
                    <a:pt x="276" y="344"/>
                  </a:lnTo>
                  <a:lnTo>
                    <a:pt x="203" y="302"/>
                  </a:lnTo>
                  <a:lnTo>
                    <a:pt x="201" y="302"/>
                  </a:lnTo>
                  <a:lnTo>
                    <a:pt x="192" y="294"/>
                  </a:lnTo>
                  <a:lnTo>
                    <a:pt x="189" y="294"/>
                  </a:lnTo>
                  <a:lnTo>
                    <a:pt x="182" y="289"/>
                  </a:lnTo>
                  <a:lnTo>
                    <a:pt x="166" y="277"/>
                  </a:lnTo>
                  <a:lnTo>
                    <a:pt x="166" y="274"/>
                  </a:lnTo>
                  <a:lnTo>
                    <a:pt x="164" y="274"/>
                  </a:lnTo>
                  <a:lnTo>
                    <a:pt x="162" y="271"/>
                  </a:lnTo>
                  <a:lnTo>
                    <a:pt x="157" y="270"/>
                  </a:lnTo>
                  <a:lnTo>
                    <a:pt x="155" y="271"/>
                  </a:lnTo>
                  <a:lnTo>
                    <a:pt x="134" y="271"/>
                  </a:lnTo>
                  <a:lnTo>
                    <a:pt x="125" y="265"/>
                  </a:lnTo>
                  <a:lnTo>
                    <a:pt x="111" y="253"/>
                  </a:lnTo>
                  <a:lnTo>
                    <a:pt x="101" y="241"/>
                  </a:lnTo>
                  <a:lnTo>
                    <a:pt x="92" y="219"/>
                  </a:lnTo>
                  <a:lnTo>
                    <a:pt x="75" y="180"/>
                  </a:lnTo>
                  <a:lnTo>
                    <a:pt x="75" y="178"/>
                  </a:lnTo>
                  <a:lnTo>
                    <a:pt x="71" y="173"/>
                  </a:lnTo>
                  <a:lnTo>
                    <a:pt x="52" y="124"/>
                  </a:lnTo>
                  <a:lnTo>
                    <a:pt x="45" y="112"/>
                  </a:lnTo>
                  <a:lnTo>
                    <a:pt x="45" y="110"/>
                  </a:lnTo>
                  <a:lnTo>
                    <a:pt x="42" y="105"/>
                  </a:lnTo>
                  <a:lnTo>
                    <a:pt x="42" y="103"/>
                  </a:lnTo>
                  <a:lnTo>
                    <a:pt x="8" y="2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11880" bIns="-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07000" y="4041720"/>
              <a:ext cx="10800" cy="1116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49" y="0"/>
                  </a:moveTo>
                  <a:lnTo>
                    <a:pt x="73" y="0"/>
                  </a:lnTo>
                  <a:lnTo>
                    <a:pt x="86" y="6"/>
                  </a:lnTo>
                  <a:lnTo>
                    <a:pt x="102" y="17"/>
                  </a:lnTo>
                  <a:lnTo>
                    <a:pt x="112" y="32"/>
                  </a:lnTo>
                  <a:lnTo>
                    <a:pt x="112" y="45"/>
                  </a:lnTo>
                  <a:lnTo>
                    <a:pt x="107" y="57"/>
                  </a:lnTo>
                  <a:lnTo>
                    <a:pt x="102" y="57"/>
                  </a:lnTo>
                  <a:lnTo>
                    <a:pt x="101" y="65"/>
                  </a:lnTo>
                  <a:lnTo>
                    <a:pt x="94" y="69"/>
                  </a:lnTo>
                  <a:lnTo>
                    <a:pt x="91" y="69"/>
                  </a:lnTo>
                  <a:lnTo>
                    <a:pt x="91" y="73"/>
                  </a:lnTo>
                  <a:lnTo>
                    <a:pt x="86" y="81"/>
                  </a:lnTo>
                  <a:lnTo>
                    <a:pt x="86" y="83"/>
                  </a:lnTo>
                  <a:lnTo>
                    <a:pt x="84" y="83"/>
                  </a:lnTo>
                  <a:lnTo>
                    <a:pt x="83" y="92"/>
                  </a:lnTo>
                  <a:lnTo>
                    <a:pt x="68" y="104"/>
                  </a:lnTo>
                  <a:lnTo>
                    <a:pt x="60" y="105"/>
                  </a:lnTo>
                  <a:lnTo>
                    <a:pt x="39" y="108"/>
                  </a:lnTo>
                  <a:lnTo>
                    <a:pt x="32" y="105"/>
                  </a:lnTo>
                  <a:lnTo>
                    <a:pt x="17" y="99"/>
                  </a:lnTo>
                  <a:lnTo>
                    <a:pt x="7" y="91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48"/>
                  </a:lnTo>
                  <a:lnTo>
                    <a:pt x="10" y="30"/>
                  </a:lnTo>
                  <a:lnTo>
                    <a:pt x="17" y="18"/>
                  </a:lnTo>
                  <a:lnTo>
                    <a:pt x="29" y="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35640" bIns="-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808440" y="4044960"/>
              <a:ext cx="9360" cy="792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5" y="2"/>
                  </a:moveTo>
                  <a:lnTo>
                    <a:pt x="41" y="2"/>
                  </a:lnTo>
                  <a:lnTo>
                    <a:pt x="23" y="10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65"/>
                  </a:lnTo>
                  <a:lnTo>
                    <a:pt x="0" y="70"/>
                  </a:lnTo>
                  <a:lnTo>
                    <a:pt x="3" y="79"/>
                  </a:lnTo>
                  <a:lnTo>
                    <a:pt x="9" y="88"/>
                  </a:lnTo>
                  <a:lnTo>
                    <a:pt x="23" y="95"/>
                  </a:lnTo>
                  <a:lnTo>
                    <a:pt x="26" y="95"/>
                  </a:lnTo>
                  <a:lnTo>
                    <a:pt x="31" y="99"/>
                  </a:lnTo>
                  <a:lnTo>
                    <a:pt x="47" y="100"/>
                  </a:lnTo>
                  <a:lnTo>
                    <a:pt x="50" y="99"/>
                  </a:lnTo>
                  <a:lnTo>
                    <a:pt x="57" y="99"/>
                  </a:lnTo>
                  <a:lnTo>
                    <a:pt x="65" y="94"/>
                  </a:lnTo>
                  <a:lnTo>
                    <a:pt x="75" y="83"/>
                  </a:lnTo>
                  <a:lnTo>
                    <a:pt x="75" y="71"/>
                  </a:lnTo>
                  <a:lnTo>
                    <a:pt x="78" y="65"/>
                  </a:lnTo>
                  <a:lnTo>
                    <a:pt x="92" y="56"/>
                  </a:lnTo>
                  <a:lnTo>
                    <a:pt x="98" y="49"/>
                  </a:lnTo>
                  <a:lnTo>
                    <a:pt x="101" y="43"/>
                  </a:lnTo>
                  <a:lnTo>
                    <a:pt x="103" y="43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9" y="22"/>
                  </a:lnTo>
                  <a:lnTo>
                    <a:pt x="96" y="16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68" y="0"/>
                  </a:lnTo>
                  <a:lnTo>
                    <a:pt x="46" y="0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38880" bIns="-38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9440" y="4048200"/>
              <a:ext cx="360" cy="3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14920" y="4049640"/>
              <a:ext cx="2880" cy="18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5" y="2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5000" bIns="-45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95840" y="4056120"/>
              <a:ext cx="27000" cy="1908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24" y="0"/>
                  </a:moveTo>
                  <a:lnTo>
                    <a:pt x="48" y="0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5" y="3"/>
                  </a:lnTo>
                  <a:lnTo>
                    <a:pt x="94" y="7"/>
                  </a:lnTo>
                  <a:lnTo>
                    <a:pt x="100" y="7"/>
                  </a:lnTo>
                  <a:lnTo>
                    <a:pt x="118" y="13"/>
                  </a:lnTo>
                  <a:lnTo>
                    <a:pt x="134" y="22"/>
                  </a:lnTo>
                  <a:lnTo>
                    <a:pt x="153" y="30"/>
                  </a:lnTo>
                  <a:lnTo>
                    <a:pt x="195" y="56"/>
                  </a:lnTo>
                  <a:lnTo>
                    <a:pt x="233" y="85"/>
                  </a:lnTo>
                  <a:lnTo>
                    <a:pt x="238" y="92"/>
                  </a:lnTo>
                  <a:lnTo>
                    <a:pt x="240" y="92"/>
                  </a:lnTo>
                  <a:lnTo>
                    <a:pt x="252" y="107"/>
                  </a:lnTo>
                  <a:lnTo>
                    <a:pt x="252" y="109"/>
                  </a:lnTo>
                  <a:lnTo>
                    <a:pt x="255" y="109"/>
                  </a:lnTo>
                  <a:lnTo>
                    <a:pt x="270" y="132"/>
                  </a:lnTo>
                  <a:lnTo>
                    <a:pt x="270" y="135"/>
                  </a:lnTo>
                  <a:lnTo>
                    <a:pt x="273" y="135"/>
                  </a:lnTo>
                  <a:lnTo>
                    <a:pt x="276" y="142"/>
                  </a:lnTo>
                  <a:lnTo>
                    <a:pt x="295" y="167"/>
                  </a:lnTo>
                  <a:lnTo>
                    <a:pt x="292" y="169"/>
                  </a:lnTo>
                  <a:lnTo>
                    <a:pt x="272" y="138"/>
                  </a:lnTo>
                  <a:lnTo>
                    <a:pt x="272" y="137"/>
                  </a:lnTo>
                  <a:lnTo>
                    <a:pt x="269" y="137"/>
                  </a:lnTo>
                  <a:lnTo>
                    <a:pt x="266" y="130"/>
                  </a:lnTo>
                  <a:lnTo>
                    <a:pt x="257" y="120"/>
                  </a:lnTo>
                  <a:lnTo>
                    <a:pt x="253" y="113"/>
                  </a:lnTo>
                  <a:lnTo>
                    <a:pt x="241" y="98"/>
                  </a:lnTo>
                  <a:lnTo>
                    <a:pt x="220" y="80"/>
                  </a:lnTo>
                  <a:lnTo>
                    <a:pt x="220" y="77"/>
                  </a:lnTo>
                  <a:lnTo>
                    <a:pt x="218" y="77"/>
                  </a:lnTo>
                  <a:lnTo>
                    <a:pt x="174" y="46"/>
                  </a:lnTo>
                  <a:lnTo>
                    <a:pt x="166" y="42"/>
                  </a:lnTo>
                  <a:lnTo>
                    <a:pt x="156" y="35"/>
                  </a:lnTo>
                  <a:lnTo>
                    <a:pt x="115" y="15"/>
                  </a:lnTo>
                  <a:lnTo>
                    <a:pt x="111" y="15"/>
                  </a:lnTo>
                  <a:lnTo>
                    <a:pt x="96" y="11"/>
                  </a:lnTo>
                  <a:lnTo>
                    <a:pt x="94" y="11"/>
                  </a:lnTo>
                  <a:lnTo>
                    <a:pt x="76" y="5"/>
                  </a:lnTo>
                  <a:lnTo>
                    <a:pt x="68" y="5"/>
                  </a:lnTo>
                  <a:lnTo>
                    <a:pt x="65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5" y="3"/>
                  </a:lnTo>
                  <a:lnTo>
                    <a:pt x="29" y="3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3" y="9"/>
                  </a:lnTo>
                  <a:lnTo>
                    <a:pt x="0" y="7"/>
                  </a:lnTo>
                  <a:lnTo>
                    <a:pt x="5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27720" bIns="-27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4040" y="4059360"/>
              <a:ext cx="1800" cy="3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790800" y="4059360"/>
              <a:ext cx="3240" cy="288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5" y="0"/>
                  </a:moveTo>
                  <a:lnTo>
                    <a:pt x="40" y="0"/>
                  </a:lnTo>
                  <a:lnTo>
                    <a:pt x="24" y="11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15" y="12"/>
                  </a:lnTo>
                  <a:lnTo>
                    <a:pt x="24" y="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43920" bIns="-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075200"/>
              <a:ext cx="58680" cy="15840"/>
            </a:xfrm>
            <a:custGeom>
              <a:avLst/>
              <a:gdLst/>
              <a:ahLst/>
              <a:rect l="l" t="t" r="r" b="b"/>
              <a:pathLst>
                <a:path w="665" h="175">
                  <a:moveTo>
                    <a:pt x="665" y="0"/>
                  </a:moveTo>
                  <a:lnTo>
                    <a:pt x="665" y="5"/>
                  </a:lnTo>
                  <a:lnTo>
                    <a:pt x="661" y="5"/>
                  </a:lnTo>
                  <a:lnTo>
                    <a:pt x="661" y="7"/>
                  </a:lnTo>
                  <a:lnTo>
                    <a:pt x="652" y="11"/>
                  </a:lnTo>
                  <a:lnTo>
                    <a:pt x="639" y="11"/>
                  </a:lnTo>
                  <a:lnTo>
                    <a:pt x="637" y="12"/>
                  </a:lnTo>
                  <a:lnTo>
                    <a:pt x="631" y="12"/>
                  </a:lnTo>
                  <a:lnTo>
                    <a:pt x="631" y="15"/>
                  </a:lnTo>
                  <a:lnTo>
                    <a:pt x="614" y="20"/>
                  </a:lnTo>
                  <a:lnTo>
                    <a:pt x="604" y="21"/>
                  </a:lnTo>
                  <a:lnTo>
                    <a:pt x="598" y="23"/>
                  </a:lnTo>
                  <a:lnTo>
                    <a:pt x="580" y="24"/>
                  </a:lnTo>
                  <a:lnTo>
                    <a:pt x="577" y="26"/>
                  </a:lnTo>
                  <a:lnTo>
                    <a:pt x="546" y="27"/>
                  </a:lnTo>
                  <a:lnTo>
                    <a:pt x="541" y="28"/>
                  </a:lnTo>
                  <a:lnTo>
                    <a:pt x="537" y="27"/>
                  </a:lnTo>
                  <a:lnTo>
                    <a:pt x="535" y="28"/>
                  </a:lnTo>
                  <a:lnTo>
                    <a:pt x="509" y="28"/>
                  </a:lnTo>
                  <a:lnTo>
                    <a:pt x="507" y="29"/>
                  </a:lnTo>
                  <a:lnTo>
                    <a:pt x="501" y="29"/>
                  </a:lnTo>
                  <a:lnTo>
                    <a:pt x="495" y="32"/>
                  </a:lnTo>
                  <a:lnTo>
                    <a:pt x="490" y="30"/>
                  </a:lnTo>
                  <a:lnTo>
                    <a:pt x="489" y="32"/>
                  </a:lnTo>
                  <a:lnTo>
                    <a:pt x="482" y="32"/>
                  </a:lnTo>
                  <a:lnTo>
                    <a:pt x="465" y="38"/>
                  </a:lnTo>
                  <a:lnTo>
                    <a:pt x="453" y="45"/>
                  </a:lnTo>
                  <a:lnTo>
                    <a:pt x="441" y="58"/>
                  </a:lnTo>
                  <a:lnTo>
                    <a:pt x="441" y="61"/>
                  </a:lnTo>
                  <a:lnTo>
                    <a:pt x="435" y="79"/>
                  </a:lnTo>
                  <a:lnTo>
                    <a:pt x="434" y="85"/>
                  </a:lnTo>
                  <a:lnTo>
                    <a:pt x="434" y="101"/>
                  </a:lnTo>
                  <a:lnTo>
                    <a:pt x="437" y="112"/>
                  </a:lnTo>
                  <a:lnTo>
                    <a:pt x="437" y="116"/>
                  </a:lnTo>
                  <a:lnTo>
                    <a:pt x="440" y="122"/>
                  </a:lnTo>
                  <a:lnTo>
                    <a:pt x="440" y="125"/>
                  </a:lnTo>
                  <a:lnTo>
                    <a:pt x="446" y="139"/>
                  </a:lnTo>
                  <a:lnTo>
                    <a:pt x="462" y="150"/>
                  </a:lnTo>
                  <a:lnTo>
                    <a:pt x="464" y="150"/>
                  </a:lnTo>
                  <a:lnTo>
                    <a:pt x="468" y="153"/>
                  </a:lnTo>
                  <a:lnTo>
                    <a:pt x="468" y="154"/>
                  </a:lnTo>
                  <a:lnTo>
                    <a:pt x="464" y="157"/>
                  </a:lnTo>
                  <a:lnTo>
                    <a:pt x="462" y="157"/>
                  </a:lnTo>
                  <a:lnTo>
                    <a:pt x="453" y="152"/>
                  </a:lnTo>
                  <a:lnTo>
                    <a:pt x="450" y="152"/>
                  </a:lnTo>
                  <a:lnTo>
                    <a:pt x="447" y="156"/>
                  </a:lnTo>
                  <a:lnTo>
                    <a:pt x="446" y="167"/>
                  </a:lnTo>
                  <a:lnTo>
                    <a:pt x="443" y="175"/>
                  </a:lnTo>
                  <a:lnTo>
                    <a:pt x="423" y="171"/>
                  </a:lnTo>
                  <a:lnTo>
                    <a:pt x="292" y="123"/>
                  </a:lnTo>
                  <a:lnTo>
                    <a:pt x="289" y="123"/>
                  </a:lnTo>
                  <a:lnTo>
                    <a:pt x="256" y="108"/>
                  </a:lnTo>
                  <a:lnTo>
                    <a:pt x="249" y="107"/>
                  </a:lnTo>
                  <a:lnTo>
                    <a:pt x="243" y="103"/>
                  </a:lnTo>
                  <a:lnTo>
                    <a:pt x="240" y="103"/>
                  </a:lnTo>
                  <a:lnTo>
                    <a:pt x="169" y="74"/>
                  </a:lnTo>
                  <a:lnTo>
                    <a:pt x="167" y="74"/>
                  </a:lnTo>
                  <a:lnTo>
                    <a:pt x="155" y="68"/>
                  </a:lnTo>
                  <a:lnTo>
                    <a:pt x="152" y="68"/>
                  </a:lnTo>
                  <a:lnTo>
                    <a:pt x="124" y="57"/>
                  </a:lnTo>
                  <a:lnTo>
                    <a:pt x="109" y="50"/>
                  </a:lnTo>
                  <a:lnTo>
                    <a:pt x="106" y="50"/>
                  </a:lnTo>
                  <a:lnTo>
                    <a:pt x="50" y="26"/>
                  </a:lnTo>
                  <a:lnTo>
                    <a:pt x="48" y="26"/>
                  </a:lnTo>
                  <a:lnTo>
                    <a:pt x="33" y="17"/>
                  </a:lnTo>
                  <a:lnTo>
                    <a:pt x="26" y="15"/>
                  </a:lnTo>
                  <a:lnTo>
                    <a:pt x="21" y="15"/>
                  </a:lnTo>
                  <a:lnTo>
                    <a:pt x="9" y="9"/>
                  </a:lnTo>
                  <a:lnTo>
                    <a:pt x="6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4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53" y="22"/>
                  </a:lnTo>
                  <a:lnTo>
                    <a:pt x="55" y="22"/>
                  </a:lnTo>
                  <a:lnTo>
                    <a:pt x="74" y="29"/>
                  </a:lnTo>
                  <a:lnTo>
                    <a:pt x="76" y="32"/>
                  </a:lnTo>
                  <a:lnTo>
                    <a:pt x="162" y="68"/>
                  </a:lnTo>
                  <a:lnTo>
                    <a:pt x="251" y="103"/>
                  </a:lnTo>
                  <a:lnTo>
                    <a:pt x="255" y="103"/>
                  </a:lnTo>
                  <a:lnTo>
                    <a:pt x="273" y="112"/>
                  </a:lnTo>
                  <a:lnTo>
                    <a:pt x="428" y="168"/>
                  </a:lnTo>
                  <a:lnTo>
                    <a:pt x="434" y="168"/>
                  </a:lnTo>
                  <a:lnTo>
                    <a:pt x="440" y="170"/>
                  </a:lnTo>
                  <a:lnTo>
                    <a:pt x="443" y="167"/>
                  </a:lnTo>
                  <a:lnTo>
                    <a:pt x="443" y="158"/>
                  </a:lnTo>
                  <a:lnTo>
                    <a:pt x="446" y="147"/>
                  </a:lnTo>
                  <a:lnTo>
                    <a:pt x="440" y="137"/>
                  </a:lnTo>
                  <a:lnTo>
                    <a:pt x="431" y="114"/>
                  </a:lnTo>
                  <a:lnTo>
                    <a:pt x="431" y="105"/>
                  </a:lnTo>
                  <a:lnTo>
                    <a:pt x="429" y="103"/>
                  </a:lnTo>
                  <a:lnTo>
                    <a:pt x="431" y="101"/>
                  </a:lnTo>
                  <a:lnTo>
                    <a:pt x="429" y="99"/>
                  </a:lnTo>
                  <a:lnTo>
                    <a:pt x="429" y="83"/>
                  </a:lnTo>
                  <a:lnTo>
                    <a:pt x="434" y="62"/>
                  </a:lnTo>
                  <a:lnTo>
                    <a:pt x="443" y="47"/>
                  </a:lnTo>
                  <a:lnTo>
                    <a:pt x="446" y="47"/>
                  </a:lnTo>
                  <a:lnTo>
                    <a:pt x="446" y="45"/>
                  </a:lnTo>
                  <a:lnTo>
                    <a:pt x="470" y="29"/>
                  </a:lnTo>
                  <a:lnTo>
                    <a:pt x="486" y="26"/>
                  </a:lnTo>
                  <a:lnTo>
                    <a:pt x="503" y="24"/>
                  </a:lnTo>
                  <a:lnTo>
                    <a:pt x="504" y="23"/>
                  </a:lnTo>
                  <a:lnTo>
                    <a:pt x="517" y="23"/>
                  </a:lnTo>
                  <a:lnTo>
                    <a:pt x="517" y="22"/>
                  </a:lnTo>
                  <a:lnTo>
                    <a:pt x="547" y="22"/>
                  </a:lnTo>
                  <a:lnTo>
                    <a:pt x="549" y="21"/>
                  </a:lnTo>
                  <a:lnTo>
                    <a:pt x="568" y="21"/>
                  </a:lnTo>
                  <a:lnTo>
                    <a:pt x="570" y="20"/>
                  </a:lnTo>
                  <a:lnTo>
                    <a:pt x="580" y="20"/>
                  </a:lnTo>
                  <a:lnTo>
                    <a:pt x="592" y="17"/>
                  </a:lnTo>
                  <a:lnTo>
                    <a:pt x="601" y="17"/>
                  </a:lnTo>
                  <a:lnTo>
                    <a:pt x="620" y="12"/>
                  </a:lnTo>
                  <a:lnTo>
                    <a:pt x="622" y="12"/>
                  </a:lnTo>
                  <a:lnTo>
                    <a:pt x="647" y="5"/>
                  </a:lnTo>
                  <a:lnTo>
                    <a:pt x="653" y="5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30960" bIns="-30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956040" y="4094280"/>
              <a:ext cx="77760" cy="38160"/>
              <a:chOff x="3956040" y="4094280"/>
              <a:chExt cx="77760" cy="38160"/>
            </a:xfrm>
          </p:grpSpPr>
          <p:sp>
            <p:nvSpPr>
              <p:cNvPr id="1178" name=""/>
              <p:cNvSpPr/>
              <p:nvPr/>
            </p:nvSpPr>
            <p:spPr>
              <a:xfrm>
                <a:off x="3956040" y="4094280"/>
                <a:ext cx="7776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56040" y="411336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956040" y="410364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3678120" y="4095720"/>
              <a:ext cx="77760" cy="38160"/>
              <a:chOff x="3678120" y="4095720"/>
              <a:chExt cx="77760" cy="38160"/>
            </a:xfrm>
          </p:grpSpPr>
          <p:sp>
            <p:nvSpPr>
              <p:cNvPr id="1182" name=""/>
              <p:cNvSpPr/>
              <p:nvPr/>
            </p:nvSpPr>
            <p:spPr>
              <a:xfrm>
                <a:off x="3678120" y="4095720"/>
                <a:ext cx="7776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78120" y="411480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78120" y="410508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3798720" y="4140360"/>
              <a:ext cx="78120" cy="39600"/>
              <a:chOff x="3798720" y="4140360"/>
              <a:chExt cx="78120" cy="39600"/>
            </a:xfrm>
          </p:grpSpPr>
          <p:sp>
            <p:nvSpPr>
              <p:cNvPr id="1186" name=""/>
              <p:cNvSpPr/>
              <p:nvPr/>
            </p:nvSpPr>
            <p:spPr>
              <a:xfrm>
                <a:off x="3798720" y="4140360"/>
                <a:ext cx="78120" cy="3960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7200" bIns="-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798720" y="4160160"/>
                <a:ext cx="78120" cy="0"/>
              </a:xfrm>
              <a:prstGeom prst="line">
                <a:avLst/>
              </a:prstGeom>
              <a:ln w="3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798720" y="4150080"/>
                <a:ext cx="78120" cy="1980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000" bIns="-27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3755880" y="4084560"/>
              <a:ext cx="112680" cy="27000"/>
            </a:xfrm>
            <a:custGeom>
              <a:avLst/>
              <a:gdLst/>
              <a:ahLst/>
              <a:rect l="l" t="t" r="r" b="b"/>
              <a:pathLst>
                <a:path w="429" h="98">
                  <a:moveTo>
                    <a:pt x="396" y="0"/>
                  </a:moveTo>
                  <a:lnTo>
                    <a:pt x="429" y="98"/>
                  </a:lnTo>
                  <a:lnTo>
                    <a:pt x="0" y="95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19800" bIns="-1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8560" y="4084560"/>
              <a:ext cx="35280" cy="7632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48" y="384"/>
                  </a:moveTo>
                  <a:lnTo>
                    <a:pt x="192" y="384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29520" bIns="29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68560" y="4076640"/>
              <a:ext cx="87480" cy="3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480" y="192"/>
                  </a:moveTo>
                  <a:lnTo>
                    <a:pt x="288" y="192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11880" bIns="-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4097160" y="4282920"/>
              <a:ext cx="10188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3" name=""/>
            <p:cNvGrpSpPr/>
            <p:nvPr/>
          </p:nvGrpSpPr>
          <p:grpSpPr>
            <a:xfrm>
              <a:off x="4214880" y="4221000"/>
              <a:ext cx="79200" cy="38160"/>
              <a:chOff x="4214880" y="4221000"/>
              <a:chExt cx="79200" cy="38160"/>
            </a:xfrm>
          </p:grpSpPr>
          <p:sp>
            <p:nvSpPr>
              <p:cNvPr id="1194" name=""/>
              <p:cNvSpPr/>
              <p:nvPr/>
            </p:nvSpPr>
            <p:spPr>
              <a:xfrm>
                <a:off x="4214880" y="4221000"/>
                <a:ext cx="7920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214880" y="4240080"/>
                <a:ext cx="7920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214880" y="423036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4240080" y="4340160"/>
              <a:ext cx="79560" cy="38160"/>
              <a:chOff x="4240080" y="4340160"/>
              <a:chExt cx="79560" cy="38160"/>
            </a:xfrm>
          </p:grpSpPr>
          <p:sp>
            <p:nvSpPr>
              <p:cNvPr id="1198" name=""/>
              <p:cNvSpPr/>
              <p:nvPr/>
            </p:nvSpPr>
            <p:spPr>
              <a:xfrm>
                <a:off x="4240080" y="4340160"/>
                <a:ext cx="7956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40080" y="4359240"/>
                <a:ext cx="795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240080" y="4349520"/>
                <a:ext cx="7956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4186080" y="4324320"/>
              <a:ext cx="54000" cy="36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192"/>
                  </a:moveTo>
                  <a:lnTo>
                    <a:pt x="240" y="192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10080" bIns="-10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75280" y="4240080"/>
              <a:ext cx="41040" cy="63720"/>
            </a:xfrm>
            <a:custGeom>
              <a:avLst/>
              <a:gdLst/>
              <a:ahLst/>
              <a:rect l="l" t="t" r="r" b="b"/>
              <a:pathLst>
                <a:path w="164" h="326">
                  <a:moveTo>
                    <a:pt x="164" y="0"/>
                  </a:moveTo>
                  <a:lnTo>
                    <a:pt x="68" y="0"/>
                  </a:lnTo>
                  <a:lnTo>
                    <a:pt x="0" y="326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16920" bIns="16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4148280" y="3940200"/>
              <a:ext cx="2300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"/>
            <p:cNvGrpSpPr/>
            <p:nvPr/>
          </p:nvGrpSpPr>
          <p:grpSpPr>
            <a:xfrm>
              <a:off x="4398840" y="4062240"/>
              <a:ext cx="77760" cy="36720"/>
              <a:chOff x="4398840" y="4062240"/>
              <a:chExt cx="77760" cy="36720"/>
            </a:xfrm>
          </p:grpSpPr>
          <p:sp>
            <p:nvSpPr>
              <p:cNvPr id="1205" name=""/>
              <p:cNvSpPr/>
              <p:nvPr/>
            </p:nvSpPr>
            <p:spPr>
              <a:xfrm>
                <a:off x="4398840" y="4062240"/>
                <a:ext cx="77760" cy="3672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10080" bIns="-10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398840" y="408060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398840" y="40712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4359240" y="4127400"/>
              <a:ext cx="77760" cy="38160"/>
              <a:chOff x="4359240" y="4127400"/>
              <a:chExt cx="77760" cy="3816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59240" y="4127400"/>
                <a:ext cx="7776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359240" y="414648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359240" y="413676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4251240" y="4062240"/>
              <a:ext cx="147600" cy="17640"/>
            </a:xfrm>
            <a:custGeom>
              <a:avLst/>
              <a:gdLst/>
              <a:ahLst/>
              <a:rect l="l" t="t" r="r" b="b"/>
              <a:pathLst>
                <a:path w="816" h="96">
                  <a:moveTo>
                    <a:pt x="816" y="96"/>
                  </a:moveTo>
                  <a:lnTo>
                    <a:pt x="432" y="96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29160" bIns="-29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60960" y="4070520"/>
              <a:ext cx="101520" cy="77760"/>
            </a:xfrm>
            <a:custGeom>
              <a:avLst/>
              <a:gdLst/>
              <a:ahLst/>
              <a:rect l="l" t="t" r="r" b="b"/>
              <a:pathLst>
                <a:path w="462" h="341">
                  <a:moveTo>
                    <a:pt x="462" y="341"/>
                  </a:moveTo>
                  <a:lnTo>
                    <a:pt x="282" y="341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30960" bIns="30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38760" y="3889440"/>
              <a:ext cx="0" cy="8568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3921120" y="4013280"/>
              <a:ext cx="257040" cy="792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38760" y="4049640"/>
              <a:ext cx="0" cy="16056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90800" y="4210200"/>
              <a:ext cx="363600" cy="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54400" y="4210200"/>
              <a:ext cx="0" cy="8388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90800" y="4210200"/>
              <a:ext cx="0" cy="75960"/>
            </a:xfrm>
            <a:prstGeom prst="line">
              <a:avLst/>
            </a:prstGeom>
            <a:ln w="324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3911760" y="4368960"/>
              <a:ext cx="77760" cy="37800"/>
              <a:chOff x="3911760" y="4368960"/>
              <a:chExt cx="77760" cy="37800"/>
            </a:xfrm>
          </p:grpSpPr>
          <p:sp>
            <p:nvSpPr>
              <p:cNvPr id="1221" name=""/>
              <p:cNvSpPr/>
              <p:nvPr/>
            </p:nvSpPr>
            <p:spPr>
              <a:xfrm>
                <a:off x="3911760" y="4368960"/>
                <a:ext cx="77760" cy="3780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9000" bIns="-9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911760" y="438804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911760" y="437832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8080" bIns="-28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938760" y="4303800"/>
              <a:ext cx="77760" cy="36360"/>
              <a:chOff x="3938760" y="4303800"/>
              <a:chExt cx="77760" cy="36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3938760" y="4303800"/>
                <a:ext cx="77760" cy="363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938760" y="432216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938760" y="4312800"/>
                <a:ext cx="77760" cy="1800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8800" bIns="-28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903840" y="4246560"/>
              <a:ext cx="79200" cy="39600"/>
              <a:chOff x="3903840" y="4246560"/>
              <a:chExt cx="79200" cy="39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3903840" y="4246560"/>
                <a:ext cx="79200" cy="3960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7200" bIns="-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903840" y="4266360"/>
                <a:ext cx="7920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03840" y="4256280"/>
                <a:ext cx="79200" cy="1980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000" bIns="-27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32" name="" descr=""/>
            <p:cNvPicPr/>
            <p:nvPr/>
          </p:nvPicPr>
          <p:blipFill>
            <a:blip r:embed="rId10"/>
            <a:stretch/>
          </p:blipFill>
          <p:spPr>
            <a:xfrm>
              <a:off x="3635280" y="4262400"/>
              <a:ext cx="2253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3844800" y="4349880"/>
              <a:ext cx="17640" cy="81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34200" bIns="34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51280" y="4311720"/>
              <a:ext cx="87480" cy="1116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480" y="48"/>
                  </a:moveTo>
                  <a:lnTo>
                    <a:pt x="192" y="48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-35640" bIns="-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851280" y="4265640"/>
              <a:ext cx="52560" cy="38160"/>
            </a:xfrm>
            <a:prstGeom prst="line">
              <a:avLst/>
            </a:prstGeom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51280" y="4311720"/>
              <a:ext cx="60480" cy="7596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336" y="384"/>
                  </a:moveTo>
                  <a:lnTo>
                    <a:pt x="240" y="384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29160" bIns="29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4052880" y="3882960"/>
              <a:ext cx="77760" cy="38160"/>
              <a:chOff x="4052880" y="3882960"/>
              <a:chExt cx="77760" cy="38160"/>
            </a:xfrm>
          </p:grpSpPr>
          <p:sp>
            <p:nvSpPr>
              <p:cNvPr id="1238" name=""/>
              <p:cNvSpPr/>
              <p:nvPr/>
            </p:nvSpPr>
            <p:spPr>
              <a:xfrm>
                <a:off x="4052880" y="3882960"/>
                <a:ext cx="77760" cy="3816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8640" bIns="-8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52880" y="3902040"/>
                <a:ext cx="77760" cy="0"/>
              </a:xfrm>
              <a:prstGeom prst="line">
                <a:avLst/>
              </a:prstGeom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052880" y="389232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0" y="48"/>
                    </a:moveTo>
                    <a:lnTo>
                      <a:pt x="48" y="0"/>
                    </a:lnTo>
                    <a:lnTo>
                      <a:pt x="96" y="48"/>
                    </a:lnTo>
                    <a:lnTo>
                      <a:pt x="144" y="96"/>
                    </a:lnTo>
                    <a:lnTo>
                      <a:pt x="192" y="0"/>
                    </a:lnTo>
                    <a:lnTo>
                      <a:pt x="240" y="48"/>
                    </a:lnTo>
                    <a:lnTo>
                      <a:pt x="288" y="0"/>
                    </a:lnTo>
                    <a:lnTo>
                      <a:pt x="336" y="96"/>
                    </a:lnTo>
                    <a:lnTo>
                      <a:pt x="384" y="48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7720" bIns="-27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3416400" y="3384720"/>
              <a:ext cx="119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Root Cause T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16080" y="3614760"/>
              <a:ext cx="1046160" cy="7761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2173320" y="3740040"/>
              <a:ext cx="208080" cy="85680"/>
              <a:chOff x="2173320" y="3740040"/>
              <a:chExt cx="208080" cy="85680"/>
            </a:xfrm>
          </p:grpSpPr>
          <p:sp>
            <p:nvSpPr>
              <p:cNvPr id="1244" name=""/>
              <p:cNvSpPr/>
              <p:nvPr/>
            </p:nvSpPr>
            <p:spPr>
              <a:xfrm>
                <a:off x="2173320" y="3740040"/>
                <a:ext cx="208080" cy="8568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8880" bIns="38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175480" y="3777480"/>
                <a:ext cx="201600" cy="2520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2925720" y="3757680"/>
              <a:ext cx="209520" cy="82440"/>
              <a:chOff x="2925720" y="3757680"/>
              <a:chExt cx="209520" cy="82440"/>
            </a:xfrm>
          </p:grpSpPr>
          <p:sp>
            <p:nvSpPr>
              <p:cNvPr id="1247" name=""/>
              <p:cNvSpPr/>
              <p:nvPr/>
            </p:nvSpPr>
            <p:spPr>
              <a:xfrm>
                <a:off x="2925720" y="3757680"/>
                <a:ext cx="209520" cy="8244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927880" y="3793680"/>
                <a:ext cx="203040" cy="2412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2680" bIns="-22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2144880" y="3878280"/>
              <a:ext cx="209520" cy="82440"/>
              <a:chOff x="2144880" y="3878280"/>
              <a:chExt cx="209520" cy="82440"/>
            </a:xfrm>
          </p:grpSpPr>
          <p:sp>
            <p:nvSpPr>
              <p:cNvPr id="1250" name=""/>
              <p:cNvSpPr/>
              <p:nvPr/>
            </p:nvSpPr>
            <p:spPr>
              <a:xfrm>
                <a:off x="2144880" y="3878280"/>
                <a:ext cx="209520" cy="8244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147040" y="3914280"/>
                <a:ext cx="203040" cy="2412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2680" bIns="-22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2357280" y="3917880"/>
              <a:ext cx="139680" cy="71640"/>
            </a:xfrm>
            <a:custGeom>
              <a:avLst/>
              <a:gdLst/>
              <a:ahLst/>
              <a:rect l="l" t="t" r="r" b="b"/>
              <a:pathLst>
                <a:path w="195" h="69">
                  <a:moveTo>
                    <a:pt x="0" y="0"/>
                  </a:moveTo>
                  <a:lnTo>
                    <a:pt x="81" y="0"/>
                  </a:lnTo>
                  <a:lnTo>
                    <a:pt x="195" y="6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24840" bIns="248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84280" y="3787920"/>
              <a:ext cx="271440" cy="171360"/>
            </a:xfrm>
            <a:custGeom>
              <a:avLst/>
              <a:gdLst/>
              <a:ahLst/>
              <a:rect l="l" t="t" r="r" b="b"/>
              <a:pathLst>
                <a:path w="195" h="69">
                  <a:moveTo>
                    <a:pt x="0" y="0"/>
                  </a:moveTo>
                  <a:lnTo>
                    <a:pt x="81" y="0"/>
                  </a:lnTo>
                  <a:lnTo>
                    <a:pt x="195" y="6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38520" y="3794040"/>
              <a:ext cx="187200" cy="174600"/>
            </a:xfrm>
            <a:custGeom>
              <a:avLst/>
              <a:gdLst/>
              <a:ahLst/>
              <a:rect l="l" t="t" r="r" b="b"/>
              <a:pathLst>
                <a:path w="246" h="249">
                  <a:moveTo>
                    <a:pt x="246" y="0"/>
                  </a:moveTo>
                  <a:lnTo>
                    <a:pt x="192" y="0"/>
                  </a:lnTo>
                  <a:lnTo>
                    <a:pt x="0" y="24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76400" y="3373560"/>
              <a:ext cx="13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Hood Asm Che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2940120" y="3889440"/>
              <a:ext cx="209520" cy="85680"/>
              <a:chOff x="2940120" y="3889440"/>
              <a:chExt cx="209520" cy="85680"/>
            </a:xfrm>
          </p:grpSpPr>
          <p:sp>
            <p:nvSpPr>
              <p:cNvPr id="1257" name=""/>
              <p:cNvSpPr/>
              <p:nvPr/>
            </p:nvSpPr>
            <p:spPr>
              <a:xfrm>
                <a:off x="2940120" y="3889440"/>
                <a:ext cx="209520" cy="8568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8880" bIns="38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942280" y="3926880"/>
                <a:ext cx="203040" cy="2520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2830680" y="3932280"/>
              <a:ext cx="109440" cy="63360"/>
            </a:xfrm>
            <a:custGeom>
              <a:avLst/>
              <a:gdLst/>
              <a:ahLst/>
              <a:rect l="l" t="t" r="r" b="b"/>
              <a:pathLst>
                <a:path w="246" h="249">
                  <a:moveTo>
                    <a:pt x="246" y="0"/>
                  </a:moveTo>
                  <a:lnTo>
                    <a:pt x="192" y="0"/>
                  </a:lnTo>
                  <a:lnTo>
                    <a:pt x="0" y="249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16560" bIns="16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2901960" y="4178160"/>
              <a:ext cx="208080" cy="84240"/>
              <a:chOff x="2901960" y="4178160"/>
              <a:chExt cx="208080" cy="84240"/>
            </a:xfrm>
          </p:grpSpPr>
          <p:sp>
            <p:nvSpPr>
              <p:cNvPr id="1261" name=""/>
              <p:cNvSpPr/>
              <p:nvPr/>
            </p:nvSpPr>
            <p:spPr>
              <a:xfrm>
                <a:off x="2901960" y="4178160"/>
                <a:ext cx="208080" cy="8424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7440" bIns="37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904120" y="4215240"/>
                <a:ext cx="201600" cy="2484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1960" bIns="-21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2200320" y="4218120"/>
              <a:ext cx="208080" cy="82440"/>
              <a:chOff x="2200320" y="4218120"/>
              <a:chExt cx="208080" cy="82440"/>
            </a:xfrm>
          </p:grpSpPr>
          <p:sp>
            <p:nvSpPr>
              <p:cNvPr id="1264" name=""/>
              <p:cNvSpPr/>
              <p:nvPr/>
            </p:nvSpPr>
            <p:spPr>
              <a:xfrm>
                <a:off x="2200320" y="4218120"/>
                <a:ext cx="208080" cy="82440"/>
              </a:xfrm>
              <a:prstGeom prst="rect">
                <a:avLst/>
              </a:prstGeom>
              <a:solidFill>
                <a:srgbClr val="cc3300"/>
              </a:solidFill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202480" y="4254120"/>
                <a:ext cx="201600" cy="24120"/>
              </a:xfrm>
              <a:custGeom>
                <a:avLst/>
                <a:gdLst/>
                <a:ahLst/>
                <a:rect l="l" t="t" r="r" b="b"/>
                <a:pathLst>
                  <a:path w="273" h="30">
                    <a:moveTo>
                      <a:pt x="0" y="30"/>
                    </a:moveTo>
                    <a:lnTo>
                      <a:pt x="18" y="15"/>
                    </a:lnTo>
                    <a:lnTo>
                      <a:pt x="33" y="30"/>
                    </a:lnTo>
                    <a:lnTo>
                      <a:pt x="48" y="9"/>
                    </a:lnTo>
                    <a:lnTo>
                      <a:pt x="75" y="18"/>
                    </a:lnTo>
                    <a:lnTo>
                      <a:pt x="93" y="6"/>
                    </a:lnTo>
                    <a:lnTo>
                      <a:pt x="108" y="27"/>
                    </a:lnTo>
                    <a:lnTo>
                      <a:pt x="126" y="27"/>
                    </a:lnTo>
                    <a:lnTo>
                      <a:pt x="150" y="12"/>
                    </a:lnTo>
                    <a:lnTo>
                      <a:pt x="168" y="9"/>
                    </a:lnTo>
                    <a:lnTo>
                      <a:pt x="189" y="24"/>
                    </a:lnTo>
                    <a:lnTo>
                      <a:pt x="219" y="0"/>
                    </a:lnTo>
                    <a:lnTo>
                      <a:pt x="237" y="15"/>
                    </a:lnTo>
                    <a:lnTo>
                      <a:pt x="261" y="15"/>
                    </a:lnTo>
                    <a:lnTo>
                      <a:pt x="273" y="30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-22680" bIns="-22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2408400" y="4060800"/>
              <a:ext cx="61920" cy="200160"/>
            </a:xfrm>
            <a:custGeom>
              <a:avLst/>
              <a:gdLst/>
              <a:ahLst/>
              <a:rect l="l" t="t" r="r" b="b"/>
              <a:pathLst>
                <a:path w="60" h="192">
                  <a:moveTo>
                    <a:pt x="0" y="192"/>
                  </a:moveTo>
                  <a:lnTo>
                    <a:pt x="33" y="192"/>
                  </a:lnTo>
                  <a:lnTo>
                    <a:pt x="6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58960" y="4083120"/>
              <a:ext cx="243000" cy="144360"/>
            </a:xfrm>
            <a:custGeom>
              <a:avLst/>
              <a:gdLst/>
              <a:ahLst/>
              <a:rect l="l" t="t" r="r" b="b"/>
              <a:pathLst>
                <a:path w="237" h="138">
                  <a:moveTo>
                    <a:pt x="237" y="138"/>
                  </a:moveTo>
                  <a:lnTo>
                    <a:pt x="213" y="138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3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33600" y="3956040"/>
              <a:ext cx="459000" cy="171360"/>
            </a:xfrm>
            <a:custGeom>
              <a:avLst/>
              <a:gdLst/>
              <a:ahLst/>
              <a:rect l="l" t="t" r="r" b="b"/>
              <a:pathLst>
                <a:path w="450" h="165">
                  <a:moveTo>
                    <a:pt x="186" y="165"/>
                  </a:moveTo>
                  <a:lnTo>
                    <a:pt x="147" y="153"/>
                  </a:lnTo>
                  <a:lnTo>
                    <a:pt x="72" y="120"/>
                  </a:lnTo>
                  <a:lnTo>
                    <a:pt x="24" y="96"/>
                  </a:lnTo>
                  <a:lnTo>
                    <a:pt x="0" y="72"/>
                  </a:lnTo>
                  <a:lnTo>
                    <a:pt x="15" y="45"/>
                  </a:lnTo>
                  <a:lnTo>
                    <a:pt x="78" y="27"/>
                  </a:lnTo>
                  <a:lnTo>
                    <a:pt x="129" y="15"/>
                  </a:lnTo>
                  <a:lnTo>
                    <a:pt x="165" y="9"/>
                  </a:lnTo>
                  <a:lnTo>
                    <a:pt x="225" y="0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81" y="33"/>
                  </a:lnTo>
                  <a:lnTo>
                    <a:pt x="426" y="51"/>
                  </a:lnTo>
                  <a:lnTo>
                    <a:pt x="450" y="63"/>
                  </a:lnTo>
                  <a:lnTo>
                    <a:pt x="393" y="66"/>
                  </a:lnTo>
                  <a:lnTo>
                    <a:pt x="357" y="69"/>
                  </a:lnTo>
                  <a:lnTo>
                    <a:pt x="318" y="81"/>
                  </a:lnTo>
                  <a:lnTo>
                    <a:pt x="264" y="105"/>
                  </a:lnTo>
                  <a:lnTo>
                    <a:pt x="228" y="120"/>
                  </a:lnTo>
                  <a:lnTo>
                    <a:pt x="201" y="132"/>
                  </a:lnTo>
                  <a:lnTo>
                    <a:pt x="186" y="165"/>
                  </a:lnTo>
                  <a:close/>
                </a:path>
              </a:pathLst>
            </a:custGeom>
            <a:solidFill>
              <a:srgbClr val="cc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9" name="untitled" descr=""/>
            <p:cNvPicPr/>
            <p:nvPr/>
          </p:nvPicPr>
          <p:blipFill>
            <a:blip r:embed="rId11"/>
            <a:stretch/>
          </p:blipFill>
          <p:spPr>
            <a:xfrm>
              <a:off x="6078600" y="895320"/>
              <a:ext cx="1361880" cy="1214640"/>
            </a:xfrm>
            <a:prstGeom prst="rect">
              <a:avLst/>
            </a:prstGeom>
            <a:ln w="38160">
              <a:solidFill>
                <a:srgbClr val="ffffcc"/>
              </a:solidFill>
              <a:miter/>
            </a:ln>
          </p:spPr>
        </p:pic>
        <p:pic>
          <p:nvPicPr>
            <p:cNvPr id="1270" name="" descr=""/>
            <p:cNvPicPr/>
            <p:nvPr/>
          </p:nvPicPr>
          <p:blipFill>
            <a:blip r:embed="rId12"/>
            <a:stretch/>
          </p:blipFill>
          <p:spPr>
            <a:xfrm>
              <a:off x="6670800" y="3124080"/>
              <a:ext cx="12808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6330960" y="641520"/>
              <a:ext cx="8157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BSA Aud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177080" y="681120"/>
              <a:ext cx="637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Times New Roman"/>
                </a:rPr>
                <a:t>DCA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32240" y="543240"/>
              <a:ext cx="494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spAutoFit/>
            </a:bodyPr>
            <a:p>
              <a:pPr algn="ctr">
                <a:tabLst>
                  <a:tab algn="l" pos="0"/>
                  <a:tab algn="l" pos="936720"/>
                  <a:tab algn="l" pos="1873080"/>
                  <a:tab algn="l" pos="2809800"/>
                  <a:tab algn="l" pos="3746520"/>
                  <a:tab algn="l" pos="4683240"/>
                  <a:tab algn="l" pos="5619600"/>
                  <a:tab algn="l" pos="6556320"/>
                  <a:tab algn="l" pos="7493040"/>
                  <a:tab algn="l" pos="8429760"/>
                  <a:tab algn="l" pos="9366120"/>
                  <a:tab algn="l" pos="1030284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Times New Roman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111240" y="2460600"/>
              <a:ext cx="2549160" cy="915480"/>
              <a:chOff x="111240" y="2460600"/>
              <a:chExt cx="2549160" cy="915480"/>
            </a:xfrm>
          </p:grpSpPr>
          <p:sp>
            <p:nvSpPr>
              <p:cNvPr id="1275" name=""/>
              <p:cNvSpPr/>
              <p:nvPr/>
            </p:nvSpPr>
            <p:spPr>
              <a:xfrm>
                <a:off x="111240" y="2460600"/>
                <a:ext cx="2022120" cy="915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960" rIns="9396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7160" y="2551320"/>
                <a:ext cx="2523240" cy="78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47160" bIns="47160" anchor="ctr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36720"/>
                    <a:tab algn="l" pos="1873080"/>
                    <a:tab algn="l" pos="2809800"/>
                    <a:tab algn="l" pos="3746520"/>
                    <a:tab algn="l" pos="4683240"/>
                    <a:tab algn="l" pos="5619600"/>
                    <a:tab algn="l" pos="6556320"/>
                    <a:tab algn="l" pos="7493040"/>
                    <a:tab algn="l" pos="8429760"/>
                    <a:tab algn="l" pos="9366120"/>
                    <a:tab algn="l" pos="1030284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1250 Users at CT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36720"/>
                    <a:tab algn="l" pos="1873080"/>
                    <a:tab algn="l" pos="2809800"/>
                    <a:tab algn="l" pos="3746520"/>
                    <a:tab algn="l" pos="4683240"/>
                    <a:tab algn="l" pos="5619600"/>
                    <a:tab algn="l" pos="6556320"/>
                    <a:tab algn="l" pos="7493040"/>
                    <a:tab algn="l" pos="8429760"/>
                    <a:tab algn="l" pos="9366120"/>
                    <a:tab algn="l" pos="1030284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400 Internet Us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36720"/>
                    <a:tab algn="l" pos="1873080"/>
                    <a:tab algn="l" pos="2809800"/>
                    <a:tab algn="l" pos="3746520"/>
                    <a:tab algn="l" pos="4683240"/>
                    <a:tab algn="l" pos="5619600"/>
                    <a:tab algn="l" pos="6556320"/>
                    <a:tab algn="l" pos="7493040"/>
                    <a:tab algn="l" pos="8429760"/>
                    <a:tab algn="l" pos="9366120"/>
                    <a:tab algn="l" pos="1030284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200 Suppli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77" name="DC-RGB_blau" descr=""/>
            <p:cNvPicPr/>
            <p:nvPr/>
          </p:nvPicPr>
          <p:blipFill>
            <a:blip r:embed="rId13"/>
            <a:stretch/>
          </p:blipFill>
          <p:spPr>
            <a:xfrm>
              <a:off x="7010280" y="5897520"/>
              <a:ext cx="19512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>
              <a:off x="5052960" y="46022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4365720" y="5451480"/>
              <a:ext cx="1018800" cy="587160"/>
              <a:chOff x="4365720" y="5451480"/>
              <a:chExt cx="1018800" cy="587160"/>
            </a:xfrm>
          </p:grpSpPr>
          <p:sp>
            <p:nvSpPr>
              <p:cNvPr id="1280" name=""/>
              <p:cNvSpPr/>
              <p:nvPr/>
            </p:nvSpPr>
            <p:spPr>
              <a:xfrm>
                <a:off x="4449960" y="5455080"/>
                <a:ext cx="681120" cy="337320"/>
              </a:xfrm>
              <a:custGeom>
                <a:avLst/>
                <a:gdLst/>
                <a:ahLst/>
                <a:rect l="l" t="t" r="r" b="b"/>
                <a:pathLst>
                  <a:path w="10991" h="5154">
                    <a:moveTo>
                      <a:pt x="10947" y="1805"/>
                    </a:moveTo>
                    <a:lnTo>
                      <a:pt x="0" y="5154"/>
                    </a:lnTo>
                    <a:lnTo>
                      <a:pt x="0" y="4402"/>
                    </a:lnTo>
                    <a:lnTo>
                      <a:pt x="10991" y="0"/>
                    </a:lnTo>
                    <a:lnTo>
                      <a:pt x="10947" y="180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7480" y="5457240"/>
                <a:ext cx="222840" cy="501840"/>
              </a:xfrm>
              <a:custGeom>
                <a:avLst/>
                <a:gdLst/>
                <a:ahLst/>
                <a:rect l="l" t="t" r="r" b="b"/>
                <a:pathLst>
                  <a:path w="3593" h="7675">
                    <a:moveTo>
                      <a:pt x="0" y="7115"/>
                    </a:moveTo>
                    <a:lnTo>
                      <a:pt x="0" y="0"/>
                    </a:lnTo>
                    <a:lnTo>
                      <a:pt x="3593" y="2981"/>
                    </a:lnTo>
                    <a:lnTo>
                      <a:pt x="3555" y="4254"/>
                    </a:lnTo>
                    <a:lnTo>
                      <a:pt x="3308" y="4123"/>
                    </a:lnTo>
                    <a:lnTo>
                      <a:pt x="3308" y="5226"/>
                    </a:lnTo>
                    <a:lnTo>
                      <a:pt x="3511" y="5315"/>
                    </a:lnTo>
                    <a:lnTo>
                      <a:pt x="3511" y="6094"/>
                    </a:lnTo>
                    <a:lnTo>
                      <a:pt x="3308" y="6000"/>
                    </a:lnTo>
                    <a:lnTo>
                      <a:pt x="3308" y="7033"/>
                    </a:lnTo>
                    <a:lnTo>
                      <a:pt x="3483" y="7143"/>
                    </a:lnTo>
                    <a:lnTo>
                      <a:pt x="3483" y="7675"/>
                    </a:lnTo>
                    <a:lnTo>
                      <a:pt x="0" y="7115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365720" y="5979600"/>
                <a:ext cx="1018800" cy="14040"/>
              </a:xfrm>
              <a:custGeom>
                <a:avLst/>
                <a:gdLst/>
                <a:ahLst/>
                <a:rect l="l" t="t" r="r" b="b"/>
                <a:pathLst>
                  <a:path w="16461" h="214">
                    <a:moveTo>
                      <a:pt x="16461" y="109"/>
                    </a:moveTo>
                    <a:lnTo>
                      <a:pt x="16461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6461" y="214"/>
                    </a:lnTo>
                    <a:lnTo>
                      <a:pt x="16461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27480" y="5453280"/>
                <a:ext cx="224280" cy="199080"/>
              </a:xfrm>
              <a:custGeom>
                <a:avLst/>
                <a:gdLst/>
                <a:ahLst/>
                <a:rect l="l" t="t" r="r" b="b"/>
                <a:pathLst>
                  <a:path w="3611" h="3036">
                    <a:moveTo>
                      <a:pt x="3611" y="2997"/>
                    </a:moveTo>
                    <a:lnTo>
                      <a:pt x="3595" y="2954"/>
                    </a:lnTo>
                    <a:lnTo>
                      <a:pt x="72" y="0"/>
                    </a:lnTo>
                    <a:lnTo>
                      <a:pt x="0" y="82"/>
                    </a:lnTo>
                    <a:lnTo>
                      <a:pt x="3523" y="3036"/>
                    </a:lnTo>
                    <a:lnTo>
                      <a:pt x="3512" y="2997"/>
                    </a:lnTo>
                    <a:lnTo>
                      <a:pt x="3611" y="2997"/>
                    </a:lnTo>
                    <a:lnTo>
                      <a:pt x="3611" y="2970"/>
                    </a:lnTo>
                    <a:lnTo>
                      <a:pt x="3595" y="2954"/>
                    </a:lnTo>
                    <a:lnTo>
                      <a:pt x="3611" y="29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46360" y="5648040"/>
                <a:ext cx="5400" cy="95760"/>
              </a:xfrm>
              <a:custGeom>
                <a:avLst/>
                <a:gdLst/>
                <a:ahLst/>
                <a:rect l="l" t="t" r="r" b="b"/>
                <a:pathLst>
                  <a:path w="99" h="1439">
                    <a:moveTo>
                      <a:pt x="17" y="1383"/>
                    </a:moveTo>
                    <a:lnTo>
                      <a:pt x="99" y="133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34"/>
                    </a:lnTo>
                    <a:lnTo>
                      <a:pt x="76" y="1291"/>
                    </a:lnTo>
                    <a:lnTo>
                      <a:pt x="17" y="1383"/>
                    </a:lnTo>
                    <a:lnTo>
                      <a:pt x="99" y="1439"/>
                    </a:lnTo>
                    <a:lnTo>
                      <a:pt x="99" y="1334"/>
                    </a:lnTo>
                    <a:lnTo>
                      <a:pt x="17" y="13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25680" y="5568840"/>
                <a:ext cx="224280" cy="171000"/>
              </a:xfrm>
              <a:custGeom>
                <a:avLst/>
                <a:gdLst/>
                <a:ahLst/>
                <a:rect l="l" t="t" r="r" b="b"/>
                <a:pathLst>
                  <a:path w="3621" h="2590">
                    <a:moveTo>
                      <a:pt x="44" y="104"/>
                    </a:moveTo>
                    <a:lnTo>
                      <a:pt x="0" y="98"/>
                    </a:lnTo>
                    <a:lnTo>
                      <a:pt x="3562" y="2590"/>
                    </a:lnTo>
                    <a:lnTo>
                      <a:pt x="3621" y="2498"/>
                    </a:lnTo>
                    <a:lnTo>
                      <a:pt x="61" y="11"/>
                    </a:lnTo>
                    <a:lnTo>
                      <a:pt x="11" y="5"/>
                    </a:lnTo>
                    <a:lnTo>
                      <a:pt x="61" y="11"/>
                    </a:lnTo>
                    <a:lnTo>
                      <a:pt x="39" y="0"/>
                    </a:lnTo>
                    <a:lnTo>
                      <a:pt x="11" y="5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446000" y="5571360"/>
                <a:ext cx="683280" cy="227520"/>
              </a:xfrm>
              <a:custGeom>
                <a:avLst/>
                <a:gdLst/>
                <a:ahLst/>
                <a:rect l="l" t="t" r="r" b="b"/>
                <a:pathLst>
                  <a:path w="11017" h="3469">
                    <a:moveTo>
                      <a:pt x="0" y="3398"/>
                    </a:moveTo>
                    <a:lnTo>
                      <a:pt x="71" y="3448"/>
                    </a:lnTo>
                    <a:lnTo>
                      <a:pt x="11017" y="99"/>
                    </a:lnTo>
                    <a:lnTo>
                      <a:pt x="10984" y="0"/>
                    </a:lnTo>
                    <a:lnTo>
                      <a:pt x="38" y="3349"/>
                    </a:lnTo>
                    <a:lnTo>
                      <a:pt x="109" y="3398"/>
                    </a:lnTo>
                    <a:lnTo>
                      <a:pt x="0" y="3398"/>
                    </a:lnTo>
                    <a:lnTo>
                      <a:pt x="0" y="3469"/>
                    </a:lnTo>
                    <a:lnTo>
                      <a:pt x="71" y="3448"/>
                    </a:lnTo>
                    <a:lnTo>
                      <a:pt x="0" y="33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46000" y="5739840"/>
                <a:ext cx="7560" cy="52560"/>
              </a:xfrm>
              <a:custGeom>
                <a:avLst/>
                <a:gdLst/>
                <a:ahLst/>
                <a:rect l="l" t="t" r="r" b="b"/>
                <a:pathLst>
                  <a:path w="109" h="801">
                    <a:moveTo>
                      <a:pt x="33" y="0"/>
                    </a:moveTo>
                    <a:lnTo>
                      <a:pt x="0" y="49"/>
                    </a:lnTo>
                    <a:lnTo>
                      <a:pt x="0" y="801"/>
                    </a:lnTo>
                    <a:lnTo>
                      <a:pt x="109" y="801"/>
                    </a:lnTo>
                    <a:lnTo>
                      <a:pt x="109" y="49"/>
                    </a:lnTo>
                    <a:lnTo>
                      <a:pt x="76" y="93"/>
                    </a:lnTo>
                    <a:lnTo>
                      <a:pt x="33" y="0"/>
                    </a:lnTo>
                    <a:lnTo>
                      <a:pt x="0" y="11"/>
                    </a:lnTo>
                    <a:lnTo>
                      <a:pt x="0" y="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447800" y="5451480"/>
                <a:ext cx="685440" cy="294480"/>
              </a:xfrm>
              <a:custGeom>
                <a:avLst/>
                <a:gdLst/>
                <a:ahLst/>
                <a:rect l="l" t="t" r="r" b="b"/>
                <a:pathLst>
                  <a:path w="11045" h="4507">
                    <a:moveTo>
                      <a:pt x="11045" y="22"/>
                    </a:moveTo>
                    <a:lnTo>
                      <a:pt x="10989" y="11"/>
                    </a:lnTo>
                    <a:lnTo>
                      <a:pt x="0" y="4414"/>
                    </a:lnTo>
                    <a:lnTo>
                      <a:pt x="43" y="4507"/>
                    </a:lnTo>
                    <a:lnTo>
                      <a:pt x="11029" y="110"/>
                    </a:lnTo>
                    <a:lnTo>
                      <a:pt x="10973" y="104"/>
                    </a:lnTo>
                    <a:lnTo>
                      <a:pt x="11045" y="22"/>
                    </a:lnTo>
                    <a:lnTo>
                      <a:pt x="11017" y="0"/>
                    </a:lnTo>
                    <a:lnTo>
                      <a:pt x="10989" y="11"/>
                    </a:lnTo>
                    <a:lnTo>
                      <a:pt x="11045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27480" y="5923080"/>
                <a:ext cx="203400" cy="111240"/>
              </a:xfrm>
              <a:custGeom>
                <a:avLst/>
                <a:gdLst/>
                <a:ahLst/>
                <a:rect l="l" t="t" r="r" b="b"/>
                <a:pathLst>
                  <a:path w="3281" h="1696">
                    <a:moveTo>
                      <a:pt x="5" y="1696"/>
                    </a:moveTo>
                    <a:lnTo>
                      <a:pt x="0" y="0"/>
                    </a:lnTo>
                    <a:lnTo>
                      <a:pt x="3281" y="576"/>
                    </a:lnTo>
                    <a:lnTo>
                      <a:pt x="3281" y="939"/>
                    </a:lnTo>
                    <a:lnTo>
                      <a:pt x="5" y="16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23880" y="5918760"/>
                <a:ext cx="7200" cy="115560"/>
              </a:xfrm>
              <a:custGeom>
                <a:avLst/>
                <a:gdLst/>
                <a:ahLst/>
                <a:rect l="l" t="t" r="r" b="b"/>
                <a:pathLst>
                  <a:path w="115" h="1757">
                    <a:moveTo>
                      <a:pt x="66" y="11"/>
                    </a:moveTo>
                    <a:lnTo>
                      <a:pt x="0" y="61"/>
                    </a:lnTo>
                    <a:lnTo>
                      <a:pt x="6" y="1757"/>
                    </a:lnTo>
                    <a:lnTo>
                      <a:pt x="115" y="1757"/>
                    </a:lnTo>
                    <a:lnTo>
                      <a:pt x="110" y="61"/>
                    </a:lnTo>
                    <a:lnTo>
                      <a:pt x="44" y="115"/>
                    </a:lnTo>
                    <a:lnTo>
                      <a:pt x="66" y="1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27480" y="5920560"/>
                <a:ext cx="205200" cy="42840"/>
              </a:xfrm>
              <a:custGeom>
                <a:avLst/>
                <a:gdLst/>
                <a:ahLst/>
                <a:rect l="l" t="t" r="r" b="b"/>
                <a:pathLst>
                  <a:path w="3342" h="676">
                    <a:moveTo>
                      <a:pt x="3342" y="626"/>
                    </a:moveTo>
                    <a:lnTo>
                      <a:pt x="3304" y="577"/>
                    </a:lnTo>
                    <a:lnTo>
                      <a:pt x="22" y="0"/>
                    </a:lnTo>
                    <a:lnTo>
                      <a:pt x="0" y="104"/>
                    </a:lnTo>
                    <a:lnTo>
                      <a:pt x="3281" y="676"/>
                    </a:lnTo>
                    <a:lnTo>
                      <a:pt x="3243" y="626"/>
                    </a:lnTo>
                    <a:lnTo>
                      <a:pt x="3342" y="626"/>
                    </a:lnTo>
                    <a:lnTo>
                      <a:pt x="3342" y="582"/>
                    </a:lnTo>
                    <a:lnTo>
                      <a:pt x="3304" y="577"/>
                    </a:lnTo>
                    <a:lnTo>
                      <a:pt x="3342" y="6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327280" y="5961240"/>
                <a:ext cx="5400" cy="26640"/>
              </a:xfrm>
              <a:custGeom>
                <a:avLst/>
                <a:gdLst/>
                <a:ahLst/>
                <a:rect l="l" t="t" r="r" b="b"/>
                <a:pathLst>
                  <a:path w="99" h="412">
                    <a:moveTo>
                      <a:pt x="61" y="412"/>
                    </a:moveTo>
                    <a:lnTo>
                      <a:pt x="99" y="36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63"/>
                    </a:lnTo>
                    <a:lnTo>
                      <a:pt x="38" y="313"/>
                    </a:lnTo>
                    <a:lnTo>
                      <a:pt x="61" y="412"/>
                    </a:lnTo>
                    <a:lnTo>
                      <a:pt x="99" y="401"/>
                    </a:lnTo>
                    <a:lnTo>
                      <a:pt x="99" y="363"/>
                    </a:lnTo>
                    <a:lnTo>
                      <a:pt x="61" y="4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123880" y="5982120"/>
                <a:ext cx="207000" cy="56520"/>
              </a:xfrm>
              <a:custGeom>
                <a:avLst/>
                <a:gdLst/>
                <a:ahLst/>
                <a:rect l="l" t="t" r="r" b="b"/>
                <a:pathLst>
                  <a:path w="3342" h="873">
                    <a:moveTo>
                      <a:pt x="0" y="807"/>
                    </a:moveTo>
                    <a:lnTo>
                      <a:pt x="66" y="857"/>
                    </a:lnTo>
                    <a:lnTo>
                      <a:pt x="3342" y="99"/>
                    </a:lnTo>
                    <a:lnTo>
                      <a:pt x="3319" y="0"/>
                    </a:lnTo>
                    <a:lnTo>
                      <a:pt x="44" y="758"/>
                    </a:lnTo>
                    <a:lnTo>
                      <a:pt x="109" y="807"/>
                    </a:lnTo>
                    <a:lnTo>
                      <a:pt x="0" y="807"/>
                    </a:lnTo>
                    <a:lnTo>
                      <a:pt x="0" y="873"/>
                    </a:lnTo>
                    <a:lnTo>
                      <a:pt x="66" y="857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467240" y="5924880"/>
                <a:ext cx="659880" cy="107640"/>
              </a:xfrm>
              <a:custGeom>
                <a:avLst/>
                <a:gdLst/>
                <a:ahLst/>
                <a:rect l="l" t="t" r="r" b="b"/>
                <a:pathLst>
                  <a:path w="10656" h="1659">
                    <a:moveTo>
                      <a:pt x="0" y="923"/>
                    </a:moveTo>
                    <a:lnTo>
                      <a:pt x="0" y="527"/>
                    </a:lnTo>
                    <a:lnTo>
                      <a:pt x="10656" y="0"/>
                    </a:lnTo>
                    <a:lnTo>
                      <a:pt x="10656" y="1659"/>
                    </a:lnTo>
                    <a:lnTo>
                      <a:pt x="0" y="9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465080" y="5955120"/>
                <a:ext cx="5400" cy="28440"/>
              </a:xfrm>
              <a:custGeom>
                <a:avLst/>
                <a:gdLst/>
                <a:ahLst/>
                <a:rect l="l" t="t" r="r" b="b"/>
                <a:pathLst>
                  <a:path w="110" h="450">
                    <a:moveTo>
                      <a:pt x="55" y="0"/>
                    </a:moveTo>
                    <a:lnTo>
                      <a:pt x="0" y="54"/>
                    </a:lnTo>
                    <a:lnTo>
                      <a:pt x="0" y="450"/>
                    </a:lnTo>
                    <a:lnTo>
                      <a:pt x="110" y="450"/>
                    </a:lnTo>
                    <a:lnTo>
                      <a:pt x="110" y="54"/>
                    </a:lnTo>
                    <a:lnTo>
                      <a:pt x="55" y="104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467240" y="5920560"/>
                <a:ext cx="663840" cy="40320"/>
              </a:xfrm>
              <a:custGeom>
                <a:avLst/>
                <a:gdLst/>
                <a:ahLst/>
                <a:rect l="l" t="t" r="r" b="b"/>
                <a:pathLst>
                  <a:path w="10705" h="631">
                    <a:moveTo>
                      <a:pt x="10705" y="54"/>
                    </a:moveTo>
                    <a:lnTo>
                      <a:pt x="10656" y="5"/>
                    </a:lnTo>
                    <a:lnTo>
                      <a:pt x="0" y="527"/>
                    </a:lnTo>
                    <a:lnTo>
                      <a:pt x="0" y="631"/>
                    </a:lnTo>
                    <a:lnTo>
                      <a:pt x="10656" y="104"/>
                    </a:lnTo>
                    <a:lnTo>
                      <a:pt x="10606" y="54"/>
                    </a:lnTo>
                    <a:lnTo>
                      <a:pt x="10705" y="54"/>
                    </a:lnTo>
                    <a:lnTo>
                      <a:pt x="10705" y="0"/>
                    </a:lnTo>
                    <a:lnTo>
                      <a:pt x="10656" y="5"/>
                    </a:lnTo>
                    <a:lnTo>
                      <a:pt x="10705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125680" y="5924880"/>
                <a:ext cx="5400" cy="111960"/>
              </a:xfrm>
              <a:custGeom>
                <a:avLst/>
                <a:gdLst/>
                <a:ahLst/>
                <a:rect l="l" t="t" r="r" b="b"/>
                <a:pathLst>
                  <a:path w="99" h="1713">
                    <a:moveTo>
                      <a:pt x="45" y="1713"/>
                    </a:moveTo>
                    <a:lnTo>
                      <a:pt x="99" y="16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659"/>
                    </a:lnTo>
                    <a:lnTo>
                      <a:pt x="55" y="1609"/>
                    </a:lnTo>
                    <a:lnTo>
                      <a:pt x="45" y="1713"/>
                    </a:lnTo>
                    <a:lnTo>
                      <a:pt x="99" y="1713"/>
                    </a:lnTo>
                    <a:lnTo>
                      <a:pt x="99" y="1659"/>
                    </a:lnTo>
                    <a:lnTo>
                      <a:pt x="45" y="17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465080" y="5982120"/>
                <a:ext cx="662040" cy="54720"/>
              </a:xfrm>
              <a:custGeom>
                <a:avLst/>
                <a:gdLst/>
                <a:ahLst/>
                <a:rect l="l" t="t" r="r" b="b"/>
                <a:pathLst>
                  <a:path w="10716" h="840">
                    <a:moveTo>
                      <a:pt x="0" y="50"/>
                    </a:moveTo>
                    <a:lnTo>
                      <a:pt x="49" y="99"/>
                    </a:lnTo>
                    <a:lnTo>
                      <a:pt x="10706" y="840"/>
                    </a:lnTo>
                    <a:lnTo>
                      <a:pt x="10716" y="736"/>
                    </a:lnTo>
                    <a:lnTo>
                      <a:pt x="61" y="0"/>
                    </a:lnTo>
                    <a:lnTo>
                      <a:pt x="110" y="50"/>
                    </a:lnTo>
                    <a:lnTo>
                      <a:pt x="0" y="50"/>
                    </a:lnTo>
                    <a:lnTo>
                      <a:pt x="0" y="99"/>
                    </a:lnTo>
                    <a:lnTo>
                      <a:pt x="49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125680" y="5839560"/>
                <a:ext cx="5400" cy="8928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61" y="1252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39" y="1350"/>
                    </a:lnTo>
                    <a:lnTo>
                      <a:pt x="0" y="1301"/>
                    </a:lnTo>
                    <a:lnTo>
                      <a:pt x="0" y="1345"/>
                    </a:lnTo>
                    <a:lnTo>
                      <a:pt x="39" y="1350"/>
                    </a:lnTo>
                    <a:lnTo>
                      <a:pt x="61" y="12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127480" y="5923080"/>
                <a:ext cx="222840" cy="42120"/>
              </a:xfrm>
              <a:custGeom>
                <a:avLst/>
                <a:gdLst/>
                <a:ahLst/>
                <a:rect l="l" t="t" r="r" b="b"/>
                <a:pathLst>
                  <a:path w="3599" h="648">
                    <a:moveTo>
                      <a:pt x="3484" y="587"/>
                    </a:moveTo>
                    <a:lnTo>
                      <a:pt x="3550" y="538"/>
                    </a:lnTo>
                    <a:lnTo>
                      <a:pt x="22" y="0"/>
                    </a:lnTo>
                    <a:lnTo>
                      <a:pt x="0" y="98"/>
                    </a:lnTo>
                    <a:lnTo>
                      <a:pt x="3533" y="637"/>
                    </a:lnTo>
                    <a:lnTo>
                      <a:pt x="3599" y="587"/>
                    </a:lnTo>
                    <a:lnTo>
                      <a:pt x="3533" y="637"/>
                    </a:lnTo>
                    <a:lnTo>
                      <a:pt x="3599" y="648"/>
                    </a:lnTo>
                    <a:lnTo>
                      <a:pt x="3599" y="587"/>
                    </a:lnTo>
                    <a:lnTo>
                      <a:pt x="3484" y="5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342400" y="5918760"/>
                <a:ext cx="7560" cy="42120"/>
              </a:xfrm>
              <a:custGeom>
                <a:avLst/>
                <a:gdLst/>
                <a:ahLst/>
                <a:rect l="l" t="t" r="r" b="b"/>
                <a:pathLst>
                  <a:path w="115" h="631">
                    <a:moveTo>
                      <a:pt x="38" y="104"/>
                    </a:moveTo>
                    <a:lnTo>
                      <a:pt x="0" y="50"/>
                    </a:lnTo>
                    <a:lnTo>
                      <a:pt x="0" y="631"/>
                    </a:lnTo>
                    <a:lnTo>
                      <a:pt x="115" y="631"/>
                    </a:lnTo>
                    <a:lnTo>
                      <a:pt x="115" y="50"/>
                    </a:lnTo>
                    <a:lnTo>
                      <a:pt x="77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77" y="0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125680" y="5835240"/>
                <a:ext cx="222840" cy="91080"/>
              </a:xfrm>
              <a:custGeom>
                <a:avLst/>
                <a:gdLst/>
                <a:ahLst/>
                <a:rect l="l" t="t" r="r" b="b"/>
                <a:pathLst>
                  <a:path w="3600" h="1388">
                    <a:moveTo>
                      <a:pt x="99" y="76"/>
                    </a:moveTo>
                    <a:lnTo>
                      <a:pt x="28" y="125"/>
                    </a:lnTo>
                    <a:lnTo>
                      <a:pt x="3561" y="1388"/>
                    </a:lnTo>
                    <a:lnTo>
                      <a:pt x="3600" y="1284"/>
                    </a:lnTo>
                    <a:lnTo>
                      <a:pt x="71" y="21"/>
                    </a:lnTo>
                    <a:lnTo>
                      <a:pt x="0" y="76"/>
                    </a:lnTo>
                    <a:lnTo>
                      <a:pt x="71" y="21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99" y="7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449960" y="5839560"/>
                <a:ext cx="677160" cy="119880"/>
              </a:xfrm>
              <a:custGeom>
                <a:avLst/>
                <a:gdLst/>
                <a:ahLst/>
                <a:rect l="l" t="t" r="r" b="b"/>
                <a:pathLst>
                  <a:path w="10947" h="1806">
                    <a:moveTo>
                      <a:pt x="10947" y="0"/>
                    </a:moveTo>
                    <a:lnTo>
                      <a:pt x="0" y="1301"/>
                    </a:lnTo>
                    <a:lnTo>
                      <a:pt x="0" y="1806"/>
                    </a:lnTo>
                    <a:lnTo>
                      <a:pt x="10947" y="1258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446000" y="5837400"/>
                <a:ext cx="681120" cy="91440"/>
              </a:xfrm>
              <a:custGeom>
                <a:avLst/>
                <a:gdLst/>
                <a:ahLst/>
                <a:rect l="l" t="t" r="r" b="b"/>
                <a:pathLst>
                  <a:path w="11001" h="1405">
                    <a:moveTo>
                      <a:pt x="99" y="1356"/>
                    </a:moveTo>
                    <a:lnTo>
                      <a:pt x="54" y="1405"/>
                    </a:lnTo>
                    <a:lnTo>
                      <a:pt x="11001" y="104"/>
                    </a:lnTo>
                    <a:lnTo>
                      <a:pt x="10991" y="0"/>
                    </a:lnTo>
                    <a:lnTo>
                      <a:pt x="44" y="1307"/>
                    </a:lnTo>
                    <a:lnTo>
                      <a:pt x="0" y="1356"/>
                    </a:lnTo>
                    <a:lnTo>
                      <a:pt x="44" y="1307"/>
                    </a:lnTo>
                    <a:lnTo>
                      <a:pt x="0" y="1307"/>
                    </a:lnTo>
                    <a:lnTo>
                      <a:pt x="0" y="1356"/>
                    </a:lnTo>
                    <a:lnTo>
                      <a:pt x="99" y="13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446000" y="5924880"/>
                <a:ext cx="7560" cy="36360"/>
              </a:xfrm>
              <a:custGeom>
                <a:avLst/>
                <a:gdLst/>
                <a:ahLst/>
                <a:rect l="l" t="t" r="r" b="b"/>
                <a:pathLst>
                  <a:path w="99" h="560">
                    <a:moveTo>
                      <a:pt x="49" y="451"/>
                    </a:moveTo>
                    <a:lnTo>
                      <a:pt x="99" y="50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505"/>
                    </a:lnTo>
                    <a:lnTo>
                      <a:pt x="49" y="555"/>
                    </a:lnTo>
                    <a:lnTo>
                      <a:pt x="0" y="505"/>
                    </a:lnTo>
                    <a:lnTo>
                      <a:pt x="0" y="560"/>
                    </a:lnTo>
                    <a:lnTo>
                      <a:pt x="49" y="555"/>
                    </a:lnTo>
                    <a:lnTo>
                      <a:pt x="49" y="4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449960" y="5918760"/>
                <a:ext cx="681120" cy="42120"/>
              </a:xfrm>
              <a:custGeom>
                <a:avLst/>
                <a:gdLst/>
                <a:ahLst/>
                <a:rect l="l" t="t" r="r" b="b"/>
                <a:pathLst>
                  <a:path w="11001" h="648">
                    <a:moveTo>
                      <a:pt x="10892" y="50"/>
                    </a:moveTo>
                    <a:lnTo>
                      <a:pt x="10947" y="0"/>
                    </a:lnTo>
                    <a:lnTo>
                      <a:pt x="0" y="544"/>
                    </a:lnTo>
                    <a:lnTo>
                      <a:pt x="0" y="648"/>
                    </a:lnTo>
                    <a:lnTo>
                      <a:pt x="10947" y="104"/>
                    </a:lnTo>
                    <a:lnTo>
                      <a:pt x="11001" y="50"/>
                    </a:lnTo>
                    <a:lnTo>
                      <a:pt x="10947" y="104"/>
                    </a:lnTo>
                    <a:lnTo>
                      <a:pt x="11001" y="104"/>
                    </a:lnTo>
                    <a:lnTo>
                      <a:pt x="11001" y="50"/>
                    </a:lnTo>
                    <a:lnTo>
                      <a:pt x="10892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23880" y="5835240"/>
                <a:ext cx="7200" cy="87480"/>
              </a:xfrm>
              <a:custGeom>
                <a:avLst/>
                <a:gdLst/>
                <a:ahLst/>
                <a:rect l="l" t="t" r="r" b="b"/>
                <a:pathLst>
                  <a:path w="109" h="1324">
                    <a:moveTo>
                      <a:pt x="60" y="115"/>
                    </a:moveTo>
                    <a:lnTo>
                      <a:pt x="0" y="66"/>
                    </a:lnTo>
                    <a:lnTo>
                      <a:pt x="0" y="1324"/>
                    </a:lnTo>
                    <a:lnTo>
                      <a:pt x="109" y="1324"/>
                    </a:lnTo>
                    <a:lnTo>
                      <a:pt x="109" y="66"/>
                    </a:lnTo>
                    <a:lnTo>
                      <a:pt x="50" y="11"/>
                    </a:lnTo>
                    <a:lnTo>
                      <a:pt x="109" y="66"/>
                    </a:lnTo>
                    <a:lnTo>
                      <a:pt x="109" y="0"/>
                    </a:lnTo>
                    <a:lnTo>
                      <a:pt x="50" y="11"/>
                    </a:lnTo>
                    <a:lnTo>
                      <a:pt x="60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449960" y="5666760"/>
                <a:ext cx="677160" cy="209160"/>
              </a:xfrm>
              <a:custGeom>
                <a:avLst/>
                <a:gdLst/>
                <a:ahLst/>
                <a:rect l="l" t="t" r="r" b="b"/>
                <a:pathLst>
                  <a:path w="10947" h="3205">
                    <a:moveTo>
                      <a:pt x="10947" y="0"/>
                    </a:moveTo>
                    <a:lnTo>
                      <a:pt x="10947" y="1361"/>
                    </a:lnTo>
                    <a:lnTo>
                      <a:pt x="0" y="3205"/>
                    </a:lnTo>
                    <a:lnTo>
                      <a:pt x="0" y="2662"/>
                    </a:lnTo>
                    <a:lnTo>
                      <a:pt x="10947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25680" y="5666760"/>
                <a:ext cx="5400" cy="9108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61" y="1416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39" y="1311"/>
                    </a:lnTo>
                    <a:lnTo>
                      <a:pt x="61" y="1416"/>
                    </a:lnTo>
                    <a:lnTo>
                      <a:pt x="99" y="1410"/>
                    </a:lnTo>
                    <a:lnTo>
                      <a:pt x="99" y="1361"/>
                    </a:lnTo>
                    <a:lnTo>
                      <a:pt x="61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446000" y="5752080"/>
                <a:ext cx="683280" cy="128160"/>
              </a:xfrm>
              <a:custGeom>
                <a:avLst/>
                <a:gdLst/>
                <a:ahLst/>
                <a:rect l="l" t="t" r="r" b="b"/>
                <a:pathLst>
                  <a:path w="11012" h="1955">
                    <a:moveTo>
                      <a:pt x="0" y="1894"/>
                    </a:moveTo>
                    <a:lnTo>
                      <a:pt x="66" y="1944"/>
                    </a:lnTo>
                    <a:lnTo>
                      <a:pt x="11012" y="105"/>
                    </a:lnTo>
                    <a:lnTo>
                      <a:pt x="10990" y="0"/>
                    </a:lnTo>
                    <a:lnTo>
                      <a:pt x="43" y="1840"/>
                    </a:lnTo>
                    <a:lnTo>
                      <a:pt x="109" y="1894"/>
                    </a:lnTo>
                    <a:lnTo>
                      <a:pt x="0" y="1894"/>
                    </a:lnTo>
                    <a:lnTo>
                      <a:pt x="0" y="1955"/>
                    </a:lnTo>
                    <a:lnTo>
                      <a:pt x="66" y="1944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446000" y="5837400"/>
                <a:ext cx="7560" cy="38520"/>
              </a:xfrm>
              <a:custGeom>
                <a:avLst/>
                <a:gdLst/>
                <a:ahLst/>
                <a:rect l="l" t="t" r="r" b="b"/>
                <a:pathLst>
                  <a:path w="109" h="598">
                    <a:moveTo>
                      <a:pt x="43" y="0"/>
                    </a:moveTo>
                    <a:lnTo>
                      <a:pt x="0" y="55"/>
                    </a:lnTo>
                    <a:lnTo>
                      <a:pt x="0" y="598"/>
                    </a:lnTo>
                    <a:lnTo>
                      <a:pt x="109" y="598"/>
                    </a:lnTo>
                    <a:lnTo>
                      <a:pt x="109" y="55"/>
                    </a:lnTo>
                    <a:lnTo>
                      <a:pt x="66" y="104"/>
                    </a:lnTo>
                    <a:lnTo>
                      <a:pt x="43" y="0"/>
                    </a:lnTo>
                    <a:lnTo>
                      <a:pt x="0" y="12"/>
                    </a:lnTo>
                    <a:lnTo>
                      <a:pt x="0" y="5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449960" y="5660640"/>
                <a:ext cx="681120" cy="182880"/>
              </a:xfrm>
              <a:custGeom>
                <a:avLst/>
                <a:gdLst/>
                <a:ahLst/>
                <a:rect l="l" t="t" r="r" b="b"/>
                <a:pathLst>
                  <a:path w="11007" h="2777">
                    <a:moveTo>
                      <a:pt x="11007" y="66"/>
                    </a:moveTo>
                    <a:lnTo>
                      <a:pt x="10947" y="17"/>
                    </a:lnTo>
                    <a:lnTo>
                      <a:pt x="0" y="2673"/>
                    </a:lnTo>
                    <a:lnTo>
                      <a:pt x="23" y="2777"/>
                    </a:lnTo>
                    <a:lnTo>
                      <a:pt x="10969" y="116"/>
                    </a:lnTo>
                    <a:lnTo>
                      <a:pt x="10908" y="66"/>
                    </a:lnTo>
                    <a:lnTo>
                      <a:pt x="11007" y="66"/>
                    </a:lnTo>
                    <a:lnTo>
                      <a:pt x="11007" y="0"/>
                    </a:lnTo>
                    <a:lnTo>
                      <a:pt x="10947" y="17"/>
                    </a:lnTo>
                    <a:lnTo>
                      <a:pt x="1100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25680" y="5666760"/>
                <a:ext cx="5400" cy="91080"/>
              </a:xfrm>
              <a:custGeom>
                <a:avLst/>
                <a:gdLst/>
                <a:ahLst/>
                <a:rect l="l" t="t" r="r" b="b"/>
                <a:pathLst>
                  <a:path w="99" h="1416">
                    <a:moveTo>
                      <a:pt x="71" y="1311"/>
                    </a:moveTo>
                    <a:lnTo>
                      <a:pt x="99" y="136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1"/>
                    </a:lnTo>
                    <a:lnTo>
                      <a:pt x="28" y="1416"/>
                    </a:lnTo>
                    <a:lnTo>
                      <a:pt x="0" y="1361"/>
                    </a:lnTo>
                    <a:lnTo>
                      <a:pt x="0" y="1400"/>
                    </a:lnTo>
                    <a:lnTo>
                      <a:pt x="28" y="1416"/>
                    </a:lnTo>
                    <a:lnTo>
                      <a:pt x="71" y="13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25680" y="5752080"/>
                <a:ext cx="224280" cy="111960"/>
              </a:xfrm>
              <a:custGeom>
                <a:avLst/>
                <a:gdLst/>
                <a:ahLst/>
                <a:rect l="l" t="t" r="r" b="b"/>
                <a:pathLst>
                  <a:path w="3610" h="1719">
                    <a:moveTo>
                      <a:pt x="3495" y="1637"/>
                    </a:moveTo>
                    <a:lnTo>
                      <a:pt x="3572" y="1588"/>
                    </a:lnTo>
                    <a:lnTo>
                      <a:pt x="43" y="0"/>
                    </a:lnTo>
                    <a:lnTo>
                      <a:pt x="0" y="105"/>
                    </a:lnTo>
                    <a:lnTo>
                      <a:pt x="3533" y="1692"/>
                    </a:lnTo>
                    <a:lnTo>
                      <a:pt x="3610" y="1637"/>
                    </a:lnTo>
                    <a:lnTo>
                      <a:pt x="3533" y="1692"/>
                    </a:lnTo>
                    <a:lnTo>
                      <a:pt x="3610" y="1719"/>
                    </a:lnTo>
                    <a:lnTo>
                      <a:pt x="3610" y="1637"/>
                    </a:lnTo>
                    <a:lnTo>
                      <a:pt x="3495" y="16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342400" y="5805000"/>
                <a:ext cx="7560" cy="54720"/>
              </a:xfrm>
              <a:custGeom>
                <a:avLst/>
                <a:gdLst/>
                <a:ahLst/>
                <a:rect l="l" t="t" r="r" b="b"/>
                <a:pathLst>
                  <a:path w="115" h="840">
                    <a:moveTo>
                      <a:pt x="33" y="93"/>
                    </a:moveTo>
                    <a:lnTo>
                      <a:pt x="0" y="50"/>
                    </a:lnTo>
                    <a:lnTo>
                      <a:pt x="0" y="840"/>
                    </a:lnTo>
                    <a:lnTo>
                      <a:pt x="115" y="840"/>
                    </a:lnTo>
                    <a:lnTo>
                      <a:pt x="115" y="50"/>
                    </a:lnTo>
                    <a:lnTo>
                      <a:pt x="82" y="0"/>
                    </a:lnTo>
                    <a:lnTo>
                      <a:pt x="115" y="50"/>
                    </a:lnTo>
                    <a:lnTo>
                      <a:pt x="115" y="17"/>
                    </a:lnTo>
                    <a:lnTo>
                      <a:pt x="82" y="0"/>
                    </a:ln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125680" y="5658480"/>
                <a:ext cx="222840" cy="152280"/>
              </a:xfrm>
              <a:custGeom>
                <a:avLst/>
                <a:gdLst/>
                <a:ahLst/>
                <a:rect l="l" t="t" r="r" b="b"/>
                <a:pathLst>
                  <a:path w="3605" h="2300">
                    <a:moveTo>
                      <a:pt x="99" y="99"/>
                    </a:moveTo>
                    <a:lnTo>
                      <a:pt x="28" y="142"/>
                    </a:lnTo>
                    <a:lnTo>
                      <a:pt x="3556" y="2300"/>
                    </a:lnTo>
                    <a:lnTo>
                      <a:pt x="3605" y="2207"/>
                    </a:lnTo>
                    <a:lnTo>
                      <a:pt x="78" y="55"/>
                    </a:lnTo>
                    <a:lnTo>
                      <a:pt x="0" y="99"/>
                    </a:lnTo>
                    <a:lnTo>
                      <a:pt x="78" y="55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123880" y="5455080"/>
                <a:ext cx="7200" cy="115920"/>
              </a:xfrm>
              <a:custGeom>
                <a:avLst/>
                <a:gdLst/>
                <a:ahLst/>
                <a:rect l="l" t="t" r="r" b="b"/>
                <a:pathLst>
                  <a:path w="109" h="1767">
                    <a:moveTo>
                      <a:pt x="55" y="0"/>
                    </a:moveTo>
                    <a:lnTo>
                      <a:pt x="0" y="0"/>
                    </a:lnTo>
                    <a:lnTo>
                      <a:pt x="0" y="1767"/>
                    </a:lnTo>
                    <a:lnTo>
                      <a:pt x="109" y="1767"/>
                    </a:lnTo>
                    <a:lnTo>
                      <a:pt x="109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956840" y="5575320"/>
                <a:ext cx="170640" cy="133920"/>
              </a:xfrm>
              <a:custGeom>
                <a:avLst/>
                <a:gdLst/>
                <a:ahLst/>
                <a:rect l="l" t="t" r="r" b="b"/>
                <a:pathLst>
                  <a:path w="2754" h="2020">
                    <a:moveTo>
                      <a:pt x="2754" y="0"/>
                    </a:moveTo>
                    <a:lnTo>
                      <a:pt x="2754" y="1367"/>
                    </a:lnTo>
                    <a:lnTo>
                      <a:pt x="0" y="2020"/>
                    </a:lnTo>
                    <a:lnTo>
                      <a:pt x="0" y="829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25680" y="5575320"/>
                <a:ext cx="5400" cy="92880"/>
              </a:xfrm>
              <a:custGeom>
                <a:avLst/>
                <a:gdLst/>
                <a:ahLst/>
                <a:rect l="l" t="t" r="r" b="b"/>
                <a:pathLst>
                  <a:path w="99" h="1417">
                    <a:moveTo>
                      <a:pt x="61" y="1417"/>
                    </a:moveTo>
                    <a:lnTo>
                      <a:pt x="99" y="136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67"/>
                    </a:lnTo>
                    <a:lnTo>
                      <a:pt x="39" y="1318"/>
                    </a:lnTo>
                    <a:lnTo>
                      <a:pt x="61" y="1417"/>
                    </a:lnTo>
                    <a:lnTo>
                      <a:pt x="99" y="1405"/>
                    </a:lnTo>
                    <a:lnTo>
                      <a:pt x="99" y="1367"/>
                    </a:lnTo>
                    <a:lnTo>
                      <a:pt x="61" y="14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955040" y="5662440"/>
                <a:ext cx="174240" cy="50400"/>
              </a:xfrm>
              <a:custGeom>
                <a:avLst/>
                <a:gdLst/>
                <a:ahLst/>
                <a:rect l="l" t="t" r="r" b="b"/>
                <a:pathLst>
                  <a:path w="2821" h="768">
                    <a:moveTo>
                      <a:pt x="0" y="702"/>
                    </a:moveTo>
                    <a:lnTo>
                      <a:pt x="66" y="751"/>
                    </a:lnTo>
                    <a:lnTo>
                      <a:pt x="2821" y="99"/>
                    </a:lnTo>
                    <a:lnTo>
                      <a:pt x="2799" y="0"/>
                    </a:lnTo>
                    <a:lnTo>
                      <a:pt x="44" y="647"/>
                    </a:lnTo>
                    <a:lnTo>
                      <a:pt x="110" y="702"/>
                    </a:lnTo>
                    <a:lnTo>
                      <a:pt x="0" y="702"/>
                    </a:lnTo>
                    <a:lnTo>
                      <a:pt x="6" y="768"/>
                    </a:lnTo>
                    <a:lnTo>
                      <a:pt x="66" y="751"/>
                    </a:lnTo>
                    <a:lnTo>
                      <a:pt x="0" y="7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55040" y="5626080"/>
                <a:ext cx="5400" cy="83160"/>
              </a:xfrm>
              <a:custGeom>
                <a:avLst/>
                <a:gdLst/>
                <a:ahLst/>
                <a:rect l="l" t="t" r="r" b="b"/>
                <a:pathLst>
                  <a:path w="110" h="1246">
                    <a:moveTo>
                      <a:pt x="39" y="0"/>
                    </a:moveTo>
                    <a:lnTo>
                      <a:pt x="0" y="55"/>
                    </a:lnTo>
                    <a:lnTo>
                      <a:pt x="0" y="1246"/>
                    </a:lnTo>
                    <a:lnTo>
                      <a:pt x="110" y="1246"/>
                    </a:lnTo>
                    <a:lnTo>
                      <a:pt x="110" y="55"/>
                    </a:lnTo>
                    <a:lnTo>
                      <a:pt x="72" y="104"/>
                    </a:lnTo>
                    <a:lnTo>
                      <a:pt x="39" y="0"/>
                    </a:lnTo>
                    <a:lnTo>
                      <a:pt x="0" y="11"/>
                    </a:lnTo>
                    <a:lnTo>
                      <a:pt x="0" y="5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956840" y="5571360"/>
                <a:ext cx="174240" cy="62640"/>
              </a:xfrm>
              <a:custGeom>
                <a:avLst/>
                <a:gdLst/>
                <a:ahLst/>
                <a:rect l="l" t="t" r="r" b="b"/>
                <a:pathLst>
                  <a:path w="2820" h="950">
                    <a:moveTo>
                      <a:pt x="2820" y="72"/>
                    </a:moveTo>
                    <a:lnTo>
                      <a:pt x="2754" y="17"/>
                    </a:lnTo>
                    <a:lnTo>
                      <a:pt x="0" y="846"/>
                    </a:lnTo>
                    <a:lnTo>
                      <a:pt x="33" y="950"/>
                    </a:lnTo>
                    <a:lnTo>
                      <a:pt x="2787" y="122"/>
                    </a:lnTo>
                    <a:lnTo>
                      <a:pt x="2721" y="72"/>
                    </a:lnTo>
                    <a:lnTo>
                      <a:pt x="2820" y="72"/>
                    </a:lnTo>
                    <a:lnTo>
                      <a:pt x="2820" y="0"/>
                    </a:lnTo>
                    <a:lnTo>
                      <a:pt x="2754" y="17"/>
                    </a:lnTo>
                    <a:lnTo>
                      <a:pt x="2820" y="7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764600" y="5644440"/>
                <a:ext cx="144000" cy="113400"/>
              </a:xfrm>
              <a:custGeom>
                <a:avLst/>
                <a:gdLst/>
                <a:ahLst/>
                <a:rect l="l" t="t" r="r" b="b"/>
                <a:pathLst>
                  <a:path w="2314" h="1719">
                    <a:moveTo>
                      <a:pt x="2314" y="1169"/>
                    </a:moveTo>
                    <a:lnTo>
                      <a:pt x="0" y="1719"/>
                    </a:lnTo>
                    <a:lnTo>
                      <a:pt x="0" y="698"/>
                    </a:lnTo>
                    <a:lnTo>
                      <a:pt x="2314" y="0"/>
                    </a:lnTo>
                    <a:lnTo>
                      <a:pt x="2314" y="116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760640" y="5717520"/>
                <a:ext cx="147960" cy="44640"/>
              </a:xfrm>
              <a:custGeom>
                <a:avLst/>
                <a:gdLst/>
                <a:ahLst/>
                <a:rect l="l" t="t" r="r" b="b"/>
                <a:pathLst>
                  <a:path w="2382" h="670">
                    <a:moveTo>
                      <a:pt x="0" y="604"/>
                    </a:moveTo>
                    <a:lnTo>
                      <a:pt x="66" y="653"/>
                    </a:lnTo>
                    <a:lnTo>
                      <a:pt x="2382" y="104"/>
                    </a:lnTo>
                    <a:lnTo>
                      <a:pt x="2360" y="0"/>
                    </a:lnTo>
                    <a:lnTo>
                      <a:pt x="44" y="548"/>
                    </a:lnTo>
                    <a:lnTo>
                      <a:pt x="110" y="604"/>
                    </a:lnTo>
                    <a:lnTo>
                      <a:pt x="0" y="604"/>
                    </a:lnTo>
                    <a:lnTo>
                      <a:pt x="0" y="670"/>
                    </a:lnTo>
                    <a:lnTo>
                      <a:pt x="66" y="653"/>
                    </a:lnTo>
                    <a:lnTo>
                      <a:pt x="0" y="6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760640" y="5686920"/>
                <a:ext cx="7560" cy="70920"/>
              </a:xfrm>
              <a:custGeom>
                <a:avLst/>
                <a:gdLst/>
                <a:ahLst/>
                <a:rect l="l" t="t" r="r" b="b"/>
                <a:pathLst>
                  <a:path w="110" h="1077">
                    <a:moveTo>
                      <a:pt x="39" y="0"/>
                    </a:moveTo>
                    <a:lnTo>
                      <a:pt x="0" y="56"/>
                    </a:lnTo>
                    <a:lnTo>
                      <a:pt x="0" y="1077"/>
                    </a:lnTo>
                    <a:lnTo>
                      <a:pt x="110" y="1077"/>
                    </a:lnTo>
                    <a:lnTo>
                      <a:pt x="110" y="56"/>
                    </a:lnTo>
                    <a:lnTo>
                      <a:pt x="72" y="105"/>
                    </a:lnTo>
                    <a:lnTo>
                      <a:pt x="39" y="0"/>
                    </a:lnTo>
                    <a:lnTo>
                      <a:pt x="0" y="12"/>
                    </a:lnTo>
                    <a:lnTo>
                      <a:pt x="0" y="5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763160" y="5640480"/>
                <a:ext cx="147240" cy="52560"/>
              </a:xfrm>
              <a:custGeom>
                <a:avLst/>
                <a:gdLst/>
                <a:ahLst/>
                <a:rect l="l" t="t" r="r" b="b"/>
                <a:pathLst>
                  <a:path w="2387" h="818">
                    <a:moveTo>
                      <a:pt x="2387" y="71"/>
                    </a:moveTo>
                    <a:lnTo>
                      <a:pt x="2315" y="22"/>
                    </a:lnTo>
                    <a:lnTo>
                      <a:pt x="0" y="713"/>
                    </a:lnTo>
                    <a:lnTo>
                      <a:pt x="33" y="818"/>
                    </a:lnTo>
                    <a:lnTo>
                      <a:pt x="2348" y="127"/>
                    </a:lnTo>
                    <a:lnTo>
                      <a:pt x="2282" y="71"/>
                    </a:lnTo>
                    <a:lnTo>
                      <a:pt x="2387" y="71"/>
                    </a:lnTo>
                    <a:lnTo>
                      <a:pt x="2387" y="0"/>
                    </a:lnTo>
                    <a:lnTo>
                      <a:pt x="2315" y="22"/>
                    </a:lnTo>
                    <a:lnTo>
                      <a:pt x="2387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905000" y="5644440"/>
                <a:ext cx="5400" cy="81000"/>
              </a:xfrm>
              <a:custGeom>
                <a:avLst/>
                <a:gdLst/>
                <a:ahLst/>
                <a:rect l="l" t="t" r="r" b="b"/>
                <a:pathLst>
                  <a:path w="105" h="1219">
                    <a:moveTo>
                      <a:pt x="61" y="1219"/>
                    </a:moveTo>
                    <a:lnTo>
                      <a:pt x="105" y="116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1169"/>
                    </a:lnTo>
                    <a:lnTo>
                      <a:pt x="39" y="1115"/>
                    </a:lnTo>
                    <a:lnTo>
                      <a:pt x="61" y="1219"/>
                    </a:lnTo>
                    <a:lnTo>
                      <a:pt x="105" y="1208"/>
                    </a:lnTo>
                    <a:lnTo>
                      <a:pt x="105" y="1169"/>
                    </a:lnTo>
                    <a:lnTo>
                      <a:pt x="61" y="12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27480" y="5575320"/>
                <a:ext cx="203400" cy="166320"/>
              </a:xfrm>
              <a:custGeom>
                <a:avLst/>
                <a:gdLst/>
                <a:ahLst/>
                <a:rect l="l" t="t" r="r" b="b"/>
                <a:pathLst>
                  <a:path w="3276" h="2536">
                    <a:moveTo>
                      <a:pt x="0" y="0"/>
                    </a:moveTo>
                    <a:lnTo>
                      <a:pt x="0" y="395"/>
                    </a:lnTo>
                    <a:lnTo>
                      <a:pt x="3276" y="2536"/>
                    </a:lnTo>
                    <a:lnTo>
                      <a:pt x="3276" y="23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25680" y="5575320"/>
                <a:ext cx="5400" cy="30240"/>
              </a:xfrm>
              <a:custGeom>
                <a:avLst/>
                <a:gdLst/>
                <a:ahLst/>
                <a:rect l="l" t="t" r="r" b="b"/>
                <a:pathLst>
                  <a:path w="99" h="439">
                    <a:moveTo>
                      <a:pt x="83" y="351"/>
                    </a:moveTo>
                    <a:lnTo>
                      <a:pt x="99" y="3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22" y="439"/>
                    </a:lnTo>
                    <a:lnTo>
                      <a:pt x="0" y="395"/>
                    </a:lnTo>
                    <a:lnTo>
                      <a:pt x="0" y="422"/>
                    </a:lnTo>
                    <a:lnTo>
                      <a:pt x="22" y="439"/>
                    </a:lnTo>
                    <a:lnTo>
                      <a:pt x="8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25680" y="5599440"/>
                <a:ext cx="209160" cy="148320"/>
              </a:xfrm>
              <a:custGeom>
                <a:avLst/>
                <a:gdLst/>
                <a:ahLst/>
                <a:rect l="l" t="t" r="r" b="b"/>
                <a:pathLst>
                  <a:path w="3358" h="2278">
                    <a:moveTo>
                      <a:pt x="3249" y="2185"/>
                    </a:moveTo>
                    <a:lnTo>
                      <a:pt x="3336" y="2141"/>
                    </a:lnTo>
                    <a:lnTo>
                      <a:pt x="61" y="0"/>
                    </a:lnTo>
                    <a:lnTo>
                      <a:pt x="0" y="88"/>
                    </a:lnTo>
                    <a:lnTo>
                      <a:pt x="3271" y="2224"/>
                    </a:lnTo>
                    <a:lnTo>
                      <a:pt x="3358" y="2185"/>
                    </a:lnTo>
                    <a:lnTo>
                      <a:pt x="3271" y="2224"/>
                    </a:lnTo>
                    <a:lnTo>
                      <a:pt x="3358" y="2278"/>
                    </a:lnTo>
                    <a:lnTo>
                      <a:pt x="3358" y="2185"/>
                    </a:lnTo>
                    <a:lnTo>
                      <a:pt x="3249" y="21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327280" y="572580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109" h="258">
                    <a:moveTo>
                      <a:pt x="22" y="88"/>
                    </a:moveTo>
                    <a:lnTo>
                      <a:pt x="0" y="44"/>
                    </a:lnTo>
                    <a:lnTo>
                      <a:pt x="0" y="258"/>
                    </a:lnTo>
                    <a:lnTo>
                      <a:pt x="109" y="258"/>
                    </a:lnTo>
                    <a:lnTo>
                      <a:pt x="109" y="44"/>
                    </a:lnTo>
                    <a:lnTo>
                      <a:pt x="87" y="0"/>
                    </a:lnTo>
                    <a:lnTo>
                      <a:pt x="109" y="44"/>
                    </a:lnTo>
                    <a:lnTo>
                      <a:pt x="109" y="22"/>
                    </a:lnTo>
                    <a:lnTo>
                      <a:pt x="87" y="0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125680" y="5568840"/>
                <a:ext cx="207000" cy="162720"/>
              </a:xfrm>
              <a:custGeom>
                <a:avLst/>
                <a:gdLst/>
                <a:ahLst/>
                <a:rect l="l" t="t" r="r" b="b"/>
                <a:pathLst>
                  <a:path w="3358" h="2471">
                    <a:moveTo>
                      <a:pt x="99" y="105"/>
                    </a:moveTo>
                    <a:lnTo>
                      <a:pt x="22" y="148"/>
                    </a:lnTo>
                    <a:lnTo>
                      <a:pt x="3293" y="2471"/>
                    </a:lnTo>
                    <a:lnTo>
                      <a:pt x="3358" y="2383"/>
                    </a:lnTo>
                    <a:lnTo>
                      <a:pt x="83" y="56"/>
                    </a:lnTo>
                    <a:lnTo>
                      <a:pt x="0" y="105"/>
                    </a:lnTo>
                    <a:lnTo>
                      <a:pt x="83" y="56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99" y="1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127480" y="5757840"/>
                <a:ext cx="203400" cy="107640"/>
              </a:xfrm>
              <a:custGeom>
                <a:avLst/>
                <a:gdLst/>
                <a:ahLst/>
                <a:rect l="l" t="t" r="r" b="b"/>
                <a:pathLst>
                  <a:path w="3287" h="1652">
                    <a:moveTo>
                      <a:pt x="0" y="0"/>
                    </a:moveTo>
                    <a:lnTo>
                      <a:pt x="0" y="290"/>
                    </a:lnTo>
                    <a:lnTo>
                      <a:pt x="3287" y="1652"/>
                    </a:lnTo>
                    <a:lnTo>
                      <a:pt x="3287" y="14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25680" y="5757840"/>
                <a:ext cx="5400" cy="2232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71" y="236"/>
                    </a:moveTo>
                    <a:lnTo>
                      <a:pt x="99" y="290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28" y="340"/>
                    </a:lnTo>
                    <a:lnTo>
                      <a:pt x="0" y="290"/>
                    </a:lnTo>
                    <a:lnTo>
                      <a:pt x="0" y="323"/>
                    </a:lnTo>
                    <a:lnTo>
                      <a:pt x="28" y="340"/>
                    </a:lnTo>
                    <a:lnTo>
                      <a:pt x="71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25680" y="5772240"/>
                <a:ext cx="209160" cy="99360"/>
              </a:xfrm>
              <a:custGeom>
                <a:avLst/>
                <a:gdLst/>
                <a:ahLst/>
                <a:rect l="l" t="t" r="r" b="b"/>
                <a:pathLst>
                  <a:path w="3363" h="1498">
                    <a:moveTo>
                      <a:pt x="3253" y="1416"/>
                    </a:moveTo>
                    <a:lnTo>
                      <a:pt x="3330" y="1367"/>
                    </a:lnTo>
                    <a:lnTo>
                      <a:pt x="43" y="0"/>
                    </a:lnTo>
                    <a:lnTo>
                      <a:pt x="0" y="104"/>
                    </a:lnTo>
                    <a:lnTo>
                      <a:pt x="3286" y="1465"/>
                    </a:lnTo>
                    <a:lnTo>
                      <a:pt x="3363" y="1416"/>
                    </a:lnTo>
                    <a:lnTo>
                      <a:pt x="3286" y="1465"/>
                    </a:lnTo>
                    <a:lnTo>
                      <a:pt x="3363" y="1498"/>
                    </a:lnTo>
                    <a:lnTo>
                      <a:pt x="3363" y="1416"/>
                    </a:lnTo>
                    <a:lnTo>
                      <a:pt x="3253" y="14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327280" y="584964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33" y="104"/>
                    </a:moveTo>
                    <a:lnTo>
                      <a:pt x="0" y="55"/>
                    </a:lnTo>
                    <a:lnTo>
                      <a:pt x="0" y="236"/>
                    </a:lnTo>
                    <a:lnTo>
                      <a:pt x="110" y="236"/>
                    </a:lnTo>
                    <a:lnTo>
                      <a:pt x="110" y="55"/>
                    </a:lnTo>
                    <a:lnTo>
                      <a:pt x="77" y="0"/>
                    </a:lnTo>
                    <a:lnTo>
                      <a:pt x="110" y="55"/>
                    </a:lnTo>
                    <a:lnTo>
                      <a:pt x="105" y="17"/>
                    </a:lnTo>
                    <a:lnTo>
                      <a:pt x="77" y="0"/>
                    </a:lnTo>
                    <a:lnTo>
                      <a:pt x="3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125680" y="5752080"/>
                <a:ext cx="207000" cy="105840"/>
              </a:xfrm>
              <a:custGeom>
                <a:avLst/>
                <a:gdLst/>
                <a:ahLst/>
                <a:rect l="l" t="t" r="r" b="b"/>
                <a:pathLst>
                  <a:path w="3358" h="1602">
                    <a:moveTo>
                      <a:pt x="99" y="82"/>
                    </a:moveTo>
                    <a:lnTo>
                      <a:pt x="28" y="131"/>
                    </a:lnTo>
                    <a:lnTo>
                      <a:pt x="3314" y="1602"/>
                    </a:lnTo>
                    <a:lnTo>
                      <a:pt x="3358" y="1498"/>
                    </a:lnTo>
                    <a:lnTo>
                      <a:pt x="71" y="26"/>
                    </a:lnTo>
                    <a:lnTo>
                      <a:pt x="0" y="82"/>
                    </a:lnTo>
                    <a:lnTo>
                      <a:pt x="71" y="26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99" y="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315760" y="5855760"/>
                <a:ext cx="19080" cy="63000"/>
              </a:xfrm>
              <a:custGeom>
                <a:avLst/>
                <a:gdLst/>
                <a:ahLst/>
                <a:rect l="l" t="t" r="r" b="b"/>
                <a:pathLst>
                  <a:path w="312" h="944">
                    <a:moveTo>
                      <a:pt x="312" y="0"/>
                    </a:moveTo>
                    <a:lnTo>
                      <a:pt x="312" y="944"/>
                    </a:lnTo>
                    <a:lnTo>
                      <a:pt x="0" y="840"/>
                    </a:lnTo>
                    <a:lnTo>
                      <a:pt x="0" y="82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331240" y="5855760"/>
                <a:ext cx="7560" cy="66960"/>
              </a:xfrm>
              <a:custGeom>
                <a:avLst/>
                <a:gdLst/>
                <a:ahLst/>
                <a:rect l="l" t="t" r="r" b="b"/>
                <a:pathLst>
                  <a:path w="99" h="1010">
                    <a:moveTo>
                      <a:pt x="33" y="993"/>
                    </a:moveTo>
                    <a:lnTo>
                      <a:pt x="99" y="944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44"/>
                    </a:lnTo>
                    <a:lnTo>
                      <a:pt x="66" y="889"/>
                    </a:lnTo>
                    <a:lnTo>
                      <a:pt x="33" y="993"/>
                    </a:lnTo>
                    <a:lnTo>
                      <a:pt x="99" y="1010"/>
                    </a:lnTo>
                    <a:lnTo>
                      <a:pt x="99" y="944"/>
                    </a:lnTo>
                    <a:lnTo>
                      <a:pt x="33" y="9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11800" y="5908680"/>
                <a:ext cx="24480" cy="11880"/>
              </a:xfrm>
              <a:custGeom>
                <a:avLst/>
                <a:gdLst/>
                <a:ahLst/>
                <a:rect l="l" t="t" r="r" b="b"/>
                <a:pathLst>
                  <a:path w="390" h="203">
                    <a:moveTo>
                      <a:pt x="0" y="50"/>
                    </a:moveTo>
                    <a:lnTo>
                      <a:pt x="44" y="99"/>
                    </a:lnTo>
                    <a:lnTo>
                      <a:pt x="357" y="203"/>
                    </a:lnTo>
                    <a:lnTo>
                      <a:pt x="390" y="99"/>
                    </a:lnTo>
                    <a:lnTo>
                      <a:pt x="72" y="0"/>
                    </a:lnTo>
                    <a:lnTo>
                      <a:pt x="115" y="50"/>
                    </a:lnTo>
                    <a:lnTo>
                      <a:pt x="0" y="50"/>
                    </a:lnTo>
                    <a:lnTo>
                      <a:pt x="0" y="88"/>
                    </a:lnTo>
                    <a:lnTo>
                      <a:pt x="44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311800" y="5857920"/>
                <a:ext cx="7200" cy="52560"/>
              </a:xfrm>
              <a:custGeom>
                <a:avLst/>
                <a:gdLst/>
                <a:ahLst/>
                <a:rect l="l" t="t" r="r" b="b"/>
                <a:pathLst>
                  <a:path w="115" h="807">
                    <a:moveTo>
                      <a:pt x="44" y="0"/>
                    </a:moveTo>
                    <a:lnTo>
                      <a:pt x="0" y="49"/>
                    </a:lnTo>
                    <a:lnTo>
                      <a:pt x="0" y="807"/>
                    </a:lnTo>
                    <a:lnTo>
                      <a:pt x="115" y="807"/>
                    </a:lnTo>
                    <a:lnTo>
                      <a:pt x="115" y="49"/>
                    </a:lnTo>
                    <a:lnTo>
                      <a:pt x="72" y="99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313600" y="5851440"/>
                <a:ext cx="25200" cy="12240"/>
              </a:xfrm>
              <a:custGeom>
                <a:avLst/>
                <a:gdLst/>
                <a:ahLst/>
                <a:rect l="l" t="t" r="r" b="b"/>
                <a:pathLst>
                  <a:path w="379" h="198">
                    <a:moveTo>
                      <a:pt x="379" y="66"/>
                    </a:moveTo>
                    <a:lnTo>
                      <a:pt x="313" y="16"/>
                    </a:lnTo>
                    <a:lnTo>
                      <a:pt x="0" y="99"/>
                    </a:lnTo>
                    <a:lnTo>
                      <a:pt x="28" y="198"/>
                    </a:lnTo>
                    <a:lnTo>
                      <a:pt x="346" y="115"/>
                    </a:lnTo>
                    <a:lnTo>
                      <a:pt x="280" y="66"/>
                    </a:lnTo>
                    <a:lnTo>
                      <a:pt x="379" y="66"/>
                    </a:lnTo>
                    <a:lnTo>
                      <a:pt x="379" y="0"/>
                    </a:lnTo>
                    <a:lnTo>
                      <a:pt x="313" y="16"/>
                    </a:lnTo>
                    <a:lnTo>
                      <a:pt x="379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315760" y="5727600"/>
                <a:ext cx="19080" cy="71280"/>
              </a:xfrm>
              <a:custGeom>
                <a:avLst/>
                <a:gdLst/>
                <a:ahLst/>
                <a:rect l="l" t="t" r="r" b="b"/>
                <a:pathLst>
                  <a:path w="307" h="1059">
                    <a:moveTo>
                      <a:pt x="307" y="0"/>
                    </a:moveTo>
                    <a:lnTo>
                      <a:pt x="307" y="1059"/>
                    </a:lnTo>
                    <a:lnTo>
                      <a:pt x="0" y="883"/>
                    </a:lnTo>
                    <a:lnTo>
                      <a:pt x="0" y="27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331240" y="5727600"/>
                <a:ext cx="7560" cy="77400"/>
              </a:xfrm>
              <a:custGeom>
                <a:avLst/>
                <a:gdLst/>
                <a:ahLst/>
                <a:rect l="l" t="t" r="r" b="b"/>
                <a:pathLst>
                  <a:path w="99" h="1153">
                    <a:moveTo>
                      <a:pt x="22" y="1104"/>
                    </a:moveTo>
                    <a:lnTo>
                      <a:pt x="99" y="1059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59"/>
                    </a:lnTo>
                    <a:lnTo>
                      <a:pt x="77" y="1015"/>
                    </a:lnTo>
                    <a:lnTo>
                      <a:pt x="22" y="1104"/>
                    </a:lnTo>
                    <a:lnTo>
                      <a:pt x="99" y="1153"/>
                    </a:lnTo>
                    <a:lnTo>
                      <a:pt x="99" y="1059"/>
                    </a:lnTo>
                    <a:lnTo>
                      <a:pt x="22" y="1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11800" y="57823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390" h="264">
                    <a:moveTo>
                      <a:pt x="0" y="43"/>
                    </a:moveTo>
                    <a:lnTo>
                      <a:pt x="33" y="93"/>
                    </a:lnTo>
                    <a:lnTo>
                      <a:pt x="335" y="264"/>
                    </a:lnTo>
                    <a:lnTo>
                      <a:pt x="390" y="175"/>
                    </a:lnTo>
                    <a:lnTo>
                      <a:pt x="83" y="0"/>
                    </a:lnTo>
                    <a:lnTo>
                      <a:pt x="115" y="43"/>
                    </a:lnTo>
                    <a:lnTo>
                      <a:pt x="0" y="43"/>
                    </a:lnTo>
                    <a:lnTo>
                      <a:pt x="5" y="76"/>
                    </a:lnTo>
                    <a:lnTo>
                      <a:pt x="33" y="9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311800" y="5727600"/>
                <a:ext cx="7200" cy="58680"/>
              </a:xfrm>
              <a:custGeom>
                <a:avLst/>
                <a:gdLst/>
                <a:ahLst/>
                <a:rect l="l" t="t" r="r" b="b"/>
                <a:pathLst>
                  <a:path w="115" h="905">
                    <a:moveTo>
                      <a:pt x="55" y="0"/>
                    </a:moveTo>
                    <a:lnTo>
                      <a:pt x="0" y="49"/>
                    </a:lnTo>
                    <a:lnTo>
                      <a:pt x="0" y="905"/>
                    </a:lnTo>
                    <a:lnTo>
                      <a:pt x="115" y="905"/>
                    </a:lnTo>
                    <a:lnTo>
                      <a:pt x="115" y="49"/>
                    </a:lnTo>
                    <a:lnTo>
                      <a:pt x="61" y="9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315760" y="5725800"/>
                <a:ext cx="23040" cy="8280"/>
              </a:xfrm>
              <a:custGeom>
                <a:avLst/>
                <a:gdLst/>
                <a:ahLst/>
                <a:rect l="l" t="t" r="r" b="b"/>
                <a:pathLst>
                  <a:path w="357" h="131">
                    <a:moveTo>
                      <a:pt x="357" y="55"/>
                    </a:moveTo>
                    <a:lnTo>
                      <a:pt x="302" y="6"/>
                    </a:lnTo>
                    <a:lnTo>
                      <a:pt x="0" y="33"/>
                    </a:lnTo>
                    <a:lnTo>
                      <a:pt x="6" y="131"/>
                    </a:lnTo>
                    <a:lnTo>
                      <a:pt x="313" y="105"/>
                    </a:lnTo>
                    <a:lnTo>
                      <a:pt x="258" y="55"/>
                    </a:lnTo>
                    <a:lnTo>
                      <a:pt x="357" y="55"/>
                    </a:lnTo>
                    <a:lnTo>
                      <a:pt x="357" y="0"/>
                    </a:lnTo>
                    <a:lnTo>
                      <a:pt x="302" y="6"/>
                    </a:lnTo>
                    <a:lnTo>
                      <a:pt x="357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86600" y="5711400"/>
                <a:ext cx="5760" cy="60840"/>
              </a:xfrm>
              <a:custGeom>
                <a:avLst/>
                <a:gdLst/>
                <a:ahLst/>
                <a:rect l="l" t="t" r="r" b="b"/>
                <a:pathLst>
                  <a:path w="89" h="932">
                    <a:moveTo>
                      <a:pt x="89" y="109"/>
                    </a:moveTo>
                    <a:lnTo>
                      <a:pt x="89" y="932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89" y="10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88760" y="5717520"/>
                <a:ext cx="5400" cy="58680"/>
              </a:xfrm>
              <a:custGeom>
                <a:avLst/>
                <a:gdLst/>
                <a:ahLst/>
                <a:rect l="l" t="t" r="r" b="b"/>
                <a:pathLst>
                  <a:path w="98" h="879">
                    <a:moveTo>
                      <a:pt x="10" y="862"/>
                    </a:moveTo>
                    <a:lnTo>
                      <a:pt x="98" y="823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23"/>
                    </a:lnTo>
                    <a:lnTo>
                      <a:pt x="92" y="790"/>
                    </a:lnTo>
                    <a:lnTo>
                      <a:pt x="0" y="823"/>
                    </a:lnTo>
                    <a:lnTo>
                      <a:pt x="16" y="862"/>
                    </a:lnTo>
                    <a:lnTo>
                      <a:pt x="49" y="879"/>
                    </a:lnTo>
                    <a:lnTo>
                      <a:pt x="87" y="862"/>
                    </a:lnTo>
                    <a:lnTo>
                      <a:pt x="98" y="823"/>
                    </a:lnTo>
                    <a:lnTo>
                      <a:pt x="10" y="86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83360" y="57621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0" y="55"/>
                    </a:moveTo>
                    <a:lnTo>
                      <a:pt x="16" y="88"/>
                    </a:lnTo>
                    <a:lnTo>
                      <a:pt x="104" y="181"/>
                    </a:lnTo>
                    <a:lnTo>
                      <a:pt x="186" y="109"/>
                    </a:lnTo>
                    <a:lnTo>
                      <a:pt x="99" y="17"/>
                    </a:lnTo>
                    <a:lnTo>
                      <a:pt x="115" y="55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22" y="11"/>
                    </a:lnTo>
                    <a:lnTo>
                      <a:pt x="0" y="50"/>
                    </a:lnTo>
                    <a:lnTo>
                      <a:pt x="16" y="8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83360" y="5707080"/>
                <a:ext cx="7200" cy="58680"/>
              </a:xfrm>
              <a:custGeom>
                <a:avLst/>
                <a:gdLst/>
                <a:ahLst/>
                <a:rect l="l" t="t" r="r" b="b"/>
                <a:pathLst>
                  <a:path w="115" h="901">
                    <a:moveTo>
                      <a:pt x="99" y="23"/>
                    </a:moveTo>
                    <a:lnTo>
                      <a:pt x="0" y="56"/>
                    </a:lnTo>
                    <a:lnTo>
                      <a:pt x="0" y="901"/>
                    </a:lnTo>
                    <a:lnTo>
                      <a:pt x="115" y="901"/>
                    </a:lnTo>
                    <a:lnTo>
                      <a:pt x="115" y="56"/>
                    </a:lnTo>
                    <a:lnTo>
                      <a:pt x="16" y="89"/>
                    </a:lnTo>
                    <a:lnTo>
                      <a:pt x="115" y="56"/>
                    </a:lnTo>
                    <a:lnTo>
                      <a:pt x="99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6"/>
                    </a:lnTo>
                    <a:lnTo>
                      <a:pt x="9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83360" y="570960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76" h="198">
                    <a:moveTo>
                      <a:pt x="176" y="142"/>
                    </a:moveTo>
                    <a:lnTo>
                      <a:pt x="170" y="115"/>
                    </a:lnTo>
                    <a:lnTo>
                      <a:pt x="83" y="0"/>
                    </a:lnTo>
                    <a:lnTo>
                      <a:pt x="0" y="66"/>
                    </a:lnTo>
                    <a:lnTo>
                      <a:pt x="88" y="175"/>
                    </a:lnTo>
                    <a:lnTo>
                      <a:pt x="78" y="142"/>
                    </a:lnTo>
                    <a:lnTo>
                      <a:pt x="88" y="175"/>
                    </a:lnTo>
                    <a:lnTo>
                      <a:pt x="121" y="198"/>
                    </a:lnTo>
                    <a:lnTo>
                      <a:pt x="160" y="181"/>
                    </a:lnTo>
                    <a:lnTo>
                      <a:pt x="176" y="148"/>
                    </a:lnTo>
                    <a:lnTo>
                      <a:pt x="170" y="115"/>
                    </a:lnTo>
                    <a:lnTo>
                      <a:pt x="176" y="14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59960" y="5695200"/>
                <a:ext cx="5400" cy="58680"/>
              </a:xfrm>
              <a:custGeom>
                <a:avLst/>
                <a:gdLst/>
                <a:ahLst/>
                <a:rect l="l" t="t" r="r" b="b"/>
                <a:pathLst>
                  <a:path w="93" h="906">
                    <a:moveTo>
                      <a:pt x="93" y="71"/>
                    </a:moveTo>
                    <a:lnTo>
                      <a:pt x="93" y="906"/>
                    </a:lnTo>
                    <a:lnTo>
                      <a:pt x="0" y="840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63920" y="5699520"/>
                <a:ext cx="5400" cy="5652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16" y="880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82" y="786"/>
                    </a:lnTo>
                    <a:lnTo>
                      <a:pt x="0" y="835"/>
                    </a:lnTo>
                    <a:lnTo>
                      <a:pt x="16" y="868"/>
                    </a:lnTo>
                    <a:lnTo>
                      <a:pt x="49" y="885"/>
                    </a:lnTo>
                    <a:lnTo>
                      <a:pt x="87" y="868"/>
                    </a:lnTo>
                    <a:lnTo>
                      <a:pt x="99" y="835"/>
                    </a:lnTo>
                    <a:lnTo>
                      <a:pt x="16" y="88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56360" y="57459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81" h="165">
                    <a:moveTo>
                      <a:pt x="0" y="54"/>
                    </a:moveTo>
                    <a:lnTo>
                      <a:pt x="27" y="104"/>
                    </a:lnTo>
                    <a:lnTo>
                      <a:pt x="115" y="165"/>
                    </a:lnTo>
                    <a:lnTo>
                      <a:pt x="181" y="71"/>
                    </a:lnTo>
                    <a:lnTo>
                      <a:pt x="88" y="10"/>
                    </a:lnTo>
                    <a:lnTo>
                      <a:pt x="115" y="54"/>
                    </a:lnTo>
                    <a:lnTo>
                      <a:pt x="88" y="10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0" y="66"/>
                    </a:lnTo>
                    <a:lnTo>
                      <a:pt x="27" y="10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56360" y="5691240"/>
                <a:ext cx="7560" cy="58680"/>
              </a:xfrm>
              <a:custGeom>
                <a:avLst/>
                <a:gdLst/>
                <a:ahLst/>
                <a:rect l="l" t="t" r="r" b="b"/>
                <a:pathLst>
                  <a:path w="115" h="894">
                    <a:moveTo>
                      <a:pt x="88" y="10"/>
                    </a:moveTo>
                    <a:lnTo>
                      <a:pt x="0" y="54"/>
                    </a:lnTo>
                    <a:lnTo>
                      <a:pt x="0" y="894"/>
                    </a:lnTo>
                    <a:lnTo>
                      <a:pt x="115" y="894"/>
                    </a:lnTo>
                    <a:lnTo>
                      <a:pt x="115" y="54"/>
                    </a:lnTo>
                    <a:lnTo>
                      <a:pt x="27" y="93"/>
                    </a:lnTo>
                    <a:lnTo>
                      <a:pt x="115" y="54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4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57800" y="56912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5"/>
                    </a:moveTo>
                    <a:lnTo>
                      <a:pt x="154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5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54" y="72"/>
                    </a:lnTo>
                    <a:lnTo>
                      <a:pt x="171" y="1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6920" y="5676840"/>
                <a:ext cx="5400" cy="6300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93" y="104"/>
                    </a:moveTo>
                    <a:lnTo>
                      <a:pt x="93" y="971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8720" y="5682600"/>
                <a:ext cx="5400" cy="61200"/>
              </a:xfrm>
              <a:custGeom>
                <a:avLst/>
                <a:gdLst/>
                <a:ahLst/>
                <a:rect l="l" t="t" r="r" b="b"/>
                <a:pathLst>
                  <a:path w="104" h="917">
                    <a:moveTo>
                      <a:pt x="27" y="911"/>
                    </a:moveTo>
                    <a:lnTo>
                      <a:pt x="104" y="867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67"/>
                    </a:lnTo>
                    <a:lnTo>
                      <a:pt x="76" y="818"/>
                    </a:lnTo>
                    <a:lnTo>
                      <a:pt x="0" y="867"/>
                    </a:lnTo>
                    <a:lnTo>
                      <a:pt x="16" y="900"/>
                    </a:lnTo>
                    <a:lnTo>
                      <a:pt x="54" y="917"/>
                    </a:lnTo>
                    <a:lnTo>
                      <a:pt x="87" y="900"/>
                    </a:lnTo>
                    <a:lnTo>
                      <a:pt x="104" y="867"/>
                    </a:lnTo>
                    <a:lnTo>
                      <a:pt x="27" y="9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2960" y="573408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0" h="154">
                    <a:moveTo>
                      <a:pt x="0" y="50"/>
                    </a:moveTo>
                    <a:lnTo>
                      <a:pt x="28" y="99"/>
                    </a:lnTo>
                    <a:lnTo>
                      <a:pt x="121" y="154"/>
                    </a:lnTo>
                    <a:lnTo>
                      <a:pt x="170" y="61"/>
                    </a:lnTo>
                    <a:lnTo>
                      <a:pt x="83" y="5"/>
                    </a:lnTo>
                    <a:lnTo>
                      <a:pt x="110" y="50"/>
                    </a:lnTo>
                    <a:lnTo>
                      <a:pt x="83" y="5"/>
                    </a:lnTo>
                    <a:lnTo>
                      <a:pt x="38" y="0"/>
                    </a:lnTo>
                    <a:lnTo>
                      <a:pt x="12" y="28"/>
                    </a:lnTo>
                    <a:lnTo>
                      <a:pt x="5" y="66"/>
                    </a:lnTo>
                    <a:lnTo>
                      <a:pt x="2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2960" y="5672520"/>
                <a:ext cx="5400" cy="63000"/>
              </a:xfrm>
              <a:custGeom>
                <a:avLst/>
                <a:gdLst/>
                <a:ahLst/>
                <a:rect l="l" t="t" r="r" b="b"/>
                <a:pathLst>
                  <a:path w="110" h="972">
                    <a:moveTo>
                      <a:pt x="94" y="22"/>
                    </a:moveTo>
                    <a:lnTo>
                      <a:pt x="0" y="61"/>
                    </a:lnTo>
                    <a:lnTo>
                      <a:pt x="0" y="972"/>
                    </a:lnTo>
                    <a:lnTo>
                      <a:pt x="110" y="972"/>
                    </a:lnTo>
                    <a:lnTo>
                      <a:pt x="110" y="61"/>
                    </a:lnTo>
                    <a:lnTo>
                      <a:pt x="17" y="94"/>
                    </a:lnTo>
                    <a:lnTo>
                      <a:pt x="110" y="61"/>
                    </a:lnTo>
                    <a:lnTo>
                      <a:pt x="94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4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2960" y="56750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70" y="110"/>
                    </a:lnTo>
                    <a:lnTo>
                      <a:pt x="77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77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70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09920" y="5658480"/>
                <a:ext cx="5400" cy="61200"/>
              </a:xfrm>
              <a:custGeom>
                <a:avLst/>
                <a:gdLst/>
                <a:ahLst/>
                <a:rect l="l" t="t" r="r" b="b"/>
                <a:pathLst>
                  <a:path w="93" h="932">
                    <a:moveTo>
                      <a:pt x="93" y="104"/>
                    </a:moveTo>
                    <a:lnTo>
                      <a:pt x="93" y="932"/>
                    </a:lnTo>
                    <a:lnTo>
                      <a:pt x="0" y="916"/>
                    </a:lnTo>
                    <a:lnTo>
                      <a:pt x="0" y="0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12080" y="5664960"/>
                <a:ext cx="5400" cy="58320"/>
              </a:xfrm>
              <a:custGeom>
                <a:avLst/>
                <a:gdLst/>
                <a:ahLst/>
                <a:rect l="l" t="t" r="r" b="b"/>
                <a:pathLst>
                  <a:path w="99" h="878">
                    <a:moveTo>
                      <a:pt x="38" y="878"/>
                    </a:moveTo>
                    <a:lnTo>
                      <a:pt x="99" y="8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28"/>
                    </a:lnTo>
                    <a:lnTo>
                      <a:pt x="60" y="779"/>
                    </a:lnTo>
                    <a:lnTo>
                      <a:pt x="0" y="828"/>
                    </a:lnTo>
                    <a:lnTo>
                      <a:pt x="10" y="868"/>
                    </a:lnTo>
                    <a:lnTo>
                      <a:pt x="49" y="878"/>
                    </a:lnTo>
                    <a:lnTo>
                      <a:pt x="82" y="868"/>
                    </a:lnTo>
                    <a:lnTo>
                      <a:pt x="99" y="828"/>
                    </a:lnTo>
                    <a:lnTo>
                      <a:pt x="38" y="8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06320" y="57153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59" h="115">
                    <a:moveTo>
                      <a:pt x="0" y="49"/>
                    </a:moveTo>
                    <a:lnTo>
                      <a:pt x="43" y="105"/>
                    </a:lnTo>
                    <a:lnTo>
                      <a:pt x="137" y="115"/>
                    </a:lnTo>
                    <a:lnTo>
                      <a:pt x="159" y="16"/>
                    </a:lnTo>
                    <a:lnTo>
                      <a:pt x="66" y="0"/>
                    </a:lnTo>
                    <a:lnTo>
                      <a:pt x="109" y="49"/>
                    </a:lnTo>
                    <a:lnTo>
                      <a:pt x="66" y="0"/>
                    </a:lnTo>
                    <a:lnTo>
                      <a:pt x="27" y="11"/>
                    </a:lnTo>
                    <a:lnTo>
                      <a:pt x="5" y="44"/>
                    </a:lnTo>
                    <a:lnTo>
                      <a:pt x="10" y="82"/>
                    </a:lnTo>
                    <a:lnTo>
                      <a:pt x="43" y="105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06320" y="5654520"/>
                <a:ext cx="5760" cy="62640"/>
              </a:xfrm>
              <a:custGeom>
                <a:avLst/>
                <a:gdLst/>
                <a:ahLst/>
                <a:rect l="l" t="t" r="r" b="b"/>
                <a:pathLst>
                  <a:path w="109" h="977">
                    <a:moveTo>
                      <a:pt x="99" y="22"/>
                    </a:moveTo>
                    <a:lnTo>
                      <a:pt x="0" y="61"/>
                    </a:lnTo>
                    <a:lnTo>
                      <a:pt x="0" y="977"/>
                    </a:lnTo>
                    <a:lnTo>
                      <a:pt x="109" y="977"/>
                    </a:lnTo>
                    <a:lnTo>
                      <a:pt x="109" y="61"/>
                    </a:lnTo>
                    <a:lnTo>
                      <a:pt x="17" y="94"/>
                    </a:lnTo>
                    <a:lnTo>
                      <a:pt x="109" y="61"/>
                    </a:lnTo>
                    <a:lnTo>
                      <a:pt x="99" y="17"/>
                    </a:lnTo>
                    <a:lnTo>
                      <a:pt x="55" y="0"/>
                    </a:lnTo>
                    <a:lnTo>
                      <a:pt x="17" y="17"/>
                    </a:lnTo>
                    <a:lnTo>
                      <a:pt x="0" y="61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06320" y="565632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181" y="143"/>
                    </a:moveTo>
                    <a:lnTo>
                      <a:pt x="169" y="110"/>
                    </a:lnTo>
                    <a:lnTo>
                      <a:pt x="82" y="0"/>
                    </a:lnTo>
                    <a:lnTo>
                      <a:pt x="0" y="72"/>
                    </a:lnTo>
                    <a:lnTo>
                      <a:pt x="87" y="181"/>
                    </a:lnTo>
                    <a:lnTo>
                      <a:pt x="82" y="143"/>
                    </a:lnTo>
                    <a:lnTo>
                      <a:pt x="87" y="181"/>
                    </a:lnTo>
                    <a:lnTo>
                      <a:pt x="131" y="192"/>
                    </a:lnTo>
                    <a:lnTo>
                      <a:pt x="164" y="181"/>
                    </a:lnTo>
                    <a:lnTo>
                      <a:pt x="186" y="148"/>
                    </a:lnTo>
                    <a:lnTo>
                      <a:pt x="169" y="110"/>
                    </a:lnTo>
                    <a:lnTo>
                      <a:pt x="181" y="14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182920" y="564048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88" h="999">
                    <a:moveTo>
                      <a:pt x="88" y="71"/>
                    </a:moveTo>
                    <a:lnTo>
                      <a:pt x="88" y="999"/>
                    </a:lnTo>
                    <a:lnTo>
                      <a:pt x="0" y="906"/>
                    </a:lnTo>
                    <a:lnTo>
                      <a:pt x="0" y="0"/>
                    </a:lnTo>
                    <a:lnTo>
                      <a:pt x="88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86880" y="5646240"/>
                <a:ext cx="5400" cy="63000"/>
              </a:xfrm>
              <a:custGeom>
                <a:avLst/>
                <a:gdLst/>
                <a:ahLst/>
                <a:rect l="l" t="t" r="r" b="b"/>
                <a:pathLst>
                  <a:path w="99" h="977">
                    <a:moveTo>
                      <a:pt x="6" y="961"/>
                    </a:moveTo>
                    <a:lnTo>
                      <a:pt x="99" y="92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28"/>
                    </a:lnTo>
                    <a:lnTo>
                      <a:pt x="89" y="895"/>
                    </a:lnTo>
                    <a:lnTo>
                      <a:pt x="0" y="928"/>
                    </a:lnTo>
                    <a:lnTo>
                      <a:pt x="12" y="961"/>
                    </a:lnTo>
                    <a:lnTo>
                      <a:pt x="50" y="977"/>
                    </a:lnTo>
                    <a:lnTo>
                      <a:pt x="83" y="961"/>
                    </a:lnTo>
                    <a:lnTo>
                      <a:pt x="99" y="928"/>
                    </a:lnTo>
                    <a:lnTo>
                      <a:pt x="6" y="9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181480" y="5697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81" h="175">
                    <a:moveTo>
                      <a:pt x="0" y="49"/>
                    </a:moveTo>
                    <a:lnTo>
                      <a:pt x="16" y="87"/>
                    </a:lnTo>
                    <a:lnTo>
                      <a:pt x="98" y="175"/>
                    </a:lnTo>
                    <a:lnTo>
                      <a:pt x="181" y="109"/>
                    </a:lnTo>
                    <a:lnTo>
                      <a:pt x="98" y="16"/>
                    </a:lnTo>
                    <a:lnTo>
                      <a:pt x="109" y="49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21" y="10"/>
                    </a:lnTo>
                    <a:lnTo>
                      <a:pt x="0" y="43"/>
                    </a:lnTo>
                    <a:lnTo>
                      <a:pt x="16" y="8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81480" y="5637960"/>
                <a:ext cx="5400" cy="63000"/>
              </a:xfrm>
              <a:custGeom>
                <a:avLst/>
                <a:gdLst/>
                <a:ahLst/>
                <a:rect l="l" t="t" r="r" b="b"/>
                <a:pathLst>
                  <a:path w="109" h="961">
                    <a:moveTo>
                      <a:pt x="92" y="16"/>
                    </a:moveTo>
                    <a:lnTo>
                      <a:pt x="0" y="55"/>
                    </a:lnTo>
                    <a:lnTo>
                      <a:pt x="0" y="961"/>
                    </a:lnTo>
                    <a:lnTo>
                      <a:pt x="109" y="961"/>
                    </a:lnTo>
                    <a:lnTo>
                      <a:pt x="109" y="55"/>
                    </a:lnTo>
                    <a:lnTo>
                      <a:pt x="21" y="99"/>
                    </a:lnTo>
                    <a:lnTo>
                      <a:pt x="109" y="55"/>
                    </a:lnTo>
                    <a:lnTo>
                      <a:pt x="98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1480" y="56379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70" h="171">
                    <a:moveTo>
                      <a:pt x="170" y="110"/>
                    </a:moveTo>
                    <a:lnTo>
                      <a:pt x="154" y="72"/>
                    </a:lnTo>
                    <a:lnTo>
                      <a:pt x="71" y="0"/>
                    </a:lnTo>
                    <a:lnTo>
                      <a:pt x="0" y="83"/>
                    </a:lnTo>
                    <a:lnTo>
                      <a:pt x="83" y="155"/>
                    </a:lnTo>
                    <a:lnTo>
                      <a:pt x="71" y="110"/>
                    </a:lnTo>
                    <a:lnTo>
                      <a:pt x="83" y="155"/>
                    </a:lnTo>
                    <a:lnTo>
                      <a:pt x="127" y="171"/>
                    </a:lnTo>
                    <a:lnTo>
                      <a:pt x="160" y="148"/>
                    </a:lnTo>
                    <a:lnTo>
                      <a:pt x="170" y="110"/>
                    </a:lnTo>
                    <a:lnTo>
                      <a:pt x="154" y="72"/>
                    </a:lnTo>
                    <a:lnTo>
                      <a:pt x="170" y="1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286600" y="5845680"/>
                <a:ext cx="5760" cy="56880"/>
              </a:xfrm>
              <a:custGeom>
                <a:avLst/>
                <a:gdLst/>
                <a:ahLst/>
                <a:rect l="l" t="t" r="r" b="b"/>
                <a:pathLst>
                  <a:path w="89" h="845">
                    <a:moveTo>
                      <a:pt x="89" y="39"/>
                    </a:moveTo>
                    <a:lnTo>
                      <a:pt x="89" y="845"/>
                    </a:lnTo>
                    <a:lnTo>
                      <a:pt x="0" y="818"/>
                    </a:lnTo>
                    <a:lnTo>
                      <a:pt x="0" y="0"/>
                    </a:lnTo>
                    <a:lnTo>
                      <a:pt x="89" y="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288760" y="5849640"/>
                <a:ext cx="5400" cy="54720"/>
              </a:xfrm>
              <a:custGeom>
                <a:avLst/>
                <a:gdLst/>
                <a:ahLst/>
                <a:rect l="l" t="t" r="r" b="b"/>
                <a:pathLst>
                  <a:path w="98" h="856">
                    <a:moveTo>
                      <a:pt x="32" y="856"/>
                    </a:moveTo>
                    <a:lnTo>
                      <a:pt x="98" y="806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806"/>
                    </a:lnTo>
                    <a:lnTo>
                      <a:pt x="65" y="757"/>
                    </a:lnTo>
                    <a:lnTo>
                      <a:pt x="0" y="806"/>
                    </a:lnTo>
                    <a:lnTo>
                      <a:pt x="16" y="845"/>
                    </a:lnTo>
                    <a:lnTo>
                      <a:pt x="49" y="856"/>
                    </a:lnTo>
                    <a:lnTo>
                      <a:pt x="87" y="845"/>
                    </a:lnTo>
                    <a:lnTo>
                      <a:pt x="98" y="806"/>
                    </a:lnTo>
                    <a:lnTo>
                      <a:pt x="32" y="8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283360" y="589608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159" h="127">
                    <a:moveTo>
                      <a:pt x="0" y="50"/>
                    </a:moveTo>
                    <a:lnTo>
                      <a:pt x="44" y="105"/>
                    </a:lnTo>
                    <a:lnTo>
                      <a:pt x="126" y="127"/>
                    </a:lnTo>
                    <a:lnTo>
                      <a:pt x="159" y="28"/>
                    </a:lnTo>
                    <a:lnTo>
                      <a:pt x="71" y="0"/>
                    </a:lnTo>
                    <a:lnTo>
                      <a:pt x="115" y="50"/>
                    </a:lnTo>
                    <a:lnTo>
                      <a:pt x="71" y="0"/>
                    </a:lnTo>
                    <a:lnTo>
                      <a:pt x="33" y="6"/>
                    </a:lnTo>
                    <a:lnTo>
                      <a:pt x="5" y="39"/>
                    </a:lnTo>
                    <a:lnTo>
                      <a:pt x="11" y="77"/>
                    </a:lnTo>
                    <a:lnTo>
                      <a:pt x="44" y="10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83360" y="5841360"/>
                <a:ext cx="7200" cy="58680"/>
              </a:xfrm>
              <a:custGeom>
                <a:avLst/>
                <a:gdLst/>
                <a:ahLst/>
                <a:rect l="l" t="t" r="r" b="b"/>
                <a:pathLst>
                  <a:path w="115" h="873">
                    <a:moveTo>
                      <a:pt x="77" y="6"/>
                    </a:moveTo>
                    <a:lnTo>
                      <a:pt x="0" y="55"/>
                    </a:lnTo>
                    <a:lnTo>
                      <a:pt x="0" y="873"/>
                    </a:lnTo>
                    <a:lnTo>
                      <a:pt x="115" y="873"/>
                    </a:lnTo>
                    <a:lnTo>
                      <a:pt x="115" y="55"/>
                    </a:lnTo>
                    <a:lnTo>
                      <a:pt x="38" y="110"/>
                    </a:lnTo>
                    <a:lnTo>
                      <a:pt x="115" y="55"/>
                    </a:lnTo>
                    <a:lnTo>
                      <a:pt x="99" y="16"/>
                    </a:lnTo>
                    <a:lnTo>
                      <a:pt x="54" y="0"/>
                    </a:lnTo>
                    <a:lnTo>
                      <a:pt x="16" y="16"/>
                    </a:lnTo>
                    <a:lnTo>
                      <a:pt x="0" y="55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284800" y="58435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54" h="137">
                    <a:moveTo>
                      <a:pt x="154" y="88"/>
                    </a:moveTo>
                    <a:lnTo>
                      <a:pt x="127" y="33"/>
                    </a:lnTo>
                    <a:lnTo>
                      <a:pt x="39" y="0"/>
                    </a:lnTo>
                    <a:lnTo>
                      <a:pt x="0" y="104"/>
                    </a:lnTo>
                    <a:lnTo>
                      <a:pt x="82" y="137"/>
                    </a:lnTo>
                    <a:lnTo>
                      <a:pt x="56" y="88"/>
                    </a:lnTo>
                    <a:lnTo>
                      <a:pt x="82" y="137"/>
                    </a:lnTo>
                    <a:lnTo>
                      <a:pt x="132" y="137"/>
                    </a:lnTo>
                    <a:lnTo>
                      <a:pt x="154" y="104"/>
                    </a:lnTo>
                    <a:lnTo>
                      <a:pt x="154" y="66"/>
                    </a:lnTo>
                    <a:lnTo>
                      <a:pt x="127" y="33"/>
                    </a:lnTo>
                    <a:lnTo>
                      <a:pt x="154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259960" y="5833440"/>
                <a:ext cx="5400" cy="58320"/>
              </a:xfrm>
              <a:custGeom>
                <a:avLst/>
                <a:gdLst/>
                <a:ahLst/>
                <a:rect l="l" t="t" r="r" b="b"/>
                <a:pathLst>
                  <a:path w="93" h="890">
                    <a:moveTo>
                      <a:pt x="93" y="38"/>
                    </a:moveTo>
                    <a:lnTo>
                      <a:pt x="93" y="890"/>
                    </a:lnTo>
                    <a:lnTo>
                      <a:pt x="0" y="845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63920" y="5837400"/>
                <a:ext cx="5400" cy="58680"/>
              </a:xfrm>
              <a:custGeom>
                <a:avLst/>
                <a:gdLst/>
                <a:ahLst/>
                <a:rect l="l" t="t" r="r" b="b"/>
                <a:pathLst>
                  <a:path w="99" h="901">
                    <a:moveTo>
                      <a:pt x="22" y="895"/>
                    </a:moveTo>
                    <a:lnTo>
                      <a:pt x="99" y="852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2"/>
                    </a:lnTo>
                    <a:lnTo>
                      <a:pt x="76" y="807"/>
                    </a:lnTo>
                    <a:lnTo>
                      <a:pt x="0" y="852"/>
                    </a:lnTo>
                    <a:lnTo>
                      <a:pt x="16" y="890"/>
                    </a:lnTo>
                    <a:lnTo>
                      <a:pt x="49" y="901"/>
                    </a:lnTo>
                    <a:lnTo>
                      <a:pt x="87" y="890"/>
                    </a:lnTo>
                    <a:lnTo>
                      <a:pt x="99" y="852"/>
                    </a:lnTo>
                    <a:lnTo>
                      <a:pt x="22" y="8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256360" y="58860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54"/>
                    </a:moveTo>
                    <a:lnTo>
                      <a:pt x="33" y="99"/>
                    </a:lnTo>
                    <a:lnTo>
                      <a:pt x="121" y="142"/>
                    </a:lnTo>
                    <a:lnTo>
                      <a:pt x="175" y="54"/>
                    </a:lnTo>
                    <a:lnTo>
                      <a:pt x="83" y="5"/>
                    </a:lnTo>
                    <a:lnTo>
                      <a:pt x="115" y="54"/>
                    </a:lnTo>
                    <a:lnTo>
                      <a:pt x="83" y="5"/>
                    </a:lnTo>
                    <a:lnTo>
                      <a:pt x="43" y="0"/>
                    </a:lnTo>
                    <a:lnTo>
                      <a:pt x="11" y="27"/>
                    </a:lnTo>
                    <a:lnTo>
                      <a:pt x="5" y="71"/>
                    </a:lnTo>
                    <a:lnTo>
                      <a:pt x="33" y="9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256360" y="5831280"/>
                <a:ext cx="7560" cy="58680"/>
              </a:xfrm>
              <a:custGeom>
                <a:avLst/>
                <a:gdLst/>
                <a:ahLst/>
                <a:rect l="l" t="t" r="r" b="b"/>
                <a:pathLst>
                  <a:path w="115" h="900">
                    <a:moveTo>
                      <a:pt x="76" y="6"/>
                    </a:moveTo>
                    <a:lnTo>
                      <a:pt x="0" y="55"/>
                    </a:lnTo>
                    <a:lnTo>
                      <a:pt x="0" y="900"/>
                    </a:lnTo>
                    <a:lnTo>
                      <a:pt x="115" y="900"/>
                    </a:lnTo>
                    <a:lnTo>
                      <a:pt x="115" y="55"/>
                    </a:lnTo>
                    <a:lnTo>
                      <a:pt x="38" y="105"/>
                    </a:lnTo>
                    <a:lnTo>
                      <a:pt x="115" y="55"/>
                    </a:lnTo>
                    <a:lnTo>
                      <a:pt x="99" y="11"/>
                    </a:lnTo>
                    <a:lnTo>
                      <a:pt x="55" y="0"/>
                    </a:lnTo>
                    <a:lnTo>
                      <a:pt x="17" y="11"/>
                    </a:lnTo>
                    <a:lnTo>
                      <a:pt x="0" y="55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259960" y="583128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160" h="142">
                    <a:moveTo>
                      <a:pt x="160" y="87"/>
                    </a:moveTo>
                    <a:lnTo>
                      <a:pt x="132" y="38"/>
                    </a:lnTo>
                    <a:lnTo>
                      <a:pt x="38" y="0"/>
                    </a:lnTo>
                    <a:lnTo>
                      <a:pt x="0" y="99"/>
                    </a:lnTo>
                    <a:lnTo>
                      <a:pt x="88" y="142"/>
                    </a:lnTo>
                    <a:lnTo>
                      <a:pt x="61" y="87"/>
                    </a:lnTo>
                    <a:lnTo>
                      <a:pt x="88" y="142"/>
                    </a:lnTo>
                    <a:lnTo>
                      <a:pt x="137" y="142"/>
                    </a:lnTo>
                    <a:lnTo>
                      <a:pt x="160" y="109"/>
                    </a:lnTo>
                    <a:lnTo>
                      <a:pt x="160" y="71"/>
                    </a:lnTo>
                    <a:lnTo>
                      <a:pt x="132" y="38"/>
                    </a:lnTo>
                    <a:lnTo>
                      <a:pt x="160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36920" y="5825160"/>
                <a:ext cx="5400" cy="56520"/>
              </a:xfrm>
              <a:custGeom>
                <a:avLst/>
                <a:gdLst/>
                <a:ahLst/>
                <a:rect l="l" t="t" r="r" b="b"/>
                <a:pathLst>
                  <a:path w="93" h="878">
                    <a:moveTo>
                      <a:pt x="93" y="38"/>
                    </a:moveTo>
                    <a:lnTo>
                      <a:pt x="93" y="878"/>
                    </a:lnTo>
                    <a:lnTo>
                      <a:pt x="0" y="862"/>
                    </a:lnTo>
                    <a:lnTo>
                      <a:pt x="0" y="0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238720" y="5826960"/>
                <a:ext cx="5400" cy="58680"/>
              </a:xfrm>
              <a:custGeom>
                <a:avLst/>
                <a:gdLst/>
                <a:ahLst/>
                <a:rect l="l" t="t" r="r" b="b"/>
                <a:pathLst>
                  <a:path w="104" h="896">
                    <a:moveTo>
                      <a:pt x="43" y="896"/>
                    </a:moveTo>
                    <a:lnTo>
                      <a:pt x="104" y="840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840"/>
                    </a:lnTo>
                    <a:lnTo>
                      <a:pt x="66" y="791"/>
                    </a:lnTo>
                    <a:lnTo>
                      <a:pt x="0" y="840"/>
                    </a:lnTo>
                    <a:lnTo>
                      <a:pt x="16" y="879"/>
                    </a:lnTo>
                    <a:lnTo>
                      <a:pt x="54" y="896"/>
                    </a:lnTo>
                    <a:lnTo>
                      <a:pt x="87" y="879"/>
                    </a:lnTo>
                    <a:lnTo>
                      <a:pt x="104" y="840"/>
                    </a:lnTo>
                    <a:lnTo>
                      <a:pt x="43" y="89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232960" y="58784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60" h="127">
                    <a:moveTo>
                      <a:pt x="0" y="55"/>
                    </a:moveTo>
                    <a:lnTo>
                      <a:pt x="45" y="104"/>
                    </a:lnTo>
                    <a:lnTo>
                      <a:pt x="137" y="127"/>
                    </a:lnTo>
                    <a:lnTo>
                      <a:pt x="160" y="22"/>
                    </a:lnTo>
                    <a:lnTo>
                      <a:pt x="66" y="0"/>
                    </a:lnTo>
                    <a:lnTo>
                      <a:pt x="110" y="55"/>
                    </a:lnTo>
                    <a:lnTo>
                      <a:pt x="66" y="0"/>
                    </a:lnTo>
                    <a:lnTo>
                      <a:pt x="22" y="11"/>
                    </a:lnTo>
                    <a:lnTo>
                      <a:pt x="5" y="44"/>
                    </a:lnTo>
                    <a:lnTo>
                      <a:pt x="12" y="83"/>
                    </a:lnTo>
                    <a:lnTo>
                      <a:pt x="45" y="10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232960" y="5821200"/>
                <a:ext cx="5400" cy="60840"/>
              </a:xfrm>
              <a:custGeom>
                <a:avLst/>
                <a:gdLst/>
                <a:ahLst/>
                <a:rect l="l" t="t" r="r" b="b"/>
                <a:pathLst>
                  <a:path w="110" h="916">
                    <a:moveTo>
                      <a:pt x="77" y="5"/>
                    </a:moveTo>
                    <a:lnTo>
                      <a:pt x="0" y="54"/>
                    </a:lnTo>
                    <a:lnTo>
                      <a:pt x="0" y="916"/>
                    </a:lnTo>
                    <a:lnTo>
                      <a:pt x="110" y="916"/>
                    </a:lnTo>
                    <a:lnTo>
                      <a:pt x="110" y="54"/>
                    </a:lnTo>
                    <a:lnTo>
                      <a:pt x="33" y="104"/>
                    </a:lnTo>
                    <a:lnTo>
                      <a:pt x="110" y="54"/>
                    </a:lnTo>
                    <a:lnTo>
                      <a:pt x="94" y="16"/>
                    </a:lnTo>
                    <a:lnTo>
                      <a:pt x="55" y="0"/>
                    </a:lnTo>
                    <a:lnTo>
                      <a:pt x="17" y="16"/>
                    </a:lnTo>
                    <a:lnTo>
                      <a:pt x="0" y="54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234760" y="58212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65" h="143">
                    <a:moveTo>
                      <a:pt x="165" y="87"/>
                    </a:moveTo>
                    <a:lnTo>
                      <a:pt x="132" y="38"/>
                    </a:lnTo>
                    <a:lnTo>
                      <a:pt x="44" y="0"/>
                    </a:lnTo>
                    <a:lnTo>
                      <a:pt x="0" y="99"/>
                    </a:lnTo>
                    <a:lnTo>
                      <a:pt x="94" y="143"/>
                    </a:lnTo>
                    <a:lnTo>
                      <a:pt x="61" y="87"/>
                    </a:lnTo>
                    <a:lnTo>
                      <a:pt x="94" y="143"/>
                    </a:lnTo>
                    <a:lnTo>
                      <a:pt x="137" y="143"/>
                    </a:lnTo>
                    <a:lnTo>
                      <a:pt x="165" y="110"/>
                    </a:lnTo>
                    <a:lnTo>
                      <a:pt x="165" y="71"/>
                    </a:lnTo>
                    <a:lnTo>
                      <a:pt x="132" y="38"/>
                    </a:lnTo>
                    <a:lnTo>
                      <a:pt x="165" y="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209920" y="5811120"/>
                <a:ext cx="5400" cy="60840"/>
              </a:xfrm>
              <a:custGeom>
                <a:avLst/>
                <a:gdLst/>
                <a:ahLst/>
                <a:rect l="l" t="t" r="r" b="b"/>
                <a:pathLst>
                  <a:path w="93" h="927">
                    <a:moveTo>
                      <a:pt x="93" y="71"/>
                    </a:moveTo>
                    <a:lnTo>
                      <a:pt x="93" y="927"/>
                    </a:lnTo>
                    <a:lnTo>
                      <a:pt x="0" y="889"/>
                    </a:lnTo>
                    <a:lnTo>
                      <a:pt x="0" y="0"/>
                    </a:lnTo>
                    <a:lnTo>
                      <a:pt x="93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212080" y="5816880"/>
                <a:ext cx="5400" cy="58680"/>
              </a:xfrm>
              <a:custGeom>
                <a:avLst/>
                <a:gdLst/>
                <a:ahLst/>
                <a:rect l="l" t="t" r="r" b="b"/>
                <a:pathLst>
                  <a:path w="99" h="912">
                    <a:moveTo>
                      <a:pt x="27" y="912"/>
                    </a:moveTo>
                    <a:lnTo>
                      <a:pt x="99" y="856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56"/>
                    </a:lnTo>
                    <a:lnTo>
                      <a:pt x="71" y="807"/>
                    </a:lnTo>
                    <a:lnTo>
                      <a:pt x="0" y="856"/>
                    </a:lnTo>
                    <a:lnTo>
                      <a:pt x="10" y="895"/>
                    </a:lnTo>
                    <a:lnTo>
                      <a:pt x="49" y="912"/>
                    </a:lnTo>
                    <a:lnTo>
                      <a:pt x="82" y="895"/>
                    </a:lnTo>
                    <a:lnTo>
                      <a:pt x="99" y="856"/>
                    </a:lnTo>
                    <a:lnTo>
                      <a:pt x="27" y="9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06320" y="58680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70" h="144">
                    <a:moveTo>
                      <a:pt x="0" y="50"/>
                    </a:moveTo>
                    <a:lnTo>
                      <a:pt x="38" y="99"/>
                    </a:lnTo>
                    <a:lnTo>
                      <a:pt x="126" y="144"/>
                    </a:lnTo>
                    <a:lnTo>
                      <a:pt x="170" y="39"/>
                    </a:lnTo>
                    <a:lnTo>
                      <a:pt x="76" y="0"/>
                    </a:lnTo>
                    <a:lnTo>
                      <a:pt x="109" y="50"/>
                    </a:lnTo>
                    <a:lnTo>
                      <a:pt x="76" y="0"/>
                    </a:lnTo>
                    <a:lnTo>
                      <a:pt x="33" y="0"/>
                    </a:lnTo>
                    <a:lnTo>
                      <a:pt x="5" y="28"/>
                    </a:lnTo>
                    <a:lnTo>
                      <a:pt x="5" y="71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06320" y="5808960"/>
                <a:ext cx="5760" cy="60840"/>
              </a:xfrm>
              <a:custGeom>
                <a:avLst/>
                <a:gdLst/>
                <a:ahLst/>
                <a:rect l="l" t="t" r="r" b="b"/>
                <a:pathLst>
                  <a:path w="109" h="944">
                    <a:moveTo>
                      <a:pt x="88" y="10"/>
                    </a:moveTo>
                    <a:lnTo>
                      <a:pt x="0" y="55"/>
                    </a:lnTo>
                    <a:lnTo>
                      <a:pt x="0" y="944"/>
                    </a:lnTo>
                    <a:lnTo>
                      <a:pt x="109" y="944"/>
                    </a:lnTo>
                    <a:lnTo>
                      <a:pt x="109" y="55"/>
                    </a:lnTo>
                    <a:lnTo>
                      <a:pt x="27" y="93"/>
                    </a:lnTo>
                    <a:lnTo>
                      <a:pt x="109" y="55"/>
                    </a:lnTo>
                    <a:lnTo>
                      <a:pt x="99" y="10"/>
                    </a:lnTo>
                    <a:lnTo>
                      <a:pt x="55" y="0"/>
                    </a:lnTo>
                    <a:lnTo>
                      <a:pt x="17" y="10"/>
                    </a:lnTo>
                    <a:lnTo>
                      <a:pt x="0" y="55"/>
                    </a:lnTo>
                    <a:lnTo>
                      <a:pt x="88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208480" y="5808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171" h="165">
                    <a:moveTo>
                      <a:pt x="171" y="116"/>
                    </a:moveTo>
                    <a:lnTo>
                      <a:pt x="148" y="72"/>
                    </a:lnTo>
                    <a:lnTo>
                      <a:pt x="61" y="0"/>
                    </a:lnTo>
                    <a:lnTo>
                      <a:pt x="0" y="83"/>
                    </a:lnTo>
                    <a:lnTo>
                      <a:pt x="88" y="155"/>
                    </a:lnTo>
                    <a:lnTo>
                      <a:pt x="72" y="116"/>
                    </a:lnTo>
                    <a:lnTo>
                      <a:pt x="88" y="155"/>
                    </a:lnTo>
                    <a:lnTo>
                      <a:pt x="132" y="165"/>
                    </a:lnTo>
                    <a:lnTo>
                      <a:pt x="159" y="143"/>
                    </a:lnTo>
                    <a:lnTo>
                      <a:pt x="171" y="110"/>
                    </a:lnTo>
                    <a:lnTo>
                      <a:pt x="148" y="72"/>
                    </a:lnTo>
                    <a:lnTo>
                      <a:pt x="171" y="1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182920" y="5800680"/>
                <a:ext cx="5760" cy="63000"/>
              </a:xfrm>
              <a:custGeom>
                <a:avLst/>
                <a:gdLst/>
                <a:ahLst/>
                <a:rect l="l" t="t" r="r" b="b"/>
                <a:pathLst>
                  <a:path w="88" h="944">
                    <a:moveTo>
                      <a:pt x="88" y="49"/>
                    </a:moveTo>
                    <a:lnTo>
                      <a:pt x="88" y="944"/>
                    </a:lnTo>
                    <a:lnTo>
                      <a:pt x="0" y="911"/>
                    </a:lnTo>
                    <a:lnTo>
                      <a:pt x="0" y="0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186880" y="5805000"/>
                <a:ext cx="5400" cy="60840"/>
              </a:xfrm>
              <a:custGeom>
                <a:avLst/>
                <a:gdLst/>
                <a:ahLst/>
                <a:rect l="l" t="t" r="r" b="b"/>
                <a:pathLst>
                  <a:path w="99" h="944">
                    <a:moveTo>
                      <a:pt x="33" y="944"/>
                    </a:moveTo>
                    <a:lnTo>
                      <a:pt x="99" y="89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95"/>
                    </a:lnTo>
                    <a:lnTo>
                      <a:pt x="66" y="840"/>
                    </a:lnTo>
                    <a:lnTo>
                      <a:pt x="0" y="895"/>
                    </a:lnTo>
                    <a:lnTo>
                      <a:pt x="12" y="928"/>
                    </a:lnTo>
                    <a:lnTo>
                      <a:pt x="50" y="944"/>
                    </a:lnTo>
                    <a:lnTo>
                      <a:pt x="83" y="928"/>
                    </a:lnTo>
                    <a:lnTo>
                      <a:pt x="99" y="895"/>
                    </a:lnTo>
                    <a:lnTo>
                      <a:pt x="33" y="9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81480" y="58579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0" y="50"/>
                    </a:moveTo>
                    <a:lnTo>
                      <a:pt x="38" y="99"/>
                    </a:lnTo>
                    <a:lnTo>
                      <a:pt x="125" y="132"/>
                    </a:lnTo>
                    <a:lnTo>
                      <a:pt x="158" y="28"/>
                    </a:lnTo>
                    <a:lnTo>
                      <a:pt x="71" y="0"/>
                    </a:lnTo>
                    <a:lnTo>
                      <a:pt x="109" y="50"/>
                    </a:lnTo>
                    <a:lnTo>
                      <a:pt x="71" y="0"/>
                    </a:lnTo>
                    <a:lnTo>
                      <a:pt x="33" y="7"/>
                    </a:lnTo>
                    <a:lnTo>
                      <a:pt x="5" y="33"/>
                    </a:lnTo>
                    <a:lnTo>
                      <a:pt x="10" y="78"/>
                    </a:lnTo>
                    <a:lnTo>
                      <a:pt x="38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81480" y="5796720"/>
                <a:ext cx="5400" cy="64800"/>
              </a:xfrm>
              <a:custGeom>
                <a:avLst/>
                <a:gdLst/>
                <a:ahLst/>
                <a:rect l="l" t="t" r="r" b="b"/>
                <a:pathLst>
                  <a:path w="109" h="966">
                    <a:moveTo>
                      <a:pt x="82" y="11"/>
                    </a:moveTo>
                    <a:lnTo>
                      <a:pt x="0" y="55"/>
                    </a:lnTo>
                    <a:lnTo>
                      <a:pt x="0" y="966"/>
                    </a:lnTo>
                    <a:lnTo>
                      <a:pt x="109" y="966"/>
                    </a:lnTo>
                    <a:lnTo>
                      <a:pt x="109" y="55"/>
                    </a:lnTo>
                    <a:lnTo>
                      <a:pt x="33" y="99"/>
                    </a:lnTo>
                    <a:lnTo>
                      <a:pt x="109" y="55"/>
                    </a:lnTo>
                    <a:lnTo>
                      <a:pt x="98" y="17"/>
                    </a:lnTo>
                    <a:lnTo>
                      <a:pt x="54" y="0"/>
                    </a:lnTo>
                    <a:lnTo>
                      <a:pt x="16" y="17"/>
                    </a:lnTo>
                    <a:lnTo>
                      <a:pt x="0" y="55"/>
                    </a:lnTo>
                    <a:lnTo>
                      <a:pt x="82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82920" y="57988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58" h="148">
                    <a:moveTo>
                      <a:pt x="158" y="93"/>
                    </a:moveTo>
                    <a:lnTo>
                      <a:pt x="136" y="49"/>
                    </a:lnTo>
                    <a:lnTo>
                      <a:pt x="49" y="0"/>
                    </a:lnTo>
                    <a:lnTo>
                      <a:pt x="0" y="88"/>
                    </a:lnTo>
                    <a:lnTo>
                      <a:pt x="82" y="143"/>
                    </a:lnTo>
                    <a:lnTo>
                      <a:pt x="59" y="93"/>
                    </a:lnTo>
                    <a:lnTo>
                      <a:pt x="82" y="143"/>
                    </a:lnTo>
                    <a:lnTo>
                      <a:pt x="125" y="148"/>
                    </a:lnTo>
                    <a:lnTo>
                      <a:pt x="153" y="115"/>
                    </a:lnTo>
                    <a:lnTo>
                      <a:pt x="158" y="82"/>
                    </a:lnTo>
                    <a:lnTo>
                      <a:pt x="136" y="49"/>
                    </a:lnTo>
                    <a:lnTo>
                      <a:pt x="158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956840" y="5754240"/>
                <a:ext cx="170640" cy="107280"/>
              </a:xfrm>
              <a:custGeom>
                <a:avLst/>
                <a:gdLst/>
                <a:ahLst/>
                <a:rect l="l" t="t" r="r" b="b"/>
                <a:pathLst>
                  <a:path w="2754" h="1625">
                    <a:moveTo>
                      <a:pt x="2754" y="0"/>
                    </a:moveTo>
                    <a:lnTo>
                      <a:pt x="2754" y="1301"/>
                    </a:lnTo>
                    <a:lnTo>
                      <a:pt x="0" y="1625"/>
                    </a:lnTo>
                    <a:lnTo>
                      <a:pt x="0" y="467"/>
                    </a:lnTo>
                    <a:lnTo>
                      <a:pt x="275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125680" y="5754240"/>
                <a:ext cx="5400" cy="89280"/>
              </a:xfrm>
              <a:custGeom>
                <a:avLst/>
                <a:gdLst/>
                <a:ahLst/>
                <a:rect l="l" t="t" r="r" b="b"/>
                <a:pathLst>
                  <a:path w="99" h="1350">
                    <a:moveTo>
                      <a:pt x="55" y="1350"/>
                    </a:moveTo>
                    <a:lnTo>
                      <a:pt x="99" y="130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45" y="1246"/>
                    </a:lnTo>
                    <a:lnTo>
                      <a:pt x="55" y="1350"/>
                    </a:lnTo>
                    <a:lnTo>
                      <a:pt x="99" y="1345"/>
                    </a:lnTo>
                    <a:lnTo>
                      <a:pt x="99" y="1301"/>
                    </a:lnTo>
                    <a:lnTo>
                      <a:pt x="55" y="1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955040" y="5837400"/>
                <a:ext cx="172080" cy="28440"/>
              </a:xfrm>
              <a:custGeom>
                <a:avLst/>
                <a:gdLst/>
                <a:ahLst/>
                <a:rect l="l" t="t" r="r" b="b"/>
                <a:pathLst>
                  <a:path w="2815" h="440">
                    <a:moveTo>
                      <a:pt x="0" y="379"/>
                    </a:moveTo>
                    <a:lnTo>
                      <a:pt x="61" y="429"/>
                    </a:lnTo>
                    <a:lnTo>
                      <a:pt x="2815" y="104"/>
                    </a:lnTo>
                    <a:lnTo>
                      <a:pt x="2805" y="0"/>
                    </a:lnTo>
                    <a:lnTo>
                      <a:pt x="50" y="330"/>
                    </a:lnTo>
                    <a:lnTo>
                      <a:pt x="110" y="379"/>
                    </a:lnTo>
                    <a:lnTo>
                      <a:pt x="0" y="379"/>
                    </a:lnTo>
                    <a:lnTo>
                      <a:pt x="0" y="440"/>
                    </a:lnTo>
                    <a:lnTo>
                      <a:pt x="61" y="42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55040" y="5782320"/>
                <a:ext cx="5400" cy="79200"/>
              </a:xfrm>
              <a:custGeom>
                <a:avLst/>
                <a:gdLst/>
                <a:ahLst/>
                <a:rect l="l" t="t" r="r" b="b"/>
                <a:pathLst>
                  <a:path w="110" h="1207">
                    <a:moveTo>
                      <a:pt x="44" y="0"/>
                    </a:moveTo>
                    <a:lnTo>
                      <a:pt x="0" y="49"/>
                    </a:lnTo>
                    <a:lnTo>
                      <a:pt x="0" y="1207"/>
                    </a:lnTo>
                    <a:lnTo>
                      <a:pt x="110" y="1207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56840" y="5752080"/>
                <a:ext cx="174240" cy="36720"/>
              </a:xfrm>
              <a:custGeom>
                <a:avLst/>
                <a:gdLst/>
                <a:ahLst/>
                <a:rect l="l" t="t" r="r" b="b"/>
                <a:pathLst>
                  <a:path w="2815" h="582">
                    <a:moveTo>
                      <a:pt x="2815" y="60"/>
                    </a:moveTo>
                    <a:lnTo>
                      <a:pt x="2755" y="10"/>
                    </a:lnTo>
                    <a:lnTo>
                      <a:pt x="0" y="478"/>
                    </a:lnTo>
                    <a:lnTo>
                      <a:pt x="22" y="582"/>
                    </a:lnTo>
                    <a:lnTo>
                      <a:pt x="2777" y="115"/>
                    </a:lnTo>
                    <a:lnTo>
                      <a:pt x="2716" y="60"/>
                    </a:lnTo>
                    <a:lnTo>
                      <a:pt x="2815" y="60"/>
                    </a:lnTo>
                    <a:lnTo>
                      <a:pt x="2815" y="0"/>
                    </a:lnTo>
                    <a:lnTo>
                      <a:pt x="2755" y="10"/>
                    </a:lnTo>
                    <a:lnTo>
                      <a:pt x="2815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763160" y="5794920"/>
                <a:ext cx="143640" cy="91080"/>
              </a:xfrm>
              <a:custGeom>
                <a:avLst/>
                <a:gdLst/>
                <a:ahLst/>
                <a:rect l="l" t="t" r="r" b="b"/>
                <a:pathLst>
                  <a:path w="2321" h="1378">
                    <a:moveTo>
                      <a:pt x="2321" y="1087"/>
                    </a:moveTo>
                    <a:lnTo>
                      <a:pt x="0" y="1378"/>
                    </a:lnTo>
                    <a:lnTo>
                      <a:pt x="0" y="407"/>
                    </a:lnTo>
                    <a:lnTo>
                      <a:pt x="2321" y="0"/>
                    </a:lnTo>
                    <a:lnTo>
                      <a:pt x="2321" y="10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759200" y="5864040"/>
                <a:ext cx="147240" cy="26280"/>
              </a:xfrm>
              <a:custGeom>
                <a:avLst/>
                <a:gdLst/>
                <a:ahLst/>
                <a:rect l="l" t="t" r="r" b="b"/>
                <a:pathLst>
                  <a:path w="2382" h="401">
                    <a:moveTo>
                      <a:pt x="0" y="340"/>
                    </a:moveTo>
                    <a:lnTo>
                      <a:pt x="61" y="390"/>
                    </a:lnTo>
                    <a:lnTo>
                      <a:pt x="2382" y="99"/>
                    </a:lnTo>
                    <a:lnTo>
                      <a:pt x="2370" y="0"/>
                    </a:lnTo>
                    <a:lnTo>
                      <a:pt x="49" y="286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401"/>
                    </a:lnTo>
                    <a:lnTo>
                      <a:pt x="61" y="39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759200" y="5816880"/>
                <a:ext cx="7200" cy="69120"/>
              </a:xfrm>
              <a:custGeom>
                <a:avLst/>
                <a:gdLst/>
                <a:ahLst/>
                <a:rect l="l" t="t" r="r" b="b"/>
                <a:pathLst>
                  <a:path w="110" h="1026">
                    <a:moveTo>
                      <a:pt x="44" y="0"/>
                    </a:moveTo>
                    <a:lnTo>
                      <a:pt x="0" y="55"/>
                    </a:lnTo>
                    <a:lnTo>
                      <a:pt x="0" y="1026"/>
                    </a:lnTo>
                    <a:lnTo>
                      <a:pt x="110" y="1026"/>
                    </a:lnTo>
                    <a:lnTo>
                      <a:pt x="110" y="55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5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760640" y="5790600"/>
                <a:ext cx="147960" cy="34560"/>
              </a:xfrm>
              <a:custGeom>
                <a:avLst/>
                <a:gdLst/>
                <a:ahLst/>
                <a:rect l="l" t="t" r="r" b="b"/>
                <a:pathLst>
                  <a:path w="2381" h="522">
                    <a:moveTo>
                      <a:pt x="2381" y="66"/>
                    </a:moveTo>
                    <a:lnTo>
                      <a:pt x="2321" y="12"/>
                    </a:lnTo>
                    <a:lnTo>
                      <a:pt x="0" y="418"/>
                    </a:lnTo>
                    <a:lnTo>
                      <a:pt x="22" y="522"/>
                    </a:lnTo>
                    <a:lnTo>
                      <a:pt x="2343" y="116"/>
                    </a:lnTo>
                    <a:lnTo>
                      <a:pt x="2282" y="66"/>
                    </a:lnTo>
                    <a:lnTo>
                      <a:pt x="2381" y="66"/>
                    </a:lnTo>
                    <a:lnTo>
                      <a:pt x="2381" y="0"/>
                    </a:lnTo>
                    <a:lnTo>
                      <a:pt x="2321" y="12"/>
                    </a:lnTo>
                    <a:lnTo>
                      <a:pt x="2381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03200" y="5794920"/>
                <a:ext cx="5400" cy="74880"/>
              </a:xfrm>
              <a:custGeom>
                <a:avLst/>
                <a:gdLst/>
                <a:ahLst/>
                <a:rect l="l" t="t" r="r" b="b"/>
                <a:pathLst>
                  <a:path w="99" h="1137">
                    <a:moveTo>
                      <a:pt x="56" y="1137"/>
                    </a:moveTo>
                    <a:lnTo>
                      <a:pt x="99" y="108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087"/>
                    </a:lnTo>
                    <a:lnTo>
                      <a:pt x="44" y="1038"/>
                    </a:lnTo>
                    <a:lnTo>
                      <a:pt x="56" y="1137"/>
                    </a:lnTo>
                    <a:lnTo>
                      <a:pt x="99" y="1131"/>
                    </a:lnTo>
                    <a:lnTo>
                      <a:pt x="99" y="1087"/>
                    </a:lnTo>
                    <a:lnTo>
                      <a:pt x="56" y="11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611240" y="5701320"/>
                <a:ext cx="117000" cy="97560"/>
              </a:xfrm>
              <a:custGeom>
                <a:avLst/>
                <a:gdLst/>
                <a:ahLst/>
                <a:rect l="l" t="t" r="r" b="b"/>
                <a:pathLst>
                  <a:path w="1898" h="1482">
                    <a:moveTo>
                      <a:pt x="1898" y="1021"/>
                    </a:moveTo>
                    <a:lnTo>
                      <a:pt x="0" y="1482"/>
                    </a:lnTo>
                    <a:lnTo>
                      <a:pt x="0" y="604"/>
                    </a:lnTo>
                    <a:lnTo>
                      <a:pt x="1887" y="0"/>
                    </a:lnTo>
                    <a:lnTo>
                      <a:pt x="1898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607280" y="5766120"/>
                <a:ext cx="120960" cy="36360"/>
              </a:xfrm>
              <a:custGeom>
                <a:avLst/>
                <a:gdLst/>
                <a:ahLst/>
                <a:rect l="l" t="t" r="r" b="b"/>
                <a:pathLst>
                  <a:path w="1970" h="577">
                    <a:moveTo>
                      <a:pt x="0" y="511"/>
                    </a:moveTo>
                    <a:lnTo>
                      <a:pt x="66" y="560"/>
                    </a:lnTo>
                    <a:lnTo>
                      <a:pt x="1970" y="99"/>
                    </a:lnTo>
                    <a:lnTo>
                      <a:pt x="1948" y="0"/>
                    </a:lnTo>
                    <a:lnTo>
                      <a:pt x="50" y="456"/>
                    </a:lnTo>
                    <a:lnTo>
                      <a:pt x="115" y="511"/>
                    </a:lnTo>
                    <a:lnTo>
                      <a:pt x="0" y="511"/>
                    </a:lnTo>
                    <a:lnTo>
                      <a:pt x="0" y="577"/>
                    </a:lnTo>
                    <a:lnTo>
                      <a:pt x="66" y="560"/>
                    </a:lnTo>
                    <a:lnTo>
                      <a:pt x="0" y="5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07280" y="5737680"/>
                <a:ext cx="7560" cy="6120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44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71" y="104"/>
                    </a:lnTo>
                    <a:lnTo>
                      <a:pt x="44" y="0"/>
                    </a:lnTo>
                    <a:lnTo>
                      <a:pt x="0" y="10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609440" y="5697000"/>
                <a:ext cx="120960" cy="48600"/>
              </a:xfrm>
              <a:custGeom>
                <a:avLst/>
                <a:gdLst/>
                <a:ahLst/>
                <a:rect l="l" t="t" r="r" b="b"/>
                <a:pathLst>
                  <a:path w="1959" h="730">
                    <a:moveTo>
                      <a:pt x="1959" y="71"/>
                    </a:moveTo>
                    <a:lnTo>
                      <a:pt x="1894" y="21"/>
                    </a:lnTo>
                    <a:lnTo>
                      <a:pt x="0" y="626"/>
                    </a:lnTo>
                    <a:lnTo>
                      <a:pt x="27" y="730"/>
                    </a:lnTo>
                    <a:lnTo>
                      <a:pt x="1920" y="120"/>
                    </a:lnTo>
                    <a:lnTo>
                      <a:pt x="1854" y="71"/>
                    </a:lnTo>
                    <a:lnTo>
                      <a:pt x="1959" y="71"/>
                    </a:lnTo>
                    <a:lnTo>
                      <a:pt x="1959" y="0"/>
                    </a:lnTo>
                    <a:lnTo>
                      <a:pt x="1894" y="21"/>
                    </a:lnTo>
                    <a:lnTo>
                      <a:pt x="1959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24280" y="5701320"/>
                <a:ext cx="7560" cy="70920"/>
              </a:xfrm>
              <a:custGeom>
                <a:avLst/>
                <a:gdLst/>
                <a:ahLst/>
                <a:rect l="l" t="t" r="r" b="b"/>
                <a:pathLst>
                  <a:path w="116" h="1070">
                    <a:moveTo>
                      <a:pt x="72" y="1070"/>
                    </a:moveTo>
                    <a:lnTo>
                      <a:pt x="110" y="1021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12" y="1021"/>
                    </a:lnTo>
                    <a:lnTo>
                      <a:pt x="50" y="971"/>
                    </a:lnTo>
                    <a:lnTo>
                      <a:pt x="72" y="1070"/>
                    </a:lnTo>
                    <a:lnTo>
                      <a:pt x="116" y="1065"/>
                    </a:lnTo>
                    <a:lnTo>
                      <a:pt x="110" y="1021"/>
                    </a:lnTo>
                    <a:lnTo>
                      <a:pt x="72" y="10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11240" y="5826960"/>
                <a:ext cx="117000" cy="77400"/>
              </a:xfrm>
              <a:custGeom>
                <a:avLst/>
                <a:gdLst/>
                <a:ahLst/>
                <a:rect l="l" t="t" r="r" b="b"/>
                <a:pathLst>
                  <a:path w="1909" h="1202">
                    <a:moveTo>
                      <a:pt x="1909" y="971"/>
                    </a:moveTo>
                    <a:lnTo>
                      <a:pt x="0" y="1202"/>
                    </a:lnTo>
                    <a:lnTo>
                      <a:pt x="0" y="324"/>
                    </a:lnTo>
                    <a:lnTo>
                      <a:pt x="1909" y="0"/>
                    </a:lnTo>
                    <a:lnTo>
                      <a:pt x="1909" y="9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07280" y="5886000"/>
                <a:ext cx="123120" cy="22320"/>
              </a:xfrm>
              <a:custGeom>
                <a:avLst/>
                <a:gdLst/>
                <a:ahLst/>
                <a:rect l="l" t="t" r="r" b="b"/>
                <a:pathLst>
                  <a:path w="1976" h="346">
                    <a:moveTo>
                      <a:pt x="0" y="285"/>
                    </a:moveTo>
                    <a:lnTo>
                      <a:pt x="61" y="341"/>
                    </a:lnTo>
                    <a:lnTo>
                      <a:pt x="1976" y="104"/>
                    </a:lnTo>
                    <a:lnTo>
                      <a:pt x="1964" y="0"/>
                    </a:lnTo>
                    <a:lnTo>
                      <a:pt x="55" y="236"/>
                    </a:lnTo>
                    <a:lnTo>
                      <a:pt x="115" y="285"/>
                    </a:lnTo>
                    <a:lnTo>
                      <a:pt x="0" y="285"/>
                    </a:lnTo>
                    <a:lnTo>
                      <a:pt x="0" y="346"/>
                    </a:lnTo>
                    <a:lnTo>
                      <a:pt x="61" y="341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607280" y="5843520"/>
                <a:ext cx="7560" cy="60840"/>
              </a:xfrm>
              <a:custGeom>
                <a:avLst/>
                <a:gdLst/>
                <a:ahLst/>
                <a:rect l="l" t="t" r="r" b="b"/>
                <a:pathLst>
                  <a:path w="115" h="927">
                    <a:moveTo>
                      <a:pt x="50" y="0"/>
                    </a:moveTo>
                    <a:lnTo>
                      <a:pt x="0" y="49"/>
                    </a:lnTo>
                    <a:lnTo>
                      <a:pt x="0" y="927"/>
                    </a:lnTo>
                    <a:lnTo>
                      <a:pt x="115" y="927"/>
                    </a:lnTo>
                    <a:lnTo>
                      <a:pt x="115" y="49"/>
                    </a:lnTo>
                    <a:lnTo>
                      <a:pt x="66" y="98"/>
                    </a:lnTo>
                    <a:lnTo>
                      <a:pt x="50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609440" y="5823360"/>
                <a:ext cx="122760" cy="28080"/>
              </a:xfrm>
              <a:custGeom>
                <a:avLst/>
                <a:gdLst/>
                <a:ahLst/>
                <a:rect l="l" t="t" r="r" b="b"/>
                <a:pathLst>
                  <a:path w="1970" h="433">
                    <a:moveTo>
                      <a:pt x="1970" y="60"/>
                    </a:moveTo>
                    <a:lnTo>
                      <a:pt x="1909" y="5"/>
                    </a:lnTo>
                    <a:lnTo>
                      <a:pt x="0" y="335"/>
                    </a:lnTo>
                    <a:lnTo>
                      <a:pt x="16" y="433"/>
                    </a:lnTo>
                    <a:lnTo>
                      <a:pt x="1931" y="109"/>
                    </a:lnTo>
                    <a:lnTo>
                      <a:pt x="1871" y="60"/>
                    </a:lnTo>
                    <a:lnTo>
                      <a:pt x="1970" y="60"/>
                    </a:lnTo>
                    <a:lnTo>
                      <a:pt x="1970" y="0"/>
                    </a:lnTo>
                    <a:lnTo>
                      <a:pt x="1909" y="5"/>
                    </a:lnTo>
                    <a:lnTo>
                      <a:pt x="1970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26440" y="5826960"/>
                <a:ext cx="5400" cy="64800"/>
              </a:xfrm>
              <a:custGeom>
                <a:avLst/>
                <a:gdLst/>
                <a:ahLst/>
                <a:rect l="l" t="t" r="r" b="b"/>
                <a:pathLst>
                  <a:path w="99" h="1021">
                    <a:moveTo>
                      <a:pt x="55" y="1021"/>
                    </a:moveTo>
                    <a:lnTo>
                      <a:pt x="99" y="971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971"/>
                    </a:lnTo>
                    <a:lnTo>
                      <a:pt x="43" y="917"/>
                    </a:lnTo>
                    <a:lnTo>
                      <a:pt x="55" y="1021"/>
                    </a:lnTo>
                    <a:lnTo>
                      <a:pt x="99" y="1016"/>
                    </a:lnTo>
                    <a:lnTo>
                      <a:pt x="99" y="971"/>
                    </a:lnTo>
                    <a:lnTo>
                      <a:pt x="55" y="102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515120" y="5853960"/>
                <a:ext cx="74520" cy="62640"/>
              </a:xfrm>
              <a:custGeom>
                <a:avLst/>
                <a:gdLst/>
                <a:ahLst/>
                <a:rect l="l" t="t" r="r" b="b"/>
                <a:pathLst>
                  <a:path w="1202" h="983">
                    <a:moveTo>
                      <a:pt x="1202" y="835"/>
                    </a:moveTo>
                    <a:lnTo>
                      <a:pt x="0" y="983"/>
                    </a:lnTo>
                    <a:lnTo>
                      <a:pt x="0" y="165"/>
                    </a:lnTo>
                    <a:lnTo>
                      <a:pt x="1202" y="0"/>
                    </a:lnTo>
                    <a:lnTo>
                      <a:pt x="1202" y="8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11520" y="5904720"/>
                <a:ext cx="78480" cy="15840"/>
              </a:xfrm>
              <a:custGeom>
                <a:avLst/>
                <a:gdLst/>
                <a:ahLst/>
                <a:rect l="l" t="t" r="r" b="b"/>
                <a:pathLst>
                  <a:path w="1268" h="257">
                    <a:moveTo>
                      <a:pt x="0" y="197"/>
                    </a:moveTo>
                    <a:lnTo>
                      <a:pt x="66" y="247"/>
                    </a:lnTo>
                    <a:lnTo>
                      <a:pt x="1268" y="99"/>
                    </a:lnTo>
                    <a:lnTo>
                      <a:pt x="1257" y="0"/>
                    </a:lnTo>
                    <a:lnTo>
                      <a:pt x="55" y="142"/>
                    </a:lnTo>
                    <a:lnTo>
                      <a:pt x="116" y="197"/>
                    </a:lnTo>
                    <a:lnTo>
                      <a:pt x="0" y="197"/>
                    </a:lnTo>
                    <a:lnTo>
                      <a:pt x="0" y="257"/>
                    </a:lnTo>
                    <a:lnTo>
                      <a:pt x="66" y="24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511520" y="5859720"/>
                <a:ext cx="7560" cy="56520"/>
              </a:xfrm>
              <a:custGeom>
                <a:avLst/>
                <a:gdLst/>
                <a:ahLst/>
                <a:rect l="l" t="t" r="r" b="b"/>
                <a:pathLst>
                  <a:path w="116" h="867">
                    <a:moveTo>
                      <a:pt x="55" y="0"/>
                    </a:moveTo>
                    <a:lnTo>
                      <a:pt x="0" y="49"/>
                    </a:lnTo>
                    <a:lnTo>
                      <a:pt x="0" y="867"/>
                    </a:lnTo>
                    <a:lnTo>
                      <a:pt x="116" y="867"/>
                    </a:lnTo>
                    <a:lnTo>
                      <a:pt x="116" y="49"/>
                    </a:lnTo>
                    <a:lnTo>
                      <a:pt x="66" y="104"/>
                    </a:lnTo>
                    <a:lnTo>
                      <a:pt x="55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515120" y="5849640"/>
                <a:ext cx="78480" cy="18360"/>
              </a:xfrm>
              <a:custGeom>
                <a:avLst/>
                <a:gdLst/>
                <a:ahLst/>
                <a:rect l="l" t="t" r="r" b="b"/>
                <a:pathLst>
                  <a:path w="1257" h="280">
                    <a:moveTo>
                      <a:pt x="1257" y="60"/>
                    </a:moveTo>
                    <a:lnTo>
                      <a:pt x="1202" y="11"/>
                    </a:lnTo>
                    <a:lnTo>
                      <a:pt x="0" y="176"/>
                    </a:lnTo>
                    <a:lnTo>
                      <a:pt x="11" y="280"/>
                    </a:lnTo>
                    <a:lnTo>
                      <a:pt x="1213" y="110"/>
                    </a:lnTo>
                    <a:lnTo>
                      <a:pt x="1158" y="60"/>
                    </a:lnTo>
                    <a:lnTo>
                      <a:pt x="1257" y="60"/>
                    </a:lnTo>
                    <a:lnTo>
                      <a:pt x="1257" y="0"/>
                    </a:lnTo>
                    <a:lnTo>
                      <a:pt x="1202" y="11"/>
                    </a:lnTo>
                    <a:lnTo>
                      <a:pt x="1257" y="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87840" y="5853960"/>
                <a:ext cx="5760" cy="56520"/>
              </a:xfrm>
              <a:custGeom>
                <a:avLst/>
                <a:gdLst/>
                <a:ahLst/>
                <a:rect l="l" t="t" r="r" b="b"/>
                <a:pathLst>
                  <a:path w="99" h="885">
                    <a:moveTo>
                      <a:pt x="55" y="885"/>
                    </a:moveTo>
                    <a:lnTo>
                      <a:pt x="99" y="835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35"/>
                    </a:lnTo>
                    <a:lnTo>
                      <a:pt x="44" y="786"/>
                    </a:lnTo>
                    <a:lnTo>
                      <a:pt x="55" y="885"/>
                    </a:lnTo>
                    <a:lnTo>
                      <a:pt x="99" y="878"/>
                    </a:lnTo>
                    <a:lnTo>
                      <a:pt x="99" y="835"/>
                    </a:lnTo>
                    <a:lnTo>
                      <a:pt x="55" y="8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15120" y="5745960"/>
                <a:ext cx="74520" cy="77400"/>
              </a:xfrm>
              <a:custGeom>
                <a:avLst/>
                <a:gdLst/>
                <a:ahLst/>
                <a:rect l="l" t="t" r="r" b="b"/>
                <a:pathLst>
                  <a:path w="1202" h="1169">
                    <a:moveTo>
                      <a:pt x="1202" y="883"/>
                    </a:moveTo>
                    <a:lnTo>
                      <a:pt x="0" y="1169"/>
                    </a:lnTo>
                    <a:lnTo>
                      <a:pt x="0" y="400"/>
                    </a:lnTo>
                    <a:lnTo>
                      <a:pt x="1202" y="0"/>
                    </a:lnTo>
                    <a:lnTo>
                      <a:pt x="1202" y="8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511520" y="5800680"/>
                <a:ext cx="80280" cy="26280"/>
              </a:xfrm>
              <a:custGeom>
                <a:avLst/>
                <a:gdLst/>
                <a:ahLst/>
                <a:rect l="l" t="t" r="r" b="b"/>
                <a:pathLst>
                  <a:path w="1273" h="407">
                    <a:moveTo>
                      <a:pt x="0" y="341"/>
                    </a:moveTo>
                    <a:lnTo>
                      <a:pt x="66" y="396"/>
                    </a:lnTo>
                    <a:lnTo>
                      <a:pt x="1273" y="104"/>
                    </a:lnTo>
                    <a:lnTo>
                      <a:pt x="1251" y="0"/>
                    </a:lnTo>
                    <a:lnTo>
                      <a:pt x="50" y="292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407"/>
                    </a:lnTo>
                    <a:lnTo>
                      <a:pt x="66" y="396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511520" y="5768640"/>
                <a:ext cx="7560" cy="54720"/>
              </a:xfrm>
              <a:custGeom>
                <a:avLst/>
                <a:gdLst/>
                <a:ahLst/>
                <a:rect l="l" t="t" r="r" b="b"/>
                <a:pathLst>
                  <a:path w="116" h="823">
                    <a:moveTo>
                      <a:pt x="45" y="0"/>
                    </a:moveTo>
                    <a:lnTo>
                      <a:pt x="0" y="54"/>
                    </a:lnTo>
                    <a:lnTo>
                      <a:pt x="0" y="823"/>
                    </a:lnTo>
                    <a:lnTo>
                      <a:pt x="116" y="823"/>
                    </a:lnTo>
                    <a:lnTo>
                      <a:pt x="116" y="54"/>
                    </a:lnTo>
                    <a:lnTo>
                      <a:pt x="71" y="104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5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515120" y="5741640"/>
                <a:ext cx="78480" cy="32400"/>
              </a:xfrm>
              <a:custGeom>
                <a:avLst/>
                <a:gdLst/>
                <a:ahLst/>
                <a:rect l="l" t="t" r="r" b="b"/>
                <a:pathLst>
                  <a:path w="1267" h="516">
                    <a:moveTo>
                      <a:pt x="1267" y="66"/>
                    </a:moveTo>
                    <a:lnTo>
                      <a:pt x="1201" y="22"/>
                    </a:lnTo>
                    <a:lnTo>
                      <a:pt x="0" y="412"/>
                    </a:lnTo>
                    <a:lnTo>
                      <a:pt x="26" y="516"/>
                    </a:lnTo>
                    <a:lnTo>
                      <a:pt x="1234" y="120"/>
                    </a:lnTo>
                    <a:lnTo>
                      <a:pt x="1168" y="66"/>
                    </a:lnTo>
                    <a:lnTo>
                      <a:pt x="1267" y="66"/>
                    </a:lnTo>
                    <a:lnTo>
                      <a:pt x="1267" y="0"/>
                    </a:lnTo>
                    <a:lnTo>
                      <a:pt x="1201" y="22"/>
                    </a:lnTo>
                    <a:lnTo>
                      <a:pt x="1267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587840" y="5745960"/>
                <a:ext cx="5760" cy="60840"/>
              </a:xfrm>
              <a:custGeom>
                <a:avLst/>
                <a:gdLst/>
                <a:ahLst/>
                <a:rect l="l" t="t" r="r" b="b"/>
                <a:pathLst>
                  <a:path w="99" h="932">
                    <a:moveTo>
                      <a:pt x="60" y="932"/>
                    </a:moveTo>
                    <a:lnTo>
                      <a:pt x="99" y="88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83"/>
                    </a:lnTo>
                    <a:lnTo>
                      <a:pt x="38" y="828"/>
                    </a:lnTo>
                    <a:lnTo>
                      <a:pt x="60" y="932"/>
                    </a:lnTo>
                    <a:lnTo>
                      <a:pt x="99" y="922"/>
                    </a:lnTo>
                    <a:lnTo>
                      <a:pt x="99" y="883"/>
                    </a:lnTo>
                    <a:lnTo>
                      <a:pt x="60" y="9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465080" y="577620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576" h="901">
                    <a:moveTo>
                      <a:pt x="576" y="758"/>
                    </a:moveTo>
                    <a:lnTo>
                      <a:pt x="0" y="901"/>
                    </a:lnTo>
                    <a:lnTo>
                      <a:pt x="0" y="160"/>
                    </a:lnTo>
                    <a:lnTo>
                      <a:pt x="576" y="0"/>
                    </a:lnTo>
                    <a:lnTo>
                      <a:pt x="576" y="7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61480" y="5823360"/>
                <a:ext cx="40320" cy="15840"/>
              </a:xfrm>
              <a:custGeom>
                <a:avLst/>
                <a:gdLst/>
                <a:ahLst/>
                <a:rect l="l" t="t" r="r" b="b"/>
                <a:pathLst>
                  <a:path w="647" h="264">
                    <a:moveTo>
                      <a:pt x="0" y="198"/>
                    </a:moveTo>
                    <a:lnTo>
                      <a:pt x="71" y="247"/>
                    </a:lnTo>
                    <a:lnTo>
                      <a:pt x="647" y="104"/>
                    </a:lnTo>
                    <a:lnTo>
                      <a:pt x="614" y="0"/>
                    </a:lnTo>
                    <a:lnTo>
                      <a:pt x="38" y="143"/>
                    </a:lnTo>
                    <a:lnTo>
                      <a:pt x="110" y="198"/>
                    </a:lnTo>
                    <a:lnTo>
                      <a:pt x="0" y="198"/>
                    </a:lnTo>
                    <a:lnTo>
                      <a:pt x="0" y="264"/>
                    </a:lnTo>
                    <a:lnTo>
                      <a:pt x="71" y="24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461480" y="5784840"/>
                <a:ext cx="7560" cy="50400"/>
              </a:xfrm>
              <a:custGeom>
                <a:avLst/>
                <a:gdLst/>
                <a:ahLst/>
                <a:rect l="l" t="t" r="r" b="b"/>
                <a:pathLst>
                  <a:path w="110" h="791">
                    <a:moveTo>
                      <a:pt x="38" y="0"/>
                    </a:moveTo>
                    <a:lnTo>
                      <a:pt x="0" y="50"/>
                    </a:lnTo>
                    <a:lnTo>
                      <a:pt x="0" y="791"/>
                    </a:lnTo>
                    <a:lnTo>
                      <a:pt x="110" y="791"/>
                    </a:lnTo>
                    <a:lnTo>
                      <a:pt x="110" y="50"/>
                    </a:lnTo>
                    <a:lnTo>
                      <a:pt x="71" y="99"/>
                    </a:lnTo>
                    <a:lnTo>
                      <a:pt x="38" y="0"/>
                    </a:lnTo>
                    <a:lnTo>
                      <a:pt x="0" y="1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65080" y="577224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642" h="280">
                    <a:moveTo>
                      <a:pt x="642" y="71"/>
                    </a:moveTo>
                    <a:lnTo>
                      <a:pt x="576" y="17"/>
                    </a:lnTo>
                    <a:lnTo>
                      <a:pt x="0" y="181"/>
                    </a:lnTo>
                    <a:lnTo>
                      <a:pt x="33" y="280"/>
                    </a:lnTo>
                    <a:lnTo>
                      <a:pt x="609" y="121"/>
                    </a:lnTo>
                    <a:lnTo>
                      <a:pt x="543" y="71"/>
                    </a:lnTo>
                    <a:lnTo>
                      <a:pt x="642" y="71"/>
                    </a:lnTo>
                    <a:lnTo>
                      <a:pt x="642" y="0"/>
                    </a:lnTo>
                    <a:lnTo>
                      <a:pt x="576" y="17"/>
                    </a:lnTo>
                    <a:lnTo>
                      <a:pt x="642" y="7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497840" y="5776200"/>
                <a:ext cx="5400" cy="52920"/>
              </a:xfrm>
              <a:custGeom>
                <a:avLst/>
                <a:gdLst/>
                <a:ahLst/>
                <a:rect l="l" t="t" r="r" b="b"/>
                <a:pathLst>
                  <a:path w="99" h="807">
                    <a:moveTo>
                      <a:pt x="66" y="807"/>
                    </a:moveTo>
                    <a:lnTo>
                      <a:pt x="99" y="75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758"/>
                    </a:lnTo>
                    <a:lnTo>
                      <a:pt x="33" y="703"/>
                    </a:lnTo>
                    <a:lnTo>
                      <a:pt x="66" y="807"/>
                    </a:lnTo>
                    <a:lnTo>
                      <a:pt x="99" y="797"/>
                    </a:lnTo>
                    <a:lnTo>
                      <a:pt x="99" y="758"/>
                    </a:lnTo>
                    <a:lnTo>
                      <a:pt x="66" y="80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465080" y="586584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576" h="884">
                    <a:moveTo>
                      <a:pt x="576" y="813"/>
                    </a:moveTo>
                    <a:lnTo>
                      <a:pt x="0" y="884"/>
                    </a:lnTo>
                    <a:lnTo>
                      <a:pt x="0" y="110"/>
                    </a:lnTo>
                    <a:lnTo>
                      <a:pt x="576" y="0"/>
                    </a:lnTo>
                    <a:lnTo>
                      <a:pt x="576" y="8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61480" y="5916600"/>
                <a:ext cx="40320" cy="12240"/>
              </a:xfrm>
              <a:custGeom>
                <a:avLst/>
                <a:gdLst/>
                <a:ahLst/>
                <a:rect l="l" t="t" r="r" b="b"/>
                <a:pathLst>
                  <a:path w="637" h="181">
                    <a:moveTo>
                      <a:pt x="0" y="120"/>
                    </a:moveTo>
                    <a:lnTo>
                      <a:pt x="60" y="170"/>
                    </a:lnTo>
                    <a:lnTo>
                      <a:pt x="637" y="99"/>
                    </a:lnTo>
                    <a:lnTo>
                      <a:pt x="625" y="0"/>
                    </a:lnTo>
                    <a:lnTo>
                      <a:pt x="49" y="71"/>
                    </a:lnTo>
                    <a:lnTo>
                      <a:pt x="110" y="120"/>
                    </a:lnTo>
                    <a:lnTo>
                      <a:pt x="0" y="120"/>
                    </a:lnTo>
                    <a:lnTo>
                      <a:pt x="0" y="181"/>
                    </a:lnTo>
                    <a:lnTo>
                      <a:pt x="60" y="17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461480" y="5869800"/>
                <a:ext cx="7560" cy="54720"/>
              </a:xfrm>
              <a:custGeom>
                <a:avLst/>
                <a:gdLst/>
                <a:ahLst/>
                <a:rect l="l" t="t" r="r" b="b"/>
                <a:pathLst>
                  <a:path w="110" h="823">
                    <a:moveTo>
                      <a:pt x="44" y="0"/>
                    </a:moveTo>
                    <a:lnTo>
                      <a:pt x="0" y="49"/>
                    </a:lnTo>
                    <a:lnTo>
                      <a:pt x="0" y="823"/>
                    </a:lnTo>
                    <a:lnTo>
                      <a:pt x="110" y="823"/>
                    </a:lnTo>
                    <a:lnTo>
                      <a:pt x="110" y="49"/>
                    </a:lnTo>
                    <a:lnTo>
                      <a:pt x="66" y="104"/>
                    </a:lnTo>
                    <a:lnTo>
                      <a:pt x="44" y="0"/>
                    </a:lnTo>
                    <a:lnTo>
                      <a:pt x="0" y="5"/>
                    </a:lnTo>
                    <a:lnTo>
                      <a:pt x="0" y="4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465080" y="586152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66"/>
                    </a:moveTo>
                    <a:lnTo>
                      <a:pt x="576" y="17"/>
                    </a:lnTo>
                    <a:lnTo>
                      <a:pt x="0" y="127"/>
                    </a:lnTo>
                    <a:lnTo>
                      <a:pt x="22" y="231"/>
                    </a:lnTo>
                    <a:lnTo>
                      <a:pt x="598" y="116"/>
                    </a:lnTo>
                    <a:lnTo>
                      <a:pt x="537" y="66"/>
                    </a:lnTo>
                    <a:lnTo>
                      <a:pt x="636" y="66"/>
                    </a:lnTo>
                    <a:lnTo>
                      <a:pt x="636" y="0"/>
                    </a:lnTo>
                    <a:lnTo>
                      <a:pt x="576" y="17"/>
                    </a:lnTo>
                    <a:lnTo>
                      <a:pt x="636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97840" y="5865840"/>
                <a:ext cx="5400" cy="56880"/>
              </a:xfrm>
              <a:custGeom>
                <a:avLst/>
                <a:gdLst/>
                <a:ahLst/>
                <a:rect l="l" t="t" r="r" b="b"/>
                <a:pathLst>
                  <a:path w="99" h="863">
                    <a:moveTo>
                      <a:pt x="56" y="863"/>
                    </a:moveTo>
                    <a:lnTo>
                      <a:pt x="99" y="81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44" y="764"/>
                    </a:lnTo>
                    <a:lnTo>
                      <a:pt x="56" y="863"/>
                    </a:lnTo>
                    <a:lnTo>
                      <a:pt x="99" y="857"/>
                    </a:lnTo>
                    <a:lnTo>
                      <a:pt x="99" y="813"/>
                    </a:lnTo>
                    <a:lnTo>
                      <a:pt x="56" y="8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304560" y="637236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Fall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Information requirements (circle_feature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457200" y="1523880"/>
            <a:ext cx="8381880" cy="4343400"/>
            <a:chOff x="457200" y="1523880"/>
            <a:chExt cx="8381880" cy="4343400"/>
          </a:xfrm>
        </p:grpSpPr>
        <p:sp>
          <p:nvSpPr>
            <p:cNvPr id="1441" name=""/>
            <p:cNvSpPr/>
            <p:nvPr/>
          </p:nvSpPr>
          <p:spPr>
            <a:xfrm>
              <a:off x="3962520" y="3352680"/>
              <a:ext cx="1523880" cy="533520"/>
            </a:xfrm>
            <a:prstGeom prst="leftArrow">
              <a:avLst>
                <a:gd name="adj1" fmla="val 50000"/>
                <a:gd name="adj2" fmla="val 7140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verse e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57200" y="1600200"/>
              <a:ext cx="3429000" cy="426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38480" y="1957320"/>
              <a:ext cx="65232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06880" y="20210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07600" y="2192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94640" y="236232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09480" y="3273480"/>
              <a:ext cx="65088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9360" y="333864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81840" y="35067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9240" y="3676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154320" y="3282840"/>
              <a:ext cx="650880" cy="64476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194640" y="334800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225960" y="351648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213720" y="36831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94000" y="4978440"/>
              <a:ext cx="652320" cy="355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081160" y="4978440"/>
              <a:ext cx="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75360" y="50878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36720" y="2975040"/>
              <a:ext cx="2543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65360" y="261144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936720" y="2974680"/>
              <a:ext cx="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95320" y="3168720"/>
              <a:ext cx="7956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3479760" y="297468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41600" y="3184560"/>
              <a:ext cx="7632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55720" y="3935520"/>
              <a:ext cx="1560600" cy="985680"/>
            </a:xfrm>
            <a:custGeom>
              <a:avLst/>
              <a:gdLst/>
              <a:ahLst/>
              <a:rect l="l" t="t" r="r" b="b"/>
              <a:pathLst>
                <a:path w="1443" h="732">
                  <a:moveTo>
                    <a:pt x="1443" y="0"/>
                  </a:moveTo>
                  <a:lnTo>
                    <a:pt x="1443" y="90"/>
                  </a:lnTo>
                  <a:lnTo>
                    <a:pt x="0" y="90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17560" y="4873680"/>
              <a:ext cx="777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76920" y="384660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a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878120" y="3935520"/>
              <a:ext cx="1601640" cy="985680"/>
            </a:xfrm>
            <a:custGeom>
              <a:avLst/>
              <a:gdLst/>
              <a:ahLst/>
              <a:rect l="l" t="t" r="r" b="b"/>
              <a:pathLst>
                <a:path w="1480" h="732">
                  <a:moveTo>
                    <a:pt x="1480" y="0"/>
                  </a:moveTo>
                  <a:lnTo>
                    <a:pt x="1480" y="324"/>
                  </a:lnTo>
                  <a:lnTo>
                    <a:pt x="0" y="324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38160" y="4873680"/>
              <a:ext cx="810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333520" y="4156200"/>
              <a:ext cx="91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008080" y="3935520"/>
              <a:ext cx="1633680" cy="985680"/>
            </a:xfrm>
            <a:custGeom>
              <a:avLst/>
              <a:gdLst/>
              <a:ahLst/>
              <a:rect l="l" t="t" r="r" b="b"/>
              <a:pathLst>
                <a:path w="1510" h="732">
                  <a:moveTo>
                    <a:pt x="1510" y="0"/>
                  </a:moveTo>
                  <a:lnTo>
                    <a:pt x="1510" y="528"/>
                  </a:lnTo>
                  <a:lnTo>
                    <a:pt x="0" y="528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968480" y="4873680"/>
              <a:ext cx="795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03160" y="44370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36720" y="3921120"/>
              <a:ext cx="687240" cy="1000080"/>
            </a:xfrm>
            <a:custGeom>
              <a:avLst/>
              <a:gdLst/>
              <a:ahLst/>
              <a:rect l="l" t="t" r="r" b="b"/>
              <a:pathLst>
                <a:path w="637" h="744">
                  <a:moveTo>
                    <a:pt x="0" y="0"/>
                  </a:moveTo>
                  <a:lnTo>
                    <a:pt x="0" y="546"/>
                  </a:lnTo>
                  <a:lnTo>
                    <a:pt x="637" y="546"/>
                  </a:lnTo>
                  <a:lnTo>
                    <a:pt x="637" y="7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584360" y="4873680"/>
              <a:ext cx="792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56240" y="44449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15880" y="18288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5638680" y="2362320"/>
              <a:ext cx="3200400" cy="2029320"/>
              <a:chOff x="5638680" y="2362320"/>
              <a:chExt cx="3200400" cy="2029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5638680" y="2743200"/>
                <a:ext cx="3200400" cy="164844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nominal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nominal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measured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diameter_min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diameter_max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measured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((nominal_circle_feature) | (measured_circle_feature)|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nominal_circle_feature, measured_circle_feature))&gt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type (INNER | OUTER | UNKNOWN) #REQUIR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</a:t>
                </a:r>
                <a:br>
                  <a:rPr sz="600"/>
                </a:b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69640" y="236232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XML DT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>
              <a:off x="56044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1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1203480" y="1163520"/>
            <a:ext cx="6721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since June SC4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- Documents Developed Thus Far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Eff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03480" y="1163520"/>
            <a:ext cx="6721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cope</a:t>
            </a:r>
            <a:br>
              <a:rPr sz="2400"/>
            </a:b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since June SC4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- Documents Developed Thus F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Eff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im-insp-logo-sm" descr=""/>
          <p:cNvPicPr/>
          <p:nvPr/>
        </p:nvPicPr>
        <p:blipFill>
          <a:blip r:embed="rId1"/>
          <a:stretch/>
        </p:blipFill>
        <p:spPr>
          <a:xfrm>
            <a:off x="7010280" y="63644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533520" y="2682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AP219 Objec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43960" y="909720"/>
            <a:ext cx="197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ly conta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102 entitie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thered from AP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2743200" y="990720"/>
            <a:ext cx="5715000" cy="5333760"/>
            <a:chOff x="2743200" y="990720"/>
            <a:chExt cx="5715000" cy="5333760"/>
          </a:xfrm>
        </p:grpSpPr>
        <p:pic>
          <p:nvPicPr>
            <p:cNvPr id="1488" name="sima_09-18-01_AP214defs2" descr=""/>
            <p:cNvPicPr/>
            <p:nvPr/>
          </p:nvPicPr>
          <p:blipFill>
            <a:blip r:embed="rId2"/>
            <a:stretch/>
          </p:blipFill>
          <p:spPr>
            <a:xfrm>
              <a:off x="2837880" y="1119960"/>
              <a:ext cx="5525640" cy="49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9" name=""/>
            <p:cNvSpPr/>
            <p:nvPr/>
          </p:nvSpPr>
          <p:spPr>
            <a:xfrm>
              <a:off x="2743200" y="990720"/>
              <a:ext cx="5715000" cy="5333760"/>
            </a:xfrm>
            <a:prstGeom prst="rect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380880" y="380880"/>
            <a:ext cx="815364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imensional Inspection Inform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echnical Report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raft by 1/31/02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, Motivation, Outline of Following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Activity Model for Dimensional 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Reference Model (ARM) in EXPRESS-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al Inspection Inform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 Consisting of five modules:  Parts Identification, Featu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olerances, Program ID,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 Harmonized with information requirem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AP214, AP224, DMIS, and the Web Analysis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Definitions for Entities and Attributes in the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ation Tables for Features and 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uture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920880" y="838080"/>
            <a:ext cx="661500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ilitate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ract is in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harmonization modules with AP 2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contract planned for 9/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312480" y="404640"/>
            <a:ext cx="853308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 and constituents/collaborators well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inspection information requirement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RM) Version 0.5, consisting of 5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- planned for 1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NISTIR/STEP Technical Report on the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- planned for 1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evelop harmonized modules with AP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- completion planned for 9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Metrology Interoperability Consortium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rk Item under STEP -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submit early FY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3960" y="1173240"/>
            <a:ext cx="81529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Scope and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lication Protocol (AP) will specif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anage dimensional inspection of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or assemblies, which includes adminis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and  executing dimensional inspection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and archiving the results. Dimensional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ccur at any  stage of the life cycle of a product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for conformance with a design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4320" y="1085760"/>
            <a:ext cx="7467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Project Activities since June SC4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calls 23 August and 21 Septem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draft of Object Defin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d Harmonization T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in place to develop harmonization modu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with AP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Participants include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305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Scigliano &amp; Joe Schafer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nomat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Tornquist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&amp; S Agi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Wootton &amp; Keith Morton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Danner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eca-I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Jones &amp; Tom Hendrix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tis Brown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e Fallert &amp; Bob Waite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Cluff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c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borne Martin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 Charlo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n Allen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 Vorburger, Simon Frechette, Larry Welsch, Howard Harary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03480" y="1163520"/>
            <a:ext cx="6721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since June SC4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tatus - Documents Developed Thus Far</a:t>
            </a:r>
            <a:br>
              <a:rPr sz="2400"/>
            </a:b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Eff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8440" y="831960"/>
            <a:ext cx="813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ta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Draft Documents developed thus f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ctivity Model (AA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 for the A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Reference Model (ARM) - Four draft ver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19/DMIS/AP214/AP224 Harmonization Tabl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Feat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Geometric Toleran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Dimension Tolera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1800" y="1371600"/>
            <a:ext cx="8588880" cy="4211640"/>
            <a:chOff x="271800" y="1371600"/>
            <a:chExt cx="8588880" cy="4211640"/>
          </a:xfrm>
        </p:grpSpPr>
        <p:sp>
          <p:nvSpPr>
            <p:cNvPr id="98" name=""/>
            <p:cNvSpPr/>
            <p:nvPr/>
          </p:nvSpPr>
          <p:spPr>
            <a:xfrm>
              <a:off x="3352680" y="413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352680" y="31446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048120" y="3144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5000" y="3754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066320" y="3144600"/>
              <a:ext cx="4420080" cy="2361960"/>
              <a:chOff x="1066320" y="3144600"/>
              <a:chExt cx="4420080" cy="23619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066320" y="3144600"/>
                <a:ext cx="4420080" cy="2166120"/>
                <a:chOff x="1066320" y="3144600"/>
                <a:chExt cx="4420080" cy="216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57800" y="42876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486400" y="4287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066320" y="489708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066680" y="314460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066680" y="31449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88160" y="497340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1905120" y="50497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638680" y="512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638680" y="3982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257800" y="398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4048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466884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3920" y="360216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253512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26877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2560" y="23065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8400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28400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8660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452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480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14720" y="1676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2840" y="137160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800" y="24433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2992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4320" y="2992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676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5680" y="29923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562720" y="2230560"/>
            <a:ext cx="3297960" cy="3504960"/>
            <a:chOff x="5562720" y="2230560"/>
            <a:chExt cx="3297960" cy="3504960"/>
          </a:xfrm>
        </p:grpSpPr>
        <p:sp>
          <p:nvSpPr>
            <p:cNvPr id="134" name=""/>
            <p:cNvSpPr/>
            <p:nvPr/>
          </p:nvSpPr>
          <p:spPr>
            <a:xfrm>
              <a:off x="5562720" y="276372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5020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596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612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90160" y="223056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Dimensional Inspec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quirement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for ARM Version 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ts Identific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01560" indent="-231480">
              <a:spcBef>
                <a:spcPts val="6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ensional Measurement Featur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01560" indent="-231480">
              <a:spcBef>
                <a:spcPts val="6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ensional Measurement Toleranc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01560" indent="-231480">
              <a:spcBef>
                <a:spcPts val="6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ensional Measurement Program I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01560" indent="-231480">
              <a:spcBef>
                <a:spcPts val="6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ensional Measurement Resul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hardwick</cp:lastModifiedBy>
  <cp:lastPrinted>2001-09-21T14:18:59Z</cp:lastPrinted>
  <dcterms:modified xsi:type="dcterms:W3CDTF">2001-10-17T21:24:02Z</dcterms:modified>
  <cp:revision>370</cp:revision>
  <dc:subject/>
  <dc:title>No Slide Title</dc:title>
</cp:coreProperties>
</file>