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7299679-3590-4163-840E-EC0FD6790C0E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1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218960"/>
            <a:ext cx="518796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Introduction to STEP-N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-Process Feat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5680" y="79848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0280" y="3246480"/>
            <a:ext cx="0" cy="22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4560" y="275580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94080" y="3259080"/>
            <a:ext cx="236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04080" y="3246480"/>
            <a:ext cx="0" cy="22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78800" y="3246480"/>
            <a:ext cx="0" cy="22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3160" y="3246480"/>
            <a:ext cx="0" cy="22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7640" y="3662280"/>
            <a:ext cx="3003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btypes for operation type, too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ategies, technology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828800" y="2573280"/>
            <a:ext cx="3743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07360" y="2359080"/>
            <a:ext cx="16200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18040" y="1935000"/>
            <a:ext cx="0" cy="376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11800" y="1935000"/>
            <a:ext cx="0" cy="376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20360" y="1512720"/>
            <a:ext cx="27720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1440" y="2359080"/>
            <a:ext cx="8305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25520" y="1938240"/>
            <a:ext cx="0" cy="376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7840" y="1938240"/>
            <a:ext cx="0" cy="376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2960" y="1512720"/>
            <a:ext cx="19825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0520" y="3192480"/>
            <a:ext cx="1856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_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6400" y="4622760"/>
            <a:ext cx="271584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_definition_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1" idx="2"/>
            <a:endCxn id="175" idx="1"/>
          </p:cNvCxnSpPr>
          <p:nvPr/>
        </p:nvCxnSpPr>
        <p:spPr>
          <a:xfrm flipH="1" rot="16200000">
            <a:off x="1392840" y="2984400"/>
            <a:ext cx="618480" cy="2307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8" name=""/>
          <p:cNvCxnSpPr>
            <a:stCxn id="171" idx="2"/>
            <a:endCxn id="176" idx="1"/>
          </p:cNvCxnSpPr>
          <p:nvPr/>
        </p:nvCxnSpPr>
        <p:spPr>
          <a:xfrm flipH="1" rot="16200000">
            <a:off x="666360" y="3710520"/>
            <a:ext cx="2048760" cy="208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9" name=""/>
          <p:cNvSpPr/>
          <p:nvPr/>
        </p:nvSpPr>
        <p:spPr>
          <a:xfrm>
            <a:off x="1842840" y="3684600"/>
            <a:ext cx="1985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ufacture a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hape asp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14920" y="5172120"/>
            <a:ext cx="235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ufacture entir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product defin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9244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-G for Workingstep AI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320" y="83808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3480" y="1224000"/>
            <a:ext cx="1458360" cy="39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6800" y="2008080"/>
            <a:ext cx="2788920" cy="39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_process_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60040" y="2622600"/>
            <a:ext cx="1993320" cy="39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6160" y="1219320"/>
            <a:ext cx="1962720" cy="39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_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4720" y="1751040"/>
            <a:ext cx="2202120" cy="39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_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3" idx="1"/>
            <a:endCxn id="184" idx="1"/>
          </p:cNvCxnSpPr>
          <p:nvPr/>
        </p:nvCxnSpPr>
        <p:spPr>
          <a:xfrm flipH="1" flipV="1" rot="10800000">
            <a:off x="1294200" y="1423800"/>
            <a:ext cx="469080" cy="784800"/>
          </a:xfrm>
          <a:prstGeom prst="bentConnector3">
            <a:avLst>
              <a:gd name="adj1" fmla="val -487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3" idx="1"/>
            <a:endCxn id="185" idx="1"/>
          </p:cNvCxnSpPr>
          <p:nvPr/>
        </p:nvCxnSpPr>
        <p:spPr>
          <a:xfrm flipH="1" flipV="1" rot="10800000">
            <a:off x="1294200" y="1423800"/>
            <a:ext cx="469080" cy="1398960"/>
          </a:xfrm>
          <a:prstGeom prst="bentConnector3">
            <a:avLst>
              <a:gd name="adj1" fmla="val -487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1"/>
          </p:cNvCxnSpPr>
          <p:nvPr/>
        </p:nvCxnSpPr>
        <p:spPr>
          <a:xfrm flipV="1" rot="10800000">
            <a:off x="1065960" y="1423800"/>
            <a:ext cx="229320" cy="276768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91" name=""/>
          <p:cNvCxnSpPr>
            <a:stCxn id="184" idx="3"/>
            <a:endCxn id="186" idx="1"/>
          </p:cNvCxnSpPr>
          <p:nvPr/>
        </p:nvCxnSpPr>
        <p:spPr>
          <a:xfrm flipV="1">
            <a:off x="4538520" y="1418760"/>
            <a:ext cx="1100880" cy="789840"/>
          </a:xfrm>
          <a:prstGeom prst="bentConnector3">
            <a:avLst>
              <a:gd name="adj1" fmla="val 4991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3"/>
            <a:endCxn id="187" idx="1"/>
          </p:cNvCxnSpPr>
          <p:nvPr/>
        </p:nvCxnSpPr>
        <p:spPr>
          <a:xfrm flipV="1">
            <a:off x="4538520" y="1950840"/>
            <a:ext cx="1100880" cy="257760"/>
          </a:xfrm>
          <a:prstGeom prst="bentConnector3">
            <a:avLst>
              <a:gd name="adj1" fmla="val 4991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5" idx="3"/>
            <a:endCxn id="194" idx="1"/>
          </p:cNvCxnSpPr>
          <p:nvPr/>
        </p:nvCxnSpPr>
        <p:spPr>
          <a:xfrm>
            <a:off x="3749760" y="2822400"/>
            <a:ext cx="1381680" cy="7977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5" idx="3"/>
            <a:endCxn id="196" idx="1"/>
          </p:cNvCxnSpPr>
          <p:nvPr/>
        </p:nvCxnSpPr>
        <p:spPr>
          <a:xfrm>
            <a:off x="3749760" y="2822040"/>
            <a:ext cx="1381680" cy="114084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5" idx="3"/>
            <a:endCxn id="198" idx="1"/>
          </p:cNvCxnSpPr>
          <p:nvPr/>
        </p:nvCxnSpPr>
        <p:spPr>
          <a:xfrm>
            <a:off x="3749760" y="2822400"/>
            <a:ext cx="1381680" cy="45504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5130720" y="3375000"/>
            <a:ext cx="280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btypes for categori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lling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83" idx="1"/>
            <a:endCxn id="200" idx="1"/>
          </p:cNvCxnSpPr>
          <p:nvPr/>
        </p:nvCxnSpPr>
        <p:spPr>
          <a:xfrm flipH="1" flipV="1" rot="10800000">
            <a:off x="1294200" y="1423800"/>
            <a:ext cx="469080" cy="2250000"/>
          </a:xfrm>
          <a:prstGeom prst="bentConnector3">
            <a:avLst>
              <a:gd name="adj1" fmla="val -487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1763640" y="3429000"/>
            <a:ext cx="2181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btypes for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M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33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lan AIM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30720" y="3124080"/>
            <a:ext cx="533520" cy="30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30720" y="3809880"/>
            <a:ext cx="533520" cy="30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2280" y="4689360"/>
            <a:ext cx="7746840" cy="1743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s and operations are represented using ac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subtypes for operations, workplan, and working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each other using action_method_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Use MFP to relate workingsteps to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45520" y="2271600"/>
            <a:ext cx="2653200" cy="39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cf0e3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machining_feature_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84" idx="3"/>
            <a:endCxn id="203" idx="1"/>
          </p:cNvCxnSpPr>
          <p:nvPr/>
        </p:nvCxnSpPr>
        <p:spPr>
          <a:xfrm>
            <a:off x="4538160" y="2207880"/>
            <a:ext cx="1086840" cy="275400"/>
          </a:xfrm>
          <a:prstGeom prst="bentConnector3">
            <a:avLst>
              <a:gd name="adj1" fmla="val 5056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83440" y="3770280"/>
            <a:ext cx="1894320" cy="6699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ty_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93480" y="5049000"/>
            <a:ext cx="28728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feature_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69280" y="2725200"/>
            <a:ext cx="3121200" cy="42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_property_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97640" y="2048400"/>
            <a:ext cx="3470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erty_or_shape, as a shape_as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ugh property_or_shape_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32840" y="3339360"/>
            <a:ext cx="8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90800" y="4008960"/>
            <a:ext cx="1493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ion sub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81800" y="5025600"/>
            <a:ext cx="1514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b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31040" y="4479120"/>
            <a:ext cx="154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se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97800" y="6043320"/>
            <a:ext cx="466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steps to manufacture the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000" y="1410840"/>
            <a:ext cx="26776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product_definition_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 product_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71920" y="1235520"/>
            <a:ext cx="19155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d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13680" y="4939200"/>
            <a:ext cx="2711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s col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using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958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ing Workingsteps with a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07" idx="0"/>
            <a:endCxn id="215" idx="2"/>
          </p:cNvCxnSpPr>
          <p:nvPr/>
        </p:nvCxnSpPr>
        <p:spPr>
          <a:xfrm flipV="1">
            <a:off x="4530240" y="2053800"/>
            <a:ext cx="1080" cy="6516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7" idx="2"/>
            <a:endCxn id="205" idx="0"/>
          </p:cNvCxnSpPr>
          <p:nvPr/>
        </p:nvCxnSpPr>
        <p:spPr>
          <a:xfrm flipV="1" rot="10800000">
            <a:off x="4529880" y="3171600"/>
            <a:ext cx="1080" cy="578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05" idx="2"/>
            <a:endCxn id="206" idx="0"/>
          </p:cNvCxnSpPr>
          <p:nvPr/>
        </p:nvCxnSpPr>
        <p:spPr>
          <a:xfrm flipV="1" rot="10800000">
            <a:off x="4529880" y="4460040"/>
            <a:ext cx="1080" cy="56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3" idx="0"/>
            <a:endCxn id="206" idx="2"/>
          </p:cNvCxnSpPr>
          <p:nvPr/>
        </p:nvCxnSpPr>
        <p:spPr>
          <a:xfrm flipV="1">
            <a:off x="4530240" y="5495400"/>
            <a:ext cx="1080" cy="548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5" idx="1"/>
          </p:cNvCxnSpPr>
          <p:nvPr/>
        </p:nvCxnSpPr>
        <p:spPr>
          <a:xfrm flipH="1" flipV="1">
            <a:off x="1904400" y="990000"/>
            <a:ext cx="1640520" cy="64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164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cess and Final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82880" y="1730160"/>
            <a:ext cx="221904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ins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nstanced_fe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ound_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70360" y="844560"/>
            <a:ext cx="2043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ification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-pro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85040" y="4408560"/>
            <a:ext cx="221292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ing_feature_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35120" y="5766120"/>
            <a:ext cx="2654640" cy="70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54400" y="3892680"/>
            <a:ext cx="147384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2160" y="3283200"/>
            <a:ext cx="2400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_property_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0"/>
            <a:endCxn id="224" idx="2"/>
          </p:cNvCxnSpPr>
          <p:nvPr/>
        </p:nvCxnSpPr>
        <p:spPr>
          <a:xfrm flipV="1">
            <a:off x="2192040" y="2937960"/>
            <a:ext cx="1080" cy="339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2"/>
            <a:endCxn id="228" idx="0"/>
          </p:cNvCxnSpPr>
          <p:nvPr/>
        </p:nvCxnSpPr>
        <p:spPr>
          <a:xfrm flipV="1" rot="10800000">
            <a:off x="2191680" y="3563640"/>
            <a:ext cx="1080" cy="322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8" idx="2"/>
            <a:endCxn id="226" idx="0"/>
          </p:cNvCxnSpPr>
          <p:nvPr/>
        </p:nvCxnSpPr>
        <p:spPr>
          <a:xfrm flipV="1" rot="10800000">
            <a:off x="2191680" y="4173120"/>
            <a:ext cx="1080" cy="229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4" idx="2"/>
            <a:endCxn id="227" idx="1"/>
          </p:cNvCxnSpPr>
          <p:nvPr/>
        </p:nvCxnSpPr>
        <p:spPr>
          <a:xfrm flipH="1" rot="16200000">
            <a:off x="2356920" y="5056560"/>
            <a:ext cx="250200" cy="1870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717120" y="5221440"/>
            <a:ext cx="165960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-process featu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0"/>
            <a:endCxn id="226" idx="2"/>
          </p:cNvCxnSpPr>
          <p:nvPr/>
        </p:nvCxnSpPr>
        <p:spPr>
          <a:xfrm flipH="1" flipV="1" rot="5400000">
            <a:off x="1606680" y="4629240"/>
            <a:ext cx="526320" cy="645480"/>
          </a:xfrm>
          <a:prstGeom prst="bentConnector3">
            <a:avLst>
              <a:gd name="adj1" fmla="val 4982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5" idx="2"/>
            <a:endCxn id="224" idx="0"/>
          </p:cNvCxnSpPr>
          <p:nvPr/>
        </p:nvCxnSpPr>
        <p:spPr>
          <a:xfrm flipV="1" rot="10800000">
            <a:off x="2191680" y="1307880"/>
            <a:ext cx="1080" cy="402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964120" y="1730160"/>
            <a:ext cx="221904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ins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nstanced_fe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ound_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66640" y="4408560"/>
            <a:ext cx="221292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ing_feature_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36000" y="3892680"/>
            <a:ext cx="147384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73760" y="3283200"/>
            <a:ext cx="2400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_property_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0"/>
            <a:endCxn id="237" idx="2"/>
          </p:cNvCxnSpPr>
          <p:nvPr/>
        </p:nvCxnSpPr>
        <p:spPr>
          <a:xfrm flipV="1">
            <a:off x="7073640" y="2937960"/>
            <a:ext cx="1080" cy="339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2"/>
            <a:endCxn id="239" idx="0"/>
          </p:cNvCxnSpPr>
          <p:nvPr/>
        </p:nvCxnSpPr>
        <p:spPr>
          <a:xfrm flipV="1" rot="10800000">
            <a:off x="7073280" y="3563640"/>
            <a:ext cx="1080" cy="322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9" idx="2"/>
            <a:endCxn id="238" idx="0"/>
          </p:cNvCxnSpPr>
          <p:nvPr/>
        </p:nvCxnSpPr>
        <p:spPr>
          <a:xfrm flipV="1" rot="10800000">
            <a:off x="7073280" y="4173120"/>
            <a:ext cx="1080" cy="229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5" idx="2"/>
            <a:endCxn id="227" idx="3"/>
          </p:cNvCxnSpPr>
          <p:nvPr/>
        </p:nvCxnSpPr>
        <p:spPr>
          <a:xfrm rot="5400000">
            <a:off x="6810480" y="5163120"/>
            <a:ext cx="250200" cy="1658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150680" y="5221440"/>
            <a:ext cx="122544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featu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0"/>
            <a:endCxn id="238" idx="2"/>
          </p:cNvCxnSpPr>
          <p:nvPr/>
        </p:nvCxnSpPr>
        <p:spPr>
          <a:xfrm flipV="1" rot="16200000">
            <a:off x="7156080" y="4606200"/>
            <a:ext cx="526320" cy="691200"/>
          </a:xfrm>
          <a:prstGeom prst="bentConnector3">
            <a:avLst>
              <a:gd name="adj1" fmla="val 4982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 rot="16200000">
            <a:off x="3970080" y="2726280"/>
            <a:ext cx="1500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914400"/>
            <a:ext cx="0" cy="4648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oval volume for a workingstep may not be the same as a feature on the final workpie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en slot on the final part may be machined as a closed one, then a later profile may open it u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eature on the final part does not have the correct extent or slot end type for the actual milling op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114800"/>
            <a:ext cx="4343400" cy="1371600"/>
          </a:xfrm>
          <a:prstGeom prst="cube">
            <a:avLst>
              <a:gd name="adj" fmla="val 59722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4343400"/>
            <a:ext cx="1523880" cy="30492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952880" y="4114800"/>
            <a:ext cx="838440" cy="838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941720"/>
            <a:ext cx="76212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37320" y="4341960"/>
            <a:ext cx="838080" cy="838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73200" y="3429000"/>
            <a:ext cx="112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1840" y="5257800"/>
            <a:ext cx="145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73392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cubicBezTo>
                  <a:pt x="100" y="88"/>
                  <a:pt x="200" y="176"/>
                  <a:pt x="240" y="192"/>
                </a:cubicBezTo>
                <a:cubicBezTo>
                  <a:pt x="280" y="208"/>
                  <a:pt x="176" y="64"/>
                  <a:pt x="240" y="96"/>
                </a:cubicBezTo>
                <a:cubicBezTo>
                  <a:pt x="304" y="128"/>
                  <a:pt x="464" y="256"/>
                  <a:pt x="624" y="384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4724280"/>
            <a:ext cx="1066680" cy="533520"/>
          </a:xfrm>
          <a:custGeom>
            <a:avLst/>
            <a:gdLst/>
            <a:ahLst/>
            <a:rect l="l" t="t" r="r" b="b"/>
            <a:pathLst>
              <a:path w="672" h="336">
                <a:moveTo>
                  <a:pt x="672" y="336"/>
                </a:moveTo>
                <a:cubicBezTo>
                  <a:pt x="552" y="248"/>
                  <a:pt x="432" y="160"/>
                  <a:pt x="384" y="144"/>
                </a:cubicBezTo>
                <a:cubicBezTo>
                  <a:pt x="336" y="128"/>
                  <a:pt x="448" y="264"/>
                  <a:pt x="384" y="240"/>
                </a:cubicBezTo>
                <a:cubicBezTo>
                  <a:pt x="320" y="216"/>
                  <a:pt x="160" y="108"/>
                  <a:pt x="0" y="0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06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166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 series of steps on a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nal part features just describe the final step dim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s could machine the deep first or the shallow fir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changes the dimensions of the features that we want to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43120" y="3581280"/>
            <a:ext cx="2514600" cy="2286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20840" y="4146480"/>
            <a:ext cx="1447920" cy="121932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0" y="0"/>
                </a:moveTo>
                <a:lnTo>
                  <a:pt x="0" y="288"/>
                </a:lnTo>
                <a:lnTo>
                  <a:pt x="288" y="288"/>
                </a:lnTo>
                <a:lnTo>
                  <a:pt x="288" y="528"/>
                </a:lnTo>
                <a:lnTo>
                  <a:pt x="576" y="528"/>
                </a:lnTo>
                <a:lnTo>
                  <a:pt x="576" y="768"/>
                </a:lnTo>
                <a:lnTo>
                  <a:pt x="912" y="768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33440" y="3592080"/>
            <a:ext cx="576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691080" y="4746240"/>
            <a:ext cx="5760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41720" y="4191120"/>
            <a:ext cx="4921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30600" y="4189320"/>
            <a:ext cx="492120" cy="76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4191120"/>
            <a:ext cx="49212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95800" y="3505320"/>
            <a:ext cx="2514600" cy="2286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19600" y="4138560"/>
            <a:ext cx="1357560" cy="1177920"/>
          </a:xfrm>
          <a:custGeom>
            <a:avLst/>
            <a:gdLst/>
            <a:ahLst/>
            <a:rect l="l" t="t" r="r" b="b"/>
            <a:pathLst>
              <a:path w="855" h="742">
                <a:moveTo>
                  <a:pt x="0" y="0"/>
                </a:moveTo>
                <a:lnTo>
                  <a:pt x="0" y="285"/>
                </a:lnTo>
                <a:lnTo>
                  <a:pt x="239" y="293"/>
                </a:lnTo>
                <a:lnTo>
                  <a:pt x="239" y="533"/>
                </a:lnTo>
                <a:lnTo>
                  <a:pt x="514" y="533"/>
                </a:lnTo>
                <a:lnTo>
                  <a:pt x="510" y="742"/>
                </a:lnTo>
                <a:lnTo>
                  <a:pt x="855" y="742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638680" y="3516480"/>
            <a:ext cx="57636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043760" y="4669920"/>
            <a:ext cx="576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6579360" y="4861800"/>
            <a:ext cx="317520" cy="52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6319440" y="4271760"/>
            <a:ext cx="380880" cy="981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6089760" y="3663000"/>
            <a:ext cx="457200" cy="136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11320" y="2895480"/>
            <a:ext cx="50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8160" y="2895480"/>
            <a:ext cx="50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09800" y="2895480"/>
            <a:ext cx="50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96520" y="3573360"/>
            <a:ext cx="79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96520" y="3992400"/>
            <a:ext cx="79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96520" y="4411800"/>
            <a:ext cx="79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048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85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“in-process” features to represent the features needed by the manufactur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part features describe the end-result of manufactu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never change unless the part geometry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process features describe the part as it exists during the manufacturing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delete and replace them if the process plan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orkingstep can refer to two feat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refers to the final part feature, relates the workingstep to the end product of the workpla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also refer to an in-process feature.  If present, it is used to determine what the workingstep should remo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254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workingsteps will require in-process feat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7320" y="4419720"/>
            <a:ext cx="4343400" cy="1371600"/>
          </a:xfrm>
          <a:prstGeom prst="cube">
            <a:avLst>
              <a:gd name="adj" fmla="val 59722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7000" y="4648320"/>
            <a:ext cx="1523880" cy="30456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070520" y="4419720"/>
            <a:ext cx="838080" cy="838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0520" y="5246640"/>
            <a:ext cx="76176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854600" y="4646160"/>
            <a:ext cx="838080" cy="838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2840" y="3414600"/>
            <a:ext cx="2004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-Process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losed sl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37000" y="3352680"/>
            <a:ext cx="1523880" cy="30492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24400" y="2514600"/>
            <a:ext cx="1003320" cy="309600"/>
          </a:xfrm>
          <a:custGeom>
            <a:avLst/>
            <a:gdLst/>
            <a:ahLst/>
            <a:rect l="l" t="t" r="r" b="b"/>
            <a:pathLst>
              <a:path w="632" h="195">
                <a:moveTo>
                  <a:pt x="632" y="192"/>
                </a:moveTo>
                <a:lnTo>
                  <a:pt x="632" y="0"/>
                </a:lnTo>
                <a:lnTo>
                  <a:pt x="104" y="0"/>
                </a:lnTo>
                <a:cubicBezTo>
                  <a:pt x="0" y="15"/>
                  <a:pt x="5" y="61"/>
                  <a:pt x="5" y="93"/>
                </a:cubicBezTo>
                <a:cubicBezTo>
                  <a:pt x="5" y="125"/>
                  <a:pt x="0" y="178"/>
                  <a:pt x="104" y="195"/>
                </a:cubicBezTo>
                <a:lnTo>
                  <a:pt x="632" y="192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4360" y="2459160"/>
            <a:ext cx="1892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Part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pen sl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27920" y="5181480"/>
            <a:ext cx="76176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14360" y="4897440"/>
            <a:ext cx="1160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P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19960" y="2286000"/>
            <a:ext cx="1969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ep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 &amp; Side M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19960" y="3200400"/>
            <a:ext cx="1969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ep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 &amp; Side M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14600"/>
            <a:ext cx="16765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81120" y="2743200"/>
            <a:ext cx="129564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3733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914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cess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79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distinguish between in-process features and final part features in the AI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 classification assign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eatures are shape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are related to the product sha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part features with an explicit representation may reference geometry from the product sha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process features with an explicit representation may reference geometry from an in-process sha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with an implicit representation don’t ca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930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Features are Attac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760" y="1072080"/>
            <a:ext cx="1901880" cy="143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2880" y="404496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880" y="5069160"/>
            <a:ext cx="172980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ually an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p shape r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6040" y="298260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4" idx="2"/>
          </p:cNvCxnSpPr>
          <p:nvPr/>
        </p:nvCxnSpPr>
        <p:spPr>
          <a:xfrm flipV="1">
            <a:off x="1577520" y="2523600"/>
            <a:ext cx="1080" cy="439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5" idx="0"/>
            <a:endCxn id="107" idx="2"/>
          </p:cNvCxnSpPr>
          <p:nvPr/>
        </p:nvCxnSpPr>
        <p:spPr>
          <a:xfrm flipV="1" rot="16200000">
            <a:off x="1349640" y="3808440"/>
            <a:ext cx="457920" cy="2520"/>
          </a:xfrm>
          <a:prstGeom prst="bentConnector3">
            <a:avLst>
              <a:gd name="adj1" fmla="val 50983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5" idx="2"/>
            <a:endCxn id="106" idx="0"/>
          </p:cNvCxnSpPr>
          <p:nvPr/>
        </p:nvCxnSpPr>
        <p:spPr>
          <a:xfrm flipV="1" rot="10800000">
            <a:off x="1578960" y="4508280"/>
            <a:ext cx="1080" cy="55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1" name=""/>
          <p:cNvGrpSpPr/>
          <p:nvPr/>
        </p:nvGrpSpPr>
        <p:grpSpPr>
          <a:xfrm>
            <a:off x="6466680" y="2818800"/>
            <a:ext cx="1901880" cy="3592440"/>
            <a:chOff x="6466680" y="2818800"/>
            <a:chExt cx="1901880" cy="3592440"/>
          </a:xfrm>
        </p:grpSpPr>
        <p:sp>
          <p:nvSpPr>
            <p:cNvPr id="112" name=""/>
            <p:cNvSpPr/>
            <p:nvPr/>
          </p:nvSpPr>
          <p:spPr>
            <a:xfrm>
              <a:off x="6743160" y="4537080"/>
              <a:ext cx="135324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pe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4160" y="5327640"/>
              <a:ext cx="172836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pe 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66680" y="3649320"/>
              <a:ext cx="1901880" cy="57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12" idx="0"/>
              <a:endCxn id="114" idx="2"/>
            </p:cNvCxnSpPr>
            <p:nvPr/>
          </p:nvCxnSpPr>
          <p:spPr>
            <a:xfrm flipV="1" rot="16200000">
              <a:off x="7277400" y="4387680"/>
              <a:ext cx="283320" cy="2160"/>
            </a:xfrm>
            <a:prstGeom prst="bentConnector3">
              <a:avLst>
                <a:gd name="adj1" fmla="val 5165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13" idx="0"/>
            </p:cNvCxnSpPr>
            <p:nvPr/>
          </p:nvCxnSpPr>
          <p:spPr>
            <a:xfrm rot="5400000">
              <a:off x="7258320" y="5160240"/>
              <a:ext cx="321120" cy="2160"/>
            </a:xfrm>
            <a:prstGeom prst="bentConnector3">
              <a:avLst>
                <a:gd name="adj1" fmla="val 4994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4" idx="0"/>
            </p:cNvCxnSpPr>
            <p:nvPr/>
          </p:nvCxnSpPr>
          <p:spPr>
            <a:xfrm flipV="1" rot="16200000">
              <a:off x="6656760" y="2867040"/>
              <a:ext cx="810360" cy="713520"/>
            </a:xfrm>
            <a:prstGeom prst="bentConnector3">
              <a:avLst>
                <a:gd name="adj1" fmla="val 49377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6861240" y="5934240"/>
              <a:ext cx="1044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x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50600" y="1219320"/>
            <a:ext cx="4903200" cy="2052720"/>
            <a:chOff x="2550600" y="1219320"/>
            <a:chExt cx="4903200" cy="2052720"/>
          </a:xfrm>
        </p:grpSpPr>
        <p:sp>
          <p:nvSpPr>
            <p:cNvPr id="120" name=""/>
            <p:cNvSpPr/>
            <p:nvPr/>
          </p:nvSpPr>
          <p:spPr>
            <a:xfrm>
              <a:off x="5157000" y="1230840"/>
              <a:ext cx="2296800" cy="143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e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x inst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 instanced_featu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eature_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b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0" idx="1"/>
              <a:endCxn id="107" idx="3"/>
            </p:cNvCxnSpPr>
            <p:nvPr/>
          </p:nvCxnSpPr>
          <p:spPr>
            <a:xfrm flipV="1" rot="10800000">
              <a:off x="2550240" y="1945800"/>
              <a:ext cx="2583360" cy="1326240"/>
            </a:xfrm>
            <a:prstGeom prst="bentConnector3">
              <a:avLst>
                <a:gd name="adj1" fmla="val 49965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3350160" y="1219320"/>
              <a:ext cx="12931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ape_asp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f_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739960" y="2819160"/>
            <a:ext cx="3344040" cy="3592080"/>
            <a:chOff x="2739960" y="2819160"/>
            <a:chExt cx="3344040" cy="3592080"/>
          </a:xfrm>
        </p:grpSpPr>
        <p:sp>
          <p:nvSpPr>
            <p:cNvPr id="124" name=""/>
            <p:cNvSpPr/>
            <p:nvPr/>
          </p:nvSpPr>
          <p:spPr>
            <a:xfrm>
              <a:off x="4458960" y="4535640"/>
              <a:ext cx="135324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pe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69600" y="5327640"/>
              <a:ext cx="172836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pe 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para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82120" y="3647880"/>
              <a:ext cx="1901880" cy="57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0"/>
              <a:endCxn id="126" idx="2"/>
            </p:cNvCxnSpPr>
            <p:nvPr/>
          </p:nvCxnSpPr>
          <p:spPr>
            <a:xfrm flipV="1" rot="16200000">
              <a:off x="4992840" y="4386240"/>
              <a:ext cx="283320" cy="2160"/>
            </a:xfrm>
            <a:prstGeom prst="bentConnector3">
              <a:avLst>
                <a:gd name="adj1" fmla="val 5165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4" idx="2"/>
              <a:endCxn id="125" idx="0"/>
            </p:cNvCxnSpPr>
            <p:nvPr/>
          </p:nvCxnSpPr>
          <p:spPr>
            <a:xfrm rot="5400000">
              <a:off x="4973040" y="5159160"/>
              <a:ext cx="322920" cy="2160"/>
            </a:xfrm>
            <a:prstGeom prst="bentConnector3">
              <a:avLst>
                <a:gd name="adj1" fmla="val 49665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6" idx="0"/>
            </p:cNvCxnSpPr>
            <p:nvPr/>
          </p:nvCxnSpPr>
          <p:spPr>
            <a:xfrm flipH="1" flipV="1" rot="5400000">
              <a:off x="5096160" y="2856240"/>
              <a:ext cx="808560" cy="734040"/>
            </a:xfrm>
            <a:prstGeom prst="bentConnector3">
              <a:avLst>
                <a:gd name="adj1" fmla="val 49309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2739960" y="4419720"/>
              <a:ext cx="166212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ther 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spects describ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spects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endCxn id="126" idx="1"/>
            </p:cNvCxnSpPr>
            <p:nvPr/>
          </p:nvCxnSpPr>
          <p:spPr>
            <a:xfrm flipV="1">
              <a:off x="3580920" y="3936240"/>
              <a:ext cx="578520" cy="407160"/>
            </a:xfrm>
            <a:prstGeom prst="bentConnector3">
              <a:avLst>
                <a:gd name="adj1" fmla="val 105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4570560" y="5934240"/>
              <a:ext cx="1044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m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91120" y="322056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438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2438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791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n-Process Features are Called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3440" y="1696680"/>
            <a:ext cx="221904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ins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nstanced_fe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ound_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6160" y="409896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960" y="4891320"/>
            <a:ext cx="17283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0"/>
            <a:endCxn id="133" idx="2"/>
          </p:cNvCxnSpPr>
          <p:nvPr/>
        </p:nvCxnSpPr>
        <p:spPr>
          <a:xfrm flipV="1">
            <a:off x="1542600" y="3819600"/>
            <a:ext cx="1080" cy="2732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9" idx="0"/>
          </p:cNvCxnSpPr>
          <p:nvPr/>
        </p:nvCxnSpPr>
        <p:spPr>
          <a:xfrm flipV="1" rot="10800000">
            <a:off x="1542240" y="4562280"/>
            <a:ext cx="1080" cy="322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5520" y="5784840"/>
            <a:ext cx="16963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_placement_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orient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9" idx="2"/>
            <a:endCxn id="142" idx="0"/>
          </p:cNvCxnSpPr>
          <p:nvPr/>
        </p:nvCxnSpPr>
        <p:spPr>
          <a:xfrm>
            <a:off x="1542600" y="5354280"/>
            <a:ext cx="2520" cy="424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4129200" y="2122920"/>
            <a:ext cx="352512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ed_classification_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4" idx="1"/>
            <a:endCxn id="137" idx="3"/>
          </p:cNvCxnSpPr>
          <p:nvPr/>
        </p:nvCxnSpPr>
        <p:spPr>
          <a:xfrm rot="10800000">
            <a:off x="2674080" y="2289960"/>
            <a:ext cx="14313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813120" y="3162600"/>
            <a:ext cx="1680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in-pro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89680" y="3162600"/>
            <a:ext cx="209700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ification_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feature catego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4" idx="1"/>
            <a:endCxn id="149" idx="3"/>
          </p:cNvCxnSpPr>
          <p:nvPr/>
        </p:nvCxnSpPr>
        <p:spPr>
          <a:xfrm rot="10800000">
            <a:off x="2647080" y="1181880"/>
            <a:ext cx="1458360" cy="1108800"/>
          </a:xfrm>
          <a:prstGeom prst="bentConnector3">
            <a:avLst>
              <a:gd name="adj1" fmla="val 4965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1367640" y="1039680"/>
            <a:ext cx="1284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4" idx="1"/>
            <a:endCxn id="151" idx="3"/>
          </p:cNvCxnSpPr>
          <p:nvPr/>
        </p:nvCxnSpPr>
        <p:spPr>
          <a:xfrm rot="10800000">
            <a:off x="2647080" y="1437480"/>
            <a:ext cx="1458360" cy="853200"/>
          </a:xfrm>
          <a:prstGeom prst="bentConnector3">
            <a:avLst>
              <a:gd name="adj1" fmla="val 4965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4" idx="1"/>
            <a:endCxn id="153" idx="3"/>
          </p:cNvCxnSpPr>
          <p:nvPr/>
        </p:nvCxnSpPr>
        <p:spPr>
          <a:xfrm rot="10800000">
            <a:off x="2647080" y="924840"/>
            <a:ext cx="1458360" cy="1365840"/>
          </a:xfrm>
          <a:prstGeom prst="bentConnector3">
            <a:avLst>
              <a:gd name="adj1" fmla="val 4965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316240" y="782640"/>
            <a:ext cx="331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16240" y="1295280"/>
            <a:ext cx="331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4498920"/>
            <a:ext cx="48765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n the final part do not need a classification, but if desired, they can have one of “fin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33" idx="0"/>
            <a:endCxn id="137" idx="2"/>
          </p:cNvCxnSpPr>
          <p:nvPr/>
        </p:nvCxnSpPr>
        <p:spPr>
          <a:xfrm flipV="1">
            <a:off x="1542600" y="2905200"/>
            <a:ext cx="1080" cy="29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00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Working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86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relate a workingstep to an in-process featu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ame method as for any other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must be related to a final fe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also be related to an in-process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are to manufacture feat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(property_process) related to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21:12:54Z</dcterms:created>
  <dc:creator>David Loffredo</dc:creator>
  <dc:description/>
  <dc:language>en-US</dc:language>
  <cp:lastModifiedBy>hardwick</cp:lastModifiedBy>
  <dcterms:modified xsi:type="dcterms:W3CDTF">2001-08-22T22:49:41Z</dcterms:modified>
  <cp:revision>26</cp:revision>
  <dc:subject/>
  <dc:title>In-Process Features</dc:title>
</cp:coreProperties>
</file>