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San Francisco N001 2001-06-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256AEBD9-C636-43DA-8A20-E32124B9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Manufacturing (1/2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an Fran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4649 submitted for FDIS by S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AIM published for fir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4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PWI for G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- manufacturing (2/2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Fuku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thru of AP-238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tus of AP-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tus of AP-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tus of ISO 146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tus of ISO 133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1-10-01T05:08:38Z</dcterms:modified>
  <cp:revision>139</cp:revision>
  <dc:subject/>
  <dc:title>WG3 Presentation to SC4 Opening Plenary</dc:title>
</cp:coreProperties>
</file>