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3BA-993A-4ABD-8385-14646A039C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3008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3:00 to 15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AP-224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15:3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-NC 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 8:00 to 17: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T24 Agenda Contin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0:30 – 12:00 (joint with Implementor’s For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nteroperability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3:00 – 15: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Wire EDM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15:3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facturing Task Fo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rsday 08:00 – 17: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3T19:14:00Z</dcterms:modified>
  <cp:revision>126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