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D24-63E7-4CB6-A85D-588E23F7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492-1100-462B-A9A8-A4378A68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DD1-9889-4ACE-BFDB-E8CF4F2D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3D2-33F0-4E0A-87DA-55753FD4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45A-6428-4E26-AF3A-7F656BA0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570-EB80-44D8-B4EA-25E32231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34D-D07C-48BD-9A5D-19B0BD5B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001-BE91-4D38-8006-2A957DB5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139-16D5-4369-9EA7-E59F4654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A66-3375-41D2-9041-37A13BEA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E53-0759-4A8B-8188-579603BF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468-1895-49D6-832B-57E2494D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91D0-BA7B-4963-9FF8-C1B947B37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 TC29 WG34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Frans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 of ISO 133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al problems have been identified and acce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DIS draft will rest or be withdra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has been reorganized with a Task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sk force will provide a new part 1 draft by October containing objectives, scope and the global parts of the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monization with STEP and P-lib will be highligh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have a standard in a computer processabl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y using STEP and P-LIB formal information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boundary between ISO 13399 standard and ISO TC184/SC4 and ISO 14649 to be clarified in liaison with manufacturing project in TC184/SC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arify the way the standard will handle 2D and 3D representation of to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view the structure to avoid multiple parts to be revised when new tool families  are  implem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art 1 dealing with general information about inserts, tool families, adapters and accesso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ther parts with detailed information for each of the above catego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to be achieve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tructure shall allow one tool family to be described without waiting for the other tool families to be rea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ubsequent revisions of each part shall ensure upward compat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use as much as possible of the current ISO 13399 attribu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LIVERAB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part 1 as advanced as possible with a global idea of what the standard will look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global idea of the organisation and links of the other parts and a sketch of another part than Part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rget dates for the first parts of  the standard to be publ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ARGET DATE : OCTOBER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52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d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133720"/>
            <a:ext cx="830592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ckhol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0 - 27 Information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8 - 30 Taskforc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31 WG34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TC29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Main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523880"/>
            <a:ext cx="167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52388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ol Fami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1523880"/>
            <a:ext cx="19051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0481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048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gt; 1 Coupl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124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-1 Coupl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4065" t="14584" r="37502" b="36462"/>
          <a:stretch/>
        </p:blipFill>
        <p:spPr>
          <a:xfrm>
            <a:off x="914400" y="3809880"/>
            <a:ext cx="1593720" cy="1208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4065" t="14584" r="12500" b="25004"/>
          <a:stretch/>
        </p:blipFill>
        <p:spPr>
          <a:xfrm>
            <a:off x="2743200" y="5410080"/>
            <a:ext cx="1752480" cy="10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4065" t="15627" r="24220" b="27086"/>
          <a:stretch/>
        </p:blipFill>
        <p:spPr>
          <a:xfrm flipH="1">
            <a:off x="2590920" y="3886200"/>
            <a:ext cx="2063520" cy="1436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4065" t="14584" r="28126" b="6251"/>
          <a:stretch/>
        </p:blipFill>
        <p:spPr>
          <a:xfrm>
            <a:off x="4952880" y="3733920"/>
            <a:ext cx="1557360" cy="1600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2057400"/>
            <a:ext cx="1447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are Parts Acces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0574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erts and Solid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2057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ert carriers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1523880"/>
            <a:ext cx="1904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es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20574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ert carriers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parts of the cutting too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218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20:29:18Z</dcterms:created>
  <dc:creator>DS2176</dc:creator>
  <dc:description/>
  <dc:language>en-US</dc:language>
  <cp:lastModifiedBy>hardwick</cp:lastModifiedBy>
  <dcterms:modified xsi:type="dcterms:W3CDTF">2001-06-26T14:15:11Z</dcterms:modified>
  <cp:revision>9</cp:revision>
  <dc:subject/>
  <dc:title>ISO TC184 SC4</dc:title>
</cp:coreProperties>
</file>