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4A3-838E-458F-A96B-56BD60ECE5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San Francisco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3016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 EDM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M machines AP-219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9 to describe input and output data for C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to describe control of CMM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 and ISW Turning models to be harm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SC1 Frankfur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Units needs to be finalized in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will change vote on 14649-10 DIS from “NO” to “YES” when acceptable text on units is in a draft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s remain on “In-process” features and machine require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4T22:39:47Z</dcterms:modified>
  <cp:revision>130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