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1952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685680" y="0"/>
            <a:ext cx="274644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52400" y="753840"/>
            <a:ext cx="49262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9353160"/>
            <a:ext cx="281952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685680" y="9353160"/>
            <a:ext cx="274644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CDE67C8-C36E-4D70-A87F-34B5716FB5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52400" y="754200"/>
            <a:ext cx="4926240" cy="36939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esides generation of part program, SFP can verify a part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the difference of this image and th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no boundary planes or surface of a part in this im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only features in this image unlik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D4FB-0B60-4B78-8962-345A3C52B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D4B3-12E7-4B85-8A11-EAA641C0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74BB-B5FF-4CA8-9CAB-FB4406BAB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1B54-0D87-444C-8D59-6827B2379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0ED9-8324-4120-9BF3-586555C4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3782-A0D0-4ABC-89B0-75C5B0F6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27AF5-050F-4B51-AAD2-544B161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443FF-1C50-45B5-9A3D-F919610D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85DAE-A987-47A6-8593-C0290C3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0F7D2-476A-4381-A686-30F3BBF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CAF89-8646-4A85-9A83-500B96FD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61B-A9B0-4DB8-A2C9-6553FFE66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6C904-028A-4E26-8C2A-68CCBF6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37534-5428-4F5B-8211-9DAA14A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1BB97-297C-4075-87AB-FBB0F9E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3714-82C0-49BC-86C9-936707C1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1A19-C527-4B2F-9559-6AD2B99E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4369-6B15-40E1-BAFE-B1F37087C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6F66-F253-4A7C-B129-D2E794F2A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DC7D-77BB-4D7A-BE3D-B97A3596A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A047-B322-4E8B-A3F5-54064656F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BD36-D475-4E3E-9549-5CABF2C0C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E3EA-9AE1-4DB6-A2F1-9177B986A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2936-16DC-4BD4-8691-766D00208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762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arge_postech_icon" descr=""/>
          <p:cNvPicPr/>
          <p:nvPr/>
        </p:nvPicPr>
        <p:blipFill>
          <a:blip r:embed="rId2"/>
          <a:stretch/>
        </p:blipFill>
        <p:spPr>
          <a:xfrm>
            <a:off x="8210520" y="76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LabLogo1-1-3-1" descr=""/>
          <p:cNvPicPr/>
          <p:nvPr/>
        </p:nvPicPr>
        <p:blipFill>
          <a:blip r:embed="rId3"/>
          <a:stretch/>
        </p:blipFill>
        <p:spPr>
          <a:xfrm>
            <a:off x="152280" y="12060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351-ED10-41FB-A12A-A0471EEFA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90720" y="647712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7640" y="64450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378-71F9-4731-9532-B7FEDEC5886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arge_postech_icon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LabLogo1-1-3-1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pic>
        <p:nvPicPr>
          <p:cNvPr id="50" name="large_postech_icon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LabLogo1-1-3-1" descr=""/>
          <p:cNvPicPr/>
          <p:nvPr/>
        </p:nvPicPr>
        <p:blipFill>
          <a:blip r:embed="rId5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990720"/>
            <a:ext cx="5790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rea STEP-NC Prototyp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276720"/>
            <a:ext cx="6400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ational Research Lab for STEP-NC Technology (NRL-S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chool of Mechanical &amp; Industrial Enginee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OSTECH, KOREA (http://www.step-nc.co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CNC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Open modular CN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04920" y="914400"/>
            <a:ext cx="8467560" cy="5483160"/>
            <a:chOff x="304920" y="914400"/>
            <a:chExt cx="8467560" cy="5483160"/>
          </a:xfrm>
        </p:grpSpPr>
        <p:sp>
          <p:nvSpPr>
            <p:cNvPr id="533" name=""/>
            <p:cNvSpPr/>
            <p:nvPr/>
          </p:nvSpPr>
          <p:spPr>
            <a:xfrm>
              <a:off x="4140360" y="5675040"/>
              <a:ext cx="82044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FIPO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063880" y="5182920"/>
              <a:ext cx="72360" cy="233280"/>
              <a:chOff x="2063880" y="5182920"/>
              <a:chExt cx="72360" cy="233280"/>
            </a:xfrm>
          </p:grpSpPr>
          <p:sp>
            <p:nvSpPr>
              <p:cNvPr id="535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63880" y="5182920"/>
                <a:ext cx="723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63880" y="5212080"/>
                <a:ext cx="723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967120" y="5197320"/>
              <a:ext cx="74160" cy="231480"/>
              <a:chOff x="2967120" y="5197320"/>
              <a:chExt cx="74160" cy="231480"/>
            </a:xfrm>
          </p:grpSpPr>
          <p:sp>
            <p:nvSpPr>
              <p:cNvPr id="540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67120" y="5197320"/>
                <a:ext cx="74160" cy="5760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67120" y="5226120"/>
                <a:ext cx="7416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122720" y="5182920"/>
              <a:ext cx="74160" cy="233280"/>
              <a:chOff x="4122720" y="5182920"/>
              <a:chExt cx="74160" cy="233280"/>
            </a:xfrm>
          </p:grpSpPr>
          <p:sp>
            <p:nvSpPr>
              <p:cNvPr id="545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22720" y="5182920"/>
                <a:ext cx="741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22720" y="5212080"/>
                <a:ext cx="741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475160" y="5429160"/>
              <a:ext cx="77400" cy="318600"/>
              <a:chOff x="4475160" y="5429160"/>
              <a:chExt cx="77400" cy="31860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475160" y="5429160"/>
                <a:ext cx="77400" cy="795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75160" y="5468760"/>
                <a:ext cx="77400" cy="396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067360" y="5665680"/>
              <a:ext cx="669960" cy="41112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172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URB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25920" y="5429160"/>
              <a:ext cx="7812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35240" y="5440320"/>
              <a:ext cx="7776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31200" y="914400"/>
              <a:ext cx="147600" cy="28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80" y="4525920"/>
              <a:ext cx="5567400" cy="16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598760" y="4773600"/>
              <a:ext cx="882000" cy="466200"/>
              <a:chOff x="1598760" y="4773600"/>
              <a:chExt cx="882000" cy="466200"/>
            </a:xfrm>
          </p:grpSpPr>
          <p:sp>
            <p:nvSpPr>
              <p:cNvPr id="561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  <a:lnTo>
                      <a:pt x="137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0960" y="4773600"/>
                <a:ext cx="109800" cy="466200"/>
              </a:xfrm>
              <a:custGeom>
                <a:avLst/>
                <a:gdLst/>
                <a:ahLst/>
                <a:rect l="l" t="t" r="r" b="b"/>
                <a:pathLst>
                  <a:path w="137" h="546">
                    <a:moveTo>
                      <a:pt x="0" y="136"/>
                    </a:moveTo>
                    <a:lnTo>
                      <a:pt x="137" y="0"/>
                    </a:lnTo>
                    <a:lnTo>
                      <a:pt x="137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70960" y="488952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666800" y="496728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r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7521480" y="4898880"/>
              <a:ext cx="924120" cy="7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6419880" y="5238720"/>
              <a:ext cx="1179000" cy="101160"/>
              <a:chOff x="6419880" y="5238720"/>
              <a:chExt cx="1179000" cy="101160"/>
            </a:xfrm>
          </p:grpSpPr>
          <p:sp>
            <p:nvSpPr>
              <p:cNvPr id="570" name=""/>
              <p:cNvSpPr/>
              <p:nvPr/>
            </p:nvSpPr>
            <p:spPr>
              <a:xfrm>
                <a:off x="6512040" y="5289120"/>
                <a:ext cx="99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19880" y="5238720"/>
                <a:ext cx="97200" cy="10116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19" y="0"/>
                    </a:moveTo>
                    <a:lnTo>
                      <a:pt x="0" y="60"/>
                    </a:lnTo>
                    <a:lnTo>
                      <a:pt x="119" y="11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03840" y="5238720"/>
                <a:ext cx="95040" cy="1011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0" y="119"/>
                    </a:moveTo>
                    <a:lnTo>
                      <a:pt x="117" y="60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31640" y="1315800"/>
              <a:ext cx="955440" cy="933120"/>
              <a:chOff x="431640" y="1315800"/>
              <a:chExt cx="955440" cy="93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167120" y="131580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67120" y="1549800"/>
                <a:ext cx="180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7640" y="17301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SO 1464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3120" y="1885680"/>
              <a:ext cx="38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s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936720" y="2328840"/>
              <a:ext cx="882360" cy="933120"/>
              <a:chOff x="936720" y="2328840"/>
              <a:chExt cx="882360" cy="933120"/>
            </a:xfrm>
          </p:grpSpPr>
          <p:sp>
            <p:nvSpPr>
              <p:cNvPr id="583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97320" y="2328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9732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186560" y="274140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5000" y="289692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chedu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755720" y="1315800"/>
              <a:ext cx="956880" cy="933120"/>
              <a:chOff x="1755720" y="1315800"/>
              <a:chExt cx="956880" cy="933120"/>
            </a:xfrm>
          </p:grpSpPr>
          <p:sp>
            <p:nvSpPr>
              <p:cNvPr id="592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1200" y="131580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91200" y="1549800"/>
                <a:ext cx="144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814760" y="168912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08800" y="1730160"/>
              <a:ext cx="4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02680" y="168912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44640" y="184464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sp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2320" y="2093760"/>
              <a:ext cx="3700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824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835440" y="4755960"/>
              <a:ext cx="736200" cy="466560"/>
              <a:chOff x="3835440" y="4755960"/>
              <a:chExt cx="736200" cy="466560"/>
            </a:xfrm>
          </p:grpSpPr>
          <p:sp>
            <p:nvSpPr>
              <p:cNvPr id="605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60400" y="4755960"/>
                <a:ext cx="11124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0400" y="487224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866040" y="496224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CC/D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679840" y="4755960"/>
              <a:ext cx="883800" cy="466560"/>
              <a:chOff x="2679840" y="4755960"/>
              <a:chExt cx="883800" cy="466560"/>
            </a:xfrm>
          </p:grpSpPr>
          <p:sp>
            <p:nvSpPr>
              <p:cNvPr id="613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2040" y="4755960"/>
                <a:ext cx="11160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52040" y="4872240"/>
                <a:ext cx="180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2921040" y="488628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oug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61200" y="5041800"/>
              <a:ext cx="7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986360" y="5165640"/>
              <a:ext cx="72720" cy="232920"/>
              <a:chOff x="4986360" y="5165640"/>
              <a:chExt cx="72720" cy="232920"/>
            </a:xfrm>
          </p:grpSpPr>
          <p:sp>
            <p:nvSpPr>
              <p:cNvPr id="622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86360" y="5165640"/>
                <a:ext cx="72720" cy="579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986360" y="5194440"/>
                <a:ext cx="7272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04920" y="3652560"/>
              <a:ext cx="7372080" cy="31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96440" y="368280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CORBA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743280" y="2249280"/>
              <a:ext cx="956880" cy="934920"/>
              <a:chOff x="3743280" y="2249280"/>
              <a:chExt cx="956880" cy="934920"/>
            </a:xfrm>
          </p:grpSpPr>
          <p:sp>
            <p:nvSpPr>
              <p:cNvPr id="629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78760" y="2249280"/>
                <a:ext cx="22140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47876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861360" y="25858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CK/Ax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5920" y="27414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onitoring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344680" y="2328840"/>
              <a:ext cx="956880" cy="933120"/>
              <a:chOff x="2344680" y="2328840"/>
              <a:chExt cx="956880" cy="933120"/>
            </a:xfrm>
          </p:grpSpPr>
          <p:sp>
            <p:nvSpPr>
              <p:cNvPr id="638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80160" y="232884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8016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565720" y="270036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74640" y="2855880"/>
              <a:ext cx="53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5013360" y="2249280"/>
              <a:ext cx="956880" cy="934920"/>
              <a:chOff x="5013360" y="2249280"/>
              <a:chExt cx="956880" cy="934920"/>
            </a:xfrm>
          </p:grpSpPr>
          <p:sp>
            <p:nvSpPr>
              <p:cNvPr id="647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50280" y="2249280"/>
                <a:ext cx="21996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5028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91120" y="2508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am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3040" y="266364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(tool, NCK..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25040" y="28191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i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79960" y="5852880"/>
              <a:ext cx="1122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5720" y="616896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NCK &amp; PLC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93680" y="310644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960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0280" y="2249280"/>
              <a:ext cx="72720" cy="1559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41280" y="3262320"/>
              <a:ext cx="7308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67160" y="3106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272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78200" y="2093760"/>
              <a:ext cx="3682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9376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35480" y="302868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5140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62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12960" y="3262320"/>
              <a:ext cx="73080" cy="39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5800" y="2249280"/>
              <a:ext cx="712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63960" y="302868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8132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1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478400" y="1239840"/>
              <a:ext cx="956880" cy="933120"/>
              <a:chOff x="4478400" y="1239840"/>
              <a:chExt cx="956880" cy="933120"/>
            </a:xfrm>
          </p:grpSpPr>
          <p:sp>
            <p:nvSpPr>
              <p:cNvPr id="675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5320" y="123984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1532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556160" y="15793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mergenc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2920" y="17348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and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00520" y="2017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1644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48120" y="2173320"/>
              <a:ext cx="71640" cy="14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154320" y="1239840"/>
              <a:ext cx="956880" cy="933120"/>
              <a:chOff x="3154320" y="1239840"/>
              <a:chExt cx="956880" cy="933120"/>
            </a:xfrm>
          </p:grpSpPr>
          <p:sp>
            <p:nvSpPr>
              <p:cNvPr id="687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9440" y="1239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8944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3391200" y="15714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33160" y="1726920"/>
              <a:ext cx="58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6440" y="2017440"/>
              <a:ext cx="3686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092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22600" y="2173320"/>
              <a:ext cx="73080" cy="155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13280" y="1293840"/>
              <a:ext cx="932040" cy="90324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Verdana"/>
                </a:rPr>
                <a:t>PosSF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87880" y="2033640"/>
              <a:ext cx="389160" cy="163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46920" y="4773600"/>
              <a:ext cx="387360" cy="1230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/O Boar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6454800" y="2227320"/>
              <a:ext cx="929880" cy="964800"/>
              <a:chOff x="6454800" y="2227320"/>
              <a:chExt cx="929880" cy="964800"/>
            </a:xfrm>
          </p:grpSpPr>
          <p:sp>
            <p:nvSpPr>
              <p:cNvPr id="702" name=""/>
              <p:cNvSpPr/>
              <p:nvPr/>
            </p:nvSpPr>
            <p:spPr>
              <a:xfrm>
                <a:off x="6454800" y="2227320"/>
                <a:ext cx="929880" cy="96480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000000"/>
                    </a:solidFill>
                    <a:latin typeface="Verdana"/>
                  </a:rPr>
                  <a:t>PosTPG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9960" y="3016800"/>
                <a:ext cx="387360" cy="175320"/>
              </a:xfrm>
              <a:prstGeom prst="rect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API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6129360" y="2187360"/>
              <a:ext cx="730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50000" y="3195360"/>
              <a:ext cx="73080" cy="468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96320" y="198108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96320" y="288432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96320" y="107784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oolpat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08840" y="133488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08840" y="2238120"/>
              <a:ext cx="136440" cy="2876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08840" y="313200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77000" y="1438200"/>
              <a:ext cx="231840" cy="81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77000" y="2330280"/>
              <a:ext cx="231840" cy="8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77000" y="3233520"/>
              <a:ext cx="231840" cy="8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1040" y="4937040"/>
              <a:ext cx="155880" cy="903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27520" y="4711680"/>
              <a:ext cx="698400" cy="492120"/>
            </a:xfrm>
            <a:prstGeom prst="cube">
              <a:avLst>
                <a:gd name="adj" fmla="val 30902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4336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ook ahea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17840" y="5408640"/>
              <a:ext cx="77760" cy="32832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5720" y="4957560"/>
              <a:ext cx="932040" cy="882720"/>
            </a:xfrm>
            <a:prstGeom prst="cube">
              <a:avLst>
                <a:gd name="adj" fmla="val 9884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RB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68440" y="5348160"/>
              <a:ext cx="4422600" cy="163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8080" y="5049720"/>
              <a:ext cx="387360" cy="246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03320" y="3930480"/>
              <a:ext cx="77760" cy="1149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9739-7224-4F85-A016-EE0365621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 Plat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93720" y="3462480"/>
            <a:ext cx="6415200" cy="949320"/>
            <a:chOff x="693720" y="3462480"/>
            <a:chExt cx="6415200" cy="949320"/>
          </a:xfrm>
        </p:grpSpPr>
        <p:sp>
          <p:nvSpPr>
            <p:cNvPr id="725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ad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97640" y="346248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7b2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97640" y="4071960"/>
              <a:ext cx="1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439080" y="407988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LA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93720" y="3065400"/>
            <a:ext cx="2898720" cy="988560"/>
            <a:chOff x="693720" y="3065400"/>
            <a:chExt cx="2898720" cy="988560"/>
          </a:xfrm>
        </p:grpSpPr>
        <p:sp>
          <p:nvSpPr>
            <p:cNvPr id="733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86200" y="3065400"/>
              <a:ext cx="605880" cy="98856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86200" y="3700080"/>
              <a:ext cx="10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787040" y="372420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114800" y="3117960"/>
            <a:ext cx="1781280" cy="949320"/>
            <a:chOff x="4114800" y="3117960"/>
            <a:chExt cx="1781280" cy="949320"/>
          </a:xfrm>
        </p:grpSpPr>
        <p:sp>
          <p:nvSpPr>
            <p:cNvPr id="741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6600" y="3117960"/>
              <a:ext cx="6094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6600" y="3727800"/>
              <a:ext cx="144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651200" y="373536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93720" y="2760840"/>
            <a:ext cx="2898720" cy="985320"/>
            <a:chOff x="693720" y="2760840"/>
            <a:chExt cx="2898720" cy="985320"/>
          </a:xfrm>
        </p:grpSpPr>
        <p:sp>
          <p:nvSpPr>
            <p:cNvPr id="749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86200" y="2760840"/>
              <a:ext cx="605880" cy="985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86200" y="3393720"/>
              <a:ext cx="108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223640" y="34434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254560" y="3117960"/>
            <a:ext cx="1854360" cy="949320"/>
            <a:chOff x="5254560" y="3117960"/>
            <a:chExt cx="1854360" cy="949320"/>
          </a:xfrm>
        </p:grpSpPr>
        <p:sp>
          <p:nvSpPr>
            <p:cNvPr id="757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97640" y="311796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7640" y="3727800"/>
              <a:ext cx="180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443560" y="3735360"/>
            <a:ext cx="104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I/O Boar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114800" y="2773440"/>
            <a:ext cx="2138400" cy="961920"/>
            <a:chOff x="4114800" y="2773440"/>
            <a:chExt cx="2138400" cy="961920"/>
          </a:xfrm>
        </p:grpSpPr>
        <p:sp>
          <p:nvSpPr>
            <p:cNvPr id="765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  <a:lnTo>
                    <a:pt x="778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5800" y="2773440"/>
              <a:ext cx="617400" cy="961920"/>
            </a:xfrm>
            <a:custGeom>
              <a:avLst/>
              <a:gdLst/>
              <a:ahLst/>
              <a:rect l="l" t="t" r="r" b="b"/>
              <a:pathLst>
                <a:path w="779" h="1211">
                  <a:moveTo>
                    <a:pt x="0" y="778"/>
                  </a:moveTo>
                  <a:lnTo>
                    <a:pt x="779" y="0"/>
                  </a:lnTo>
                  <a:lnTo>
                    <a:pt x="779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3580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213080" y="34020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611680" y="2773440"/>
            <a:ext cx="1496880" cy="961920"/>
            <a:chOff x="5611680" y="2773440"/>
            <a:chExt cx="1496880" cy="961920"/>
          </a:xfrm>
        </p:grpSpPr>
        <p:sp>
          <p:nvSpPr>
            <p:cNvPr id="773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  <a:lnTo>
                    <a:pt x="779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89360" y="2773440"/>
              <a:ext cx="619200" cy="961920"/>
            </a:xfrm>
            <a:custGeom>
              <a:avLst/>
              <a:gdLst/>
              <a:ahLst/>
              <a:rect l="l" t="t" r="r" b="b"/>
              <a:pathLst>
                <a:path w="778" h="1211">
                  <a:moveTo>
                    <a:pt x="0" y="778"/>
                  </a:moveTo>
                  <a:lnTo>
                    <a:pt x="778" y="0"/>
                  </a:lnTo>
                  <a:lnTo>
                    <a:pt x="778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8936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5813640" y="3416400"/>
            <a:ext cx="41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TX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4953960" y="2722680"/>
            <a:ext cx="45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CK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6751800" y="3503520"/>
            <a:ext cx="641160" cy="284400"/>
          </a:xfrm>
          <a:custGeom>
            <a:avLst/>
            <a:gdLst/>
            <a:ahLst/>
            <a:rect l="l" t="t" r="r" b="b"/>
            <a:pathLst>
              <a:path w="808" h="358">
                <a:moveTo>
                  <a:pt x="606" y="0"/>
                </a:moveTo>
                <a:lnTo>
                  <a:pt x="606" y="89"/>
                </a:lnTo>
                <a:lnTo>
                  <a:pt x="0" y="89"/>
                </a:lnTo>
                <a:lnTo>
                  <a:pt x="0" y="269"/>
                </a:lnTo>
                <a:lnTo>
                  <a:pt x="606" y="269"/>
                </a:lnTo>
                <a:lnTo>
                  <a:pt x="606" y="358"/>
                </a:lnTo>
                <a:lnTo>
                  <a:pt x="808" y="179"/>
                </a:lnTo>
                <a:lnTo>
                  <a:pt x="606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464600" y="3260880"/>
            <a:ext cx="895320" cy="6616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7464600" y="3971880"/>
            <a:ext cx="1069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7617240" y="4013280"/>
            <a:ext cx="86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7777800" y="4268880"/>
            <a:ext cx="54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>
            <a:off x="687240" y="2455920"/>
            <a:ext cx="2895840" cy="94284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" y="1905120"/>
            <a:ext cx="2895480" cy="1143000"/>
          </a:xfrm>
          <a:prstGeom prst="cube">
            <a:avLst>
              <a:gd name="adj" fmla="val 5111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SFP/PosTPG/PosTPV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/PosMM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4116240" y="2446200"/>
            <a:ext cx="2971800" cy="94320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/Shared Mem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4116240" y="2093760"/>
            <a:ext cx="2981520" cy="943200"/>
          </a:xfrm>
          <a:prstGeom prst="cube">
            <a:avLst>
              <a:gd name="adj" fmla="val 6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CNC(NCK/PL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B132-9B03-4564-9724-611888FCE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SFP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2362320" cy="1720800"/>
          </a:xfrm>
          <a:prstGeom prst="rect">
            <a:avLst/>
          </a:prstGeom>
          <a:ln w="0">
            <a:noFill/>
          </a:ln>
        </p:spPr>
      </p:pic>
      <p:pic>
        <p:nvPicPr>
          <p:cNvPr id="791" name="viewer" descr=""/>
          <p:cNvPicPr/>
          <p:nvPr/>
        </p:nvPicPr>
        <p:blipFill>
          <a:blip r:embed="rId2"/>
          <a:stretch/>
        </p:blipFill>
        <p:spPr>
          <a:xfrm>
            <a:off x="6477120" y="44910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 Scenar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388800" y="4633920"/>
            <a:ext cx="2125800" cy="1692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6629400" y="1496880"/>
            <a:ext cx="2224080" cy="15112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95040" y="838080"/>
            <a:ext cx="930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6" name="MMI" descr=""/>
          <p:cNvPicPr/>
          <p:nvPr/>
        </p:nvPicPr>
        <p:blipFill>
          <a:blip r:embed="rId5"/>
          <a:stretch/>
        </p:blipFill>
        <p:spPr>
          <a:xfrm>
            <a:off x="3733920" y="3159000"/>
            <a:ext cx="1726920" cy="19195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H="1" flipV="1">
            <a:off x="2895120" y="2662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2743200" y="2890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6400" y="24541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62720" y="26827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5638680" y="4643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2840" y="4411800"/>
            <a:ext cx="83196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743200" y="4662000"/>
            <a:ext cx="83196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2128680"/>
            <a:ext cx="175248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SFP to 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617760" y="2662200"/>
            <a:ext cx="1709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5176800"/>
            <a:ext cx="142416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3262320"/>
            <a:ext cx="1905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part program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1981080" y="3957480"/>
            <a:ext cx="160020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TPG to 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921240" y="5329080"/>
            <a:ext cx="14104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5260680" y="5176800"/>
            <a:ext cx="11865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7335720" y="46674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Visualize TP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073240"/>
            <a:ext cx="129564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and comm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6022800" y="3216240"/>
            <a:ext cx="1997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NC status inform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6634440" y="1235160"/>
            <a:ext cx="210240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ecute machining com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906120" y="4338720"/>
            <a:ext cx="994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7167600" y="4186080"/>
            <a:ext cx="981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7130160" y="838080"/>
            <a:ext cx="1017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"/>
          <p:cNvSpPr/>
          <p:nvPr/>
        </p:nvSpPr>
        <p:spPr>
          <a:xfrm>
            <a:off x="4043160" y="2819520"/>
            <a:ext cx="104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"/>
          <p:cNvSpPr/>
          <p:nvPr/>
        </p:nvSpPr>
        <p:spPr>
          <a:xfrm>
            <a:off x="320040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"/>
          <p:cNvSpPr/>
          <p:nvPr/>
        </p:nvSpPr>
        <p:spPr>
          <a:xfrm>
            <a:off x="38088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297144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44190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4876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529236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"/>
          <p:cNvSpPr/>
          <p:nvPr/>
        </p:nvSpPr>
        <p:spPr>
          <a:xfrm>
            <a:off x="5715000" y="48002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"/>
          <p:cNvSpPr/>
          <p:nvPr/>
        </p:nvSpPr>
        <p:spPr>
          <a:xfrm>
            <a:off x="5867280" y="29156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"/>
          <p:cNvSpPr/>
          <p:nvPr/>
        </p:nvSpPr>
        <p:spPr>
          <a:xfrm>
            <a:off x="5791320" y="249336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"/>
          <p:cNvSpPr/>
          <p:nvPr/>
        </p:nvSpPr>
        <p:spPr>
          <a:xfrm>
            <a:off x="6172200" y="116316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FB44-4A92-417F-B070-F11F5F3DEE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914400" y="4114800"/>
            <a:ext cx="380880" cy="1981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otype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1" name="system-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65880" cy="23353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600200" y="41148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46483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18148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8006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>
            <a:off x="5791320" y="41911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37" name=""/>
          <p:cNvCxnSpPr/>
          <p:nvPr/>
        </p:nvCxnSpPr>
        <p:spPr>
          <a:xfrm>
            <a:off x="240012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38" name=""/>
          <p:cNvCxnSpPr/>
          <p:nvPr/>
        </p:nvCxnSpPr>
        <p:spPr>
          <a:xfrm>
            <a:off x="659088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>
            <a:off x="919440" y="447732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0" name=""/>
          <p:cNvSpPr/>
          <p:nvPr/>
        </p:nvSpPr>
        <p:spPr>
          <a:xfrm>
            <a:off x="3744360" y="4114800"/>
            <a:ext cx="4546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1" name=""/>
          <p:cNvSpPr/>
          <p:nvPr/>
        </p:nvSpPr>
        <p:spPr>
          <a:xfrm>
            <a:off x="7772400" y="4191120"/>
            <a:ext cx="380880" cy="1904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1219320" y="5715000"/>
            <a:ext cx="6629400" cy="380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7805880" y="449496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4040280" y="5715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1219320" y="42670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"/>
          <p:cNvSpPr/>
          <p:nvPr/>
        </p:nvSpPr>
        <p:spPr>
          <a:xfrm>
            <a:off x="1219320" y="48006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533412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49528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434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50" name=""/>
          <p:cNvCxnSpPr/>
          <p:nvPr/>
        </p:nvCxnSpPr>
        <p:spPr>
          <a:xfrm rot="5400000">
            <a:off x="3939120" y="3204360"/>
            <a:ext cx="677160" cy="598680"/>
          </a:xfrm>
          <a:prstGeom prst="bentConnector3">
            <a:avLst>
              <a:gd name="adj1" fmla="val 50000"/>
            </a:avLst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1" name=""/>
          <p:cNvSpPr/>
          <p:nvPr/>
        </p:nvSpPr>
        <p:spPr>
          <a:xfrm>
            <a:off x="4191120" y="5029200"/>
            <a:ext cx="1600200" cy="0"/>
          </a:xfrm>
          <a:prstGeom prst="line">
            <a:avLst/>
          </a:prstGeom>
          <a:ln w="12708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876920" y="4724280"/>
            <a:ext cx="285480" cy="609840"/>
          </a:xfrm>
          <a:prstGeom prst="rect">
            <a:avLst/>
          </a:prstGeom>
          <a:ln w="0">
            <a:noFill/>
          </a:ln>
        </p:spPr>
      </p:pic>
      <p:pic>
        <p:nvPicPr>
          <p:cNvPr id="853" name="motor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609840"/>
          </a:xfrm>
          <a:prstGeom prst="rect">
            <a:avLst/>
          </a:prstGeom>
          <a:ln w="0">
            <a:noFill/>
          </a:ln>
        </p:spPr>
      </p:pic>
      <p:pic>
        <p:nvPicPr>
          <p:cNvPr id="854" name="board" descr=""/>
          <p:cNvPicPr/>
          <p:nvPr/>
        </p:nvPicPr>
        <p:blipFill>
          <a:blip r:embed="rId4"/>
          <a:stretch/>
        </p:blipFill>
        <p:spPr>
          <a:xfrm>
            <a:off x="5229360" y="4724280"/>
            <a:ext cx="25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BBF7-3879-4B52-AD61-B0D8C0D28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d Par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6" name="part-1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940200" cy="2708280"/>
          </a:xfrm>
          <a:prstGeom prst="rect">
            <a:avLst/>
          </a:prstGeom>
          <a:ln w="0">
            <a:noFill/>
          </a:ln>
        </p:spPr>
      </p:pic>
      <p:pic>
        <p:nvPicPr>
          <p:cNvPr id="857" name="STEP%20AP203%20data-1" descr=""/>
          <p:cNvPicPr/>
          <p:nvPr/>
        </p:nvPicPr>
        <p:blipFill>
          <a:blip r:embed="rId2"/>
          <a:stretch/>
        </p:blipFill>
        <p:spPr>
          <a:xfrm>
            <a:off x="380880" y="2336760"/>
            <a:ext cx="4019760" cy="2657520"/>
          </a:xfrm>
          <a:prstGeom prst="rect">
            <a:avLst/>
          </a:prstGeom>
          <a:ln w="0">
            <a:noFill/>
          </a:ln>
        </p:spPr>
      </p:pic>
      <p:cxnSp>
        <p:nvCxnSpPr>
          <p:cNvPr id="858" name=""/>
          <p:cNvCxnSpPr>
            <a:stCxn id="857" idx="0"/>
            <a:endCxn id="856" idx="0"/>
          </p:cNvCxnSpPr>
          <p:nvPr/>
        </p:nvCxnSpPr>
        <p:spPr>
          <a:xfrm flipH="1" rot="16200000">
            <a:off x="4644000" y="83160"/>
            <a:ext cx="102240" cy="4609080"/>
          </a:xfrm>
          <a:prstGeom prst="bentConnector3">
            <a:avLst>
              <a:gd name="adj1" fmla="val -843462"/>
            </a:avLst>
          </a:prstGeom>
          <a:ln w="63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1447920" y="522756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03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d pa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1200240"/>
            <a:ext cx="228600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rea STEP-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292F-B342-4FA4-83D3-45AD7CB1B1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600200"/>
            <a:ext cx="4191120" cy="990720"/>
          </a:xfrm>
          <a:custGeom>
            <a:avLst/>
            <a:gdLst/>
            <a:ahLst/>
            <a:rect l="l" t="t" r="r" b="b"/>
            <a:pathLst>
              <a:path w="2640" h="672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  <a:lnTo>
                  <a:pt x="288" y="672"/>
                </a:lnTo>
                <a:lnTo>
                  <a:pt x="2640" y="672"/>
                </a:lnTo>
                <a:lnTo>
                  <a:pt x="2640" y="0"/>
                </a:lnTo>
                <a:lnTo>
                  <a:pt x="0" y="0"/>
                </a:lnTo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4267080" cy="12952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Three types of  STEP-compliant CNC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1: Conventiona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to G-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 post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2: New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preting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ool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ithfully performs as specified in ISO 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3: New intelligent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feature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switching (approach, retr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ining status and result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ision avoidance (fixture &amp; in-process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mal workingstep sequence                                          (based on non-linear process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ol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iv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machine measurement (inspe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part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60840" y="3726000"/>
            <a:ext cx="31226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545160" y="1368360"/>
            <a:ext cx="2095560" cy="20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67080" y="4762440"/>
            <a:ext cx="1069560" cy="1028160"/>
            <a:chOff x="4267080" y="4762440"/>
            <a:chExt cx="1069560" cy="1028160"/>
          </a:xfrm>
        </p:grpSpPr>
        <p:sp>
          <p:nvSpPr>
            <p:cNvPr id="105" name=""/>
            <p:cNvSpPr/>
            <p:nvPr/>
          </p:nvSpPr>
          <p:spPr>
            <a:xfrm>
              <a:off x="4267080" y="5495400"/>
              <a:ext cx="1063440" cy="255960"/>
            </a:xfrm>
            <a:custGeom>
              <a:avLst/>
              <a:gdLst/>
              <a:ahLst/>
              <a:rect l="l" t="t" r="r" b="b"/>
              <a:pathLst>
                <a:path w="353" h="86">
                  <a:moveTo>
                    <a:pt x="13" y="0"/>
                  </a:moveTo>
                  <a:lnTo>
                    <a:pt x="335" y="0"/>
                  </a:lnTo>
                  <a:lnTo>
                    <a:pt x="353" y="86"/>
                  </a:lnTo>
                  <a:lnTo>
                    <a:pt x="0" y="8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84720" y="5495400"/>
              <a:ext cx="1018800" cy="232200"/>
            </a:xfrm>
            <a:custGeom>
              <a:avLst/>
              <a:gdLst/>
              <a:ahLst/>
              <a:rect l="l" t="t" r="r" b="b"/>
              <a:pathLst>
                <a:path w="338" h="78">
                  <a:moveTo>
                    <a:pt x="14" y="0"/>
                  </a:moveTo>
                  <a:lnTo>
                    <a:pt x="0" y="78"/>
                  </a:lnTo>
                  <a:lnTo>
                    <a:pt x="338" y="78"/>
                  </a:lnTo>
                  <a:lnTo>
                    <a:pt x="3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9840" y="5600160"/>
              <a:ext cx="636120" cy="112680"/>
            </a:xfrm>
            <a:custGeom>
              <a:avLst/>
              <a:gdLst/>
              <a:ahLst/>
              <a:rect l="l" t="t" r="r" b="b"/>
              <a:pathLst>
                <a:path w="211" h="38">
                  <a:moveTo>
                    <a:pt x="7" y="0"/>
                  </a:moveTo>
                  <a:lnTo>
                    <a:pt x="0" y="38"/>
                  </a:lnTo>
                  <a:lnTo>
                    <a:pt x="16" y="38"/>
                  </a:lnTo>
                  <a:lnTo>
                    <a:pt x="18" y="30"/>
                  </a:lnTo>
                  <a:lnTo>
                    <a:pt x="34" y="30"/>
                  </a:lnTo>
                  <a:lnTo>
                    <a:pt x="34" y="38"/>
                  </a:lnTo>
                  <a:lnTo>
                    <a:pt x="177" y="38"/>
                  </a:lnTo>
                  <a:lnTo>
                    <a:pt x="177" y="30"/>
                  </a:lnTo>
                  <a:lnTo>
                    <a:pt x="193" y="30"/>
                  </a:lnTo>
                  <a:lnTo>
                    <a:pt x="193" y="38"/>
                  </a:lnTo>
                  <a:lnTo>
                    <a:pt x="211" y="38"/>
                  </a:lnTo>
                  <a:lnTo>
                    <a:pt x="209" y="0"/>
                  </a:lnTo>
                  <a:lnTo>
                    <a:pt x="1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5751720"/>
              <a:ext cx="1069560" cy="38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080" y="5769720"/>
              <a:ext cx="10634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5727960"/>
              <a:ext cx="1018800" cy="57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5540040"/>
              <a:ext cx="934200" cy="11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83560" y="5513760"/>
              <a:ext cx="165240" cy="262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0" y="9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5" y="9"/>
                  </a:lnTo>
                  <a:lnTo>
                    <a:pt x="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89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3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012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89680" y="5600160"/>
              <a:ext cx="192600" cy="1126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0"/>
                  </a:moveTo>
                  <a:lnTo>
                    <a:pt x="2" y="38"/>
                  </a:lnTo>
                  <a:lnTo>
                    <a:pt x="64" y="38"/>
                  </a:lnTo>
                  <a:lnTo>
                    <a:pt x="57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1080" y="5665680"/>
              <a:ext cx="128880" cy="471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2" y="16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43" y="8"/>
                  </a:lnTo>
                  <a:lnTo>
                    <a:pt x="43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1080" y="5600160"/>
              <a:ext cx="128880" cy="38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2" y="13"/>
                  </a:lnTo>
                  <a:lnTo>
                    <a:pt x="43" y="13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1080" y="554616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0" y="8"/>
                  </a:lnTo>
                  <a:lnTo>
                    <a:pt x="41" y="8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27200" y="5546160"/>
              <a:ext cx="4824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4" y="0"/>
                  </a:moveTo>
                  <a:lnTo>
                    <a:pt x="0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8200" y="5546160"/>
              <a:ext cx="162360" cy="23400"/>
            </a:xfrm>
            <a:custGeom>
              <a:avLst/>
              <a:gdLst/>
              <a:ahLst/>
              <a:rect l="l" t="t" r="r" b="b"/>
              <a:pathLst>
                <a:path w="54" h="8">
                  <a:moveTo>
                    <a:pt x="0" y="0"/>
                  </a:moveTo>
                  <a:lnTo>
                    <a:pt x="0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9640" y="5546160"/>
              <a:ext cx="16524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2" y="0"/>
                  </a:moveTo>
                  <a:lnTo>
                    <a:pt x="0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70000" y="5546160"/>
              <a:ext cx="16596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0" y="0"/>
                  </a:moveTo>
                  <a:lnTo>
                    <a:pt x="2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99840" y="5689440"/>
              <a:ext cx="54360" cy="234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2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208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512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124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1080" y="5689440"/>
              <a:ext cx="128880" cy="23400"/>
            </a:xfrm>
            <a:custGeom>
              <a:avLst/>
              <a:gdLst/>
              <a:ahLst/>
              <a:rect l="l" t="t" r="r" b="b"/>
              <a:pathLst>
                <a:path w="43" h="8">
                  <a:moveTo>
                    <a:pt x="0" y="0"/>
                  </a:moveTo>
                  <a:lnTo>
                    <a:pt x="2" y="8"/>
                  </a:lnTo>
                  <a:lnTo>
                    <a:pt x="43" y="8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93560" y="5665680"/>
              <a:ext cx="41400" cy="23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0"/>
                  </a:moveTo>
                  <a:lnTo>
                    <a:pt x="14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3560" y="5689440"/>
              <a:ext cx="331200" cy="2340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0" y="0"/>
                  </a:moveTo>
                  <a:lnTo>
                    <a:pt x="0" y="8"/>
                  </a:lnTo>
                  <a:lnTo>
                    <a:pt x="108" y="8"/>
                  </a:lnTo>
                  <a:lnTo>
                    <a:pt x="11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5960" y="5638680"/>
              <a:ext cx="83880" cy="234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8" y="0"/>
                  </a:moveTo>
                  <a:lnTo>
                    <a:pt x="2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4600" y="5587920"/>
              <a:ext cx="74880" cy="20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5" y="0"/>
                  </a:moveTo>
                  <a:lnTo>
                    <a:pt x="2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5440" y="5638680"/>
              <a:ext cx="464040" cy="23400"/>
            </a:xfrm>
            <a:custGeom>
              <a:avLst/>
              <a:gdLst/>
              <a:ahLst/>
              <a:rect l="l" t="t" r="r" b="b"/>
              <a:pathLst>
                <a:path w="154" h="8">
                  <a:moveTo>
                    <a:pt x="0" y="0"/>
                  </a:moveTo>
                  <a:lnTo>
                    <a:pt x="0" y="8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6120" y="5615280"/>
              <a:ext cx="63360" cy="172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0"/>
                  </a:moveTo>
                  <a:lnTo>
                    <a:pt x="2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0680" y="5615280"/>
              <a:ext cx="500040" cy="17280"/>
            </a:xfrm>
            <a:custGeom>
              <a:avLst/>
              <a:gdLst/>
              <a:ahLst/>
              <a:rect l="l" t="t" r="r" b="b"/>
              <a:pathLst>
                <a:path w="166" h="6">
                  <a:moveTo>
                    <a:pt x="1" y="0"/>
                  </a:moveTo>
                  <a:lnTo>
                    <a:pt x="0" y="6"/>
                  </a:lnTo>
                  <a:lnTo>
                    <a:pt x="166" y="6"/>
                  </a:lnTo>
                  <a:lnTo>
                    <a:pt x="166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18600" y="5665680"/>
              <a:ext cx="111240" cy="234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0"/>
                  </a:moveTo>
                  <a:lnTo>
                    <a:pt x="37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5960" y="5665680"/>
              <a:ext cx="416160" cy="23400"/>
            </a:xfrm>
            <a:custGeom>
              <a:avLst/>
              <a:gdLst/>
              <a:ahLst/>
              <a:rect l="l" t="t" r="r" b="b"/>
              <a:pathLst>
                <a:path w="138" h="8">
                  <a:moveTo>
                    <a:pt x="2" y="0"/>
                  </a:moveTo>
                  <a:lnTo>
                    <a:pt x="0" y="8"/>
                  </a:lnTo>
                  <a:lnTo>
                    <a:pt x="138" y="8"/>
                  </a:lnTo>
                  <a:lnTo>
                    <a:pt x="138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5960" y="5665680"/>
              <a:ext cx="90000" cy="234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3" y="0"/>
                  </a:moveTo>
                  <a:lnTo>
                    <a:pt x="0" y="8"/>
                  </a:lnTo>
                  <a:lnTo>
                    <a:pt x="28" y="8"/>
                  </a:lnTo>
                  <a:lnTo>
                    <a:pt x="3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12080" y="5638680"/>
              <a:ext cx="57240" cy="234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0"/>
                  </a:moveTo>
                  <a:lnTo>
                    <a:pt x="0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600" y="5615280"/>
              <a:ext cx="45720" cy="17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2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0720" y="5587920"/>
              <a:ext cx="527400" cy="2088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2" y="0"/>
                  </a:moveTo>
                  <a:lnTo>
                    <a:pt x="0" y="7"/>
                  </a:lnTo>
                  <a:lnTo>
                    <a:pt x="175" y="7"/>
                  </a:lnTo>
                  <a:lnTo>
                    <a:pt x="17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7200" y="5540040"/>
              <a:ext cx="48240" cy="29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82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9640" y="5540040"/>
              <a:ext cx="15912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97920" y="5569920"/>
              <a:ext cx="1501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700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1080" y="5540040"/>
              <a:ext cx="117360" cy="2952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1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1080" y="561528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2" y="8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1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1080" y="5587920"/>
              <a:ext cx="117360" cy="2088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0" y="7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95800" y="5689440"/>
              <a:ext cx="101520" cy="234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30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1280" y="5689440"/>
              <a:ext cx="32760" cy="23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8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4040" y="5665680"/>
              <a:ext cx="42120" cy="471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4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5800" y="5665680"/>
              <a:ext cx="13788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6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8640" y="5615280"/>
              <a:ext cx="38880" cy="471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2" y="16"/>
                  </a:moveTo>
                  <a:lnTo>
                    <a:pt x="13" y="1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9680" y="5638680"/>
              <a:ext cx="13860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2" y="8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89680" y="5615280"/>
              <a:ext cx="132480" cy="234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9680" y="5587920"/>
              <a:ext cx="171360" cy="20880"/>
            </a:xfrm>
            <a:custGeom>
              <a:avLst/>
              <a:gdLst/>
              <a:ahLst/>
              <a:rect l="l" t="t" r="r" b="b"/>
              <a:pathLst>
                <a:path w="57" h="7">
                  <a:moveTo>
                    <a:pt x="0" y="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7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2440" y="5519160"/>
              <a:ext cx="84600" cy="576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5800" y="5531400"/>
              <a:ext cx="144000" cy="864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0" y="0"/>
                  </a:moveTo>
                  <a:lnTo>
                    <a:pt x="2" y="3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5343480"/>
              <a:ext cx="464040" cy="119520"/>
            </a:xfrm>
            <a:custGeom>
              <a:avLst/>
              <a:gdLst/>
              <a:ahLst/>
              <a:rect l="l" t="t" r="r" b="b"/>
              <a:pathLst>
                <a:path w="154" h="40">
                  <a:moveTo>
                    <a:pt x="23" y="0"/>
                  </a:moveTo>
                  <a:lnTo>
                    <a:pt x="21" y="5"/>
                  </a:lnTo>
                  <a:lnTo>
                    <a:pt x="9" y="9"/>
                  </a:lnTo>
                  <a:lnTo>
                    <a:pt x="7" y="1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54" y="40"/>
                  </a:lnTo>
                  <a:lnTo>
                    <a:pt x="154" y="34"/>
                  </a:lnTo>
                  <a:lnTo>
                    <a:pt x="147" y="9"/>
                  </a:lnTo>
                  <a:lnTo>
                    <a:pt x="135" y="5"/>
                  </a:lnTo>
                  <a:lnTo>
                    <a:pt x="13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56160" y="5444640"/>
              <a:ext cx="464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2280" y="5343480"/>
              <a:ext cx="83880" cy="89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8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7040" y="5358240"/>
              <a:ext cx="4212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2" y="4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6160" y="5343480"/>
              <a:ext cx="464040" cy="101160"/>
            </a:xfrm>
            <a:custGeom>
              <a:avLst/>
              <a:gdLst/>
              <a:ahLst/>
              <a:rect l="l" t="t" r="r" b="b"/>
              <a:pathLst>
                <a:path w="154" h="34">
                  <a:moveTo>
                    <a:pt x="126" y="0"/>
                  </a:moveTo>
                  <a:lnTo>
                    <a:pt x="126" y="13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78" y="34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3320" y="5358240"/>
              <a:ext cx="4140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9520" y="5359320"/>
              <a:ext cx="3459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0680" y="4762440"/>
              <a:ext cx="680400" cy="590400"/>
            </a:xfrm>
            <a:custGeom>
              <a:avLst/>
              <a:gdLst/>
              <a:ahLst/>
              <a:rect l="l" t="t" r="r" b="b"/>
              <a:pathLst>
                <a:path w="226" h="198">
                  <a:moveTo>
                    <a:pt x="14" y="0"/>
                  </a:moveTo>
                  <a:lnTo>
                    <a:pt x="5" y="2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1" y="193"/>
                  </a:lnTo>
                  <a:lnTo>
                    <a:pt x="5" y="197"/>
                  </a:lnTo>
                  <a:lnTo>
                    <a:pt x="14" y="198"/>
                  </a:lnTo>
                  <a:lnTo>
                    <a:pt x="212" y="198"/>
                  </a:lnTo>
                  <a:lnTo>
                    <a:pt x="214" y="198"/>
                  </a:lnTo>
                  <a:lnTo>
                    <a:pt x="219" y="197"/>
                  </a:lnTo>
                  <a:lnTo>
                    <a:pt x="225" y="193"/>
                  </a:lnTo>
                  <a:lnTo>
                    <a:pt x="226" y="185"/>
                  </a:lnTo>
                  <a:lnTo>
                    <a:pt x="226" y="15"/>
                  </a:lnTo>
                  <a:lnTo>
                    <a:pt x="226" y="13"/>
                  </a:lnTo>
                  <a:lnTo>
                    <a:pt x="225" y="7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59680" y="4774320"/>
              <a:ext cx="656640" cy="56880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13" y="0"/>
                  </a:moveTo>
                  <a:lnTo>
                    <a:pt x="6" y="2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2" y="185"/>
                  </a:lnTo>
                  <a:lnTo>
                    <a:pt x="6" y="189"/>
                  </a:lnTo>
                  <a:lnTo>
                    <a:pt x="13" y="191"/>
                  </a:lnTo>
                  <a:lnTo>
                    <a:pt x="206" y="191"/>
                  </a:lnTo>
                  <a:lnTo>
                    <a:pt x="207" y="191"/>
                  </a:lnTo>
                  <a:lnTo>
                    <a:pt x="213" y="189"/>
                  </a:lnTo>
                  <a:lnTo>
                    <a:pt x="216" y="185"/>
                  </a:lnTo>
                  <a:lnTo>
                    <a:pt x="218" y="177"/>
                  </a:lnTo>
                  <a:lnTo>
                    <a:pt x="218" y="13"/>
                  </a:lnTo>
                  <a:lnTo>
                    <a:pt x="218" y="11"/>
                  </a:lnTo>
                  <a:lnTo>
                    <a:pt x="216" y="7"/>
                  </a:lnTo>
                  <a:lnTo>
                    <a:pt x="213" y="2"/>
                  </a:lnTo>
                  <a:lnTo>
                    <a:pt x="20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3840" y="5302080"/>
              <a:ext cx="6336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3840" y="5302080"/>
              <a:ext cx="51120" cy="41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1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9960" y="5302080"/>
              <a:ext cx="5112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89960" y="5307480"/>
              <a:ext cx="51120" cy="2412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3560" y="5313600"/>
              <a:ext cx="17640" cy="11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8040" y="4789440"/>
              <a:ext cx="623160" cy="500760"/>
            </a:xfrm>
            <a:custGeom>
              <a:avLst/>
              <a:gdLst/>
              <a:ahLst/>
              <a:rect l="l" t="t" r="r" b="b"/>
              <a:pathLst>
                <a:path w="207" h="168">
                  <a:moveTo>
                    <a:pt x="12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57"/>
                  </a:lnTo>
                  <a:lnTo>
                    <a:pt x="1" y="163"/>
                  </a:lnTo>
                  <a:lnTo>
                    <a:pt x="5" y="167"/>
                  </a:lnTo>
                  <a:lnTo>
                    <a:pt x="12" y="168"/>
                  </a:lnTo>
                  <a:lnTo>
                    <a:pt x="194" y="168"/>
                  </a:lnTo>
                  <a:lnTo>
                    <a:pt x="196" y="168"/>
                  </a:lnTo>
                  <a:lnTo>
                    <a:pt x="201" y="167"/>
                  </a:lnTo>
                  <a:lnTo>
                    <a:pt x="205" y="163"/>
                  </a:lnTo>
                  <a:lnTo>
                    <a:pt x="207" y="157"/>
                  </a:lnTo>
                  <a:lnTo>
                    <a:pt x="207" y="12"/>
                  </a:lnTo>
                  <a:lnTo>
                    <a:pt x="205" y="6"/>
                  </a:lnTo>
                  <a:lnTo>
                    <a:pt x="201" y="2"/>
                  </a:lnTo>
                  <a:lnTo>
                    <a:pt x="19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2160" y="4818960"/>
              <a:ext cx="572400" cy="443880"/>
            </a:xfrm>
            <a:custGeom>
              <a:avLst/>
              <a:gdLst/>
              <a:ahLst/>
              <a:rect l="l" t="t" r="r" b="b"/>
              <a:pathLst>
                <a:path w="190" h="149">
                  <a:moveTo>
                    <a:pt x="7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7" y="149"/>
                  </a:lnTo>
                  <a:lnTo>
                    <a:pt x="183" y="149"/>
                  </a:lnTo>
                  <a:lnTo>
                    <a:pt x="186" y="149"/>
                  </a:lnTo>
                  <a:lnTo>
                    <a:pt x="190" y="141"/>
                  </a:lnTo>
                  <a:lnTo>
                    <a:pt x="190" y="8"/>
                  </a:lnTo>
                  <a:lnTo>
                    <a:pt x="190" y="4"/>
                  </a:lnTo>
                  <a:lnTo>
                    <a:pt x="18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13680" y="4831200"/>
              <a:ext cx="548640" cy="396000"/>
            </a:xfrm>
            <a:custGeom>
              <a:avLst/>
              <a:gdLst/>
              <a:ahLst/>
              <a:rect l="l" t="t" r="r" b="b"/>
              <a:pathLst>
                <a:path w="182" h="133">
                  <a:moveTo>
                    <a:pt x="5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5" y="133"/>
                  </a:lnTo>
                  <a:lnTo>
                    <a:pt x="177" y="133"/>
                  </a:lnTo>
                  <a:lnTo>
                    <a:pt x="181" y="133"/>
                  </a:lnTo>
                  <a:lnTo>
                    <a:pt x="182" y="128"/>
                  </a:lnTo>
                  <a:lnTo>
                    <a:pt x="182" y="5"/>
                  </a:lnTo>
                  <a:lnTo>
                    <a:pt x="182" y="4"/>
                  </a:lnTo>
                  <a:lnTo>
                    <a:pt x="17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54760" y="4697280"/>
            <a:ext cx="9554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00400" y="914400"/>
            <a:ext cx="1528560" cy="1343880"/>
            <a:chOff x="4100400" y="914400"/>
            <a:chExt cx="1528560" cy="1343880"/>
          </a:xfrm>
        </p:grpSpPr>
        <p:sp>
          <p:nvSpPr>
            <p:cNvPr id="179" name=""/>
            <p:cNvSpPr/>
            <p:nvPr/>
          </p:nvSpPr>
          <p:spPr>
            <a:xfrm>
              <a:off x="4100400" y="1540080"/>
              <a:ext cx="339840" cy="20196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70"/>
                  </a:moveTo>
                  <a:lnTo>
                    <a:pt x="117" y="9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3"/>
                  </a:lnTo>
                  <a:lnTo>
                    <a:pt x="76" y="9"/>
                  </a:lnTo>
                  <a:lnTo>
                    <a:pt x="76" y="19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16320" y="1687320"/>
              <a:ext cx="634320" cy="349200"/>
            </a:xfrm>
            <a:custGeom>
              <a:avLst/>
              <a:gdLst/>
              <a:ahLst/>
              <a:rect l="l" t="t" r="r" b="b"/>
              <a:pathLst>
                <a:path w="218" h="121">
                  <a:moveTo>
                    <a:pt x="218" y="121"/>
                  </a:moveTo>
                  <a:lnTo>
                    <a:pt x="218" y="115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8" y="1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5120" y="1687320"/>
              <a:ext cx="61200" cy="464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21" y="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0400" y="1672920"/>
              <a:ext cx="791640" cy="412560"/>
            </a:xfrm>
            <a:custGeom>
              <a:avLst/>
              <a:gdLst/>
              <a:ahLst/>
              <a:rect l="l" t="t" r="r" b="b"/>
              <a:pathLst>
                <a:path w="272" h="143">
                  <a:moveTo>
                    <a:pt x="17" y="17"/>
                  </a:moveTo>
                  <a:lnTo>
                    <a:pt x="40" y="5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243" y="143"/>
                  </a:lnTo>
                  <a:lnTo>
                    <a:pt x="272" y="126"/>
                  </a:lnTo>
                  <a:lnTo>
                    <a:pt x="258" y="118"/>
                  </a:lnTo>
                  <a:lnTo>
                    <a:pt x="235" y="132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00400" y="1716120"/>
              <a:ext cx="70704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0400" y="1742400"/>
              <a:ext cx="707040" cy="515880"/>
            </a:xfrm>
            <a:custGeom>
              <a:avLst/>
              <a:gdLst/>
              <a:ahLst/>
              <a:rect l="l" t="t" r="r" b="b"/>
              <a:pathLst>
                <a:path w="243" h="179">
                  <a:moveTo>
                    <a:pt x="0" y="0"/>
                  </a:moveTo>
                  <a:lnTo>
                    <a:pt x="243" y="127"/>
                  </a:lnTo>
                  <a:lnTo>
                    <a:pt x="243" y="17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0560" y="1595160"/>
              <a:ext cx="821160" cy="423720"/>
            </a:xfrm>
            <a:custGeom>
              <a:avLst/>
              <a:gdLst/>
              <a:ahLst/>
              <a:rect l="l" t="t" r="r" b="b"/>
              <a:pathLst>
                <a:path w="282" h="147">
                  <a:moveTo>
                    <a:pt x="38" y="0"/>
                  </a:moveTo>
                  <a:lnTo>
                    <a:pt x="0" y="19"/>
                  </a:lnTo>
                  <a:lnTo>
                    <a:pt x="243" y="147"/>
                  </a:lnTo>
                  <a:lnTo>
                    <a:pt x="282" y="1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83920" y="1644120"/>
              <a:ext cx="70776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4720" y="1595160"/>
              <a:ext cx="55440" cy="60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11"/>
                  </a:lnTo>
                  <a:lnTo>
                    <a:pt x="19" y="2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4720" y="1361520"/>
              <a:ext cx="503640" cy="26532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" y="92"/>
                  </a:moveTo>
                  <a:lnTo>
                    <a:pt x="0" y="81"/>
                  </a:lnTo>
                  <a:lnTo>
                    <a:pt x="153" y="0"/>
                  </a:lnTo>
                  <a:lnTo>
                    <a:pt x="173" y="10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0160" y="1390320"/>
              <a:ext cx="448200" cy="26532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82"/>
                  </a:moveTo>
                  <a:lnTo>
                    <a:pt x="0" y="92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6600" y="1107720"/>
              <a:ext cx="148320" cy="507600"/>
            </a:xfrm>
            <a:custGeom>
              <a:avLst/>
              <a:gdLst/>
              <a:ahLst/>
              <a:rect l="l" t="t" r="r" b="b"/>
              <a:pathLst>
                <a:path w="51" h="176">
                  <a:moveTo>
                    <a:pt x="0" y="0"/>
                  </a:moveTo>
                  <a:lnTo>
                    <a:pt x="51" y="27"/>
                  </a:lnTo>
                  <a:lnTo>
                    <a:pt x="51" y="176"/>
                  </a:lnTo>
                  <a:lnTo>
                    <a:pt x="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914400"/>
              <a:ext cx="541440" cy="28296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0" y="65"/>
                  </a:moveTo>
                  <a:lnTo>
                    <a:pt x="40" y="52"/>
                  </a:lnTo>
                  <a:lnTo>
                    <a:pt x="0" y="31"/>
                  </a:lnTo>
                  <a:lnTo>
                    <a:pt x="59" y="0"/>
                  </a:lnTo>
                  <a:lnTo>
                    <a:pt x="186" y="67"/>
                  </a:lnTo>
                  <a:lnTo>
                    <a:pt x="128" y="98"/>
                  </a:lnTo>
                  <a:lnTo>
                    <a:pt x="88" y="79"/>
                  </a:lnTo>
                  <a:lnTo>
                    <a:pt x="59" y="94"/>
                  </a:lnTo>
                  <a:lnTo>
                    <a:pt x="10" y="67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9320" y="1003680"/>
              <a:ext cx="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092560" y="1874880"/>
              <a:ext cx="55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95680" y="1474200"/>
              <a:ext cx="1832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54640" y="1427760"/>
              <a:ext cx="2739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29480" y="1185840"/>
              <a:ext cx="55440" cy="464400"/>
            </a:xfrm>
            <a:custGeom>
              <a:avLst/>
              <a:gdLst/>
              <a:ahLst/>
              <a:rect l="l" t="t" r="r" b="b"/>
              <a:pathLst>
                <a:path w="19" h="161">
                  <a:moveTo>
                    <a:pt x="0" y="0"/>
                  </a:moveTo>
                  <a:lnTo>
                    <a:pt x="0" y="151"/>
                  </a:lnTo>
                  <a:lnTo>
                    <a:pt x="19" y="161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4920" y="1197360"/>
              <a:ext cx="28800" cy="4525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6"/>
                  </a:moveTo>
                  <a:lnTo>
                    <a:pt x="10" y="0"/>
                  </a:lnTo>
                  <a:lnTo>
                    <a:pt x="10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29480" y="1168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9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8480" y="1125000"/>
              <a:ext cx="26280" cy="453240"/>
            </a:xfrm>
            <a:custGeom>
              <a:avLst/>
              <a:gdLst/>
              <a:ahLst/>
              <a:rect l="l" t="t" r="r" b="b"/>
              <a:pathLst>
                <a:path w="9" h="157">
                  <a:moveTo>
                    <a:pt x="0" y="6"/>
                  </a:moveTo>
                  <a:lnTo>
                    <a:pt x="9" y="0"/>
                  </a:lnTo>
                  <a:lnTo>
                    <a:pt x="9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4400" y="1107720"/>
              <a:ext cx="63720" cy="47016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0" y="0"/>
                  </a:moveTo>
                  <a:lnTo>
                    <a:pt x="0" y="153"/>
                  </a:lnTo>
                  <a:lnTo>
                    <a:pt x="22" y="16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0160" y="1096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0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29480" y="169920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9" y="10"/>
                  </a:lnTo>
                  <a:lnTo>
                    <a:pt x="19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84920" y="1494360"/>
              <a:ext cx="448200" cy="25956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81"/>
                  </a:moveTo>
                  <a:lnTo>
                    <a:pt x="0" y="90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29480" y="1468440"/>
              <a:ext cx="503640" cy="2595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9" y="90"/>
                  </a:moveTo>
                  <a:lnTo>
                    <a:pt x="0" y="80"/>
                  </a:lnTo>
                  <a:lnTo>
                    <a:pt x="155" y="0"/>
                  </a:lnTo>
                  <a:lnTo>
                    <a:pt x="173" y="9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4080" y="1197360"/>
              <a:ext cx="324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984920" y="1197000"/>
              <a:ext cx="2880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2320" y="1396440"/>
              <a:ext cx="366840" cy="16992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28" y="7"/>
                  </a:moveTo>
                  <a:lnTo>
                    <a:pt x="97" y="42"/>
                  </a:lnTo>
                  <a:lnTo>
                    <a:pt x="107" y="40"/>
                  </a:lnTo>
                  <a:lnTo>
                    <a:pt x="107" y="34"/>
                  </a:lnTo>
                  <a:lnTo>
                    <a:pt x="107" y="28"/>
                  </a:lnTo>
                  <a:lnTo>
                    <a:pt x="126" y="40"/>
                  </a:lnTo>
                  <a:lnTo>
                    <a:pt x="88" y="59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2320" y="1240560"/>
              <a:ext cx="255960" cy="32544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0" y="0"/>
                  </a:moveTo>
                  <a:lnTo>
                    <a:pt x="88" y="46"/>
                  </a:lnTo>
                  <a:lnTo>
                    <a:pt x="88" y="11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8640" y="1312560"/>
              <a:ext cx="110880" cy="25380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21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8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2320" y="1197360"/>
              <a:ext cx="366840" cy="175680"/>
            </a:xfrm>
            <a:custGeom>
              <a:avLst/>
              <a:gdLst/>
              <a:ahLst/>
              <a:rect l="l" t="t" r="r" b="b"/>
              <a:pathLst>
                <a:path w="126" h="61">
                  <a:moveTo>
                    <a:pt x="28" y="11"/>
                  </a:moveTo>
                  <a:lnTo>
                    <a:pt x="97" y="46"/>
                  </a:lnTo>
                  <a:lnTo>
                    <a:pt x="107" y="40"/>
                  </a:lnTo>
                  <a:lnTo>
                    <a:pt x="107" y="36"/>
                  </a:lnTo>
                  <a:lnTo>
                    <a:pt x="107" y="30"/>
                  </a:lnTo>
                  <a:lnTo>
                    <a:pt x="126" y="40"/>
                  </a:lnTo>
                  <a:lnTo>
                    <a:pt x="88" y="61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4640" y="1107720"/>
              <a:ext cx="324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8320" y="1595160"/>
              <a:ext cx="177480" cy="8604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2" y="30"/>
                  </a:moveTo>
                  <a:lnTo>
                    <a:pt x="61" y="1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8320" y="1615320"/>
              <a:ext cx="122760" cy="1386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2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42" y="4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5800" y="1107720"/>
              <a:ext cx="168840" cy="542160"/>
            </a:xfrm>
            <a:custGeom>
              <a:avLst/>
              <a:gdLst/>
              <a:ahLst/>
              <a:rect l="l" t="t" r="r" b="b"/>
              <a:pathLst>
                <a:path w="58" h="188">
                  <a:moveTo>
                    <a:pt x="0" y="31"/>
                  </a:moveTo>
                  <a:lnTo>
                    <a:pt x="0" y="188"/>
                  </a:lnTo>
                  <a:lnTo>
                    <a:pt x="58" y="157"/>
                  </a:lnTo>
                  <a:lnTo>
                    <a:pt x="5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31080" y="1560600"/>
              <a:ext cx="223560" cy="19332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77" y="0"/>
                  </a:moveTo>
                  <a:lnTo>
                    <a:pt x="0" y="42"/>
                  </a:lnTo>
                  <a:lnTo>
                    <a:pt x="0" y="67"/>
                  </a:lnTo>
                  <a:lnTo>
                    <a:pt x="77" y="2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9520" y="1142640"/>
              <a:ext cx="115920" cy="50760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0" y="0"/>
                  </a:moveTo>
                  <a:lnTo>
                    <a:pt x="0" y="157"/>
                  </a:lnTo>
                  <a:lnTo>
                    <a:pt x="40" y="176"/>
                  </a:lnTo>
                  <a:lnTo>
                    <a:pt x="4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014080" y="1595160"/>
              <a:ext cx="5544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1440" y="156636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5640" y="1566360"/>
              <a:ext cx="553320" cy="464400"/>
            </a:xfrm>
            <a:custGeom>
              <a:avLst/>
              <a:gdLst/>
              <a:ahLst/>
              <a:rect l="l" t="t" r="r" b="b"/>
              <a:pathLst>
                <a:path w="190" h="161">
                  <a:moveTo>
                    <a:pt x="25" y="161"/>
                  </a:moveTo>
                  <a:lnTo>
                    <a:pt x="190" y="71"/>
                  </a:lnTo>
                  <a:lnTo>
                    <a:pt x="190" y="0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7440" y="1904040"/>
              <a:ext cx="340560" cy="204480"/>
            </a:xfrm>
            <a:custGeom>
              <a:avLst/>
              <a:gdLst/>
              <a:ahLst/>
              <a:rect l="l" t="t" r="r" b="b"/>
              <a:pathLst>
                <a:path w="117" h="71">
                  <a:moveTo>
                    <a:pt x="0" y="71"/>
                  </a:moveTo>
                  <a:lnTo>
                    <a:pt x="117" y="10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6"/>
                  </a:lnTo>
                  <a:lnTo>
                    <a:pt x="77" y="10"/>
                  </a:lnTo>
                  <a:lnTo>
                    <a:pt x="77" y="19"/>
                  </a:lnTo>
                  <a:lnTo>
                    <a:pt x="38" y="40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7440" y="1932840"/>
              <a:ext cx="340560" cy="3254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0" y="61"/>
                  </a:moveTo>
                  <a:lnTo>
                    <a:pt x="117" y="0"/>
                  </a:lnTo>
                  <a:lnTo>
                    <a:pt x="117" y="49"/>
                  </a:lnTo>
                  <a:lnTo>
                    <a:pt x="0" y="1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1440" y="1511640"/>
              <a:ext cx="57960" cy="54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440" y="1511640"/>
              <a:ext cx="765000" cy="39240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44" y="136"/>
                  </a:moveTo>
                  <a:lnTo>
                    <a:pt x="263" y="126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32080" y="1875240"/>
              <a:ext cx="54720" cy="572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21440" y="154008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6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3200" y="1373400"/>
              <a:ext cx="90360" cy="16668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0"/>
                  </a:moveTo>
                  <a:lnTo>
                    <a:pt x="31" y="40"/>
                  </a:lnTo>
                  <a:lnTo>
                    <a:pt x="0" y="58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3520" y="1300680"/>
              <a:ext cx="90360" cy="161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9" y="0"/>
                  </a:moveTo>
                  <a:lnTo>
                    <a:pt x="29" y="40"/>
                  </a:lnTo>
                  <a:lnTo>
                    <a:pt x="0" y="5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3520" y="1300680"/>
              <a:ext cx="224280" cy="1155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16"/>
                  </a:moveTo>
                  <a:lnTo>
                    <a:pt x="50" y="40"/>
                  </a:lnTo>
                  <a:lnTo>
                    <a:pt x="77" y="25"/>
                  </a:lnTo>
                  <a:lnTo>
                    <a:pt x="2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3520" y="1347120"/>
              <a:ext cx="145800" cy="19296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0"/>
                  </a:moveTo>
                  <a:lnTo>
                    <a:pt x="0" y="40"/>
                  </a:lnTo>
                  <a:lnTo>
                    <a:pt x="50" y="67"/>
                  </a:lnTo>
                  <a:lnTo>
                    <a:pt x="5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7080" y="1578240"/>
              <a:ext cx="1022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304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7080" y="1554480"/>
              <a:ext cx="10800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8960" y="1572480"/>
              <a:ext cx="11880" cy="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7760" y="1578240"/>
              <a:ext cx="176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0160" y="1578240"/>
              <a:ext cx="1692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13200" y="1572480"/>
              <a:ext cx="1692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01320" y="1529280"/>
              <a:ext cx="32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2000" y="1500480"/>
              <a:ext cx="49320" cy="60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7" y="1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52000" y="1500120"/>
              <a:ext cx="3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70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62880" y="1964880"/>
              <a:ext cx="55440" cy="54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55120" y="160092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55120" y="1627200"/>
              <a:ext cx="707760" cy="39168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5120" y="1600920"/>
              <a:ext cx="763200" cy="392400"/>
            </a:xfrm>
            <a:custGeom>
              <a:avLst/>
              <a:gdLst/>
              <a:ahLst/>
              <a:rect l="l" t="t" r="r" b="b"/>
              <a:pathLst>
                <a:path w="262" h="136">
                  <a:moveTo>
                    <a:pt x="243" y="136"/>
                  </a:moveTo>
                  <a:lnTo>
                    <a:pt x="262" y="126"/>
                  </a:lnTo>
                  <a:lnTo>
                    <a:pt x="19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91160" y="1739880"/>
              <a:ext cx="285120" cy="23580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0" y="51"/>
                  </a:moveTo>
                  <a:lnTo>
                    <a:pt x="0" y="82"/>
                  </a:lnTo>
                  <a:lnTo>
                    <a:pt x="15" y="74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88" y="23"/>
                  </a:lnTo>
                  <a:lnTo>
                    <a:pt x="98" y="26"/>
                  </a:lnTo>
                  <a:lnTo>
                    <a:pt x="9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4200" y="1869120"/>
              <a:ext cx="2016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716720" y="1875240"/>
              <a:ext cx="176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716720" y="18691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4400" y="18320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789800" y="18378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789800" y="1837800"/>
              <a:ext cx="111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6760" y="1794240"/>
              <a:ext cx="28800" cy="20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2"/>
                  </a:moveTo>
                  <a:lnTo>
                    <a:pt x="4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868640" y="18000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62520" y="1800000"/>
              <a:ext cx="11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29480" y="1754280"/>
              <a:ext cx="23760" cy="28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935240" y="1759320"/>
              <a:ext cx="176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935240" y="17593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56360" y="1566360"/>
              <a:ext cx="279000" cy="23940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52"/>
                  </a:moveTo>
                  <a:lnTo>
                    <a:pt x="0" y="83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10" y="63"/>
                  </a:lnTo>
                  <a:lnTo>
                    <a:pt x="86" y="21"/>
                  </a:lnTo>
                  <a:lnTo>
                    <a:pt x="96" y="27"/>
                  </a:lnTo>
                  <a:lnTo>
                    <a:pt x="9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9400" y="1693440"/>
              <a:ext cx="20160" cy="28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6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385520" y="1699200"/>
              <a:ext cx="144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385160" y="1699200"/>
              <a:ext cx="25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46360" y="1656000"/>
              <a:ext cx="26280" cy="25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9" y="6"/>
                  </a:lnTo>
                  <a:lnTo>
                    <a:pt x="9" y="2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4455000" y="1661760"/>
              <a:ext cx="169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4451760" y="1661760"/>
              <a:ext cx="8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22320" y="16214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4527720" y="16272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528080" y="162144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94680" y="1583280"/>
              <a:ext cx="23040" cy="234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600440" y="15894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600800" y="158328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56360" y="1566360"/>
              <a:ext cx="619920" cy="319680"/>
            </a:xfrm>
            <a:custGeom>
              <a:avLst/>
              <a:gdLst/>
              <a:ahLst/>
              <a:rect l="l" t="t" r="r" b="b"/>
              <a:pathLst>
                <a:path w="213" h="111">
                  <a:moveTo>
                    <a:pt x="115" y="111"/>
                  </a:moveTo>
                  <a:lnTo>
                    <a:pt x="0" y="52"/>
                  </a:lnTo>
                  <a:lnTo>
                    <a:pt x="96" y="0"/>
                  </a:lnTo>
                  <a:lnTo>
                    <a:pt x="213" y="60"/>
                  </a:lnTo>
                  <a:lnTo>
                    <a:pt x="115" y="1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606560" y="1583280"/>
              <a:ext cx="3405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600440" y="1583280"/>
              <a:ext cx="3344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534200" y="1615320"/>
              <a:ext cx="340560" cy="1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527720" y="1621080"/>
              <a:ext cx="33444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460760" y="165600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451760" y="1661760"/>
              <a:ext cx="3380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388040" y="169344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385520" y="1699200"/>
              <a:ext cx="3312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56360" y="1716120"/>
              <a:ext cx="334440" cy="259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31"/>
                  </a:moveTo>
                  <a:lnTo>
                    <a:pt x="0" y="0"/>
                  </a:lnTo>
                  <a:lnTo>
                    <a:pt x="115" y="59"/>
                  </a:lnTo>
                  <a:lnTo>
                    <a:pt x="115" y="9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37160" y="2171880"/>
            <a:ext cx="917640" cy="81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98920" y="1368360"/>
            <a:ext cx="91764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5454720" y="1430280"/>
            <a:ext cx="8287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5575680" y="1608120"/>
            <a:ext cx="67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5730840" y="172548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05296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277240" y="539100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454720" y="3009960"/>
            <a:ext cx="82872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5782320" y="30542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629680" y="317196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605640" y="1430280"/>
            <a:ext cx="8269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7754760" y="1430280"/>
            <a:ext cx="82728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7754760" y="2301840"/>
            <a:ext cx="82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3009960"/>
            <a:ext cx="197640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3718080"/>
            <a:ext cx="3120840" cy="488880"/>
          </a:xfrm>
          <a:custGeom>
            <a:avLst/>
            <a:gdLst/>
            <a:ahLst/>
            <a:rect l="l" t="t" r="r" b="b"/>
            <a:pathLst>
              <a:path w="3932" h="618">
                <a:moveTo>
                  <a:pt x="104" y="0"/>
                </a:moveTo>
                <a:lnTo>
                  <a:pt x="82" y="1"/>
                </a:lnTo>
                <a:lnTo>
                  <a:pt x="64" y="9"/>
                </a:lnTo>
                <a:lnTo>
                  <a:pt x="46" y="17"/>
                </a:lnTo>
                <a:lnTo>
                  <a:pt x="31" y="30"/>
                </a:lnTo>
                <a:lnTo>
                  <a:pt x="18" y="46"/>
                </a:lnTo>
                <a:lnTo>
                  <a:pt x="9" y="63"/>
                </a:lnTo>
                <a:lnTo>
                  <a:pt x="2" y="81"/>
                </a:lnTo>
                <a:lnTo>
                  <a:pt x="0" y="103"/>
                </a:lnTo>
                <a:lnTo>
                  <a:pt x="0" y="515"/>
                </a:lnTo>
                <a:lnTo>
                  <a:pt x="2" y="536"/>
                </a:lnTo>
                <a:lnTo>
                  <a:pt x="9" y="555"/>
                </a:lnTo>
                <a:lnTo>
                  <a:pt x="18" y="572"/>
                </a:lnTo>
                <a:lnTo>
                  <a:pt x="31" y="588"/>
                </a:lnTo>
                <a:lnTo>
                  <a:pt x="46" y="600"/>
                </a:lnTo>
                <a:lnTo>
                  <a:pt x="64" y="609"/>
                </a:lnTo>
                <a:lnTo>
                  <a:pt x="82" y="616"/>
                </a:lnTo>
                <a:lnTo>
                  <a:pt x="104" y="618"/>
                </a:lnTo>
                <a:lnTo>
                  <a:pt x="3829" y="618"/>
                </a:lnTo>
                <a:lnTo>
                  <a:pt x="3850" y="616"/>
                </a:lnTo>
                <a:lnTo>
                  <a:pt x="3869" y="609"/>
                </a:lnTo>
                <a:lnTo>
                  <a:pt x="3886" y="600"/>
                </a:lnTo>
                <a:lnTo>
                  <a:pt x="3902" y="588"/>
                </a:lnTo>
                <a:lnTo>
                  <a:pt x="3915" y="572"/>
                </a:lnTo>
                <a:lnTo>
                  <a:pt x="3924" y="555"/>
                </a:lnTo>
                <a:lnTo>
                  <a:pt x="3931" y="536"/>
                </a:lnTo>
                <a:lnTo>
                  <a:pt x="3932" y="515"/>
                </a:lnTo>
                <a:lnTo>
                  <a:pt x="3932" y="103"/>
                </a:lnTo>
                <a:lnTo>
                  <a:pt x="3931" y="81"/>
                </a:lnTo>
                <a:lnTo>
                  <a:pt x="3924" y="63"/>
                </a:lnTo>
                <a:lnTo>
                  <a:pt x="3915" y="46"/>
                </a:lnTo>
                <a:lnTo>
                  <a:pt x="3902" y="30"/>
                </a:lnTo>
                <a:lnTo>
                  <a:pt x="3886" y="17"/>
                </a:lnTo>
                <a:lnTo>
                  <a:pt x="3869" y="9"/>
                </a:lnTo>
                <a:lnTo>
                  <a:pt x="3850" y="1"/>
                </a:lnTo>
                <a:lnTo>
                  <a:pt x="3829" y="0"/>
                </a:lnTo>
                <a:lnTo>
                  <a:pt x="10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6203880" y="5326200"/>
            <a:ext cx="164304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689880" y="539100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795492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8173080" y="539100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505296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05296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5259240" y="5113440"/>
            <a:ext cx="615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355360" y="514368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141880" y="490536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23908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505296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10588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543708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4900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203880" y="4672080"/>
            <a:ext cx="164304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03880" y="4672080"/>
            <a:ext cx="8222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30920" y="5153040"/>
            <a:ext cx="696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828480" y="518328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292800" y="4905360"/>
            <a:ext cx="63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38856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203880" y="4672080"/>
            <a:ext cx="71280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4188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8161200" y="511344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8257680" y="51436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795492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8189280" y="483408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 path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6203880" y="4672080"/>
            <a:ext cx="164304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795492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454720" y="3879720"/>
            <a:ext cx="312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6451560" y="3718080"/>
            <a:ext cx="10303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540840" y="3735360"/>
            <a:ext cx="94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- Mill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725328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8124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513480" y="3956040"/>
            <a:ext cx="6922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08160" y="398628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7319880" y="3956040"/>
            <a:ext cx="792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414200" y="39862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8167680" y="3956040"/>
            <a:ext cx="380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8263080" y="3986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6507000" y="3879720"/>
            <a:ext cx="180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3903840"/>
            <a:ext cx="606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042240" y="3921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962680" y="404172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5838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492880" y="3963960"/>
            <a:ext cx="345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558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5729400" y="3390840"/>
            <a:ext cx="272880" cy="271440"/>
          </a:xfrm>
          <a:custGeom>
            <a:avLst/>
            <a:gdLst/>
            <a:ahLst/>
            <a:rect l="l" t="t" r="r" b="b"/>
            <a:pathLst>
              <a:path w="345" h="343">
                <a:moveTo>
                  <a:pt x="0" y="86"/>
                </a:moveTo>
                <a:lnTo>
                  <a:pt x="87" y="86"/>
                </a:lnTo>
                <a:lnTo>
                  <a:pt x="87" y="343"/>
                </a:lnTo>
                <a:lnTo>
                  <a:pt x="259" y="343"/>
                </a:lnTo>
                <a:lnTo>
                  <a:pt x="259" y="86"/>
                </a:lnTo>
                <a:lnTo>
                  <a:pt x="345" y="86"/>
                </a:lnTo>
                <a:lnTo>
                  <a:pt x="173" y="0"/>
                </a:lnTo>
                <a:lnTo>
                  <a:pt x="0" y="8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78520" y="3444840"/>
            <a:ext cx="876240" cy="217440"/>
          </a:xfrm>
          <a:custGeom>
            <a:avLst/>
            <a:gdLst/>
            <a:ahLst/>
            <a:rect l="l" t="t" r="r" b="b"/>
            <a:pathLst>
              <a:path w="1104" h="274">
                <a:moveTo>
                  <a:pt x="0" y="173"/>
                </a:moveTo>
                <a:lnTo>
                  <a:pt x="289" y="173"/>
                </a:lnTo>
                <a:lnTo>
                  <a:pt x="289" y="274"/>
                </a:lnTo>
                <a:lnTo>
                  <a:pt x="815" y="274"/>
                </a:lnTo>
                <a:lnTo>
                  <a:pt x="815" y="173"/>
                </a:lnTo>
                <a:lnTo>
                  <a:pt x="1104" y="173"/>
                </a:lnTo>
                <a:lnTo>
                  <a:pt x="552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2682720"/>
            <a:ext cx="384480" cy="271440"/>
          </a:xfrm>
          <a:custGeom>
            <a:avLst/>
            <a:gdLst/>
            <a:ahLst/>
            <a:rect l="l" t="t" r="r" b="b"/>
            <a:pathLst>
              <a:path w="483" h="343">
                <a:moveTo>
                  <a:pt x="0" y="138"/>
                </a:moveTo>
                <a:lnTo>
                  <a:pt x="134" y="138"/>
                </a:lnTo>
                <a:lnTo>
                  <a:pt x="134" y="343"/>
                </a:lnTo>
                <a:lnTo>
                  <a:pt x="350" y="343"/>
                </a:lnTo>
                <a:lnTo>
                  <a:pt x="350" y="138"/>
                </a:lnTo>
                <a:lnTo>
                  <a:pt x="483" y="138"/>
                </a:lnTo>
                <a:lnTo>
                  <a:pt x="242" y="0"/>
                </a:lnTo>
                <a:lnTo>
                  <a:pt x="0" y="1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74532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7808760" y="273672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73"/>
                </a:moveTo>
                <a:lnTo>
                  <a:pt x="162" y="173"/>
                </a:lnTo>
                <a:lnTo>
                  <a:pt x="162" y="274"/>
                </a:lnTo>
                <a:lnTo>
                  <a:pt x="458" y="274"/>
                </a:lnTo>
                <a:lnTo>
                  <a:pt x="458" y="173"/>
                </a:lnTo>
                <a:lnTo>
                  <a:pt x="620" y="173"/>
                </a:lnTo>
                <a:lnTo>
                  <a:pt x="310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707400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780876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808344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8356680" y="2082960"/>
            <a:ext cx="21888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125"/>
                </a:moveTo>
                <a:lnTo>
                  <a:pt x="69" y="125"/>
                </a:lnTo>
                <a:lnTo>
                  <a:pt x="69" y="0"/>
                </a:lnTo>
                <a:lnTo>
                  <a:pt x="207" y="0"/>
                </a:lnTo>
                <a:lnTo>
                  <a:pt x="207" y="125"/>
                </a:lnTo>
                <a:lnTo>
                  <a:pt x="276" y="125"/>
                </a:lnTo>
                <a:lnTo>
                  <a:pt x="138" y="205"/>
                </a:lnTo>
                <a:lnTo>
                  <a:pt x="0" y="1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8356680" y="2736720"/>
            <a:ext cx="218880" cy="217440"/>
          </a:xfrm>
          <a:custGeom>
            <a:avLst/>
            <a:gdLst/>
            <a:ahLst/>
            <a:rect l="l" t="t" r="r" b="b"/>
            <a:pathLst>
              <a:path w="276" h="274">
                <a:moveTo>
                  <a:pt x="0" y="167"/>
                </a:moveTo>
                <a:lnTo>
                  <a:pt x="69" y="167"/>
                </a:lnTo>
                <a:lnTo>
                  <a:pt x="69" y="0"/>
                </a:lnTo>
                <a:lnTo>
                  <a:pt x="207" y="0"/>
                </a:lnTo>
                <a:lnTo>
                  <a:pt x="207" y="167"/>
                </a:lnTo>
                <a:lnTo>
                  <a:pt x="276" y="167"/>
                </a:lnTo>
                <a:lnTo>
                  <a:pt x="138" y="274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7808760" y="344484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01"/>
                </a:moveTo>
                <a:lnTo>
                  <a:pt x="162" y="101"/>
                </a:lnTo>
                <a:lnTo>
                  <a:pt x="162" y="0"/>
                </a:lnTo>
                <a:lnTo>
                  <a:pt x="458" y="0"/>
                </a:lnTo>
                <a:lnTo>
                  <a:pt x="458" y="101"/>
                </a:lnTo>
                <a:lnTo>
                  <a:pt x="620" y="101"/>
                </a:lnTo>
                <a:lnTo>
                  <a:pt x="310" y="274"/>
                </a:lnTo>
                <a:lnTo>
                  <a:pt x="0" y="10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5454720" y="2266920"/>
            <a:ext cx="8287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5715360" y="231156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644800" y="2430360"/>
            <a:ext cx="52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640480" y="2058840"/>
            <a:ext cx="21888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5913360" y="2058840"/>
            <a:ext cx="21924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400720" y="1374840"/>
            <a:ext cx="93168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550200" y="1374840"/>
            <a:ext cx="20811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585200" y="1430280"/>
            <a:ext cx="9360" cy="1497240"/>
            <a:chOff x="7585200" y="1430280"/>
            <a:chExt cx="9360" cy="1497240"/>
          </a:xfrm>
        </p:grpSpPr>
        <p:sp>
          <p:nvSpPr>
            <p:cNvPr id="372" name=""/>
            <p:cNvSpPr/>
            <p:nvPr/>
          </p:nvSpPr>
          <p:spPr>
            <a:xfrm>
              <a:off x="7585200" y="143028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85200" y="149400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85200" y="1557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85200" y="1620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85200" y="1684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85200" y="1747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5200" y="18111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85200" y="18748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5200" y="193824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5200" y="20019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85200" y="20653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85200" y="21286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85200" y="21924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85200" y="22557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85200" y="23194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85200" y="23828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85200" y="24462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85200" y="25099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5200" y="25732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5200" y="26370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5200" y="2700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5200" y="2763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5200" y="2827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5200" y="2890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8172360" y="3390840"/>
            <a:ext cx="5000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8289720" y="34210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615000" y="5481720"/>
            <a:ext cx="163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6706800" y="5524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8906040" y="4863960"/>
            <a:ext cx="163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8996040" y="4906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7134120" y="4672080"/>
            <a:ext cx="71280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7134120" y="4908600"/>
            <a:ext cx="743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7231680" y="49402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718812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723312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751680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756180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37560" y="4232160"/>
            <a:ext cx="517320" cy="427320"/>
            <a:chOff x="7837560" y="4232160"/>
            <a:chExt cx="517320" cy="427320"/>
          </a:xfrm>
        </p:grpSpPr>
        <p:sp>
          <p:nvSpPr>
            <p:cNvPr id="410" name=""/>
            <p:cNvSpPr/>
            <p:nvPr/>
          </p:nvSpPr>
          <p:spPr>
            <a:xfrm>
              <a:off x="7910640" y="4289400"/>
              <a:ext cx="372960" cy="314280"/>
            </a:xfrm>
            <a:custGeom>
              <a:avLst/>
              <a:gdLst/>
              <a:ahLst/>
              <a:rect l="l" t="t" r="r" b="b"/>
              <a:pathLst>
                <a:path w="470" h="396">
                  <a:moveTo>
                    <a:pt x="16" y="0"/>
                  </a:moveTo>
                  <a:lnTo>
                    <a:pt x="0" y="20"/>
                  </a:lnTo>
                  <a:lnTo>
                    <a:pt x="455" y="396"/>
                  </a:lnTo>
                  <a:lnTo>
                    <a:pt x="470" y="37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7560" y="4232160"/>
              <a:ext cx="1159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145" y="33"/>
                  </a:moveTo>
                  <a:lnTo>
                    <a:pt x="0" y="0"/>
                  </a:lnTo>
                  <a:lnTo>
                    <a:pt x="58" y="134"/>
                  </a:lnTo>
                  <a:lnTo>
                    <a:pt x="14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0760" y="4552920"/>
              <a:ext cx="1141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0" y="101"/>
                  </a:moveTo>
                  <a:lnTo>
                    <a:pt x="145" y="134"/>
                  </a:lnTo>
                  <a:lnTo>
                    <a:pt x="86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697360" y="4227480"/>
            <a:ext cx="2440080" cy="399960"/>
            <a:chOff x="5697360" y="4227480"/>
            <a:chExt cx="2440080" cy="399960"/>
          </a:xfrm>
        </p:grpSpPr>
        <p:sp>
          <p:nvSpPr>
            <p:cNvPr id="414" name=""/>
            <p:cNvSpPr/>
            <p:nvPr/>
          </p:nvSpPr>
          <p:spPr>
            <a:xfrm>
              <a:off x="5799240" y="4270320"/>
              <a:ext cx="2238120" cy="314280"/>
            </a:xfrm>
            <a:custGeom>
              <a:avLst/>
              <a:gdLst/>
              <a:ahLst/>
              <a:rect l="l" t="t" r="r" b="b"/>
              <a:pathLst>
                <a:path w="2821" h="396">
                  <a:moveTo>
                    <a:pt x="3" y="0"/>
                  </a:moveTo>
                  <a:lnTo>
                    <a:pt x="0" y="25"/>
                  </a:lnTo>
                  <a:lnTo>
                    <a:pt x="2818" y="396"/>
                  </a:lnTo>
                  <a:lnTo>
                    <a:pt x="2821" y="37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7360" y="4227480"/>
              <a:ext cx="111240" cy="1065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9" y="0"/>
                  </a:moveTo>
                  <a:lnTo>
                    <a:pt x="0" y="50"/>
                  </a:lnTo>
                  <a:lnTo>
                    <a:pt x="122" y="1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28000" y="4522680"/>
              <a:ext cx="109440" cy="1047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133"/>
                  </a:moveTo>
                  <a:lnTo>
                    <a:pt x="139" y="83"/>
                  </a:lnTo>
                  <a:lnTo>
                    <a:pt x="17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724800" y="4238640"/>
            <a:ext cx="833400" cy="396720"/>
            <a:chOff x="6724800" y="4238640"/>
            <a:chExt cx="833400" cy="396720"/>
          </a:xfrm>
        </p:grpSpPr>
        <p:sp>
          <p:nvSpPr>
            <p:cNvPr id="418" name=""/>
            <p:cNvSpPr/>
            <p:nvPr/>
          </p:nvSpPr>
          <p:spPr>
            <a:xfrm>
              <a:off x="6811920" y="4276800"/>
              <a:ext cx="657360" cy="318960"/>
            </a:xfrm>
            <a:custGeom>
              <a:avLst/>
              <a:gdLst/>
              <a:ahLst/>
              <a:rect l="l" t="t" r="r" b="b"/>
              <a:pathLst>
                <a:path w="827" h="403">
                  <a:moveTo>
                    <a:pt x="827" y="23"/>
                  </a:moveTo>
                  <a:lnTo>
                    <a:pt x="816" y="0"/>
                  </a:lnTo>
                  <a:lnTo>
                    <a:pt x="0" y="380"/>
                  </a:lnTo>
                  <a:lnTo>
                    <a:pt x="11" y="403"/>
                  </a:lnTo>
                  <a:lnTo>
                    <a:pt x="8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39040" y="4238640"/>
              <a:ext cx="11916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480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24760" y="4214880"/>
            <a:ext cx="306360" cy="428400"/>
            <a:chOff x="6224760" y="4214880"/>
            <a:chExt cx="306360" cy="428400"/>
          </a:xfrm>
        </p:grpSpPr>
        <p:sp>
          <p:nvSpPr>
            <p:cNvPr id="422" name=""/>
            <p:cNvSpPr/>
            <p:nvPr/>
          </p:nvSpPr>
          <p:spPr>
            <a:xfrm>
              <a:off x="6273720" y="4292640"/>
              <a:ext cx="206280" cy="274680"/>
            </a:xfrm>
            <a:custGeom>
              <a:avLst/>
              <a:gdLst/>
              <a:ahLst/>
              <a:rect l="l" t="t" r="r" b="b"/>
              <a:pathLst>
                <a:path w="260" h="346">
                  <a:moveTo>
                    <a:pt x="20" y="0"/>
                  </a:moveTo>
                  <a:lnTo>
                    <a:pt x="0" y="14"/>
                  </a:lnTo>
                  <a:lnTo>
                    <a:pt x="240" y="346"/>
                  </a:lnTo>
                  <a:lnTo>
                    <a:pt x="260" y="33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24760" y="4214880"/>
              <a:ext cx="102960" cy="11592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131" y="68"/>
                  </a:moveTo>
                  <a:lnTo>
                    <a:pt x="0" y="0"/>
                  </a:lnTo>
                  <a:lnTo>
                    <a:pt x="23" y="145"/>
                  </a:lnTo>
                  <a:lnTo>
                    <a:pt x="13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26360" y="4529160"/>
              <a:ext cx="104760" cy="1141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0" y="77"/>
                  </a:moveTo>
                  <a:lnTo>
                    <a:pt x="131" y="146"/>
                  </a:lnTo>
                  <a:lnTo>
                    <a:pt x="10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632560" y="4235400"/>
            <a:ext cx="1185840" cy="392040"/>
            <a:chOff x="5632560" y="4235400"/>
            <a:chExt cx="1185840" cy="392040"/>
          </a:xfrm>
        </p:grpSpPr>
        <p:sp>
          <p:nvSpPr>
            <p:cNvPr id="426" name=""/>
            <p:cNvSpPr/>
            <p:nvPr/>
          </p:nvSpPr>
          <p:spPr>
            <a:xfrm>
              <a:off x="5729400" y="4276800"/>
              <a:ext cx="993600" cy="311040"/>
            </a:xfrm>
            <a:custGeom>
              <a:avLst/>
              <a:gdLst/>
              <a:ahLst/>
              <a:rect l="l" t="t" r="r" b="b"/>
              <a:pathLst>
                <a:path w="1254" h="391">
                  <a:moveTo>
                    <a:pt x="1254" y="24"/>
                  </a:moveTo>
                  <a:lnTo>
                    <a:pt x="1246" y="0"/>
                  </a:lnTo>
                  <a:lnTo>
                    <a:pt x="0" y="367"/>
                  </a:lnTo>
                  <a:lnTo>
                    <a:pt x="8" y="391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2480" y="423540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37" y="128"/>
                  </a:moveTo>
                  <a:lnTo>
                    <a:pt x="145" y="26"/>
                  </a:lnTo>
                  <a:lnTo>
                    <a:pt x="0" y="0"/>
                  </a:lnTo>
                  <a:lnTo>
                    <a:pt x="37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32560" y="452592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07" y="0"/>
                  </a:moveTo>
                  <a:lnTo>
                    <a:pt x="0" y="102"/>
                  </a:lnTo>
                  <a:lnTo>
                    <a:pt x="145" y="127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496280" y="4238640"/>
            <a:ext cx="833400" cy="396720"/>
            <a:chOff x="7496280" y="4238640"/>
            <a:chExt cx="833400" cy="396720"/>
          </a:xfrm>
        </p:grpSpPr>
        <p:sp>
          <p:nvSpPr>
            <p:cNvPr id="430" name=""/>
            <p:cNvSpPr/>
            <p:nvPr/>
          </p:nvSpPr>
          <p:spPr>
            <a:xfrm>
              <a:off x="7585200" y="4276800"/>
              <a:ext cx="657000" cy="318960"/>
            </a:xfrm>
            <a:custGeom>
              <a:avLst/>
              <a:gdLst/>
              <a:ahLst/>
              <a:rect l="l" t="t" r="r" b="b"/>
              <a:pathLst>
                <a:path w="828" h="403">
                  <a:moveTo>
                    <a:pt x="828" y="23"/>
                  </a:moveTo>
                  <a:lnTo>
                    <a:pt x="817" y="0"/>
                  </a:lnTo>
                  <a:lnTo>
                    <a:pt x="0" y="380"/>
                  </a:lnTo>
                  <a:lnTo>
                    <a:pt x="12" y="403"/>
                  </a:lnTo>
                  <a:lnTo>
                    <a:pt x="8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11960" y="4238640"/>
              <a:ext cx="11772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628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481720" y="3889440"/>
            <a:ext cx="992160" cy="309600"/>
          </a:xfrm>
          <a:prstGeom prst="roundRect">
            <a:avLst>
              <a:gd name="adj" fmla="val 2604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5538960" y="3978360"/>
            <a:ext cx="839520" cy="15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orkp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6613560" y="1442880"/>
            <a:ext cx="806400" cy="56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6864840" y="15667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6799680" y="17240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6618240" y="3024360"/>
            <a:ext cx="1951200" cy="29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6719400" y="3112920"/>
            <a:ext cx="173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Interpreter/Referenc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7761240" y="1460520"/>
            <a:ext cx="816120" cy="306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7866720" y="1646280"/>
            <a:ext cx="59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7944480" y="18032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8011080" y="14875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7761240" y="2309760"/>
            <a:ext cx="811440" cy="18252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7912440" y="2355840"/>
            <a:ext cx="49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936560" y="2482920"/>
            <a:ext cx="46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1D60-35AA-4C28-8586-1302D0791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952880" y="1752480"/>
            <a:ext cx="857520" cy="18756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959360" y="1508040"/>
            <a:ext cx="844560" cy="1746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759120"/>
            <a:ext cx="604800" cy="628560"/>
          </a:xfrm>
          <a:prstGeom prst="can">
            <a:avLst>
              <a:gd name="adj" fmla="val 24240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6475320" y="2058840"/>
            <a:ext cx="606600" cy="2336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7332840" y="3063960"/>
            <a:ext cx="787320" cy="171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7332840" y="4154400"/>
            <a:ext cx="787320" cy="3002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4309920"/>
            <a:ext cx="85572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6175440" y="2546280"/>
            <a:ext cx="85572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5013360" y="2903400"/>
            <a:ext cx="793800" cy="2462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4043520" y="1809720"/>
            <a:ext cx="604800" cy="1619280"/>
          </a:xfrm>
          <a:prstGeom prst="can">
            <a:avLst>
              <a:gd name="adj" fmla="val 5444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279072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995400" y="382896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027160" y="4494240"/>
            <a:ext cx="79380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3251160" y="3156120"/>
            <a:ext cx="484200" cy="726840"/>
          </a:xfrm>
          <a:custGeom>
            <a:avLst/>
            <a:gdLst>
              <a:gd name="textAreaLeft" fmla="*/ 23400 w 484200"/>
              <a:gd name="textAreaRight" fmla="*/ 460800 w 484200"/>
              <a:gd name="textAreaTop" fmla="*/ 23400 h 726840"/>
              <a:gd name="textAreaBottom" fmla="*/ 703440 h 726840"/>
            </a:gdLst>
            <a:ahLst/>
            <a:rect l="textAreaLeft" t="textAreaTop" r="textAreaRight" b="textAreaBottom"/>
            <a:pathLst>
              <a:path w="21600" h="32416">
                <a:moveTo>
                  <a:pt x="3600" y="0"/>
                </a:moveTo>
                <a:arcTo wR="3600" hR="3600" stAng="16200000" swAng="-5400000"/>
                <a:lnTo>
                  <a:pt x="0" y="28816"/>
                </a:lnTo>
                <a:arcTo wR="3600" hR="3600" stAng="10800000" swAng="-5400000"/>
                <a:lnTo>
                  <a:pt x="18000" y="32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1969920" y="3156120"/>
            <a:ext cx="1212840" cy="7268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2941560" y="2365200"/>
            <a:ext cx="79380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941560" y="2055960"/>
            <a:ext cx="793800" cy="2412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46240" y="1689120"/>
            <a:ext cx="793800" cy="3078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1976400" y="2000160"/>
            <a:ext cx="793800" cy="4129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1965240" y="1508040"/>
            <a:ext cx="793800" cy="4222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333399"/>
                </a:solidFill>
                <a:latin typeface="Arial"/>
              </a:rPr>
              <a:t>Functional architecture of intelligent STEP-compliant CNC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90720" y="1143000"/>
          <a:ext cx="72198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2198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A90C-1C3F-4942-B0F2-35418B3FB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7301000">
            <a:off x="205704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 rot="12948600">
            <a:off x="2056680" y="106632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 rot="8701200">
            <a:off x="205704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 rot="4358400">
            <a:off x="205668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 rot="18600">
            <a:off x="205740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243828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CNC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1447920"/>
            <a:ext cx="19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2590920" y="4419720"/>
            <a:ext cx="19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49568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266688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666880"/>
            <a:ext cx="1676520" cy="16002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2895480"/>
            <a:ext cx="149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ea STEP-NC Syst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F2B0-620F-4400-A6D3-BB424CE5B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SFP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361960" cy="1720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Shop-Floor Programming System</a:t>
            </a: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5" name="part%20program(15)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286000" cy="1738440"/>
          </a:xfrm>
          <a:prstGeom prst="rect">
            <a:avLst/>
          </a:prstGeom>
          <a:ln w="0">
            <a:noFill/>
          </a:ln>
        </p:spPr>
      </p:pic>
      <p:pic>
        <p:nvPicPr>
          <p:cNvPr id="486" name="feature%20recogniton-closed_pocket%20dlg(6)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487" name="feature%20list" descr=""/>
          <p:cNvPicPr/>
          <p:nvPr/>
        </p:nvPicPr>
        <p:blipFill>
          <a:blip r:embed="rId4"/>
          <a:stretch/>
        </p:blipFill>
        <p:spPr>
          <a:xfrm>
            <a:off x="3276720" y="1143000"/>
            <a:ext cx="2361960" cy="1494000"/>
          </a:xfrm>
          <a:prstGeom prst="rect">
            <a:avLst/>
          </a:prstGeom>
          <a:ln w="0">
            <a:noFill/>
          </a:ln>
        </p:spPr>
      </p:pic>
      <p:pic>
        <p:nvPicPr>
          <p:cNvPr id="488" name="operation%20list" descr=""/>
          <p:cNvPicPr/>
          <p:nvPr/>
        </p:nvPicPr>
        <p:blipFill>
          <a:blip r:embed="rId5"/>
          <a:stretch/>
        </p:blipFill>
        <p:spPr>
          <a:xfrm>
            <a:off x="6400800" y="3017880"/>
            <a:ext cx="1981080" cy="1422360"/>
          </a:xfrm>
          <a:prstGeom prst="rect">
            <a:avLst/>
          </a:prstGeom>
          <a:ln w="0">
            <a:noFill/>
          </a:ln>
        </p:spPr>
      </p:pic>
      <p:pic>
        <p:nvPicPr>
          <p:cNvPr id="489" name="operation%20attribute" descr=""/>
          <p:cNvPicPr/>
          <p:nvPr/>
        </p:nvPicPr>
        <p:blipFill>
          <a:blip r:embed="rId6"/>
          <a:stretch/>
        </p:blipFill>
        <p:spPr>
          <a:xfrm>
            <a:off x="6934320" y="469440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490" name="tool%20attribute" descr=""/>
          <p:cNvPicPr/>
          <p:nvPr/>
        </p:nvPicPr>
        <p:blipFill>
          <a:blip r:embed="rId7"/>
          <a:stretch/>
        </p:blipFill>
        <p:spPr>
          <a:xfrm>
            <a:off x="6858000" y="1494000"/>
            <a:ext cx="1981080" cy="1328400"/>
          </a:xfrm>
          <a:prstGeom prst="rect">
            <a:avLst/>
          </a:prstGeom>
          <a:ln w="0">
            <a:noFill/>
          </a:ln>
        </p:spPr>
      </p:pic>
      <p:pic>
        <p:nvPicPr>
          <p:cNvPr id="491" name="workingstep%20list" descr=""/>
          <p:cNvPicPr/>
          <p:nvPr/>
        </p:nvPicPr>
        <p:blipFill>
          <a:blip r:embed="rId8"/>
          <a:stretch/>
        </p:blipFill>
        <p:spPr>
          <a:xfrm>
            <a:off x="3505320" y="4780080"/>
            <a:ext cx="2057400" cy="1514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041360" y="3246480"/>
            <a:ext cx="1986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Recogn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091760" y="2133720"/>
            <a:ext cx="1239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380160" y="1295280"/>
            <a:ext cx="1959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Parame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6884640" y="3780000"/>
            <a:ext cx="1456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ration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6105600" y="12952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6181920" y="57610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3723120" y="5684760"/>
            <a:ext cx="1690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Workingstep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1217520" y="4541760"/>
            <a:ext cx="1383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O 14649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Prog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25146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 rot="8014800">
            <a:off x="5929200" y="249984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 rot="13484400">
            <a:off x="5791320" y="4389480"/>
            <a:ext cx="304560" cy="790560"/>
          </a:xfrm>
          <a:prstGeom prst="upArrow">
            <a:avLst>
              <a:gd name="adj1" fmla="val 50000"/>
              <a:gd name="adj2" fmla="val 6489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rot="18411600">
            <a:off x="2833920" y="483192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04" name=""/>
          <p:cNvCxnSpPr>
            <a:stCxn id="487" idx="1"/>
          </p:cNvCxnSpPr>
          <p:nvPr/>
        </p:nvCxnSpPr>
        <p:spPr>
          <a:xfrm flipV="1" rot="10800000">
            <a:off x="2742480" y="1889640"/>
            <a:ext cx="534240" cy="25164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88" idx="0"/>
            <a:endCxn id="490" idx="2"/>
          </p:cNvCxnSpPr>
          <p:nvPr/>
        </p:nvCxnSpPr>
        <p:spPr>
          <a:xfrm flipH="1" flipV="1" rot="5400000">
            <a:off x="7522200" y="2691000"/>
            <a:ext cx="196200" cy="457920"/>
          </a:xfrm>
          <a:prstGeom prst="curvedConnector5">
            <a:avLst>
              <a:gd name="adj1" fmla="val 49448"/>
              <a:gd name="adj2" fmla="val 49960"/>
              <a:gd name="adj3" fmla="val 4944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88" idx="2"/>
            <a:endCxn id="489" idx="0"/>
          </p:cNvCxnSpPr>
          <p:nvPr/>
        </p:nvCxnSpPr>
        <p:spPr>
          <a:xfrm flipH="1" rot="16200000">
            <a:off x="7530120" y="4300560"/>
            <a:ext cx="254880" cy="53388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1066680" y="43743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3108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965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6781680" y="361224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559368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EB71-8B9E-4E28-A937-070EADDE7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Code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SNC%20part%20program(18)%20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78240" cy="3084480"/>
          </a:xfrm>
          <a:prstGeom prst="rect">
            <a:avLst/>
          </a:prstGeom>
          <a:ln w="0">
            <a:noFill/>
          </a:ln>
        </p:spPr>
      </p:pic>
      <p:pic>
        <p:nvPicPr>
          <p:cNvPr id="514" name="codeviewer(16)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99320" cy="4159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419720" y="1143000"/>
            <a:ext cx="396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 of a part program by a Code View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 flipV="1" rot="5779800">
            <a:off x="3727440" y="2882880"/>
            <a:ext cx="317520" cy="2286000"/>
          </a:xfrm>
          <a:custGeom>
            <a:avLst/>
            <a:gdLst/>
            <a:ahLst/>
            <a:rect l="l" t="t" r="r" b="b"/>
            <a:pathLst>
              <a:path w="56" h="384">
                <a:moveTo>
                  <a:pt x="8" y="0"/>
                </a:moveTo>
                <a:cubicBezTo>
                  <a:pt x="4" y="88"/>
                  <a:pt x="0" y="176"/>
                  <a:pt x="8" y="240"/>
                </a:cubicBezTo>
                <a:cubicBezTo>
                  <a:pt x="16" y="304"/>
                  <a:pt x="36" y="344"/>
                  <a:pt x="56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82E1-68AC-48A4-BE3E-7515B7714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67080" y="1066680"/>
            <a:ext cx="3810240" cy="3200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G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Generat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295280" y="1295280"/>
          <a:ext cx="678204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78204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16D1-9DEE-4647-A852-2A410C4839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V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2" name="viewer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94360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3" name="pocket" descr=""/>
          <p:cNvPicPr/>
          <p:nvPr/>
        </p:nvPicPr>
        <p:blipFill>
          <a:blip r:embed="rId2"/>
          <a:srcRect l="27682" t="16407" r="0" b="8204"/>
          <a:stretch/>
        </p:blipFill>
        <p:spPr>
          <a:xfrm>
            <a:off x="5715000" y="3922560"/>
            <a:ext cx="2975040" cy="2325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3962520" y="2743200"/>
            <a:ext cx="1447560" cy="838080"/>
          </a:xfrm>
          <a:prstGeom prst="ellipse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rot="2728800">
            <a:off x="5181840" y="3580200"/>
            <a:ext cx="868320" cy="381240"/>
          </a:xfrm>
          <a:prstGeom prst="rightArrow">
            <a:avLst>
              <a:gd name="adj1" fmla="val 50000"/>
              <a:gd name="adj2" fmla="val 569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6FB3-FFA3-4312-963A-683BF6CDB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MMI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Man-Machine Interf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25080" y="5576760"/>
            <a:ext cx="2360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K/Axis Monito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5642640" y="5576760"/>
            <a:ext cx="2306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Program View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9" name="PosMMI-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289400" cy="4103640"/>
          </a:xfrm>
          <a:prstGeom prst="rect">
            <a:avLst/>
          </a:prstGeom>
          <a:ln w="0">
            <a:noFill/>
          </a:ln>
        </p:spPr>
      </p:pic>
      <p:pic>
        <p:nvPicPr>
          <p:cNvPr id="530" name="PosMMI-2" descr=""/>
          <p:cNvPicPr/>
          <p:nvPr/>
        </p:nvPicPr>
        <p:blipFill>
          <a:blip r:embed="rId2"/>
          <a:stretch/>
        </p:blipFill>
        <p:spPr>
          <a:xfrm>
            <a:off x="4626000" y="1295280"/>
            <a:ext cx="42894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1D6B-D1AC-4614-8E91-FA5B063CB1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02:12:30Z</dcterms:created>
  <dc:creator>WVMT</dc:creator>
  <dc:description/>
  <dc:language>en-US</dc:language>
  <cp:lastModifiedBy>jhcho</cp:lastModifiedBy>
  <dcterms:modified xsi:type="dcterms:W3CDTF">2001-06-20T02:58:05Z</dcterms:modified>
  <cp:revision>1808</cp:revision>
  <dc:subject/>
  <dc:title>Full system modeling of  Shop Floor System for STEP-NC</dc:title>
</cp:coreProperties>
</file>