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E345-B18F-4BEC-A5CA-D350C0ACB7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e chart showing the same as the previous slide by prop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TED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ws formation of involute pro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erence slide… normally hid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erence slide… normally hid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erence slide… normally hid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gears rotate, the point of contact moves along a straight line (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ntact lin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). This line at angle alpha (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pressure ang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) is always normal to the 2 mating tooth surfaces at the point of contact and is tangential to the base cir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erence slide… normally hid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e chart showing the same as the previous slide by prop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D69-7CD9-4EBB-AA76-AFFA031E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BB4-6BE7-4045-B00C-7FE7FE4C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43C-BFEF-43BA-92BE-FC575FFE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2A3-FD77-4B6A-804A-3268C3EF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7EE-BA51-473A-8D18-64E5D7F9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F9B-731F-47E1-B448-A1738291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35B-127C-435D-8C97-EC5BB4C6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FE4-7738-4586-81AF-99ACC587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CB5-D685-4F39-97BA-0A02BDED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997-7FBA-42E9-8D7E-445C7639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9D4-9E7D-4F41-B841-CE0572D4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BA7-58B1-48DD-9923-8733D4B3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FACF-24E6-44E9-B067-7D1DE1C13210}" type="datetime2">
              <a:rPr b="1" lang="en-US" sz="1400" spc="-1" strike="noStrike">
                <a:solidFill>
                  <a:srgbClr val="ffff00"/>
                </a:solidFill>
                <a:latin typeface="Arial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5005-EECD-4124-9DB9-1DDF5195F8A7}" type="slidenum">
              <a:rPr b="1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C4 Preliminary Work Item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P224 - extension for gear manufact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191120"/>
            <a:ext cx="914400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ony Fry - UK 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ISO TC184 / SC4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10th - 15th June 2001 - San Fran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Dtech_jpg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205740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dlo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361960" cy="833400"/>
          </a:xfrm>
          <a:prstGeom prst="rect">
            <a:avLst/>
          </a:prstGeom>
          <a:ln w="0">
            <a:noFill/>
          </a:ln>
        </p:spPr>
      </p:pic>
      <p:pic>
        <p:nvPicPr>
          <p:cNvPr id="53" name="Shipsworldwide" descr=""/>
          <p:cNvPicPr/>
          <p:nvPr/>
        </p:nvPicPr>
        <p:blipFill>
          <a:blip r:embed="rId4"/>
          <a:stretch/>
        </p:blipFill>
        <p:spPr>
          <a:xfrm>
            <a:off x="5410080" y="4038480"/>
            <a:ext cx="3581640" cy="275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165-728E-429A-8C35-314D7D63A9C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782F3-620C-48A3-9071-83438DFC4192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ored Unit Cost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s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90440" y="1544760"/>
          <a:ext cx="8763120" cy="42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544760"/>
                    <a:ext cx="876312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127-EC42-471D-8428-36F1E79DC4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4C725-573E-49F4-B5DD-254BC898054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ored Unit Cost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s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04920" y="1447920"/>
          <a:ext cx="8458200" cy="45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458200" cy="45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04A-AFFB-46A2-AC6C-642E7BEB121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98B39-0020-432E-9E98-8418E2E2DDA0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anking of types according to Nav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pur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elical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vel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orm g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cks / pi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ear quadrants (various fo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1E1-4279-418C-AC6B-4856F8E0E1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CCDFE-AA2F-4713-98EE-1A9F63B67B1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ased upon analysis &amp; technical ease of representation within AP2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pur gears / gearshaf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&gt; 50% stor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elical gears / gear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20% stor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thers represent &lt; 10% store cost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uggested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flipH="1">
            <a:off x="7372080" y="3048120"/>
            <a:ext cx="398520" cy="5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flipH="1">
            <a:off x="7373520" y="4214880"/>
            <a:ext cx="398520" cy="58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8DA-06F6-44E4-9075-F7D438D0C0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69971-CF74-4627-83DD-B209F07BBE13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uggested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Tooth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vol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ost common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ully defined by reference to 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utters can be cheaply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asy to obtain correct interme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lerant of centre distance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379-B44B-4482-838F-B237F25854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061D0-7E6F-4708-A312-87FBAE3FB80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71968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BCC-3F0B-4810-81DB-F72F6E90A74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1E5F2-E634-4332-A658-C13AE28AF713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Gear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pur and helical g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roadest application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arallel shafting gear 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ide range of velocity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igh speed and load capa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nsideration in representation to be given to future extension to include other gear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01DB-4CBB-47D7-B484-07E20D0B98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70B1E-170C-4FC1-9725-3860CE09CF4B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Overview of representation of spur &amp; helical g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pecification of basic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umber of teeth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rmal module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eference pressure angle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ack shift factor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minal tooth depth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h/m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ace width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ip diameter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GB" sz="28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411264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t dissimilar to (but more complex than) data required to specify screw threads, knu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416-EF54-4334-90E7-73EEBD00E3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7553D-945D-4B6F-B43E-BF26971AD1A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ference cylinder,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7040" y="1620720"/>
            <a:ext cx="3076560" cy="2646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4419720"/>
            <a:ext cx="8076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ference cylind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reference surface of a cylindrical g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ference diamet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Univers-Light"/>
              </a:rPr>
              <a:t>diameter of the reference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Univers-Light"/>
              </a:rPr>
              <a:t>Reference surface</a:t>
            </a:r>
            <a:r>
              <a:rPr b="0" lang="en-GB" sz="2400" spc="-1" strike="noStrike">
                <a:solidFill>
                  <a:srgbClr val="000000"/>
                </a:solidFill>
                <a:latin typeface="Univers-Light"/>
              </a:rPr>
              <a:t> = imaginary conventional surface relative to which the dimensions of the teeth of a gear are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DED-DE95-45FC-BB61-C3EF731E95D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28268-2846-4A16-AF21-56E47326A982}" type="datetime2">
              <a:rPr lang="en-US"/>
              <a:t>Wednesday, July 29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rmal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43828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rmal modu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quotient of the pitch at the reference surfa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ressed in millimetres, divided b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419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rmal modu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reference diameter/number of teeth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/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657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641-A40F-4A00-9118-A4D503F57D9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5DF03-135D-4A35-AE63-89A7BF85123C}" type="datetime2">
              <a:rPr lang="en-US"/>
              <a:t>Wednesday, July 29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P224 - Extension for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Gear Manufactur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Economic case for inclusion of g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uggeste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Gear representatio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ther potential AP224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24E-9496-46E6-BE71-8B6CD54B5B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1AC44-F1C2-4CFF-96E3-37C83C0F523C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ference pressure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gears rotate, the point of contact moves along a straight line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act l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This line at angl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essure ang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always normal to the two mating tooth surfaces at the point of contact and is tangential to the base 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19240" y="1590840"/>
            <a:ext cx="5372280" cy="2066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248520" y="5105520"/>
            <a:ext cx="2743200" cy="158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A09-B023-4BF2-851B-F78F8A78EAC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D1831-91B0-47F4-9BD4-1E955C23CC9B}" type="datetime2">
              <a:rPr lang="en-US"/>
              <a:t>Wednesday, July 29, 20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oth dep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710240"/>
            <a:ext cx="7772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ooth dept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GB" sz="2400" spc="-1" strike="noStrike">
                <a:solidFill>
                  <a:srgbClr val="000000"/>
                </a:solidFill>
                <a:latin typeface="Univers-Light"/>
              </a:rPr>
              <a:t>radial distance between the tip and root 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Univers-Light"/>
              </a:rPr>
              <a:t>Nominal tooth depth = h/m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Univers-Light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696360" cy="2147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19520" y="17524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7339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t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590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p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B0F-7CC6-44A3-8074-06DB8181F8F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152CF-8F30-488E-8965-351947512582}" type="datetime2">
              <a:rPr lang="en-US"/>
              <a:t>Wednesday, July 29, 20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presentation of basic geometric information for gears 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RM EXPRESS-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943600" cy="55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370-35FE-4D94-979F-F84FCB88C00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D22C3-FC3B-480E-9A2C-9D97A0C6F09D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Other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nspection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urface trea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ccuracy / tole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eshing inform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ofile &amp; / or helix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*Form of explicit geometry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7CC-7054-4E01-912D-E85E9FCE111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435E0-137E-4D01-AFDC-4D61057F2046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Other Potential AP224 ed3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ferences to standard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clude bought-out items in assembl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armonisation with AP2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ast base shape datum harmonis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mposite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acilitate the use of composite base sha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881-9325-40A8-885D-EEA4C0D4BD2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9D3FE-05E7-438E-A8B5-626A3720E36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conomic Case for Inclusion of G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dentification of gears and gear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reakdown into gear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nalysis of numbers of s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nalysis of value of s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Justification of suggested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9BB-6F07-4301-ACDC-CE6F45D6E2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FD4A0-9977-4B19-BEA4-8665F517070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dentification of gears &amp; geare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view scoped over entire naval 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echnical data in 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mmercial data in CR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upply classifications indicated good starting po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SC 3010 - “torque converters &amp; speed chang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179-1FB9-46B9-A2DD-8C161DB12E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039B6-BE12-470E-9F62-AF16D10D1AFC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dentification of gears &amp; geare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ocused on single piece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ssemblies not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ence, numbers and values are conserv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ide range of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ood mixer to main driv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EB1-D1D7-4D1E-A230-02994C7F3E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2E9CA-F2CC-4670-83DB-053071FACCDC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Total number of units in store a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6,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Total value of stored units a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£4,000,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A34-28D5-4951-9B65-0B9BBB5627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EAF74-0034-4B36-A4F0-8B04CD92C6D9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view of UK Naval Spares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reakdown of gear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pur gears / gear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Helical gears / gear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vel gears / gear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orm gears / gear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ear quad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cks &amp; pi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190-C081-4BB3-81BA-7CC82BB206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F9BC6-C5B8-4EF5-9D69-A7E4B2BD14D4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ores Held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s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8600" y="1295280"/>
          <a:ext cx="86868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868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044-AAC5-4D5F-87FE-2B3D5B2A9E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5A74F-5514-4555-B458-32AA26F89967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ores Held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s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04920" y="1523880"/>
          <a:ext cx="861048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61048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24 STEP Manufacturing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9FF-9175-4E25-95B0-53920CDE47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51124-2FCE-478F-8390-86740E019EB1}" type="datetime2">
              <a:rPr lang="en-US"/>
              <a:t>Wednesday, 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C</cp:lastModifiedBy>
  <cp:lastPrinted>2001-06-08T13:21:08Z</cp:lastPrinted>
  <dcterms:modified xsi:type="dcterms:W3CDTF">2001-06-15T15:23:34Z</dcterms:modified>
  <cp:revision>33</cp:revision>
  <dc:subject/>
  <dc:title>PowerPoint Presentation</dc:title>
</cp:coreProperties>
</file>