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65E6-3FE0-4F52-BCDA-7AB3772FA9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D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s formation of involute pro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. This line at angle alpha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 is always normal to the 2 mating tooth surfaces at the point of contact and is tangential to the base 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5FF-DDCB-4D61-ABF7-2335BE75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A8E-4706-4EB2-A85F-82198BB4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55D-9C41-4EF1-9A1E-94673FD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961-9D03-4EA1-93AE-75C6552A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1A9-3659-44CB-9474-F6A0D940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9CA-5E0A-4780-A7AF-439F826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A6E-E684-4BB5-B8D1-51EDF02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750-FD2D-4B9A-A685-AA4E4EAB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53F-0763-4603-9703-A00F297D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F66-4726-4136-9A8B-4CBFE48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634-526C-4B9C-9014-DAB80C1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792-6CDF-4E85-ACE4-E996156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01BE-0B50-4DF7-8A1F-018042614711}" type="datetime2">
              <a:rPr b="1" lang="en-US" sz="1400" spc="-1" strike="noStrike">
                <a:solidFill>
                  <a:srgbClr val="ffff00"/>
                </a:solidFill>
                <a:latin typeface="Arial"/>
              </a:rPr>
              <a:t>Friday, July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2A7-41F5-4B47-804F-64C18CFE762F}" type="slidenum">
              <a:rPr b="1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C4 Preliminary Work Item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P224 - extension for gear manufact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ony Fry - UK 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SO TC184 / SC4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0th - 15th June 2001 - 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tech_jpg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05740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dlo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361960" cy="833400"/>
          </a:xfrm>
          <a:prstGeom prst="rect">
            <a:avLst/>
          </a:prstGeom>
          <a:ln w="0">
            <a:noFill/>
          </a:ln>
        </p:spPr>
      </p:pic>
      <p:pic>
        <p:nvPicPr>
          <p:cNvPr id="53" name="Shipsworldwide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358164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FE4-D9E8-4594-ACEB-37C3A140D0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3C673-0689-4FB9-B87E-040C5591A92A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0440" y="1544760"/>
          <a:ext cx="876312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44760"/>
                    <a:ext cx="876312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B02-B423-4530-8CE5-4DD3A3CC65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0CE56-1EC5-454A-9691-A0D9B0741BC5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447920"/>
          <a:ext cx="8458200" cy="45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E93-BC0C-41AE-99B2-447A113FBA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40964-001A-4600-9853-249CFAC72920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anking of types according to Nav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/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 (various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B1E-A3B0-46EF-A3C9-3996FA8094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62BBC-AFE4-4371-84FE-200D68313A50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ed upon analysis &amp; technical ease of representation within AP2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&gt; 5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2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s represent &lt; 10% store cost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7372080" y="304812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>
            <a:off x="7373520" y="4214880"/>
            <a:ext cx="398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B1B-5BEF-4C29-B6B4-C43F1153DF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B3819-0739-4AB3-BECF-1335A00CD030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Tooth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v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commo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lly defined by reference to 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utters can be cheaply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sy to obtain correct interme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lerant of centre distance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B54-9BEF-4776-8CE9-F71FA24D07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9CF9E-15C7-4107-B44D-D509C66C9928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1968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6DD-2188-4088-8CE6-39E4730DD3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7CDFF-09E4-4801-B5F5-724DA0DC802F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Gear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ur and helical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adest applica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rallel shafting 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ide range of velocity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igh speed and load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ideration in representation to be given to future extension to include other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FB2-2E59-489D-9AF5-F9528CFA32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E3DA0-1B52-41AA-9344-320B172CB2D8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verview of representation of spur &amp; helical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ecification of basic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umber of tee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rmal module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ference pressure angle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ack shift factor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minal tooth dep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h/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ace wid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ip diameter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126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dissimilar to (but more complex than) data required to specify screw threads, kn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035-9169-404E-A301-48D50919F4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82603-D2B0-4F57-A3BB-7ABC5CFC002E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cylinder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1620720"/>
            <a:ext cx="3076560" cy="264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44197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cylin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surface of a cylindrical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di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diameter of the reference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Reference surface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 = imaginary conventional surface relative to which the dimensions of the teeth of a gear ar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962-847A-4124-A7DF-9937FE1C46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61F0-5D7A-4A22-9154-48F1D57735F4}" type="datetime2">
              <a:rPr lang="en-US"/>
              <a:t>Friday, July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quotient of the pitch at the reference surf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sed in millimetres, divided b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19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diameter/number of teeth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173-EB4A-4D41-8CE7-41F69A3AEA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39AA6-46FF-4F77-9175-A27FD6C7AA7E}" type="datetime2">
              <a:rPr lang="en-US"/>
              <a:t>Friday, July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P224 - Extension for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ear Manufactu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ear repres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 potential AP224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5A2-6368-43BB-8FB5-238D3B8B19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D74FF-9C4D-4E2B-919F-CEE23C4E65E7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pressure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This line at angl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always normal to the two mating tooth surfaces at the point of contact and is tangential to the base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19240" y="1590840"/>
            <a:ext cx="537228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2743200" cy="15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3A1-ECE7-4EAE-9BF8-70868503DF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C169A-5C8E-47EF-8975-D41DBE5B258C}" type="datetime2">
              <a:rPr lang="en-US"/>
              <a:t>Friday, July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oth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7102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oth dep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radial distance between the tip and root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Nominal tooth depth = h/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Univers-Light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96360" cy="21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1752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733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p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1AD-0541-4EAF-8C46-28912DCA92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7B7B9-E79D-4232-99AB-8899B006121B}" type="datetime2">
              <a:rPr lang="en-US"/>
              <a:t>Friday, July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resentation of basic geometric information for gears 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M EXPRESS-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94360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8F3-7963-4799-809E-E737C2A4E04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04204-D5E8-44B1-A913-17312017A071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spec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rface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curacy /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shing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file &amp; / or helix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*Form of explicit geomet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B40-54B5-45C9-955C-3E3A35A546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60DF-E625-4041-A10D-B2FC0D470622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Potential AP224 ed3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erences to standard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clude bought-out items in assembl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rmonisation with AP2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st base shape datum harmonis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osit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litate the use of composite base sha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AED-4151-4787-8069-53841A5B97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886D6-E190-4D01-8835-8531BD7A2542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dentification of gears and gear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eakdown into gea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numbers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value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Justification of suggested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DDC-AD09-47C5-B647-416B89E55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5B1CE-BFD3-40DD-B0DE-11781E3B141D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view scoped over entire naval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chnical data in 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ercial data in CR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pply classifications indicated good starting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SC 3010 - “torque converters &amp; speed chang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E4E-DB2B-4127-A755-E3B03CF71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3031B-A473-4342-877F-53D446C1DE54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cused on single piec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emblies 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ence, numbers and values are conser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ide range of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od mixer to main driv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2B5-18D2-41D7-AB53-E09DF06038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EF26B-BD14-4777-BF6F-5EF14F38D535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number of units in store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6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value of stored unit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£4,00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1C8-88D5-4D07-8802-586EB7C89E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B7DE8-0ED5-47F7-8027-F7E50FC0BD26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eakdown of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&amp;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0ED-6880-4330-A937-BC1DFECF16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CC9A0-9190-4A2E-AAB9-C24A108C4B09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295280"/>
          <a:ext cx="86868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92D-325F-478C-8A8B-31A13D5A74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E9AF0-4AF9-4E3B-82D8-84E199C64B76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523880"/>
          <a:ext cx="861048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BD0-23D1-40BF-9802-7CADA7246D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239F8-924A-4E70-8328-C15959CA28CB}" type="datetime2">
              <a:rPr lang="en-US"/>
              <a:t>Friday, 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C</cp:lastModifiedBy>
  <cp:lastPrinted>2001-06-08T13:21:08Z</cp:lastPrinted>
  <dcterms:modified xsi:type="dcterms:W3CDTF">2001-06-15T15:23:34Z</dcterms:modified>
  <cp:revision>33</cp:revision>
  <dc:subject/>
  <dc:title>PowerPoint Presentation</dc:title>
</cp:coreProperties>
</file>