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7800" y="4354200"/>
            <a:ext cx="5162760" cy="47703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3280" bIns="53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22200" y="687240"/>
            <a:ext cx="4592880" cy="3445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987720" y="0"/>
            <a:ext cx="3051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87720" y="8726400"/>
            <a:ext cx="305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726400"/>
            <a:ext cx="305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3051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87720" y="0"/>
            <a:ext cx="3051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87720" y="8726400"/>
            <a:ext cx="305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8726400"/>
            <a:ext cx="305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3051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87720" y="0"/>
            <a:ext cx="3051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87720" y="8726400"/>
            <a:ext cx="305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726400"/>
            <a:ext cx="305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3051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87720" y="0"/>
            <a:ext cx="3051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87720" y="8726400"/>
            <a:ext cx="305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8726400"/>
            <a:ext cx="305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3051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86280" y="0"/>
            <a:ext cx="305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86280" y="8724960"/>
            <a:ext cx="3054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-3240" y="8724960"/>
            <a:ext cx="3052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-3240" y="0"/>
            <a:ext cx="305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390600" y="4285800"/>
            <a:ext cx="6492960" cy="451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STANDARDS Are NEEDED to ENABLE 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to business communications of Industrial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acing drawings/supporting info with electronic for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  scrap/rework parts b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25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3-5% of co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en time for engineering changes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 - 45 d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time to market - New product  Autos - 5 yrs &lt; 24 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# engineeri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r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diffe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use - enhance a proven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ordination among functions within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ordination among suppli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% of value of car is out sourced and grow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ause systems can’t communicate there are big losses in productiv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eing -- a 500 Million a year probl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worldwide agreements on the content and form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created once --  used again and again for downstream func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4320" cy="3444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1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45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99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94920" y="5335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1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45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99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4920" y="5335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700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2" marL="1206360" indent="-24264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3" marL="1689120" indent="-243000">
              <a:spcBef>
                <a:spcPts val="700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4" marL="2170080" indent="-241200">
              <a:spcBef>
                <a:spcPts val="700"/>
              </a:spcBef>
              <a:buClr>
                <a:srgbClr val="006666"/>
              </a:buClr>
              <a:buFont typeface="Times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5" marL="2170080" indent="-2412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6" marL="2170080" indent="-2412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104292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85800" y="64008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Garamond"/>
              </a:rPr>
              <a:t>NIST  •  Manufacturing Engineering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863720" cy="1905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04920" y="5902200"/>
            <a:ext cx="2971800" cy="627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457200" indent="23760" algn="ctr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2" marL="914400" indent="49320" algn="ctr">
              <a:spcBef>
                <a:spcPts val="499"/>
              </a:spcBef>
              <a:buClr>
                <a:srgbClr val="006666"/>
              </a:buClr>
              <a:buFont typeface="Times"/>
              <a:buChar char="•"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3" marL="1371600" indent="74520" algn="ctr">
              <a:spcBef>
                <a:spcPts val="499"/>
              </a:spcBef>
              <a:buClr>
                <a:srgbClr val="006666"/>
              </a:buClr>
              <a:buFont typeface="Times"/>
              <a:buChar char="–"/>
              <a:tabLst>
                <a:tab algn="l" pos="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4" marL="1828800" indent="100080" algn="ctr">
              <a:spcBef>
                <a:spcPts val="499"/>
              </a:spcBef>
              <a:buClr>
                <a:srgbClr val="006666"/>
              </a:buClr>
              <a:buFont typeface="Times"/>
              <a:buChar char="»"/>
              <a:tabLst>
                <a:tab algn="l" pos="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5" marL="1828800" indent="10008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6" marL="1828800" indent="10008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STEP-NC</a:t>
            </a:r>
            <a:br>
              <a:rPr sz="4000"/>
            </a:b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Proposed Methods</a:t>
            </a:r>
            <a:br>
              <a:rPr sz="4000"/>
            </a:b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for</a:t>
            </a:r>
            <a:br>
              <a:rPr sz="4000"/>
            </a:b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Implementation Testing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3733920"/>
            <a:ext cx="41907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Fred Proctor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Control System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Group Leader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NIST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5" name="centlogo_3165_sml" descr=""/>
          <p:cNvPicPr/>
          <p:nvPr/>
        </p:nvPicPr>
        <p:blipFill>
          <a:blip r:embed="rId1"/>
          <a:stretch/>
        </p:blipFill>
        <p:spPr>
          <a:xfrm>
            <a:off x="7543800" y="5943600"/>
            <a:ext cx="1305000" cy="619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88000" y="3733920"/>
            <a:ext cx="3848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imon Frech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Manufactur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Metrology Group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N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172200" y="4759200"/>
            <a:ext cx="1333440" cy="36828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26546"/>
              <a:gd name="adj5" fmla="val -217870"/>
              <a:gd name="adj6" fmla="val -5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51800" y="2587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93640" y="2600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38560" y="354024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06800" y="3333600"/>
            <a:ext cx="1119600" cy="892080"/>
            <a:chOff x="7606800" y="3333600"/>
            <a:chExt cx="1119600" cy="892080"/>
          </a:xfrm>
        </p:grpSpPr>
        <p:pic>
          <p:nvPicPr>
            <p:cNvPr id="232" name="stepnc-smp-part" descr=""/>
            <p:cNvPicPr/>
            <p:nvPr/>
          </p:nvPicPr>
          <p:blipFill>
            <a:blip r:embed="rId1"/>
            <a:stretch/>
          </p:blipFill>
          <p:spPr>
            <a:xfrm>
              <a:off x="7675200" y="3384360"/>
              <a:ext cx="9907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616520" y="3735000"/>
              <a:ext cx="273240" cy="4352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7857000" y="3083400"/>
              <a:ext cx="285480" cy="7858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800000">
              <a:off x="8299080" y="3346200"/>
              <a:ext cx="395280" cy="4096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8178840" y="3614400"/>
              <a:ext cx="390240" cy="7048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32440" y="4035240"/>
              <a:ext cx="314280" cy="190440"/>
            </a:xfrm>
            <a:custGeom>
              <a:avLst/>
              <a:gdLst/>
              <a:ahLst/>
              <a:rect l="l" t="t" r="r" b="b"/>
              <a:pathLst>
                <a:path w="123" h="81">
                  <a:moveTo>
                    <a:pt x="0" y="33"/>
                  </a:moveTo>
                  <a:lnTo>
                    <a:pt x="72" y="0"/>
                  </a:lnTo>
                  <a:lnTo>
                    <a:pt x="123" y="8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32360" y="3639960"/>
              <a:ext cx="104760" cy="161640"/>
            </a:xfrm>
            <a:custGeom>
              <a:avLst/>
              <a:gdLst/>
              <a:ahLst/>
              <a:rect l="l" t="t" r="r" b="b"/>
              <a:pathLst>
                <a:path w="54" h="96">
                  <a:moveTo>
                    <a:pt x="6" y="0"/>
                  </a:moveTo>
                  <a:lnTo>
                    <a:pt x="54" y="72"/>
                  </a:lnTo>
                  <a:lnTo>
                    <a:pt x="0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219640" y="354024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48440" y="354024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354024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fbmach" descr=""/>
          <p:cNvPicPr/>
          <p:nvPr/>
        </p:nvPicPr>
        <p:blipFill>
          <a:blip r:embed="rId2"/>
          <a:stretch/>
        </p:blipFill>
        <p:spPr>
          <a:xfrm>
            <a:off x="3857760" y="3119400"/>
            <a:ext cx="1136520" cy="1174680"/>
          </a:xfrm>
          <a:prstGeom prst="rect">
            <a:avLst/>
          </a:prstGeom>
          <a:ln w="0">
            <a:noFill/>
          </a:ln>
        </p:spPr>
      </p:pic>
      <p:pic>
        <p:nvPicPr>
          <p:cNvPr id="243" name="cam" descr=""/>
          <p:cNvPicPr/>
          <p:nvPr/>
        </p:nvPicPr>
        <p:blipFill>
          <a:blip r:embed="rId3"/>
          <a:stretch/>
        </p:blipFill>
        <p:spPr>
          <a:xfrm>
            <a:off x="1959120" y="3305160"/>
            <a:ext cx="1155600" cy="870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94720" y="2600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83760" y="2600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50800" y="2600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ridgeport" descr=""/>
          <p:cNvPicPr/>
          <p:nvPr/>
        </p:nvPicPr>
        <p:blipFill>
          <a:blip r:embed="rId4"/>
          <a:stretch/>
        </p:blipFill>
        <p:spPr>
          <a:xfrm>
            <a:off x="5794200" y="2981160"/>
            <a:ext cx="1114560" cy="1447920"/>
          </a:xfrm>
          <a:prstGeom prst="rect">
            <a:avLst/>
          </a:prstGeom>
          <a:ln w="0">
            <a:noFill/>
          </a:ln>
        </p:spPr>
      </p:pic>
      <p:pic>
        <p:nvPicPr>
          <p:cNvPr id="248" name="blueprint" descr=""/>
          <p:cNvPicPr/>
          <p:nvPr/>
        </p:nvPicPr>
        <p:blipFill>
          <a:blip r:embed="rId5"/>
          <a:stretch/>
        </p:blipFill>
        <p:spPr>
          <a:xfrm>
            <a:off x="461880" y="3398760"/>
            <a:ext cx="803520" cy="6382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The Overall Process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753000" y="2021040"/>
            <a:ext cx="495000" cy="380880"/>
          </a:xfrm>
          <a:prstGeom prst="rightArrow">
            <a:avLst>
              <a:gd name="adj1" fmla="val 50000"/>
              <a:gd name="adj2" fmla="val 714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fbmach" descr=""/>
          <p:cNvPicPr/>
          <p:nvPr/>
        </p:nvPicPr>
        <p:blipFill>
          <a:blip r:embed="rId1"/>
          <a:stretch/>
        </p:blipFill>
        <p:spPr>
          <a:xfrm>
            <a:off x="4371840" y="1600200"/>
            <a:ext cx="1136880" cy="1174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734080" y="202104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28840" y="1676520"/>
            <a:ext cx="2209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Spe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05400" y="2021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AM Conformance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Is the STEP NC output correct for the given data and specifications?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marL="318240" indent="-31824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Validation is difficult - cannot simply provide reference data sets for comparison, since there is no unique output for a given input, e.g.,  independent feature ordering (at least) is arbitrary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9360" y="2743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AM Conformance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Conformance of a STEP NC implementation to STEP file format, and STEP NC schemas is relatively straightforward with software (e.g., STEP Tools)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-361800">
              <a:spcBef>
                <a:spcPts val="601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Verification that a STEP NC implementation produces a valid process plan for the given design is more difficult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499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olid model NC verification of STEP NC implementation output against the part design is a possible solution, some sort of rule-based tool is another possible solution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499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this compares the resulting solid model properties with the design model properties, e.g., dimensions, mass properties, etc.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499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irst action may be to translate STEP NC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 ISO 6983 (G code) and then use some existing NC verification software, such as, 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</a:rPr>
              <a:t>Virtual Gibbs</a:t>
            </a: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 - better would be native STEP NC verification tool (reference implementation)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usttool" descr=""/>
          <p:cNvPicPr/>
          <p:nvPr/>
        </p:nvPicPr>
        <p:blipFill>
          <a:blip r:embed="rId1"/>
          <a:stretch/>
        </p:blipFill>
        <p:spPr>
          <a:xfrm>
            <a:off x="6114960" y="531504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3523680" y="5562720"/>
            <a:ext cx="495000" cy="380880"/>
          </a:xfrm>
          <a:prstGeom prst="rightArrow">
            <a:avLst>
              <a:gd name="adj1" fmla="val 50000"/>
              <a:gd name="adj2" fmla="val 714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52480" y="5543640"/>
            <a:ext cx="495000" cy="380880"/>
          </a:xfrm>
          <a:prstGeom prst="rightArrow">
            <a:avLst>
              <a:gd name="adj1" fmla="val 50000"/>
              <a:gd name="adj2" fmla="val 714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39000" y="4705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6200000">
            <a:off x="6494760" y="3752640"/>
            <a:ext cx="495360" cy="381240"/>
          </a:xfrm>
          <a:prstGeom prst="rightArrow">
            <a:avLst>
              <a:gd name="adj1" fmla="val 50000"/>
              <a:gd name="adj2" fmla="val 714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3962520"/>
            <a:ext cx="1638360" cy="642600"/>
          </a:xfrm>
          <a:prstGeom prst="rect">
            <a:avLst/>
          </a:prstGeom>
          <a:noFill/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olid model 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 rot="5400000">
            <a:off x="2476440" y="344808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99480" y="21146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1080" y="21272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86240" y="275760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67320" y="275760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fbmach" descr=""/>
          <p:cNvPicPr/>
          <p:nvPr/>
        </p:nvPicPr>
        <p:blipFill>
          <a:blip r:embed="rId2"/>
          <a:stretch/>
        </p:blipFill>
        <p:spPr>
          <a:xfrm>
            <a:off x="4105440" y="2475000"/>
            <a:ext cx="1136520" cy="1174680"/>
          </a:xfrm>
          <a:prstGeom prst="rect">
            <a:avLst/>
          </a:prstGeom>
          <a:ln w="0">
            <a:noFill/>
          </a:ln>
        </p:spPr>
      </p:pic>
      <p:pic>
        <p:nvPicPr>
          <p:cNvPr id="272" name="cam" descr=""/>
          <p:cNvPicPr/>
          <p:nvPr/>
        </p:nvPicPr>
        <p:blipFill>
          <a:blip r:embed="rId3"/>
          <a:stretch/>
        </p:blipFill>
        <p:spPr>
          <a:xfrm>
            <a:off x="2206800" y="2451240"/>
            <a:ext cx="1155600" cy="8697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019920" y="2755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209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AM Conformance Test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275" name="cam" descr=""/>
          <p:cNvPicPr/>
          <p:nvPr/>
        </p:nvPicPr>
        <p:blipFill>
          <a:blip r:embed="rId4"/>
          <a:stretch/>
        </p:blipFill>
        <p:spPr>
          <a:xfrm>
            <a:off x="2152800" y="5486400"/>
            <a:ext cx="1155600" cy="870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 flipH="1" rot="16200000">
            <a:off x="2476440" y="4743360"/>
            <a:ext cx="495000" cy="380880"/>
          </a:xfrm>
          <a:prstGeom prst="rightArrow">
            <a:avLst>
              <a:gd name="adj1" fmla="val 50000"/>
              <a:gd name="adj2" fmla="val 714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19800" y="275760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77000" y="275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G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rot="18041400">
            <a:off x="7562880" y="379080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57560" y="5410080"/>
            <a:ext cx="121932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29640" y="5156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80" y="2610000"/>
            <a:ext cx="14479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riginat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42960" y="271944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rot="13490400">
            <a:off x="3676680" y="190476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90840" y="1612800"/>
            <a:ext cx="952560" cy="1650960"/>
          </a:xfrm>
          <a:custGeom>
            <a:avLst/>
            <a:gdLst/>
            <a:ahLst/>
            <a:rect l="l" t="t" r="r" b="b"/>
            <a:pathLst>
              <a:path w="600" h="1040">
                <a:moveTo>
                  <a:pt x="0" y="416"/>
                </a:moveTo>
                <a:lnTo>
                  <a:pt x="312" y="0"/>
                </a:lnTo>
                <a:lnTo>
                  <a:pt x="600" y="248"/>
                </a:lnTo>
                <a:lnTo>
                  <a:pt x="392" y="576"/>
                </a:lnTo>
                <a:lnTo>
                  <a:pt x="408" y="1032"/>
                </a:lnTo>
                <a:lnTo>
                  <a:pt x="24" y="1040"/>
                </a:lnTo>
                <a:lnTo>
                  <a:pt x="0" y="416"/>
                </a:lnTo>
                <a:close/>
              </a:path>
            </a:pathLst>
          </a:custGeom>
          <a:noFill/>
          <a:ln w="9360">
            <a:solidFill>
              <a:srgbClr val="fc012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9040" y="1434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est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5400000">
            <a:off x="6475680" y="2114280"/>
            <a:ext cx="495360" cy="381240"/>
          </a:xfrm>
          <a:prstGeom prst="rightArrow">
            <a:avLst>
              <a:gd name="adj1" fmla="val 50000"/>
              <a:gd name="adj2" fmla="val 714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1295280"/>
            <a:ext cx="1447560" cy="642600"/>
          </a:xfrm>
          <a:prstGeom prst="rect">
            <a:avLst/>
          </a:prstGeom>
          <a:noFill/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TEP NC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09480" y="3809880"/>
            <a:ext cx="838440" cy="1067040"/>
            <a:chOff x="609480" y="3809880"/>
            <a:chExt cx="838440" cy="1067040"/>
          </a:xfrm>
        </p:grpSpPr>
        <p:sp>
          <p:nvSpPr>
            <p:cNvPr id="290" name=""/>
            <p:cNvSpPr/>
            <p:nvPr/>
          </p:nvSpPr>
          <p:spPr>
            <a:xfrm>
              <a:off x="609480" y="3809880"/>
              <a:ext cx="838440" cy="1067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480" y="3809880"/>
              <a:ext cx="838440" cy="9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500" spc="-1" strike="noStrike">
                  <a:solidFill>
                    <a:srgbClr val="919191"/>
                  </a:solidFill>
                  <a:latin typeface="Arial"/>
                  <a:ea typeface="MS Mincho"/>
                </a:rPr>
                <a:t>Procedures that describe what is being done, what the results should be, how to interpretet the results, how to report the results, and other natural-language instructions to help the testers through the proces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28600" y="4952880"/>
            <a:ext cx="160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mparison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AM Test Case Data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Geometry from CAD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P 203, AP 214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Manufacturing data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olerances (annotations in CAD? drawings?)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tock description (geometry, material: format?)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etup and tooling information 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2" marL="1206360" indent="-2426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is tooling determined beforehand?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2" marL="1206360" indent="-2426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Times"/>
              <a:buChar char="•"/>
              <a:tabLst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can new tools be added?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Outputs: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TEP NC data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AM Testing Procedures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7840" indent="0">
              <a:spcBef>
                <a:spcPts val="60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Interactive CAM is accomplished and STEP NC control data produced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57840" indent="0">
              <a:spcBef>
                <a:spcPts val="60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2.  STEP NC data (file) is checked for syntax, structure, and rule-based checking (e.g., center drill before twist drill)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57840" indent="0">
              <a:spcBef>
                <a:spcPts val="60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NC verification software is used to produce solid model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76160" indent="-299880">
              <a:spcBef>
                <a:spcPts val="499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translation from STEP NC to ISO 6983 (G codes) is done first, if necessary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1" marL="776160" indent="-299880">
              <a:spcBef>
                <a:spcPts val="499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olid model NC verification is run and solid model is created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marL="357840" indent="0">
              <a:spcBef>
                <a:spcPts val="60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arget features in NC-derived solid model are compared with those in the original or reference CAD solid model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76160" indent="-29988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easy: mass propertie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76160" indent="-29988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harder: 3-D fitting (however, software is available to do this)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Testing Caveats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What’s not tested: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process selection (e.g., drilling v. boring v. reaming)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optimal process parameters (e.g., feed, speed, connect moves)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What’s inadvertently tested: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operator capability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057400" y="20829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19640" y="208296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90840" y="2082960"/>
            <a:ext cx="495360" cy="380880"/>
          </a:xfrm>
          <a:prstGeom prst="rightArrow">
            <a:avLst>
              <a:gd name="adj1" fmla="val 50000"/>
              <a:gd name="adj2" fmla="val 71531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778000" y="1876320"/>
            <a:ext cx="1119600" cy="892080"/>
            <a:chOff x="5778000" y="1876320"/>
            <a:chExt cx="1119600" cy="892080"/>
          </a:xfrm>
        </p:grpSpPr>
        <p:pic>
          <p:nvPicPr>
            <p:cNvPr id="303" name="stepnc-smp-part" descr=""/>
            <p:cNvPicPr/>
            <p:nvPr/>
          </p:nvPicPr>
          <p:blipFill>
            <a:blip r:embed="rId1"/>
            <a:stretch/>
          </p:blipFill>
          <p:spPr>
            <a:xfrm>
              <a:off x="5846400" y="1927080"/>
              <a:ext cx="9907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787720" y="2277720"/>
              <a:ext cx="273240" cy="4352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6028200" y="1626120"/>
              <a:ext cx="285480" cy="7858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0800000">
              <a:off x="6470280" y="1888920"/>
              <a:ext cx="395280" cy="4096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6350040" y="2157120"/>
              <a:ext cx="390240" cy="7048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03640" y="2577960"/>
              <a:ext cx="314280" cy="190440"/>
            </a:xfrm>
            <a:custGeom>
              <a:avLst/>
              <a:gdLst/>
              <a:ahLst/>
              <a:rect l="l" t="t" r="r" b="b"/>
              <a:pathLst>
                <a:path w="123" h="81">
                  <a:moveTo>
                    <a:pt x="0" y="33"/>
                  </a:moveTo>
                  <a:lnTo>
                    <a:pt x="72" y="0"/>
                  </a:lnTo>
                  <a:lnTo>
                    <a:pt x="123" y="8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03560" y="2182680"/>
              <a:ext cx="104760" cy="161640"/>
            </a:xfrm>
            <a:custGeom>
              <a:avLst/>
              <a:gdLst/>
              <a:ahLst/>
              <a:rect l="l" t="t" r="r" b="b"/>
              <a:pathLst>
                <a:path w="54" h="96">
                  <a:moveTo>
                    <a:pt x="6" y="0"/>
                  </a:moveTo>
                  <a:lnTo>
                    <a:pt x="54" y="72"/>
                  </a:lnTo>
                  <a:lnTo>
                    <a:pt x="0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bridgeport" descr=""/>
          <p:cNvPicPr/>
          <p:nvPr/>
        </p:nvPicPr>
        <p:blipFill>
          <a:blip r:embed="rId2"/>
          <a:stretch/>
        </p:blipFill>
        <p:spPr>
          <a:xfrm>
            <a:off x="3965400" y="1523880"/>
            <a:ext cx="1114560" cy="14479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NC Conformance Testing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3440" indent="-34344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Is the part machined correctly for the given input?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marL="343440" indent="-34344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tandard artifact can be provided; CAD files and drawings may suffice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marL="343440" indent="-34344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Additionally, a suite of STEP NC files can be provided that test exceptions that should be caught by the CNC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44840" indent="-28764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ISO 10303/21 syntax error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44840" indent="-28764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TEP NC data structure errors 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NC Conformance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22040" y="1517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235200" y="2251080"/>
            <a:ext cx="1119600" cy="892080"/>
            <a:chOff x="6235200" y="2251080"/>
            <a:chExt cx="1119600" cy="892080"/>
          </a:xfrm>
        </p:grpSpPr>
        <p:pic>
          <p:nvPicPr>
            <p:cNvPr id="316" name="stepnc-smp-part" descr=""/>
            <p:cNvPicPr/>
            <p:nvPr/>
          </p:nvPicPr>
          <p:blipFill>
            <a:blip r:embed="rId1"/>
            <a:stretch/>
          </p:blipFill>
          <p:spPr>
            <a:xfrm>
              <a:off x="6303600" y="2301840"/>
              <a:ext cx="9907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244920" y="2652480"/>
              <a:ext cx="273240" cy="4352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6485400" y="2000880"/>
              <a:ext cx="285480" cy="7858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0800000">
              <a:off x="6927480" y="2263680"/>
              <a:ext cx="395280" cy="4096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6807240" y="2531880"/>
              <a:ext cx="390240" cy="7048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60840" y="2952720"/>
              <a:ext cx="314280" cy="190440"/>
            </a:xfrm>
            <a:custGeom>
              <a:avLst/>
              <a:gdLst/>
              <a:ahLst/>
              <a:rect l="l" t="t" r="r" b="b"/>
              <a:pathLst>
                <a:path w="123" h="81">
                  <a:moveTo>
                    <a:pt x="0" y="33"/>
                  </a:moveTo>
                  <a:lnTo>
                    <a:pt x="72" y="0"/>
                  </a:lnTo>
                  <a:lnTo>
                    <a:pt x="123" y="8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60760" y="2557440"/>
              <a:ext cx="104760" cy="161640"/>
            </a:xfrm>
            <a:custGeom>
              <a:avLst/>
              <a:gdLst/>
              <a:ahLst/>
              <a:rect l="l" t="t" r="r" b="b"/>
              <a:pathLst>
                <a:path w="54" h="96">
                  <a:moveTo>
                    <a:pt x="6" y="0"/>
                  </a:moveTo>
                  <a:lnTo>
                    <a:pt x="54" y="72"/>
                  </a:lnTo>
                  <a:lnTo>
                    <a:pt x="0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695760" y="2457360"/>
            <a:ext cx="495360" cy="381240"/>
          </a:xfrm>
          <a:prstGeom prst="rightArrow">
            <a:avLst>
              <a:gd name="adj1" fmla="val 50000"/>
              <a:gd name="adj2" fmla="val 71463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2457360"/>
            <a:ext cx="495360" cy="381240"/>
          </a:xfrm>
          <a:prstGeom prst="rightArrow">
            <a:avLst>
              <a:gd name="adj1" fmla="val 50000"/>
              <a:gd name="adj2" fmla="val 714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79200" y="1879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bridgeport" descr=""/>
          <p:cNvPicPr/>
          <p:nvPr/>
        </p:nvPicPr>
        <p:blipFill>
          <a:blip r:embed="rId2"/>
          <a:stretch/>
        </p:blipFill>
        <p:spPr>
          <a:xfrm>
            <a:off x="4422600" y="1898640"/>
            <a:ext cx="1114560" cy="1447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 flipH="1" rot="16200000">
            <a:off x="6533280" y="3352680"/>
            <a:ext cx="495000" cy="381240"/>
          </a:xfrm>
          <a:prstGeom prst="rightArrow">
            <a:avLst>
              <a:gd name="adj1" fmla="val 50000"/>
              <a:gd name="adj2" fmla="val 714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58080" y="39434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insp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19240" y="222876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alidated STEP NC tes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rot="16200000">
            <a:off x="6532920" y="4800240"/>
            <a:ext cx="495360" cy="381240"/>
          </a:xfrm>
          <a:prstGeom prst="rightArrow">
            <a:avLst>
              <a:gd name="adj1" fmla="val 50000"/>
              <a:gd name="adj2" fmla="val 714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58080" y="5353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5257800"/>
            <a:ext cx="2666880" cy="485640"/>
          </a:xfrm>
          <a:prstGeom prst="leftRightArrow">
            <a:avLst>
              <a:gd name="adj1" fmla="val 49676"/>
              <a:gd name="adj2" fmla="val 71821"/>
            </a:avLst>
          </a:prstGeom>
          <a:solidFill>
            <a:srgbClr val="ffffff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05120" y="1924200"/>
            <a:ext cx="1447560" cy="4019400"/>
          </a:xfrm>
          <a:prstGeom prst="rect">
            <a:avLst/>
          </a:prstGeom>
          <a:noFill/>
          <a:ln w="9360">
            <a:solidFill>
              <a:srgbClr val="fc01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3429000"/>
            <a:ext cx="933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267080"/>
            <a:ext cx="1778040" cy="916920"/>
          </a:xfrm>
          <a:prstGeom prst="rect">
            <a:avLst/>
          </a:prstGeom>
          <a:noFill/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art measurement 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5232240"/>
            <a:ext cx="160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xpecte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38080" y="5029200"/>
            <a:ext cx="838440" cy="1066680"/>
            <a:chOff x="838080" y="5029200"/>
            <a:chExt cx="838440" cy="1066680"/>
          </a:xfrm>
        </p:grpSpPr>
        <p:sp>
          <p:nvSpPr>
            <p:cNvPr id="338" name=""/>
            <p:cNvSpPr/>
            <p:nvPr/>
          </p:nvSpPr>
          <p:spPr>
            <a:xfrm>
              <a:off x="838080" y="5029200"/>
              <a:ext cx="838440" cy="1066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080" y="5029200"/>
              <a:ext cx="838440" cy="9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500" spc="-1" strike="noStrike">
                  <a:solidFill>
                    <a:srgbClr val="919191"/>
                  </a:solidFill>
                  <a:latin typeface="Arial"/>
                  <a:ea typeface="MS Mincho"/>
                </a:rPr>
                <a:t>Procedures that describe what is being done, what the results should be, how to interpretet the results, how to report the results, and other natural-language instructions to help the testers through the proces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620120" y="3886200"/>
            <a:ext cx="838080" cy="1066680"/>
            <a:chOff x="7620120" y="3886200"/>
            <a:chExt cx="838080" cy="1066680"/>
          </a:xfrm>
        </p:grpSpPr>
        <p:sp>
          <p:nvSpPr>
            <p:cNvPr id="341" name=""/>
            <p:cNvSpPr/>
            <p:nvPr/>
          </p:nvSpPr>
          <p:spPr>
            <a:xfrm>
              <a:off x="7620120" y="3886200"/>
              <a:ext cx="838080" cy="1066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3886200"/>
              <a:ext cx="838080" cy="9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500" spc="-1" strike="noStrike">
                  <a:solidFill>
                    <a:srgbClr val="919191"/>
                  </a:solidFill>
                  <a:latin typeface="Arial"/>
                  <a:ea typeface="MS Mincho"/>
                </a:rPr>
                <a:t>Procedures that describe what is being done, what the results should be, how to interpretet the results, how to report the results, and other natural-language instructions to help the testers through the proces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NC Test Case Data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4240" indent="-35424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Validated STEP-NC files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68240" indent="-29700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ome with explicit tool paths, some without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68240" indent="-29700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ome with strict tool requirements, some with general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68240" indent="-29700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he suite should exercise generative NC, smart tool selection, and other expected STEP-NC benefit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54240" indent="-35424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Expected results of part measurement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68240" indent="-29700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feature location, tolerance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68240" indent="-29700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urface quality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54240" indent="-35424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Outputs: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68240" indent="-29700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Machined part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20760" y="1339920"/>
            <a:ext cx="838080" cy="914400"/>
            <a:chOff x="1220760" y="1339920"/>
            <a:chExt cx="838080" cy="914400"/>
          </a:xfrm>
        </p:grpSpPr>
        <p:sp>
          <p:nvSpPr>
            <p:cNvPr id="96" name=""/>
            <p:cNvSpPr/>
            <p:nvPr/>
          </p:nvSpPr>
          <p:spPr>
            <a:xfrm>
              <a:off x="1220760" y="1339920"/>
              <a:ext cx="838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63400" y="1643040"/>
              <a:ext cx="385200" cy="3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96720" y="1643040"/>
              <a:ext cx="11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6720" y="2038680"/>
              <a:ext cx="11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52160" y="1643040"/>
              <a:ext cx="0" cy="3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982520" y="1642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63400" y="1390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48960" y="1390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63400" y="1428840"/>
              <a:ext cx="38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63400" y="1506600"/>
              <a:ext cx="18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8960" y="208764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1120" y="2008440"/>
              <a:ext cx="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848960" y="2049120"/>
              <a:ext cx="918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72840" y="1711440"/>
              <a:ext cx="16488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84080" y="1784520"/>
              <a:ext cx="32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649160" y="147312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02960" y="1643040"/>
              <a:ext cx="11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2655720" y="1301760"/>
          <a:ext cx="12956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5720" y="1301760"/>
                    <a:ext cx="12956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195720" y="1488960"/>
            <a:ext cx="215640" cy="17172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646360" y="2730600"/>
          <a:ext cx="131292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6360" y="2730600"/>
                    <a:ext cx="13129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193920" y="2917800"/>
            <a:ext cx="219240" cy="171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54280" y="4915080"/>
            <a:ext cx="1295280" cy="1039680"/>
            <a:chOff x="2654280" y="4915080"/>
            <a:chExt cx="1295280" cy="1039680"/>
          </a:xfrm>
        </p:grpSpPr>
        <p:graphicFrame>
          <p:nvGraphicFramePr>
            <p:cNvPr id="120" name=""/>
            <p:cNvGraphicFramePr/>
            <p:nvPr/>
          </p:nvGraphicFramePr>
          <p:xfrm>
            <a:off x="2654280" y="4915080"/>
            <a:ext cx="1295280" cy="103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54280" y="4915080"/>
                      <a:ext cx="129528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3191040" y="5101920"/>
              <a:ext cx="216000" cy="17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04920" y="4267080"/>
            <a:ext cx="861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86040" y="762120"/>
            <a:ext cx="33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onformanc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438800"/>
            <a:ext cx="37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nteroperability 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238880" y="5067360"/>
            <a:ext cx="1068120" cy="762120"/>
            <a:chOff x="7238880" y="5067360"/>
            <a:chExt cx="1068120" cy="762120"/>
          </a:xfrm>
        </p:grpSpPr>
        <p:sp>
          <p:nvSpPr>
            <p:cNvPr id="127" name=""/>
            <p:cNvSpPr/>
            <p:nvPr/>
          </p:nvSpPr>
          <p:spPr>
            <a:xfrm>
              <a:off x="7238880" y="5067360"/>
              <a:ext cx="96156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65520" y="513072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66"/>
                  </a:solidFill>
                  <a:latin typeface="Arial"/>
                </a:rPr>
                <a:t>RESU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79000" y="5448240"/>
              <a:ext cx="5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9000" y="5587920"/>
              <a:ext cx="5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79000" y="5740560"/>
              <a:ext cx="5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262240" y="1739880"/>
            <a:ext cx="457200" cy="257040"/>
          </a:xfrm>
          <a:prstGeom prst="rightArrow">
            <a:avLst>
              <a:gd name="adj1" fmla="val 50000"/>
              <a:gd name="adj2" fmla="val 444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162240"/>
            <a:ext cx="457200" cy="257400"/>
          </a:xfrm>
          <a:prstGeom prst="rightArrow">
            <a:avLst>
              <a:gd name="adj1" fmla="val 50000"/>
              <a:gd name="adj2" fmla="val 4440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52960" y="5295960"/>
            <a:ext cx="457200" cy="257040"/>
          </a:xfrm>
          <a:prstGeom prst="rightArrow">
            <a:avLst>
              <a:gd name="adj1" fmla="val 50000"/>
              <a:gd name="adj2" fmla="val 444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60440" y="5295960"/>
            <a:ext cx="457200" cy="257040"/>
          </a:xfrm>
          <a:prstGeom prst="rightArrow">
            <a:avLst>
              <a:gd name="adj1" fmla="val 50000"/>
              <a:gd name="adj2" fmla="val 444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89720" y="5295960"/>
            <a:ext cx="457200" cy="257040"/>
          </a:xfrm>
          <a:prstGeom prst="rightArrow">
            <a:avLst>
              <a:gd name="adj1" fmla="val 50000"/>
              <a:gd name="adj2" fmla="val 444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09440" y="23097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Syste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07640" y="59547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Syste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906800" y="4915080"/>
          <a:ext cx="1312920" cy="103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6800" y="4915080"/>
                    <a:ext cx="13129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452920" y="5105520"/>
            <a:ext cx="219240" cy="171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68440" y="59547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System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09440" y="373392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System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54400" y="3213000"/>
            <a:ext cx="457200" cy="257400"/>
          </a:xfrm>
          <a:prstGeom prst="rightArrow">
            <a:avLst>
              <a:gd name="adj1" fmla="val 50000"/>
              <a:gd name="adj2" fmla="val 4440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54400" y="1739880"/>
            <a:ext cx="457200" cy="257040"/>
          </a:xfrm>
          <a:prstGeom prst="rightArrow">
            <a:avLst>
              <a:gd name="adj1" fmla="val 50000"/>
              <a:gd name="adj2" fmla="val 444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32920" y="23097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Test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2920" y="37339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Test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39040" y="59421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Test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91160" y="1739880"/>
            <a:ext cx="457200" cy="257040"/>
          </a:xfrm>
          <a:prstGeom prst="rightArrow">
            <a:avLst>
              <a:gd name="adj1" fmla="val 50000"/>
              <a:gd name="adj2" fmla="val 444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91160" y="3225960"/>
            <a:ext cx="457200" cy="257040"/>
          </a:xfrm>
          <a:prstGeom prst="rightArrow">
            <a:avLst>
              <a:gd name="adj1" fmla="val 50000"/>
              <a:gd name="adj2" fmla="val 444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47120" y="2362320"/>
            <a:ext cx="304560" cy="533160"/>
          </a:xfrm>
          <a:prstGeom prst="upDownArrow">
            <a:avLst>
              <a:gd name="adj1" fmla="val 50000"/>
              <a:gd name="adj2" fmla="val 3485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238880" y="2959200"/>
            <a:ext cx="1068120" cy="761760"/>
            <a:chOff x="7238880" y="2959200"/>
            <a:chExt cx="1068120" cy="761760"/>
          </a:xfrm>
        </p:grpSpPr>
        <p:sp>
          <p:nvSpPr>
            <p:cNvPr id="153" name=""/>
            <p:cNvSpPr/>
            <p:nvPr/>
          </p:nvSpPr>
          <p:spPr>
            <a:xfrm>
              <a:off x="7238880" y="2959200"/>
              <a:ext cx="96156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65520" y="302220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66"/>
                  </a:solidFill>
                  <a:latin typeface="Arial"/>
                </a:rPr>
                <a:t>RESU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79000" y="3339720"/>
              <a:ext cx="5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79000" y="3479400"/>
              <a:ext cx="5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79000" y="3632040"/>
              <a:ext cx="5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238880" y="1434960"/>
            <a:ext cx="1068120" cy="762120"/>
            <a:chOff x="7238880" y="1434960"/>
            <a:chExt cx="1068120" cy="762120"/>
          </a:xfrm>
        </p:grpSpPr>
        <p:sp>
          <p:nvSpPr>
            <p:cNvPr id="159" name=""/>
            <p:cNvSpPr/>
            <p:nvPr/>
          </p:nvSpPr>
          <p:spPr>
            <a:xfrm>
              <a:off x="7238880" y="1434960"/>
              <a:ext cx="96156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65520" y="149832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66"/>
                  </a:solidFill>
                  <a:latin typeface="Arial"/>
                </a:rPr>
                <a:t>RESU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79000" y="1815840"/>
              <a:ext cx="5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79000" y="1955520"/>
              <a:ext cx="5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9000" y="2108160"/>
              <a:ext cx="5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698720" y="230976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Conformance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910040" y="1314360"/>
            <a:ext cx="1295640" cy="1040040"/>
            <a:chOff x="4910040" y="1314360"/>
            <a:chExt cx="1295640" cy="1040040"/>
          </a:xfrm>
        </p:grpSpPr>
        <p:graphicFrame>
          <p:nvGraphicFramePr>
            <p:cNvPr id="166" name=""/>
            <p:cNvGraphicFramePr/>
            <p:nvPr/>
          </p:nvGraphicFramePr>
          <p:xfrm>
            <a:off x="4910040" y="1314360"/>
            <a:ext cx="1295640" cy="1040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10040" y="1314360"/>
                      <a:ext cx="1295640" cy="10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"/>
            <p:cNvSpPr/>
            <p:nvPr/>
          </p:nvSpPr>
          <p:spPr>
            <a:xfrm>
              <a:off x="5342040" y="1403280"/>
              <a:ext cx="457200" cy="34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7960" y="1495440"/>
              <a:ext cx="2156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0" name=""/>
          <p:cNvGraphicFramePr/>
          <p:nvPr/>
        </p:nvGraphicFramePr>
        <p:xfrm>
          <a:off x="4908600" y="2712960"/>
          <a:ext cx="1295280" cy="104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08600" y="2712960"/>
                    <a:ext cx="129528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4697280" y="373392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Conformance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40240" y="2801880"/>
            <a:ext cx="457200" cy="34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56160" y="2894040"/>
            <a:ext cx="2160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20760" y="2825640"/>
            <a:ext cx="838080" cy="914400"/>
            <a:chOff x="1220760" y="2825640"/>
            <a:chExt cx="838080" cy="914400"/>
          </a:xfrm>
        </p:grpSpPr>
        <p:sp>
          <p:nvSpPr>
            <p:cNvPr id="176" name=""/>
            <p:cNvSpPr/>
            <p:nvPr/>
          </p:nvSpPr>
          <p:spPr>
            <a:xfrm>
              <a:off x="1220760" y="2825640"/>
              <a:ext cx="838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63400" y="3128760"/>
              <a:ext cx="385200" cy="3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96720" y="3128760"/>
              <a:ext cx="11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96720" y="3524400"/>
              <a:ext cx="11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52160" y="3128760"/>
              <a:ext cx="0" cy="3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982520" y="31284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63400" y="287640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48960" y="287640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63400" y="2914560"/>
              <a:ext cx="38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63400" y="2992320"/>
              <a:ext cx="18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48960" y="357336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41120" y="3494160"/>
              <a:ext cx="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848960" y="3534840"/>
              <a:ext cx="918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72840" y="3197160"/>
              <a:ext cx="16488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84080" y="3270240"/>
              <a:ext cx="32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649160" y="295884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2960" y="3128760"/>
              <a:ext cx="11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220760" y="4915080"/>
            <a:ext cx="838080" cy="914400"/>
            <a:chOff x="1220760" y="4915080"/>
            <a:chExt cx="838080" cy="914400"/>
          </a:xfrm>
        </p:grpSpPr>
        <p:sp>
          <p:nvSpPr>
            <p:cNvPr id="194" name=""/>
            <p:cNvSpPr/>
            <p:nvPr/>
          </p:nvSpPr>
          <p:spPr>
            <a:xfrm>
              <a:off x="1220760" y="4915080"/>
              <a:ext cx="838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63400" y="5218200"/>
              <a:ext cx="385200" cy="3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96720" y="5218200"/>
              <a:ext cx="11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96720" y="5613840"/>
              <a:ext cx="11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52160" y="5218200"/>
              <a:ext cx="0" cy="3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982520" y="52178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63400" y="496584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48960" y="496584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63400" y="5004000"/>
              <a:ext cx="38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400" y="5081760"/>
              <a:ext cx="18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48960" y="566280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41120" y="5583600"/>
              <a:ext cx="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848960" y="5624280"/>
              <a:ext cx="918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72840" y="5286600"/>
              <a:ext cx="16488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84080" y="5359680"/>
              <a:ext cx="32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649160" y="504828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02960" y="5218200"/>
              <a:ext cx="11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4920" y="133200"/>
            <a:ext cx="670572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Types of Testing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CNC Testing Procedures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0640" indent="0">
              <a:spcBef>
                <a:spcPts val="70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Preliminary checks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60320" indent="-29376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can the controller process the file (data), etc.?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50640" indent="0">
              <a:spcBef>
                <a:spcPts val="70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2. CNC machining is accomplished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marL="350640" indent="0">
              <a:spcBef>
                <a:spcPts val="70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3. Part inspection follows with comparison of results to test requirements (CAD design or prints)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60320" indent="-29376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re the features machined as intended?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60320" indent="-29376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re the geometry and surface finish  within the specified tolerances? Other metrics? (time, ancillary processes?)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50640" indent="0">
              <a:spcBef>
                <a:spcPts val="70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4. Additionally, proper exception handling can be tested with suite of files with known errors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Testing Caveats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What’s not tested: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optimizations (e.g., cutter paths, tool selection)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optimal process parameters (e.g., feed, speed, connect moves)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What’s inadvertently tested: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ool setup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part fixturing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CNC accuracy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machine operator tending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Issues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ISO 14649 defines 6 conformance classes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hould we have 6 suites of tests?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industry priority?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Testing Scope and Organization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tructured according to conformance class 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ased on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Times New Roman"/>
              </a:rPr>
              <a:t>usage scenario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Further structured in some logical way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functionality grouping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minimum/basic test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ypical/critical test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extremes/limits test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Testing Nomenclature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Test Assertion (TA)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36920" indent="-2847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 testable assertion which is extracted from a standard specification.  Form can be schema data structure (ent-attr) or rule.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36920" indent="-2847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lso called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Semantic Requirement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Test Requirement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36920" indent="-28476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xample:  “Non-positive radius is an error condition”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Test Purpose (TP)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36920" indent="-2847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Discrete, finite set of explicit testing objectives. Specific - from specific domain knowledge;  Derived - from the AP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36920" indent="-2847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 reformulation of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Test Assertion(s)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as a testing directive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36920" indent="-2847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xample:  “Verify that radius is positive” 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would be a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Test Purpose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for validating file instances, and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“Verify that interpreter treats non-positive radius as an error condition” 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would be a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Test Purpose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for interpreter or viewer testing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Testing Nomenclature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7840" indent="-35784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Test Case (TC)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76160" indent="-29988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n component of the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Test Suite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that implements one or more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Test Purposes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, and hence verifies one or more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Test Assertion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76160" indent="-299880"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xample:  A test file which contains a hole with a negative radiu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76160" indent="-29988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In practice (and abstractly), the relationship of TAs to TCs is many-to-many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57840" indent="-35784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Traceability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76160" indent="-29988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he ability, in a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Test Suite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, to trace a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Test Case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back to the applicable rest requirement(s) in the standard specification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Testing Nomenclature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Verdict Criteria: expected outcomes from Test Purposes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asis for determining if test purpose is satisfied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pecific - corresponding to specific test purpose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derived - from AP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Coverage: what’s included, what’s left out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coverage requirements should be based on experience/discretion/industry priority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Test Suite: organized set of 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Test Cases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ct09" descr=""/>
          <p:cNvPicPr/>
          <p:nvPr/>
        </p:nvPicPr>
        <p:blipFill>
          <a:blip r:embed="rId1"/>
          <a:srcRect l="28041" t="23098" r="10971" b="7819"/>
          <a:stretch/>
        </p:blipFill>
        <p:spPr>
          <a:xfrm>
            <a:off x="304920" y="1663560"/>
            <a:ext cx="4489200" cy="4275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52480" y="380880"/>
            <a:ext cx="723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AP203 Conformance Test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02200" y="1305000"/>
            <a:ext cx="3944880" cy="505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Test Case: 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AB_Revolved_Object_With_V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Test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Test the processing of information elements as defined in the UoF advanced_boundary_representation.  Specifically, the postprocessor input contains instances of adv_brep_shape_rep, brep_with_voids and elements used in their consruction (CC6)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Input Specific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(Model design, application elements and valu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Verdict Criteri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General verdict criteria apply: gvc1, gvc2, and gv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VC1:The model realized in the IUT must generally correspond in shape to the model represen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VC2::This model can be created by revolving a composite curve 360 degrees about an axis.  The length of the axis is 0.49 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VC3 :This model contains a void. The volume of this model, excluding the void, is 0.4330 cu.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Times New Roman"/>
              </a:rPr>
              <a:t>Syntax, Structure, Semantics</a:t>
            </a:r>
            <a:endParaRPr b="0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yntax conformance is essentially a grammar check of the exchange file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#&lt;name&gt;=(&lt;data&gt;, &lt;data&gt;, … );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tructure conformance checks that the schema is properly implemented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re the entities and relationships in the model those permitted in the AP schema - elements, attributes, rules, functions, procedures, and constraints?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emantics conformance determines if the information realizes the test case specification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STEP NC Conformance Testing</a:t>
            </a:r>
            <a:endParaRPr b="0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TEP NC covers the data interface between CAM systems and CNC machine tools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CAM systems generally output (add to) STEP NC data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CNC systems generally input (use) STEP NC data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1" marL="784080" indent="-303120">
              <a:spcBef>
                <a:spcPts val="601"/>
              </a:spcBef>
              <a:buClr>
                <a:srgbClr val="006666"/>
              </a:buClr>
              <a:buFont typeface="Times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t this point, “data transfer” is usually accomplished using a physical file with a specific format (part 21, XML CEB, etc.); data sharing scenarios (i.e., a common database) may be utilized in future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marL="361800" indent="-361800">
              <a:spcBef>
                <a:spcPts val="700"/>
              </a:spcBef>
              <a:buClr>
                <a:srgbClr val="006666"/>
              </a:buClr>
              <a:buFont typeface="Times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Input and output activities need to be tested separately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7T16:05:13Z</dcterms:created>
  <dc:creator>Jim Albus, Rick Quintero, Debbie Russell</dc:creator>
  <dc:description/>
  <dc:language>en-US</dc:language>
  <cp:lastModifiedBy>hardwick</cp:lastModifiedBy>
  <cp:lastPrinted>2001-02-09T16:02:33Z</cp:lastPrinted>
  <dcterms:modified xsi:type="dcterms:W3CDTF">2001-06-26T15:31:52Z</dcterms:modified>
  <cp:revision>321</cp:revision>
  <dc:subject/>
  <dc:title>Presentation</dc:title>
</cp:coreProperties>
</file>