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475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659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82880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475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659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475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65960" y="137124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82880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475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65960" y="3918600"/>
            <a:ext cx="22078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43120" y="391860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28800" y="3918600"/>
            <a:ext cx="68580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3988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2880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99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732000" y="648324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eneca-IT.com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43000" y="914400"/>
            <a:ext cx="7769160" cy="1440"/>
          </a:xfrm>
          <a:prstGeom prst="line">
            <a:avLst/>
          </a:prstGeom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8240" y="6486480"/>
            <a:ext cx="1410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0249-AEA6-463C-A330-C04EE75512AF}" type="datetime5">
              <a:rPr b="0" lang="en-US" sz="1800" spc="-1" strike="noStrike">
                <a:solidFill>
                  <a:srgbClr val="009999"/>
                </a:solidFill>
                <a:latin typeface="Comic Sans MS"/>
              </a:rPr>
              <a:t>Jul 29, 2026</a:t>
            </a:fld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2880" y="1371240"/>
            <a:ext cx="7161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6732000" y="64864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eneca-IT.com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2133720"/>
            <a:ext cx="6934320" cy="0"/>
          </a:xfrm>
          <a:prstGeom prst="line">
            <a:avLst/>
          </a:prstGeom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8240" y="6486480"/>
            <a:ext cx="1410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4159-E5CF-45C8-81DE-2D92BEB9B270}" type="datetime5">
              <a:rPr b="0" lang="en-US" sz="1800" spc="-1" strike="noStrike">
                <a:solidFill>
                  <a:srgbClr val="009999"/>
                </a:solidFill>
                <a:latin typeface="Comic Sans MS"/>
              </a:rPr>
              <a:t>Jul 29, 2026</a:t>
            </a:fld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2" marL="914400" algn="ctr">
              <a:spcBef>
                <a:spcPts val="451"/>
              </a:spcBef>
              <a:buClr>
                <a:srgbClr val="ff9966"/>
              </a:buClr>
              <a:buSzPct val="80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9999"/>
              </a:solidFill>
              <a:latin typeface="Comic Sans MS"/>
            </a:endParaRPr>
          </a:p>
          <a:p>
            <a:pPr lvl="3" marL="1371600" algn="ctr">
              <a:spcBef>
                <a:spcPts val="400"/>
              </a:spcBef>
              <a:buClr>
                <a:srgbClr val="3366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Comic Sans MS"/>
            </a:endParaRPr>
          </a:p>
          <a:p>
            <a:pPr lvl="4" marL="1828800" algn="ctr">
              <a:spcBef>
                <a:spcPts val="349"/>
              </a:spcBef>
              <a:buClr>
                <a:srgbClr val="ff9966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Fifth Outline Level</a:t>
            </a:r>
            <a:endParaRPr b="0" lang="en-US" sz="1400" spc="-1" strike="noStrike">
              <a:solidFill>
                <a:srgbClr val="009999"/>
              </a:solidFill>
              <a:latin typeface="Comic Sans MS"/>
            </a:endParaRPr>
          </a:p>
          <a:p>
            <a:pPr lvl="5" marL="1828800">
              <a:spcBef>
                <a:spcPts val="34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Sixth Outline Level</a:t>
            </a:r>
            <a:endParaRPr b="0" lang="en-US" sz="1400" spc="-1" strike="noStrike">
              <a:solidFill>
                <a:srgbClr val="009999"/>
              </a:solidFill>
              <a:latin typeface="Comic Sans MS"/>
            </a:endParaRPr>
          </a:p>
          <a:p>
            <a:pPr lvl="6" marL="1828800">
              <a:spcBef>
                <a:spcPts val="349"/>
              </a:spcBef>
              <a:buClr>
                <a:srgbClr val="0099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mic Sans MS"/>
              </a:rPr>
              <a:t>Seventh Outline Level</a:t>
            </a:r>
            <a:endParaRPr b="0" lang="en-US" sz="14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6705360" cy="8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Comic Sans MS"/>
              </a:rPr>
              <a:t>AP219 Dimensional Inspection</a:t>
            </a:r>
            <a:endParaRPr b="1" lang="en-US" sz="28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00400" y="2590920"/>
            <a:ext cx="4572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Comic Sans MS"/>
              </a:rPr>
              <a:t>Information requirements</a:t>
            </a:r>
            <a:endParaRPr b="1" lang="en-US" sz="2600" spc="-1" strike="noStrike">
              <a:solidFill>
                <a:srgbClr val="009999"/>
              </a:solidFill>
              <a:latin typeface="Comic Sans M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Comic Sans MS"/>
              </a:rPr>
              <a:t>and harmonization</a:t>
            </a:r>
            <a:endParaRPr b="1" lang="en-US" sz="2600" spc="-1" strike="noStrike">
              <a:solidFill>
                <a:srgbClr val="009999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99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99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Bill Danner</a:t>
            </a:r>
            <a:endParaRPr b="1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danner@ec.rr.com</a:t>
            </a:r>
            <a:endParaRPr b="1" lang="en-US" sz="2000" spc="-1" strike="noStrike">
              <a:solidFill>
                <a:srgbClr val="0099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Web Analysis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XML DTD (nominal_tolerance)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85800" y="1600200"/>
            <a:ext cx="8077320" cy="4295880"/>
            <a:chOff x="685800" y="1600200"/>
            <a:chExt cx="8077320" cy="4295880"/>
          </a:xfrm>
        </p:grpSpPr>
        <p:sp>
          <p:nvSpPr>
            <p:cNvPr id="386" name=""/>
            <p:cNvSpPr/>
            <p:nvPr/>
          </p:nvSpPr>
          <p:spPr>
            <a:xfrm>
              <a:off x="685800" y="1600200"/>
              <a:ext cx="4114800" cy="42958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lt;!ELEMENT </a:t>
              </a:r>
              <a:r>
                <a:rPr b="1" lang="en-US" sz="1600" spc="-1" strike="noStrike">
                  <a:solidFill>
                    <a:srgbClr val="ff9966"/>
                  </a:solidFill>
                  <a:latin typeface="Comic Sans MS"/>
                  <a:ea typeface="MS Mincho"/>
                </a:rPr>
                <a:t>nominal_toleranc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(analysis_modes?,analysis_dofs?,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(%defined_tols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;))&g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lt;!ATTLIST nominal_toleranc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name ID #REQUIR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features IDREFS  #REQUIR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starting_transform  IDREF #IMPLI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%reporting_transform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gt; 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lt;!ENTITY </a:t>
              </a:r>
              <a:r>
                <a:rPr b="0" lang="en-US" sz="1600" spc="-1" strike="noStrike">
                  <a:solidFill>
                    <a:srgbClr val="ff9966"/>
                  </a:solidFill>
                  <a:latin typeface="Comic Sans MS"/>
                  <a:ea typeface="MS Mincho"/>
                </a:rPr>
                <a:t>% </a:t>
              </a:r>
              <a:r>
                <a:rPr b="1" lang="en-US" sz="1600" spc="-1" strike="noStrike">
                  <a:solidFill>
                    <a:srgbClr val="ff9966"/>
                  </a:solidFill>
                  <a:latin typeface="Comic Sans MS"/>
                  <a:ea typeface="MS Mincho"/>
                </a:rPr>
                <a:t>defined_tols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"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diameter_limit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| 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diameter_delta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|"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g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24640" y="1600200"/>
              <a:ext cx="4038480" cy="42958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lt;!ELEMENT </a:t>
              </a:r>
              <a:r>
                <a:rPr b="1" lang="en-US" sz="1600" spc="-1" strike="noStrike">
                  <a:solidFill>
                    <a:srgbClr val="ff9966"/>
                  </a:solidFill>
                  <a:latin typeface="Comic Sans MS"/>
                  <a:ea typeface="MS Mincho"/>
                </a:rPr>
                <a:t>diameter_limit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EMPTY&g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lt;!ATTLIST diameter_limi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lower_limit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CDATA #REQUIR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upper_limit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CDATA #REQUIR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nominal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CDATA #IMPLI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%size_tols_at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%cone_end_at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g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lt;!ELEMENT </a:t>
              </a:r>
              <a:r>
                <a:rPr b="1" lang="en-US" sz="1600" spc="-1" strike="noStrike">
                  <a:solidFill>
                    <a:srgbClr val="ff9966"/>
                  </a:solidFill>
                  <a:latin typeface="Comic Sans MS"/>
                  <a:ea typeface="MS Mincho"/>
                </a:rPr>
                <a:t>diameter_delta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EMPTY&g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lt;!ATTLIST diameter_del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lower_delta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CDATA #REQUIR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 </a:t>
              </a: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  <a:ea typeface="MS Mincho"/>
                </a:rPr>
                <a:t>upper_delta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 CDATA #REQUIR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%size_tols_at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%cone_end_at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  <a:ea typeface="MS Mincho"/>
                </a:rPr>
                <a:t>&gt;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Web Analysis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Information requirments (nominal tol)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512640" y="31320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2640" y="331308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04920" y="1295280"/>
            <a:ext cx="8534160" cy="5105520"/>
            <a:chOff x="304920" y="1295280"/>
            <a:chExt cx="8534160" cy="5105520"/>
          </a:xfrm>
        </p:grpSpPr>
        <p:grpSp>
          <p:nvGrpSpPr>
            <p:cNvPr id="392" name=""/>
            <p:cNvGrpSpPr/>
            <p:nvPr/>
          </p:nvGrpSpPr>
          <p:grpSpPr>
            <a:xfrm>
              <a:off x="304920" y="1295280"/>
              <a:ext cx="8534160" cy="5105520"/>
              <a:chOff x="304920" y="1295280"/>
              <a:chExt cx="8534160" cy="5105520"/>
            </a:xfrm>
          </p:grpSpPr>
          <p:sp>
            <p:nvSpPr>
              <p:cNvPr id="393" name=""/>
              <p:cNvSpPr/>
              <p:nvPr/>
            </p:nvSpPr>
            <p:spPr>
              <a:xfrm>
                <a:off x="304920" y="1295280"/>
                <a:ext cx="3657600" cy="51055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457200" y="1447920"/>
                <a:ext cx="8381880" cy="4800600"/>
                <a:chOff x="457200" y="1447920"/>
                <a:chExt cx="8381880" cy="480060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3733920" y="3276720"/>
                  <a:ext cx="1523880" cy="533160"/>
                </a:xfrm>
                <a:prstGeom prst="leftArrow">
                  <a:avLst>
                    <a:gd name="adj1" fmla="val 50000"/>
                    <a:gd name="adj2" fmla="val 71455"/>
                  </a:avLst>
                </a:prstGeom>
                <a:solidFill>
                  <a:srgbClr val="ffffcc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9999"/>
                      </a:solidFill>
                      <a:latin typeface="Comic Sans MS"/>
                    </a:rPr>
                    <a:t>reverse eng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703440" y="3580920"/>
                  <a:ext cx="0" cy="76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703080" y="3809880"/>
                  <a:ext cx="3080880" cy="2438640"/>
                  <a:chOff x="703080" y="3809880"/>
                  <a:chExt cx="3080880" cy="243864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1164960" y="4057560"/>
                    <a:ext cx="644040" cy="639720"/>
                  </a:xfrm>
                  <a:prstGeom prst="rect">
                    <a:avLst/>
                  </a:prstGeom>
                  <a:solidFill>
                    <a:srgbClr val="f2be9e"/>
                  </a:solidFill>
                  <a:ln w="0">
                    <a:solidFill>
                      <a:srgbClr val="000000"/>
                    </a:solidFill>
                  </a:ln>
                  <a:effectLst>
                    <a:outerShdw dist="71785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1211760" y="4189320"/>
                    <a:ext cx="3970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iam_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1215720" y="4371840"/>
                    <a:ext cx="29196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limit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161720" y="5210280"/>
                    <a:ext cx="642240" cy="637920"/>
                  </a:xfrm>
                  <a:prstGeom prst="rect">
                    <a:avLst/>
                  </a:prstGeom>
                  <a:solidFill>
                    <a:srgbClr val="f2be9e"/>
                  </a:solidFill>
                  <a:ln w="0">
                    <a:solidFill>
                      <a:srgbClr val="000000"/>
                    </a:solidFill>
                  </a:ln>
                  <a:effectLst>
                    <a:outerShdw dist="71785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207800" y="5343480"/>
                    <a:ext cx="3970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iam_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1211400" y="5524560"/>
                    <a:ext cx="33300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elta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3054960" y="3809880"/>
                    <a:ext cx="729000" cy="2438640"/>
                  </a:xfrm>
                  <a:prstGeom prst="rect">
                    <a:avLst/>
                  </a:prstGeom>
                  <a:solidFill>
                    <a:srgbClr val="f2be9e"/>
                  </a:solidFill>
                  <a:ln w="0">
                    <a:solidFill>
                      <a:srgbClr val="000000"/>
                    </a:solidFill>
                  </a:ln>
                  <a:effectLst>
                    <a:outerShdw dist="71785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706560" y="3809880"/>
                    <a:ext cx="0" cy="24386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122640" y="4859280"/>
                    <a:ext cx="49896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STRING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V="1">
                    <a:off x="703440" y="4371840"/>
                    <a:ext cx="1440" cy="115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>
                    <a:off x="703080" y="4371840"/>
                    <a:ext cx="418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1084680" y="4322880"/>
                    <a:ext cx="76680" cy="95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>
                    <a:off x="703440" y="5524560"/>
                    <a:ext cx="4104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078200" y="5478480"/>
                    <a:ext cx="74880" cy="92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1809360" y="4371840"/>
                    <a:ext cx="12009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956" h="178">
                        <a:moveTo>
                          <a:pt x="0" y="0"/>
                        </a:moveTo>
                        <a:lnTo>
                          <a:pt x="225" y="0"/>
                        </a:lnTo>
                        <a:lnTo>
                          <a:pt x="225" y="178"/>
                        </a:lnTo>
                        <a:lnTo>
                          <a:pt x="956" y="178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973240" y="4573440"/>
                    <a:ext cx="73080" cy="92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125080" y="4305240"/>
                    <a:ext cx="6652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upper_lim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809360" y="4524480"/>
                    <a:ext cx="1200960" cy="495360"/>
                  </a:xfrm>
                  <a:custGeom>
                    <a:avLst/>
                    <a:gdLst/>
                    <a:ahLst/>
                    <a:rect l="l" t="t" r="r" b="b"/>
                    <a:pathLst>
                      <a:path w="956" h="355">
                        <a:moveTo>
                          <a:pt x="0" y="0"/>
                        </a:moveTo>
                        <a:lnTo>
                          <a:pt x="138" y="0"/>
                        </a:lnTo>
                        <a:lnTo>
                          <a:pt x="138" y="355"/>
                        </a:lnTo>
                        <a:lnTo>
                          <a:pt x="956" y="355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973240" y="4971960"/>
                    <a:ext cx="73080" cy="95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2059560" y="4799160"/>
                    <a:ext cx="63612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lower_lim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803960" y="5421240"/>
                    <a:ext cx="1206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62" h="0">
                        <a:moveTo>
                          <a:pt x="0" y="0"/>
                        </a:moveTo>
                        <a:lnTo>
                          <a:pt x="213" y="0"/>
                        </a:lnTo>
                        <a:lnTo>
                          <a:pt x="213" y="0"/>
                        </a:lnTo>
                        <a:lnTo>
                          <a:pt x="962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973240" y="5372280"/>
                    <a:ext cx="73080" cy="95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42920" y="5170320"/>
                    <a:ext cx="5842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upper_d 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803960" y="5637240"/>
                    <a:ext cx="120636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62" h="137">
                        <a:moveTo>
                          <a:pt x="0" y="0"/>
                        </a:moveTo>
                        <a:lnTo>
                          <a:pt x="150" y="0"/>
                        </a:lnTo>
                        <a:lnTo>
                          <a:pt x="150" y="137"/>
                        </a:lnTo>
                        <a:lnTo>
                          <a:pt x="962" y="137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973240" y="5781600"/>
                    <a:ext cx="73080" cy="95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068920" y="5541840"/>
                    <a:ext cx="5554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lower_d 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1809360" y="4210200"/>
                    <a:ext cx="12009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56" h="0">
                        <a:moveTo>
                          <a:pt x="0" y="0"/>
                        </a:moveTo>
                        <a:lnTo>
                          <a:pt x="478" y="0"/>
                        </a:lnTo>
                        <a:lnTo>
                          <a:pt x="478" y="0"/>
                        </a:lnTo>
                        <a:lnTo>
                          <a:pt x="956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973240" y="4162320"/>
                    <a:ext cx="7308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155680" y="3933720"/>
                    <a:ext cx="54324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ominal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7" name=""/>
                <p:cNvSpPr/>
                <p:nvPr/>
              </p:nvSpPr>
              <p:spPr>
                <a:xfrm>
                  <a:off x="461880" y="1447920"/>
                  <a:ext cx="1112760" cy="639720"/>
                </a:xfrm>
                <a:prstGeom prst="rect">
                  <a:avLst/>
                </a:prstGeom>
                <a:solidFill>
                  <a:srgbClr val="f2be9e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91760" y="1582560"/>
                  <a:ext cx="6058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nominal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07240" y="1762200"/>
                  <a:ext cx="622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tolerance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57200" y="2895480"/>
                  <a:ext cx="642960" cy="674640"/>
                </a:xfrm>
                <a:prstGeom prst="rect">
                  <a:avLst/>
                </a:prstGeom>
                <a:solidFill>
                  <a:srgbClr val="f2be9e"/>
                </a:solidFill>
                <a:ln w="9360">
                  <a:solidFill>
                    <a:srgbClr val="000000"/>
                  </a:solidFill>
                  <a:prstDash val="sysDash"/>
                  <a:miter/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19120" y="2895480"/>
                  <a:ext cx="4680" cy="67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13720" y="2962440"/>
                  <a:ext cx="540360" cy="50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defined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_tols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select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39520" y="2286000"/>
                  <a:ext cx="11880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defined_tolerance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41240" y="2133720"/>
                  <a:ext cx="0" cy="76176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93720" y="2800440"/>
                  <a:ext cx="77760" cy="95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6" name=""/>
                <p:cNvGrpSpPr/>
                <p:nvPr/>
              </p:nvGrpSpPr>
              <p:grpSpPr>
                <a:xfrm>
                  <a:off x="5486400" y="2743200"/>
                  <a:ext cx="3352680" cy="1752480"/>
                  <a:chOff x="5486400" y="2743200"/>
                  <a:chExt cx="3352680" cy="175248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5486400" y="2743200"/>
                    <a:ext cx="1707840" cy="1752480"/>
                  </a:xfrm>
                  <a:prstGeom prst="rect">
                    <a:avLst/>
                  </a:prstGeom>
                  <a:solidFill>
                    <a:srgbClr val="f8f8f8"/>
                  </a:solidFill>
                  <a:ln w="9360">
                    <a:solidFill>
                      <a:srgbClr val="009999"/>
                    </a:solidFill>
                    <a:miter/>
                  </a:ln>
                  <a:effectLst>
                    <a:outerShdw dist="107932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lt;!ELEMENT </a:t>
                    </a:r>
                    <a:r>
                      <a:rPr b="0" lang="en-US" sz="600" spc="-1" strike="noStrike">
                        <a:solidFill>
                          <a:srgbClr val="ff9966"/>
                        </a:solidFill>
                        <a:latin typeface="Comic Sans MS"/>
                        <a:ea typeface="MS Mincho"/>
                      </a:rPr>
                      <a:t>nominal_tolerance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(analysis_modes?,analysis_dofs?,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(%defined_tols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;))&g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lt;!ATTLIST nominal_tolerance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name ID #REQUIR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features IDREFS  #REQUIR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starting_transform  IDREF #IMPLI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%reporting_transform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gt; 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lt;!ENTITY % </a:t>
                    </a:r>
                    <a:r>
                      <a:rPr b="0" lang="en-US" sz="600" spc="-1" strike="noStrike">
                        <a:solidFill>
                          <a:srgbClr val="ff9966"/>
                        </a:solidFill>
                        <a:latin typeface="Comic Sans MS"/>
                        <a:ea typeface="MS Mincho"/>
                      </a:rPr>
                      <a:t>defined_tols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"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diameter_limit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| 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diameter_delta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|"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g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7162920" y="2743200"/>
                    <a:ext cx="1676160" cy="1752480"/>
                  </a:xfrm>
                  <a:prstGeom prst="rect">
                    <a:avLst/>
                  </a:prstGeom>
                  <a:solidFill>
                    <a:srgbClr val="f8f8f8"/>
                  </a:solidFill>
                  <a:ln w="9360">
                    <a:solidFill>
                      <a:srgbClr val="009999"/>
                    </a:solidFill>
                    <a:miter/>
                  </a:ln>
                  <a:effectLst>
                    <a:outerShdw dist="107932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lt;!ELEMENT </a:t>
                    </a:r>
                    <a:r>
                      <a:rPr b="0" lang="en-US" sz="600" spc="-1" strike="noStrike">
                        <a:solidFill>
                          <a:srgbClr val="ff9966"/>
                        </a:solidFill>
                        <a:latin typeface="Comic Sans MS"/>
                        <a:ea typeface="MS Mincho"/>
                      </a:rPr>
                      <a:t>diameter_limit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EMPTY&g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lt;!ATTLIST diameter_limit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lower_limit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CDATA #REQUIR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upper_limit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CDATA #REQUIR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nominal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CDATA #IMPLI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%size_tols_at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%cone_end_at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g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lt;!ELEMENT </a:t>
                    </a:r>
                    <a:r>
                      <a:rPr b="0" lang="en-US" sz="600" spc="-1" strike="noStrike">
                        <a:solidFill>
                          <a:srgbClr val="ff9966"/>
                        </a:solidFill>
                        <a:latin typeface="Comic Sans MS"/>
                        <a:ea typeface="MS Mincho"/>
                      </a:rPr>
                      <a:t>diameter_delta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EMPTY&g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lt;!ATTLIST diameter_delta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lower_delta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CDATA #REQUIR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 </a:t>
                    </a:r>
                    <a:r>
                      <a:rPr b="0" lang="en-US" sz="600" spc="-1" strike="noStrike">
                        <a:solidFill>
                          <a:srgbClr val="009999"/>
                        </a:solidFill>
                        <a:latin typeface="Comic Sans MS"/>
                        <a:ea typeface="MS Mincho"/>
                      </a:rPr>
                      <a:t>upper_delta</a:t>
                    </a: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 CDATA #REQUIRED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%size_tols_at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%cone_end_at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600" spc="-1" strike="noStrike">
                        <a:solidFill>
                          <a:srgbClr val="003366"/>
                        </a:solidFill>
                        <a:latin typeface="Comic Sans MS"/>
                        <a:ea typeface="MS Mincho"/>
                      </a:rPr>
                      <a:t>&gt;</a:t>
                    </a: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>
                  <a:off x="5501520" y="2427120"/>
                  <a:ext cx="1052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Comic Sans MS"/>
                    </a:rPr>
                    <a:t>XML DTD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0" name=""/>
            <p:cNvSpPr/>
            <p:nvPr/>
          </p:nvSpPr>
          <p:spPr>
            <a:xfrm>
              <a:off x="2268360" y="1600200"/>
              <a:ext cx="15004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Web Analysi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Logical 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Comic Sans MS"/>
                </a:rPr>
                <a:t>(not AP219)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75880" y="1523880"/>
              <a:ext cx="2367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Web Analysi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9999"/>
                  </a:solidFill>
                  <a:uFillTx/>
                  <a:latin typeface="Comic Sans MS"/>
                </a:rPr>
                <a:t>Implementation 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6019920" y="5943600"/>
            <a:ext cx="1143000" cy="304920"/>
          </a:xfrm>
          <a:prstGeom prst="rect">
            <a:avLst/>
          </a:prstGeom>
          <a:solidFill>
            <a:srgbClr val="e5b18d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943600" y="3124080"/>
            <a:ext cx="2892600" cy="2165400"/>
            <a:chOff x="5943600" y="3124080"/>
            <a:chExt cx="2892600" cy="2165400"/>
          </a:xfrm>
        </p:grpSpPr>
        <p:sp>
          <p:nvSpPr>
            <p:cNvPr id="444" name=""/>
            <p:cNvSpPr/>
            <p:nvPr/>
          </p:nvSpPr>
          <p:spPr>
            <a:xfrm>
              <a:off x="6021360" y="5114880"/>
              <a:ext cx="1617840" cy="1800"/>
            </a:xfrm>
            <a:custGeom>
              <a:avLst/>
              <a:gdLst/>
              <a:ahLst/>
              <a:rect l="l" t="t" r="r" b="b"/>
              <a:pathLst>
                <a:path w="784" h="0">
                  <a:moveTo>
                    <a:pt x="0" y="0"/>
                  </a:moveTo>
                  <a:lnTo>
                    <a:pt x="395" y="0"/>
                  </a:lnTo>
                  <a:lnTo>
                    <a:pt x="395" y="0"/>
                  </a:lnTo>
                  <a:lnTo>
                    <a:pt x="78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96080" y="4952880"/>
              <a:ext cx="1140120" cy="324000"/>
            </a:xfrm>
            <a:prstGeom prst="rect">
              <a:avLst/>
            </a:prstGeom>
            <a:solidFill>
              <a:srgbClr val="ccecff"/>
            </a:solidFill>
            <a:ln w="11160">
              <a:solidFill>
                <a:srgbClr val="000000"/>
              </a:solidFill>
              <a:prstDash val="sysDash"/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683560" y="4965840"/>
              <a:ext cx="1800" cy="323640"/>
            </a:xfrm>
            <a:prstGeom prst="line">
              <a:avLst/>
            </a:prstGeom>
            <a:ln w="11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58360" y="4995720"/>
              <a:ext cx="68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769880" y="5114880"/>
              <a:ext cx="848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contex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96360" y="5081760"/>
              <a:ext cx="8388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3880" y="4889520"/>
              <a:ext cx="121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qual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5943600" y="3124080"/>
              <a:ext cx="2755440" cy="1282680"/>
              <a:chOff x="5943600" y="3124080"/>
              <a:chExt cx="2755440" cy="1282680"/>
            </a:xfrm>
          </p:grpSpPr>
          <p:sp>
            <p:nvSpPr>
              <p:cNvPr id="452" name=""/>
              <p:cNvSpPr/>
              <p:nvPr/>
            </p:nvSpPr>
            <p:spPr>
              <a:xfrm>
                <a:off x="7747200" y="4084560"/>
                <a:ext cx="599760" cy="24732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276400" y="4084560"/>
                <a:ext cx="1080" cy="247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831440" y="4144680"/>
                <a:ext cx="57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NTEG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099640" y="3124080"/>
                <a:ext cx="599400" cy="24768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630280" y="3124080"/>
                <a:ext cx="1080" cy="247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213760" y="3157200"/>
                <a:ext cx="328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REAL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403680" y="4213080"/>
                <a:ext cx="1306080" cy="1440"/>
              </a:xfrm>
              <a:custGeom>
                <a:avLst/>
                <a:gdLst/>
                <a:ahLst/>
                <a:rect l="l" t="t" r="r" b="b"/>
                <a:pathLst>
                  <a:path w="756" h="0">
                    <a:moveTo>
                      <a:pt x="0" y="0"/>
                    </a:moveTo>
                    <a:lnTo>
                      <a:pt x="375" y="0"/>
                    </a:lnTo>
                    <a:lnTo>
                      <a:pt x="375" y="0"/>
                    </a:lnTo>
                    <a:lnTo>
                      <a:pt x="756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675200" y="4181400"/>
                <a:ext cx="7164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43600" y="3414600"/>
                <a:ext cx="2284920" cy="582480"/>
              </a:xfrm>
              <a:custGeom>
                <a:avLst/>
                <a:gdLst/>
                <a:ahLst/>
                <a:rect l="l" t="t" r="r" b="b"/>
                <a:pathLst>
                  <a:path w="1322" h="367">
                    <a:moveTo>
                      <a:pt x="0" y="367"/>
                    </a:moveTo>
                    <a:lnTo>
                      <a:pt x="0" y="102"/>
                    </a:lnTo>
                    <a:lnTo>
                      <a:pt x="1322" y="102"/>
                    </a:lnTo>
                    <a:lnTo>
                      <a:pt x="132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192520" y="3382560"/>
                <a:ext cx="705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168600" y="3414600"/>
                <a:ext cx="2178360" cy="582480"/>
              </a:xfrm>
              <a:custGeom>
                <a:avLst/>
                <a:gdLst/>
                <a:ahLst/>
                <a:rect l="l" t="t" r="r" b="b"/>
                <a:pathLst>
                  <a:path w="1260" h="367">
                    <a:moveTo>
                      <a:pt x="0" y="367"/>
                    </a:moveTo>
                    <a:lnTo>
                      <a:pt x="0" y="184"/>
                    </a:lnTo>
                    <a:lnTo>
                      <a:pt x="1260" y="184"/>
                    </a:lnTo>
                    <a:lnTo>
                      <a:pt x="126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312400" y="3382560"/>
                <a:ext cx="6876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017200" y="4343040"/>
                <a:ext cx="70560" cy="63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429400" y="3382560"/>
                <a:ext cx="7164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547840" y="3382560"/>
                <a:ext cx="7020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821640" y="3396960"/>
                <a:ext cx="752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upper_limi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828120" y="3701880"/>
                <a:ext cx="723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lower_limi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588000" y="4006440"/>
                <a:ext cx="1108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significant_digits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DMF (</a:t>
            </a:r>
            <a:r>
              <a:rPr b="1" lang="en-US" sz="2000" spc="-1" strike="noStrike">
                <a:solidFill>
                  <a:srgbClr val="336699"/>
                </a:solidFill>
                <a:latin typeface="Comic Sans MS"/>
              </a:rPr>
              <a:t>Dim meas feature)</a:t>
            </a: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: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 Tolerance harmonization AP224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6095880"/>
            <a:ext cx="1143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467480" y="6095880"/>
            <a:ext cx="121932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2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328920" y="2749680"/>
            <a:ext cx="2646360" cy="1130040"/>
            <a:chOff x="3328920" y="2749680"/>
            <a:chExt cx="2646360" cy="1130040"/>
          </a:xfrm>
        </p:grpSpPr>
        <p:sp>
          <p:nvSpPr>
            <p:cNvPr id="474" name=""/>
            <p:cNvSpPr/>
            <p:nvPr/>
          </p:nvSpPr>
          <p:spPr>
            <a:xfrm>
              <a:off x="4361040" y="3581280"/>
              <a:ext cx="819000" cy="29844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68800" y="3581280"/>
              <a:ext cx="1800" cy="29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07560" y="36734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56280" y="3130560"/>
              <a:ext cx="819000" cy="29520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65840" y="3130560"/>
              <a:ext cx="1440" cy="29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89120" y="321624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328920" y="2819520"/>
              <a:ext cx="1441440" cy="715680"/>
            </a:xfrm>
            <a:custGeom>
              <a:avLst/>
              <a:gdLst/>
              <a:ahLst/>
              <a:rect l="l" t="t" r="r" b="b"/>
              <a:pathLst>
                <a:path w="908" h="549">
                  <a:moveTo>
                    <a:pt x="0" y="0"/>
                  </a:moveTo>
                  <a:lnTo>
                    <a:pt x="0" y="341"/>
                  </a:lnTo>
                  <a:lnTo>
                    <a:pt x="908" y="341"/>
                  </a:lnTo>
                  <a:lnTo>
                    <a:pt x="908" y="54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61560" y="3084480"/>
              <a:ext cx="1117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41680" y="2819520"/>
              <a:ext cx="2023920" cy="264960"/>
            </a:xfrm>
            <a:custGeom>
              <a:avLst/>
              <a:gdLst/>
              <a:ahLst/>
              <a:rect l="l" t="t" r="r" b="b"/>
              <a:pathLst>
                <a:path w="1275" h="203">
                  <a:moveTo>
                    <a:pt x="0" y="0"/>
                  </a:moveTo>
                  <a:lnTo>
                    <a:pt x="0" y="84"/>
                  </a:lnTo>
                  <a:lnTo>
                    <a:pt x="1275" y="84"/>
                  </a:lnTo>
                  <a:lnTo>
                    <a:pt x="1275" y="20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079520" y="2749680"/>
              <a:ext cx="1024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_un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34000" y="3517920"/>
              <a:ext cx="7920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30680" y="3063960"/>
              <a:ext cx="7956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80880" y="1447920"/>
            <a:ext cx="2548080" cy="631800"/>
            <a:chOff x="380880" y="1447920"/>
            <a:chExt cx="2548080" cy="631800"/>
          </a:xfrm>
        </p:grpSpPr>
        <p:sp>
          <p:nvSpPr>
            <p:cNvPr id="487" name=""/>
            <p:cNvSpPr/>
            <p:nvPr/>
          </p:nvSpPr>
          <p:spPr>
            <a:xfrm>
              <a:off x="380880" y="1447920"/>
              <a:ext cx="965160" cy="631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9000" y="149544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5440" y="162576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7240" y="1755720"/>
              <a:ext cx="99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men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6760" y="190008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76560" y="1609560"/>
              <a:ext cx="752400" cy="2746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27400" y="1690560"/>
              <a:ext cx="59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dent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65120" y="1755720"/>
              <a:ext cx="754200" cy="1800"/>
            </a:xfrm>
            <a:custGeom>
              <a:avLst/>
              <a:gdLst/>
              <a:ahLst/>
              <a:rect l="l" t="t" r="r" b="b"/>
              <a:pathLst>
                <a:path w="357" h="0">
                  <a:moveTo>
                    <a:pt x="0" y="0"/>
                  </a:moveTo>
                  <a:lnTo>
                    <a:pt x="174" y="0"/>
                  </a:lnTo>
                  <a:lnTo>
                    <a:pt x="174" y="0"/>
                  </a:lnTo>
                  <a:lnTo>
                    <a:pt x="357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79720" y="1722600"/>
              <a:ext cx="759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15960" y="1600200"/>
              <a:ext cx="31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abe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90480" y="2124000"/>
            <a:ext cx="888840" cy="862200"/>
            <a:chOff x="690480" y="2124000"/>
            <a:chExt cx="888840" cy="862200"/>
          </a:xfrm>
        </p:grpSpPr>
        <p:sp>
          <p:nvSpPr>
            <p:cNvPr id="498" name=""/>
            <p:cNvSpPr/>
            <p:nvPr/>
          </p:nvSpPr>
          <p:spPr>
            <a:xfrm>
              <a:off x="883080" y="2320920"/>
              <a:ext cx="241200" cy="32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886320" y="2124000"/>
              <a:ext cx="1800" cy="19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1124280" y="2320920"/>
              <a:ext cx="1440" cy="14616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79640" y="2435400"/>
              <a:ext cx="87120" cy="648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0480" y="2517840"/>
              <a:ext cx="888840" cy="468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9000" y="2678040"/>
              <a:ext cx="67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circ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01920" y="3002040"/>
            <a:ext cx="1190880" cy="1262160"/>
            <a:chOff x="601920" y="3002040"/>
            <a:chExt cx="1190880" cy="1262160"/>
          </a:xfrm>
        </p:grpSpPr>
        <p:sp>
          <p:nvSpPr>
            <p:cNvPr id="505" name=""/>
            <p:cNvSpPr/>
            <p:nvPr/>
          </p:nvSpPr>
          <p:spPr>
            <a:xfrm>
              <a:off x="882720" y="3763800"/>
              <a:ext cx="869760" cy="500400"/>
            </a:xfrm>
            <a:prstGeom prst="rect">
              <a:avLst/>
            </a:prstGeom>
            <a:solidFill>
              <a:srgbClr val="f2be9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949680" y="3811680"/>
              <a:ext cx="32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17280" y="394164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27360" y="408780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76400" y="3002040"/>
              <a:ext cx="96840" cy="712800"/>
            </a:xfrm>
            <a:custGeom>
              <a:avLst/>
              <a:gdLst/>
              <a:ahLst/>
              <a:rect l="l" t="t" r="r" b="b"/>
              <a:pathLst>
                <a:path w="46" h="401">
                  <a:moveTo>
                    <a:pt x="0" y="0"/>
                  </a:moveTo>
                  <a:lnTo>
                    <a:pt x="0" y="110"/>
                  </a:lnTo>
                  <a:lnTo>
                    <a:pt x="46" y="110"/>
                  </a:lnTo>
                  <a:lnTo>
                    <a:pt x="46" y="40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131840" y="3681360"/>
              <a:ext cx="795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1920" y="327672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10480" y="4343400"/>
            <a:ext cx="1469880" cy="1831680"/>
            <a:chOff x="510480" y="4343400"/>
            <a:chExt cx="1469880" cy="1831680"/>
          </a:xfrm>
        </p:grpSpPr>
        <p:sp>
          <p:nvSpPr>
            <p:cNvPr id="513" name=""/>
            <p:cNvSpPr/>
            <p:nvPr/>
          </p:nvSpPr>
          <p:spPr>
            <a:xfrm>
              <a:off x="1028520" y="5543280"/>
              <a:ext cx="951840" cy="631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23200" y="559116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13120" y="5721120"/>
              <a:ext cx="73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122480" y="5849640"/>
              <a:ext cx="76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34000" y="5995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with_lim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46760" y="4343400"/>
              <a:ext cx="1800" cy="1150920"/>
            </a:xfrm>
            <a:custGeom>
              <a:avLst/>
              <a:gdLst/>
              <a:ahLst/>
              <a:rect l="l" t="t" r="r" b="b"/>
              <a:pathLst>
                <a:path w="0" h="648">
                  <a:moveTo>
                    <a:pt x="0" y="0"/>
                  </a:moveTo>
                  <a:lnTo>
                    <a:pt x="0" y="155"/>
                  </a:lnTo>
                  <a:lnTo>
                    <a:pt x="0" y="155"/>
                  </a:lnTo>
                  <a:lnTo>
                    <a:pt x="0" y="648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96000" y="5460840"/>
              <a:ext cx="9828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0480" y="4651200"/>
              <a:ext cx="66816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value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[1:?]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752480" y="3459240"/>
            <a:ext cx="1866960" cy="1067040"/>
            <a:chOff x="1752480" y="3459240"/>
            <a:chExt cx="1866960" cy="1067040"/>
          </a:xfrm>
        </p:grpSpPr>
        <p:sp>
          <p:nvSpPr>
            <p:cNvPr id="522" name=""/>
            <p:cNvSpPr/>
            <p:nvPr/>
          </p:nvSpPr>
          <p:spPr>
            <a:xfrm>
              <a:off x="1847520" y="4191120"/>
              <a:ext cx="649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pecifi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52480" y="4114800"/>
              <a:ext cx="53352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2286000" y="3962160"/>
              <a:ext cx="0" cy="15228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44600" y="3940200"/>
              <a:ext cx="7956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54240" y="3459240"/>
              <a:ext cx="1465200" cy="40644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11120" y="3516480"/>
              <a:ext cx="1372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umeric_paramete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23000" y="3659040"/>
              <a:ext cx="968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with_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2917800" y="2225520"/>
            <a:ext cx="4948200" cy="1222560"/>
            <a:chOff x="2917800" y="2225520"/>
            <a:chExt cx="4948200" cy="1222560"/>
          </a:xfrm>
        </p:grpSpPr>
        <p:grpSp>
          <p:nvGrpSpPr>
            <p:cNvPr id="530" name=""/>
            <p:cNvGrpSpPr/>
            <p:nvPr/>
          </p:nvGrpSpPr>
          <p:grpSpPr>
            <a:xfrm>
              <a:off x="2917800" y="2225520"/>
              <a:ext cx="4948200" cy="594000"/>
              <a:chOff x="2917800" y="2225520"/>
              <a:chExt cx="4948200" cy="594000"/>
            </a:xfrm>
          </p:grpSpPr>
          <p:sp>
            <p:nvSpPr>
              <p:cNvPr id="531" name=""/>
              <p:cNvSpPr/>
              <p:nvPr/>
            </p:nvSpPr>
            <p:spPr>
              <a:xfrm>
                <a:off x="5241960" y="2316240"/>
                <a:ext cx="977760" cy="50328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1880" y="2419200"/>
                <a:ext cx="552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circular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316120" y="2560680"/>
                <a:ext cx="915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closed_profil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917800" y="2316240"/>
                <a:ext cx="820800" cy="50328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82600" y="2419200"/>
                <a:ext cx="608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numeric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976840" y="2560680"/>
                <a:ext cx="701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aramet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47000" y="2225520"/>
                <a:ext cx="819000" cy="50328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110720" y="2405160"/>
                <a:ext cx="755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round_hol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792600" y="2560680"/>
                <a:ext cx="1449360" cy="1440"/>
              </a:xfrm>
              <a:custGeom>
                <a:avLst/>
                <a:gdLst/>
                <a:ahLst/>
                <a:rect l="l" t="t" r="r" b="b"/>
                <a:pathLst>
                  <a:path w="913" h="0">
                    <a:moveTo>
                      <a:pt x="913" y="0"/>
                    </a:moveTo>
                    <a:lnTo>
                      <a:pt x="457" y="0"/>
                    </a:lnTo>
                    <a:lnTo>
                      <a:pt x="457" y="0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242240" y="2387520"/>
                <a:ext cx="601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iamet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283440" y="2560680"/>
                <a:ext cx="763560" cy="1440"/>
              </a:xfrm>
              <a:custGeom>
                <a:avLst/>
                <a:gdLst/>
                <a:ahLst/>
                <a:rect l="l" t="t" r="r" b="b"/>
                <a:pathLst>
                  <a:path w="481" h="0">
                    <a:moveTo>
                      <a:pt x="481" y="0"/>
                    </a:moveTo>
                    <a:lnTo>
                      <a:pt x="243" y="0"/>
                    </a:lnTo>
                    <a:lnTo>
                      <a:pt x="243" y="0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393240" y="2387520"/>
                <a:ext cx="601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iamet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232680" y="2527200"/>
                <a:ext cx="79200" cy="63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749760" y="2527200"/>
                <a:ext cx="79200" cy="63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3122640" y="3097080"/>
              <a:ext cx="144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22640" y="2819520"/>
              <a:ext cx="1440" cy="277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3122640" y="3097080"/>
              <a:ext cx="1440" cy="316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83040" y="3384720"/>
              <a:ext cx="7920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887560" y="3865680"/>
            <a:ext cx="3554640" cy="1466640"/>
            <a:chOff x="2887560" y="3865680"/>
            <a:chExt cx="3554640" cy="1466640"/>
          </a:xfrm>
        </p:grpSpPr>
        <p:grpSp>
          <p:nvGrpSpPr>
            <p:cNvPr id="550" name=""/>
            <p:cNvGrpSpPr/>
            <p:nvPr/>
          </p:nvGrpSpPr>
          <p:grpSpPr>
            <a:xfrm>
              <a:off x="4998960" y="4040280"/>
              <a:ext cx="1443240" cy="1292040"/>
              <a:chOff x="4998960" y="4040280"/>
              <a:chExt cx="1443240" cy="1292040"/>
            </a:xfrm>
          </p:grpSpPr>
          <p:sp>
            <p:nvSpPr>
              <p:cNvPr id="551" name=""/>
              <p:cNvSpPr/>
              <p:nvPr/>
            </p:nvSpPr>
            <p:spPr>
              <a:xfrm>
                <a:off x="5527800" y="4040280"/>
                <a:ext cx="914400" cy="50328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588640" y="4143240"/>
                <a:ext cx="811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lus_minus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593680" y="4284720"/>
                <a:ext cx="622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toleranc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5326200" y="4279680"/>
                <a:ext cx="1440" cy="788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998960" y="4653000"/>
                <a:ext cx="328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553000" y="4829040"/>
                <a:ext cx="819360" cy="50328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631120" y="4932360"/>
                <a:ext cx="685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tolerance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23920" y="5073480"/>
                <a:ext cx="291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limi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5338440" y="5073480"/>
                <a:ext cx="158760" cy="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50040" y="5035680"/>
                <a:ext cx="95040" cy="777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5325840" y="4284720"/>
                <a:ext cx="14580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52920" y="4249800"/>
                <a:ext cx="7956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887560" y="3865680"/>
              <a:ext cx="2103480" cy="1239840"/>
              <a:chOff x="2887560" y="3865680"/>
              <a:chExt cx="2103480" cy="1239840"/>
            </a:xfrm>
          </p:grpSpPr>
          <p:sp>
            <p:nvSpPr>
              <p:cNvPr id="564" name=""/>
              <p:cNvSpPr/>
              <p:nvPr/>
            </p:nvSpPr>
            <p:spPr>
              <a:xfrm>
                <a:off x="3200400" y="4503600"/>
                <a:ext cx="1790640" cy="601920"/>
              </a:xfrm>
              <a:prstGeom prst="rect">
                <a:avLst/>
              </a:prstGeom>
              <a:solidFill>
                <a:srgbClr val="ccecff"/>
              </a:solidFill>
              <a:ln w="7920">
                <a:solidFill>
                  <a:srgbClr val="000000"/>
                </a:solidFill>
                <a:prstDash val="sysDash"/>
                <a:miter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574800" y="4648320"/>
                <a:ext cx="13723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numeric_parameter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tolerance_selec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887560" y="3865680"/>
                <a:ext cx="487440" cy="595080"/>
              </a:xfrm>
              <a:custGeom>
                <a:avLst/>
                <a:gdLst/>
                <a:ahLst/>
                <a:rect l="l" t="t" r="r" b="b"/>
                <a:pathLst>
                  <a:path w="307" h="455">
                    <a:moveTo>
                      <a:pt x="0" y="0"/>
                    </a:moveTo>
                    <a:lnTo>
                      <a:pt x="0" y="222"/>
                    </a:lnTo>
                    <a:lnTo>
                      <a:pt x="307" y="222"/>
                    </a:lnTo>
                    <a:lnTo>
                      <a:pt x="307" y="45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328920" y="4421160"/>
                <a:ext cx="93600" cy="77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432960" y="4114800"/>
                <a:ext cx="1166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mplicit_toleranc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429000" y="4495680"/>
                <a:ext cx="0" cy="533520"/>
              </a:xfrm>
              <a:prstGeom prst="line">
                <a:avLst/>
              </a:prstGeom>
              <a:ln w="792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6019920" y="6172200"/>
            <a:ext cx="1143000" cy="304920"/>
          </a:xfrm>
          <a:prstGeom prst="rect">
            <a:avLst/>
          </a:prstGeom>
          <a:solidFill>
            <a:srgbClr val="e5b18d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DMF (</a:t>
            </a:r>
            <a:r>
              <a:rPr b="1" lang="en-US" sz="2000" spc="-1" strike="noStrike">
                <a:solidFill>
                  <a:srgbClr val="336699"/>
                </a:solidFill>
                <a:latin typeface="Comic Sans MS"/>
              </a:rPr>
              <a:t>Dim meas feature)</a:t>
            </a: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: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 Tolerance harmonization AP214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268080" y="1495440"/>
            <a:ext cx="3620160" cy="1427040"/>
            <a:chOff x="3268080" y="1495440"/>
            <a:chExt cx="3620160" cy="1427040"/>
          </a:xfrm>
        </p:grpSpPr>
        <p:sp>
          <p:nvSpPr>
            <p:cNvPr id="573" name=""/>
            <p:cNvSpPr/>
            <p:nvPr/>
          </p:nvSpPr>
          <p:spPr>
            <a:xfrm>
              <a:off x="6018120" y="2451240"/>
              <a:ext cx="870120" cy="47124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068160" y="256536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lus_minus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054480" y="269388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bound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08480" y="1495440"/>
              <a:ext cx="946080" cy="4716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07120" y="167472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s_&amp;_f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038480" y="1495440"/>
              <a:ext cx="917640" cy="503280"/>
            </a:xfrm>
            <a:prstGeom prst="rect">
              <a:avLst/>
            </a:prstGeom>
            <a:solidFill>
              <a:srgbClr val="deeede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14800" y="1523880"/>
              <a:ext cx="0" cy="457200"/>
            </a:xfrm>
            <a:prstGeom prst="line">
              <a:avLst/>
            </a:prstGeom>
            <a:ln w="14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94720" y="1531800"/>
              <a:ext cx="69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a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03720" y="1676520"/>
              <a:ext cx="69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i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98680" y="1806480"/>
              <a:ext cx="38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el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707000" y="2257560"/>
              <a:ext cx="1525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707000" y="2014560"/>
              <a:ext cx="1440" cy="243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6232680" y="2257200"/>
              <a:ext cx="1440" cy="16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92720" y="2387520"/>
              <a:ext cx="77760" cy="637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73600" y="2014560"/>
              <a:ext cx="1800" cy="243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32560" y="1982880"/>
              <a:ext cx="79200" cy="63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733920" y="2046240"/>
              <a:ext cx="720720" cy="239760"/>
            </a:xfrm>
            <a:custGeom>
              <a:avLst/>
              <a:gdLst/>
              <a:ahLst/>
              <a:rect l="l" t="t" r="r" b="b"/>
              <a:pathLst>
                <a:path w="686" h="146">
                  <a:moveTo>
                    <a:pt x="0" y="146"/>
                  </a:moveTo>
                  <a:lnTo>
                    <a:pt x="0" y="73"/>
                  </a:lnTo>
                  <a:lnTo>
                    <a:pt x="686" y="73"/>
                  </a:lnTo>
                  <a:lnTo>
                    <a:pt x="68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19720" y="1981080"/>
              <a:ext cx="7596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68080" y="198108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_def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380880" y="1447920"/>
            <a:ext cx="2548080" cy="4647960"/>
            <a:chOff x="380880" y="1447920"/>
            <a:chExt cx="2548080" cy="4647960"/>
          </a:xfrm>
        </p:grpSpPr>
        <p:grpSp>
          <p:nvGrpSpPr>
            <p:cNvPr id="593" name=""/>
            <p:cNvGrpSpPr/>
            <p:nvPr/>
          </p:nvGrpSpPr>
          <p:grpSpPr>
            <a:xfrm>
              <a:off x="380880" y="1447920"/>
              <a:ext cx="2548080" cy="631800"/>
              <a:chOff x="380880" y="1447920"/>
              <a:chExt cx="2548080" cy="631800"/>
            </a:xfrm>
          </p:grpSpPr>
          <p:sp>
            <p:nvSpPr>
              <p:cNvPr id="594" name=""/>
              <p:cNvSpPr/>
              <p:nvPr/>
            </p:nvSpPr>
            <p:spPr>
              <a:xfrm>
                <a:off x="380880" y="1447920"/>
                <a:ext cx="965160" cy="631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59000" y="1495440"/>
                <a:ext cx="345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(ABS)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15440" y="1625760"/>
                <a:ext cx="875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imensional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17240" y="1755720"/>
                <a:ext cx="991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ment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6760" y="1900080"/>
                <a:ext cx="482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featur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176560" y="1609560"/>
                <a:ext cx="752400" cy="27468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prstDash val="sysDash"/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327400" y="1690560"/>
                <a:ext cx="597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dentifi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65120" y="1755720"/>
                <a:ext cx="754200" cy="1800"/>
              </a:xfrm>
              <a:custGeom>
                <a:avLst/>
                <a:gdLst/>
                <a:ahLst/>
                <a:rect l="l" t="t" r="r" b="b"/>
                <a:pathLst>
                  <a:path w="357" h="0">
                    <a:moveTo>
                      <a:pt x="0" y="0"/>
                    </a:moveTo>
                    <a:lnTo>
                      <a:pt x="174" y="0"/>
                    </a:lnTo>
                    <a:lnTo>
                      <a:pt x="174" y="0"/>
                    </a:lnTo>
                    <a:lnTo>
                      <a:pt x="357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79720" y="1722600"/>
                <a:ext cx="75960" cy="66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515960" y="1600200"/>
                <a:ext cx="319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label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690480" y="2124000"/>
              <a:ext cx="790560" cy="862200"/>
              <a:chOff x="690480" y="2124000"/>
              <a:chExt cx="790560" cy="862200"/>
            </a:xfrm>
          </p:grpSpPr>
          <p:sp>
            <p:nvSpPr>
              <p:cNvPr id="605" name=""/>
              <p:cNvSpPr/>
              <p:nvPr/>
            </p:nvSpPr>
            <p:spPr>
              <a:xfrm>
                <a:off x="861840" y="2320920"/>
                <a:ext cx="214560" cy="324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864720" y="2124000"/>
                <a:ext cx="1800" cy="19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1076400" y="2320920"/>
                <a:ext cx="1440" cy="14616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036800" y="2435400"/>
                <a:ext cx="77760" cy="6480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0480" y="2517840"/>
                <a:ext cx="790560" cy="46836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06400" y="2678040"/>
                <a:ext cx="674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mf_circl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601920" y="3002040"/>
              <a:ext cx="1190880" cy="1262160"/>
              <a:chOff x="601920" y="3002040"/>
              <a:chExt cx="1190880" cy="1262160"/>
            </a:xfrm>
          </p:grpSpPr>
          <p:sp>
            <p:nvSpPr>
              <p:cNvPr id="612" name=""/>
              <p:cNvSpPr/>
              <p:nvPr/>
            </p:nvSpPr>
            <p:spPr>
              <a:xfrm>
                <a:off x="882720" y="3763800"/>
                <a:ext cx="869760" cy="500400"/>
              </a:xfrm>
              <a:prstGeom prst="rect">
                <a:avLst/>
              </a:prstGeom>
              <a:solidFill>
                <a:srgbClr val="f2be9e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949680" y="3811680"/>
                <a:ext cx="329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mf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17280" y="3941640"/>
                <a:ext cx="875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imensional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927360" y="4087800"/>
                <a:ext cx="701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aramet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076400" y="3002040"/>
                <a:ext cx="96840" cy="712800"/>
              </a:xfrm>
              <a:custGeom>
                <a:avLst/>
                <a:gdLst/>
                <a:ahLst/>
                <a:rect l="l" t="t" r="r" b="b"/>
                <a:pathLst>
                  <a:path w="46" h="401">
                    <a:moveTo>
                      <a:pt x="0" y="0"/>
                    </a:moveTo>
                    <a:lnTo>
                      <a:pt x="0" y="110"/>
                    </a:lnTo>
                    <a:lnTo>
                      <a:pt x="46" y="110"/>
                    </a:lnTo>
                    <a:lnTo>
                      <a:pt x="46" y="401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131840" y="3681360"/>
                <a:ext cx="79560" cy="66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01920" y="3276720"/>
                <a:ext cx="601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iamet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644040" y="4264200"/>
              <a:ext cx="1251720" cy="1831680"/>
              <a:chOff x="644040" y="4264200"/>
              <a:chExt cx="1251720" cy="1831680"/>
            </a:xfrm>
          </p:grpSpPr>
          <p:sp>
            <p:nvSpPr>
              <p:cNvPr id="620" name=""/>
              <p:cNvSpPr/>
              <p:nvPr/>
            </p:nvSpPr>
            <p:spPr>
              <a:xfrm>
                <a:off x="1057320" y="5464080"/>
                <a:ext cx="750960" cy="631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131840" y="5511960"/>
                <a:ext cx="36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121400" y="5641920"/>
                <a:ext cx="73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d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131480" y="5770440"/>
                <a:ext cx="764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arameter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143000" y="5916600"/>
                <a:ext cx="704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with_limits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08240" y="4264200"/>
                <a:ext cx="1440" cy="1150920"/>
              </a:xfrm>
              <a:custGeom>
                <a:avLst/>
                <a:gdLst/>
                <a:ahLst/>
                <a:rect l="l" t="t" r="r" b="b"/>
                <a:pathLst>
                  <a:path w="0" h="648">
                    <a:moveTo>
                      <a:pt x="0" y="0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648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268280" y="5381640"/>
                <a:ext cx="77760" cy="66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44040" y="4572000"/>
                <a:ext cx="668160" cy="50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d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_values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S[1:?]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8" name=""/>
          <p:cNvGrpSpPr/>
          <p:nvPr/>
        </p:nvGrpSpPr>
        <p:grpSpPr>
          <a:xfrm>
            <a:off x="6345360" y="1528920"/>
            <a:ext cx="2570040" cy="2314440"/>
            <a:chOff x="6345360" y="1528920"/>
            <a:chExt cx="2570040" cy="2314440"/>
          </a:xfrm>
        </p:grpSpPr>
        <p:sp>
          <p:nvSpPr>
            <p:cNvPr id="629" name=""/>
            <p:cNvSpPr/>
            <p:nvPr/>
          </p:nvSpPr>
          <p:spPr>
            <a:xfrm>
              <a:off x="6927840" y="1528920"/>
              <a:ext cx="847800" cy="3711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1560" y="1528920"/>
              <a:ext cx="1440" cy="37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46000" y="167652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163000" y="2549520"/>
              <a:ext cx="752400" cy="27468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8685360" y="2590920"/>
              <a:ext cx="1440" cy="233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259480" y="260028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NTEG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18400" y="3343320"/>
              <a:ext cx="965160" cy="500040"/>
            </a:xfrm>
            <a:prstGeom prst="rect">
              <a:avLst/>
            </a:prstGeom>
            <a:solidFill>
              <a:srgbClr val="deeede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588520" y="3343320"/>
              <a:ext cx="1440" cy="500040"/>
            </a:xfrm>
            <a:prstGeom prst="line">
              <a:avLst/>
            </a:prstGeom>
            <a:ln w="14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74560" y="3390840"/>
              <a:ext cx="41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69520" y="3521160"/>
              <a:ext cx="1009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termina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43240" y="3665520"/>
              <a:ext cx="86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enumer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43640" y="1951200"/>
              <a:ext cx="754200" cy="500040"/>
            </a:xfrm>
            <a:custGeom>
              <a:avLst/>
              <a:gdLst/>
              <a:ahLst/>
              <a:rect l="l" t="t" r="r" b="b"/>
              <a:pathLst>
                <a:path w="357" h="282">
                  <a:moveTo>
                    <a:pt x="0" y="282"/>
                  </a:moveTo>
                  <a:lnTo>
                    <a:pt x="0" y="91"/>
                  </a:lnTo>
                  <a:lnTo>
                    <a:pt x="357" y="91"/>
                  </a:lnTo>
                  <a:lnTo>
                    <a:pt x="357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159680" y="1916280"/>
              <a:ext cx="7632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656400" y="1951200"/>
              <a:ext cx="830160" cy="500040"/>
            </a:xfrm>
            <a:custGeom>
              <a:avLst/>
              <a:gdLst/>
              <a:ahLst/>
              <a:rect l="l" t="t" r="r" b="b"/>
              <a:pathLst>
                <a:path w="393" h="282">
                  <a:moveTo>
                    <a:pt x="0" y="282"/>
                  </a:moveTo>
                  <a:lnTo>
                    <a:pt x="0" y="182"/>
                  </a:lnTo>
                  <a:lnTo>
                    <a:pt x="393" y="182"/>
                  </a:lnTo>
                  <a:lnTo>
                    <a:pt x="39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48400" y="1916280"/>
              <a:ext cx="777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888240" y="2693880"/>
              <a:ext cx="1216080" cy="3240"/>
            </a:xfrm>
            <a:custGeom>
              <a:avLst/>
              <a:gdLst/>
              <a:ahLst/>
              <a:rect l="l" t="t" r="r" b="b"/>
              <a:pathLst>
                <a:path w="576" h="0">
                  <a:moveTo>
                    <a:pt x="0" y="0"/>
                  </a:moveTo>
                  <a:lnTo>
                    <a:pt x="292" y="0"/>
                  </a:lnTo>
                  <a:lnTo>
                    <a:pt x="292" y="0"/>
                  </a:lnTo>
                  <a:lnTo>
                    <a:pt x="57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067600" y="2662200"/>
              <a:ext cx="745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443640" y="2938320"/>
              <a:ext cx="1758960" cy="354240"/>
            </a:xfrm>
            <a:custGeom>
              <a:avLst/>
              <a:gdLst/>
              <a:ahLst/>
              <a:rect l="l" t="t" r="r" b="b"/>
              <a:pathLst>
                <a:path w="833" h="200">
                  <a:moveTo>
                    <a:pt x="0" y="0"/>
                  </a:moveTo>
                  <a:lnTo>
                    <a:pt x="0" y="91"/>
                  </a:lnTo>
                  <a:lnTo>
                    <a:pt x="833" y="91"/>
                  </a:lnTo>
                  <a:lnTo>
                    <a:pt x="833" y="20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63000" y="3260880"/>
              <a:ext cx="759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019280" y="2971800"/>
              <a:ext cx="1363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determin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44920" y="251460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ig_dig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45360" y="1981080"/>
              <a:ext cx="89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pper_boun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35880" y="2133720"/>
              <a:ext cx="86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ower_boun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784680" y="2514600"/>
            <a:ext cx="2509920" cy="2468160"/>
            <a:chOff x="3784680" y="2514600"/>
            <a:chExt cx="2509920" cy="2468160"/>
          </a:xfrm>
        </p:grpSpPr>
        <p:sp>
          <p:nvSpPr>
            <p:cNvPr id="653" name=""/>
            <p:cNvSpPr/>
            <p:nvPr/>
          </p:nvSpPr>
          <p:spPr>
            <a:xfrm>
              <a:off x="5521320" y="4694400"/>
              <a:ext cx="773280" cy="27612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18280" y="4694400"/>
              <a:ext cx="144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04560" y="481500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784680" y="2514600"/>
              <a:ext cx="1908000" cy="2120760"/>
              <a:chOff x="3784680" y="2514600"/>
              <a:chExt cx="1908000" cy="2120760"/>
            </a:xfrm>
          </p:grpSpPr>
          <p:sp>
            <p:nvSpPr>
              <p:cNvPr id="657" name=""/>
              <p:cNvSpPr/>
              <p:nvPr/>
            </p:nvSpPr>
            <p:spPr>
              <a:xfrm>
                <a:off x="4919760" y="3325680"/>
                <a:ext cx="772920" cy="500040"/>
              </a:xfrm>
              <a:prstGeom prst="rect">
                <a:avLst/>
              </a:prstGeom>
              <a:solidFill>
                <a:srgbClr val="deeede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000760" y="3373560"/>
                <a:ext cx="345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(ABS)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971600" y="3519360"/>
                <a:ext cx="643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985640" y="3648240"/>
                <a:ext cx="607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with_uni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307120" y="3841920"/>
                <a:ext cx="1440" cy="17928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4556160" y="4020840"/>
                <a:ext cx="1440" cy="9684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516560" y="4086360"/>
                <a:ext cx="75960" cy="6336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495680" y="2514600"/>
                <a:ext cx="755640" cy="276120"/>
              </a:xfrm>
              <a:prstGeom prst="rect">
                <a:avLst/>
              </a:prstGeom>
              <a:solidFill>
                <a:srgbClr val="deeede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111640" y="2529000"/>
                <a:ext cx="3240" cy="27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73080" y="2604960"/>
                <a:ext cx="498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STRING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883040" y="2838600"/>
                <a:ext cx="424080" cy="487080"/>
              </a:xfrm>
              <a:custGeom>
                <a:avLst/>
                <a:gdLst/>
                <a:ahLst/>
                <a:rect l="l" t="t" r="r" b="b"/>
                <a:pathLst>
                  <a:path w="201" h="274">
                    <a:moveTo>
                      <a:pt x="201" y="274"/>
                    </a:moveTo>
                    <a:lnTo>
                      <a:pt x="201" y="137"/>
                    </a:lnTo>
                    <a:lnTo>
                      <a:pt x="0" y="137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844880" y="2806560"/>
                <a:ext cx="74880" cy="63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011200" y="2909880"/>
                <a:ext cx="26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uni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4559040" y="4027320"/>
                <a:ext cx="780840" cy="0"/>
              </a:xfrm>
              <a:prstGeom prst="line">
                <a:avLst/>
              </a:prstGeom>
              <a:ln w="381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91120" y="4086360"/>
                <a:ext cx="7776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979800" y="4167360"/>
                <a:ext cx="752400" cy="468000"/>
              </a:xfrm>
              <a:prstGeom prst="rect">
                <a:avLst/>
              </a:prstGeom>
              <a:solidFill>
                <a:srgbClr val="deeede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015800" y="4262400"/>
                <a:ext cx="605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nominal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023360" y="4392720"/>
                <a:ext cx="354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valu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784680" y="2806560"/>
                <a:ext cx="446040" cy="1311480"/>
              </a:xfrm>
              <a:custGeom>
                <a:avLst/>
                <a:gdLst/>
                <a:ahLst/>
                <a:rect l="l" t="t" r="r" b="b"/>
                <a:pathLst>
                  <a:path w="211" h="738">
                    <a:moveTo>
                      <a:pt x="0" y="0"/>
                    </a:moveTo>
                    <a:lnTo>
                      <a:pt x="0" y="693"/>
                    </a:lnTo>
                    <a:lnTo>
                      <a:pt x="211" y="693"/>
                    </a:lnTo>
                    <a:lnTo>
                      <a:pt x="211" y="738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796920" y="3367080"/>
                <a:ext cx="874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limited_valu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4908240" y="443376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comp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778280" y="4357800"/>
              <a:ext cx="114300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921280" y="4357800"/>
              <a:ext cx="0" cy="30456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870520" y="4614840"/>
              <a:ext cx="7632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6172200" y="6095880"/>
            <a:ext cx="106668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467480" y="6095880"/>
            <a:ext cx="121932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2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95280" y="2062080"/>
            <a:ext cx="1947600" cy="1686960"/>
            <a:chOff x="1295280" y="2062080"/>
            <a:chExt cx="1947600" cy="1686960"/>
          </a:xfrm>
        </p:grpSpPr>
        <p:sp>
          <p:nvSpPr>
            <p:cNvPr id="684" name=""/>
            <p:cNvSpPr/>
            <p:nvPr/>
          </p:nvSpPr>
          <p:spPr>
            <a:xfrm>
              <a:off x="1481760" y="3581280"/>
              <a:ext cx="1761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pecified_tolerances S[1:?]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47920" y="3019320"/>
              <a:ext cx="1752480" cy="358920"/>
            </a:xfrm>
            <a:prstGeom prst="rect">
              <a:avLst/>
            </a:prstGeom>
            <a:solidFill>
              <a:srgbClr val="ffffcc"/>
            </a:solidFill>
            <a:ln w="1440">
              <a:solidFill>
                <a:srgbClr val="000000"/>
              </a:solidFill>
              <a:prstDash val="sysDash"/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654200" y="3073320"/>
              <a:ext cx="0" cy="304920"/>
            </a:xfrm>
            <a:prstGeom prst="line">
              <a:avLst/>
            </a:prstGeom>
            <a:ln w="14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600560" y="3125880"/>
              <a:ext cx="156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dp_tolerance_sel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295280" y="3552840"/>
              <a:ext cx="53352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1828800" y="3400200"/>
              <a:ext cx="0" cy="15228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2286000" y="2485800"/>
              <a:ext cx="0" cy="53316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38480" y="2514600"/>
              <a:ext cx="7920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87400" y="3378240"/>
              <a:ext cx="7956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1693800" y="2062080"/>
              <a:ext cx="1465200" cy="406440"/>
              <a:chOff x="1693800" y="2062080"/>
              <a:chExt cx="1465200" cy="406440"/>
            </a:xfrm>
          </p:grpSpPr>
          <p:sp>
            <p:nvSpPr>
              <p:cNvPr id="694" name=""/>
              <p:cNvSpPr/>
              <p:nvPr/>
            </p:nvSpPr>
            <p:spPr>
              <a:xfrm>
                <a:off x="1693800" y="2062080"/>
                <a:ext cx="1465200" cy="40644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750680" y="2119320"/>
                <a:ext cx="1372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numeric_parameter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762560" y="2262240"/>
                <a:ext cx="968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with_toleranc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 flipV="1">
              <a:off x="1295280" y="3581280"/>
              <a:ext cx="0" cy="15264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2286000" y="2298600"/>
            <a:ext cx="1986120" cy="471600"/>
            <a:chOff x="2286000" y="2298600"/>
            <a:chExt cx="1986120" cy="471600"/>
          </a:xfrm>
        </p:grpSpPr>
        <p:sp>
          <p:nvSpPr>
            <p:cNvPr id="699" name=""/>
            <p:cNvSpPr/>
            <p:nvPr/>
          </p:nvSpPr>
          <p:spPr>
            <a:xfrm>
              <a:off x="3517920" y="2298600"/>
              <a:ext cx="754200" cy="4716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588120" y="2397240"/>
              <a:ext cx="416880" cy="167760"/>
            </a:xfrm>
            <a:prstGeom prst="rect">
              <a:avLst/>
            </a:prstGeom>
            <a:solidFill>
              <a:srgbClr val="dee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580920" y="2543040"/>
              <a:ext cx="630000" cy="167760"/>
            </a:xfrm>
            <a:prstGeom prst="rect">
              <a:avLst/>
            </a:prstGeom>
            <a:solidFill>
              <a:srgbClr val="dee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86000" y="2666880"/>
              <a:ext cx="121932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421080" y="2631960"/>
              <a:ext cx="7920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5305320" y="4006440"/>
            <a:ext cx="3254400" cy="1732320"/>
            <a:chOff x="5305320" y="4006440"/>
            <a:chExt cx="3254400" cy="1732320"/>
          </a:xfrm>
        </p:grpSpPr>
        <p:sp>
          <p:nvSpPr>
            <p:cNvPr id="705" name=""/>
            <p:cNvSpPr/>
            <p:nvPr/>
          </p:nvSpPr>
          <p:spPr>
            <a:xfrm flipV="1">
              <a:off x="6599160" y="4006440"/>
              <a:ext cx="1800" cy="122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5305320" y="4026960"/>
              <a:ext cx="12938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59560" y="5203800"/>
              <a:ext cx="79200" cy="666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350040" y="5270400"/>
              <a:ext cx="750960" cy="4683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423120" y="5448240"/>
              <a:ext cx="707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251400" y="5560920"/>
              <a:ext cx="763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458120" y="4343400"/>
              <a:ext cx="1101600" cy="372960"/>
            </a:xfrm>
            <a:prstGeom prst="rect">
              <a:avLst/>
            </a:prstGeom>
            <a:solidFill>
              <a:srgbClr val="deeede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49920" y="4394160"/>
              <a:ext cx="963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qualifie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492320" y="4521240"/>
              <a:ext cx="86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enumer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942880" y="51814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946920" y="487692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qual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6858000" y="4495320"/>
              <a:ext cx="0" cy="76212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858000" y="4495680"/>
              <a:ext cx="60948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72440" y="4457880"/>
              <a:ext cx="7596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867280" y="5410080"/>
              <a:ext cx="45720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5867280" y="4952880"/>
              <a:ext cx="0" cy="45720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830920" y="497520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337600" y="4343400"/>
              <a:ext cx="1440" cy="372960"/>
            </a:xfrm>
            <a:prstGeom prst="line">
              <a:avLst/>
            </a:prstGeom>
            <a:ln w="14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7467480" y="5715000"/>
            <a:ext cx="1219320" cy="304920"/>
          </a:xfrm>
          <a:prstGeom prst="rect">
            <a:avLst/>
          </a:prstGeom>
          <a:solidFill>
            <a:srgbClr val="deeede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984320" y="454032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1828800" y="5270400"/>
            <a:ext cx="4460760" cy="840960"/>
            <a:chOff x="1828800" y="5270400"/>
            <a:chExt cx="4460760" cy="840960"/>
          </a:xfrm>
        </p:grpSpPr>
        <p:grpSp>
          <p:nvGrpSpPr>
            <p:cNvPr id="726" name=""/>
            <p:cNvGrpSpPr/>
            <p:nvPr/>
          </p:nvGrpSpPr>
          <p:grpSpPr>
            <a:xfrm>
              <a:off x="1828800" y="5302080"/>
              <a:ext cx="4460760" cy="809280"/>
              <a:chOff x="1828800" y="5302080"/>
              <a:chExt cx="4460760" cy="809280"/>
            </a:xfrm>
          </p:grpSpPr>
          <p:sp>
            <p:nvSpPr>
              <p:cNvPr id="727" name=""/>
              <p:cNvSpPr/>
              <p:nvPr/>
            </p:nvSpPr>
            <p:spPr>
              <a:xfrm>
                <a:off x="1828800" y="5592600"/>
                <a:ext cx="4460760" cy="292320"/>
              </a:xfrm>
              <a:custGeom>
                <a:avLst/>
                <a:gdLst/>
                <a:ahLst/>
                <a:rect l="l" t="t" r="r" b="b"/>
                <a:pathLst>
                  <a:path w="2112" h="164">
                    <a:moveTo>
                      <a:pt x="0" y="164"/>
                    </a:moveTo>
                    <a:lnTo>
                      <a:pt x="1902" y="164"/>
                    </a:lnTo>
                    <a:lnTo>
                      <a:pt x="1902" y="0"/>
                    </a:lnTo>
                    <a:lnTo>
                      <a:pt x="211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828800" y="5302080"/>
                <a:ext cx="1487520" cy="371520"/>
              </a:xfrm>
              <a:custGeom>
                <a:avLst/>
                <a:gdLst/>
                <a:ahLst/>
                <a:rect l="l" t="t" r="r" b="b"/>
                <a:pathLst>
                  <a:path w="704" h="209">
                    <a:moveTo>
                      <a:pt x="0" y="209"/>
                    </a:moveTo>
                    <a:lnTo>
                      <a:pt x="347" y="209"/>
                    </a:lnTo>
                    <a:lnTo>
                      <a:pt x="347" y="0"/>
                    </a:lnTo>
                    <a:lnTo>
                      <a:pt x="704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066120" y="5943600"/>
                <a:ext cx="1495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calculated_limits S[1:2]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554560" y="5486400"/>
                <a:ext cx="786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lim_method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3276720" y="5270400"/>
              <a:ext cx="7596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1517760" y="4191120"/>
            <a:ext cx="2590560" cy="1257120"/>
            <a:chOff x="1517760" y="4191120"/>
            <a:chExt cx="2590560" cy="1257120"/>
          </a:xfrm>
        </p:grpSpPr>
        <p:sp>
          <p:nvSpPr>
            <p:cNvPr id="733" name=""/>
            <p:cNvSpPr/>
            <p:nvPr/>
          </p:nvSpPr>
          <p:spPr>
            <a:xfrm>
              <a:off x="1924200" y="4476600"/>
              <a:ext cx="753840" cy="5000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73880" y="4670280"/>
              <a:ext cx="73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971720" y="479916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01880" y="5075280"/>
              <a:ext cx="781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743200" y="4419720"/>
              <a:ext cx="1208160" cy="357120"/>
            </a:xfrm>
            <a:custGeom>
              <a:avLst/>
              <a:gdLst/>
              <a:ahLst/>
              <a:rect l="l" t="t" r="r" b="b"/>
              <a:pathLst>
                <a:path w="274" h="201">
                  <a:moveTo>
                    <a:pt x="0" y="201"/>
                  </a:moveTo>
                  <a:lnTo>
                    <a:pt x="137" y="201"/>
                  </a:lnTo>
                  <a:lnTo>
                    <a:pt x="137" y="0"/>
                  </a:lnTo>
                  <a:lnTo>
                    <a:pt x="274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86200" y="4406760"/>
              <a:ext cx="7920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352680" y="5156280"/>
              <a:ext cx="755640" cy="27612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641040" y="5235480"/>
              <a:ext cx="25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ex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27120" y="4994280"/>
              <a:ext cx="1312920" cy="112680"/>
            </a:xfrm>
            <a:custGeom>
              <a:avLst/>
              <a:gdLst/>
              <a:ahLst/>
              <a:rect l="l" t="t" r="r" b="b"/>
              <a:pathLst>
                <a:path w="622" h="63">
                  <a:moveTo>
                    <a:pt x="0" y="0"/>
                  </a:moveTo>
                  <a:lnTo>
                    <a:pt x="0" y="45"/>
                  </a:lnTo>
                  <a:lnTo>
                    <a:pt x="622" y="45"/>
                  </a:lnTo>
                  <a:lnTo>
                    <a:pt x="622" y="63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850840" y="4952880"/>
              <a:ext cx="83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alc_metho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90080" y="4191120"/>
              <a:ext cx="669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alculate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557360" y="5187960"/>
              <a:ext cx="61920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176560" y="4994280"/>
              <a:ext cx="1440" cy="1936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1557360" y="5187600"/>
              <a:ext cx="3240" cy="22716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517760" y="5381640"/>
              <a:ext cx="79200" cy="666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609480" y="5334120"/>
            <a:ext cx="1143000" cy="304560"/>
          </a:xfrm>
          <a:prstGeom prst="rect">
            <a:avLst/>
          </a:prstGeom>
          <a:solidFill>
            <a:srgbClr val="e5b18d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0880" y="5181480"/>
            <a:ext cx="12193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0880" y="5791320"/>
            <a:ext cx="1219320" cy="304560"/>
          </a:xfrm>
          <a:prstGeom prst="rect">
            <a:avLst/>
          </a:prstGeom>
          <a:solidFill>
            <a:srgbClr val="deeede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3587760" y="1319040"/>
            <a:ext cx="4151160" cy="1987560"/>
            <a:chOff x="3587760" y="1319040"/>
            <a:chExt cx="4151160" cy="1987560"/>
          </a:xfrm>
        </p:grpSpPr>
        <p:sp>
          <p:nvSpPr>
            <p:cNvPr id="752" name=""/>
            <p:cNvSpPr/>
            <p:nvPr/>
          </p:nvSpPr>
          <p:spPr>
            <a:xfrm>
              <a:off x="6961320" y="2486160"/>
              <a:ext cx="777600" cy="5778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52400" y="260208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31160" y="2763720"/>
              <a:ext cx="63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i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99120" y="2104920"/>
              <a:ext cx="21574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199120" y="1943280"/>
              <a:ext cx="1440" cy="16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356600" y="2104920"/>
              <a:ext cx="1440" cy="324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10520" y="2382840"/>
              <a:ext cx="92160" cy="921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689360" y="1319040"/>
              <a:ext cx="949320" cy="613080"/>
            </a:xfrm>
            <a:prstGeom prst="rect">
              <a:avLst/>
            </a:prstGeom>
            <a:solidFill>
              <a:srgbClr val="deeede"/>
            </a:solidFill>
            <a:ln w="1116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70360" y="1319040"/>
              <a:ext cx="1800" cy="613080"/>
            </a:xfrm>
            <a:prstGeom prst="line">
              <a:avLst/>
            </a:prstGeom>
            <a:ln w="11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98160" y="136224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89520" y="1523880"/>
              <a:ext cx="69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i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884480" y="1697040"/>
              <a:ext cx="38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el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587760" y="1989000"/>
              <a:ext cx="1355760" cy="1317600"/>
            </a:xfrm>
            <a:custGeom>
              <a:avLst/>
              <a:gdLst/>
              <a:ahLst/>
              <a:rect l="l" t="t" r="r" b="b"/>
              <a:pathLst>
                <a:path w="854" h="830">
                  <a:moveTo>
                    <a:pt x="0" y="830"/>
                  </a:moveTo>
                  <a:lnTo>
                    <a:pt x="0" y="604"/>
                  </a:lnTo>
                  <a:lnTo>
                    <a:pt x="854" y="604"/>
                  </a:lnTo>
                  <a:lnTo>
                    <a:pt x="85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97440" y="1943280"/>
              <a:ext cx="93600" cy="91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812040" y="2666880"/>
              <a:ext cx="81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i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6961320" y="3063960"/>
            <a:ext cx="828720" cy="1860480"/>
            <a:chOff x="6961320" y="3063960"/>
            <a:chExt cx="828720" cy="1860480"/>
          </a:xfrm>
        </p:grpSpPr>
        <p:sp>
          <p:nvSpPr>
            <p:cNvPr id="768" name=""/>
            <p:cNvSpPr/>
            <p:nvPr/>
          </p:nvSpPr>
          <p:spPr>
            <a:xfrm>
              <a:off x="6961320" y="3433680"/>
              <a:ext cx="777600" cy="61272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036920" y="3492360"/>
              <a:ext cx="573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cess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059240" y="3652920"/>
              <a:ext cx="73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_i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25400" y="3814920"/>
              <a:ext cx="31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oli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961320" y="4346640"/>
              <a:ext cx="799920" cy="5778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004520" y="455436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ound_ho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356600" y="3203640"/>
              <a:ext cx="14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56600" y="3063960"/>
              <a:ext cx="1440" cy="1396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356600" y="3203640"/>
              <a:ext cx="1440" cy="172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10520" y="3330720"/>
              <a:ext cx="92160" cy="91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356600" y="4138560"/>
              <a:ext cx="144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356600" y="4057560"/>
              <a:ext cx="1440" cy="81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356600" y="4138560"/>
              <a:ext cx="1440" cy="162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310520" y="4254480"/>
              <a:ext cx="92160" cy="921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1662120" y="3317760"/>
            <a:ext cx="4281480" cy="2902320"/>
            <a:chOff x="1662120" y="3317760"/>
            <a:chExt cx="4281480" cy="2902320"/>
          </a:xfrm>
        </p:grpSpPr>
        <p:sp>
          <p:nvSpPr>
            <p:cNvPr id="783" name=""/>
            <p:cNvSpPr/>
            <p:nvPr/>
          </p:nvSpPr>
          <p:spPr>
            <a:xfrm>
              <a:off x="4115520" y="5791320"/>
              <a:ext cx="596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065400" y="5502240"/>
              <a:ext cx="777960" cy="5778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22280" y="5618160"/>
              <a:ext cx="41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15440" y="5791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43360" y="5791320"/>
              <a:ext cx="984240" cy="1440"/>
            </a:xfrm>
            <a:custGeom>
              <a:avLst/>
              <a:gdLst/>
              <a:ahLst/>
              <a:rect l="l" t="t" r="r" b="b"/>
              <a:pathLst>
                <a:path w="620" h="0">
                  <a:moveTo>
                    <a:pt x="0" y="0"/>
                  </a:moveTo>
                  <a:lnTo>
                    <a:pt x="314" y="0"/>
                  </a:lnTo>
                  <a:lnTo>
                    <a:pt x="314" y="0"/>
                  </a:lnTo>
                  <a:lnTo>
                    <a:pt x="62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781520" y="5745240"/>
              <a:ext cx="9360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875120" y="5572080"/>
              <a:ext cx="1068480" cy="4269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09320" y="5710320"/>
              <a:ext cx="95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ominal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662120" y="3317760"/>
              <a:ext cx="996840" cy="7858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752840" y="338760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12520" y="3549600"/>
              <a:ext cx="75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711080" y="3711600"/>
              <a:ext cx="99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men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40600" y="388476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778040" y="4567320"/>
              <a:ext cx="777960" cy="577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890720" y="4762440"/>
              <a:ext cx="67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circ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173320" y="4289400"/>
              <a:ext cx="14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173320" y="4116240"/>
              <a:ext cx="1440" cy="173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173320" y="4289040"/>
              <a:ext cx="1440" cy="219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125800" y="4462560"/>
              <a:ext cx="93600" cy="91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59240" y="4952880"/>
              <a:ext cx="198360" cy="492120"/>
            </a:xfrm>
            <a:custGeom>
              <a:avLst/>
              <a:gdLst/>
              <a:ahLst/>
              <a:rect l="l" t="t" r="r" b="b"/>
              <a:pathLst>
                <a:path w="132" h="175">
                  <a:moveTo>
                    <a:pt x="132" y="0"/>
                  </a:moveTo>
                  <a:lnTo>
                    <a:pt x="132" y="88"/>
                  </a:lnTo>
                  <a:lnTo>
                    <a:pt x="0" y="88"/>
                  </a:lnTo>
                  <a:lnTo>
                    <a:pt x="0" y="17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413160" y="5398920"/>
              <a:ext cx="9360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301840" y="5181480"/>
              <a:ext cx="1038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pecified_tol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82840" y="4267080"/>
              <a:ext cx="893880" cy="6127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362400" y="4324320"/>
              <a:ext cx="32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330360" y="448632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340080" y="464832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590920" y="4876920"/>
              <a:ext cx="30456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2895480" y="4571640"/>
              <a:ext cx="0" cy="30492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2895120" y="4572000"/>
              <a:ext cx="38124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91040" y="4521240"/>
              <a:ext cx="9180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509200" y="4267080"/>
              <a:ext cx="781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1778040" y="1295280"/>
            <a:ext cx="2529000" cy="612720"/>
            <a:chOff x="1778040" y="1295280"/>
            <a:chExt cx="2529000" cy="612720"/>
          </a:xfrm>
        </p:grpSpPr>
        <p:sp>
          <p:nvSpPr>
            <p:cNvPr id="815" name=""/>
            <p:cNvSpPr/>
            <p:nvPr/>
          </p:nvSpPr>
          <p:spPr>
            <a:xfrm>
              <a:off x="3529080" y="1319040"/>
              <a:ext cx="777960" cy="5781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585960" y="1446120"/>
              <a:ext cx="46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hap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5960" y="1608120"/>
              <a:ext cx="43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asp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778040" y="1295280"/>
              <a:ext cx="777960" cy="61272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841400" y="1365120"/>
              <a:ext cx="58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duc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849320" y="1527120"/>
              <a:ext cx="69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i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822680" y="1689120"/>
              <a:ext cx="39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hap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911760" y="1897200"/>
              <a:ext cx="14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602080" y="1608120"/>
              <a:ext cx="927000" cy="1440"/>
            </a:xfrm>
            <a:custGeom>
              <a:avLst/>
              <a:gdLst/>
              <a:ahLst/>
              <a:rect l="l" t="t" r="r" b="b"/>
              <a:pathLst>
                <a:path w="584" h="0">
                  <a:moveTo>
                    <a:pt x="584" y="0"/>
                  </a:moveTo>
                  <a:lnTo>
                    <a:pt x="292" y="0"/>
                  </a:lnTo>
                  <a:lnTo>
                    <a:pt x="292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556000" y="1562040"/>
              <a:ext cx="9180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09080" y="1344600"/>
              <a:ext cx="77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of_shap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2647800" y="1896840"/>
            <a:ext cx="1265400" cy="1987920"/>
            <a:chOff x="2647800" y="1896840"/>
            <a:chExt cx="1265400" cy="1987920"/>
          </a:xfrm>
        </p:grpSpPr>
        <p:sp>
          <p:nvSpPr>
            <p:cNvPr id="827" name=""/>
            <p:cNvSpPr/>
            <p:nvPr/>
          </p:nvSpPr>
          <p:spPr>
            <a:xfrm>
              <a:off x="2647800" y="2127240"/>
              <a:ext cx="777960" cy="61272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27720" y="218592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28080" y="234792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698920" y="2509920"/>
              <a:ext cx="735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occurre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6560" y="3306600"/>
              <a:ext cx="777960" cy="5781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2360" y="343368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nclud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143880" y="359568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43080" y="2752560"/>
              <a:ext cx="1800" cy="138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3332160" y="2890800"/>
              <a:ext cx="1440" cy="370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286080" y="3214800"/>
              <a:ext cx="92160" cy="91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3911760" y="1896840"/>
              <a:ext cx="1440" cy="5317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71840" y="2428920"/>
              <a:ext cx="4399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25760" y="2382840"/>
              <a:ext cx="92160" cy="921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48120" y="2895480"/>
              <a:ext cx="2854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DMF (</a:t>
            </a:r>
            <a:r>
              <a:rPr b="1" lang="en-US" sz="2000" spc="-1" strike="noStrike">
                <a:solidFill>
                  <a:srgbClr val="336699"/>
                </a:solidFill>
                <a:latin typeface="Comic Sans MS"/>
              </a:rPr>
              <a:t>Dim meas feature)</a:t>
            </a: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: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Features harmonization AP214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4179600" y="4191120"/>
            <a:ext cx="4088880" cy="1923840"/>
            <a:chOff x="4179600" y="4191120"/>
            <a:chExt cx="4088880" cy="1923840"/>
          </a:xfrm>
        </p:grpSpPr>
        <p:sp>
          <p:nvSpPr>
            <p:cNvPr id="843" name=""/>
            <p:cNvSpPr/>
            <p:nvPr/>
          </p:nvSpPr>
          <p:spPr>
            <a:xfrm>
              <a:off x="4179600" y="5181480"/>
              <a:ext cx="534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446240" y="5105520"/>
              <a:ext cx="822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boundary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56600" y="5097600"/>
              <a:ext cx="14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072040" y="5018040"/>
              <a:ext cx="2087640" cy="519120"/>
            </a:xfrm>
            <a:custGeom>
              <a:avLst/>
              <a:gdLst/>
              <a:ahLst/>
              <a:rect l="l" t="t" r="r" b="b"/>
              <a:pathLst>
                <a:path w="1315" h="327">
                  <a:moveTo>
                    <a:pt x="1315" y="327"/>
                  </a:moveTo>
                  <a:lnTo>
                    <a:pt x="1315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92800" y="4392720"/>
              <a:ext cx="776160" cy="5778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70920" y="450864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537080" y="467028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89360" y="4970520"/>
              <a:ext cx="660600" cy="555480"/>
            </a:xfrm>
            <a:custGeom>
              <a:avLst/>
              <a:gdLst/>
              <a:ahLst/>
              <a:rect l="l" t="t" r="r" b="b"/>
              <a:pathLst>
                <a:path w="416" h="350">
                  <a:moveTo>
                    <a:pt x="0" y="0"/>
                  </a:moveTo>
                  <a:lnTo>
                    <a:pt x="0" y="292"/>
                  </a:lnTo>
                  <a:lnTo>
                    <a:pt x="416" y="292"/>
                  </a:lnTo>
                  <a:lnTo>
                    <a:pt x="416" y="35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010200" y="4265640"/>
              <a:ext cx="777960" cy="3477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705720" y="4267080"/>
              <a:ext cx="1440" cy="347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27200" y="437508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268960" y="4440240"/>
              <a:ext cx="695160" cy="230040"/>
            </a:xfrm>
            <a:custGeom>
              <a:avLst/>
              <a:gdLst/>
              <a:ahLst/>
              <a:rect l="l" t="t" r="r" b="b"/>
              <a:pathLst>
                <a:path w="438" h="145">
                  <a:moveTo>
                    <a:pt x="0" y="145"/>
                  </a:moveTo>
                  <a:lnTo>
                    <a:pt x="226" y="145"/>
                  </a:lnTo>
                  <a:lnTo>
                    <a:pt x="226" y="0"/>
                  </a:lnTo>
                  <a:lnTo>
                    <a:pt x="43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18040" y="4392720"/>
              <a:ext cx="9216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88120" y="4191120"/>
              <a:ext cx="557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am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025960" y="4970520"/>
              <a:ext cx="92160" cy="93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481000" y="4876920"/>
              <a:ext cx="781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303880" y="5479920"/>
              <a:ext cx="92160" cy="92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777000" y="5537160"/>
              <a:ext cx="776160" cy="5778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906600" y="5575320"/>
              <a:ext cx="49284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ula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close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profi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391520" y="4952880"/>
              <a:ext cx="0" cy="53352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48680" y="5438880"/>
              <a:ext cx="91800" cy="91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3858120" y="3124080"/>
            <a:ext cx="2610720" cy="1270080"/>
            <a:chOff x="3858120" y="3124080"/>
            <a:chExt cx="2610720" cy="1270080"/>
          </a:xfrm>
        </p:grpSpPr>
        <p:grpSp>
          <p:nvGrpSpPr>
            <p:cNvPr id="865" name=""/>
            <p:cNvGrpSpPr/>
            <p:nvPr/>
          </p:nvGrpSpPr>
          <p:grpSpPr>
            <a:xfrm>
              <a:off x="3858120" y="3200400"/>
              <a:ext cx="2610720" cy="1193760"/>
              <a:chOff x="3858120" y="3200400"/>
              <a:chExt cx="2610720" cy="1193760"/>
            </a:xfrm>
          </p:grpSpPr>
          <p:grpSp>
            <p:nvGrpSpPr>
              <p:cNvPr id="866" name=""/>
              <p:cNvGrpSpPr/>
              <p:nvPr/>
            </p:nvGrpSpPr>
            <p:grpSpPr>
              <a:xfrm>
                <a:off x="3858120" y="3200400"/>
                <a:ext cx="2610720" cy="1142640"/>
                <a:chOff x="3858120" y="3200400"/>
                <a:chExt cx="2610720" cy="1142640"/>
              </a:xfrm>
            </p:grpSpPr>
            <p:sp>
              <p:nvSpPr>
                <p:cNvPr id="867" name=""/>
                <p:cNvSpPr/>
                <p:nvPr/>
              </p:nvSpPr>
              <p:spPr>
                <a:xfrm flipV="1">
                  <a:off x="4114800" y="4038120"/>
                  <a:ext cx="0" cy="22860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V="1">
                  <a:off x="5105520" y="3657240"/>
                  <a:ext cx="0" cy="68580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4060800" y="4178160"/>
                  <a:ext cx="88920" cy="88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093280" y="3809880"/>
                  <a:ext cx="13755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associated_param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3858120" y="3790800"/>
                  <a:ext cx="126108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dmf_dim_param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4114800" y="4038480"/>
                  <a:ext cx="914400" cy="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V="1">
                  <a:off x="5029200" y="3657600"/>
                  <a:ext cx="0" cy="38088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4648320" y="3200400"/>
                  <a:ext cx="1625400" cy="533520"/>
                </a:xfrm>
                <a:prstGeom prst="rect">
                  <a:avLst/>
                </a:prstGeom>
                <a:solidFill>
                  <a:srgbClr val="f2be9e"/>
                </a:solidFill>
                <a:ln w="9360">
                  <a:solidFill>
                    <a:srgbClr val="010000"/>
                  </a:solidFill>
                  <a:miter/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dmf_dimensional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parameter_association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5" name=""/>
              <p:cNvSpPr/>
              <p:nvPr/>
            </p:nvSpPr>
            <p:spPr>
              <a:xfrm>
                <a:off x="5054760" y="429264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 flipH="1">
              <a:off x="3885840" y="3581280"/>
              <a:ext cx="76212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60640" y="3530520"/>
              <a:ext cx="10188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904920" y="3124080"/>
              <a:ext cx="734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feat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inst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5943600" y="6172200"/>
            <a:ext cx="1143000" cy="304920"/>
          </a:xfrm>
          <a:prstGeom prst="rect">
            <a:avLst/>
          </a:prstGeom>
          <a:solidFill>
            <a:srgbClr val="e5b18d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DMF (</a:t>
            </a:r>
            <a:r>
              <a:rPr b="1" lang="en-US" sz="2000" spc="-1" strike="noStrike">
                <a:solidFill>
                  <a:srgbClr val="336699"/>
                </a:solidFill>
                <a:latin typeface="Comic Sans MS"/>
              </a:rPr>
              <a:t>Dim meas feature)</a:t>
            </a: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: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Features harmonization AP224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881" name=""/>
          <p:cNvSpPr/>
          <p:nvPr/>
        </p:nvSpPr>
        <p:spPr>
          <a:xfrm>
            <a:off x="6095880" y="6095880"/>
            <a:ext cx="1143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467480" y="6095880"/>
            <a:ext cx="121932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2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6354720" y="3848040"/>
            <a:ext cx="1697040" cy="1035000"/>
            <a:chOff x="6354720" y="3848040"/>
            <a:chExt cx="1697040" cy="1035000"/>
          </a:xfrm>
        </p:grpSpPr>
        <p:sp>
          <p:nvSpPr>
            <p:cNvPr id="884" name=""/>
            <p:cNvSpPr/>
            <p:nvPr/>
          </p:nvSpPr>
          <p:spPr>
            <a:xfrm>
              <a:off x="6354720" y="4343040"/>
              <a:ext cx="960480" cy="54000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418080" y="4466880"/>
              <a:ext cx="52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ircula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18440" y="4613040"/>
              <a:ext cx="86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losed_profi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829560" y="3848040"/>
              <a:ext cx="1222200" cy="450720"/>
            </a:xfrm>
            <a:custGeom>
              <a:avLst/>
              <a:gdLst/>
              <a:ahLst/>
              <a:rect l="l" t="t" r="r" b="b"/>
              <a:pathLst>
                <a:path w="770" h="284">
                  <a:moveTo>
                    <a:pt x="770" y="0"/>
                  </a:moveTo>
                  <a:lnTo>
                    <a:pt x="770" y="142"/>
                  </a:lnTo>
                  <a:lnTo>
                    <a:pt x="0" y="142"/>
                  </a:lnTo>
                  <a:lnTo>
                    <a:pt x="0" y="28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778800" y="4252680"/>
              <a:ext cx="99720" cy="90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81200" y="4057560"/>
              <a:ext cx="781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3886200" y="4343400"/>
            <a:ext cx="2768760" cy="1677960"/>
            <a:chOff x="3886200" y="4343400"/>
            <a:chExt cx="2768760" cy="1677960"/>
          </a:xfrm>
        </p:grpSpPr>
        <p:grpSp>
          <p:nvGrpSpPr>
            <p:cNvPr id="891" name=""/>
            <p:cNvGrpSpPr/>
            <p:nvPr/>
          </p:nvGrpSpPr>
          <p:grpSpPr>
            <a:xfrm>
              <a:off x="3886200" y="4343400"/>
              <a:ext cx="2768760" cy="1677960"/>
              <a:chOff x="3886200" y="4343400"/>
              <a:chExt cx="2768760" cy="1677960"/>
            </a:xfrm>
          </p:grpSpPr>
          <p:sp>
            <p:nvSpPr>
              <p:cNvPr id="892" name=""/>
              <p:cNvSpPr/>
              <p:nvPr/>
            </p:nvSpPr>
            <p:spPr>
              <a:xfrm>
                <a:off x="4944960" y="4568760"/>
                <a:ext cx="100080" cy="907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893" name=""/>
              <p:cNvGrpSpPr/>
              <p:nvPr/>
            </p:nvGrpSpPr>
            <p:grpSpPr>
              <a:xfrm>
                <a:off x="3886200" y="4343400"/>
                <a:ext cx="2768760" cy="1677960"/>
                <a:chOff x="3886200" y="4343400"/>
                <a:chExt cx="2768760" cy="1677960"/>
              </a:xfrm>
            </p:grpSpPr>
            <p:sp>
              <p:nvSpPr>
                <p:cNvPr id="894" name=""/>
                <p:cNvSpPr/>
                <p:nvPr/>
              </p:nvSpPr>
              <p:spPr>
                <a:xfrm>
                  <a:off x="3886200" y="4343400"/>
                  <a:ext cx="1047600" cy="53964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4037760" y="4495680"/>
                  <a:ext cx="5767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numeric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4035600" y="4641840"/>
                  <a:ext cx="6408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parameter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4995720" y="4613400"/>
                  <a:ext cx="1359000" cy="1440"/>
                </a:xfrm>
                <a:custGeom>
                  <a:avLst/>
                  <a:gdLst/>
                  <a:ahLst/>
                  <a:rect l="l" t="t" r="r" b="b"/>
                  <a:pathLst>
                    <a:path w="856" h="0">
                      <a:moveTo>
                        <a:pt x="856" y="0"/>
                      </a:moveTo>
                      <a:lnTo>
                        <a:pt x="432" y="0"/>
                      </a:lnTo>
                      <a:lnTo>
                        <a:pt x="43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5070600" y="5705640"/>
                  <a:ext cx="798480" cy="3157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743440" y="5705640"/>
                  <a:ext cx="1800" cy="315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5258520" y="5796000"/>
                  <a:ext cx="365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REAL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5856120" y="5221440"/>
                  <a:ext cx="798840" cy="3157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529320" y="5221440"/>
                  <a:ext cx="1800" cy="315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5994000" y="5297400"/>
                  <a:ext cx="5295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STRING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4410000" y="4894200"/>
                  <a:ext cx="1058760" cy="766800"/>
                </a:xfrm>
                <a:custGeom>
                  <a:avLst/>
                  <a:gdLst/>
                  <a:ahLst/>
                  <a:rect l="l" t="t" r="r" b="b"/>
                  <a:pathLst>
                    <a:path w="667" h="483">
                      <a:moveTo>
                        <a:pt x="0" y="0"/>
                      </a:moveTo>
                      <a:lnTo>
                        <a:pt x="0" y="171"/>
                      </a:lnTo>
                      <a:lnTo>
                        <a:pt x="667" y="171"/>
                      </a:lnTo>
                      <a:lnTo>
                        <a:pt x="667" y="48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5419800" y="5614920"/>
                  <a:ext cx="100080" cy="90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4672080" y="4894200"/>
                  <a:ext cx="1582560" cy="271440"/>
                </a:xfrm>
                <a:custGeom>
                  <a:avLst/>
                  <a:gdLst/>
                  <a:ahLst/>
                  <a:rect l="l" t="t" r="r" b="b"/>
                  <a:pathLst>
                    <a:path w="997" h="171">
                      <a:moveTo>
                        <a:pt x="0" y="0"/>
                      </a:moveTo>
                      <a:lnTo>
                        <a:pt x="0" y="64"/>
                      </a:lnTo>
                      <a:lnTo>
                        <a:pt x="997" y="64"/>
                      </a:lnTo>
                      <a:lnTo>
                        <a:pt x="997" y="17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205680" y="5119560"/>
                  <a:ext cx="99720" cy="90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252400" y="4362480"/>
                  <a:ext cx="7812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diameter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5102280" y="4743360"/>
                  <a:ext cx="12049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parameter_unit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0" name=""/>
            <p:cNvSpPr/>
            <p:nvPr/>
          </p:nvSpPr>
          <p:spPr>
            <a:xfrm>
              <a:off x="4103280" y="5200560"/>
              <a:ext cx="129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parameter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7467480" y="5638680"/>
            <a:ext cx="1219320" cy="304920"/>
          </a:xfrm>
          <a:prstGeom prst="rect">
            <a:avLst/>
          </a:prstGeom>
          <a:solidFill>
            <a:srgbClr val="deeede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6324480" y="1371600"/>
            <a:ext cx="2113200" cy="2476440"/>
            <a:chOff x="6324480" y="1371600"/>
            <a:chExt cx="2113200" cy="2476440"/>
          </a:xfrm>
        </p:grpSpPr>
        <p:grpSp>
          <p:nvGrpSpPr>
            <p:cNvPr id="913" name=""/>
            <p:cNvGrpSpPr/>
            <p:nvPr/>
          </p:nvGrpSpPr>
          <p:grpSpPr>
            <a:xfrm>
              <a:off x="6324480" y="2286000"/>
              <a:ext cx="823680" cy="541440"/>
              <a:chOff x="6324480" y="2286000"/>
              <a:chExt cx="823680" cy="541440"/>
            </a:xfrm>
          </p:grpSpPr>
          <p:sp>
            <p:nvSpPr>
              <p:cNvPr id="914" name=""/>
              <p:cNvSpPr/>
              <p:nvPr/>
            </p:nvSpPr>
            <p:spPr>
              <a:xfrm>
                <a:off x="6324480" y="2286000"/>
                <a:ext cx="823680" cy="54144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387840" y="2399040"/>
                <a:ext cx="70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ulti_axis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385680" y="2557800"/>
                <a:ext cx="438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eatur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917" name=""/>
            <p:cNvSpPr/>
            <p:nvPr/>
          </p:nvSpPr>
          <p:spPr>
            <a:xfrm>
              <a:off x="6380280" y="3306600"/>
              <a:ext cx="798480" cy="54144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655320" y="3498840"/>
              <a:ext cx="26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o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7162920" y="2590920"/>
              <a:ext cx="287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155000" y="2552760"/>
              <a:ext cx="9972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640640" y="3306600"/>
              <a:ext cx="797040" cy="54144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715160" y="3498840"/>
              <a:ext cx="70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ound_ho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6705720" y="28195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640560" y="3238560"/>
              <a:ext cx="10008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365960" y="3578400"/>
              <a:ext cx="1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178760" y="3578400"/>
              <a:ext cx="18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7365960" y="3578400"/>
              <a:ext cx="2239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540560" y="3532320"/>
              <a:ext cx="10008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7467480" y="1904760"/>
              <a:ext cx="923760" cy="952920"/>
              <a:chOff x="7467480" y="1904760"/>
              <a:chExt cx="923760" cy="952920"/>
            </a:xfrm>
          </p:grpSpPr>
          <p:sp>
            <p:nvSpPr>
              <p:cNvPr id="930" name=""/>
              <p:cNvSpPr/>
              <p:nvPr/>
            </p:nvSpPr>
            <p:spPr>
              <a:xfrm>
                <a:off x="7467480" y="2316240"/>
                <a:ext cx="822240" cy="54144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529400" y="24292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achining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527240" y="2588040"/>
                <a:ext cx="438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eatur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389800" y="2588040"/>
                <a:ext cx="1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289720" y="2588040"/>
                <a:ext cx="1000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>
                <a:off x="7860960" y="190476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796160" y="2227680"/>
                <a:ext cx="99720" cy="90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7315200" y="1371600"/>
              <a:ext cx="1047600" cy="609120"/>
              <a:chOff x="7315200" y="1371600"/>
              <a:chExt cx="1047600" cy="609120"/>
            </a:xfrm>
          </p:grpSpPr>
          <p:sp>
            <p:nvSpPr>
              <p:cNvPr id="938" name=""/>
              <p:cNvSpPr/>
              <p:nvPr/>
            </p:nvSpPr>
            <p:spPr>
              <a:xfrm>
                <a:off x="7315200" y="1371600"/>
                <a:ext cx="1047600" cy="60912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374600" y="1514520"/>
                <a:ext cx="966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anufacturing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374960" y="1683000"/>
                <a:ext cx="438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eatur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941" name=""/>
            <p:cNvSpPr/>
            <p:nvPr/>
          </p:nvSpPr>
          <p:spPr>
            <a:xfrm>
              <a:off x="6705720" y="16765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180200" y="1635120"/>
              <a:ext cx="10008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1143000" y="1314360"/>
            <a:ext cx="3478320" cy="1276200"/>
            <a:chOff x="1143000" y="1314360"/>
            <a:chExt cx="3478320" cy="1276200"/>
          </a:xfrm>
        </p:grpSpPr>
        <p:sp>
          <p:nvSpPr>
            <p:cNvPr id="944" name=""/>
            <p:cNvSpPr/>
            <p:nvPr/>
          </p:nvSpPr>
          <p:spPr>
            <a:xfrm>
              <a:off x="3429000" y="1828800"/>
              <a:ext cx="3808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49760" y="1789200"/>
              <a:ext cx="10008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946" name=""/>
            <p:cNvGrpSpPr/>
            <p:nvPr/>
          </p:nvGrpSpPr>
          <p:grpSpPr>
            <a:xfrm>
              <a:off x="1143000" y="1314360"/>
              <a:ext cx="3478320" cy="1276200"/>
              <a:chOff x="1143000" y="1314360"/>
              <a:chExt cx="3478320" cy="1276200"/>
            </a:xfrm>
          </p:grpSpPr>
          <p:sp>
            <p:nvSpPr>
              <p:cNvPr id="947" name=""/>
              <p:cNvSpPr/>
              <p:nvPr/>
            </p:nvSpPr>
            <p:spPr>
              <a:xfrm>
                <a:off x="2585160" y="1905120"/>
                <a:ext cx="73404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shape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instanc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948" name=""/>
              <p:cNvGrpSpPr/>
              <p:nvPr/>
            </p:nvGrpSpPr>
            <p:grpSpPr>
              <a:xfrm>
                <a:off x="1143000" y="1314360"/>
                <a:ext cx="3478320" cy="615600"/>
                <a:chOff x="1143000" y="1314360"/>
                <a:chExt cx="3478320" cy="61560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3822840" y="1369800"/>
                  <a:ext cx="798480" cy="54144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3885840" y="1482480"/>
                  <a:ext cx="4593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shape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3885120" y="1630080"/>
                  <a:ext cx="4136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aspect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2" name=""/>
                <p:cNvGrpSpPr/>
                <p:nvPr/>
              </p:nvGrpSpPr>
              <p:grpSpPr>
                <a:xfrm>
                  <a:off x="1143000" y="1390320"/>
                  <a:ext cx="960480" cy="539640"/>
                  <a:chOff x="1143000" y="1390320"/>
                  <a:chExt cx="960480" cy="53964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>
                    <a:off x="1143000" y="1390320"/>
                    <a:ext cx="960480" cy="539640"/>
                  </a:xfrm>
                  <a:prstGeom prst="rect">
                    <a:avLst/>
                  </a:prstGeom>
                  <a:solidFill>
                    <a:srgbClr val="ccecff"/>
                  </a:solidFill>
                  <a:ln w="0">
                    <a:solidFill>
                      <a:srgbClr val="000000"/>
                    </a:solidFill>
                  </a:ln>
                  <a:effectLst>
                    <a:outerShdw dist="71785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1371600" y="1580760"/>
                    <a:ext cx="38160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shape</a:t>
                    </a:r>
                    <a:endParaRPr b="0" lang="en-US" sz="11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5" name=""/>
                <p:cNvSpPr/>
                <p:nvPr/>
              </p:nvSpPr>
              <p:spPr>
                <a:xfrm>
                  <a:off x="2304360" y="1314360"/>
                  <a:ext cx="121248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10000"/>
                      </a:solidFill>
                      <a:latin typeface="Comic Sans MS"/>
                    </a:rPr>
                    <a:t>elements S[0:?] 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2133720" y="1618920"/>
                  <a:ext cx="1676160" cy="0"/>
                </a:xfrm>
                <a:prstGeom prst="line">
                  <a:avLst/>
                </a:prstGeom>
                <a:ln w="9360">
                  <a:solidFill>
                    <a:srgbClr val="0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3714840" y="1574640"/>
                  <a:ext cx="100080" cy="90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8" name=""/>
              <p:cNvSpPr/>
              <p:nvPr/>
            </p:nvSpPr>
            <p:spPr>
              <a:xfrm flipV="1">
                <a:off x="3429000" y="1828440"/>
                <a:ext cx="0" cy="76212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9" name=""/>
          <p:cNvGrpSpPr/>
          <p:nvPr/>
        </p:nvGrpSpPr>
        <p:grpSpPr>
          <a:xfrm>
            <a:off x="4038480" y="3352680"/>
            <a:ext cx="932040" cy="990720"/>
            <a:chOff x="4038480" y="3352680"/>
            <a:chExt cx="932040" cy="990720"/>
          </a:xfrm>
        </p:grpSpPr>
        <p:grpSp>
          <p:nvGrpSpPr>
            <p:cNvPr id="960" name=""/>
            <p:cNvGrpSpPr/>
            <p:nvPr/>
          </p:nvGrpSpPr>
          <p:grpSpPr>
            <a:xfrm>
              <a:off x="4038480" y="3352680"/>
              <a:ext cx="808920" cy="539640"/>
              <a:chOff x="4038480" y="3352680"/>
              <a:chExt cx="808920" cy="539640"/>
            </a:xfrm>
          </p:grpSpPr>
          <p:sp>
            <p:nvSpPr>
              <p:cNvPr id="961" name=""/>
              <p:cNvSpPr/>
              <p:nvPr/>
            </p:nvSpPr>
            <p:spPr>
              <a:xfrm>
                <a:off x="4038480" y="3352680"/>
                <a:ext cx="798480" cy="53964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98240" y="3476520"/>
                <a:ext cx="749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um_param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ith_tol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4968720" y="3578400"/>
              <a:ext cx="1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419720" y="3962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368960" y="3927600"/>
              <a:ext cx="9972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821040" y="2514600"/>
            <a:ext cx="761040" cy="812880"/>
            <a:chOff x="3821040" y="2514600"/>
            <a:chExt cx="761040" cy="812880"/>
          </a:xfrm>
        </p:grpSpPr>
        <p:sp>
          <p:nvSpPr>
            <p:cNvPr id="967" name=""/>
            <p:cNvSpPr/>
            <p:nvPr/>
          </p:nvSpPr>
          <p:spPr>
            <a:xfrm>
              <a:off x="3821040" y="2971800"/>
              <a:ext cx="52236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343400" y="2971800"/>
              <a:ext cx="0" cy="30492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321080" y="3236760"/>
              <a:ext cx="100080" cy="9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66840" y="2514600"/>
              <a:ext cx="615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assoc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param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4648320" y="1371600"/>
            <a:ext cx="2017440" cy="539640"/>
            <a:chOff x="4648320" y="1371600"/>
            <a:chExt cx="2017440" cy="539640"/>
          </a:xfrm>
        </p:grpSpPr>
        <p:grpSp>
          <p:nvGrpSpPr>
            <p:cNvPr id="972" name=""/>
            <p:cNvGrpSpPr/>
            <p:nvPr/>
          </p:nvGrpSpPr>
          <p:grpSpPr>
            <a:xfrm>
              <a:off x="5867280" y="1371600"/>
              <a:ext cx="798480" cy="539640"/>
              <a:chOff x="5867280" y="1371600"/>
              <a:chExt cx="798480" cy="539640"/>
            </a:xfrm>
          </p:grpSpPr>
          <p:sp>
            <p:nvSpPr>
              <p:cNvPr id="973" name=""/>
              <p:cNvSpPr/>
              <p:nvPr/>
            </p:nvSpPr>
            <p:spPr>
              <a:xfrm>
                <a:off x="5867280" y="1371600"/>
                <a:ext cx="798480" cy="53964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928840" y="148428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hape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928120" y="1630080"/>
                <a:ext cx="498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lemen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976" name=""/>
            <p:cNvSpPr/>
            <p:nvPr/>
          </p:nvSpPr>
          <p:spPr>
            <a:xfrm>
              <a:off x="4664160" y="1371600"/>
              <a:ext cx="1175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elements S[0:?]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648320" y="1676520"/>
              <a:ext cx="1218960" cy="0"/>
            </a:xfrm>
            <a:prstGeom prst="line">
              <a:avLst/>
            </a:prstGeom>
            <a:ln w="936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765760" y="1620720"/>
              <a:ext cx="100080" cy="90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304560" y="2306520"/>
            <a:ext cx="3439080" cy="4062600"/>
            <a:chOff x="304560" y="2306520"/>
            <a:chExt cx="3439080" cy="4062600"/>
          </a:xfrm>
        </p:grpSpPr>
        <p:sp>
          <p:nvSpPr>
            <p:cNvPr id="980" name=""/>
            <p:cNvSpPr/>
            <p:nvPr/>
          </p:nvSpPr>
          <p:spPr>
            <a:xfrm>
              <a:off x="1523880" y="4038480"/>
              <a:ext cx="4572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895400" y="3990960"/>
              <a:ext cx="10008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982" name=""/>
            <p:cNvGrpSpPr/>
            <p:nvPr/>
          </p:nvGrpSpPr>
          <p:grpSpPr>
            <a:xfrm>
              <a:off x="304560" y="2306520"/>
              <a:ext cx="3439080" cy="4062600"/>
              <a:chOff x="304560" y="2306520"/>
              <a:chExt cx="3439080" cy="4062600"/>
            </a:xfrm>
          </p:grpSpPr>
          <p:sp>
            <p:nvSpPr>
              <p:cNvPr id="983" name=""/>
              <p:cNvSpPr/>
              <p:nvPr/>
            </p:nvSpPr>
            <p:spPr>
              <a:xfrm>
                <a:off x="3429000" y="4038480"/>
                <a:ext cx="0" cy="609840"/>
              </a:xfrm>
              <a:prstGeom prst="line">
                <a:avLst/>
              </a:prstGeom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666800" y="5086440"/>
                <a:ext cx="981000" cy="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985" name=""/>
              <p:cNvGrpSpPr/>
              <p:nvPr/>
            </p:nvGrpSpPr>
            <p:grpSpPr>
              <a:xfrm>
                <a:off x="609480" y="3657600"/>
                <a:ext cx="922320" cy="731880"/>
                <a:chOff x="609480" y="3657600"/>
                <a:chExt cx="922320" cy="73188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609480" y="3657600"/>
                  <a:ext cx="922320" cy="731880"/>
                </a:xfrm>
                <a:prstGeom prst="rect">
                  <a:avLst/>
                </a:prstGeom>
                <a:solidFill>
                  <a:srgbClr val="e5b18d"/>
                </a:soli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69600" y="3713040"/>
                  <a:ext cx="3132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mf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672120" y="3870360"/>
                  <a:ext cx="8236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imensional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68520" y="4017960"/>
                  <a:ext cx="7185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parameter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71400" y="4174920"/>
                  <a:ext cx="7002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association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1" name=""/>
              <p:cNvSpPr/>
              <p:nvPr/>
            </p:nvSpPr>
            <p:spPr>
              <a:xfrm>
                <a:off x="700200" y="2306520"/>
                <a:ext cx="922320" cy="57492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60320" y="2362320"/>
                <a:ext cx="313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mf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2840" y="2521080"/>
                <a:ext cx="823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imensional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59240" y="2666880"/>
                <a:ext cx="64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aramet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995" name=""/>
              <p:cNvGrpSpPr/>
              <p:nvPr/>
            </p:nvGrpSpPr>
            <p:grpSpPr>
              <a:xfrm>
                <a:off x="838080" y="4952880"/>
                <a:ext cx="776160" cy="577800"/>
                <a:chOff x="838080" y="4952880"/>
                <a:chExt cx="776160" cy="57780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838080" y="4952880"/>
                  <a:ext cx="776160" cy="577800"/>
                </a:xfrm>
                <a:prstGeom prst="rect">
                  <a:avLst/>
                </a:prstGeom>
                <a:solidFill>
                  <a:srgbClr val="deeede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892080" y="5068800"/>
                  <a:ext cx="6300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included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903600" y="5230440"/>
                  <a:ext cx="482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feature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9" name=""/>
              <p:cNvSpPr/>
              <p:nvPr/>
            </p:nvSpPr>
            <p:spPr>
              <a:xfrm flipV="1">
                <a:off x="1066680" y="2895120"/>
                <a:ext cx="0" cy="76212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015920" y="2922480"/>
                <a:ext cx="100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974960" y="3754440"/>
                <a:ext cx="1218960" cy="60948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  <a:prstDash val="lgDash"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055600" y="3809880"/>
                <a:ext cx="919800" cy="50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mf_dp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ssoc_featur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_param_selec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041640" y="3754440"/>
                <a:ext cx="6480" cy="588960"/>
              </a:xfrm>
              <a:prstGeom prst="line">
                <a:avLst/>
              </a:prstGeom>
              <a:ln w="9360">
                <a:solidFill>
                  <a:srgbClr val="01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00200" y="5029200"/>
                <a:ext cx="100080" cy="90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03440" y="3124080"/>
                <a:ext cx="67752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assoc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featur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_param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04560" y="3048120"/>
                <a:ext cx="76428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dmf_dim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_param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007" name=""/>
              <p:cNvGrpSpPr/>
              <p:nvPr/>
            </p:nvGrpSpPr>
            <p:grpSpPr>
              <a:xfrm>
                <a:off x="2438280" y="5791320"/>
                <a:ext cx="776160" cy="577800"/>
                <a:chOff x="2438280" y="5791320"/>
                <a:chExt cx="776160" cy="57780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2438280" y="5791320"/>
                  <a:ext cx="776160" cy="577800"/>
                </a:xfrm>
                <a:prstGeom prst="rect">
                  <a:avLst/>
                </a:prstGeom>
                <a:solidFill>
                  <a:srgbClr val="deeede"/>
                </a:solidFill>
                <a:ln w="0">
                  <a:solidFill>
                    <a:srgbClr val="000000"/>
                  </a:solidFill>
                </a:ln>
                <a:effectLst>
                  <a:outerShdw dist="71785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2516400" y="5907240"/>
                  <a:ext cx="5446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feature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2482560" y="6068880"/>
                  <a:ext cx="7016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omic Sans MS"/>
                    </a:rPr>
                    <a:t>parameter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1" name=""/>
              <p:cNvSpPr/>
              <p:nvPr/>
            </p:nvSpPr>
            <p:spPr>
              <a:xfrm>
                <a:off x="3400560" y="4572000"/>
                <a:ext cx="99720" cy="90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012" name=""/>
              <p:cNvGrpSpPr/>
              <p:nvPr/>
            </p:nvGrpSpPr>
            <p:grpSpPr>
              <a:xfrm>
                <a:off x="2666880" y="4648320"/>
                <a:ext cx="922320" cy="574560"/>
                <a:chOff x="2666880" y="4648320"/>
                <a:chExt cx="922320" cy="57456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2666880" y="4648320"/>
                  <a:ext cx="922320" cy="5745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solidFill>
                    <a:srgbClr val="000000"/>
                  </a:solidFill>
                </a:ln>
                <a:effectLst>
                  <a:outerShdw dist="17819" dir="2700000" blurRad="0" rotWithShape="0">
                    <a:srgbClr val="3366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2743200" y="4724640"/>
                  <a:ext cx="4899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esign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2740680" y="4883400"/>
                  <a:ext cx="5158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feature_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2739960" y="5029200"/>
                  <a:ext cx="6408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parameter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7" name=""/>
              <p:cNvSpPr/>
              <p:nvPr/>
            </p:nvSpPr>
            <p:spPr>
              <a:xfrm>
                <a:off x="3200400" y="4038480"/>
                <a:ext cx="22860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V="1">
                <a:off x="3048120" y="5257800"/>
                <a:ext cx="0" cy="533520"/>
              </a:xfrm>
              <a:prstGeom prst="line">
                <a:avLst/>
              </a:prstGeom>
              <a:ln w="936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987640" y="5732640"/>
                <a:ext cx="100080" cy="90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823040" y="5105520"/>
                <a:ext cx="73404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shape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instanc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128400" y="5334120"/>
                <a:ext cx="61524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assoc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10000"/>
                    </a:solidFill>
                    <a:latin typeface="Comic Sans MS"/>
                  </a:rPr>
                  <a:t>param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2" name=""/>
          <p:cNvGrpSpPr/>
          <p:nvPr/>
        </p:nvGrpSpPr>
        <p:grpSpPr>
          <a:xfrm>
            <a:off x="2895480" y="2590920"/>
            <a:ext cx="947880" cy="1447560"/>
            <a:chOff x="2895480" y="2590920"/>
            <a:chExt cx="947880" cy="1447560"/>
          </a:xfrm>
        </p:grpSpPr>
        <p:sp>
          <p:nvSpPr>
            <p:cNvPr id="1023" name=""/>
            <p:cNvSpPr/>
            <p:nvPr/>
          </p:nvSpPr>
          <p:spPr>
            <a:xfrm>
              <a:off x="3841920" y="2927520"/>
              <a:ext cx="1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95480" y="2590920"/>
              <a:ext cx="922320" cy="5745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72160" y="2666880"/>
              <a:ext cx="71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chining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69640" y="2825640"/>
              <a:ext cx="51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eat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68920" y="2971800"/>
              <a:ext cx="64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ar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86160" y="3200400"/>
              <a:ext cx="10008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3429000" y="3276720"/>
              <a:ext cx="0" cy="76176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Geometric tolerance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 Tolerance harmonization AIC519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3103560" y="1066680"/>
            <a:ext cx="2881440" cy="612720"/>
            <a:chOff x="3103560" y="1066680"/>
            <a:chExt cx="2881440" cy="612720"/>
          </a:xfrm>
        </p:grpSpPr>
        <p:sp>
          <p:nvSpPr>
            <p:cNvPr id="1032" name=""/>
            <p:cNvSpPr/>
            <p:nvPr/>
          </p:nvSpPr>
          <p:spPr>
            <a:xfrm>
              <a:off x="4028760" y="1066680"/>
              <a:ext cx="1956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d_shape_elemen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103560" y="1219320"/>
              <a:ext cx="885960" cy="46008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171600" y="1319040"/>
              <a:ext cx="46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hap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171600" y="1442880"/>
              <a:ext cx="43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asp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060800" y="1442880"/>
              <a:ext cx="1860480" cy="123840"/>
            </a:xfrm>
            <a:custGeom>
              <a:avLst/>
              <a:gdLst/>
              <a:ahLst/>
              <a:rect l="l" t="t" r="r" b="b"/>
              <a:pathLst>
                <a:path w="825" h="78">
                  <a:moveTo>
                    <a:pt x="825" y="78"/>
                  </a:moveTo>
                  <a:lnTo>
                    <a:pt x="409" y="78"/>
                  </a:lnTo>
                  <a:lnTo>
                    <a:pt x="409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005360" y="1405080"/>
              <a:ext cx="10800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1614600" y="1542960"/>
            <a:ext cx="3119400" cy="4861080"/>
            <a:chOff x="1614600" y="1542960"/>
            <a:chExt cx="3119400" cy="4861080"/>
          </a:xfrm>
        </p:grpSpPr>
        <p:sp>
          <p:nvSpPr>
            <p:cNvPr id="1039" name=""/>
            <p:cNvSpPr/>
            <p:nvPr/>
          </p:nvSpPr>
          <p:spPr>
            <a:xfrm>
              <a:off x="1614600" y="1542960"/>
              <a:ext cx="992160" cy="6206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84800" y="1592280"/>
              <a:ext cx="73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geometric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90920" y="1728720"/>
              <a:ext cx="68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690560" y="1852560"/>
              <a:ext cx="843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with_datum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693440" y="1990800"/>
              <a:ext cx="636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fere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154320" y="2001960"/>
              <a:ext cx="885960" cy="46008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25240" y="2101680"/>
              <a:ext cx="735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angularity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20200" y="22255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154320" y="2536920"/>
              <a:ext cx="885960" cy="4982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42520" y="2587680"/>
              <a:ext cx="55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ula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22720" y="2724120"/>
              <a:ext cx="51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unou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20200" y="286056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154320" y="3121200"/>
              <a:ext cx="1084320" cy="4982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45760" y="3233880"/>
              <a:ext cx="906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oncentricity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20200" y="33703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154320" y="3681360"/>
              <a:ext cx="941400" cy="4604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19840" y="3781440"/>
              <a:ext cx="79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llelism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20200" y="391788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154320" y="4240080"/>
              <a:ext cx="1278000" cy="4986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25600" y="4365720"/>
              <a:ext cx="114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erpendicularity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20200" y="448956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154320" y="4800600"/>
              <a:ext cx="885960" cy="4604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24520" y="4900680"/>
              <a:ext cx="59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osi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20200" y="50371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154320" y="5372280"/>
              <a:ext cx="885960" cy="46008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27040" y="5472000"/>
              <a:ext cx="72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ymmetry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20200" y="56088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154320" y="5945040"/>
              <a:ext cx="1011240" cy="4590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40720" y="6043680"/>
              <a:ext cx="88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tal_runou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20200" y="61801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658960" y="1754280"/>
              <a:ext cx="2075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06760" y="171612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2819520" y="1952280"/>
              <a:ext cx="1440" cy="422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606760" y="1952640"/>
              <a:ext cx="212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819160" y="2225520"/>
              <a:ext cx="2840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048120" y="218916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2819160" y="278604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048120" y="274788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2819160" y="337032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048120" y="3333600"/>
              <a:ext cx="10620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2819160" y="3917880"/>
              <a:ext cx="2840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048120" y="3879720"/>
              <a:ext cx="10620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2819160" y="448956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048120" y="4452840"/>
              <a:ext cx="10620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2819160" y="503712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048120" y="499896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2819160" y="560880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048120" y="557208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2819160" y="6180120"/>
              <a:ext cx="284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048120" y="614376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533520" y="2176560"/>
            <a:ext cx="2273760" cy="3370320"/>
            <a:chOff x="533520" y="2176560"/>
            <a:chExt cx="2273760" cy="3370320"/>
          </a:xfrm>
        </p:grpSpPr>
        <p:sp>
          <p:nvSpPr>
            <p:cNvPr id="1090" name=""/>
            <p:cNvSpPr/>
            <p:nvPr/>
          </p:nvSpPr>
          <p:spPr>
            <a:xfrm>
              <a:off x="1820520" y="3048120"/>
              <a:ext cx="986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ecedence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091" name=""/>
            <p:cNvGrpSpPr/>
            <p:nvPr/>
          </p:nvGrpSpPr>
          <p:grpSpPr>
            <a:xfrm>
              <a:off x="533520" y="2176560"/>
              <a:ext cx="1914480" cy="3370320"/>
              <a:chOff x="533520" y="2176560"/>
              <a:chExt cx="1914480" cy="3370320"/>
            </a:xfrm>
          </p:grpSpPr>
          <p:sp>
            <p:nvSpPr>
              <p:cNvPr id="1092" name=""/>
              <p:cNvSpPr/>
              <p:nvPr/>
            </p:nvSpPr>
            <p:spPr>
              <a:xfrm>
                <a:off x="887400" y="2673360"/>
                <a:ext cx="887400" cy="4604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952200" y="2773440"/>
                <a:ext cx="497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atum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966240" y="2909880"/>
                <a:ext cx="636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referenc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33520" y="4253040"/>
                <a:ext cx="884160" cy="46008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45920" y="4414680"/>
                <a:ext cx="435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atum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558800" y="3519360"/>
                <a:ext cx="889200" cy="273240"/>
              </a:xfrm>
              <a:prstGeom prst="rect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359080" y="3519360"/>
                <a:ext cx="1440" cy="27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677600" y="3591000"/>
                <a:ext cx="57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NTEG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976320" y="3146400"/>
                <a:ext cx="210960" cy="1069920"/>
              </a:xfrm>
              <a:custGeom>
                <a:avLst/>
                <a:gdLst/>
                <a:ahLst/>
                <a:rect l="l" t="t" r="r" b="b"/>
                <a:pathLst>
                  <a:path w="94" h="674">
                    <a:moveTo>
                      <a:pt x="94" y="0"/>
                    </a:moveTo>
                    <a:lnTo>
                      <a:pt x="94" y="282"/>
                    </a:lnTo>
                    <a:lnTo>
                      <a:pt x="0" y="282"/>
                    </a:lnTo>
                    <a:lnTo>
                      <a:pt x="0" y="67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920880" y="4178160"/>
                <a:ext cx="109440" cy="748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330200" y="2176560"/>
                <a:ext cx="781200" cy="460440"/>
              </a:xfrm>
              <a:custGeom>
                <a:avLst/>
                <a:gdLst/>
                <a:ahLst/>
                <a:rect l="l" t="t" r="r" b="b"/>
                <a:pathLst>
                  <a:path w="346" h="290">
                    <a:moveTo>
                      <a:pt x="346" y="0"/>
                    </a:moveTo>
                    <a:lnTo>
                      <a:pt x="346" y="172"/>
                    </a:lnTo>
                    <a:lnTo>
                      <a:pt x="0" y="172"/>
                    </a:lnTo>
                    <a:lnTo>
                      <a:pt x="0" y="2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278000" y="2598840"/>
                <a:ext cx="106200" cy="745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473120" y="3146400"/>
                <a:ext cx="531720" cy="336600"/>
              </a:xfrm>
              <a:custGeom>
                <a:avLst/>
                <a:gdLst/>
                <a:ahLst/>
                <a:rect l="l" t="t" r="r" b="b"/>
                <a:pathLst>
                  <a:path w="236" h="212">
                    <a:moveTo>
                      <a:pt x="0" y="0"/>
                    </a:moveTo>
                    <a:lnTo>
                      <a:pt x="0" y="102"/>
                    </a:lnTo>
                    <a:lnTo>
                      <a:pt x="236" y="102"/>
                    </a:lnTo>
                    <a:lnTo>
                      <a:pt x="236" y="2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951200" y="3444840"/>
                <a:ext cx="104760" cy="745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417680" y="5273640"/>
                <a:ext cx="887400" cy="27324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prstDash val="sysDash"/>
                <a:miter/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594080" y="5348160"/>
                <a:ext cx="597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dentifi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976320" y="4726080"/>
                <a:ext cx="885960" cy="509400"/>
              </a:xfrm>
              <a:custGeom>
                <a:avLst/>
                <a:gdLst/>
                <a:ahLst/>
                <a:rect l="l" t="t" r="r" b="b"/>
                <a:pathLst>
                  <a:path w="393" h="321">
                    <a:moveTo>
                      <a:pt x="0" y="0"/>
                    </a:moveTo>
                    <a:lnTo>
                      <a:pt x="0" y="157"/>
                    </a:lnTo>
                    <a:lnTo>
                      <a:pt x="393" y="157"/>
                    </a:lnTo>
                    <a:lnTo>
                      <a:pt x="393" y="32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808280" y="5199120"/>
                <a:ext cx="104760" cy="745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74920" y="2209680"/>
                <a:ext cx="1566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atum_system S[0:?] 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920880" y="3886200"/>
                <a:ext cx="1436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referenced_datum 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002240" y="4724280"/>
                <a:ext cx="1082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dentification 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3" name=""/>
          <p:cNvGrpSpPr/>
          <p:nvPr/>
        </p:nvGrpSpPr>
        <p:grpSpPr>
          <a:xfrm>
            <a:off x="4733640" y="1753920"/>
            <a:ext cx="3543480" cy="4538880"/>
            <a:chOff x="4733640" y="1753920"/>
            <a:chExt cx="3543480" cy="4538880"/>
          </a:xfrm>
        </p:grpSpPr>
        <p:sp>
          <p:nvSpPr>
            <p:cNvPr id="1114" name=""/>
            <p:cNvSpPr/>
            <p:nvPr/>
          </p:nvSpPr>
          <p:spPr>
            <a:xfrm>
              <a:off x="5300640" y="3892680"/>
              <a:ext cx="974880" cy="46008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395320" y="3992400"/>
              <a:ext cx="711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ularity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363280" y="411624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665760" y="4240080"/>
              <a:ext cx="1046160" cy="4604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762240" y="4340160"/>
              <a:ext cx="76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ylindricity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730200" y="44640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00640" y="4638600"/>
              <a:ext cx="887400" cy="4604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389920" y="472608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latness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363280" y="48625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300640" y="5384880"/>
              <a:ext cx="1081080" cy="4968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382000" y="5497560"/>
              <a:ext cx="878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aightness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363280" y="56340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647040" y="2685960"/>
              <a:ext cx="1188720" cy="4986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720480" y="2736720"/>
              <a:ext cx="73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geometric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737760" y="2873520"/>
              <a:ext cx="1031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with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726240" y="2997360"/>
              <a:ext cx="82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ed_un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300640" y="3220920"/>
              <a:ext cx="887400" cy="49716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372640" y="3270240"/>
              <a:ext cx="65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odifi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369400" y="3408480"/>
              <a:ext cx="73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geometric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363280" y="35323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391520" y="3276720"/>
              <a:ext cx="885600" cy="3603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172360" y="3295800"/>
              <a:ext cx="1800" cy="360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456320" y="3344760"/>
              <a:ext cx="35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429680" y="34704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ondi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665760" y="4998960"/>
              <a:ext cx="885960" cy="4986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741360" y="5049720"/>
              <a:ext cx="43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nea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752520" y="51735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fil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730200" y="531036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665760" y="5796000"/>
              <a:ext cx="885960" cy="49680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753960" y="5845320"/>
              <a:ext cx="54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urfac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752520" y="59691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fil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730200" y="61056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4734000" y="1753920"/>
              <a:ext cx="3240" cy="42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4734000" y="1754280"/>
              <a:ext cx="1187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733640" y="2935440"/>
              <a:ext cx="18428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524640" y="2897280"/>
              <a:ext cx="10476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4734000" y="3470400"/>
              <a:ext cx="512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195880" y="3432240"/>
              <a:ext cx="10476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205680" y="3470400"/>
              <a:ext cx="1096920" cy="1440"/>
            </a:xfrm>
            <a:custGeom>
              <a:avLst/>
              <a:gdLst/>
              <a:ahLst/>
              <a:rect l="l" t="t" r="r" b="b"/>
              <a:pathLst>
                <a:path w="487" h="0">
                  <a:moveTo>
                    <a:pt x="0" y="0"/>
                  </a:moveTo>
                  <a:lnTo>
                    <a:pt x="243" y="0"/>
                  </a:lnTo>
                  <a:lnTo>
                    <a:pt x="243" y="0"/>
                  </a:lnTo>
                  <a:lnTo>
                    <a:pt x="48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250040" y="3432240"/>
              <a:ext cx="10656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4734000" y="4116240"/>
              <a:ext cx="512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195880" y="4079880"/>
              <a:ext cx="10476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4734000" y="4464000"/>
              <a:ext cx="18763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559560" y="442764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4734000" y="4862520"/>
              <a:ext cx="512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95880" y="4826160"/>
              <a:ext cx="10476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4734000" y="5248440"/>
              <a:ext cx="18763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559560" y="5210280"/>
              <a:ext cx="10620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4734000" y="5634000"/>
              <a:ext cx="512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195880" y="5595840"/>
              <a:ext cx="10476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4734000" y="6043680"/>
              <a:ext cx="18763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559560" y="6006960"/>
              <a:ext cx="106200" cy="7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230960" y="2363760"/>
              <a:ext cx="941400" cy="322200"/>
            </a:xfrm>
            <a:custGeom>
              <a:avLst/>
              <a:gdLst/>
              <a:ahLst/>
              <a:rect l="l" t="t" r="r" b="b"/>
              <a:pathLst>
                <a:path w="417" h="203">
                  <a:moveTo>
                    <a:pt x="0" y="203"/>
                  </a:moveTo>
                  <a:lnTo>
                    <a:pt x="0" y="109"/>
                  </a:lnTo>
                  <a:lnTo>
                    <a:pt x="417" y="109"/>
                  </a:lnTo>
                  <a:lnTo>
                    <a:pt x="4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8116920" y="2325600"/>
              <a:ext cx="10800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948360" y="2286000"/>
              <a:ext cx="752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nit_siz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400800" y="3429000"/>
              <a:ext cx="741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od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>
            <a:off x="609480" y="5943600"/>
            <a:ext cx="121932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IC5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72520" y="1131840"/>
            <a:ext cx="10494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Geo to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module ?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541840" y="1344600"/>
            <a:ext cx="3144960" cy="1279440"/>
            <a:chOff x="5541840" y="1344600"/>
            <a:chExt cx="3144960" cy="1279440"/>
          </a:xfrm>
        </p:grpSpPr>
        <p:sp>
          <p:nvSpPr>
            <p:cNvPr id="1173" name=""/>
            <p:cNvSpPr/>
            <p:nvPr/>
          </p:nvSpPr>
          <p:spPr>
            <a:xfrm>
              <a:off x="5921280" y="1393920"/>
              <a:ext cx="922320" cy="54612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10560" y="146844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90040" y="1592280"/>
              <a:ext cx="73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geometric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984280" y="17287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800840" y="1430280"/>
              <a:ext cx="885960" cy="2732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prstDash val="sysDash"/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133480" y="1504800"/>
              <a:ext cx="25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ex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672160" y="2351160"/>
              <a:ext cx="887400" cy="2728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prstDash val="sysDash"/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848560" y="2413080"/>
              <a:ext cx="59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dent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114960" y="1940040"/>
              <a:ext cx="249480" cy="360360"/>
            </a:xfrm>
            <a:custGeom>
              <a:avLst/>
              <a:gdLst/>
              <a:ahLst/>
              <a:rect l="l" t="t" r="r" b="b"/>
              <a:pathLst>
                <a:path w="110" h="227">
                  <a:moveTo>
                    <a:pt x="110" y="0"/>
                  </a:moveTo>
                  <a:lnTo>
                    <a:pt x="110" y="118"/>
                  </a:lnTo>
                  <a:lnTo>
                    <a:pt x="0" y="118"/>
                  </a:lnTo>
                  <a:lnTo>
                    <a:pt x="0" y="2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062760" y="2263680"/>
              <a:ext cx="10476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43600" y="1566720"/>
              <a:ext cx="901800" cy="1800"/>
            </a:xfrm>
            <a:custGeom>
              <a:avLst/>
              <a:gdLst/>
              <a:ahLst/>
              <a:rect l="l" t="t" r="r" b="b"/>
              <a:pathLst>
                <a:path w="400" h="0">
                  <a:moveTo>
                    <a:pt x="0" y="0"/>
                  </a:moveTo>
                  <a:lnTo>
                    <a:pt x="196" y="0"/>
                  </a:lnTo>
                  <a:lnTo>
                    <a:pt x="196" y="0"/>
                  </a:lnTo>
                  <a:lnTo>
                    <a:pt x="4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694640" y="1530360"/>
              <a:ext cx="10620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728120" y="1852560"/>
              <a:ext cx="885600" cy="46044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793640" y="1952640"/>
              <a:ext cx="64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806600" y="2089080"/>
              <a:ext cx="60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with_un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43600" y="1754280"/>
              <a:ext cx="833400" cy="334800"/>
            </a:xfrm>
            <a:custGeom>
              <a:avLst/>
              <a:gdLst/>
              <a:ahLst/>
              <a:rect l="l" t="t" r="r" b="b"/>
              <a:pathLst>
                <a:path w="369" h="211">
                  <a:moveTo>
                    <a:pt x="0" y="0"/>
                  </a:moveTo>
                  <a:lnTo>
                    <a:pt x="39" y="0"/>
                  </a:lnTo>
                  <a:lnTo>
                    <a:pt x="39" y="211"/>
                  </a:lnTo>
                  <a:lnTo>
                    <a:pt x="369" y="2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621560" y="2052720"/>
              <a:ext cx="10656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995160" y="1344600"/>
              <a:ext cx="662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scrip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990480" y="1752480"/>
              <a:ext cx="478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a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541840" y="1981080"/>
              <a:ext cx="557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am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Dimensional tolerance: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 Tolerance harmonization AP224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194" name=""/>
          <p:cNvSpPr/>
          <p:nvPr/>
        </p:nvSpPr>
        <p:spPr>
          <a:xfrm>
            <a:off x="6095880" y="6095880"/>
            <a:ext cx="1143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467480" y="6095880"/>
            <a:ext cx="121932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2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1219320" y="3454560"/>
            <a:ext cx="1673280" cy="2498040"/>
            <a:chOff x="1219320" y="3454560"/>
            <a:chExt cx="1673280" cy="2498040"/>
          </a:xfrm>
        </p:grpSpPr>
        <p:sp>
          <p:nvSpPr>
            <p:cNvPr id="1197" name=""/>
            <p:cNvSpPr/>
            <p:nvPr/>
          </p:nvSpPr>
          <p:spPr>
            <a:xfrm>
              <a:off x="1219320" y="5503680"/>
              <a:ext cx="715680" cy="44244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295640" y="555768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291680" y="566568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iz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269360" y="578484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174760" y="5503680"/>
              <a:ext cx="717840" cy="44244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51440" y="555768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231280" y="5665680"/>
              <a:ext cx="59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oca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224800" y="578484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584360" y="5319720"/>
              <a:ext cx="95580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584360" y="3454560"/>
              <a:ext cx="1440" cy="1865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1584360" y="5319720"/>
              <a:ext cx="1440" cy="15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542960" y="5438520"/>
              <a:ext cx="82800" cy="64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540160" y="5319720"/>
              <a:ext cx="1440" cy="15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498760" y="5438520"/>
              <a:ext cx="84240" cy="64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2438280" y="1523880"/>
            <a:ext cx="3279240" cy="4164120"/>
            <a:chOff x="2438280" y="1523880"/>
            <a:chExt cx="3279240" cy="4164120"/>
          </a:xfrm>
        </p:grpSpPr>
        <p:sp>
          <p:nvSpPr>
            <p:cNvPr id="1212" name=""/>
            <p:cNvSpPr/>
            <p:nvPr/>
          </p:nvSpPr>
          <p:spPr>
            <a:xfrm>
              <a:off x="2438280" y="1523880"/>
              <a:ext cx="2939760" cy="344520"/>
            </a:xfrm>
            <a:prstGeom prst="rect">
              <a:avLst/>
            </a:prstGeom>
            <a:solidFill>
              <a:srgbClr val="ccecff"/>
            </a:solidFill>
            <a:ln w="11160">
              <a:solidFill>
                <a:srgbClr val="000000"/>
              </a:solidFill>
              <a:prstDash val="sysDash"/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677680" y="1523880"/>
              <a:ext cx="1800" cy="344520"/>
            </a:xfrm>
            <a:prstGeom prst="line">
              <a:avLst/>
            </a:prstGeom>
            <a:ln w="11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871720" y="1600200"/>
              <a:ext cx="2436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umeric_parameter_tolerance_sel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95440" y="2505240"/>
              <a:ext cx="816120" cy="40932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54840" y="260208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lus_minus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51960" y="2720880"/>
              <a:ext cx="35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195440" y="5278320"/>
              <a:ext cx="878040" cy="40968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71760" y="5364000"/>
              <a:ext cx="68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64560" y="54831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970160" y="3400560"/>
              <a:ext cx="716040" cy="40932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032440" y="3487680"/>
              <a:ext cx="68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011200" y="3605040"/>
              <a:ext cx="39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ang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195440" y="4554360"/>
              <a:ext cx="744480" cy="41148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276800" y="4653000"/>
              <a:ext cx="73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s_an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286520" y="477036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3900240" y="1868040"/>
              <a:ext cx="3240" cy="3614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900240" y="1868400"/>
              <a:ext cx="32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3899880" y="3605040"/>
              <a:ext cx="10256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884480" y="3573360"/>
              <a:ext cx="85680" cy="651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3899880" y="4770360"/>
              <a:ext cx="252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111200" y="4738680"/>
              <a:ext cx="84240" cy="651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3899880" y="5483160"/>
              <a:ext cx="252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11200" y="5450040"/>
              <a:ext cx="84240" cy="64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3899880" y="2720880"/>
              <a:ext cx="252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111200" y="2689200"/>
              <a:ext cx="84240" cy="651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071520" y="1901880"/>
              <a:ext cx="96840" cy="776160"/>
            </a:xfrm>
            <a:custGeom>
              <a:avLst/>
              <a:gdLst/>
              <a:ahLst/>
              <a:rect l="l" t="t" r="r" b="b"/>
              <a:pathLst>
                <a:path w="47" h="489">
                  <a:moveTo>
                    <a:pt x="0" y="489"/>
                  </a:moveTo>
                  <a:lnTo>
                    <a:pt x="0" y="251"/>
                  </a:lnTo>
                  <a:lnTo>
                    <a:pt x="47" y="251"/>
                  </a:lnTo>
                  <a:lnTo>
                    <a:pt x="4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126960" y="1868400"/>
              <a:ext cx="8424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558880" y="2133720"/>
              <a:ext cx="5331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e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1739880" y="2590920"/>
            <a:ext cx="2146320" cy="2631600"/>
            <a:chOff x="1739880" y="2590920"/>
            <a:chExt cx="2146320" cy="2631600"/>
          </a:xfrm>
        </p:grpSpPr>
        <p:sp>
          <p:nvSpPr>
            <p:cNvPr id="1241" name=""/>
            <p:cNvSpPr/>
            <p:nvPr/>
          </p:nvSpPr>
          <p:spPr>
            <a:xfrm>
              <a:off x="2590920" y="3276360"/>
              <a:ext cx="129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ignificant_dig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738520" y="2601720"/>
              <a:ext cx="716040" cy="40932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800440" y="2687400"/>
              <a:ext cx="68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780640" y="2806560"/>
              <a:ext cx="35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259000" y="2806560"/>
              <a:ext cx="420840" cy="345600"/>
            </a:xfrm>
            <a:custGeom>
              <a:avLst/>
              <a:gdLst/>
              <a:ahLst/>
              <a:rect l="l" t="t" r="r" b="b"/>
              <a:pathLst>
                <a:path w="204" h="218">
                  <a:moveTo>
                    <a:pt x="0" y="218"/>
                  </a:moveTo>
                  <a:lnTo>
                    <a:pt x="102" y="218"/>
                  </a:lnTo>
                  <a:lnTo>
                    <a:pt x="102" y="0"/>
                  </a:lnTo>
                  <a:lnTo>
                    <a:pt x="20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638440" y="2774880"/>
              <a:ext cx="85680" cy="63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709720" y="3475080"/>
              <a:ext cx="787680" cy="30276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343320" y="3475080"/>
              <a:ext cx="1440" cy="30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782440" y="354168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NTEG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693880" y="4975200"/>
              <a:ext cx="719280" cy="24732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327480" y="4975200"/>
              <a:ext cx="3240" cy="247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65160" y="500832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793960" y="4068720"/>
              <a:ext cx="716040" cy="24732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427560" y="4068720"/>
              <a:ext cx="1440" cy="247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890080" y="412092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259000" y="3292200"/>
              <a:ext cx="409680" cy="334800"/>
            </a:xfrm>
            <a:custGeom>
              <a:avLst/>
              <a:gdLst/>
              <a:ahLst/>
              <a:rect l="l" t="t" r="r" b="b"/>
              <a:pathLst>
                <a:path w="198" h="211">
                  <a:moveTo>
                    <a:pt x="0" y="0"/>
                  </a:moveTo>
                  <a:lnTo>
                    <a:pt x="102" y="0"/>
                  </a:lnTo>
                  <a:lnTo>
                    <a:pt x="102" y="211"/>
                  </a:lnTo>
                  <a:lnTo>
                    <a:pt x="198" y="21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624040" y="3593880"/>
              <a:ext cx="8568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739880" y="3454200"/>
              <a:ext cx="1193760" cy="1488960"/>
            </a:xfrm>
            <a:custGeom>
              <a:avLst/>
              <a:gdLst/>
              <a:ahLst/>
              <a:rect l="l" t="t" r="r" b="b"/>
              <a:pathLst>
                <a:path w="579" h="938">
                  <a:moveTo>
                    <a:pt x="0" y="0"/>
                  </a:moveTo>
                  <a:lnTo>
                    <a:pt x="0" y="822"/>
                  </a:lnTo>
                  <a:lnTo>
                    <a:pt x="579" y="822"/>
                  </a:lnTo>
                  <a:lnTo>
                    <a:pt x="579" y="93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892600" y="4910040"/>
              <a:ext cx="8244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075040" y="3454200"/>
              <a:ext cx="1083960" cy="582480"/>
            </a:xfrm>
            <a:custGeom>
              <a:avLst/>
              <a:gdLst/>
              <a:ahLst/>
              <a:rect l="l" t="t" r="r" b="b"/>
              <a:pathLst>
                <a:path w="525" h="367">
                  <a:moveTo>
                    <a:pt x="0" y="0"/>
                  </a:moveTo>
                  <a:lnTo>
                    <a:pt x="0" y="326"/>
                  </a:lnTo>
                  <a:lnTo>
                    <a:pt x="525" y="326"/>
                  </a:lnTo>
                  <a:lnTo>
                    <a:pt x="525" y="36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117960" y="4003560"/>
              <a:ext cx="8244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908000" y="3454200"/>
              <a:ext cx="1265400" cy="1488960"/>
            </a:xfrm>
            <a:custGeom>
              <a:avLst/>
              <a:gdLst/>
              <a:ahLst/>
              <a:rect l="l" t="t" r="r" b="b"/>
              <a:pathLst>
                <a:path w="613" h="938">
                  <a:moveTo>
                    <a:pt x="0" y="0"/>
                  </a:moveTo>
                  <a:lnTo>
                    <a:pt x="0" y="666"/>
                  </a:lnTo>
                  <a:lnTo>
                    <a:pt x="613" y="666"/>
                  </a:lnTo>
                  <a:lnTo>
                    <a:pt x="613" y="93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30560" y="4910040"/>
              <a:ext cx="8424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286000" y="2590920"/>
              <a:ext cx="304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133720" y="3809880"/>
              <a:ext cx="533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_v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981080" y="4190760"/>
              <a:ext cx="6098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nit_of_meas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28800" y="4800600"/>
              <a:ext cx="91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_descrip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4410000" y="1555920"/>
            <a:ext cx="3387960" cy="4025880"/>
            <a:chOff x="4410000" y="1555920"/>
            <a:chExt cx="3387960" cy="4025880"/>
          </a:xfrm>
        </p:grpSpPr>
        <p:sp>
          <p:nvSpPr>
            <p:cNvPr id="1269" name=""/>
            <p:cNvSpPr/>
            <p:nvPr/>
          </p:nvSpPr>
          <p:spPr>
            <a:xfrm>
              <a:off x="4957920" y="5407200"/>
              <a:ext cx="1617480" cy="1800"/>
            </a:xfrm>
            <a:custGeom>
              <a:avLst/>
              <a:gdLst/>
              <a:ahLst/>
              <a:rect l="l" t="t" r="r" b="b"/>
              <a:pathLst>
                <a:path w="784" h="0">
                  <a:moveTo>
                    <a:pt x="0" y="0"/>
                  </a:moveTo>
                  <a:lnTo>
                    <a:pt x="395" y="0"/>
                  </a:lnTo>
                  <a:lnTo>
                    <a:pt x="395" y="0"/>
                  </a:lnTo>
                  <a:lnTo>
                    <a:pt x="78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661080" y="2516400"/>
              <a:ext cx="716040" cy="24768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292880" y="2516400"/>
              <a:ext cx="1800" cy="2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757560" y="257688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NTEG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081920" y="1555920"/>
              <a:ext cx="716040" cy="24768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715160" y="1555920"/>
              <a:ext cx="1800" cy="2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215840" y="158940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057640" y="2644920"/>
              <a:ext cx="1559160" cy="1800"/>
            </a:xfrm>
            <a:custGeom>
              <a:avLst/>
              <a:gdLst/>
              <a:ahLst/>
              <a:rect l="l" t="t" r="r" b="b"/>
              <a:pathLst>
                <a:path w="756" h="0">
                  <a:moveTo>
                    <a:pt x="0" y="0"/>
                  </a:moveTo>
                  <a:lnTo>
                    <a:pt x="375" y="0"/>
                  </a:lnTo>
                  <a:lnTo>
                    <a:pt x="375" y="0"/>
                  </a:lnTo>
                  <a:lnTo>
                    <a:pt x="756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575400" y="2613240"/>
              <a:ext cx="8568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508640" y="1846440"/>
              <a:ext cx="2727360" cy="582840"/>
            </a:xfrm>
            <a:custGeom>
              <a:avLst/>
              <a:gdLst/>
              <a:ahLst/>
              <a:rect l="l" t="t" r="r" b="b"/>
              <a:pathLst>
                <a:path w="1322" h="367">
                  <a:moveTo>
                    <a:pt x="0" y="367"/>
                  </a:moveTo>
                  <a:lnTo>
                    <a:pt x="0" y="102"/>
                  </a:lnTo>
                  <a:lnTo>
                    <a:pt x="1322" y="102"/>
                  </a:lnTo>
                  <a:lnTo>
                    <a:pt x="132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192800" y="1814760"/>
              <a:ext cx="8424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76840" y="1846440"/>
              <a:ext cx="2600280" cy="582840"/>
            </a:xfrm>
            <a:custGeom>
              <a:avLst/>
              <a:gdLst/>
              <a:ahLst/>
              <a:rect l="l" t="t" r="r" b="b"/>
              <a:pathLst>
                <a:path w="1260" h="367">
                  <a:moveTo>
                    <a:pt x="0" y="367"/>
                  </a:moveTo>
                  <a:lnTo>
                    <a:pt x="0" y="184"/>
                  </a:lnTo>
                  <a:lnTo>
                    <a:pt x="1260" y="184"/>
                  </a:lnTo>
                  <a:lnTo>
                    <a:pt x="126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35720" y="1814760"/>
              <a:ext cx="8280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183280" y="2806920"/>
              <a:ext cx="1842840" cy="517680"/>
            </a:xfrm>
            <a:custGeom>
              <a:avLst/>
              <a:gdLst/>
              <a:ahLst/>
              <a:rect l="l" t="t" r="r" b="b"/>
              <a:pathLst>
                <a:path w="893" h="326">
                  <a:moveTo>
                    <a:pt x="0" y="326"/>
                  </a:moveTo>
                  <a:lnTo>
                    <a:pt x="0" y="48"/>
                  </a:lnTo>
                  <a:lnTo>
                    <a:pt x="893" y="48"/>
                  </a:lnTo>
                  <a:lnTo>
                    <a:pt x="89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983280" y="2775240"/>
              <a:ext cx="8424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367240" y="1846440"/>
              <a:ext cx="2149560" cy="1478160"/>
            </a:xfrm>
            <a:custGeom>
              <a:avLst/>
              <a:gdLst/>
              <a:ahLst/>
              <a:rect l="l" t="t" r="r" b="b"/>
              <a:pathLst>
                <a:path w="1042" h="931">
                  <a:moveTo>
                    <a:pt x="0" y="931"/>
                  </a:moveTo>
                  <a:lnTo>
                    <a:pt x="0" y="748"/>
                  </a:lnTo>
                  <a:lnTo>
                    <a:pt x="1042" y="748"/>
                  </a:lnTo>
                  <a:lnTo>
                    <a:pt x="104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475400" y="1814760"/>
              <a:ext cx="8604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548320" y="1846440"/>
              <a:ext cx="2109960" cy="1478160"/>
            </a:xfrm>
            <a:custGeom>
              <a:avLst/>
              <a:gdLst/>
              <a:ahLst/>
              <a:rect l="l" t="t" r="r" b="b"/>
              <a:pathLst>
                <a:path w="1022" h="931">
                  <a:moveTo>
                    <a:pt x="0" y="931"/>
                  </a:moveTo>
                  <a:lnTo>
                    <a:pt x="0" y="870"/>
                  </a:lnTo>
                  <a:lnTo>
                    <a:pt x="1022" y="870"/>
                  </a:lnTo>
                  <a:lnTo>
                    <a:pt x="102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616880" y="1814760"/>
              <a:ext cx="8424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912000" y="3670560"/>
              <a:ext cx="719280" cy="24768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545240" y="3670560"/>
              <a:ext cx="3240" cy="2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011720" y="373104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410000" y="3949920"/>
              <a:ext cx="2685960" cy="528480"/>
            </a:xfrm>
            <a:custGeom>
              <a:avLst/>
              <a:gdLst/>
              <a:ahLst/>
              <a:rect l="l" t="t" r="r" b="b"/>
              <a:pathLst>
                <a:path w="1302" h="333">
                  <a:moveTo>
                    <a:pt x="0" y="333"/>
                  </a:moveTo>
                  <a:lnTo>
                    <a:pt x="0" y="55"/>
                  </a:lnTo>
                  <a:lnTo>
                    <a:pt x="1302" y="55"/>
                  </a:lnTo>
                  <a:lnTo>
                    <a:pt x="130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053120" y="3918240"/>
              <a:ext cx="8424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592520" y="3949920"/>
              <a:ext cx="2684520" cy="528480"/>
            </a:xfrm>
            <a:custGeom>
              <a:avLst/>
              <a:gdLst/>
              <a:ahLst/>
              <a:rect l="l" t="t" r="r" b="b"/>
              <a:pathLst>
                <a:path w="1301" h="333">
                  <a:moveTo>
                    <a:pt x="0" y="333"/>
                  </a:moveTo>
                  <a:lnTo>
                    <a:pt x="0" y="170"/>
                  </a:lnTo>
                  <a:lnTo>
                    <a:pt x="1301" y="170"/>
                  </a:lnTo>
                  <a:lnTo>
                    <a:pt x="130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236000" y="3918240"/>
              <a:ext cx="8568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776840" y="3949920"/>
              <a:ext cx="2684520" cy="528480"/>
            </a:xfrm>
            <a:custGeom>
              <a:avLst/>
              <a:gdLst/>
              <a:ahLst/>
              <a:rect l="l" t="t" r="r" b="b"/>
              <a:pathLst>
                <a:path w="1301" h="333">
                  <a:moveTo>
                    <a:pt x="0" y="333"/>
                  </a:moveTo>
                  <a:lnTo>
                    <a:pt x="0" y="279"/>
                  </a:lnTo>
                  <a:lnTo>
                    <a:pt x="1301" y="279"/>
                  </a:lnTo>
                  <a:lnTo>
                    <a:pt x="130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418520" y="3918240"/>
              <a:ext cx="8388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32640" y="5245200"/>
              <a:ext cx="1139760" cy="324000"/>
            </a:xfrm>
            <a:prstGeom prst="rect">
              <a:avLst/>
            </a:prstGeom>
            <a:solidFill>
              <a:srgbClr val="ccecff"/>
            </a:solidFill>
            <a:ln w="11160">
              <a:solidFill>
                <a:srgbClr val="000000"/>
              </a:solidFill>
              <a:prstDash val="sysDash"/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0120" y="5258160"/>
              <a:ext cx="1440" cy="323640"/>
            </a:xfrm>
            <a:prstGeom prst="line">
              <a:avLst/>
            </a:prstGeom>
            <a:ln w="11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694560" y="5288040"/>
              <a:ext cx="68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706080" y="5407200"/>
              <a:ext cx="848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contex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532560" y="5374080"/>
              <a:ext cx="8424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558040" y="1829160"/>
              <a:ext cx="752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pper_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564520" y="2133720"/>
              <a:ext cx="72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ower_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275440" y="2438640"/>
              <a:ext cx="1108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ignificant_dig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351760" y="2743560"/>
              <a:ext cx="1108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ignificant_dig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620680" y="3048120"/>
              <a:ext cx="851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pper_rang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855400" y="3276720"/>
              <a:ext cx="82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ower_rang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285520" y="3886560"/>
              <a:ext cx="82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*fitting_typ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398920" y="403884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*grad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558400" y="4229280"/>
              <a:ext cx="69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*devi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410080" y="5181840"/>
              <a:ext cx="121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qual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1414440" y="3000240"/>
            <a:ext cx="910080" cy="448920"/>
            <a:chOff x="1414440" y="3000240"/>
            <a:chExt cx="910080" cy="448920"/>
          </a:xfrm>
        </p:grpSpPr>
        <p:sp>
          <p:nvSpPr>
            <p:cNvPr id="1313" name=""/>
            <p:cNvSpPr/>
            <p:nvPr/>
          </p:nvSpPr>
          <p:spPr>
            <a:xfrm>
              <a:off x="1414440" y="3000240"/>
              <a:ext cx="844560" cy="44316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449000" y="316224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92560" y="304488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466280" y="328140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17" name=""/>
          <p:cNvSpPr/>
          <p:nvPr/>
        </p:nvSpPr>
        <p:spPr>
          <a:xfrm>
            <a:off x="592920" y="2133720"/>
            <a:ext cx="10494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Dim to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module ?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1905120" y="6248520"/>
            <a:ext cx="1143000" cy="304560"/>
          </a:xfrm>
          <a:prstGeom prst="rect">
            <a:avLst/>
          </a:prstGeom>
          <a:solidFill>
            <a:srgbClr val="e5b18d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Dimensional measurement results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Harmonization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8200" y="1308240"/>
            <a:ext cx="2108160" cy="1815840"/>
            <a:chOff x="808200" y="1308240"/>
            <a:chExt cx="2108160" cy="1815840"/>
          </a:xfrm>
        </p:grpSpPr>
        <p:sp>
          <p:nvSpPr>
            <p:cNvPr id="1321" name=""/>
            <p:cNvSpPr/>
            <p:nvPr/>
          </p:nvSpPr>
          <p:spPr>
            <a:xfrm>
              <a:off x="2192400" y="1308240"/>
              <a:ext cx="723960" cy="54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808200" y="1419120"/>
              <a:ext cx="2066760" cy="1704960"/>
              <a:chOff x="808200" y="1419120"/>
              <a:chExt cx="2066760" cy="1704960"/>
            </a:xfrm>
          </p:grpSpPr>
          <p:sp>
            <p:nvSpPr>
              <p:cNvPr id="1323" name=""/>
              <p:cNvSpPr/>
              <p:nvPr/>
            </p:nvSpPr>
            <p:spPr>
              <a:xfrm>
                <a:off x="808200" y="2538360"/>
                <a:ext cx="934920" cy="58572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850680" y="2602080"/>
                <a:ext cx="759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imension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849240" y="2751120"/>
                <a:ext cx="991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ment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874440" y="2911320"/>
                <a:ext cx="378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resul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246400" y="1419120"/>
                <a:ext cx="584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roduct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241720" y="1581120"/>
                <a:ext cx="633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definition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281240" y="1905120"/>
                <a:ext cx="1272960" cy="633240"/>
              </a:xfrm>
              <a:custGeom>
                <a:avLst/>
                <a:gdLst/>
                <a:ahLst/>
                <a:rect l="l" t="t" r="r" b="b"/>
                <a:pathLst>
                  <a:path w="802" h="399">
                    <a:moveTo>
                      <a:pt x="0" y="399"/>
                    </a:moveTo>
                    <a:lnTo>
                      <a:pt x="0" y="204"/>
                    </a:lnTo>
                    <a:lnTo>
                      <a:pt x="802" y="204"/>
                    </a:lnTo>
                    <a:lnTo>
                      <a:pt x="80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516040" y="186696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190880" y="1981080"/>
                <a:ext cx="1180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inspected_item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2" name=""/>
          <p:cNvGrpSpPr/>
          <p:nvPr/>
        </p:nvGrpSpPr>
        <p:grpSpPr>
          <a:xfrm>
            <a:off x="1755720" y="1333440"/>
            <a:ext cx="4707360" cy="1790640"/>
            <a:chOff x="1755720" y="1333440"/>
            <a:chExt cx="4707360" cy="1790640"/>
          </a:xfrm>
        </p:grpSpPr>
        <p:sp>
          <p:nvSpPr>
            <p:cNvPr id="1333" name=""/>
            <p:cNvSpPr/>
            <p:nvPr/>
          </p:nvSpPr>
          <p:spPr>
            <a:xfrm>
              <a:off x="3340080" y="2538360"/>
              <a:ext cx="934920" cy="5857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369960" y="2602080"/>
              <a:ext cx="75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368520" y="2751120"/>
              <a:ext cx="99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men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366720" y="2911320"/>
              <a:ext cx="88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gram_ru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755720" y="2825640"/>
              <a:ext cx="1533600" cy="1800"/>
            </a:xfrm>
            <a:custGeom>
              <a:avLst/>
              <a:gdLst/>
              <a:ahLst/>
              <a:rect l="l" t="t" r="r" b="b"/>
              <a:pathLst>
                <a:path w="966" h="0">
                  <a:moveTo>
                    <a:pt x="0" y="0"/>
                  </a:moveTo>
                  <a:lnTo>
                    <a:pt x="479" y="0"/>
                  </a:lnTo>
                  <a:lnTo>
                    <a:pt x="479" y="0"/>
                  </a:lnTo>
                  <a:lnTo>
                    <a:pt x="9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252960" y="2787480"/>
              <a:ext cx="7452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537080" y="1333440"/>
              <a:ext cx="934920" cy="5842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566960" y="1382760"/>
              <a:ext cx="75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565520" y="1544760"/>
              <a:ext cx="99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men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560840" y="169380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gram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597640" y="2265480"/>
              <a:ext cx="785520" cy="58392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657760" y="2314440"/>
              <a:ext cx="67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ate_an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643000" y="2476440"/>
              <a:ext cx="52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ers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625720" y="2625840"/>
              <a:ext cx="837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organiz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13120" y="1967040"/>
              <a:ext cx="1198440" cy="571320"/>
            </a:xfrm>
            <a:custGeom>
              <a:avLst/>
              <a:gdLst/>
              <a:ahLst/>
              <a:rect l="l" t="t" r="r" b="b"/>
              <a:pathLst>
                <a:path w="755" h="360">
                  <a:moveTo>
                    <a:pt x="0" y="360"/>
                  </a:moveTo>
                  <a:lnTo>
                    <a:pt x="0" y="180"/>
                  </a:lnTo>
                  <a:lnTo>
                    <a:pt x="755" y="180"/>
                  </a:lnTo>
                  <a:lnTo>
                    <a:pt x="75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973760" y="1930320"/>
              <a:ext cx="7452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287960" y="2550960"/>
              <a:ext cx="1258920" cy="274680"/>
            </a:xfrm>
            <a:custGeom>
              <a:avLst/>
              <a:gdLst/>
              <a:ahLst/>
              <a:rect l="l" t="t" r="r" b="b"/>
              <a:pathLst>
                <a:path w="793" h="173">
                  <a:moveTo>
                    <a:pt x="0" y="173"/>
                  </a:moveTo>
                  <a:lnTo>
                    <a:pt x="393" y="173"/>
                  </a:lnTo>
                  <a:lnTo>
                    <a:pt x="393" y="0"/>
                  </a:lnTo>
                  <a:lnTo>
                    <a:pt x="79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510160" y="2514600"/>
              <a:ext cx="7452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887120" y="2590920"/>
              <a:ext cx="1096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gram_run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789000" y="1981080"/>
              <a:ext cx="802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rogram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338000" y="2590920"/>
              <a:ext cx="448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un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1295280" y="4952880"/>
            <a:ext cx="4800600" cy="1552680"/>
            <a:chOff x="1295280" y="4952880"/>
            <a:chExt cx="4800600" cy="1552680"/>
          </a:xfrm>
        </p:grpSpPr>
        <p:sp>
          <p:nvSpPr>
            <p:cNvPr id="1355" name=""/>
            <p:cNvSpPr/>
            <p:nvPr/>
          </p:nvSpPr>
          <p:spPr>
            <a:xfrm>
              <a:off x="5372280" y="4989600"/>
              <a:ext cx="723600" cy="54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599800" y="5175360"/>
              <a:ext cx="34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oin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549680" y="5959440"/>
              <a:ext cx="723960" cy="54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728600" y="6172200"/>
              <a:ext cx="41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ecto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133720" y="5029200"/>
              <a:ext cx="3189240" cy="133200"/>
            </a:xfrm>
            <a:custGeom>
              <a:avLst/>
              <a:gdLst/>
              <a:ahLst/>
              <a:rect l="l" t="t" r="r" b="b"/>
              <a:pathLst>
                <a:path w="2412" h="55">
                  <a:moveTo>
                    <a:pt x="0" y="0"/>
                  </a:moveTo>
                  <a:lnTo>
                    <a:pt x="1202" y="0"/>
                  </a:lnTo>
                  <a:lnTo>
                    <a:pt x="1202" y="55"/>
                  </a:lnTo>
                  <a:lnTo>
                    <a:pt x="2412" y="5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284800" y="5126040"/>
              <a:ext cx="7632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981080" y="5257800"/>
              <a:ext cx="3341880" cy="92160"/>
            </a:xfrm>
            <a:custGeom>
              <a:avLst/>
              <a:gdLst/>
              <a:ahLst/>
              <a:rect l="l" t="t" r="r" b="b"/>
              <a:pathLst>
                <a:path w="2412" h="47">
                  <a:moveTo>
                    <a:pt x="0" y="0"/>
                  </a:moveTo>
                  <a:lnTo>
                    <a:pt x="1202" y="0"/>
                  </a:lnTo>
                  <a:lnTo>
                    <a:pt x="1202" y="47"/>
                  </a:lnTo>
                  <a:lnTo>
                    <a:pt x="2412" y="4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284800" y="5311800"/>
              <a:ext cx="7632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295280" y="5473800"/>
              <a:ext cx="3503880" cy="434880"/>
            </a:xfrm>
            <a:custGeom>
              <a:avLst/>
              <a:gdLst/>
              <a:ahLst/>
              <a:rect l="l" t="t" r="r" b="b"/>
              <a:pathLst>
                <a:path w="2483" h="274">
                  <a:moveTo>
                    <a:pt x="0" y="0"/>
                  </a:moveTo>
                  <a:lnTo>
                    <a:pt x="0" y="196"/>
                  </a:lnTo>
                  <a:lnTo>
                    <a:pt x="2483" y="196"/>
                  </a:lnTo>
                  <a:lnTo>
                    <a:pt x="2483" y="2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761000" y="5872320"/>
              <a:ext cx="7596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676520" y="5473800"/>
              <a:ext cx="3359160" cy="434880"/>
            </a:xfrm>
            <a:custGeom>
              <a:avLst/>
              <a:gdLst/>
              <a:ahLst/>
              <a:rect l="l" t="t" r="r" b="b"/>
              <a:pathLst>
                <a:path w="2435" h="274">
                  <a:moveTo>
                    <a:pt x="0" y="0"/>
                  </a:moveTo>
                  <a:lnTo>
                    <a:pt x="0" y="133"/>
                  </a:lnTo>
                  <a:lnTo>
                    <a:pt x="2435" y="133"/>
                  </a:lnTo>
                  <a:lnTo>
                    <a:pt x="2435" y="2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998960" y="5872320"/>
              <a:ext cx="7452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876120" y="4952880"/>
              <a:ext cx="982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_point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519280" y="5791320"/>
              <a:ext cx="1047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_vector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1280" y="5486400"/>
              <a:ext cx="938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aw_vector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437920" y="5257800"/>
              <a:ext cx="872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aw_point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71" name=""/>
          <p:cNvGrpSpPr/>
          <p:nvPr/>
        </p:nvGrpSpPr>
        <p:grpSpPr>
          <a:xfrm>
            <a:off x="1281240" y="3124080"/>
            <a:ext cx="1912320" cy="1143000"/>
            <a:chOff x="1281240" y="3124080"/>
            <a:chExt cx="1912320" cy="1143000"/>
          </a:xfrm>
        </p:grpSpPr>
        <p:sp>
          <p:nvSpPr>
            <p:cNvPr id="1372" name=""/>
            <p:cNvSpPr/>
            <p:nvPr/>
          </p:nvSpPr>
          <p:spPr>
            <a:xfrm>
              <a:off x="1828440" y="3683160"/>
              <a:ext cx="1360080" cy="5839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996200" y="3733920"/>
              <a:ext cx="72144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_resul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948320" y="3882960"/>
              <a:ext cx="99576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men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981080" y="404496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281240" y="3124080"/>
              <a:ext cx="1396800" cy="509760"/>
            </a:xfrm>
            <a:custGeom>
              <a:avLst/>
              <a:gdLst/>
              <a:ahLst/>
              <a:rect l="l" t="t" r="r" b="b"/>
              <a:pathLst>
                <a:path w="880" h="321">
                  <a:moveTo>
                    <a:pt x="0" y="0"/>
                  </a:moveTo>
                  <a:lnTo>
                    <a:pt x="0" y="188"/>
                  </a:lnTo>
                  <a:lnTo>
                    <a:pt x="880" y="188"/>
                  </a:lnTo>
                  <a:lnTo>
                    <a:pt x="880" y="3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41320" y="3595680"/>
              <a:ext cx="7416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302840" y="3200400"/>
              <a:ext cx="1890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measurements S[0:?]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79" name=""/>
          <p:cNvGrpSpPr/>
          <p:nvPr/>
        </p:nvGrpSpPr>
        <p:grpSpPr>
          <a:xfrm>
            <a:off x="990720" y="4267080"/>
            <a:ext cx="1700280" cy="1193760"/>
            <a:chOff x="990720" y="4267080"/>
            <a:chExt cx="1700280" cy="1193760"/>
          </a:xfrm>
        </p:grpSpPr>
        <p:sp>
          <p:nvSpPr>
            <p:cNvPr id="1380" name=""/>
            <p:cNvSpPr/>
            <p:nvPr/>
          </p:nvSpPr>
          <p:spPr>
            <a:xfrm>
              <a:off x="990720" y="4876920"/>
              <a:ext cx="1087200" cy="5839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123200" y="4952880"/>
              <a:ext cx="75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121400" y="5102280"/>
              <a:ext cx="99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men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131840" y="5251320"/>
              <a:ext cx="34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oin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447560" y="4267080"/>
              <a:ext cx="1230120" cy="573120"/>
            </a:xfrm>
            <a:custGeom>
              <a:avLst/>
              <a:gdLst/>
              <a:ahLst/>
              <a:rect l="l" t="t" r="r" b="b"/>
              <a:pathLst>
                <a:path w="1147" h="361">
                  <a:moveTo>
                    <a:pt x="1147" y="0"/>
                  </a:moveTo>
                  <a:lnTo>
                    <a:pt x="1147" y="243"/>
                  </a:lnTo>
                  <a:lnTo>
                    <a:pt x="0" y="243"/>
                  </a:lnTo>
                  <a:lnTo>
                    <a:pt x="0" y="3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417320" y="4789440"/>
              <a:ext cx="74160" cy="74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129680" y="4343400"/>
              <a:ext cx="1561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measurements [S1:?]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1752480" y="6095880"/>
            <a:ext cx="1143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943600" y="6095880"/>
            <a:ext cx="121932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2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6616440" y="4419360"/>
            <a:ext cx="1232280" cy="1360800"/>
            <a:chOff x="6616440" y="4419360"/>
            <a:chExt cx="1232280" cy="1360800"/>
          </a:xfrm>
        </p:grpSpPr>
        <p:sp>
          <p:nvSpPr>
            <p:cNvPr id="1390" name=""/>
            <p:cNvSpPr/>
            <p:nvPr/>
          </p:nvSpPr>
          <p:spPr>
            <a:xfrm>
              <a:off x="6705720" y="5181480"/>
              <a:ext cx="1143000" cy="598680"/>
            </a:xfrm>
            <a:prstGeom prst="rect">
              <a:avLst/>
            </a:prstGeom>
            <a:solidFill>
              <a:srgbClr val="f2be9e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858000" y="5257800"/>
              <a:ext cx="84312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ombin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andar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ncertainty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7543800" y="4419360"/>
              <a:ext cx="0" cy="79524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512120" y="5119560"/>
              <a:ext cx="82440" cy="874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616440" y="4826160"/>
              <a:ext cx="916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_param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ncertainty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6084720" y="1219320"/>
            <a:ext cx="1117800" cy="1849320"/>
            <a:chOff x="6084720" y="1219320"/>
            <a:chExt cx="1117800" cy="1849320"/>
          </a:xfrm>
        </p:grpSpPr>
        <p:sp>
          <p:nvSpPr>
            <p:cNvPr id="1396" name=""/>
            <p:cNvSpPr/>
            <p:nvPr/>
          </p:nvSpPr>
          <p:spPr>
            <a:xfrm>
              <a:off x="6601320" y="182880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24480" y="1219320"/>
              <a:ext cx="790560" cy="468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419880" y="1371600"/>
              <a:ext cx="67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circ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6532560" y="1752480"/>
              <a:ext cx="1440" cy="129564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6095520" y="3048120"/>
              <a:ext cx="4194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084720" y="3002040"/>
              <a:ext cx="795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3124080" y="6095880"/>
            <a:ext cx="114300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IC5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6095880" y="3429000"/>
            <a:ext cx="2855160" cy="1908000"/>
            <a:chOff x="6095880" y="3429000"/>
            <a:chExt cx="2855160" cy="1908000"/>
          </a:xfrm>
        </p:grpSpPr>
        <p:sp>
          <p:nvSpPr>
            <p:cNvPr id="1404" name=""/>
            <p:cNvSpPr/>
            <p:nvPr/>
          </p:nvSpPr>
          <p:spPr>
            <a:xfrm>
              <a:off x="6400800" y="4191120"/>
              <a:ext cx="609480" cy="457200"/>
            </a:xfrm>
            <a:prstGeom prst="rect">
              <a:avLst/>
            </a:prstGeom>
            <a:solidFill>
              <a:srgbClr val="deeede"/>
            </a:solidFill>
            <a:ln w="9360">
              <a:solidFill>
                <a:srgbClr val="010000"/>
              </a:solidFill>
              <a:miter/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nomin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405" name=""/>
            <p:cNvGrpSpPr/>
            <p:nvPr/>
          </p:nvGrpSpPr>
          <p:grpSpPr>
            <a:xfrm>
              <a:off x="6095880" y="3429000"/>
              <a:ext cx="2855160" cy="1908000"/>
              <a:chOff x="6095880" y="3429000"/>
              <a:chExt cx="2855160" cy="1908000"/>
            </a:xfrm>
          </p:grpSpPr>
          <p:sp>
            <p:nvSpPr>
              <p:cNvPr id="1406" name=""/>
              <p:cNvSpPr/>
              <p:nvPr/>
            </p:nvSpPr>
            <p:spPr>
              <a:xfrm>
                <a:off x="7934400" y="4705200"/>
                <a:ext cx="904680" cy="631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7990560" y="4800600"/>
                <a:ext cx="73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d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8000640" y="4929120"/>
                <a:ext cx="764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arameter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8012160" y="5075280"/>
                <a:ext cx="704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with_limits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8282880" y="3657600"/>
                <a:ext cx="668160" cy="50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d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_values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S[1:?]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V="1">
                <a:off x="8229600" y="3429000"/>
                <a:ext cx="0" cy="1295280"/>
              </a:xfrm>
              <a:prstGeom prst="line">
                <a:avLst/>
              </a:prstGeom>
              <a:ln w="9360">
                <a:solidFill>
                  <a:srgbClr val="01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7172280" y="3745080"/>
                <a:ext cx="905040" cy="63180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228440" y="3909960"/>
                <a:ext cx="73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d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238520" y="4038480"/>
                <a:ext cx="7642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arameter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8008920" y="4419720"/>
                <a:ext cx="0" cy="228600"/>
              </a:xfrm>
              <a:prstGeom prst="line">
                <a:avLst/>
              </a:prstGeom>
              <a:ln w="2844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962840" y="4629240"/>
                <a:ext cx="77760" cy="66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8191440" y="4648320"/>
                <a:ext cx="77760" cy="66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477120" y="3962520"/>
                <a:ext cx="685800" cy="0"/>
              </a:xfrm>
              <a:prstGeom prst="line">
                <a:avLst/>
              </a:prstGeom>
              <a:ln w="9360">
                <a:solidFill>
                  <a:srgbClr val="01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477120" y="3962520"/>
                <a:ext cx="0" cy="228600"/>
              </a:xfrm>
              <a:prstGeom prst="line">
                <a:avLst/>
              </a:prstGeom>
              <a:ln w="9360">
                <a:solidFill>
                  <a:srgbClr val="01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445080" y="4110120"/>
                <a:ext cx="82800" cy="810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622200" y="3657600"/>
                <a:ext cx="3542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calc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valu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095880" y="3429000"/>
                <a:ext cx="2133720" cy="0"/>
              </a:xfrm>
              <a:prstGeom prst="line">
                <a:avLst/>
              </a:prstGeom>
              <a:ln w="9360">
                <a:solidFill>
                  <a:srgbClr val="01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3" name=""/>
          <p:cNvGrpSpPr/>
          <p:nvPr/>
        </p:nvGrpSpPr>
        <p:grpSpPr>
          <a:xfrm>
            <a:off x="6095880" y="1066680"/>
            <a:ext cx="2837160" cy="2210040"/>
            <a:chOff x="6095880" y="1066680"/>
            <a:chExt cx="2837160" cy="2210040"/>
          </a:xfrm>
        </p:grpSpPr>
        <p:sp>
          <p:nvSpPr>
            <p:cNvPr id="1424" name=""/>
            <p:cNvSpPr/>
            <p:nvPr/>
          </p:nvSpPr>
          <p:spPr>
            <a:xfrm>
              <a:off x="6295320" y="3048120"/>
              <a:ext cx="1024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pec_tols S[1:?] 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095880" y="3276720"/>
              <a:ext cx="1295640" cy="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7391520" y="2971440"/>
              <a:ext cx="1440" cy="30492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351560" y="2890800"/>
              <a:ext cx="7956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951600" y="2362320"/>
              <a:ext cx="914400" cy="500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10000"/>
              </a:solidFill>
              <a:prstDash val="lg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 flipV="1">
              <a:off x="7772040" y="2438280"/>
              <a:ext cx="17640" cy="42408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958080" y="2438280"/>
              <a:ext cx="794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dp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_sel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7543800" y="1523520"/>
              <a:ext cx="0" cy="83844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432" name=""/>
            <p:cNvGrpSpPr/>
            <p:nvPr/>
          </p:nvGrpSpPr>
          <p:grpSpPr>
            <a:xfrm>
              <a:off x="7467480" y="1066680"/>
              <a:ext cx="1465560" cy="406440"/>
              <a:chOff x="7467480" y="1066680"/>
              <a:chExt cx="1465560" cy="406440"/>
            </a:xfrm>
          </p:grpSpPr>
          <p:sp>
            <p:nvSpPr>
              <p:cNvPr id="1433" name=""/>
              <p:cNvSpPr/>
              <p:nvPr/>
            </p:nvSpPr>
            <p:spPr>
              <a:xfrm>
                <a:off x="7467480" y="1066680"/>
                <a:ext cx="1465560" cy="406440"/>
              </a:xfrm>
              <a:prstGeom prst="rect">
                <a:avLst/>
              </a:prstGeom>
              <a:solidFill>
                <a:srgbClr val="ccecff"/>
              </a:solidFill>
              <a:ln w="0">
                <a:solidFill>
                  <a:srgbClr val="000000"/>
                </a:solidFill>
              </a:ln>
              <a:effectLst>
                <a:outerShdw dist="17819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524360" y="1123920"/>
                <a:ext cx="1372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numeric_parameter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536600" y="1266840"/>
                <a:ext cx="968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with_toleranc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436" name=""/>
            <p:cNvGrpSpPr/>
            <p:nvPr/>
          </p:nvGrpSpPr>
          <p:grpSpPr>
            <a:xfrm>
              <a:off x="8077320" y="1752480"/>
              <a:ext cx="753840" cy="471600"/>
              <a:chOff x="8077320" y="1752480"/>
              <a:chExt cx="753840" cy="471600"/>
            </a:xfrm>
          </p:grpSpPr>
          <p:sp>
            <p:nvSpPr>
              <p:cNvPr id="1437" name=""/>
              <p:cNvSpPr/>
              <p:nvPr/>
            </p:nvSpPr>
            <p:spPr>
              <a:xfrm>
                <a:off x="8077320" y="1752480"/>
                <a:ext cx="753840" cy="471600"/>
              </a:xfrm>
              <a:prstGeom prst="rect">
                <a:avLst/>
              </a:prstGeom>
              <a:solidFill>
                <a:srgbClr val="deeede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8147520" y="1850760"/>
                <a:ext cx="416880" cy="167760"/>
              </a:xfrm>
              <a:prstGeom prst="rect">
                <a:avLst/>
              </a:prstGeom>
              <a:solidFill>
                <a:srgbClr val="dee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value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8139960" y="1996920"/>
                <a:ext cx="630000" cy="167760"/>
              </a:xfrm>
              <a:prstGeom prst="rect">
                <a:avLst/>
              </a:prstGeom>
              <a:solidFill>
                <a:srgbClr val="dee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limitation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440" name=""/>
            <p:cNvSpPr/>
            <p:nvPr/>
          </p:nvSpPr>
          <p:spPr>
            <a:xfrm>
              <a:off x="7510320" y="1523880"/>
              <a:ext cx="7956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543800" y="1981080"/>
              <a:ext cx="53352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997760" y="1962000"/>
              <a:ext cx="7956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443" name=""/>
          <p:cNvSpPr/>
          <p:nvPr/>
        </p:nvSpPr>
        <p:spPr>
          <a:xfrm>
            <a:off x="7391520" y="6095880"/>
            <a:ext cx="1143000" cy="304920"/>
          </a:xfrm>
          <a:prstGeom prst="rect">
            <a:avLst/>
          </a:prstGeom>
          <a:solidFill>
            <a:srgbClr val="deeede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80880" y="6095880"/>
            <a:ext cx="1143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Mod_entity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98280" y="1154160"/>
            <a:ext cx="1981440" cy="685800"/>
          </a:xfrm>
          <a:prstGeom prst="wedgeRoundRectCallout">
            <a:avLst>
              <a:gd name="adj1" fmla="val -9935"/>
              <a:gd name="adj2" fmla="val 151157"/>
              <a:gd name="adj3" fmla="val 16667"/>
            </a:avLst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Comic Sans MS"/>
              </a:rPr>
              <a:t>NOTE: AP214 phys_inst_test_result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Comic Sans MS"/>
              </a:rPr>
              <a:t>does not meet req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4571640" y="2949480"/>
            <a:ext cx="1596240" cy="1918800"/>
            <a:chOff x="4571640" y="2949480"/>
            <a:chExt cx="1596240" cy="1918800"/>
          </a:xfrm>
        </p:grpSpPr>
        <p:sp>
          <p:nvSpPr>
            <p:cNvPr id="1447" name=""/>
            <p:cNvSpPr/>
            <p:nvPr/>
          </p:nvSpPr>
          <p:spPr>
            <a:xfrm>
              <a:off x="5235480" y="2949480"/>
              <a:ext cx="847800" cy="5842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275080" y="316080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84800" y="332280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272200" y="3665520"/>
              <a:ext cx="847440" cy="584280"/>
            </a:xfrm>
            <a:prstGeom prst="rect">
              <a:avLst/>
            </a:prstGeom>
            <a:solidFill>
              <a:srgbClr val="eaeaea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480" y="3808440"/>
              <a:ext cx="73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geometric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328360" y="395748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800600" y="3200400"/>
              <a:ext cx="38088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4800600" y="3962520"/>
              <a:ext cx="45720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800600" y="3200400"/>
              <a:ext cx="0" cy="144792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154480" y="3159000"/>
              <a:ext cx="7488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184720" y="3925800"/>
              <a:ext cx="74520" cy="74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4571640" y="3657600"/>
              <a:ext cx="22860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307120" y="3011400"/>
              <a:ext cx="32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257800" y="4419720"/>
              <a:ext cx="844560" cy="442800"/>
            </a:xfrm>
            <a:prstGeom prst="rect">
              <a:avLst/>
            </a:prstGeom>
            <a:solidFill>
              <a:srgbClr val="ccec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292360" y="458136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335920" y="446400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309280" y="4700520"/>
              <a:ext cx="6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800600" y="4648320"/>
              <a:ext cx="457200" cy="0"/>
            </a:xfrm>
            <a:prstGeom prst="line">
              <a:avLst/>
            </a:prstGeom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200560" y="4606920"/>
              <a:ext cx="7956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2971800" y="3352680"/>
            <a:ext cx="1660680" cy="1447920"/>
            <a:chOff x="2971800" y="3352680"/>
            <a:chExt cx="1660680" cy="1447920"/>
          </a:xfrm>
        </p:grpSpPr>
        <p:sp>
          <p:nvSpPr>
            <p:cNvPr id="1467" name=""/>
            <p:cNvSpPr/>
            <p:nvPr/>
          </p:nvSpPr>
          <p:spPr>
            <a:xfrm>
              <a:off x="3733920" y="3352680"/>
              <a:ext cx="838080" cy="609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10000"/>
              </a:solidFill>
              <a:prstDash val="lg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4495680" y="3352680"/>
              <a:ext cx="0" cy="609840"/>
            </a:xfrm>
            <a:prstGeom prst="line">
              <a:avLst/>
            </a:prstGeom>
            <a:ln w="936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818880" y="3429000"/>
              <a:ext cx="648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_ta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sel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971800" y="4495680"/>
              <a:ext cx="1371600" cy="304920"/>
            </a:xfrm>
            <a:prstGeom prst="rect">
              <a:avLst/>
            </a:prstGeom>
            <a:solidFill>
              <a:srgbClr val="f2be9e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dm_target_assoc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4038480" y="3962160"/>
              <a:ext cx="0" cy="53316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3048120" y="4266720"/>
              <a:ext cx="0" cy="22860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981600" y="3975120"/>
              <a:ext cx="101520" cy="9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984400" y="4280040"/>
              <a:ext cx="10188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185640" y="4191120"/>
              <a:ext cx="537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mea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047840" y="4114800"/>
              <a:ext cx="584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10000"/>
                  </a:solidFill>
                  <a:latin typeface="Comic Sans MS"/>
                </a:rPr>
                <a:t>targe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ARM Validation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1107360" y="1143000"/>
            <a:ext cx="7923960" cy="5105520"/>
            <a:chOff x="1107360" y="1143000"/>
            <a:chExt cx="7923960" cy="5105520"/>
          </a:xfrm>
        </p:grpSpPr>
        <p:sp>
          <p:nvSpPr>
            <p:cNvPr id="1479" name=""/>
            <p:cNvSpPr/>
            <p:nvPr/>
          </p:nvSpPr>
          <p:spPr>
            <a:xfrm flipV="1">
              <a:off x="2743200" y="1143000"/>
              <a:ext cx="4419720" cy="5105520"/>
            </a:xfrm>
            <a:prstGeom prst="line">
              <a:avLst/>
            </a:prstGeom>
            <a:ln w="38160">
              <a:solidFill>
                <a:srgbClr val="3366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107360" y="1676520"/>
              <a:ext cx="87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Comic Sans MS"/>
                </a:rPr>
                <a:t>STE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445520" y="3657600"/>
              <a:ext cx="158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Comic Sans MS"/>
                </a:rPr>
                <a:t>AP219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Comic Sans MS"/>
                </a:rPr>
                <a:t>validati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591480" y="1447920"/>
            <a:ext cx="5073840" cy="4147200"/>
            <a:chOff x="591480" y="1447920"/>
            <a:chExt cx="5073840" cy="4147200"/>
          </a:xfrm>
        </p:grpSpPr>
        <p:sp>
          <p:nvSpPr>
            <p:cNvPr id="1483" name=""/>
            <p:cNvSpPr/>
            <p:nvPr/>
          </p:nvSpPr>
          <p:spPr>
            <a:xfrm>
              <a:off x="2268360" y="2755800"/>
              <a:ext cx="1758960" cy="919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Develo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Concepetua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484" name=""/>
            <p:cNvGrpSpPr/>
            <p:nvPr/>
          </p:nvGrpSpPr>
          <p:grpSpPr>
            <a:xfrm>
              <a:off x="4027320" y="3281400"/>
              <a:ext cx="503280" cy="1247760"/>
              <a:chOff x="4027320" y="3281400"/>
              <a:chExt cx="503280" cy="1247760"/>
            </a:xfrm>
          </p:grpSpPr>
          <p:sp>
            <p:nvSpPr>
              <p:cNvPr id="1485" name=""/>
              <p:cNvSpPr/>
              <p:nvPr/>
            </p:nvSpPr>
            <p:spPr>
              <a:xfrm>
                <a:off x="4027320" y="3281400"/>
                <a:ext cx="251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278960" y="3281400"/>
                <a:ext cx="0" cy="124776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278960" y="4529160"/>
                <a:ext cx="251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488" name=""/>
            <p:cNvSpPr/>
            <p:nvPr/>
          </p:nvSpPr>
          <p:spPr>
            <a:xfrm>
              <a:off x="2646360" y="2166840"/>
              <a:ext cx="0" cy="588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758320" y="2057400"/>
              <a:ext cx="158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harmoniz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consideration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022560" y="4089240"/>
              <a:ext cx="1226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conceptua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85800" y="3200400"/>
              <a:ext cx="1582560" cy="15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91480" y="2590920"/>
              <a:ext cx="1477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inform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requirement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1843200" y="4495680"/>
              <a:ext cx="1585800" cy="856080"/>
              <a:chOff x="1843200" y="4495680"/>
              <a:chExt cx="1585800" cy="856080"/>
            </a:xfrm>
          </p:grpSpPr>
          <p:sp>
            <p:nvSpPr>
              <p:cNvPr id="1494" name=""/>
              <p:cNvSpPr/>
              <p:nvPr/>
            </p:nvSpPr>
            <p:spPr>
              <a:xfrm>
                <a:off x="1843200" y="4952880"/>
                <a:ext cx="1553760" cy="39888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99"/>
                    </a:solidFill>
                    <a:latin typeface="Comic Sans MS"/>
                  </a:rPr>
                  <a:t>AP219 ARM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3124080" y="4495680"/>
                <a:ext cx="304920" cy="45720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496" name=""/>
            <p:cNvSpPr/>
            <p:nvPr/>
          </p:nvSpPr>
          <p:spPr>
            <a:xfrm>
              <a:off x="4132800" y="1447920"/>
              <a:ext cx="1532520" cy="3988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Integration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V="1">
              <a:off x="4267080" y="1857240"/>
              <a:ext cx="304920" cy="4572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652760" y="3886200"/>
              <a:ext cx="9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EXPRE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2743200" y="3657240"/>
              <a:ext cx="0" cy="6858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862800" y="5257800"/>
              <a:ext cx="9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EXPRE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4495680" y="2514600"/>
            <a:ext cx="3470400" cy="3447000"/>
            <a:chOff x="4495680" y="2514600"/>
            <a:chExt cx="3470400" cy="3447000"/>
          </a:xfrm>
        </p:grpSpPr>
        <p:sp>
          <p:nvSpPr>
            <p:cNvPr id="1502" name=""/>
            <p:cNvSpPr/>
            <p:nvPr/>
          </p:nvSpPr>
          <p:spPr>
            <a:xfrm flipV="1">
              <a:off x="6248520" y="3200400"/>
              <a:ext cx="304560" cy="380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95680" y="4097160"/>
              <a:ext cx="1758960" cy="919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Develo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Logica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871880" y="3506760"/>
              <a:ext cx="0" cy="5904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985640" y="3333600"/>
              <a:ext cx="158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technology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consideration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49680" y="4753080"/>
              <a:ext cx="14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logical 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289560" y="4600440"/>
              <a:ext cx="16765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576040" y="5562720"/>
              <a:ext cx="1770120" cy="3988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AP219 L-ARM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6683400" y="5133960"/>
              <a:ext cx="304920" cy="4413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103080" y="2514600"/>
              <a:ext cx="1619280" cy="703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Information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exchange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4952880" y="5028840"/>
              <a:ext cx="0" cy="6858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Place of AP219 in Product Life-Cycle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46160" y="1681200"/>
            <a:ext cx="8458200" cy="4038480"/>
            <a:chOff x="146160" y="1681200"/>
            <a:chExt cx="8458200" cy="4038480"/>
          </a:xfrm>
        </p:grpSpPr>
        <p:sp>
          <p:nvSpPr>
            <p:cNvPr id="88" name=""/>
            <p:cNvSpPr/>
            <p:nvPr/>
          </p:nvSpPr>
          <p:spPr>
            <a:xfrm>
              <a:off x="527400" y="2071800"/>
              <a:ext cx="1699920" cy="717480"/>
            </a:xfrm>
            <a:prstGeom prst="rect">
              <a:avLst/>
            </a:prstGeom>
            <a:solidFill>
              <a:srgbClr val="e5b18d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Conceive &amp;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administer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00560" y="3049560"/>
              <a:ext cx="1700280" cy="716040"/>
            </a:xfrm>
            <a:prstGeom prst="rect">
              <a:avLst/>
            </a:prstGeom>
            <a:solidFill>
              <a:srgbClr val="e5b18d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Design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73720" y="4025880"/>
              <a:ext cx="1700280" cy="717480"/>
            </a:xfrm>
            <a:prstGeom prst="rect">
              <a:avLst/>
            </a:prstGeom>
            <a:solidFill>
              <a:srgbClr val="e5b18d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Manufacture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47240" y="5004000"/>
              <a:ext cx="1699920" cy="715680"/>
            </a:xfrm>
            <a:prstGeom prst="rect">
              <a:avLst/>
            </a:prstGeom>
            <a:solidFill>
              <a:srgbClr val="e5b18d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Operate &amp;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maintain product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43160" y="1681200"/>
              <a:ext cx="0" cy="3906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84720" y="2657520"/>
              <a:ext cx="0" cy="39204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57880" y="3635280"/>
              <a:ext cx="0" cy="3906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31400" y="4611600"/>
              <a:ext cx="0" cy="39240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2203560" y="2442960"/>
              <a:ext cx="360360" cy="990720"/>
              <a:chOff x="2203560" y="2442960"/>
              <a:chExt cx="360360" cy="990720"/>
            </a:xfrm>
          </p:grpSpPr>
          <p:sp>
            <p:nvSpPr>
              <p:cNvPr id="97" name=""/>
              <p:cNvSpPr/>
              <p:nvPr/>
            </p:nvSpPr>
            <p:spPr>
              <a:xfrm>
                <a:off x="2356200" y="3433680"/>
                <a:ext cx="2077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2356200" y="2442960"/>
                <a:ext cx="0" cy="99036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2203560" y="2443320"/>
                <a:ext cx="152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4185000" y="3433320"/>
              <a:ext cx="360360" cy="990720"/>
              <a:chOff x="4185000" y="3433320"/>
              <a:chExt cx="360360" cy="990720"/>
            </a:xfrm>
          </p:grpSpPr>
          <p:sp>
            <p:nvSpPr>
              <p:cNvPr id="101" name=""/>
              <p:cNvSpPr/>
              <p:nvPr/>
            </p:nvSpPr>
            <p:spPr>
              <a:xfrm>
                <a:off x="4337640" y="4424040"/>
                <a:ext cx="2077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4337640" y="3433320"/>
                <a:ext cx="0" cy="99036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4185000" y="3433680"/>
                <a:ext cx="152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166080" y="4424040"/>
              <a:ext cx="360360" cy="990720"/>
              <a:chOff x="6166080" y="4424040"/>
              <a:chExt cx="360360" cy="990720"/>
            </a:xfrm>
          </p:grpSpPr>
          <p:sp>
            <p:nvSpPr>
              <p:cNvPr id="105" name=""/>
              <p:cNvSpPr/>
              <p:nvPr/>
            </p:nvSpPr>
            <p:spPr>
              <a:xfrm>
                <a:off x="6318720" y="5414760"/>
                <a:ext cx="2077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6318720" y="4424040"/>
                <a:ext cx="0" cy="99036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6166080" y="4424400"/>
                <a:ext cx="152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46160" y="2443320"/>
              <a:ext cx="45720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47160" y="5415120"/>
              <a:ext cx="457200" cy="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889360" y="1528920"/>
            <a:ext cx="6019200" cy="3504600"/>
            <a:chOff x="2889360" y="1528920"/>
            <a:chExt cx="6019200" cy="3504600"/>
          </a:xfrm>
        </p:grpSpPr>
        <p:sp>
          <p:nvSpPr>
            <p:cNvPr id="111" name=""/>
            <p:cNvSpPr/>
            <p:nvPr/>
          </p:nvSpPr>
          <p:spPr>
            <a:xfrm>
              <a:off x="5556240" y="2519280"/>
              <a:ext cx="1599840" cy="7621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Inspe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produ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870440" y="3052800"/>
              <a:ext cx="1066320" cy="99072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74800" y="1528920"/>
              <a:ext cx="1599840" cy="7617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Inspe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produ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889360" y="2062080"/>
              <a:ext cx="1066680" cy="99072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08720" y="3510000"/>
              <a:ext cx="1599840" cy="7621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Inspe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produc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622920" y="4043160"/>
              <a:ext cx="1066320" cy="99036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: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 Example conceptual model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513" name=""/>
          <p:cNvSpPr/>
          <p:nvPr/>
        </p:nvSpPr>
        <p:spPr>
          <a:xfrm>
            <a:off x="6172200" y="6095880"/>
            <a:ext cx="106668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9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467480" y="6095880"/>
            <a:ext cx="1219320" cy="304920"/>
          </a:xfrm>
          <a:prstGeom prst="rect">
            <a:avLst/>
          </a:prstGeom>
          <a:solidFill>
            <a:srgbClr val="deeede"/>
          </a:solidFill>
          <a:ln w="9360">
            <a:solidFill>
              <a:srgbClr val="010000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AP214_entit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131840" y="551196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380880" y="1447920"/>
            <a:ext cx="8534520" cy="4663440"/>
            <a:chOff x="380880" y="1447920"/>
            <a:chExt cx="8534520" cy="4663440"/>
          </a:xfrm>
        </p:grpSpPr>
        <p:sp>
          <p:nvSpPr>
            <p:cNvPr id="1517" name=""/>
            <p:cNvSpPr/>
            <p:nvPr/>
          </p:nvSpPr>
          <p:spPr>
            <a:xfrm>
              <a:off x="380880" y="1447920"/>
              <a:ext cx="965160" cy="631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59000" y="149544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15440" y="162576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17240" y="1755720"/>
              <a:ext cx="99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ment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46760" y="190008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176560" y="1609560"/>
              <a:ext cx="752400" cy="27468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327400" y="1690560"/>
              <a:ext cx="59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dent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365120" y="1755720"/>
              <a:ext cx="754200" cy="1800"/>
            </a:xfrm>
            <a:custGeom>
              <a:avLst/>
              <a:gdLst/>
              <a:ahLst/>
              <a:rect l="l" t="t" r="r" b="b"/>
              <a:pathLst>
                <a:path w="357" h="0">
                  <a:moveTo>
                    <a:pt x="0" y="0"/>
                  </a:moveTo>
                  <a:lnTo>
                    <a:pt x="174" y="0"/>
                  </a:lnTo>
                  <a:lnTo>
                    <a:pt x="174" y="0"/>
                  </a:lnTo>
                  <a:lnTo>
                    <a:pt x="357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079720" y="1722600"/>
              <a:ext cx="759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515960" y="1600200"/>
              <a:ext cx="31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abe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61840" y="2320920"/>
              <a:ext cx="214560" cy="32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864720" y="2124000"/>
              <a:ext cx="1800" cy="19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V="1">
              <a:off x="1076400" y="2320920"/>
              <a:ext cx="1440" cy="14616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036800" y="2435400"/>
              <a:ext cx="77760" cy="648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90480" y="2517840"/>
              <a:ext cx="790560" cy="4683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06400" y="2678040"/>
              <a:ext cx="67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circl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82720" y="3763800"/>
              <a:ext cx="869760" cy="500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949680" y="3811680"/>
              <a:ext cx="32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mf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917280" y="3941640"/>
              <a:ext cx="87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mensio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927360" y="4087800"/>
              <a:ext cx="70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076400" y="3002040"/>
              <a:ext cx="96840" cy="712800"/>
            </a:xfrm>
            <a:custGeom>
              <a:avLst/>
              <a:gdLst/>
              <a:ahLst/>
              <a:rect l="l" t="t" r="r" b="b"/>
              <a:pathLst>
                <a:path w="46" h="401">
                  <a:moveTo>
                    <a:pt x="0" y="0"/>
                  </a:moveTo>
                  <a:lnTo>
                    <a:pt x="0" y="110"/>
                  </a:lnTo>
                  <a:lnTo>
                    <a:pt x="46" y="110"/>
                  </a:lnTo>
                  <a:lnTo>
                    <a:pt x="46" y="40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131840" y="3681360"/>
              <a:ext cx="795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01920" y="327672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018120" y="2451240"/>
              <a:ext cx="870120" cy="47124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068160" y="256536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lus_minus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054480" y="269388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bound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208480" y="1495440"/>
              <a:ext cx="946080" cy="4716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307120" y="167472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s_&amp;_f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038480" y="1495440"/>
              <a:ext cx="917640" cy="503280"/>
            </a:xfrm>
            <a:prstGeom prst="rect">
              <a:avLst/>
            </a:prstGeom>
            <a:solidFill>
              <a:srgbClr val="deeede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114800" y="1523880"/>
              <a:ext cx="0" cy="457200"/>
            </a:xfrm>
            <a:prstGeom prst="line">
              <a:avLst/>
            </a:prstGeom>
            <a:ln w="14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194720" y="1531800"/>
              <a:ext cx="69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a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203720" y="1676520"/>
              <a:ext cx="69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fini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198680" y="1806480"/>
              <a:ext cx="38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elec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707000" y="2257560"/>
              <a:ext cx="1525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707000" y="2014560"/>
              <a:ext cx="1440" cy="243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6232680" y="2257200"/>
              <a:ext cx="1440" cy="16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192720" y="2387520"/>
              <a:ext cx="77760" cy="637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673600" y="2014560"/>
              <a:ext cx="1800" cy="243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632560" y="1982880"/>
              <a:ext cx="79200" cy="63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006720" y="2046240"/>
              <a:ext cx="1447920" cy="258840"/>
            </a:xfrm>
            <a:custGeom>
              <a:avLst/>
              <a:gdLst/>
              <a:ahLst/>
              <a:rect l="l" t="t" r="r" b="b"/>
              <a:pathLst>
                <a:path w="686" h="146">
                  <a:moveTo>
                    <a:pt x="0" y="146"/>
                  </a:moveTo>
                  <a:lnTo>
                    <a:pt x="0" y="73"/>
                  </a:lnTo>
                  <a:lnTo>
                    <a:pt x="686" y="73"/>
                  </a:lnTo>
                  <a:lnTo>
                    <a:pt x="68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419720" y="1981080"/>
              <a:ext cx="7596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858400" y="1981080"/>
              <a:ext cx="1325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ation_defini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619360" y="2305080"/>
              <a:ext cx="754200" cy="47160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676960" y="2403360"/>
              <a:ext cx="41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669400" y="25495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463760" y="2824200"/>
              <a:ext cx="1406520" cy="939600"/>
            </a:xfrm>
            <a:custGeom>
              <a:avLst/>
              <a:gdLst/>
              <a:ahLst/>
              <a:rect l="l" t="t" r="r" b="b"/>
              <a:pathLst>
                <a:path w="667" h="529">
                  <a:moveTo>
                    <a:pt x="0" y="529"/>
                  </a:moveTo>
                  <a:lnTo>
                    <a:pt x="0" y="219"/>
                  </a:lnTo>
                  <a:lnTo>
                    <a:pt x="667" y="219"/>
                  </a:lnTo>
                  <a:lnTo>
                    <a:pt x="667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832120" y="2792520"/>
              <a:ext cx="7920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631160" y="3276720"/>
              <a:ext cx="1271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pecified_toleranc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65" name=""/>
            <p:cNvGrpSpPr/>
            <p:nvPr/>
          </p:nvGrpSpPr>
          <p:grpSpPr>
            <a:xfrm>
              <a:off x="1924200" y="4476600"/>
              <a:ext cx="780480" cy="500040"/>
              <a:chOff x="1924200" y="4476600"/>
              <a:chExt cx="780480" cy="500040"/>
            </a:xfrm>
          </p:grpSpPr>
          <p:sp>
            <p:nvSpPr>
              <p:cNvPr id="1566" name=""/>
              <p:cNvSpPr/>
              <p:nvPr/>
            </p:nvSpPr>
            <p:spPr>
              <a:xfrm>
                <a:off x="1924200" y="4476600"/>
                <a:ext cx="753840" cy="50004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984320" y="4540320"/>
                <a:ext cx="36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973880" y="4670280"/>
                <a:ext cx="73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measured_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971720" y="4799160"/>
                <a:ext cx="701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parameter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1517760" y="4994280"/>
              <a:ext cx="660240" cy="453960"/>
              <a:chOff x="1517760" y="4994280"/>
              <a:chExt cx="660240" cy="453960"/>
            </a:xfrm>
          </p:grpSpPr>
          <p:sp>
            <p:nvSpPr>
              <p:cNvPr id="1571" name=""/>
              <p:cNvSpPr/>
              <p:nvPr/>
            </p:nvSpPr>
            <p:spPr>
              <a:xfrm>
                <a:off x="1557360" y="5187960"/>
                <a:ext cx="619200" cy="144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176560" y="4994280"/>
                <a:ext cx="1440" cy="19368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V="1">
                <a:off x="1557360" y="5187600"/>
                <a:ext cx="3240" cy="22716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517760" y="5381640"/>
                <a:ext cx="79200" cy="6660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2372760" y="4114800"/>
              <a:ext cx="1735560" cy="1317600"/>
              <a:chOff x="2372760" y="4114800"/>
              <a:chExt cx="1735560" cy="1317600"/>
            </a:xfrm>
          </p:grpSpPr>
          <p:sp>
            <p:nvSpPr>
              <p:cNvPr id="1576" name=""/>
              <p:cNvSpPr/>
              <p:nvPr/>
            </p:nvSpPr>
            <p:spPr>
              <a:xfrm>
                <a:off x="3701880" y="5075280"/>
                <a:ext cx="7812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678040" y="4378320"/>
                <a:ext cx="577800" cy="3571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0" y="201"/>
                    </a:moveTo>
                    <a:lnTo>
                      <a:pt x="137" y="201"/>
                    </a:lnTo>
                    <a:lnTo>
                      <a:pt x="137" y="0"/>
                    </a:lnTo>
                    <a:lnTo>
                      <a:pt x="274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218040" y="4346640"/>
                <a:ext cx="7920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352680" y="5156280"/>
                <a:ext cx="755640" cy="27612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prstDash val="sysDash"/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641040" y="5235480"/>
                <a:ext cx="255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text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427120" y="4994280"/>
                <a:ext cx="1312920" cy="112680"/>
              </a:xfrm>
              <a:custGeom>
                <a:avLst/>
                <a:gdLst/>
                <a:ahLst/>
                <a:rect l="l" t="t" r="r" b="b"/>
                <a:pathLst>
                  <a:path w="622" h="63">
                    <a:moveTo>
                      <a:pt x="0" y="0"/>
                    </a:moveTo>
                    <a:lnTo>
                      <a:pt x="0" y="45"/>
                    </a:lnTo>
                    <a:lnTo>
                      <a:pt x="622" y="45"/>
                    </a:lnTo>
                    <a:lnTo>
                      <a:pt x="622" y="6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850840" y="4952880"/>
                <a:ext cx="832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calc_method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372760" y="4114800"/>
                <a:ext cx="6696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calculated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mic Sans MS"/>
                  </a:rPr>
                  <a:t>_value</a:t>
                </a:r>
                <a:endParaRPr b="0" lang="en-US" sz="11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584" name=""/>
            <p:cNvSpPr/>
            <p:nvPr/>
          </p:nvSpPr>
          <p:spPr>
            <a:xfrm>
              <a:off x="1057320" y="5464080"/>
              <a:ext cx="750960" cy="631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121400" y="5641920"/>
              <a:ext cx="73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131480" y="5770440"/>
              <a:ext cx="76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paramete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143000" y="59166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with_lim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308240" y="4264200"/>
              <a:ext cx="1440" cy="1150920"/>
            </a:xfrm>
            <a:custGeom>
              <a:avLst/>
              <a:gdLst/>
              <a:ahLst/>
              <a:rect l="l" t="t" r="r" b="b"/>
              <a:pathLst>
                <a:path w="0" h="648">
                  <a:moveTo>
                    <a:pt x="0" y="0"/>
                  </a:moveTo>
                  <a:lnTo>
                    <a:pt x="0" y="155"/>
                  </a:lnTo>
                  <a:lnTo>
                    <a:pt x="0" y="155"/>
                  </a:lnTo>
                  <a:lnTo>
                    <a:pt x="0" y="648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268280" y="5381640"/>
              <a:ext cx="777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4040" y="4572000"/>
              <a:ext cx="66816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_value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[1:?]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927840" y="1528920"/>
              <a:ext cx="847800" cy="3711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621560" y="1528920"/>
              <a:ext cx="1440" cy="37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46000" y="167652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8163000" y="2549520"/>
              <a:ext cx="752400" cy="27468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683560" y="2514600"/>
              <a:ext cx="1800" cy="30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307000" y="266688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INTEG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718400" y="3343320"/>
              <a:ext cx="965160" cy="500040"/>
            </a:xfrm>
            <a:prstGeom prst="rect">
              <a:avLst/>
            </a:prstGeom>
            <a:solidFill>
              <a:srgbClr val="deeede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8588520" y="3343320"/>
              <a:ext cx="1440" cy="500040"/>
            </a:xfrm>
            <a:prstGeom prst="line">
              <a:avLst/>
            </a:prstGeom>
            <a:ln w="14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774560" y="3390840"/>
              <a:ext cx="41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769520" y="3521160"/>
              <a:ext cx="1009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etermination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743240" y="3665520"/>
              <a:ext cx="86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enumer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443640" y="1951200"/>
              <a:ext cx="754200" cy="500040"/>
            </a:xfrm>
            <a:custGeom>
              <a:avLst/>
              <a:gdLst/>
              <a:ahLst/>
              <a:rect l="l" t="t" r="r" b="b"/>
              <a:pathLst>
                <a:path w="357" h="282">
                  <a:moveTo>
                    <a:pt x="0" y="282"/>
                  </a:moveTo>
                  <a:lnTo>
                    <a:pt x="0" y="91"/>
                  </a:lnTo>
                  <a:lnTo>
                    <a:pt x="357" y="91"/>
                  </a:lnTo>
                  <a:lnTo>
                    <a:pt x="357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59680" y="1916280"/>
              <a:ext cx="7632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656400" y="1951200"/>
              <a:ext cx="830160" cy="500040"/>
            </a:xfrm>
            <a:custGeom>
              <a:avLst/>
              <a:gdLst/>
              <a:ahLst/>
              <a:rect l="l" t="t" r="r" b="b"/>
              <a:pathLst>
                <a:path w="393" h="282">
                  <a:moveTo>
                    <a:pt x="0" y="282"/>
                  </a:moveTo>
                  <a:lnTo>
                    <a:pt x="0" y="182"/>
                  </a:lnTo>
                  <a:lnTo>
                    <a:pt x="393" y="182"/>
                  </a:lnTo>
                  <a:lnTo>
                    <a:pt x="39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448400" y="1916280"/>
              <a:ext cx="777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888240" y="2693880"/>
              <a:ext cx="1216080" cy="3240"/>
            </a:xfrm>
            <a:custGeom>
              <a:avLst/>
              <a:gdLst/>
              <a:ahLst/>
              <a:rect l="l" t="t" r="r" b="b"/>
              <a:pathLst>
                <a:path w="576" h="0">
                  <a:moveTo>
                    <a:pt x="0" y="0"/>
                  </a:moveTo>
                  <a:lnTo>
                    <a:pt x="292" y="0"/>
                  </a:lnTo>
                  <a:lnTo>
                    <a:pt x="292" y="0"/>
                  </a:lnTo>
                  <a:lnTo>
                    <a:pt x="57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067600" y="2662200"/>
              <a:ext cx="745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443640" y="2938320"/>
              <a:ext cx="1758960" cy="354240"/>
            </a:xfrm>
            <a:custGeom>
              <a:avLst/>
              <a:gdLst/>
              <a:ahLst/>
              <a:rect l="l" t="t" r="r" b="b"/>
              <a:pathLst>
                <a:path w="833" h="200">
                  <a:moveTo>
                    <a:pt x="0" y="0"/>
                  </a:moveTo>
                  <a:lnTo>
                    <a:pt x="0" y="91"/>
                  </a:lnTo>
                  <a:lnTo>
                    <a:pt x="833" y="91"/>
                  </a:lnTo>
                  <a:lnTo>
                    <a:pt x="833" y="20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163000" y="3260880"/>
              <a:ext cx="75960" cy="66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019280" y="2971800"/>
              <a:ext cx="1363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determin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44920" y="2514600"/>
              <a:ext cx="61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ig_digits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345360" y="1981080"/>
              <a:ext cx="89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pper_boun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635880" y="2133720"/>
              <a:ext cx="86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ower_boun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594320" y="4006800"/>
              <a:ext cx="200484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6599160" y="4006440"/>
              <a:ext cx="1800" cy="12286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559560" y="5203800"/>
              <a:ext cx="79200" cy="666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350040" y="5270400"/>
              <a:ext cx="750960" cy="4683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423120" y="5448240"/>
              <a:ext cx="707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828800" y="5592600"/>
              <a:ext cx="4460760" cy="292320"/>
            </a:xfrm>
            <a:custGeom>
              <a:avLst/>
              <a:gdLst/>
              <a:ahLst/>
              <a:rect l="l" t="t" r="r" b="b"/>
              <a:pathLst>
                <a:path w="2112" h="164">
                  <a:moveTo>
                    <a:pt x="0" y="164"/>
                  </a:moveTo>
                  <a:lnTo>
                    <a:pt x="1902" y="164"/>
                  </a:lnTo>
                  <a:lnTo>
                    <a:pt x="1902" y="0"/>
                  </a:lnTo>
                  <a:lnTo>
                    <a:pt x="211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251400" y="5560920"/>
              <a:ext cx="763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828800" y="5302080"/>
              <a:ext cx="1487520" cy="371520"/>
            </a:xfrm>
            <a:custGeom>
              <a:avLst/>
              <a:gdLst/>
              <a:ahLst/>
              <a:rect l="l" t="t" r="r" b="b"/>
              <a:pathLst>
                <a:path w="704" h="209">
                  <a:moveTo>
                    <a:pt x="0" y="209"/>
                  </a:moveTo>
                  <a:lnTo>
                    <a:pt x="347" y="209"/>
                  </a:lnTo>
                  <a:lnTo>
                    <a:pt x="347" y="0"/>
                  </a:lnTo>
                  <a:lnTo>
                    <a:pt x="704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276720" y="5270400"/>
              <a:ext cx="7596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066120" y="5943600"/>
              <a:ext cx="1495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alculated_limits S[1:2]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554560" y="548640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_method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183200" y="3311640"/>
              <a:ext cx="772920" cy="50004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264200" y="335916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235040" y="3505320"/>
              <a:ext cx="64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249080" y="3633840"/>
              <a:ext cx="60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with_un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570560" y="3827520"/>
              <a:ext cx="1440" cy="1792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V="1">
              <a:off x="3819600" y="4006440"/>
              <a:ext cx="1440" cy="968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780000" y="4071960"/>
              <a:ext cx="75960" cy="63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759120" y="2500200"/>
              <a:ext cx="755640" cy="27648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375080" y="2514600"/>
              <a:ext cx="324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36520" y="259092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146480" y="2824200"/>
              <a:ext cx="424080" cy="487440"/>
            </a:xfrm>
            <a:custGeom>
              <a:avLst/>
              <a:gdLst/>
              <a:ahLst/>
              <a:rect l="l" t="t" r="r" b="b"/>
              <a:pathLst>
                <a:path w="201" h="274">
                  <a:moveTo>
                    <a:pt x="201" y="274"/>
                  </a:moveTo>
                  <a:lnTo>
                    <a:pt x="201" y="137"/>
                  </a:lnTo>
                  <a:lnTo>
                    <a:pt x="0" y="137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108320" y="2792520"/>
              <a:ext cx="7488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274640" y="2895480"/>
              <a:ext cx="26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un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3822480" y="4013280"/>
              <a:ext cx="780840" cy="0"/>
            </a:xfrm>
            <a:prstGeom prst="line">
              <a:avLst/>
            </a:prstGeom>
            <a:ln w="381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857840" y="4680000"/>
              <a:ext cx="772920" cy="27612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554800" y="4680000"/>
              <a:ext cx="144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041080" y="480060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527280" y="4071960"/>
              <a:ext cx="7776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316320" y="4152960"/>
              <a:ext cx="752400" cy="468360"/>
            </a:xfrm>
            <a:prstGeom prst="rect">
              <a:avLst/>
            </a:prstGeom>
            <a:solidFill>
              <a:srgbClr val="deeed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352320" y="4248000"/>
              <a:ext cx="60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omi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359880" y="4378320"/>
              <a:ext cx="35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121200" y="2792520"/>
              <a:ext cx="446040" cy="1311120"/>
            </a:xfrm>
            <a:custGeom>
              <a:avLst/>
              <a:gdLst/>
              <a:ahLst/>
              <a:rect l="l" t="t" r="r" b="b"/>
              <a:pathLst>
                <a:path w="211" h="738">
                  <a:moveTo>
                    <a:pt x="0" y="0"/>
                  </a:moveTo>
                  <a:lnTo>
                    <a:pt x="0" y="693"/>
                  </a:lnTo>
                  <a:lnTo>
                    <a:pt x="211" y="693"/>
                  </a:lnTo>
                  <a:lnTo>
                    <a:pt x="211" y="738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133440" y="3352680"/>
              <a:ext cx="87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ed_valu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244400" y="441972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value_comp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114800" y="4343400"/>
              <a:ext cx="114300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257800" y="4343400"/>
              <a:ext cx="0" cy="30492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207040" y="4600440"/>
              <a:ext cx="76320" cy="63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458120" y="4343400"/>
              <a:ext cx="1101600" cy="372960"/>
            </a:xfrm>
            <a:prstGeom prst="rect">
              <a:avLst/>
            </a:prstGeom>
            <a:solidFill>
              <a:srgbClr val="deeede"/>
            </a:solidFill>
            <a:ln w="1440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49920" y="4394160"/>
              <a:ext cx="963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qualifier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492320" y="4521240"/>
              <a:ext cx="86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enumeratio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409360" y="51814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946920" y="4876920"/>
              <a:ext cx="90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limit_qualifi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V="1">
              <a:off x="6858000" y="4495320"/>
              <a:ext cx="0" cy="76212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858000" y="4495680"/>
              <a:ext cx="60948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372440" y="4457880"/>
              <a:ext cx="7596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5333760" y="5410080"/>
              <a:ext cx="990360" cy="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5334120" y="4952880"/>
              <a:ext cx="0" cy="457200"/>
            </a:xfrm>
            <a:prstGeom prst="line">
              <a:avLst/>
            </a:prstGeom>
            <a:ln w="1908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297400" y="497520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337600" y="4343400"/>
              <a:ext cx="1440" cy="372960"/>
            </a:xfrm>
            <a:prstGeom prst="line">
              <a:avLst/>
            </a:prstGeom>
            <a:ln w="144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664" name=""/>
          <p:cNvSpPr/>
          <p:nvPr/>
        </p:nvSpPr>
        <p:spPr>
          <a:xfrm>
            <a:off x="6714000" y="217440"/>
            <a:ext cx="1533960" cy="580680"/>
          </a:xfrm>
          <a:prstGeom prst="rect">
            <a:avLst/>
          </a:prstGeom>
          <a:solidFill>
            <a:srgbClr val="f2b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integration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data structur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486400" y="3124080"/>
            <a:ext cx="1523880" cy="762120"/>
          </a:xfrm>
          <a:custGeom>
            <a:avLst/>
            <a:gdLst>
              <a:gd name="textAreaLeft" fmla="*/ 0 w 1523880"/>
              <a:gd name="textAreaRight" fmla="*/ 1524240 w 152388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2be9e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14 entitie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 L-ARM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logical model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667" name=""/>
          <p:cNvSpPr/>
          <p:nvPr/>
        </p:nvSpPr>
        <p:spPr>
          <a:xfrm>
            <a:off x="6675480" y="217440"/>
            <a:ext cx="1736640" cy="580680"/>
          </a:xfrm>
          <a:prstGeom prst="rect">
            <a:avLst/>
          </a:prstGeom>
          <a:solidFill>
            <a:srgbClr val="f2b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information uni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data structur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75720" y="320040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Circl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diame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65680" y="4114800"/>
            <a:ext cx="20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Capable of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containing the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same information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for exchange!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1523880" y="1523880"/>
            <a:ext cx="6962400" cy="4574880"/>
            <a:chOff x="1523880" y="1523880"/>
            <a:chExt cx="6962400" cy="4574880"/>
          </a:xfrm>
        </p:grpSpPr>
        <p:sp>
          <p:nvSpPr>
            <p:cNvPr id="1671" name=""/>
            <p:cNvSpPr/>
            <p:nvPr/>
          </p:nvSpPr>
          <p:spPr>
            <a:xfrm>
              <a:off x="1523880" y="1666440"/>
              <a:ext cx="924840" cy="756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593720" y="1956240"/>
              <a:ext cx="73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mf_circle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695920" y="4058640"/>
              <a:ext cx="888120" cy="340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784840" y="4058640"/>
              <a:ext cx="1440" cy="340200"/>
            </a:xfrm>
            <a:prstGeom prst="line">
              <a:avLst/>
            </a:prstGeom>
            <a:ln w="11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951880" y="4145760"/>
              <a:ext cx="48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ol_def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246040" y="2840040"/>
              <a:ext cx="1013760" cy="6364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271960" y="3052800"/>
              <a:ext cx="943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mf_dim_par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992960" y="2434320"/>
              <a:ext cx="761040" cy="349920"/>
            </a:xfrm>
            <a:custGeom>
              <a:avLst/>
              <a:gdLst/>
              <a:ahLst/>
              <a:rect l="l" t="t" r="r" b="b"/>
              <a:pathLst>
                <a:path w="394" h="209">
                  <a:moveTo>
                    <a:pt x="0" y="0"/>
                  </a:moveTo>
                  <a:lnTo>
                    <a:pt x="0" y="98"/>
                  </a:lnTo>
                  <a:lnTo>
                    <a:pt x="394" y="98"/>
                  </a:lnTo>
                  <a:lnTo>
                    <a:pt x="394" y="20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702160" y="2740680"/>
              <a:ext cx="10188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546280" y="2434320"/>
              <a:ext cx="65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484400" y="3047400"/>
              <a:ext cx="902160" cy="6152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63320" y="327888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bounds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34720" y="4891680"/>
              <a:ext cx="912960" cy="581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526520" y="5024520"/>
              <a:ext cx="79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limits_and_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534800" y="518868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fits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V="1">
              <a:off x="7015320" y="3356280"/>
              <a:ext cx="1440" cy="183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598080" y="4232880"/>
              <a:ext cx="4172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7014960" y="3356280"/>
              <a:ext cx="407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70640" y="3312360"/>
              <a:ext cx="102240" cy="8712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7015320" y="5188680"/>
              <a:ext cx="368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333920" y="5145120"/>
              <a:ext cx="100440" cy="867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676600" y="4278240"/>
              <a:ext cx="888480" cy="581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760840" y="4408920"/>
              <a:ext cx="76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eas_par_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756160" y="4573080"/>
              <a:ext cx="59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with_lim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754000" y="3486960"/>
              <a:ext cx="366840" cy="745920"/>
            </a:xfrm>
            <a:custGeom>
              <a:avLst/>
              <a:gdLst/>
              <a:ahLst/>
              <a:rect l="l" t="t" r="r" b="b"/>
              <a:pathLst>
                <a:path w="190" h="445">
                  <a:moveTo>
                    <a:pt x="0" y="0"/>
                  </a:moveTo>
                  <a:lnTo>
                    <a:pt x="0" y="223"/>
                  </a:lnTo>
                  <a:lnTo>
                    <a:pt x="190" y="223"/>
                  </a:lnTo>
                  <a:lnTo>
                    <a:pt x="190" y="44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070800" y="4189320"/>
              <a:ext cx="10008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887200" y="3663000"/>
              <a:ext cx="118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eas_vals  S[1:?]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770720" y="2873520"/>
              <a:ext cx="888120" cy="581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975920" y="307116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im_tol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273840" y="3158640"/>
              <a:ext cx="1433160" cy="1440"/>
            </a:xfrm>
            <a:custGeom>
              <a:avLst/>
              <a:gdLst/>
              <a:ahLst/>
              <a:rect l="l" t="t" r="r" b="b"/>
              <a:pathLst>
                <a:path w="742" h="0">
                  <a:moveTo>
                    <a:pt x="0" y="0"/>
                  </a:moveTo>
                  <a:lnTo>
                    <a:pt x="374" y="0"/>
                  </a:lnTo>
                  <a:lnTo>
                    <a:pt x="374" y="0"/>
                  </a:lnTo>
                  <a:lnTo>
                    <a:pt x="74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656600" y="3114720"/>
              <a:ext cx="100440" cy="86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575160" y="2891520"/>
              <a:ext cx="58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pec_tol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226480" y="3454920"/>
              <a:ext cx="913680" cy="547920"/>
            </a:xfrm>
            <a:custGeom>
              <a:avLst/>
              <a:gdLst/>
              <a:ahLst/>
              <a:rect l="l" t="t" r="r" b="b"/>
              <a:pathLst>
                <a:path w="473" h="327">
                  <a:moveTo>
                    <a:pt x="0" y="0"/>
                  </a:moveTo>
                  <a:lnTo>
                    <a:pt x="0" y="163"/>
                  </a:lnTo>
                  <a:lnTo>
                    <a:pt x="473" y="163"/>
                  </a:lnTo>
                  <a:lnTo>
                    <a:pt x="473" y="3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089760" y="3959640"/>
              <a:ext cx="102240" cy="871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481360" y="3520440"/>
              <a:ext cx="48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ol_def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932640" y="1555560"/>
              <a:ext cx="888120" cy="340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731840" y="1555560"/>
              <a:ext cx="2160" cy="34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075200" y="1659600"/>
              <a:ext cx="54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861880" y="1555560"/>
              <a:ext cx="886320" cy="340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661800" y="1555560"/>
              <a:ext cx="1440" cy="34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042600" y="165960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395480" y="1555560"/>
              <a:ext cx="888480" cy="340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195400" y="1555560"/>
              <a:ext cx="1440" cy="34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490880" y="1649520"/>
              <a:ext cx="63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TEGER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392800" y="4761000"/>
              <a:ext cx="886320" cy="340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192360" y="4761000"/>
              <a:ext cx="2160" cy="34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550120" y="487512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REAL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986720" y="5758560"/>
              <a:ext cx="886680" cy="340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784840" y="5758560"/>
              <a:ext cx="1440" cy="34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128560" y="5853960"/>
              <a:ext cx="54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462400" y="1731600"/>
              <a:ext cx="1407960" cy="318600"/>
            </a:xfrm>
            <a:custGeom>
              <a:avLst/>
              <a:gdLst/>
              <a:ahLst/>
              <a:rect l="l" t="t" r="r" b="b"/>
              <a:pathLst>
                <a:path w="729" h="190">
                  <a:moveTo>
                    <a:pt x="0" y="190"/>
                  </a:moveTo>
                  <a:lnTo>
                    <a:pt x="361" y="190"/>
                  </a:lnTo>
                  <a:lnTo>
                    <a:pt x="361" y="0"/>
                  </a:lnTo>
                  <a:lnTo>
                    <a:pt x="729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818520" y="1688040"/>
              <a:ext cx="101880" cy="86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357360" y="1523880"/>
              <a:ext cx="34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label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376520" y="1961280"/>
              <a:ext cx="685440" cy="911880"/>
            </a:xfrm>
            <a:custGeom>
              <a:avLst/>
              <a:gdLst/>
              <a:ahLst/>
              <a:rect l="l" t="t" r="r" b="b"/>
              <a:pathLst>
                <a:path w="355" h="544">
                  <a:moveTo>
                    <a:pt x="355" y="544"/>
                  </a:moveTo>
                  <a:lnTo>
                    <a:pt x="355" y="275"/>
                  </a:lnTo>
                  <a:lnTo>
                    <a:pt x="0" y="27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326120" y="1917720"/>
              <a:ext cx="10224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397760" y="221436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nom_uni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367600" y="1961280"/>
              <a:ext cx="722160" cy="911880"/>
            </a:xfrm>
            <a:custGeom>
              <a:avLst/>
              <a:gdLst/>
              <a:ahLst/>
              <a:rect l="l" t="t" r="r" b="b"/>
              <a:pathLst>
                <a:path w="374" h="544">
                  <a:moveTo>
                    <a:pt x="0" y="544"/>
                  </a:moveTo>
                  <a:lnTo>
                    <a:pt x="0" y="275"/>
                  </a:lnTo>
                  <a:lnTo>
                    <a:pt x="374" y="275"/>
                  </a:lnTo>
                  <a:lnTo>
                    <a:pt x="37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039720" y="1917720"/>
              <a:ext cx="10008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426280" y="2214360"/>
              <a:ext cx="60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nom_val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853400" y="1961280"/>
              <a:ext cx="305280" cy="1086120"/>
            </a:xfrm>
            <a:custGeom>
              <a:avLst/>
              <a:gdLst/>
              <a:ahLst/>
              <a:rect l="l" t="t" r="r" b="b"/>
              <a:pathLst>
                <a:path w="158" h="648">
                  <a:moveTo>
                    <a:pt x="158" y="648"/>
                  </a:moveTo>
                  <a:lnTo>
                    <a:pt x="158" y="223"/>
                  </a:lnTo>
                  <a:lnTo>
                    <a:pt x="0" y="22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803360" y="1917720"/>
              <a:ext cx="10008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982280" y="2115720"/>
              <a:ext cx="50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ig_dig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306120" y="1961280"/>
              <a:ext cx="1407960" cy="1086120"/>
            </a:xfrm>
            <a:custGeom>
              <a:avLst/>
              <a:gdLst/>
              <a:ahLst/>
              <a:rect l="l" t="t" r="r" b="b"/>
              <a:pathLst>
                <a:path w="729" h="648">
                  <a:moveTo>
                    <a:pt x="729" y="648"/>
                  </a:moveTo>
                  <a:lnTo>
                    <a:pt x="729" y="557"/>
                  </a:lnTo>
                  <a:lnTo>
                    <a:pt x="0" y="55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253920" y="1917720"/>
              <a:ext cx="10224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809040" y="269748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upper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534360" y="1961280"/>
              <a:ext cx="1393920" cy="1086120"/>
            </a:xfrm>
            <a:custGeom>
              <a:avLst/>
              <a:gdLst/>
              <a:ahLst/>
              <a:rect l="l" t="t" r="r" b="b"/>
              <a:pathLst>
                <a:path w="722" h="648">
                  <a:moveTo>
                    <a:pt x="722" y="648"/>
                  </a:moveTo>
                  <a:lnTo>
                    <a:pt x="722" y="380"/>
                  </a:lnTo>
                  <a:lnTo>
                    <a:pt x="0" y="38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483960" y="1917720"/>
              <a:ext cx="100080" cy="88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044480" y="2400480"/>
              <a:ext cx="40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lower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579120" y="4430520"/>
              <a:ext cx="1749960" cy="417600"/>
            </a:xfrm>
            <a:custGeom>
              <a:avLst/>
              <a:gdLst/>
              <a:ahLst/>
              <a:rect l="l" t="t" r="r" b="b"/>
              <a:pathLst>
                <a:path w="906" h="249">
                  <a:moveTo>
                    <a:pt x="0" y="0"/>
                  </a:moveTo>
                  <a:lnTo>
                    <a:pt x="788" y="0"/>
                  </a:lnTo>
                  <a:lnTo>
                    <a:pt x="788" y="249"/>
                  </a:lnTo>
                  <a:lnTo>
                    <a:pt x="906" y="24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278680" y="4804920"/>
              <a:ext cx="100440" cy="86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032360" y="4244760"/>
              <a:ext cx="54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calc_val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579120" y="4573080"/>
              <a:ext cx="1749960" cy="351720"/>
            </a:xfrm>
            <a:custGeom>
              <a:avLst/>
              <a:gdLst/>
              <a:ahLst/>
              <a:rect l="l" t="t" r="r" b="b"/>
              <a:pathLst>
                <a:path w="906" h="210">
                  <a:moveTo>
                    <a:pt x="0" y="0"/>
                  </a:moveTo>
                  <a:lnTo>
                    <a:pt x="676" y="0"/>
                  </a:lnTo>
                  <a:lnTo>
                    <a:pt x="676" y="210"/>
                  </a:lnTo>
                  <a:lnTo>
                    <a:pt x="906" y="21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278680" y="4881960"/>
              <a:ext cx="100440" cy="86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55760" y="4584960"/>
              <a:ext cx="69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ax_limi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579120" y="4717800"/>
              <a:ext cx="1749960" cy="294840"/>
            </a:xfrm>
            <a:custGeom>
              <a:avLst/>
              <a:gdLst/>
              <a:ahLst/>
              <a:rect l="l" t="t" r="r" b="b"/>
              <a:pathLst>
                <a:path w="906" h="176">
                  <a:moveTo>
                    <a:pt x="0" y="0"/>
                  </a:moveTo>
                  <a:lnTo>
                    <a:pt x="118" y="0"/>
                  </a:lnTo>
                  <a:lnTo>
                    <a:pt x="118" y="176"/>
                  </a:lnTo>
                  <a:lnTo>
                    <a:pt x="906" y="17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278680" y="4969080"/>
              <a:ext cx="100440" cy="86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853440" y="4782960"/>
              <a:ext cx="66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in_limi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968200" y="4870080"/>
              <a:ext cx="2310120" cy="834840"/>
            </a:xfrm>
            <a:custGeom>
              <a:avLst/>
              <a:gdLst/>
              <a:ahLst/>
              <a:rect l="l" t="t" r="r" b="b"/>
              <a:pathLst>
                <a:path w="1196" h="498">
                  <a:moveTo>
                    <a:pt x="0" y="0"/>
                  </a:moveTo>
                  <a:lnTo>
                    <a:pt x="0" y="452"/>
                  </a:lnTo>
                  <a:lnTo>
                    <a:pt x="1196" y="452"/>
                  </a:lnTo>
                  <a:lnTo>
                    <a:pt x="1196" y="4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226480" y="5661360"/>
              <a:ext cx="102240" cy="871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814560" y="5418360"/>
              <a:ext cx="66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lim_meth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840" y="4870080"/>
              <a:ext cx="2308320" cy="834840"/>
            </a:xfrm>
            <a:custGeom>
              <a:avLst/>
              <a:gdLst/>
              <a:ahLst/>
              <a:rect l="l" t="t" r="r" b="b"/>
              <a:pathLst>
                <a:path w="1195" h="498">
                  <a:moveTo>
                    <a:pt x="0" y="0"/>
                  </a:moveTo>
                  <a:lnTo>
                    <a:pt x="0" y="295"/>
                  </a:lnTo>
                  <a:lnTo>
                    <a:pt x="1195" y="295"/>
                  </a:lnTo>
                  <a:lnTo>
                    <a:pt x="1195" y="49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531760" y="5661360"/>
              <a:ext cx="102240" cy="871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948840" y="516672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calc_val_meth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484400" y="4200840"/>
              <a:ext cx="888480" cy="461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prstDash val="sysDash"/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284320" y="4200840"/>
              <a:ext cx="1440" cy="461160"/>
            </a:xfrm>
            <a:prstGeom prst="line">
              <a:avLst/>
            </a:prstGeom>
            <a:ln w="11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590600" y="4266360"/>
              <a:ext cx="57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val_det_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534440" y="4430520"/>
              <a:ext cx="41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enum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928640" y="3663000"/>
              <a:ext cx="2160" cy="482760"/>
            </a:xfrm>
            <a:custGeom>
              <a:avLst/>
              <a:gdLst/>
              <a:ahLst/>
              <a:rect l="l" t="t" r="r" b="b"/>
              <a:pathLst>
                <a:path w="0" h="288">
                  <a:moveTo>
                    <a:pt x="0" y="0"/>
                  </a:moveTo>
                  <a:lnTo>
                    <a:pt x="0" y="144"/>
                  </a:lnTo>
                  <a:lnTo>
                    <a:pt x="0" y="144"/>
                  </a:lnTo>
                  <a:lnTo>
                    <a:pt x="0" y="28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878600" y="4102200"/>
              <a:ext cx="102240" cy="86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981200" y="3817440"/>
              <a:ext cx="50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val_det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761" name=""/>
          <p:cNvSpPr/>
          <p:nvPr/>
        </p:nvSpPr>
        <p:spPr>
          <a:xfrm>
            <a:off x="533520" y="5486400"/>
            <a:ext cx="1523880" cy="762120"/>
          </a:xfrm>
          <a:custGeom>
            <a:avLst/>
            <a:gdLst>
              <a:gd name="textAreaLeft" fmla="*/ 0 w 1523880"/>
              <a:gd name="textAreaRight" fmla="*/ 1524240 w 152388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2be9e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6 entitie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develop implementation model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763" name=""/>
          <p:cNvSpPr/>
          <p:nvPr/>
        </p:nvSpPr>
        <p:spPr>
          <a:xfrm>
            <a:off x="3048120" y="5715000"/>
            <a:ext cx="2438280" cy="609480"/>
          </a:xfrm>
          <a:prstGeom prst="wedgeRoundRectCallout">
            <a:avLst>
              <a:gd name="adj1" fmla="val 10939"/>
              <a:gd name="adj2" fmla="val -89583"/>
              <a:gd name="adj3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EXPRESS-oriented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(Part 28 ETEB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019920" y="1219320"/>
            <a:ext cx="2666880" cy="685800"/>
          </a:xfrm>
          <a:prstGeom prst="wedgeRoundRectCallout">
            <a:avLst>
              <a:gd name="adj1" fmla="val 3689"/>
              <a:gd name="adj2" fmla="val 94212"/>
              <a:gd name="adj3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Explicit representation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omic Sans MS"/>
              </a:rPr>
              <a:t>of EXPRESS construct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1285920" y="1371600"/>
            <a:ext cx="4632480" cy="3932640"/>
            <a:chOff x="1285920" y="1371600"/>
            <a:chExt cx="4632480" cy="3932640"/>
          </a:xfrm>
        </p:grpSpPr>
        <p:sp>
          <p:nvSpPr>
            <p:cNvPr id="1766" name=""/>
            <p:cNvSpPr/>
            <p:nvPr/>
          </p:nvSpPr>
          <p:spPr>
            <a:xfrm>
              <a:off x="2268360" y="2708280"/>
              <a:ext cx="1758960" cy="919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Develo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Logica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767" name=""/>
            <p:cNvGrpSpPr/>
            <p:nvPr/>
          </p:nvGrpSpPr>
          <p:grpSpPr>
            <a:xfrm>
              <a:off x="4027320" y="3233880"/>
              <a:ext cx="503280" cy="1247760"/>
              <a:chOff x="4027320" y="3233880"/>
              <a:chExt cx="503280" cy="1247760"/>
            </a:xfrm>
          </p:grpSpPr>
          <p:sp>
            <p:nvSpPr>
              <p:cNvPr id="1768" name=""/>
              <p:cNvSpPr/>
              <p:nvPr/>
            </p:nvSpPr>
            <p:spPr>
              <a:xfrm>
                <a:off x="4027320" y="3233880"/>
                <a:ext cx="251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278960" y="3233880"/>
                <a:ext cx="0" cy="124776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278960" y="4481640"/>
                <a:ext cx="251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71" name=""/>
            <p:cNvSpPr/>
            <p:nvPr/>
          </p:nvSpPr>
          <p:spPr>
            <a:xfrm>
              <a:off x="2646360" y="2119320"/>
              <a:ext cx="0" cy="588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758320" y="2009880"/>
              <a:ext cx="158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technology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consideration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443760" y="4041720"/>
              <a:ext cx="794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logica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1285920" y="3139920"/>
              <a:ext cx="963720" cy="12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775" name=""/>
            <p:cNvGrpSpPr/>
            <p:nvPr/>
          </p:nvGrpSpPr>
          <p:grpSpPr>
            <a:xfrm>
              <a:off x="1857960" y="4448160"/>
              <a:ext cx="1770120" cy="856080"/>
              <a:chOff x="1857960" y="4448160"/>
              <a:chExt cx="1770120" cy="856080"/>
            </a:xfrm>
          </p:grpSpPr>
          <p:sp>
            <p:nvSpPr>
              <p:cNvPr id="1776" name=""/>
              <p:cNvSpPr/>
              <p:nvPr/>
            </p:nvSpPr>
            <p:spPr>
              <a:xfrm>
                <a:off x="1857960" y="4905360"/>
                <a:ext cx="1770120" cy="39888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99"/>
                    </a:solidFill>
                    <a:latin typeface="Comic Sans MS"/>
                  </a:rPr>
                  <a:t>AP219 L-ARM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V="1">
                <a:off x="3124080" y="4448160"/>
                <a:ext cx="304920" cy="45720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778" name=""/>
            <p:cNvGrpSpPr/>
            <p:nvPr/>
          </p:nvGrpSpPr>
          <p:grpSpPr>
            <a:xfrm>
              <a:off x="3743280" y="1371600"/>
              <a:ext cx="1887480" cy="866880"/>
              <a:chOff x="3743280" y="1371600"/>
              <a:chExt cx="1887480" cy="866880"/>
            </a:xfrm>
          </p:grpSpPr>
          <p:sp>
            <p:nvSpPr>
              <p:cNvPr id="1779" name=""/>
              <p:cNvSpPr/>
              <p:nvPr/>
            </p:nvSpPr>
            <p:spPr>
              <a:xfrm>
                <a:off x="3743280" y="1371600"/>
                <a:ext cx="1887480" cy="39888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99"/>
                    </a:solidFill>
                    <a:latin typeface="Comic Sans MS"/>
                  </a:rPr>
                  <a:t>Info exchange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V="1">
                <a:off x="3886560" y="1781280"/>
                <a:ext cx="304560" cy="45720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81" name=""/>
            <p:cNvSpPr/>
            <p:nvPr/>
          </p:nvSpPr>
          <p:spPr>
            <a:xfrm>
              <a:off x="1652760" y="3838680"/>
              <a:ext cx="9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EXPRE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2743200" y="3609720"/>
              <a:ext cx="0" cy="6858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038480" y="2971800"/>
              <a:ext cx="91440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383000" y="2514600"/>
              <a:ext cx="153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ARM to L-AR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mapping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590400" y="1828800"/>
            <a:ext cx="8080560" cy="4056480"/>
            <a:chOff x="590400" y="1828800"/>
            <a:chExt cx="8080560" cy="4056480"/>
          </a:xfrm>
        </p:grpSpPr>
        <p:grpSp>
          <p:nvGrpSpPr>
            <p:cNvPr id="1786" name=""/>
            <p:cNvGrpSpPr/>
            <p:nvPr/>
          </p:nvGrpSpPr>
          <p:grpSpPr>
            <a:xfrm>
              <a:off x="590400" y="1828800"/>
              <a:ext cx="8080560" cy="4056480"/>
              <a:chOff x="590400" y="1828800"/>
              <a:chExt cx="8080560" cy="4056480"/>
            </a:xfrm>
          </p:grpSpPr>
          <p:grpSp>
            <p:nvGrpSpPr>
              <p:cNvPr id="1787" name=""/>
              <p:cNvGrpSpPr/>
              <p:nvPr/>
            </p:nvGrpSpPr>
            <p:grpSpPr>
              <a:xfrm>
                <a:off x="3854520" y="2209680"/>
                <a:ext cx="4816440" cy="3675600"/>
                <a:chOff x="3854520" y="2209680"/>
                <a:chExt cx="4816440" cy="3675600"/>
              </a:xfrm>
            </p:grpSpPr>
            <p:grpSp>
              <p:nvGrpSpPr>
                <p:cNvPr id="1788" name=""/>
                <p:cNvGrpSpPr/>
                <p:nvPr/>
              </p:nvGrpSpPr>
              <p:grpSpPr>
                <a:xfrm>
                  <a:off x="4495680" y="2209680"/>
                  <a:ext cx="4175280" cy="3675600"/>
                  <a:chOff x="4495680" y="2209680"/>
                  <a:chExt cx="4175280" cy="3675600"/>
                </a:xfrm>
              </p:grpSpPr>
              <p:sp>
                <p:nvSpPr>
                  <p:cNvPr id="1789" name=""/>
                  <p:cNvSpPr/>
                  <p:nvPr/>
                </p:nvSpPr>
                <p:spPr>
                  <a:xfrm flipV="1">
                    <a:off x="6400800" y="2895480"/>
                    <a:ext cx="304920" cy="380880"/>
                  </a:xfrm>
                  <a:prstGeom prst="line">
                    <a:avLst/>
                  </a:prstGeom>
                  <a:ln w="9360">
                    <a:solidFill>
                      <a:srgbClr val="33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>
                    <a:off x="4495680" y="4020840"/>
                    <a:ext cx="1758960" cy="919440"/>
                  </a:xfrm>
                  <a:prstGeom prst="rect">
                    <a:avLst/>
                  </a:prstGeom>
                  <a:solidFill>
                    <a:srgbClr val="f2be9e"/>
                  </a:solidFill>
                  <a:ln w="9360">
                    <a:solidFill>
                      <a:srgbClr val="009999"/>
                    </a:solidFill>
                    <a:miter/>
                  </a:ln>
                  <a:effectLst>
                    <a:outerShdw dist="71785" dir="2700000" blurRad="0" rotWithShape="0">
                      <a:srgbClr val="3366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9999"/>
                        </a:solidFill>
                        <a:latin typeface="Comic Sans MS"/>
                      </a:rPr>
                      <a:t>Develop</a:t>
                    </a:r>
                    <a:endParaRPr b="0" lang="en-US" sz="18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9999"/>
                        </a:solidFill>
                        <a:latin typeface="Comic Sans MS"/>
                      </a:rPr>
                      <a:t>Implementation</a:t>
                    </a:r>
                    <a:endParaRPr b="0" lang="en-US" sz="18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9999"/>
                        </a:solidFill>
                        <a:latin typeface="Comic Sans MS"/>
                      </a:rPr>
                      <a:t>Model</a:t>
                    </a:r>
                    <a:endParaRPr b="0" lang="en-US" sz="18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>
                    <a:off x="4902120" y="3449520"/>
                    <a:ext cx="0" cy="590400"/>
                  </a:xfrm>
                  <a:prstGeom prst="line">
                    <a:avLst/>
                  </a:prstGeom>
                  <a:ln w="28440">
                    <a:solidFill>
                      <a:srgbClr val="0099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>
                    <a:off x="4985640" y="3276360"/>
                    <a:ext cx="17002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9999"/>
                        </a:solidFill>
                        <a:latin typeface="Comic Sans MS"/>
                      </a:rPr>
                      <a:t>implementation</a:t>
                    </a:r>
                    <a:endParaRPr b="0" lang="en-US" sz="1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9999"/>
                        </a:solidFill>
                        <a:latin typeface="Comic Sans MS"/>
                      </a:rPr>
                      <a:t>considerations</a:t>
                    </a:r>
                    <a:endParaRPr b="0" lang="en-US" sz="1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"/>
                  <p:cNvSpPr/>
                  <p:nvPr/>
                </p:nvSpPr>
                <p:spPr>
                  <a:xfrm>
                    <a:off x="6315480" y="4676760"/>
                    <a:ext cx="23554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9999"/>
                        </a:solidFill>
                        <a:latin typeface="Comic Sans MS"/>
                      </a:rPr>
                      <a:t>implementation model</a:t>
                    </a:r>
                    <a:endParaRPr b="0" lang="en-US" sz="16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>
                    <a:off x="6289560" y="4524120"/>
                    <a:ext cx="1676520" cy="0"/>
                  </a:xfrm>
                  <a:prstGeom prst="line">
                    <a:avLst/>
                  </a:prstGeom>
                  <a:ln w="28440">
                    <a:solidFill>
                      <a:srgbClr val="0099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>
                    <a:off x="6060960" y="5486400"/>
                    <a:ext cx="1273320" cy="398880"/>
                  </a:xfrm>
                  <a:prstGeom prst="rect">
                    <a:avLst/>
                  </a:prstGeom>
                  <a:solidFill>
                    <a:srgbClr val="f8f8f8"/>
                  </a:solidFill>
                  <a:ln w="9360">
                    <a:solidFill>
                      <a:srgbClr val="33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336699"/>
                        </a:solidFill>
                        <a:latin typeface="Comic Sans MS"/>
                      </a:rPr>
                      <a:t>XML DTD</a:t>
                    </a:r>
                    <a:endParaRPr b="0" lang="en-US" sz="20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 flipV="1">
                    <a:off x="6683400" y="5057640"/>
                    <a:ext cx="304920" cy="441360"/>
                  </a:xfrm>
                  <a:prstGeom prst="line">
                    <a:avLst/>
                  </a:prstGeom>
                  <a:ln w="9360">
                    <a:solidFill>
                      <a:srgbClr val="33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6315120" y="2209680"/>
                    <a:ext cx="1206360" cy="703800"/>
                  </a:xfrm>
                  <a:prstGeom prst="rect">
                    <a:avLst/>
                  </a:prstGeom>
                  <a:solidFill>
                    <a:srgbClr val="f8f8f8"/>
                  </a:solidFill>
                  <a:ln w="9360">
                    <a:solidFill>
                      <a:srgbClr val="33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336699"/>
                        </a:solidFill>
                        <a:latin typeface="Comic Sans MS"/>
                      </a:rPr>
                      <a:t>EXPRESS</a:t>
                    </a:r>
                    <a:endParaRPr b="0" lang="en-US" sz="20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336699"/>
                        </a:solidFill>
                        <a:latin typeface="Comic Sans MS"/>
                      </a:rPr>
                      <a:t>to XML</a:t>
                    </a:r>
                    <a:endParaRPr b="0" lang="en-US" sz="20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 flipV="1">
                    <a:off x="4952880" y="4952520"/>
                    <a:ext cx="0" cy="685800"/>
                  </a:xfrm>
                  <a:prstGeom prst="line">
                    <a:avLst/>
                  </a:prstGeom>
                  <a:ln w="38160">
                    <a:solidFill>
                      <a:srgbClr val="0099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9" name=""/>
                <p:cNvSpPr/>
                <p:nvPr/>
              </p:nvSpPr>
              <p:spPr>
                <a:xfrm>
                  <a:off x="3854520" y="5181480"/>
                  <a:ext cx="1023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Comic Sans MS"/>
                    </a:rPr>
                    <a:t>      </a:t>
                  </a:r>
                  <a:r>
                    <a:rPr b="0" lang="en-US" sz="1600" spc="-1" strike="noStrike">
                      <a:solidFill>
                        <a:srgbClr val="009999"/>
                      </a:solidFill>
                      <a:latin typeface="Comic Sans MS"/>
                    </a:rPr>
                    <a:t>EXML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0" name=""/>
              <p:cNvGrpSpPr/>
              <p:nvPr/>
            </p:nvGrpSpPr>
            <p:grpSpPr>
              <a:xfrm>
                <a:off x="590400" y="1828800"/>
                <a:ext cx="3905280" cy="2895480"/>
                <a:chOff x="590400" y="1828800"/>
                <a:chExt cx="3905280" cy="2895480"/>
              </a:xfrm>
            </p:grpSpPr>
            <p:sp>
              <p:nvSpPr>
                <p:cNvPr id="1801" name=""/>
                <p:cNvSpPr/>
                <p:nvPr/>
              </p:nvSpPr>
              <p:spPr>
                <a:xfrm>
                  <a:off x="590400" y="2543040"/>
                  <a:ext cx="12261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Comic Sans MS"/>
                    </a:rPr>
                    <a:t>conceptual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Comic Sans MS"/>
                    </a:rPr>
                    <a:t>model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700200" y="1828800"/>
                  <a:ext cx="1553760" cy="398880"/>
                </a:xfrm>
                <a:prstGeom prst="rect">
                  <a:avLst/>
                </a:prstGeom>
                <a:solidFill>
                  <a:srgbClr val="f8f8f8"/>
                </a:solidFill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6699"/>
                      </a:solidFill>
                      <a:latin typeface="Comic Sans MS"/>
                    </a:rPr>
                    <a:t>AP219 ARM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flipV="1">
                  <a:off x="1295280" y="2285640"/>
                  <a:ext cx="204840" cy="27612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4" name=""/>
                <p:cNvGrpSpPr/>
                <p:nvPr/>
              </p:nvGrpSpPr>
              <p:grpSpPr>
                <a:xfrm>
                  <a:off x="1295280" y="3151080"/>
                  <a:ext cx="3200400" cy="1573200"/>
                  <a:chOff x="1295280" y="3151080"/>
                  <a:chExt cx="3200400" cy="1573200"/>
                </a:xfrm>
              </p:grpSpPr>
              <p:sp>
                <p:nvSpPr>
                  <p:cNvPr id="1805" name=""/>
                  <p:cNvSpPr/>
                  <p:nvPr/>
                </p:nvSpPr>
                <p:spPr>
                  <a:xfrm>
                    <a:off x="1295280" y="4724280"/>
                    <a:ext cx="3200400" cy="0"/>
                  </a:xfrm>
                  <a:prstGeom prst="line">
                    <a:avLst/>
                  </a:prstGeom>
                  <a:ln w="28440">
                    <a:solidFill>
                      <a:srgbClr val="0099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 flipV="1">
                    <a:off x="1295280" y="3151080"/>
                    <a:ext cx="0" cy="1573200"/>
                  </a:xfrm>
                  <a:prstGeom prst="line">
                    <a:avLst/>
                  </a:prstGeom>
                  <a:ln w="2844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807" name=""/>
            <p:cNvSpPr/>
            <p:nvPr/>
          </p:nvSpPr>
          <p:spPr>
            <a:xfrm flipH="1">
              <a:off x="590400" y="3152880"/>
              <a:ext cx="70488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 ARM/L-ARM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DTDs from EXPRESS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809" name=""/>
          <p:cNvGrpSpPr/>
          <p:nvPr/>
        </p:nvGrpSpPr>
        <p:grpSpPr>
          <a:xfrm>
            <a:off x="533520" y="1371600"/>
            <a:ext cx="8229600" cy="2286000"/>
            <a:chOff x="533520" y="1371600"/>
            <a:chExt cx="8229600" cy="2286000"/>
          </a:xfrm>
        </p:grpSpPr>
        <p:sp>
          <p:nvSpPr>
            <p:cNvPr id="1810" name=""/>
            <p:cNvSpPr/>
            <p:nvPr/>
          </p:nvSpPr>
          <p:spPr>
            <a:xfrm>
              <a:off x="533520" y="1371600"/>
              <a:ext cx="8229600" cy="22860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990720" y="2819520"/>
              <a:ext cx="205740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AP219 AR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248520" y="2819520"/>
              <a:ext cx="205740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AP219 DTD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581280" y="1600200"/>
              <a:ext cx="2057400" cy="838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Part 28 ETEB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(EXML)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H="1">
              <a:off x="4191120" y="2438280"/>
              <a:ext cx="380880" cy="762120"/>
            </a:xfrm>
            <a:prstGeom prst="line">
              <a:avLst/>
            </a:prstGeom>
            <a:ln w="3816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048120" y="3200400"/>
              <a:ext cx="32004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091520" y="1646280"/>
              <a:ext cx="87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STE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533520" y="2514600"/>
            <a:ext cx="8229600" cy="3429000"/>
            <a:chOff x="533520" y="2514600"/>
            <a:chExt cx="8229600" cy="3429000"/>
          </a:xfrm>
        </p:grpSpPr>
        <p:grpSp>
          <p:nvGrpSpPr>
            <p:cNvPr id="1818" name=""/>
            <p:cNvGrpSpPr/>
            <p:nvPr/>
          </p:nvGrpSpPr>
          <p:grpSpPr>
            <a:xfrm>
              <a:off x="533520" y="3505320"/>
              <a:ext cx="8229600" cy="2438280"/>
              <a:chOff x="533520" y="3505320"/>
              <a:chExt cx="8229600" cy="2438280"/>
            </a:xfrm>
          </p:grpSpPr>
          <p:sp>
            <p:nvSpPr>
              <p:cNvPr id="1819" name=""/>
              <p:cNvSpPr/>
              <p:nvPr/>
            </p:nvSpPr>
            <p:spPr>
              <a:xfrm>
                <a:off x="533520" y="3657600"/>
                <a:ext cx="8229600" cy="2286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99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990720" y="5029200"/>
                <a:ext cx="20574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99"/>
                    </a:solidFill>
                    <a:latin typeface="Comic Sans MS"/>
                  </a:rPr>
                  <a:t>AP219 L-AR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219320" y="4038480"/>
                <a:ext cx="1676160" cy="457200"/>
              </a:xfrm>
              <a:prstGeom prst="rect">
                <a:avLst/>
              </a:prstGeom>
              <a:solidFill>
                <a:srgbClr val="f2be9e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99"/>
                    </a:solidFill>
                    <a:latin typeface="Comic Sans MS"/>
                  </a:rPr>
                  <a:t>mapping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057400" y="3505320"/>
                <a:ext cx="0" cy="5331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057400" y="4495680"/>
                <a:ext cx="0" cy="5335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6248520" y="5029200"/>
                <a:ext cx="20574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99"/>
                    </a:solidFill>
                    <a:latin typeface="Comic Sans MS"/>
                  </a:rPr>
                  <a:t>AP219 L-DTD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124080" y="5334120"/>
                <a:ext cx="31244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483360" y="4114800"/>
                <a:ext cx="1585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6699"/>
                    </a:solidFill>
                    <a:latin typeface="Comic Sans MS"/>
                  </a:rPr>
                  <a:t>AP219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6699"/>
                    </a:solidFill>
                    <a:latin typeface="Comic Sans MS"/>
                  </a:rPr>
                  <a:t>validation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827" name=""/>
            <p:cNvSpPr/>
            <p:nvPr/>
          </p:nvSpPr>
          <p:spPr>
            <a:xfrm>
              <a:off x="4572000" y="2514600"/>
              <a:ext cx="990720" cy="2819520"/>
            </a:xfrm>
            <a:prstGeom prst="line">
              <a:avLst/>
            </a:prstGeom>
            <a:ln w="3816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828" name=""/>
          <p:cNvSpPr/>
          <p:nvPr/>
        </p:nvSpPr>
        <p:spPr>
          <a:xfrm>
            <a:off x="6705720" y="1828800"/>
            <a:ext cx="1600200" cy="533520"/>
          </a:xfrm>
          <a:prstGeom prst="wedgeRoundRectCallout">
            <a:avLst>
              <a:gd name="adj1" fmla="val -45736"/>
              <a:gd name="adj2" fmla="val 131250"/>
              <a:gd name="adj3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6 pag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6705720" y="4038480"/>
            <a:ext cx="1600200" cy="533520"/>
          </a:xfrm>
          <a:prstGeom prst="wedgeRoundRectCallout">
            <a:avLst>
              <a:gd name="adj1" fmla="val -45337"/>
              <a:gd name="adj2" fmla="val 131250"/>
              <a:gd name="adj3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  <a:effectLst>
            <a:outerShdw dist="71785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2 pag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Web Analysis XML DTD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831" name=""/>
          <p:cNvGrpSpPr/>
          <p:nvPr/>
        </p:nvGrpSpPr>
        <p:grpSpPr>
          <a:xfrm>
            <a:off x="914040" y="1857240"/>
            <a:ext cx="7849080" cy="4162680"/>
            <a:chOff x="914040" y="1857240"/>
            <a:chExt cx="7849080" cy="4162680"/>
          </a:xfrm>
        </p:grpSpPr>
        <p:sp>
          <p:nvSpPr>
            <p:cNvPr id="1832" name=""/>
            <p:cNvSpPr/>
            <p:nvPr/>
          </p:nvSpPr>
          <p:spPr>
            <a:xfrm>
              <a:off x="1576800" y="3686040"/>
              <a:ext cx="9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EXPRE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192400" y="2556000"/>
              <a:ext cx="1758960" cy="919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Develo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Logica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834" name=""/>
            <p:cNvGrpSpPr/>
            <p:nvPr/>
          </p:nvGrpSpPr>
          <p:grpSpPr>
            <a:xfrm>
              <a:off x="3951360" y="2819520"/>
              <a:ext cx="503280" cy="1509120"/>
              <a:chOff x="3951360" y="2819520"/>
              <a:chExt cx="503280" cy="1509120"/>
            </a:xfrm>
          </p:grpSpPr>
          <p:sp>
            <p:nvSpPr>
              <p:cNvPr id="1835" name=""/>
              <p:cNvSpPr/>
              <p:nvPr/>
            </p:nvSpPr>
            <p:spPr>
              <a:xfrm>
                <a:off x="3951360" y="2819520"/>
                <a:ext cx="251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203000" y="2819520"/>
                <a:ext cx="0" cy="1509120"/>
              </a:xfrm>
              <a:prstGeom prst="line">
                <a:avLst/>
              </a:prstGeom>
              <a:ln w="28440">
                <a:solidFill>
                  <a:srgbClr val="0099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203000" y="4328640"/>
                <a:ext cx="251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838" name=""/>
            <p:cNvSpPr/>
            <p:nvPr/>
          </p:nvSpPr>
          <p:spPr>
            <a:xfrm>
              <a:off x="2570040" y="1967040"/>
              <a:ext cx="0" cy="588960"/>
            </a:xfrm>
            <a:prstGeom prst="line">
              <a:avLst/>
            </a:prstGeom>
            <a:ln w="2844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682360" y="1857240"/>
              <a:ext cx="158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harmoniz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consideration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258080" y="2819520"/>
              <a:ext cx="794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logica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039000" y="2819520"/>
              <a:ext cx="947160" cy="3988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L-DML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029200" y="3048120"/>
              <a:ext cx="99072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2666880" y="3457080"/>
              <a:ext cx="0" cy="685800"/>
            </a:xfrm>
            <a:prstGeom prst="line">
              <a:avLst/>
            </a:prstGeom>
            <a:ln w="3816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H="1">
              <a:off x="914040" y="6019920"/>
              <a:ext cx="5638680" cy="0"/>
            </a:xfrm>
            <a:prstGeom prst="line">
              <a:avLst/>
            </a:prstGeom>
            <a:ln w="2844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914400" y="3047760"/>
              <a:ext cx="0" cy="2971800"/>
            </a:xfrm>
            <a:prstGeom prst="line">
              <a:avLst/>
            </a:prstGeom>
            <a:ln w="2844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914400" y="3048120"/>
              <a:ext cx="1219320" cy="0"/>
            </a:xfrm>
            <a:prstGeom prst="line">
              <a:avLst/>
            </a:prstGeom>
            <a:ln w="2844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305360" y="5638680"/>
              <a:ext cx="235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implementation 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391520" y="2057400"/>
              <a:ext cx="1371600" cy="685800"/>
            </a:xfrm>
            <a:prstGeom prst="wedgeRoundRectCallout">
              <a:avLst>
                <a:gd name="adj1" fmla="val -77083"/>
                <a:gd name="adj2" fmla="val 91898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Comic Sans MS"/>
                </a:rPr>
                <a:t>reverse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Comic Sans MS"/>
                </a:rPr>
                <a:t>engineer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553080" y="4724280"/>
              <a:ext cx="0" cy="1295640"/>
            </a:xfrm>
            <a:prstGeom prst="line">
              <a:avLst/>
            </a:prstGeom>
            <a:ln w="28440">
              <a:solidFill>
                <a:srgbClr val="0099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2062080" y="3409920"/>
            <a:ext cx="6472440" cy="2627640"/>
            <a:chOff x="2062080" y="3409920"/>
            <a:chExt cx="6472440" cy="2627640"/>
          </a:xfrm>
        </p:grpSpPr>
        <p:sp>
          <p:nvSpPr>
            <p:cNvPr id="1851" name=""/>
            <p:cNvSpPr/>
            <p:nvPr/>
          </p:nvSpPr>
          <p:spPr>
            <a:xfrm>
              <a:off x="4495680" y="4173480"/>
              <a:ext cx="1758960" cy="919080"/>
            </a:xfrm>
            <a:prstGeom prst="rect">
              <a:avLst/>
            </a:prstGeom>
            <a:solidFill>
              <a:srgbClr val="f2be9e"/>
            </a:solidFill>
            <a:ln w="9360">
              <a:solidFill>
                <a:srgbClr val="009999"/>
              </a:solidFill>
              <a:miter/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Develo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Implementation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871880" y="3583080"/>
              <a:ext cx="0" cy="5904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955400" y="3409920"/>
              <a:ext cx="1700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implement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consideration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814440" y="4800600"/>
              <a:ext cx="1700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implement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289560" y="4676760"/>
              <a:ext cx="16765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975360" y="5638680"/>
              <a:ext cx="1273320" cy="3988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XML DTD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 flipV="1">
              <a:off x="7086600" y="5334120"/>
              <a:ext cx="380880" cy="3045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V="1">
              <a:off x="4952880" y="5105160"/>
              <a:ext cx="0" cy="6858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819520" y="4648320"/>
              <a:ext cx="167616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062080" y="4267080"/>
              <a:ext cx="219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project requirement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433760" y="5334120"/>
              <a:ext cx="78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XML</a:t>
              </a:r>
              <a:r>
                <a:rPr b="1" lang="en-US" sz="2000" spc="-1" strike="noStrike">
                  <a:solidFill>
                    <a:srgbClr val="009999"/>
                  </a:solidFill>
                  <a:latin typeface="Comic Sans MS"/>
                </a:rPr>
                <a:t>   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862" name=""/>
            <p:cNvGrpSpPr/>
            <p:nvPr/>
          </p:nvGrpSpPr>
          <p:grpSpPr>
            <a:xfrm>
              <a:off x="7315200" y="3809880"/>
              <a:ext cx="1219320" cy="761760"/>
              <a:chOff x="7315200" y="3809880"/>
              <a:chExt cx="1219320" cy="761760"/>
            </a:xfrm>
          </p:grpSpPr>
          <p:sp>
            <p:nvSpPr>
              <p:cNvPr id="1863" name=""/>
              <p:cNvSpPr/>
              <p:nvPr/>
            </p:nvSpPr>
            <p:spPr>
              <a:xfrm>
                <a:off x="7620120" y="38098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99"/>
                    </a:solidFill>
                    <a:latin typeface="Comic Sans MS"/>
                  </a:rPr>
                  <a:t>DML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V="1">
                <a:off x="7315200" y="4266720"/>
                <a:ext cx="304920" cy="30492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5" name=""/>
          <p:cNvGrpSpPr/>
          <p:nvPr/>
        </p:nvGrpSpPr>
        <p:grpSpPr>
          <a:xfrm>
            <a:off x="4191120" y="1828800"/>
            <a:ext cx="2446560" cy="990720"/>
            <a:chOff x="4191120" y="1828800"/>
            <a:chExt cx="2446560" cy="990720"/>
          </a:xfrm>
        </p:grpSpPr>
        <p:sp>
          <p:nvSpPr>
            <p:cNvPr id="1866" name=""/>
            <p:cNvSpPr/>
            <p:nvPr/>
          </p:nvSpPr>
          <p:spPr>
            <a:xfrm>
              <a:off x="4579560" y="1828800"/>
              <a:ext cx="205812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AP219 info req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4724280" y="2238480"/>
              <a:ext cx="304920" cy="4572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191120" y="2819520"/>
              <a:ext cx="1218960" cy="0"/>
            </a:xfrm>
            <a:prstGeom prst="line">
              <a:avLst/>
            </a:prstGeom>
            <a:ln w="2844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869" name=""/>
          <p:cNvSpPr/>
          <p:nvPr/>
        </p:nvSpPr>
        <p:spPr>
          <a:xfrm>
            <a:off x="1295280" y="1143000"/>
            <a:ext cx="1371600" cy="685800"/>
          </a:xfrm>
          <a:prstGeom prst="wedgeRoundRectCallout">
            <a:avLst>
              <a:gd name="adj1" fmla="val 91319"/>
              <a:gd name="adj2" fmla="val 63194"/>
              <a:gd name="adj3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AP219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L-ARM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Harmonization between AP219 and Web Analysis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. harmonize early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evelop L-DML (reverse eng) – joint effort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harmonize L-DML and AP219 L-ARM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include additional info reqs in AP219 ARM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choose DTD specification algorythm (may be different)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I. perhaps harmonize later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evelop in parallel with liaison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evelop L-DML (reverse eng) – AP219 led effort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use L-DML as information requirements for AP219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validate info reqs with AP219 L-ARM and Part28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choose to harmonize/replace DML later – Web Analysis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 Planned Efforts: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Web Analysis harmonization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reverse engineer info reqs from XML DTDs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66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ARM validation – </a:t>
            </a: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L-ARM develop/harmonize/implement</a:t>
            </a:r>
            <a:endParaRPr b="0" lang="en-US" sz="20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Uncertainty requirements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ISO </a:t>
            </a:r>
            <a:r>
              <a:rPr b="0" lang="en-US" sz="2000" spc="-1" strike="noStrike">
                <a:solidFill>
                  <a:srgbClr val="336699"/>
                </a:solidFill>
                <a:latin typeface="Comic Sans MS"/>
                <a:ea typeface="Times New Roman"/>
              </a:rPr>
              <a:t>14253-1 (Decision Rules for Proving Conformance or Non-conformance with Specifications)</a:t>
            </a: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DMIS harmonization – </a:t>
            </a: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program, tolerances, results</a:t>
            </a:r>
            <a:endParaRPr b="0" lang="en-US" sz="20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Document information requirements - </a:t>
            </a: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AP219ARM</a:t>
            </a:r>
            <a:endParaRPr b="0" lang="en-US" sz="2000" spc="-1" strike="noStrike">
              <a:solidFill>
                <a:srgbClr val="0099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WG3 N# document for review Fall 2001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6699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WG3/T24 – STEP Manufacturing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coordination &amp; harmonization with STEP NC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 High Level Activity Model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71800" y="1503360"/>
            <a:ext cx="8564040" cy="4211640"/>
            <a:chOff x="271800" y="1503360"/>
            <a:chExt cx="8564040" cy="4211640"/>
          </a:xfrm>
        </p:grpSpPr>
        <p:grpSp>
          <p:nvGrpSpPr>
            <p:cNvPr id="119" name=""/>
            <p:cNvGrpSpPr/>
            <p:nvPr/>
          </p:nvGrpSpPr>
          <p:grpSpPr>
            <a:xfrm>
              <a:off x="271800" y="1503360"/>
              <a:ext cx="8564040" cy="4211640"/>
              <a:chOff x="271800" y="1503360"/>
              <a:chExt cx="8564040" cy="4211640"/>
            </a:xfrm>
          </p:grpSpPr>
          <p:sp>
            <p:nvSpPr>
              <p:cNvPr id="120" name=""/>
              <p:cNvSpPr/>
              <p:nvPr/>
            </p:nvSpPr>
            <p:spPr>
              <a:xfrm>
                <a:off x="3352680" y="4267080"/>
                <a:ext cx="3812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352680" y="3276360"/>
                <a:ext cx="0" cy="99036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3048120" y="3276720"/>
                <a:ext cx="30456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55000" y="3886200"/>
                <a:ext cx="152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m meas prog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638680" y="5257800"/>
                <a:ext cx="4572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5638680" y="4114440"/>
                <a:ext cx="0" cy="11430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5257800" y="4114800"/>
                <a:ext cx="38088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640120" y="4038480"/>
                <a:ext cx="7797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m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mea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result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095880" y="4800600"/>
                <a:ext cx="1524240" cy="9144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07932" dir="2700000" blurRad="0" rotWithShape="0">
                  <a:srgbClr val="01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9999"/>
                    </a:solidFill>
                    <a:latin typeface="Arial"/>
                  </a:rPr>
                  <a:t>Analyze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733920" y="3733920"/>
                <a:ext cx="1523880" cy="9144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07932" dir="2700000" blurRad="0" rotWithShape="0">
                  <a:srgbClr val="01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9999"/>
                    </a:solidFill>
                    <a:latin typeface="Arial"/>
                  </a:rPr>
                  <a:t>Execute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23880" y="2666880"/>
                <a:ext cx="1524240" cy="9144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07932" dir="2700000" blurRad="0" rotWithShape="0">
                  <a:srgbClr val="01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9999"/>
                    </a:solidFill>
                    <a:latin typeface="Arial"/>
                  </a:rPr>
                  <a:t>Plan</a:t>
                </a:r>
                <a:endParaRPr b="0" lang="en-US" sz="20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48120" y="2819520"/>
                <a:ext cx="236196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02560" y="2438280"/>
                <a:ext cx="223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m meas prog archive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048120" y="2971800"/>
                <a:ext cx="403848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86600" y="2971800"/>
                <a:ext cx="0" cy="182880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88400" y="3124080"/>
                <a:ext cx="6775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m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mea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prog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ident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4520" y="3103560"/>
                <a:ext cx="9144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24800" y="5237280"/>
                <a:ext cx="9144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14720" y="1808280"/>
                <a:ext cx="0" cy="838080"/>
              </a:xfrm>
              <a:prstGeom prst="line">
                <a:avLst/>
              </a:prstGeom>
              <a:ln w="9360">
                <a:solidFill>
                  <a:srgbClr val="009999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774200" y="4419720"/>
                <a:ext cx="10616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m mea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analysi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result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92840" y="1503360"/>
                <a:ext cx="14670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esign and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manufacturing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information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71800" y="2575080"/>
                <a:ext cx="118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part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information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48120" y="3124080"/>
                <a:ext cx="38862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934320" y="3124080"/>
                <a:ext cx="0" cy="167652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36760" y="3124080"/>
                <a:ext cx="9136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m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mea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feature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&amp; tols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95680" y="3124080"/>
                <a:ext cx="0" cy="60984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066320" y="3276360"/>
              <a:ext cx="4420080" cy="2361960"/>
              <a:chOff x="1066320" y="3276360"/>
              <a:chExt cx="4420080" cy="236196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1066320" y="3276360"/>
                <a:ext cx="4420080" cy="2166120"/>
                <a:chOff x="1066320" y="3276360"/>
                <a:chExt cx="4420080" cy="21661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257800" y="44193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486400" y="4419360"/>
                  <a:ext cx="0" cy="6091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1066320" y="5028840"/>
                  <a:ext cx="441972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1066680" y="3276360"/>
                  <a:ext cx="0" cy="17521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066680" y="32767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288880" y="5105160"/>
                  <a:ext cx="2404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336699"/>
                      </a:solidFill>
                      <a:latin typeface="Arial"/>
                    </a:rPr>
                    <a:t>dim meas prog feedback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905120" y="518148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 Usage Scenario Activity Model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71800" y="1503360"/>
            <a:ext cx="8588880" cy="4211640"/>
            <a:chOff x="271800" y="1503360"/>
            <a:chExt cx="8588880" cy="4211640"/>
          </a:xfrm>
        </p:grpSpPr>
        <p:sp>
          <p:nvSpPr>
            <p:cNvPr id="157" name=""/>
            <p:cNvSpPr/>
            <p:nvPr/>
          </p:nvSpPr>
          <p:spPr>
            <a:xfrm>
              <a:off x="3352680" y="4267080"/>
              <a:ext cx="3812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352680" y="3276360"/>
              <a:ext cx="0" cy="9903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048120" y="3276720"/>
              <a:ext cx="3045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5000" y="3886200"/>
              <a:ext cx="152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im meas prog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1066320" y="3276360"/>
              <a:ext cx="4420080" cy="2361960"/>
              <a:chOff x="1066320" y="3276360"/>
              <a:chExt cx="4420080" cy="23619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1066320" y="3276360"/>
                <a:ext cx="4420080" cy="2166120"/>
                <a:chOff x="1066320" y="3276360"/>
                <a:chExt cx="4420080" cy="21661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257800" y="44193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486400" y="4419360"/>
                  <a:ext cx="0" cy="6091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1066320" y="5028840"/>
                  <a:ext cx="441972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1066680" y="3276360"/>
                  <a:ext cx="0" cy="17521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066680" y="32767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288160" y="5105160"/>
                  <a:ext cx="2347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9999"/>
                      </a:solidFill>
                      <a:latin typeface="Arial"/>
                    </a:rPr>
                    <a:t>modified dim meas prog</a:t>
                  </a:r>
                  <a:endParaRPr b="0" lang="en-US" sz="16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1905120" y="518148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638680" y="5257800"/>
              <a:ext cx="4572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638680" y="4114440"/>
              <a:ext cx="0" cy="11430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257800" y="4114800"/>
              <a:ext cx="3808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40480" y="4038480"/>
              <a:ext cx="677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95880" y="4800600"/>
              <a:ext cx="1524240" cy="914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01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Analyze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33920" y="3733920"/>
              <a:ext cx="1523880" cy="914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01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Execute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/ Modif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23880" y="2666880"/>
              <a:ext cx="1524240" cy="914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01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"/>
                </a:rPr>
                <a:t>Plan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2819520"/>
              <a:ext cx="23619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2560" y="2438280"/>
              <a:ext cx="22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im meas prog archiv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48120" y="2971800"/>
              <a:ext cx="40384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86600" y="2971800"/>
              <a:ext cx="0" cy="18288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6600" y="3124080"/>
              <a:ext cx="1311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4520" y="3103560"/>
              <a:ext cx="914400" cy="0"/>
            </a:xfrm>
            <a:prstGeom prst="line">
              <a:avLst/>
            </a:prstGeom>
            <a:ln w="936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4800" y="5237280"/>
              <a:ext cx="9144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14720" y="1808280"/>
              <a:ext cx="0" cy="838080"/>
            </a:xfrm>
            <a:prstGeom prst="line">
              <a:avLst/>
            </a:prstGeom>
            <a:ln w="9360">
              <a:solidFill>
                <a:srgbClr val="0099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00040" y="4419720"/>
              <a:ext cx="1160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im 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parameter 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result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92840" y="1503360"/>
              <a:ext cx="1467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esign an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manufacturing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1800" y="25750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par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inform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8120" y="3124080"/>
              <a:ext cx="38862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34320" y="3124080"/>
              <a:ext cx="0" cy="16765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36760" y="3124080"/>
              <a:ext cx="913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feature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Arial"/>
                </a:rPr>
                <a:t>&amp; tol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95680" y="3124080"/>
              <a:ext cx="0" cy="6098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562720" y="2362320"/>
            <a:ext cx="3297960" cy="3504960"/>
            <a:chOff x="5562720" y="2362320"/>
            <a:chExt cx="3297960" cy="3504960"/>
          </a:xfrm>
        </p:grpSpPr>
        <p:sp>
          <p:nvSpPr>
            <p:cNvPr id="193" name=""/>
            <p:cNvSpPr/>
            <p:nvPr/>
          </p:nvSpPr>
          <p:spPr>
            <a:xfrm>
              <a:off x="5562720" y="2895480"/>
              <a:ext cx="3276360" cy="297180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50200" y="4038480"/>
              <a:ext cx="677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95960" y="3124080"/>
              <a:ext cx="1311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46120" y="3124080"/>
              <a:ext cx="913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feature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&amp; tol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90160" y="236232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6699"/>
                  </a:solidFill>
                  <a:latin typeface="Comic Sans MS"/>
                </a:rPr>
                <a:t>Scenario 1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00040" y="4419720"/>
              <a:ext cx="1160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dim mea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parameter 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Arial"/>
                </a:rPr>
                <a:t>result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AP219 Dimensional Inspection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828440" y="137160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Information requirements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Part Identification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imensional Measurement Features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imensional Measurement Tolerances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imensional Measurement Program ID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imensional Measurement Results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Harmonization</a:t>
            </a:r>
            <a:endParaRPr b="0" lang="en-US" sz="2400" spc="-1" strike="noStrike">
              <a:solidFill>
                <a:srgbClr val="0099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STEP Modules </a:t>
            </a:r>
            <a:r>
              <a:rPr b="0" lang="en-US" sz="1800" spc="-1" strike="noStrike">
                <a:solidFill>
                  <a:srgbClr val="336699"/>
                </a:solidFill>
                <a:latin typeface="Comic Sans MS"/>
              </a:rPr>
              <a:t>(Part identification) </a:t>
            </a: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/ PDM Schema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AP224 </a:t>
            </a:r>
            <a:r>
              <a:rPr b="0" lang="en-US" sz="1800" spc="-1" strike="noStrike">
                <a:solidFill>
                  <a:srgbClr val="336699"/>
                </a:solidFill>
                <a:latin typeface="Comic Sans MS"/>
              </a:rPr>
              <a:t>(Mech prod def using machining features)</a:t>
            </a:r>
            <a:endParaRPr b="0" lang="en-US" sz="18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AP214 </a:t>
            </a:r>
            <a:r>
              <a:rPr b="0" lang="en-US" sz="1800" spc="-1" strike="noStrike">
                <a:solidFill>
                  <a:srgbClr val="336699"/>
                </a:solidFill>
                <a:latin typeface="Comic Sans MS"/>
              </a:rPr>
              <a:t>(Automotive mechanical design)</a:t>
            </a:r>
            <a:endParaRPr b="0" lang="en-US" sz="18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DMIS </a:t>
            </a:r>
            <a:r>
              <a:rPr b="0" lang="en-US" sz="1800" spc="-1" strike="noStrike">
                <a:solidFill>
                  <a:srgbClr val="336699"/>
                </a:solidFill>
                <a:latin typeface="Comic Sans MS"/>
              </a:rPr>
              <a:t>(Dimensional Measuring Interface Standard)</a:t>
            </a:r>
            <a:endParaRPr b="0" lang="en-US" sz="18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Web Dimensional Measurement Analysis Project</a:t>
            </a:r>
            <a:endParaRPr b="0" lang="en-US" sz="2000" spc="-1" strike="noStrike">
              <a:solidFill>
                <a:srgbClr val="3366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omic Sans MS"/>
              </a:rPr>
              <a:t>STEP NC </a:t>
            </a:r>
            <a:r>
              <a:rPr b="0" lang="en-US" sz="1800" spc="-1" strike="noStrike">
                <a:solidFill>
                  <a:srgbClr val="336699"/>
                </a:solidFill>
                <a:latin typeface="Comic Sans MS"/>
              </a:rPr>
              <a:t>(future activity)</a:t>
            </a:r>
            <a:endParaRPr b="0" lang="en-US" sz="18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Harmonization of information requirements</a:t>
            </a:r>
            <a:endParaRPr b="1" lang="en-US" sz="24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914400" y="1371600"/>
            <a:ext cx="7696080" cy="4648320"/>
            <a:chOff x="914400" y="1371600"/>
            <a:chExt cx="7696080" cy="4648320"/>
          </a:xfrm>
        </p:grpSpPr>
        <p:sp>
          <p:nvSpPr>
            <p:cNvPr id="203" name=""/>
            <p:cNvSpPr/>
            <p:nvPr/>
          </p:nvSpPr>
          <p:spPr>
            <a:xfrm>
              <a:off x="914400" y="1371600"/>
              <a:ext cx="7696080" cy="46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91520" y="5248440"/>
              <a:ext cx="121896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0800" y="5248440"/>
              <a:ext cx="99072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62720" y="5248440"/>
              <a:ext cx="8380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24280" y="5248440"/>
              <a:ext cx="83844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57600" y="5248440"/>
              <a:ext cx="10666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14400" y="5248440"/>
              <a:ext cx="274320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DM Result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91520" y="4479840"/>
              <a:ext cx="1218960" cy="76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00800" y="4479840"/>
              <a:ext cx="990720" cy="76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62720" y="4479840"/>
              <a:ext cx="838080" cy="76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24280" y="4479840"/>
              <a:ext cx="838440" cy="76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57600" y="4479840"/>
              <a:ext cx="1066680" cy="76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14400" y="4479840"/>
              <a:ext cx="2743200" cy="76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DM Program ID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91520" y="3708360"/>
              <a:ext cx="121896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00800" y="3708360"/>
              <a:ext cx="99072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62720" y="3708360"/>
              <a:ext cx="8380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24280" y="3708360"/>
              <a:ext cx="83844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57600" y="3708360"/>
              <a:ext cx="10666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14400" y="3708360"/>
              <a:ext cx="274320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DM Tolerance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91520" y="2936880"/>
              <a:ext cx="121896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00800" y="2936880"/>
              <a:ext cx="99072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62720" y="2936880"/>
              <a:ext cx="8380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24280" y="2936880"/>
              <a:ext cx="83844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7600" y="2936880"/>
              <a:ext cx="10666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14400" y="2936880"/>
              <a:ext cx="274320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DM Feature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91520" y="2168640"/>
              <a:ext cx="1218960" cy="76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00800" y="2168640"/>
              <a:ext cx="990720" cy="76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2720" y="2168640"/>
              <a:ext cx="838080" cy="76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24280" y="2168640"/>
              <a:ext cx="838440" cy="76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57600" y="2168640"/>
              <a:ext cx="1066680" cy="76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33000"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4400" y="2168640"/>
              <a:ext cx="2743200" cy="76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Part ID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91520" y="1397160"/>
              <a:ext cx="121896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Web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Analysi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00800" y="1397160"/>
              <a:ext cx="99072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DMI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62720" y="1397160"/>
              <a:ext cx="8380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AP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214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24280" y="1397160"/>
              <a:ext cx="83844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AP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224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57600" y="1397160"/>
              <a:ext cx="106668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STEP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Comic Sans MS"/>
                </a:rPr>
                <a:t>Mods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4400" y="1397160"/>
              <a:ext cx="2743200" cy="77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4400" y="1397160"/>
              <a:ext cx="7696080" cy="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14400" y="2168640"/>
              <a:ext cx="76960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14400" y="2936880"/>
              <a:ext cx="769608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14400" y="3708360"/>
              <a:ext cx="769608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14400" y="4479840"/>
              <a:ext cx="769608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14400" y="5248440"/>
              <a:ext cx="769608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14400" y="6019920"/>
              <a:ext cx="7696080" cy="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14400" y="1397160"/>
              <a:ext cx="0" cy="462276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57600" y="1397160"/>
              <a:ext cx="0" cy="46227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24280" y="1397160"/>
              <a:ext cx="0" cy="462276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62720" y="1397160"/>
              <a:ext cx="0" cy="462276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1397160"/>
              <a:ext cx="0" cy="462276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91520" y="1397160"/>
              <a:ext cx="0" cy="462276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610480" y="1397160"/>
              <a:ext cx="0" cy="462276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914400" y="1371600"/>
            <a:ext cx="7696080" cy="4724280"/>
            <a:chOff x="914400" y="1371600"/>
            <a:chExt cx="7696080" cy="4724280"/>
          </a:xfrm>
        </p:grpSpPr>
        <p:grpSp>
          <p:nvGrpSpPr>
            <p:cNvPr id="255" name=""/>
            <p:cNvGrpSpPr/>
            <p:nvPr/>
          </p:nvGrpSpPr>
          <p:grpSpPr>
            <a:xfrm>
              <a:off x="914400" y="1371600"/>
              <a:ext cx="7696080" cy="4724280"/>
              <a:chOff x="914400" y="1371600"/>
              <a:chExt cx="7696080" cy="472428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914400" y="2895120"/>
                <a:ext cx="7696080" cy="3200760"/>
                <a:chOff x="914400" y="2895120"/>
                <a:chExt cx="7696080" cy="32007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7391520" y="5256360"/>
                  <a:ext cx="121896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400800" y="5256360"/>
                  <a:ext cx="99072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562720" y="5256360"/>
                  <a:ext cx="83808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724280" y="5256360"/>
                  <a:ext cx="83844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657600" y="5256360"/>
                  <a:ext cx="106668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914400" y="5256360"/>
                  <a:ext cx="274320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DM Results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391520" y="3716280"/>
                  <a:ext cx="121896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400800" y="3716280"/>
                  <a:ext cx="99072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562720" y="3716280"/>
                  <a:ext cx="83808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724280" y="3716280"/>
                  <a:ext cx="83844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657600" y="3716280"/>
                  <a:ext cx="106668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914400" y="3716280"/>
                  <a:ext cx="274320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DM Tolerances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391520" y="2944800"/>
                  <a:ext cx="121896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400800" y="2944800"/>
                  <a:ext cx="99072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562720" y="2944800"/>
                  <a:ext cx="83808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724280" y="2944800"/>
                  <a:ext cx="83844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657600" y="2944800"/>
                  <a:ext cx="106668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914400" y="2944800"/>
                  <a:ext cx="2743200" cy="7714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DM Features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914400" y="2944800"/>
                  <a:ext cx="7696080" cy="0"/>
                </a:xfrm>
                <a:prstGeom prst="line">
                  <a:avLst/>
                </a:prstGeom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914400" y="3716280"/>
                  <a:ext cx="7696080" cy="0"/>
                </a:xfrm>
                <a:prstGeom prst="line">
                  <a:avLst/>
                </a:prstGeom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914400" y="4487760"/>
                  <a:ext cx="7696080" cy="0"/>
                </a:xfrm>
                <a:prstGeom prst="line">
                  <a:avLst/>
                </a:prstGeom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914400" y="5256360"/>
                  <a:ext cx="7696080" cy="0"/>
                </a:xfrm>
                <a:prstGeom prst="line">
                  <a:avLst/>
                </a:prstGeom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914400" y="6027840"/>
                  <a:ext cx="7696080" cy="0"/>
                </a:xfrm>
                <a:prstGeom prst="line">
                  <a:avLst/>
                </a:prstGeom>
                <a:ln cap="sq"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657600" y="2895480"/>
                  <a:ext cx="0" cy="16002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4724280" y="2971440"/>
                  <a:ext cx="0" cy="152388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5562720" y="2895120"/>
                  <a:ext cx="0" cy="160020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6400800" y="2895120"/>
                  <a:ext cx="0" cy="160020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391520" y="2895120"/>
                  <a:ext cx="0" cy="160020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V="1">
                  <a:off x="7391520" y="5257440"/>
                  <a:ext cx="0" cy="7621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6400800" y="5257800"/>
                  <a:ext cx="0" cy="83808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5562720" y="5257440"/>
                  <a:ext cx="0" cy="7621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4724280" y="5257440"/>
                  <a:ext cx="0" cy="7621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3657600" y="5257440"/>
                  <a:ext cx="0" cy="7621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4724280" y="1371600"/>
                <a:ext cx="3886200" cy="794880"/>
                <a:chOff x="4724280" y="1371600"/>
                <a:chExt cx="3886200" cy="7948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7391160" y="1371600"/>
                  <a:ext cx="1219320" cy="7948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Web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Analysis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00440" y="1371600"/>
                  <a:ext cx="990720" cy="7948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DMIS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562360" y="1371600"/>
                  <a:ext cx="838080" cy="7948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AP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214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724280" y="1371600"/>
                  <a:ext cx="838080" cy="794880"/>
                </a:xfrm>
                <a:prstGeom prst="rect">
                  <a:avLst/>
                </a:prstGeom>
                <a:solidFill>
                  <a:srgbClr val="ccecff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AP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10000"/>
                      </a:solidFill>
                      <a:latin typeface="Comic Sans MS"/>
                    </a:rPr>
                    <a:t>224</a:t>
                  </a:r>
                  <a:endParaRPr b="0" lang="en-US" sz="20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5" name=""/>
            <p:cNvSpPr/>
            <p:nvPr/>
          </p:nvSpPr>
          <p:spPr>
            <a:xfrm>
              <a:off x="3657600" y="39783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0000"/>
                  </a:solidFill>
                  <a:latin typeface="Comic Sans MS"/>
                </a:rPr>
                <a:t>(AIC519)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1752480" y="1523880"/>
            <a:ext cx="6096240" cy="2971800"/>
            <a:chOff x="1752480" y="1523880"/>
            <a:chExt cx="6096240" cy="2971800"/>
          </a:xfrm>
        </p:grpSpPr>
        <p:grpSp>
          <p:nvGrpSpPr>
            <p:cNvPr id="297" name=""/>
            <p:cNvGrpSpPr/>
            <p:nvPr/>
          </p:nvGrpSpPr>
          <p:grpSpPr>
            <a:xfrm>
              <a:off x="1752480" y="1981080"/>
              <a:ext cx="6096240" cy="2514600"/>
              <a:chOff x="1752480" y="1981080"/>
              <a:chExt cx="6096240" cy="2514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752480" y="1981080"/>
                <a:ext cx="609624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71785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800600" y="4137120"/>
                <a:ext cx="304812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Comic Sans MS"/>
                  </a:rPr>
                  <a:t>(assumes cartesian)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52480" y="4137120"/>
                <a:ext cx="304812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Cart / Pol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00600" y="3778200"/>
                <a:ext cx="3048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ameter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52480" y="3778200"/>
                <a:ext cx="3048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ameter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800600" y="3417840"/>
                <a:ext cx="3048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axis_direction_vector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752480" y="3417840"/>
                <a:ext cx="3048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Direction / Axial Direction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800600" y="3059280"/>
                <a:ext cx="304812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center_point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752480" y="3059280"/>
                <a:ext cx="304812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Location / Center Point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800600" y="2698920"/>
                <a:ext cx="3048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inner_outer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752480" y="2698920"/>
                <a:ext cx="3048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Inner / Outer flag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00600" y="2340000"/>
                <a:ext cx="3048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label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752480" y="2340000"/>
                <a:ext cx="3048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6699"/>
                    </a:solidFill>
                    <a:latin typeface="Arial"/>
                  </a:rPr>
                  <a:t>Label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00600" y="1981080"/>
                <a:ext cx="3048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6699"/>
                    </a:solidFill>
                    <a:latin typeface="Arial"/>
                  </a:rPr>
                  <a:t>dmf_circle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52480" y="1981080"/>
                <a:ext cx="30481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6699"/>
                    </a:solidFill>
                    <a:latin typeface="Arial"/>
                  </a:rPr>
                  <a:t>Feat/Circle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52480" y="1981080"/>
                <a:ext cx="6096240" cy="0"/>
              </a:xfrm>
              <a:prstGeom prst="line">
                <a:avLst/>
              </a:prstGeom>
              <a:ln cap="sq"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752480" y="2340000"/>
                <a:ext cx="60962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752480" y="2698920"/>
                <a:ext cx="60962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752480" y="3059280"/>
                <a:ext cx="60962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752480" y="3417840"/>
                <a:ext cx="60962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752480" y="3778200"/>
                <a:ext cx="60962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752480" y="4137120"/>
                <a:ext cx="60962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752480" y="4495680"/>
                <a:ext cx="6096240" cy="0"/>
              </a:xfrm>
              <a:prstGeom prst="line">
                <a:avLst/>
              </a:prstGeom>
              <a:ln cap="sq"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752480" y="1981080"/>
                <a:ext cx="0" cy="2514600"/>
              </a:xfrm>
              <a:prstGeom prst="line">
                <a:avLst/>
              </a:prstGeom>
              <a:ln cap="sq"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800600" y="1981080"/>
                <a:ext cx="0" cy="251460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848720" y="1981080"/>
                <a:ext cx="0" cy="2514600"/>
              </a:xfrm>
              <a:prstGeom prst="line">
                <a:avLst/>
              </a:prstGeom>
              <a:ln cap="sq"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1803600" y="1523880"/>
              <a:ext cx="95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DMI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72960" y="1523880"/>
              <a:ext cx="10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Comic Sans MS"/>
                </a:rPr>
                <a:t>AP219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DMIS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Features / Tolerances Harmonization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752480" y="4876920"/>
            <a:ext cx="6096240" cy="628560"/>
            <a:chOff x="1752480" y="4876920"/>
            <a:chExt cx="6096240" cy="628560"/>
          </a:xfrm>
        </p:grpSpPr>
        <p:sp>
          <p:nvSpPr>
            <p:cNvPr id="328" name=""/>
            <p:cNvSpPr/>
            <p:nvPr/>
          </p:nvSpPr>
          <p:spPr>
            <a:xfrm>
              <a:off x="4800600" y="4876920"/>
              <a:ext cx="30481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Comic Sans MS"/>
                </a:rPr>
                <a:t>dmf_dimensional_parameter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Comic Sans MS"/>
                </a:rPr>
                <a:t>   </a:t>
              </a:r>
              <a:r>
                <a:rPr b="0" lang="en-US" sz="1600" spc="-1" strike="noStrike">
                  <a:solidFill>
                    <a:srgbClr val="336699"/>
                  </a:solidFill>
                  <a:latin typeface="Comic Sans MS"/>
                </a:rPr>
                <a:t>.specified_toleranc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52480" y="4876920"/>
              <a:ext cx="3048120" cy="62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99"/>
                  </a:solidFill>
                  <a:latin typeface="Comic Sans MS"/>
                </a:rPr>
                <a:t>Tol / Diam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52480" y="4876920"/>
              <a:ext cx="6096240" cy="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52480" y="5505480"/>
              <a:ext cx="6096240" cy="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52480" y="4876920"/>
              <a:ext cx="0" cy="62856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00600" y="4876920"/>
              <a:ext cx="0" cy="62856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48720" y="4876920"/>
              <a:ext cx="0" cy="628560"/>
            </a:xfrm>
            <a:prstGeom prst="line">
              <a:avLst/>
            </a:prstGeom>
            <a:ln cap="sq"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4800600" y="4876920"/>
            <a:ext cx="3048120" cy="6285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Comic Sans MS"/>
              </a:rPr>
              <a:t>dmf_dimensional_parame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10000"/>
                </a:solidFill>
                <a:latin typeface="Comic Sans MS"/>
              </a:rPr>
              <a:t>.specified_toleranc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4800600" y="1986120"/>
            <a:ext cx="3048120" cy="2161800"/>
            <a:chOff x="4800600" y="1986120"/>
            <a:chExt cx="3048120" cy="2161800"/>
          </a:xfrm>
        </p:grpSpPr>
        <p:sp>
          <p:nvSpPr>
            <p:cNvPr id="337" name=""/>
            <p:cNvSpPr/>
            <p:nvPr/>
          </p:nvSpPr>
          <p:spPr>
            <a:xfrm>
              <a:off x="4800600" y="3788280"/>
              <a:ext cx="3048120" cy="359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0000"/>
                  </a:solidFill>
                  <a:latin typeface="Arial"/>
                </a:rPr>
                <a:t>diameter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00600" y="2345400"/>
              <a:ext cx="3048120" cy="359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1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00600" y="1986120"/>
              <a:ext cx="3048120" cy="359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10000"/>
                  </a:solidFill>
                  <a:latin typeface="Arial"/>
                </a:rPr>
                <a:t>dmf_circl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Web Analysis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XML DTD (circle_feature)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" y="1523880"/>
            <a:ext cx="8229600" cy="4231080"/>
          </a:xfrm>
          <a:prstGeom prst="rect">
            <a:avLst/>
          </a:prstGeom>
          <a:solidFill>
            <a:srgbClr val="f8f8f8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lt;!ELEMENT </a:t>
            </a:r>
            <a:r>
              <a:rPr b="1" lang="en-US" sz="1600" spc="-1" strike="noStrike">
                <a:solidFill>
                  <a:srgbClr val="ff9966"/>
                </a:solidFill>
                <a:latin typeface="Comic Sans MS"/>
                <a:ea typeface="Times New Roman"/>
              </a:rPr>
              <a:t>nominal_circle_feature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(center_point,normal,</a:t>
            </a:r>
            <a:r>
              <a:rPr b="0" lang="en-US" sz="1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diameter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,(start_vector,angle)?)&gt;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lt;!ATTLIST nominal_circle_feature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%reporting_transform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lt;!ELEMENT </a:t>
            </a:r>
            <a:r>
              <a:rPr b="1" lang="en-US" sz="1600" spc="-1" strike="noStrike">
                <a:solidFill>
                  <a:srgbClr val="ff9966"/>
                </a:solidFill>
                <a:latin typeface="Comic Sans MS"/>
                <a:ea typeface="Times New Roman"/>
              </a:rPr>
              <a:t>measured_circle_feature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(center_point,normal,</a:t>
            </a:r>
            <a:r>
              <a:rPr b="0" lang="en-US" sz="1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diameter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diameter_min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diameter_max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,(start_vector,angle)?)&gt;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lt;!ATTLIST measured_circle_feature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%reporting_transform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lt;!ELEMENT </a:t>
            </a:r>
            <a:r>
              <a:rPr b="1" lang="en-US" sz="1600" spc="-1" strike="noStrike">
                <a:solidFill>
                  <a:srgbClr val="ff9966"/>
                </a:solidFill>
                <a:latin typeface="Comic Sans MS"/>
                <a:ea typeface="Times New Roman"/>
              </a:rPr>
              <a:t>circle_feature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 ((nominal_circle_feature) | (measured_circle_feature)|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(nominal_circle_feature, measured_circle_feature))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lt;!ATTLIST circle_feature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type (INNER | OUTER | UNKNOWN) #REQUIRED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&gt;</a:t>
            </a:r>
            <a:br>
              <a:rPr sz="1600"/>
            </a:b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Comic Sans MS"/>
              </a:rPr>
              <a:t>Web Analysis:  </a:t>
            </a:r>
            <a:r>
              <a:rPr b="1" i="1" lang="en-US" sz="2000" spc="-1" strike="noStrike">
                <a:solidFill>
                  <a:srgbClr val="336699"/>
                </a:solidFill>
                <a:latin typeface="Comic Sans MS"/>
              </a:rPr>
              <a:t>Information requirments (circle_feature)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57200" y="1523880"/>
            <a:ext cx="8381880" cy="4343400"/>
            <a:chOff x="457200" y="1523880"/>
            <a:chExt cx="8381880" cy="4343400"/>
          </a:xfrm>
        </p:grpSpPr>
        <p:sp>
          <p:nvSpPr>
            <p:cNvPr id="344" name=""/>
            <p:cNvSpPr/>
            <p:nvPr/>
          </p:nvSpPr>
          <p:spPr>
            <a:xfrm>
              <a:off x="3962520" y="3352680"/>
              <a:ext cx="1523880" cy="533520"/>
            </a:xfrm>
            <a:prstGeom prst="leftArrow">
              <a:avLst>
                <a:gd name="adj1" fmla="val 50000"/>
                <a:gd name="adj2" fmla="val 71407"/>
              </a:avLst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Comic Sans MS"/>
                </a:rPr>
                <a:t>reverse eng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7200" y="1600200"/>
              <a:ext cx="3429000" cy="426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38480" y="1957320"/>
              <a:ext cx="652320" cy="647640"/>
            </a:xfrm>
            <a:prstGeom prst="rect">
              <a:avLst/>
            </a:prstGeom>
            <a:solidFill>
              <a:srgbClr val="f2be9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06880" y="2021040"/>
              <a:ext cx="34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(ABS)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07600" y="2192400"/>
              <a:ext cx="40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l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94640" y="236232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3273480"/>
              <a:ext cx="650880" cy="647640"/>
            </a:xfrm>
            <a:prstGeom prst="rect">
              <a:avLst/>
            </a:prstGeom>
            <a:solidFill>
              <a:srgbClr val="f2be9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9360" y="3338640"/>
              <a:ext cx="60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nominal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1840" y="3506760"/>
              <a:ext cx="40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l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9240" y="367668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54320" y="3282840"/>
              <a:ext cx="650880" cy="644760"/>
            </a:xfrm>
            <a:prstGeom prst="rect">
              <a:avLst/>
            </a:prstGeom>
            <a:solidFill>
              <a:srgbClr val="f2be9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94640" y="3348000"/>
              <a:ext cx="73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measured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25960" y="3516480"/>
              <a:ext cx="40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circle_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13720" y="3683160"/>
              <a:ext cx="48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feature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94000" y="4978440"/>
              <a:ext cx="652320" cy="355680"/>
            </a:xfrm>
            <a:prstGeom prst="rect">
              <a:avLst/>
            </a:prstGeom>
            <a:solidFill>
              <a:srgbClr val="f2be9e"/>
            </a:solidFill>
            <a:ln w="0">
              <a:solidFill>
                <a:srgbClr val="000000"/>
              </a:solidFill>
            </a:ln>
            <a:effectLst>
              <a:outerShdw dist="71785" dir="2700000" blurRad="0" rotWithShape="0">
                <a:srgbClr val="33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81160" y="4978440"/>
              <a:ext cx="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75360" y="508788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STRING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36720" y="2975040"/>
              <a:ext cx="25430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65360" y="2611440"/>
              <a:ext cx="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936720" y="2974680"/>
              <a:ext cx="0" cy="2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95320" y="3168720"/>
              <a:ext cx="79560" cy="9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479760" y="297468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41600" y="3184560"/>
              <a:ext cx="76320" cy="9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55720" y="3935520"/>
              <a:ext cx="1560600" cy="985680"/>
            </a:xfrm>
            <a:custGeom>
              <a:avLst/>
              <a:gdLst/>
              <a:ahLst/>
              <a:rect l="l" t="t" r="r" b="b"/>
              <a:pathLst>
                <a:path w="1443" h="732">
                  <a:moveTo>
                    <a:pt x="1443" y="0"/>
                  </a:moveTo>
                  <a:lnTo>
                    <a:pt x="1443" y="90"/>
                  </a:lnTo>
                  <a:lnTo>
                    <a:pt x="0" y="90"/>
                  </a:lnTo>
                  <a:lnTo>
                    <a:pt x="0" y="7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17560" y="4873680"/>
              <a:ext cx="77760" cy="96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76920" y="3846600"/>
              <a:ext cx="948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_max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78120" y="3935520"/>
              <a:ext cx="1601640" cy="985680"/>
            </a:xfrm>
            <a:custGeom>
              <a:avLst/>
              <a:gdLst/>
              <a:ahLst/>
              <a:rect l="l" t="t" r="r" b="b"/>
              <a:pathLst>
                <a:path w="1480" h="732">
                  <a:moveTo>
                    <a:pt x="1480" y="0"/>
                  </a:moveTo>
                  <a:lnTo>
                    <a:pt x="1480" y="324"/>
                  </a:lnTo>
                  <a:lnTo>
                    <a:pt x="0" y="324"/>
                  </a:lnTo>
                  <a:lnTo>
                    <a:pt x="0" y="7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38160" y="4873680"/>
              <a:ext cx="81000" cy="96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33520" y="4156200"/>
              <a:ext cx="918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_min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08080" y="3935520"/>
              <a:ext cx="1633680" cy="985680"/>
            </a:xfrm>
            <a:custGeom>
              <a:avLst/>
              <a:gdLst/>
              <a:ahLst/>
              <a:rect l="l" t="t" r="r" b="b"/>
              <a:pathLst>
                <a:path w="1510" h="732">
                  <a:moveTo>
                    <a:pt x="1510" y="0"/>
                  </a:moveTo>
                  <a:lnTo>
                    <a:pt x="1510" y="528"/>
                  </a:lnTo>
                  <a:lnTo>
                    <a:pt x="0" y="528"/>
                  </a:lnTo>
                  <a:lnTo>
                    <a:pt x="0" y="7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68480" y="4873680"/>
              <a:ext cx="79560" cy="96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03160" y="443700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36720" y="3921120"/>
              <a:ext cx="687240" cy="1000080"/>
            </a:xfrm>
            <a:custGeom>
              <a:avLst/>
              <a:gdLst/>
              <a:ahLst/>
              <a:rect l="l" t="t" r="r" b="b"/>
              <a:pathLst>
                <a:path w="637" h="744">
                  <a:moveTo>
                    <a:pt x="0" y="0"/>
                  </a:moveTo>
                  <a:lnTo>
                    <a:pt x="0" y="546"/>
                  </a:lnTo>
                  <a:lnTo>
                    <a:pt x="637" y="546"/>
                  </a:lnTo>
                  <a:lnTo>
                    <a:pt x="637" y="7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84360" y="4873680"/>
              <a:ext cx="79200" cy="96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56240" y="444492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11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5880" y="1828800"/>
              <a:ext cx="15004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Web Analysi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Logical 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99"/>
                  </a:solidFill>
                  <a:latin typeface="Comic Sans MS"/>
                </a:rPr>
                <a:t>(not AP219)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5638680" y="2362320"/>
              <a:ext cx="3200400" cy="2029320"/>
              <a:chOff x="5638680" y="2362320"/>
              <a:chExt cx="3200400" cy="2029320"/>
            </a:xfrm>
          </p:grpSpPr>
          <p:sp>
            <p:nvSpPr>
              <p:cNvPr id="381" name=""/>
              <p:cNvSpPr/>
              <p:nvPr/>
            </p:nvSpPr>
            <p:spPr>
              <a:xfrm>
                <a:off x="5638680" y="2743200"/>
                <a:ext cx="3200400" cy="164844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009999"/>
                </a:solidFill>
                <a:miter/>
              </a:ln>
              <a:effectLst>
                <a:outerShdw dist="107932" dir="2700000" blurRad="0" rotWithShape="0">
                  <a:srgbClr val="33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ELEMENT </a:t>
                </a:r>
                <a:r>
                  <a:rPr b="1" lang="en-US" sz="600" spc="-1" strike="noStrike">
                    <a:solidFill>
                      <a:srgbClr val="ff9966"/>
                    </a:solidFill>
                    <a:latin typeface="Comic Sans MS"/>
                    <a:ea typeface="Times New Roman"/>
                  </a:rPr>
                  <a:t>nominal_circle_feature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 </a:t>
                </a:r>
                <a:endParaRPr b="0" lang="en-US" sz="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(center_point,normal,</a:t>
                </a:r>
                <a:r>
                  <a:rPr b="0" lang="en-US" sz="600" spc="-1" strike="noStrike">
                    <a:solidFill>
                      <a:srgbClr val="009999"/>
                    </a:solidFill>
                    <a:latin typeface="Comic Sans MS"/>
                    <a:ea typeface="Times New Roman"/>
                  </a:rPr>
                  <a:t>diameter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,(start_vector,angle)?)&gt; 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ATTLIST nominal_circle_feature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%reporting_transform;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gt; 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ELEMENT </a:t>
                </a:r>
                <a:r>
                  <a:rPr b="1" lang="en-US" sz="600" spc="-1" strike="noStrike">
                    <a:solidFill>
                      <a:srgbClr val="ff9966"/>
                    </a:solidFill>
                    <a:latin typeface="Comic Sans MS"/>
                    <a:ea typeface="Times New Roman"/>
                  </a:rPr>
                  <a:t>measured_circle_feature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 </a:t>
                </a:r>
                <a:endParaRPr b="0" lang="en-US" sz="600" spc="-1" strike="noStrike">
                  <a:solidFill>
                    <a:srgbClr val="0099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(center_point,normal,</a:t>
                </a:r>
                <a:r>
                  <a:rPr b="0" lang="en-US" sz="600" spc="-1" strike="noStrike">
                    <a:solidFill>
                      <a:srgbClr val="009999"/>
                    </a:solidFill>
                    <a:latin typeface="Comic Sans MS"/>
                    <a:ea typeface="Times New Roman"/>
                  </a:rPr>
                  <a:t>diameter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, </a:t>
                </a:r>
                <a:r>
                  <a:rPr b="0" lang="en-US" sz="600" spc="-1" strike="noStrike">
                    <a:solidFill>
                      <a:srgbClr val="009999"/>
                    </a:solidFill>
                    <a:latin typeface="Comic Sans MS"/>
                    <a:ea typeface="Times New Roman"/>
                  </a:rPr>
                  <a:t>diameter_min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,</a:t>
                </a:r>
                <a:r>
                  <a:rPr b="0" lang="en-US" sz="600" spc="-1" strike="noStrike">
                    <a:solidFill>
                      <a:srgbClr val="009999"/>
                    </a:solidFill>
                    <a:latin typeface="Comic Sans MS"/>
                    <a:ea typeface="Times New Roman"/>
                  </a:rPr>
                  <a:t>diameter_max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,(start_vector,angle)?)&gt; 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ATTLIST measured_circle_feature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%reporting_transform;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gt; 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ELEMENT </a:t>
                </a:r>
                <a:r>
                  <a:rPr b="1" lang="en-US" sz="600" spc="-1" strike="noStrike">
                    <a:solidFill>
                      <a:srgbClr val="ff9966"/>
                    </a:solidFill>
                    <a:latin typeface="Comic Sans MS"/>
                    <a:ea typeface="Times New Roman"/>
                  </a:rPr>
                  <a:t>circle_feature</a:t>
                </a: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 ((nominal_circle_feature) | (measured_circle_feature)|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(nominal_circle_feature, measured_circle_feature))&gt;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lt;!ATTLIST circle_feature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type (INNER | OUTER | UNKNOWN) #REQUIRED</a:t>
                </a:r>
                <a:br>
                  <a:rPr sz="600"/>
                </a:br>
                <a:r>
                  <a:rPr b="0" lang="en-US" sz="600" spc="-1" strike="noStrike">
                    <a:solidFill>
                      <a:srgbClr val="003366"/>
                    </a:solidFill>
                    <a:latin typeface="Comic Sans MS"/>
                    <a:ea typeface="Times New Roman"/>
                  </a:rPr>
                  <a:t>&gt;</a:t>
                </a:r>
                <a:br>
                  <a:rPr sz="600"/>
                </a:br>
                <a:endParaRPr b="0" lang="en-US" sz="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69640" y="2362320"/>
                <a:ext cx="1052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9999"/>
                    </a:solidFill>
                    <a:latin typeface="Comic Sans MS"/>
                  </a:rPr>
                  <a:t>XML DTD</a:t>
                </a:r>
                <a:endParaRPr b="0" lang="en-US" sz="16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5604480" y="1523880"/>
              <a:ext cx="2367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99"/>
                  </a:solidFill>
                  <a:latin typeface="Comic Sans MS"/>
                </a:rPr>
                <a:t>Web Analysi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9999"/>
                  </a:solidFill>
                  <a:uFillTx/>
                  <a:latin typeface="Comic Sans MS"/>
                </a:rPr>
                <a:t>Implementation Mod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13:08:34Z</dcterms:created>
  <dc:creator>Bill Danner</dc:creator>
  <dc:description/>
  <dc:language>en-US</dc:language>
  <cp:lastModifiedBy>hardwick</cp:lastModifiedBy>
  <dcterms:modified xsi:type="dcterms:W3CDTF">2001-06-26T14:05:52Z</dcterms:modified>
  <cp:revision>317</cp:revision>
  <dc:subject/>
  <dc:title>No Slide Title</dc:title>
</cp:coreProperties>
</file>