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F5F4F80-C1F9-41AB-B649-966FB5FC54C8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7840" y="6575400"/>
            <a:ext cx="12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Anywhere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6480" y="1532520"/>
            <a:ext cx="426096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Make Anywhere using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186080" y="3065400"/>
            <a:ext cx="404244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779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0040" y="923760"/>
            <a:ext cx="50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computes optimum speed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s from full fidelity geometry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8200" y="1679400"/>
            <a:ext cx="3815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Cincinnati 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817560" y="2347920"/>
          <a:ext cx="7567560" cy="197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2347920"/>
                    <a:ext cx="756756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5602320" y="954000"/>
            <a:ext cx="327816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value, 75% of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for lots of 50 or less – Manufacturing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4" name=""/>
          <p:cNvCxnSpPr>
            <a:stCxn id="432" idx="1"/>
            <a:endCxn id="431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3940560" y="5803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1" idx="2"/>
            <a:endCxn id="442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43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executes RS274D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gets complete manufacturing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, tolerances, tool requirements, fixtures, 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mputes optimal speeds and f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+ tool database + geometry/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axis machining becomes easier to use so it is used more often for small and medium lot 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until the new algorithms are available in the controll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084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65120" y="2773440"/>
            <a:ext cx="2207520" cy="82404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9120" y="2243160"/>
            <a:ext cx="619560" cy="33732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040" y="3038400"/>
            <a:ext cx="2207520" cy="58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 flipH="1">
            <a:off x="1450080" y="2607840"/>
            <a:ext cx="9000" cy="42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1413360" y="261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9680" y="44830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2" idx="2"/>
            <a:endCxn id="455" idx="0"/>
          </p:cNvCxnSpPr>
          <p:nvPr/>
        </p:nvCxnSpPr>
        <p:spPr>
          <a:xfrm flipH="1">
            <a:off x="1428120" y="3647880"/>
            <a:ext cx="22680" cy="82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1418760" y="40464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10720" y="44686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0" idx="2"/>
            <a:endCxn id="458" idx="0"/>
          </p:cNvCxnSpPr>
          <p:nvPr/>
        </p:nvCxnSpPr>
        <p:spPr>
          <a:xfrm flipH="1">
            <a:off x="6059160" y="3627000"/>
            <a:ext cx="10080" cy="83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6049440" y="40323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79760" y="3084480"/>
            <a:ext cx="19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MASTERCAM or 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16840" y="3033720"/>
            <a:ext cx="20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Unigraphics  or 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91920" y="3606840"/>
            <a:ext cx="1668240" cy="337320"/>
          </a:xfrm>
          <a:prstGeom prst="rect">
            <a:avLst/>
          </a:prstGeom>
          <a:solidFill>
            <a:srgbClr val="eb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000" y="3616200"/>
            <a:ext cx="1668240" cy="337320"/>
          </a:xfrm>
          <a:prstGeom prst="rect">
            <a:avLst/>
          </a:prstGeom>
          <a:solidFill>
            <a:srgbClr val="eb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05320" y="973080"/>
            <a:ext cx="12600" cy="4097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33160" y="1101600"/>
            <a:ext cx="31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CAD/CAM for OE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7840" y="110016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GES Data Exchange for 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55" idx="3"/>
          </p:cNvCxnSpPr>
          <p:nvPr/>
        </p:nvCxnSpPr>
        <p:spPr>
          <a:xfrm flipH="1">
            <a:off x="2199600" y="3794040"/>
            <a:ext cx="75240" cy="867600"/>
          </a:xfrm>
          <a:prstGeom prst="curvedConnector5">
            <a:avLst>
              <a:gd name="adj1" fmla="val -293269"/>
              <a:gd name="adj2" fmla="val 49979"/>
              <a:gd name="adj3" fmla="val -293269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2579760" y="4041720"/>
            <a:ext cx="154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coordinated by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3" idx="3"/>
            <a:endCxn id="458" idx="3"/>
          </p:cNvCxnSpPr>
          <p:nvPr/>
        </p:nvCxnSpPr>
        <p:spPr>
          <a:xfrm flipH="1">
            <a:off x="6830280" y="3784680"/>
            <a:ext cx="51480" cy="862560"/>
          </a:xfrm>
          <a:prstGeom prst="curvedConnector5">
            <a:avLst>
              <a:gd name="adj1" fmla="val -430985"/>
              <a:gd name="adj2" fmla="val 49979"/>
              <a:gd name="adj3" fmla="val -430985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172280" y="409896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coordinated by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6920" y="5254560"/>
            <a:ext cx="581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ro planning is stock definition, feature selection, process ordering and tool requir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 planning is tool path generation with tools that meet th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219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87160" y="2584440"/>
            <a:ext cx="2207520" cy="5806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9120" y="1798560"/>
            <a:ext cx="619560" cy="33732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7040" y="2849400"/>
            <a:ext cx="2207520" cy="33732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75" idx="2"/>
            <a:endCxn id="476" idx="0"/>
          </p:cNvCxnSpPr>
          <p:nvPr/>
        </p:nvCxnSpPr>
        <p:spPr>
          <a:xfrm flipH="1">
            <a:off x="1450080" y="2163240"/>
            <a:ext cx="9000" cy="67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1514520" y="2355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9680" y="42940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79760" y="2851200"/>
            <a:ext cx="20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FB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61200" y="2611440"/>
            <a:ext cx="195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Unigraphics  or 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5320" y="973080"/>
            <a:ext cx="0" cy="4275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77560" y="1101600"/>
            <a:ext cx="31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CAD/CAM for OE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76240" y="110016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6480" y="3930480"/>
            <a:ext cx="2151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6" idx="2"/>
            <a:endCxn id="485" idx="0"/>
          </p:cNvCxnSpPr>
          <p:nvPr/>
        </p:nvCxnSpPr>
        <p:spPr>
          <a:xfrm flipH="1">
            <a:off x="1442520" y="3214800"/>
            <a:ext cx="864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560600" y="33703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21600" y="430200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8400" y="3938760"/>
            <a:ext cx="2151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74" idx="2"/>
            <a:endCxn id="489" idx="0"/>
          </p:cNvCxnSpPr>
          <p:nvPr/>
        </p:nvCxnSpPr>
        <p:spPr>
          <a:xfrm flipH="1">
            <a:off x="6184440" y="3193920"/>
            <a:ext cx="7200" cy="73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6302520" y="3378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03400" y="5489640"/>
            <a:ext cx="694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 is invisible to the us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 planning (tool path generation) is automatic using MASTERCAM or GIBBSCAM embedded into the NC Contro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87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95" idx="3"/>
            <a:endCxn id="496" idx="0"/>
          </p:cNvCxnSpPr>
          <p:nvPr/>
        </p:nvCxnSpPr>
        <p:spPr>
          <a:xfrm rot="5400000">
            <a:off x="4577040" y="3569040"/>
            <a:ext cx="416520" cy="11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519360" y="2252520"/>
            <a:ext cx="2543400" cy="1101960"/>
          </a:xfrm>
          <a:prstGeom prst="flowChartMagneticDisk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uper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90200" y="571176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ng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ocal or remote 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29080" y="1292400"/>
            <a:ext cx="1174680" cy="36828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9440" y="3795840"/>
            <a:ext cx="1779480" cy="1833480"/>
          </a:xfrm>
          <a:prstGeom prst="rect">
            <a:avLst/>
          </a:prstGeom>
          <a:solidFill>
            <a:srgbClr val="83838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1360" y="3859200"/>
            <a:ext cx="1183680" cy="642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2240" y="1241280"/>
            <a:ext cx="546120" cy="557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000" y="2071800"/>
            <a:ext cx="546120" cy="557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5800" y="120636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ho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enter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4800" y="20257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72120" y="383076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 code for a specific Shop Floor Programming (SFP)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25880" y="4606920"/>
            <a:ext cx="1549440" cy="64260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5400" y="4503600"/>
            <a:ext cx="1139760" cy="10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81640" y="4537080"/>
            <a:ext cx="71928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1680" y="2492280"/>
            <a:ext cx="0" cy="3160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79600" y="4019400"/>
            <a:ext cx="181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 co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00560" y="4890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Z-MILL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533560" y="5060880"/>
            <a:ext cx="568440" cy="1800"/>
          </a:xfrm>
          <a:prstGeom prst="line">
            <a:avLst/>
          </a:prstGeom>
          <a:ln w="38160">
            <a:solidFill>
              <a:srgbClr val="ef91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2280" y="1289160"/>
            <a:ext cx="1174680" cy="368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FBM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498" idx="2"/>
            <a:endCxn id="495" idx="1"/>
          </p:cNvCxnSpPr>
          <p:nvPr/>
        </p:nvCxnSpPr>
        <p:spPr>
          <a:xfrm>
            <a:off x="4115880" y="1697040"/>
            <a:ext cx="6757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3407040" y="17683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5480" y="3365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95" idx="1"/>
            <a:endCxn id="512" idx="2"/>
          </p:cNvCxnSpPr>
          <p:nvPr/>
        </p:nvCxnSpPr>
        <p:spPr>
          <a:xfrm flipV="1">
            <a:off x="4790880" y="1693440"/>
            <a:ext cx="116892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5616720" y="1778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47680" y="907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0960" y="893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944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 Model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380844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Data (MASTER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oe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 and Associ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co Companies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arch Machine Too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GSF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SA (JP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54080" y="1226880"/>
            <a:ext cx="424836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graphics Solu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ST Intelligent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rence Livermore Labora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ys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vliet Arsenal (Be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eneral Dynamics Lan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ncinnati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sign 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C Associ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a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bridge Valley Mach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 Mechanical Integr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erty Consul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92520" y="7272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Review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7960" y="1208160"/>
            <a:ext cx="7564320" cy="36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control of machine tools from 3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development in Europe and Far East for 4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rning, Wire EDM, CMM others anticip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5% re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AM plann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 reduction in time to send data from CAD to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reduction in machining time for small to mid sized job 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post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, more adaptable machine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2240" y="684360"/>
            <a:ext cx="4528800" cy="3682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0096"/>
                </a:solidFill>
                <a:latin typeface="Arial"/>
              </a:rPr>
              <a:t>http://www.steptools.com/library/step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1" idx="3"/>
            <a:endCxn id="52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3" idx="1"/>
            <a:endCxn id="52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915360" y="5749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2"/>
            <a:endCxn id="63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942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ISO 6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98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30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302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5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3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6560" cy="32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91920" y="1225440"/>
            <a:ext cx="7794360" cy="4610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rnational Standard for technical data about products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 and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and configuration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ing attrib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o STEP initiated by CAD users in 198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teroperability in design and manufactu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for supply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hundred product data specialists meeting three times per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ts from Europe, Far East and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of the worlds major engineering companies represen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80M investment by aerospace, shipbuilding and automotive indus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en one million CAD stations use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ajor CAD systems have STEP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IBM supply chain from 0% in 1998 to 17% in 1999 to 30% in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extends STEP for CAM and CN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795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9360" y="89208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3D model is sent to the supplier inst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aper draw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1600" y="1633680"/>
            <a:ext cx="2707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Rayt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16760" y="512928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40720" y="514044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7640" y="513540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7" idx="3"/>
            <a:endCxn id="378" idx="1"/>
          </p:cNvCxnSpPr>
          <p:nvPr/>
        </p:nvCxnSpPr>
        <p:spPr>
          <a:xfrm>
            <a:off x="2313000" y="532260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"/>
          <p:cNvCxnSpPr>
            <a:stCxn id="379" idx="1"/>
            <a:endCxn id="378" idx="3"/>
          </p:cNvCxnSpPr>
          <p:nvPr/>
        </p:nvCxnSpPr>
        <p:spPr>
          <a:xfrm flipH="1">
            <a:off x="4861800" y="5329080"/>
            <a:ext cx="206460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3940560" y="60148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81280" y="564156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87240" y="597852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1900080" y="560520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76800" y="597852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7289640" y="560520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23760" y="5467320"/>
            <a:ext cx="10026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76320" y="5500800"/>
            <a:ext cx="10710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8" idx="2"/>
            <a:endCxn id="389" idx="2"/>
          </p:cNvCxnSpPr>
          <p:nvPr/>
        </p:nvCxnSpPr>
        <p:spPr>
          <a:xfrm flipH="1" rot="16200000">
            <a:off x="4601520" y="4782960"/>
            <a:ext cx="33840" cy="2786760"/>
          </a:xfrm>
          <a:prstGeom prst="curvedConnector5">
            <a:avLst>
              <a:gd name="adj1" fmla="val 875268"/>
              <a:gd name="adj2" fmla="val 50000"/>
              <a:gd name="adj3" fmla="val 875268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3699360" y="646740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93520" y="49989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0560" y="498492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34880" y="2705040"/>
          <a:ext cx="818532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05040"/>
                    <a:ext cx="81853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802480" y="1028880"/>
            <a:ext cx="2863800" cy="9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1 file made by design 100 are made by manufacturing – Ford 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809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3360" y="1193400"/>
            <a:ext cx="7769160" cy="465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rawings for each stage of manufacturing from 3D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e drawings with product specifications as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drawings to 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STEP-NC data containing AS-IS and TO-BE model for each manufacturing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make so many draw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gets an electronic product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fine manufacturing toler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ranslating design toler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812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040" y="95868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pplier creates the CAM plan fro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product model instead of paper draw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4160" y="1692360"/>
            <a:ext cx="3483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Lockheed Mar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60240" y="2379600"/>
          <a:ext cx="7763040" cy="22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379600"/>
                    <a:ext cx="77630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4" idx="3"/>
            <a:endCxn id="405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5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3940560" y="5803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5" idx="2"/>
            <a:endCxn id="416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45160" y="861840"/>
            <a:ext cx="31924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13M engineering hours on Boeing 777 project an estimated 8M spent on data correction and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776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3360" y="1149480"/>
            <a:ext cx="7769160" cy="47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receives dra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converts drawing into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generates RS274D from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receives 3D model with product spec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 used to initialize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generates AP-238 from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sent to CNC instead of M and G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of 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1996-02-28T13:41:35Z</cp:lastPrinted>
  <dcterms:modified xsi:type="dcterms:W3CDTF">2001-06-27T15:01:43Z</dcterms:modified>
  <cp:revision>307</cp:revision>
  <dc:subject/>
  <dc:title>STEP-NC: E-Manufacturing using STEP</dc:title>
</cp:coreProperties>
</file>