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245280"/>
            <a:ext cx="2743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F05E-81A6-4F5C-A34B-CD1C509E6E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1600"/>
            <a:ext cx="912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89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TC184/SC4 Wg3/T2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Manufactu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Tool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-15, 2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Francisco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pnc-text-only" descr=""/>
          <p:cNvPicPr/>
          <p:nvPr/>
        </p:nvPicPr>
        <p:blipFill>
          <a:blip r:embed="rId1"/>
          <a:stretch/>
        </p:blipFill>
        <p:spPr>
          <a:xfrm>
            <a:off x="6885000" y="488880"/>
            <a:ext cx="1714320" cy="514440"/>
          </a:xfrm>
          <a:prstGeom prst="rect">
            <a:avLst/>
          </a:prstGeom>
          <a:ln w="0">
            <a:noFill/>
          </a:ln>
        </p:spPr>
      </p:pic>
      <p:pic>
        <p:nvPicPr>
          <p:cNvPr id="45" name="stepnc-smp-part" descr=""/>
          <p:cNvPicPr/>
          <p:nvPr/>
        </p:nvPicPr>
        <p:blipFill>
          <a:blip r:embed="rId2"/>
          <a:stretch/>
        </p:blipFill>
        <p:spPr>
          <a:xfrm>
            <a:off x="6153120" y="3384720"/>
            <a:ext cx="2809800" cy="2163600"/>
          </a:xfrm>
          <a:prstGeom prst="rect">
            <a:avLst/>
          </a:prstGeom>
          <a:ln w="0">
            <a:noFill/>
          </a:ln>
        </p:spPr>
      </p:pic>
      <p:pic>
        <p:nvPicPr>
          <p:cNvPr id="46" name="irb-milling-fancy" descr=""/>
          <p:cNvPicPr/>
          <p:nvPr/>
        </p:nvPicPr>
        <p:blipFill>
          <a:blip r:embed="rId3"/>
          <a:stretch/>
        </p:blipFill>
        <p:spPr>
          <a:xfrm>
            <a:off x="657360" y="3349800"/>
            <a:ext cx="132372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domo E-mail expl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ep-manufacturing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ttp://www.steptools.com/manfor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questions and additions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ardwick@steptools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g3/ T24 San Francisco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30160"/>
            <a:ext cx="7772400" cy="36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19 Harmonization with STEP-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 STEP-NC Demon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rean STEP-NC Demon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 EDM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review of Tool Model ISO 133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results of ISO 14649 Ballot Resolution Worksh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-238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M machines AP-219 and STEP-N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9 to describe input and output data for CM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to describe control of CMM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rea and ISW Turning models to be harm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of SC1 Frankfurt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 of Units needs to be finalized in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will change vote on 14649-10 DIS from “NO” to “YES” when acceptable text on units is in a draft of th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ssues remain on “In-process” features and machine requiremen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21:29:14Z</dcterms:created>
  <dc:creator>Larry McKee</dc:creator>
  <dc:description/>
  <dc:language>en-US</dc:language>
  <cp:lastModifiedBy>hardwick</cp:lastModifiedBy>
  <cp:lastPrinted>1999-11-03T02:14:05Z</cp:lastPrinted>
  <dcterms:modified xsi:type="dcterms:W3CDTF">2001-06-14T22:39:47Z</dcterms:modified>
  <cp:revision>130</cp:revision>
  <dc:subject/>
  <dc:title>Implementors Fo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larrym@us.ib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tepimp\02200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