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D0A-6850-456C-9463-057455AF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A16-9D12-45DE-B33E-D2542FCA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A63-541C-4A35-A942-19D1D0F6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D13-C5F8-4CEB-9388-0252FE52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764-BC69-4257-87AA-63ABF9B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D0C-636A-41BA-AFB4-EE36773A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31E-E743-4B7A-AF3E-B92DED5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8DB-BC28-449A-B1A3-6E724714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8FD-D4C4-47C0-819B-5819FA56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CB6-0E03-463C-B3E4-8EDAC7D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552-A20C-432A-968A-5FE6E499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0E3-B636-4564-B185-7B12C92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D35-AAF9-49D0-B7B3-FBD318D5A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 TC29 WG34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Frans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 of ISO 13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problems have been identified and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IS draft will rest or be with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has been reorganized with a Task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sk force will provide a new part 1 draft by October containing objectives, scope and the global parts of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ization with STEP and P-lib will be highligh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have a standard in a computer processabl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y using STEP and P-LIB formal information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boundary between ISO 13399 standard and ISO TC184/SC4 and ISO 14649 to be clarified in liaison with manufacturing project in TC184/SC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arify the way the standard will handle 2D and 3D representation of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view the structure to avoid multiple parts to be revised when new tool families  are 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art 1 dealing with general information about inserts, tool families, adapters and accesso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parts with detailed information for each of the above catego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to be achieve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tructure shall allow one tool family to be described without waiting for the other tool families to be rea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ubsequent revisions of each part shall ensure upward compat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use as much as possible of the current ISO 13399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LIVERA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art 1 as advanced as possible with a global idea of what the standard will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global idea of the organisation and links of the other parts and a sketch of another part than Part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get dates for the first parts of  the standard to be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GET DATE : OCTOBER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52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30592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hol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 - 27 Information 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8 - 30 Taskforc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31 WG3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TC29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in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52388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52388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ol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523880"/>
            <a:ext cx="1905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0481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048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1 Coup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-1 Coup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4065" t="14584" r="37502" b="36462"/>
          <a:stretch/>
        </p:blipFill>
        <p:spPr>
          <a:xfrm>
            <a:off x="914400" y="3809880"/>
            <a:ext cx="159372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4065" t="14584" r="12500" b="25004"/>
          <a:stretch/>
        </p:blipFill>
        <p:spPr>
          <a:xfrm>
            <a:off x="2743200" y="5410080"/>
            <a:ext cx="175248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4065" t="15627" r="24220" b="27086"/>
          <a:stretch/>
        </p:blipFill>
        <p:spPr>
          <a:xfrm flipH="1">
            <a:off x="2590920" y="3886200"/>
            <a:ext cx="2063520" cy="1436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4065" t="14584" r="28126" b="6251"/>
          <a:stretch/>
        </p:blipFill>
        <p:spPr>
          <a:xfrm>
            <a:off x="4952880" y="3733920"/>
            <a:ext cx="155736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20574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re Parts 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0574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s and Solid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 carriers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523880"/>
            <a:ext cx="1904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s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2057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ert carriers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parts of the cutting too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18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20:29:18Z</dcterms:created>
  <dc:creator>DS2176</dc:creator>
  <dc:description/>
  <dc:language>en-US</dc:language>
  <cp:lastModifiedBy>hardwick</cp:lastModifiedBy>
  <dcterms:modified xsi:type="dcterms:W3CDTF">2001-06-26T14:15:11Z</dcterms:modified>
  <cp:revision>9</cp:revision>
  <dc:subject/>
  <dc:title>ISO TC184 SC4</dc:title>
</cp:coreProperties>
</file>