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7760" y="75960"/>
            <a:ext cx="908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322200"/>
            <a:ext cx="96361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8200" y="617400"/>
            <a:ext cx="8986680" cy="17640"/>
          </a:xfrm>
          <a:custGeom>
            <a:avLst/>
            <a:gdLst/>
            <a:ahLst/>
            <a:rect l="l" t="t" r="r" b="b"/>
            <a:pathLst>
              <a:path w="566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5660" y="11"/>
                </a:lnTo>
                <a:lnTo>
                  <a:pt x="5660" y="10"/>
                </a:lnTo>
                <a:lnTo>
                  <a:pt x="5661" y="10"/>
                </a:lnTo>
                <a:lnTo>
                  <a:pt x="5661" y="2"/>
                </a:lnTo>
                <a:lnTo>
                  <a:pt x="5660" y="2"/>
                </a:lnTo>
                <a:lnTo>
                  <a:pt x="5660" y="0"/>
                </a:lnTo>
                <a:lnTo>
                  <a:pt x="565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986680" cy="19080"/>
          </a:xfrm>
          <a:custGeom>
            <a:avLst/>
            <a:gdLst/>
            <a:ahLst/>
            <a:rect l="l" t="t" r="r" b="b"/>
            <a:pathLst>
              <a:path w="566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5660" y="12"/>
                </a:lnTo>
                <a:lnTo>
                  <a:pt x="5660" y="10"/>
                </a:lnTo>
                <a:lnTo>
                  <a:pt x="5661" y="10"/>
                </a:lnTo>
                <a:lnTo>
                  <a:pt x="5661" y="2"/>
                </a:lnTo>
                <a:lnTo>
                  <a:pt x="5660" y="2"/>
                </a:lnTo>
                <a:lnTo>
                  <a:pt x="5660" y="0"/>
                </a:lnTo>
                <a:lnTo>
                  <a:pt x="565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stepnc1" descr=""/>
          <p:cNvPicPr/>
          <p:nvPr/>
        </p:nvPicPr>
        <p:blipFill>
          <a:blip r:embed="rId2"/>
          <a:stretch/>
        </p:blipFill>
        <p:spPr>
          <a:xfrm>
            <a:off x="1828800" y="6232680"/>
            <a:ext cx="1066680" cy="625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381960" y="6056280"/>
            <a:ext cx="88920" cy="87480"/>
          </a:xfrm>
          <a:custGeom>
            <a:avLst/>
            <a:gdLst/>
            <a:ahLst/>
            <a:rect l="l" t="t" r="r" b="b"/>
            <a:pathLst>
              <a:path w="56" h="55">
                <a:moveTo>
                  <a:pt x="12" y="0"/>
                </a:moveTo>
                <a:lnTo>
                  <a:pt x="56" y="0"/>
                </a:lnTo>
                <a:lnTo>
                  <a:pt x="37" y="34"/>
                </a:lnTo>
                <a:lnTo>
                  <a:pt x="56" y="34"/>
                </a:lnTo>
                <a:lnTo>
                  <a:pt x="56" y="55"/>
                </a:lnTo>
                <a:lnTo>
                  <a:pt x="0" y="55"/>
                </a:lnTo>
                <a:lnTo>
                  <a:pt x="23" y="17"/>
                </a:lnTo>
                <a:lnTo>
                  <a:pt x="4" y="1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279000" y="6062760"/>
            <a:ext cx="122040" cy="83880"/>
          </a:xfrm>
          <a:custGeom>
            <a:avLst/>
            <a:gdLst/>
            <a:ahLst/>
            <a:rect l="l" t="t" r="r" b="b"/>
            <a:pathLst>
              <a:path w="77" h="53">
                <a:moveTo>
                  <a:pt x="0" y="0"/>
                </a:moveTo>
                <a:lnTo>
                  <a:pt x="0" y="53"/>
                </a:lnTo>
                <a:lnTo>
                  <a:pt x="17" y="53"/>
                </a:lnTo>
                <a:lnTo>
                  <a:pt x="27" y="34"/>
                </a:lnTo>
                <a:lnTo>
                  <a:pt x="27" y="53"/>
                </a:lnTo>
                <a:lnTo>
                  <a:pt x="46" y="53"/>
                </a:lnTo>
                <a:lnTo>
                  <a:pt x="77" y="0"/>
                </a:lnTo>
                <a:lnTo>
                  <a:pt x="60" y="0"/>
                </a:lnTo>
                <a:lnTo>
                  <a:pt x="48" y="17"/>
                </a:lnTo>
                <a:lnTo>
                  <a:pt x="48" y="0"/>
                </a:lnTo>
                <a:lnTo>
                  <a:pt x="29" y="0"/>
                </a:lnTo>
                <a:lnTo>
                  <a:pt x="23" y="17"/>
                </a:lnTo>
                <a:lnTo>
                  <a:pt x="2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epfl" descr=""/>
          <p:cNvPicPr/>
          <p:nvPr/>
        </p:nvPicPr>
        <p:blipFill>
          <a:blip r:embed="rId3"/>
          <a:stretch/>
        </p:blipFill>
        <p:spPr>
          <a:xfrm>
            <a:off x="2819520" y="6215040"/>
            <a:ext cx="1143000" cy="5605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D:/98.03%20-%20IMS-STEP%20NC/Meetings/EPFL%2016.05.2001/tree.ppt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epnc1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3002040" cy="175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609480"/>
            <a:ext cx="480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wissGroup Meeting of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RIT Project EP29708: STEP-N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5410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Compliant Data 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umerical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3720" y="449568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6.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2096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P5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del non-mi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tus of Wire EDM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61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version of the wire_edm_schema has been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chining_sche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defining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manufactur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machin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25780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 model of the wire_edm_schema is cre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degou1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514600" cy="169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04880" y="480060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naral path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3048120"/>
            <a:ext cx="5257800" cy="1600200"/>
            <a:chOff x="685800" y="3048120"/>
            <a:chExt cx="5257800" cy="1600200"/>
          </a:xfrm>
        </p:grpSpPr>
        <p:pic>
          <p:nvPicPr>
            <p:cNvPr id="57" name="" descr=""/>
            <p:cNvPicPr/>
            <p:nvPr/>
          </p:nvPicPr>
          <p:blipFill>
            <a:blip r:embed="rId2"/>
            <a:srcRect l="20968" t="3036" r="19054" b="0"/>
            <a:stretch/>
          </p:blipFill>
          <p:spPr>
            <a:xfrm>
              <a:off x="685800" y="3066120"/>
              <a:ext cx="1573920" cy="15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YL_CORNER" descr=""/>
            <p:cNvPicPr/>
            <p:nvPr/>
          </p:nvPicPr>
          <p:blipFill>
            <a:blip r:embed="rId3"/>
            <a:srcRect l="20770" t="3413" r="19179" b="7721"/>
            <a:stretch/>
          </p:blipFill>
          <p:spPr>
            <a:xfrm>
              <a:off x="2528640" y="3072600"/>
              <a:ext cx="1624680" cy="14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SHARP_CORNER" descr=""/>
            <p:cNvPicPr/>
            <p:nvPr/>
          </p:nvPicPr>
          <p:blipFill>
            <a:blip r:embed="rId4"/>
            <a:srcRect l="22242" t="3904" r="20091" b="0"/>
            <a:stretch/>
          </p:blipFill>
          <p:spPr>
            <a:xfrm>
              <a:off x="4453200" y="3048120"/>
              <a:ext cx="1490400" cy="154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744480" y="4800600"/>
            <a:ext cx="458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) Conical (b) Constant radius and (c) sharp 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143000"/>
            <a:ext cx="6705720" cy="1219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286000"/>
            <a:ext cx="152424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Arial"/>
              </a:rPr>
              <a:t>Context of wire_edm_schema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066680"/>
            <a:ext cx="6629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1560" y="11430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SO 10303(STE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447920"/>
            <a:ext cx="129528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447920"/>
            <a:ext cx="129564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447920"/>
            <a:ext cx="129528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447920"/>
            <a:ext cx="129564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523880"/>
            <a:ext cx="129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EP AP 2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eometry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523880"/>
            <a:ext cx="1290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EP AP 2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440" y="1523880"/>
            <a:ext cx="129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EP Part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yntax for 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320" y="1523880"/>
            <a:ext cx="129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EP Part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delling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743200"/>
            <a:ext cx="3581280" cy="2971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666880"/>
            <a:ext cx="354024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1920" y="28195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352680"/>
            <a:ext cx="259056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4290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t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neral proces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648320"/>
            <a:ext cx="129528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724280"/>
            <a:ext cx="127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t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lling/Dr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28800" y="42667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819520"/>
            <a:ext cx="3581280" cy="2971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2743200"/>
            <a:ext cx="354024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7400" y="29718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wire_edm_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65760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81480" y="1981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77120" y="2057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3800" y="342792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n conn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429000"/>
            <a:ext cx="3352680" cy="1828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124080" cy="57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0780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Arial"/>
              </a:rPr>
              <a:t>Connection point for wire_edm machining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037960" y="4680000"/>
            <a:ext cx="1397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37960" y="5267160"/>
            <a:ext cx="18478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37960" y="5853240"/>
            <a:ext cx="18478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4880" y="1501920"/>
            <a:ext cx="170172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880" y="2087640"/>
            <a:ext cx="1697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56120" y="2735280"/>
            <a:ext cx="123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38320" y="3508200"/>
            <a:ext cx="1397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38320" y="4094280"/>
            <a:ext cx="1397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144880" y="1030320"/>
            <a:ext cx="1885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0560" y="923760"/>
            <a:ext cx="126360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0560" y="923760"/>
            <a:ext cx="1262160" cy="23040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22880" y="976320"/>
            <a:ext cx="75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, 1, identif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28320" y="3311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3560" y="4094280"/>
            <a:ext cx="69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lanar_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2840" y="4680000"/>
            <a:ext cx="92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thogonal_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1400" y="5267160"/>
            <a:ext cx="139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urface_roughness_bott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0320" y="5853240"/>
            <a:ext cx="131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urface_roughness_si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9280" y="1278000"/>
            <a:ext cx="1952640" cy="463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9280" y="1278000"/>
            <a:ext cx="1950840" cy="46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9280" y="1432080"/>
            <a:ext cx="1950840" cy="24444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97160" y="1447920"/>
            <a:ext cx="169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workpie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4600" y="1855800"/>
            <a:ext cx="2549520" cy="46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4600" y="1855800"/>
            <a:ext cx="2547720" cy="46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4600" y="2009880"/>
            <a:ext cx="2547720" cy="19980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7240" y="2023920"/>
            <a:ext cx="214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chining_schema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_ope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8640" y="2514600"/>
            <a:ext cx="2549520" cy="46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8640" y="2514600"/>
            <a:ext cx="2548080" cy="46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8640" y="2668680"/>
            <a:ext cx="2548080" cy="22680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68272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chining_schema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xis2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_placement_3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48160" y="3276720"/>
            <a:ext cx="2977920" cy="463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8160" y="3276720"/>
            <a:ext cx="297648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48160" y="3430440"/>
            <a:ext cx="2976480" cy="22716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6880" y="3444840"/>
            <a:ext cx="2689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toleranced_length_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48160" y="3863880"/>
            <a:ext cx="29779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48160" y="3863880"/>
            <a:ext cx="2976480" cy="461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48160" y="3962520"/>
            <a:ext cx="2976480" cy="25056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12320" y="4032360"/>
            <a:ext cx="2689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toleranced_length_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48160" y="4449600"/>
            <a:ext cx="29779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8160" y="4449600"/>
            <a:ext cx="2976480" cy="46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48160" y="4603680"/>
            <a:ext cx="2976480" cy="152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28240" y="4618080"/>
            <a:ext cx="24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chining_schema.toleranced_length_meas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5035680"/>
            <a:ext cx="252720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8880" y="5035680"/>
            <a:ext cx="252576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98880" y="5189400"/>
            <a:ext cx="2525760" cy="1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0960" y="5203800"/>
            <a:ext cx="20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chining_schema.property_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8880" y="5621400"/>
            <a:ext cx="2527200" cy="46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8880" y="5621400"/>
            <a:ext cx="2525760" cy="46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98880" y="5775480"/>
            <a:ext cx="2525760" cy="24444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0400" y="5789520"/>
            <a:ext cx="223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property_param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6600" y="145260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6600" y="145260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41920" y="203040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41920" y="203040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5960" y="267804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95960" y="267804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35480" y="345132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5480" y="345132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35480" y="403848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5480" y="403848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5480" y="462456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5480" y="462456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521028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21028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579744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5797440"/>
            <a:ext cx="11268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11200" y="103032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ts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09760" y="1501920"/>
            <a:ext cx="69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ts_workpie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8320" y="2087640"/>
            <a:ext cx="1050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ts_operations S[0:?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5440" y="258300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eature_pla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5360" y="35082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914400"/>
            <a:ext cx="191772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914400"/>
            <a:ext cx="1916280" cy="14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720" y="152388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nufacturing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514600"/>
            <a:ext cx="238104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514600"/>
            <a:ext cx="2379600" cy="46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96840" y="2666880"/>
            <a:ext cx="205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wo5D_manufacturing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276720"/>
            <a:ext cx="1657440" cy="28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276720"/>
            <a:ext cx="1657440" cy="28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9680" y="4618080"/>
            <a:ext cx="125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2360" y="3164040"/>
            <a:ext cx="11304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2360" y="3164040"/>
            <a:ext cx="113040" cy="11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7080" y="2841480"/>
            <a:ext cx="11268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1120" y="2682720"/>
            <a:ext cx="112680" cy="11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4" idx="2"/>
            <a:endCxn id="175" idx="2"/>
          </p:cNvCxnSpPr>
          <p:nvPr/>
        </p:nvCxnSpPr>
        <p:spPr>
          <a:xfrm flipH="1" rot="16200000">
            <a:off x="1173960" y="2332440"/>
            <a:ext cx="421200" cy="394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7" idx="2"/>
            <a:endCxn id="173" idx="0"/>
          </p:cNvCxnSpPr>
          <p:nvPr/>
        </p:nvCxnSpPr>
        <p:spPr>
          <a:xfrm rot="5400000">
            <a:off x="1944720" y="2242440"/>
            <a:ext cx="186480" cy="1658160"/>
          </a:xfrm>
          <a:prstGeom prst="bentConnector3">
            <a:avLst>
              <a:gd name="adj1" fmla="val 49516"/>
            </a:avLst>
          </a:prstGeom>
          <a:ln w="28440">
            <a:solidFill>
              <a:srgbClr val="000000"/>
            </a:solidFill>
            <a:miter/>
          </a:ln>
        </p:spPr>
      </p:cxn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458200" y="5334120"/>
            <a:ext cx="880920" cy="703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95120" y="55303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oc Fi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458200" y="4375080"/>
            <a:ext cx="880920" cy="703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305120" y="457164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TML Fi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Arial"/>
              </a:rPr>
              <a:t>Connection point for wire_edm op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728720" y="1174680"/>
            <a:ext cx="1959120" cy="180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990600" y="2795760"/>
            <a:ext cx="1793880" cy="144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990960" y="3857760"/>
            <a:ext cx="2060640" cy="144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990600" y="4518000"/>
            <a:ext cx="2111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990960" y="5180040"/>
            <a:ext cx="2354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28720" y="1836720"/>
            <a:ext cx="1386000" cy="144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90960" y="5842080"/>
            <a:ext cx="18446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990600" y="2263680"/>
            <a:ext cx="33066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990960" y="3325680"/>
            <a:ext cx="2811600" cy="180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97560" y="2133720"/>
            <a:ext cx="142740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97560" y="2133720"/>
            <a:ext cx="1425600" cy="26028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9840" y="2193840"/>
            <a:ext cx="75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, 1, identif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02560" y="3195720"/>
            <a:ext cx="192240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2560" y="3195720"/>
            <a:ext cx="1920600" cy="26028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720" y="3255840"/>
            <a:ext cx="118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, 2, length_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18800" y="117468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toolp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19520" y="1836720"/>
            <a:ext cx="94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tool_dir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81040" y="2795760"/>
            <a:ext cx="129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machining_strate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80680" y="332568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tract_pla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80320" y="3857760"/>
            <a:ext cx="82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ut_start_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4920" y="914400"/>
            <a:ext cx="2330280" cy="52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14920" y="914400"/>
            <a:ext cx="2328840" cy="52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4920" y="1087560"/>
            <a:ext cx="2328840" cy="17280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73760" y="1103400"/>
            <a:ext cx="179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toolpath_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3240" y="1576440"/>
            <a:ext cx="29019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3240" y="1576440"/>
            <a:ext cx="2900520" cy="520560"/>
          </a:xfrm>
          <a:prstGeom prst="rect">
            <a:avLst/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3240" y="1749600"/>
            <a:ext cx="2900520" cy="17280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46360" y="1765440"/>
            <a:ext cx="227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tool_direction_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11920" y="2533680"/>
            <a:ext cx="281304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11920" y="2533680"/>
            <a:ext cx="2811240" cy="5223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1920" y="2708280"/>
            <a:ext cx="2811240" cy="1731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0640" y="2724120"/>
            <a:ext cx="221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machining_strate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8680" y="3595680"/>
            <a:ext cx="254628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8680" y="3595680"/>
            <a:ext cx="2544480" cy="522360"/>
          </a:xfrm>
          <a:prstGeom prst="rect">
            <a:avLst/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8680" y="3770280"/>
            <a:ext cx="2544480" cy="17316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54440" y="3786120"/>
            <a:ext cx="198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cartesian_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9440" y="4257720"/>
            <a:ext cx="2495520" cy="52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29440" y="4257720"/>
            <a:ext cx="2493720" cy="52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29440" y="4430880"/>
            <a:ext cx="2493720" cy="17280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84320" y="4446720"/>
            <a:ext cx="19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machining_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2080" y="4919760"/>
            <a:ext cx="2252880" cy="52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2080" y="4919760"/>
            <a:ext cx="2251080" cy="520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2080" y="5092560"/>
            <a:ext cx="2251080" cy="1731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22280" y="51084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62680" y="5580000"/>
            <a:ext cx="276228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62680" y="5580000"/>
            <a:ext cx="2760480" cy="5223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2680" y="5754600"/>
            <a:ext cx="2760480" cy="1731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6720" y="5770440"/>
            <a:ext cx="217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chining_schema.machine_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7840" y="1111320"/>
            <a:ext cx="127080" cy="12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1111320"/>
            <a:ext cx="127080" cy="1270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1773360"/>
            <a:ext cx="128520" cy="12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14720" y="1773360"/>
            <a:ext cx="128520" cy="12672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84840" y="2732040"/>
            <a:ext cx="127080" cy="12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84840" y="2732040"/>
            <a:ext cx="127080" cy="1270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51600" y="3794040"/>
            <a:ext cx="127080" cy="12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51600" y="3794040"/>
            <a:ext cx="127080" cy="1270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02360" y="4454640"/>
            <a:ext cx="127080" cy="12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2360" y="4454640"/>
            <a:ext cx="127080" cy="12672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45360" y="5116680"/>
            <a:ext cx="126720" cy="12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5360" y="5116680"/>
            <a:ext cx="126720" cy="12672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35600" y="5778360"/>
            <a:ext cx="127080" cy="12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35600" y="5778360"/>
            <a:ext cx="127080" cy="1270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81400" y="226368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81400" y="451800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80320" y="518004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81040" y="584208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ts_machine_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914400"/>
            <a:ext cx="1273320" cy="11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914400"/>
            <a:ext cx="1271520" cy="11826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8000" y="143496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ABS)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2209680"/>
            <a:ext cx="1981440" cy="3733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2209680"/>
            <a:ext cx="1981440" cy="3733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9360" y="4038480"/>
            <a:ext cx="18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ABS)machining_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962520"/>
            <a:ext cx="127080" cy="12672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0" idx="2"/>
            <a:endCxn id="255" idx="2"/>
          </p:cNvCxnSpPr>
          <p:nvPr/>
        </p:nvCxnSpPr>
        <p:spPr>
          <a:xfrm flipH="1" rot="16200000">
            <a:off x="496800" y="2700000"/>
            <a:ext cx="1923120" cy="72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0" y="2286000"/>
            <a:ext cx="2971800" cy="327672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276720"/>
              <a:gd name="textAreaBottom" fmla="*/ 3131640 h 3276720"/>
            </a:gdLst>
            <a:ahLst/>
            <a:rect l="textAreaLeft" t="textAreaTop" r="textAreaRight" b="textAreaBottom"/>
            <a:pathLst>
              <a:path w="21600" h="23816">
                <a:moveTo>
                  <a:pt x="3600" y="0"/>
                </a:moveTo>
                <a:arcTo wR="3600" hR="3600" stAng="16200000" swAng="-5400000"/>
                <a:lnTo>
                  <a:pt x="0" y="20216"/>
                </a:lnTo>
                <a:arcTo wR="3600" hR="3600" stAng="10800000" swAng="-5400000"/>
                <a:lnTo>
                  <a:pt x="18000" y="23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est program to generate example Part 21 f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1143000"/>
            <a:ext cx="213336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143000"/>
            <a:ext cx="213372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_edm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4348800">
            <a:off x="1447560" y="205704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6928200">
            <a:off x="3085200" y="2095560"/>
            <a:ext cx="1295640" cy="609480"/>
          </a:xfrm>
          <a:prstGeom prst="rightArrow">
            <a:avLst>
              <a:gd name="adj1" fmla="val 50000"/>
              <a:gd name="adj2" fmla="val 53145"/>
            </a:avLst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371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17920" y="290664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-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stlogo_sm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98520" cy="784080"/>
          </a:xfrm>
          <a:prstGeom prst="rect">
            <a:avLst/>
          </a:prstGeom>
          <a:ln w="0">
            <a:noFill/>
          </a:ln>
        </p:spPr>
      </p:pic>
      <p:pic>
        <p:nvPicPr>
          <p:cNvPr id="266" name="vc_banner" descr=""/>
          <p:cNvPicPr/>
          <p:nvPr/>
        </p:nvPicPr>
        <p:blipFill>
          <a:blip r:embed="rId2"/>
          <a:stretch/>
        </p:blipFill>
        <p:spPr>
          <a:xfrm>
            <a:off x="4952880" y="434664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581280" y="35053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gradFill rotWithShape="0">
            <a:gsLst>
              <a:gs pos="0">
                <a:srgbClr val="ff9900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3048120"/>
            <a:ext cx="1447560" cy="160020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1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657600"/>
            <a:ext cx="609840" cy="609480"/>
          </a:xfrm>
          <a:prstGeom prst="leftRightArrow">
            <a:avLst>
              <a:gd name="adj1" fmla="val 50000"/>
              <a:gd name="adj2" fmla="val 1991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2666880"/>
            <a:ext cx="243828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114800"/>
            <a:ext cx="24382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760" y="2286000"/>
            <a:ext cx="21589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_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_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_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_working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piece_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et_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_edm_machining_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_edm__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2971800"/>
            <a:ext cx="1828800" cy="205740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 conc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Document-View Structure of TestED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762120"/>
            <a:ext cx="4190760" cy="1523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Handle the database reading/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Contains the Windows Message Hand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unctions that handles the context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op-up menu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114800"/>
            <a:ext cx="4191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4114800"/>
            <a:ext cx="4191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5480" y="2057400"/>
            <a:ext cx="20934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estEDM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01760" y="3886200"/>
            <a:ext cx="224568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estEDM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44080" y="3886200"/>
            <a:ext cx="211176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foTre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2"/>
            <a:endCxn id="279" idx="0"/>
          </p:cNvCxnSpPr>
          <p:nvPr/>
        </p:nvCxnSpPr>
        <p:spPr>
          <a:xfrm rot="5400000">
            <a:off x="2772360" y="2176560"/>
            <a:ext cx="1362960" cy="205776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8" idx="2"/>
            <a:endCxn id="280" idx="0"/>
          </p:cNvCxnSpPr>
          <p:nvPr/>
        </p:nvCxnSpPr>
        <p:spPr>
          <a:xfrm flipH="1" rot="16200000">
            <a:off x="4910760" y="2095920"/>
            <a:ext cx="1362960" cy="2218320"/>
          </a:xfrm>
          <a:prstGeom prst="bentConnector3">
            <a:avLst>
              <a:gd name="adj1" fmla="val 4998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78" idx="1"/>
          </p:cNvCxnSpPr>
          <p:nvPr/>
        </p:nvCxnSpPr>
        <p:spPr>
          <a:xfrm flipH="1" rot="10800000">
            <a:off x="1294200" y="2289960"/>
            <a:ext cx="2134440" cy="1829520"/>
          </a:xfrm>
          <a:prstGeom prst="curvedConnector5">
            <a:avLst>
              <a:gd name="adj1" fmla="val -10711"/>
              <a:gd name="adj2" fmla="val 49990"/>
              <a:gd name="adj3" fmla="val -10711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84" name=""/>
          <p:cNvCxnSpPr>
            <a:stCxn id="280" idx="3"/>
            <a:endCxn id="278" idx="3"/>
          </p:cNvCxnSpPr>
          <p:nvPr/>
        </p:nvCxnSpPr>
        <p:spPr>
          <a:xfrm flipH="1" flipV="1">
            <a:off x="5535360" y="2290320"/>
            <a:ext cx="2226240" cy="1829520"/>
          </a:xfrm>
          <a:prstGeom prst="curvedConnector5">
            <a:avLst>
              <a:gd name="adj1" fmla="val -10270"/>
              <a:gd name="adj2" fmla="val 49990"/>
              <a:gd name="adj3" fmla="val -10270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 rot="20006400">
            <a:off x="763200" y="228564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Docu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965400">
            <a:off x="6512760" y="2209320"/>
            <a:ext cx="17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Docu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1523880"/>
            <a:ext cx="1066680" cy="457200"/>
          </a:xfrm>
          <a:prstGeom prst="wedgeRoundRectCallout">
            <a:avLst>
              <a:gd name="adj1" fmla="val -50000"/>
              <a:gd name="adj2" fmla="val 9513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4572000"/>
            <a:ext cx="3886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Draw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Handle special drawing settings like grid          origi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5720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raw the schema_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Handle context sensitive pop-up m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Handle resource drag and dr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7760" y="75960"/>
            <a:ext cx="908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chema tree buil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048120"/>
            <a:ext cx="3809880" cy="2971800"/>
          </a:xfrm>
          <a:prstGeom prst="wedgeRoundRectCallout">
            <a:avLst>
              <a:gd name="adj1" fmla="val 43583"/>
              <a:gd name="adj2" fmla="val -69550"/>
              <a:gd name="adj3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4" idx="0"/>
          </p:cNvCxnSpPr>
          <p:nvPr/>
        </p:nvCxnSpPr>
        <p:spPr>
          <a:xfrm>
            <a:off x="5454720" y="2304720"/>
            <a:ext cx="1715040" cy="188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4540320" y="1231920"/>
            <a:ext cx="990360" cy="36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ject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21000" y="2070000"/>
            <a:ext cx="2133720" cy="45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ertProjec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5" idx="2"/>
            <a:endCxn id="293" idx="0"/>
          </p:cNvCxnSpPr>
          <p:nvPr/>
        </p:nvCxnSpPr>
        <p:spPr>
          <a:xfrm rot="5400000">
            <a:off x="4482000" y="1516680"/>
            <a:ext cx="459360" cy="648360"/>
          </a:xfrm>
          <a:prstGeom prst="bentConnector3">
            <a:avLst>
              <a:gd name="adj1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5302080" y="2984400"/>
            <a:ext cx="2514600" cy="45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ertWorkpiece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78400" y="4572000"/>
            <a:ext cx="2438280" cy="45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ertWorkplan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16480" y="1066680"/>
            <a:ext cx="2514600" cy="106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TestEDM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5" idx="0"/>
            <a:endCxn id="299" idx="1"/>
          </p:cNvCxnSpPr>
          <p:nvPr/>
        </p:nvCxnSpPr>
        <p:spPr>
          <a:xfrm flipH="1" rot="16200000">
            <a:off x="5441760" y="824400"/>
            <a:ext cx="369000" cy="1181520"/>
          </a:xfrm>
          <a:prstGeom prst="bentConnector4">
            <a:avLst>
              <a:gd name="adj1" fmla="val -62011"/>
              <a:gd name="adj2" fmla="val 70953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5148360" y="6094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et the root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93" idx="2"/>
            <a:endCxn id="297" idx="1"/>
          </p:cNvCxnSpPr>
          <p:nvPr/>
        </p:nvCxnSpPr>
        <p:spPr>
          <a:xfrm flipH="1" rot="16200000">
            <a:off x="4505040" y="2422080"/>
            <a:ext cx="680040" cy="9151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3" idx="2"/>
            <a:endCxn id="298" idx="1"/>
          </p:cNvCxnSpPr>
          <p:nvPr/>
        </p:nvCxnSpPr>
        <p:spPr>
          <a:xfrm flipH="1" rot="16200000">
            <a:off x="3749400" y="3177720"/>
            <a:ext cx="226764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369120" y="2603520"/>
            <a:ext cx="1447560" cy="36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Workpiece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1400" y="4191120"/>
            <a:ext cx="1295280" cy="36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Workplan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4" idx="3"/>
            <a:endCxn id="297" idx="3"/>
          </p:cNvCxnSpPr>
          <p:nvPr/>
        </p:nvCxnSpPr>
        <p:spPr>
          <a:xfrm>
            <a:off x="7816320" y="2793960"/>
            <a:ext cx="2520" cy="426240"/>
          </a:xfrm>
          <a:prstGeom prst="bentConnector3">
            <a:avLst>
              <a:gd name="adj1" fmla="val 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4" idx="3"/>
            <a:endCxn id="298" idx="3"/>
          </p:cNvCxnSpPr>
          <p:nvPr/>
        </p:nvCxnSpPr>
        <p:spPr>
          <a:xfrm>
            <a:off x="7816320" y="4381560"/>
            <a:ext cx="2520" cy="426240"/>
          </a:xfrm>
          <a:prstGeom prst="bentConnector3">
            <a:avLst>
              <a:gd name="adj1" fmla="val 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3" idx="3"/>
            <a:endCxn id="304" idx="0"/>
          </p:cNvCxnSpPr>
          <p:nvPr/>
        </p:nvCxnSpPr>
        <p:spPr>
          <a:xfrm>
            <a:off x="5454360" y="2304720"/>
            <a:ext cx="1639080" cy="29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5135760" y="54230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93" idx="2"/>
            <a:endCxn id="308" idx="1"/>
          </p:cNvCxnSpPr>
          <p:nvPr/>
        </p:nvCxnSpPr>
        <p:spPr>
          <a:xfrm flipH="1" rot="16200000">
            <a:off x="3204000" y="3722400"/>
            <a:ext cx="3112200" cy="747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8352000" y="5194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52000" y="3365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297" idx="2"/>
            <a:endCxn id="311" idx="1"/>
          </p:cNvCxnSpPr>
          <p:nvPr/>
        </p:nvCxnSpPr>
        <p:spPr>
          <a:xfrm flipH="1" rot="16200000">
            <a:off x="7385040" y="2628720"/>
            <a:ext cx="140400" cy="1791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8352000" y="3746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297" idx="2"/>
            <a:endCxn id="313" idx="1"/>
          </p:cNvCxnSpPr>
          <p:nvPr/>
        </p:nvCxnSpPr>
        <p:spPr>
          <a:xfrm flipH="1" rot="16200000">
            <a:off x="7194600" y="2819160"/>
            <a:ext cx="521280" cy="1791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8" idx="2"/>
            <a:endCxn id="310" idx="1"/>
          </p:cNvCxnSpPr>
          <p:nvPr/>
        </p:nvCxnSpPr>
        <p:spPr>
          <a:xfrm flipH="1" rot="16200000">
            <a:off x="7283160" y="4355640"/>
            <a:ext cx="381960" cy="1753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533520" y="3200400"/>
            <a:ext cx="91440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849840"/>
            <a:ext cx="99072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6" idx="2"/>
            <a:endCxn id="317" idx="1"/>
          </p:cNvCxnSpPr>
          <p:nvPr/>
        </p:nvCxnSpPr>
        <p:spPr>
          <a:xfrm flipH="1" rot="16200000">
            <a:off x="1430280" y="3166560"/>
            <a:ext cx="416520" cy="1296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370880" y="371160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4498920"/>
            <a:ext cx="14475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pi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6" idx="2"/>
            <a:endCxn id="320" idx="1"/>
          </p:cNvCxnSpPr>
          <p:nvPr/>
        </p:nvCxnSpPr>
        <p:spPr>
          <a:xfrm flipH="1" rot="16200000">
            <a:off x="1128600" y="3468240"/>
            <a:ext cx="1096200" cy="137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>
            <a:off x="1064880" y="4392720"/>
            <a:ext cx="125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_workpie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5410080"/>
            <a:ext cx="14475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6" idx="2"/>
            <a:endCxn id="323" idx="1"/>
          </p:cNvCxnSpPr>
          <p:nvPr/>
        </p:nvCxnSpPr>
        <p:spPr>
          <a:xfrm flipH="1" rot="16200000">
            <a:off x="673200" y="3924000"/>
            <a:ext cx="2007360" cy="137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1064160" y="531180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_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14400"/>
            <a:ext cx="644760" cy="646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07440" y="159984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hema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6:56:28Z</dcterms:created>
  <dc:creator>Gabor Erdos</dc:creator>
  <dc:description/>
  <dc:language>en-US</dc:language>
  <cp:lastModifiedBy>hardwick</cp:lastModifiedBy>
  <cp:lastPrinted>2000-05-10T14:49:47Z</cp:lastPrinted>
  <dcterms:modified xsi:type="dcterms:W3CDTF">2001-06-28T15:00:13Z</dcterms:modified>
  <cp:revision>52</cp:revision>
  <dc:subject/>
  <dc:title>ESPRIT Project EP29708: STEP-NC</dc:title>
</cp:coreProperties>
</file>