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5880" y="6245280"/>
            <a:ext cx="27432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DEC6-56C4-494C-BDBB-0540DD602D3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371600"/>
            <a:ext cx="912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89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O TC184/SC4 Wg3/T2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Manufactur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26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tin Hardwi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Tools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11-15, 200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n Francisco, U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stepnc-text-only" descr=""/>
          <p:cNvPicPr/>
          <p:nvPr/>
        </p:nvPicPr>
        <p:blipFill>
          <a:blip r:embed="rId1"/>
          <a:stretch/>
        </p:blipFill>
        <p:spPr>
          <a:xfrm>
            <a:off x="6885000" y="488880"/>
            <a:ext cx="1714320" cy="514440"/>
          </a:xfrm>
          <a:prstGeom prst="rect">
            <a:avLst/>
          </a:prstGeom>
          <a:ln w="0">
            <a:noFill/>
          </a:ln>
        </p:spPr>
      </p:pic>
      <p:pic>
        <p:nvPicPr>
          <p:cNvPr id="45" name="stepnc-smp-part" descr=""/>
          <p:cNvPicPr/>
          <p:nvPr/>
        </p:nvPicPr>
        <p:blipFill>
          <a:blip r:embed="rId2"/>
          <a:stretch/>
        </p:blipFill>
        <p:spPr>
          <a:xfrm>
            <a:off x="6153120" y="3384720"/>
            <a:ext cx="2809800" cy="2163600"/>
          </a:xfrm>
          <a:prstGeom prst="rect">
            <a:avLst/>
          </a:prstGeom>
          <a:ln w="0">
            <a:noFill/>
          </a:ln>
        </p:spPr>
      </p:pic>
      <p:pic>
        <p:nvPicPr>
          <p:cNvPr id="46" name="irb-milling-fancy" descr=""/>
          <p:cNvPicPr/>
          <p:nvPr/>
        </p:nvPicPr>
        <p:blipFill>
          <a:blip r:embed="rId3"/>
          <a:stretch/>
        </p:blipFill>
        <p:spPr>
          <a:xfrm>
            <a:off x="657360" y="3349800"/>
            <a:ext cx="1323720" cy="21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eb Si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jordomo E-mail explo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tep-manufacturing@steptools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ttp://www.steptools.com/manfor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d questions and additions 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ardwick@steptools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g3/ T24 Agen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30080"/>
            <a:ext cx="7772400" cy="361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day 13:00 to 15: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-219 Harmonization with AP-224 and STEP-N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day 15:30 to 17: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-NC Turning Mod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esday 8:00 to 17: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ufacturing Task For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g3/T24 Agenda Continu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85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dnesday 10:30 – 12:00 (joint with Implementor’s Foru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A STEP-NC Demonst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rean STEP-NC Demonst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-NC Interoperability Tes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dnesday 13:00 – 15:3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-NC Wire EDM Mod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us review of Tool Model ISO 1339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dnesday 15:30 – 17: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ufacturing Task For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rsday 08:00 – 17: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of results of ISO 14649 Ballot Resolution Worksh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-238 Mapp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9T21:29:14Z</dcterms:created>
  <dc:creator>Larry McKee</dc:creator>
  <dc:description/>
  <dc:language>en-US</dc:language>
  <cp:lastModifiedBy>hardwick</cp:lastModifiedBy>
  <cp:lastPrinted>1999-11-03T02:14:05Z</cp:lastPrinted>
  <dcterms:modified xsi:type="dcterms:W3CDTF">2001-06-13T19:14:00Z</dcterms:modified>
  <cp:revision>126</cp:revision>
  <dc:subject/>
  <dc:title>Implementors For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larrym@us.ibm.com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tepimp\022000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