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58288" cy="6872288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37680" y="24768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95CC565-8ED2-462C-A25C-EBE53E3ECB0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25920" y="657540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1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3000" y="6583320"/>
            <a:ext cx="68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. Loffre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64200" y="1532520"/>
            <a:ext cx="401616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 AIM Issues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Disc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4293000" y="3065400"/>
            <a:ext cx="382788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ffred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Funchal ISO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9987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4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e features with AP-214, AP-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features with extra things, like planar face with boss and boundary cur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eneric regio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pt curve, Geom. bounded surfaces, or Open sh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a shape asp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subtype region_feature, like transition &amp; replic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general removal volume in 224 (shell only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it be complex instance with feature_defini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336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00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tial workplans easy to ma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equential_method to order th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and the expressions are ne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expressions using PLIB Part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 did this to describe units with an arbitrary express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reated expression_conversion_based_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AIM must describe the control flow with an expression proper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ill create expression_representation_i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57280" y="1349280"/>
            <a:ext cx="0" cy="3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57280" y="3719520"/>
            <a:ext cx="0" cy="3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132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in AP-214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51720" y="4348080"/>
            <a:ext cx="177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_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1920" y="1790640"/>
            <a:ext cx="3474000" cy="4237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_conversion_based_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37840" y="2548080"/>
            <a:ext cx="1405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4440" y="1050840"/>
            <a:ext cx="24559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_dependant_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38560" y="2554200"/>
            <a:ext cx="2028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_seman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2" idx="1"/>
            <a:endCxn id="114" idx="3"/>
          </p:cNvCxnSpPr>
          <p:nvPr/>
        </p:nvCxnSpPr>
        <p:spPr>
          <a:xfrm flipV="1" rot="10800000">
            <a:off x="6168960" y="2763360"/>
            <a:ext cx="665640" cy="7200"/>
          </a:xfrm>
          <a:prstGeom prst="bentConnector3">
            <a:avLst>
              <a:gd name="adj1" fmla="val 4989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2" idx="2"/>
            <a:endCxn id="110" idx="0"/>
          </p:cNvCxnSpPr>
          <p:nvPr/>
        </p:nvCxnSpPr>
        <p:spPr>
          <a:xfrm flipH="1" rot="16200000">
            <a:off x="6856200" y="3662640"/>
            <a:ext cx="1369080" cy="2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3784680" y="3602160"/>
            <a:ext cx="2528280" cy="2082600"/>
            <a:chOff x="3784680" y="3602160"/>
            <a:chExt cx="2528280" cy="2082600"/>
          </a:xfrm>
        </p:grpSpPr>
        <p:sp>
          <p:nvSpPr>
            <p:cNvPr id="118" name=""/>
            <p:cNvSpPr/>
            <p:nvPr/>
          </p:nvSpPr>
          <p:spPr>
            <a:xfrm>
              <a:off x="3784680" y="3602160"/>
              <a:ext cx="2528280" cy="2082600"/>
            </a:xfrm>
            <a:prstGeom prst="rightArrow">
              <a:avLst>
                <a:gd name="adj1" fmla="val 70694"/>
                <a:gd name="adj2" fmla="val 3224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10280" y="4231440"/>
              <a:ext cx="116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ssoci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f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x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73360" y="4162320"/>
            <a:ext cx="2174040" cy="4237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d_unit_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4800" y="3394080"/>
            <a:ext cx="13492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1960" y="5303880"/>
            <a:ext cx="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3000" y="5746680"/>
            <a:ext cx="2219760" cy="4237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ived_unit_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74080" y="5006880"/>
            <a:ext cx="1395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ived_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4" idx="1"/>
            <a:endCxn id="111" idx="1"/>
          </p:cNvCxnSpPr>
          <p:nvPr/>
        </p:nvCxnSpPr>
        <p:spPr>
          <a:xfrm rot="10800000">
            <a:off x="870840" y="2005920"/>
            <a:ext cx="3266280" cy="764280"/>
          </a:xfrm>
          <a:prstGeom prst="bentConnector3">
            <a:avLst>
              <a:gd name="adj1" fmla="val 113260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26" name=""/>
          <p:cNvCxnSpPr>
            <a:stCxn id="114" idx="1"/>
            <a:endCxn id="120" idx="1"/>
          </p:cNvCxnSpPr>
          <p:nvPr/>
        </p:nvCxnSpPr>
        <p:spPr>
          <a:xfrm flipV="1" rot="10800000">
            <a:off x="870840" y="2769120"/>
            <a:ext cx="3266280" cy="1608840"/>
          </a:xfrm>
          <a:prstGeom prst="bentConnector3">
            <a:avLst>
              <a:gd name="adj1" fmla="val 113602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27" name=""/>
          <p:cNvCxnSpPr>
            <a:stCxn id="114" idx="1"/>
            <a:endCxn id="123" idx="1"/>
          </p:cNvCxnSpPr>
          <p:nvPr/>
        </p:nvCxnSpPr>
        <p:spPr>
          <a:xfrm flipV="1" rot="10800000">
            <a:off x="870840" y="2769840"/>
            <a:ext cx="3266280" cy="3193200"/>
          </a:xfrm>
          <a:prstGeom prst="bentConnector3">
            <a:avLst>
              <a:gd name="adj1" fmla="val 113315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28" name=""/>
          <p:cNvSpPr/>
          <p:nvPr/>
        </p:nvSpPr>
        <p:spPr>
          <a:xfrm>
            <a:off x="4765680" y="173952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18280" y="34095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-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89120" y="2558880"/>
            <a:ext cx="4270320" cy="1279800"/>
          </a:xfrm>
          <a:prstGeom prst="downArrow">
            <a:avLst>
              <a:gd name="adj1" fmla="val 69593"/>
              <a:gd name="adj2" fmla="val 4702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7592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Expressions as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43200" y="5135400"/>
            <a:ext cx="3178080" cy="4237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_representation_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1960" y="4587840"/>
            <a:ext cx="20505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1"/>
            <a:endCxn id="132" idx="0"/>
          </p:cNvCxnSpPr>
          <p:nvPr/>
        </p:nvCxnSpPr>
        <p:spPr>
          <a:xfrm flipV="1" rot="10800000">
            <a:off x="3431520" y="4802760"/>
            <a:ext cx="1808640" cy="3322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35" name=""/>
          <p:cNvSpPr/>
          <p:nvPr/>
        </p:nvSpPr>
        <p:spPr>
          <a:xfrm>
            <a:off x="4865400" y="1253880"/>
            <a:ext cx="3783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also need the AP-2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 variable defs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 have proper un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need to review sugges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. Huau and check new Part 1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er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27200" y="1455840"/>
            <a:ext cx="2455920" cy="794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flow 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/then, while,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9080" y="2682000"/>
            <a:ext cx="25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ual propert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presentation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rolling expres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5840" y="4287960"/>
            <a:ext cx="0" cy="84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0400" y="4044960"/>
            <a:ext cx="20826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3560" y="5324400"/>
            <a:ext cx="254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08 defines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ainst generic_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65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24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ction_method mappings discussed at previous meeting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 between machining operation &amp; toolpath uses a unnecessary toolpath_list object in the midd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 directly from operation to toolpath, but how to document that we are ignoring this extra typ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770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Method Subtyp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50840" y="1909800"/>
            <a:ext cx="16207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62240" y="1484280"/>
            <a:ext cx="0" cy="376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55640" y="1484280"/>
            <a:ext cx="0" cy="376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3840" y="1060560"/>
            <a:ext cx="27727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4160" y="1060560"/>
            <a:ext cx="2004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_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49" idx="1"/>
          </p:cNvCxnSpPr>
          <p:nvPr/>
        </p:nvCxnSpPr>
        <p:spPr>
          <a:xfrm>
            <a:off x="3438360" y="1275840"/>
            <a:ext cx="77400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51" name=""/>
          <p:cNvCxnSpPr>
            <a:stCxn id="148" idx="3"/>
          </p:cNvCxnSpPr>
          <p:nvPr/>
        </p:nvCxnSpPr>
        <p:spPr>
          <a:xfrm>
            <a:off x="3438000" y="1275840"/>
            <a:ext cx="807480" cy="61524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52" name=""/>
          <p:cNvSpPr/>
          <p:nvPr/>
        </p:nvSpPr>
        <p:spPr>
          <a:xfrm>
            <a:off x="4449960" y="1758960"/>
            <a:ext cx="20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ther relation sub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1400" y="2720880"/>
            <a:ext cx="31356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process_exec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3200" y="3379680"/>
            <a:ext cx="22302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 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04080" y="2720880"/>
            <a:ext cx="2468160" cy="955440"/>
            <a:chOff x="5104080" y="2720880"/>
            <a:chExt cx="2468160" cy="955440"/>
          </a:xfrm>
        </p:grpSpPr>
        <p:sp>
          <p:nvSpPr>
            <p:cNvPr id="156" name=""/>
            <p:cNvSpPr/>
            <p:nvPr/>
          </p:nvSpPr>
          <p:spPr>
            <a:xfrm>
              <a:off x="5104080" y="2720880"/>
              <a:ext cx="2196720" cy="423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144000" tIns="90000" bIns="90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ining _work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080" y="3252600"/>
              <a:ext cx="2468160" cy="423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144000" tIns="90000" bIns="90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chining _working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123920" y="4016520"/>
            <a:ext cx="21067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 _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2120" y="4654440"/>
            <a:ext cx="23673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 _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1760" y="5929200"/>
            <a:ext cx="29772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 _machine_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22840" y="5291280"/>
            <a:ext cx="21067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 _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45" idx="1"/>
            <a:endCxn id="153" idx="1"/>
          </p:cNvCxnSpPr>
          <p:nvPr/>
        </p:nvCxnSpPr>
        <p:spPr>
          <a:xfrm flipH="1" flipV="1" rot="10800000">
            <a:off x="1046520" y="2124720"/>
            <a:ext cx="73800" cy="811800"/>
          </a:xfrm>
          <a:prstGeom prst="bentConnector3">
            <a:avLst>
              <a:gd name="adj1" fmla="val -312745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63" name=""/>
          <p:cNvCxnSpPr>
            <a:stCxn id="145" idx="1"/>
            <a:endCxn id="154" idx="1"/>
          </p:cNvCxnSpPr>
          <p:nvPr/>
        </p:nvCxnSpPr>
        <p:spPr>
          <a:xfrm flipH="1" flipV="1" rot="10800000">
            <a:off x="1046520" y="2124360"/>
            <a:ext cx="73800" cy="1470240"/>
          </a:xfrm>
          <a:prstGeom prst="bentConnector3">
            <a:avLst>
              <a:gd name="adj1" fmla="val -312745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64" name=""/>
          <p:cNvCxnSpPr>
            <a:stCxn id="145" idx="1"/>
            <a:endCxn id="158" idx="1"/>
          </p:cNvCxnSpPr>
          <p:nvPr/>
        </p:nvCxnSpPr>
        <p:spPr>
          <a:xfrm flipH="1" flipV="1" rot="10800000">
            <a:off x="1046520" y="2124360"/>
            <a:ext cx="73800" cy="2106720"/>
          </a:xfrm>
          <a:prstGeom prst="bentConnector3">
            <a:avLst>
              <a:gd name="adj1" fmla="val -312745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65" name=""/>
          <p:cNvCxnSpPr>
            <a:stCxn id="145" idx="1"/>
            <a:endCxn id="159" idx="1"/>
          </p:cNvCxnSpPr>
          <p:nvPr/>
        </p:nvCxnSpPr>
        <p:spPr>
          <a:xfrm flipH="1" flipV="1" rot="10800000">
            <a:off x="1046520" y="2125440"/>
            <a:ext cx="73800" cy="2745360"/>
          </a:xfrm>
          <a:prstGeom prst="bentConnector3">
            <a:avLst>
              <a:gd name="adj1" fmla="val -312745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66" name=""/>
          <p:cNvCxnSpPr>
            <a:stCxn id="145" idx="1"/>
            <a:endCxn id="161" idx="1"/>
          </p:cNvCxnSpPr>
          <p:nvPr/>
        </p:nvCxnSpPr>
        <p:spPr>
          <a:xfrm flipH="1" flipV="1" rot="10800000">
            <a:off x="1046520" y="2125440"/>
            <a:ext cx="73800" cy="3381840"/>
          </a:xfrm>
          <a:prstGeom prst="bentConnector3">
            <a:avLst>
              <a:gd name="adj1" fmla="val -312745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67" name=""/>
          <p:cNvCxnSpPr>
            <a:stCxn id="145" idx="1"/>
            <a:endCxn id="160" idx="1"/>
          </p:cNvCxnSpPr>
          <p:nvPr/>
        </p:nvCxnSpPr>
        <p:spPr>
          <a:xfrm flipH="1" flipV="1" rot="10800000">
            <a:off x="1046520" y="2124720"/>
            <a:ext cx="73800" cy="4020120"/>
          </a:xfrm>
          <a:prstGeom prst="bentConnector3">
            <a:avLst>
              <a:gd name="adj1" fmla="val -312745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68" name=""/>
          <p:cNvCxnSpPr>
            <a:stCxn id="153" idx="3"/>
            <a:endCxn id="156" idx="1"/>
          </p:cNvCxnSpPr>
          <p:nvPr/>
        </p:nvCxnSpPr>
        <p:spPr>
          <a:xfrm>
            <a:off x="4257720" y="2936520"/>
            <a:ext cx="845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69" name=""/>
          <p:cNvCxnSpPr>
            <a:stCxn id="153" idx="3"/>
            <a:endCxn id="157" idx="1"/>
          </p:cNvCxnSpPr>
          <p:nvPr/>
        </p:nvCxnSpPr>
        <p:spPr>
          <a:xfrm>
            <a:off x="4257720" y="2936520"/>
            <a:ext cx="845280" cy="532440"/>
          </a:xfrm>
          <a:prstGeom prst="bentConnector3">
            <a:avLst>
              <a:gd name="adj1" fmla="val 49978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70" name=""/>
          <p:cNvCxnSpPr>
            <a:stCxn id="154" idx="3"/>
          </p:cNvCxnSpPr>
          <p:nvPr/>
        </p:nvCxnSpPr>
        <p:spPr>
          <a:xfrm>
            <a:off x="3355560" y="3595680"/>
            <a:ext cx="1809000" cy="1348560"/>
          </a:xfrm>
          <a:prstGeom prst="bentConnector3">
            <a:avLst>
              <a:gd name="adj1" fmla="val 49940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71" name=""/>
          <p:cNvCxnSpPr>
            <a:stCxn id="154" idx="3"/>
          </p:cNvCxnSpPr>
          <p:nvPr/>
        </p:nvCxnSpPr>
        <p:spPr>
          <a:xfrm>
            <a:off x="3355920" y="3595680"/>
            <a:ext cx="1797840" cy="1713600"/>
          </a:xfrm>
          <a:prstGeom prst="bentConnector3">
            <a:avLst>
              <a:gd name="adj1" fmla="val 49989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172" name=""/>
          <p:cNvCxnSpPr>
            <a:stCxn id="154" idx="3"/>
          </p:cNvCxnSpPr>
          <p:nvPr/>
        </p:nvCxnSpPr>
        <p:spPr>
          <a:xfrm>
            <a:off x="3355560" y="3595320"/>
            <a:ext cx="1809000" cy="972360"/>
          </a:xfrm>
          <a:prstGeom prst="bentConnector3">
            <a:avLst>
              <a:gd name="adj1" fmla="val 49940"/>
            </a:avLst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173" name=""/>
          <p:cNvSpPr/>
          <p:nvPr/>
        </p:nvSpPr>
        <p:spPr>
          <a:xfrm>
            <a:off x="5372280" y="4368960"/>
            <a:ext cx="25520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btypes for categori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lling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e milling, side mill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rilling, boring, reaming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653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Process Operations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3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ghtforward mapp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defining new property parameters within the established action_method framewor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group the parame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840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 Approach for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6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to product, action_method, action_resour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 major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to ***_relationship named lin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y with complex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 property of a major concept, no other relations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to a representation with multiple rep i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8520" y="4326840"/>
            <a:ext cx="15645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81200" y="4330080"/>
            <a:ext cx="15645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8240" y="4523760"/>
            <a:ext cx="13284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1"/>
            <a:endCxn id="178" idx="3"/>
          </p:cNvCxnSpPr>
          <p:nvPr/>
        </p:nvCxnSpPr>
        <p:spPr>
          <a:xfrm flipH="1" flipV="1">
            <a:off x="2706120" y="4494960"/>
            <a:ext cx="1099080" cy="19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0" idx="3"/>
            <a:endCxn id="179" idx="1"/>
          </p:cNvCxnSpPr>
          <p:nvPr/>
        </p:nvCxnSpPr>
        <p:spPr>
          <a:xfrm flipV="1">
            <a:off x="5180040" y="4498560"/>
            <a:ext cx="978480" cy="194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17480" y="5676120"/>
            <a:ext cx="12412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6080" y="5679000"/>
            <a:ext cx="12412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99160" y="5653800"/>
            <a:ext cx="12412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398600" y="4762440"/>
            <a:ext cx="342720" cy="81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112480" y="4776480"/>
            <a:ext cx="893880" cy="81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039080" y="4792320"/>
            <a:ext cx="149040" cy="77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9" name=""/>
          <p:cNvCxnSpPr>
            <a:stCxn id="190" idx="0"/>
            <a:endCxn id="191" idx="2"/>
          </p:cNvCxnSpPr>
          <p:nvPr/>
        </p:nvCxnSpPr>
        <p:spPr>
          <a:xfrm flipV="1" rot="16200000">
            <a:off x="2379960" y="2838600"/>
            <a:ext cx="288000" cy="350280"/>
          </a:xfrm>
          <a:prstGeom prst="bentConnector3">
            <a:avLst>
              <a:gd name="adj1" fmla="val -5131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93" idx="0"/>
            <a:endCxn id="194" idx="2"/>
          </p:cNvCxnSpPr>
          <p:nvPr/>
        </p:nvCxnSpPr>
        <p:spPr>
          <a:xfrm flipV="1" rot="16200000">
            <a:off x="2419920" y="4702320"/>
            <a:ext cx="288000" cy="349920"/>
          </a:xfrm>
          <a:prstGeom prst="bentConnector3">
            <a:avLst>
              <a:gd name="adj1" fmla="val -391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5575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y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93280" y="2270160"/>
            <a:ext cx="171072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spe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8920" y="1107000"/>
            <a:ext cx="238428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26480" y="3005640"/>
            <a:ext cx="1640880" cy="10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: 0.11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: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8360" y="3162960"/>
            <a:ext cx="24804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46720" y="3162960"/>
            <a:ext cx="1241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84760" y="33019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0" idx="3"/>
            <a:endCxn id="198" idx="1"/>
          </p:cNvCxnSpPr>
          <p:nvPr/>
        </p:nvCxnSpPr>
        <p:spPr>
          <a:xfrm>
            <a:off x="3943440" y="3301560"/>
            <a:ext cx="4975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532880" y="4133880"/>
            <a:ext cx="171072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ndl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2840" y="4866480"/>
            <a:ext cx="1640880" cy="10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: 23.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: rev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98320" y="5026680"/>
            <a:ext cx="24804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_property_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86320" y="5026680"/>
            <a:ext cx="1241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5165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3" idx="3"/>
            <a:endCxn id="202" idx="1"/>
          </p:cNvCxnSpPr>
          <p:nvPr/>
        </p:nvCxnSpPr>
        <p:spPr>
          <a:xfrm>
            <a:off x="3983040" y="5165280"/>
            <a:ext cx="4975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1" idx="1"/>
          </p:cNvCxnSpPr>
          <p:nvPr/>
        </p:nvCxnSpPr>
        <p:spPr>
          <a:xfrm rot="10800000">
            <a:off x="1092960" y="2056680"/>
            <a:ext cx="376920" cy="504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4" idx="1"/>
          </p:cNvCxnSpPr>
          <p:nvPr/>
        </p:nvCxnSpPr>
        <p:spPr>
          <a:xfrm rot="10800000">
            <a:off x="893160" y="2069280"/>
            <a:ext cx="616680" cy="23551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797280" y="1293840"/>
            <a:ext cx="49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draft used separate properties for each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8" name=""/>
          <p:cNvCxnSpPr/>
          <p:nvPr/>
        </p:nvCxnSpPr>
        <p:spPr>
          <a:xfrm flipH="1" flipV="1" rot="5400000">
            <a:off x="2291400" y="2668680"/>
            <a:ext cx="254520" cy="5400"/>
          </a:xfrm>
          <a:prstGeom prst="bentConnector3">
            <a:avLst>
              <a:gd name="adj1" fmla="val 5184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468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y with complex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93160" y="1892880"/>
            <a:ext cx="1640880" cy="11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: “diamet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: 0.11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: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03600" y="3305880"/>
            <a:ext cx="1910520" cy="11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: “tool_top_an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: 23.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: rev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/>
          <p:nvPr/>
        </p:nvCxnSpPr>
        <p:spPr>
          <a:xfrm flipV="1" rot="16200000">
            <a:off x="1940040" y="1444680"/>
            <a:ext cx="197640" cy="7642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14" idx="3"/>
            <a:endCxn id="210" idx="1"/>
          </p:cNvCxnSpPr>
          <p:nvPr/>
        </p:nvCxnSpPr>
        <p:spPr>
          <a:xfrm flipV="1">
            <a:off x="5694120" y="2487240"/>
            <a:ext cx="594360" cy="8150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4" idx="3"/>
            <a:endCxn id="211" idx="1"/>
          </p:cNvCxnSpPr>
          <p:nvPr/>
        </p:nvCxnSpPr>
        <p:spPr>
          <a:xfrm>
            <a:off x="5694120" y="3301560"/>
            <a:ext cx="602280" cy="599400"/>
          </a:xfrm>
          <a:prstGeom prst="bentConnector3">
            <a:avLst>
              <a:gd name="adj1" fmla="val 498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6296040" y="4713840"/>
            <a:ext cx="1650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 item for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4" idx="3"/>
            <a:endCxn id="216" idx="1"/>
          </p:cNvCxnSpPr>
          <p:nvPr/>
        </p:nvCxnSpPr>
        <p:spPr>
          <a:xfrm>
            <a:off x="5694120" y="3301920"/>
            <a:ext cx="602280" cy="1642320"/>
          </a:xfrm>
          <a:prstGeom prst="bentConnector3">
            <a:avLst>
              <a:gd name="adj1" fmla="val 498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296040" y="5387040"/>
            <a:ext cx="1650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 item for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4" idx="3"/>
            <a:endCxn id="218" idx="1"/>
          </p:cNvCxnSpPr>
          <p:nvPr/>
        </p:nvCxnSpPr>
        <p:spPr>
          <a:xfrm>
            <a:off x="5694120" y="3301920"/>
            <a:ext cx="602280" cy="2315520"/>
          </a:xfrm>
          <a:prstGeom prst="bentConnector3">
            <a:avLst>
              <a:gd name="adj1" fmla="val 498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665280" y="3753000"/>
            <a:ext cx="442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with multiple parameters, distinguished by rep item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&amp; AP-213 use this approach for implicit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2" idx="0"/>
            <a:endCxn id="223" idx="2"/>
          </p:cNvCxnSpPr>
          <p:nvPr/>
        </p:nvCxnSpPr>
        <p:spPr>
          <a:xfrm flipV="1" rot="16200000">
            <a:off x="2384640" y="2837160"/>
            <a:ext cx="288000" cy="353160"/>
          </a:xfrm>
          <a:prstGeom prst="bentConnector3">
            <a:avLst>
              <a:gd name="adj1" fmla="val 5131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1366920" y="2270160"/>
            <a:ext cx="197136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 dimen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2000" y="1107000"/>
            <a:ext cx="22716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ool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65840" y="3162960"/>
            <a:ext cx="2676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_property_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46720" y="3162960"/>
            <a:ext cx="1241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2" idx="3"/>
            <a:endCxn id="214" idx="1"/>
          </p:cNvCxnSpPr>
          <p:nvPr/>
        </p:nvCxnSpPr>
        <p:spPr>
          <a:xfrm>
            <a:off x="4044960" y="3301560"/>
            <a:ext cx="3960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3" idx="1"/>
          </p:cNvCxnSpPr>
          <p:nvPr/>
        </p:nvCxnSpPr>
        <p:spPr>
          <a:xfrm rot="10800000">
            <a:off x="967680" y="2056680"/>
            <a:ext cx="376920" cy="504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6240" y="2413080"/>
            <a:ext cx="687384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63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of STEP-NC AIM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based on balloted ISO 14649-10, 11, and 11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e Units of Functionality (U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Based on Part 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Based on Part 11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85520" y="29869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Based on Part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011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ction_method mappings discussed at previous meeting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utstanding iss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733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Cutting Tools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12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ed as action resource subty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give all of the parame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cutting point needs a materi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ting point mapped as compound rep i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be related to either mapping of materi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directly, but perhaps complex instance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zed object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506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ain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4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draft with issue resolu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t NWI/CD with updated dra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mid-March, early-Apr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and copy of this presentation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/projects/stepnc_a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63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of STEP-NC AIM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TEP-NC AIM will cover all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edition will cover mil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edition will extend with turning and ED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s can add others as nee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33960" y="3226320"/>
            <a:ext cx="22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98680" y="3051000"/>
            <a:ext cx="108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95800" y="4145400"/>
            <a:ext cx="45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96520" y="5413680"/>
            <a:ext cx="43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M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33040" y="3051360"/>
            <a:ext cx="11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8440" y="3021120"/>
            <a:ext cx="266760" cy="1771560"/>
          </a:xfrm>
          <a:custGeom>
            <a:avLst/>
            <a:gdLst>
              <a:gd name="textAreaLeft" fmla="*/ 0 w 266760"/>
              <a:gd name="textAreaRight" fmla="*/ 187200 w 266760"/>
              <a:gd name="textAreaTop" fmla="*/ 73800 h 1771560"/>
              <a:gd name="textAreaBottom" fmla="*/ 1697760 h 177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05680" y="3493440"/>
            <a:ext cx="9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3520" y="3021120"/>
            <a:ext cx="281160" cy="3008160"/>
          </a:xfrm>
          <a:custGeom>
            <a:avLst/>
            <a:gdLst>
              <a:gd name="textAreaLeft" fmla="*/ 0 w 281160"/>
              <a:gd name="textAreaRight" fmla="*/ 197280 w 281160"/>
              <a:gd name="textAreaTop" fmla="*/ 87840 h 3008160"/>
              <a:gd name="textAreaBottom" fmla="*/ 2920320 h 30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33"/>
                  <a:pt x="21600" y="1265"/>
                </a:cubicBezTo>
                <a:lnTo>
                  <a:pt x="21600" y="20335"/>
                </a:lnTo>
                <a:cubicBezTo>
                  <a:pt x="21600" y="20968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02680" y="450792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63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of STEP-NC AIM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1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document avail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oncepts in each UOF mapp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s checked for consistency against AP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ve checks with AP-214, AP-224 &amp; DIS 2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checks against AP-209, AP-227, AP- 2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 several mapping issues in Funchal before finishing off the U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35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s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511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eranced length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s upper/lower 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map limits and fits specifi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unit constraints in mapp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RM assumes certain units to simplify the mod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s in milimeters, angles in degr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in meters/seco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ure must be pasc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ion in 1/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IRs require explicit units in all contex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ing to specific ones would break exis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03/214/224 mod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 AIM have full flexibility with uni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760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58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is the “main” delive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a produ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be able to track approvals, configuration control, etc. if nee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s are related to project using product definition relationshi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the way assemblies are put together with NAU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268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20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 is also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nventional product, with a brep shape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can be handled two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product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by AP-224 and AP-209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material_design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by AP-214 and AP-21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40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Mapping (AP-224/20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73" idx="1"/>
            <a:endCxn id="74" idx="3"/>
          </p:cNvCxnSpPr>
          <p:nvPr/>
        </p:nvCxnSpPr>
        <p:spPr>
          <a:xfrm flipV="1" rot="10800000">
            <a:off x="3061440" y="3574080"/>
            <a:ext cx="1859760" cy="143640"/>
          </a:xfrm>
          <a:prstGeom prst="bentConnector3">
            <a:avLst>
              <a:gd name="adj1" fmla="val 4995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6" idx="0"/>
            <a:endCxn id="77" idx="2"/>
          </p:cNvCxnSpPr>
          <p:nvPr/>
        </p:nvCxnSpPr>
        <p:spPr>
          <a:xfrm flipH="1" flipV="1" rot="5400000">
            <a:off x="5399640" y="5063040"/>
            <a:ext cx="565920" cy="481680"/>
          </a:xfrm>
          <a:prstGeom prst="bentConnector3">
            <a:avLst>
              <a:gd name="adj1" fmla="val 5079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946040" y="3284640"/>
            <a:ext cx="220608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_desig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 nam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720" y="3184200"/>
            <a:ext cx="195624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_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_associ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mater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20600" y="1848600"/>
            <a:ext cx="207360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_from_usage_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2"/>
            <a:endCxn id="80" idx="0"/>
          </p:cNvCxnSpPr>
          <p:nvPr/>
        </p:nvCxnSpPr>
        <p:spPr>
          <a:xfrm rot="5400000">
            <a:off x="1661400" y="4659480"/>
            <a:ext cx="784800" cy="10080"/>
          </a:xfrm>
          <a:prstGeom prst="bentConnector3">
            <a:avLst>
              <a:gd name="adj1" fmla="val 4997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977000" y="4665240"/>
            <a:ext cx="18921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82760" y="5591880"/>
            <a:ext cx="27165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definition_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70840" y="5593320"/>
            <a:ext cx="1241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6" idx="3"/>
            <a:endCxn id="81" idx="1"/>
          </p:cNvCxnSpPr>
          <p:nvPr/>
        </p:nvCxnSpPr>
        <p:spPr>
          <a:xfrm>
            <a:off x="6805080" y="5730480"/>
            <a:ext cx="359640" cy="2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288440" y="5075640"/>
            <a:ext cx="152028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7" idx="1"/>
          </p:cNvCxnSpPr>
          <p:nvPr/>
        </p:nvCxnSpPr>
        <p:spPr>
          <a:xfrm rot="10800000">
            <a:off x="3067920" y="4001400"/>
            <a:ext cx="1884960" cy="832680"/>
          </a:xfrm>
          <a:prstGeom prst="bentConnector3">
            <a:avLst>
              <a:gd name="adj1" fmla="val 4968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971520" y="1214640"/>
            <a:ext cx="195624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_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workpie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8" idx="0"/>
            <a:endCxn id="84" idx="1"/>
          </p:cNvCxnSpPr>
          <p:nvPr/>
        </p:nvCxnSpPr>
        <p:spPr>
          <a:xfrm flipH="1" flipV="1" rot="5400000">
            <a:off x="2832480" y="729000"/>
            <a:ext cx="339120" cy="1890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8" idx="2"/>
            <a:endCxn id="74" idx="0"/>
          </p:cNvCxnSpPr>
          <p:nvPr/>
        </p:nvCxnSpPr>
        <p:spPr>
          <a:xfrm flipH="1" rot="16200000">
            <a:off x="1632600" y="2737440"/>
            <a:ext cx="851760" cy="2160"/>
          </a:xfrm>
          <a:prstGeom prst="bentConnector3">
            <a:avLst>
              <a:gd name="adj1" fmla="val 505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40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Mapping (AP-214/21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0"/>
            <a:endCxn id="90" idx="2"/>
          </p:cNvCxnSpPr>
          <p:nvPr/>
        </p:nvCxnSpPr>
        <p:spPr>
          <a:xfrm flipH="1" flipV="1" rot="5400000">
            <a:off x="5399640" y="5063040"/>
            <a:ext cx="565920" cy="481680"/>
          </a:xfrm>
          <a:prstGeom prst="bentConnector3">
            <a:avLst>
              <a:gd name="adj1" fmla="val 5079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946040" y="3284640"/>
            <a:ext cx="220608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_desig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 nam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8640" y="4120200"/>
            <a:ext cx="2303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ed_document_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2" idx="2"/>
            <a:endCxn id="94" idx="0"/>
          </p:cNvCxnSpPr>
          <p:nvPr/>
        </p:nvCxnSpPr>
        <p:spPr>
          <a:xfrm rot="5400000">
            <a:off x="1727280" y="4723200"/>
            <a:ext cx="654840" cy="11880"/>
          </a:xfrm>
          <a:prstGeom prst="bentConnector3">
            <a:avLst>
              <a:gd name="adj1" fmla="val 507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4977000" y="4665240"/>
            <a:ext cx="18921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82760" y="5591880"/>
            <a:ext cx="27165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definition_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0840" y="5593320"/>
            <a:ext cx="1241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9" idx="3"/>
            <a:endCxn id="95" idx="1"/>
          </p:cNvCxnSpPr>
          <p:nvPr/>
        </p:nvCxnSpPr>
        <p:spPr>
          <a:xfrm>
            <a:off x="6805080" y="5730480"/>
            <a:ext cx="359640" cy="2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1288440" y="5075640"/>
            <a:ext cx="152028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0" idx="1"/>
            <a:endCxn id="98" idx="1"/>
          </p:cNvCxnSpPr>
          <p:nvPr/>
        </p:nvCxnSpPr>
        <p:spPr>
          <a:xfrm rot="10800000">
            <a:off x="4571280" y="4333320"/>
            <a:ext cx="381600" cy="500760"/>
          </a:xfrm>
          <a:prstGeom prst="bentConnector3">
            <a:avLst>
              <a:gd name="adj1" fmla="val 15996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3971520" y="1214640"/>
            <a:ext cx="195624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_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workpie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1" idx="0"/>
            <a:endCxn id="99" idx="2"/>
          </p:cNvCxnSpPr>
          <p:nvPr/>
        </p:nvCxnSpPr>
        <p:spPr>
          <a:xfrm flipV="1" rot="16200000">
            <a:off x="4773600" y="1989360"/>
            <a:ext cx="1451880" cy="11005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2" idx="3"/>
            <a:endCxn id="91" idx="1"/>
          </p:cNvCxnSpPr>
          <p:nvPr/>
        </p:nvCxnSpPr>
        <p:spPr>
          <a:xfrm flipV="1">
            <a:off x="3216240" y="3574800"/>
            <a:ext cx="1705680" cy="684720"/>
          </a:xfrm>
          <a:prstGeom prst="bentConnector3">
            <a:avLst>
              <a:gd name="adj1" fmla="val 502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574520" y="4194720"/>
            <a:ext cx="29667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_designation_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0"/>
            <a:endCxn id="91" idx="2"/>
          </p:cNvCxnSpPr>
          <p:nvPr/>
        </p:nvCxnSpPr>
        <p:spPr>
          <a:xfrm flipV="1" rot="16200000">
            <a:off x="5901120" y="4032360"/>
            <a:ext cx="305280" cy="9000"/>
          </a:xfrm>
          <a:prstGeom prst="bentConnector3">
            <a:avLst>
              <a:gd name="adj1" fmla="val 514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hardwick</cp:lastModifiedBy>
  <cp:lastPrinted>2001-02-13T04:02:06Z</cp:lastPrinted>
  <dcterms:modified xsi:type="dcterms:W3CDTF">2001-03-07T21:29:28Z</dcterms:modified>
  <cp:revision>305</cp:revision>
  <dc:subject/>
  <dc:title>Review of the STEP-NC Integrated Data Model</dc:title>
</cp:coreProperties>
</file>