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51FD-BA31-4F08-9CFD-B79B61EB23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al Data Implementors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9-23, 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hal, Portug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fmain" descr=""/>
          <p:cNvPicPr/>
          <p:nvPr/>
        </p:nvPicPr>
        <p:blipFill>
          <a:blip r:embed="rId1"/>
          <a:stretch/>
        </p:blipFill>
        <p:spPr>
          <a:xfrm>
            <a:off x="647640" y="293760"/>
            <a:ext cx="80010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– Wednesday 10:30 – 17: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:30 – 11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Issue Re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G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 Interoper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ified PDM 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Model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and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rics Report – Mike Pra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:00 – 12: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x/PDM Implementors Forum- Max Unger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:00 -  14: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or SEDS iss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schemas listed in hea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le units in Part 4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M Schema – PDTn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:40 – 15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:30 -  16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M and Business Objects Using Express-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:00 – 16: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s of Parts-Lib, ISO 13584  - EP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:30 -  17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xplo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mplementors forum exploder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has m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imp@steptools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found at: http://www.steptools.com/imp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charter, issue log, minutes of last meeting, and slides from last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background mate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um FA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 to many STEP pl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requests for additions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ML Preferences of vendors in the ro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nd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E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Schema/ Edi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planned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-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1-02-23T08:15:02Z</dcterms:modified>
  <cp:revision>121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