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9000"/>
            <a:ext cx="2944800" cy="4654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851280" y="9000"/>
            <a:ext cx="2944800" cy="4654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0" y="9451440"/>
            <a:ext cx="2944800" cy="4654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3851280" y="9451440"/>
            <a:ext cx="2944800" cy="4654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8B967DE-516A-47B0-A27C-944135000AAA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905040" y="4719600"/>
            <a:ext cx="4986000" cy="417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Img"/>
          </p:nvPr>
        </p:nvSpPr>
        <p:spPr>
          <a:xfrm>
            <a:off x="1085760" y="871200"/>
            <a:ext cx="46260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2c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085760" y="87156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05040" y="4719600"/>
            <a:ext cx="4984560" cy="417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440" bIns="46440" anchor="t">
            <a:noAutofit/>
          </a:bodyPr>
          <a:p>
            <a:pPr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mpManu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ve different forms of existing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ed to bring them into a commo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ill use this common data pool for generating their distribution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ed to search in database to select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ownload selected compo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spcBef>
                <a:spcPts val="74"/>
              </a:spcBef>
              <a:buClr>
                <a:srgbClr val="000000"/>
              </a:buClr>
              <a:buFont typeface="Times New Roman"/>
              <a:buChar char="•"/>
              <a:tabLst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tegrate component info into their DB and CAD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asis for neutral format: P-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oftware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r handling data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8560" indent="0">
              <a:spcBef>
                <a:spcPts val="74"/>
              </a:spcBef>
              <a:buNone/>
              <a:tabLst>
                <a:tab algn="l" pos="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legacy) data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8560" indent="0">
              <a:spcBef>
                <a:spcPts val="74"/>
              </a:spcBef>
              <a:buNone/>
              <a:tabLst>
                <a:tab algn="l" pos="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tabases of manufactur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8560" indent="0">
              <a:spcBef>
                <a:spcPts val="74"/>
              </a:spcBef>
              <a:buNone/>
              <a:tabLst>
                <a:tab algn="l" pos="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arious (standardised) form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r gene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8560" indent="0">
              <a:spcBef>
                <a:spcPts val="74"/>
              </a:spcBef>
              <a:buNone/>
              <a:tabLst>
                <a:tab algn="l" pos="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electronic or printed) data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8560" indent="0">
              <a:spcBef>
                <a:spcPts val="74"/>
              </a:spcBef>
              <a:buNone/>
              <a:tabLst>
                <a:tab algn="l" pos="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b pres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8560" indent="0">
              <a:spcBef>
                <a:spcPts val="74"/>
              </a:spcBef>
              <a:buNone/>
              <a:tabLst>
                <a:tab algn="l" pos="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put data for end user databases and CAD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o inform customers about changes in component manufacturing, description, provision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stallation of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vision of neutral component information to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pporting manufactures in information disse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pporting end users in taking and using the information in their databases and CAD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vide an update service to support relationships between customers and end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vision of services in close collaboration with Industrial Interes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085760" y="87156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5040" y="4719600"/>
            <a:ext cx="4986000" cy="417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 auf Implemetors Forum z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85760" y="87156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5040" y="4719600"/>
            <a:ext cx="4986000" cy="4178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 auf Implemetors Forum z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1CB-14B5-4DEC-BE1C-BEDEBEC2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CF4-0B4D-44C5-9288-FA77E06C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9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59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B84-94D0-4615-A510-2F168968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71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70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71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70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9F9-DA51-4747-B4CC-F9D5B9BC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ABA-8540-4790-B3AB-6CD464D5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1B5-4DAF-47C4-8EF0-8D8B7BF3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9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97E-1E85-46E7-A130-1CCCE2D0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3FB-0737-4CE7-821D-61DCD761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752480" y="1519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8CD-CFF4-499C-9162-EFD33FD6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9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BC7-6D71-4544-B714-4BF4691E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9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9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9D5-D059-4B33-BD67-81908B22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9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FC4-A3C0-4BE3-AEA6-53D966E9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26AA83-3C0C-42A2-B695-46EDE26BAD73}" type="slidenum"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6172200"/>
            <a:ext cx="7694640" cy="684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81160" indent="-228600">
              <a:lnSpc>
                <a:spcPct val="90000"/>
              </a:lnSpc>
              <a:spcBef>
                <a:spcPts val="700"/>
              </a:spcBef>
              <a:buClr>
                <a:srgbClr val="3a3a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1828800" indent="-19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1828800" indent="-19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1828800" indent="-19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0"/>
            <a:ext cx="769464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ab2c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447920" y="6172200"/>
            <a:ext cx="7696080" cy="0"/>
          </a:xfrm>
          <a:prstGeom prst="line">
            <a:avLst/>
          </a:prstGeom>
          <a:ln w="25560">
            <a:solidFill>
              <a:srgbClr val="ffab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40" y="6172200"/>
            <a:ext cx="14464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6840" y="6329520"/>
            <a:ext cx="13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1447920"/>
            <a:ext cx="7697520" cy="0"/>
          </a:xfrm>
          <a:prstGeom prst="line">
            <a:avLst/>
          </a:prstGeom>
          <a:ln w="25560">
            <a:solidFill>
              <a:srgbClr val="ffab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1447920"/>
            <a:ext cx="1446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176160" y="6392880"/>
            <a:ext cx="278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Wolfgang Wilkes, 04.10.2000, page </a:t>
            </a:r>
            <a:fld id="{DEDEC30C-2F20-4F17-BF1C-2CAF38DEB8EA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50840" y="6437160"/>
            <a:ext cx="1144440" cy="2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" name=""/>
          <p:cNvGraphicFramePr/>
          <p:nvPr/>
        </p:nvGraphicFramePr>
        <p:xfrm>
          <a:off x="147600" y="152280"/>
          <a:ext cx="1131840" cy="11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00" y="152280"/>
                    <a:ext cx="113184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olfgang.wilkes@fernuni-hagen.de" TargetMode="External"/><Relationship Id="rId2" Type="http://schemas.openxmlformats.org/officeDocument/2006/relationships/hyperlink" Target="mailto:wolfgang.wilkes@fernuni-hagen.de" TargetMode="External"/><Relationship Id="rId3" Type="http://schemas.openxmlformats.org/officeDocument/2006/relationships/hyperlink" Target="mailto:wolfgang.wilkes@fernuni-hagen.de" TargetMode="External"/><Relationship Id="rId4" Type="http://schemas.openxmlformats.org/officeDocument/2006/relationships/hyperlink" Target="mailto:wolfgang.wilkes@fernuni-hagen.de" TargetMode="External"/><Relationship Id="rId5" Type="http://schemas.openxmlformats.org/officeDocument/2006/relationships/hyperlink" Target="mailto:wolfgang.wilkes@fernuni-hagen.de" TargetMode="External"/><Relationship Id="rId6" Type="http://schemas.openxmlformats.org/officeDocument/2006/relationships/hyperlink" Target="http://www.merci-project.net/" TargetMode="External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MERCI</a:t>
            </a:r>
            <a:r>
              <a:rPr b="1" i="1" lang="de-DE" sz="4000" spc="-1" strike="noStrike">
                <a:solidFill>
                  <a:srgbClr val="ffab2c"/>
                </a:solidFill>
                <a:latin typeface="Arial"/>
              </a:rPr>
              <a:t>:</a:t>
            </a:r>
            <a:br>
              <a:rPr sz="4000"/>
            </a:br>
            <a:br>
              <a:rPr sz="2400"/>
            </a:br>
            <a:r>
              <a:rPr b="1" i="1" lang="de-DE" sz="2400" spc="-1" strike="noStrike">
                <a:solidFill>
                  <a:srgbClr val="ffab2c"/>
                </a:solidFill>
                <a:latin typeface="Arial"/>
              </a:rPr>
              <a:t>Management, Exchange and Representation</a:t>
            </a:r>
            <a:br>
              <a:rPr sz="2400"/>
            </a:br>
            <a:r>
              <a:rPr b="1" i="1" lang="de-DE" sz="2400" spc="-1" strike="noStrike">
                <a:solidFill>
                  <a:srgbClr val="ffab2c"/>
                </a:solidFill>
                <a:latin typeface="Arial"/>
              </a:rPr>
              <a:t>of Component Information</a:t>
            </a:r>
            <a:endParaRPr b="1" i="1" lang="en-US" sz="2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Albert Bullig, Wolfgang Wilk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University of Hagen, German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[albert.bullig|</a:t>
            </a:r>
            <a:r>
              <a:rPr b="0" lang="de-DE" sz="20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olfgang</a:t>
            </a:r>
            <a:r>
              <a:rPr b="0" lang="de-DE" sz="2000" spc="-1" strike="noStrike" u="sng">
                <a:solidFill>
                  <a:srgbClr val="ff9900"/>
                </a:solidFill>
                <a:uFillTx/>
                <a:latin typeface="Arial"/>
                <a:hlinkClick r:id="rId3"/>
              </a:rPr>
              <a:t>.</a:t>
            </a:r>
            <a:r>
              <a:rPr b="0" lang="de-DE" sz="2000" spc="-1" strike="noStrike" u="sng">
                <a:solidFill>
                  <a:srgbClr val="ff9900"/>
                </a:solidFill>
                <a:uFillTx/>
                <a:latin typeface="Arial"/>
                <a:hlinkClick r:id="rId4"/>
              </a:rPr>
              <a:t>wilkes</a:t>
            </a:r>
            <a:r>
              <a:rPr b="0" lang="de-DE" sz="2000" spc="-1" strike="noStrike" u="sng">
                <a:solidFill>
                  <a:srgbClr val="ff9900"/>
                </a:solidFill>
                <a:uFillTx/>
                <a:latin typeface="Arial"/>
                <a:hlinkClick r:id="rId5"/>
              </a:rPr>
              <a:t>]@fernuni-hagen.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9900"/>
                </a:solidFill>
                <a:uFillTx/>
                <a:latin typeface="Arial"/>
                <a:hlinkClick r:id="rId6"/>
              </a:rPr>
              <a:t>http://www.merci-project.net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457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ST - Project No. 12238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867280" y="3819600"/>
            <a:ext cx="3000600" cy="2124000"/>
          </a:xfrm>
          <a:prstGeom prst="ellipse">
            <a:avLst/>
          </a:prstGeom>
          <a:solidFill>
            <a:srgbClr val="66ff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1080" y="3362400"/>
            <a:ext cx="4429080" cy="1523880"/>
          </a:xfrm>
          <a:prstGeom prst="ellipse">
            <a:avLst/>
          </a:prstGeom>
          <a:solidFill>
            <a:srgbClr val="eaeaea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1080" y="4667400"/>
            <a:ext cx="4429080" cy="1552320"/>
          </a:xfrm>
          <a:prstGeom prst="ellipse">
            <a:avLst/>
          </a:prstGeom>
          <a:solidFill>
            <a:srgbClr val="eaeaea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ab2c"/>
                </a:solidFill>
                <a:latin typeface="Arial"/>
              </a:rPr>
              <a:t>SME access to MERCI data</a:t>
            </a:r>
            <a:endParaRPr b="1" i="1" lang="en-US" sz="28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2120" y="360504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MERCI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erver Si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4440" y="1695600"/>
            <a:ext cx="1019160" cy="134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52520" y="1695600"/>
            <a:ext cx="181080" cy="1904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9800" y="1897200"/>
            <a:ext cx="1116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LI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(ISO 1030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hysical file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24160" y="2038320"/>
            <a:ext cx="1143000" cy="743040"/>
          </a:xfrm>
          <a:prstGeom prst="rect">
            <a:avLst/>
          </a:prstGeom>
          <a:solidFill>
            <a:srgbClr val="ff505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34040" y="1695600"/>
            <a:ext cx="1019160" cy="134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19280" y="1897200"/>
            <a:ext cx="10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ynami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TM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atalogu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66800" y="2266920"/>
            <a:ext cx="505080" cy="276120"/>
          </a:xfrm>
          <a:prstGeom prst="rightArrow">
            <a:avLst>
              <a:gd name="adj1" fmla="val 50000"/>
              <a:gd name="adj2" fmla="val 45730"/>
            </a:avLst>
          </a:prstGeom>
          <a:solidFill>
            <a:srgbClr val="00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29160" y="2266920"/>
            <a:ext cx="504720" cy="276120"/>
          </a:xfrm>
          <a:prstGeom prst="rightArrow">
            <a:avLst>
              <a:gd name="adj1" fmla="val 50000"/>
              <a:gd name="adj2" fmla="val 45698"/>
            </a:avLst>
          </a:prstGeom>
          <a:solidFill>
            <a:srgbClr val="00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66640" y="2144880"/>
            <a:ext cx="104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atalogu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68120" y="1515960"/>
            <a:ext cx="2983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ff"/>
              </a:buClr>
              <a:buFont typeface="ZapfDingbats" charset="2"/>
              <a:buChar char="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ocument user interfac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ZapfDingbats" charset="2"/>
              <a:buChar char="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ulti languag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ZapfDingbats" charset="2"/>
              <a:buChar char="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arts family description and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tent brows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ZapfDingbats" charset="2"/>
              <a:buChar char="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roperties descrip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ZapfDingbats" charset="2"/>
              <a:buChar char="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ocument oriented data que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ZapfDingbats" charset="2"/>
              <a:buChar char="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base oriented data que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ZapfDingbats" charset="2"/>
              <a:buChar char="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-Commerce servic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ZapfDingbats" charset="2"/>
              <a:buChar char="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ocal or Client/server applica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08680" y="4529160"/>
            <a:ext cx="9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M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 Si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2120" y="504360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upplier X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erver Si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71640" y="5514840"/>
            <a:ext cx="590760" cy="381240"/>
          </a:xfrm>
          <a:prstGeom prst="rect">
            <a:avLst/>
          </a:prstGeom>
          <a:solidFill>
            <a:srgbClr val="ff505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at .Gen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90840" y="5705640"/>
            <a:ext cx="1713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4238640"/>
            <a:ext cx="590760" cy="380880"/>
          </a:xfrm>
          <a:prstGeom prst="rect">
            <a:avLst/>
          </a:prstGeom>
          <a:solidFill>
            <a:srgbClr val="ff505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at .Gen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90840" y="4429080"/>
            <a:ext cx="1713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587760" y="4029120"/>
            <a:ext cx="596880" cy="549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543720" y="4743360"/>
            <a:ext cx="590400" cy="381240"/>
          </a:xfrm>
          <a:prstGeom prst="rect">
            <a:avLst/>
          </a:prstGeom>
          <a:solidFill>
            <a:srgbClr val="ff505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at .Gen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91360" y="5105520"/>
            <a:ext cx="181080" cy="1047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587760" y="5315040"/>
            <a:ext cx="596880" cy="549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182000" y="4105440"/>
            <a:ext cx="438120" cy="380880"/>
          </a:xfrm>
          <a:prstGeom prst="flowChartMagneticDisk">
            <a:avLst/>
          </a:prstGeom>
          <a:solidFill>
            <a:srgbClr val="eaeaea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47960" y="4809960"/>
            <a:ext cx="438120" cy="381240"/>
          </a:xfrm>
          <a:prstGeom prst="flowChartMagneticDisk">
            <a:avLst/>
          </a:prstGeom>
          <a:solidFill>
            <a:srgbClr val="eaeaea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562120" y="3742920"/>
            <a:ext cx="200160" cy="572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562120" y="5133600"/>
            <a:ext cx="200160" cy="572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05000" y="3952800"/>
            <a:ext cx="0" cy="2095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29480" y="4087800"/>
            <a:ext cx="48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PLIB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72040" y="4869000"/>
            <a:ext cx="48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PLIB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05000" y="5238720"/>
            <a:ext cx="0" cy="2095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679800">
            <a:off x="4784760" y="3982680"/>
            <a:ext cx="1138320" cy="257040"/>
          </a:xfrm>
          <a:custGeom>
            <a:avLst/>
            <a:gdLst>
              <a:gd name="textAreaLeft" fmla="*/ 177840 w 1138320"/>
              <a:gd name="textAreaRight" fmla="*/ 996120 w 1138320"/>
              <a:gd name="textAreaTop" fmla="*/ 64080 h 257040"/>
              <a:gd name="textAreaBottom" fmla="*/ 192960 h 25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20919600">
            <a:off x="4804920" y="5151600"/>
            <a:ext cx="1050840" cy="257040"/>
          </a:xfrm>
          <a:custGeom>
            <a:avLst/>
            <a:gdLst>
              <a:gd name="textAreaLeft" fmla="*/ 164160 w 1050840"/>
              <a:gd name="textAreaRight" fmla="*/ 919800 w 1050840"/>
              <a:gd name="textAreaTop" fmla="*/ 64080 h 257040"/>
              <a:gd name="textAreaBottom" fmla="*/ 192960 h 25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352520" y="3762360"/>
          <a:ext cx="108576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2520" y="3762360"/>
                    <a:ext cx="1085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352520" y="3762360"/>
          <a:ext cx="108576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52520" y="3762360"/>
                    <a:ext cx="1085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333440" y="5172120"/>
          <a:ext cx="108576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3440" y="5172120"/>
                    <a:ext cx="1085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7229520" y="4962600"/>
          <a:ext cx="10857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29520" y="4962600"/>
                    <a:ext cx="10857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2857680" y="3524400"/>
            <a:ext cx="438120" cy="380880"/>
          </a:xfrm>
          <a:prstGeom prst="flowChartMagneticDisk">
            <a:avLst/>
          </a:prstGeom>
          <a:solidFill>
            <a:srgbClr val="eaeaea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81400" y="3554280"/>
            <a:ext cx="48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PLIB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Outlin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1 Over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Goals of MERCI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System Overview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ab2c"/>
                </a:solidFill>
                <a:latin typeface="Arial"/>
              </a:rPr>
              <a:t>2 Architekture of the MERCI databa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ab2c"/>
                </a:solidFill>
                <a:latin typeface="Arial"/>
              </a:rPr>
              <a:t>Role of Standardis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ata Im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Business Obje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3 Future Pla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Role of Standardisation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Merci DB uses PLIB as one format for data exchange among oth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Merci DB is based on EDM with PLIB as underlying datamodel, explicit description of component data is used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Merci DB currently uses IEC 63160 as dictionary resour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Support of other PLIB compliant dictionary is possi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Outlin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1 Over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Goals of MERCI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System Overview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ab2c"/>
                </a:solidFill>
                <a:latin typeface="Arial"/>
              </a:rPr>
              <a:t>2 Architekture of the MERCI databa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ole of Standardis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ab2c"/>
                </a:solidFill>
                <a:latin typeface="Arial"/>
              </a:rPr>
              <a:t>Data Im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Business Obje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3 Future Pla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Data Import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066680" y="609480"/>
          <a:ext cx="7867800" cy="567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786780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Data Import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066680" y="609480"/>
          <a:ext cx="7867800" cy="567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786780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Data Import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047600" y="647640"/>
          <a:ext cx="7867800" cy="56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0" y="647640"/>
                    <a:ext cx="7867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Data Import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066680" y="685800"/>
          <a:ext cx="7867800" cy="56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7867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Outlin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1 Over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Goals of MERCI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System Overview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ab2c"/>
                </a:solidFill>
                <a:latin typeface="Arial"/>
              </a:rPr>
              <a:t>2 Architekture of the MERCI database</a:t>
            </a: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ole of Standardis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ata Im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ab2c"/>
                </a:solidFill>
                <a:latin typeface="Arial"/>
              </a:rPr>
              <a:t>Business Obje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3 Future Pla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Normal Application Interfac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4495680"/>
            <a:ext cx="43434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MERCI-DB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Containin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PLIB da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3809880"/>
            <a:ext cx="4343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DAI Interfa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362320"/>
            <a:ext cx="11430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Appl.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2362320"/>
            <a:ext cx="11430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Appl.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81480" y="2362320"/>
            <a:ext cx="11430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Appl. 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781320" y="3809880"/>
            <a:ext cx="305280" cy="1828800"/>
            <a:chOff x="6781320" y="3809880"/>
            <a:chExt cx="305280" cy="1828800"/>
          </a:xfrm>
        </p:grpSpPr>
        <p:sp>
          <p:nvSpPr>
            <p:cNvPr id="353" name=""/>
            <p:cNvSpPr/>
            <p:nvPr/>
          </p:nvSpPr>
          <p:spPr>
            <a:xfrm>
              <a:off x="7086600" y="3809880"/>
              <a:ext cx="0" cy="1828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781320" y="3809880"/>
              <a:ext cx="304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781320" y="5638680"/>
              <a:ext cx="304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316640" y="4191120"/>
            <a:ext cx="127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Outlin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1 Over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Goals of MERCI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Archieve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2 Architekture of the MERCI databa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ole of Standardis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ata Im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Business Obje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3 Future Pla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676520" y="44956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44956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14600" y="44956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44956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O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44956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O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3600" y="44956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81080" y="4495680"/>
            <a:ext cx="43434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MERCI-DB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Containin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PLIB da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Business Object Approach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81080" y="2743200"/>
            <a:ext cx="4343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DAI Interfa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81080" y="1676520"/>
            <a:ext cx="11430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Appl.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1676520"/>
            <a:ext cx="11430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Appl.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1676520"/>
            <a:ext cx="11430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Appl. 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743200"/>
            <a:ext cx="0" cy="2895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781320" y="2743200"/>
            <a:ext cx="304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781320" y="5638680"/>
            <a:ext cx="304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16640" y="3505320"/>
            <a:ext cx="127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57400" y="3505320"/>
            <a:ext cx="762120" cy="60948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BO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3505320"/>
            <a:ext cx="762120" cy="60948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BO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3505320"/>
            <a:ext cx="762120" cy="60948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BO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505320"/>
            <a:ext cx="761760" cy="60948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BO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57" idx="0"/>
            <a:endCxn id="373" idx="2"/>
          </p:cNvCxnSpPr>
          <p:nvPr/>
        </p:nvCxnSpPr>
        <p:spPr>
          <a:xfrm flipH="1" flipV="1" rot="5400000">
            <a:off x="2057040" y="4114440"/>
            <a:ext cx="381600" cy="381600"/>
          </a:xfrm>
          <a:prstGeom prst="curvedConnector5">
            <a:avLst>
              <a:gd name="adj1" fmla="val 49952"/>
              <a:gd name="adj2" fmla="val 49952"/>
              <a:gd name="adj3" fmla="val 49952"/>
            </a:avLst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75" idx="2"/>
            <a:endCxn id="358" idx="0"/>
          </p:cNvCxnSpPr>
          <p:nvPr/>
        </p:nvCxnSpPr>
        <p:spPr>
          <a:xfrm flipH="1" rot="16200000">
            <a:off x="3390840" y="4076280"/>
            <a:ext cx="381600" cy="457920"/>
          </a:xfrm>
          <a:prstGeom prst="curvedConnector5">
            <a:avLst>
              <a:gd name="adj1" fmla="val 49952"/>
              <a:gd name="adj2" fmla="val 49960"/>
              <a:gd name="adj3" fmla="val 49952"/>
            </a:avLst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59" idx="0"/>
            <a:endCxn id="375" idx="2"/>
          </p:cNvCxnSpPr>
          <p:nvPr/>
        </p:nvCxnSpPr>
        <p:spPr>
          <a:xfrm flipH="1" flipV="1" rot="5400000">
            <a:off x="2933280" y="4076280"/>
            <a:ext cx="381600" cy="457920"/>
          </a:xfrm>
          <a:prstGeom prst="curvedConnector5">
            <a:avLst>
              <a:gd name="adj1" fmla="val 49952"/>
              <a:gd name="adj2" fmla="val 49960"/>
              <a:gd name="adj3" fmla="val 49952"/>
            </a:avLst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58" idx="0"/>
            <a:endCxn id="374" idx="2"/>
          </p:cNvCxnSpPr>
          <p:nvPr/>
        </p:nvCxnSpPr>
        <p:spPr>
          <a:xfrm flipH="1" flipV="1" rot="5400000">
            <a:off x="3847680" y="4076280"/>
            <a:ext cx="381600" cy="457920"/>
          </a:xfrm>
          <a:prstGeom prst="curvedConnector5">
            <a:avLst>
              <a:gd name="adj1" fmla="val 49952"/>
              <a:gd name="adj2" fmla="val 49960"/>
              <a:gd name="adj3" fmla="val 49952"/>
            </a:avLst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61" idx="0"/>
            <a:endCxn id="376" idx="2"/>
          </p:cNvCxnSpPr>
          <p:nvPr/>
        </p:nvCxnSpPr>
        <p:spPr>
          <a:xfrm flipH="1" flipV="1" rot="5400000">
            <a:off x="5562360" y="4114440"/>
            <a:ext cx="381600" cy="381600"/>
          </a:xfrm>
          <a:prstGeom prst="curvedConnector5">
            <a:avLst>
              <a:gd name="adj1" fmla="val 49952"/>
              <a:gd name="adj2" fmla="val 49952"/>
              <a:gd name="adj3" fmla="val 49952"/>
            </a:avLst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82" name=""/>
          <p:cNvCxnSpPr>
            <a:stCxn id="373" idx="2"/>
            <a:endCxn id="359" idx="0"/>
          </p:cNvCxnSpPr>
          <p:nvPr/>
        </p:nvCxnSpPr>
        <p:spPr>
          <a:xfrm flipH="1" rot="16200000">
            <a:off x="2476440" y="4076280"/>
            <a:ext cx="381600" cy="457920"/>
          </a:xfrm>
          <a:prstGeom prst="curvedConnector5">
            <a:avLst>
              <a:gd name="adj1" fmla="val 49952"/>
              <a:gd name="adj2" fmla="val 49960"/>
              <a:gd name="adj3" fmla="val 49952"/>
            </a:avLst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4" idx="2"/>
            <a:endCxn id="360" idx="0"/>
          </p:cNvCxnSpPr>
          <p:nvPr/>
        </p:nvCxnSpPr>
        <p:spPr>
          <a:xfrm flipH="1" rot="16200000">
            <a:off x="4266360" y="4114440"/>
            <a:ext cx="381600" cy="3819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6" idx="2"/>
            <a:endCxn id="362" idx="0"/>
          </p:cNvCxnSpPr>
          <p:nvPr/>
        </p:nvCxnSpPr>
        <p:spPr>
          <a:xfrm flipH="1" rot="16200000">
            <a:off x="5943600" y="4114440"/>
            <a:ext cx="381600" cy="381600"/>
          </a:xfrm>
          <a:prstGeom prst="curvedConnector5">
            <a:avLst>
              <a:gd name="adj1" fmla="val 49952"/>
              <a:gd name="adj2" fmla="val 49952"/>
              <a:gd name="adj3" fmla="val 49952"/>
            </a:avLst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>
            <a:off x="228600" y="4038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Times New Roman"/>
              </a:rPr>
              <a:t>EXPRESS-X mapping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Advantages of the BO Approach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Appl. programs work on simpler data structur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3716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Concentration of consistency checks and preservation in mapping progra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3716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Performance gains due to efficient</a:t>
            </a:r>
            <a:br>
              <a:rPr sz="2800"/>
            </a:b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 EXPRESS-X fun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3716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Means to provide well defined business objects with respective functionality to other partn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43000" y="1523880"/>
          <a:ext cx="73533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3880"/>
                    <a:ext cx="73533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4419720" y="3200400"/>
          <a:ext cx="4114800" cy="2101680"/>
        </p:xfrm>
        <a:graphic>
          <a:graphicData uri="http://schemas.openxmlformats.org/drawingml/2006/table">
            <a:tbl>
              <a:tblPr/>
              <a:tblGrid>
                <a:gridCol w="1066680"/>
                <a:gridCol w="838080"/>
                <a:gridCol w="1219320"/>
                <a:gridCol w="990720"/>
              </a:tblGrid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p</a:t>
                      </a:r>
                      <a:br>
                        <a:rPr sz="2400"/>
                      </a:br>
                      <a:r>
                        <a:rPr b="0" lang="de-DE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f 1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p of</a:t>
                      </a:r>
                      <a:br>
                        <a:rPr sz="2400"/>
                      </a:br>
                      <a:r>
                        <a:rPr b="0" lang="de-DE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 and 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p</a:t>
                      </a:r>
                      <a:br>
                        <a:rPr sz="2400"/>
                      </a:br>
                      <a:r>
                        <a:rPr b="0" lang="de-DE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f 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rt A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rt B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5006160" y="1843200"/>
            <a:ext cx="337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Table View of Merci DB,</a:t>
            </a:r>
            <a:br>
              <a:rPr sz="2000"/>
            </a:b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only simple data types are us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Outlin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1 Over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Goals of MERCI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System Overview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2 Architekture of the MERCI databa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ole of Standardis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ata Im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Business Obje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ab2c"/>
                </a:solidFill>
                <a:latin typeface="Arial"/>
              </a:rPr>
              <a:t>3 Future Pla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Plans for the futur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Further proceeding in PLIB standardis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Next release planned for DATE 200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Areas which will be emphasised includ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User manag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Change management / version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Multi-dictionary sup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Implementation of mapping tools (will include much „consultancy“ work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Merci Project in the internet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Merci Project in the internet (mid-March):</a:t>
            </a:r>
            <a:br>
              <a:rPr sz="2800"/>
            </a:br>
            <a:br>
              <a:rPr sz="2800"/>
            </a:br>
            <a:r>
              <a:rPr b="1" i="1" lang="de-DE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de-DE" sz="2800" spc="-1" strike="noStrike">
                <a:solidFill>
                  <a:srgbClr val="3333cc"/>
                </a:solidFill>
                <a:latin typeface="Arial"/>
              </a:rPr>
              <a:t>www.merci-project.net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with access to the Merci databa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Outline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1 </a:t>
            </a:r>
            <a:r>
              <a:rPr b="0" lang="de-DE" sz="2800" spc="-1" strike="noStrike">
                <a:solidFill>
                  <a:srgbClr val="ff99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Arial"/>
              </a:rPr>
              <a:t>Goals of MERCI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Arial"/>
              </a:rPr>
              <a:t>System Overview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2 Architekture of the MERCI databa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Role of Standardis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Data Imp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3a3a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Business Obje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66"/>
                </a:solidFill>
                <a:latin typeface="Arial"/>
              </a:rPr>
              <a:t>3 Future Pla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ab2c"/>
                </a:solidFill>
                <a:latin typeface="Arial"/>
              </a:rPr>
              <a:t>1 Overview</a:t>
            </a:r>
            <a:br>
              <a:rPr sz="4000"/>
            </a:br>
            <a:r>
              <a:rPr b="1" i="1" lang="de-DE" sz="3600" spc="-1" strike="noStrike">
                <a:solidFill>
                  <a:srgbClr val="ffab2c"/>
                </a:solidFill>
                <a:latin typeface="Arial"/>
              </a:rPr>
              <a:t>Envisaged MERCI Infrastructure</a:t>
            </a:r>
            <a:endParaRPr b="1" i="1" lang="en-US" sz="36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1600200"/>
            <a:ext cx="311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a3aff"/>
                </a:solidFill>
                <a:latin typeface="Arial"/>
                <a:ea typeface="Osaka"/>
              </a:rPr>
              <a:t>Component manufactur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620640" cy="463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124080" y="1905120"/>
            <a:ext cx="525600" cy="46332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3809880" y="1905120"/>
            <a:ext cx="978120" cy="526680"/>
            <a:chOff x="3809880" y="1905120"/>
            <a:chExt cx="978120" cy="526680"/>
          </a:xfrm>
        </p:grpSpPr>
        <p:sp>
          <p:nvSpPr>
            <p:cNvPr id="71" name=""/>
            <p:cNvSpPr/>
            <p:nvPr/>
          </p:nvSpPr>
          <p:spPr>
            <a:xfrm>
              <a:off x="3889440" y="2256840"/>
              <a:ext cx="821880" cy="17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0438"/>
                  </a:moveTo>
                  <a:arcTo wR="10800" hR="10800" stAng="-115151" swAng="11143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0438"/>
                  </a:moveTo>
                  <a:arcTo wR="10800" hR="10800" stAng="-115151" swAng="11143996"/>
                </a:path>
              </a:pathLst>
            </a:custGeom>
            <a:gradFill rotWithShape="0">
              <a:gsLst>
                <a:gs pos="0">
                  <a:srgbClr val="3a3aff"/>
                </a:gs>
                <a:gs pos="50000">
                  <a:srgbClr val="fefefe"/>
                </a:gs>
                <a:gs pos="100000">
                  <a:srgbClr val="3a3a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76480" y="1960560"/>
              <a:ext cx="831960" cy="384120"/>
            </a:xfrm>
            <a:prstGeom prst="rect">
              <a:avLst/>
            </a:prstGeom>
            <a:gradFill rotWithShape="0">
              <a:gsLst>
                <a:gs pos="0">
                  <a:srgbClr val="3a3aff"/>
                </a:gs>
                <a:gs pos="50000">
                  <a:srgbClr val="fefefe"/>
                </a:gs>
                <a:gs pos="100000">
                  <a:srgbClr val="3a3a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82960" y="1905120"/>
              <a:ext cx="822240" cy="92160"/>
            </a:xfrm>
            <a:prstGeom prst="ellipse">
              <a:avLst/>
            </a:prstGeom>
            <a:solidFill>
              <a:srgbClr val="3a3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78280" y="1978560"/>
              <a:ext cx="831240" cy="11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33" y="13593"/>
                  </a:moveTo>
                  <a:arcTo wR="10800" hR="10800" stAng="899364" swAng="990063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33" y="13593"/>
                  </a:moveTo>
                  <a:arcTo wR="10800" hR="10800" stAng="899364" swAng="9900636"/>
                </a:path>
              </a:pathLst>
            </a:custGeom>
            <a:noFill/>
            <a:ln cap="rnd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09880" y="2000520"/>
              <a:ext cx="97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  <a:ea typeface="Osaka"/>
                </a:rPr>
                <a:t>databas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618240" y="1600200"/>
            <a:ext cx="188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a3aff"/>
                </a:solidFill>
                <a:latin typeface="Arial"/>
                <a:ea typeface="Osaka"/>
              </a:rPr>
              <a:t>Distribu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343400"/>
            <a:ext cx="13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  <a:ea typeface="Osaka"/>
              </a:rPr>
              <a:t>Websear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5867280"/>
            <a:ext cx="211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a3aff"/>
                </a:solidFill>
                <a:latin typeface="Arial"/>
                <a:ea typeface="Osaka"/>
              </a:rPr>
              <a:t>Component Us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26120" y="5495040"/>
            <a:ext cx="1069920" cy="2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4" y="10449"/>
                </a:moveTo>
                <a:arcTo wR="10800" hR="10800" stAng="-111731" swAng="11132639"/>
                <a:lnTo>
                  <a:pt x="10800" y="10800"/>
                </a:lnTo>
                <a:close/>
              </a:path>
              <a:path fill="none" w="21600" h="21600">
                <a:moveTo>
                  <a:pt x="21594" y="10449"/>
                </a:moveTo>
                <a:arcTo wR="10800" hR="10800" stAng="-111731" swAng="11132639"/>
              </a:path>
            </a:pathLst>
          </a:custGeom>
          <a:gradFill rotWithShape="0">
            <a:gsLst>
              <a:gs pos="0">
                <a:srgbClr val="3a3aff"/>
              </a:gs>
              <a:gs pos="50000">
                <a:srgbClr val="fefefe"/>
              </a:gs>
              <a:gs pos="100000">
                <a:srgbClr val="3a3a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20000" y="5159520"/>
            <a:ext cx="1076400" cy="449280"/>
          </a:xfrm>
          <a:prstGeom prst="rect">
            <a:avLst/>
          </a:prstGeom>
          <a:gradFill rotWithShape="0">
            <a:gsLst>
              <a:gs pos="0">
                <a:srgbClr val="3a3aff"/>
              </a:gs>
              <a:gs pos="50000">
                <a:srgbClr val="fefefe"/>
              </a:gs>
              <a:gs pos="100000">
                <a:srgbClr val="3a3a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5185080"/>
            <a:ext cx="1071360" cy="137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0258"/>
                </a:moveTo>
                <a:arcTo wR="10800" hR="10800" stAng="-172642" swAng="11332003"/>
                <a:lnTo>
                  <a:pt x="10800" y="10800"/>
                </a:lnTo>
                <a:close/>
              </a:path>
              <a:path fill="none" w="21600" h="21600">
                <a:moveTo>
                  <a:pt x="21586" y="10258"/>
                </a:moveTo>
                <a:arcTo wR="10800" hR="10800" stAng="-172642" swAng="11332003"/>
              </a:path>
            </a:pathLst>
          </a:custGeom>
          <a:noFill/>
          <a:ln cap="rnd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69600" y="5278320"/>
            <a:ext cx="4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Osaka"/>
              </a:rPr>
              <a:t>ERP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01880" y="53928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Osaka"/>
              </a:rPr>
              <a:t>PDM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49640" y="530064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  <a:ea typeface="Osaka"/>
              </a:rPr>
              <a:t>CA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8200" y="5086440"/>
            <a:ext cx="1076400" cy="123840"/>
          </a:xfrm>
          <a:prstGeom prst="ellipse">
            <a:avLst/>
          </a:prstGeom>
          <a:solidFill>
            <a:srgbClr val="3a3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66960" y="2813040"/>
            <a:ext cx="5259600" cy="1517760"/>
          </a:xfrm>
          <a:prstGeom prst="rect">
            <a:avLst/>
          </a:prstGeom>
          <a:solidFill>
            <a:srgbClr val="ffff66"/>
          </a:solidFill>
          <a:ln w="12600">
            <a:solidFill>
              <a:srgbClr val="3a3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3733920"/>
            <a:ext cx="10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3aff"/>
                </a:solidFill>
                <a:latin typeface="Arial"/>
                <a:ea typeface="Osaka"/>
              </a:rPr>
              <a:t>MERCI-D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55880" y="3186000"/>
            <a:ext cx="1154160" cy="64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  <a:ea typeface="Osaka"/>
              </a:rPr>
              <a:t>MERCI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  <a:ea typeface="Osaka"/>
              </a:rPr>
              <a:t>Service Agency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3124080"/>
            <a:ext cx="65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Osaka"/>
              </a:rPr>
              <a:t>impor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3124080"/>
            <a:ext cx="65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  <a:ea typeface="Osaka"/>
              </a:rPr>
              <a:t>expor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819520"/>
            <a:ext cx="170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Osaka"/>
              </a:rPr>
              <a:t>data manage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5480" y="3078000"/>
            <a:ext cx="0" cy="2127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562720" y="3657600"/>
            <a:ext cx="380880" cy="9144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0960" y="3921120"/>
            <a:ext cx="181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  <a:ea typeface="Osaka"/>
              </a:rPr>
              <a:t>MERCI-Syste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3720" y="3536640"/>
            <a:ext cx="828360" cy="13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4" y="10438"/>
                </a:moveTo>
                <a:arcTo wR="10800" hR="10800" stAng="-115151" swAng="11143996"/>
                <a:lnTo>
                  <a:pt x="10800" y="10800"/>
                </a:lnTo>
                <a:close/>
              </a:path>
              <a:path fill="none" w="21600" h="21600">
                <a:moveTo>
                  <a:pt x="21594" y="10438"/>
                </a:moveTo>
                <a:arcTo wR="10800" hR="10800" stAng="-115151" swAng="11143996"/>
              </a:path>
            </a:pathLst>
          </a:custGeom>
          <a:gradFill rotWithShape="0">
            <a:gsLst>
              <a:gs pos="0">
                <a:srgbClr val="3a3aff"/>
              </a:gs>
              <a:gs pos="50000">
                <a:srgbClr val="fefefe"/>
              </a:gs>
              <a:gs pos="100000">
                <a:srgbClr val="3a3a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91120" y="3305160"/>
            <a:ext cx="839880" cy="308160"/>
          </a:xfrm>
          <a:prstGeom prst="rect">
            <a:avLst/>
          </a:prstGeom>
          <a:gradFill rotWithShape="0">
            <a:gsLst>
              <a:gs pos="0">
                <a:srgbClr val="3a3aff"/>
              </a:gs>
              <a:gs pos="50000">
                <a:srgbClr val="fefefe"/>
              </a:gs>
              <a:gs pos="100000">
                <a:srgbClr val="3a3a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95800" y="3265560"/>
            <a:ext cx="827280" cy="73080"/>
          </a:xfrm>
          <a:prstGeom prst="ellipse">
            <a:avLst/>
          </a:prstGeom>
          <a:solidFill>
            <a:srgbClr val="3a3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94360" y="3316680"/>
            <a:ext cx="833040" cy="10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11" y="9415"/>
                </a:moveTo>
                <a:arcTo wR="10800" hR="10800" stAng="-441917" swAng="11241917"/>
                <a:lnTo>
                  <a:pt x="10800" y="10800"/>
                </a:lnTo>
                <a:close/>
              </a:path>
              <a:path fill="none" w="21600" h="21600">
                <a:moveTo>
                  <a:pt x="21511" y="9415"/>
                </a:moveTo>
                <a:arcTo wR="10800" hR="10800" stAng="-441917" swAng="11241917"/>
              </a:path>
            </a:pathLst>
          </a:custGeom>
          <a:noFill/>
          <a:ln cap="rnd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352680"/>
            <a:ext cx="6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Osaka"/>
              </a:rPr>
              <a:t>PLI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3720" y="2433600"/>
            <a:ext cx="758880" cy="750960"/>
          </a:xfrm>
          <a:prstGeom prst="downArrow">
            <a:avLst>
              <a:gd name="adj1" fmla="val 50093"/>
              <a:gd name="adj2" fmla="val 44505"/>
            </a:avLst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82000" y="2424240"/>
            <a:ext cx="672840" cy="893520"/>
          </a:xfrm>
          <a:prstGeom prst="upArrow">
            <a:avLst>
              <a:gd name="adj1" fmla="val 45870"/>
              <a:gd name="adj2" fmla="val 52148"/>
            </a:avLst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97840" y="3697200"/>
            <a:ext cx="639720" cy="1136880"/>
          </a:xfrm>
          <a:prstGeom prst="downArrow">
            <a:avLst>
              <a:gd name="adj1" fmla="val 50287"/>
              <a:gd name="adj2" fmla="val 62529"/>
            </a:avLst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343400"/>
            <a:ext cx="11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  <a:ea typeface="Osaka"/>
              </a:rPr>
              <a:t>downloa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7200" y="3133800"/>
            <a:ext cx="981360" cy="74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  <a:ea typeface="Osaka"/>
              </a:rPr>
              <a:t>standardise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  <a:ea typeface="Osaka"/>
              </a:rPr>
              <a:t>format(s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5" name="pc2" descr=""/>
          <p:cNvPicPr/>
          <p:nvPr/>
        </p:nvPicPr>
        <p:blipFill>
          <a:blip r:embed="rId3"/>
          <a:stretch/>
        </p:blipFill>
        <p:spPr>
          <a:xfrm>
            <a:off x="5486400" y="4579920"/>
            <a:ext cx="1362240" cy="1143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rot="5400000">
            <a:off x="4349520" y="2965320"/>
            <a:ext cx="368280" cy="990720"/>
          </a:xfrm>
          <a:prstGeom prst="upArrow">
            <a:avLst>
              <a:gd name="adj1" fmla="val 23278"/>
              <a:gd name="adj2" fmla="val 99148"/>
            </a:avLst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934320" y="1905120"/>
            <a:ext cx="620640" cy="463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696080" y="1905120"/>
            <a:ext cx="525600" cy="463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5400000">
            <a:off x="6254640" y="2965320"/>
            <a:ext cx="368280" cy="990720"/>
          </a:xfrm>
          <a:prstGeom prst="upArrow">
            <a:avLst>
              <a:gd name="adj1" fmla="val 23278"/>
              <a:gd name="adj2" fmla="val 99148"/>
            </a:avLst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ab2c"/>
                </a:solidFill>
                <a:latin typeface="Arial"/>
              </a:rPr>
              <a:t>Achievements / Overview</a:t>
            </a:r>
            <a:endParaRPr b="1" i="1" lang="en-US" sz="40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1640" y="1625760"/>
            <a:ext cx="167652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Data Inpu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2133720"/>
            <a:ext cx="167652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ERCI D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02120" y="2641680"/>
            <a:ext cx="167652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Data Downloa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37360" y="3149640"/>
            <a:ext cx="167652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Integration t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end user libra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0240" y="251460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Data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Mappin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0240" y="32767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Data sheet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taggin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870280" y="2997360"/>
            <a:ext cx="1447560" cy="3047400"/>
            <a:chOff x="2870280" y="2997360"/>
            <a:chExt cx="1447560" cy="3047400"/>
          </a:xfrm>
        </p:grpSpPr>
        <p:sp>
          <p:nvSpPr>
            <p:cNvPr id="118" name=""/>
            <p:cNvSpPr/>
            <p:nvPr/>
          </p:nvSpPr>
          <p:spPr>
            <a:xfrm>
              <a:off x="2870280" y="2997360"/>
              <a:ext cx="144756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66"/>
                  </a:solidFill>
                  <a:latin typeface="Times New Roman"/>
                </a:rPr>
                <a:t>Data Impor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70280" y="3759120"/>
              <a:ext cx="144756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66"/>
                  </a:solidFill>
                  <a:latin typeface="Times New Roman"/>
                </a:rPr>
                <a:t>Data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66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70280" y="4521240"/>
              <a:ext cx="1447560" cy="7614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66"/>
                  </a:solidFill>
                  <a:latin typeface="Times New Roman"/>
                </a:rPr>
                <a:t>Search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66"/>
                  </a:solidFill>
                  <a:latin typeface="Times New Roman"/>
                </a:rPr>
                <a:t>Engin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70280" y="5283000"/>
              <a:ext cx="144756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66"/>
                  </a:solidFill>
                  <a:latin typeface="Times New Roman"/>
                </a:rPr>
                <a:t>Data Capture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66"/>
                  </a:solidFill>
                  <a:latin typeface="Times New Roman"/>
                </a:rPr>
                <a:t>and Manipul.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105520" y="3505320"/>
            <a:ext cx="1447560" cy="7617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Gen. of diff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format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65960" y="398772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DM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65960" y="474984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HTML </a:t>
            </a:r>
            <a:br>
              <a:rPr sz="2000"/>
            </a:b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Data Input (1)</a:t>
            </a:r>
            <a:br>
              <a:rPr sz="4400"/>
            </a:b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EXCEL sheets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8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-2656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Generation of STEP File containing the information of the EXCEL she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808280" y="-1301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1808280" y="7521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838080" y="1981080"/>
            <a:ext cx="7467480" cy="2795760"/>
            <a:chOff x="838080" y="1981080"/>
            <a:chExt cx="7467480" cy="2795760"/>
          </a:xfrm>
        </p:grpSpPr>
        <p:sp>
          <p:nvSpPr>
            <p:cNvPr id="130" name=""/>
            <p:cNvSpPr/>
            <p:nvPr/>
          </p:nvSpPr>
          <p:spPr>
            <a:xfrm>
              <a:off x="7238880" y="4521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71840" y="45212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-5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05160" y="4521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38480" y="4521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T_amb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440" y="45212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04760" y="4521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25 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8080" y="4521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SMD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38880" y="4265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71840" y="42656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-5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05160" y="4265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38480" y="4265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T_amb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71440" y="42656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04760" y="4265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8080" y="4265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NS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38880" y="4010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Cel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40100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Cel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05160" y="4010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Cel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38480" y="4010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1440" y="40100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4760" y="4010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Cel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080" y="4010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37544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T_stg max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71840" y="37544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T_stg min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160" y="37544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38480" y="37544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T_typ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71440" y="37544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P_max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04760" y="37544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T_ref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8080" y="37544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mount feat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38880" y="34988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38880" y="3243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987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00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8880" y="2732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84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38880" y="1981080"/>
              <a:ext cx="10666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71840" y="34988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in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160" y="34988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38480" y="34988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1440" y="34988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4760" y="34988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34988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71840" y="32432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05160" y="3243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68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3243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68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1440" y="32432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4760" y="3243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080" y="32432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71840" y="29876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00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5160" y="2987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00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38480" y="2987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00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440" y="29876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00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4760" y="2987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00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29876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00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71840" y="27320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84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05160" y="2732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25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38480" y="2732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25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440" y="2732040"/>
              <a:ext cx="1067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25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04760" y="2732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01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8080" y="2732040"/>
              <a:ext cx="1066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E00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71840" y="1981080"/>
              <a:ext cx="106704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05160" y="1981080"/>
              <a:ext cx="10666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8480" y="1981080"/>
              <a:ext cx="10666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71440" y="1981080"/>
              <a:ext cx="106704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LF043 SIPMOS Small Signal Transistors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04760" y="1981080"/>
              <a:ext cx="10666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00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8080" y="1981080"/>
              <a:ext cx="10666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AA12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8080" y="2732040"/>
              <a:ext cx="7467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8080" y="2987640"/>
              <a:ext cx="7467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080" y="3243240"/>
              <a:ext cx="7467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3498840"/>
              <a:ext cx="7467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080" y="4776840"/>
              <a:ext cx="7467480" cy="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8080" y="1981080"/>
              <a:ext cx="0" cy="279576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4760" y="1981080"/>
              <a:ext cx="0" cy="2795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71440" y="1981080"/>
              <a:ext cx="0" cy="2795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38480" y="1981080"/>
              <a:ext cx="0" cy="2795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05160" y="1981080"/>
              <a:ext cx="0" cy="2795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71840" y="1981080"/>
              <a:ext cx="0" cy="2795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05560" y="1981080"/>
              <a:ext cx="0" cy="279576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71840" y="1981080"/>
              <a:ext cx="2133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8080" y="1981080"/>
              <a:ext cx="5333760" cy="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8880" y="1981080"/>
              <a:ext cx="0" cy="2795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3754440"/>
              <a:ext cx="7467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8080" y="4010040"/>
              <a:ext cx="7467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080" y="4265640"/>
              <a:ext cx="7467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8080" y="4521240"/>
              <a:ext cx="7467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ab2c"/>
                </a:solidFill>
                <a:latin typeface="Arial"/>
              </a:rPr>
              <a:t>Input (2): Capturing PLIB data from documents: LITECAT</a:t>
            </a:r>
            <a:endParaRPr b="1" i="1" lang="en-US" sz="36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6120" y="1739880"/>
            <a:ext cx="2063520" cy="3987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30240" y="2867040"/>
            <a:ext cx="1811520" cy="2716200"/>
          </a:xfrm>
          <a:custGeom>
            <a:avLst/>
            <a:gdLst/>
            <a:ahLst/>
            <a:rect l="l" t="t" r="r" b="b"/>
            <a:pathLst>
              <a:path w="1141" h="1711">
                <a:moveTo>
                  <a:pt x="0" y="1488"/>
                </a:moveTo>
                <a:lnTo>
                  <a:pt x="0" y="0"/>
                </a:lnTo>
                <a:lnTo>
                  <a:pt x="1140" y="0"/>
                </a:lnTo>
                <a:lnTo>
                  <a:pt x="1140" y="1662"/>
                </a:lnTo>
                <a:lnTo>
                  <a:pt x="702" y="1542"/>
                </a:lnTo>
                <a:lnTo>
                  <a:pt x="774" y="1710"/>
                </a:lnTo>
                <a:lnTo>
                  <a:pt x="318" y="1530"/>
                </a:lnTo>
                <a:lnTo>
                  <a:pt x="456" y="1674"/>
                </a:lnTo>
                <a:lnTo>
                  <a:pt x="0" y="1488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79640" y="2928960"/>
            <a:ext cx="1619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AFNOR NF -E-25-112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Hexagonal head screws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44720" y="3378240"/>
            <a:ext cx="63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Drawing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46120" y="3718080"/>
            <a:ext cx="968400" cy="568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044720" y="4308480"/>
            <a:ext cx="885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Properties lis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89800" y="4622760"/>
            <a:ext cx="1419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Times New Roman"/>
              </a:rPr>
              <a:t>•</a:t>
            </a:r>
            <a:r>
              <a:rPr b="0" lang="en-US" sz="800" spc="-1" strike="noStrike">
                <a:solidFill>
                  <a:srgbClr val="000066"/>
                </a:solidFill>
                <a:latin typeface="Times New Roman"/>
              </a:rPr>
              <a:t>d : nominal diameter, in mm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Times New Roman"/>
              </a:rPr>
              <a:t>•</a:t>
            </a:r>
            <a:r>
              <a:rPr b="0" lang="en-US" sz="800" spc="-1" strike="noStrike">
                <a:solidFill>
                  <a:srgbClr val="000066"/>
                </a:solidFill>
                <a:latin typeface="Times New Roman"/>
              </a:rPr>
              <a:t>l : length under head, in mm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Times New Roman"/>
              </a:rPr>
              <a:t>•</a:t>
            </a:r>
            <a:r>
              <a:rPr b="0" lang="en-US" sz="800" spc="-1" strike="noStrike">
                <a:solidFill>
                  <a:srgbClr val="000066"/>
                </a:solidFill>
                <a:latin typeface="Times New Roman"/>
              </a:rPr>
              <a:t>h : head height, in mm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0240" y="2225520"/>
            <a:ext cx="1806480" cy="58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24360" y="2270160"/>
            <a:ext cx="1259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TD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TML + PLI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22840" y="1727280"/>
            <a:ext cx="1529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ging contro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572840" y="2925720"/>
            <a:ext cx="951480" cy="244800"/>
            <a:chOff x="1572840" y="2925720"/>
            <a:chExt cx="951480" cy="244800"/>
          </a:xfrm>
        </p:grpSpPr>
        <p:sp>
          <p:nvSpPr>
            <p:cNvPr id="224" name=""/>
            <p:cNvSpPr/>
            <p:nvPr/>
          </p:nvSpPr>
          <p:spPr>
            <a:xfrm>
              <a:off x="1612800" y="2930400"/>
              <a:ext cx="835200" cy="196920"/>
            </a:xfrm>
            <a:prstGeom prst="roundRect">
              <a:avLst>
                <a:gd name="adj" fmla="val 12495"/>
              </a:avLst>
            </a:prstGeom>
            <a:solidFill>
              <a:srgbClr val="eaeaea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72840" y="2925720"/>
              <a:ext cx="951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NF-E-25-112 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044520" y="1758960"/>
            <a:ext cx="2552760" cy="1930320"/>
            <a:chOff x="3044520" y="1758960"/>
            <a:chExt cx="2552760" cy="1930320"/>
          </a:xfrm>
        </p:grpSpPr>
        <p:sp>
          <p:nvSpPr>
            <p:cNvPr id="227" name=""/>
            <p:cNvSpPr/>
            <p:nvPr/>
          </p:nvSpPr>
          <p:spPr>
            <a:xfrm>
              <a:off x="3448080" y="2394000"/>
              <a:ext cx="1866960" cy="571320"/>
            </a:xfrm>
            <a:prstGeom prst="rightArrow">
              <a:avLst>
                <a:gd name="adj1" fmla="val 50000"/>
                <a:gd name="adj2" fmla="val 163405"/>
              </a:avLst>
            </a:prstGeom>
            <a:solidFill>
              <a:srgbClr val="eaeaea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rot="5400000">
              <a:off x="4509360" y="2601720"/>
              <a:ext cx="1930320" cy="24444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rot="5400000">
              <a:off x="2201040" y="2601720"/>
              <a:ext cx="1930320" cy="24444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9960" y="2523960"/>
              <a:ext cx="1474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Tagging requ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788080" y="1739880"/>
            <a:ext cx="2397240" cy="3978360"/>
            <a:chOff x="5788080" y="1739880"/>
            <a:chExt cx="2397240" cy="3978360"/>
          </a:xfrm>
        </p:grpSpPr>
        <p:sp>
          <p:nvSpPr>
            <p:cNvPr id="232" name=""/>
            <p:cNvSpPr/>
            <p:nvPr/>
          </p:nvSpPr>
          <p:spPr>
            <a:xfrm>
              <a:off x="5788080" y="1739880"/>
              <a:ext cx="2397240" cy="39783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80760" y="1825560"/>
              <a:ext cx="1946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LIB Library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anagement syste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18040" y="2409840"/>
              <a:ext cx="2165400" cy="1320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66640" y="2487600"/>
              <a:ext cx="207036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SCHEMA </a:t>
              </a: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PLIB</a:t>
              </a: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;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.....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Rule: «The family identifica-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tion shall be unique»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.....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ND SCHEMA;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315200" y="3848040"/>
              <a:ext cx="0" cy="571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58000" y="3848040"/>
              <a:ext cx="0" cy="571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6485040" y="4540320"/>
              <a:ext cx="1141200" cy="977760"/>
              <a:chOff x="6485040" y="4540320"/>
              <a:chExt cx="1141200" cy="977760"/>
            </a:xfrm>
          </p:grpSpPr>
          <p:sp>
            <p:nvSpPr>
              <p:cNvPr id="239" name=""/>
              <p:cNvSpPr/>
              <p:nvPr/>
            </p:nvSpPr>
            <p:spPr>
              <a:xfrm>
                <a:off x="6491160" y="5365800"/>
                <a:ext cx="1135080" cy="1522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85040" y="4618080"/>
                <a:ext cx="1139760" cy="828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91160" y="4540320"/>
                <a:ext cx="1135080" cy="1522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497640" y="4627440"/>
                <a:ext cx="0" cy="8240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624800" y="4627440"/>
                <a:ext cx="0" cy="830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6753600" y="4853160"/>
              <a:ext cx="610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Bas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044880" y="3778200"/>
            <a:ext cx="2543040" cy="1930320"/>
            <a:chOff x="3044880" y="3778200"/>
            <a:chExt cx="2543040" cy="1930320"/>
          </a:xfrm>
        </p:grpSpPr>
        <p:sp>
          <p:nvSpPr>
            <p:cNvPr id="246" name=""/>
            <p:cNvSpPr/>
            <p:nvPr/>
          </p:nvSpPr>
          <p:spPr>
            <a:xfrm rot="16200000">
              <a:off x="2201760" y="4620960"/>
              <a:ext cx="1930320" cy="24444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4500360" y="4620960"/>
              <a:ext cx="1930320" cy="24444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48080" y="4464000"/>
              <a:ext cx="1739880" cy="571680"/>
            </a:xfrm>
            <a:prstGeom prst="leftArrow">
              <a:avLst>
                <a:gd name="adj1" fmla="val 50000"/>
                <a:gd name="adj2" fmla="val 152158"/>
              </a:avLst>
            </a:prstGeom>
            <a:solidFill>
              <a:srgbClr val="eaeaea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74880" y="4606920"/>
              <a:ext cx="1337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quest resu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Overview MERCI DB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4038480"/>
            <a:ext cx="190476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MERCI-DB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Times New Roman"/>
              </a:rPr>
              <a:t>PLIB / IEC6136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Times New Roman"/>
              </a:rPr>
              <a:t>EXPRESS Data Manag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3733920"/>
            <a:ext cx="152388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MPOR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3733920"/>
            <a:ext cx="152388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ownloa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2133720"/>
            <a:ext cx="221004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Search Interfa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52" idx="3"/>
            <a:endCxn id="251" idx="1"/>
          </p:cNvCxnSpPr>
          <p:nvPr/>
        </p:nvCxnSpPr>
        <p:spPr>
          <a:xfrm>
            <a:off x="3352320" y="4076640"/>
            <a:ext cx="381960" cy="53424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w="12600">
            <a:solidFill>
              <a:srgbClr val="000066"/>
            </a:solidFill>
            <a:miter/>
            <a:tailEnd len="lg" type="triangle" w="med"/>
          </a:ln>
        </p:spPr>
      </p:cxnSp>
      <p:cxnSp>
        <p:nvCxnSpPr>
          <p:cNvPr id="256" name=""/>
          <p:cNvCxnSpPr>
            <a:stCxn id="251" idx="3"/>
            <a:endCxn id="253" idx="1"/>
          </p:cNvCxnSpPr>
          <p:nvPr/>
        </p:nvCxnSpPr>
        <p:spPr>
          <a:xfrm flipV="1">
            <a:off x="5638320" y="4076280"/>
            <a:ext cx="305640" cy="53424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w="12600">
            <a:solidFill>
              <a:srgbClr val="000066"/>
            </a:solidFill>
            <a:miter/>
            <a:tailEnd len="lg" type="triangle" w="med"/>
          </a:ln>
        </p:spPr>
      </p:cxnSp>
      <p:cxnSp>
        <p:nvCxnSpPr>
          <p:cNvPr id="257" name=""/>
          <p:cNvCxnSpPr>
            <a:stCxn id="254" idx="2"/>
            <a:endCxn id="251" idx="0"/>
          </p:cNvCxnSpPr>
          <p:nvPr/>
        </p:nvCxnSpPr>
        <p:spPr>
          <a:xfrm>
            <a:off x="4686120" y="2819520"/>
            <a:ext cx="1080" cy="12196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headEnd len="lg" type="triangle" w="med"/>
            <a:tailEnd len="lg" type="triangle" w="med"/>
          </a:ln>
        </p:spPr>
      </p:cxnSp>
      <p:sp>
        <p:nvSpPr>
          <p:cNvPr id="258" name=""/>
          <p:cNvSpPr/>
          <p:nvPr/>
        </p:nvSpPr>
        <p:spPr>
          <a:xfrm>
            <a:off x="1902600" y="4495680"/>
            <a:ext cx="1427400" cy="5202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dictionary 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component 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1880" y="2895480"/>
            <a:ext cx="2900880" cy="7333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hierarchical search / keyword search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on cla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parametric search within cla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8840" y="4495680"/>
            <a:ext cx="1712160" cy="115956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Formats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STE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ASCI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DHTML view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data sheets in PDF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1828800"/>
            <a:ext cx="8610480" cy="1066680"/>
          </a:xfrm>
          <a:prstGeom prst="rect">
            <a:avLst/>
          </a:prstGeom>
          <a:solidFill>
            <a:srgbClr val="c3e1ff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ERCI Web Port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4648320"/>
            <a:ext cx="1371600" cy="99036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Excel she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Convers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and uploa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85800" y="2971800"/>
            <a:ext cx="763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0120" y="3276720"/>
            <a:ext cx="1066680" cy="83808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DHTML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4343400"/>
            <a:ext cx="1068480" cy="68580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Times New Roman"/>
              </a:rPr>
              <a:t>Descon/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Times New Roman"/>
              </a:rPr>
              <a:t>Mentor </a:t>
            </a:r>
            <a:br>
              <a:rPr sz="1600"/>
            </a:br>
            <a:r>
              <a:rPr b="0" lang="de-DE" sz="1600" spc="-1" strike="noStrike">
                <a:solidFill>
                  <a:srgbClr val="000066"/>
                </a:solidFill>
                <a:latin typeface="Times New Roman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839080" y="2971800"/>
            <a:ext cx="76320" cy="1371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29600" y="29718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ffab2c"/>
                </a:solidFill>
                <a:latin typeface="Arial"/>
              </a:rPr>
              <a:t>Integration to DMS (3)</a:t>
            </a:r>
            <a:endParaRPr b="1" i="1" lang="en-US" sz="4400" spc="-1" strike="noStrike">
              <a:solidFill>
                <a:srgbClr val="ffab2c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28600" y="2362320"/>
          <a:ext cx="571500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571500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4722840" y="1143000"/>
          <a:ext cx="4419720" cy="43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2840" y="1143000"/>
                    <a:ext cx="441972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5334120" y="4572000"/>
            <a:ext cx="1790640" cy="1371600"/>
          </a:xfrm>
          <a:custGeom>
            <a:avLst/>
            <a:gdLst/>
            <a:ahLst/>
            <a:rect l="l" t="t" r="r" b="b"/>
            <a:pathLst>
              <a:path w="1128" h="864">
                <a:moveTo>
                  <a:pt x="0" y="864"/>
                </a:moveTo>
                <a:cubicBezTo>
                  <a:pt x="396" y="792"/>
                  <a:pt x="792" y="720"/>
                  <a:pt x="960" y="576"/>
                </a:cubicBezTo>
                <a:cubicBezTo>
                  <a:pt x="1128" y="432"/>
                  <a:pt x="1000" y="96"/>
                  <a:pt x="100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4240" y="579132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imes New Roman"/>
              </a:rPr>
              <a:t>The new instance has been inserted into DM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2743200" y="5943600"/>
            <a:ext cx="1828800" cy="76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View of the instance as it appear in DM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4T14:36:56Z</dcterms:created>
  <dc:creator>Dr. Wolfgang Wilkes</dc:creator>
  <dc:description>Vortrag auf dem Workshop on Libraries, Component Information and Quality Assurance, Toledo, April 1997</dc:description>
  <dc:language>en-US</dc:language>
  <cp:lastModifiedBy>Joshua Porter</cp:lastModifiedBy>
  <cp:lastPrinted>1999-03-24T16:33:25Z</cp:lastPrinted>
  <dcterms:modified xsi:type="dcterms:W3CDTF">2001-03-07T16:14:48Z</dcterms:modified>
  <cp:revision>43</cp:revision>
  <dc:subject/>
  <dc:title>Kein Folientitel</dc:title>
</cp:coreProperties>
</file>