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37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30.jpeg" ContentType="image/jpeg"/>
  <Override PartName="/ppt/media/image33.wmf" ContentType="image/x-wmf"/>
  <Override PartName="/ppt/media/image38.jpeg" ContentType="image/jpeg"/>
  <Override PartName="/ppt/media/image31.wmf" ContentType="image/x-wmf"/>
  <Override PartName="/ppt/media/image7.jpeg" ContentType="image/jpeg"/>
  <Override PartName="/ppt/media/image34.wmf" ContentType="image/x-wmf"/>
  <Override PartName="/ppt/media/image42.jpeg" ContentType="image/jpeg"/>
  <Override PartName="/ppt/media/image9.wmf" ContentType="image/x-wmf"/>
  <Override PartName="/ppt/media/image39.png" ContentType="image/png"/>
  <Override PartName="/ppt/media/image43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100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0120" y="114732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88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100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0120" y="3735000"/>
            <a:ext cx="3065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0240" y="373500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0240" y="1147320"/>
            <a:ext cx="46458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880" y="3735000"/>
            <a:ext cx="95202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16545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98d"/>
                </a:solidFill>
                <a:latin typeface="Arial"/>
              </a:rPr>
              <a:t>CAx-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200" y="6613560"/>
            <a:ext cx="1252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ax_overview_2001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12240" y="645804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54EB-BC4F-467B-B106-E27B936B953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959832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9200" y="6599160"/>
            <a:ext cx="1413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 Ungerer / © CAx-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CAxIF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1168560" cy="56052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228600" y="6172200"/>
            <a:ext cx="1295280" cy="457200"/>
            <a:chOff x="228600" y="6172200"/>
            <a:chExt cx="1295280" cy="457200"/>
          </a:xfrm>
        </p:grpSpPr>
        <p:sp>
          <p:nvSpPr>
            <p:cNvPr id="9" name=""/>
            <p:cNvSpPr/>
            <p:nvPr/>
          </p:nvSpPr>
          <p:spPr>
            <a:xfrm>
              <a:off x="228600" y="6172200"/>
              <a:ext cx="1295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pdeslogo" descr=""/>
            <p:cNvPicPr/>
            <p:nvPr/>
          </p:nvPicPr>
          <p:blipFill>
            <a:blip r:embed="rId3"/>
            <a:stretch/>
          </p:blipFill>
          <p:spPr>
            <a:xfrm>
              <a:off x="228600" y="6222960"/>
              <a:ext cx="485640" cy="39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erein_ohne" descr=""/>
            <p:cNvPicPr/>
            <p:nvPr/>
          </p:nvPicPr>
          <p:blipFill>
            <a:blip r:embed="rId4"/>
            <a:stretch/>
          </p:blipFill>
          <p:spPr>
            <a:xfrm>
              <a:off x="714240" y="6172200"/>
              <a:ext cx="800640" cy="452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4.png"/><Relationship Id="rId4" Type="http://schemas.openxmlformats.org/officeDocument/2006/relationships/hyperlink" Target="file:///idif_pdm_if.ppt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523880"/>
            <a:ext cx="589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0000"/>
                </a:solidFill>
                <a:latin typeface="Arial"/>
              </a:rPr>
              <a:t>CAx-IF and PDM Implementors Fo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0040" y="4800600"/>
            <a:ext cx="36576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Industrial Data Implementors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Funchal, Mad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February 21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ProSTEP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deslogo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51" name="Verein_ohne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16002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Torsion Protector (Dassault / CATIA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7" name="pic_pm3_ct" descr=""/>
          <p:cNvPicPr/>
          <p:nvPr/>
        </p:nvPicPr>
        <p:blipFill>
          <a:blip r:embed="rId1"/>
          <a:stretch/>
        </p:blipFill>
        <p:spPr>
          <a:xfrm>
            <a:off x="2871720" y="1519200"/>
            <a:ext cx="35798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Gasket Rings (Debis / CATIA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9" name="pic_pm3_db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9534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Receiver Station (I-DEAS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1" name="pic_pm3_id" descr=""/>
          <p:cNvPicPr/>
          <p:nvPr/>
        </p:nvPicPr>
        <p:blipFill>
          <a:blip r:embed="rId1"/>
          <a:stretch/>
        </p:blipFill>
        <p:spPr>
          <a:xfrm>
            <a:off x="1666800" y="1490760"/>
            <a:ext cx="5419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Differential (AutoDesk / Inventor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3" name="pic_pm3_in" descr=""/>
          <p:cNvPicPr/>
          <p:nvPr/>
        </p:nvPicPr>
        <p:blipFill>
          <a:blip r:embed="rId1"/>
          <a:stretch/>
        </p:blipFill>
        <p:spPr>
          <a:xfrm>
            <a:off x="1676520" y="1658880"/>
            <a:ext cx="64767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Transmission Control Unit Casing (Pro/E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5" name="pic_pm3_pe" descr=""/>
          <p:cNvPicPr/>
          <p:nvPr/>
        </p:nvPicPr>
        <p:blipFill>
          <a:blip r:embed="rId1"/>
          <a:stretch/>
        </p:blipFill>
        <p:spPr>
          <a:xfrm>
            <a:off x="1905120" y="1555920"/>
            <a:ext cx="60195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Mount Beam (UG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7" name="pic_pm3_ug" descr=""/>
          <p:cNvPicPr/>
          <p:nvPr/>
        </p:nvPicPr>
        <p:blipFill>
          <a:blip r:embed="rId1"/>
          <a:stretch/>
        </p:blipFill>
        <p:spPr>
          <a:xfrm>
            <a:off x="1652760" y="1454040"/>
            <a:ext cx="680544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5J Draughting Result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1600200"/>
          <a:ext cx="66006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6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810600" y="6040440"/>
            <a:ext cx="1703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esults for Validation Properti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838080" y="1143000"/>
          <a:ext cx="8153640" cy="47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815364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esults for External Referenc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914400" y="1219320"/>
          <a:ext cx="80121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80121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5J Results -- Spaceship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76520" y="1447920"/>
          <a:ext cx="660060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60060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3810600" y="6040440"/>
            <a:ext cx="1703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9440" y="914400"/>
            <a:ext cx="39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vantGarde Md BT"/>
              </a:rPr>
              <a:t>CAx - 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92080" y="1660680"/>
            <a:ext cx="277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Statu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0400" y="4800600"/>
            <a:ext cx="30978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Dr. 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CAx Implementor For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E-Mail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ungerer@prostep.de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WWW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d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cax-if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AxIF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746784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pdeslogo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Verein_ohne" descr=""/>
          <p:cNvPicPr/>
          <p:nvPr/>
        </p:nvPicPr>
        <p:blipFill>
          <a:blip r:embed="rId3"/>
          <a:stretch/>
        </p:blipFill>
        <p:spPr>
          <a:xfrm>
            <a:off x="7620120" y="1828800"/>
            <a:ext cx="16002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esults for Surface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838080" y="1143000"/>
          <a:ext cx="8153640" cy="47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81536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Inventor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DiffAssy" descr=""/>
          <p:cNvPicPr/>
          <p:nvPr/>
        </p:nvPicPr>
        <p:blipFill>
          <a:blip r:embed="rId3"/>
          <a:stretch/>
        </p:blipFill>
        <p:spPr>
          <a:xfrm>
            <a:off x="0" y="2362320"/>
            <a:ext cx="373392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AutoCAD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pm3-ac" descr=""/>
          <p:cNvPicPr/>
          <p:nvPr/>
        </p:nvPicPr>
        <p:blipFill>
          <a:blip r:embed="rId3"/>
          <a:stretch/>
        </p:blipFill>
        <p:spPr>
          <a:xfrm>
            <a:off x="0" y="2057400"/>
            <a:ext cx="373392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UG Production Model </a:t>
            </a:r>
            <a:br>
              <a:rPr sz="3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-- from P&amp;W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ea990039" descr=""/>
          <p:cNvPicPr/>
          <p:nvPr/>
        </p:nvPicPr>
        <p:blipFill>
          <a:blip r:embed="rId3"/>
          <a:stretch/>
        </p:blipFill>
        <p:spPr>
          <a:xfrm>
            <a:off x="0" y="2706840"/>
            <a:ext cx="3581280" cy="22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I-DEAS Production Model</a:t>
            </a:r>
            <a:br>
              <a:rPr sz="3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-- from NASA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0" name="Full_Assembly.image" descr=""/>
          <p:cNvPicPr/>
          <p:nvPr/>
        </p:nvPicPr>
        <p:blipFill>
          <a:blip r:embed="rId3"/>
          <a:stretch/>
        </p:blipFill>
        <p:spPr>
          <a:xfrm>
            <a:off x="0" y="1905120"/>
            <a:ext cx="3733920" cy="33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Pro/E Production Model</a:t>
            </a:r>
            <a:br>
              <a:rPr sz="3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-- from ZF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4" name="6009_374_013_ez001" descr=""/>
          <p:cNvPicPr/>
          <p:nvPr/>
        </p:nvPicPr>
        <p:blipFill>
          <a:blip r:embed="rId3"/>
          <a:stretch/>
        </p:blipFill>
        <p:spPr>
          <a:xfrm>
            <a:off x="0" y="2157480"/>
            <a:ext cx="3733920" cy="28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CATIA (Debis)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sol19" descr=""/>
          <p:cNvPicPr/>
          <p:nvPr/>
        </p:nvPicPr>
        <p:blipFill>
          <a:blip r:embed="rId3"/>
          <a:stretch/>
        </p:blipFill>
        <p:spPr>
          <a:xfrm>
            <a:off x="0" y="2743200"/>
            <a:ext cx="365760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esults for CATIA (Dassault) Production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305160" y="1905120"/>
          <a:ext cx="660096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905120"/>
                    <a:ext cx="66009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sol1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328608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5J Summary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Draught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1868400"/>
            <a:ext cx="80154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In a seperate Draughting Workshop during the Round5J review meeting, several issues could be identified and new approaches have been def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Re-test the model from Round5J in order to validate the new agre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Extend functionality in future test roun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Associative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Dimensional Toler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5J Summary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Validation Properties and Tex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1868400"/>
            <a:ext cx="8015400" cy="38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Testing of Geometric Validation Properties showed perfec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In future, “Extended” Validation Properties including instance information will be tested. This allows to identify problematic parts and thus increases the benefits of this functiona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Low interest in 3D Annotation. Possible cause for this is that ‘annotation vendors’ didn’t test other functionalities included in the S1 test c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A simple test case for colors and annotation will be set up for Round6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5J Scope (ended December 2000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85880" y="1219320"/>
            <a:ext cx="438048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Drau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Views &amp; View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Linear and angular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Geometric Validation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3D 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ociative Text/3D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lors/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xternal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opologically bounde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5J Summary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External References, Production Model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600200"/>
            <a:ext cx="80154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Excellen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Especially the newly tested Document Format Properties showed a success rate of more than 90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Issues identified in Round4J have been sol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AD - PDM Integration and joint Testing with the PDM-IF will be top priority in future test rou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Handling of part structure vs. geometry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Different exchange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tinue Production Model testing to keep in touch with ‘real lif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ollect new models from variou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Re-test problemat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6J Scope (ends March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 2001</a:t>
            </a:r>
            <a:r>
              <a:rPr b="1" sz="3200" spc="-1" strike="noStrike">
                <a:solidFill>
                  <a:srgbClr val="990000"/>
                </a:solidFill>
                <a:latin typeface="Arial"/>
              </a:rPr>
              <a:t>):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1219320"/>
            <a:ext cx="8229600" cy="58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Joint Testcase with PDM-IF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based on Round4J’s XR1, Import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Surface Model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opologically bounded (K1, ‘key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Re-test of ProSTEP Benchmark Model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B1, ‘gear leve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Colors, 3D Annotation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C1, ‘cub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Produc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Extended Validation Properties “VP2”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ce validation properties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AS1, ‘toilet paper holder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Draughting: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iews &amp; View Layout, Pres. of linear &amp; angular Dimensions (D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Who</a:t>
            </a:r>
            <a:r>
              <a:rPr b="1" lang="de-DE" sz="3200" spc="-1" strike="noStrike">
                <a:solidFill>
                  <a:srgbClr val="990000"/>
                </a:solidFill>
                <a:latin typeface="Arial"/>
              </a:rPr>
              <a:t>‘s doing </a:t>
            </a:r>
            <a:r>
              <a:rPr b="1" sz="3200" spc="-1" strike="noStrike">
                <a:solidFill>
                  <a:srgbClr val="990000"/>
                </a:solidFill>
                <a:latin typeface="Arial"/>
              </a:rPr>
              <a:t>what in Round6J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41360" y="2136600"/>
          <a:ext cx="9023400" cy="25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2136600"/>
                    <a:ext cx="90234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6J – ProSTEP Benchmark Model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5268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95280" y="1425600"/>
            <a:ext cx="73152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Tommy Gun (AutoDesk / MDT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28" name="pic-pm4-ac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6868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Handle (Alias|Wavefront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0" name="pic-pm4-al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6195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Pump Rotor (Matra / Eucli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2" name="pic-pm4-ec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5114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Hydroengine (ISD / HiCAD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4" name="pic-pm4-hc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10516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Grinder Vise (AutoDesk / Inventor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6" name="pic-pm4-in" descr=""/>
          <p:cNvPicPr/>
          <p:nvPr/>
        </p:nvPicPr>
        <p:blipFill>
          <a:blip r:embed="rId1"/>
          <a:stretch/>
        </p:blipFill>
        <p:spPr>
          <a:xfrm>
            <a:off x="1905120" y="1503360"/>
            <a:ext cx="59436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Conductor Mount (Pro/E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38" name="pic-pm4-pe" descr=""/>
          <p:cNvPicPr/>
          <p:nvPr/>
        </p:nvPicPr>
        <p:blipFill>
          <a:blip r:embed="rId1"/>
          <a:stretch/>
        </p:blipFill>
        <p:spPr>
          <a:xfrm>
            <a:off x="3081240" y="1523880"/>
            <a:ext cx="3876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ound5J Participation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1219320"/>
            <a:ext cx="8534160" cy="4760280"/>
            <a:chOff x="609480" y="1219320"/>
            <a:chExt cx="8534160" cy="4760280"/>
          </a:xfrm>
        </p:grpSpPr>
        <p:sp>
          <p:nvSpPr>
            <p:cNvPr id="62" name=""/>
            <p:cNvSpPr/>
            <p:nvPr/>
          </p:nvSpPr>
          <p:spPr>
            <a:xfrm>
              <a:off x="8661600" y="549828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77400" y="549828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76000" y="5498280"/>
              <a:ext cx="401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72440" y="549828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70680" y="549828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86840" y="5498280"/>
              <a:ext cx="483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23800" y="5498280"/>
              <a:ext cx="5626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9600" y="549828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7200" y="549828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54000" y="549828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1600" y="549828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68040" y="549828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66280" y="549828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3080" y="549828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47920" y="5498280"/>
              <a:ext cx="5151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73800" y="5498280"/>
              <a:ext cx="4741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9480" y="5498280"/>
              <a:ext cx="12643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tended Me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661600" y="5125320"/>
              <a:ext cx="4820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77400" y="5125320"/>
              <a:ext cx="484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6000" y="5125320"/>
              <a:ext cx="4010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72440" y="5125320"/>
              <a:ext cx="403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70680" y="5125320"/>
              <a:ext cx="4014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86840" y="5125320"/>
              <a:ext cx="4838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23800" y="5125320"/>
              <a:ext cx="56268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9600" y="5125320"/>
              <a:ext cx="484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7200" y="5125320"/>
              <a:ext cx="4820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54000" y="5125320"/>
              <a:ext cx="403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71600" y="5125320"/>
              <a:ext cx="4820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68040" y="5125320"/>
              <a:ext cx="403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66280" y="5125320"/>
              <a:ext cx="4014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3080" y="5125320"/>
              <a:ext cx="4032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7920" y="5125320"/>
              <a:ext cx="5151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3800" y="5125320"/>
              <a:ext cx="47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480" y="5125320"/>
              <a:ext cx="12643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lors/Lay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61600" y="4429800"/>
              <a:ext cx="4820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77400" y="4429800"/>
              <a:ext cx="4842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6000" y="4429800"/>
              <a:ext cx="4010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2440" y="4429800"/>
              <a:ext cx="4035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70680" y="4429800"/>
              <a:ext cx="4014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86840" y="4429800"/>
              <a:ext cx="4838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23800" y="4429800"/>
              <a:ext cx="5626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39600" y="4429800"/>
              <a:ext cx="4842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7200" y="4429800"/>
              <a:ext cx="4820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54000" y="4429800"/>
              <a:ext cx="4032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71600" y="4429800"/>
              <a:ext cx="48204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68040" y="4429800"/>
              <a:ext cx="4035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6280" y="4429800"/>
              <a:ext cx="4014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63080" y="4429800"/>
              <a:ext cx="4032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7920" y="4429800"/>
              <a:ext cx="51516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3800" y="4429800"/>
              <a:ext cx="4741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4429800"/>
              <a:ext cx="12643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ociative 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61600" y="4115880"/>
              <a:ext cx="4820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77400" y="4115880"/>
              <a:ext cx="484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6000" y="4115880"/>
              <a:ext cx="4010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72440" y="4115880"/>
              <a:ext cx="4035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70680" y="4115880"/>
              <a:ext cx="4014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86840" y="4115880"/>
              <a:ext cx="4838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23800" y="4115880"/>
              <a:ext cx="5626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9600" y="4115880"/>
              <a:ext cx="484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7200" y="4115880"/>
              <a:ext cx="4820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54000" y="4115880"/>
              <a:ext cx="40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71600" y="4115880"/>
              <a:ext cx="48204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8040" y="4115880"/>
              <a:ext cx="4035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66280" y="4115880"/>
              <a:ext cx="4014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63080" y="4115880"/>
              <a:ext cx="40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47920" y="4115880"/>
              <a:ext cx="5151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73800" y="4115880"/>
              <a:ext cx="4741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80" y="4115880"/>
              <a:ext cx="12643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raugh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61600" y="3632400"/>
              <a:ext cx="4820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77400" y="3632400"/>
              <a:ext cx="4842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76000" y="3632400"/>
              <a:ext cx="4010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72440" y="3632400"/>
              <a:ext cx="40356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70680" y="3632400"/>
              <a:ext cx="4014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86840" y="3632400"/>
              <a:ext cx="4838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23800" y="3632400"/>
              <a:ext cx="562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39600" y="3632400"/>
              <a:ext cx="4842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57200" y="3632400"/>
              <a:ext cx="4820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4000" y="3632400"/>
              <a:ext cx="4032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71600" y="3632400"/>
              <a:ext cx="4820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68040" y="3632400"/>
              <a:ext cx="40356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66280" y="3632400"/>
              <a:ext cx="4014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63080" y="3632400"/>
              <a:ext cx="4032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7920" y="3632400"/>
              <a:ext cx="51516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3800" y="3632400"/>
              <a:ext cx="474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480" y="3632400"/>
              <a:ext cx="12643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po Su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1600" y="3094920"/>
              <a:ext cx="4820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77400" y="3094920"/>
              <a:ext cx="4842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76000" y="3094920"/>
              <a:ext cx="4010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72440" y="3094920"/>
              <a:ext cx="40356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70680" y="3094920"/>
              <a:ext cx="4014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6840" y="3094920"/>
              <a:ext cx="4838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23800" y="3094920"/>
              <a:ext cx="56268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9600" y="3094920"/>
              <a:ext cx="4842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7200" y="3094920"/>
              <a:ext cx="4820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54000" y="3094920"/>
              <a:ext cx="4032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1600" y="3094920"/>
              <a:ext cx="48204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68040" y="3094920"/>
              <a:ext cx="40356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6280" y="3094920"/>
              <a:ext cx="4014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63080" y="3094920"/>
              <a:ext cx="40320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47920" y="3094920"/>
              <a:ext cx="51516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73800" y="3094920"/>
              <a:ext cx="47412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80" y="3094920"/>
              <a:ext cx="1264320" cy="5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alidation Proper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61600" y="261324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7400" y="261324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76000" y="2613240"/>
              <a:ext cx="401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72440" y="261324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70680" y="261324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86840" y="2613240"/>
              <a:ext cx="483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23800" y="2613240"/>
              <a:ext cx="5626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39600" y="261324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7200" y="261324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54000" y="261324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1600" y="261324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040" y="261324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66280" y="261324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3080" y="261324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47920" y="2613240"/>
              <a:ext cx="5151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73800" y="2613240"/>
              <a:ext cx="4741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2613240"/>
              <a:ext cx="12643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61600" y="213192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77400" y="213192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76000" y="2131920"/>
              <a:ext cx="401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72440" y="213192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70680" y="213192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86840" y="2131920"/>
              <a:ext cx="483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23800" y="2131920"/>
              <a:ext cx="5626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9600" y="2131920"/>
              <a:ext cx="484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7200" y="213192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54000" y="213192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71600" y="2131920"/>
              <a:ext cx="4820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68040" y="2131920"/>
              <a:ext cx="4035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66280" y="2131920"/>
              <a:ext cx="4014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63080" y="2131920"/>
              <a:ext cx="40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47920" y="2131920"/>
              <a:ext cx="5151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73800" y="2131920"/>
              <a:ext cx="4741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2131920"/>
              <a:ext cx="12643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ernal Referen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61600" y="1219320"/>
              <a:ext cx="482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77400" y="1219320"/>
              <a:ext cx="4842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C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76000" y="1219320"/>
              <a:ext cx="401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cl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72440" y="1219320"/>
              <a:ext cx="403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b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70680" y="1219320"/>
              <a:ext cx="401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6840" y="1219320"/>
              <a:ext cx="4838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82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as Wavefro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23800" y="1219320"/>
              <a:ext cx="5626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em U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9600" y="1219320"/>
              <a:ext cx="4842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83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orem CAD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57200" y="1219320"/>
              <a:ext cx="482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86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54000" y="1219320"/>
              <a:ext cx="4032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/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71600" y="1219320"/>
              <a:ext cx="482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D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68040" y="1219320"/>
              <a:ext cx="403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T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66280" y="1219320"/>
              <a:ext cx="401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ntl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63080" y="1219320"/>
              <a:ext cx="4032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n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47920" y="1219320"/>
              <a:ext cx="515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toC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73800" y="1219320"/>
              <a:ext cx="4741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 fontScale="89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Hu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480" y="1219320"/>
              <a:ext cx="12643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80" y="1219320"/>
              <a:ext cx="8534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480" y="213192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480" y="261324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80" y="309492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480" y="363240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480" y="411588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442980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480" y="512532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480" y="549828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480" y="5979600"/>
              <a:ext cx="8534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480" y="1219320"/>
              <a:ext cx="0" cy="476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738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4792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6308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6628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6804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716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40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72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396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238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684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7068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7244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60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774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61600" y="1219320"/>
              <a:ext cx="0" cy="47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3640" y="1219320"/>
              <a:ext cx="0" cy="4760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347920" y="6081840"/>
            <a:ext cx="184968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x) Draughting session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-pm4-ug" descr=""/>
          <p:cNvPicPr/>
          <p:nvPr/>
        </p:nvPicPr>
        <p:blipFill>
          <a:blip r:embed="rId1"/>
          <a:stretch/>
        </p:blipFill>
        <p:spPr>
          <a:xfrm>
            <a:off x="3962520" y="1143000"/>
            <a:ext cx="5410080" cy="42321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6J Production Model Test Cases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Drive Shaft and Sifter Fork (UG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341" name="pic-pm4-ug2" descr=""/>
          <p:cNvPicPr/>
          <p:nvPr/>
        </p:nvPicPr>
        <p:blipFill>
          <a:blip r:embed="rId2"/>
          <a:stretch/>
        </p:blipFill>
        <p:spPr>
          <a:xfrm>
            <a:off x="228600" y="2316240"/>
            <a:ext cx="495288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 6J Schedul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76320" y="1487520"/>
            <a:ext cx="282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47920" y="1573200"/>
            <a:ext cx="6603840" cy="3836880"/>
            <a:chOff x="1447920" y="1573200"/>
            <a:chExt cx="6603840" cy="3836880"/>
          </a:xfrm>
        </p:grpSpPr>
        <p:sp>
          <p:nvSpPr>
            <p:cNvPr id="345" name=""/>
            <p:cNvSpPr/>
            <p:nvPr/>
          </p:nvSpPr>
          <p:spPr>
            <a:xfrm>
              <a:off x="3454200" y="501012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x-IF meeting, Myrtle Beach, 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7920" y="501012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ch 20, 21, 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4200" y="461016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view meeting for test 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47920" y="461016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ch 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54200" y="4209840"/>
              <a:ext cx="459720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-release of final st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47920" y="4209840"/>
              <a:ext cx="20062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ch 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4200" y="380988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rget stats froz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47920" y="380988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ch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54200" y="340992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rget stats due/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nference 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7920" y="340992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bruary 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4200" y="3008160"/>
              <a:ext cx="4597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files and native stats froz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7920" y="3008160"/>
              <a:ext cx="20062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bruary 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4200" y="260820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itial STEP files and native stats d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47920" y="260820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bruary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54200" y="1973160"/>
              <a:ext cx="45972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ion models released/ CAx-IF conference 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47920" y="1973160"/>
              <a:ext cx="2006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anuary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4200" y="1573200"/>
              <a:ext cx="4597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7920" y="1573200"/>
              <a:ext cx="20062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7920" y="1573200"/>
              <a:ext cx="6603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7920" y="197316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7920" y="260820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7920" y="300816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7920" y="340992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7920" y="380988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7920" y="420984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7920" y="461016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7920" y="5010120"/>
              <a:ext cx="660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7920" y="5410080"/>
              <a:ext cx="6603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47920" y="1573200"/>
              <a:ext cx="0" cy="383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4200" y="1573200"/>
              <a:ext cx="0" cy="383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51760" y="1573200"/>
              <a:ext cx="0" cy="3836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verall Schedule for 2001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5560" y="1752120"/>
            <a:ext cx="9520200" cy="46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0, 21, 22 – Myrtle Beach, SC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4, 25, 26 – Germa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– USA (probably Charles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eam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1880" y="1147320"/>
            <a:ext cx="9520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helm Kerschbaum – BM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Marler – Pratt &amp; Whitn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iver Gunterman – Pro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il Rosche – PDES, Inc./A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chen Boy – Pro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ura McGeorge – PDES, Inc./A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Future plans &amp; activiti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1523880"/>
            <a:ext cx="723888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D/TDM/PDM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Great interest in Construction History and Parametric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Further development in Draughting Area (Associative Dimensions, Dimensional Tolera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Migration from AP214 DIS to IS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6760" y="914400"/>
            <a:ext cx="381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vantGarde Md BT"/>
              </a:rPr>
              <a:t>PDM-I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92080" y="1660680"/>
            <a:ext cx="277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Statu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71480" y="4800600"/>
            <a:ext cx="318600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Dr. Max Ungerer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PDM Implementor For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E-Mail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ungerer@prostep.de</a:t>
            </a:r>
            <a:br>
              <a:rPr sz="1600"/>
            </a:b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WWW: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990000"/>
                </a:solidFill>
                <a:latin typeface="Arial"/>
              </a:rPr>
              <a:t>http://www.pdm-if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deslogo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386" name="Verein_ohne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1600200" cy="961920"/>
          </a:xfrm>
          <a:prstGeom prst="rect">
            <a:avLst/>
          </a:prstGeom>
          <a:ln w="0">
            <a:noFill/>
          </a:ln>
        </p:spPr>
      </p:pic>
      <p:pic>
        <p:nvPicPr>
          <p:cNvPr id="387" name="pdm-if" descr=""/>
          <p:cNvPicPr/>
          <p:nvPr/>
        </p:nvPicPr>
        <p:blipFill>
          <a:blip r:embed="rId3"/>
          <a:stretch/>
        </p:blipFill>
        <p:spPr>
          <a:xfrm>
            <a:off x="4191120" y="3048120"/>
            <a:ext cx="4446360" cy="208260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rId4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Draughting Test Cas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5" name="d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6400800" cy="4962240"/>
          </a:xfrm>
          <a:prstGeom prst="rect">
            <a:avLst/>
          </a:prstGeom>
          <a:ln w="0">
            <a:noFill/>
          </a:ln>
        </p:spPr>
      </p:pic>
      <p:pic>
        <p:nvPicPr>
          <p:cNvPr id="246" name="Corel000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00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External References, Validation Properties and 3D Test Annotation Test Cas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8" name="Corel000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4582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Surface Model Test Cas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0" name="Corel000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696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rface Model Test Cas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79360" y="2108160"/>
          <a:ext cx="7867800" cy="367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108160"/>
                    <a:ext cx="786780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990000"/>
                </a:solidFill>
                <a:latin typeface="Arial"/>
              </a:rPr>
              <a:t>R5J Production Model Test Case:</a:t>
            </a:r>
            <a:br>
              <a:rPr sz="3200"/>
            </a:br>
            <a:r>
              <a:rPr b="1" sz="3200" spc="-1" strike="noStrike">
                <a:solidFill>
                  <a:srgbClr val="990000"/>
                </a:solidFill>
                <a:latin typeface="Arial"/>
              </a:rPr>
              <a:t>Fixture Assembly (AutoDesk / MDT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5" name="pic_pm3_ac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3924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50:28Z</dcterms:created>
  <dc:creator>Jochen Boy</dc:creator>
  <dc:description/>
  <dc:language>en-US</dc:language>
  <cp:lastModifiedBy>Max Ungerer</cp:lastModifiedBy>
  <cp:lastPrinted>2000-02-16T08:52:10Z</cp:lastPrinted>
  <dcterms:modified xsi:type="dcterms:W3CDTF">2001-02-22T10:50:52Z</dcterms:modified>
  <cp:revision>22</cp:revision>
  <dc:subject/>
  <dc:title>Kein Folientitel</dc:title>
</cp:coreProperties>
</file>