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.wmf" ContentType="image/x-wmf"/>
  <Override PartName="/ppt/media/image2.png" ContentType="image/png"/>
  <Override PartName="/ppt/media/image3.wmf" ContentType="image/x-wmf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9.png" ContentType="image/png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0" y="9000"/>
            <a:ext cx="2944800" cy="4654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3851280" y="9000"/>
            <a:ext cx="2944800" cy="4654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i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0" y="9451440"/>
            <a:ext cx="2944800" cy="4654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i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3851280" y="9451440"/>
            <a:ext cx="2944800" cy="4654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i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8DFE1D8-E481-4C2E-B126-19C0BFE7EA17}" type="slidenum"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905040" y="4719600"/>
            <a:ext cx="4986000" cy="41781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Img"/>
          </p:nvPr>
        </p:nvSpPr>
        <p:spPr>
          <a:xfrm>
            <a:off x="1085760" y="871200"/>
            <a:ext cx="462600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ab2c"/>
                </a:solidFill>
                <a:latin typeface="Arial"/>
              </a:rPr>
              <a:t>Click to move the slide</a:t>
            </a: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085760" y="87156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05040" y="4719600"/>
            <a:ext cx="4984560" cy="41781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6440" bIns="46440" anchor="t">
            <a:noAutofit/>
          </a:bodyPr>
          <a:p>
            <a:pPr indent="0">
              <a:spcBef>
                <a:spcPts val="74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mpManu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>
              <a:spcBef>
                <a:spcPts val="74"/>
              </a:spcBef>
              <a:buClr>
                <a:srgbClr val="000000"/>
              </a:buClr>
              <a:buFont typeface="Times New Roman"/>
              <a:buChar char="•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ave different forms of existing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>
              <a:spcBef>
                <a:spcPts val="74"/>
              </a:spcBef>
              <a:buClr>
                <a:srgbClr val="000000"/>
              </a:buClr>
              <a:buFont typeface="Times New Roman"/>
              <a:buChar char="•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eed to bring them into a commo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>
              <a:spcBef>
                <a:spcPts val="74"/>
              </a:spcBef>
              <a:buClr>
                <a:srgbClr val="000000"/>
              </a:buClr>
              <a:buFont typeface="Times New Roman"/>
              <a:buChar char="•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ill use this common data pool for generating their distribution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>
              <a:spcBef>
                <a:spcPts val="74"/>
              </a:spcBef>
              <a:buClr>
                <a:srgbClr val="000000"/>
              </a:buClr>
              <a:buFont typeface="Times New Roman"/>
              <a:buChar char="•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eed to search in database to select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>
              <a:spcBef>
                <a:spcPts val="74"/>
              </a:spcBef>
              <a:buClr>
                <a:srgbClr val="000000"/>
              </a:buClr>
              <a:buFont typeface="Times New Roman"/>
              <a:buChar char="•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ownload selected compon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>
              <a:spcBef>
                <a:spcPts val="74"/>
              </a:spcBef>
              <a:buClr>
                <a:srgbClr val="000000"/>
              </a:buClr>
              <a:buFont typeface="Times New Roman"/>
              <a:buChar char="•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tegrate component info into their DB and CAD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 indent="0">
              <a:spcBef>
                <a:spcPts val="74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asis for neutral format: P-LI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oftware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 indent="0">
              <a:spcBef>
                <a:spcPts val="74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or handling data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898560" indent="0">
              <a:spcBef>
                <a:spcPts val="74"/>
              </a:spcBef>
              <a:buNone/>
              <a:tabLst>
                <a:tab algn="l" pos="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legacy) data she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898560" indent="0">
              <a:spcBef>
                <a:spcPts val="74"/>
              </a:spcBef>
              <a:buNone/>
              <a:tabLst>
                <a:tab algn="l" pos="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atabases of manufactur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898560" indent="0">
              <a:spcBef>
                <a:spcPts val="74"/>
              </a:spcBef>
              <a:buNone/>
              <a:tabLst>
                <a:tab algn="l" pos="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arious (standardised) form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 indent="0">
              <a:spcBef>
                <a:spcPts val="74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or gener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898560" indent="0">
              <a:spcBef>
                <a:spcPts val="74"/>
              </a:spcBef>
              <a:buNone/>
              <a:tabLst>
                <a:tab algn="l" pos="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electronic or printed) data she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898560" indent="0">
              <a:spcBef>
                <a:spcPts val="74"/>
              </a:spcBef>
              <a:buNone/>
              <a:tabLst>
                <a:tab algn="l" pos="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eb presen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898560" indent="0">
              <a:spcBef>
                <a:spcPts val="74"/>
              </a:spcBef>
              <a:buNone/>
              <a:tabLst>
                <a:tab algn="l" pos="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put data for end user databases and CAD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 indent="0">
              <a:spcBef>
                <a:spcPts val="74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o inform customers about changes in component manufacturing, description, provision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 indent="0">
              <a:spcBef>
                <a:spcPts val="74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stallation of service provi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 indent="0">
              <a:spcBef>
                <a:spcPts val="74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rovision of neutral component information to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 indent="0">
              <a:spcBef>
                <a:spcPts val="74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upporting manufactures in information disse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 indent="0">
              <a:spcBef>
                <a:spcPts val="74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upporting end users in taking and using the information in their databases and CAD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 indent="0">
              <a:spcBef>
                <a:spcPts val="74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rovide an update service to support relationships between customers and end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 indent="0">
              <a:spcBef>
                <a:spcPts val="74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rovision of services in close collaboration with Industrial Interest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085760" y="87156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05040" y="4719600"/>
            <a:ext cx="4986000" cy="41781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cht  auf Implemetors Forum z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085760" y="87156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05040" y="4719600"/>
            <a:ext cx="4986000" cy="41781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cht  auf Implemetors Forum z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2010-ADE7-4DC4-B531-C043B9ABA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DC8C-548C-4EA4-A0E4-8F7149A4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59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59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481C-F985-4AEF-A12B-2D39EF423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871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370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871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370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B0E5-8F54-493B-8343-B10093F5E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C801-5623-44B5-8776-0F0F1EA5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705F-A1AA-4B2A-9CEE-AF4BA3EA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9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3945-D584-49EC-BF40-78E14639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6B3D-624B-4D6C-A936-C51042E4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752480" y="15192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37F8-4380-426B-B863-54CB6CDB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9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0947-6A55-4729-A88D-D0A3738C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9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9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E695-363F-491C-9085-AF554DFA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9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567E-2DD7-4F1E-8B60-145D649C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de-DE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de-DE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de-DE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6EB6C5A-E320-44E6-BA49-7D03FAA415E8}" type="slidenum"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6172200"/>
            <a:ext cx="7694640" cy="684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81160" indent="-228600">
              <a:lnSpc>
                <a:spcPct val="90000"/>
              </a:lnSpc>
              <a:spcBef>
                <a:spcPts val="700"/>
              </a:spcBef>
              <a:buClr>
                <a:srgbClr val="3a3a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3716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1828800" indent="-19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1828800" indent="-19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1828800" indent="-19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0"/>
            <a:ext cx="7694640" cy="144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ab2c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447920" y="6172200"/>
            <a:ext cx="7696080" cy="0"/>
          </a:xfrm>
          <a:prstGeom prst="line">
            <a:avLst/>
          </a:prstGeom>
          <a:ln w="25560">
            <a:solidFill>
              <a:srgbClr val="ffab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440" y="6172200"/>
            <a:ext cx="14464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96840" y="6329520"/>
            <a:ext cx="13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447920" y="1447920"/>
            <a:ext cx="7697520" cy="0"/>
          </a:xfrm>
          <a:prstGeom prst="line">
            <a:avLst/>
          </a:prstGeom>
          <a:ln w="25560">
            <a:solidFill>
              <a:srgbClr val="ffab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1447920"/>
            <a:ext cx="1446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6176160" y="6392880"/>
            <a:ext cx="278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Wolfgang Wilkes, 04.10.2000, page </a:t>
            </a:r>
            <a:fld id="{4BC69931-9FFA-446D-827E-931326DC6F85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150840" y="6437160"/>
            <a:ext cx="1144440" cy="20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" name=""/>
          <p:cNvGraphicFramePr/>
          <p:nvPr/>
        </p:nvGraphicFramePr>
        <p:xfrm>
          <a:off x="147600" y="152280"/>
          <a:ext cx="1131840" cy="116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00" y="152280"/>
                    <a:ext cx="113184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wolfgang.wilkes@fernuni-hagen.de" TargetMode="External"/><Relationship Id="rId2" Type="http://schemas.openxmlformats.org/officeDocument/2006/relationships/hyperlink" Target="mailto:wolfgang.wilkes@fernuni-hagen.de" TargetMode="External"/><Relationship Id="rId3" Type="http://schemas.openxmlformats.org/officeDocument/2006/relationships/hyperlink" Target="mailto:wolfgang.wilkes@fernuni-hagen.de" TargetMode="External"/><Relationship Id="rId4" Type="http://schemas.openxmlformats.org/officeDocument/2006/relationships/hyperlink" Target="mailto:wolfgang.wilkes@fernuni-hagen.de" TargetMode="External"/><Relationship Id="rId5" Type="http://schemas.openxmlformats.org/officeDocument/2006/relationships/hyperlink" Target="mailto:wolfgang.wilkes@fernuni-hagen.de" TargetMode="External"/><Relationship Id="rId6" Type="http://schemas.openxmlformats.org/officeDocument/2006/relationships/hyperlink" Target="http://www.merci-project.net/" TargetMode="External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0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ffab2c"/>
                </a:solidFill>
                <a:latin typeface="Arial"/>
              </a:rPr>
              <a:t>MERCI</a:t>
            </a:r>
            <a:r>
              <a:rPr b="1" i="1" lang="de-DE" sz="4000" spc="-1" strike="noStrike">
                <a:solidFill>
                  <a:srgbClr val="ffab2c"/>
                </a:solidFill>
                <a:latin typeface="Arial"/>
              </a:rPr>
              <a:t>:</a:t>
            </a:r>
            <a:br>
              <a:rPr sz="4000"/>
            </a:br>
            <a:br>
              <a:rPr sz="2400"/>
            </a:br>
            <a:r>
              <a:rPr b="1" i="1" lang="de-DE" sz="2400" spc="-1" strike="noStrike">
                <a:solidFill>
                  <a:srgbClr val="ffab2c"/>
                </a:solidFill>
                <a:latin typeface="Arial"/>
              </a:rPr>
              <a:t>Management, Exchange and Representation</a:t>
            </a:r>
            <a:br>
              <a:rPr sz="2400"/>
            </a:br>
            <a:r>
              <a:rPr b="1" i="1" lang="de-DE" sz="2400" spc="-1" strike="noStrike">
                <a:solidFill>
                  <a:srgbClr val="ffab2c"/>
                </a:solidFill>
                <a:latin typeface="Arial"/>
              </a:rPr>
              <a:t>of Component Information</a:t>
            </a:r>
            <a:endParaRPr b="1" i="1" lang="en-US" sz="2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Albert Bullig, Wolfgang Wilk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University of Hagen, Germany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ff9900"/>
                </a:solidFill>
                <a:uFillTx/>
                <a:latin typeface="Arial"/>
                <a:hlinkClick r:id="rId1"/>
              </a:rPr>
              <a:t>[albert.bullig|</a:t>
            </a:r>
            <a:r>
              <a:rPr b="0" lang="de-DE" sz="20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wolfgang</a:t>
            </a:r>
            <a:r>
              <a:rPr b="0" lang="de-DE" sz="2000" spc="-1" strike="noStrike" u="sng">
                <a:solidFill>
                  <a:srgbClr val="ff9900"/>
                </a:solidFill>
                <a:uFillTx/>
                <a:latin typeface="Arial"/>
                <a:hlinkClick r:id="rId3"/>
              </a:rPr>
              <a:t>.</a:t>
            </a:r>
            <a:r>
              <a:rPr b="0" lang="de-DE" sz="2000" spc="-1" strike="noStrike" u="sng">
                <a:solidFill>
                  <a:srgbClr val="ff9900"/>
                </a:solidFill>
                <a:uFillTx/>
                <a:latin typeface="Arial"/>
                <a:hlinkClick r:id="rId4"/>
              </a:rPr>
              <a:t>wilkes</a:t>
            </a:r>
            <a:r>
              <a:rPr b="0" lang="de-DE" sz="2000" spc="-1" strike="noStrike" u="sng">
                <a:solidFill>
                  <a:srgbClr val="ff9900"/>
                </a:solidFill>
                <a:uFillTx/>
                <a:latin typeface="Arial"/>
                <a:hlinkClick r:id="rId5"/>
              </a:rPr>
              <a:t>]@fernuni-hagen.d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ff9900"/>
                </a:solidFill>
                <a:uFillTx/>
                <a:latin typeface="Arial"/>
                <a:hlinkClick r:id="rId6"/>
              </a:rPr>
              <a:t>http://www.merci-project.net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4572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IST - Project No. 12238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867280" y="3819600"/>
            <a:ext cx="3000600" cy="2124000"/>
          </a:xfrm>
          <a:prstGeom prst="ellipse">
            <a:avLst/>
          </a:prstGeom>
          <a:solidFill>
            <a:srgbClr val="66ff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1080" y="3362400"/>
            <a:ext cx="4429080" cy="1523880"/>
          </a:xfrm>
          <a:prstGeom prst="ellipse">
            <a:avLst/>
          </a:prstGeom>
          <a:solidFill>
            <a:srgbClr val="eaeaea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81080" y="4667400"/>
            <a:ext cx="4429080" cy="1552320"/>
          </a:xfrm>
          <a:prstGeom prst="ellipse">
            <a:avLst/>
          </a:prstGeom>
          <a:solidFill>
            <a:srgbClr val="eaeaea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ab2c"/>
                </a:solidFill>
                <a:latin typeface="Arial"/>
              </a:rPr>
              <a:t>SME access to MERCI data</a:t>
            </a:r>
            <a:endParaRPr b="1" i="1" lang="en-US" sz="28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02120" y="3605040"/>
            <a:ext cx="102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MERCI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Server Sid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4440" y="1695600"/>
            <a:ext cx="1019160" cy="1342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52520" y="1695600"/>
            <a:ext cx="181080" cy="19044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9800" y="1897200"/>
            <a:ext cx="111636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LI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(ISO 1030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Physical file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24160" y="2038320"/>
            <a:ext cx="1143000" cy="743040"/>
          </a:xfrm>
          <a:prstGeom prst="rect">
            <a:avLst/>
          </a:prstGeom>
          <a:solidFill>
            <a:srgbClr val="ff505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334040" y="1695600"/>
            <a:ext cx="1019160" cy="1342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19280" y="1897200"/>
            <a:ext cx="104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Dynamic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HTM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atalogu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66800" y="2266920"/>
            <a:ext cx="505080" cy="276120"/>
          </a:xfrm>
          <a:prstGeom prst="rightArrow">
            <a:avLst>
              <a:gd name="adj1" fmla="val 50000"/>
              <a:gd name="adj2" fmla="val 45730"/>
            </a:avLst>
          </a:prstGeom>
          <a:solidFill>
            <a:srgbClr val="00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29160" y="2266920"/>
            <a:ext cx="504720" cy="276120"/>
          </a:xfrm>
          <a:prstGeom prst="rightArrow">
            <a:avLst>
              <a:gd name="adj1" fmla="val 50000"/>
              <a:gd name="adj2" fmla="val 45698"/>
            </a:avLst>
          </a:prstGeom>
          <a:solidFill>
            <a:srgbClr val="00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366640" y="2144880"/>
            <a:ext cx="104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atalogu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Generato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568120" y="1515960"/>
            <a:ext cx="29833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ff"/>
              </a:buClr>
              <a:buFont typeface="ZapfDingbats" charset="2"/>
              <a:buChar char="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Document user interfac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ff"/>
              </a:buClr>
              <a:buFont typeface="ZapfDingbats" charset="2"/>
              <a:buChar char="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ulti languag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ff"/>
              </a:buClr>
              <a:buFont typeface="ZapfDingbats" charset="2"/>
              <a:buChar char="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arts family description and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ontent browsin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ff"/>
              </a:buClr>
              <a:buFont typeface="ZapfDingbats" charset="2"/>
              <a:buChar char="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roperties descript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ff"/>
              </a:buClr>
              <a:buFont typeface="ZapfDingbats" charset="2"/>
              <a:buChar char="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Document oriented data queri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ff"/>
              </a:buClr>
              <a:buFont typeface="ZapfDingbats" charset="2"/>
              <a:buChar char="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Database oriented data queri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ff"/>
              </a:buClr>
              <a:buFont typeface="ZapfDingbats" charset="2"/>
              <a:buChar char="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e-Commerce servic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ff"/>
              </a:buClr>
              <a:buFont typeface="ZapfDingbats" charset="2"/>
              <a:buChar char="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Local or Client/server applicat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708680" y="4529160"/>
            <a:ext cx="97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SM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lient Sid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2120" y="5043600"/>
            <a:ext cx="102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Supplier X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Server Sid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771640" y="5514840"/>
            <a:ext cx="590760" cy="381240"/>
          </a:xfrm>
          <a:prstGeom prst="rect">
            <a:avLst/>
          </a:prstGeom>
          <a:solidFill>
            <a:srgbClr val="ff505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Cat .Gen.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90840" y="5705640"/>
            <a:ext cx="17136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771640" y="4238640"/>
            <a:ext cx="590760" cy="380880"/>
          </a:xfrm>
          <a:prstGeom prst="rect">
            <a:avLst/>
          </a:prstGeom>
          <a:solidFill>
            <a:srgbClr val="ff505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Cat .Gen.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90840" y="4429080"/>
            <a:ext cx="17136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3587760" y="4029120"/>
            <a:ext cx="596880" cy="5493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6543720" y="4743360"/>
            <a:ext cx="590400" cy="381240"/>
          </a:xfrm>
          <a:prstGeom prst="rect">
            <a:avLst/>
          </a:prstGeom>
          <a:solidFill>
            <a:srgbClr val="ff505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Cat .Gen.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91360" y="5105520"/>
            <a:ext cx="181080" cy="10476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3587760" y="5315040"/>
            <a:ext cx="596880" cy="549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7182000" y="4105440"/>
            <a:ext cx="438120" cy="380880"/>
          </a:xfrm>
          <a:prstGeom prst="flowChartMagneticDisk">
            <a:avLst/>
          </a:prstGeom>
          <a:solidFill>
            <a:srgbClr val="eaeaea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847960" y="4809960"/>
            <a:ext cx="438120" cy="381240"/>
          </a:xfrm>
          <a:prstGeom prst="flowChartMagneticDisk">
            <a:avLst/>
          </a:prstGeom>
          <a:solidFill>
            <a:srgbClr val="eaeaea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2562120" y="3742920"/>
            <a:ext cx="200160" cy="5724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2562120" y="5133600"/>
            <a:ext cx="200160" cy="5724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105000" y="3952800"/>
            <a:ext cx="0" cy="20952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29480" y="4087800"/>
            <a:ext cx="488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66"/>
                </a:solidFill>
                <a:latin typeface="Arial"/>
              </a:rPr>
              <a:t>PLIB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72040" y="4869000"/>
            <a:ext cx="488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66"/>
                </a:solidFill>
                <a:latin typeface="Arial"/>
              </a:rPr>
              <a:t>PLIB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105000" y="5238720"/>
            <a:ext cx="0" cy="20952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679800">
            <a:off x="4784760" y="3982680"/>
            <a:ext cx="1138320" cy="257040"/>
          </a:xfrm>
          <a:custGeom>
            <a:avLst/>
            <a:gdLst>
              <a:gd name="textAreaLeft" fmla="*/ 177840 w 1138320"/>
              <a:gd name="textAreaRight" fmla="*/ 996120 w 1138320"/>
              <a:gd name="textAreaTop" fmla="*/ 64080 h 257040"/>
              <a:gd name="textAreaBottom" fmla="*/ 192960 h 25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20919600">
            <a:off x="4804920" y="5151600"/>
            <a:ext cx="1050840" cy="257040"/>
          </a:xfrm>
          <a:custGeom>
            <a:avLst/>
            <a:gdLst>
              <a:gd name="textAreaLeft" fmla="*/ 164160 w 1050840"/>
              <a:gd name="textAreaRight" fmla="*/ 919800 w 1050840"/>
              <a:gd name="textAreaTop" fmla="*/ 64080 h 257040"/>
              <a:gd name="textAreaBottom" fmla="*/ 192960 h 25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352520" y="3762360"/>
          <a:ext cx="108576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2520" y="3762360"/>
                    <a:ext cx="10857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1352520" y="3762360"/>
          <a:ext cx="1085760" cy="7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52520" y="3762360"/>
                    <a:ext cx="10857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1333440" y="5172120"/>
          <a:ext cx="1085760" cy="76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33440" y="5172120"/>
                    <a:ext cx="10857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7229520" y="4962600"/>
          <a:ext cx="1085760" cy="76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229520" y="4962600"/>
                    <a:ext cx="10857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"/>
          <p:cNvSpPr/>
          <p:nvPr/>
        </p:nvSpPr>
        <p:spPr>
          <a:xfrm>
            <a:off x="2857680" y="3524400"/>
            <a:ext cx="438120" cy="380880"/>
          </a:xfrm>
          <a:prstGeom prst="flowChartMagneticDisk">
            <a:avLst/>
          </a:prstGeom>
          <a:solidFill>
            <a:srgbClr val="eaeaea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81400" y="3554280"/>
            <a:ext cx="488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66"/>
                </a:solidFill>
                <a:latin typeface="Arial"/>
              </a:rPr>
              <a:t>PLIB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ffab2c"/>
                </a:solidFill>
                <a:latin typeface="Arial"/>
              </a:rPr>
              <a:t>Outline</a:t>
            </a: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1 Overview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Goals of MERCI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System Overview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ab2c"/>
                </a:solidFill>
                <a:latin typeface="Arial"/>
              </a:rPr>
              <a:t>2 Architekture of the MERCI databas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ab2c"/>
                </a:solidFill>
                <a:latin typeface="Arial"/>
              </a:rPr>
              <a:t>Role of Standardisa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Data Impor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Business Objec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3 Future Pla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ffab2c"/>
                </a:solidFill>
                <a:latin typeface="Arial"/>
              </a:rPr>
              <a:t>Role of Standardisation</a:t>
            </a: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Merci DB uses PLIB as one format for data exchange among oth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Merci DB is based on EDM with PLIB as underlying datamodel, explicit description of component data is used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Merci DB currently uses IEC 63160 as dictionary resourc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Support of other PLIB compliant dictionary is possib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ffab2c"/>
                </a:solidFill>
                <a:latin typeface="Arial"/>
              </a:rPr>
              <a:t>Outline</a:t>
            </a: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1 Overview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Goals of MERCI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System Overview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ab2c"/>
                </a:solidFill>
                <a:latin typeface="Arial"/>
              </a:rPr>
              <a:t>2 Architekture of the MERCI databas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Role of Standardisa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ab2c"/>
                </a:solidFill>
                <a:latin typeface="Arial"/>
              </a:rPr>
              <a:t>Data Impor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Business Objec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3 Future Pla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ffab2c"/>
                </a:solidFill>
                <a:latin typeface="Arial"/>
              </a:rPr>
              <a:t>Data Import</a:t>
            </a: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066680" y="609480"/>
          <a:ext cx="7867800" cy="567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609480"/>
                    <a:ext cx="7867800" cy="567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ffab2c"/>
                </a:solidFill>
                <a:latin typeface="Arial"/>
              </a:rPr>
              <a:t>Data Import</a:t>
            </a: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066680" y="609480"/>
          <a:ext cx="7867800" cy="567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609480"/>
                    <a:ext cx="7867800" cy="567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ffab2c"/>
                </a:solidFill>
                <a:latin typeface="Arial"/>
              </a:rPr>
              <a:t>Data Import</a:t>
            </a: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047600" y="647640"/>
          <a:ext cx="7867800" cy="567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7600" y="647640"/>
                    <a:ext cx="7867800" cy="56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ffab2c"/>
                </a:solidFill>
                <a:latin typeface="Arial"/>
              </a:rPr>
              <a:t>Data Import</a:t>
            </a: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1066680" y="685800"/>
          <a:ext cx="7867800" cy="567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685800"/>
                    <a:ext cx="7867800" cy="56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ffab2c"/>
                </a:solidFill>
                <a:latin typeface="Arial"/>
              </a:rPr>
              <a:t>Outline</a:t>
            </a: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1 Overview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Goals of MERCI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System Overview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ab2c"/>
                </a:solidFill>
                <a:latin typeface="Arial"/>
              </a:rPr>
              <a:t>2 Architekture of the MERCI database</a:t>
            </a: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Role of Standardisa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Data Impor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ab2c"/>
                </a:solidFill>
                <a:latin typeface="Arial"/>
              </a:rPr>
              <a:t>Business Objec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3 Future Pla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ffab2c"/>
                </a:solidFill>
                <a:latin typeface="Arial"/>
              </a:rPr>
              <a:t>Normal Application Interface</a:t>
            </a: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981080" y="4495680"/>
            <a:ext cx="4343400" cy="1143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MERCI-DB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Containing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PLIB dat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81080" y="3809880"/>
            <a:ext cx="43434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DAI Interfac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81080" y="2362320"/>
            <a:ext cx="1143000" cy="914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Appl. 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76720" y="2362320"/>
            <a:ext cx="1143000" cy="914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Appl. 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181480" y="2362320"/>
            <a:ext cx="1143000" cy="914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Appl. 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6781320" y="3809880"/>
            <a:ext cx="305280" cy="1828800"/>
            <a:chOff x="6781320" y="3809880"/>
            <a:chExt cx="305280" cy="1828800"/>
          </a:xfrm>
        </p:grpSpPr>
        <p:sp>
          <p:nvSpPr>
            <p:cNvPr id="353" name=""/>
            <p:cNvSpPr/>
            <p:nvPr/>
          </p:nvSpPr>
          <p:spPr>
            <a:xfrm>
              <a:off x="7086600" y="3809880"/>
              <a:ext cx="0" cy="1828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6781320" y="3809880"/>
              <a:ext cx="3049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6781320" y="5638680"/>
              <a:ext cx="3049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7316640" y="4191120"/>
            <a:ext cx="1270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EXPRES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Manage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ffab2c"/>
                </a:solidFill>
                <a:latin typeface="Arial"/>
              </a:rPr>
              <a:t>Outline</a:t>
            </a: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1 Overview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Goals of MERCI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Archievemen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2 Architekture of the MERCI databas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Role of Standardisa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Data Impor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Business Objec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3 Future Pla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676520" y="4495680"/>
            <a:ext cx="761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O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429000" y="4495680"/>
            <a:ext cx="762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O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514600" y="4495680"/>
            <a:ext cx="762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O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267080" y="4495680"/>
            <a:ext cx="762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BOx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4495680"/>
            <a:ext cx="762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BOx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43600" y="4495680"/>
            <a:ext cx="762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81080" y="4495680"/>
            <a:ext cx="4343400" cy="1143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MERCI-DB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Containing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PLIB dat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ffab2c"/>
                </a:solidFill>
                <a:latin typeface="Arial"/>
              </a:rPr>
              <a:t>Business Object Approach</a:t>
            </a: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981080" y="2743200"/>
            <a:ext cx="43434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DAI Interfac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981080" y="1676520"/>
            <a:ext cx="1143000" cy="914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Appl. 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76720" y="1676520"/>
            <a:ext cx="1143000" cy="914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Appl. 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1480" y="1676520"/>
            <a:ext cx="1143000" cy="914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Appl. 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86600" y="2743200"/>
            <a:ext cx="0" cy="28954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6781320" y="2743200"/>
            <a:ext cx="3049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6781320" y="5638680"/>
            <a:ext cx="3049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316640" y="3505320"/>
            <a:ext cx="1270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EXPRES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Manage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57400" y="3505320"/>
            <a:ext cx="762120" cy="609480"/>
          </a:xfrm>
          <a:prstGeom prst="rect">
            <a:avLst/>
          </a:prstGeom>
          <a:solidFill>
            <a:srgbClr val="ff6600">
              <a:alpha val="50000"/>
            </a:srgbClr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BO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86200" y="3505320"/>
            <a:ext cx="762120" cy="609480"/>
          </a:xfrm>
          <a:prstGeom prst="rect">
            <a:avLst/>
          </a:prstGeom>
          <a:solidFill>
            <a:srgbClr val="ff6600">
              <a:alpha val="50000"/>
            </a:srgbClr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BO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971800" y="3505320"/>
            <a:ext cx="762120" cy="609480"/>
          </a:xfrm>
          <a:prstGeom prst="rect">
            <a:avLst/>
          </a:prstGeom>
          <a:solidFill>
            <a:srgbClr val="ff6600">
              <a:alpha val="50000"/>
            </a:srgbClr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BO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505320"/>
            <a:ext cx="761760" cy="609480"/>
          </a:xfrm>
          <a:prstGeom prst="rect">
            <a:avLst/>
          </a:prstGeom>
          <a:solidFill>
            <a:srgbClr val="ff6600">
              <a:alpha val="50000"/>
            </a:srgbClr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BOx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57" idx="0"/>
            <a:endCxn id="373" idx="2"/>
          </p:cNvCxnSpPr>
          <p:nvPr/>
        </p:nvCxnSpPr>
        <p:spPr>
          <a:xfrm flipH="1" flipV="1" rot="5400000">
            <a:off x="2057040" y="4114440"/>
            <a:ext cx="381600" cy="381600"/>
          </a:xfrm>
          <a:prstGeom prst="curvedConnector5">
            <a:avLst>
              <a:gd name="adj1" fmla="val 49952"/>
              <a:gd name="adj2" fmla="val 49952"/>
              <a:gd name="adj3" fmla="val 49952"/>
            </a:avLst>
          </a:prstGeom>
          <a:ln w="1260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378" name=""/>
          <p:cNvCxnSpPr>
            <a:stCxn id="375" idx="2"/>
            <a:endCxn id="358" idx="0"/>
          </p:cNvCxnSpPr>
          <p:nvPr/>
        </p:nvCxnSpPr>
        <p:spPr>
          <a:xfrm flipH="1" rot="16200000">
            <a:off x="3390840" y="4076280"/>
            <a:ext cx="381600" cy="457920"/>
          </a:xfrm>
          <a:prstGeom prst="curvedConnector5">
            <a:avLst>
              <a:gd name="adj1" fmla="val 49952"/>
              <a:gd name="adj2" fmla="val 49960"/>
              <a:gd name="adj3" fmla="val 49952"/>
            </a:avLst>
          </a:prstGeom>
          <a:ln w="1260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379" name=""/>
          <p:cNvCxnSpPr>
            <a:stCxn id="359" idx="0"/>
            <a:endCxn id="375" idx="2"/>
          </p:cNvCxnSpPr>
          <p:nvPr/>
        </p:nvCxnSpPr>
        <p:spPr>
          <a:xfrm flipH="1" flipV="1" rot="5400000">
            <a:off x="2933280" y="4076280"/>
            <a:ext cx="381600" cy="457920"/>
          </a:xfrm>
          <a:prstGeom prst="curvedConnector5">
            <a:avLst>
              <a:gd name="adj1" fmla="val 49952"/>
              <a:gd name="adj2" fmla="val 49960"/>
              <a:gd name="adj3" fmla="val 49952"/>
            </a:avLst>
          </a:prstGeom>
          <a:ln w="1260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58" idx="0"/>
            <a:endCxn id="374" idx="2"/>
          </p:cNvCxnSpPr>
          <p:nvPr/>
        </p:nvCxnSpPr>
        <p:spPr>
          <a:xfrm flipH="1" flipV="1" rot="5400000">
            <a:off x="3847680" y="4076280"/>
            <a:ext cx="381600" cy="457920"/>
          </a:xfrm>
          <a:prstGeom prst="curvedConnector5">
            <a:avLst>
              <a:gd name="adj1" fmla="val 49952"/>
              <a:gd name="adj2" fmla="val 49960"/>
              <a:gd name="adj3" fmla="val 49952"/>
            </a:avLst>
          </a:prstGeom>
          <a:ln w="1260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61" idx="0"/>
            <a:endCxn id="376" idx="2"/>
          </p:cNvCxnSpPr>
          <p:nvPr/>
        </p:nvCxnSpPr>
        <p:spPr>
          <a:xfrm flipH="1" flipV="1" rot="5400000">
            <a:off x="5562360" y="4114440"/>
            <a:ext cx="381600" cy="381600"/>
          </a:xfrm>
          <a:prstGeom prst="curvedConnector5">
            <a:avLst>
              <a:gd name="adj1" fmla="val 49952"/>
              <a:gd name="adj2" fmla="val 49952"/>
              <a:gd name="adj3" fmla="val 49952"/>
            </a:avLst>
          </a:prstGeom>
          <a:ln w="1260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382" name=""/>
          <p:cNvCxnSpPr>
            <a:stCxn id="373" idx="2"/>
            <a:endCxn id="359" idx="0"/>
          </p:cNvCxnSpPr>
          <p:nvPr/>
        </p:nvCxnSpPr>
        <p:spPr>
          <a:xfrm flipH="1" rot="16200000">
            <a:off x="2476440" y="4076280"/>
            <a:ext cx="381600" cy="457920"/>
          </a:xfrm>
          <a:prstGeom prst="curvedConnector5">
            <a:avLst>
              <a:gd name="adj1" fmla="val 49952"/>
              <a:gd name="adj2" fmla="val 49960"/>
              <a:gd name="adj3" fmla="val 49952"/>
            </a:avLst>
          </a:prstGeom>
          <a:ln w="1260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383" name=""/>
          <p:cNvCxnSpPr>
            <a:stCxn id="374" idx="2"/>
            <a:endCxn id="360" idx="0"/>
          </p:cNvCxnSpPr>
          <p:nvPr/>
        </p:nvCxnSpPr>
        <p:spPr>
          <a:xfrm flipH="1" rot="16200000">
            <a:off x="4266360" y="4114440"/>
            <a:ext cx="381600" cy="38196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1260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384" name=""/>
          <p:cNvCxnSpPr>
            <a:stCxn id="376" idx="2"/>
            <a:endCxn id="362" idx="0"/>
          </p:cNvCxnSpPr>
          <p:nvPr/>
        </p:nvCxnSpPr>
        <p:spPr>
          <a:xfrm flipH="1" rot="16200000">
            <a:off x="5943600" y="4114440"/>
            <a:ext cx="381600" cy="381600"/>
          </a:xfrm>
          <a:prstGeom prst="curvedConnector5">
            <a:avLst>
              <a:gd name="adj1" fmla="val 49952"/>
              <a:gd name="adj2" fmla="val 49952"/>
              <a:gd name="adj3" fmla="val 49952"/>
            </a:avLst>
          </a:prstGeom>
          <a:ln w="1260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385" name=""/>
          <p:cNvSpPr/>
          <p:nvPr/>
        </p:nvSpPr>
        <p:spPr>
          <a:xfrm>
            <a:off x="228600" y="40384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Times New Roman"/>
              </a:rPr>
              <a:t>EXPRESS-X mapping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ffab2c"/>
                </a:solidFill>
                <a:latin typeface="Arial"/>
              </a:rPr>
              <a:t>Advantages of the BO Approach</a:t>
            </a: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Appl. programs work on simpler data structur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37160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Concentration of consistency checks and preservation in mapping program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37160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Performance gains due to efficient</a:t>
            </a:r>
            <a:br>
              <a:rPr sz="2800"/>
            </a:b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 EXPRESS-X func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37160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Means to provide well defined business objects with respective functionality to other partn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ffab2c"/>
                </a:solidFill>
                <a:latin typeface="Arial"/>
              </a:rPr>
              <a:t>2</a:t>
            </a: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143000" y="1523880"/>
          <a:ext cx="73533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523880"/>
                    <a:ext cx="73533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4419720" y="3200400"/>
          <a:ext cx="4114800" cy="2101680"/>
        </p:xfrm>
        <a:graphic>
          <a:graphicData uri="http://schemas.openxmlformats.org/drawingml/2006/table">
            <a:tbl>
              <a:tblPr/>
              <a:tblGrid>
                <a:gridCol w="1066680"/>
                <a:gridCol w="838080"/>
                <a:gridCol w="1219320"/>
                <a:gridCol w="990720"/>
              </a:tblGrid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rop</a:t>
                      </a:r>
                      <a:br>
                        <a:rPr sz="2400"/>
                      </a:br>
                      <a:r>
                        <a:rPr b="0" lang="de-DE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f 1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rop of</a:t>
                      </a:r>
                      <a:br>
                        <a:rPr sz="2400"/>
                      </a:br>
                      <a:r>
                        <a:rPr b="0" lang="de-DE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 and 2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rop</a:t>
                      </a:r>
                      <a:br>
                        <a:rPr sz="2400"/>
                      </a:br>
                      <a:r>
                        <a:rPr b="0" lang="de-DE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f 2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art A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br>
                        <a:rPr sz="1800"/>
                      </a:b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7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art B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br>
                        <a:rPr sz="1800"/>
                      </a:b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2" name=""/>
          <p:cNvSpPr/>
          <p:nvPr/>
        </p:nvSpPr>
        <p:spPr>
          <a:xfrm>
            <a:off x="5006160" y="1843200"/>
            <a:ext cx="337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Table View of Merci DB,</a:t>
            </a:r>
            <a:br>
              <a:rPr sz="2000"/>
            </a:b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only simple data types are use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ffab2c"/>
                </a:solidFill>
                <a:latin typeface="Arial"/>
              </a:rPr>
              <a:t>Outline</a:t>
            </a: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1 Overview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Goals of MERCI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System Overview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2 Architekture of the MERCI databas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Role of Standardisa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Data Impor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Business Objec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ab2c"/>
                </a:solidFill>
                <a:latin typeface="Arial"/>
              </a:rPr>
              <a:t>3 Future Pla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ffab2c"/>
                </a:solidFill>
                <a:latin typeface="Arial"/>
              </a:rPr>
              <a:t>Plans for the future</a:t>
            </a: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Further proceeding in PLIB standardis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Next release planned for DATE 2001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Areas which will be emphasised includ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User managem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Change management / versioning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Multi-dictionary suppor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Implementation of mapping tools (will include much „consultancy“ work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ffab2c"/>
                </a:solidFill>
                <a:latin typeface="Arial"/>
              </a:rPr>
              <a:t>Merci Project in the internet</a:t>
            </a: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Merci Project in the internet (mid-March):</a:t>
            </a:r>
            <a:br>
              <a:rPr sz="2800"/>
            </a:br>
            <a:br>
              <a:rPr sz="2800"/>
            </a:br>
            <a:r>
              <a:rPr b="1" i="1" lang="de-DE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de-DE" sz="2800" spc="-1" strike="noStrike">
                <a:solidFill>
                  <a:srgbClr val="3333cc"/>
                </a:solidFill>
                <a:latin typeface="Arial"/>
              </a:rPr>
              <a:t>www.merci-project.net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with access to the Merci databas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ffab2c"/>
                </a:solidFill>
                <a:latin typeface="Arial"/>
              </a:rPr>
              <a:t>Outline</a:t>
            </a: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1 </a:t>
            </a:r>
            <a:r>
              <a:rPr b="0" lang="de-DE" sz="2800" spc="-1" strike="noStrike">
                <a:solidFill>
                  <a:srgbClr val="ff99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9900"/>
                </a:solidFill>
                <a:latin typeface="Arial"/>
              </a:rPr>
              <a:t>Goals of MERCI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9900"/>
                </a:solidFill>
                <a:latin typeface="Arial"/>
              </a:rPr>
              <a:t>System Overview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2 Architekture of the MERCI databas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Role of Standardisa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Data Impor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Business Objec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3 Future Pla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ffab2c"/>
                </a:solidFill>
                <a:latin typeface="Arial"/>
              </a:rPr>
              <a:t>1 Overview</a:t>
            </a:r>
            <a:br>
              <a:rPr sz="4000"/>
            </a:br>
            <a:r>
              <a:rPr b="1" i="1" lang="de-DE" sz="3600" spc="-1" strike="noStrike">
                <a:solidFill>
                  <a:srgbClr val="ffab2c"/>
                </a:solidFill>
                <a:latin typeface="Arial"/>
              </a:rPr>
              <a:t>Envisaged MERCI Infrastructure</a:t>
            </a:r>
            <a:endParaRPr b="1" i="1" lang="en-US" sz="36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1600200"/>
            <a:ext cx="311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a3aff"/>
                </a:solidFill>
                <a:latin typeface="Arial"/>
                <a:ea typeface="Osaka"/>
              </a:rPr>
              <a:t>Component manufactur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620640" cy="463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124080" y="1905120"/>
            <a:ext cx="525600" cy="46332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3809880" y="1905120"/>
            <a:ext cx="978120" cy="526680"/>
            <a:chOff x="3809880" y="1905120"/>
            <a:chExt cx="978120" cy="526680"/>
          </a:xfrm>
        </p:grpSpPr>
        <p:sp>
          <p:nvSpPr>
            <p:cNvPr id="71" name=""/>
            <p:cNvSpPr/>
            <p:nvPr/>
          </p:nvSpPr>
          <p:spPr>
            <a:xfrm>
              <a:off x="3889440" y="2256840"/>
              <a:ext cx="821880" cy="174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4" y="10438"/>
                  </a:moveTo>
                  <a:arcTo wR="10800" hR="10800" stAng="-115151" swAng="11143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4" y="10438"/>
                  </a:moveTo>
                  <a:arcTo wR="10800" hR="10800" stAng="-115151" swAng="11143996"/>
                </a:path>
              </a:pathLst>
            </a:custGeom>
            <a:gradFill rotWithShape="0">
              <a:gsLst>
                <a:gs pos="0">
                  <a:srgbClr val="3a3aff"/>
                </a:gs>
                <a:gs pos="50000">
                  <a:srgbClr val="fefefe"/>
                </a:gs>
                <a:gs pos="100000">
                  <a:srgbClr val="3a3a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876480" y="1960560"/>
              <a:ext cx="831960" cy="384120"/>
            </a:xfrm>
            <a:prstGeom prst="rect">
              <a:avLst/>
            </a:prstGeom>
            <a:gradFill rotWithShape="0">
              <a:gsLst>
                <a:gs pos="0">
                  <a:srgbClr val="3a3aff"/>
                </a:gs>
                <a:gs pos="50000">
                  <a:srgbClr val="fefefe"/>
                </a:gs>
                <a:gs pos="100000">
                  <a:srgbClr val="3a3a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82960" y="1905120"/>
              <a:ext cx="822240" cy="92160"/>
            </a:xfrm>
            <a:prstGeom prst="ellipse">
              <a:avLst/>
            </a:prstGeom>
            <a:solidFill>
              <a:srgbClr val="3a3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78280" y="1978560"/>
              <a:ext cx="831240" cy="11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33" y="13593"/>
                  </a:moveTo>
                  <a:arcTo wR="10800" hR="10800" stAng="899364" swAng="990063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33" y="13593"/>
                  </a:moveTo>
                  <a:arcTo wR="10800" hR="10800" stAng="899364" swAng="9900636"/>
                </a:path>
              </a:pathLst>
            </a:custGeom>
            <a:noFill/>
            <a:ln cap="rnd"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09880" y="2000520"/>
              <a:ext cx="97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66"/>
                  </a:solidFill>
                  <a:latin typeface="Arial"/>
                  <a:ea typeface="Osaka"/>
                </a:rPr>
                <a:t>databas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618240" y="1600200"/>
            <a:ext cx="1884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a3aff"/>
                </a:solidFill>
                <a:latin typeface="Arial"/>
                <a:ea typeface="Osaka"/>
              </a:rPr>
              <a:t>Distribu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4343400"/>
            <a:ext cx="13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  <a:ea typeface="Osaka"/>
              </a:rPr>
              <a:t>Websearc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19920" y="5867280"/>
            <a:ext cx="2112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a3aff"/>
                </a:solidFill>
                <a:latin typeface="Arial"/>
                <a:ea typeface="Osaka"/>
              </a:rPr>
              <a:t>Component Us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26120" y="5495040"/>
            <a:ext cx="1069920" cy="20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4" y="10449"/>
                </a:moveTo>
                <a:arcTo wR="10800" hR="10800" stAng="-111731" swAng="11132639"/>
                <a:lnTo>
                  <a:pt x="10800" y="10800"/>
                </a:lnTo>
                <a:close/>
              </a:path>
              <a:path fill="none" w="21600" h="21600">
                <a:moveTo>
                  <a:pt x="21594" y="10449"/>
                </a:moveTo>
                <a:arcTo wR="10800" hR="10800" stAng="-111731" swAng="11132639"/>
              </a:path>
            </a:pathLst>
          </a:custGeom>
          <a:gradFill rotWithShape="0">
            <a:gsLst>
              <a:gs pos="0">
                <a:srgbClr val="3a3aff"/>
              </a:gs>
              <a:gs pos="50000">
                <a:srgbClr val="fefefe"/>
              </a:gs>
              <a:gs pos="100000">
                <a:srgbClr val="3a3a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20000" y="5159520"/>
            <a:ext cx="1076400" cy="449280"/>
          </a:xfrm>
          <a:prstGeom prst="rect">
            <a:avLst/>
          </a:prstGeom>
          <a:gradFill rotWithShape="0">
            <a:gsLst>
              <a:gs pos="0">
                <a:srgbClr val="3a3aff"/>
              </a:gs>
              <a:gs pos="50000">
                <a:srgbClr val="fefefe"/>
              </a:gs>
              <a:gs pos="100000">
                <a:srgbClr val="3a3a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5185080"/>
            <a:ext cx="1071360" cy="137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6" y="10258"/>
                </a:moveTo>
                <a:arcTo wR="10800" hR="10800" stAng="-172642" swAng="11332003"/>
                <a:lnTo>
                  <a:pt x="10800" y="10800"/>
                </a:lnTo>
                <a:close/>
              </a:path>
              <a:path fill="none" w="21600" h="21600">
                <a:moveTo>
                  <a:pt x="21586" y="10258"/>
                </a:moveTo>
                <a:arcTo wR="10800" hR="10800" stAng="-172642" swAng="11332003"/>
              </a:path>
            </a:pathLst>
          </a:custGeom>
          <a:noFill/>
          <a:ln cap="rnd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969600" y="5278320"/>
            <a:ext cx="43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Arial"/>
                <a:ea typeface="Osaka"/>
              </a:rPr>
              <a:t>ERP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01880" y="53928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Arial"/>
                <a:ea typeface="Osaka"/>
              </a:rPr>
              <a:t>PDM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49640" y="5300640"/>
            <a:ext cx="45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Arial"/>
                <a:ea typeface="Osaka"/>
              </a:rPr>
              <a:t>CAD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18200" y="5086440"/>
            <a:ext cx="1076400" cy="123840"/>
          </a:xfrm>
          <a:prstGeom prst="ellipse">
            <a:avLst/>
          </a:prstGeom>
          <a:solidFill>
            <a:srgbClr val="3a3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66960" y="2813040"/>
            <a:ext cx="5259600" cy="1517760"/>
          </a:xfrm>
          <a:prstGeom prst="rect">
            <a:avLst/>
          </a:prstGeom>
          <a:solidFill>
            <a:srgbClr val="ffff66"/>
          </a:solidFill>
          <a:ln w="12600">
            <a:solidFill>
              <a:srgbClr val="3a3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95680" y="3733920"/>
            <a:ext cx="10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3aff"/>
                </a:solidFill>
                <a:latin typeface="Arial"/>
                <a:ea typeface="Osaka"/>
              </a:rPr>
              <a:t>MERCI-D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55880" y="3186000"/>
            <a:ext cx="1154160" cy="644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  <a:ea typeface="Osaka"/>
              </a:rPr>
              <a:t>MERCI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  <a:ea typeface="Osaka"/>
              </a:rPr>
              <a:t>Service Agency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3124080"/>
            <a:ext cx="650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66"/>
                </a:solidFill>
                <a:latin typeface="Arial"/>
                <a:ea typeface="Osaka"/>
              </a:rPr>
              <a:t>impor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3124080"/>
            <a:ext cx="652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66"/>
                </a:solidFill>
                <a:latin typeface="Arial"/>
                <a:ea typeface="Osaka"/>
              </a:rPr>
              <a:t>expor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2819520"/>
            <a:ext cx="1706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Arial"/>
                <a:ea typeface="Osaka"/>
              </a:rPr>
              <a:t>data managemen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05480" y="3078000"/>
            <a:ext cx="0" cy="2127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5562720" y="3657600"/>
            <a:ext cx="380880" cy="91440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20960" y="3921120"/>
            <a:ext cx="1819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  <a:ea typeface="Osaka"/>
              </a:rPr>
              <a:t>MERCI-System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3720" y="3536640"/>
            <a:ext cx="828360" cy="13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4" y="10438"/>
                </a:moveTo>
                <a:arcTo wR="10800" hR="10800" stAng="-115151" swAng="11143996"/>
                <a:lnTo>
                  <a:pt x="10800" y="10800"/>
                </a:lnTo>
                <a:close/>
              </a:path>
              <a:path fill="none" w="21600" h="21600">
                <a:moveTo>
                  <a:pt x="21594" y="10438"/>
                </a:moveTo>
                <a:arcTo wR="10800" hR="10800" stAng="-115151" swAng="11143996"/>
              </a:path>
            </a:pathLst>
          </a:custGeom>
          <a:gradFill rotWithShape="0">
            <a:gsLst>
              <a:gs pos="0">
                <a:srgbClr val="3a3aff"/>
              </a:gs>
              <a:gs pos="50000">
                <a:srgbClr val="fefefe"/>
              </a:gs>
              <a:gs pos="100000">
                <a:srgbClr val="3a3a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91120" y="3305160"/>
            <a:ext cx="839880" cy="308160"/>
          </a:xfrm>
          <a:prstGeom prst="rect">
            <a:avLst/>
          </a:prstGeom>
          <a:gradFill rotWithShape="0">
            <a:gsLst>
              <a:gs pos="0">
                <a:srgbClr val="3a3aff"/>
              </a:gs>
              <a:gs pos="50000">
                <a:srgbClr val="fefefe"/>
              </a:gs>
              <a:gs pos="100000">
                <a:srgbClr val="3a3a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95800" y="3265560"/>
            <a:ext cx="827280" cy="73080"/>
          </a:xfrm>
          <a:prstGeom prst="ellipse">
            <a:avLst/>
          </a:prstGeom>
          <a:solidFill>
            <a:srgbClr val="3a3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94360" y="3316680"/>
            <a:ext cx="833040" cy="100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11" y="9415"/>
                </a:moveTo>
                <a:arcTo wR="10800" hR="10800" stAng="-441917" swAng="11241917"/>
                <a:lnTo>
                  <a:pt x="10800" y="10800"/>
                </a:lnTo>
                <a:close/>
              </a:path>
              <a:path fill="none" w="21600" h="21600">
                <a:moveTo>
                  <a:pt x="21511" y="9415"/>
                </a:moveTo>
                <a:arcTo wR="10800" hR="10800" stAng="-441917" swAng="11241917"/>
              </a:path>
            </a:pathLst>
          </a:custGeom>
          <a:noFill/>
          <a:ln cap="rnd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3352680"/>
            <a:ext cx="69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Arial"/>
                <a:ea typeface="Osaka"/>
              </a:rPr>
              <a:t>PLI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33720" y="2433600"/>
            <a:ext cx="758880" cy="750960"/>
          </a:xfrm>
          <a:prstGeom prst="downArrow">
            <a:avLst>
              <a:gd name="adj1" fmla="val 50093"/>
              <a:gd name="adj2" fmla="val 44505"/>
            </a:avLst>
          </a:prstGeom>
          <a:gradFill rotWithShape="0">
            <a:gsLst>
              <a:gs pos="0">
                <a:srgbClr val="5e755e"/>
              </a:gs>
              <a:gs pos="100000">
                <a:srgbClr val="ccffcc"/>
              </a:gs>
            </a:gsLst>
            <a:lin ang="5400000"/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82000" y="2424240"/>
            <a:ext cx="672840" cy="893520"/>
          </a:xfrm>
          <a:prstGeom prst="upArrow">
            <a:avLst>
              <a:gd name="adj1" fmla="val 45870"/>
              <a:gd name="adj2" fmla="val 52148"/>
            </a:avLst>
          </a:prstGeom>
          <a:gradFill rotWithShape="0">
            <a:gsLst>
              <a:gs pos="0">
                <a:srgbClr val="5e755e"/>
              </a:gs>
              <a:gs pos="100000">
                <a:srgbClr val="ccffcc"/>
              </a:gs>
            </a:gsLst>
            <a:lin ang="5400000"/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97840" y="3697200"/>
            <a:ext cx="639720" cy="1136880"/>
          </a:xfrm>
          <a:prstGeom prst="downArrow">
            <a:avLst>
              <a:gd name="adj1" fmla="val 50287"/>
              <a:gd name="adj2" fmla="val 62529"/>
            </a:avLst>
          </a:prstGeom>
          <a:gradFill rotWithShape="0">
            <a:gsLst>
              <a:gs pos="0">
                <a:srgbClr val="5e755e"/>
              </a:gs>
              <a:gs pos="100000">
                <a:srgbClr val="ccffcc"/>
              </a:gs>
            </a:gsLst>
            <a:lin ang="5400000"/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343400"/>
            <a:ext cx="110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Arial"/>
                <a:ea typeface="Osaka"/>
              </a:rPr>
              <a:t>downloa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7200" y="3133800"/>
            <a:ext cx="981360" cy="747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  <a:ea typeface="Osaka"/>
              </a:rPr>
              <a:t>standardised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  <a:ea typeface="Osaka"/>
              </a:rPr>
              <a:t>format(s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05" name="pc2" descr=""/>
          <p:cNvPicPr/>
          <p:nvPr/>
        </p:nvPicPr>
        <p:blipFill>
          <a:blip r:embed="rId3"/>
          <a:stretch/>
        </p:blipFill>
        <p:spPr>
          <a:xfrm>
            <a:off x="5486400" y="4579920"/>
            <a:ext cx="1362240" cy="1143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rot="5400000">
            <a:off x="4349520" y="2965320"/>
            <a:ext cx="368280" cy="990720"/>
          </a:xfrm>
          <a:prstGeom prst="upArrow">
            <a:avLst>
              <a:gd name="adj1" fmla="val 23278"/>
              <a:gd name="adj2" fmla="val 99148"/>
            </a:avLst>
          </a:prstGeom>
          <a:gradFill rotWithShape="0">
            <a:gsLst>
              <a:gs pos="0">
                <a:srgbClr val="5e755e"/>
              </a:gs>
              <a:gs pos="100000">
                <a:srgbClr val="ccffcc"/>
              </a:gs>
            </a:gsLst>
            <a:lin ang="5400000"/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6934320" y="1905120"/>
            <a:ext cx="620640" cy="463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7696080" y="1905120"/>
            <a:ext cx="525600" cy="463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rot="5400000">
            <a:off x="6254640" y="2965320"/>
            <a:ext cx="368280" cy="990720"/>
          </a:xfrm>
          <a:prstGeom prst="upArrow">
            <a:avLst>
              <a:gd name="adj1" fmla="val 23278"/>
              <a:gd name="adj2" fmla="val 99148"/>
            </a:avLst>
          </a:prstGeom>
          <a:gradFill rotWithShape="0">
            <a:gsLst>
              <a:gs pos="0">
                <a:srgbClr val="5e755e"/>
              </a:gs>
              <a:gs pos="100000">
                <a:srgbClr val="ccffcc"/>
              </a:gs>
            </a:gsLst>
            <a:lin ang="5400000"/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ffab2c"/>
                </a:solidFill>
                <a:latin typeface="Arial"/>
              </a:rPr>
              <a:t>Achievements / Overview</a:t>
            </a:r>
            <a:endParaRPr b="1" i="1" lang="en-US" sz="40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1640" y="1625760"/>
            <a:ext cx="1676520" cy="8380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Data Inpu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2133720"/>
            <a:ext cx="1676520" cy="8380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MERCI DB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02120" y="2641680"/>
            <a:ext cx="1676520" cy="8380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Data Downloa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137360" y="3149640"/>
            <a:ext cx="1676520" cy="8380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Integration to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end user librar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0240" y="251460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Data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Mapping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0240" y="3276720"/>
            <a:ext cx="1447920" cy="7617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Data sheet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tagging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870280" y="2997360"/>
            <a:ext cx="1447560" cy="3047400"/>
            <a:chOff x="2870280" y="2997360"/>
            <a:chExt cx="1447560" cy="3047400"/>
          </a:xfrm>
        </p:grpSpPr>
        <p:sp>
          <p:nvSpPr>
            <p:cNvPr id="118" name=""/>
            <p:cNvSpPr/>
            <p:nvPr/>
          </p:nvSpPr>
          <p:spPr>
            <a:xfrm>
              <a:off x="2870280" y="2997360"/>
              <a:ext cx="1447560" cy="7617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66"/>
                  </a:solidFill>
                  <a:latin typeface="Times New Roman"/>
                </a:rPr>
                <a:t>Data Impor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70280" y="3759120"/>
              <a:ext cx="1447560" cy="7617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66"/>
                  </a:solidFill>
                  <a:latin typeface="Times New Roman"/>
                </a:rPr>
                <a:t>Data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66"/>
                  </a:solidFill>
                  <a:latin typeface="Times New Roman"/>
                </a:rPr>
                <a:t>Analysi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70280" y="4521240"/>
              <a:ext cx="1447560" cy="76140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66"/>
                  </a:solidFill>
                  <a:latin typeface="Times New Roman"/>
                </a:rPr>
                <a:t>Search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66"/>
                  </a:solidFill>
                  <a:latin typeface="Times New Roman"/>
                </a:rPr>
                <a:t>Engine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70280" y="5283000"/>
              <a:ext cx="1447560" cy="7617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66"/>
                  </a:solidFill>
                  <a:latin typeface="Times New Roman"/>
                </a:rPr>
                <a:t>Data Capture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66"/>
                  </a:solidFill>
                  <a:latin typeface="Times New Roman"/>
                </a:rPr>
                <a:t>and Manipul.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5105520" y="3505320"/>
            <a:ext cx="1447560" cy="7617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Gen. of diff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format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65960" y="398772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DM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65960" y="474984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HTML </a:t>
            </a:r>
            <a:br>
              <a:rPr sz="2000"/>
            </a:b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ffab2c"/>
                </a:solidFill>
                <a:latin typeface="Arial"/>
              </a:rPr>
              <a:t>Data Input (1)</a:t>
            </a:r>
            <a:br>
              <a:rPr sz="4400"/>
            </a:br>
            <a:r>
              <a:rPr b="1" i="1" lang="de-DE" sz="4400" spc="-1" strike="noStrike">
                <a:solidFill>
                  <a:srgbClr val="ffab2c"/>
                </a:solidFill>
                <a:latin typeface="Arial"/>
              </a:rPr>
              <a:t>EXCEL sheets</a:t>
            </a: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26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08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6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5680" indent="-2656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Generation of STEP File containing the information of the EXCEL she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1808280" y="-1301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1808280" y="7521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838080" y="1981080"/>
            <a:ext cx="7467480" cy="2795760"/>
            <a:chOff x="838080" y="1981080"/>
            <a:chExt cx="7467480" cy="2795760"/>
          </a:xfrm>
        </p:grpSpPr>
        <p:sp>
          <p:nvSpPr>
            <p:cNvPr id="130" name=""/>
            <p:cNvSpPr/>
            <p:nvPr/>
          </p:nvSpPr>
          <p:spPr>
            <a:xfrm>
              <a:off x="7238880" y="45212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15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71840" y="4521240"/>
              <a:ext cx="10670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-5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05160" y="45212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2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038480" y="45212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66"/>
                  </a:solidFill>
                  <a:latin typeface="Arial"/>
                </a:rPr>
                <a:t>T_amb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71440" y="4521240"/>
              <a:ext cx="10670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04760" y="45212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25 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38080" y="45212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SMD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38880" y="42656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15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71840" y="4265640"/>
              <a:ext cx="10670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-5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05160" y="42656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2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038480" y="42656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66"/>
                  </a:solidFill>
                  <a:latin typeface="Arial"/>
                </a:rPr>
                <a:t>T_amb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971440" y="4265640"/>
              <a:ext cx="10670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04760" y="42656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2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38080" y="42656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INS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38880" y="40100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66"/>
                  </a:solidFill>
                  <a:latin typeface="Arial"/>
                </a:rPr>
                <a:t>Cel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71840" y="4010040"/>
              <a:ext cx="10670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66"/>
                  </a:solidFill>
                  <a:latin typeface="Arial"/>
                </a:rPr>
                <a:t>Cel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05160" y="40100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66"/>
                  </a:solidFill>
                  <a:latin typeface="Arial"/>
                </a:rPr>
                <a:t>Cel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038480" y="40100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971440" y="4010040"/>
              <a:ext cx="10670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04760" y="40100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66"/>
                  </a:solidFill>
                  <a:latin typeface="Arial"/>
                </a:rPr>
                <a:t>Cel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8080" y="40100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38880" y="37544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66"/>
                  </a:solidFill>
                  <a:latin typeface="Arial"/>
                </a:rPr>
                <a:t>T_stg max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71840" y="3754440"/>
              <a:ext cx="10670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66"/>
                  </a:solidFill>
                  <a:latin typeface="Arial"/>
                </a:rPr>
                <a:t>T_stg min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05160" y="37544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38480" y="37544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66"/>
                  </a:solidFill>
                  <a:latin typeface="Arial"/>
                </a:rPr>
                <a:t>T_typ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71440" y="3754440"/>
              <a:ext cx="10670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66"/>
                  </a:solidFill>
                  <a:latin typeface="Arial"/>
                </a:rPr>
                <a:t>P_max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04760" y="37544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66"/>
                  </a:solidFill>
                  <a:latin typeface="Arial"/>
                </a:rPr>
                <a:t>T_ref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38080" y="37544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66"/>
                  </a:solidFill>
                  <a:latin typeface="Arial"/>
                </a:rPr>
                <a:t>mount feat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38880" y="34988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Max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238880" y="32432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238880" y="29876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00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238880" y="27320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AAE84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38880" y="1981080"/>
              <a:ext cx="106668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71840" y="3498840"/>
              <a:ext cx="10670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min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05160" y="34988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38480" y="34988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71440" y="3498840"/>
              <a:ext cx="10670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04760" y="34988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080" y="34988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71840" y="3243240"/>
              <a:ext cx="10670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05160" y="32432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AAE68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32432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AAE68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71440" y="3243240"/>
              <a:ext cx="10670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04760" y="32432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38080" y="32432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71840" y="2987640"/>
              <a:ext cx="10670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00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05160" y="29876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00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38480" y="29876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00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71440" y="2987640"/>
              <a:ext cx="10670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00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04760" y="29876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00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8080" y="29876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00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71840" y="2732040"/>
              <a:ext cx="10670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AAE84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05160" y="27320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AAE257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38480" y="27320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AAE257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71440" y="2732040"/>
              <a:ext cx="10670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AAE257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904760" y="27320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AAE017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38080" y="27320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AAE006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71840" y="1981080"/>
              <a:ext cx="106704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105160" y="1981080"/>
              <a:ext cx="106668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38480" y="1981080"/>
              <a:ext cx="106668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71440" y="1981080"/>
              <a:ext cx="106704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LF043 SIPMOS Small Signal Transistors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904760" y="1981080"/>
              <a:ext cx="106668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00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8080" y="1981080"/>
              <a:ext cx="106668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AAA12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38080" y="2732040"/>
              <a:ext cx="7467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38080" y="2987640"/>
              <a:ext cx="7467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38080" y="3243240"/>
              <a:ext cx="7467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38080" y="3498840"/>
              <a:ext cx="7467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38080" y="4776840"/>
              <a:ext cx="7467480" cy="0"/>
            </a:xfrm>
            <a:prstGeom prst="line">
              <a:avLst/>
            </a:prstGeom>
            <a:ln cap="sq"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38080" y="1981080"/>
              <a:ext cx="0" cy="2795760"/>
            </a:xfrm>
            <a:prstGeom prst="line">
              <a:avLst/>
            </a:prstGeom>
            <a:ln cap="sq"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04760" y="1981080"/>
              <a:ext cx="0" cy="27957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71440" y="1981080"/>
              <a:ext cx="0" cy="27957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38480" y="1981080"/>
              <a:ext cx="0" cy="27957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05160" y="1981080"/>
              <a:ext cx="0" cy="27957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71840" y="1981080"/>
              <a:ext cx="0" cy="27957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305560" y="1981080"/>
              <a:ext cx="0" cy="2795760"/>
            </a:xfrm>
            <a:prstGeom prst="line">
              <a:avLst/>
            </a:prstGeom>
            <a:ln cap="sq"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71840" y="1981080"/>
              <a:ext cx="21337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38080" y="1981080"/>
              <a:ext cx="5333760" cy="0"/>
            </a:xfrm>
            <a:prstGeom prst="line">
              <a:avLst/>
            </a:prstGeom>
            <a:ln cap="sq"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38880" y="1981080"/>
              <a:ext cx="0" cy="27957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38080" y="3754440"/>
              <a:ext cx="7467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38080" y="4010040"/>
              <a:ext cx="7467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8080" y="4265640"/>
              <a:ext cx="7467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38080" y="4521240"/>
              <a:ext cx="7467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ffab2c"/>
                </a:solidFill>
                <a:latin typeface="Arial"/>
              </a:rPr>
              <a:t>Input (2): Capturing PLIB data from documents: LITECAT</a:t>
            </a:r>
            <a:endParaRPr b="1" i="1" lang="en-US" sz="36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16120" y="1739880"/>
            <a:ext cx="2063520" cy="39877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30240" y="2867040"/>
            <a:ext cx="1811520" cy="2716200"/>
          </a:xfrm>
          <a:custGeom>
            <a:avLst/>
            <a:gdLst/>
            <a:ahLst/>
            <a:rect l="l" t="t" r="r" b="b"/>
            <a:pathLst>
              <a:path w="1141" h="1711">
                <a:moveTo>
                  <a:pt x="0" y="1488"/>
                </a:moveTo>
                <a:lnTo>
                  <a:pt x="0" y="0"/>
                </a:lnTo>
                <a:lnTo>
                  <a:pt x="1140" y="0"/>
                </a:lnTo>
                <a:lnTo>
                  <a:pt x="1140" y="1662"/>
                </a:lnTo>
                <a:lnTo>
                  <a:pt x="702" y="1542"/>
                </a:lnTo>
                <a:lnTo>
                  <a:pt x="774" y="1710"/>
                </a:lnTo>
                <a:lnTo>
                  <a:pt x="318" y="1530"/>
                </a:lnTo>
                <a:lnTo>
                  <a:pt x="456" y="1674"/>
                </a:lnTo>
                <a:lnTo>
                  <a:pt x="0" y="1488"/>
                </a:lnTo>
              </a:path>
            </a:pathLst>
          </a:custGeom>
          <a:solidFill>
            <a:srgbClr val="ff9900"/>
          </a:solidFill>
          <a:ln cap="rnd"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79640" y="2928960"/>
            <a:ext cx="1619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AFNOR NF -E-25-112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Hexagonal head screws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44720" y="3378240"/>
            <a:ext cx="630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Drawing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446120" y="3718080"/>
            <a:ext cx="968400" cy="5680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044720" y="4308480"/>
            <a:ext cx="885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Properties list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89800" y="4622760"/>
            <a:ext cx="1419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Times New Roman"/>
              </a:rPr>
              <a:t>•</a:t>
            </a:r>
            <a:r>
              <a:rPr b="0" lang="en-US" sz="800" spc="-1" strike="noStrike">
                <a:solidFill>
                  <a:srgbClr val="000066"/>
                </a:solidFill>
                <a:latin typeface="Times New Roman"/>
              </a:rPr>
              <a:t>d : nominal diameter, in mm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Times New Roman"/>
              </a:rPr>
              <a:t>•</a:t>
            </a:r>
            <a:r>
              <a:rPr b="0" lang="en-US" sz="800" spc="-1" strike="noStrike">
                <a:solidFill>
                  <a:srgbClr val="000066"/>
                </a:solidFill>
                <a:latin typeface="Times New Roman"/>
              </a:rPr>
              <a:t>l : length under head, in mm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Times New Roman"/>
              </a:rPr>
              <a:t>•</a:t>
            </a:r>
            <a:r>
              <a:rPr b="0" lang="en-US" sz="800" spc="-1" strike="noStrike">
                <a:solidFill>
                  <a:srgbClr val="000066"/>
                </a:solidFill>
                <a:latin typeface="Times New Roman"/>
              </a:rPr>
              <a:t>h : head height, in mm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0240" y="2225520"/>
            <a:ext cx="1806480" cy="58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24360" y="2270160"/>
            <a:ext cx="12596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DTD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HTML + PLI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22840" y="1727280"/>
            <a:ext cx="15292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ging contro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gra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572840" y="2925720"/>
            <a:ext cx="951480" cy="244800"/>
            <a:chOff x="1572840" y="2925720"/>
            <a:chExt cx="951480" cy="244800"/>
          </a:xfrm>
        </p:grpSpPr>
        <p:sp>
          <p:nvSpPr>
            <p:cNvPr id="224" name=""/>
            <p:cNvSpPr/>
            <p:nvPr/>
          </p:nvSpPr>
          <p:spPr>
            <a:xfrm>
              <a:off x="1612800" y="2930400"/>
              <a:ext cx="835200" cy="196920"/>
            </a:xfrm>
            <a:prstGeom prst="roundRect">
              <a:avLst>
                <a:gd name="adj" fmla="val 12495"/>
              </a:avLst>
            </a:prstGeom>
            <a:solidFill>
              <a:srgbClr val="eaeaea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72840" y="2925720"/>
              <a:ext cx="951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NF-E-25-112 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044520" y="1758960"/>
            <a:ext cx="2552760" cy="1930320"/>
            <a:chOff x="3044520" y="1758960"/>
            <a:chExt cx="2552760" cy="1930320"/>
          </a:xfrm>
        </p:grpSpPr>
        <p:sp>
          <p:nvSpPr>
            <p:cNvPr id="227" name=""/>
            <p:cNvSpPr/>
            <p:nvPr/>
          </p:nvSpPr>
          <p:spPr>
            <a:xfrm>
              <a:off x="3448080" y="2394000"/>
              <a:ext cx="1866960" cy="571320"/>
            </a:xfrm>
            <a:prstGeom prst="rightArrow">
              <a:avLst>
                <a:gd name="adj1" fmla="val 50000"/>
                <a:gd name="adj2" fmla="val 163405"/>
              </a:avLst>
            </a:prstGeom>
            <a:solidFill>
              <a:srgbClr val="eaeaea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rot="5400000">
              <a:off x="4509360" y="2601720"/>
              <a:ext cx="1930320" cy="244440"/>
            </a:xfrm>
            <a:prstGeom prst="triangle">
              <a:avLst>
                <a:gd name="adj" fmla="val 49995"/>
              </a:avLst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rot="5400000">
              <a:off x="2201040" y="2601720"/>
              <a:ext cx="1930320" cy="244440"/>
            </a:xfrm>
            <a:prstGeom prst="triangle">
              <a:avLst>
                <a:gd name="adj" fmla="val 49995"/>
              </a:avLst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9960" y="2523960"/>
              <a:ext cx="1474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Tagging requ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788080" y="1739880"/>
            <a:ext cx="2397240" cy="3978360"/>
            <a:chOff x="5788080" y="1739880"/>
            <a:chExt cx="2397240" cy="3978360"/>
          </a:xfrm>
        </p:grpSpPr>
        <p:sp>
          <p:nvSpPr>
            <p:cNvPr id="232" name=""/>
            <p:cNvSpPr/>
            <p:nvPr/>
          </p:nvSpPr>
          <p:spPr>
            <a:xfrm>
              <a:off x="5788080" y="1739880"/>
              <a:ext cx="2397240" cy="39783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80760" y="1825560"/>
              <a:ext cx="1946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PLIB Library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anagement syste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18040" y="2409840"/>
              <a:ext cx="2165400" cy="1320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966640" y="2487600"/>
              <a:ext cx="2070360" cy="11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SCHEMA </a:t>
              </a: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PLIB</a:t>
              </a: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;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.....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Rule: «The family identifica-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tion shall be unique»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.....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END SCHEMA;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7315200" y="3848040"/>
              <a:ext cx="0" cy="5716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6858000" y="3848040"/>
              <a:ext cx="0" cy="5716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6485040" y="4540320"/>
              <a:ext cx="1141200" cy="977760"/>
              <a:chOff x="6485040" y="4540320"/>
              <a:chExt cx="1141200" cy="977760"/>
            </a:xfrm>
          </p:grpSpPr>
          <p:sp>
            <p:nvSpPr>
              <p:cNvPr id="239" name=""/>
              <p:cNvSpPr/>
              <p:nvPr/>
            </p:nvSpPr>
            <p:spPr>
              <a:xfrm>
                <a:off x="6491160" y="5365800"/>
                <a:ext cx="1135080" cy="1522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485040" y="4618080"/>
                <a:ext cx="1139760" cy="8287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491160" y="4540320"/>
                <a:ext cx="1135080" cy="1522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497640" y="4627440"/>
                <a:ext cx="0" cy="8240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624800" y="4627440"/>
                <a:ext cx="0" cy="8305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6753600" y="4853160"/>
              <a:ext cx="6102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Bas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044880" y="3778200"/>
            <a:ext cx="2543040" cy="1930320"/>
            <a:chOff x="3044880" y="3778200"/>
            <a:chExt cx="2543040" cy="1930320"/>
          </a:xfrm>
        </p:grpSpPr>
        <p:sp>
          <p:nvSpPr>
            <p:cNvPr id="246" name=""/>
            <p:cNvSpPr/>
            <p:nvPr/>
          </p:nvSpPr>
          <p:spPr>
            <a:xfrm rot="16200000">
              <a:off x="2201760" y="4620960"/>
              <a:ext cx="1930320" cy="244440"/>
            </a:xfrm>
            <a:prstGeom prst="triangle">
              <a:avLst>
                <a:gd name="adj" fmla="val 49995"/>
              </a:avLst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6200000">
              <a:off x="4500360" y="4620960"/>
              <a:ext cx="1930320" cy="244440"/>
            </a:xfrm>
            <a:prstGeom prst="triangle">
              <a:avLst>
                <a:gd name="adj" fmla="val 49995"/>
              </a:avLst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48080" y="4464000"/>
              <a:ext cx="1739880" cy="571680"/>
            </a:xfrm>
            <a:prstGeom prst="leftArrow">
              <a:avLst>
                <a:gd name="adj1" fmla="val 50000"/>
                <a:gd name="adj2" fmla="val 152158"/>
              </a:avLst>
            </a:prstGeom>
            <a:solidFill>
              <a:srgbClr val="eaeaea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74880" y="4606920"/>
              <a:ext cx="1337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equest resu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 spd="med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ffab2c"/>
                </a:solidFill>
                <a:latin typeface="Arial"/>
              </a:rPr>
              <a:t>Overview MERCI DB</a:t>
            </a: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4038480"/>
            <a:ext cx="1904760" cy="1143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MERCI-DB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Times New Roman"/>
              </a:rPr>
              <a:t>PLIB / IEC6136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Times New Roman"/>
              </a:rPr>
              <a:t>EXPRESS Data Manager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28800" y="3733920"/>
            <a:ext cx="1523880" cy="685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IMPOR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43600" y="3733920"/>
            <a:ext cx="1523880" cy="685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Downloa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81280" y="2133720"/>
            <a:ext cx="2210040" cy="685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Search Interfac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52" idx="3"/>
            <a:endCxn id="251" idx="1"/>
          </p:cNvCxnSpPr>
          <p:nvPr/>
        </p:nvCxnSpPr>
        <p:spPr>
          <a:xfrm>
            <a:off x="3352320" y="4076640"/>
            <a:ext cx="381960" cy="534240"/>
          </a:xfrm>
          <a:prstGeom prst="curvedConnector5">
            <a:avLst>
              <a:gd name="adj1" fmla="val 50000"/>
              <a:gd name="adj2" fmla="val 49966"/>
              <a:gd name="adj3" fmla="val 50000"/>
            </a:avLst>
          </a:prstGeom>
          <a:ln w="12600">
            <a:solidFill>
              <a:srgbClr val="000066"/>
            </a:solidFill>
            <a:miter/>
            <a:tailEnd len="lg" type="triangle" w="med"/>
          </a:ln>
        </p:spPr>
      </p:cxnSp>
      <p:cxnSp>
        <p:nvCxnSpPr>
          <p:cNvPr id="256" name=""/>
          <p:cNvCxnSpPr>
            <a:stCxn id="251" idx="3"/>
            <a:endCxn id="253" idx="1"/>
          </p:cNvCxnSpPr>
          <p:nvPr/>
        </p:nvCxnSpPr>
        <p:spPr>
          <a:xfrm flipV="1">
            <a:off x="5638320" y="4076280"/>
            <a:ext cx="305640" cy="534240"/>
          </a:xfrm>
          <a:prstGeom prst="curvedConnector5">
            <a:avLst>
              <a:gd name="adj1" fmla="val 50000"/>
              <a:gd name="adj2" fmla="val 49966"/>
              <a:gd name="adj3" fmla="val 50000"/>
            </a:avLst>
          </a:prstGeom>
          <a:ln w="12600">
            <a:solidFill>
              <a:srgbClr val="000066"/>
            </a:solidFill>
            <a:miter/>
            <a:tailEnd len="lg" type="triangle" w="med"/>
          </a:ln>
        </p:spPr>
      </p:cxnSp>
      <p:cxnSp>
        <p:nvCxnSpPr>
          <p:cNvPr id="257" name=""/>
          <p:cNvCxnSpPr>
            <a:stCxn id="254" idx="2"/>
            <a:endCxn id="251" idx="0"/>
          </p:cNvCxnSpPr>
          <p:nvPr/>
        </p:nvCxnSpPr>
        <p:spPr>
          <a:xfrm>
            <a:off x="4686120" y="2819520"/>
            <a:ext cx="1080" cy="1219680"/>
          </a:xfrm>
          <a:prstGeom prst="straightConnector1">
            <a:avLst/>
          </a:prstGeom>
          <a:ln w="12600">
            <a:solidFill>
              <a:srgbClr val="000066"/>
            </a:solidFill>
            <a:miter/>
            <a:headEnd len="lg" type="triangle" w="med"/>
            <a:tailEnd len="lg" type="triangle" w="med"/>
          </a:ln>
        </p:spPr>
      </p:cxnSp>
      <p:sp>
        <p:nvSpPr>
          <p:cNvPr id="258" name=""/>
          <p:cNvSpPr/>
          <p:nvPr/>
        </p:nvSpPr>
        <p:spPr>
          <a:xfrm>
            <a:off x="1902600" y="4495680"/>
            <a:ext cx="1427400" cy="52020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dictionary 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component 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71880" y="2895480"/>
            <a:ext cx="2900880" cy="73332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hierarchical search / keyword search</a:t>
            </a: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  on class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parametric search within class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18840" y="4495680"/>
            <a:ext cx="1712160" cy="115956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Formats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STE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ASCI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DHTML viewe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data sheets in PDF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1828800"/>
            <a:ext cx="8610480" cy="1066680"/>
          </a:xfrm>
          <a:prstGeom prst="rect">
            <a:avLst/>
          </a:prstGeom>
          <a:solidFill>
            <a:srgbClr val="c3e1ff">
              <a:alpha val="50000"/>
            </a:srgbClr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MERCI Web Porta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52280" y="4648320"/>
            <a:ext cx="1371600" cy="990360"/>
          </a:xfrm>
          <a:prstGeom prst="rect">
            <a:avLst/>
          </a:prstGeom>
          <a:solidFill>
            <a:srgbClr val="ffff00">
              <a:alpha val="50000"/>
            </a:srgbClr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Excel shee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Conversio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and uploa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685800" y="2971800"/>
            <a:ext cx="76320" cy="1676520"/>
          </a:xfrm>
          <a:prstGeom prst="line">
            <a:avLst/>
          </a:prstGeom>
          <a:ln w="12600">
            <a:solidFill>
              <a:srgbClr val="000066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0120" y="3276720"/>
            <a:ext cx="1066680" cy="838080"/>
          </a:xfrm>
          <a:prstGeom prst="rect">
            <a:avLst/>
          </a:prstGeom>
          <a:solidFill>
            <a:srgbClr val="ffff00">
              <a:alpha val="50000"/>
            </a:srgbClr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DHTML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001000" y="4343400"/>
            <a:ext cx="1068480" cy="685800"/>
          </a:xfrm>
          <a:prstGeom prst="rect">
            <a:avLst/>
          </a:prstGeom>
          <a:solidFill>
            <a:srgbClr val="ffff00">
              <a:alpha val="50000"/>
            </a:srgbClr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Times New Roman"/>
              </a:rPr>
              <a:t>Descon/</a:t>
            </a:r>
            <a:br>
              <a:rPr sz="1600"/>
            </a:br>
            <a:r>
              <a:rPr b="0" lang="de-DE" sz="1600" spc="-1" strike="noStrike">
                <a:solidFill>
                  <a:srgbClr val="000066"/>
                </a:solidFill>
                <a:latin typeface="Times New Roman"/>
              </a:rPr>
              <a:t>Mentor </a:t>
            </a:r>
            <a:br>
              <a:rPr sz="1600"/>
            </a:br>
            <a:r>
              <a:rPr b="0" lang="de-DE" sz="1600" spc="-1" strike="noStrike">
                <a:solidFill>
                  <a:srgbClr val="000066"/>
                </a:solidFill>
                <a:latin typeface="Times New Roman"/>
              </a:rPr>
              <a:t>Graphic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839080" y="2971800"/>
            <a:ext cx="76320" cy="1371600"/>
          </a:xfrm>
          <a:prstGeom prst="line">
            <a:avLst/>
          </a:prstGeom>
          <a:ln w="12600">
            <a:solidFill>
              <a:srgbClr val="000066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29600" y="29718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ffab2c"/>
                </a:solidFill>
                <a:latin typeface="Arial"/>
              </a:rPr>
              <a:t>Integration to DMS (3)</a:t>
            </a: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228600" y="2362320"/>
          <a:ext cx="5715000" cy="40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362320"/>
                    <a:ext cx="5715000" cy="40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4722840" y="1143000"/>
          <a:ext cx="4419720" cy="433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2840" y="1143000"/>
                    <a:ext cx="4419720" cy="43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5334120" y="4572000"/>
            <a:ext cx="1790640" cy="1371600"/>
          </a:xfrm>
          <a:custGeom>
            <a:avLst/>
            <a:gdLst/>
            <a:ahLst/>
            <a:rect l="l" t="t" r="r" b="b"/>
            <a:pathLst>
              <a:path w="1128" h="864">
                <a:moveTo>
                  <a:pt x="0" y="864"/>
                </a:moveTo>
                <a:cubicBezTo>
                  <a:pt x="396" y="792"/>
                  <a:pt x="792" y="720"/>
                  <a:pt x="960" y="576"/>
                </a:cubicBezTo>
                <a:cubicBezTo>
                  <a:pt x="1128" y="432"/>
                  <a:pt x="1000" y="96"/>
                  <a:pt x="100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94240" y="579132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imes New Roman"/>
              </a:rPr>
              <a:t>The new instance has been inserted into DM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2743200" y="5943600"/>
            <a:ext cx="1828800" cy="763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15238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imes New Roman"/>
              </a:rPr>
              <a:t>View of the instance as it appear in DM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4T14:36:56Z</dcterms:created>
  <dc:creator>Dr. Wolfgang Wilkes</dc:creator>
  <dc:description>Vortrag auf dem Workshop on Libraries, Component Information and Quality Assurance, Toledo, April 1997</dc:description>
  <dc:language>en-US</dc:language>
  <cp:lastModifiedBy>Joshua Porter</cp:lastModifiedBy>
  <cp:lastPrinted>1999-03-24T16:33:25Z</cp:lastPrinted>
  <dcterms:modified xsi:type="dcterms:W3CDTF">2001-03-07T16:14:48Z</dcterms:modified>
  <cp:revision>43</cp:revision>
  <dc:subject/>
  <dc:title>Kein Folientitel</dc:title>
</cp:coreProperties>
</file>