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7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30.jpeg" ContentType="image/jpeg"/>
  <Override PartName="/ppt/media/image33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34.wmf" ContentType="image/x-wmf"/>
  <Override PartName="/ppt/media/image42.jpeg" ContentType="image/jpeg"/>
  <Override PartName="/ppt/media/image9.wmf" ContentType="image/x-wmf"/>
  <Override PartName="/ppt/media/image39.png" ContentType="image/png"/>
  <Override PartName="/ppt/media/image43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1654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98d"/>
                </a:solidFill>
                <a:latin typeface="Arial"/>
              </a:rPr>
              <a:t>CAx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00" y="6613560"/>
            <a:ext cx="125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ax_overview_2001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4FE-23C1-462C-B1FF-2942332979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9200" y="6599160"/>
            <a:ext cx="1413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 Ungerer / © CAx-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CAxIF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1168560" cy="56052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228600" y="6172200"/>
            <a:ext cx="1295280" cy="457200"/>
            <a:chOff x="228600" y="6172200"/>
            <a:chExt cx="1295280" cy="457200"/>
          </a:xfrm>
        </p:grpSpPr>
        <p:sp>
          <p:nvSpPr>
            <p:cNvPr id="9" name=""/>
            <p:cNvSpPr/>
            <p:nvPr/>
          </p:nvSpPr>
          <p:spPr>
            <a:xfrm>
              <a:off x="228600" y="617220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erein_ohne" descr=""/>
            <p:cNvPicPr/>
            <p:nvPr/>
          </p:nvPicPr>
          <p:blipFill>
            <a:blip r:embed="rId4"/>
            <a:stretch/>
          </p:blipFill>
          <p:spPr>
            <a:xfrm>
              <a:off x="714240" y="6172200"/>
              <a:ext cx="800640" cy="452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4.png"/><Relationship Id="rId4" Type="http://schemas.openxmlformats.org/officeDocument/2006/relationships/hyperlink" Target="file:///idif_pdm_if.ppt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523880"/>
            <a:ext cx="589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0000"/>
                </a:solidFill>
                <a:latin typeface="Arial"/>
              </a:rPr>
              <a:t>CAx-IF and PDM Implementors Fo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0040" y="4800600"/>
            <a:ext cx="36576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Industrial Data Implementors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Funchal, Mad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February 21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ProSTEP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deslogo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1" name="Verein_ohne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orsion Protector (Dassault / CATIA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7" name="pic_pm3_ct" descr=""/>
          <p:cNvPicPr/>
          <p:nvPr/>
        </p:nvPicPr>
        <p:blipFill>
          <a:blip r:embed="rId1"/>
          <a:stretch/>
        </p:blipFill>
        <p:spPr>
          <a:xfrm>
            <a:off x="2871720" y="1519200"/>
            <a:ext cx="35798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Gasket Rings (Debis / CATIA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9" name="pic_pm3_db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9534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Receiver Station (I-DEAS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1" name="pic_pm3_id" descr=""/>
          <p:cNvPicPr/>
          <p:nvPr/>
        </p:nvPicPr>
        <p:blipFill>
          <a:blip r:embed="rId1"/>
          <a:stretch/>
        </p:blipFill>
        <p:spPr>
          <a:xfrm>
            <a:off x="1666800" y="1490760"/>
            <a:ext cx="5419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Differential (AutoDesk / Inventor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3" name="pic_pm3_in" descr=""/>
          <p:cNvPicPr/>
          <p:nvPr/>
        </p:nvPicPr>
        <p:blipFill>
          <a:blip r:embed="rId1"/>
          <a:stretch/>
        </p:blipFill>
        <p:spPr>
          <a:xfrm>
            <a:off x="1676520" y="1658880"/>
            <a:ext cx="64767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ransmission Control Unit Casing (Pro/E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5" name="pic_pm3_pe" descr=""/>
          <p:cNvPicPr/>
          <p:nvPr/>
        </p:nvPicPr>
        <p:blipFill>
          <a:blip r:embed="rId1"/>
          <a:stretch/>
        </p:blipFill>
        <p:spPr>
          <a:xfrm>
            <a:off x="1905120" y="1555920"/>
            <a:ext cx="60195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Mount Beam (UG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7" name="pic_pm3_ug" descr=""/>
          <p:cNvPicPr/>
          <p:nvPr/>
        </p:nvPicPr>
        <p:blipFill>
          <a:blip r:embed="rId1"/>
          <a:stretch/>
        </p:blipFill>
        <p:spPr>
          <a:xfrm>
            <a:off x="1652760" y="1454040"/>
            <a:ext cx="68054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5J Draughting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1600200"/>
          <a:ext cx="66006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6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esults for Validation Propert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38080" y="1143000"/>
          <a:ext cx="815364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815364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esults for External Referenc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14400" y="1219320"/>
          <a:ext cx="80121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80121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5J Results -- Spaceship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76520" y="1447920"/>
          <a:ext cx="66006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6006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9440" y="914400"/>
            <a:ext cx="39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CAx - 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2080" y="1660680"/>
            <a:ext cx="277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0400" y="4800600"/>
            <a:ext cx="3097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Dr. 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CAx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ungerer@prostep.de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d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AxIF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746784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deslogo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Verein_ohne" descr=""/>
          <p:cNvPicPr/>
          <p:nvPr/>
        </p:nvPicPr>
        <p:blipFill>
          <a:blip r:embed="rId3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esults for Surface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838080" y="1143000"/>
          <a:ext cx="8153640" cy="47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81536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Inventor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DiffAssy" descr=""/>
          <p:cNvPicPr/>
          <p:nvPr/>
        </p:nvPicPr>
        <p:blipFill>
          <a:blip r:embed="rId3"/>
          <a:stretch/>
        </p:blipFill>
        <p:spPr>
          <a:xfrm>
            <a:off x="0" y="2362320"/>
            <a:ext cx="373392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AutoCAD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pm3-ac" descr=""/>
          <p:cNvPicPr/>
          <p:nvPr/>
        </p:nvPicPr>
        <p:blipFill>
          <a:blip r:embed="rId3"/>
          <a:stretch/>
        </p:blipFill>
        <p:spPr>
          <a:xfrm>
            <a:off x="0" y="2057400"/>
            <a:ext cx="37339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UG Production Model 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- from P&amp;W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ea990039" descr=""/>
          <p:cNvPicPr/>
          <p:nvPr/>
        </p:nvPicPr>
        <p:blipFill>
          <a:blip r:embed="rId3"/>
          <a:stretch/>
        </p:blipFill>
        <p:spPr>
          <a:xfrm>
            <a:off x="0" y="2706840"/>
            <a:ext cx="3581280" cy="22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I-DEAS Production Model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- from NASA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Full_Assembly.image" descr=""/>
          <p:cNvPicPr/>
          <p:nvPr/>
        </p:nvPicPr>
        <p:blipFill>
          <a:blip r:embed="rId3"/>
          <a:stretch/>
        </p:blipFill>
        <p:spPr>
          <a:xfrm>
            <a:off x="0" y="1905120"/>
            <a:ext cx="3733920" cy="33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Pro/E Production Model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- from ZF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4" name="6009_374_013_ez001" descr=""/>
          <p:cNvPicPr/>
          <p:nvPr/>
        </p:nvPicPr>
        <p:blipFill>
          <a:blip r:embed="rId3"/>
          <a:stretch/>
        </p:blipFill>
        <p:spPr>
          <a:xfrm>
            <a:off x="0" y="2157480"/>
            <a:ext cx="373392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CATIA (Debis)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sol19" descr=""/>
          <p:cNvPicPr/>
          <p:nvPr/>
        </p:nvPicPr>
        <p:blipFill>
          <a:blip r:embed="rId3"/>
          <a:stretch/>
        </p:blipFill>
        <p:spPr>
          <a:xfrm>
            <a:off x="0" y="2743200"/>
            <a:ext cx="365760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CATIA (Dassault)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sol1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328608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Summary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Draught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868400"/>
            <a:ext cx="80154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n a seperate Draughting Workshop during the Round5J review meeting, several issues could be identified and new approaches have been def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e-test the model from Round5J in order to validate the new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xtend functionality in future test roun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Associative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imensional Toler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Summary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Validation Properties and Tex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1868400"/>
            <a:ext cx="8015400" cy="38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esting of Geometric Validation Properties showed perfec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n future, “Extended” Validation Properties including instance information will be tested. This allows to identify problematic parts and thus increases the benefits of this functiona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Low interest in 3D Annotation. Possible cause for this is that ‘annotation vendors’ didn’t test other functionalities included in the S1 test c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A simple test case for colors and annotation will be set up for Round6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5J Scope (ended December 2000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85880" y="1219320"/>
            <a:ext cx="438048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Drau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iews &amp; View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inear and angular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eometric Validation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3D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ociative Text/3D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ors/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ternal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opologically bounde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Summary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External References,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600200"/>
            <a:ext cx="80154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xcellen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specially the newly tested Document Format Properties showed a success rate of more than 90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ssues identified in Round4J have been sol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AD - PDM Integration and joint Testing with the PDM-IF will be top priority in future test ro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Handling of part structure vs. geometry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ifferent exchange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tinue Production Model testing to keep in touch with ‘real lif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llect new models from variou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e-test problemat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6J Scope (ends March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 2001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):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219320"/>
            <a:ext cx="8229600" cy="58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Joint Testcase with PDM-IF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ased on Round4J’s XR1, Impor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urface Model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opologically bounded (K1, ‘key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Re-test of ProSTEP Benchmark Model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1, ‘gear leve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Colors, 3D Annotation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C1, ‘cub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tended Validation Properties “VP2”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ce validation properties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AS1, ‘toilet paper holde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Draughting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iews &amp; View Layout, Pres. of linear &amp; angular Dimensions (D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Who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‘s doing 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what in Round6J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41360" y="2136600"/>
          <a:ext cx="9023400" cy="25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2136600"/>
                    <a:ext cx="90234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6J – ProSTEP Benchmark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5268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95280" y="1425600"/>
            <a:ext cx="73152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ommy Gun (AutoDesk / MD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28" name="pic-pm4-ac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868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Handle (Alias|Wavefron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0" name="pic-pm4-al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6195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Pump Rotor (Matra / Eucli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2" name="pic-pm4-ec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114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Hydroengine (ISD / HiCA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4" name="pic-pm4-hc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1051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Grinder Vise (AutoDesk / Inventor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6" name="pic-pm4-in" descr=""/>
          <p:cNvPicPr/>
          <p:nvPr/>
        </p:nvPicPr>
        <p:blipFill>
          <a:blip r:embed="rId1"/>
          <a:stretch/>
        </p:blipFill>
        <p:spPr>
          <a:xfrm>
            <a:off x="1905120" y="1503360"/>
            <a:ext cx="5943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Conductor Mount (Pro/E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8" name="pic-pm4-pe" descr=""/>
          <p:cNvPicPr/>
          <p:nvPr/>
        </p:nvPicPr>
        <p:blipFill>
          <a:blip r:embed="rId1"/>
          <a:stretch/>
        </p:blipFill>
        <p:spPr>
          <a:xfrm>
            <a:off x="3081240" y="1523880"/>
            <a:ext cx="3876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Particip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1219320"/>
            <a:ext cx="8534160" cy="4760280"/>
            <a:chOff x="609480" y="1219320"/>
            <a:chExt cx="8534160" cy="4760280"/>
          </a:xfrm>
        </p:grpSpPr>
        <p:sp>
          <p:nvSpPr>
            <p:cNvPr id="62" name=""/>
            <p:cNvSpPr/>
            <p:nvPr/>
          </p:nvSpPr>
          <p:spPr>
            <a:xfrm>
              <a:off x="8661600" y="549828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77400" y="549828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6000" y="5498280"/>
              <a:ext cx="401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72440" y="549828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70680" y="549828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86840" y="5498280"/>
              <a:ext cx="483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3800" y="5498280"/>
              <a:ext cx="5626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9600" y="549828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7200" y="549828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54000" y="549828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1600" y="549828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68040" y="549828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66280" y="549828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549828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47920" y="5498280"/>
              <a:ext cx="5151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73800" y="5498280"/>
              <a:ext cx="4741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480" y="5498280"/>
              <a:ext cx="12643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tended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61600" y="5125320"/>
              <a:ext cx="482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77400" y="5125320"/>
              <a:ext cx="484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6000" y="5125320"/>
              <a:ext cx="401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72440" y="5125320"/>
              <a:ext cx="403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70680" y="5125320"/>
              <a:ext cx="4014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86840" y="5125320"/>
              <a:ext cx="4838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3800" y="5125320"/>
              <a:ext cx="5626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9600" y="5125320"/>
              <a:ext cx="484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7200" y="5125320"/>
              <a:ext cx="482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4000" y="5125320"/>
              <a:ext cx="403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71600" y="5125320"/>
              <a:ext cx="482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68040" y="5125320"/>
              <a:ext cx="403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66280" y="5125320"/>
              <a:ext cx="4014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3080" y="5125320"/>
              <a:ext cx="403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7920" y="5125320"/>
              <a:ext cx="5151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3800" y="5125320"/>
              <a:ext cx="47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5125320"/>
              <a:ext cx="1264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lors/Lay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61600" y="4429800"/>
              <a:ext cx="482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77400" y="4429800"/>
              <a:ext cx="484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6000" y="4429800"/>
              <a:ext cx="401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2440" y="4429800"/>
              <a:ext cx="4035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70680" y="4429800"/>
              <a:ext cx="401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86840" y="4429800"/>
              <a:ext cx="4838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23800" y="4429800"/>
              <a:ext cx="5626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9600" y="4429800"/>
              <a:ext cx="484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7200" y="4429800"/>
              <a:ext cx="482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54000" y="4429800"/>
              <a:ext cx="403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71600" y="4429800"/>
              <a:ext cx="482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68040" y="4429800"/>
              <a:ext cx="4035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6280" y="4429800"/>
              <a:ext cx="401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63080" y="4429800"/>
              <a:ext cx="403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7920" y="4429800"/>
              <a:ext cx="51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3800" y="4429800"/>
              <a:ext cx="4741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4429800"/>
              <a:ext cx="12643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ociative 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61600" y="4115880"/>
              <a:ext cx="482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77400" y="4115880"/>
              <a:ext cx="484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6000" y="4115880"/>
              <a:ext cx="401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72440" y="4115880"/>
              <a:ext cx="4035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70680" y="4115880"/>
              <a:ext cx="4014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6840" y="4115880"/>
              <a:ext cx="4838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3800" y="4115880"/>
              <a:ext cx="5626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9600" y="4115880"/>
              <a:ext cx="484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7200" y="4115880"/>
              <a:ext cx="482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54000" y="4115880"/>
              <a:ext cx="40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1600" y="4115880"/>
              <a:ext cx="482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8040" y="4115880"/>
              <a:ext cx="4035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66280" y="4115880"/>
              <a:ext cx="4014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63080" y="4115880"/>
              <a:ext cx="40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47920" y="4115880"/>
              <a:ext cx="5151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73800" y="4115880"/>
              <a:ext cx="4741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4115880"/>
              <a:ext cx="12643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raugh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61600" y="3632400"/>
              <a:ext cx="482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77400" y="3632400"/>
              <a:ext cx="484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76000" y="3632400"/>
              <a:ext cx="401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72440" y="3632400"/>
              <a:ext cx="4035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0680" y="3632400"/>
              <a:ext cx="4014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86840" y="3632400"/>
              <a:ext cx="4838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23800" y="3632400"/>
              <a:ext cx="562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9600" y="3632400"/>
              <a:ext cx="484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7200" y="3632400"/>
              <a:ext cx="482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4000" y="3632400"/>
              <a:ext cx="403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71600" y="3632400"/>
              <a:ext cx="482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68040" y="3632400"/>
              <a:ext cx="4035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66280" y="3632400"/>
              <a:ext cx="4014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3080" y="3632400"/>
              <a:ext cx="403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7920" y="3632400"/>
              <a:ext cx="5151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3800" y="3632400"/>
              <a:ext cx="474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480" y="3632400"/>
              <a:ext cx="1264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po Su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1600" y="3094920"/>
              <a:ext cx="482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77400" y="3094920"/>
              <a:ext cx="484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76000" y="3094920"/>
              <a:ext cx="401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72440" y="3094920"/>
              <a:ext cx="4035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70680" y="3094920"/>
              <a:ext cx="4014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6840" y="3094920"/>
              <a:ext cx="4838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23800" y="3094920"/>
              <a:ext cx="56268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9600" y="3094920"/>
              <a:ext cx="484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7200" y="3094920"/>
              <a:ext cx="482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4000" y="3094920"/>
              <a:ext cx="403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1600" y="3094920"/>
              <a:ext cx="482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68040" y="3094920"/>
              <a:ext cx="4035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6280" y="3094920"/>
              <a:ext cx="4014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3080" y="3094920"/>
              <a:ext cx="403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47920" y="3094920"/>
              <a:ext cx="5151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3800" y="3094920"/>
              <a:ext cx="47412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3094920"/>
              <a:ext cx="126432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lidation Proper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61600" y="261324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7400" y="261324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6000" y="2613240"/>
              <a:ext cx="401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72440" y="261324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70680" y="261324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6840" y="2613240"/>
              <a:ext cx="483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3800" y="2613240"/>
              <a:ext cx="5626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39600" y="261324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7200" y="261324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54000" y="261324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600" y="261324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040" y="261324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6280" y="261324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3080" y="261324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47920" y="2613240"/>
              <a:ext cx="5151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73800" y="2613240"/>
              <a:ext cx="4741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2613240"/>
              <a:ext cx="12643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61600" y="213192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213192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6000" y="2131920"/>
              <a:ext cx="401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72440" y="213192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0680" y="213192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86840" y="2131920"/>
              <a:ext cx="483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3800" y="2131920"/>
              <a:ext cx="5626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9600" y="213192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7200" y="213192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54000" y="213192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71600" y="213192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68040" y="213192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66280" y="213192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63080" y="213192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7920" y="2131920"/>
              <a:ext cx="5151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73800" y="2131920"/>
              <a:ext cx="4741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2131920"/>
              <a:ext cx="12643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 Refer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61600" y="1219320"/>
              <a:ext cx="482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77400" y="1219320"/>
              <a:ext cx="484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C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6000" y="1219320"/>
              <a:ext cx="401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c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72440" y="1219320"/>
              <a:ext cx="403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b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70680" y="1219320"/>
              <a:ext cx="40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6840" y="1219320"/>
              <a:ext cx="4838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2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as Wavefr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23800" y="1219320"/>
              <a:ext cx="5626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em U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9600" y="1219320"/>
              <a:ext cx="484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3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em CAD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7200" y="1219320"/>
              <a:ext cx="482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6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54000" y="1219320"/>
              <a:ext cx="403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/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71600" y="1219320"/>
              <a:ext cx="482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8040" y="1219320"/>
              <a:ext cx="403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T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66280" y="1219320"/>
              <a:ext cx="40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nt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63080" y="1219320"/>
              <a:ext cx="403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47920" y="1219320"/>
              <a:ext cx="515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C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73800" y="1219320"/>
              <a:ext cx="4741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Hu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480" y="1219320"/>
              <a:ext cx="1264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80" y="121932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480" y="21319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480" y="26132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30949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363240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480" y="411588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442980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80" y="51253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480" y="549828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80" y="597960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480" y="1219320"/>
              <a:ext cx="0" cy="476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738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4792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308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6628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6804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716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40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72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96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238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684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7068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7244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0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774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616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3640" y="1219320"/>
              <a:ext cx="0" cy="476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347920" y="6081840"/>
            <a:ext cx="184968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x) Draughting session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-pm4-ug" descr=""/>
          <p:cNvPicPr/>
          <p:nvPr/>
        </p:nvPicPr>
        <p:blipFill>
          <a:blip r:embed="rId1"/>
          <a:stretch/>
        </p:blipFill>
        <p:spPr>
          <a:xfrm>
            <a:off x="3962520" y="1143000"/>
            <a:ext cx="5410080" cy="42321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s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Drive Shaft and Sifter Fork (UG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41" name="pic-pm4-ug2" descr=""/>
          <p:cNvPicPr/>
          <p:nvPr/>
        </p:nvPicPr>
        <p:blipFill>
          <a:blip r:embed="rId2"/>
          <a:stretch/>
        </p:blipFill>
        <p:spPr>
          <a:xfrm>
            <a:off x="228600" y="2316240"/>
            <a:ext cx="49528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6J 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6320" y="1487520"/>
            <a:ext cx="28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47920" y="1573200"/>
            <a:ext cx="6603840" cy="3836880"/>
            <a:chOff x="1447920" y="1573200"/>
            <a:chExt cx="6603840" cy="3836880"/>
          </a:xfrm>
        </p:grpSpPr>
        <p:sp>
          <p:nvSpPr>
            <p:cNvPr id="345" name=""/>
            <p:cNvSpPr/>
            <p:nvPr/>
          </p:nvSpPr>
          <p:spPr>
            <a:xfrm>
              <a:off x="3454200" y="501012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x-IF meeting, Myrtle Beach, 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920" y="501012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20, 21, 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4200" y="461016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view meeting for test 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47920" y="461016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54200" y="4209840"/>
              <a:ext cx="45972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-release of final st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7920" y="4209840"/>
              <a:ext cx="2006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4200" y="380988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rget stats froz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7920" y="380988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4200" y="340992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rget stats due/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ference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7920" y="340992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ruary 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4200" y="3008160"/>
              <a:ext cx="4597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files and native stats froz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7920" y="3008160"/>
              <a:ext cx="20062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ruary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4200" y="260820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itial STEP files and native stats d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47920" y="260820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ruary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54200" y="1973160"/>
              <a:ext cx="4597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ion models released/ CAx-IF conference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7920" y="1973160"/>
              <a:ext cx="2006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nuary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4200" y="157320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7920" y="157320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7920" y="1573200"/>
              <a:ext cx="6603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7920" y="197316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7920" y="260820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7920" y="300816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7920" y="340992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7920" y="380988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7920" y="420984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461016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7920" y="501012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7920" y="5410080"/>
              <a:ext cx="6603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7920" y="1573200"/>
              <a:ext cx="0" cy="383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4200" y="1573200"/>
              <a:ext cx="0" cy="383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51760" y="1573200"/>
              <a:ext cx="0" cy="383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verall Schedule for 2001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752120"/>
            <a:ext cx="952020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0, 21, 22 – Myrtle Beach, SC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4, 25, 26 – Germ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– USA (probably Charles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eam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helm Kerschbaum – BM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Marler – Pratt &amp; Whitn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iver Gunterman – Pro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 Rosche – PDES, Inc./A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chen Boy – Pro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ra McGeorge – PDES, Inc./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Future plans &amp; activit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1523880"/>
            <a:ext cx="723888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D/TDM/PDM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reat interest in Construction History and Parametric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Further development in Draughting Area (Associative Dimensions, Dimensional Tolera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igration from AP214 DIS to IS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6760" y="914400"/>
            <a:ext cx="38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PDM-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92080" y="1660680"/>
            <a:ext cx="277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1480" y="4800600"/>
            <a:ext cx="318600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Dr. 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PDM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ungerer@prostep.de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pdm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deslogo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386" name="Verein_ohne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  <p:pic>
        <p:nvPicPr>
          <p:cNvPr id="387" name="pdm-if" descr=""/>
          <p:cNvPicPr/>
          <p:nvPr/>
        </p:nvPicPr>
        <p:blipFill>
          <a:blip r:embed="rId3"/>
          <a:stretch/>
        </p:blipFill>
        <p:spPr>
          <a:xfrm>
            <a:off x="4191120" y="3048120"/>
            <a:ext cx="4446360" cy="208260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rId4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Draughting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5" name="d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6400800" cy="4962240"/>
          </a:xfrm>
          <a:prstGeom prst="rect">
            <a:avLst/>
          </a:prstGeom>
          <a:ln w="0">
            <a:noFill/>
          </a:ln>
        </p:spPr>
      </p:pic>
      <p:pic>
        <p:nvPicPr>
          <p:cNvPr id="246" name="Corel000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0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External References, Validation Properties and 3D Test Annotation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8" name="Corel000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458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Surface Model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0" name="Corel00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696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rface Model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9360" y="2108160"/>
          <a:ext cx="786780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108160"/>
                    <a:ext cx="786780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Fixture Assembly (AutoDesk / MD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5" name="pic_pm3_ac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392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50:28Z</dcterms:created>
  <dc:creator>Jochen Boy</dc:creator>
  <dc:description/>
  <dc:language>en-US</dc:language>
  <cp:lastModifiedBy>Max Ungerer</cp:lastModifiedBy>
  <cp:lastPrinted>2000-02-16T08:52:10Z</cp:lastPrinted>
  <dcterms:modified xsi:type="dcterms:W3CDTF">2001-02-22T10:50:52Z</dcterms:modified>
  <cp:revision>22</cp:revision>
  <dc:subject/>
  <dc:title>Kein Folientitel</dc:title>
</cp:coreProperties>
</file>