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907588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61760" y="394488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6920" y="16761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1760" y="39448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56920" y="39448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95680" y="167616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29600" y="167616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61760" y="394488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95680" y="394488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29600" y="394488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61760" y="16761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56920" y="16761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83818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56920" y="16761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61760" y="39448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61760" y="16761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56920" y="16761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56920" y="39448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6920" y="16761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61760" y="394488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61760" y="394488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6920" y="16761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39448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56920" y="39448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95680" y="167616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29600" y="167616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61760" y="394488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95680" y="394488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29600" y="394488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56920" y="16761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83818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6920" y="16761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61760" y="39448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6920" y="16761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56920" y="39448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6920" y="16761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1760" y="394488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6761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61920" indent="-428400">
              <a:spcBef>
                <a:spcPts val="6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380960" indent="-228600"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3" marL="1800360" indent="-228600"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4" marL="2219400" indent="-228600"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5" marL="2219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6" marL="2219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1760" y="2286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37960" algn="ctr"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00160" algn="ctr"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62000" algn="ctr"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6200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6200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990612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ISO TC184/SC4 </a:t>
            </a:r>
            <a:br>
              <a:rPr sz="4800"/>
            </a:b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Parametrics Group:</a:t>
            </a:r>
            <a:br>
              <a:rPr sz="4800"/>
            </a:b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Status Report</a:t>
            </a:r>
            <a:br>
              <a:rPr sz="4800"/>
            </a:br>
            <a:br>
              <a:rPr sz="3800"/>
            </a:br>
            <a:r>
              <a:rPr b="1" lang="en-GB" sz="3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Mike Pratt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NIST &amp; RPI, USA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905120" y="4952880"/>
            <a:ext cx="63244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ff"/>
                </a:solidFill>
                <a:latin typeface="Arial"/>
              </a:rPr>
              <a:t>Implementers’ Forum 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ff"/>
                </a:solidFill>
                <a:latin typeface="Arial"/>
              </a:rPr>
              <a:t>Funchal, Madeira, Portugal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ff"/>
                </a:solidFill>
                <a:latin typeface="Arial"/>
              </a:rPr>
              <a:t>21 February 2001</a:t>
            </a: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I.  Construction History Modelling (1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nstruction history (CH) modelling is currently being pursued under an SC4 PWI project – but it is also a PDES Inc. project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ork is being led by Bill Anderson of the Advanced Technology Institute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itial intention is to provide a proof-of-concept demonstration of transfer of a simple CH model between commercial systems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est model – L-block with ho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894240" indent="-39816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D ske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4240" indent="-39816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usion to create L-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4240" indent="-39816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-radius fil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4240" indent="-39816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lean subtraction of cylinder to create ho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I.  Construction History Modelling (2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ethodology for test: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61920" indent="-42840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simple (but extensible) schema for the features involved in the model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2840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Part 108 for sketch representations, parameterization and geometric constrai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2840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‘Implementors Guide’ to help vendors working on the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endors currently active in the CH project: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61920" indent="-42840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bre, Dassault Systèmes, SDRC, Spatial, Theorem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2840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ST is doing some parallel work with ProE and Solid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2840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IST in Korea is also working in this area, using a slightly different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I.  Construction History Modelling (3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urrent status of CH project: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61920" indent="-42840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versions of the features schema and the history modelling mechanisms have been discussed in a series of CH workshops (Myrtle Beach, Mar 2000; Bordeaux, Jun 2000; Charleston, Oct 2000 – next is scheduled for Myrtle Beach, Mar 2001)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2840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mple method for avoiding the ‘persistent naming’ problem has been agreed upon, though we may need to do more work on this lat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2840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thod for structuring the history file has been agreed, and provision is made for the inclusion of human-understandable ‘design rationale’ inform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I.  Construction History Modelling (4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urrent status of CH project (continued):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32760" indent="-41544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translator work has been done yet, except at NIST and KAI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2760" indent="-41544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NIST we can cycle a simple parameterized model into and out of ProE, using a Part 21 file based on a simple non-STEP sche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2760" indent="-41544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IST in Korea is working at present on direct translation between native modeller-generated history files (Soon-Hung Han and his PhD stude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2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en we have evidence that our proposed method works, at least for a simple model, we will submit an NWI proposal to SC4 for the development of one or more new STEP resources for CH modelling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I.  Construction History Modelling (5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4114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iority 1 feature typ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61920" indent="-428400">
              <a:spcBef>
                <a:spcPts val="45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inear sweep of ske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28400">
              <a:spcBef>
                <a:spcPts val="45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otational sweep of ske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28400">
              <a:spcBef>
                <a:spcPts val="45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oolean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28400">
              <a:spcBef>
                <a:spcPts val="45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lends/fillets/cham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28400">
              <a:spcBef>
                <a:spcPts val="45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igid body transformation of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28400">
              <a:spcBef>
                <a:spcPts val="45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attern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28400">
              <a:spcBef>
                <a:spcPts val="45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ibrary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29200" y="1676160"/>
            <a:ext cx="4114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iority 2 feature typ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61920" indent="-428400">
              <a:spcBef>
                <a:spcPts val="45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ore general sweep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28400">
              <a:spcBef>
                <a:spcPts val="45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helling and offse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28400">
              <a:spcBef>
                <a:spcPts val="45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kinning (lofting) of sets of 2D curve ske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28400">
              <a:spcBef>
                <a:spcPts val="45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apering/draft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28400">
              <a:spcBef>
                <a:spcPts val="45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ectioning of solid by a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28400">
              <a:spcBef>
                <a:spcPts val="45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ending of a so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5040" y="5484960"/>
            <a:ext cx="906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ll feature definitions will be parameterized and have built-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I.  Construction History Modelling (6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42680" y="22096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change of history-based model may help to overcome the ‘geometric accuracy problem’ still causing some problems in  current STEP exchang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619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2840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is regenerated in the receiving system from constructional history, which is less subject to inaccuracy than a current STEP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t is thought that history-based representations may also provide a stable form of archival storage for CAD model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chnical Challenges in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struction History Modelling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1760" y="3043080"/>
            <a:ext cx="8381880" cy="259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terface style (function-based vs. entity-based approach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ranularity of high-level vs. low-level operation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ersistent naming and indirect referenc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ersistent Naming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is is probably the most difficult problem — it is believed that most CAD vendors only have partial solution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cademic work, e.g. by Hoffmann, Kripac, Pierra et al., Rappoport, Shapiro etc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problem for model exchange seems to be slightly easier than it is for internal system regeneration — we intend always have an explicit model (an AP203-type model) to refer to for guidance.  This ‘current result’ model will be transferred together with the CH description.  It will provide an example of the designer’s intentions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ersistent Naming (2)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0240" y="5791320"/>
            <a:ext cx="842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EP currently transfers the display model.  The basic history model provides no references to its constituent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01920" y="5943600"/>
            <a:ext cx="561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68520" y="2286000"/>
            <a:ext cx="2394000" cy="99072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ry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95920" y="2286000"/>
            <a:ext cx="2394000" cy="9907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68520" y="4343400"/>
            <a:ext cx="2394000" cy="99072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sed 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95920" y="4343400"/>
            <a:ext cx="2394000" cy="9907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sed 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24120" y="3276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2743200"/>
            <a:ext cx="173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4800600"/>
            <a:ext cx="173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16200" y="35053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44960" y="220968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79720" y="4267080"/>
            <a:ext cx="18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16200" y="1752480"/>
            <a:ext cx="18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91280" y="1752480"/>
            <a:ext cx="115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direct Referenc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generalization of the persistent naming proble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e need to be able to reference, in a CH fi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52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200" indent="-42408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s of parts defined in a parts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200" indent="-42408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s of instanced parts or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200" indent="-42408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s used as datums in part construction but which have possibly been deleted by subsequent modeling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problem is that a CH file contains no explicit elements, so we have to define indirect methods of referring to them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otivation for Parametrics activiti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pecific current activiti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619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2840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     Parameterization and constraints – Part 1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2840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.   Construction history modelling – PDES Inc.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2840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.  Enhanced assembly modelling – Part 109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2840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.  General Case Parametrics (longer-term proj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II.  Enhanced Assembly Modelling (1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urrently, STEP assembly modelling is of the parts list / bill-of-materials variety: sets of positioned and oriented parts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or the future, we would like to capture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32760" indent="-41544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relationships between parts expressed as assembly feature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2760" indent="-41544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types of contact between parts (continuous, intermitt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2760" indent="-41544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ematic degrees of freedom between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2760" indent="-41544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erized assemblies, with inter-part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is will allow the full modelling of kinematic assemblies with parameterization and constraints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II.  Enhanced Assembly Modelling (2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urrent proposal is based on work by the JNC; WD exists (WG12 527 + some later draft module proposals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WI proposal submitted in 2000 was accepted by SC4 and allocated  Part # 109.  It is likely that the Part 109 resource will contain only the fundamentally new constructs required, and new modules will define specializations of existing constructs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re have been discussions with AP 214 and 224 teams on harmonization of feature representations, though the use of Part 108 for parameterization and constraints will demand alternatives to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hape_aspec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approach 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V.  General Case “Long-term” Parametric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n additional project in the ISO TC184/SC4/WG12 Parametrics Group, looking ahead towards future developments in CAD systems technology that will lead to standardization requirements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61920" indent="-42840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process representation, for capture of the logical process of design evolution from the concept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2840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knowledge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rametrics’ Long-term subcommittee is currently led by Richard Wittenoom of AusSTEP, Australia, who is preparing a Technical Report to SC4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imary Contributors to Parametrics Work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99172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ill Anderson, Advanced Technology Institute, USA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oel Christensen, GE Honeywell, USA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ay Goult, LMR Systems, UK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om Kramer, NIST, USA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kihiko Ohtaka, Nihon Unisys, Japa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ijay Srinivasan, IB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obuhiro Sugimura, Osaka Prefectural University, Japa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ichard Wittenoom, AusSTEP Consultants, Australia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st major contributors: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42480" indent="-41976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y Pierra, Université de Poitiers,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480" indent="-41976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a-Hui Shih, Pacific STEP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42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ther Collaborator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61920" indent="-42840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ard Baumann, Fraunhofer IPK, Berlin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2840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delaziz Bouras, Université Claude Bernard, Lyon 1,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2840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an-Marc Brun, Université Aix-Marseille II,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2840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ian Fowler, PDT Solutions,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2840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on-Hung Han, KAIST, Ko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2840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zuya Kobayashi, Toyama Prefectural University,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2840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ilip Kraushar, Boeing Phantom Works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2840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g Paul, Lockheed Martin Energy Systems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SO TC184/SC4/WG12 Parametrics Group is extending STEP for the exchange of dynamic models: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61920" indent="-42840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ming to standardize parametrization and geometric constraints for explicit models in Part 1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2840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ming to standardize feature-based history-based model representation  in one or more new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2840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mbly representation is being enhanced through a combination of a new resource, extensions to existing resources , and development of new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Long-term Parametrics subcommittee is looking ahead towards future standardization needs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otivation for Parametrics Activiti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EP models as currently transferred convey no `design intent’ information. 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y omit all data from the sending system concerning several major aspects of shape models: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32760" indent="-41544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erization (design freed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2760" indent="-41544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metric constraints (design restra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2760" indent="-41544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features (high-level design constructs with possible links to functiona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nsequently, received STEP models ar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‘dumb models’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that cannot be effectively edited following transfer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WG12 Parametrics Group is working to rectify this situation.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ynamic models with ‘behaviour’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urrent STEP shape models ar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tic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snapshots of a design at some stage in its creation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e ne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models whose behaviour in a receiving system is controlled by information sent with the shape model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uc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ehavioural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information consists of the parameterization, constraint and feature data incorporated in the model by its original designer, and currently lost on transfer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f we can transfer this data with the model it changes from a ‘dumb model’ to 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‘intelligent model’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n ‘intelligent model’ knows what are the valid editing operations that can be performed on it – and, equally importantly, the invalid operations that must not be performed.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wo Types of Dynamic Model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381880" cy="337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plici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STEP-type) models, augmented by  additional information: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619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2840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e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2840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metric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2840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ocedural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o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nstructio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history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model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5257800"/>
            <a:ext cx="85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ost ‘native’ CAD models are hybrids of these two typ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2680" y="45720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ugmented Explicit Model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2680" y="1676160"/>
            <a:ext cx="842004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-rep model supplemented by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42480" indent="-41976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erized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3240" indent="-223920"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family-of-parts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3240" indent="-223920"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ensions may be made to depend on other, non-geometric, parame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2480" indent="-41976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metric constraints between constructional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3240" indent="-223920"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3240" indent="-223920"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pendicul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3240" indent="-223920"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ngenc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3240" indent="-223920"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y,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2480" indent="-41976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tures (with parametrization &amp; constrai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ometimes called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variational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mode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.  New STEP Resource: Part 108 (1)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itle: ‘Parameterization and constraints for explicit geometric product models’.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ovides mechanism for associating parameters with model dimensions and other quantiti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61920" indent="-42840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for capture of mathematical relations between paramet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ovides representations of geometric constraints and mechanism for associating them with elements of an explicit model (not necessarily just shape models)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ovides representations for 2D sketches or profiles used in feature creation.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.  New STEP Resource: Part 108 (2)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nstraints work in both 2D and 3D – they can therefore be used to constrain assemblies.  Specialized assembly constraints are defined for this purpose.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rameterization and constraint capabilities are sufficiently general that they can be used with other models beyond shape models (plans, processes, organizations,…).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rt 108 is upwardly compatible with existing APs – it sets pointers into an AP203-type shape model but does not demand modification of existing schemas to provide reverse pointers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rt 108 is currently technically complete and being prepared for its CD ballot (scheduled for mid-2001)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.  New STEP Resource: Part 108 (3)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rt 108 schemas: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32760" indent="-41544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erization_sche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-221400"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cludes methods for representing mathematical relationship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32760" indent="-41544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icit_constraint_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-221400"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very general basic mechanis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32760" indent="-41544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icit_geometric_constraint_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-221400"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cludes such things as parallelism, perpendicularity, tangency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32760" indent="-41544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ric_assembly_constraint_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-221400"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pecialization of last schema for modelling of assembl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32760" indent="-415440">
              <a:spcBef>
                <a:spcPts val="499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etch_constructs_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-221400"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cludes neutral and positioned sketch represent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5T12:58:30Z</dcterms:created>
  <dc:creator>Wolfgang Haas</dc:creator>
  <dc:description/>
  <dc:language>en-US</dc:language>
  <cp:lastModifiedBy>pratt</cp:lastModifiedBy>
  <cp:lastPrinted>2001-02-12T19:35:27Z</cp:lastPrinted>
  <dcterms:modified xsi:type="dcterms:W3CDTF">2001-02-26T20:44:13Z</dcterms:modified>
  <cp:revision>83</cp:revision>
  <dc:subject/>
  <dc:title>Application Interpretation Training</dc:title>
</cp:coreProperties>
</file>