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245280"/>
            <a:ext cx="2743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784B-A58C-4B31-A57C-D4F30DF8F0D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1600"/>
            <a:ext cx="912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strial Data Implementors For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Tools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9-23, 20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hal, Portug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fmain" descr=""/>
          <p:cNvPicPr/>
          <p:nvPr/>
        </p:nvPicPr>
        <p:blipFill>
          <a:blip r:embed="rId1"/>
          <a:stretch/>
        </p:blipFill>
        <p:spPr>
          <a:xfrm>
            <a:off x="647640" y="293760"/>
            <a:ext cx="80010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 – Wednesday 10:30 – 17: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86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:30 – 11: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Issue Re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G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P Interoper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ified PDM Sch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 Model His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and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rics Report – Mike Prat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:00 – 12: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x/PDM Implementors Forum- Max Unger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:00 -  14:4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or SEDS iss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schemas listed in hea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gle units in Part 4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M Schema – PDTn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:40 – 15: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u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:30 -  16: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M and Business Objects Using Express-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:00 – 16:3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s of Parts-Lib, ISO 13584  - EP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:30 -  17: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xplo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mplementors forum exploder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has mo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imp@steptools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eb S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found at: http://www.steptools.com/impf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he charter, issue log, minutes of last meeting, and slides from last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background mater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um FA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 to many STEP pl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 requests for additions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ML Preferences of vendors in the ro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nd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E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E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 Schema/ Edi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planned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-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9T21:29:14Z</dcterms:created>
  <dc:creator>Larry McKee</dc:creator>
  <dc:description/>
  <dc:language>en-US</dc:language>
  <cp:lastModifiedBy>hardwick</cp:lastModifiedBy>
  <cp:lastPrinted>1999-11-03T02:14:05Z</cp:lastPrinted>
  <dcterms:modified xsi:type="dcterms:W3CDTF">2001-02-23T08:15:02Z</dcterms:modified>
  <cp:revision>121</cp:revision>
  <dc:subject/>
  <dc:title>Implementors Fo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larrym@us.ibm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tepimp\022000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