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16.jpeg" ContentType="image/jpeg"/>
  <Override PartName="/ppt/media/image27.png" ContentType="image/png"/>
  <Override PartName="/ppt/media/image1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42113" cy="9893300"/>
  <p:custShowLst>
    <p:custShow name="Opel October 2002" id="0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4"/>
        <p:sld r:id="rId1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176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5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0" y="93992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20680" y="93992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0812C4C-232D-4C72-A137-8674A463089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8320" y="843120"/>
            <a:ext cx="4471920" cy="3354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0000" y="4700160"/>
            <a:ext cx="4943520" cy="4165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200" bIns="43200"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ngt durch neue IP-basierte Applikationen für die Automobilzulieferkette begannen ca. 1994 die großen 3 individuelle, sogenannte Extranets für Ihre Lieferanten auszuroll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 Druck der Lieferanten tat man sich 1995 im Automobilverband AIAG (Automotive Industry Action Group) zusammen um ein gemeinsames, standardisiertes Netzwerk zu konzipieren: das ANX (Automotive Network eXchange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Exchan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42271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6002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6002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42271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42271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42271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642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708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42271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708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6240" y="16002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27560" y="16002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42271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6240" y="42271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27560" y="42271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642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17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4e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 rot="16200000">
            <a:off x="8305200" y="6095880"/>
            <a:ext cx="14479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3, ProSTEP iViP Verei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6673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67C9-2A58-440E-A67B-AB04BDC5643B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267080" y="66438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EF15-CC30-426B-AB5F-B2C194F4688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roStep-Logo-neu_50mm" descr=""/>
          <p:cNvPicPr/>
          <p:nvPr/>
        </p:nvPicPr>
        <p:blipFill>
          <a:blip r:embed="rId3"/>
          <a:stretch/>
        </p:blipFill>
        <p:spPr>
          <a:xfrm>
            <a:off x="7010280" y="38160"/>
            <a:ext cx="1789200" cy="112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48156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rostep logo_RZ_ohne" descr=""/>
          <p:cNvPicPr/>
          <p:nvPr/>
        </p:nvPicPr>
        <p:blipFill>
          <a:blip r:embed="rId4"/>
          <a:stretch/>
        </p:blipFill>
        <p:spPr>
          <a:xfrm>
            <a:off x="6615000" y="6548400"/>
            <a:ext cx="2181240" cy="20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17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 rot="16200000">
            <a:off x="8343360" y="605772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3, ProSTEP iViP Verei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6673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091E-13FD-466C-BD02-D3E29D65A6F2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roStep-Logo-neu_50mm" descr=""/>
          <p:cNvPicPr/>
          <p:nvPr/>
        </p:nvPicPr>
        <p:blipFill>
          <a:blip r:embed="rId3"/>
          <a:stretch/>
        </p:blipFill>
        <p:spPr>
          <a:xfrm>
            <a:off x="7010280" y="38160"/>
            <a:ext cx="1789200" cy="112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8156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rostep logo_RZ_ohne" descr=""/>
          <p:cNvPicPr/>
          <p:nvPr/>
        </p:nvPicPr>
        <p:blipFill>
          <a:blip r:embed="rId4"/>
          <a:stretch/>
        </p:blipFill>
        <p:spPr>
          <a:xfrm>
            <a:off x="6600960" y="6534000"/>
            <a:ext cx="2181240" cy="209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4e5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4f4e5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e5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4f4e52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e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4f4e52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e52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4f4e52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e52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4f4e52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e52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4f4e5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hyperlink" Target="http://www.usa.siemensvdo.com/" TargetMode="External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522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50176f"/>
                </a:solidFill>
                <a:latin typeface="Arial"/>
              </a:rPr>
              <a:t>Use of STEP in</a:t>
            </a:r>
            <a:br>
              <a:rPr sz="4400"/>
            </a:br>
            <a:r>
              <a:rPr b="1" lang="de-DE" sz="4400" spc="-1" strike="noStrike">
                <a:solidFill>
                  <a:srgbClr val="50176f"/>
                </a:solidFill>
                <a:latin typeface="Arial"/>
              </a:rPr>
              <a:t>Car Electric</a:t>
            </a:r>
            <a:endParaRPr b="1" lang="en-US" sz="44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300" spc="-1" strike="noStrike">
                <a:solidFill>
                  <a:srgbClr val="741233"/>
                </a:solidFill>
                <a:latin typeface="Arial"/>
              </a:rPr>
              <a:t>Overview and Status of the ECAD Activities</a:t>
            </a:r>
            <a:endParaRPr b="0" lang="en-US" sz="3300" spc="-1" strike="noStrike">
              <a:solidFill>
                <a:srgbClr val="4f4e52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f4e52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741233"/>
                </a:solidFill>
                <a:latin typeface="Arial"/>
              </a:rPr>
              <a:t>Dr. Max Ungerer, PROSTEP AG</a:t>
            </a:r>
            <a:br>
              <a:rPr sz="2600"/>
            </a:br>
            <a:r>
              <a:rPr b="1" lang="de-DE" sz="2600" spc="-1" strike="noStrike">
                <a:solidFill>
                  <a:srgbClr val="741233"/>
                </a:solidFill>
                <a:latin typeface="Arial"/>
              </a:rPr>
              <a:t>March 2003</a:t>
            </a:r>
            <a:endParaRPr b="0" lang="en-US" sz="2600" spc="-1" strike="noStrike">
              <a:solidFill>
                <a:srgbClr val="4f4e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1920" y="75960"/>
            <a:ext cx="64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Handling of Variants and Configuration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Current model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f4e52"/>
                </a:solidFill>
                <a:latin typeface="Arial"/>
              </a:rPr>
              <a:t>Handling of variants on module level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f4e52"/>
                </a:solidFill>
                <a:latin typeface="Arial"/>
              </a:rPr>
              <a:t>Harness is build from modules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f4e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modules carry rule information, e.g. "</a:t>
            </a:r>
            <a:r>
              <a:rPr b="0" lang="de-DE" sz="1800" spc="-1" strike="noStrike">
                <a:solidFill>
                  <a:srgbClr val="4f4e52"/>
                </a:solidFill>
                <a:latin typeface="Times New Roman"/>
                <a:ea typeface="Times New Roman"/>
              </a:rPr>
              <a:t>7PA+4F1/4K3+8P1+8M1+8R1"</a:t>
            </a: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f4e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module part lists and connectivity lists are invariant</a:t>
            </a: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Future plans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f4e52"/>
                </a:solidFill>
                <a:latin typeface="Arial"/>
              </a:rPr>
              <a:t>Harness variants and configurations are of priority for the 2003 work program 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f4e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Definition of requirements and scope wrt variants and configurations</a:t>
            </a: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f4e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Extension of the Harness Description List</a:t>
            </a: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f4e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Mapping on AP212 CC5 (i.e. AP214 CC8)</a:t>
            </a: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XML Representation of the KBL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5120" y="1906560"/>
            <a:ext cx="156204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458"/>
                </a:solidFill>
                <a:latin typeface="Arial"/>
              </a:rPr>
              <a:t>KB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458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5120" y="3379680"/>
            <a:ext cx="156204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458"/>
                </a:solidFill>
                <a:latin typeface="Arial"/>
              </a:rPr>
              <a:t>AP2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458"/>
                </a:solidFill>
                <a:latin typeface="Arial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076640" y="1906560"/>
            <a:ext cx="3114720" cy="825480"/>
            <a:chOff x="4076640" y="1906560"/>
            <a:chExt cx="3114720" cy="825480"/>
          </a:xfrm>
        </p:grpSpPr>
        <p:sp>
          <p:nvSpPr>
            <p:cNvPr id="186" name=""/>
            <p:cNvSpPr/>
            <p:nvPr/>
          </p:nvSpPr>
          <p:spPr>
            <a:xfrm>
              <a:off x="4076640" y="1906560"/>
              <a:ext cx="1562400" cy="825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55458"/>
                  </a:solidFill>
                  <a:latin typeface="Arial"/>
                </a:rPr>
                <a:t>KBL XM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55458"/>
                  </a:solidFill>
                  <a:latin typeface="Arial"/>
                </a:rPr>
                <a:t>Sche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01000" y="1913040"/>
              <a:ext cx="990360" cy="8017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55458"/>
                  </a:solidFill>
                  <a:latin typeface="Arial"/>
                </a:rPr>
                <a:t>KB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55458"/>
                  </a:solidFill>
                  <a:latin typeface="Arial"/>
                </a:rPr>
                <a:t>XML 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8" name=""/>
            <p:cNvCxnSpPr>
              <a:stCxn id="186" idx="3"/>
              <a:endCxn id="187" idx="2"/>
            </p:cNvCxnSpPr>
            <p:nvPr/>
          </p:nvCxnSpPr>
          <p:spPr>
            <a:xfrm flipV="1">
              <a:off x="5638680" y="2314080"/>
              <a:ext cx="562680" cy="54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</p:grpSp>
      <p:grpSp>
        <p:nvGrpSpPr>
          <p:cNvPr id="189" name=""/>
          <p:cNvGrpSpPr/>
          <p:nvPr/>
        </p:nvGrpSpPr>
        <p:grpSpPr>
          <a:xfrm>
            <a:off x="4076640" y="3376440"/>
            <a:ext cx="3107880" cy="825480"/>
            <a:chOff x="4076640" y="3376440"/>
            <a:chExt cx="3107880" cy="825480"/>
          </a:xfrm>
        </p:grpSpPr>
        <p:sp>
          <p:nvSpPr>
            <p:cNvPr id="190" name=""/>
            <p:cNvSpPr/>
            <p:nvPr/>
          </p:nvSpPr>
          <p:spPr>
            <a:xfrm>
              <a:off x="4076640" y="3376440"/>
              <a:ext cx="1562040" cy="825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55458"/>
                  </a:solidFill>
                  <a:latin typeface="Arial"/>
                </a:rPr>
                <a:t>AP212 A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55458"/>
                  </a:solidFill>
                  <a:latin typeface="Arial"/>
                </a:rPr>
                <a:t>XML Sche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94160" y="3385800"/>
              <a:ext cx="990360" cy="8017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55458"/>
                  </a:solidFill>
                  <a:latin typeface="Arial"/>
                </a:rPr>
                <a:t>AP2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55458"/>
                  </a:solidFill>
                  <a:latin typeface="Arial"/>
                </a:rPr>
                <a:t>XML 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2" name=""/>
            <p:cNvCxnSpPr>
              <a:stCxn id="190" idx="3"/>
              <a:endCxn id="191" idx="2"/>
            </p:cNvCxnSpPr>
            <p:nvPr/>
          </p:nvCxnSpPr>
          <p:spPr>
            <a:xfrm flipV="1">
              <a:off x="5638680" y="3787200"/>
              <a:ext cx="555840" cy="21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</p:grpSp>
      <p:grpSp>
        <p:nvGrpSpPr>
          <p:cNvPr id="193" name=""/>
          <p:cNvGrpSpPr/>
          <p:nvPr/>
        </p:nvGrpSpPr>
        <p:grpSpPr>
          <a:xfrm>
            <a:off x="2296800" y="1706400"/>
            <a:ext cx="1779840" cy="613080"/>
            <a:chOff x="2296800" y="1706400"/>
            <a:chExt cx="1779840" cy="613080"/>
          </a:xfrm>
        </p:grpSpPr>
        <p:cxnSp>
          <p:nvCxnSpPr>
            <p:cNvPr id="194" name=""/>
            <p:cNvCxnSpPr>
              <a:stCxn id="183" idx="3"/>
              <a:endCxn id="186" idx="1"/>
            </p:cNvCxnSpPr>
            <p:nvPr/>
          </p:nvCxnSpPr>
          <p:spPr>
            <a:xfrm>
              <a:off x="2296800" y="2318760"/>
              <a:ext cx="1780200" cy="1080"/>
            </a:xfrm>
            <a:prstGeom prst="straightConnector1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195" name=""/>
            <p:cNvSpPr/>
            <p:nvPr/>
          </p:nvSpPr>
          <p:spPr>
            <a:xfrm>
              <a:off x="2349360" y="1706400"/>
              <a:ext cx="168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Part28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PDTnet Approa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296800" y="3198960"/>
            <a:ext cx="1779840" cy="593280"/>
            <a:chOff x="2296800" y="3198960"/>
            <a:chExt cx="1779840" cy="593280"/>
          </a:xfrm>
        </p:grpSpPr>
        <p:cxnSp>
          <p:nvCxnSpPr>
            <p:cNvPr id="197" name=""/>
            <p:cNvCxnSpPr>
              <a:stCxn id="184" idx="3"/>
              <a:endCxn id="190" idx="1"/>
            </p:cNvCxnSpPr>
            <p:nvPr/>
          </p:nvCxnSpPr>
          <p:spPr>
            <a:xfrm flipV="1">
              <a:off x="2296800" y="3788640"/>
              <a:ext cx="1780200" cy="3960"/>
            </a:xfrm>
            <a:prstGeom prst="straightConnector1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198" name=""/>
            <p:cNvSpPr/>
            <p:nvPr/>
          </p:nvSpPr>
          <p:spPr>
            <a:xfrm>
              <a:off x="2323800" y="3198960"/>
              <a:ext cx="168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Part28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PDTnet Approa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5120" y="4587840"/>
            <a:ext cx="3341520" cy="1004400"/>
            <a:chOff x="735120" y="4587840"/>
            <a:chExt cx="3341520" cy="1004400"/>
          </a:xfrm>
        </p:grpSpPr>
        <p:sp>
          <p:nvSpPr>
            <p:cNvPr id="200" name=""/>
            <p:cNvSpPr/>
            <p:nvPr/>
          </p:nvSpPr>
          <p:spPr>
            <a:xfrm>
              <a:off x="735120" y="4767120"/>
              <a:ext cx="1562040" cy="825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55458"/>
                  </a:solidFill>
                  <a:latin typeface="Arial"/>
                </a:rPr>
                <a:t>AP2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55458"/>
                  </a:solidFill>
                  <a:latin typeface="Arial"/>
                </a:rPr>
                <a:t>A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2296800" y="4587840"/>
              <a:ext cx="1779840" cy="599040"/>
              <a:chOff x="2296800" y="4587840"/>
              <a:chExt cx="1779840" cy="599040"/>
            </a:xfrm>
          </p:grpSpPr>
          <p:cxnSp>
            <p:nvCxnSpPr>
              <p:cNvPr id="202" name=""/>
              <p:cNvCxnSpPr>
                <a:stCxn id="200" idx="3"/>
                <a:endCxn id="203" idx="1"/>
              </p:cNvCxnSpPr>
              <p:nvPr/>
            </p:nvCxnSpPr>
            <p:spPr>
              <a:xfrm>
                <a:off x="2296800" y="5179320"/>
                <a:ext cx="1780200" cy="7920"/>
              </a:xfrm>
              <a:prstGeom prst="straightConnector1">
                <a:avLst/>
              </a:prstGeom>
              <a:ln w="76320">
                <a:solidFill>
                  <a:srgbClr val="3333cc"/>
                </a:solidFill>
                <a:miter/>
                <a:tailEnd len="med" type="triangle" w="med"/>
              </a:ln>
            </p:spPr>
          </p:cxnSp>
          <p:sp>
            <p:nvSpPr>
              <p:cNvPr id="204" name=""/>
              <p:cNvSpPr/>
              <p:nvPr/>
            </p:nvSpPr>
            <p:spPr>
              <a:xfrm>
                <a:off x="2328480" y="4587840"/>
                <a:ext cx="1681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Part28 /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PDTnet Approac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5" name=""/>
          <p:cNvSpPr/>
          <p:nvPr/>
        </p:nvSpPr>
        <p:spPr>
          <a:xfrm flipV="1">
            <a:off x="1236600" y="2830680"/>
            <a:ext cx="457200" cy="442800"/>
          </a:xfrm>
          <a:prstGeom prst="upArrow">
            <a:avLst>
              <a:gd name="adj1" fmla="val 56306"/>
              <a:gd name="adj2" fmla="val 60977"/>
            </a:avLst>
          </a:prstGeom>
          <a:solidFill>
            <a:srgbClr val="7412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076640" y="4202280"/>
            <a:ext cx="2743560" cy="1398600"/>
            <a:chOff x="4076640" y="4202280"/>
            <a:chExt cx="2743560" cy="1398600"/>
          </a:xfrm>
        </p:grpSpPr>
        <p:cxnSp>
          <p:nvCxnSpPr>
            <p:cNvPr id="207" name=""/>
            <p:cNvCxnSpPr>
              <a:stCxn id="190" idx="2"/>
              <a:endCxn id="203" idx="0"/>
            </p:cNvCxnSpPr>
            <p:nvPr/>
          </p:nvCxnSpPr>
          <p:spPr>
            <a:xfrm>
              <a:off x="4857480" y="4202280"/>
              <a:ext cx="1080" cy="573840"/>
            </a:xfrm>
            <a:prstGeom prst="straightConnector1">
              <a:avLst/>
            </a:prstGeom>
            <a:ln w="38160">
              <a:solidFill>
                <a:srgbClr val="741233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3" name=""/>
            <p:cNvSpPr/>
            <p:nvPr/>
          </p:nvSpPr>
          <p:spPr>
            <a:xfrm>
              <a:off x="4076640" y="4775400"/>
              <a:ext cx="1562400" cy="825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55458"/>
                  </a:solidFill>
                  <a:latin typeface="Arial"/>
                </a:rPr>
                <a:t>PDT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55458"/>
                  </a:solidFill>
                  <a:latin typeface="Arial"/>
                </a:rPr>
                <a:t>Sche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87440" y="4337280"/>
              <a:ext cx="183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741233"/>
                  </a:solidFill>
                  <a:latin typeface="Arial"/>
                </a:rPr>
                <a:t>Interoper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184160" y="2314080"/>
            <a:ext cx="1622880" cy="1473480"/>
            <a:chOff x="7184160" y="2314080"/>
            <a:chExt cx="1622880" cy="1473480"/>
          </a:xfrm>
        </p:grpSpPr>
        <p:sp>
          <p:nvSpPr>
            <p:cNvPr id="210" name=""/>
            <p:cNvSpPr/>
            <p:nvPr/>
          </p:nvSpPr>
          <p:spPr>
            <a:xfrm>
              <a:off x="7833960" y="2727000"/>
              <a:ext cx="9730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55458"/>
                  </a:solidFill>
                  <a:latin typeface="Arial"/>
                </a:rPr>
                <a:t>XS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1" name=""/>
            <p:cNvCxnSpPr>
              <a:stCxn id="210" idx="0"/>
              <a:endCxn id="187" idx="4"/>
            </p:cNvCxnSpPr>
            <p:nvPr/>
          </p:nvCxnSpPr>
          <p:spPr>
            <a:xfrm flipV="1" rot="16200000">
              <a:off x="7549560" y="1954800"/>
              <a:ext cx="413280" cy="1131120"/>
            </a:xfrm>
            <a:prstGeom prst="curvedConnector2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210" idx="2"/>
              <a:endCxn id="191" idx="4"/>
            </p:cNvCxnSpPr>
            <p:nvPr/>
          </p:nvCxnSpPr>
          <p:spPr>
            <a:xfrm rot="5400000">
              <a:off x="7450920" y="2917440"/>
              <a:ext cx="603720" cy="1137240"/>
            </a:xfrm>
            <a:prstGeom prst="curvedConnector2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ECAD-IF%20Logo" descr=""/>
          <p:cNvPicPr/>
          <p:nvPr/>
        </p:nvPicPr>
        <p:blipFill>
          <a:blip r:embed="rId2"/>
          <a:stretch/>
        </p:blipFill>
        <p:spPr>
          <a:xfrm>
            <a:off x="2895480" y="2286000"/>
            <a:ext cx="4543560" cy="2481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894680" y="304920"/>
            <a:ext cx="501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3333cc"/>
                </a:solidFill>
                <a:latin typeface="Arial"/>
              </a:rPr>
              <a:t>For further information go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5280" y="3048120"/>
            <a:ext cx="257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200" spc="-1" strike="noStrike">
                <a:solidFill>
                  <a:srgbClr val="3333cc"/>
                </a:solidFill>
                <a:latin typeface="Arial"/>
              </a:rPr>
              <a:t>www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68200" y="3048120"/>
            <a:ext cx="15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.d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176f"/>
                </a:solidFill>
                <a:latin typeface="Arial"/>
              </a:rPr>
              <a:t>Objectives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pic>
        <p:nvPicPr>
          <p:cNvPr id="97" name="Kabelbaum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14400" y="1676520"/>
            <a:ext cx="6172200" cy="4122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43000" y="1752480"/>
            <a:ext cx="6172200" cy="40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4e52"/>
                </a:solidFill>
                <a:latin typeface="Arial"/>
              </a:rPr>
              <a:t>Facilitating Harness Design Data Exchange</a:t>
            </a:r>
            <a:r>
              <a:rPr b="1" lang="en-US" sz="3700" spc="-1" strike="noStrike">
                <a:solidFill>
                  <a:srgbClr val="741233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741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741233"/>
                </a:solidFill>
                <a:latin typeface="Arial"/>
              </a:rPr>
              <a:t>An Initiative of Car Manufacturers and Supplier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82800" y="3110040"/>
            <a:ext cx="4113360" cy="2238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19520" y="3089160"/>
            <a:ext cx="4114800" cy="2361240"/>
          </a:xfrm>
          <a:prstGeom prst="rect">
            <a:avLst/>
          </a:prstGeom>
          <a:solidFill>
            <a:srgbClr val="0000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VDA Recommen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Standardized Harness </a:t>
            </a:r>
            <a:br>
              <a:rPr sz="2400"/>
            </a:b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AP212 Harness Sub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Glossary of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61920" y="75960"/>
            <a:ext cx="64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Harness Design Data Exchange Based on Standards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086600" y="2743200"/>
            <a:ext cx="1871640" cy="3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rcRect l="0" t="12261" r="0" b="0"/>
          <a:stretch/>
        </p:blipFill>
        <p:spPr>
          <a:xfrm>
            <a:off x="6986520" y="4643280"/>
            <a:ext cx="1843200" cy="568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rcRect l="0" t="0" r="54308" b="0"/>
          <a:stretch/>
        </p:blipFill>
        <p:spPr>
          <a:xfrm>
            <a:off x="7134120" y="4029120"/>
            <a:ext cx="1652760" cy="528480"/>
          </a:xfrm>
          <a:prstGeom prst="rect">
            <a:avLst/>
          </a:prstGeom>
          <a:ln w="0">
            <a:noFill/>
          </a:ln>
        </p:spPr>
      </p:pic>
      <p:pic>
        <p:nvPicPr>
          <p:cNvPr id="105" name="DEL_AS" descr=""/>
          <p:cNvPicPr/>
          <p:nvPr/>
        </p:nvPicPr>
        <p:blipFill>
          <a:blip r:embed="rId6"/>
          <a:stretch/>
        </p:blipFill>
        <p:spPr>
          <a:xfrm flipH="1" rot="10800000">
            <a:off x="6939000" y="5473440"/>
            <a:ext cx="1925640" cy="298440"/>
          </a:xfrm>
          <a:prstGeom prst="rect">
            <a:avLst/>
          </a:prstGeom>
          <a:ln w="0">
            <a:noFill/>
          </a:ln>
        </p:spPr>
      </p:pic>
      <p:pic>
        <p:nvPicPr>
          <p:cNvPr id="106" name="3641a9" descr=""/>
          <p:cNvPicPr/>
          <p:nvPr/>
        </p:nvPicPr>
        <p:blipFill>
          <a:blip r:embed="rId7"/>
          <a:stretch/>
        </p:blipFill>
        <p:spPr>
          <a:xfrm>
            <a:off x="7645320" y="3370320"/>
            <a:ext cx="982800" cy="981000"/>
          </a:xfrm>
          <a:prstGeom prst="rect">
            <a:avLst/>
          </a:prstGeom>
          <a:ln w="0">
            <a:noFill/>
          </a:ln>
        </p:spPr>
      </p:pic>
      <p:pic>
        <p:nvPicPr>
          <p:cNvPr id="107" name="porsche" descr=""/>
          <p:cNvPicPr/>
          <p:nvPr/>
        </p:nvPicPr>
        <p:blipFill>
          <a:blip r:embed="rId8"/>
          <a:stretch/>
        </p:blipFill>
        <p:spPr>
          <a:xfrm>
            <a:off x="844560" y="2381400"/>
            <a:ext cx="1406520" cy="70776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195560" y="5400720"/>
            <a:ext cx="1691640" cy="712440"/>
            <a:chOff x="1195560" y="5400720"/>
            <a:chExt cx="1691640" cy="712440"/>
          </a:xfrm>
        </p:grpSpPr>
        <p:sp>
          <p:nvSpPr>
            <p:cNvPr id="109" name=""/>
            <p:cNvSpPr/>
            <p:nvPr/>
          </p:nvSpPr>
          <p:spPr>
            <a:xfrm>
              <a:off x="1665720" y="547056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b2b2b2"/>
                  </a:solidFill>
                  <a:latin typeface="BMW Helvetica Light"/>
                </a:rPr>
                <a:t>BMW 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BMWzeichen" descr=""/>
            <p:cNvPicPr/>
            <p:nvPr/>
          </p:nvPicPr>
          <p:blipFill>
            <a:blip r:embed="rId9"/>
            <a:stretch/>
          </p:blipFill>
          <p:spPr>
            <a:xfrm>
              <a:off x="1195560" y="5400720"/>
              <a:ext cx="470160" cy="48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DC1" descr=""/>
          <p:cNvPicPr/>
          <p:nvPr/>
        </p:nvPicPr>
        <p:blipFill>
          <a:blip r:embed="rId10"/>
          <a:stretch/>
        </p:blipFill>
        <p:spPr>
          <a:xfrm flipH="1" rot="10800000">
            <a:off x="281160" y="3494160"/>
            <a:ext cx="2462040" cy="271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6095880" y="1905120"/>
            <a:ext cx="2040120" cy="55548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633240" y="4281480"/>
            <a:ext cx="2040120" cy="574560"/>
            <a:chOff x="633240" y="4281480"/>
            <a:chExt cx="2040120" cy="574560"/>
          </a:xfrm>
        </p:grpSpPr>
        <p:pic>
          <p:nvPicPr>
            <p:cNvPr id="114" name="" descr=""/>
            <p:cNvPicPr/>
            <p:nvPr/>
          </p:nvPicPr>
          <p:blipFill>
            <a:blip r:embed="rId12"/>
            <a:stretch/>
          </p:blipFill>
          <p:spPr>
            <a:xfrm>
              <a:off x="633240" y="4281480"/>
              <a:ext cx="204012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153080" y="4560840"/>
              <a:ext cx="127080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Opel-1" descr=""/>
          <p:cNvPicPr/>
          <p:nvPr/>
        </p:nvPicPr>
        <p:blipFill>
          <a:blip r:embed="rId13"/>
          <a:srcRect l="0" t="10297" r="0" b="19120"/>
          <a:stretch/>
        </p:blipFill>
        <p:spPr>
          <a:xfrm>
            <a:off x="228600" y="1676520"/>
            <a:ext cx="1981080" cy="371520"/>
          </a:xfrm>
          <a:prstGeom prst="rect">
            <a:avLst/>
          </a:prstGeom>
          <a:ln w="0">
            <a:noFill/>
          </a:ln>
        </p:spPr>
      </p:pic>
      <p:pic>
        <p:nvPicPr>
          <p:cNvPr id="117" name="svapop" descr="Visit Siemens VDO Automotive">
            <a:hlinkClick r:id="rId14"/>
          </p:cNvPr>
          <p:cNvPicPr/>
          <p:nvPr/>
        </p:nvPicPr>
        <p:blipFill>
          <a:blip r:embed="rId15"/>
          <a:srcRect l="0" t="0" r="52744" b="42629"/>
          <a:stretch/>
        </p:blipFill>
        <p:spPr>
          <a:xfrm>
            <a:off x="6477120" y="6019920"/>
            <a:ext cx="190476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61920" y="75960"/>
            <a:ext cx="64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Scope of the </a:t>
            </a:r>
            <a:br>
              <a:rPr sz="2800"/>
            </a:b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Harness Description List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4e52"/>
                </a:solidFill>
                <a:latin typeface="Arial"/>
              </a:rPr>
              <a:t>Part master information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Identification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Org data (approval, creator, ...)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Properties (wire colour, cross section, material, ...)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Classification (Connector, contact, wire, clip, ...)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4e52"/>
                </a:solidFill>
                <a:latin typeface="Arial"/>
              </a:rPr>
              <a:t>Bill of material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Harness module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4e52"/>
                </a:solidFill>
                <a:latin typeface="Arial"/>
              </a:rPr>
              <a:t>Connectivity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4e52"/>
                </a:solidFill>
                <a:latin typeface="Arial"/>
              </a:rPr>
              <a:t>Topology and Routing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ECAD Implementor Forum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82840" y="1917720"/>
            <a:ext cx="5222880" cy="3797280"/>
            <a:chOff x="1482840" y="1917720"/>
            <a:chExt cx="5222880" cy="3797280"/>
          </a:xfrm>
        </p:grpSpPr>
        <p:graphicFrame>
          <p:nvGraphicFramePr>
            <p:cNvPr id="122" name=""/>
            <p:cNvGraphicFramePr/>
            <p:nvPr/>
          </p:nvGraphicFramePr>
          <p:xfrm>
            <a:off x="5340240" y="2465280"/>
            <a:ext cx="598680" cy="434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40240" y="2465280"/>
                      <a:ext cx="59868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4" name="daimler" descr=""/>
            <p:cNvPicPr/>
            <p:nvPr/>
          </p:nvPicPr>
          <p:blipFill>
            <a:blip r:embed="rId4"/>
            <a:stretch/>
          </p:blipFill>
          <p:spPr>
            <a:xfrm>
              <a:off x="4705200" y="4940280"/>
              <a:ext cx="1433520" cy="1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 flipV="1">
              <a:off x="4454640" y="2374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894200" y="2676240"/>
              <a:ext cx="40320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3997440" y="2374560"/>
              <a:ext cx="3045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3419280" y="2720520"/>
              <a:ext cx="29844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19640" y="38782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0480" y="3855960"/>
              <a:ext cx="403200" cy="9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80000" y="3806640"/>
              <a:ext cx="43812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16400" y="3670200"/>
              <a:ext cx="3812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768480" y="3844800"/>
              <a:ext cx="384120" cy="58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463560" y="3697200"/>
              <a:ext cx="412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VW100" descr=""/>
            <p:cNvPicPr/>
            <p:nvPr/>
          </p:nvPicPr>
          <p:blipFill>
            <a:blip r:embed="rId5"/>
            <a:stretch/>
          </p:blipFill>
          <p:spPr>
            <a:xfrm>
              <a:off x="2860560" y="24271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ECAD-IF%20Logo" descr=""/>
            <p:cNvPicPr/>
            <p:nvPr/>
          </p:nvPicPr>
          <p:blipFill>
            <a:blip r:embed="rId6"/>
            <a:stretch/>
          </p:blipFill>
          <p:spPr>
            <a:xfrm>
              <a:off x="3387600" y="2832120"/>
              <a:ext cx="1905120" cy="9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759200" y="2146320"/>
              <a:ext cx="986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400" spc="-1" strike="noStrike">
                  <a:solidFill>
                    <a:srgbClr val="000099"/>
                  </a:solidFill>
                  <a:latin typeface="Humnst777 Blk BT"/>
                </a:rPr>
                <a:t>RACOS</a:t>
              </a:r>
              <a:r>
                <a:rPr b="0" lang="en-US" sz="1400" spc="-1" strike="noStrike" baseline="30000">
                  <a:solidFill>
                    <a:srgbClr val="000099"/>
                  </a:solidFill>
                  <a:latin typeface="Symbol"/>
                  <a:ea typeface="Symbol"/>
                </a:rPr>
                <a:t>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COMSA" descr=""/>
            <p:cNvPicPr/>
            <p:nvPr/>
          </p:nvPicPr>
          <p:blipFill>
            <a:blip r:embed="rId7"/>
            <a:stretch/>
          </p:blipFill>
          <p:spPr>
            <a:xfrm>
              <a:off x="3311640" y="1917720"/>
              <a:ext cx="129528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Home_NEmcosBanner" descr=""/>
            <p:cNvPicPr/>
            <p:nvPr/>
          </p:nvPicPr>
          <p:blipFill>
            <a:blip r:embed="rId8"/>
            <a:srcRect l="0" t="0" r="65011" b="0"/>
            <a:stretch/>
          </p:blipFill>
          <p:spPr>
            <a:xfrm>
              <a:off x="3083040" y="5346720"/>
              <a:ext cx="152388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Mentor" descr=""/>
            <p:cNvPicPr/>
            <p:nvPr/>
          </p:nvPicPr>
          <p:blipFill>
            <a:blip r:embed="rId9"/>
            <a:stretch/>
          </p:blipFill>
          <p:spPr>
            <a:xfrm>
              <a:off x="5597640" y="3670200"/>
              <a:ext cx="11080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delphilogo" descr=""/>
            <p:cNvPicPr/>
            <p:nvPr/>
          </p:nvPicPr>
          <p:blipFill>
            <a:blip r:embed="rId10"/>
            <a:stretch/>
          </p:blipFill>
          <p:spPr>
            <a:xfrm>
              <a:off x="4987800" y="4279680"/>
              <a:ext cx="160020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DiCaT_Logo" descr=""/>
            <p:cNvPicPr/>
            <p:nvPr/>
          </p:nvPicPr>
          <p:blipFill>
            <a:blip r:embed="rId11"/>
            <a:stretch/>
          </p:blipFill>
          <p:spPr>
            <a:xfrm>
              <a:off x="2473200" y="3746520"/>
              <a:ext cx="1067040" cy="7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482840" y="4508280"/>
              <a:ext cx="251460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smartCable …Software für </a:t>
              </a:r>
              <a:r>
                <a:rPr b="0" lang="de-DE" sz="1000" spc="-1" strike="noStrike">
                  <a:solidFill>
                    <a:srgbClr val="ffffff"/>
                  </a:solidFill>
                  <a:latin typeface="Arial"/>
                </a:rPr>
                <a:t>Bordnetz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176f"/>
                </a:solidFill>
                <a:latin typeface="Arial"/>
              </a:rPr>
              <a:t>ProSTEP HLI -</a:t>
            </a:r>
            <a:br>
              <a:rPr sz="2800"/>
            </a:br>
            <a:r>
              <a:rPr b="1" lang="en-US" sz="2800" spc="-1" strike="noStrike">
                <a:solidFill>
                  <a:srgbClr val="50176f"/>
                </a:solidFill>
                <a:latin typeface="Arial"/>
              </a:rPr>
              <a:t>Support of AP212 and KBL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2362320"/>
            <a:ext cx="1911240" cy="2355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2057400"/>
            <a:ext cx="0" cy="28954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1371600"/>
            <a:ext cx="1905120" cy="6858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capital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5029200"/>
            <a:ext cx="1218960" cy="9907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25780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54100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5562720"/>
            <a:ext cx="381240" cy="5331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4864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2057400"/>
            <a:ext cx="0" cy="2895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5486400"/>
            <a:ext cx="685800" cy="152280"/>
          </a:xfrm>
          <a:custGeom>
            <a:avLst/>
            <a:gdLst/>
            <a:ahLst/>
            <a:rect l="l" t="t" r="r" b="b"/>
            <a:pathLst>
              <a:path w="432" h="96">
                <a:moveTo>
                  <a:pt x="0" y="0"/>
                </a:moveTo>
                <a:lnTo>
                  <a:pt x="0" y="96"/>
                </a:lnTo>
                <a:lnTo>
                  <a:pt x="432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638680"/>
            <a:ext cx="838080" cy="15264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0"/>
                </a:moveTo>
                <a:lnTo>
                  <a:pt x="0" y="96"/>
                </a:lnTo>
                <a:lnTo>
                  <a:pt x="528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62320" y="4011480"/>
            <a:ext cx="822600" cy="56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276720" y="3505320"/>
            <a:ext cx="1725480" cy="458640"/>
            <a:chOff x="3276720" y="3505320"/>
            <a:chExt cx="1725480" cy="458640"/>
          </a:xfrm>
        </p:grpSpPr>
        <p:sp>
          <p:nvSpPr>
            <p:cNvPr id="158" name=""/>
            <p:cNvSpPr/>
            <p:nvPr/>
          </p:nvSpPr>
          <p:spPr>
            <a:xfrm>
              <a:off x="3276720" y="3505320"/>
              <a:ext cx="1725480" cy="458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02080" y="3532320"/>
              <a:ext cx="11840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DAI P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276720" y="4011480"/>
            <a:ext cx="822240" cy="56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971800"/>
            <a:ext cx="1725480" cy="45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3048120"/>
            <a:ext cx="13107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212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2438280"/>
            <a:ext cx="172548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4960" y="2514600"/>
            <a:ext cx="10836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BL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7960" y="2590920"/>
            <a:ext cx="158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tem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tem_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conne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9240" y="1981080"/>
            <a:ext cx="178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odu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Connecto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Appendix par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Wir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pecial W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6172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exible and simple data acces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90920" y="30481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028480" y="25138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61920" y="75960"/>
            <a:ext cx="64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Basis for Harness Design Data Exchange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352680" y="2743200"/>
            <a:ext cx="2025720" cy="2590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57200" y="1371600"/>
            <a:ext cx="2454120" cy="3200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16040" y="283356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4495680"/>
            <a:ext cx="2133720" cy="1676520"/>
          </a:xfrm>
          <a:prstGeom prst="foldedCorner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pp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4160" y="472428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176f"/>
                </a:solidFill>
                <a:latin typeface="Arial"/>
              </a:rPr>
              <a:t>KBL Datenmodell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676520" y="1069920"/>
            <a:ext cx="586728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Running Pilot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4e52"/>
                </a:solidFill>
                <a:latin typeface="Arial"/>
              </a:rPr>
              <a:t>VW with VW Bordnetze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Export from VOBES (gedas)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Import into VWBN environment (DiCaT)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4e52"/>
                </a:solidFill>
                <a:latin typeface="Arial"/>
              </a:rPr>
              <a:t>BMW with Dräxlmaier/S-Y Systems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Export from Grivad (Comsa)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Import into capitalH (Mentor)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05:25:44Z</dcterms:created>
  <dc:creator>Andreas Fogy sen.</dc:creator>
  <dc:description/>
  <dc:language>en-US</dc:language>
  <cp:lastModifiedBy>Max Ungerer</cp:lastModifiedBy>
  <dcterms:modified xsi:type="dcterms:W3CDTF">2003-03-12T16:04:35Z</dcterms:modified>
  <cp:revision>58</cp:revision>
  <dc:subject/>
  <dc:title>VDA AK AP212</dc:title>
</cp:coreProperties>
</file>