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100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3012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88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100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3012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80720" y="-360"/>
            <a:ext cx="76964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640" y="152280"/>
            <a:ext cx="17550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DM-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120" y="6613560"/>
            <a:ext cx="515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n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12240" y="645804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963B-C757-4D43-8EC2-6F693A6511B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959832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dm-if" descr=""/>
          <p:cNvPicPr/>
          <p:nvPr/>
        </p:nvPicPr>
        <p:blipFill>
          <a:blip r:embed="rId2"/>
          <a:stretch/>
        </p:blipFill>
        <p:spPr>
          <a:xfrm>
            <a:off x="8534520" y="6019920"/>
            <a:ext cx="1170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28600" y="6172200"/>
            <a:ext cx="1214280" cy="468360"/>
            <a:chOff x="228600" y="6172200"/>
            <a:chExt cx="1214280" cy="468360"/>
          </a:xfrm>
        </p:grpSpPr>
        <p:sp>
          <p:nvSpPr>
            <p:cNvPr id="8" name=""/>
            <p:cNvSpPr/>
            <p:nvPr/>
          </p:nvSpPr>
          <p:spPr>
            <a:xfrm>
              <a:off x="228600" y="6172200"/>
              <a:ext cx="1214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" name="pdeslogo" descr=""/>
            <p:cNvPicPr/>
            <p:nvPr/>
          </p:nvPicPr>
          <p:blipFill>
            <a:blip r:embed="rId3"/>
            <a:stretch/>
          </p:blipFill>
          <p:spPr>
            <a:xfrm>
              <a:off x="228600" y="6222960"/>
              <a:ext cx="485640" cy="395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" name=""/>
            <p:cNvGraphicFramePr/>
            <p:nvPr/>
          </p:nvGraphicFramePr>
          <p:xfrm>
            <a:off x="719280" y="6191280"/>
            <a:ext cx="717480" cy="44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9280" y="6191280"/>
                      <a:ext cx="717480" cy="4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6760" y="914400"/>
            <a:ext cx="381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AvantGarde Md BT"/>
              </a:rPr>
              <a:t>PDM-I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deslogo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119240"/>
          </a:xfrm>
          <a:prstGeom prst="rect">
            <a:avLst/>
          </a:prstGeom>
          <a:ln w="0">
            <a:noFill/>
          </a:ln>
        </p:spPr>
      </p:pic>
      <p:pic>
        <p:nvPicPr>
          <p:cNvPr id="50" name="pdm-if" descr=""/>
          <p:cNvPicPr/>
          <p:nvPr/>
        </p:nvPicPr>
        <p:blipFill>
          <a:blip r:embed="rId2"/>
          <a:stretch/>
        </p:blipFill>
        <p:spPr>
          <a:xfrm>
            <a:off x="3478320" y="2666880"/>
            <a:ext cx="5742000" cy="268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7719840" y="1752480"/>
          <a:ext cx="1617840" cy="101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19840" y="1752480"/>
                    <a:ext cx="161784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65720" y="4800600"/>
            <a:ext cx="367092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Max Ungerer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PDM Implementor Foru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E-Mail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max.ungerer@prostep.com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WWW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pdm-if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91600" y="304920"/>
            <a:ext cx="39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SO TC184/SC4 Meeting San Di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2003-03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Plans for 2003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ccomplish use case driven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Get OEMs and supplier invol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Get more vendors invol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wo kinds of scenarios will be add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Common PDM data exchange test cas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Round trip scenario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ovide XML testing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Participation of PDTnet XML files in test rounds by step2xml, xml2step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Common Test Case Scenarios (1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Provide test suites which can be applied by a majority of PDM system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Show how systems can deal with the exchanged dat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rovide analysis and stat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dentify problems and provide sol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Test suite descriptio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Part21 files according to PDM Schem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Guidelines for fixing typical problems lik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ifferent schema names ('pdm_schema', 'automotive_design'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ifferent conventions for part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Common Test Case Scenarios (2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oposed Test su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990033"/>
                </a:solidFill>
                <a:latin typeface="Arial"/>
              </a:rPr>
              <a:t>Test Suite 1: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assembly structure with documen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990033"/>
                </a:solidFill>
                <a:latin typeface="Arial"/>
              </a:rPr>
              <a:t>Test Suite 2:</a:t>
            </a:r>
            <a:br>
              <a:rPr sz="2400"/>
            </a:b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single part with document structur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990033"/>
                </a:solidFill>
                <a:latin typeface="Arial"/>
              </a:rPr>
              <a:t>Test Suite 3:</a:t>
            </a:r>
            <a:br>
              <a:rPr sz="2400"/>
            </a:b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assembly and document structure including transformatio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44080" y="1752480"/>
            <a:ext cx="609480" cy="457200"/>
            <a:chOff x="8344080" y="1752480"/>
            <a:chExt cx="609480" cy="457200"/>
          </a:xfrm>
        </p:grpSpPr>
        <p:sp>
          <p:nvSpPr>
            <p:cNvPr id="62" name=""/>
            <p:cNvSpPr/>
            <p:nvPr/>
          </p:nvSpPr>
          <p:spPr>
            <a:xfrm flipH="1">
              <a:off x="8420040" y="182844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649000" y="182844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572680" y="17524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1280" y="20570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44080" y="20570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8305920" y="3352680"/>
            <a:ext cx="685800" cy="152640"/>
            <a:chOff x="8305920" y="3352680"/>
            <a:chExt cx="685800" cy="152640"/>
          </a:xfrm>
        </p:grpSpPr>
        <p:sp>
          <p:nvSpPr>
            <p:cNvPr id="68" name=""/>
            <p:cNvSpPr/>
            <p:nvPr/>
          </p:nvSpPr>
          <p:spPr>
            <a:xfrm>
              <a:off x="8305920" y="3352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457840" y="3429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39440" y="3352680"/>
              <a:ext cx="15228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8344080" y="4267080"/>
            <a:ext cx="609120" cy="838080"/>
            <a:chOff x="8344080" y="4267080"/>
            <a:chExt cx="609120" cy="838080"/>
          </a:xfrm>
        </p:grpSpPr>
        <p:sp>
          <p:nvSpPr>
            <p:cNvPr id="72" name=""/>
            <p:cNvSpPr/>
            <p:nvPr/>
          </p:nvSpPr>
          <p:spPr>
            <a:xfrm>
              <a:off x="8420040" y="47242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44080" y="49528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8420040" y="4343400"/>
              <a:ext cx="2282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648640" y="4343400"/>
              <a:ext cx="2282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572320" y="42670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80092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4408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877240" y="47242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00920" y="49528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Round Trip Scenarios (1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Dedicated tests between OEMs and suppliers to show engineering collaboration process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Involving pairs of systems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Test how STEP PDM data exchange for specific OEMs is working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Provide Test suite descriptio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Perform round trip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Round Trip Scenarios (2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14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EM provides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uppliers extends the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71600" y="2666880"/>
            <a:ext cx="1217160" cy="1066680"/>
            <a:chOff x="1371600" y="2666880"/>
            <a:chExt cx="1217160" cy="1066680"/>
          </a:xfrm>
        </p:grpSpPr>
        <p:grpSp>
          <p:nvGrpSpPr>
            <p:cNvPr id="86" name=""/>
            <p:cNvGrpSpPr/>
            <p:nvPr/>
          </p:nvGrpSpPr>
          <p:grpSpPr>
            <a:xfrm>
              <a:off x="1371600" y="3276360"/>
              <a:ext cx="990360" cy="457200"/>
              <a:chOff x="1371600" y="3276360"/>
              <a:chExt cx="990360" cy="457200"/>
            </a:xfrm>
          </p:grpSpPr>
          <p:sp>
            <p:nvSpPr>
              <p:cNvPr id="87" name=""/>
              <p:cNvSpPr/>
              <p:nvPr/>
            </p:nvSpPr>
            <p:spPr>
              <a:xfrm flipH="1">
                <a:off x="1828440" y="3352320"/>
                <a:ext cx="2286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57400" y="3352320"/>
                <a:ext cx="2286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81080" y="327636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09680" y="358092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447200" y="36572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71600" y="3580920"/>
                <a:ext cx="152280" cy="152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358092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1523880" y="2666880"/>
              <a:ext cx="106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f4e52"/>
                  </a:solidFill>
                  <a:latin typeface="Arial"/>
                </a:rPr>
                <a:t>O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5866920" y="3276720"/>
            <a:ext cx="2286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276720"/>
            <a:ext cx="2286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3200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486400" y="35812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3505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095520" y="365760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365760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3962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886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552720" y="3962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657600"/>
            <a:ext cx="1523880" cy="6858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22480" y="26668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f4e52"/>
                </a:solidFill>
                <a:latin typeface="Arial"/>
              </a:rPr>
              <a:t>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3841560" y="2100960"/>
            <a:ext cx="13320" cy="2667240"/>
          </a:xfrm>
          <a:prstGeom prst="curvedConnector5">
            <a:avLst>
              <a:gd name="adj1" fmla="val -2511111"/>
              <a:gd name="adj2" fmla="val 50000"/>
              <a:gd name="adj3" fmla="val -2511111"/>
            </a:avLst>
          </a:prstGeom>
          <a:ln w="38160">
            <a:solidFill>
              <a:srgbClr val="990033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 rot="16200000">
            <a:off x="3841560" y="2254320"/>
            <a:ext cx="13680" cy="2667240"/>
          </a:xfrm>
          <a:prstGeom prst="curvedConnector5">
            <a:avLst>
              <a:gd name="adj1" fmla="val 1886486"/>
              <a:gd name="adj2" fmla="val 50000"/>
              <a:gd name="adj3" fmla="val 1886486"/>
            </a:avLst>
          </a:prstGeom>
          <a:ln w="38160">
            <a:solidFill>
              <a:srgbClr val="990033"/>
            </a:solidFill>
            <a:miter/>
            <a:head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15920" y="4648320"/>
            <a:ext cx="95202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lexibility to extend the scenarios by OEM specific requirements, e.g. "supplied item relationship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Schedu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rch 2003: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mmunicate concept to vendors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Questionnaire and call for participation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ntact via users (DC, ContiTeves, .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pril 2003: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eeting to discuss concept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inalize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i 2003: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Kick-off Meeting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est suite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eptember 2003: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DM-IF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7T10:40:10Z</dcterms:created>
  <dc:creator>P. Huau</dc:creator>
  <dc:description/>
  <dc:language>en-US</dc:language>
  <cp:lastModifiedBy>Max Ungerer</cp:lastModifiedBy>
  <cp:lastPrinted>2000-07-20T09:09:04Z</cp:lastPrinted>
  <dcterms:modified xsi:type="dcterms:W3CDTF">2003-03-12T18:34:00Z</dcterms:modified>
  <cp:revision>217</cp:revision>
  <dc:subject/>
  <dc:title>PDM-IF Darmstadt 2002</dc:title>
</cp:coreProperties>
</file>