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056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095880" y="6245280"/>
            <a:ext cx="27432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7A3C3-E283-46CF-959B-13E3F236EDC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371600"/>
            <a:ext cx="9124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abf@nist.gov" TargetMode="External"/><Relationship Id="rId2" Type="http://schemas.openxmlformats.org/officeDocument/2006/relationships/hyperlink" Target="mailto:kobayasi@pu-toyama.ac.jp" TargetMode="External"/><Relationship Id="rId3" Type="http://schemas.openxmlformats.org/officeDocument/2006/relationships/hyperlink" Target="mailto:lothar.klein@lksoft.com" TargetMode="External"/><Relationship Id="rId4" Type="http://schemas.openxmlformats.org/officeDocument/2006/relationships/hyperlink" Target="mailto:bgischner@ebmail.gdeb.com" TargetMode="External"/><Relationship Id="rId5" Type="http://schemas.openxmlformats.org/officeDocument/2006/relationships/hyperlink" Target="mailto:mjones@ausdec.com.au" TargetMode="External"/><Relationship Id="rId6" Type="http://schemas.openxmlformats.org/officeDocument/2006/relationships/hyperlink" Target="mailto:kakuno_h@khi.co.jp" TargetMode="External"/><Relationship Id="rId7" Type="http://schemas.openxmlformats.org/officeDocument/2006/relationships/hyperlink" Target="mailto:ydkim@kriso.re.kr" TargetMode="External"/><Relationship Id="rId8" Type="http://schemas.openxmlformats.org/officeDocument/2006/relationships/hyperlink" Target="mailto:ronaldw@northropgrumman.com" TargetMode="External"/><Relationship Id="rId9" Type="http://schemas.openxmlformats.org/officeDocument/2006/relationships/hyperlink" Target="mailto:hardwick@steptools.com" TargetMode="External"/><Relationship Id="rId10" Type="http://schemas.openxmlformats.org/officeDocument/2006/relationships/hyperlink" Target="mailto:max.ungerer@prostep.com" TargetMode="External"/><Relationship Id="rId11" Type="http://schemas.openxmlformats.org/officeDocument/2006/relationships/hyperlink" Target="mailto:Nikolay.Shulga@spatial.com" TargetMode="External"/><Relationship Id="rId1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7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Implementors Foru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24638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tin Hardwi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 Tools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ch 12, 200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n Diego, US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220040" y="4332240"/>
            <a:ext cx="66182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jordomo E-mail exploder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tep-imp@steptools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ve at: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http://www.steptools.com/impfor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enda – Wednesday 10:30 – 17:0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0640" y="157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9000"/>
          </a:bodyPr>
          <a:p>
            <a:pPr marL="27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:30 – Implementation Forum repor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-203/214/212 CAX/IF PDM/IF ECAD/IF Review (Max Ungere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-210 Review (Lothar Klein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nslators for old softwa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unc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 after lunch with STEP-Manufacturing in Regency 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3:00 Comparison of ISO 14649 and AP-23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se for 14649 by the 14649 te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se for AP-238 by the AP-238 te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itions papers/statements by count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itions papers/statements by technical exper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ea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:30 Comparison continu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estions and answers from flo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mmary by 14649 te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mmary by AP-238 te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tenda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llison Barnard Feene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S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abf@nist.gov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azuya G. Kobayashi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yoma Prefectural Universit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 u="sng">
                <a:solidFill>
                  <a:srgbClr val="fc0128"/>
                </a:solidFill>
                <a:uFillTx/>
                <a:latin typeface="Arial"/>
                <a:hlinkClick r:id="rId2"/>
              </a:rPr>
              <a:t>kobayasi@pu-toyama.ac.j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thar Klei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KSof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 u="sng">
                <a:solidFill>
                  <a:srgbClr val="fc0128"/>
                </a:solidFill>
                <a:uFillTx/>
                <a:latin typeface="Arial"/>
                <a:hlinkClick r:id="rId3"/>
              </a:rPr>
              <a:t>lothar.klein@lksoft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rton Gischner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ectric Boa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 u="sng">
                <a:solidFill>
                  <a:srgbClr val="fc0128"/>
                </a:solidFill>
                <a:uFillTx/>
                <a:latin typeface="Arial"/>
                <a:hlinkClick r:id="rId4"/>
              </a:rPr>
              <a:t>bgischner@ebmail.gdeb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rtin Jone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SDEC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 u="sng">
                <a:solidFill>
                  <a:srgbClr val="fc0128"/>
                </a:solidFill>
                <a:uFillTx/>
                <a:latin typeface="Arial"/>
                <a:hlinkClick r:id="rId5"/>
              </a:rPr>
              <a:t>mjones@ausdec.com.au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royuki Kakuno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nic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 u="sng">
                <a:solidFill>
                  <a:srgbClr val="fc0128"/>
                </a:solidFill>
                <a:uFillTx/>
                <a:latin typeface="Arial"/>
                <a:hlinkClick r:id="rId6"/>
              </a:rPr>
              <a:t>kakuno_h@khi.co.j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ng-Dae  Kim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rtime STEP Laborator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 u="sng">
                <a:solidFill>
                  <a:srgbClr val="fc0128"/>
                </a:solidFill>
                <a:uFillTx/>
                <a:latin typeface="Arial"/>
                <a:hlinkClick r:id="rId7"/>
              </a:rPr>
              <a:t>ydkim@kriso.re.k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n Woo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rthrop Grumma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 u="sng">
                <a:solidFill>
                  <a:srgbClr val="fc0128"/>
                </a:solidFill>
                <a:uFillTx/>
                <a:latin typeface="Arial"/>
                <a:hlinkClick r:id="rId8"/>
              </a:rPr>
              <a:t>ronaldw@northropgrumman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rtin Hardwick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EP Tools, Inc.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 u="sng">
                <a:solidFill>
                  <a:srgbClr val="fc0128"/>
                </a:solidFill>
                <a:uFillTx/>
                <a:latin typeface="Arial"/>
                <a:hlinkClick r:id="rId9"/>
              </a:rPr>
              <a:t>hardwick@steptools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x Ungerer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STEP AG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 u="sng">
                <a:solidFill>
                  <a:srgbClr val="fc0128"/>
                </a:solidFill>
                <a:uFillTx/>
                <a:latin typeface="Arial"/>
                <a:hlinkClick r:id="rId10"/>
              </a:rPr>
              <a:t>max.ungerer@prostep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kolay Shulga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S Spatial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 u="sng">
                <a:solidFill>
                  <a:srgbClr val="fc0128"/>
                </a:solidFill>
                <a:uFillTx/>
                <a:latin typeface="Arial"/>
                <a:hlinkClick r:id="rId11"/>
              </a:rPr>
              <a:t>Nikolay.Shulga@spatial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ames Vicedomin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rthrop Grumma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vicedomine@northropgrumman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9T21:29:14Z</dcterms:created>
  <dc:creator>Larry McKee</dc:creator>
  <dc:description/>
  <dc:language>en-US</dc:language>
  <cp:lastModifiedBy>hardwick</cp:lastModifiedBy>
  <cp:lastPrinted>1999-11-03T02:14:05Z</cp:lastPrinted>
  <dcterms:modified xsi:type="dcterms:W3CDTF">2003-03-12T19:09:17Z</dcterms:modified>
  <cp:revision>132</cp:revision>
  <dc:subject/>
  <dc:title>Implementors Foru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larrym@us.ibm.com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stepimp\022000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