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7239000"/>
  <p:notesSz cx="21142325" cy="40690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794700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8560" y="3986640"/>
            <a:ext cx="794700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8560" y="398664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0880" y="398664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5240" y="101412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2280" y="101412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8560" y="398664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45240" y="398664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2280" y="398664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8560" y="1014120"/>
            <a:ext cx="7947000" cy="56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8180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794700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7760" y="281160"/>
            <a:ext cx="7958160" cy="17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8180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8560" y="398664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8560" y="1014120"/>
            <a:ext cx="7947000" cy="56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81807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30880" y="398664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8560" y="3986640"/>
            <a:ext cx="794700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794700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8560" y="3986640"/>
            <a:ext cx="794700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8560" y="398664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30880" y="398664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45240" y="101412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32280" y="101412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8560" y="398664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45240" y="398664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32280" y="3986640"/>
            <a:ext cx="25585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794700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7760" y="281160"/>
            <a:ext cx="7958160" cy="17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81807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8560" y="398664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0880" y="398664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856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0880" y="1014120"/>
            <a:ext cx="387792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8560" y="3986640"/>
            <a:ext cx="7947000" cy="2714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760" y="281160"/>
            <a:ext cx="7958160" cy="372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004e7b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014120"/>
            <a:ext cx="7947000" cy="5691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1001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43000">
              <a:spcBef>
                <a:spcPts val="1001"/>
              </a:spcBef>
              <a:buClr>
                <a:srgbClr val="ec3230"/>
              </a:buClr>
              <a:buFont typeface="Wingdings" charset="2"/>
              <a:buChar char="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8480" indent="-242640">
              <a:spcBef>
                <a:spcPts val="1001"/>
              </a:spcBef>
              <a:buClr>
                <a:srgbClr val="005b90"/>
              </a:buClr>
              <a:buFont typeface="Wingdings" charset="2"/>
              <a:buChar char="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2680" indent="-241200">
              <a:spcBef>
                <a:spcPts val="1001"/>
              </a:spcBef>
              <a:buClr>
                <a:srgbClr val="000000"/>
              </a:buClr>
              <a:buSzPct val="130000"/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182680" indent="-241200">
              <a:spcBef>
                <a:spcPts val="1001"/>
              </a:spcBef>
              <a:buClr>
                <a:srgbClr val="000000"/>
              </a:buClr>
              <a:buSzPct val="130000"/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182680" indent="-241200">
              <a:spcBef>
                <a:spcPts val="1001"/>
              </a:spcBef>
              <a:buClr>
                <a:srgbClr val="000000"/>
              </a:buClr>
              <a:buSzPct val="130000"/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629400" y="6834240"/>
            <a:ext cx="3124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de-DE" sz="800" spc="-1" strike="noStrike">
                <a:solidFill>
                  <a:srgbClr val="004e7b"/>
                </a:solidFill>
                <a:latin typeface="Arial"/>
              </a:rPr>
              <a:t>GUI-Protopye and requir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835D5765-E451-4831-B4FE-C906F5AD790A}" type="slidenum">
              <a:rPr b="1" lang="de-DE" sz="800" spc="-1" strike="noStrike">
                <a:solidFill>
                  <a:srgbClr val="004e7b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0"/>
            <a:ext cx="0" cy="723888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-11160" y="704880"/>
            <a:ext cx="9926640" cy="144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50080" y="6781680"/>
            <a:ext cx="215604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da_step_logo" descr=""/>
          <p:cNvPicPr/>
          <p:nvPr/>
        </p:nvPicPr>
        <p:blipFill>
          <a:blip r:embed="rId2"/>
          <a:stretch/>
        </p:blipFill>
        <p:spPr>
          <a:xfrm>
            <a:off x="8381880" y="71280"/>
            <a:ext cx="151452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525640"/>
            <a:ext cx="6330960" cy="373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004e7b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179360"/>
            <a:ext cx="915984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0960" y="-439560"/>
            <a:ext cx="0" cy="701172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da_step_logo_partner_rgb" descr=""/>
          <p:cNvPicPr/>
          <p:nvPr/>
        </p:nvPicPr>
        <p:blipFill>
          <a:blip r:embed="rId2"/>
          <a:stretch/>
        </p:blipFill>
        <p:spPr>
          <a:xfrm>
            <a:off x="7291440" y="233280"/>
            <a:ext cx="2590920" cy="871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8160" y="5002200"/>
            <a:ext cx="8056800" cy="144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76520" y="1219320"/>
          <a:ext cx="5562360" cy="39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219320"/>
                    <a:ext cx="556236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93800"/>
            <a:ext cx="891612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81807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81807f"/>
              </a:solidFill>
              <a:latin typeface="Arial"/>
            </a:endParaRPr>
          </a:p>
          <a:p>
            <a:pPr lvl="1" marL="485640" indent="0" algn="ctr">
              <a:spcBef>
                <a:spcPts val="876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9840" algn="ctr">
              <a:spcBef>
                <a:spcPts val="612"/>
              </a:spcBef>
              <a:buClr>
                <a:srgbClr val="ec3230"/>
              </a:buClr>
              <a:buFont typeface="Wingdings" charset="2"/>
              <a:buChar char=""/>
              <a:tabLst>
                <a:tab algn="l" pos="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55840" algn="ctr">
              <a:spcBef>
                <a:spcPts val="300"/>
              </a:spcBef>
              <a:buClr>
                <a:srgbClr val="005b90"/>
              </a:buClr>
              <a:buFont typeface="Wingdings" charset="2"/>
              <a:buChar char=""/>
              <a:tabLst>
                <a:tab algn="l" pos="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941480" algn="ctr">
              <a:spcBef>
                <a:spcPts val="300"/>
              </a:spcBef>
              <a:buClr>
                <a:srgbClr val="000000"/>
              </a:buClr>
              <a:buSzPct val="130000"/>
              <a:buFont typeface="Arial"/>
              <a:buChar char="–"/>
              <a:tabLst>
                <a:tab algn="l" pos="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941480">
              <a:spcBef>
                <a:spcPts val="300"/>
              </a:spcBef>
              <a:buClr>
                <a:srgbClr val="0000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941480">
              <a:spcBef>
                <a:spcPts val="300"/>
              </a:spcBef>
              <a:buClr>
                <a:srgbClr val="0000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34200" y="5000760"/>
            <a:ext cx="256860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Eva Miliunie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LKSoft</a:t>
            </a:r>
            <a:r>
              <a:rPr b="0" lang="de-DE" sz="1100" spc="-1" strike="noStrike">
                <a:solidFill>
                  <a:srgbClr val="808080"/>
                </a:solidFill>
                <a:latin typeface="Arial"/>
              </a:rPr>
              <a:t> Baltic UA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Lothar Kle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LKSoft</a:t>
            </a:r>
            <a:r>
              <a:rPr b="0" lang="de-DE" sz="1100" spc="-1" strike="noStrike">
                <a:solidFill>
                  <a:srgbClr val="808080"/>
                </a:solidFill>
                <a:latin typeface="Arial"/>
              </a:rPr>
              <a:t>Ware GmbH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4360" y="5072040"/>
            <a:ext cx="6318360" cy="403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2000" spc="-1" strike="noStrike">
                <a:solidFill>
                  <a:srgbClr val="004e7b"/>
                </a:solidFill>
                <a:latin typeface="Arial"/>
              </a:rPr>
              <a:t>Entwicklungsprojekt Forschung und Technologie</a:t>
            </a:r>
            <a:endParaRPr b="1" lang="en-US" sz="20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5967360"/>
            <a:ext cx="6330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81807f"/>
                </a:solidFill>
                <a:latin typeface="Arial"/>
              </a:rPr>
              <a:t>Integrierte verteilte Anwendungen auf der Basis von ST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197760"/>
            <a:ext cx="6330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de-DE" sz="1600" spc="-1" strike="noStrike">
                <a:solidFill>
                  <a:srgbClr val="81807f"/>
                </a:solidFill>
                <a:latin typeface="Arial"/>
              </a:rPr>
              <a:t>Integrated distributed Applications on the basis of ST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4720" y="5365080"/>
            <a:ext cx="63183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de-DE" sz="2000" spc="-1" strike="noStrike">
                <a:solidFill>
                  <a:srgbClr val="004e7b"/>
                </a:solidFill>
                <a:latin typeface="Arial"/>
              </a:rPr>
              <a:t>Research and developemen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8760" y="166680"/>
            <a:ext cx="36756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4e7b"/>
                </a:solidFill>
                <a:latin typeface="Arial"/>
              </a:rPr>
              <a:t>STEP AP212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02600" y="1247760"/>
            <a:ext cx="260352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81807f"/>
                </a:solidFill>
                <a:latin typeface="Arial"/>
              </a:rPr>
              <a:t>EPLAN 5 to </a:t>
            </a:r>
            <a:br>
              <a:rPr sz="1600"/>
            </a:br>
            <a:r>
              <a:rPr b="1" lang="de-DE" sz="1600" spc="-1" strike="noStrike">
                <a:solidFill>
                  <a:srgbClr val="81807f"/>
                </a:solidFill>
                <a:latin typeface="Arial"/>
              </a:rPr>
              <a:t>AP212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81807f"/>
                </a:solidFill>
                <a:latin typeface="Arial"/>
              </a:rPr>
              <a:t>STEP-Book AP212 (vie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75000" y="961920"/>
            <a:ext cx="2613240" cy="696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erminal" descr=""/>
          <p:cNvPicPr/>
          <p:nvPr/>
        </p:nvPicPr>
        <p:blipFill>
          <a:blip r:embed="rId1"/>
          <a:stretch/>
        </p:blipFill>
        <p:spPr>
          <a:xfrm>
            <a:off x="468360" y="1082520"/>
            <a:ext cx="623412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3560" y="718920"/>
            <a:ext cx="8923320" cy="696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onnection" descr=""/>
          <p:cNvPicPr/>
          <p:nvPr/>
        </p:nvPicPr>
        <p:blipFill>
          <a:blip r:embed="rId1"/>
          <a:stretch/>
        </p:blipFill>
        <p:spPr>
          <a:xfrm>
            <a:off x="285840" y="1411200"/>
            <a:ext cx="70992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560" y="718920"/>
            <a:ext cx="8923320" cy="696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awing she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drawingSheet" descr=""/>
          <p:cNvPicPr/>
          <p:nvPr/>
        </p:nvPicPr>
        <p:blipFill>
          <a:blip r:embed="rId1"/>
          <a:stretch/>
        </p:blipFill>
        <p:spPr>
          <a:xfrm>
            <a:off x="1012680" y="1338120"/>
            <a:ext cx="62294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3560" y="718920"/>
            <a:ext cx="8923320" cy="696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eral class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general_classification" descr=""/>
          <p:cNvPicPr/>
          <p:nvPr/>
        </p:nvPicPr>
        <p:blipFill>
          <a:blip r:embed="rId1"/>
          <a:stretch/>
        </p:blipFill>
        <p:spPr>
          <a:xfrm>
            <a:off x="339840" y="1468440"/>
            <a:ext cx="7037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9840" y="790560"/>
            <a:ext cx="8923320" cy="696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document_structure" descr=""/>
          <p:cNvPicPr/>
          <p:nvPr/>
        </p:nvPicPr>
        <p:blipFill>
          <a:blip r:embed="rId1"/>
          <a:stretch/>
        </p:blipFill>
        <p:spPr>
          <a:xfrm>
            <a:off x="385920" y="1333440"/>
            <a:ext cx="7037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GB" sz="2400" spc="-1" strike="noStrike">
                <a:solidFill>
                  <a:srgbClr val="004e7b"/>
                </a:solidFill>
                <a:latin typeface="Arial"/>
              </a:rPr>
              <a:t>EPLAN5 </a:t>
            </a: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to AP212 </a:t>
            </a:r>
            <a:r>
              <a:rPr b="1" lang="en-GB" sz="2400" spc="-1" strike="noStrike">
                <a:solidFill>
                  <a:srgbClr val="004e7b"/>
                </a:solidFill>
                <a:latin typeface="Arial"/>
              </a:rPr>
              <a:t>converter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8560" y="1014480"/>
            <a:ext cx="7947000" cy="5735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hysical hierarch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hysical connectiv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mbols &amp; schematic diagr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C:java.exe -cp </a:t>
            </a:r>
            <a:r>
              <a:rPr b="1" i="1" lang="de-DE" sz="1600" spc="-1" strike="noStrike">
                <a:solidFill>
                  <a:srgbClr val="000000"/>
                </a:solidFill>
                <a:latin typeface="MS Sans Serif"/>
              </a:rPr>
              <a:t>... </a:t>
            </a: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jsdaix.AP212.converter.Eplan5Export.Converter_Eplan5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EPLAN5 to AP212 converter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(c) Copyright LKSoftWare Gmb</a:t>
            </a:r>
            <a:r>
              <a:rPr b="1" i="1" lang="de-DE" sz="1600" spc="-1" strike="noStrike">
                <a:solidFill>
                  <a:srgbClr val="000000"/>
                </a:solidFill>
                <a:latin typeface="MS Sans Serif"/>
              </a:rPr>
              <a:t>H</a:t>
            </a: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 2003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EXT file name c:\EPLAN4\myExports\EPL_ASC.EXF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EXP file directory c:\EPLAN4\myExports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Symbol file directory c:\EPLAN4\myExports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Part management file c:\EPLAN4\myExports\AAA.TXT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AIM output file ConvertedData_AIM.stp</a:t>
            </a:r>
            <a:br>
              <a:rPr sz="1600"/>
            </a:br>
            <a:r>
              <a:rPr b="1" i="1" lang="de-DE" sz="1600" spc="-1" strike="noStrike">
                <a:solidFill>
                  <a:srgbClr val="000000"/>
                </a:solidFill>
                <a:latin typeface="MS Sans Serif"/>
              </a:rPr>
              <a:t>(</a:t>
            </a: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ARM output file ConvertedData_ARM.stp</a:t>
            </a:r>
            <a:r>
              <a:rPr b="1" i="1" lang="de-DE" sz="1600" spc="-1" strike="noStrike">
                <a:solidFill>
                  <a:srgbClr val="000000"/>
                </a:solidFill>
                <a:latin typeface="MS Sans Serif"/>
              </a:rPr>
              <a:t>)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# of items 76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# of devices 156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# of connections 15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# of pages 47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# of instances 10842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MS Sans Serif"/>
              </a:rPr>
              <a:t>Convert time: 29 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3560" y="719280"/>
            <a:ext cx="9551880" cy="5502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sed on the generic STEP-Book eng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UI defined by XML, easy to customiz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mod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43000">
              <a:spcBef>
                <a:spcPts val="612"/>
              </a:spcBef>
              <a:buClr>
                <a:srgbClr val="ec3230"/>
              </a:buClr>
              <a:buFont typeface="Wingdings" charset="2"/>
              <a:buChar char="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43000">
              <a:spcBef>
                <a:spcPts val="612"/>
              </a:spcBef>
              <a:buClr>
                <a:srgbClr val="ec3230"/>
              </a:buClr>
              <a:buFont typeface="Wingdings" charset="2"/>
              <a:buChar char="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hick Client - Server with "applet" via HTTP protoc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43000">
              <a:spcBef>
                <a:spcPts val="612"/>
              </a:spcBef>
              <a:buClr>
                <a:srgbClr val="ec3230"/>
              </a:buClr>
              <a:buFont typeface="Wingdings" charset="2"/>
              <a:buChar char="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hin Client - Server based on HTML 4.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us: proto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cal assembly stru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sical connectivity stru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cumentation stru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sic schematic diagrams and symb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inking of schematics with physical stru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 PDM detai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03480">
              <a:spcBef>
                <a:spcPts val="876"/>
              </a:spcBef>
              <a:buClr>
                <a:srgbClr val="004e7b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diting of connectivity stru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>
              <a:spcBef>
                <a:spcPts val="87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3560" y="718920"/>
            <a:ext cx="8923320" cy="696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tem" descr=""/>
          <p:cNvPicPr/>
          <p:nvPr/>
        </p:nvPicPr>
        <p:blipFill>
          <a:blip r:embed="rId1"/>
          <a:stretch/>
        </p:blipFill>
        <p:spPr>
          <a:xfrm>
            <a:off x="316080" y="1382760"/>
            <a:ext cx="761508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46560" y="1023840"/>
            <a:ext cx="2792520" cy="696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rganization" descr=""/>
          <p:cNvPicPr/>
          <p:nvPr/>
        </p:nvPicPr>
        <p:blipFill>
          <a:blip r:embed="rId1"/>
          <a:stretch/>
        </p:blipFill>
        <p:spPr>
          <a:xfrm>
            <a:off x="396720" y="903240"/>
            <a:ext cx="64231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3560" y="718920"/>
            <a:ext cx="8923320" cy="696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cific item class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specific_item_classification" descr=""/>
          <p:cNvPicPr/>
          <p:nvPr/>
        </p:nvPicPr>
        <p:blipFill>
          <a:blip r:embed="rId1"/>
          <a:stretch/>
        </p:blipFill>
        <p:spPr>
          <a:xfrm>
            <a:off x="460440" y="2251080"/>
            <a:ext cx="6699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0" y="1042920"/>
            <a:ext cx="2791080" cy="696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assembly" descr=""/>
          <p:cNvPicPr/>
          <p:nvPr/>
        </p:nvPicPr>
        <p:blipFill>
          <a:blip r:embed="rId1"/>
          <a:stretch/>
        </p:blipFill>
        <p:spPr>
          <a:xfrm>
            <a:off x="414360" y="901800"/>
            <a:ext cx="644508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50200" y="1033560"/>
            <a:ext cx="3355920" cy="696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face termi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nterface_terminal" descr=""/>
          <p:cNvPicPr/>
          <p:nvPr/>
        </p:nvPicPr>
        <p:blipFill>
          <a:blip r:embed="rId1"/>
          <a:stretch/>
        </p:blipFill>
        <p:spPr>
          <a:xfrm>
            <a:off x="460440" y="1339920"/>
            <a:ext cx="60102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7760" y="190440"/>
            <a:ext cx="7958160" cy="463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2400" spc="-1" strike="noStrike">
                <a:solidFill>
                  <a:srgbClr val="004e7b"/>
                </a:solidFill>
                <a:latin typeface="Arial"/>
              </a:rPr>
              <a:t>STEP-Book AP212</a:t>
            </a:r>
            <a:endParaRPr b="1" lang="en-US" sz="2400" spc="-1" strike="noStrike">
              <a:solidFill>
                <a:srgbClr val="004e7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02120" y="1006560"/>
            <a:ext cx="2303640" cy="696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ec3230"/>
              </a:buClr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device" descr=""/>
          <p:cNvPicPr/>
          <p:nvPr/>
        </p:nvPicPr>
        <p:blipFill>
          <a:blip r:embed="rId1"/>
          <a:stretch/>
        </p:blipFill>
        <p:spPr>
          <a:xfrm>
            <a:off x="303120" y="868320"/>
            <a:ext cx="691668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12:03Z</dcterms:created>
  <dc:creator>pcadmin</dc:creator>
  <dc:description/>
  <dc:language>en-US</dc:language>
  <cp:lastModifiedBy>lothar</cp:lastModifiedBy>
  <cp:lastPrinted>2003-02-02T22:27:05Z</cp:lastPrinted>
  <dcterms:modified xsi:type="dcterms:W3CDTF">2003-03-12T19:44:05Z</dcterms:modified>
  <cp:revision>65</cp:revision>
  <dc:subject/>
  <dc:title>Kein Folientitel</dc:title>
</cp:coreProperties>
</file>