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548D-6682-4ECD-80E8-41B1954AA1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ors For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463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14,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 Diego, 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20040" y="4332240"/>
            <a:ext cx="6618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domo E-mail explode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ep-imp@steptool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e at: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http://www.steptools.com/imp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– Wednesday 10:30 – 17: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0640" y="157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:30 – Implementation Forum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3/214/212 CAX/IF PDM/IF ECAD/IF Review (Max Unger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10 Review (Lothar Klei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lators for old softwa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after lunch with STEP-Manufacturing in Regency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:00 Comparison of ISO 14649 and AP-23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for 14649 by the 14649 te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for AP-238 by the AP-238 te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s papers/statements by count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s papers/statements by technical expe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:30 Comparison continu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stions and answers from flo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y by 14649 te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y by AP-238 te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lution of Implementation Iss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4 team to investigate dividing AP-238 into conformance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1 SC1 business ca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2 SC4 business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1 team to investigate use of STIX library for converting ARM implementation to AI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back in Stuttg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s for Stuttg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sion on XML Implementations of 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or without Part 2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backs from testing foru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-NC (CAM to CNC data exchan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IndeX (STIX) library demonst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 Controller demonstratio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 demonst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3-03-14T16:12:04Z</dcterms:modified>
  <cp:revision>137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