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70C-6135-46ED-A2B0-25631497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74E-2E54-4E82-94C7-8B2E4F67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579-4E93-4AB5-8D2E-564638D7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BC0-9CF0-4BC1-B6D2-250894F4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443C-D024-4D32-B8A9-B9A8F37A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4075-CD59-4273-B5A5-6DD5D40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6115-0307-4569-942A-35D6F4D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9E43-4896-47A5-AC7D-F0FA80B9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0E00-E1F6-4C43-B0F5-B65E6E56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DDB-0883-4130-8B18-EB6D6EB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D71B-D1E2-43B6-986A-75DEE74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B72-7D3D-4D58-91D0-2406424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953F-DE6A-4AC9-BFDD-F7FA8CB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F30F-A15E-4DED-B901-85C75C2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6C9-B302-4849-8D6C-545AAA2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B47-5CAF-41BA-8E0C-535172E6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BA2-C2A6-44D5-89F2-C08AFEAB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D0E-EB30-49E4-8FBE-CF4EB55A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6F8-44EA-46E9-8BF4-7A27C40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1F3-2C07-447D-B31D-E95986E0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CB2-0D47-414C-A5FD-D2B6C3D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493-A068-4035-BB41-CB42442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72C-0EFE-49F3-89EE-994E3DAB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328-E950-4490-9389-5E7778E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4E0-1F67-47CF-ADB6-63D1D729387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40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41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3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31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0A2-E4B8-475C-87E3-E255DF2D85F6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Main Products considered in AP210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192240" y="3429000"/>
            <a:ext cx="1638000" cy="9255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3313080"/>
            <a:ext cx="1465560" cy="811080"/>
          </a:xfrm>
          <a:prstGeom prst="rect">
            <a:avLst/>
          </a:prstGeom>
          <a:solidFill>
            <a:srgbClr val="00990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3295800" y="3544920"/>
            <a:ext cx="1466640" cy="809640"/>
          </a:xfrm>
          <a:prstGeom prst="rect">
            <a:avLst/>
          </a:prstGeom>
          <a:solidFill>
            <a:srgbClr val="00990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3468600" y="3776760"/>
            <a:ext cx="1467000" cy="809640"/>
          </a:xfrm>
          <a:prstGeom prst="rect">
            <a:avLst/>
          </a:prstGeom>
          <a:solidFill>
            <a:srgbClr val="00990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4330800" y="3892680"/>
            <a:ext cx="431640" cy="115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4330800" y="4124160"/>
            <a:ext cx="431640" cy="115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4330800" y="4354560"/>
            <a:ext cx="431640" cy="115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3641760" y="3892680"/>
            <a:ext cx="171360" cy="231480"/>
          </a:xfrm>
          <a:prstGeom prst="ellipse">
            <a:avLst/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3813120" y="4240080"/>
            <a:ext cx="173160" cy="230400"/>
          </a:xfrm>
          <a:prstGeom prst="ellipse">
            <a:avLst/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6918480" y="3429000"/>
            <a:ext cx="431640" cy="34776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5029200"/>
            <a:ext cx="1466640" cy="809640"/>
          </a:xfrm>
          <a:prstGeom prst="rect">
            <a:avLst/>
          </a:prstGeom>
          <a:solidFill>
            <a:srgbClr val="f5cddf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91520" y="21798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Times New Roman"/>
              </a:rPr>
              <a:t>Electronic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Product Enclosure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7183080" y="53229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Package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8478720" y="4637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Die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6040080" y="2960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Packaged Part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401920" y="278604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Printed Circuit Assemblies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7435800" y="4818240"/>
            <a:ext cx="432000" cy="3474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8629560" y="4332240"/>
            <a:ext cx="173160" cy="11448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7410240" y="3722400"/>
            <a:ext cx="11430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7264080" y="3892320"/>
            <a:ext cx="344520" cy="8096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935600" y="4470120"/>
            <a:ext cx="861840" cy="579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935240" y="3660840"/>
            <a:ext cx="1896840" cy="4633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916280" y="4008240"/>
            <a:ext cx="1552320" cy="34596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916280" y="3776760"/>
            <a:ext cx="1379520" cy="115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915920" y="3429000"/>
            <a:ext cx="1207800" cy="115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010840" y="6095880"/>
            <a:ext cx="21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Interconnect </a:t>
            </a:r>
            <a:r>
              <a:rPr b="1" lang="de-DE" sz="1800" spc="-1" strike="noStrike">
                <a:solidFill>
                  <a:srgbClr val="333333"/>
                </a:solidFill>
                <a:latin typeface="Times New Roman"/>
              </a:rPr>
              <a:t> (PCB)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Substrate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3751920" y="5533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Die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4008600" y="5397480"/>
            <a:ext cx="171360" cy="11448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641760" y="4586040"/>
            <a:ext cx="279360" cy="695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3576600" y="4354560"/>
            <a:ext cx="173160" cy="1159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5181480"/>
            <a:ext cx="1467000" cy="809640"/>
          </a:xfrm>
          <a:prstGeom prst="rect">
            <a:avLst/>
          </a:prstGeom>
          <a:solidFill>
            <a:srgbClr val="f5cddf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5334120"/>
            <a:ext cx="1467000" cy="809640"/>
          </a:xfrm>
          <a:prstGeom prst="rect">
            <a:avLst/>
          </a:prstGeom>
          <a:solidFill>
            <a:srgbClr val="f5cddf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STEP-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Book</a:t>
            </a: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 AP210</a:t>
            </a:r>
            <a:br>
              <a:rPr sz="4400"/>
            </a:b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a viewer for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DM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CB, PCA views (both Usage and Design view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unctional view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arts, Packag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unctional and physical networks, connectivity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emplates, components, featu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echnologies (passage, stratum, manufacturing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09240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STEP-Book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P210</a:t>
            </a:r>
            <a:br>
              <a:rPr sz="4400"/>
            </a:b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(continue)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Material characteristic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2D and 3D geometry (relationship between 2D and 3D designs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Passages (plated, unplated, blind etc.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Rules, requirement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nalytical model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</a:t>
            </a: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xport PCB data to the GERBER format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6" name="TutorCPU2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093840" cy="18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STEP-Book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P210 (continue)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0" name="TutorCPU_StratumTec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P210 </a:t>
            </a: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CircuitCAM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onverte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0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563440" y="43876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33"/>
                </a:solidFill>
                <a:latin typeface="Times New Roman"/>
              </a:rPr>
              <a:t>www.LPKF.de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AGLE &lt;-&gt; AP210</a:t>
            </a: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 converte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AGL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is 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a PCB/PCA Cad System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CadSoft Computer GmbH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Low cost, a share-ware version is availabl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More than 30,000 users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AP210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onverter 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is based on th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JSDAI API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-directional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 + EAGLE librari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AGLE &lt;-&gt; AP210 (continue)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Combined PCB and PCA information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Functional networks, thermal reliefs lands,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constraint areas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Includes connectivity checker/converter, assuring the integrity of all the connectivity information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</a:t>
            </a:r>
            <a:r>
              <a:rPr b="0" lang="en-GB" sz="3200" spc="-1" strike="noStrike">
                <a:solidFill>
                  <a:srgbClr val="333333"/>
                </a:solidFill>
                <a:latin typeface="Arial Narrow"/>
              </a:rPr>
              <a:t>ulti-layer stack-ups (stratums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ree web service </a:t>
            </a:r>
            <a:r>
              <a:rPr b="0" lang="de-DE" sz="3200" spc="-1" strike="noStrike">
                <a:solidFill>
                  <a:srgbClr val="333333"/>
                </a:solidFill>
                <a:latin typeface="Arial Narrow"/>
              </a:rPr>
              <a:t>will b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established for conversion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AGLE &lt;-&gt; AP210 (continue)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040200" cy="1285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2936880" cy="1293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3014640" cy="127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971800" cy="127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4300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AGL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210 (PCB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5562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210 (PCA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5562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erber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3581280"/>
            <a:ext cx="0" cy="76212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2895480"/>
            <a:ext cx="533520" cy="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3581280"/>
            <a:ext cx="0" cy="76212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VHDL &lt;-&gt; AP210 </a:t>
            </a:r>
            <a:r>
              <a:rPr b="0" lang="de-DE" sz="4400" spc="-1" strike="noStrike">
                <a:solidFill>
                  <a:srgbClr val="007572"/>
                </a:solidFill>
                <a:latin typeface="Arial Narrow"/>
              </a:rPr>
              <a:t>converter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(prototype)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 flipH="1" rot="10800000">
            <a:off x="762120" y="1371240"/>
            <a:ext cx="2171520" cy="1979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523880" y="3809880"/>
            <a:ext cx="1524240" cy="129564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1295280"/>
            <a:ext cx="5181480" cy="213372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543800" y="0"/>
          <a:ext cx="160020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0"/>
                    <a:ext cx="1600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3276720" y="3733920"/>
            <a:ext cx="5638680" cy="2898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048120" y="1295280"/>
            <a:ext cx="3124080" cy="342900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ENTITY simple IS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PORT  (a,b,c,d:IN BIT; g: OUT BIT)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ENDsimple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ARCHITECTURE structural OF simple IS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COMPONENT nand_gate 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PORT (a,b : IN BIT; y : OUT BIT); 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END COMPONENT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SIGNAL e,f : BIT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g1:nand_gate PORT MAP(a,b,e)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g2:nand_gate PORT MAP(c,d,f)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g3:nand_gate PORT MAP(e,f,g)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ourier New"/>
              </a:rPr>
              <a:t>ENDstructural;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07:34Z</dcterms:created>
  <dc:creator>Giedrius Liutkus</dc:creator>
  <dc:description/>
  <dc:language>en-US</dc:language>
  <cp:lastModifiedBy>lothar</cp:lastModifiedBy>
  <dcterms:modified xsi:type="dcterms:W3CDTF">2002-02-27T19:18:40Z</dcterms:modified>
  <cp:revision>47</cp:revision>
  <dc:subject/>
  <dc:title>AP 210 Overview</dc:title>
</cp:coreProperties>
</file>