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3360" y="283572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60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992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684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336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992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684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8400" y="255240"/>
            <a:ext cx="1336680" cy="61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60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22120" y="133200"/>
            <a:ext cx="25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637680" y="247680"/>
            <a:ext cx="238896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4320" y="692280"/>
            <a:ext cx="87883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78840" y="6575400"/>
            <a:ext cx="949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633A126-7E17-4284-AEE6-0AFD113D92C7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625920" y="6575400"/>
            <a:ext cx="1906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Copyright 2002 — STEP Tools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723840" y="1751760"/>
            <a:ext cx="514044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Parts with Multiple Shap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4760" y="311040"/>
            <a:ext cx="25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49200" y="374760"/>
            <a:ext cx="2838600" cy="6146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4293000" y="3065400"/>
            <a:ext cx="3827880" cy="31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6 River Street, Troy, NY 121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18) 687-2848 / (518) 687-4420 f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steptool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45036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Current Cap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7769160" cy="284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in a STEP file, a part can have multiple shape represen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scenarios supported by today’s CAD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ernate or equivalent shape represent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id OR Wireframe OR 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 shape is defined by the un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id AND Wireframe AND 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21495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Scenari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808440" cy="3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e Shapes (O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4080" y="1227240"/>
            <a:ext cx="3808440" cy="3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e Shapes (AN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400" y="1687680"/>
            <a:ext cx="3524400" cy="4790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19520" y="1574640"/>
            <a:ext cx="342900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26240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bility desi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401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e vie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rt has multiple shap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shape represents a different view of the pa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ually based on the engineering discipline or life cycle st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to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cate the design, fabrication, and manufacturing models to your suppli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with current implementations you end up with an overlay probl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25192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877680"/>
            <a:ext cx="7769160" cy="285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view is defined by a product_definition inst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product_definition_context to define the life cycle st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CAD systems support thi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is capability supported by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 23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M Sche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s?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094360" y="4498920"/>
            <a:ext cx="590400" cy="1847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269040" y="4500720"/>
            <a:ext cx="590400" cy="1847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7439040" y="4514760"/>
            <a:ext cx="590400" cy="1847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H="1" flipV="1">
            <a:off x="5380200" y="4096800"/>
            <a:ext cx="17280" cy="390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6536880" y="4119120"/>
            <a:ext cx="1800" cy="39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7710120" y="4100400"/>
            <a:ext cx="17640" cy="408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186600" y="2062080"/>
            <a:ext cx="609480" cy="1200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5062680" y="3602160"/>
            <a:ext cx="599760" cy="514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6237360" y="3603600"/>
            <a:ext cx="600120" cy="514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7408800" y="3605040"/>
            <a:ext cx="600120" cy="514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flipV="1">
            <a:off x="5380200" y="3249720"/>
            <a:ext cx="823680" cy="35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6756480" y="3225600"/>
            <a:ext cx="954000" cy="392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513480" y="3260880"/>
            <a:ext cx="1800" cy="349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159000" y="3624120"/>
            <a:ext cx="1204920" cy="538200"/>
            <a:chOff x="3159000" y="3624120"/>
            <a:chExt cx="1204920" cy="538200"/>
          </a:xfrm>
        </p:grpSpPr>
        <p:sp>
          <p:nvSpPr>
            <p:cNvPr id="72" name=""/>
            <p:cNvSpPr/>
            <p:nvPr/>
          </p:nvSpPr>
          <p:spPr>
            <a:xfrm>
              <a:off x="3207960" y="3624120"/>
              <a:ext cx="1098720" cy="538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159000" y="3787920"/>
              <a:ext cx="12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od def conte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 flipH="1">
            <a:off x="4304880" y="3848040"/>
            <a:ext cx="739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00280" y="4164120"/>
            <a:ext cx="0" cy="515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51320" y="4654440"/>
            <a:ext cx="88920" cy="88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08920" y="4276800"/>
            <a:ext cx="114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fe_cycle_st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28T19:57:34Z</dcterms:created>
  <dc:creator>David Loffredo</dc:creator>
  <dc:description/>
  <dc:language>en-US</dc:language>
  <cp:lastModifiedBy>Blair R. Downie</cp:lastModifiedBy>
  <cp:lastPrinted>1996-02-28T13:41:35Z</cp:lastPrinted>
  <dcterms:modified xsi:type="dcterms:W3CDTF">2002-03-07T19:19:50Z</dcterms:modified>
  <cp:revision>343</cp:revision>
  <dc:subject/>
  <dc:title>STEP-NC: E-Manufacturing using STEP</dc:title>
</cp:coreProperties>
</file>