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2B89-4A68-49FB-AAB7-FD824E3D06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al Data Implementors Foru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tep-imp@steptools.c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ve at: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http://www.steptools.com/imp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1, 20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rtle Beach, South Carol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fmain" descr=""/>
          <p:cNvPicPr/>
          <p:nvPr/>
        </p:nvPicPr>
        <p:blipFill>
          <a:blip r:embed="rId1"/>
          <a:stretch/>
        </p:blipFill>
        <p:spPr>
          <a:xfrm>
            <a:off x="647640" y="293760"/>
            <a:ext cx="80010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– Wednesday 10:30 – 17: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9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:30 – ESTEP Ship demonstrations (T2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5, AP-216, AP-218, AP-22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Issue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0 Review (Lothar Kle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03/214 CAX/IF Review (Phil Rosche &amp; Max Unger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ing the master shape for AP-203 (Blair Down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Demonst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 Siemens/TU Aachen demonstration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A Super Model Project demon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ss AMT EDM de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rea STEP-NC demon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DML RAMP Evaluation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Sha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data is becoming more compl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pplication Protocols being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mplex data sets being exchan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with multiple alternative sha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defined by AP’s not directly supported by the reading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containing a lot of information where some of the data is of special importance to the sen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gestion to CAX/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methods to allow the sender of STEP data to tag the important/preferred/default sha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2-03-01T13:09:28Z</dcterms:modified>
  <cp:revision>132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