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482E-3C81-4C7A-AB17-16EA73669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74400" y="12960"/>
            <a:ext cx="7792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5960" y="1143000"/>
            <a:ext cx="8915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75960" y="4048560"/>
            <a:ext cx="8915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2A3D-1DF0-4651-9E14-C38868B4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74400" y="12960"/>
            <a:ext cx="7792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960" y="114300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4360" y="114300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5960" y="404856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4360" y="404856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2EE0-9B70-49F9-92D4-E874E7A80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4400" y="12960"/>
            <a:ext cx="7792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960" y="1143000"/>
            <a:ext cx="287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090600" y="1143000"/>
            <a:ext cx="287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05240" y="1143000"/>
            <a:ext cx="287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75960" y="4048560"/>
            <a:ext cx="287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090600" y="4048560"/>
            <a:ext cx="287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05240" y="4048560"/>
            <a:ext cx="287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D01A-1DF6-4937-9F84-D8FF7E5E5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43CF-28B2-498B-BDB4-CE7CF9481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4400" y="12960"/>
            <a:ext cx="7792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75960" y="114300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E971-7030-4280-8478-94B54BDA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4400" y="12960"/>
            <a:ext cx="7792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5960" y="114300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C938-0FE0-4386-A609-B7131CE5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4400" y="12960"/>
            <a:ext cx="7792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960" y="1143000"/>
            <a:ext cx="4350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4360" y="1143000"/>
            <a:ext cx="4350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F1D0-7C3A-4941-9A88-CF0FAC65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4400" y="12960"/>
            <a:ext cx="7792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2385-50AD-4750-B630-96247BAE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274400" y="76320"/>
            <a:ext cx="77929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D9FC-7B91-450C-AB11-AE8FD9B7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74400" y="12960"/>
            <a:ext cx="7792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960" y="114300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4360" y="1143000"/>
            <a:ext cx="4350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5960" y="404856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85FA-A04B-4B03-9660-36672716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4400" y="12960"/>
            <a:ext cx="7792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75960" y="114300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19F2-ADF2-4FF1-9E83-5AAEF2CE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74400" y="12960"/>
            <a:ext cx="7792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5960" y="1143000"/>
            <a:ext cx="4350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4360" y="114300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44360" y="404856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9316-0F6D-4C7E-AB05-54F21A4A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4400" y="12960"/>
            <a:ext cx="7792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960" y="114300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4360" y="114300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5960" y="4048560"/>
            <a:ext cx="8915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96C8C-CF4A-4C32-AAAF-B3864A45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4400" y="12960"/>
            <a:ext cx="7792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5960" y="1143000"/>
            <a:ext cx="8915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75960" y="4048560"/>
            <a:ext cx="8915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846C-BB3C-42C3-89C7-99D3596B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74400" y="12960"/>
            <a:ext cx="7792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960" y="114300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4360" y="114300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5960" y="404856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44360" y="404856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EE2C-F402-48E9-BF62-A7D8FFEF5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74400" y="12960"/>
            <a:ext cx="7792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5960" y="1143000"/>
            <a:ext cx="287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090600" y="1143000"/>
            <a:ext cx="287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05240" y="1143000"/>
            <a:ext cx="287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75960" y="4048560"/>
            <a:ext cx="287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090600" y="4048560"/>
            <a:ext cx="287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05240" y="4048560"/>
            <a:ext cx="287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C181-1BDD-43A6-99CC-0684FC47F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4400" y="12960"/>
            <a:ext cx="7792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960" y="114300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E36A-18EE-4D9D-9A9F-483907C8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74400" y="12960"/>
            <a:ext cx="7792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960" y="1143000"/>
            <a:ext cx="4350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4360" y="1143000"/>
            <a:ext cx="4350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E624-3988-4DB6-AA7F-FF3FDA29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4400" y="12960"/>
            <a:ext cx="7792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B90B-ED88-46FD-B96A-06D05D8F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74400" y="76320"/>
            <a:ext cx="77929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44B7-1605-45A7-B90C-E74C7470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74400" y="12960"/>
            <a:ext cx="7792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960" y="114300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4360" y="1143000"/>
            <a:ext cx="4350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5960" y="404856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B762-4A49-42D1-8884-C890B73A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74400" y="12960"/>
            <a:ext cx="7792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960" y="1143000"/>
            <a:ext cx="4350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4360" y="114300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4360" y="404856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D3D6-01C2-4E99-8AC8-0294179B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4400" y="12960"/>
            <a:ext cx="7792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960" y="114300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4360" y="114300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960" y="4048560"/>
            <a:ext cx="8915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9639-1086-4681-A81A-08119E34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6668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6668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58896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58896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515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036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849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4400" y="76320"/>
            <a:ext cx="7792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75960" y="114300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3B27-730D-453F-AB93-63F4E3E0DE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79B1-6022-4D61-B376-98A15375C0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C:\Program Files\Real\RealPlayer\realplay.exe C:\Documents and Settings\smithg\Desktop\package.ram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ummary of STEP for Electronics Activitie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or Spring 2002 ISO Meeting - Myrtle Beach, SC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tributo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thar Klein – LKSoftwa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m Thurman – Rockwell-Coll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g Smith/Mike Keenan – Boe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ssell Peak – Georgia Te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495680" y="1533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2133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213372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153360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533520"/>
            <a:ext cx="7792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ummary of Ongoing Activities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lated to STEP for Electronics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1066680"/>
            <a:ext cx="32004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EP Electro-Mechanical Activ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1762200"/>
            <a:ext cx="167652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andards Development and Deploy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2676600"/>
            <a:ext cx="167652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210, AP210, AP2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3362400"/>
            <a:ext cx="16765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dvoc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2286000"/>
            <a:ext cx="167652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ibility Analysis (DFM) (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8320" y="3714840"/>
            <a:ext cx="16761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210 Viewer (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2971800"/>
            <a:ext cx="167652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F/AP210 Conversion (R/B/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5492880"/>
            <a:ext cx="167652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WA/PWB Stackup (GT/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3886200"/>
            <a:ext cx="167652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EP Repository (GT/N/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2994120"/>
            <a:ext cx="167616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203/AP210 Conversion (N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133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153360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95680" y="13809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57600" y="1685880"/>
            <a:ext cx="167652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ny Activ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467480" y="1533600"/>
            <a:ext cx="0" cy="1133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5095800"/>
            <a:ext cx="16761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210 Book (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4181400"/>
            <a:ext cx="167616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Zuken AP210 Translation (R/L/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4594320"/>
            <a:ext cx="167652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ntor AP210 Translation (B/N/L/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5553000"/>
            <a:ext cx="167616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agle AP210 Translator (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6162840"/>
            <a:ext cx="16765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210 Primer (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4276800"/>
            <a:ext cx="16765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3819600"/>
            <a:ext cx="16765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734000"/>
            <a:ext cx="16765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467480" y="1533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29400" y="1762200"/>
            <a:ext cx="16765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lated Activ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193880" y="4648320"/>
            <a:ext cx="1704600" cy="191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any Leg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 – Boe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 – N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T – Georgia T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– U.S.A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 – Rockwell-Coll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M – General Mo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 – LK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T - A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2286000"/>
            <a:ext cx="167616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nufacturing Simulation (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6229440"/>
            <a:ext cx="167616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nalysis Templates (G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74400" y="76320"/>
            <a:ext cx="7792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WA/PWB Producibility Analysis using AP210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5" name="BS00559_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1600200" cy="908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17680" y="2513160"/>
            <a:ext cx="131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any PWA/P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uide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438280" y="465120"/>
            <a:ext cx="3949920" cy="2963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429000" y="838080"/>
            <a:ext cx="3903840" cy="29289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781680" y="533520"/>
            <a:ext cx="198144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ification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uide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Rules Defini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electrode" descr="electrode"/>
          <p:cNvPicPr/>
          <p:nvPr/>
        </p:nvPicPr>
        <p:blipFill>
          <a:blip r:embed="rId4"/>
          <a:stretch/>
        </p:blipFill>
        <p:spPr>
          <a:xfrm>
            <a:off x="380880" y="4191120"/>
            <a:ext cx="2286000" cy="1511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28600" y="59436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WA/PWB Captured in Mentor Design 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4320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472428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EP AP2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3505320" y="3886200"/>
            <a:ext cx="3903480" cy="29275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666880" y="35812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57400" y="3581280"/>
            <a:ext cx="13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43800" y="5029200"/>
            <a:ext cx="14479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duci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0120" y="47242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7695720" y="3581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15200" y="266688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nufacturing Capa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EP AP2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5791320"/>
            <a:ext cx="236232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arison of R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gainst Product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Rules Execu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74400" y="76320"/>
            <a:ext cx="7792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WA/PWB Producibility Analysis using AP210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5335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ducibility Analysis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1143000"/>
            <a:ext cx="8686800" cy="5569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oeing PWA Analysis Completed - Generating Summary, Please Stand By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uring this Analysi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4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dministration Checks were Execu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ata Collection Checks were Execu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2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nalysis Checks were Execu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----------------------------------------------------------------------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6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hecks Total were Execu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he Analysis on PWA: B169-78762-4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sulted in the possible violation of 5 rule(s) and 5 guideline(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he following (5) rules may have been violated by this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PG Sec      3.3.4  Check PWA support for Surface Mount Automation (Check175 Ver248.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PG Sec      3.3.2  Check PWA Requirement for In-Circuit Test  (Check176 Ver241.2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PG Sec      3.2.9  Check Minimum PWB Dimensions for Wave Solder equipment (length) (Check17 Ver16.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PG Sec      3.5.5  Check Surface Mount Device Test Keep Out Zone - Minimum Edge (Components) (Check185 Ver296.1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PG Sec      3.5.3  Check Wave Solder &amp; Vibration Test Keep Out Zone - Minimum Edge (Components) (Check184 Ver531.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he following (5) guidelines may have been violated by this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PG Sec       3.10  Check PWA support for Mixed Technology (Check58 Ver310.2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PG Sec      3.6.2  Check Common Surface Mount Component Orientation (Modulo 180) (primary) (Check34 Ver35.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PG Sec     3.10.5  Check Radial Component Lead Span (Check157 Ver914.5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PG Sec      3.2.1  Check Maximum PWB Thickness (Check14 Ver245.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PG Sec       3.10  Check PWA support for Mixed Technology (2) (Check70 Ver255.2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***** Analysis Completed on 02/27/2002 at 8:20:03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74400" y="76320"/>
            <a:ext cx="7792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WA/PWB Assembly Simulation using AP210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30942" b="10001"/>
          <a:stretch/>
        </p:blipFill>
        <p:spPr>
          <a:xfrm>
            <a:off x="228600" y="2239920"/>
            <a:ext cx="2697120" cy="2637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52280" y="114300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ules (F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cil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1628640"/>
            <a:ext cx="15264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510552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neric Manufacturing Equipment Defin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295280" y="487692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rcRect l="0" t="0" r="30942" b="10001"/>
          <a:stretch/>
        </p:blipFill>
        <p:spPr>
          <a:xfrm>
            <a:off x="1676520" y="1143000"/>
            <a:ext cx="2697120" cy="2637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09680" y="518148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nufacturing Equipment 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2895480" y="49525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rcRect l="0" t="0" r="30942" b="10001"/>
          <a:stretch/>
        </p:blipFill>
        <p:spPr>
          <a:xfrm>
            <a:off x="3759120" y="1593720"/>
            <a:ext cx="5384880" cy="5264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rcRect l="0" t="0" r="30942" b="10001"/>
          <a:stretch/>
        </p:blipFill>
        <p:spPr>
          <a:xfrm>
            <a:off x="3551400" y="457200"/>
            <a:ext cx="2697120" cy="2635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162920" y="762120"/>
            <a:ext cx="1844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 Alerted on Acceptions to Produci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uide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7315200" y="1905120"/>
            <a:ext cx="99072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74400" y="76320"/>
            <a:ext cx="7792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P210 Viewer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33720" y="609480"/>
            <a:ext cx="6827760" cy="5121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28600" y="3886200"/>
            <a:ext cx="39038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74400" y="76320"/>
            <a:ext cx="7792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P210 Book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3" name="package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371600"/>
            <a:ext cx="915048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74400" y="457200"/>
            <a:ext cx="7792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굴림"/>
              </a:rPr>
              <a:t>Express/XML-based GUIs in STEP-Book App.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굴림"/>
              </a:rPr>
              <a:t>AP203 Example - Tree View Widge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5257800" cy="35053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712120" y="1344600"/>
            <a:ext cx="228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LKSoft AP2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tepBook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759120" y="2814480"/>
            <a:ext cx="5415840" cy="4043520"/>
            <a:chOff x="3759120" y="2814480"/>
            <a:chExt cx="5415840" cy="4043520"/>
          </a:xfrm>
        </p:grpSpPr>
        <p:sp>
          <p:nvSpPr>
            <p:cNvPr id="178" name=""/>
            <p:cNvSpPr/>
            <p:nvPr/>
          </p:nvSpPr>
          <p:spPr>
            <a:xfrm>
              <a:off x="5493600" y="2814480"/>
              <a:ext cx="3681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XML GUI widgets specify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Express-based information sourc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2"/>
            <a:stretch/>
          </p:blipFill>
          <p:spPr>
            <a:xfrm>
              <a:off x="3759120" y="3375000"/>
              <a:ext cx="4186440" cy="348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0" name=""/>
          <p:cNvGrpSpPr/>
          <p:nvPr/>
        </p:nvGrpSpPr>
        <p:grpSpPr>
          <a:xfrm>
            <a:off x="304920" y="1752480"/>
            <a:ext cx="3962160" cy="4114800"/>
            <a:chOff x="304920" y="1752480"/>
            <a:chExt cx="3962160" cy="4114800"/>
          </a:xfrm>
        </p:grpSpPr>
        <p:sp>
          <p:nvSpPr>
            <p:cNvPr id="181" name=""/>
            <p:cNvSpPr/>
            <p:nvPr/>
          </p:nvSpPr>
          <p:spPr>
            <a:xfrm>
              <a:off x="457200" y="1752480"/>
              <a:ext cx="914400" cy="3812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4920" y="3581280"/>
              <a:ext cx="761760" cy="3049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90720" y="2209680"/>
              <a:ext cx="3200400" cy="2895840"/>
            </a:xfrm>
            <a:custGeom>
              <a:avLst/>
              <a:gdLst/>
              <a:ahLst/>
              <a:rect l="l" t="t" r="r" b="b"/>
              <a:pathLst>
                <a:path w="1520" h="1952">
                  <a:moveTo>
                    <a:pt x="1520" y="1924"/>
                  </a:moveTo>
                  <a:cubicBezTo>
                    <a:pt x="1463" y="1908"/>
                    <a:pt x="1309" y="1952"/>
                    <a:pt x="1176" y="1830"/>
                  </a:cubicBezTo>
                  <a:cubicBezTo>
                    <a:pt x="1043" y="1708"/>
                    <a:pt x="861" y="1410"/>
                    <a:pt x="722" y="1193"/>
                  </a:cubicBezTo>
                  <a:cubicBezTo>
                    <a:pt x="583" y="976"/>
                    <a:pt x="460" y="728"/>
                    <a:pt x="340" y="529"/>
                  </a:cubicBezTo>
                  <a:cubicBezTo>
                    <a:pt x="220" y="330"/>
                    <a:pt x="71" y="110"/>
                    <a:pt x="0" y="0"/>
                  </a:cubicBezTo>
                </a:path>
              </a:pathLst>
            </a:custGeom>
            <a:noFill/>
            <a:ln w="19080">
              <a:solidFill>
                <a:srgbClr val="3366ff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39760" y="3733920"/>
              <a:ext cx="3127320" cy="2133360"/>
            </a:xfrm>
            <a:custGeom>
              <a:avLst/>
              <a:gdLst/>
              <a:ahLst/>
              <a:rect l="l" t="t" r="r" b="b"/>
              <a:pathLst>
                <a:path w="1586" h="1569">
                  <a:moveTo>
                    <a:pt x="1586" y="1541"/>
                  </a:moveTo>
                  <a:cubicBezTo>
                    <a:pt x="1529" y="1525"/>
                    <a:pt x="1375" y="1569"/>
                    <a:pt x="1242" y="1447"/>
                  </a:cubicBezTo>
                  <a:cubicBezTo>
                    <a:pt x="1109" y="1325"/>
                    <a:pt x="927" y="1027"/>
                    <a:pt x="788" y="810"/>
                  </a:cubicBezTo>
                  <a:cubicBezTo>
                    <a:pt x="649" y="593"/>
                    <a:pt x="537" y="281"/>
                    <a:pt x="406" y="146"/>
                  </a:cubicBezTo>
                  <a:cubicBezTo>
                    <a:pt x="275" y="11"/>
                    <a:pt x="85" y="30"/>
                    <a:pt x="0" y="0"/>
                  </a:cubicBezTo>
                </a:path>
              </a:pathLst>
            </a:custGeom>
            <a:noFill/>
            <a:ln w="19080">
              <a:solidFill>
                <a:srgbClr val="3366ff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74400" y="76320"/>
            <a:ext cx="7792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DES, Inc. Electrical Manufacturing Pilo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960" y="114300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icipa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eing, Rockwell-Collins, NASA (JPL and Goddard), Georgia Tech, ATI, LKSoft, U.S.Arm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the implementation of STEP for Electronics within the US and the worl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ies of min-activities worked by individual companies and teams of compan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tivities include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or development and marke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ndards publi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ol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ndard development/refinement (AP210, AP220, AP233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reg Smith</cp:lastModifiedBy>
  <dcterms:modified xsi:type="dcterms:W3CDTF">2002-02-27T17:04:17Z</dcterms:modified>
  <cp:revision>25</cp:revision>
  <dc:subject/>
  <dc:title>PowerPoint Presentation</dc:title>
</cp:coreProperties>
</file>