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4.jpeg" ContentType="image/jpeg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692D-C7FE-48FA-8B5D-C53681F2C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4929-886B-4A1D-B941-338791811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84760" y="86882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-1440" y="86882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14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4760" y="86882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1440" y="86882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-14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77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DC2D-FD82-45AF-8AD0-C630BBDA7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040" y="4346280"/>
            <a:ext cx="5025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9680" y="-257760"/>
            <a:ext cx="5635800" cy="94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6360" y="1144080"/>
            <a:ext cx="845496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6360" y="2504160"/>
            <a:ext cx="845496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9680" y="-257760"/>
            <a:ext cx="5635800" cy="94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6360" y="1144080"/>
            <a:ext cx="412596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960" y="1144080"/>
            <a:ext cx="412596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6360" y="2504160"/>
            <a:ext cx="412596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960" y="2504160"/>
            <a:ext cx="412596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9680" y="-257760"/>
            <a:ext cx="5635800" cy="94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6360" y="1144080"/>
            <a:ext cx="272232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120" y="1144080"/>
            <a:ext cx="272232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3880" y="1144080"/>
            <a:ext cx="272232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6360" y="2504160"/>
            <a:ext cx="272232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120" y="2504160"/>
            <a:ext cx="272232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3880" y="2504160"/>
            <a:ext cx="272232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9680" y="-257760"/>
            <a:ext cx="5635800" cy="94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6360" y="1144080"/>
            <a:ext cx="8454960" cy="26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9680" y="-257760"/>
            <a:ext cx="5635800" cy="94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1144080"/>
            <a:ext cx="8454960" cy="260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9680" y="-257760"/>
            <a:ext cx="5635800" cy="94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6360" y="1144080"/>
            <a:ext cx="4125960" cy="260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960" y="1144080"/>
            <a:ext cx="4125960" cy="260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9680" y="-257760"/>
            <a:ext cx="5635800" cy="94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9680" y="-257760"/>
            <a:ext cx="5635800" cy="43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9680" y="-257760"/>
            <a:ext cx="5635800" cy="94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6360" y="1144080"/>
            <a:ext cx="412596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960" y="1144080"/>
            <a:ext cx="4125960" cy="260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6360" y="2504160"/>
            <a:ext cx="412596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9680" y="-257760"/>
            <a:ext cx="5635800" cy="94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6360" y="1144080"/>
            <a:ext cx="4125960" cy="260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960" y="1144080"/>
            <a:ext cx="412596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960" y="2504160"/>
            <a:ext cx="412596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9680" y="-257760"/>
            <a:ext cx="5635800" cy="94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6360" y="1144080"/>
            <a:ext cx="412596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960" y="1144080"/>
            <a:ext cx="412596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6360" y="2504160"/>
            <a:ext cx="845496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819000"/>
            <a:ext cx="9132840" cy="152640"/>
            <a:chOff x="0" y="819000"/>
            <a:chExt cx="9132840" cy="152640"/>
          </a:xfrm>
        </p:grpSpPr>
        <p:sp>
          <p:nvSpPr>
            <p:cNvPr id="1" name=""/>
            <p:cNvSpPr/>
            <p:nvPr/>
          </p:nvSpPr>
          <p:spPr>
            <a:xfrm>
              <a:off x="0" y="819000"/>
              <a:ext cx="9132840" cy="74880"/>
            </a:xfrm>
            <a:prstGeom prst="rect">
              <a:avLst/>
            </a:prstGeom>
            <a:gradFill rotWithShape="0">
              <a:gsLst>
                <a:gs pos="0">
                  <a:srgbClr val="7e7e7e"/>
                </a:gs>
                <a:gs pos="50000">
                  <a:srgbClr val="ffffff"/>
                </a:gs>
                <a:gs pos="100000">
                  <a:srgbClr val="7e7e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93348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8f0921"/>
                </a:gs>
                <a:gs pos="50000">
                  <a:srgbClr val="cf0e30"/>
                </a:gs>
                <a:gs pos="100000">
                  <a:srgbClr val="8f09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9680" y="-257760"/>
            <a:ext cx="5635800" cy="94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6360" y="1144080"/>
            <a:ext cx="8454960" cy="260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657280" y="6544080"/>
            <a:ext cx="530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C4FC-A5D5-4FE1-87EF-363237CC5CE0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27840" y="0"/>
            <a:ext cx="131616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8580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hipbuilding AP’s: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An Overview for Implementors 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3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RP ISE – ESTEP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d Brig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graph Marine and Life Cycle Sol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ir Dow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 Tools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33960" y="3247920"/>
            <a:ext cx="2247840" cy="619200"/>
          </a:xfrm>
          <a:custGeom>
            <a:avLst/>
            <a:gdLst>
              <a:gd name="textAreaLeft" fmla="*/ 0 w 2247840"/>
              <a:gd name="textAreaRight" fmla="*/ 2248200 w 224784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14" y="0"/>
                </a:lnTo>
                <a:lnTo>
                  <a:pt x="21600" y="10800"/>
                </a:lnTo>
                <a:lnTo>
                  <a:pt x="166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ae00"/>
              </a:gs>
              <a:gs pos="100000">
                <a:srgbClr val="00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55880" y="1865160"/>
            <a:ext cx="1366920" cy="59688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14" y="0"/>
                </a:lnTo>
                <a:lnTo>
                  <a:pt x="21600" y="10800"/>
                </a:lnTo>
                <a:lnTo>
                  <a:pt x="205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9688"/>
              </a:gs>
              <a:gs pos="100000">
                <a:srgbClr val="002c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MS / Jap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991 - 199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2610000"/>
            <a:ext cx="1266840" cy="58896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pSTEP / E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994 - 19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4160" y="3319560"/>
            <a:ext cx="1681200" cy="57780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IS / Germa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992 - 199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71640" y="4105440"/>
            <a:ext cx="1509840" cy="558720"/>
          </a:xfrm>
          <a:custGeom>
            <a:avLst/>
            <a:gdLst>
              <a:gd name="textAreaLeft" fmla="*/ 0 w 1509840"/>
              <a:gd name="textAreaRight" fmla="*/ 1510200 w 150984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93192"/>
              </a:gs>
              <a:gs pos="100000">
                <a:srgbClr val="400e2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UTRABAS / E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989 - 199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25680" y="4751280"/>
            <a:ext cx="1554120" cy="57780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5405d"/>
              </a:gs>
              <a:gs pos="100000">
                <a:srgbClr val="4313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ITIME / E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992 - 199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54920" y="552456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31520" y="552456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7400" y="550548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88680" y="550548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64640" y="552456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74000" y="552456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78680" y="552456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9200" y="551016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1440" y="552456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8640" y="1095480"/>
            <a:ext cx="3165480" cy="619200"/>
          </a:xfrm>
          <a:custGeom>
            <a:avLst/>
            <a:gdLst>
              <a:gd name="textAreaLeft" fmla="*/ 0 w 3165480"/>
              <a:gd name="textAreaRight" fmla="*/ 3165840 w 316548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48" y="0"/>
                </a:lnTo>
                <a:lnTo>
                  <a:pt x="21600" y="10800"/>
                </a:lnTo>
                <a:lnTo>
                  <a:pt x="2074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ae00"/>
              </a:gs>
              <a:gs pos="100000">
                <a:srgbClr val="00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DDESC / US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987 - 199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08400" y="4095720"/>
            <a:ext cx="1425600" cy="577800"/>
          </a:xfrm>
          <a:custGeom>
            <a:avLst/>
            <a:gdLst>
              <a:gd name="textAreaLeft" fmla="*/ 0 w 1425600"/>
              <a:gd name="textAreaRight" fmla="*/ 1425960 w 142560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f0e30"/>
              </a:gs>
              <a:gs pos="100000">
                <a:srgbClr val="3d040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in Ship 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994 - 199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97640" y="3429000"/>
            <a:ext cx="107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IT/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67160" y="4765680"/>
            <a:ext cx="1266840" cy="57780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b7a5"/>
              </a:gs>
              <a:gs pos="100000">
                <a:srgbClr val="0036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ASPRITE/ E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996 - 199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71840" y="1835280"/>
            <a:ext cx="1051200" cy="596880"/>
          </a:xfrm>
          <a:custGeom>
            <a:avLst/>
            <a:gdLst>
              <a:gd name="textAreaLeft" fmla="*/ 0 w 1051200"/>
              <a:gd name="textAreaRight" fmla="*/ 1051560 w 10512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14" y="0"/>
                </a:lnTo>
                <a:lnTo>
                  <a:pt x="21600" y="10800"/>
                </a:lnTo>
                <a:lnTo>
                  <a:pt x="205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9688"/>
              </a:gs>
              <a:gs pos="100000">
                <a:srgbClr val="002c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ME / Japan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 - 199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26240" y="1063800"/>
            <a:ext cx="1152360" cy="57780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b7a5"/>
              </a:gs>
              <a:gs pos="100000">
                <a:srgbClr val="0036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iST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996 - 199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92840" y="1865160"/>
            <a:ext cx="2717640" cy="596880"/>
          </a:xfrm>
          <a:custGeom>
            <a:avLst/>
            <a:gdLst>
              <a:gd name="textAreaLeft" fmla="*/ 0 w 2717640"/>
              <a:gd name="textAreaRight" fmla="*/ 2718000 w 271764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14" y="0"/>
                </a:lnTo>
                <a:lnTo>
                  <a:pt x="21600" y="10800"/>
                </a:lnTo>
                <a:lnTo>
                  <a:pt x="2051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9688"/>
              </a:gs>
              <a:gs pos="100000">
                <a:srgbClr val="002c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CALS - ShipCAL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pan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6760" y="1066680"/>
            <a:ext cx="1593720" cy="577800"/>
          </a:xfrm>
          <a:custGeom>
            <a:avLst/>
            <a:gdLst>
              <a:gd name="textAreaLeft" fmla="*/ 0 w 1593720"/>
              <a:gd name="textAreaRight" fmla="*/ 1594080 w 159372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b7a5"/>
              </a:gs>
              <a:gs pos="100000">
                <a:srgbClr val="0036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E EST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00 -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0120" y="2546280"/>
            <a:ext cx="990360" cy="577800"/>
          </a:xfrm>
          <a:custGeom>
            <a:avLst/>
            <a:gdLst>
              <a:gd name="textAreaLeft" fmla="*/ 0 w 990360"/>
              <a:gd name="textAreaRight" fmla="*/ 990720 w 99036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b7a5"/>
              </a:gs>
              <a:gs pos="100000">
                <a:srgbClr val="0036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V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02-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0040" y="168840"/>
            <a:ext cx="7466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hipbuilding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SE – ESTEP Project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6360" y="1144080"/>
            <a:ext cx="8454960" cy="455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E (Integrated Shipbuilding Environ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ortium formed to addressing a broad-based interoperable application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ndation: STEP/XML, Web services, STEP AP, ISE archite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ded by NSRP (National Shipbuilding Research Progra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E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E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 and implement a means for Product Model transfer between shipy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 translators for AP 216, AP 218, AP 227 ed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 development and approval of ISO Shipbuilding 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 usage guide, test data to aid future implemen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336840" y="451656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505320" y="2971800"/>
            <a:ext cx="2285640" cy="1371240"/>
            <a:chOff x="3505320" y="2971800"/>
            <a:chExt cx="2285640" cy="1371240"/>
          </a:xfrm>
        </p:grpSpPr>
        <p:grpSp>
          <p:nvGrpSpPr>
            <p:cNvPr id="233" name=""/>
            <p:cNvGrpSpPr/>
            <p:nvPr/>
          </p:nvGrpSpPr>
          <p:grpSpPr>
            <a:xfrm>
              <a:off x="3505320" y="2971800"/>
              <a:ext cx="2285640" cy="1371240"/>
              <a:chOff x="3505320" y="2971800"/>
              <a:chExt cx="2285640" cy="1371240"/>
            </a:xfrm>
          </p:grpSpPr>
          <p:sp>
            <p:nvSpPr>
              <p:cNvPr id="234" name=""/>
              <p:cNvSpPr/>
              <p:nvPr/>
            </p:nvSpPr>
            <p:spPr>
              <a:xfrm>
                <a:off x="3505320" y="3921120"/>
                <a:ext cx="2285640" cy="421920"/>
              </a:xfrm>
              <a:prstGeom prst="ellipse">
                <a:avLst/>
              </a:prstGeom>
              <a:solidFill>
                <a:srgbClr val="cf0e30"/>
              </a:solidFill>
              <a:ln w="1908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505320" y="3182400"/>
                <a:ext cx="2285640" cy="949320"/>
              </a:xfrm>
              <a:prstGeom prst="rect">
                <a:avLst/>
              </a:prstGeom>
              <a:solidFill>
                <a:srgbClr val="cf0e30"/>
              </a:solidFill>
              <a:ln w="19080">
                <a:solidFill>
                  <a:srgbClr val="cf0e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05320" y="2971800"/>
                <a:ext cx="2285640" cy="421920"/>
              </a:xfrm>
              <a:prstGeom prst="ellipse">
                <a:avLst/>
              </a:prstGeom>
              <a:solidFill>
                <a:srgbClr val="cf0e3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3733920" y="3429000"/>
              <a:ext cx="1752840" cy="82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3881160" y="297180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P/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1143000"/>
            <a:ext cx="175284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Intergra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(ISDP,GSCA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91240" y="1943280"/>
            <a:ext cx="175284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Atlentec-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(TRIBON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CATI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943280"/>
            <a:ext cx="175248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Electric Bo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91240" y="3809880"/>
            <a:ext cx="1752840" cy="1067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A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SafeHu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621520" y="4244760"/>
            <a:ext cx="776880" cy="730440"/>
            <a:chOff x="2621520" y="4244760"/>
            <a:chExt cx="776880" cy="730440"/>
          </a:xfrm>
        </p:grpSpPr>
        <p:sp>
          <p:nvSpPr>
            <p:cNvPr id="244" name=""/>
            <p:cNvSpPr/>
            <p:nvPr/>
          </p:nvSpPr>
          <p:spPr>
            <a:xfrm rot="19083600">
              <a:off x="2790360" y="441900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8283600">
              <a:off x="2619720" y="457200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855040" y="2669760"/>
            <a:ext cx="862200" cy="527760"/>
            <a:chOff x="5855040" y="2669760"/>
            <a:chExt cx="862200" cy="527760"/>
          </a:xfrm>
        </p:grpSpPr>
        <p:sp>
          <p:nvSpPr>
            <p:cNvPr id="247" name=""/>
            <p:cNvSpPr/>
            <p:nvPr/>
          </p:nvSpPr>
          <p:spPr>
            <a:xfrm rot="20269800">
              <a:off x="6087240" y="277632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9469800">
              <a:off x="5875200" y="286200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79800" y="3730320"/>
            <a:ext cx="860760" cy="540000"/>
            <a:chOff x="5779800" y="3730320"/>
            <a:chExt cx="860760" cy="540000"/>
          </a:xfrm>
        </p:grpSpPr>
        <p:sp>
          <p:nvSpPr>
            <p:cNvPr id="250" name=""/>
            <p:cNvSpPr/>
            <p:nvPr/>
          </p:nvSpPr>
          <p:spPr>
            <a:xfrm rot="1387200">
              <a:off x="6010560" y="393084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2187200">
              <a:off x="5799960" y="384084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579400" y="2739600"/>
            <a:ext cx="860760" cy="540000"/>
            <a:chOff x="2579400" y="2739600"/>
            <a:chExt cx="860760" cy="540000"/>
          </a:xfrm>
        </p:grpSpPr>
        <p:sp>
          <p:nvSpPr>
            <p:cNvPr id="253" name=""/>
            <p:cNvSpPr/>
            <p:nvPr/>
          </p:nvSpPr>
          <p:spPr>
            <a:xfrm rot="1387200">
              <a:off x="2810160" y="294012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2187200">
              <a:off x="2599560" y="285012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881880" y="2122200"/>
            <a:ext cx="541440" cy="860760"/>
            <a:chOff x="3881880" y="2122200"/>
            <a:chExt cx="541440" cy="860760"/>
          </a:xfrm>
        </p:grpSpPr>
        <p:sp>
          <p:nvSpPr>
            <p:cNvPr id="256" name=""/>
            <p:cNvSpPr/>
            <p:nvPr/>
          </p:nvSpPr>
          <p:spPr>
            <a:xfrm rot="4000800">
              <a:off x="3893040" y="254340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4800800">
              <a:off x="3802320" y="233280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200400" y="5257800"/>
            <a:ext cx="175248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Prote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5105520"/>
            <a:ext cx="175248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Simsm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980520" y="4405680"/>
            <a:ext cx="496440" cy="866520"/>
            <a:chOff x="3980520" y="4405680"/>
            <a:chExt cx="496440" cy="866520"/>
          </a:xfrm>
        </p:grpSpPr>
        <p:sp>
          <p:nvSpPr>
            <p:cNvPr id="261" name=""/>
            <p:cNvSpPr/>
            <p:nvPr/>
          </p:nvSpPr>
          <p:spPr>
            <a:xfrm rot="17373600">
              <a:off x="3962520" y="461664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6573600">
              <a:off x="3885120" y="483228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423040" y="4275000"/>
            <a:ext cx="659520" cy="822600"/>
            <a:chOff x="5423040" y="4275000"/>
            <a:chExt cx="659520" cy="822600"/>
          </a:xfrm>
        </p:grpSpPr>
        <p:sp>
          <p:nvSpPr>
            <p:cNvPr id="264" name=""/>
            <p:cNvSpPr/>
            <p:nvPr/>
          </p:nvSpPr>
          <p:spPr>
            <a:xfrm rot="14152200">
              <a:off x="5383800" y="447696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3352200">
              <a:off x="5511960" y="466668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762120" y="3276720"/>
            <a:ext cx="175248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STEP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In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586600" y="3641760"/>
            <a:ext cx="846360" cy="259920"/>
            <a:chOff x="2586600" y="3641760"/>
            <a:chExt cx="846360" cy="259920"/>
          </a:xfrm>
        </p:grpSpPr>
        <p:sp>
          <p:nvSpPr>
            <p:cNvPr id="268" name=""/>
            <p:cNvSpPr/>
            <p:nvPr/>
          </p:nvSpPr>
          <p:spPr>
            <a:xfrm rot="21469200">
              <a:off x="2819160" y="365292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669200">
              <a:off x="2590560" y="366156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165280" y="2125080"/>
            <a:ext cx="565920" cy="855720"/>
            <a:chOff x="5165280" y="2125080"/>
            <a:chExt cx="565920" cy="855720"/>
          </a:xfrm>
        </p:grpSpPr>
        <p:sp>
          <p:nvSpPr>
            <p:cNvPr id="271" name=""/>
            <p:cNvSpPr/>
            <p:nvPr/>
          </p:nvSpPr>
          <p:spPr>
            <a:xfrm rot="17722800">
              <a:off x="5192640" y="233496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6922800">
              <a:off x="5094000" y="254196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876920" y="1066680"/>
            <a:ext cx="2057400" cy="1067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Northrop Grumm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Ship System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4572000"/>
            <a:ext cx="175248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S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FOR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Kvaer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SE Participants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749760" y="1523880"/>
            <a:ext cx="0" cy="3429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2590920"/>
            <a:ext cx="381024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216 - Moulded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91120" y="3276720"/>
            <a:ext cx="32763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218 -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14760" y="1717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19810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6880" y="1981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02400" y="1717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25720" y="1981080"/>
            <a:ext cx="974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54520" y="19810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86360" y="2666880"/>
            <a:ext cx="22860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21160" y="25909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EC De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72440" y="3352680"/>
            <a:ext cx="22860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77384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69280" y="1717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19810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962520"/>
            <a:ext cx="32763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227 Ed.2 - Pi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62720" y="4038480"/>
            <a:ext cx="22860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73840" y="39625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02440" y="1523880"/>
            <a:ext cx="0" cy="3429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0040" y="246600"/>
            <a:ext cx="7390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SE – ESTEP Sched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SE Test Data 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6360" y="1144440"/>
            <a:ext cx="8454960" cy="138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rpedo Weapons Retriever (TW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 set of drawings release by Nav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ted test suite of a real 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066680" y="2222640"/>
          <a:ext cx="6629400" cy="410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222640"/>
                    <a:ext cx="6629400" cy="41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SE Test Data – Moulded Forms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828800" y="1143000"/>
          <a:ext cx="5516640" cy="477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143000"/>
                    <a:ext cx="551664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762120" y="1474920"/>
            <a:ext cx="3733560" cy="990360"/>
          </a:xfrm>
          <a:prstGeom prst="rect">
            <a:avLst/>
          </a:prstGeom>
          <a:solidFill>
            <a:srgbClr val="cf0e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05040" y="1447920"/>
            <a:ext cx="357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ngth (Molded) 117 ft. 4 1/2 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am, Max    24 ft. 7-5/8 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raft (hull, max) 6 ft. 9 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9127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hip Common Model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4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4572000"/>
            <a:ext cx="8686800" cy="685800"/>
          </a:xfrm>
          <a:prstGeom prst="rect">
            <a:avLst/>
          </a:prstGeom>
          <a:solidFill>
            <a:srgbClr val="cf0e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Commo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3886200"/>
            <a:ext cx="80010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ip Common Model (SC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447920" y="3048120"/>
            <a:ext cx="7391160" cy="609480"/>
            <a:chOff x="1447920" y="3048120"/>
            <a:chExt cx="7391160" cy="609480"/>
          </a:xfrm>
        </p:grpSpPr>
        <p:sp>
          <p:nvSpPr>
            <p:cNvPr id="311" name=""/>
            <p:cNvSpPr/>
            <p:nvPr/>
          </p:nvSpPr>
          <p:spPr>
            <a:xfrm>
              <a:off x="1447920" y="3048120"/>
              <a:ext cx="160020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 21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lded For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76720" y="3048120"/>
              <a:ext cx="152388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 2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rrangeme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29200" y="3048120"/>
              <a:ext cx="114300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 21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00800" y="3048120"/>
              <a:ext cx="114300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 22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ech Sy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72400" y="3048120"/>
              <a:ext cx="106668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 23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p. Log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52280" y="3048120"/>
            <a:ext cx="1067040" cy="609480"/>
          </a:xfrm>
          <a:prstGeom prst="rect">
            <a:avLst/>
          </a:prstGeom>
          <a:solidFill>
            <a:srgbClr val="cf0e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 227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. S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hipbuilding AP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hip Common Model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6360" y="1144440"/>
            <a:ext cx="8454960" cy="458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, unified ARM data model for Shipbuilding 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RESS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ilding B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t of EXPRESS entities for one concep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M schema for each AP generated from Building Blkoc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Units of functi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ems and defini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cation concep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s and measu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interpre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e mapping tables for common ent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Building Blocks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88880" y="1806480"/>
            <a:ext cx="8654760" cy="4283280"/>
            <a:chOff x="488880" y="1806480"/>
            <a:chExt cx="8654760" cy="4283280"/>
          </a:xfrm>
        </p:grpSpPr>
        <p:sp>
          <p:nvSpPr>
            <p:cNvPr id="322" name=""/>
            <p:cNvSpPr/>
            <p:nvPr/>
          </p:nvSpPr>
          <p:spPr>
            <a:xfrm>
              <a:off x="488880" y="1816200"/>
              <a:ext cx="8654760" cy="42735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3320" y="1806480"/>
              <a:ext cx="3214080" cy="42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pproval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hang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defini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ev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generic_product_struc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global_axis_characterist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local_co_ordinate_system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maintenanc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meas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par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performanc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47320" y="1806480"/>
              <a:ext cx="4002120" cy="38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product_structure_by_assembl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product_structure_by_connectiv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product_structure_by_sp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product_structure_by_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repai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representation_resourc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ship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spacing_gri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survey_inspe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survey_stat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vers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672080" y="2305080"/>
            <a:ext cx="0" cy="3257640"/>
          </a:xfrm>
          <a:prstGeom prst="line">
            <a:avLst/>
          </a:prstGeom>
          <a:ln w="7632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Overview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6360" y="1144440"/>
            <a:ext cx="8454960" cy="38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pbuilding AP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E Implementation pro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p Common Mo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on, unified ARM is basis for all Shipbuilding AP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pretation of Shipbuilding AP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E STEP and XML 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5122800" y="1627200"/>
            <a:ext cx="1473120" cy="774720"/>
            <a:chOff x="5122800" y="1627200"/>
            <a:chExt cx="1473120" cy="774720"/>
          </a:xfrm>
        </p:grpSpPr>
        <p:sp>
          <p:nvSpPr>
            <p:cNvPr id="327" name=""/>
            <p:cNvSpPr/>
            <p:nvPr/>
          </p:nvSpPr>
          <p:spPr>
            <a:xfrm>
              <a:off x="5122800" y="1627200"/>
              <a:ext cx="1473120" cy="774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66800" y="1692360"/>
              <a:ext cx="1121760" cy="637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414141"/>
                  </a:solidFill>
                  <a:latin typeface="Arial"/>
                </a:rPr>
                <a:t>Ite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122800" y="3057480"/>
            <a:ext cx="2679480" cy="774720"/>
            <a:chOff x="5122800" y="3057480"/>
            <a:chExt cx="2679480" cy="774720"/>
          </a:xfrm>
        </p:grpSpPr>
        <p:sp>
          <p:nvSpPr>
            <p:cNvPr id="330" name=""/>
            <p:cNvSpPr/>
            <p:nvPr/>
          </p:nvSpPr>
          <p:spPr>
            <a:xfrm>
              <a:off x="5122800" y="3057480"/>
              <a:ext cx="2679480" cy="774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67880" y="3120840"/>
              <a:ext cx="2287440" cy="637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414141"/>
                  </a:solidFill>
                  <a:latin typeface="Arial"/>
                </a:rPr>
                <a:t>Definitio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122800" y="4614840"/>
            <a:ext cx="4020840" cy="774720"/>
            <a:chOff x="5122800" y="4614840"/>
            <a:chExt cx="4020840" cy="774720"/>
          </a:xfrm>
        </p:grpSpPr>
        <p:sp>
          <p:nvSpPr>
            <p:cNvPr id="333" name=""/>
            <p:cNvSpPr/>
            <p:nvPr/>
          </p:nvSpPr>
          <p:spPr>
            <a:xfrm>
              <a:off x="5122800" y="4614840"/>
              <a:ext cx="4020840" cy="774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66440" y="4678200"/>
              <a:ext cx="3510000" cy="637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414141"/>
                  </a:solidFill>
                  <a:latin typeface="Arial"/>
                </a:rPr>
                <a:t>Representatio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419480" y="1600200"/>
            <a:ext cx="1348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16960" y="4403880"/>
            <a:ext cx="3366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eometry &amp; topolog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iew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19120" y="2846520"/>
            <a:ext cx="2706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ife-cycle asp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 the I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5440" y="2611440"/>
            <a:ext cx="606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769000" y="4133880"/>
            <a:ext cx="952200" cy="332280"/>
            <a:chOff x="5769000" y="4133880"/>
            <a:chExt cx="952200" cy="332280"/>
          </a:xfrm>
        </p:grpSpPr>
        <p:sp>
          <p:nvSpPr>
            <p:cNvPr id="340" name=""/>
            <p:cNvSpPr/>
            <p:nvPr/>
          </p:nvSpPr>
          <p:spPr>
            <a:xfrm flipH="1" rot="16200000">
              <a:off x="5908320" y="4050360"/>
              <a:ext cx="216000" cy="494640"/>
            </a:xfrm>
            <a:prstGeom prst="rightArrow">
              <a:avLst>
                <a:gd name="adj1" fmla="val 75000"/>
                <a:gd name="adj2" fmla="val 50005"/>
              </a:avLst>
            </a:prstGeom>
            <a:noFill/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24400" y="41338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S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789520" y="2550960"/>
            <a:ext cx="441360" cy="406440"/>
            <a:chOff x="5789520" y="2550960"/>
            <a:chExt cx="441360" cy="406440"/>
          </a:xfrm>
        </p:grpSpPr>
        <p:sp>
          <p:nvSpPr>
            <p:cNvPr id="343" name=""/>
            <p:cNvSpPr/>
            <p:nvPr/>
          </p:nvSpPr>
          <p:spPr>
            <a:xfrm flipH="1" rot="16200000">
              <a:off x="5902200" y="2628720"/>
              <a:ext cx="216000" cy="44136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ffcc0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6200000">
              <a:off x="5902200" y="2438280"/>
              <a:ext cx="216000" cy="44136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ffcc0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hip Common Model Concepts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407560" y="121932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able_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93120" y="281952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em_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76880" y="35812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209680" y="1676520"/>
            <a:ext cx="129564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3504960" y="1676520"/>
            <a:ext cx="281916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6760" y="20574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52120" y="274320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51360" y="4297320"/>
            <a:ext cx="240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_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implicit representa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1800" y="58672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209680" y="3200400"/>
            <a:ext cx="434340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34320" y="5029200"/>
            <a:ext cx="0" cy="9144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934320" y="320004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934320" y="243792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934320" y="167652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hip Common Model Concepts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1" name=""/>
          <p:cNvSpPr/>
          <p:nvPr/>
        </p:nvSpPr>
        <p:spPr>
          <a:xfrm>
            <a:off x="519840" y="4449600"/>
            <a:ext cx="2760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al_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implicit representa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68600" y="5211720"/>
            <a:ext cx="3303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ufacturing_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implicit representa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07160" y="1143000"/>
            <a:ext cx="2487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sionable_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vers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11000" y="24382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efined_f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286000" y="1676520"/>
            <a:ext cx="441972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209680" y="327672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200400" y="2361960"/>
            <a:ext cx="3276720" cy="6858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10960" y="27432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onta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267080" y="3124080"/>
            <a:ext cx="2514600" cy="198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hip Coordinate System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1" name=""/>
          <p:cNvSpPr/>
          <p:nvPr/>
        </p:nvSpPr>
        <p:spPr>
          <a:xfrm>
            <a:off x="1219320" y="2971800"/>
            <a:ext cx="647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2743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09680" y="2286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2971800"/>
            <a:ext cx="152280" cy="152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2286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2600" y="2666880"/>
            <a:ext cx="93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ob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rdin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65840" y="28195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11840" y="274320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30,0,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21480" y="274320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0,0,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78200" y="4495680"/>
            <a:ext cx="270432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p Coordinate system attribut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 Perpendicular offset =  +3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entation = forward_poi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Between Perpendiculars = 23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086600" y="23623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66880" y="2209680"/>
            <a:ext cx="102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w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pendic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8840" y="198108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3040" y="30481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1886040"/>
            <a:ext cx="5638680" cy="1066680"/>
          </a:xfrm>
          <a:custGeom>
            <a:avLst/>
            <a:gdLst/>
            <a:ahLst/>
            <a:rect l="l" t="t" r="r" b="b"/>
            <a:pathLst>
              <a:path w="3552" h="672">
                <a:moveTo>
                  <a:pt x="0" y="0"/>
                </a:moveTo>
                <a:lnTo>
                  <a:pt x="3552" y="0"/>
                </a:lnTo>
                <a:lnTo>
                  <a:pt x="2928" y="672"/>
                </a:lnTo>
                <a:lnTo>
                  <a:pt x="768" y="672"/>
                </a:lnTo>
                <a:lnTo>
                  <a:pt x="768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07880" y="274320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260,0,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137680" y="2209680"/>
            <a:ext cx="102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pendic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0968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58840" y="361152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49360" y="361152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 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8108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5248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1924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9064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6204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3384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0524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7664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1480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8620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0544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7684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4824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1500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25780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7704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4844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1984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8660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2940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74864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2004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29144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45820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22960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34592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3040" y="345924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3240" y="361152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11400" y="358128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 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49480" y="358128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 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640120" y="361152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78280" y="358128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 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92680" y="358128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 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GUID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6360" y="1144080"/>
            <a:ext cx="8454960" cy="547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D (Globally Unambiguous Identifi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mutable, persistent identif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intained by exporting system for life of the 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ing system must return same identifier if object is not chan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creating or updating an object must generate a new identif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 data to be exchanged incrementally while preserving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in an 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tween A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ate references moulded 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pe support references stru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scena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exchange- integrated data mode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ple AP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ple exchange files per 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le exchanges - iterative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ly import new 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le exchanges - concurrent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ly import changes, new 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SE GUID Example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6360" y="1144440"/>
            <a:ext cx="8454960" cy="507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'&lt;Moulded_form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-href=//joshua.ingr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="guid:123-123-123" /&gt;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'&lt;Moulded_form_functional_definition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-href="//joshua.ingr.com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-owner="guid:123-123-123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-rev="A"/&gt;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'&lt;Moulded_form_design_definition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-href="//joshua.ingr.com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-owner="guid:123-123-123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-rev="A"/&gt;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mplicit Representation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6360" y="1144080"/>
            <a:ext cx="8454960" cy="455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resentation defined via implicit topological 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ulded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lying su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undari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t of cur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t of intersecting surfa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t of intersecting moulded 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ffe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file shape (cross sec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ce cur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rt poi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4876920" y="1952640"/>
            <a:ext cx="41148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Units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6360" y="1144080"/>
            <a:ext cx="8454960" cy="245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 of units defined for 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 of units defined for specific defin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ues do not hav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48580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nterpretation  of Shipbuilding AP’s</a:t>
            </a:r>
            <a:br>
              <a:rPr sz="2800"/>
            </a:b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4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Translator issues 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6360" y="990720"/>
            <a:ext cx="8454960" cy="49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 215, 216, and 218 use a different approach to map their information requirements into the A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e is only 1 product in the f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presents the Sh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tion_definition_formation entities DO NOT represent vers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visions are modeled by assigning a version id to a product_definition or property_defin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perties of the Ship (e.g. principal characteristics), moulded forms, and structural parts of the Ship are represented as product_defini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finitions have GUIDs – global unique identifi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finitions maybe referenced via their G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300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ip exchange can involve multiple STEP fi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ch structural part, moulded form, or property has a representation, which could be a descriptive text, an individual measure value, or a geometric constr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wo sets of units – global “ship” units and local un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cal units are modeled independently of the representation they apply 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Translator issues 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6360" y="1144440"/>
            <a:ext cx="8454960" cy="431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pe specific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verlap with AP203/214: brep, edge-based wireframe, geometric wirefr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: non_manifold_surface_shape_represen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defined in AP 214 but has not been tested by the CAX for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e is NOT one shape_representation that contains the shape of the entire sh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ach moulded form (e.g. hull, bulkhead, deck) and structural part (e.g. plate, cutout) has its own shape_re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ach shape_representation is related back to the product via a unique reference pa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224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hape_definition_represent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224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duct_definition_sha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224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duct_defin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224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duct_definition_formation\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224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moulded form may have multiple shape represen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plicit – like AP 203/2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licit – surface geometry plus boundary relationsh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300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led with shape_aspe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32440"/>
            <a:ext cx="4762440" cy="9255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15080" y="1184400"/>
            <a:ext cx="3328920" cy="17888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45880"/>
            <a:ext cx="769608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hip Product Model Exchange Requirements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28600"/>
            <a:ext cx="7848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96760" y="6032520"/>
            <a:ext cx="437688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74747"/>
                </a:solidFill>
                <a:latin typeface="Arial"/>
              </a:rPr>
              <a:t>T 23 APs (Integrated through the Ship Common Model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74747"/>
                </a:solidFill>
                <a:latin typeface="Arial"/>
              </a:rPr>
              <a:t>Other teams for joint working Groups supporting T 23 usa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74747"/>
                </a:solidFill>
                <a:latin typeface="Arial"/>
              </a:rPr>
              <a:t>To be addressed in the futur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498920"/>
            <a:ext cx="1879560" cy="36828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813120"/>
            <a:ext cx="1873440" cy="36828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3733920"/>
            <a:ext cx="1905120" cy="539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184720"/>
            <a:ext cx="1879560" cy="36828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3813120"/>
            <a:ext cx="1895400" cy="362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12920"/>
            <a:ext cx="2438280" cy="762120"/>
          </a:xfrm>
          <a:prstGeom prst="rect">
            <a:avLst/>
          </a:prstGeom>
          <a:solidFill>
            <a:srgbClr val="063d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212920"/>
            <a:ext cx="1981080" cy="7621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121360"/>
            <a:ext cx="2031840" cy="52056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422600"/>
            <a:ext cx="2031840" cy="52092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736800"/>
            <a:ext cx="2031840" cy="52092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4422600"/>
            <a:ext cx="2031840" cy="520920"/>
          </a:xfrm>
          <a:prstGeom prst="rect">
            <a:avLst/>
          </a:prstGeom>
          <a:noFill/>
          <a:ln w="28440">
            <a:solidFill>
              <a:srgbClr val="269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736800"/>
            <a:ext cx="2031840" cy="520920"/>
          </a:xfrm>
          <a:prstGeom prst="rect">
            <a:avLst/>
          </a:prstGeom>
          <a:noFill/>
          <a:ln w="28440">
            <a:solidFill>
              <a:srgbClr val="269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5108400"/>
            <a:ext cx="2031840" cy="520920"/>
          </a:xfrm>
          <a:prstGeom prst="rect">
            <a:avLst/>
          </a:prstGeom>
          <a:noFill/>
          <a:ln w="28440">
            <a:solidFill>
              <a:srgbClr val="269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736800"/>
            <a:ext cx="2031840" cy="520920"/>
          </a:xfrm>
          <a:prstGeom prst="rect">
            <a:avLst/>
          </a:prstGeom>
          <a:noFill/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4422600"/>
            <a:ext cx="2031840" cy="52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108400"/>
            <a:ext cx="2031840" cy="52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5718240"/>
            <a:ext cx="2031840" cy="520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127320"/>
            <a:ext cx="1981440" cy="36828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603440"/>
            <a:ext cx="2438280" cy="457200"/>
          </a:xfrm>
          <a:prstGeom prst="rect">
            <a:avLst/>
          </a:prstGeom>
          <a:solidFill>
            <a:srgbClr val="063d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127320"/>
            <a:ext cx="1981080" cy="349200"/>
          </a:xfrm>
          <a:prstGeom prst="rect">
            <a:avLst/>
          </a:prstGeom>
          <a:noFill/>
          <a:ln w="28440">
            <a:solidFill>
              <a:srgbClr val="269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3127320"/>
            <a:ext cx="1981080" cy="362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3124080"/>
            <a:ext cx="205740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2760" y="3201840"/>
            <a:ext cx="18446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ip Structural Envelop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8680" y="3203640"/>
            <a:ext cx="14472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istribution Syste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3800" y="3203640"/>
            <a:ext cx="21222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ission Subsystems/Equip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3203640"/>
            <a:ext cx="13716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508200"/>
            <a:ext cx="0" cy="182880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508200"/>
            <a:ext cx="0" cy="1828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08200"/>
            <a:ext cx="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35082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337000"/>
            <a:ext cx="76320" cy="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8600" y="4651200"/>
            <a:ext cx="76320" cy="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8200"/>
            <a:ext cx="0" cy="182880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965400"/>
            <a:ext cx="76320" cy="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438280" y="3965400"/>
            <a:ext cx="763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4651200"/>
            <a:ext cx="763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4422600"/>
            <a:ext cx="2031840" cy="520920"/>
          </a:xfrm>
          <a:prstGeom prst="rect">
            <a:avLst/>
          </a:prstGeom>
          <a:noFill/>
          <a:ln w="28440">
            <a:solidFill>
              <a:srgbClr val="269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5337000"/>
            <a:ext cx="763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5337000"/>
            <a:ext cx="76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724280" y="4651200"/>
            <a:ext cx="76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24280" y="3965400"/>
            <a:ext cx="76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736800"/>
            <a:ext cx="2031840" cy="520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933960" y="39654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4419720"/>
            <a:ext cx="1905120" cy="539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933960" y="46512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3813120"/>
            <a:ext cx="1752480" cy="362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5946840"/>
            <a:ext cx="76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813120"/>
            <a:ext cx="1905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ip Arrangem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SO AP 2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498920"/>
            <a:ext cx="1905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ip Molded For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SO AP 2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184720"/>
            <a:ext cx="1857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ip Structur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SO AP 2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3813120"/>
            <a:ext cx="1828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ip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SO AP 2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4521240"/>
            <a:ext cx="19047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VA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SO AP 2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5207040"/>
            <a:ext cx="19047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lectric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SO AP 2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813120"/>
            <a:ext cx="19047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ip Mechanical Syste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SO AP 2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521240"/>
            <a:ext cx="190476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utfit and Furnishing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5207040"/>
            <a:ext cx="190476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lectron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5816520"/>
            <a:ext cx="190476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3809880"/>
            <a:ext cx="1752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per Logs, Records, Messages ISO AP 2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289240"/>
            <a:ext cx="1828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rt Library 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SO 1358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SO TC 184/SC 4/WG 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2289240"/>
            <a:ext cx="22860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ip Common Mod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SO 10303, Part 102 (Withdrawn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SO TC 184/SC 4/WG 3/T 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5200" y="1603440"/>
            <a:ext cx="2311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ip Product Model Data 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SO TC 184/SC 4/WG 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20606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13660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736800"/>
            <a:ext cx="2031840" cy="52092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21366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297504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05100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21366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212920"/>
            <a:ext cx="198108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21366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1366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05100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05100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305100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24680" y="305100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4419720"/>
            <a:ext cx="1905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ineering Analysi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SO AP 209, 2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943600" y="2057400"/>
            <a:ext cx="3200400" cy="838080"/>
            <a:chOff x="5943600" y="2057400"/>
            <a:chExt cx="3200400" cy="838080"/>
          </a:xfrm>
        </p:grpSpPr>
        <p:sp>
          <p:nvSpPr>
            <p:cNvPr id="136" name=""/>
            <p:cNvSpPr/>
            <p:nvPr/>
          </p:nvSpPr>
          <p:spPr>
            <a:xfrm>
              <a:off x="5943600" y="2057400"/>
              <a:ext cx="3200400" cy="838080"/>
            </a:xfrm>
            <a:custGeom>
              <a:avLst/>
              <a:gdLst/>
              <a:ahLst/>
              <a:rect l="l" t="t" r="r" b="b"/>
              <a:pathLst>
                <a:path w="4717" h="1159">
                  <a:moveTo>
                    <a:pt x="0" y="514"/>
                  </a:moveTo>
                  <a:lnTo>
                    <a:pt x="100" y="859"/>
                  </a:lnTo>
                  <a:cubicBezTo>
                    <a:pt x="586" y="1015"/>
                    <a:pt x="894" y="1138"/>
                    <a:pt x="1608" y="1159"/>
                  </a:cubicBezTo>
                  <a:cubicBezTo>
                    <a:pt x="3000" y="1159"/>
                    <a:pt x="3946" y="1156"/>
                    <a:pt x="4381" y="1159"/>
                  </a:cubicBezTo>
                  <a:cubicBezTo>
                    <a:pt x="4717" y="1123"/>
                    <a:pt x="4608" y="850"/>
                    <a:pt x="4399" y="923"/>
                  </a:cubicBezTo>
                  <a:cubicBezTo>
                    <a:pt x="4500" y="685"/>
                    <a:pt x="4532" y="676"/>
                    <a:pt x="4595" y="513"/>
                  </a:cubicBezTo>
                  <a:cubicBezTo>
                    <a:pt x="4067" y="513"/>
                    <a:pt x="3503" y="514"/>
                    <a:pt x="3503" y="514"/>
                  </a:cubicBezTo>
                  <a:lnTo>
                    <a:pt x="3405" y="309"/>
                  </a:lnTo>
                  <a:lnTo>
                    <a:pt x="3196" y="309"/>
                  </a:lnTo>
                  <a:lnTo>
                    <a:pt x="3060" y="0"/>
                  </a:lnTo>
                  <a:lnTo>
                    <a:pt x="2496" y="0"/>
                  </a:lnTo>
                  <a:lnTo>
                    <a:pt x="2442" y="145"/>
                  </a:lnTo>
                  <a:lnTo>
                    <a:pt x="1751" y="145"/>
                  </a:lnTo>
                  <a:lnTo>
                    <a:pt x="1696" y="0"/>
                  </a:lnTo>
                  <a:lnTo>
                    <a:pt x="1560" y="0"/>
                  </a:lnTo>
                  <a:lnTo>
                    <a:pt x="1460" y="327"/>
                  </a:lnTo>
                  <a:lnTo>
                    <a:pt x="987" y="327"/>
                  </a:lnTo>
                  <a:lnTo>
                    <a:pt x="911" y="514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063de8"/>
            </a:solidFill>
            <a:ln w="381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53040" y="2404440"/>
              <a:ext cx="1666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23080" y="2473560"/>
              <a:ext cx="1299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73560" y="2543400"/>
              <a:ext cx="7531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23080" y="2612520"/>
              <a:ext cx="297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3160" y="2786040"/>
              <a:ext cx="14608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16120" y="2508480"/>
              <a:ext cx="14616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69400" y="2682000"/>
              <a:ext cx="10094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823080" y="2473200"/>
              <a:ext cx="0" cy="3121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116120" y="2404080"/>
              <a:ext cx="0" cy="277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8027640" y="2300040"/>
              <a:ext cx="0" cy="486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269400" y="2404080"/>
              <a:ext cx="0" cy="277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278840" y="2300040"/>
              <a:ext cx="0" cy="486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027640" y="2682000"/>
              <a:ext cx="550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63600" y="2726640"/>
              <a:ext cx="227520" cy="109080"/>
            </a:xfrm>
            <a:prstGeom prst="rect">
              <a:avLst/>
            </a:prstGeom>
            <a:solidFill>
              <a:srgbClr val="c9012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9000" y="2433960"/>
              <a:ext cx="86760" cy="92520"/>
            </a:xfrm>
            <a:prstGeom prst="ellipse">
              <a:avLst/>
            </a:prstGeom>
            <a:solidFill>
              <a:srgbClr val="c9012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7640" y="2353680"/>
              <a:ext cx="86400" cy="92520"/>
            </a:xfrm>
            <a:prstGeom prst="ellipse">
              <a:avLst/>
            </a:prstGeom>
            <a:solidFill>
              <a:srgbClr val="c9012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05680" y="2256840"/>
              <a:ext cx="129600" cy="138240"/>
            </a:xfrm>
            <a:prstGeom prst="triangle">
              <a:avLst>
                <a:gd name="adj" fmla="val 50000"/>
              </a:avLst>
            </a:prstGeom>
            <a:solidFill>
              <a:srgbClr val="c9012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13800" y="2480400"/>
              <a:ext cx="123480" cy="131400"/>
            </a:xfrm>
            <a:prstGeom prst="diamond">
              <a:avLst/>
            </a:prstGeom>
            <a:solidFill>
              <a:srgbClr val="c9012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11160" y="2237040"/>
              <a:ext cx="135720" cy="118440"/>
            </a:xfrm>
            <a:prstGeom prst="can">
              <a:avLst>
                <a:gd name="adj" fmla="val 25000"/>
              </a:avLst>
            </a:prstGeom>
            <a:solidFill>
              <a:srgbClr val="c9012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44480" y="2224080"/>
              <a:ext cx="135720" cy="111600"/>
            </a:xfrm>
            <a:prstGeom prst="rect">
              <a:avLst/>
            </a:prstGeom>
            <a:solidFill>
              <a:srgbClr val="c9012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82760" y="2635200"/>
              <a:ext cx="86400" cy="92160"/>
            </a:xfrm>
            <a:prstGeom prst="ellipse">
              <a:avLst/>
            </a:prstGeom>
            <a:solidFill>
              <a:srgbClr val="c9012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71600" y="2398680"/>
              <a:ext cx="128880" cy="137520"/>
            </a:xfrm>
            <a:prstGeom prst="triangle">
              <a:avLst>
                <a:gd name="adj" fmla="val 50000"/>
              </a:avLst>
            </a:prstGeom>
            <a:solidFill>
              <a:srgbClr val="c9012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728920" y="2744280"/>
              <a:ext cx="86760" cy="92520"/>
            </a:xfrm>
            <a:prstGeom prst="ellipse">
              <a:avLst/>
            </a:prstGeom>
            <a:solidFill>
              <a:srgbClr val="c9012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867280" y="1219320"/>
            <a:ext cx="312444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ff"/>
                </a:solidFill>
                <a:latin typeface="Arial"/>
              </a:rPr>
              <a:t>Ship Structural Envelope (hull form, arrangements, structure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269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9a37"/>
                </a:solidFill>
                <a:latin typeface="Arial"/>
              </a:rPr>
              <a:t>Distributed Systems (piping, electrical, HVAC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Mission Subsystems/Equipment (mechanical, electronics, outfit and furnishings, weapon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0960" y="6018120"/>
            <a:ext cx="289080" cy="19044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0520" y="6066000"/>
            <a:ext cx="142920" cy="82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0960" y="6246720"/>
            <a:ext cx="289080" cy="19044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0960" y="6475320"/>
            <a:ext cx="289080" cy="1810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AP 216 Example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447920" y="1676520"/>
          <a:ext cx="6360840" cy="47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676520"/>
                    <a:ext cx="6360840" cy="47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970560" y="1184400"/>
            <a:ext cx="64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EP test ship – 120’ Torpedo Weapon Retrie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Contents of the AP 214 file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7" name=""/>
          <p:cNvSpPr/>
          <p:nvPr/>
        </p:nvSpPr>
        <p:spPr>
          <a:xfrm>
            <a:off x="3581640" y="1295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57280" y="1981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_definition_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93320" y="27432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_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64000" y="350532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_definition_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80600" y="4267080"/>
            <a:ext cx="41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pe_definition_re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98640" y="5105520"/>
            <a:ext cx="56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_manifold_surface_shape_re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191120" y="38862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91120" y="4724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191120" y="312372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191120" y="236232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191120" y="167652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Contents of the AP 216 file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9" name=""/>
          <p:cNvSpPr/>
          <p:nvPr/>
        </p:nvSpPr>
        <p:spPr>
          <a:xfrm>
            <a:off x="3581640" y="1295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061640" y="1981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_definition_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97680" y="27432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_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68720" y="350532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_definition_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85320" y="4267080"/>
            <a:ext cx="41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pe_definition_re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3360" y="5105520"/>
            <a:ext cx="56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_manifold_surface_shape_re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895480" y="38862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95480" y="4724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95480" y="312372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895480" y="236232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3048120" y="1676520"/>
            <a:ext cx="11430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76440" y="1981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_definition_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77640" y="27432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_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83520" y="358128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_definition_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47480" y="4572000"/>
            <a:ext cx="41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pe_definition_re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38640" y="5638680"/>
            <a:ext cx="56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_manifold_surface_shape_re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7086600" y="4038480"/>
            <a:ext cx="0" cy="609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934320" y="502920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6934320" y="32004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934320" y="243792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4343040" y="1676520"/>
            <a:ext cx="259092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4160" y="13716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880" y="13716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lk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9127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SE STEP and XML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4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SE Information Interoperability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5" name=""/>
          <p:cNvSpPr/>
          <p:nvPr/>
        </p:nvSpPr>
        <p:spPr>
          <a:xfrm>
            <a:off x="2543040" y="1038240"/>
            <a:ext cx="343080" cy="5057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38320" y="61405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TEP / 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619200" y="952560"/>
            <a:ext cx="1914480" cy="5229000"/>
            <a:chOff x="619200" y="952560"/>
            <a:chExt cx="1914480" cy="5229000"/>
          </a:xfrm>
        </p:grpSpPr>
        <p:sp>
          <p:nvSpPr>
            <p:cNvPr id="488" name=""/>
            <p:cNvSpPr/>
            <p:nvPr/>
          </p:nvSpPr>
          <p:spPr>
            <a:xfrm>
              <a:off x="814320" y="952560"/>
              <a:ext cx="1095480" cy="809640"/>
            </a:xfrm>
            <a:prstGeom prst="can">
              <a:avLst>
                <a:gd name="adj" fmla="val 16861"/>
              </a:avLst>
            </a:prstGeom>
            <a:solidFill>
              <a:srgbClr val="cf0e30"/>
            </a:soli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Par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ISO 1358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PLIB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3880" y="1990800"/>
              <a:ext cx="1476360" cy="1971720"/>
            </a:xfrm>
            <a:prstGeom prst="can">
              <a:avLst>
                <a:gd name="adj" fmla="val 14412"/>
              </a:avLst>
            </a:prstGeom>
            <a:solidFill>
              <a:srgbClr val="cf0e30"/>
            </a:soli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Product 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ISO 10303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227 Pip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P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216 Hull Form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218 Structur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209 Analy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STEP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4320" y="4181400"/>
              <a:ext cx="1095480" cy="809640"/>
            </a:xfrm>
            <a:prstGeom prst="can">
              <a:avLst>
                <a:gd name="adj" fmla="val 18037"/>
              </a:avLst>
            </a:prstGeom>
            <a:solidFill>
              <a:srgbClr val="cf0e30"/>
            </a:soli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CAM-N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ISO 1465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STEP-NC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9200" y="5372280"/>
              <a:ext cx="1485720" cy="809280"/>
            </a:xfrm>
            <a:prstGeom prst="can">
              <a:avLst>
                <a:gd name="adj" fmla="val 18037"/>
              </a:avLst>
            </a:prstGeom>
            <a:solidFill>
              <a:srgbClr val="cf0e30"/>
            </a:soli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ER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ISO1553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ebXML, OAGIS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95400" y="1352520"/>
              <a:ext cx="638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24000" y="3029040"/>
              <a:ext cx="409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95400" y="4619520"/>
              <a:ext cx="638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24000" y="5753160"/>
              <a:ext cx="409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132080" y="1633320"/>
            <a:ext cx="1886040" cy="38660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Part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---------------------------------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---------------------------------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/Part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Product Data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---------------------------------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---------------------------------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/Product Data 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CAM-NC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---------------------------------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---------------------------------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/CAM-NC 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ER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---------------------------------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---------------------------------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/ERP 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95480" y="4038480"/>
            <a:ext cx="12099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6953400" y="1214280"/>
            <a:ext cx="1504800" cy="4705560"/>
            <a:chOff x="6953400" y="1214280"/>
            <a:chExt cx="1504800" cy="4705560"/>
          </a:xfrm>
        </p:grpSpPr>
        <p:sp>
          <p:nvSpPr>
            <p:cNvPr id="499" name=""/>
            <p:cNvSpPr/>
            <p:nvPr/>
          </p:nvSpPr>
          <p:spPr>
            <a:xfrm>
              <a:off x="6953400" y="1214280"/>
              <a:ext cx="1504800" cy="561960"/>
            </a:xfrm>
            <a:prstGeom prst="rect">
              <a:avLst/>
            </a:prstGeom>
            <a:solidFill>
              <a:srgbClr val="6699ff"/>
            </a:soli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53400" y="2043000"/>
              <a:ext cx="1504800" cy="561960"/>
            </a:xfrm>
            <a:prstGeom prst="rect">
              <a:avLst/>
            </a:prstGeom>
            <a:solidFill>
              <a:srgbClr val="6699ff"/>
            </a:soli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nalys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53400" y="2871720"/>
              <a:ext cx="1504800" cy="561960"/>
            </a:xfrm>
            <a:prstGeom prst="rect">
              <a:avLst/>
            </a:prstGeom>
            <a:solidFill>
              <a:srgbClr val="6699ff"/>
            </a:soli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rodu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lann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53400" y="3700440"/>
              <a:ext cx="1504800" cy="561960"/>
            </a:xfrm>
            <a:prstGeom prst="rect">
              <a:avLst/>
            </a:prstGeom>
            <a:solidFill>
              <a:srgbClr val="6699ff"/>
            </a:soli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anufacturing /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utf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53400" y="4529160"/>
              <a:ext cx="1504800" cy="561960"/>
            </a:xfrm>
            <a:prstGeom prst="rect">
              <a:avLst/>
            </a:prstGeom>
            <a:solidFill>
              <a:srgbClr val="6699ff"/>
            </a:soli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llabo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53400" y="5357880"/>
              <a:ext cx="1504800" cy="561960"/>
            </a:xfrm>
            <a:prstGeom prst="rect">
              <a:avLst/>
            </a:prstGeom>
            <a:solidFill>
              <a:srgbClr val="6699ff"/>
            </a:soli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ife-Cyc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up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V="1">
            <a:off x="6029280" y="1476000"/>
            <a:ext cx="914400" cy="476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19920" y="2343240"/>
            <a:ext cx="933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19920" y="3143160"/>
            <a:ext cx="933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3952800"/>
            <a:ext cx="933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9920" y="4762440"/>
            <a:ext cx="933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29280" y="5172120"/>
            <a:ext cx="914400" cy="476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72440" y="542196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SE Virtual Docu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81880" y="5729400"/>
            <a:ext cx="293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ctronic Deliver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operability (system-to-syste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ata Ex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320" y="3505320"/>
            <a:ext cx="64008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80880" y="259092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SE Infrastructure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6360" y="1144440"/>
            <a:ext cx="8454960" cy="241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25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EP/XM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ISE Architectur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EP shipbuilding standards (APs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Interoperability Use Cases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6324480" y="2362320"/>
            <a:ext cx="2439360" cy="2742840"/>
            <a:chOff x="6324480" y="2362320"/>
            <a:chExt cx="2439360" cy="2742840"/>
          </a:xfrm>
        </p:grpSpPr>
        <p:sp>
          <p:nvSpPr>
            <p:cNvPr id="519" name=""/>
            <p:cNvSpPr/>
            <p:nvPr/>
          </p:nvSpPr>
          <p:spPr>
            <a:xfrm>
              <a:off x="7177320" y="3407040"/>
              <a:ext cx="1508760" cy="1698120"/>
            </a:xfrm>
            <a:prstGeom prst="can">
              <a:avLst>
                <a:gd name="adj" fmla="val 25000"/>
              </a:avLst>
            </a:prstGeom>
            <a:solidFill>
              <a:srgbClr val="cf0e3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2"/>
            <a:stretch/>
          </p:blipFill>
          <p:spPr>
            <a:xfrm>
              <a:off x="6324480" y="2362320"/>
              <a:ext cx="1411920" cy="19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7184160" y="4317120"/>
              <a:ext cx="157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form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0920" y="2590920"/>
            <a:ext cx="3657600" cy="1676160"/>
          </a:xfrm>
          <a:prstGeom prst="ellipse">
            <a:avLst/>
          </a:prstGeom>
          <a:solidFill>
            <a:srgbClr val="063de8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809880" y="1828800"/>
            <a:ext cx="1295280" cy="1371600"/>
            <a:chOff x="3809880" y="1828800"/>
            <a:chExt cx="1295280" cy="1371600"/>
          </a:xfrm>
        </p:grpSpPr>
        <p:sp>
          <p:nvSpPr>
            <p:cNvPr id="524" name=""/>
            <p:cNvSpPr/>
            <p:nvPr/>
          </p:nvSpPr>
          <p:spPr>
            <a:xfrm>
              <a:off x="3809880" y="1828800"/>
              <a:ext cx="1295280" cy="1371600"/>
            </a:xfrm>
            <a:prstGeom prst="rect">
              <a:avLst/>
            </a:prstGeom>
            <a:solidFill>
              <a:srgbClr val="063de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14560" y="1981080"/>
              <a:ext cx="1245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XML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Part …./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Part …./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XML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887280" y="136836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33520" y="1676520"/>
            <a:ext cx="2023560" cy="2688840"/>
            <a:chOff x="533520" y="1676520"/>
            <a:chExt cx="2023560" cy="2688840"/>
          </a:xfrm>
        </p:grpSpPr>
        <p:grpSp>
          <p:nvGrpSpPr>
            <p:cNvPr id="528" name=""/>
            <p:cNvGrpSpPr/>
            <p:nvPr/>
          </p:nvGrpSpPr>
          <p:grpSpPr>
            <a:xfrm>
              <a:off x="533520" y="2666880"/>
              <a:ext cx="1585440" cy="1698480"/>
              <a:chOff x="533520" y="2666880"/>
              <a:chExt cx="1585440" cy="1698480"/>
            </a:xfrm>
          </p:grpSpPr>
          <p:sp>
            <p:nvSpPr>
              <p:cNvPr id="529" name=""/>
              <p:cNvSpPr/>
              <p:nvPr/>
            </p:nvSpPr>
            <p:spPr>
              <a:xfrm>
                <a:off x="533520" y="2666880"/>
                <a:ext cx="1510200" cy="1698480"/>
              </a:xfrm>
              <a:prstGeom prst="can">
                <a:avLst>
                  <a:gd name="adj" fmla="val 25000"/>
                </a:avLst>
              </a:prstGeom>
              <a:solidFill>
                <a:srgbClr val="cf0e3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39280" y="3578040"/>
                <a:ext cx="1579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Informati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positor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31" name="" descr=""/>
            <p:cNvPicPr/>
            <p:nvPr/>
          </p:nvPicPr>
          <p:blipFill>
            <a:blip r:embed="rId3"/>
            <a:stretch/>
          </p:blipFill>
          <p:spPr>
            <a:xfrm>
              <a:off x="1143360" y="1676520"/>
              <a:ext cx="1413720" cy="19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"/>
          <p:cNvSpPr/>
          <p:nvPr/>
        </p:nvSpPr>
        <p:spPr>
          <a:xfrm>
            <a:off x="4344120" y="320040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twork 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neak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1982880" y="4724280"/>
            <a:ext cx="1492200" cy="1865520"/>
          </a:xfrm>
          <a:prstGeom prst="rect">
            <a:avLst/>
          </a:prstGeom>
          <a:ln w="0">
            <a:noFill/>
          </a:ln>
        </p:spPr>
      </p:pic>
      <p:grpSp>
        <p:nvGrpSpPr>
          <p:cNvPr id="534" name=""/>
          <p:cNvGrpSpPr/>
          <p:nvPr/>
        </p:nvGrpSpPr>
        <p:grpSpPr>
          <a:xfrm>
            <a:off x="2895480" y="3657600"/>
            <a:ext cx="1295280" cy="1371600"/>
            <a:chOff x="2895480" y="3657600"/>
            <a:chExt cx="1295280" cy="1371600"/>
          </a:xfrm>
        </p:grpSpPr>
        <p:sp>
          <p:nvSpPr>
            <p:cNvPr id="535" name=""/>
            <p:cNvSpPr/>
            <p:nvPr/>
          </p:nvSpPr>
          <p:spPr>
            <a:xfrm>
              <a:off x="2895480" y="3657600"/>
              <a:ext cx="1295280" cy="1371600"/>
            </a:xfrm>
            <a:prstGeom prst="rect">
              <a:avLst/>
            </a:prstGeom>
            <a:solidFill>
              <a:srgbClr val="063de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900160" y="3809880"/>
              <a:ext cx="1245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XML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Part …./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Part …./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XML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429000" y="3886200"/>
            <a:ext cx="1295280" cy="1371600"/>
            <a:chOff x="3429000" y="3886200"/>
            <a:chExt cx="1295280" cy="1371600"/>
          </a:xfrm>
        </p:grpSpPr>
        <p:sp>
          <p:nvSpPr>
            <p:cNvPr id="538" name=""/>
            <p:cNvSpPr/>
            <p:nvPr/>
          </p:nvSpPr>
          <p:spPr>
            <a:xfrm>
              <a:off x="3429000" y="3886200"/>
              <a:ext cx="1295280" cy="1371600"/>
            </a:xfrm>
            <a:prstGeom prst="rect">
              <a:avLst/>
            </a:prstGeom>
            <a:solidFill>
              <a:srgbClr val="063de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29000" y="40384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583440" y="4191120"/>
            <a:ext cx="91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XSLT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XS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48240" y="613584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2B Use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040" y="441792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2A Use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Web Services Architecture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4" name=""/>
          <p:cNvSpPr/>
          <p:nvPr/>
        </p:nvSpPr>
        <p:spPr>
          <a:xfrm>
            <a:off x="1752480" y="5791320"/>
            <a:ext cx="5334120" cy="7617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Network </a:t>
            </a: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(HTTP, FTP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752480" y="4876920"/>
            <a:ext cx="5334120" cy="7617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XML-messaging </a:t>
            </a: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(SOA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752480" y="4038480"/>
            <a:ext cx="5334120" cy="762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XML-information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STEP/XM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52480" y="3200400"/>
            <a:ext cx="5334120" cy="7621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Service Description </a:t>
            </a: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(WSD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1143000"/>
            <a:ext cx="5334120" cy="7621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Service Yellow Pages </a:t>
            </a: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(UDD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752480" y="2362320"/>
            <a:ext cx="5334120" cy="7617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Service flow </a:t>
            </a: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(WSF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SE Architecture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6000" y="990360"/>
            <a:ext cx="8304120" cy="508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1 Executive Summ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2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3 XML 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4 Subject Area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5 Interoperability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01 Standard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SEB recommend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/SOAP recommend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02 Edo key (persistent identifier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DO identifier recommend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GUID propos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03 Edo associat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6 Information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7 Messaging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8 Reference Architecture (Workboo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385920" y="1168200"/>
            <a:ext cx="8059680" cy="46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 business objec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capsulate, localize mapping of XML business objects to native data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ation, Business Logic, Mess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nipulate data in a uniform, consistent XML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sources loosely coupled to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y to add new data sour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changes to business log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320040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886200" y="2438280"/>
            <a:ext cx="459720" cy="1219320"/>
            <a:chOff x="3886200" y="2438280"/>
            <a:chExt cx="459720" cy="1219320"/>
          </a:xfrm>
        </p:grpSpPr>
        <p:sp>
          <p:nvSpPr>
            <p:cNvPr id="555" name=""/>
            <p:cNvSpPr/>
            <p:nvPr/>
          </p:nvSpPr>
          <p:spPr>
            <a:xfrm>
              <a:off x="3962520" y="2438280"/>
              <a:ext cx="380880" cy="1219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6200000">
              <a:off x="3534120" y="279072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dap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4419720" y="297180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66880" y="3352680"/>
            <a:ext cx="1143000" cy="30492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XML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09680" y="289548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62320" y="2438280"/>
            <a:ext cx="1371600" cy="30492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XML Requ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10080" y="2590920"/>
            <a:ext cx="685800" cy="685800"/>
          </a:xfrm>
          <a:prstGeom prst="can">
            <a:avLst>
              <a:gd name="adj" fmla="val 25000"/>
            </a:avLst>
          </a:prstGeom>
          <a:solidFill>
            <a:srgbClr val="cf0e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nteroperability Approach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216" descr=""/>
          <p:cNvPicPr/>
          <p:nvPr/>
        </p:nvPicPr>
        <p:blipFill>
          <a:blip r:embed="rId2"/>
          <a:stretch/>
        </p:blipFill>
        <p:spPr>
          <a:xfrm>
            <a:off x="1058760" y="990720"/>
            <a:ext cx="6865920" cy="5149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AP 216 – Ship Moulded Forms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"/>
          <p:cNvSpPr/>
          <p:nvPr/>
        </p:nvSpPr>
        <p:spPr>
          <a:xfrm>
            <a:off x="454320" y="6095880"/>
            <a:ext cx="506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Status: DIS ballot closes May 200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971800" y="2498760"/>
            <a:ext cx="3581280" cy="25909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XML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= Industry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Container fo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00400" y="3413160"/>
            <a:ext cx="3124080" cy="15238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TEP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= ISO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Language for Data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52680" y="4251240"/>
            <a:ext cx="281952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3260880"/>
            <a:ext cx="1447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379404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629400" y="379404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165440" y="24210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6553080" y="265104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6400440" y="2803680"/>
            <a:ext cx="7621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28800" y="242244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467480" y="3260880"/>
            <a:ext cx="1447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56040" y="1523880"/>
            <a:ext cx="66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actions of Data Packaged in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667960" y="5261760"/>
            <a:ext cx="40716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SLT - map data to another XML sch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0040" y="168840"/>
            <a:ext cx="563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XML and ST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TEP/XML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6360" y="1144440"/>
            <a:ext cx="8454960" cy="53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24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SEB encoding adopted in ISO10303-28 (v1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igned by ISE team, adopted by PDES In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ing adopted by users and implemen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OAP encod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SE team has designed XML Schema approach based on SOAP stand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with International Alliance for Interoper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partment of Navy -- Interim policy on use of XML for data exchange (9/6/01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opts W3C Recommend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ablishes XML Repository (information model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TEP compliance strategy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1981080"/>
            <a:ext cx="1676160" cy="1143000"/>
          </a:xfrm>
          <a:prstGeom prst="flowChartDocumen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OS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XM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19920" y="1981080"/>
            <a:ext cx="1676160" cy="1143000"/>
          </a:xfrm>
          <a:prstGeom prst="flowChartDocumen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SO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XM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29000" y="2971800"/>
            <a:ext cx="1371600" cy="121932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XS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14400" y="4495680"/>
            <a:ext cx="1676520" cy="1143000"/>
          </a:xfrm>
          <a:prstGeom prst="flowChartDocumen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AIM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19920" y="4495680"/>
            <a:ext cx="1676160" cy="1143000"/>
          </a:xfrm>
          <a:prstGeom prst="flowChartDocumen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E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XM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83" idx="3"/>
            <a:endCxn id="582" idx="3"/>
          </p:cNvCxnSpPr>
          <p:nvPr/>
        </p:nvCxnSpPr>
        <p:spPr>
          <a:xfrm flipV="1">
            <a:off x="2590920" y="4012920"/>
            <a:ext cx="1040400" cy="10548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6" name=""/>
          <p:cNvCxnSpPr>
            <a:stCxn id="582" idx="5"/>
            <a:endCxn id="584" idx="1"/>
          </p:cNvCxnSpPr>
          <p:nvPr/>
        </p:nvCxnSpPr>
        <p:spPr>
          <a:xfrm>
            <a:off x="4598640" y="4013280"/>
            <a:ext cx="1421640" cy="10548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7" name=""/>
          <p:cNvCxnSpPr>
            <a:stCxn id="582" idx="6"/>
            <a:endCxn id="581" idx="1"/>
          </p:cNvCxnSpPr>
          <p:nvPr/>
        </p:nvCxnSpPr>
        <p:spPr>
          <a:xfrm flipV="1">
            <a:off x="4800240" y="2552400"/>
            <a:ext cx="1220040" cy="1028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8" name=""/>
          <p:cNvCxnSpPr>
            <a:stCxn id="580" idx="3"/>
            <a:endCxn id="582" idx="1"/>
          </p:cNvCxnSpPr>
          <p:nvPr/>
        </p:nvCxnSpPr>
        <p:spPr>
          <a:xfrm>
            <a:off x="2438280" y="2552760"/>
            <a:ext cx="1192680" cy="5976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9" name=""/>
          <p:cNvSpPr/>
          <p:nvPr/>
        </p:nvSpPr>
        <p:spPr>
          <a:xfrm>
            <a:off x="3485520" y="4286160"/>
            <a:ext cx="113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TEP XML compliance strategy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4648320"/>
            <a:ext cx="1218960" cy="167616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D  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1447920"/>
            <a:ext cx="1905120" cy="10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ipbuild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5562720"/>
            <a:ext cx="106704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743200" y="1752480"/>
            <a:ext cx="1066680" cy="762120"/>
          </a:xfrm>
          <a:prstGeom prst="rect">
            <a:avLst/>
          </a:prstGeom>
          <a:solidFill>
            <a:srgbClr val="cf0e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809880" y="1752480"/>
            <a:ext cx="2667240" cy="762120"/>
            <a:chOff x="3809880" y="1752480"/>
            <a:chExt cx="2667240" cy="762120"/>
          </a:xfrm>
        </p:grpSpPr>
        <p:sp>
          <p:nvSpPr>
            <p:cNvPr id="596" name=""/>
            <p:cNvSpPr/>
            <p:nvPr/>
          </p:nvSpPr>
          <p:spPr>
            <a:xfrm>
              <a:off x="4876920" y="1752480"/>
              <a:ext cx="1600200" cy="762120"/>
            </a:xfrm>
            <a:prstGeom prst="flowChartMultidocument">
              <a:avLst/>
            </a:prstGeom>
            <a:solidFill>
              <a:srgbClr val="cf0e3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DO XM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97" name=""/>
            <p:cNvCxnSpPr>
              <a:stCxn id="594" idx="3"/>
              <a:endCxn id="596" idx="1"/>
            </p:cNvCxnSpPr>
            <p:nvPr/>
          </p:nvCxnSpPr>
          <p:spPr>
            <a:xfrm>
              <a:off x="3809880" y="2133360"/>
              <a:ext cx="106776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598" name=""/>
          <p:cNvGrpSpPr/>
          <p:nvPr/>
        </p:nvGrpSpPr>
        <p:grpSpPr>
          <a:xfrm>
            <a:off x="3048120" y="5562720"/>
            <a:ext cx="3429000" cy="761760"/>
            <a:chOff x="3048120" y="5562720"/>
            <a:chExt cx="3429000" cy="761760"/>
          </a:xfrm>
        </p:grpSpPr>
        <p:sp>
          <p:nvSpPr>
            <p:cNvPr id="599" name=""/>
            <p:cNvSpPr/>
            <p:nvPr/>
          </p:nvSpPr>
          <p:spPr>
            <a:xfrm>
              <a:off x="4876920" y="5562720"/>
              <a:ext cx="1600200" cy="761760"/>
            </a:xfrm>
            <a:prstGeom prst="flowChartMultidocument">
              <a:avLst/>
            </a:prstGeom>
            <a:solidFill>
              <a:srgbClr val="e0bd0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EP XM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0" name=""/>
            <p:cNvCxnSpPr>
              <a:stCxn id="593" idx="3"/>
              <a:endCxn id="599" idx="1"/>
            </p:cNvCxnSpPr>
            <p:nvPr/>
          </p:nvCxnSpPr>
          <p:spPr>
            <a:xfrm>
              <a:off x="3048120" y="5943240"/>
              <a:ext cx="182952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601" name=""/>
          <p:cNvGrpSpPr/>
          <p:nvPr/>
        </p:nvGrpSpPr>
        <p:grpSpPr>
          <a:xfrm>
            <a:off x="5105520" y="2453760"/>
            <a:ext cx="1143000" cy="3108600"/>
            <a:chOff x="5105520" y="2453760"/>
            <a:chExt cx="1143000" cy="3108600"/>
          </a:xfrm>
        </p:grpSpPr>
        <p:sp>
          <p:nvSpPr>
            <p:cNvPr id="602" name=""/>
            <p:cNvSpPr/>
            <p:nvPr/>
          </p:nvSpPr>
          <p:spPr>
            <a:xfrm>
              <a:off x="5105520" y="3429000"/>
              <a:ext cx="1143000" cy="914400"/>
            </a:xfrm>
            <a:prstGeom prst="rect">
              <a:avLst/>
            </a:prstGeom>
            <a:solidFill>
              <a:srgbClr val="cf0e3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XSLT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n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3" name=""/>
            <p:cNvCxnSpPr>
              <a:stCxn id="602" idx="0"/>
              <a:endCxn id="596" idx="2"/>
            </p:cNvCxnSpPr>
            <p:nvPr/>
          </p:nvCxnSpPr>
          <p:spPr>
            <a:xfrm flipV="1">
              <a:off x="5676480" y="2453760"/>
              <a:ext cx="1080" cy="975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04" name=""/>
            <p:cNvCxnSpPr>
              <a:stCxn id="599" idx="0"/>
              <a:endCxn id="602" idx="2"/>
            </p:cNvCxnSpPr>
            <p:nvPr/>
          </p:nvCxnSpPr>
          <p:spPr>
            <a:xfrm flipV="1">
              <a:off x="5676480" y="4342680"/>
              <a:ext cx="1080" cy="12200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8600" y="5410080"/>
            <a:ext cx="8686800" cy="685800"/>
          </a:xfrm>
          <a:prstGeom prst="rect">
            <a:avLst/>
          </a:prstGeom>
          <a:solidFill>
            <a:srgbClr val="cf0e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Commo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14400" y="4724280"/>
            <a:ext cx="80010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ip Common Model (SC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447920" y="3886200"/>
            <a:ext cx="7391160" cy="609480"/>
            <a:chOff x="1447920" y="3886200"/>
            <a:chExt cx="7391160" cy="609480"/>
          </a:xfrm>
        </p:grpSpPr>
        <p:sp>
          <p:nvSpPr>
            <p:cNvPr id="609" name=""/>
            <p:cNvSpPr/>
            <p:nvPr/>
          </p:nvSpPr>
          <p:spPr>
            <a:xfrm>
              <a:off x="1447920" y="3886200"/>
              <a:ext cx="160020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 21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lded For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76720" y="3886200"/>
              <a:ext cx="152388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 2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rrangeme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29200" y="3886200"/>
              <a:ext cx="114300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 21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00800" y="3886200"/>
              <a:ext cx="114300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 22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ech Sy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72400" y="3886200"/>
              <a:ext cx="106668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 23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p. Log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152280" y="3886200"/>
            <a:ext cx="1067040" cy="609480"/>
          </a:xfrm>
          <a:prstGeom prst="rect">
            <a:avLst/>
          </a:prstGeom>
          <a:solidFill>
            <a:srgbClr val="cf0e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 227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. S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20089800">
            <a:off x="156600" y="175248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Animated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hipbuilding AP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1981080" y="1295280"/>
            <a:ext cx="6858000" cy="1447920"/>
            <a:chOff x="1981080" y="1295280"/>
            <a:chExt cx="6858000" cy="1447920"/>
          </a:xfrm>
        </p:grpSpPr>
        <p:sp>
          <p:nvSpPr>
            <p:cNvPr id="619" name=""/>
            <p:cNvSpPr/>
            <p:nvPr/>
          </p:nvSpPr>
          <p:spPr>
            <a:xfrm>
              <a:off x="1981080" y="1295280"/>
              <a:ext cx="6858000" cy="1447920"/>
            </a:xfrm>
            <a:prstGeom prst="roundRect">
              <a:avLst>
                <a:gd name="adj" fmla="val 16667"/>
              </a:avLst>
            </a:prstGeom>
            <a:solidFill>
              <a:srgbClr val="99ffcc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5b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14800" y="1828800"/>
              <a:ext cx="160020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vy Legacy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mespa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62320" y="1828800"/>
              <a:ext cx="160020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nterprise Sy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mespa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062080" y="1295280"/>
              <a:ext cx="253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Future PDM Intop Schem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6095880" y="1447920"/>
            <a:ext cx="2743200" cy="4876560"/>
            <a:chOff x="6095880" y="1447920"/>
            <a:chExt cx="2743200" cy="4876560"/>
          </a:xfrm>
        </p:grpSpPr>
        <p:sp>
          <p:nvSpPr>
            <p:cNvPr id="624" name=""/>
            <p:cNvSpPr/>
            <p:nvPr/>
          </p:nvSpPr>
          <p:spPr>
            <a:xfrm>
              <a:off x="6095880" y="1447920"/>
              <a:ext cx="2743200" cy="4876560"/>
            </a:xfrm>
            <a:custGeom>
              <a:avLst/>
              <a:gdLst>
                <a:gd name="textAreaLeft" fmla="*/ 133920 w 2743200"/>
                <a:gd name="textAreaRight" fmla="*/ 2609280 w 2743200"/>
                <a:gd name="textAreaTop" fmla="*/ 133920 h 4876560"/>
                <a:gd name="textAreaBottom" fmla="*/ 4742640 h 4876560"/>
              </a:gdLst>
              <a:ahLst/>
              <a:rect l="textAreaLeft" t="textAreaTop" r="textAreaRight" b="textAreaBottom"/>
              <a:pathLst>
                <a:path w="21600" h="38396">
                  <a:moveTo>
                    <a:pt x="3600" y="0"/>
                  </a:moveTo>
                  <a:arcTo wR="3600" hR="3600" stAng="16200000" swAng="-5400000"/>
                  <a:lnTo>
                    <a:pt x="0" y="34796"/>
                  </a:lnTo>
                  <a:arcTo wR="3600" hR="3600" stAng="10800000" swAng="-5400000"/>
                  <a:lnTo>
                    <a:pt x="18000" y="38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ffcc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5b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76880" y="1568520"/>
              <a:ext cx="26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urrent PDM Intop Schem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553080" y="2057400"/>
              <a:ext cx="160020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LSI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mesp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095880" y="2819520"/>
            <a:ext cx="2362320" cy="3429000"/>
            <a:chOff x="6095880" y="2819520"/>
            <a:chExt cx="2362320" cy="3429000"/>
          </a:xfrm>
        </p:grpSpPr>
        <p:sp>
          <p:nvSpPr>
            <p:cNvPr id="628" name=""/>
            <p:cNvSpPr/>
            <p:nvPr/>
          </p:nvSpPr>
          <p:spPr>
            <a:xfrm>
              <a:off x="6095880" y="2819520"/>
              <a:ext cx="2362320" cy="3429000"/>
            </a:xfrm>
            <a:custGeom>
              <a:avLst/>
              <a:gdLst>
                <a:gd name="textAreaLeft" fmla="*/ 115200 w 2362320"/>
                <a:gd name="textAreaRight" fmla="*/ 2247120 w 2362320"/>
                <a:gd name="textAreaTop" fmla="*/ 115200 h 3429000"/>
                <a:gd name="textAreaBottom" fmla="*/ 3313800 h 3429000"/>
              </a:gdLst>
              <a:ahLst/>
              <a:rect l="textAreaLeft" t="textAreaTop" r="textAreaRight" b="textAreaBottom"/>
              <a:pathLst>
                <a:path w="21600" h="31352">
                  <a:moveTo>
                    <a:pt x="3600" y="0"/>
                  </a:moveTo>
                  <a:arcTo wR="3600" hR="3600" stAng="16200000" swAng="-5400000"/>
                  <a:lnTo>
                    <a:pt x="0" y="27752"/>
                  </a:lnTo>
                  <a:arcTo wR="3600" hR="3600" stAng="10800000" swAng="-5400000"/>
                  <a:lnTo>
                    <a:pt x="18000" y="313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99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7998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477120" y="3352680"/>
              <a:ext cx="1600200" cy="609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DM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mesp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174720" y="2863800"/>
              <a:ext cx="174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SE PDM Schem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3432600" y="2819520"/>
            <a:ext cx="2486520" cy="3429000"/>
            <a:chOff x="3432600" y="2819520"/>
            <a:chExt cx="2486520" cy="3429000"/>
          </a:xfrm>
        </p:grpSpPr>
        <p:sp>
          <p:nvSpPr>
            <p:cNvPr id="632" name=""/>
            <p:cNvSpPr/>
            <p:nvPr/>
          </p:nvSpPr>
          <p:spPr>
            <a:xfrm>
              <a:off x="3504960" y="2819520"/>
              <a:ext cx="2362320" cy="3429000"/>
            </a:xfrm>
            <a:custGeom>
              <a:avLst/>
              <a:gdLst>
                <a:gd name="textAreaLeft" fmla="*/ 115200 w 2362320"/>
                <a:gd name="textAreaRight" fmla="*/ 2247120 w 2362320"/>
                <a:gd name="textAreaTop" fmla="*/ 115200 h 3429000"/>
                <a:gd name="textAreaBottom" fmla="*/ 3313800 h 3429000"/>
              </a:gdLst>
              <a:ahLst/>
              <a:rect l="textAreaLeft" t="textAreaTop" r="textAreaRight" b="textAreaBottom"/>
              <a:pathLst>
                <a:path w="21600" h="31352">
                  <a:moveTo>
                    <a:pt x="3600" y="0"/>
                  </a:moveTo>
                  <a:arcTo wR="3600" hR="3600" stAng="16200000" swAng="-5400000"/>
                  <a:lnTo>
                    <a:pt x="0" y="27752"/>
                  </a:lnTo>
                  <a:arcTo wR="3600" hR="3600" stAng="10800000" swAng="-5400000"/>
                  <a:lnTo>
                    <a:pt x="18000" y="313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99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7998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48040" y="3352680"/>
              <a:ext cx="1600200" cy="609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lded For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mesp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432600" y="2863800"/>
              <a:ext cx="24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SE Molded Form Schem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914400" y="2819520"/>
            <a:ext cx="2362320" cy="3429000"/>
            <a:chOff x="914400" y="2819520"/>
            <a:chExt cx="2362320" cy="3429000"/>
          </a:xfrm>
        </p:grpSpPr>
        <p:sp>
          <p:nvSpPr>
            <p:cNvPr id="636" name=""/>
            <p:cNvSpPr/>
            <p:nvPr/>
          </p:nvSpPr>
          <p:spPr>
            <a:xfrm>
              <a:off x="914400" y="2819520"/>
              <a:ext cx="2362320" cy="3429000"/>
            </a:xfrm>
            <a:custGeom>
              <a:avLst/>
              <a:gdLst>
                <a:gd name="textAreaLeft" fmla="*/ 115200 w 2362320"/>
                <a:gd name="textAreaRight" fmla="*/ 2247120 w 2362320"/>
                <a:gd name="textAreaTop" fmla="*/ 115200 h 3429000"/>
                <a:gd name="textAreaBottom" fmla="*/ 3313800 h 3429000"/>
              </a:gdLst>
              <a:ahLst/>
              <a:rect l="textAreaLeft" t="textAreaTop" r="textAreaRight" b="textAreaBottom"/>
              <a:pathLst>
                <a:path w="21600" h="31352">
                  <a:moveTo>
                    <a:pt x="3600" y="0"/>
                  </a:moveTo>
                  <a:arcTo wR="3600" hR="3600" stAng="16200000" swAng="-5400000"/>
                  <a:lnTo>
                    <a:pt x="0" y="27752"/>
                  </a:lnTo>
                  <a:arcTo wR="3600" hR="3600" stAng="10800000" swAng="-5400000"/>
                  <a:lnTo>
                    <a:pt x="18000" y="313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99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7998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71600" y="3352680"/>
              <a:ext cx="1295280" cy="609840"/>
            </a:xfrm>
            <a:prstGeom prst="rect">
              <a:avLst/>
            </a:prstGeom>
            <a:solidFill>
              <a:srgbClr val="cf0e3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ist. Sy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mesp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93960" y="28638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SE Dist Sys Schem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09480" y="4191120"/>
            <a:ext cx="800100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prise Data Object (EDO) Name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09480" y="4876920"/>
            <a:ext cx="8001000" cy="1218960"/>
            <a:chOff x="609480" y="4876920"/>
            <a:chExt cx="8001000" cy="1218960"/>
          </a:xfrm>
        </p:grpSpPr>
        <p:sp>
          <p:nvSpPr>
            <p:cNvPr id="641" name=""/>
            <p:cNvSpPr/>
            <p:nvPr/>
          </p:nvSpPr>
          <p:spPr>
            <a:xfrm>
              <a:off x="609480" y="5562720"/>
              <a:ext cx="8001000" cy="533160"/>
            </a:xfrm>
            <a:prstGeom prst="rect">
              <a:avLst/>
            </a:prstGeom>
            <a:solidFill>
              <a:srgbClr val="cf0e3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EP Namespa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4876920"/>
              <a:ext cx="80010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hip Common Model (SCM) Namespa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 rot="20089800">
            <a:off x="156600" y="175248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Animated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EDO XML Namespace Approach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385920" y="1168560"/>
            <a:ext cx="8059680" cy="502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E XML Sche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D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Enterprise Data Objec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y concept:  EDO ke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ISO STEP application level sche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 ISO STEP Part 28 XML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ll become a standard for shipbuilding indu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nt is to register tags with DII-COE XML regi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E EDO SCM Sch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bodies Ship Common Model product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 an ISO standa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ckbone of all Shipbuilding STEP AP standar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cludes IPDE product 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atial: Units, Zones, Compart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ional: syste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rts and occurre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EDO XML Schema Approach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981080" y="1295280"/>
            <a:ext cx="6858000" cy="1447920"/>
            <a:chOff x="1981080" y="1295280"/>
            <a:chExt cx="6858000" cy="1447920"/>
          </a:xfrm>
        </p:grpSpPr>
        <p:sp>
          <p:nvSpPr>
            <p:cNvPr id="649" name=""/>
            <p:cNvSpPr/>
            <p:nvPr/>
          </p:nvSpPr>
          <p:spPr>
            <a:xfrm>
              <a:off x="1981080" y="1295280"/>
              <a:ext cx="6858000" cy="1447920"/>
            </a:xfrm>
            <a:prstGeom prst="roundRect">
              <a:avLst>
                <a:gd name="adj" fmla="val 16667"/>
              </a:avLst>
            </a:prstGeom>
            <a:solidFill>
              <a:srgbClr val="99ffcc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5b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14800" y="1828800"/>
              <a:ext cx="160020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vy Legacy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mespa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62320" y="1828800"/>
              <a:ext cx="160020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nterprise Sy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mespa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62080" y="1295280"/>
              <a:ext cx="253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Future PDM Intop Schem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6095880" y="1447920"/>
            <a:ext cx="2743200" cy="4876560"/>
            <a:chOff x="6095880" y="1447920"/>
            <a:chExt cx="2743200" cy="4876560"/>
          </a:xfrm>
        </p:grpSpPr>
        <p:sp>
          <p:nvSpPr>
            <p:cNvPr id="654" name=""/>
            <p:cNvSpPr/>
            <p:nvPr/>
          </p:nvSpPr>
          <p:spPr>
            <a:xfrm>
              <a:off x="6095880" y="1447920"/>
              <a:ext cx="2743200" cy="4876560"/>
            </a:xfrm>
            <a:custGeom>
              <a:avLst/>
              <a:gdLst>
                <a:gd name="textAreaLeft" fmla="*/ 133920 w 2743200"/>
                <a:gd name="textAreaRight" fmla="*/ 2609280 w 2743200"/>
                <a:gd name="textAreaTop" fmla="*/ 133920 h 4876560"/>
                <a:gd name="textAreaBottom" fmla="*/ 4742640 h 4876560"/>
              </a:gdLst>
              <a:ahLst/>
              <a:rect l="textAreaLeft" t="textAreaTop" r="textAreaRight" b="textAreaBottom"/>
              <a:pathLst>
                <a:path w="21600" h="38396">
                  <a:moveTo>
                    <a:pt x="3600" y="0"/>
                  </a:moveTo>
                  <a:arcTo wR="3600" hR="3600" stAng="16200000" swAng="-5400000"/>
                  <a:lnTo>
                    <a:pt x="0" y="34796"/>
                  </a:lnTo>
                  <a:arcTo wR="3600" hR="3600" stAng="10800000" swAng="-5400000"/>
                  <a:lnTo>
                    <a:pt x="18000" y="38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ffcc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5b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176880" y="1568520"/>
              <a:ext cx="26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urrent PDM Intop Schem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53080" y="2057400"/>
              <a:ext cx="160020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LSI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mesp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095880" y="2819520"/>
            <a:ext cx="2362320" cy="3429000"/>
            <a:chOff x="6095880" y="2819520"/>
            <a:chExt cx="2362320" cy="3429000"/>
          </a:xfrm>
        </p:grpSpPr>
        <p:sp>
          <p:nvSpPr>
            <p:cNvPr id="658" name=""/>
            <p:cNvSpPr/>
            <p:nvPr/>
          </p:nvSpPr>
          <p:spPr>
            <a:xfrm>
              <a:off x="6095880" y="2819520"/>
              <a:ext cx="2362320" cy="3429000"/>
            </a:xfrm>
            <a:custGeom>
              <a:avLst/>
              <a:gdLst>
                <a:gd name="textAreaLeft" fmla="*/ 115200 w 2362320"/>
                <a:gd name="textAreaRight" fmla="*/ 2247120 w 2362320"/>
                <a:gd name="textAreaTop" fmla="*/ 115200 h 3429000"/>
                <a:gd name="textAreaBottom" fmla="*/ 3313800 h 3429000"/>
              </a:gdLst>
              <a:ahLst/>
              <a:rect l="textAreaLeft" t="textAreaTop" r="textAreaRight" b="textAreaBottom"/>
              <a:pathLst>
                <a:path w="21600" h="31352">
                  <a:moveTo>
                    <a:pt x="3600" y="0"/>
                  </a:moveTo>
                  <a:arcTo wR="3600" hR="3600" stAng="16200000" swAng="-5400000"/>
                  <a:lnTo>
                    <a:pt x="0" y="27752"/>
                  </a:lnTo>
                  <a:arcTo wR="3600" hR="3600" stAng="10800000" swAng="-5400000"/>
                  <a:lnTo>
                    <a:pt x="18000" y="313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99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7998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77120" y="3352680"/>
              <a:ext cx="1600200" cy="609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DM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mesp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74720" y="2863800"/>
              <a:ext cx="174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SE PDM Schem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432600" y="2819520"/>
            <a:ext cx="2486520" cy="3429000"/>
            <a:chOff x="3432600" y="2819520"/>
            <a:chExt cx="2486520" cy="3429000"/>
          </a:xfrm>
        </p:grpSpPr>
        <p:sp>
          <p:nvSpPr>
            <p:cNvPr id="662" name=""/>
            <p:cNvSpPr/>
            <p:nvPr/>
          </p:nvSpPr>
          <p:spPr>
            <a:xfrm>
              <a:off x="3504960" y="2819520"/>
              <a:ext cx="2362320" cy="3429000"/>
            </a:xfrm>
            <a:custGeom>
              <a:avLst/>
              <a:gdLst>
                <a:gd name="textAreaLeft" fmla="*/ 115200 w 2362320"/>
                <a:gd name="textAreaRight" fmla="*/ 2247120 w 2362320"/>
                <a:gd name="textAreaTop" fmla="*/ 115200 h 3429000"/>
                <a:gd name="textAreaBottom" fmla="*/ 3313800 h 3429000"/>
              </a:gdLst>
              <a:ahLst/>
              <a:rect l="textAreaLeft" t="textAreaTop" r="textAreaRight" b="textAreaBottom"/>
              <a:pathLst>
                <a:path w="21600" h="31352">
                  <a:moveTo>
                    <a:pt x="3600" y="0"/>
                  </a:moveTo>
                  <a:arcTo wR="3600" hR="3600" stAng="16200000" swAng="-5400000"/>
                  <a:lnTo>
                    <a:pt x="0" y="27752"/>
                  </a:lnTo>
                  <a:arcTo wR="3600" hR="3600" stAng="10800000" swAng="-5400000"/>
                  <a:lnTo>
                    <a:pt x="18000" y="313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99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7998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48040" y="3352680"/>
              <a:ext cx="1600200" cy="609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lded For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mesp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32600" y="2863800"/>
              <a:ext cx="24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SE Molded Form Schem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914400" y="2819520"/>
            <a:ext cx="2362320" cy="3429000"/>
            <a:chOff x="914400" y="2819520"/>
            <a:chExt cx="2362320" cy="3429000"/>
          </a:xfrm>
        </p:grpSpPr>
        <p:sp>
          <p:nvSpPr>
            <p:cNvPr id="666" name=""/>
            <p:cNvSpPr/>
            <p:nvPr/>
          </p:nvSpPr>
          <p:spPr>
            <a:xfrm>
              <a:off x="914400" y="2819520"/>
              <a:ext cx="2362320" cy="3429000"/>
            </a:xfrm>
            <a:custGeom>
              <a:avLst/>
              <a:gdLst>
                <a:gd name="textAreaLeft" fmla="*/ 115200 w 2362320"/>
                <a:gd name="textAreaRight" fmla="*/ 2247120 w 2362320"/>
                <a:gd name="textAreaTop" fmla="*/ 115200 h 3429000"/>
                <a:gd name="textAreaBottom" fmla="*/ 3313800 h 3429000"/>
              </a:gdLst>
              <a:ahLst/>
              <a:rect l="textAreaLeft" t="textAreaTop" r="textAreaRight" b="textAreaBottom"/>
              <a:pathLst>
                <a:path w="21600" h="31352">
                  <a:moveTo>
                    <a:pt x="3600" y="0"/>
                  </a:moveTo>
                  <a:arcTo wR="3600" hR="3600" stAng="16200000" swAng="-5400000"/>
                  <a:lnTo>
                    <a:pt x="0" y="27752"/>
                  </a:lnTo>
                  <a:arcTo wR="3600" hR="3600" stAng="10800000" swAng="-5400000"/>
                  <a:lnTo>
                    <a:pt x="18000" y="313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99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7998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371600" y="3352680"/>
              <a:ext cx="1295280" cy="609840"/>
            </a:xfrm>
            <a:prstGeom prst="rect">
              <a:avLst/>
            </a:prstGeom>
            <a:solidFill>
              <a:srgbClr val="cf0e3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ist. Sy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mesp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993960" y="28638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SE Dist Sys Schem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609480" y="4191120"/>
            <a:ext cx="800100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prise Data Object (EDO) Name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09480" y="4876920"/>
            <a:ext cx="8001000" cy="1218960"/>
            <a:chOff x="609480" y="4876920"/>
            <a:chExt cx="8001000" cy="1218960"/>
          </a:xfrm>
        </p:grpSpPr>
        <p:sp>
          <p:nvSpPr>
            <p:cNvPr id="671" name=""/>
            <p:cNvSpPr/>
            <p:nvPr/>
          </p:nvSpPr>
          <p:spPr>
            <a:xfrm>
              <a:off x="609480" y="5562720"/>
              <a:ext cx="8001000" cy="533160"/>
            </a:xfrm>
            <a:prstGeom prst="rect">
              <a:avLst/>
            </a:prstGeom>
            <a:solidFill>
              <a:srgbClr val="cf0e3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EP Namespa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9480" y="4876920"/>
              <a:ext cx="80010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hip Common Model (SCM) Namespa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 rot="20089800">
            <a:off x="156600" y="175248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Animated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EDO XML Schema Approach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ummary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6360" y="1144080"/>
            <a:ext cx="8454960" cy="407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ipbuilding 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lmination of 15 years of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/ IS by end of 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ral implementation pro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lators are being implemen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ted suite of 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ip Common Mo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 GUID to build integrated ship mo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s for ISE XML appro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215" descr=""/>
          <p:cNvPicPr/>
          <p:nvPr/>
        </p:nvPicPr>
        <p:blipFill>
          <a:blip r:embed="rId2"/>
          <a:stretch/>
        </p:blipFill>
        <p:spPr>
          <a:xfrm>
            <a:off x="1092240" y="993600"/>
            <a:ext cx="6832440" cy="5121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3960" y="6095880"/>
            <a:ext cx="515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Status: submit for DIS March 200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56358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AP 215 – Ship Arrangement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218" descr=""/>
          <p:cNvPicPr/>
          <p:nvPr/>
        </p:nvPicPr>
        <p:blipFill>
          <a:blip r:embed="rId2"/>
          <a:stretch/>
        </p:blipFill>
        <p:spPr>
          <a:xfrm>
            <a:off x="1039680" y="969840"/>
            <a:ext cx="6885000" cy="5164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3960" y="6095880"/>
            <a:ext cx="515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Status: submit for DIS March 200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0040" y="168840"/>
            <a:ext cx="563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AP 218 – Ship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066680" y="1028880"/>
            <a:ext cx="7086600" cy="5086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371600" y="1883880"/>
            <a:ext cx="1371600" cy="566640"/>
          </a:xfrm>
          <a:prstGeom prst="wedgeEllipseCallout">
            <a:avLst>
              <a:gd name="adj1" fmla="val 73009"/>
              <a:gd name="adj2" fmla="val 20434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448280"/>
            <a:ext cx="1600200" cy="999000"/>
          </a:xfrm>
          <a:prstGeom prst="wedgeEllipseCallout">
            <a:avLst>
              <a:gd name="adj1" fmla="val 48490"/>
              <a:gd name="adj2" fmla="val 99638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iffe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3864960"/>
            <a:ext cx="1600200" cy="566640"/>
          </a:xfrm>
          <a:prstGeom prst="wedgeEllipseCallout">
            <a:avLst>
              <a:gd name="adj1" fmla="val 48490"/>
              <a:gd name="adj2" fmla="val 175523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1207440"/>
            <a:ext cx="1600200" cy="566640"/>
          </a:xfrm>
          <a:prstGeom prst="wedgeEllipseCallout">
            <a:avLst>
              <a:gd name="adj1" fmla="val -49351"/>
              <a:gd name="adj2" fmla="val 16879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981720"/>
            <a:ext cx="1600200" cy="999000"/>
          </a:xfrm>
          <a:prstGeom prst="wedgeEllipseCallout">
            <a:avLst>
              <a:gd name="adj1" fmla="val 27055"/>
              <a:gd name="adj2" fmla="val 124888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lkh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5024520"/>
            <a:ext cx="5105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- Structural elements:  plates, stiffen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- Features: interior, edge cutouts, s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- Structural System breakdown: bulkheads, decks, sh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84520" y="5769000"/>
            <a:ext cx="29019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0040" y="168840"/>
            <a:ext cx="563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AP 218 – Ship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rcRect l="14477" t="13672" r="21905" b="9247"/>
          <a:stretch/>
        </p:blipFill>
        <p:spPr>
          <a:xfrm>
            <a:off x="3782880" y="3770280"/>
            <a:ext cx="2617920" cy="2401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2880" y="990720"/>
            <a:ext cx="3298320" cy="179748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System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Air Supply to Engine Ro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Exhaust Gas Remov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uel Oil Treatment and Supp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Engine Lubricating and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Propulsion - Main Shaft/Coupling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Maneuverability - Rudder/Thru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Electrical Gen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7120" y="4795920"/>
            <a:ext cx="4272480" cy="137124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Mechanical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Main and Auxiliary Engi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Pumps - Fuel Oil/Lubricating Oil/Cooling Wa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Air Compressors and Rece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Heat Exchang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Deck Machinery - Winches/Cranes/Derrick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4760" y="1039680"/>
            <a:ext cx="4932360" cy="115812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Product Definition In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Connectivity Between Components and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Geometry, Materials, Topology and Tolera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Noise, Vibration and Shock Characterist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Component/System Life Cycle and Operational His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9640" y="3027240"/>
            <a:ext cx="3584880" cy="15843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Other Data Suppor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unctional Description of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Quality Assurance In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Availa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Relia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Maintaina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In-Service Inspection and Mainten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697360" y="2270160"/>
          <a:ext cx="3329280" cy="23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97360" y="2270160"/>
                    <a:ext cx="332928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453600" y="6095880"/>
            <a:ext cx="498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Status: CD ballot closes May 200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0040" y="168840"/>
            <a:ext cx="563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AP 226 Mechan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9680" y="168120"/>
            <a:ext cx="746604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AP227 Ed. 2 - Plant Spatial Configuration</a:t>
            </a:r>
            <a:endParaRPr b="1" i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066680" y="1143000"/>
          <a:ext cx="8229600" cy="48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143000"/>
                    <a:ext cx="82296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765840" y="430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54240" y="4560840"/>
            <a:ext cx="226980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Ed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hip Requi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Piping Fabr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HVA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ableway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2880" y="6140520"/>
            <a:ext cx="533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Status: CD ballot complete Feb 200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22:52:48Z</dcterms:created>
  <dc:creator>Ted L Briggs</dc:creator>
  <dc:description/>
  <dc:language>en-US</dc:language>
  <cp:lastModifiedBy>Ted L Briggs</cp:lastModifiedBy>
  <dcterms:modified xsi:type="dcterms:W3CDTF">2002-02-27T17:56:48Z</dcterms:modified>
  <cp:revision>65</cp:revision>
  <dc:subject/>
  <dc:title>Overview</dc:title>
</cp:coreProperties>
</file>