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BE23-48FA-42EF-9C23-7AFF8FC6BB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ors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463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4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20040" y="4332240"/>
            <a:ext cx="661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-imp@steptool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 at: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http://www.steptools.com/imp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– Wednesday 10:30 – 17: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0640" y="157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:30 – Implementation Forum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/214/212 CAX/IF PDM/IF ECAD/IF Review (Max Unger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Review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:00 XML Implementations of STEP with or without Part 2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T Net Implementation of STEP/XML Max Ungerer, ProSTE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of the ISO 15926-2 Model in XML, Hans Teijgeler, Flu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view of Part 28 Edition 2, Martin Hardwick, STEP Tools,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meeting with STEP-Manufactu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:30 STEP-NC Implementatio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X Library Presentation and Demonstration, Martin Hardwick, STEP Tools,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Turning System, Prof Suk-Hwan Suh Pohang Univers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3-06-22T20:12:37Z</dcterms:modified>
  <cp:revision>134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