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907588" cy="6858000"/>
  <p:notesSz cx="9269413" cy="6983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769644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91880" y="1147320"/>
            <a:ext cx="95202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91880" y="3735000"/>
            <a:ext cx="95202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769644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1880" y="1147320"/>
            <a:ext cx="46458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70240" y="1147320"/>
            <a:ext cx="46458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91880" y="3735000"/>
            <a:ext cx="46458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70240" y="3735000"/>
            <a:ext cx="46458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769644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1880" y="1147320"/>
            <a:ext cx="30654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1000" y="1147320"/>
            <a:ext cx="30654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630120" y="1147320"/>
            <a:ext cx="30654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91880" y="3735000"/>
            <a:ext cx="30654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1000" y="3735000"/>
            <a:ext cx="30654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630120" y="3735000"/>
            <a:ext cx="30654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769644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91880" y="1147320"/>
            <a:ext cx="95202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769644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1880" y="1147320"/>
            <a:ext cx="95202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769644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1880" y="1147320"/>
            <a:ext cx="46458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70240" y="1147320"/>
            <a:ext cx="46458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769644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980720" y="-360"/>
            <a:ext cx="76964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769644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91880" y="1147320"/>
            <a:ext cx="46458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70240" y="1147320"/>
            <a:ext cx="46458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91880" y="3735000"/>
            <a:ext cx="46458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769644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91880" y="1147320"/>
            <a:ext cx="46458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70240" y="1147320"/>
            <a:ext cx="46458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70240" y="3735000"/>
            <a:ext cx="46458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769644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1880" y="1147320"/>
            <a:ext cx="46458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70240" y="1147320"/>
            <a:ext cx="46458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1880" y="3735000"/>
            <a:ext cx="95202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640" y="152280"/>
            <a:ext cx="1755000" cy="6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PDM-I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769644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91880" y="1147320"/>
            <a:ext cx="95202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8120" y="6613560"/>
            <a:ext cx="515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lena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12240" y="6458040"/>
            <a:ext cx="644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03CD4-3B67-42F3-90DC-F4DBA189A698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6400800"/>
            <a:ext cx="9598320" cy="0"/>
          </a:xfrm>
          <a:prstGeom prst="line">
            <a:avLst/>
          </a:prstGeom>
          <a:ln w="1260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dm-if" descr=""/>
          <p:cNvPicPr/>
          <p:nvPr/>
        </p:nvPicPr>
        <p:blipFill>
          <a:blip r:embed="rId2"/>
          <a:stretch/>
        </p:blipFill>
        <p:spPr>
          <a:xfrm>
            <a:off x="8534520" y="6019920"/>
            <a:ext cx="1170000" cy="547560"/>
          </a:xfrm>
          <a:prstGeom prst="rect">
            <a:avLst/>
          </a:prstGeom>
          <a:ln w="0">
            <a:noFill/>
          </a:ln>
        </p:spPr>
      </p:pic>
      <p:grpSp>
        <p:nvGrpSpPr>
          <p:cNvPr id="7" name=""/>
          <p:cNvGrpSpPr/>
          <p:nvPr/>
        </p:nvGrpSpPr>
        <p:grpSpPr>
          <a:xfrm>
            <a:off x="228600" y="6172200"/>
            <a:ext cx="1214280" cy="468360"/>
            <a:chOff x="228600" y="6172200"/>
            <a:chExt cx="1214280" cy="468360"/>
          </a:xfrm>
        </p:grpSpPr>
        <p:sp>
          <p:nvSpPr>
            <p:cNvPr id="8" name=""/>
            <p:cNvSpPr/>
            <p:nvPr/>
          </p:nvSpPr>
          <p:spPr>
            <a:xfrm>
              <a:off x="228600" y="6172200"/>
              <a:ext cx="121428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" name="pdeslogo" descr=""/>
            <p:cNvPicPr/>
            <p:nvPr/>
          </p:nvPicPr>
          <p:blipFill>
            <a:blip r:embed="rId3"/>
            <a:stretch/>
          </p:blipFill>
          <p:spPr>
            <a:xfrm>
              <a:off x="228600" y="6222960"/>
              <a:ext cx="485640" cy="39528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0" name=""/>
            <p:cNvGraphicFramePr/>
            <p:nvPr/>
          </p:nvGraphicFramePr>
          <p:xfrm>
            <a:off x="719280" y="6191280"/>
            <a:ext cx="717480" cy="4492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1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19280" y="6191280"/>
                      <a:ext cx="717480" cy="44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56760" y="914400"/>
            <a:ext cx="3810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cc00"/>
                </a:solidFill>
                <a:latin typeface="AvantGarde Md BT"/>
              </a:rPr>
              <a:t>PDM-IF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deslogo" descr=""/>
          <p:cNvPicPr/>
          <p:nvPr/>
        </p:nvPicPr>
        <p:blipFill>
          <a:blip r:embed="rId1"/>
          <a:stretch/>
        </p:blipFill>
        <p:spPr>
          <a:xfrm>
            <a:off x="7848720" y="457200"/>
            <a:ext cx="1295280" cy="1119240"/>
          </a:xfrm>
          <a:prstGeom prst="rect">
            <a:avLst/>
          </a:prstGeom>
          <a:ln w="0">
            <a:noFill/>
          </a:ln>
        </p:spPr>
      </p:pic>
      <p:pic>
        <p:nvPicPr>
          <p:cNvPr id="50" name="pdm-if" descr=""/>
          <p:cNvPicPr/>
          <p:nvPr/>
        </p:nvPicPr>
        <p:blipFill>
          <a:blip r:embed="rId2"/>
          <a:stretch/>
        </p:blipFill>
        <p:spPr>
          <a:xfrm>
            <a:off x="3478320" y="2666880"/>
            <a:ext cx="5742000" cy="2689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" name=""/>
          <p:cNvGraphicFramePr/>
          <p:nvPr/>
        </p:nvGraphicFramePr>
        <p:xfrm>
          <a:off x="7719840" y="1752480"/>
          <a:ext cx="1617840" cy="101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19840" y="1752480"/>
                    <a:ext cx="1617840" cy="10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765720" y="4800600"/>
            <a:ext cx="3670920" cy="13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60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990000"/>
                </a:solidFill>
                <a:latin typeface="Arial"/>
              </a:rPr>
              <a:t>Max Ungerer</a:t>
            </a:r>
            <a:br>
              <a:rPr sz="1600"/>
            </a:br>
            <a:r>
              <a:rPr b="1" lang="de-DE" sz="1600" spc="-1" strike="noStrike">
                <a:solidFill>
                  <a:srgbClr val="990000"/>
                </a:solidFill>
                <a:latin typeface="Arial"/>
              </a:rPr>
              <a:t>PDM Implementor Forum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60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990000"/>
                </a:solidFill>
                <a:latin typeface="Arial"/>
              </a:rPr>
              <a:t>E-Mail:</a:t>
            </a:r>
            <a:r>
              <a:rPr b="1" lang="de-DE" sz="1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990000"/>
                </a:solidFill>
                <a:latin typeface="Arial"/>
              </a:rPr>
              <a:t>max.ungerer@prostep.com</a:t>
            </a:r>
            <a:br>
              <a:rPr sz="1600"/>
            </a:br>
            <a:r>
              <a:rPr b="1" lang="de-DE" sz="1600" spc="-1" strike="noStrike">
                <a:solidFill>
                  <a:srgbClr val="990000"/>
                </a:solidFill>
                <a:latin typeface="Arial"/>
              </a:rPr>
              <a:t>WWW:</a:t>
            </a:r>
            <a:r>
              <a:rPr b="1" lang="de-DE" sz="1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990000"/>
                </a:solidFill>
                <a:latin typeface="Arial"/>
              </a:rPr>
              <a:t>http://www.pdm-if.or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991600" y="304920"/>
            <a:ext cx="394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ISO TC184/SC4 Meeting San Die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2003-03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769644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990000"/>
                </a:solidFill>
                <a:latin typeface="Arial"/>
              </a:rPr>
              <a:t>Plans for 2003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1880" y="1147320"/>
            <a:ext cx="95202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Accomplish use case driven tes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Get OEMs and supplier involv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Get more vendors involv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Two kinds of scenarios will be address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0000"/>
                </a:solidFill>
                <a:latin typeface="Arial"/>
              </a:rPr>
              <a:t>Common PDM data exchange test cases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0000"/>
                </a:solidFill>
                <a:latin typeface="Arial"/>
              </a:rPr>
              <a:t>Round trip scenarios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Provide XML testing capabilit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0000"/>
                </a:solidFill>
                <a:latin typeface="Arial"/>
              </a:rPr>
              <a:t>Participation of PDTnet XML files in test rounds by step2xml, xml2step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769644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990000"/>
                </a:solidFill>
                <a:latin typeface="Arial"/>
              </a:rPr>
              <a:t>Common Test Case Scenarios (1)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91880" y="1147320"/>
            <a:ext cx="95202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0000"/>
                </a:solidFill>
                <a:latin typeface="Arial"/>
              </a:rPr>
              <a:t>Provide test suites which can be applied by a majority of PDM systems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0000"/>
                </a:solidFill>
                <a:latin typeface="Arial"/>
              </a:rPr>
              <a:t>Show how systems can deal with the exchanged data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Provide analysis and statisti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Identify problems and provide solu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0000"/>
                </a:solidFill>
                <a:latin typeface="Arial"/>
              </a:rPr>
              <a:t>Test suite descriptions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0000"/>
                </a:solidFill>
                <a:latin typeface="Arial"/>
              </a:rPr>
              <a:t>Part21 files according to PDM Schema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0000"/>
                </a:solidFill>
                <a:latin typeface="Arial"/>
              </a:rPr>
              <a:t>Guidelines for fixing typical problems like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different schema names ('pdm_schema', 'automotive_design'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different conventions for part numb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769644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990000"/>
                </a:solidFill>
                <a:latin typeface="Arial"/>
              </a:rPr>
              <a:t>Common Test Case Scenarios (2)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1880" y="1147320"/>
            <a:ext cx="95202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Proposed Test sui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990033"/>
                </a:solidFill>
                <a:latin typeface="Arial"/>
              </a:rPr>
              <a:t>Test Suite 1:</a:t>
            </a:r>
            <a:r>
              <a:rPr b="1" i="1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i="1" lang="en-AU" sz="2400" spc="-1" strike="noStrike">
                <a:solidFill>
                  <a:srgbClr val="000000"/>
                </a:solidFill>
                <a:latin typeface="Arial"/>
              </a:rPr>
              <a:t>assembly structure with documents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990033"/>
                </a:solidFill>
                <a:latin typeface="Arial"/>
              </a:rPr>
              <a:t>Test Suite 2:</a:t>
            </a:r>
            <a:br>
              <a:rPr sz="2400"/>
            </a:br>
            <a:r>
              <a:rPr b="1" i="1" lang="en-AU" sz="2400" spc="-1" strike="noStrike">
                <a:solidFill>
                  <a:srgbClr val="000000"/>
                </a:solidFill>
                <a:latin typeface="Arial"/>
              </a:rPr>
              <a:t>single part with document structure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990033"/>
                </a:solidFill>
                <a:latin typeface="Arial"/>
              </a:rPr>
              <a:t>Test Suite 3:</a:t>
            </a:r>
            <a:br>
              <a:rPr sz="2400"/>
            </a:br>
            <a:r>
              <a:rPr b="1" i="1" lang="en-AU" sz="2400" spc="-1" strike="noStrike">
                <a:solidFill>
                  <a:srgbClr val="000000"/>
                </a:solidFill>
                <a:latin typeface="Arial"/>
              </a:rPr>
              <a:t>assembly and document structure including transformations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8344080" y="1752480"/>
            <a:ext cx="609480" cy="457200"/>
            <a:chOff x="8344080" y="1752480"/>
            <a:chExt cx="609480" cy="457200"/>
          </a:xfrm>
        </p:grpSpPr>
        <p:sp>
          <p:nvSpPr>
            <p:cNvPr id="62" name=""/>
            <p:cNvSpPr/>
            <p:nvPr/>
          </p:nvSpPr>
          <p:spPr>
            <a:xfrm flipH="1">
              <a:off x="8420040" y="1828440"/>
              <a:ext cx="22860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649000" y="1828440"/>
              <a:ext cx="22860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572680" y="175248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1280" y="205704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344080" y="205704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8305920" y="3352680"/>
            <a:ext cx="685800" cy="152640"/>
            <a:chOff x="8305920" y="3352680"/>
            <a:chExt cx="685800" cy="152640"/>
          </a:xfrm>
        </p:grpSpPr>
        <p:sp>
          <p:nvSpPr>
            <p:cNvPr id="68" name=""/>
            <p:cNvSpPr/>
            <p:nvPr/>
          </p:nvSpPr>
          <p:spPr>
            <a:xfrm>
              <a:off x="8305920" y="335268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8457840" y="3429000"/>
              <a:ext cx="38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839440" y="3352680"/>
              <a:ext cx="152280" cy="152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8344080" y="4267080"/>
            <a:ext cx="609120" cy="838080"/>
            <a:chOff x="8344080" y="4267080"/>
            <a:chExt cx="609120" cy="838080"/>
          </a:xfrm>
        </p:grpSpPr>
        <p:sp>
          <p:nvSpPr>
            <p:cNvPr id="72" name=""/>
            <p:cNvSpPr/>
            <p:nvPr/>
          </p:nvSpPr>
          <p:spPr>
            <a:xfrm>
              <a:off x="8420040" y="472428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344080" y="4952880"/>
              <a:ext cx="152280" cy="152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8420040" y="4343400"/>
              <a:ext cx="22824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648640" y="4343400"/>
              <a:ext cx="22824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572320" y="426708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800920" y="45720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344080" y="45720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877240" y="472428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800920" y="4952880"/>
              <a:ext cx="152280" cy="152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769644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990000"/>
                </a:solidFill>
                <a:latin typeface="Arial"/>
              </a:rPr>
              <a:t>Round Trip Scenarios (1)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91880" y="1147320"/>
            <a:ext cx="95202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0000"/>
                </a:solidFill>
                <a:latin typeface="Arial"/>
              </a:rPr>
              <a:t>Dedicated tests between OEMs and suppliers to show engineering collaboration processes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0000"/>
                </a:solidFill>
                <a:latin typeface="Arial"/>
              </a:rPr>
              <a:t>Involving pairs of systems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0000"/>
                </a:solidFill>
                <a:latin typeface="Arial"/>
              </a:rPr>
              <a:t>Test how STEP PDM data exchange for specific OEMs is working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0000"/>
                </a:solidFill>
                <a:latin typeface="Arial"/>
              </a:rPr>
              <a:t>Provide Test suite descriptions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0000"/>
                </a:solidFill>
                <a:latin typeface="Arial"/>
              </a:rPr>
              <a:t>Perform round trip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769644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990000"/>
                </a:solidFill>
                <a:latin typeface="Arial"/>
              </a:rPr>
              <a:t>Round Trip Scenarios (2)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91880" y="1147320"/>
            <a:ext cx="9520200" cy="144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OEM provides stru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Suppliers extends the stru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371600" y="2666880"/>
            <a:ext cx="1217160" cy="1066680"/>
            <a:chOff x="1371600" y="2666880"/>
            <a:chExt cx="1217160" cy="1066680"/>
          </a:xfrm>
        </p:grpSpPr>
        <p:grpSp>
          <p:nvGrpSpPr>
            <p:cNvPr id="86" name=""/>
            <p:cNvGrpSpPr/>
            <p:nvPr/>
          </p:nvGrpSpPr>
          <p:grpSpPr>
            <a:xfrm>
              <a:off x="1371600" y="3276360"/>
              <a:ext cx="990360" cy="457200"/>
              <a:chOff x="1371600" y="3276360"/>
              <a:chExt cx="990360" cy="457200"/>
            </a:xfrm>
          </p:grpSpPr>
          <p:sp>
            <p:nvSpPr>
              <p:cNvPr id="87" name=""/>
              <p:cNvSpPr/>
              <p:nvPr/>
            </p:nvSpPr>
            <p:spPr>
              <a:xfrm flipH="1">
                <a:off x="1828440" y="3352320"/>
                <a:ext cx="22860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057400" y="3352320"/>
                <a:ext cx="22860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981080" y="327636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209680" y="3580920"/>
                <a:ext cx="152280" cy="1526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>
                <a:off x="1447200" y="3657240"/>
                <a:ext cx="3812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371600" y="3580920"/>
                <a:ext cx="152280" cy="1526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52480" y="3580920"/>
                <a:ext cx="152280" cy="1526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1523880" y="2666880"/>
              <a:ext cx="1064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f4e52"/>
                  </a:solidFill>
                  <a:latin typeface="Arial"/>
                </a:rPr>
                <a:t>O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 flipH="1">
            <a:off x="5866920" y="3276720"/>
            <a:ext cx="22860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5880" y="3276720"/>
            <a:ext cx="22860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19920" y="32004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248520" y="35053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5486400" y="358128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10080" y="3505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91320" y="35053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6095520" y="3657600"/>
            <a:ext cx="22860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324480" y="3657600"/>
            <a:ext cx="22860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396252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638680" y="3886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19920" y="3886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6552720" y="396252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0" y="388620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77120" y="3886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62720" y="3657600"/>
            <a:ext cx="1523880" cy="685800"/>
          </a:xfrm>
          <a:prstGeom prst="ellipse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622480" y="2666880"/>
            <a:ext cx="99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4f4e52"/>
                </a:solidFill>
                <a:latin typeface="Arial"/>
              </a:rPr>
              <a:t>Suppl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/>
          <p:nvPr/>
        </p:nvCxnSpPr>
        <p:spPr>
          <a:xfrm flipH="1" rot="16200000">
            <a:off x="3841560" y="2100960"/>
            <a:ext cx="13320" cy="2667240"/>
          </a:xfrm>
          <a:prstGeom prst="curvedConnector5">
            <a:avLst>
              <a:gd name="adj1" fmla="val -2511111"/>
              <a:gd name="adj2" fmla="val 50000"/>
              <a:gd name="adj3" fmla="val -2511111"/>
            </a:avLst>
          </a:prstGeom>
          <a:ln w="38160">
            <a:solidFill>
              <a:srgbClr val="990033"/>
            </a:solidFill>
            <a:miter/>
            <a:tailEnd len="med" type="triangle" w="med"/>
          </a:ln>
        </p:spPr>
      </p:cxnSp>
      <p:cxnSp>
        <p:nvCxnSpPr>
          <p:cNvPr id="113" name=""/>
          <p:cNvCxnSpPr/>
          <p:nvPr/>
        </p:nvCxnSpPr>
        <p:spPr>
          <a:xfrm flipH="1" rot="16200000">
            <a:off x="3841560" y="2254320"/>
            <a:ext cx="13680" cy="2667240"/>
          </a:xfrm>
          <a:prstGeom prst="curvedConnector5">
            <a:avLst>
              <a:gd name="adj1" fmla="val 1886486"/>
              <a:gd name="adj2" fmla="val 50000"/>
              <a:gd name="adj3" fmla="val 1886486"/>
            </a:avLst>
          </a:prstGeom>
          <a:ln w="38160">
            <a:solidFill>
              <a:srgbClr val="990033"/>
            </a:solidFill>
            <a:miter/>
            <a:head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115920" y="4648320"/>
            <a:ext cx="9520200" cy="14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Flexibility to extend the scenarios by OEM specific requirements, e.g. "supplied item relationship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769644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990000"/>
                </a:solidFill>
                <a:latin typeface="Arial"/>
              </a:rPr>
              <a:t>Schedule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91880" y="1147320"/>
            <a:ext cx="95202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2960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March 2003: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Communicate concept to vendors</a:t>
            </a:r>
            <a:br>
              <a:rPr sz="2400"/>
            </a:b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Questionnaire and call for participation</a:t>
            </a:r>
            <a:br>
              <a:rPr sz="2400"/>
            </a:b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Contact via users (DC, ContiTeves, ..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960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2960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April 2003: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Meeting to discuss concept</a:t>
            </a:r>
            <a:br>
              <a:rPr sz="2400"/>
            </a:b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Finalize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960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2960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Mai 2003: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Kick-off Meeting</a:t>
            </a:r>
            <a:br>
              <a:rPr sz="2400"/>
            </a:b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Test suite avail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960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2960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September 2003: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PDM-IF Mee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960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7T10:40:10Z</dcterms:created>
  <dc:creator>P. Huau</dc:creator>
  <dc:description/>
  <dc:language>en-US</dc:language>
  <cp:lastModifiedBy>Max Ungerer</cp:lastModifiedBy>
  <cp:lastPrinted>2000-07-20T09:09:04Z</cp:lastPrinted>
  <dcterms:modified xsi:type="dcterms:W3CDTF">2003-03-12T18:34:00Z</dcterms:modified>
  <cp:revision>217</cp:revision>
  <dc:subject/>
  <dc:title>PDM-IF Darmstadt 2002</dc:title>
</cp:coreProperties>
</file>