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58288" cy="6872288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82EC-607D-4BA0-8BF4-E1FC55383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20" y="369000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1B0C-BACF-4007-8908-50981F6A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847C-1EBB-4BCE-A19B-A629380E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504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1800" y="160812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92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504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1800" y="3690000"/>
            <a:ext cx="2653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FC92-50E9-433C-A93E-E4FA2C29D0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05DB-B5FA-4A96-B96C-F4AF6F2E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B2F2-1311-44DE-B9F4-1D24888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4E92-D215-456B-8356-E7495AF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96E2-9F9E-4998-BED7-55988468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760" y="255240"/>
            <a:ext cx="213048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D039-4282-4464-B167-9A557901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F6EA-39E6-4369-B489-8474D50D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369000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19AA-6B01-4A90-9ED2-4755C6FD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92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608120"/>
            <a:ext cx="40219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920" y="3690000"/>
            <a:ext cx="8242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6835-1510-477F-92B5-A264361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1920" y="6254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9560" y="6254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7F6-61E6-4C35-AEFE-0E03F74F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304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760" y="692280"/>
            <a:ext cx="8839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60840" y="6640560"/>
            <a:ext cx="9820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74489A-D104-4505-B89F-C10E845E135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98400" y="291960"/>
            <a:ext cx="1092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8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eptools.com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11800" y="4854600"/>
            <a:ext cx="52570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y, New York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  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@steptools.com    </a:t>
            </a:r>
            <a:r>
              <a:rPr b="0" lang="en-US" sz="1800" spc="-1" strike="noStrike" u="sng">
                <a:solidFill>
                  <a:srgbClr val="114ffb"/>
                </a:solidFill>
                <a:uFillTx/>
                <a:latin typeface="Arial"/>
                <a:hlinkClick r:id="rId1"/>
              </a:rPr>
              <a:t>http://www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33880" y="934920"/>
            <a:ext cx="5811840" cy="959040"/>
          </a:xfrm>
          <a:prstGeom prst="roundRect">
            <a:avLst>
              <a:gd name="adj" fmla="val 124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1080720"/>
            <a:ext cx="5106960" cy="1474200"/>
          </a:xfrm>
          <a:prstGeom prst="roundRect">
            <a:avLst>
              <a:gd name="adj" fmla="val 124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Part 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Arial"/>
              </a:rPr>
              <a:t>Edition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1960" y="431640"/>
            <a:ext cx="2775240" cy="599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58040" y="5052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0240" y="58561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0840" y="446868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30481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807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ed, Inverted, Assimil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00" y="1828800"/>
            <a:ext cx="374688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ent_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1160" y="1828800"/>
            <a:ext cx="374688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_b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8520" y="14079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5480" y="14079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120" y="419112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ity select = “ent_b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inverse select = “ent_a.attr_1” assimilate = “true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677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/Tag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for pos (index)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809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8240" y="1244520"/>
            <a:ext cx="435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 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: LIST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s the following instance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id="id12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3.6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4.6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7.2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1.1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9.8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556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 Arra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000" y="1219320"/>
            <a:ext cx="7479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 spar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gg : ARRAY OF OPTIONAL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following instance data (in Part 21 synt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23=SPARSE((3,4,$,5,2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ata can be rendered into XML using a NULL value as follow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parse id="id23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g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&gt;3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&gt;4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 xsi:nil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&gt;5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&gt;2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g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sparse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653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inde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3600" y="160020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ibute select=“agg" sparse="true"/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parse id="id23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g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 pos="1"&gt;3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 pos="2"&gt;4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 pos="4"&gt;5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ger pos="5"&gt;2&lt;/integ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g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sparse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79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ted Aggre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8480" y="1066680"/>
            <a:ext cx="621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 transfor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: ARRAY[1:2] OF ARRAY[1:2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ives the following XML instanc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ansform id="id77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1.0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2.0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3.0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al&gt;4.0&lt;/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ans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246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less in second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440" y="1219320"/>
            <a:ext cx="712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ansform id="id77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.0 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rray-re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ans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control  option to create this behavior would be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ity select="transform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ibute select="matrix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ggregate tagless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less with new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7400" y="1371600"/>
            <a:ext cx="646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ity select="transform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ibute select="matrix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ggregate tagless="true" name="row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would then create the following instance da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e that the synthetic tag array-real is replaced with r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ansform id="id77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ow&gt;1.0 2.0&lt;/row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ow&gt;3.0 4.0&lt;/row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trix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ans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00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less in both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3080" y="1295280"/>
            <a:ext cx="706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attribute select="att" tagless="true" flatten="true" dim="2 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 dim="2 3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2.2 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.6 5.2 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att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676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P Sty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560" y="1523880"/>
            <a:ext cx="4432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ption pos-style="soap"/&gt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ref="id56"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ref="id57"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ref="id58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ref="id59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pos="[2,3]" ref="id61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 pos="[3,3]" ref="id62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att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846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hat’s more like eb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49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Mod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52640" y="171288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52040" y="22096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6840" y="22096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040" y="286380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6" idx="3"/>
            <a:endCxn id="107" idx="1"/>
          </p:cNvCxnSpPr>
          <p:nvPr/>
        </p:nvCxnSpPr>
        <p:spPr>
          <a:xfrm>
            <a:off x="2314440" y="2033640"/>
            <a:ext cx="2036160" cy="49752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3"/>
            <a:endCxn id="107" idx="1"/>
          </p:cNvCxnSpPr>
          <p:nvPr/>
        </p:nvCxnSpPr>
        <p:spPr>
          <a:xfrm flipV="1">
            <a:off x="2749320" y="2529720"/>
            <a:ext cx="1600920" cy="6548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7" idx="3"/>
            <a:endCxn id="108" idx="1"/>
          </p:cNvCxnSpPr>
          <p:nvPr/>
        </p:nvCxnSpPr>
        <p:spPr>
          <a:xfrm>
            <a:off x="5410080" y="2530080"/>
            <a:ext cx="1524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286720" y="365760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91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91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5040" y="35812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bf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bf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295280"/>
            <a:ext cx="5105520" cy="3353040"/>
          </a:xfrm>
          <a:prstGeom prst="ellipse">
            <a:avLst/>
          </a:prstGeom>
          <a:noFill/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1295280"/>
            <a:ext cx="4876920" cy="3505320"/>
          </a:xfrm>
          <a:prstGeom prst="ellipse">
            <a:avLst/>
          </a:prstGeom>
          <a:noFill/>
          <a:ln w="25560">
            <a:solidFill>
              <a:srgbClr val="1c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60680" y="53704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that want to focus on XML Schema but document their relationship to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49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Mod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5480" y="171288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22440" y="22096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9880" y="286380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>
            <a:off x="3527280" y="2033640"/>
            <a:ext cx="2493360" cy="497520"/>
          </a:xfrm>
          <a:prstGeom prst="bentConnector3">
            <a:avLst>
              <a:gd name="adj1" fmla="val 4999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3"/>
            <a:endCxn id="120" idx="1"/>
          </p:cNvCxnSpPr>
          <p:nvPr/>
        </p:nvCxnSpPr>
        <p:spPr>
          <a:xfrm flipV="1">
            <a:off x="3962160" y="2529720"/>
            <a:ext cx="2057760" cy="65484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677400" y="3581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bf0"/>
                </a:solidFill>
                <a:latin typeface="Arial"/>
              </a:rPr>
              <a:t>Project </a:t>
            </a:r>
            <a:r>
              <a:rPr b="1" lang="en-US" sz="1800" spc="-1" strike="noStrike">
                <a:solidFill>
                  <a:srgbClr val="ef9100"/>
                </a:solidFill>
                <a:latin typeface="Arial"/>
              </a:rPr>
              <a:t>Definition</a:t>
            </a:r>
            <a:r>
              <a:rPr b="1" lang="en-US" sz="1800" spc="-1" strike="noStrike">
                <a:solidFill>
                  <a:srgbClr val="1cebf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bf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143000"/>
            <a:ext cx="8686800" cy="3505320"/>
          </a:xfrm>
          <a:prstGeom prst="ellipse">
            <a:avLst/>
          </a:prstGeom>
          <a:noFill/>
          <a:ln w="25560">
            <a:solidFill>
              <a:srgbClr val="1c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60680" y="5370480"/>
            <a:ext cx="61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that want to focus on EXPRESS but represent their instance data in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319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Schema is not what you exp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line of EXPRESS converts into about 5 lines of less descriptive XML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 is a language for processing by tools, not hum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weak representation for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Schema governed representation of EXPRESS schema governed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mostly describes XML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language is not context sensi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represent product geomet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220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Lots of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art 28 a standard using the ful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, DIS,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feedback on what works for the AP developers and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00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with Edition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data that is too hard to underst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EXPRESS related tags (ETEB and L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tags/nesting (OSE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 Meta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584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tion 2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39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language to design the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 or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nesting/double n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ilate/inv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ons for list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type mapp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354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ty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 double n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or Cont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mi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660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200" y="2133720"/>
            <a:ext cx="2512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ITY ent_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 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tr_1 ; ent_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ITY ent_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tr_2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tr_3: ST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_ENTITY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5320" y="2895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23=ENT_A('A Value', #4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40=ENT_B('B Value', 2.71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760" y="356760"/>
            <a:ext cx="4471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d, Attributes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00" y="1793880"/>
            <a:ext cx="3746880" cy="33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a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ref="id40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ttr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_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_b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4440" y="1752480"/>
            <a:ext cx="3746880" cy="256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a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1 ref="id40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_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/ent_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640" y="137160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720" y="1371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488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9720" y="1144440"/>
            <a:ext cx="4295520" cy="256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_a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_b id="id40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_b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attr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_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40" y="79704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1400" y="4267080"/>
            <a:ext cx="402120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_a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1 id="id40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attr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_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7640" y="3867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g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6720" y="114300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ity select = “ent_a“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attribute select = “attr_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ained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843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d, Inve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600" y="1905120"/>
            <a:ext cx="4021200" cy="256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a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t_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_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1960" y="14619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6720" y="1906560"/>
            <a:ext cx="374688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t_b id="id40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2&gt;B Value&lt;/attr_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ttr_3&gt;2.71&lt;/attr_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ner id="id23"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A Value&lt;/labe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n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_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5000" y="14637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3000" y="5105520"/>
            <a:ext cx="78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entity select = “ent_b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inverse name = “owner” invert = “ent_a.attr_1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18:11:40Z</dcterms:created>
  <dc:creator>Martin Hardwick</dc:creator>
  <dc:description/>
  <dc:language>en-US</dc:language>
  <cp:lastModifiedBy>hardwick</cp:lastModifiedBy>
  <cp:lastPrinted>1999-10-24T21:57:59Z</cp:lastPrinted>
  <dcterms:modified xsi:type="dcterms:W3CDTF">2003-06-25T11:44:51Z</dcterms:modified>
  <cp:revision>1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steptools.com</vt:lpwstr>
  </property>
  <property fmtid="{D5CDD505-2E9C-101B-9397-08002B2CF9AE}" pid="9" name="LinkColor">
    <vt:r8>16711782</vt:r8>
  </property>
  <property fmtid="{D5CDD505-2E9C-101B-9397-08002B2CF9AE}" pid="10" name="MailAddress">
    <vt:lpwstr>hardwick@steptools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MALLET\hardwick\www\dbf99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