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7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8.jpeg" ContentType="image/jpeg"/>
  <Override PartName="/ppt/media/image24.jpeg" ContentType="image/jpeg"/>
  <Override PartName="/ppt/media/image10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907588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701280" y="750960"/>
            <a:ext cx="534996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2428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2428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210 kam nic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C - Aurocad Mech Desktop, CT - CATIA V5, IN - Inventor, OC - OpenCascade, ST - STEP Tools, SY -T-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 Dateien. eine mit NURBS, zusätzlich eine mit analyt. G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e in R10J: Schwerpunkt verscho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2428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2428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e: hellblaue Fläche kommen sich na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2428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2428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um letzten Mal in 11. Ru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x. 4, momentan Theorem und IDEAS (nur ex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700200" y="750960"/>
            <a:ext cx="5349600" cy="3703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701640" y="75096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s wird importiert, Anwender entscheid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700200" y="750960"/>
            <a:ext cx="5349600" cy="3703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880" y="373500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7024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1100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3012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9188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1100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3012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024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16545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98d"/>
                </a:solidFill>
                <a:latin typeface="Arial"/>
              </a:rPr>
              <a:t>CAx-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9200" y="6613560"/>
            <a:ext cx="1444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ax-IF Update Mar2003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12240" y="6458040"/>
            <a:ext cx="644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A1C0-A94A-4BD1-BA82-332E4ADD46D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959832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89200" y="6599160"/>
            <a:ext cx="1413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 Ungerer / © CAx-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CAxIF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1168560" cy="560520"/>
          </a:xfrm>
          <a:prstGeom prst="rect">
            <a:avLst/>
          </a:prstGeom>
          <a:ln w="0">
            <a:noFill/>
          </a:ln>
        </p:spPr>
      </p:pic>
      <p:grpSp>
        <p:nvGrpSpPr>
          <p:cNvPr id="8" name=""/>
          <p:cNvGrpSpPr/>
          <p:nvPr/>
        </p:nvGrpSpPr>
        <p:grpSpPr>
          <a:xfrm>
            <a:off x="228600" y="6172200"/>
            <a:ext cx="1214280" cy="468360"/>
            <a:chOff x="228600" y="6172200"/>
            <a:chExt cx="1214280" cy="468360"/>
          </a:xfrm>
        </p:grpSpPr>
        <p:sp>
          <p:nvSpPr>
            <p:cNvPr id="9" name=""/>
            <p:cNvSpPr/>
            <p:nvPr/>
          </p:nvSpPr>
          <p:spPr>
            <a:xfrm>
              <a:off x="228600" y="6172200"/>
              <a:ext cx="12142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" name="pdeslogo" descr=""/>
            <p:cNvPicPr/>
            <p:nvPr/>
          </p:nvPicPr>
          <p:blipFill>
            <a:blip r:embed="rId3"/>
            <a:stretch/>
          </p:blipFill>
          <p:spPr>
            <a:xfrm>
              <a:off x="228600" y="6222960"/>
              <a:ext cx="485640" cy="395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" name=""/>
            <p:cNvGraphicFramePr/>
            <p:nvPr/>
          </p:nvGraphicFramePr>
          <p:xfrm>
            <a:off x="719280" y="6191280"/>
            <a:ext cx="717480" cy="44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9280" y="6191280"/>
                      <a:ext cx="717480" cy="44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9440" y="914400"/>
            <a:ext cx="392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AvantGarde Md BT"/>
              </a:rPr>
              <a:t>CAx - IF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91720" y="1660680"/>
            <a:ext cx="2379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St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5720" y="4800600"/>
            <a:ext cx="367092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Max Ungerer</a:t>
            </a:r>
            <a:br>
              <a:rPr sz="1600"/>
            </a:b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CAx Implementor Foru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E-Mail: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max.ungerer@prostep.com</a:t>
            </a:r>
            <a:br>
              <a:rPr sz="1600"/>
            </a:b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WWW: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http://www.cax-if.d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http://www.cax-if.or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91600" y="304920"/>
            <a:ext cx="39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SO TC184/SC4 Meeting San Di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2003-03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AxIF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7467840" cy="3581280"/>
          </a:xfrm>
          <a:prstGeom prst="rect">
            <a:avLst/>
          </a:prstGeom>
          <a:ln w="0">
            <a:noFill/>
          </a:ln>
        </p:spPr>
      </p:pic>
      <p:pic>
        <p:nvPicPr>
          <p:cNvPr id="57" name="pdeslogo" descr=""/>
          <p:cNvPicPr/>
          <p:nvPr/>
        </p:nvPicPr>
        <p:blipFill>
          <a:blip r:embed="rId2"/>
          <a:stretch/>
        </p:blipFill>
        <p:spPr>
          <a:xfrm>
            <a:off x="7848720" y="457200"/>
            <a:ext cx="1295280" cy="111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7620120" y="1724040"/>
          <a:ext cx="1761840" cy="110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1724040"/>
                    <a:ext cx="176184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37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Round10J Production Models, overall Resul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304920" y="1295280"/>
          <a:ext cx="66294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295280"/>
                    <a:ext cx="66294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66000" y="5710320"/>
            <a:ext cx="15094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49 ex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1523880"/>
            <a:ext cx="32907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96840" indent="-96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w“ results often due to the fact, that complex and challenging models are chosen to be tested as production mod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lematic models are re-tested to ensure issue re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500000">
            <a:off x="3130200" y="2755800"/>
            <a:ext cx="470160" cy="469800"/>
          </a:xfrm>
          <a:prstGeom prst="rtTriangle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48240" y="2725560"/>
            <a:ext cx="450504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8360" indent="-32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Round10J High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033000" y="3512160"/>
            <a:ext cx="3653640" cy="664560"/>
            <a:chOff x="3033000" y="3512160"/>
            <a:chExt cx="3653640" cy="664560"/>
          </a:xfrm>
        </p:grpSpPr>
        <p:sp>
          <p:nvSpPr>
            <p:cNvPr id="120" name=""/>
            <p:cNvSpPr/>
            <p:nvPr/>
          </p:nvSpPr>
          <p:spPr>
            <a:xfrm rot="13500000">
              <a:off x="3130200" y="3609360"/>
              <a:ext cx="469800" cy="469800"/>
            </a:xfrm>
            <a:prstGeom prst="rtTriangl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48240" y="3581280"/>
              <a:ext cx="303840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8360" indent="-324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Round11J Sco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033000" y="4367880"/>
            <a:ext cx="3653640" cy="664560"/>
            <a:chOff x="3033000" y="4367880"/>
            <a:chExt cx="3653640" cy="664560"/>
          </a:xfrm>
        </p:grpSpPr>
        <p:sp>
          <p:nvSpPr>
            <p:cNvPr id="123" name=""/>
            <p:cNvSpPr/>
            <p:nvPr/>
          </p:nvSpPr>
          <p:spPr>
            <a:xfrm rot="13500000">
              <a:off x="3130200" y="4465080"/>
              <a:ext cx="469800" cy="469800"/>
            </a:xfrm>
            <a:prstGeom prst="rtTriangl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48240" y="4437000"/>
              <a:ext cx="303840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8360" indent="-324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969696"/>
                  </a:solidFill>
                  <a:latin typeface="Arial"/>
                </a:rPr>
                <a:t>Next Milest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11J Schedul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4360" y="1300320"/>
          <a:ext cx="8773920" cy="388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00320"/>
                    <a:ext cx="877392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445400" y="5105520"/>
            <a:ext cx="694224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no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Pracs and other guideline documents will be published in Nove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nd 11J review meeting in conjunction with PDES, Inc. spring off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11J Scop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4280"/>
            <a:ext cx="9026640" cy="503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-test IN mod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-test UG mod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-test ID model (1x NURBS, 1x analytic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w models from CATIA V4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, OpenCascad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AutoDesk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EP Benchmark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ion History with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w test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 (NAUO) case of Assembly Instance Sty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ow / Hid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sing a simple test assembly cas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Refer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AP209 / AP210 files as far as provi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D &amp; 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Props with CATIA V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568944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98000" y="5530680"/>
            <a:ext cx="2494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Schema not finished in ti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Who‘s Doing What in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11</a:t>
            </a: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J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63520" y="1066680"/>
          <a:ext cx="9470880" cy="5105520"/>
        </p:xfrm>
        <a:graphic>
          <a:graphicData uri="http://schemas.openxmlformats.org/drawingml/2006/table">
            <a:tbl>
              <a:tblPr/>
              <a:tblGrid>
                <a:gridCol w="1636560"/>
                <a:gridCol w="742680"/>
                <a:gridCol w="743040"/>
                <a:gridCol w="793800"/>
                <a:gridCol w="793800"/>
                <a:gridCol w="793800"/>
                <a:gridCol w="793800"/>
                <a:gridCol w="793800"/>
                <a:gridCol w="793440"/>
                <a:gridCol w="792360"/>
                <a:gridCol w="793800"/>
              </a:tblGrid>
              <a:tr h="692640">
                <a:tc>
                  <a:txBody>
                    <a:bodyPr lIns="90000" rIns="90000" tIns="43200" bIns="432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35400"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chmark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on 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 Sty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Refer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209 / AP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480"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 &amp;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Round11J Production Model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6" name="pm9-ac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5105520" cy="4710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691680" y="2763720"/>
            <a:ext cx="245304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or Handl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AutoDe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chanical Deskt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Round11J Production Model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28640" y="2763720"/>
            <a:ext cx="17794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ctivity Tray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I-DE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m9-id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53341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Round11J Production Model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69280" y="2763720"/>
            <a:ext cx="269856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ngle Stroke Engin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AutoDe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ven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m9-in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47833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Round11J Production Model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93200" y="2763720"/>
            <a:ext cx="225036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ar Box Casing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OpenCasca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m9-oc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533412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Round11J Production Model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89760" y="2763720"/>
            <a:ext cx="185724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im &amp; Mous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T-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TIA V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m9-sy" descr=""/>
          <p:cNvPicPr/>
          <p:nvPr/>
        </p:nvPicPr>
        <p:blipFill>
          <a:blip r:embed="rId1"/>
          <a:stretch/>
        </p:blipFill>
        <p:spPr>
          <a:xfrm>
            <a:off x="838080" y="1292400"/>
            <a:ext cx="5791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3500000">
            <a:off x="3130200" y="2755800"/>
            <a:ext cx="470160" cy="469800"/>
          </a:xfrm>
          <a:prstGeom prst="rtTriangl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48240" y="2725560"/>
            <a:ext cx="4124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8360" indent="-32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nd 10J High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33000" y="3512160"/>
            <a:ext cx="3653640" cy="664560"/>
            <a:chOff x="3033000" y="3512160"/>
            <a:chExt cx="3653640" cy="664560"/>
          </a:xfrm>
        </p:grpSpPr>
        <p:sp>
          <p:nvSpPr>
            <p:cNvPr id="64" name=""/>
            <p:cNvSpPr/>
            <p:nvPr/>
          </p:nvSpPr>
          <p:spPr>
            <a:xfrm rot="13500000">
              <a:off x="3130200" y="3609360"/>
              <a:ext cx="469800" cy="469800"/>
            </a:xfrm>
            <a:prstGeom prst="rtTriangl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48240" y="3581280"/>
              <a:ext cx="303840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8360" indent="-324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969696"/>
                  </a:solidFill>
                  <a:latin typeface="Arial"/>
                </a:rPr>
                <a:t>Round 11J Sco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033000" y="4367880"/>
            <a:ext cx="3653640" cy="664560"/>
            <a:chOff x="3033000" y="4367880"/>
            <a:chExt cx="3653640" cy="664560"/>
          </a:xfrm>
        </p:grpSpPr>
        <p:sp>
          <p:nvSpPr>
            <p:cNvPr id="67" name=""/>
            <p:cNvSpPr/>
            <p:nvPr/>
          </p:nvSpPr>
          <p:spPr>
            <a:xfrm rot="13500000">
              <a:off x="3130200" y="4465080"/>
              <a:ext cx="469800" cy="469800"/>
            </a:xfrm>
            <a:prstGeom prst="rtTriangl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48240" y="4437000"/>
              <a:ext cx="303840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8360" indent="-324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969696"/>
                  </a:solidFill>
                  <a:latin typeface="Arial"/>
                </a:rPr>
                <a:t>Next Milest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Round11J Production Model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50880" y="2763720"/>
            <a:ext cx="19350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urbine Blad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Unigraphi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m9-ug" descr=""/>
          <p:cNvPicPr/>
          <p:nvPr/>
        </p:nvPicPr>
        <p:blipFill>
          <a:blip r:embed="rId1"/>
          <a:stretch/>
        </p:blipFill>
        <p:spPr>
          <a:xfrm>
            <a:off x="762120" y="1558800"/>
            <a:ext cx="579096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3500000">
            <a:off x="3130200" y="2755800"/>
            <a:ext cx="470160" cy="469800"/>
          </a:xfrm>
          <a:prstGeom prst="rtTriangle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48240" y="2725560"/>
            <a:ext cx="427644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8360" indent="-32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Round10J High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033000" y="3512160"/>
            <a:ext cx="3653640" cy="664560"/>
            <a:chOff x="3033000" y="3512160"/>
            <a:chExt cx="3653640" cy="664560"/>
          </a:xfrm>
        </p:grpSpPr>
        <p:sp>
          <p:nvSpPr>
            <p:cNvPr id="157" name=""/>
            <p:cNvSpPr/>
            <p:nvPr/>
          </p:nvSpPr>
          <p:spPr>
            <a:xfrm rot="13500000">
              <a:off x="3130200" y="3609360"/>
              <a:ext cx="469800" cy="469800"/>
            </a:xfrm>
            <a:prstGeom prst="rtTriangl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48240" y="3581280"/>
              <a:ext cx="303840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8360" indent="-324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969696"/>
                  </a:solidFill>
                  <a:latin typeface="Arial"/>
                </a:rPr>
                <a:t>Round11J Sco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033000" y="4367880"/>
            <a:ext cx="3653640" cy="664560"/>
            <a:chOff x="3033000" y="4367880"/>
            <a:chExt cx="3653640" cy="664560"/>
          </a:xfrm>
        </p:grpSpPr>
        <p:sp>
          <p:nvSpPr>
            <p:cNvPr id="160" name=""/>
            <p:cNvSpPr/>
            <p:nvPr/>
          </p:nvSpPr>
          <p:spPr>
            <a:xfrm rot="13500000">
              <a:off x="3130200" y="4465080"/>
              <a:ext cx="469800" cy="469800"/>
            </a:xfrm>
            <a:prstGeom prst="rtTriangl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48240" y="4437000"/>
              <a:ext cx="303840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8360" indent="-324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Next Milest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Next Mileston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ound11J will be finished end of March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view meeting April 1-3 in Everett, Washing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In conjunction with PDES, Inc. spring offsite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ound12J will be held April – Octo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Scope and schedule will be fixed during April meeting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Review meeting planned for beginning of October in Darmstadt, Germany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Probable scope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inued testing (Instance styling, construction history, production model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w activities (AP203e2, GD&amp;T, new Benchmark mod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10</a:t>
            </a: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J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4720" y="4995720"/>
            <a:ext cx="280512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Benchmark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housing_col" descr=""/>
          <p:cNvPicPr/>
          <p:nvPr/>
        </p:nvPicPr>
        <p:blipFill>
          <a:blip r:embed="rId1"/>
          <a:stretch/>
        </p:blipFill>
        <p:spPr>
          <a:xfrm>
            <a:off x="2955960" y="817560"/>
            <a:ext cx="39034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Round10J Benchmark model resul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1371600"/>
          <a:ext cx="6837480" cy="45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683748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10200" y="5710320"/>
            <a:ext cx="1622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09 ex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00680" y="1940040"/>
            <a:ext cx="2932200" cy="26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00080" indent="-100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arting with the 7</a:t>
            </a:r>
            <a:r>
              <a:rPr b="1" lang="de-DE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Benchmark and following the last CAx-IF test rounds, the results for this model could be improved at an average range of 5%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he model is currently tested again in Round11J to keep track of issue resolution proce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10</a:t>
            </a: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J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71760" y="4780080"/>
            <a:ext cx="32119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i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on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smch2" descr=""/>
          <p:cNvPicPr/>
          <p:nvPr/>
        </p:nvPicPr>
        <p:blipFill>
          <a:blip r:embed="rId1"/>
          <a:stretch/>
        </p:blipFill>
        <p:spPr>
          <a:xfrm>
            <a:off x="1003320" y="1219320"/>
            <a:ext cx="3216240" cy="3627360"/>
          </a:xfrm>
          <a:prstGeom prst="rect">
            <a:avLst/>
          </a:prstGeom>
          <a:ln w="0">
            <a:noFill/>
          </a:ln>
        </p:spPr>
      </p:pic>
      <p:pic>
        <p:nvPicPr>
          <p:cNvPr id="80" name="smch3" descr=""/>
          <p:cNvPicPr/>
          <p:nvPr/>
        </p:nvPicPr>
        <p:blipFill>
          <a:blip r:embed="rId2"/>
          <a:stretch/>
        </p:blipFill>
        <p:spPr>
          <a:xfrm>
            <a:off x="5708520" y="939960"/>
            <a:ext cx="33973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9192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Round10J Construction History model resul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1447920"/>
          <a:ext cx="5791320" cy="38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579132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722880" y="5710320"/>
            <a:ext cx="1396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 ex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1905120"/>
            <a:ext cx="3519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96840" indent="-96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rst test of this functionality based on pilot implement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rther testing with extended scope is currently ongo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10</a:t>
            </a: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J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11920" y="4952880"/>
            <a:ext cx="346968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2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operability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724280" y="998640"/>
            <a:ext cx="4457880" cy="3459240"/>
          </a:xfrm>
          <a:prstGeom prst="rect">
            <a:avLst/>
          </a:prstGeom>
          <a:ln w="0">
            <a:noFill/>
          </a:ln>
        </p:spPr>
      </p:pic>
      <p:pic>
        <p:nvPicPr>
          <p:cNvPr id="89" name="ap209-td" descr=""/>
          <p:cNvPicPr/>
          <p:nvPr/>
        </p:nvPicPr>
        <p:blipFill>
          <a:blip r:embed="rId2"/>
          <a:stretch/>
        </p:blipFill>
        <p:spPr>
          <a:xfrm>
            <a:off x="660240" y="1392120"/>
            <a:ext cx="348012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Round10J AP209 model resul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1295280"/>
          <a:ext cx="6248520" cy="41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624852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66000" y="5710320"/>
            <a:ext cx="15094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2 ex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6400" y="1411200"/>
            <a:ext cx="313848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93600" indent="-9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-AP-testing mainly aims for interoperability of geometry defini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veral structural issues have alrady been identified and will be adres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rther testing to keep track of the development is plan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10</a:t>
            </a: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J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13160" y="3035160"/>
            <a:ext cx="292392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M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65760" y="2425680"/>
            <a:ext cx="17215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ulti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 - New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201800" y="3365640"/>
            <a:ext cx="1828080" cy="2529720"/>
            <a:chOff x="7201800" y="3365640"/>
            <a:chExt cx="1828080" cy="2529720"/>
          </a:xfrm>
        </p:grpSpPr>
        <p:pic>
          <p:nvPicPr>
            <p:cNvPr id="99" name="pm7-id" descr=""/>
            <p:cNvPicPr/>
            <p:nvPr/>
          </p:nvPicPr>
          <p:blipFill>
            <a:blip r:embed="rId1"/>
            <a:stretch/>
          </p:blipFill>
          <p:spPr>
            <a:xfrm>
              <a:off x="7282080" y="3365640"/>
              <a:ext cx="174780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201800" y="4977000"/>
              <a:ext cx="181296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d’s activity t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D - Same model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 STEP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981360" y="3516480"/>
            <a:ext cx="1959120" cy="2240640"/>
            <a:chOff x="981360" y="3516480"/>
            <a:chExt cx="1959120" cy="2240640"/>
          </a:xfrm>
        </p:grpSpPr>
        <p:pic>
          <p:nvPicPr>
            <p:cNvPr id="102" name="pm7-ug" descr=""/>
            <p:cNvPicPr/>
            <p:nvPr/>
          </p:nvPicPr>
          <p:blipFill>
            <a:blip r:embed="rId2"/>
            <a:stretch/>
          </p:blipFill>
          <p:spPr>
            <a:xfrm>
              <a:off x="1009440" y="3516480"/>
              <a:ext cx="190332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981360" y="4838760"/>
              <a:ext cx="195912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urbine bl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G – Same model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 STEP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pm8-ac" descr=""/>
          <p:cNvPicPr/>
          <p:nvPr/>
        </p:nvPicPr>
        <p:blipFill>
          <a:blip r:embed="rId3"/>
          <a:stretch/>
        </p:blipFill>
        <p:spPr>
          <a:xfrm>
            <a:off x="2222640" y="1195560"/>
            <a:ext cx="1726920" cy="12142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5489640" y="1054080"/>
            <a:ext cx="2161800" cy="2148120"/>
            <a:chOff x="5489640" y="1054080"/>
            <a:chExt cx="2161800" cy="2148120"/>
          </a:xfrm>
        </p:grpSpPr>
        <p:sp>
          <p:nvSpPr>
            <p:cNvPr id="106" name=""/>
            <p:cNvSpPr/>
            <p:nvPr/>
          </p:nvSpPr>
          <p:spPr>
            <a:xfrm>
              <a:off x="5489640" y="2577960"/>
              <a:ext cx="216180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ingle stroke eng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 - New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pm8-in" descr=""/>
            <p:cNvPicPr/>
            <p:nvPr/>
          </p:nvPicPr>
          <p:blipFill>
            <a:blip r:embed="rId4"/>
            <a:stretch/>
          </p:blipFill>
          <p:spPr>
            <a:xfrm>
              <a:off x="5857920" y="1054080"/>
              <a:ext cx="1492200" cy="154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3920400" y="4365720"/>
            <a:ext cx="1698480" cy="1757520"/>
            <a:chOff x="3920400" y="4365720"/>
            <a:chExt cx="1698480" cy="1757520"/>
          </a:xfrm>
        </p:grpSpPr>
        <p:sp>
          <p:nvSpPr>
            <p:cNvPr id="109" name=""/>
            <p:cNvSpPr/>
            <p:nvPr/>
          </p:nvSpPr>
          <p:spPr>
            <a:xfrm>
              <a:off x="3920400" y="5499000"/>
              <a:ext cx="169848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old too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T - New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pm8-ct" descr=""/>
            <p:cNvPicPr/>
            <p:nvPr/>
          </p:nvPicPr>
          <p:blipFill>
            <a:blip r:embed="rId5"/>
            <a:stretch/>
          </p:blipFill>
          <p:spPr>
            <a:xfrm>
              <a:off x="3974760" y="4365720"/>
              <a:ext cx="1562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0:38:20Z</dcterms:created>
  <dc:creator>Jochen Boy</dc:creator>
  <dc:description/>
  <dc:language>en-US</dc:language>
  <cp:lastModifiedBy>Max Ungerer</cp:lastModifiedBy>
  <cp:lastPrinted>2000-02-16T08:52:10Z</cp:lastPrinted>
  <dcterms:modified xsi:type="dcterms:W3CDTF">2003-03-11T23:03:52Z</dcterms:modified>
  <cp:revision>6</cp:revision>
  <dc:subject/>
  <dc:title>PowerPoint-Präsentation</dc:title>
</cp:coreProperties>
</file>