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28DA-188A-423F-BE0D-83150D2AE4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al Data Implementors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3, 2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kuoka, Jap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fmain" descr=""/>
          <p:cNvPicPr/>
          <p:nvPr/>
        </p:nvPicPr>
        <p:blipFill>
          <a:blip r:embed="rId1"/>
          <a:stretch/>
        </p:blipFill>
        <p:spPr>
          <a:xfrm>
            <a:off x="647640" y="293760"/>
            <a:ext cx="80010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– Wednesday 10:30 – 17: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36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:30 – Noon STEP-NC Demonst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-C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M vide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 Model GDLS Demon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 Automation using AP-213/AP-224/AP-2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:30PM – 5P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rics Report – Mike Prat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y 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Issue Re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eb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p-imp@steptools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 at: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http://www.steptools.com/imp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charter, issue log, minutes of last meeting, and slides from last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background mate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um FA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 to many STEP pl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information for addition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IG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0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Interoperability 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 Interoper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fied PDM Sche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wards Compati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s in Prog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21 Amend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Model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and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1-10-04T23:04:28Z</dcterms:modified>
  <cp:revision>128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