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0DD4-D0A8-4FE4-87A3-C439572A92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Data Implementors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3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kuoka, Jap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fmain" descr=""/>
          <p:cNvPicPr/>
          <p:nvPr/>
        </p:nvPicPr>
        <p:blipFill>
          <a:blip r:embed="rId1"/>
          <a:stretch/>
        </p:blipFill>
        <p:spPr>
          <a:xfrm>
            <a:off x="647640" y="293760"/>
            <a:ext cx="8001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3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:30 – Noon STEP-NC Demonst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-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 vid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 Model GDLS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 Automation using AP-213/AP-224/AP-2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30PM – 5P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rics Report – Mike Prat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ssue Re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s in Mo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amend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s in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able conc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saved by the AP developers may have to be spent by each implemen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ors may have to purchase many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know the scope of a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es the EXPRESS-G begin and en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RESS Amend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5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version of EXPRESS has not yet been implemented by any tool kit vend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not check your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D versions of Part 21, Part 28 and SDAI are not yet in the scope of any WG11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not make an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modeling technique allows EXPRESS entities to reference anything (Gener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ill not know what to i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we be harmonizing against 70+ modules instead of 3 AP’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not know if they all work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77360" y="1501920"/>
            <a:ext cx="43732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riers to implementation of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-imp@steptools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 at: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http://www.steptools.com/imp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charter, issue log, minutes of last meeting, and slides from last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background mate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um FA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 to many STEP pl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information for addition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10-15T11:56:01Z</dcterms:modified>
  <cp:revision>133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