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C1AA-A24E-4BE0-B933-DA7987242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pport for IPC D350 dis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710F-4C9B-43D8-829F-9DC0931C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E4F-7CDA-4B57-ADBE-3080F3F2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6E58-B520-4665-BA52-EC617437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C661-BC9A-435D-814F-2B3E7B73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08C-C977-462D-9E86-79F09F06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EA9-0607-411C-823B-6219862D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C752-6C7C-44C8-A1E6-817FD620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085A-5BAC-4449-91BA-AED5EE26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759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A67-8EB8-4DBF-8F79-C65853DA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99C7-ABF2-4A65-9D99-CD8A3485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FB0-1385-4ECE-A5DF-7C8E9E32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E453-9E6D-487E-B7D0-B5D9AE73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11F8-7D37-4A22-9B3F-AEE9E2E727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KSoftLogo1" descr=""/>
          <p:cNvPicPr/>
          <p:nvPr/>
        </p:nvPicPr>
        <p:blipFill>
          <a:blip r:embed="rId2"/>
          <a:stretch/>
        </p:blipFill>
        <p:spPr>
          <a:xfrm>
            <a:off x="7467480" y="5961240"/>
            <a:ext cx="1447920" cy="539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6477120"/>
            <a:ext cx="868680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210 activities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 at LKSo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example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p210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ircuitCAM / LPKF &amp; LK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AGLE / CadSo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H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oardStation / Men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isula / Zu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aiEdit (AIM instances, ARM vie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imToArm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-Book AP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iewer to AP210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BER-X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LKSoftWare GmbH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A87-3DDA-473C-9DB0-5BA56CBC053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05-015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Other AP210 conver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e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oardStation / Men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isula / Zu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&gt; will allow real test of data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wai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ntor: Expedition, PA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ken: CR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dance, Protel/P-CAD/Altrium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nly a few relevant and indenpendent systems left on th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for Spo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LKSoftWare GmbH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317C-0748-4698-A86E-ACC6293172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05-01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0"/>
          <a:ext cx="9144000" cy="68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LKSoftWare GmbH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A61B-4FCE-4472-A365-1258B961917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05-01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0"/>
          <a:ext cx="9144000" cy="682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LKSoftWare GmbH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823F-7CF0-4A35-8CFB-E84E6159AA6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05-01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P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k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AP210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 viewer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2819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CB, PCA views (both Usage and Design vie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nctional 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s,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nctional and physical networks,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lates, components,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ologies (passage, stratum, manufactu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LKSoftWare GmbH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267-80C1-4D9F-8971-B01FADC9C8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05-01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523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P-Boo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2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ntinu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2819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eri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D and 3D geometry (relationship between 2D and 3D desig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ssages (plated, unplated, blind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,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tic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ort PCB data to GER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TutorCPU2" descr=""/>
          <p:cNvPicPr/>
          <p:nvPr/>
        </p:nvPicPr>
        <p:blipFill>
          <a:blip r:embed="rId1"/>
          <a:stretch/>
        </p:blipFill>
        <p:spPr>
          <a:xfrm>
            <a:off x="4038480" y="152280"/>
            <a:ext cx="4923000" cy="29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LKSoftWare GmbH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347-AF55-4625-8F4A-565D48D3BD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05-01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7920"/>
          <a:ext cx="9144000" cy="682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"/>
                    <a:ext cx="914400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LKSoftWare GmbH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BE0-DA13-41B0-B967-08E5D74FDD4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05-01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rcuitCAM =&gt; AP210 Conve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kind of re-enginee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BER has much less information than AP210 requ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ed to single and double sided PC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very "good" GERBER/GERBER-X 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flashed pad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tracks drawn with one aper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ower planes as polygon (not fill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rther data preparations needed in CircuitC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LKSoftWare GmbH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8BF-1F6C-4515-802D-F389D71AE7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05-01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2205"/>
          <a:stretch/>
        </p:blipFill>
        <p:spPr>
          <a:xfrm>
            <a:off x="533520" y="1143000"/>
            <a:ext cx="8153280" cy="4800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ircuitCAM =&gt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LKSoftWare GmbH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3586-24C1-4FED-BD74-8C07C5C7340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05-01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P210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p210_pcb1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4521240" cy="3514680"/>
          </a:xfrm>
          <a:prstGeom prst="rect">
            <a:avLst/>
          </a:prstGeom>
          <a:ln w="0">
            <a:noFill/>
          </a:ln>
        </p:spPr>
      </p:pic>
      <p:pic>
        <p:nvPicPr>
          <p:cNvPr id="58" name="ap210_pcb2" descr=""/>
          <p:cNvPicPr/>
          <p:nvPr/>
        </p:nvPicPr>
        <p:blipFill>
          <a:blip r:embed="rId2"/>
          <a:stretch/>
        </p:blipFill>
        <p:spPr>
          <a:xfrm>
            <a:off x="3886200" y="990720"/>
            <a:ext cx="4854600" cy="3076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2400" y="213372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p210_pcb1.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hand made, 835 instan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89520" y="4191120"/>
            <a:ext cx="31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p210_pcb2.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CircuitCAM conver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970 instan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LKSoftWare GmbH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38BB-0A1F-4272-9648-7CC8D6BC12A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05-01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862760" cy="5892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xample: tutor (10 283 instan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LKSoftWare GmbH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C60F-6EBF-4F43-9758-426AAC58994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05-01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xample: tutorCPU (60 100 instan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LKSoftWare GmbH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B4EF-52CE-492F-BBEE-E2C60D0E56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05-01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G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210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conve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 PCB/PCA Cad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Soft Computer Gmb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ow cost, a share-ware version i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ver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irst converter covering full PCB and PCA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conformance classes 8 and 9 of AP2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AGLE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LKSoftWare GmbH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BAFB-8A97-4DF8-BD24-54BCA16D74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05-01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G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210 (continu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3040200" cy="128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2936880" cy="1293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143000" y="4343400"/>
            <a:ext cx="3014640" cy="127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648320" y="4343400"/>
            <a:ext cx="2971800" cy="127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43000" y="1752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1752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210 (PC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55627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210 (P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5562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3581280"/>
            <a:ext cx="0" cy="7621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2895480"/>
            <a:ext cx="5335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3581280"/>
            <a:ext cx="0" cy="7621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LKSoftWare GmbH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491-E0C3-4C72-ABAD-4E0F23CE679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05-01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HD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210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066680" y="1066680"/>
            <a:ext cx="2819520" cy="2133720"/>
            <a:chOff x="1066680" y="1066680"/>
            <a:chExt cx="2819520" cy="213372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1295280" y="1142640"/>
              <a:ext cx="217188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066680" y="1066680"/>
              <a:ext cx="2819520" cy="21337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52480" y="3352680"/>
            <a:ext cx="5639040" cy="2898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181480" y="838080"/>
            <a:ext cx="312444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TITY simpl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ORT  (a,b,c,d:IN BIT; g: OUT BI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simp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CHITECTURE structural OF simpl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PONENT nand_g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ORT (a,b : IN BIT; y : OUT BIT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COMPONE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IGNAL e,f : BI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1:nand_gate PORT MAP(a,b,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2:nand_gate PORT MAP(c,d,f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3:nand_gate PORT MAP(e,f,g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structura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LKSoftWare GmbH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847-A8ED-4214-892B-53DA4C509E1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05-01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0T22:47:03Z</dcterms:created>
  <dc:creator>Lothar</dc:creator>
  <dc:description/>
  <dc:language>en-US</dc:language>
  <cp:lastModifiedBy>lothar</cp:lastModifiedBy>
  <dcterms:modified xsi:type="dcterms:W3CDTF">2002-06-12T12:12:15Z</dcterms:modified>
  <cp:revision>94</cp:revision>
  <dc:subject/>
  <dc:title>Framework for CAD/CAM/PDM Applications</dc:title>
</cp:coreProperties>
</file>