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902825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837864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83786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62120" y="3944880"/>
            <a:ext cx="83786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837864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4088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55480" y="1676160"/>
            <a:ext cx="4088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62120" y="3944880"/>
            <a:ext cx="4088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55480" y="3944880"/>
            <a:ext cx="4088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837864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26978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95320" y="1676160"/>
            <a:ext cx="26978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28520" y="1676160"/>
            <a:ext cx="26978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62120" y="3944880"/>
            <a:ext cx="26978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95320" y="3944880"/>
            <a:ext cx="26978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428520" y="3944880"/>
            <a:ext cx="26978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837864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762120" y="1676160"/>
            <a:ext cx="83786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837864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83786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837864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4088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55480" y="1676160"/>
            <a:ext cx="4088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837864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762120" y="380880"/>
            <a:ext cx="837864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837864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4088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055480" y="1676160"/>
            <a:ext cx="4088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762120" y="3944880"/>
            <a:ext cx="4088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837864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62120" y="1676160"/>
            <a:ext cx="83786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837864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4088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55480" y="1676160"/>
            <a:ext cx="4088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055480" y="3944880"/>
            <a:ext cx="4088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837864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4088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55480" y="1676160"/>
            <a:ext cx="4088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62120" y="3944880"/>
            <a:ext cx="83786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837864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83786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762120" y="3944880"/>
            <a:ext cx="83786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837864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4088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55480" y="1676160"/>
            <a:ext cx="4088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2120" y="3944880"/>
            <a:ext cx="4088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055480" y="3944880"/>
            <a:ext cx="4088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837864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26978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95320" y="1676160"/>
            <a:ext cx="26978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428520" y="1676160"/>
            <a:ext cx="26978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762120" y="3944880"/>
            <a:ext cx="26978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595320" y="3944880"/>
            <a:ext cx="26978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428520" y="3944880"/>
            <a:ext cx="26978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837864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83786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837864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4088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55480" y="1676160"/>
            <a:ext cx="4088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837864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62120" y="380880"/>
            <a:ext cx="837864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837864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4088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55480" y="1676160"/>
            <a:ext cx="4088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62120" y="3944880"/>
            <a:ext cx="4088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837864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4088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55480" y="1676160"/>
            <a:ext cx="4088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55480" y="3944880"/>
            <a:ext cx="4088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837864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4088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55480" y="1676160"/>
            <a:ext cx="4088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62120" y="3944880"/>
            <a:ext cx="83786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837864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676160"/>
            <a:ext cx="83786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961920" indent="-428400">
              <a:spcBef>
                <a:spcPts val="601"/>
              </a:spcBef>
              <a:buClr>
                <a:srgbClr val="ff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2" marL="1380960" indent="-228600"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3" marL="1800360" indent="-228600"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4" marL="2219400" indent="-228600"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5" marL="2219400" indent="-2286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6" marL="2219400" indent="-2286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62120" y="2286000"/>
            <a:ext cx="837864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237960" algn="ctr">
              <a:spcBef>
                <a:spcPts val="451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200160" algn="ctr">
              <a:spcBef>
                <a:spcPts val="451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162000" algn="ctr">
              <a:spcBef>
                <a:spcPts val="451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16200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16200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1080" y="333000"/>
            <a:ext cx="921708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4800" spc="-1" strike="noStrike">
                <a:solidFill>
                  <a:srgbClr val="ff0000"/>
                </a:solidFill>
                <a:latin typeface="Arial"/>
              </a:rPr>
              <a:t>ISO TC184/SC4/WG12 </a:t>
            </a:r>
            <a:br>
              <a:rPr sz="4800"/>
            </a:br>
            <a:r>
              <a:rPr b="1" lang="en-GB" sz="4800" spc="-1" strike="noStrike">
                <a:solidFill>
                  <a:srgbClr val="ff0000"/>
                </a:solidFill>
                <a:latin typeface="Arial"/>
              </a:rPr>
              <a:t>Parametrics Group:</a:t>
            </a:r>
            <a:br>
              <a:rPr sz="4800"/>
            </a:br>
            <a:r>
              <a:rPr b="1" lang="en-GB" sz="4800" spc="-1" strike="noStrike">
                <a:solidFill>
                  <a:srgbClr val="ff0000"/>
                </a:solidFill>
                <a:latin typeface="Arial"/>
              </a:rPr>
              <a:t>Status Report</a:t>
            </a:r>
            <a:br>
              <a:rPr sz="4800"/>
            </a:br>
            <a:br>
              <a:rPr sz="3800"/>
            </a:br>
            <a:r>
              <a:rPr b="1" lang="en-GB" sz="3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Mike Pratt</a:t>
            </a:r>
            <a:br>
              <a:rPr sz="2400"/>
            </a:b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 LMR Systems/NIST</a:t>
            </a:r>
            <a:br>
              <a:rPr sz="2400"/>
            </a:b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Leader, ISO TC184/SC4/W12 Parametrics Group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855440" y="4724280"/>
            <a:ext cx="6335640" cy="187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0000"/>
                </a:solidFill>
                <a:latin typeface="Arial"/>
              </a:rPr>
              <a:t>ISO TC184/SC4 meeting</a:t>
            </a: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0000"/>
                </a:solidFill>
                <a:latin typeface="Arial"/>
              </a:rPr>
              <a:t>Stockholm, Sweden </a:t>
            </a: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0000"/>
                </a:solidFill>
                <a:latin typeface="Arial"/>
              </a:rPr>
              <a:t>9 – 15 June 2002</a:t>
            </a:r>
            <a:r>
              <a:rPr b="0" lang="en-GB" sz="27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99172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onstruction History Test Implementation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DES Inc implementation (by Theorem Solutions)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961920" indent="-4284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-way exchange between CATIA and Unigraph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-4284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a ‘basic mechanisms schema’ similar to N9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-4284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 not parametric - Part 108 not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NIST implementation (Hua Jiang/Fujun Wang)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961920" indent="-4284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-way exchange between ProEngineer and Solid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-4284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metric model - Part 108 is u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KAIST implementation (Soonhung Han’s group)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961920" indent="-4284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 systems (CATIA, I-DEAS, ProE, SolidWorks, U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-4284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2-way exchanges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demo given in Fukuoka, Oct 200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-4284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w based on EXPRESS schema of 170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-4284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ma will be harmonized with PDES Inc. and WG12 Parametrics Group work before the end of 200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837864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Conclusion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83786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The WG12 Parametrics group is working in several areas, and is beginning to generate a significant number of new ISO 10303 documents.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The Group is collaborating with PDES Inc. and with KAIST on concept generation and testing.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The capture and transfer of procedural or construction history models will be a major advance on current STEP methodology – it is hoped that a solid foundation has been laid for rapid progress to be made in this area. 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837864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art 108 - ‘Parameterization and constraints for explicit geometric product modelling’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onstruction history modelling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961920" indent="-428400">
              <a:spcBef>
                <a:spcPts val="499"/>
              </a:spcBef>
              <a:buClr>
                <a:srgbClr val="ff0000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ort on ‘basic mechanisms’ resource proposal, supplementing Bill Anderson’s report on AP203 ed.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art 109 - Enhanced assembly modelling with parameterization and constraint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961920" indent="-428400">
              <a:spcBef>
                <a:spcPts val="499"/>
              </a:spcBef>
              <a:buClr>
                <a:srgbClr val="ff0000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 109 is being prepared for its CD ballot, and is not further discussed in this presen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Long-term (‘General Case’) project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961920" indent="-428400">
              <a:spcBef>
                <a:spcPts val="499"/>
              </a:spcBef>
              <a:buClr>
                <a:srgbClr val="ff0000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prog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883908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art 108: Pameterization &amp; Constraint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83786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D ballot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Result (Jan. 2002)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 Yes, with comments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D document was WG12 N940, dated September 2001. DIS version is now in preparation, due Oct. 2002.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Votes: YES (13), ABSTAIN (1), NO (2) - France, German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961920" indent="-428400">
              <a:spcBef>
                <a:spcPts val="499"/>
              </a:spcBef>
              <a:buClr>
                <a:srgbClr val="ff0000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ost major French and German comments were resolved in Myrtle Be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rocedural Modelling Project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577360" cy="463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WI project on  procedural modelling, i.e. capture and transfer of construction history.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orking Draft exists of a proposed new resource     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‘Procedural and hybrid representation’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; it will be submitted after this meeting for an NWI/CD ballot.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llows generation of constructional procedures based on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any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SO 10303 entities – in particular, the proposed resource will work with Parts 41 – 44, Part 108, the feature module in AP203 ed. 2, etc, etc.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orking with PDES Inc., CAD vendors and others on representations and on proof-of-concept tests. 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837864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rocedural (history-based) modelling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83786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odel defined as sequences of constructional operations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961920" indent="-428400">
              <a:spcBef>
                <a:spcPts val="451"/>
              </a:spcBef>
              <a:buClr>
                <a:srgbClr val="ff0000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resource uses existing and newly written constructional entities to represent construction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-428400">
              <a:spcBef>
                <a:spcPts val="451"/>
              </a:spcBef>
              <a:buClr>
                <a:srgbClr val="ff0000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write EXPRESS representations of many types of design features (being done for AP203 ed. 2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-428400">
              <a:spcBef>
                <a:spcPts val="451"/>
              </a:spcBef>
              <a:buClr>
                <a:srgbClr val="ff0000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medium-level CAD operations also need to be modelled (KAIST work will provide thes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In the purest approach, no explicit faces, edges, vertices in procedural shape models – nothing but operations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Hybrid models (supported by most CAD systems) may also involve explicit entities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961920" indent="-428400">
              <a:spcBef>
                <a:spcPts val="451"/>
              </a:spcBef>
              <a:buClr>
                <a:srgbClr val="ff0000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(procedural) sweep operation on explicitly defined 2D profi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837864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onstruction History Achievement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ocumentation: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961920" indent="-4284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D of ‘basic mechanisms’ resource (WG12 N98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-4284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 module for AP203 ed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-4284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ors’ Gu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-4284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metrization/constraints resource (Part 108) has already passed CD ballot (WG12 N94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est implementations: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961920" indent="-4284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DES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-4284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-4284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IST (a slightly different approach, but harmonization is in progress within WG1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961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03440" y="691920"/>
            <a:ext cx="861984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ew STEP ‘mechanisms’ resource  ‘Procedural and hybrid modelling’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3786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tructured history file with provision for inclusion of design rationale information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akes provision for history-based representation of general models, with geometric models as a specialization.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 short document – only about 40 pages.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99172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onstruction History Test Implementation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1760" y="1773360"/>
            <a:ext cx="8381880" cy="424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est model – L-block with hol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961920" indent="-428400">
              <a:spcBef>
                <a:spcPts val="499"/>
              </a:spcBef>
              <a:buClr>
                <a:srgbClr val="ff0000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icit 2D ske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-428400">
              <a:spcBef>
                <a:spcPts val="499"/>
              </a:spcBef>
              <a:buClr>
                <a:srgbClr val="ff0000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rusion to create L-b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-428400">
              <a:spcBef>
                <a:spcPts val="499"/>
              </a:spcBef>
              <a:buClr>
                <a:srgbClr val="ff0000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ant-radius fillet of concave 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-428400">
              <a:spcBef>
                <a:spcPts val="499"/>
              </a:spcBef>
              <a:buClr>
                <a:srgbClr val="ff0000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olean subtraction of cylinder + cone to create ho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n full model, sketch and its constraints are defined using Part 108 capabilitie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KAIST is also working with more complex model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9619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83786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est Part in CATIA 5.3 (courtesy of KAIST)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666880" y="1447920"/>
            <a:ext cx="442620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15T12:58:30Z</dcterms:created>
  <dc:creator>Wolfgang Haas</dc:creator>
  <dc:description/>
  <dc:language>en-US</dc:language>
  <cp:lastModifiedBy>Pratt</cp:lastModifiedBy>
  <cp:lastPrinted>2001-05-07T20:59:10Z</cp:lastPrinted>
  <dcterms:modified xsi:type="dcterms:W3CDTF">2002-07-04T21:03:38Z</dcterms:modified>
  <cp:revision>111</cp:revision>
  <dc:subject/>
  <dc:title>Application Interpretation Training</dc:title>
</cp:coreProperties>
</file>