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E962-26C2-4EC2-8895-D5A191C4E1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63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2,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holm, Swe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0040" y="4332240"/>
            <a:ext cx="661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064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30 – AP-203 Edition 2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 Ed2 (Bill Anders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al Modeling (Mike Prat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:00 – Implementation Forum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/214 CAX/IF Review (Max Unger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0 Review (Lothar Klei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9 Review (Keith Hunt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:30 STEP-Manufacturing Demon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24 Enabled Demons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2-06-07T16:26:51Z</dcterms:modified>
  <cp:revision>130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