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245280"/>
            <a:ext cx="2743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829D-5FAC-4553-90E7-060CEC8FC0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1600"/>
            <a:ext cx="912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ors For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463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Tool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2, 20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holm, Swe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20040" y="4332240"/>
            <a:ext cx="6618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domo E-mail exploder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ep-imp@steptool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ve at: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http://www.steptools.com/imp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22400" y="2556000"/>
            <a:ext cx="6732360" cy="450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– Wednesday 10:30 – 17: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0640" y="157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:30 – AP-203 Edition 2 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03 Ed2 (Bill Anders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al Modeling (Mike Prat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hanging Construction Model History data using Journal files (Soonhung Ha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:00 – Implementation Forum re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03/214 CAX/IF Review (Max Unger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10 Review (Lothar Klei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09 Review (Keith Hunte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:30 STEP-Manufacturing Demonst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24 Enabled Demonstrations (SRCA RAM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 for GibbsCAM and Mastercam (STEP Tool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s for Seou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ssion on Reference Libra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backs from testing foru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-NC Demonst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21:29:14Z</dcterms:created>
  <dc:creator>Larry McKee</dc:creator>
  <dc:description/>
  <dc:language>en-US</dc:language>
  <cp:lastModifiedBy>hardwick</cp:lastModifiedBy>
  <cp:lastPrinted>1999-11-03T02:14:05Z</cp:lastPrinted>
  <dcterms:modified xsi:type="dcterms:W3CDTF">2002-06-14T06:04:06Z</dcterms:modified>
  <cp:revision>132</cp:revision>
  <dc:subject/>
  <dc:title>Implementors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arrym@us.ibm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tepimp\02200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