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C947-0101-4982-91DC-0CCBE6E55F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바탕체"/>
              </a:rPr>
              <a:t>It shows the translator between difference CAD system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using macro parametric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7A19-81B9-4C89-B290-E9CEE6E79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A4FD-20EB-4115-8C3A-E4349F52D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5ADC-B01F-4F7F-9583-CCD4813DF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5913-DFD5-4BB5-B8CC-0D1D8F8C7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D967-0BFB-4D3C-907F-5D0B6B302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20BA-FC50-44F0-B278-11A7487BE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3F6B-166C-482B-A20E-423DD3826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C6D1-34A4-40BF-960B-939F89AFA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80CE-A53D-4E7D-B6D9-B360F8FA7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07E7-D5CB-4020-99C7-DF2EB893A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981B-EAD2-4E05-AA67-F2C194658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4CA3-B75E-4978-B5AF-77A97DD6A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artdb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71600" y="1219320"/>
            <a:ext cx="6858000" cy="0"/>
          </a:xfrm>
          <a:prstGeom prst="line">
            <a:avLst/>
          </a:prstGeom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0"/>
            <a:ext cx="0" cy="990720"/>
          </a:xfrm>
          <a:prstGeom prst="line">
            <a:avLst/>
          </a:prstGeom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8001360" y="76140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1447920"/>
            <a:ext cx="0" cy="5410080"/>
          </a:xfrm>
          <a:prstGeom prst="line">
            <a:avLst/>
          </a:prstGeom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143000" y="12193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162920" y="6400800"/>
            <a:ext cx="1828800" cy="299880"/>
            <a:chOff x="7162920" y="6400800"/>
            <a:chExt cx="1828800" cy="299880"/>
          </a:xfrm>
        </p:grpSpPr>
        <p:pic>
          <p:nvPicPr>
            <p:cNvPr id="9" name="partdb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6400800"/>
              <a:ext cx="109692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Lab_logo" descr=""/>
            <p:cNvPicPr/>
            <p:nvPr/>
          </p:nvPicPr>
          <p:blipFill>
            <a:blip r:embed="rId4"/>
            <a:stretch/>
          </p:blipFill>
          <p:spPr>
            <a:xfrm>
              <a:off x="8382240" y="6400800"/>
              <a:ext cx="609480" cy="29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990720" y="6552720"/>
            <a:ext cx="761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8913-FBA7-4C84-AAB8-FD78CFCEF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" y="2176560"/>
            <a:ext cx="66960" cy="65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581280"/>
            <a:ext cx="6858000" cy="0"/>
          </a:xfrm>
          <a:prstGeom prst="line">
            <a:avLst/>
          </a:prstGeom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0"/>
            <a:ext cx="0" cy="3352680"/>
          </a:xfrm>
          <a:prstGeom prst="line">
            <a:avLst/>
          </a:prstGeom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809880"/>
            <a:ext cx="0" cy="3048120"/>
          </a:xfrm>
          <a:prstGeom prst="line">
            <a:avLst/>
          </a:prstGeom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3000" y="358128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001360" y="312336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artdb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artdb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Arial"/>
              </a:rPr>
              <a:t>History-based (macro)  parametrics for P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002. 6.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oonhung 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AIST, Part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hhan@kaist.ac.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934320" y="6248520"/>
            <a:ext cx="1828800" cy="299880"/>
            <a:chOff x="6934320" y="6248520"/>
            <a:chExt cx="1828800" cy="299880"/>
          </a:xfrm>
        </p:grpSpPr>
        <p:pic>
          <p:nvPicPr>
            <p:cNvPr id="103" name="partdb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934320" y="6248520"/>
              <a:ext cx="109692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Lab_logo" descr=""/>
            <p:cNvPicPr/>
            <p:nvPr/>
          </p:nvPicPr>
          <p:blipFill>
            <a:blip r:embed="rId3"/>
            <a:stretch/>
          </p:blipFill>
          <p:spPr>
            <a:xfrm>
              <a:off x="8153640" y="6248520"/>
              <a:ext cx="609480" cy="29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971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-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s Spr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2209680" cy="1800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743200" y="29718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-mod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29718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-block (SMC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221004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362320" y="1143000"/>
            <a:ext cx="2209680" cy="1800360"/>
          </a:xfrm>
          <a:prstGeom prst="rect">
            <a:avLst/>
          </a:prstGeom>
          <a:ln w="0">
            <a:noFill/>
          </a:ln>
        </p:spPr>
      </p:pic>
      <p:pic>
        <p:nvPicPr>
          <p:cNvPr id="216" name="2차모델_complex(양정삼)" descr=""/>
          <p:cNvPicPr/>
          <p:nvPr/>
        </p:nvPicPr>
        <p:blipFill>
          <a:blip r:embed="rId4"/>
          <a:stretch/>
        </p:blipFill>
        <p:spPr>
          <a:xfrm>
            <a:off x="228600" y="4191120"/>
            <a:ext cx="2519280" cy="1800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424320" y="4191120"/>
            <a:ext cx="2519280" cy="1800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05320" y="60357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-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neumatics Cylind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617220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-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0" name="rd7081" descr=""/>
          <p:cNvPicPr/>
          <p:nvPr/>
        </p:nvPicPr>
        <p:blipFill>
          <a:blip r:embed="rId6"/>
          <a:stretch/>
        </p:blipFill>
        <p:spPr>
          <a:xfrm>
            <a:off x="7061040" y="106668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86600" y="2971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ar Senso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60357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4-1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ngine Airfilter Housing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3" name="일반모델2-3" descr=""/>
          <p:cNvPicPr/>
          <p:nvPr/>
        </p:nvPicPr>
        <p:blipFill>
          <a:blip r:embed="rId7"/>
          <a:stretch/>
        </p:blipFill>
        <p:spPr>
          <a:xfrm>
            <a:off x="7315200" y="3962520"/>
            <a:ext cx="1403280" cy="213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F85E-C244-410A-A641-A908B0074C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or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y-model(catia)" descr=""/>
          <p:cNvPicPr/>
          <p:nvPr/>
        </p:nvPicPr>
        <p:blipFill>
          <a:blip r:embed="rId1"/>
          <a:stretch/>
        </p:blipFill>
        <p:spPr>
          <a:xfrm>
            <a:off x="3978360" y="1951200"/>
            <a:ext cx="1127160" cy="1081080"/>
          </a:xfrm>
          <a:prstGeom prst="rect">
            <a:avLst/>
          </a:prstGeom>
          <a:ln w="0">
            <a:noFill/>
          </a:ln>
        </p:spPr>
      </p:pic>
      <p:pic>
        <p:nvPicPr>
          <p:cNvPr id="226" name="y-model(proe)" descr=""/>
          <p:cNvPicPr/>
          <p:nvPr/>
        </p:nvPicPr>
        <p:blipFill>
          <a:blip r:embed="rId2"/>
          <a:stretch/>
        </p:blipFill>
        <p:spPr>
          <a:xfrm>
            <a:off x="1297080" y="2498760"/>
            <a:ext cx="1065240" cy="1076400"/>
          </a:xfrm>
          <a:prstGeom prst="rect">
            <a:avLst/>
          </a:prstGeom>
          <a:ln w="0">
            <a:noFill/>
          </a:ln>
        </p:spPr>
      </p:pic>
      <p:pic>
        <p:nvPicPr>
          <p:cNvPr id="227" name="Y-Model_SW" descr=""/>
          <p:cNvPicPr/>
          <p:nvPr/>
        </p:nvPicPr>
        <p:blipFill>
          <a:blip r:embed="rId3"/>
          <a:stretch/>
        </p:blipFill>
        <p:spPr>
          <a:xfrm>
            <a:off x="6553080" y="24224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28" name="wholewin" descr=""/>
          <p:cNvPicPr/>
          <p:nvPr/>
        </p:nvPicPr>
        <p:blipFill>
          <a:blip r:embed="rId4"/>
          <a:stretch/>
        </p:blipFill>
        <p:spPr>
          <a:xfrm>
            <a:off x="1447920" y="5013360"/>
            <a:ext cx="1414440" cy="1079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76720" y="3718080"/>
            <a:ext cx="26668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acro Parametric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108240"/>
            <a:ext cx="1218960" cy="7621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361960" y="3336840"/>
            <a:ext cx="990360" cy="6098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032280"/>
            <a:ext cx="0" cy="6858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191120" y="303192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549760" y="2917800"/>
            <a:ext cx="914400" cy="91440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778360" y="3146040"/>
            <a:ext cx="762120" cy="7621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1446120" y="210168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/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135320" y="15080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TI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6366240" y="202572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SolidWork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830240" y="461628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80787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Tahoma"/>
                <a:ea typeface="HY각헤드라인M"/>
              </a:rPr>
              <a:t>김병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69357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9900"/>
                </a:solidFill>
                <a:latin typeface="Tahoma"/>
                <a:ea typeface="HY각헤드라인M"/>
              </a:rPr>
              <a:t>문두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8078760" y="5029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66ff"/>
                </a:solidFill>
                <a:latin typeface="Tahoma"/>
                <a:ea typeface="HY각헤드라인M"/>
              </a:rPr>
              <a:t>양정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6935760" y="5105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5050"/>
                </a:solidFill>
                <a:latin typeface="Tahoma"/>
                <a:ea typeface="HY각헤드라인M"/>
              </a:rPr>
              <a:t>이한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95480" y="4632480"/>
            <a:ext cx="914400" cy="9144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048120" y="4784760"/>
            <a:ext cx="914400" cy="9144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6935760" y="563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cc33"/>
                </a:solidFill>
                <a:latin typeface="Tahoma"/>
                <a:ea typeface="HY각헤드라인M"/>
              </a:rPr>
              <a:t>김준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657600"/>
            <a:ext cx="685800" cy="53352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11640" y="3582000"/>
            <a:ext cx="852840" cy="76104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8002800" y="5562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a50021"/>
                </a:solidFill>
                <a:latin typeface="Tahoma"/>
                <a:ea typeface="HY각헤드라인M"/>
              </a:rPr>
              <a:t>김흥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952880" y="3004920"/>
            <a:ext cx="0" cy="68580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3048120"/>
            <a:ext cx="0" cy="68580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FAB4-E41E-46E4-812F-441A7003FB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tion of L-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19320" y="1752480"/>
            <a:ext cx="7700760" cy="4572000"/>
            <a:chOff x="1219320" y="1752480"/>
            <a:chExt cx="7700760" cy="4572000"/>
          </a:xfrm>
        </p:grpSpPr>
        <p:pic>
          <p:nvPicPr>
            <p:cNvPr id="254" name="SolidWorks_test" descr=""/>
            <p:cNvPicPr/>
            <p:nvPr/>
          </p:nvPicPr>
          <p:blipFill>
            <a:blip r:embed="rId1"/>
            <a:stretch/>
          </p:blipFill>
          <p:spPr>
            <a:xfrm>
              <a:off x="1371600" y="1981080"/>
              <a:ext cx="19335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472040" y="39877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lidWorks98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01640" y="3987720"/>
              <a:ext cx="153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TIA V5R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6280" y="5284440"/>
              <a:ext cx="1905120" cy="347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-process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5943240"/>
              <a:ext cx="48006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ndard macro fil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90680" y="563220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6000" y="43588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33880" y="5638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33880" y="5028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0880" y="5284440"/>
              <a:ext cx="2133720" cy="347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st-process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86200" y="4647960"/>
              <a:ext cx="2138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cro file (Script file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90680" y="5001840"/>
              <a:ext cx="180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33880" y="4343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647960"/>
              <a:ext cx="206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Macro file (swb file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6862680" y="1795320"/>
              <a:ext cx="205740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3962520" y="1752480"/>
              <a:ext cx="2062080" cy="21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253200" y="27428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42480" y="3962160"/>
              <a:ext cx="158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ametric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hanges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ABAB-3BC5-4A8D-964B-FCF24E4B4C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</a:rPr>
              <a:t>SolidWorks </a:t>
            </a:r>
            <a:r>
              <a:rPr b="0" lang="ko-K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ko-KR" sz="4400" spc="-1" strike="noStrike">
                <a:solidFill>
                  <a:srgbClr val="000000"/>
                </a:solidFill>
                <a:latin typeface="Arial"/>
              </a:rPr>
              <a:t> Ca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age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8077320" cy="3454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371600" y="5257800"/>
            <a:ext cx="350532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Y그래픽B"/>
              </a:rPr>
              <a:t>Tests with real par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043E-1872-4183-B463-54A2A0A030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</a:rPr>
              <a:t>Pro/E  </a:t>
            </a:r>
            <a:r>
              <a:rPr b="0" lang="ko-K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ko-KR" sz="4400" spc="-1" strike="noStrike">
                <a:solidFill>
                  <a:srgbClr val="000000"/>
                </a:solidFill>
                <a:latin typeface="Arial"/>
              </a:rPr>
              <a:t>   Ca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5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648560" cy="335268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2840040" y="1930320"/>
            <a:ext cx="4214880" cy="1754280"/>
            <a:chOff x="2840040" y="1930320"/>
            <a:chExt cx="4214880" cy="1754280"/>
          </a:xfrm>
        </p:grpSpPr>
        <p:sp>
          <p:nvSpPr>
            <p:cNvPr id="278" name=""/>
            <p:cNvSpPr/>
            <p:nvPr/>
          </p:nvSpPr>
          <p:spPr>
            <a:xfrm>
              <a:off x="6730920" y="1930320"/>
              <a:ext cx="324000" cy="319320"/>
            </a:xfrm>
            <a:prstGeom prst="leftRightArrow">
              <a:avLst>
                <a:gd name="adj1" fmla="val 50000"/>
                <a:gd name="adj2" fmla="val 2019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30920" y="3286080"/>
              <a:ext cx="324000" cy="318960"/>
            </a:xfrm>
            <a:prstGeom prst="leftRightArrow">
              <a:avLst>
                <a:gd name="adj1" fmla="val 50000"/>
                <a:gd name="adj2" fmla="val 2022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53200" y="1930320"/>
              <a:ext cx="323640" cy="319320"/>
            </a:xfrm>
            <a:prstGeom prst="leftRightArrow">
              <a:avLst>
                <a:gd name="adj1" fmla="val 50000"/>
                <a:gd name="adj2" fmla="val 2017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87680" y="3365640"/>
              <a:ext cx="325440" cy="318960"/>
            </a:xfrm>
            <a:prstGeom prst="leftRightArrow">
              <a:avLst>
                <a:gd name="adj1" fmla="val 50000"/>
                <a:gd name="adj2" fmla="val 2031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87680" y="1930320"/>
              <a:ext cx="325440" cy="319320"/>
            </a:xfrm>
            <a:prstGeom prst="leftRightArrow">
              <a:avLst>
                <a:gd name="adj1" fmla="val 50000"/>
                <a:gd name="adj2" fmla="val 202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33840" y="3286080"/>
              <a:ext cx="324000" cy="318960"/>
            </a:xfrm>
            <a:prstGeom prst="leftRightArrow">
              <a:avLst>
                <a:gd name="adj1" fmla="val 50000"/>
                <a:gd name="adj2" fmla="val 2022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0040" y="3365640"/>
              <a:ext cx="324000" cy="318960"/>
            </a:xfrm>
            <a:prstGeom prst="leftRightArrow">
              <a:avLst>
                <a:gd name="adj1" fmla="val 50000"/>
                <a:gd name="adj2" fmla="val 2022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40040" y="1930320"/>
              <a:ext cx="324000" cy="319320"/>
            </a:xfrm>
            <a:prstGeom prst="leftRightArrow">
              <a:avLst>
                <a:gd name="adj1" fmla="val 50000"/>
                <a:gd name="adj2" fmla="val 2019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143000" y="4896000"/>
            <a:ext cx="1752480" cy="1671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6777000" y="5029200"/>
            <a:ext cx="2367000" cy="177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2852280" y="5105520"/>
            <a:ext cx="72900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굴림"/>
              </a:rPr>
              <a:t>Pro/Toolk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819520" y="5562720"/>
            <a:ext cx="323640" cy="318960"/>
          </a:xfrm>
          <a:prstGeom prst="leftRightArrow">
            <a:avLst>
              <a:gd name="adj1" fmla="val 50000"/>
              <a:gd name="adj2" fmla="val 2019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3809880" y="5181480"/>
            <a:ext cx="152424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3562200" y="5562720"/>
            <a:ext cx="324000" cy="318960"/>
          </a:xfrm>
          <a:prstGeom prst="leftRightArrow">
            <a:avLst>
              <a:gd name="adj1" fmla="val 50000"/>
              <a:gd name="adj2" fmla="val 2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5562720"/>
            <a:ext cx="324000" cy="318960"/>
          </a:xfrm>
          <a:prstGeom prst="leftRightArrow">
            <a:avLst>
              <a:gd name="adj1" fmla="val 50000"/>
              <a:gd name="adj2" fmla="val 2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3" name="Y-Model_CAT_Marco" descr=""/>
          <p:cNvPicPr/>
          <p:nvPr/>
        </p:nvPicPr>
        <p:blipFill>
          <a:blip r:embed="rId5"/>
          <a:stretch/>
        </p:blipFill>
        <p:spPr>
          <a:xfrm>
            <a:off x="5638680" y="5181480"/>
            <a:ext cx="851040" cy="1371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477120" y="5562720"/>
            <a:ext cx="323640" cy="318960"/>
          </a:xfrm>
          <a:prstGeom prst="leftRightArrow">
            <a:avLst>
              <a:gd name="adj1" fmla="val 50000"/>
              <a:gd name="adj2" fmla="val 2019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288B-329D-4CA0-A827-F619A92CA4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1600200"/>
            <a:ext cx="3133800" cy="3232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467320" y="1600200"/>
            <a:ext cx="3133800" cy="3232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2895480"/>
            <a:ext cx="3097080" cy="116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ranslat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ased 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cro-parametri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429000" y="4495680"/>
            <a:ext cx="3328920" cy="116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tandar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et o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ing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4064040"/>
            <a:ext cx="995400" cy="411120"/>
          </a:xfrm>
          <a:prstGeom prst="upArrow">
            <a:avLst>
              <a:gd name="adj1" fmla="val 50000"/>
              <a:gd name="adj2" fmla="val 5059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243828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 dat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DEX)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6642360" y="2543040"/>
            <a:ext cx="196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erci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75680" y="6095880"/>
            <a:ext cx="45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 Collaborative model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04BD-F808-468C-BDC3-79931A2F033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translation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Started in April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On the Web: </a:t>
            </a:r>
            <a:r>
              <a:rPr b="0" lang="ko-KR" sz="3200" spc="-1" strike="noStrike">
                <a:solidFill>
                  <a:srgbClr val="3333cc"/>
                </a:solidFill>
                <a:latin typeface="Arial"/>
              </a:rPr>
              <a:t>http://partdb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Start with relatively simple </a:t>
            </a:r>
            <a:r>
              <a:rPr b="0" lang="ko-KR" sz="3200" spc="-1" strike="noStrike">
                <a:solidFill>
                  <a:srgbClr val="3333cc"/>
                </a:solidFill>
                <a:latin typeface="Arial"/>
              </a:rPr>
              <a:t>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cc"/>
                </a:solidFill>
                <a:latin typeface="Arial"/>
              </a:rPr>
              <a:t>NWI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 at Nov. Seoul meeting (Nov. 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3912-318C-4E31-937C-907E1ECA52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of command history or procedure need a set of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nd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mma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reference (100s 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ufacturers use heterogeneous CA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: They need a relatively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robust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for assembly and complex operation ar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ut of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0F98-FB17-4A46-ACF5-4D7F669C21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=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nt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ing, Part 42) +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cess, ope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571500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362320" y="28191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1748880" y="5730840"/>
            <a:ext cx="33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ers/Develope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6856560" y="5715000"/>
            <a:ext cx="177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609840" y="25909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50706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2672280" y="4654440"/>
            <a:ext cx="825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6006600" y="4419720"/>
            <a:ext cx="924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491280" y="2936880"/>
            <a:ext cx="1416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oonhu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ore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FD6A-0DF4-4A30-B743-18466961A2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= entity +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, sequence, procedure involv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i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 time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include action, operation,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= entity +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nt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art 42, Part 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, Script, Operation sequence, Commands sequence,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Jour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9EB5-A26F-4587-97C9-A34FFD2745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ash reco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DBMS: Transaction log file of SQL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of (implicit) design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d in commands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2" descr=""/>
          <p:cNvPicPr/>
          <p:nvPr/>
        </p:nvPicPr>
        <p:blipFill>
          <a:blip r:embed="rId1"/>
          <a:stretch/>
        </p:blipFill>
        <p:spPr>
          <a:xfrm>
            <a:off x="1371600" y="4206960"/>
            <a:ext cx="7534440" cy="1965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04040" y="4724280"/>
            <a:ext cx="87552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P2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6897240" y="4191120"/>
            <a:ext cx="2081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posed Technolo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6488-DB45-4EFB-A30A-442D3A7797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507120" y="2590920"/>
            <a:ext cx="26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2B47-D963-4D5D-A961-8989F71F91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ork to be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or support: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rien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cro (script, command log)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yond: Compound commands,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A2E6-039C-47C0-8018-B96524C57E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352680" y="533520"/>
            <a:ext cx="24386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2743200"/>
            <a:ext cx="2286000" cy="1752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 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5638680" y="2743200"/>
            <a:ext cx="2286000" cy="1752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 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533412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362320" y="1676520"/>
            <a:ext cx="91440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600200"/>
            <a:ext cx="8380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222560" y="167652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6251760" y="175248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572000"/>
            <a:ext cx="99072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638680" y="4572000"/>
            <a:ext cx="6858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5791320" y="2895480"/>
            <a:ext cx="2286000" cy="1752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8291160" y="344808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6D2C-E44C-4118-B2F2-3D64CBEC47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Arial"/>
              </a:rPr>
              <a:t>Standard set of modeling commands for history-based para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002. 6.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oonhung 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AIST, Part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hhan@kaist.ac.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34320" y="6248520"/>
            <a:ext cx="1828800" cy="299880"/>
            <a:chOff x="6934320" y="6248520"/>
            <a:chExt cx="1828800" cy="299880"/>
          </a:xfrm>
        </p:grpSpPr>
        <p:pic>
          <p:nvPicPr>
            <p:cNvPr id="339" name="partdb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934320" y="6248520"/>
              <a:ext cx="109692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Lab_logo" descr=""/>
            <p:cNvPicPr/>
            <p:nvPr/>
          </p:nvPicPr>
          <p:blipFill>
            <a:blip r:embed="rId3"/>
            <a:stretch/>
          </p:blipFill>
          <p:spPr>
            <a:xfrm>
              <a:off x="8153640" y="6248520"/>
              <a:ext cx="609480" cy="29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e comman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5000" y="2133720"/>
            <a:ext cx="163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D 1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048120"/>
            <a:ext cx="19047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shape model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6098400" y="2133720"/>
            <a:ext cx="163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D 2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3048120"/>
            <a:ext cx="19810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story (translated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023880" y="45910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nerat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4D41-C400-4325-B215-2C6C562D5E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– relate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relationship2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5086440" cy="3817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33360" y="1295280"/>
            <a:ext cx="17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D /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ularit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369920" y="4572000"/>
            <a:ext cx="177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arametr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374120" y="243828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601640" y="35193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1450080" y="43434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re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BCEA-A23C-4B8E-A107-8DC67E9EAA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203: pu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-r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parametr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08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metric approach at the geometry level (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G CAD Services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 with some parametric featur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(ENGEN) and SMCH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ybr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-parametric: pu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 at the level of modeling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7ACB-3817-455B-8D1C-D49263EF8D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of Modeling Commands of Commercial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2652840"/>
            <a:ext cx="3200400" cy="3124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21956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8814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37958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7958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28814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307040" y="165276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바탕"/>
              </a:rPr>
              <a:t>Pro/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755720" y="3009960"/>
            <a:ext cx="13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바탕"/>
              </a:rPr>
              <a:t>CATI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288880" y="529596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477840" y="531180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  <a:ea typeface="바탕"/>
              </a:rPr>
              <a:t>SolidWork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900120" y="30099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3592440" y="3832200"/>
            <a:ext cx="23342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tandard model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mmands se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33DC-DF70-49BF-9BDC-89B5AD737B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ation using EXP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356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바탕"/>
              </a:rPr>
              <a:t>SOLID_Create_Protrusion_Extr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is defined as follows. It creates extruded solid with a profile_sketch through orthogonal linear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ITY SOLID_Create_Protrusion_Extru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ile_sket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ip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OLEA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_cond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d_typ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_dep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d_cond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d_typ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d_dep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D_ENT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Where name arguments is a extrusion instance name, profile_sketch is a sketch name, flip is TRUE to reverse the extrusion direction, start_condition is the condition of start face such as Blind, Through all and Up to face, start_depth is start depth of extrusion, end_condition is the condition of end face such as Blind, Through all and Up to face, and end_depth is end depth of extru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1A54-E270-4163-A785-BB9932560E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of modeling comma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D3R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49520" y="192420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1924200"/>
            <a:ext cx="1145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trus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6327720" y="185436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ru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527720" y="206856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3648600" y="15238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vel 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090040" y="15350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vel 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6502680" y="15350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vel 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7871040" y="15350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vel 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2363400" y="1535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1930320"/>
            <a:ext cx="1047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6022800" y="2082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6116760" y="241632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3105000" y="20685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3279600" y="208296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282840" y="4189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327720" y="223524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olv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327720" y="261612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wee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6327720" y="2997360"/>
            <a:ext cx="18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riational Swee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327720" y="337824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lic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6327720" y="375912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f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6099120" y="276876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6099120" y="314964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6099120" y="353052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6099120" y="391176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3581280"/>
            <a:ext cx="1082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m Feature 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710240" y="38419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3460680" y="453564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890960" y="2844720"/>
            <a:ext cx="1079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t 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4710240" y="30178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3460680" y="310824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ify 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460680" y="357516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460680" y="405144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282840" y="374796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282840" y="322740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3282840" y="465624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4879800" y="4525920"/>
            <a:ext cx="1081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6327720" y="444492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4532400" y="467208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961240" y="467208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6099120" y="4978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6319800" y="482616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s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6327720" y="520704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6099120" y="5283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4879800" y="5472000"/>
            <a:ext cx="1081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let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6319800" y="558792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l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4710240" y="56149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946840" y="566424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6099120" y="604512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6327720" y="5969160"/>
            <a:ext cx="108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mf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099120" y="5664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4710240" y="4672080"/>
            <a:ext cx="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7775640" y="5435640"/>
            <a:ext cx="1082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7394400" y="5664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7561440" y="590076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7775640" y="5816520"/>
            <a:ext cx="1082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an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4997160" y="59101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581280"/>
            <a:ext cx="2590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3R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ket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굴림"/>
              </a:rPr>
              <a:t>Sol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urfa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nstraint 2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굴림"/>
              </a:rPr>
              <a:t>Total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굴림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굴림"/>
              </a:rPr>
              <a:t>16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굴림"/>
              </a:rPr>
              <a:t>Korean vers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6099120" y="20829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727520" y="208296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099120" y="46735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547040" y="566424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7DC7-A80C-4D37-AE17-90E4F9131D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throug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066680"/>
          <a:ext cx="8534520" cy="550224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  <a:gridCol w="5562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Commands to be tested (cumulativ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-B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Create_Protrusion_Extru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Create_Cut_Extru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Operate_Filleting_Fillet_ (Chamfer ,Blend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-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Create_Protrusion_Revolve ( Swee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Sp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al p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Create_Cut_Revol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 Sen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Create_Cut_Swe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Create_Protrusion_Variational_Swe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Airfilter Hou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Operate_Boolean_  (Union , Intersect,Differ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Operate_Pattern_   (Rectangular,Circu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atics Cyli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Create_Feature_ (Hole_Counterbored, Hole_Countersunk, Groove, Pocket, Pad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Operate_Transform_ (Move,Rotate, Mirr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_Create_   (Protrusion_Loft , Cut_Lof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07DF-A6B1-4E71-BACD-3675D1F38B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16:01:57Z</dcterms:created>
  <dc:creator>iCAD</dc:creator>
  <dc:description/>
  <dc:language>en-US</dc:language>
  <cp:lastModifiedBy>shhan</cp:lastModifiedBy>
  <dcterms:modified xsi:type="dcterms:W3CDTF">2002-06-14T09:14:29Z</dcterms:modified>
  <cp:revision>156</cp:revision>
  <dc:subject/>
  <dc:title>Macro Parametrics</dc:title>
</cp:coreProperties>
</file>