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1AD-A1FA-494F-9A08-4787056D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AD1-6BC9-46AF-A41B-D82E9497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9AB-6283-45A4-9E38-0117E2EA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5EC-35AE-40EE-A1EB-5CDBB668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1DA-6B57-4812-8D79-B304C58B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E20-7B3E-4C23-9B25-34BC0113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5CE-CDF5-47DE-9B49-93F6587D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D25-EE64-44FB-A084-D5D73FE2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E8B-3697-46DB-8C51-FF9561B8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ACA-8962-4277-849A-BB3EBB09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ADC-AE74-4D10-BD44-13678EB3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E6A-58CA-408D-A110-7D0E32AC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19CC-B5E0-4FD7-81D9-CC43F8578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1752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10303-209 Implementation  and Processor 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ith Hunten, 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heed Martin Aeronau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ve Multi-Company Exchang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been Complet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-C, TACOM, and PDES, Inc demos 1995 -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Abstract Test Suite (ATS) files that cover minimum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 production files at GD/EB and LM A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IA V4 test f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/NASA AP209-based NextGRADE large multi-model manag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2436840" cy="2594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477120" y="2590920"/>
            <a:ext cx="2365200" cy="2611440"/>
          </a:xfrm>
          <a:prstGeom prst="rect">
            <a:avLst/>
          </a:prstGeom>
          <a:ln w="0">
            <a:noFill/>
          </a:ln>
        </p:spPr>
      </p:pic>
      <p:pic>
        <p:nvPicPr>
          <p:cNvPr id="191" name="NextGRADE_GUI_1" descr=""/>
          <p:cNvPicPr/>
          <p:nvPr/>
        </p:nvPicPr>
        <p:blipFill>
          <a:blip r:embed="rId3"/>
          <a:stretch/>
        </p:blipFill>
        <p:spPr>
          <a:xfrm>
            <a:off x="5029200" y="4572000"/>
            <a:ext cx="2514600" cy="2087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14800" y="5638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657600" y="29714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9680" y="1263600"/>
            <a:ext cx="892800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x-IF (PDES. Inc./Pro-STEP Testing Forum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209 Initial Test File has been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74600" y="1473120"/>
            <a:ext cx="8753400" cy="5207040"/>
            <a:chOff x="174600" y="1473120"/>
            <a:chExt cx="8753400" cy="520704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174600" y="1473120"/>
              <a:ext cx="418644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3281400" y="1989000"/>
              <a:ext cx="3186000" cy="325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5573880" y="3411360"/>
              <a:ext cx="3354120" cy="326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6502320" y="1832040"/>
            <a:ext cx="228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IA V4 AP209 Fil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209-td.st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mported into MSC.PAT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9680" y="1263600"/>
            <a:ext cx="892800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71500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 Vendors have signed up to Post-Process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209-td.st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le in CAx-IF Round 9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209 Test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9680" y="990720"/>
            <a:ext cx="892800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2720" y="2944800"/>
            <a:ext cx="13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IA 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0560" y="3646440"/>
            <a:ext cx="1371600" cy="533520"/>
          </a:xfrm>
          <a:prstGeom prst="flowChartPunchedCar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2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125880"/>
            <a:ext cx="257400" cy="511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030560" y="4160880"/>
            <a:ext cx="333360" cy="51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3427560"/>
            <a:ext cx="752400" cy="40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32320" y="128916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C / PAT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392440" y="4160520"/>
            <a:ext cx="1400040" cy="1057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7160" y="450684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84440" y="6369120"/>
            <a:ext cx="21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 / COM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85840" y="2954160"/>
            <a:ext cx="1343160" cy="45720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orem 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D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360" y="4437000"/>
            <a:ext cx="219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ing ‘02 PDES Offsite, Asheville, 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411624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x-IF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box.fem" descr=""/>
          <p:cNvPicPr/>
          <p:nvPr/>
        </p:nvPicPr>
        <p:blipFill>
          <a:blip r:embed="rId1"/>
          <a:stretch/>
        </p:blipFill>
        <p:spPr>
          <a:xfrm>
            <a:off x="685800" y="1677960"/>
            <a:ext cx="1600200" cy="1289160"/>
          </a:xfrm>
          <a:prstGeom prst="rect">
            <a:avLst/>
          </a:prstGeom>
          <a:ln w="0">
            <a:noFill/>
          </a:ln>
        </p:spPr>
      </p:pic>
      <p:pic>
        <p:nvPicPr>
          <p:cNvPr id="218" name="boxmode" descr=""/>
          <p:cNvPicPr/>
          <p:nvPr/>
        </p:nvPicPr>
        <p:blipFill>
          <a:blip r:embed="rId2"/>
          <a:stretch/>
        </p:blipFill>
        <p:spPr>
          <a:xfrm>
            <a:off x="1752480" y="1328760"/>
            <a:ext cx="1752840" cy="1414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572000" y="1601640"/>
            <a:ext cx="1905120" cy="1516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943600" y="1982880"/>
            <a:ext cx="1743120" cy="1385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810480" y="4802040"/>
            <a:ext cx="1876320" cy="1627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352680" y="4659480"/>
            <a:ext cx="1714680" cy="1728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4371840" y="4621320"/>
            <a:ext cx="14605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&amp;Mode Shape Analys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ATIA using 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box.fem" descr=""/>
          <p:cNvPicPr/>
          <p:nvPr/>
        </p:nvPicPr>
        <p:blipFill>
          <a:blip r:embed="rId1"/>
          <a:stretch/>
        </p:blipFill>
        <p:spPr>
          <a:xfrm>
            <a:off x="609480" y="1324080"/>
            <a:ext cx="4503960" cy="3628800"/>
          </a:xfrm>
          <a:prstGeom prst="rect">
            <a:avLst/>
          </a:prstGeom>
          <a:ln w="0">
            <a:noFill/>
          </a:ln>
        </p:spPr>
      </p:pic>
      <p:pic>
        <p:nvPicPr>
          <p:cNvPr id="226" name="boxmode" descr=""/>
          <p:cNvPicPr/>
          <p:nvPr/>
        </p:nvPicPr>
        <p:blipFill>
          <a:blip r:embed="rId2"/>
          <a:stretch/>
        </p:blipFill>
        <p:spPr>
          <a:xfrm>
            <a:off x="3878280" y="2809800"/>
            <a:ext cx="4741920" cy="3827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638680" y="137160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er surfaces used for thin-walled shel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5257800"/>
            <a:ext cx="269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Box Model (Solid Brep) in CATIA 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9680" y="1111320"/>
            <a:ext cx="892800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209 File Imported into GD/EB’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191200" cy="5234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390920" y="1143000"/>
            <a:ext cx="4335480" cy="5529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39680" y="914400"/>
            <a:ext cx="892800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Analysis of Model in GD/EB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S/FESOL Matche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343400" y="1295280"/>
            <a:ext cx="4422600" cy="5040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rcRect l="12738" t="26823" r="25640" b="25782"/>
          <a:stretch/>
        </p:blipFill>
        <p:spPr>
          <a:xfrm>
            <a:off x="2590920" y="3587760"/>
            <a:ext cx="3190680" cy="31179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28600" y="1447920"/>
            <a:ext cx="3613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209 File Imported into EB’s COMMANDS and Create Data Base [30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ute FESOL (Lanczos Eigenvalue Extraction) from within COMMANDS [2 minutes and 30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changes to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impor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9680" y="1187280"/>
            <a:ext cx="8928000" cy="32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P209 File Imported into MSC.PAT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953240" cy="3940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343400" y="3048120"/>
            <a:ext cx="4638600" cy="3689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39680" y="914400"/>
            <a:ext cx="892800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267080" y="4648320"/>
            <a:ext cx="472464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Comparisons show a geometrically complex model can be shared in an AP209 Standardized manner and still match analyses extremely w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962520" y="1295280"/>
          <a:ext cx="4572000" cy="34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295280"/>
                    <a:ext cx="4572000" cy="34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" descr=""/>
          <p:cNvPicPr/>
          <p:nvPr/>
        </p:nvPicPr>
        <p:blipFill>
          <a:blip r:embed="rId3"/>
          <a:srcRect l="14081" t="29726" r="18438" b="18745"/>
          <a:stretch/>
        </p:blipFill>
        <p:spPr>
          <a:xfrm>
            <a:off x="228600" y="2057400"/>
            <a:ext cx="4343400" cy="4273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Analysis of Model in MSC.NASTR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es CATIA and FESOL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9680" y="1187280"/>
            <a:ext cx="8928000" cy="32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EMS Test Problem Document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ed in AP209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NAFEMS Linear Static and Dynamic Test Problems piloted in AP209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roblems are used to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209 file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t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 solution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FEM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chmar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icle – Oct. 200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avid Leal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ystems for Engineering Analysis - made possible by a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9680" y="1263600"/>
            <a:ext cx="892800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le1_1" descr=""/>
          <p:cNvPicPr/>
          <p:nvPr/>
        </p:nvPicPr>
        <p:blipFill>
          <a:blip r:embed="rId1"/>
          <a:stretch/>
        </p:blipFill>
        <p:spPr>
          <a:xfrm>
            <a:off x="5486400" y="2209680"/>
            <a:ext cx="28195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10303-209:2001 is now the International Standard for CAD/CAE/PDM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209cover" descr=""/>
          <p:cNvPicPr/>
          <p:nvPr/>
        </p:nvPicPr>
        <p:blipFill>
          <a:blip r:embed="rId1"/>
          <a:stretch/>
        </p:blipFill>
        <p:spPr>
          <a:xfrm>
            <a:off x="5149800" y="1371600"/>
            <a:ext cx="3614760" cy="51055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52280" y="1143000"/>
            <a:ext cx="8928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 10303-209 (AP209) was published as an International Standard Octo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testing has proved functionality and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mmercial ISO 10303-209 implementations are nearing Production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C.PATRAN translator is now commerciall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em Solutions’ CATIA V4 translator is nearing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internal implementations now in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1440" y="1676520"/>
            <a:ext cx="6172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Design and Analysis Information Integration with ISO 10303-209: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209 – Concepts and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 for Design and Analysis Integration in a PDM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ES, Inc. Engineering Analysis AP209 Validation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FEMS Test Problem Documentation in AP209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prise Design and Analysis Information Integration with ISO 10303-2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sharing of PD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composit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llic design, analys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properties/specs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automated, electronic feedback of product shape, performance, and property analyses to CAD with respect to PDM product structure and ver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 to extend engineering analysis STEP coverage into other analysis disciplines such as Fluid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long term, potentially growing, repository crucial to many industries and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al format for PDM/CAD/C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492200"/>
            <a:ext cx="8928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111640" y="844560"/>
            <a:ext cx="3516480" cy="2514600"/>
            <a:chOff x="5111640" y="844560"/>
            <a:chExt cx="3516480" cy="2514600"/>
          </a:xfrm>
        </p:grpSpPr>
        <p:sp>
          <p:nvSpPr>
            <p:cNvPr id="52" name=""/>
            <p:cNvSpPr/>
            <p:nvPr/>
          </p:nvSpPr>
          <p:spPr>
            <a:xfrm>
              <a:off x="6330960" y="844560"/>
              <a:ext cx="1214280" cy="541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53080" y="914400"/>
              <a:ext cx="817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D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11640" y="1835280"/>
              <a:ext cx="1078200" cy="609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50280" y="1835280"/>
              <a:ext cx="1077840" cy="609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07280" y="2749680"/>
              <a:ext cx="1077840" cy="609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34320" y="137160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6019920" y="1295280"/>
              <a:ext cx="4572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9920" y="2362320"/>
              <a:ext cx="48564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91520" y="1295280"/>
              <a:ext cx="485640" cy="5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391520" y="243828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57800" y="1981080"/>
              <a:ext cx="817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2400" y="1981080"/>
              <a:ext cx="817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77120" y="2895480"/>
              <a:ext cx="914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2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0320" y="4006800"/>
            <a:ext cx="2708280" cy="8010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marL="98280" indent="-982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nfiguration Control, Approv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, product defini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ite element analysis model, controls, and resul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0320" y="1487520"/>
            <a:ext cx="2708280" cy="14652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marL="98280" indent="-982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nalysis Discipline Product Defini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ite Element 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50920" indent="-38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del (Nodes, Elements, Properties,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50920" indent="-38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ols (Loads, Boundary Constraints,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50920" indent="-38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sults (Displacements, Stresses,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alysis Re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0320" y="3138480"/>
            <a:ext cx="2708280" cy="66384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marL="98280" indent="-982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sign Discipline Product Defin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ape Represent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ssembl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1487520"/>
            <a:ext cx="2708280" cy="12481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marL="206280" indent="-982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formation Shared Between Analysis &amp; Desig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6280" indent="-98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D Shape Represent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6280" indent="-98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osite Constitu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6280" indent="-98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ial Specifications &amp; Propert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6280" indent="-98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 Defini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1560" y="2909880"/>
            <a:ext cx="2319480" cy="872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marL="406440" indent="-9684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osite Constitu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96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y Boundaries, Surf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96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minate Stacking Tab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96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inforcement Ori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81560" y="3930480"/>
            <a:ext cx="2319480" cy="83124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marL="406440" indent="-9684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terial Specifications &amp; Proper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96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o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96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mogeneous (metallic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7320" y="4967280"/>
            <a:ext cx="2998800" cy="15861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marL="98280" indent="-982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3D Shape Re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202/203 Commonality Plus Composite Specific 3D Shap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306360" indent="-93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vanced B-Re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306360" indent="-93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eted B-Re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306360" indent="-93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ifold Surfaces With Top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306360" indent="-93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ireframe &amp; Surface without Top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306360" indent="-93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ireframe Geometry with Top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306360" indent="-93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osite Constituent Shape Re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13840" y="6546960"/>
            <a:ext cx="276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38560" y="1847880"/>
          <a:ext cx="32367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8560" y="1847880"/>
                    <a:ext cx="32367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0" y="384120"/>
            <a:ext cx="87170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209: Composite &amp; Metallic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uctural Analysis &amp; Related Desig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143000"/>
            <a:ext cx="8928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o for Design and Analysis Integration in a PDM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65760" y="5830920"/>
            <a:ext cx="1143000" cy="4572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RAN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105520"/>
            <a:ext cx="1219320" cy="1371600"/>
          </a:xfrm>
          <a:prstGeom prst="can">
            <a:avLst>
              <a:gd name="adj" fmla="val 17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2952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IA AP2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743200"/>
            <a:ext cx="1295280" cy="13716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371600"/>
              <a:gd name="textAreaBottom" fmla="*/ 1308600 h 1371600"/>
            </a:gdLst>
            <a:ahLst/>
            <a:rect l="textAreaLeft" t="textAreaTop" r="textAreaRight" b="textAreaBottom"/>
            <a:pathLst>
              <a:path w="21600" h="22872">
                <a:moveTo>
                  <a:pt x="3600" y="0"/>
                </a:moveTo>
                <a:arcTo wR="3600" hR="3600" stAng="16200000" swAng="-5400000"/>
                <a:lnTo>
                  <a:pt x="0" y="19272"/>
                </a:lnTo>
                <a:arcTo wR="3600" hR="3600" stAng="10800000" swAng="-5400000"/>
                <a:lnTo>
                  <a:pt x="18000" y="228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M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66120" y="2743200"/>
            <a:ext cx="1295280" cy="13716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371600"/>
              <a:gd name="textAreaBottom" fmla="*/ 1308600 h 1371600"/>
            </a:gdLst>
            <a:ahLst/>
            <a:rect l="textAreaLeft" t="textAreaTop" r="textAreaRight" b="textAreaBottom"/>
            <a:pathLst>
              <a:path w="21600" h="22872">
                <a:moveTo>
                  <a:pt x="3600" y="0"/>
                </a:moveTo>
                <a:arcTo wR="3600" hR="3600" stAng="16200000" swAng="-5400000"/>
                <a:lnTo>
                  <a:pt x="0" y="19272"/>
                </a:lnTo>
                <a:arcTo wR="3600" hR="3600" stAng="10800000" swAng="-5400000"/>
                <a:lnTo>
                  <a:pt x="18000" y="228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2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erge/Spl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472428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20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5170320"/>
            <a:ext cx="1295280" cy="3542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92240" y="2660760"/>
            <a:ext cx="1041480" cy="3873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IA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19051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32004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48240" y="3025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48240" y="34257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48240" y="3825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70520" y="3390840"/>
            <a:ext cx="13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209 Sh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0440" y="2759040"/>
            <a:ext cx="132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Produc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8640" y="38098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209 F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95760" y="1676520"/>
            <a:ext cx="380880" cy="1295280"/>
          </a:xfrm>
          <a:custGeom>
            <a:avLst/>
            <a:gdLst/>
            <a:ahLst/>
            <a:rect l="l" t="t" r="r" b="b"/>
            <a:pathLst>
              <a:path w="240" h="1008">
                <a:moveTo>
                  <a:pt x="240" y="1008"/>
                </a:moveTo>
                <a:lnTo>
                  <a:pt x="0" y="100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920" y="224460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12800" y="2362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024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25680" y="3486240"/>
            <a:ext cx="1666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20600" y="42116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0760" y="386856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2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95880" y="4554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35360" y="3487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92560" y="348768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49760" y="348768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43280" y="320040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I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62080" y="5511960"/>
            <a:ext cx="68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911920"/>
            <a:ext cx="68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6311880"/>
            <a:ext cx="68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1960" y="576576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2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19080" y="535932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8000" y="617220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038480"/>
            <a:ext cx="5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4343400"/>
            <a:ext cx="5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64832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952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41148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lnTo>
                  <a:pt x="0" y="528"/>
                </a:lnTo>
                <a:lnTo>
                  <a:pt x="43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08640" y="4114800"/>
            <a:ext cx="1206360" cy="121932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lnTo>
                  <a:pt x="0" y="528"/>
                </a:lnTo>
                <a:lnTo>
                  <a:pt x="43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88880" y="442764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2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87400" y="502920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53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1840" y="2095560"/>
            <a:ext cx="1218960" cy="533520"/>
          </a:xfrm>
          <a:prstGeom prst="cloudCallout">
            <a:avLst>
              <a:gd name="adj1" fmla="val -17185"/>
              <a:gd name="adj2" fmla="val 473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23360" y="480060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YZ123-101,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5800" y="5594400"/>
            <a:ext cx="8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s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5356080" y="2017440"/>
            <a:ext cx="345960" cy="110520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lnTo>
                  <a:pt x="0" y="528"/>
                </a:lnTo>
                <a:lnTo>
                  <a:pt x="43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92200" y="213372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2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0960" y="224460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2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143000"/>
            <a:ext cx="8928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PDM Design Informatio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ntured list of assemblies an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and revis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data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shape model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lated design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187280"/>
            <a:ext cx="8928000" cy="32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57200" y="1371600"/>
            <a:ext cx="2895120" cy="5175360"/>
            <a:chOff x="457200" y="1371600"/>
            <a:chExt cx="2895120" cy="5175360"/>
          </a:xfrm>
        </p:grpSpPr>
        <p:sp>
          <p:nvSpPr>
            <p:cNvPr id="136" name=""/>
            <p:cNvSpPr/>
            <p:nvPr/>
          </p:nvSpPr>
          <p:spPr>
            <a:xfrm>
              <a:off x="1371240" y="2362320"/>
              <a:ext cx="1295280" cy="825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rt / 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432320"/>
              <a:ext cx="2361960" cy="825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ign 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361960" y="419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3160" y="5721480"/>
              <a:ext cx="2361960" cy="825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minal Design Shape 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523880" y="5264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160" y="1371600"/>
              <a:ext cx="2819160" cy="825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xt Higher Assembly / 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4040" y="22096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14040" y="281952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71240" y="3352680"/>
              <a:ext cx="1295280" cy="825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rt / 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040" y="38098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AP209-Based PDM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08240" y="2057400"/>
            <a:ext cx="1295280" cy="8254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 /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3840" y="4127400"/>
            <a:ext cx="2361960" cy="8254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9860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9800" y="5416560"/>
            <a:ext cx="2286000" cy="8254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minal Design Shap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17920" y="5416560"/>
            <a:ext cx="2590920" cy="825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alized Analysis Shap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13400" y="5432400"/>
            <a:ext cx="2438640" cy="11912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 Shape (FEM) and Report Fil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460520" y="4959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61120" y="2911320"/>
            <a:ext cx="1587600" cy="825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 /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946920" y="3749760"/>
            <a:ext cx="0" cy="38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709040" y="4975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13000" y="2666880"/>
            <a:ext cx="2133720" cy="1557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 Design Version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03160" y="3270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4672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4137120"/>
            <a:ext cx="2666880" cy="825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956200" y="4975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554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9800" y="1066680"/>
            <a:ext cx="2819520" cy="8254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Higher Assembly /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1040" y="1905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104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46520" y="8539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Analysis to Revise Independently of Relate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584600" y="16765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730080"/>
            <a:ext cx="8928000" cy="32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08240" y="3048120"/>
            <a:ext cx="1295280" cy="8254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 /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104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37440" y="17524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, Versione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480080" y="22255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41600" y="4191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Classes of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526840" y="49528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27400" y="4952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13200" y="487692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5181480"/>
            <a:ext cx="6248520" cy="1447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6248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ame as AP203/214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ES, Inc. Engineering Analysis T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 the deployment of STEP support for EA applications in member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 AP209 capabilities in an industry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sive multi-company exchanges have been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 the extended coverage of enterprise PDM exchanges that AP209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a pilot framework for extending STEP capabilities in EA leading to the CAx-IF testing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CAx-IF testing unde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9680" y="1263600"/>
            <a:ext cx="892800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EA%20FEA" descr=""/>
          <p:cNvPicPr/>
          <p:nvPr/>
        </p:nvPicPr>
        <p:blipFill>
          <a:blip r:embed="rId1"/>
          <a:stretch/>
        </p:blipFill>
        <p:spPr>
          <a:xfrm>
            <a:off x="6019920" y="685800"/>
            <a:ext cx="2857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/Electric B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heed Mar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DS/Air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F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057400"/>
            <a:ext cx="365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/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C.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ES, Inc. Engineering Analysis T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680" y="1263600"/>
            <a:ext cx="892800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902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Desktop Services</dc:creator>
  <dc:description/>
  <dc:language>en-US</dc:language>
  <cp:lastModifiedBy>sanderssl</cp:lastModifiedBy>
  <cp:lastPrinted>2000-01-21T15:06:30Z</cp:lastPrinted>
  <dcterms:modified xsi:type="dcterms:W3CDTF">2002-03-14T21:32:21Z</dcterms:modified>
  <cp:revision>151</cp:revision>
  <dc:subject/>
  <dc:title>AP209 Status and Planned Milestones</dc:title>
</cp:coreProperties>
</file>