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9D67-9744-4BE6-8A1F-CEF70B48A9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9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TC184/SC4 Wg3/T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Manufactu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-15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Francisc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pnc-text-only" descr=""/>
          <p:cNvPicPr/>
          <p:nvPr/>
        </p:nvPicPr>
        <p:blipFill>
          <a:blip r:embed="rId1"/>
          <a:stretch/>
        </p:blipFill>
        <p:spPr>
          <a:xfrm>
            <a:off x="6885000" y="488880"/>
            <a:ext cx="171432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stepnc-smp-part" descr=""/>
          <p:cNvPicPr/>
          <p:nvPr/>
        </p:nvPicPr>
        <p:blipFill>
          <a:blip r:embed="rId2"/>
          <a:stretch/>
        </p:blipFill>
        <p:spPr>
          <a:xfrm>
            <a:off x="6153120" y="3384720"/>
            <a:ext cx="2809800" cy="2163600"/>
          </a:xfrm>
          <a:prstGeom prst="rect">
            <a:avLst/>
          </a:prstGeom>
          <a:ln w="0">
            <a:noFill/>
          </a:ln>
        </p:spPr>
      </p:pic>
      <p:pic>
        <p:nvPicPr>
          <p:cNvPr id="46" name="irb-milling-fancy" descr=""/>
          <p:cNvPicPr/>
          <p:nvPr/>
        </p:nvPicPr>
        <p:blipFill>
          <a:blip r:embed="rId3"/>
          <a:stretch/>
        </p:blipFill>
        <p:spPr>
          <a:xfrm>
            <a:off x="657360" y="3349800"/>
            <a:ext cx="132372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ep-manufacturing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steptools.com/man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questions and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 T24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30080"/>
            <a:ext cx="777240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ay 13:00 to 15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19 Harmonization with AP-224 and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ay 15:30 to 17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Turning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esday 8:00 to 17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Task Fo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T24 Agenda Contin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0:30 – 12:00 (joint with Implementor’s For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 STEP-NC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ean STEP-NC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Interoperability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3:00 – 15: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Wire ED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review of Tool Model ISO 133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5:30 –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Task 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rsday 08:00 –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results of ISO 14649 Ballot Resolution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6-13T19:14:00Z</dcterms:modified>
  <cp:revision>126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