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wmf" ContentType="image/x-wmf"/>
  <Override PartName="/ppt/media/image27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446838" cy="9828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447600" cy="98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19520" cy="528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685680" y="0"/>
            <a:ext cx="2746440" cy="528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52400" y="753840"/>
            <a:ext cx="492624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866880" y="4676760"/>
            <a:ext cx="4698720" cy="44496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0" y="9353160"/>
            <a:ext cx="2819520" cy="452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685680" y="9353160"/>
            <a:ext cx="2746440" cy="452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15A93B4-383C-4A76-A6A8-299CF82B0B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752400" y="754200"/>
            <a:ext cx="4926240" cy="36939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866880" y="4676760"/>
            <a:ext cx="4698720" cy="44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esides generation of part program, SFP can verify a part program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see the difference of this image and the image of step 1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re are no boundary planes or surface of a part in this ima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re are only features in this image unlike image of step 1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1922-A882-4963-9B7C-C9CF67C89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6D7C-2258-4233-BDB7-E6FC4DD27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34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018D-470B-4867-ACC2-7DAF85BA2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872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636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872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636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CF03-B7EE-4CB7-B3A3-68FBBE6F4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1F9AE-4963-4775-9C87-53E84FD2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99940-DFC1-4E10-8E5B-9F73DB7B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10444-49DA-4095-B2C4-D2554E26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0E1EF-E026-4EA4-919D-61AD4FE9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2B014-92BB-419A-8578-7B605CEF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6934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44AAF-BD93-47B9-9F14-56567EE1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BD7EE-64C0-40E4-A8BD-C9709FC3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55D4-0825-418C-AFF7-8990A8297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2885C-4CF6-4CE3-B4E1-E64DE82F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E0FC3-FF2A-4B8E-986E-8AEF7A3F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7E1A4-99B2-46B2-A9DC-326D7377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A7DCD-3A31-4AE4-A4FE-B1A5022C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163C4-D503-463B-93B7-F1B13976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AFC0-E37F-424F-82F7-D902661E3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95F2-3959-46F9-8EB7-47BBF5163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33A4-E648-418F-B819-6EA702960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6934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459E-232D-4A36-8E79-8DEBB696E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258B-2FE4-49AA-A76C-2BC50DE91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34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6E70-DD8A-4A66-9616-A5B6D651F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4368-2C5B-454E-9A64-429EA64DF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7621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large_postech_icon" descr=""/>
          <p:cNvPicPr/>
          <p:nvPr/>
        </p:nvPicPr>
        <p:blipFill>
          <a:blip r:embed="rId2"/>
          <a:stretch/>
        </p:blipFill>
        <p:spPr>
          <a:xfrm>
            <a:off x="8210520" y="763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4" name="LabLogo1-1-3-1" descr=""/>
          <p:cNvPicPr/>
          <p:nvPr/>
        </p:nvPicPr>
        <p:blipFill>
          <a:blip r:embed="rId3"/>
          <a:stretch/>
        </p:blipFill>
        <p:spPr>
          <a:xfrm>
            <a:off x="152280" y="120600"/>
            <a:ext cx="812880" cy="641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9ED6-7C71-4F5B-A50D-E8AF53405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990720" y="6477120"/>
            <a:ext cx="5029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17640" y="64450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66A0-CB54-42AF-8F0E-4560A4540F3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arge_postech_icon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LabLogo1-1-3-1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878040" cy="695160"/>
          </a:xfrm>
          <a:prstGeom prst="rect">
            <a:avLst/>
          </a:prstGeom>
          <a:ln w="0">
            <a:noFill/>
          </a:ln>
        </p:spPr>
      </p:pic>
      <p:pic>
        <p:nvPicPr>
          <p:cNvPr id="50" name="large_postech_icon" descr=""/>
          <p:cNvPicPr/>
          <p:nvPr/>
        </p:nvPicPr>
        <p:blipFill>
          <a:blip r:embed="rId4"/>
          <a:stretch/>
        </p:blipFill>
        <p:spPr>
          <a:xfrm>
            <a:off x="7772400" y="380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LabLogo1-1-3-1" descr=""/>
          <p:cNvPicPr/>
          <p:nvPr/>
        </p:nvPicPr>
        <p:blipFill>
          <a:blip r:embed="rId5"/>
          <a:stretch/>
        </p:blipFill>
        <p:spPr>
          <a:xfrm>
            <a:off x="457200" y="457200"/>
            <a:ext cx="878040" cy="695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3333cc"/>
              </a:buClr>
              <a:buSzPct val="13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990720"/>
            <a:ext cx="5790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orea STEP-NC Prototyp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276720"/>
            <a:ext cx="6400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June 20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uk-Hwan Su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National Research Lab for STEP-NC Technology (NRL-SN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chool of Mechanical &amp; Industrial Engineer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POSTECH, KOREA (http://www.step-nc.co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CNC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Open modular CN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04920" y="914400"/>
            <a:ext cx="8467560" cy="5483160"/>
            <a:chOff x="304920" y="914400"/>
            <a:chExt cx="8467560" cy="5483160"/>
          </a:xfrm>
        </p:grpSpPr>
        <p:sp>
          <p:nvSpPr>
            <p:cNvPr id="533" name=""/>
            <p:cNvSpPr/>
            <p:nvPr/>
          </p:nvSpPr>
          <p:spPr>
            <a:xfrm>
              <a:off x="4140360" y="5675040"/>
              <a:ext cx="820440" cy="41148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FIPO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063880" y="5182920"/>
              <a:ext cx="72360" cy="233280"/>
              <a:chOff x="2063880" y="5182920"/>
              <a:chExt cx="72360" cy="233280"/>
            </a:xfrm>
          </p:grpSpPr>
          <p:sp>
            <p:nvSpPr>
              <p:cNvPr id="535" name=""/>
              <p:cNvSpPr/>
              <p:nvPr/>
            </p:nvSpPr>
            <p:spPr>
              <a:xfrm>
                <a:off x="2063880" y="5182920"/>
                <a:ext cx="72360" cy="2332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4" y="263"/>
                    </a:lnTo>
                    <a:lnTo>
                      <a:pt x="29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8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063880" y="5182920"/>
                <a:ext cx="72360" cy="5832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4" y="58"/>
                    </a:lnTo>
                    <a:lnTo>
                      <a:pt x="29" y="66"/>
                    </a:lnTo>
                    <a:lnTo>
                      <a:pt x="46" y="68"/>
                    </a:lnTo>
                    <a:lnTo>
                      <a:pt x="63" y="66"/>
                    </a:lnTo>
                    <a:lnTo>
                      <a:pt x="78" y="58"/>
                    </a:lnTo>
                    <a:lnTo>
                      <a:pt x="88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063880" y="5182920"/>
                <a:ext cx="72360" cy="2332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4" y="263"/>
                    </a:lnTo>
                    <a:lnTo>
                      <a:pt x="29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8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63880" y="5212080"/>
                <a:ext cx="72360" cy="2916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4" y="24"/>
                    </a:lnTo>
                    <a:lnTo>
                      <a:pt x="29" y="32"/>
                    </a:lnTo>
                    <a:lnTo>
                      <a:pt x="46" y="34"/>
                    </a:lnTo>
                    <a:lnTo>
                      <a:pt x="63" y="32"/>
                    </a:lnTo>
                    <a:lnTo>
                      <a:pt x="78" y="24"/>
                    </a:lnTo>
                    <a:lnTo>
                      <a:pt x="88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967120" y="5197320"/>
              <a:ext cx="74160" cy="231480"/>
              <a:chOff x="2967120" y="5197320"/>
              <a:chExt cx="74160" cy="231480"/>
            </a:xfrm>
          </p:grpSpPr>
          <p:sp>
            <p:nvSpPr>
              <p:cNvPr id="540" name=""/>
              <p:cNvSpPr/>
              <p:nvPr/>
            </p:nvSpPr>
            <p:spPr>
              <a:xfrm>
                <a:off x="2967120" y="5197320"/>
                <a:ext cx="74160" cy="2314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967120" y="5197320"/>
                <a:ext cx="74160" cy="5760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3" y="58"/>
                    </a:lnTo>
                    <a:lnTo>
                      <a:pt x="28" y="66"/>
                    </a:lnTo>
                    <a:lnTo>
                      <a:pt x="46" y="68"/>
                    </a:lnTo>
                    <a:lnTo>
                      <a:pt x="63" y="66"/>
                    </a:lnTo>
                    <a:lnTo>
                      <a:pt x="78" y="58"/>
                    </a:lnTo>
                    <a:lnTo>
                      <a:pt x="87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967120" y="5197320"/>
                <a:ext cx="74160" cy="2314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967120" y="5226120"/>
                <a:ext cx="74160" cy="2880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3" y="24"/>
                    </a:lnTo>
                    <a:lnTo>
                      <a:pt x="28" y="32"/>
                    </a:lnTo>
                    <a:lnTo>
                      <a:pt x="46" y="34"/>
                    </a:lnTo>
                    <a:lnTo>
                      <a:pt x="63" y="32"/>
                    </a:lnTo>
                    <a:lnTo>
                      <a:pt x="78" y="24"/>
                    </a:lnTo>
                    <a:lnTo>
                      <a:pt x="87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4122720" y="5182920"/>
              <a:ext cx="74160" cy="233280"/>
              <a:chOff x="4122720" y="5182920"/>
              <a:chExt cx="74160" cy="233280"/>
            </a:xfrm>
          </p:grpSpPr>
          <p:sp>
            <p:nvSpPr>
              <p:cNvPr id="545" name=""/>
              <p:cNvSpPr/>
              <p:nvPr/>
            </p:nvSpPr>
            <p:spPr>
              <a:xfrm>
                <a:off x="4122720" y="5182920"/>
                <a:ext cx="74160" cy="2332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5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5" y="273"/>
                    </a:lnTo>
                    <a:lnTo>
                      <a:pt x="62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22720" y="5182920"/>
                <a:ext cx="74160" cy="5832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3" y="58"/>
                    </a:lnTo>
                    <a:lnTo>
                      <a:pt x="28" y="66"/>
                    </a:lnTo>
                    <a:lnTo>
                      <a:pt x="45" y="68"/>
                    </a:lnTo>
                    <a:lnTo>
                      <a:pt x="62" y="66"/>
                    </a:lnTo>
                    <a:lnTo>
                      <a:pt x="78" y="58"/>
                    </a:lnTo>
                    <a:lnTo>
                      <a:pt x="87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122720" y="5182920"/>
                <a:ext cx="74160" cy="2332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5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5" y="273"/>
                    </a:lnTo>
                    <a:lnTo>
                      <a:pt x="62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22720" y="5212080"/>
                <a:ext cx="74160" cy="2916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3" y="24"/>
                    </a:lnTo>
                    <a:lnTo>
                      <a:pt x="28" y="32"/>
                    </a:lnTo>
                    <a:lnTo>
                      <a:pt x="45" y="34"/>
                    </a:lnTo>
                    <a:lnTo>
                      <a:pt x="62" y="32"/>
                    </a:lnTo>
                    <a:lnTo>
                      <a:pt x="78" y="24"/>
                    </a:lnTo>
                    <a:lnTo>
                      <a:pt x="87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475160" y="5429160"/>
              <a:ext cx="77400" cy="318600"/>
              <a:chOff x="4475160" y="5429160"/>
              <a:chExt cx="77400" cy="318600"/>
            </a:xfrm>
          </p:grpSpPr>
          <p:sp>
            <p:nvSpPr>
              <p:cNvPr id="550" name=""/>
              <p:cNvSpPr/>
              <p:nvPr/>
            </p:nvSpPr>
            <p:spPr>
              <a:xfrm>
                <a:off x="4475160" y="5429160"/>
                <a:ext cx="77400" cy="31860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5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5" y="273"/>
                    </a:lnTo>
                    <a:lnTo>
                      <a:pt x="62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475160" y="5429160"/>
                <a:ext cx="77400" cy="7956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3" y="58"/>
                    </a:lnTo>
                    <a:lnTo>
                      <a:pt x="28" y="66"/>
                    </a:lnTo>
                    <a:lnTo>
                      <a:pt x="45" y="68"/>
                    </a:lnTo>
                    <a:lnTo>
                      <a:pt x="62" y="66"/>
                    </a:lnTo>
                    <a:lnTo>
                      <a:pt x="78" y="58"/>
                    </a:lnTo>
                    <a:lnTo>
                      <a:pt x="87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75160" y="5429160"/>
                <a:ext cx="77400" cy="31860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5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5" y="273"/>
                    </a:lnTo>
                    <a:lnTo>
                      <a:pt x="62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475160" y="5468760"/>
                <a:ext cx="77400" cy="3960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3" y="24"/>
                    </a:lnTo>
                    <a:lnTo>
                      <a:pt x="28" y="32"/>
                    </a:lnTo>
                    <a:lnTo>
                      <a:pt x="45" y="34"/>
                    </a:lnTo>
                    <a:lnTo>
                      <a:pt x="62" y="32"/>
                    </a:lnTo>
                    <a:lnTo>
                      <a:pt x="78" y="24"/>
                    </a:lnTo>
                    <a:lnTo>
                      <a:pt x="87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5067360" y="5665680"/>
              <a:ext cx="669960" cy="41112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L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1720" y="5675040"/>
              <a:ext cx="1085760" cy="41148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URB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nterpolat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25920" y="5429160"/>
              <a:ext cx="78120" cy="328680"/>
            </a:xfrm>
            <a:prstGeom prst="can">
              <a:avLst>
                <a:gd name="adj" fmla="val 250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35240" y="5440320"/>
              <a:ext cx="77760" cy="328680"/>
            </a:xfrm>
            <a:prstGeom prst="can">
              <a:avLst>
                <a:gd name="adj" fmla="val 250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31200" y="914400"/>
              <a:ext cx="147600" cy="280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7280" y="4525920"/>
              <a:ext cx="5567400" cy="164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1598760" y="4773600"/>
              <a:ext cx="882000" cy="466200"/>
              <a:chOff x="1598760" y="4773600"/>
              <a:chExt cx="882000" cy="466200"/>
            </a:xfrm>
          </p:grpSpPr>
          <p:sp>
            <p:nvSpPr>
              <p:cNvPr id="561" name=""/>
              <p:cNvSpPr/>
              <p:nvPr/>
            </p:nvSpPr>
            <p:spPr>
              <a:xfrm>
                <a:off x="1598760" y="4773600"/>
                <a:ext cx="882000" cy="466200"/>
              </a:xfrm>
              <a:custGeom>
                <a:avLst/>
                <a:gdLst/>
                <a:ahLst/>
                <a:rect l="l" t="t" r="r" b="b"/>
                <a:pathLst>
                  <a:path w="1093" h="546">
                    <a:moveTo>
                      <a:pt x="137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956" y="546"/>
                    </a:lnTo>
                    <a:lnTo>
                      <a:pt x="1093" y="409"/>
                    </a:lnTo>
                    <a:lnTo>
                      <a:pt x="1093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98760" y="4773600"/>
                <a:ext cx="882000" cy="115920"/>
              </a:xfrm>
              <a:custGeom>
                <a:avLst/>
                <a:gdLst/>
                <a:ahLst/>
                <a:rect l="l" t="t" r="r" b="b"/>
                <a:pathLst>
                  <a:path w="1093" h="136">
                    <a:moveTo>
                      <a:pt x="0" y="136"/>
                    </a:moveTo>
                    <a:lnTo>
                      <a:pt x="956" y="136"/>
                    </a:lnTo>
                    <a:lnTo>
                      <a:pt x="1093" y="0"/>
                    </a:lnTo>
                    <a:lnTo>
                      <a:pt x="137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0960" y="4773600"/>
                <a:ext cx="109800" cy="466200"/>
              </a:xfrm>
              <a:custGeom>
                <a:avLst/>
                <a:gdLst/>
                <a:ahLst/>
                <a:rect l="l" t="t" r="r" b="b"/>
                <a:pathLst>
                  <a:path w="137" h="546">
                    <a:moveTo>
                      <a:pt x="0" y="136"/>
                    </a:moveTo>
                    <a:lnTo>
                      <a:pt x="137" y="0"/>
                    </a:lnTo>
                    <a:lnTo>
                      <a:pt x="137" y="409"/>
                    </a:lnTo>
                    <a:lnTo>
                      <a:pt x="0" y="546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98760" y="4773600"/>
                <a:ext cx="882000" cy="466200"/>
              </a:xfrm>
              <a:custGeom>
                <a:avLst/>
                <a:gdLst/>
                <a:ahLst/>
                <a:rect l="l" t="t" r="r" b="b"/>
                <a:pathLst>
                  <a:path w="1093" h="546">
                    <a:moveTo>
                      <a:pt x="137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956" y="546"/>
                    </a:lnTo>
                    <a:lnTo>
                      <a:pt x="1093" y="409"/>
                    </a:lnTo>
                    <a:lnTo>
                      <a:pt x="1093" y="0"/>
                    </a:lnTo>
                    <a:lnTo>
                      <a:pt x="137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98760" y="4773600"/>
                <a:ext cx="882000" cy="115920"/>
              </a:xfrm>
              <a:custGeom>
                <a:avLst/>
                <a:gdLst/>
                <a:ahLst/>
                <a:rect l="l" t="t" r="r" b="b"/>
                <a:pathLst>
                  <a:path w="1093" h="136">
                    <a:moveTo>
                      <a:pt x="0" y="136"/>
                    </a:moveTo>
                    <a:lnTo>
                      <a:pt x="956" y="136"/>
                    </a:lnTo>
                    <a:lnTo>
                      <a:pt x="109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370960" y="4889520"/>
                <a:ext cx="144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666800" y="496728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nterpret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7521480" y="4898880"/>
              <a:ext cx="924120" cy="72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" name=""/>
            <p:cNvGrpSpPr/>
            <p:nvPr/>
          </p:nvGrpSpPr>
          <p:grpSpPr>
            <a:xfrm>
              <a:off x="6419880" y="5238720"/>
              <a:ext cx="1179000" cy="101160"/>
              <a:chOff x="6419880" y="5238720"/>
              <a:chExt cx="1179000" cy="101160"/>
            </a:xfrm>
          </p:grpSpPr>
          <p:sp>
            <p:nvSpPr>
              <p:cNvPr id="570" name=""/>
              <p:cNvSpPr/>
              <p:nvPr/>
            </p:nvSpPr>
            <p:spPr>
              <a:xfrm>
                <a:off x="6512040" y="5289120"/>
                <a:ext cx="99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19880" y="5238720"/>
                <a:ext cx="97200" cy="101160"/>
              </a:xfrm>
              <a:custGeom>
                <a:avLst/>
                <a:gdLst/>
                <a:ahLst/>
                <a:rect l="l" t="t" r="r" b="b"/>
                <a:pathLst>
                  <a:path w="119" h="119">
                    <a:moveTo>
                      <a:pt x="119" y="0"/>
                    </a:moveTo>
                    <a:lnTo>
                      <a:pt x="0" y="60"/>
                    </a:lnTo>
                    <a:lnTo>
                      <a:pt x="119" y="119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503840" y="5238720"/>
                <a:ext cx="95040" cy="1011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0" y="119"/>
                    </a:moveTo>
                    <a:lnTo>
                      <a:pt x="117" y="60"/>
                    </a:lnTo>
                    <a:lnTo>
                      <a:pt x="0" y="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31640" y="1315800"/>
              <a:ext cx="955440" cy="933120"/>
              <a:chOff x="431640" y="1315800"/>
              <a:chExt cx="955440" cy="933120"/>
            </a:xfrm>
          </p:grpSpPr>
          <p:sp>
            <p:nvSpPr>
              <p:cNvPr id="574" name=""/>
              <p:cNvSpPr/>
              <p:nvPr/>
            </p:nvSpPr>
            <p:spPr>
              <a:xfrm>
                <a:off x="431640" y="1315800"/>
                <a:ext cx="955440" cy="933120"/>
              </a:xfrm>
              <a:custGeom>
                <a:avLst/>
                <a:gdLst/>
                <a:ahLst/>
                <a:rect l="l" t="t" r="r" b="b"/>
                <a:pathLst>
                  <a:path w="1184" h="1093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3"/>
                    </a:lnTo>
                    <a:lnTo>
                      <a:pt x="911" y="1093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31640" y="1315800"/>
                <a:ext cx="955440" cy="23400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  <a:lnTo>
                      <a:pt x="274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167120" y="1315800"/>
                <a:ext cx="219960" cy="933120"/>
              </a:xfrm>
              <a:custGeom>
                <a:avLst/>
                <a:gdLst/>
                <a:ahLst/>
                <a:rect l="l" t="t" r="r" b="b"/>
                <a:pathLst>
                  <a:path w="273" h="1093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3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1640" y="1315800"/>
                <a:ext cx="955440" cy="933120"/>
              </a:xfrm>
              <a:custGeom>
                <a:avLst/>
                <a:gdLst/>
                <a:ahLst/>
                <a:rect l="l" t="t" r="r" b="b"/>
                <a:pathLst>
                  <a:path w="1184" h="1093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3"/>
                    </a:lnTo>
                    <a:lnTo>
                      <a:pt x="911" y="1093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31640" y="1315800"/>
                <a:ext cx="955440" cy="23400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67120" y="1549800"/>
                <a:ext cx="1800" cy="69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557640" y="173016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SO 1464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3120" y="1885680"/>
              <a:ext cx="38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ars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936720" y="2328840"/>
              <a:ext cx="882360" cy="933120"/>
              <a:chOff x="936720" y="2328840"/>
              <a:chExt cx="882360" cy="933120"/>
            </a:xfrm>
          </p:grpSpPr>
          <p:sp>
            <p:nvSpPr>
              <p:cNvPr id="583" name=""/>
              <p:cNvSpPr/>
              <p:nvPr/>
            </p:nvSpPr>
            <p:spPr>
              <a:xfrm>
                <a:off x="936720" y="2328840"/>
                <a:ext cx="882360" cy="933120"/>
              </a:xfrm>
              <a:custGeom>
                <a:avLst/>
                <a:gdLst/>
                <a:ahLst/>
                <a:rect l="l" t="t" r="r" b="b"/>
                <a:pathLst>
                  <a:path w="1093" h="1092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820" y="1092"/>
                    </a:lnTo>
                    <a:lnTo>
                      <a:pt x="1093" y="819"/>
                    </a:lnTo>
                    <a:lnTo>
                      <a:pt x="1093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936720" y="2328840"/>
                <a:ext cx="882360" cy="232560"/>
              </a:xfrm>
              <a:custGeom>
                <a:avLst/>
                <a:gdLst/>
                <a:ahLst/>
                <a:rect l="l" t="t" r="r" b="b"/>
                <a:pathLst>
                  <a:path w="1093" h="273">
                    <a:moveTo>
                      <a:pt x="0" y="273"/>
                    </a:moveTo>
                    <a:lnTo>
                      <a:pt x="820" y="273"/>
                    </a:lnTo>
                    <a:lnTo>
                      <a:pt x="1093" y="0"/>
                    </a:lnTo>
                    <a:lnTo>
                      <a:pt x="274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97320" y="2328840"/>
                <a:ext cx="221760" cy="9331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936720" y="2328840"/>
                <a:ext cx="882360" cy="933120"/>
              </a:xfrm>
              <a:custGeom>
                <a:avLst/>
                <a:gdLst/>
                <a:ahLst/>
                <a:rect l="l" t="t" r="r" b="b"/>
                <a:pathLst>
                  <a:path w="1093" h="1092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820" y="1092"/>
                    </a:lnTo>
                    <a:lnTo>
                      <a:pt x="1093" y="819"/>
                    </a:lnTo>
                    <a:lnTo>
                      <a:pt x="1093" y="0"/>
                    </a:lnTo>
                    <a:lnTo>
                      <a:pt x="27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936720" y="2328840"/>
                <a:ext cx="882360" cy="232560"/>
              </a:xfrm>
              <a:custGeom>
                <a:avLst/>
                <a:gdLst/>
                <a:ahLst/>
                <a:rect l="l" t="t" r="r" b="b"/>
                <a:pathLst>
                  <a:path w="1093" h="273">
                    <a:moveTo>
                      <a:pt x="0" y="273"/>
                    </a:moveTo>
                    <a:lnTo>
                      <a:pt x="820" y="273"/>
                    </a:lnTo>
                    <a:lnTo>
                      <a:pt x="109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97320" y="2561400"/>
                <a:ext cx="180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1186560" y="2741400"/>
              <a:ext cx="27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Tas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35000" y="2896920"/>
              <a:ext cx="59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chedul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1755720" y="1315800"/>
              <a:ext cx="956880" cy="933120"/>
              <a:chOff x="1755720" y="1315800"/>
              <a:chExt cx="956880" cy="933120"/>
            </a:xfrm>
          </p:grpSpPr>
          <p:sp>
            <p:nvSpPr>
              <p:cNvPr id="592" name=""/>
              <p:cNvSpPr/>
              <p:nvPr/>
            </p:nvSpPr>
            <p:spPr>
              <a:xfrm>
                <a:off x="1755720" y="131580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4" h="1093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3"/>
                    </a:lnTo>
                    <a:lnTo>
                      <a:pt x="911" y="1093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55720" y="1315800"/>
                <a:ext cx="956880" cy="23400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91200" y="1315800"/>
                <a:ext cx="221400" cy="933120"/>
              </a:xfrm>
              <a:custGeom>
                <a:avLst/>
                <a:gdLst/>
                <a:ahLst/>
                <a:rect l="l" t="t" r="r" b="b"/>
                <a:pathLst>
                  <a:path w="273" h="1093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3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55720" y="131580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4" h="1093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3"/>
                    </a:lnTo>
                    <a:lnTo>
                      <a:pt x="911" y="1093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755720" y="1315800"/>
                <a:ext cx="956880" cy="23400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491200" y="1549800"/>
                <a:ext cx="1440" cy="69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1814760" y="168912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08800" y="1730160"/>
              <a:ext cx="4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02680" y="168912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Machi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44640" y="1844640"/>
              <a:ext cx="62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nsp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2320" y="2093760"/>
              <a:ext cx="37008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8240" y="209232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3835440" y="4755960"/>
              <a:ext cx="736200" cy="466560"/>
              <a:chOff x="3835440" y="4755960"/>
              <a:chExt cx="736200" cy="466560"/>
            </a:xfrm>
          </p:grpSpPr>
          <p:sp>
            <p:nvSpPr>
              <p:cNvPr id="605" name=""/>
              <p:cNvSpPr/>
              <p:nvPr/>
            </p:nvSpPr>
            <p:spPr>
              <a:xfrm>
                <a:off x="3835440" y="4755960"/>
                <a:ext cx="736200" cy="466560"/>
              </a:xfrm>
              <a:custGeom>
                <a:avLst/>
                <a:gdLst/>
                <a:ahLst/>
                <a:rect l="l" t="t" r="r" b="b"/>
                <a:pathLst>
                  <a:path w="910" h="546">
                    <a:moveTo>
                      <a:pt x="136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774" y="546"/>
                    </a:lnTo>
                    <a:lnTo>
                      <a:pt x="910" y="409"/>
                    </a:lnTo>
                    <a:lnTo>
                      <a:pt x="910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835440" y="4755960"/>
                <a:ext cx="736200" cy="116280"/>
              </a:xfrm>
              <a:custGeom>
                <a:avLst/>
                <a:gdLst/>
                <a:ahLst/>
                <a:rect l="l" t="t" r="r" b="b"/>
                <a:pathLst>
                  <a:path w="910" h="136">
                    <a:moveTo>
                      <a:pt x="0" y="136"/>
                    </a:moveTo>
                    <a:lnTo>
                      <a:pt x="774" y="136"/>
                    </a:lnTo>
                    <a:lnTo>
                      <a:pt x="910" y="0"/>
                    </a:lnTo>
                    <a:lnTo>
                      <a:pt x="136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460400" y="4755960"/>
                <a:ext cx="111240" cy="466560"/>
              </a:xfrm>
              <a:custGeom>
                <a:avLst/>
                <a:gdLst/>
                <a:ahLst/>
                <a:rect l="l" t="t" r="r" b="b"/>
                <a:pathLst>
                  <a:path w="136" h="546">
                    <a:moveTo>
                      <a:pt x="0" y="136"/>
                    </a:moveTo>
                    <a:lnTo>
                      <a:pt x="136" y="0"/>
                    </a:lnTo>
                    <a:lnTo>
                      <a:pt x="136" y="409"/>
                    </a:lnTo>
                    <a:lnTo>
                      <a:pt x="0" y="546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835440" y="4755960"/>
                <a:ext cx="736200" cy="466560"/>
              </a:xfrm>
              <a:custGeom>
                <a:avLst/>
                <a:gdLst/>
                <a:ahLst/>
                <a:rect l="l" t="t" r="r" b="b"/>
                <a:pathLst>
                  <a:path w="910" h="546">
                    <a:moveTo>
                      <a:pt x="136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774" y="546"/>
                    </a:lnTo>
                    <a:lnTo>
                      <a:pt x="910" y="409"/>
                    </a:lnTo>
                    <a:lnTo>
                      <a:pt x="910" y="0"/>
                    </a:lnTo>
                    <a:lnTo>
                      <a:pt x="13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835440" y="4755960"/>
                <a:ext cx="736200" cy="116280"/>
              </a:xfrm>
              <a:custGeom>
                <a:avLst/>
                <a:gdLst/>
                <a:ahLst/>
                <a:rect l="l" t="t" r="r" b="b"/>
                <a:pathLst>
                  <a:path w="910" h="136">
                    <a:moveTo>
                      <a:pt x="0" y="136"/>
                    </a:moveTo>
                    <a:lnTo>
                      <a:pt x="774" y="136"/>
                    </a:lnTo>
                    <a:lnTo>
                      <a:pt x="91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60400" y="4872240"/>
                <a:ext cx="144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866040" y="496224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CC/DE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2679840" y="4755960"/>
              <a:ext cx="883800" cy="466560"/>
              <a:chOff x="2679840" y="4755960"/>
              <a:chExt cx="883800" cy="466560"/>
            </a:xfrm>
          </p:grpSpPr>
          <p:sp>
            <p:nvSpPr>
              <p:cNvPr id="613" name=""/>
              <p:cNvSpPr/>
              <p:nvPr/>
            </p:nvSpPr>
            <p:spPr>
              <a:xfrm>
                <a:off x="2679840" y="4755960"/>
                <a:ext cx="883800" cy="466560"/>
              </a:xfrm>
              <a:custGeom>
                <a:avLst/>
                <a:gdLst/>
                <a:ahLst/>
                <a:rect l="l" t="t" r="r" b="b"/>
                <a:pathLst>
                  <a:path w="1092" h="546">
                    <a:moveTo>
                      <a:pt x="136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956" y="546"/>
                    </a:lnTo>
                    <a:lnTo>
                      <a:pt x="1092" y="409"/>
                    </a:lnTo>
                    <a:lnTo>
                      <a:pt x="1092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79840" y="4755960"/>
                <a:ext cx="883800" cy="116280"/>
              </a:xfrm>
              <a:custGeom>
                <a:avLst/>
                <a:gdLst/>
                <a:ahLst/>
                <a:rect l="l" t="t" r="r" b="b"/>
                <a:pathLst>
                  <a:path w="1092" h="136">
                    <a:moveTo>
                      <a:pt x="0" y="136"/>
                    </a:moveTo>
                    <a:lnTo>
                      <a:pt x="956" y="136"/>
                    </a:lnTo>
                    <a:lnTo>
                      <a:pt x="1092" y="0"/>
                    </a:lnTo>
                    <a:lnTo>
                      <a:pt x="136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452040" y="4755960"/>
                <a:ext cx="111600" cy="466560"/>
              </a:xfrm>
              <a:custGeom>
                <a:avLst/>
                <a:gdLst/>
                <a:ahLst/>
                <a:rect l="l" t="t" r="r" b="b"/>
                <a:pathLst>
                  <a:path w="136" h="546">
                    <a:moveTo>
                      <a:pt x="0" y="136"/>
                    </a:moveTo>
                    <a:lnTo>
                      <a:pt x="136" y="0"/>
                    </a:lnTo>
                    <a:lnTo>
                      <a:pt x="136" y="409"/>
                    </a:lnTo>
                    <a:lnTo>
                      <a:pt x="0" y="546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79840" y="4755960"/>
                <a:ext cx="883800" cy="466560"/>
              </a:xfrm>
              <a:custGeom>
                <a:avLst/>
                <a:gdLst/>
                <a:ahLst/>
                <a:rect l="l" t="t" r="r" b="b"/>
                <a:pathLst>
                  <a:path w="1092" h="546">
                    <a:moveTo>
                      <a:pt x="136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956" y="546"/>
                    </a:lnTo>
                    <a:lnTo>
                      <a:pt x="1092" y="409"/>
                    </a:lnTo>
                    <a:lnTo>
                      <a:pt x="1092" y="0"/>
                    </a:lnTo>
                    <a:lnTo>
                      <a:pt x="13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79840" y="4755960"/>
                <a:ext cx="883800" cy="116280"/>
              </a:xfrm>
              <a:custGeom>
                <a:avLst/>
                <a:gdLst/>
                <a:ahLst/>
                <a:rect l="l" t="t" r="r" b="b"/>
                <a:pathLst>
                  <a:path w="1092" h="136">
                    <a:moveTo>
                      <a:pt x="0" y="136"/>
                    </a:moveTo>
                    <a:lnTo>
                      <a:pt x="956" y="136"/>
                    </a:lnTo>
                    <a:lnTo>
                      <a:pt x="109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52040" y="4872240"/>
                <a:ext cx="180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2921040" y="4886280"/>
              <a:ext cx="38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ough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61200" y="5041800"/>
              <a:ext cx="72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nterpolat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4986360" y="5165640"/>
              <a:ext cx="72720" cy="232920"/>
              <a:chOff x="4986360" y="5165640"/>
              <a:chExt cx="72720" cy="232920"/>
            </a:xfrm>
          </p:grpSpPr>
          <p:sp>
            <p:nvSpPr>
              <p:cNvPr id="622" name=""/>
              <p:cNvSpPr/>
              <p:nvPr/>
            </p:nvSpPr>
            <p:spPr>
              <a:xfrm>
                <a:off x="4986360" y="5165640"/>
                <a:ext cx="72720" cy="2329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4" y="263"/>
                    </a:lnTo>
                    <a:lnTo>
                      <a:pt x="29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8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986360" y="5165640"/>
                <a:ext cx="72720" cy="5796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4" y="58"/>
                    </a:lnTo>
                    <a:lnTo>
                      <a:pt x="29" y="66"/>
                    </a:lnTo>
                    <a:lnTo>
                      <a:pt x="46" y="68"/>
                    </a:lnTo>
                    <a:lnTo>
                      <a:pt x="63" y="66"/>
                    </a:lnTo>
                    <a:lnTo>
                      <a:pt x="78" y="58"/>
                    </a:lnTo>
                    <a:lnTo>
                      <a:pt x="88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86360" y="5165640"/>
                <a:ext cx="72720" cy="2329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4" y="263"/>
                    </a:lnTo>
                    <a:lnTo>
                      <a:pt x="29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8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986360" y="5194440"/>
                <a:ext cx="72720" cy="2880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4" y="24"/>
                    </a:lnTo>
                    <a:lnTo>
                      <a:pt x="29" y="32"/>
                    </a:lnTo>
                    <a:lnTo>
                      <a:pt x="46" y="34"/>
                    </a:lnTo>
                    <a:lnTo>
                      <a:pt x="63" y="32"/>
                    </a:lnTo>
                    <a:lnTo>
                      <a:pt x="78" y="24"/>
                    </a:lnTo>
                    <a:lnTo>
                      <a:pt x="88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304920" y="3652560"/>
              <a:ext cx="7372080" cy="31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96440" y="3682800"/>
              <a:ext cx="66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CORBA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3743280" y="2249280"/>
              <a:ext cx="956880" cy="934920"/>
              <a:chOff x="3743280" y="2249280"/>
              <a:chExt cx="956880" cy="934920"/>
            </a:xfrm>
          </p:grpSpPr>
          <p:sp>
            <p:nvSpPr>
              <p:cNvPr id="629" name=""/>
              <p:cNvSpPr/>
              <p:nvPr/>
            </p:nvSpPr>
            <p:spPr>
              <a:xfrm>
                <a:off x="3743280" y="2249280"/>
                <a:ext cx="956880" cy="934920"/>
              </a:xfrm>
              <a:custGeom>
                <a:avLst/>
                <a:gdLst/>
                <a:ahLst/>
                <a:rect l="l" t="t" r="r" b="b"/>
                <a:pathLst>
                  <a:path w="1184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1" y="1092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743280" y="2249280"/>
                <a:ext cx="956880" cy="23436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478760" y="2249280"/>
                <a:ext cx="221400" cy="9349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743280" y="2249280"/>
                <a:ext cx="956880" cy="934920"/>
              </a:xfrm>
              <a:custGeom>
                <a:avLst/>
                <a:gdLst/>
                <a:ahLst/>
                <a:rect l="l" t="t" r="r" b="b"/>
                <a:pathLst>
                  <a:path w="1184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1" y="1092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743280" y="2249280"/>
                <a:ext cx="956880" cy="23436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478760" y="2483640"/>
                <a:ext cx="144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3861360" y="258588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CK/Axi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05920" y="274140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Monitoring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2344680" y="2328840"/>
              <a:ext cx="956880" cy="933120"/>
              <a:chOff x="2344680" y="2328840"/>
              <a:chExt cx="956880" cy="933120"/>
            </a:xfrm>
          </p:grpSpPr>
          <p:sp>
            <p:nvSpPr>
              <p:cNvPr id="638" name=""/>
              <p:cNvSpPr/>
              <p:nvPr/>
            </p:nvSpPr>
            <p:spPr>
              <a:xfrm>
                <a:off x="2344680" y="2328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4" h="1092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1" y="1092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44680" y="2328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  <a:lnTo>
                      <a:pt x="274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080160" y="2328840"/>
                <a:ext cx="221400" cy="9331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344680" y="2328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4" h="1092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1" y="1092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344680" y="2328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080160" y="2561400"/>
                <a:ext cx="180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2565720" y="270036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74640" y="2855880"/>
              <a:ext cx="53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5013360" y="2249280"/>
              <a:ext cx="956880" cy="934920"/>
              <a:chOff x="5013360" y="2249280"/>
              <a:chExt cx="956880" cy="934920"/>
            </a:xfrm>
          </p:grpSpPr>
          <p:sp>
            <p:nvSpPr>
              <p:cNvPr id="647" name=""/>
              <p:cNvSpPr/>
              <p:nvPr/>
            </p:nvSpPr>
            <p:spPr>
              <a:xfrm>
                <a:off x="5013360" y="2249280"/>
                <a:ext cx="956880" cy="9349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13360" y="2249280"/>
                <a:ext cx="956880" cy="2343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50280" y="2249280"/>
                <a:ext cx="219960" cy="9349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13360" y="2249280"/>
                <a:ext cx="956880" cy="9349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13360" y="2249280"/>
                <a:ext cx="956880" cy="2343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750280" y="2483640"/>
                <a:ext cx="144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091120" y="25081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aramet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63040" y="2663640"/>
              <a:ext cx="69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(tool, NCK..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25040" y="281916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dit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79960" y="5852880"/>
              <a:ext cx="1122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5720" y="6168960"/>
              <a:ext cx="96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NCK &amp; PLC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93680" y="3106440"/>
              <a:ext cx="3700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09600" y="310500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0280" y="2249280"/>
              <a:ext cx="72720" cy="1559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41280" y="3262320"/>
              <a:ext cx="7308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67160" y="3106440"/>
              <a:ext cx="3682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82720" y="310500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978200" y="2093760"/>
              <a:ext cx="36828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93760" y="209232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235480" y="3028680"/>
              <a:ext cx="3682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51400" y="302724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62560" y="3184560"/>
              <a:ext cx="73080" cy="46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12960" y="3262320"/>
              <a:ext cx="73080" cy="390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25800" y="2249280"/>
              <a:ext cx="71280" cy="1479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963960" y="3028680"/>
              <a:ext cx="3700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81320" y="302724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11560" y="3184560"/>
              <a:ext cx="73080" cy="46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4478400" y="1239840"/>
              <a:ext cx="956880" cy="933120"/>
              <a:chOff x="4478400" y="1239840"/>
              <a:chExt cx="956880" cy="933120"/>
            </a:xfrm>
          </p:grpSpPr>
          <p:sp>
            <p:nvSpPr>
              <p:cNvPr id="675" name=""/>
              <p:cNvSpPr/>
              <p:nvPr/>
            </p:nvSpPr>
            <p:spPr>
              <a:xfrm>
                <a:off x="4478400" y="1239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478400" y="1239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15320" y="1239840"/>
                <a:ext cx="219960" cy="9331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478400" y="1239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478400" y="1239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215320" y="1472400"/>
                <a:ext cx="180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4556160" y="157932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mergenc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42920" y="17348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Handl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00520" y="2017440"/>
              <a:ext cx="3682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16440" y="201600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48120" y="2173320"/>
              <a:ext cx="71640" cy="14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3154320" y="1239840"/>
              <a:ext cx="956880" cy="933120"/>
              <a:chOff x="3154320" y="1239840"/>
              <a:chExt cx="956880" cy="933120"/>
            </a:xfrm>
          </p:grpSpPr>
          <p:sp>
            <p:nvSpPr>
              <p:cNvPr id="687" name=""/>
              <p:cNvSpPr/>
              <p:nvPr/>
            </p:nvSpPr>
            <p:spPr>
              <a:xfrm>
                <a:off x="3154320" y="1239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154320" y="1239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889440" y="1239840"/>
                <a:ext cx="221760" cy="9331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154320" y="1239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154320" y="1239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889440" y="1472400"/>
                <a:ext cx="180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3391200" y="15714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os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33160" y="1726920"/>
              <a:ext cx="58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rocess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76440" y="2017440"/>
              <a:ext cx="36864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90920" y="201600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22600" y="2173320"/>
              <a:ext cx="73080" cy="155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813280" y="1293840"/>
              <a:ext cx="932040" cy="90324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Verdana"/>
                </a:rPr>
                <a:t>PosSF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87880" y="2033640"/>
              <a:ext cx="389160" cy="1634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46920" y="4773600"/>
              <a:ext cx="387360" cy="123012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I/O Board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6454800" y="2227320"/>
              <a:ext cx="929880" cy="964800"/>
              <a:chOff x="6454800" y="2227320"/>
              <a:chExt cx="929880" cy="964800"/>
            </a:xfrm>
          </p:grpSpPr>
          <p:sp>
            <p:nvSpPr>
              <p:cNvPr id="702" name=""/>
              <p:cNvSpPr/>
              <p:nvPr/>
            </p:nvSpPr>
            <p:spPr>
              <a:xfrm>
                <a:off x="6454800" y="2227320"/>
                <a:ext cx="929880" cy="964800"/>
              </a:xfrm>
              <a:prstGeom prst="cube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000000"/>
                    </a:solidFill>
                    <a:latin typeface="Verdana"/>
                  </a:rPr>
                  <a:t>PosTPG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609960" y="3016800"/>
                <a:ext cx="387360" cy="175320"/>
              </a:xfrm>
              <a:prstGeom prst="rect">
                <a:avLst/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API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>
              <a:off x="6129360" y="2187360"/>
              <a:ext cx="73080" cy="1479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750000" y="3195360"/>
              <a:ext cx="73080" cy="468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996320" y="1981080"/>
              <a:ext cx="776160" cy="73980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achi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996320" y="2884320"/>
              <a:ext cx="776160" cy="73980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ntroll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996320" y="1077840"/>
              <a:ext cx="776160" cy="73980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Toolpath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908840" y="1334880"/>
              <a:ext cx="136440" cy="2872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08840" y="2238120"/>
              <a:ext cx="136440" cy="28764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08840" y="3132000"/>
              <a:ext cx="136440" cy="2872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77000" y="1438200"/>
              <a:ext cx="231840" cy="81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77000" y="2330280"/>
              <a:ext cx="231840" cy="82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77000" y="3233520"/>
              <a:ext cx="231840" cy="82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1040" y="4937040"/>
              <a:ext cx="155880" cy="9032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27520" y="4711680"/>
              <a:ext cx="698400" cy="492120"/>
            </a:xfrm>
            <a:prstGeom prst="cube">
              <a:avLst>
                <a:gd name="adj" fmla="val 30902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43360" y="5675040"/>
              <a:ext cx="1085760" cy="41148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Look ahea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17840" y="5408640"/>
              <a:ext cx="77760" cy="328320"/>
            </a:xfrm>
            <a:prstGeom prst="can">
              <a:avLst>
                <a:gd name="adj" fmla="val 250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5720" y="4957560"/>
              <a:ext cx="932040" cy="882720"/>
            </a:xfrm>
            <a:prstGeom prst="cube">
              <a:avLst>
                <a:gd name="adj" fmla="val 9884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RBA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468440" y="5348160"/>
              <a:ext cx="4422600" cy="163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38080" y="5049720"/>
              <a:ext cx="387360" cy="2462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03320" y="3930480"/>
              <a:ext cx="77760" cy="1149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279B-6A36-4E8E-82EF-0BF396C0FD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stem Platfor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693720" y="3462480"/>
            <a:ext cx="6415200" cy="949320"/>
            <a:chOff x="693720" y="3462480"/>
            <a:chExt cx="6415200" cy="949320"/>
          </a:xfrm>
        </p:grpSpPr>
        <p:sp>
          <p:nvSpPr>
            <p:cNvPr id="725" name=""/>
            <p:cNvSpPr/>
            <p:nvPr/>
          </p:nvSpPr>
          <p:spPr>
            <a:xfrm>
              <a:off x="693720" y="3462480"/>
              <a:ext cx="6415200" cy="949320"/>
            </a:xfrm>
            <a:custGeom>
              <a:avLst/>
              <a:gdLst/>
              <a:ahLst/>
              <a:rect l="l" t="t" r="r" b="b"/>
              <a:pathLst>
                <a:path w="80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7312" y="1196"/>
                  </a:lnTo>
                  <a:lnTo>
                    <a:pt x="8081" y="428"/>
                  </a:lnTo>
                  <a:lnTo>
                    <a:pt x="8081" y="0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93720" y="3462480"/>
              <a:ext cx="6415200" cy="609480"/>
            </a:xfrm>
            <a:custGeom>
              <a:avLst/>
              <a:gdLst/>
              <a:ahLst/>
              <a:rect l="l" t="t" r="r" b="b"/>
              <a:pathLst>
                <a:path w="8081" h="768">
                  <a:moveTo>
                    <a:pt x="0" y="768"/>
                  </a:moveTo>
                  <a:lnTo>
                    <a:pt x="7312" y="768"/>
                  </a:lnTo>
                  <a:lnTo>
                    <a:pt x="8081" y="0"/>
                  </a:lnTo>
                  <a:lnTo>
                    <a:pt x="768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ad5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97640" y="3462480"/>
              <a:ext cx="611280" cy="94932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7b2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3720" y="3462480"/>
              <a:ext cx="6415200" cy="949320"/>
            </a:xfrm>
            <a:custGeom>
              <a:avLst/>
              <a:gdLst/>
              <a:ahLst/>
              <a:rect l="l" t="t" r="r" b="b"/>
              <a:pathLst>
                <a:path w="80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7312" y="1196"/>
                  </a:lnTo>
                  <a:lnTo>
                    <a:pt x="8081" y="428"/>
                  </a:lnTo>
                  <a:lnTo>
                    <a:pt x="8081" y="0"/>
                  </a:lnTo>
                  <a:lnTo>
                    <a:pt x="76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3720" y="3462480"/>
              <a:ext cx="6415200" cy="609480"/>
            </a:xfrm>
            <a:custGeom>
              <a:avLst/>
              <a:gdLst/>
              <a:ahLst/>
              <a:rect l="l" t="t" r="r" b="b"/>
              <a:pathLst>
                <a:path w="8081" h="768">
                  <a:moveTo>
                    <a:pt x="0" y="768"/>
                  </a:moveTo>
                  <a:lnTo>
                    <a:pt x="7312" y="768"/>
                  </a:lnTo>
                  <a:lnTo>
                    <a:pt x="808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97640" y="4071960"/>
              <a:ext cx="180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3439080" y="4079880"/>
            <a:ext cx="447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LA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693720" y="3065400"/>
            <a:ext cx="2898720" cy="988560"/>
            <a:chOff x="693720" y="3065400"/>
            <a:chExt cx="2898720" cy="988560"/>
          </a:xfrm>
        </p:grpSpPr>
        <p:sp>
          <p:nvSpPr>
            <p:cNvPr id="733" name=""/>
            <p:cNvSpPr/>
            <p:nvPr/>
          </p:nvSpPr>
          <p:spPr>
            <a:xfrm>
              <a:off x="693720" y="3065400"/>
              <a:ext cx="2898720" cy="988560"/>
            </a:xfrm>
            <a:custGeom>
              <a:avLst/>
              <a:gdLst/>
              <a:ahLst/>
              <a:rect l="l" t="t" r="r" b="b"/>
              <a:pathLst>
                <a:path w="36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2912" y="1196"/>
                  </a:lnTo>
                  <a:lnTo>
                    <a:pt x="3681" y="428"/>
                  </a:lnTo>
                  <a:lnTo>
                    <a:pt x="3681" y="0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3720" y="3065400"/>
              <a:ext cx="2898720" cy="634680"/>
            </a:xfrm>
            <a:custGeom>
              <a:avLst/>
              <a:gdLst/>
              <a:ahLst/>
              <a:rect l="l" t="t" r="r" b="b"/>
              <a:pathLst>
                <a:path w="3681" h="768">
                  <a:moveTo>
                    <a:pt x="0" y="768"/>
                  </a:moveTo>
                  <a:lnTo>
                    <a:pt x="2912" y="768"/>
                  </a:lnTo>
                  <a:lnTo>
                    <a:pt x="3681" y="0"/>
                  </a:lnTo>
                  <a:lnTo>
                    <a:pt x="768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5b5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86200" y="3065400"/>
              <a:ext cx="605880" cy="98856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292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3720" y="3065400"/>
              <a:ext cx="2898720" cy="988560"/>
            </a:xfrm>
            <a:custGeom>
              <a:avLst/>
              <a:gdLst/>
              <a:ahLst/>
              <a:rect l="l" t="t" r="r" b="b"/>
              <a:pathLst>
                <a:path w="36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2912" y="1196"/>
                  </a:lnTo>
                  <a:lnTo>
                    <a:pt x="3681" y="428"/>
                  </a:lnTo>
                  <a:lnTo>
                    <a:pt x="3681" y="0"/>
                  </a:lnTo>
                  <a:lnTo>
                    <a:pt x="76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3720" y="3065400"/>
              <a:ext cx="2898720" cy="634680"/>
            </a:xfrm>
            <a:custGeom>
              <a:avLst/>
              <a:gdLst/>
              <a:ahLst/>
              <a:rect l="l" t="t" r="r" b="b"/>
              <a:pathLst>
                <a:path w="3681" h="768">
                  <a:moveTo>
                    <a:pt x="0" y="768"/>
                  </a:moveTo>
                  <a:lnTo>
                    <a:pt x="2912" y="768"/>
                  </a:lnTo>
                  <a:lnTo>
                    <a:pt x="368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986200" y="3700080"/>
              <a:ext cx="108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1787040" y="3724200"/>
            <a:ext cx="273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4114800" y="3117960"/>
            <a:ext cx="1781280" cy="949320"/>
            <a:chOff x="4114800" y="3117960"/>
            <a:chExt cx="1781280" cy="949320"/>
          </a:xfrm>
        </p:grpSpPr>
        <p:sp>
          <p:nvSpPr>
            <p:cNvPr id="741" name=""/>
            <p:cNvSpPr/>
            <p:nvPr/>
          </p:nvSpPr>
          <p:spPr>
            <a:xfrm>
              <a:off x="4114800" y="3117960"/>
              <a:ext cx="1781280" cy="949320"/>
            </a:xfrm>
            <a:custGeom>
              <a:avLst/>
              <a:gdLst/>
              <a:ahLst/>
              <a:rect l="l" t="t" r="r" b="b"/>
              <a:pathLst>
                <a:path w="2245" h="1196">
                  <a:moveTo>
                    <a:pt x="769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1476" y="1196"/>
                  </a:lnTo>
                  <a:lnTo>
                    <a:pt x="2245" y="428"/>
                  </a:lnTo>
                  <a:lnTo>
                    <a:pt x="2245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3117960"/>
              <a:ext cx="1781280" cy="60984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68"/>
                  </a:moveTo>
                  <a:lnTo>
                    <a:pt x="1476" y="768"/>
                  </a:lnTo>
                  <a:lnTo>
                    <a:pt x="2245" y="0"/>
                  </a:lnTo>
                  <a:lnTo>
                    <a:pt x="769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5b5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86600" y="3117960"/>
              <a:ext cx="609480" cy="94932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292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3117960"/>
              <a:ext cx="1781280" cy="949320"/>
            </a:xfrm>
            <a:custGeom>
              <a:avLst/>
              <a:gdLst/>
              <a:ahLst/>
              <a:rect l="l" t="t" r="r" b="b"/>
              <a:pathLst>
                <a:path w="2245" h="1196">
                  <a:moveTo>
                    <a:pt x="769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1476" y="1196"/>
                  </a:lnTo>
                  <a:lnTo>
                    <a:pt x="2245" y="428"/>
                  </a:lnTo>
                  <a:lnTo>
                    <a:pt x="2245" y="0"/>
                  </a:lnTo>
                  <a:lnTo>
                    <a:pt x="76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114800" y="3117960"/>
              <a:ext cx="1781280" cy="60984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68"/>
                  </a:moveTo>
                  <a:lnTo>
                    <a:pt x="1476" y="768"/>
                  </a:lnTo>
                  <a:lnTo>
                    <a:pt x="22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86600" y="3727800"/>
              <a:ext cx="144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651200" y="3735360"/>
            <a:ext cx="273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93720" y="2760840"/>
            <a:ext cx="2898720" cy="985320"/>
            <a:chOff x="693720" y="2760840"/>
            <a:chExt cx="2898720" cy="985320"/>
          </a:xfrm>
        </p:grpSpPr>
        <p:sp>
          <p:nvSpPr>
            <p:cNvPr id="749" name=""/>
            <p:cNvSpPr/>
            <p:nvPr/>
          </p:nvSpPr>
          <p:spPr>
            <a:xfrm>
              <a:off x="693720" y="2760840"/>
              <a:ext cx="2898720" cy="985320"/>
            </a:xfrm>
            <a:custGeom>
              <a:avLst/>
              <a:gdLst/>
              <a:ahLst/>
              <a:rect l="l" t="t" r="r" b="b"/>
              <a:pathLst>
                <a:path w="36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2912" y="1196"/>
                  </a:lnTo>
                  <a:lnTo>
                    <a:pt x="3681" y="428"/>
                  </a:lnTo>
                  <a:lnTo>
                    <a:pt x="3681" y="0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3720" y="2760840"/>
              <a:ext cx="2898720" cy="632880"/>
            </a:xfrm>
            <a:custGeom>
              <a:avLst/>
              <a:gdLst/>
              <a:ahLst/>
              <a:rect l="l" t="t" r="r" b="b"/>
              <a:pathLst>
                <a:path w="3681" h="768">
                  <a:moveTo>
                    <a:pt x="0" y="768"/>
                  </a:moveTo>
                  <a:lnTo>
                    <a:pt x="2912" y="768"/>
                  </a:lnTo>
                  <a:lnTo>
                    <a:pt x="3681" y="0"/>
                  </a:lnTo>
                  <a:lnTo>
                    <a:pt x="768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86200" y="2760840"/>
              <a:ext cx="605880" cy="98532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cdc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3720" y="2760840"/>
              <a:ext cx="2898720" cy="985320"/>
            </a:xfrm>
            <a:custGeom>
              <a:avLst/>
              <a:gdLst/>
              <a:ahLst/>
              <a:rect l="l" t="t" r="r" b="b"/>
              <a:pathLst>
                <a:path w="36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2912" y="1196"/>
                  </a:lnTo>
                  <a:lnTo>
                    <a:pt x="3681" y="428"/>
                  </a:lnTo>
                  <a:lnTo>
                    <a:pt x="3681" y="0"/>
                  </a:lnTo>
                  <a:lnTo>
                    <a:pt x="76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93720" y="2760840"/>
              <a:ext cx="2898720" cy="632880"/>
            </a:xfrm>
            <a:custGeom>
              <a:avLst/>
              <a:gdLst/>
              <a:ahLst/>
              <a:rect l="l" t="t" r="r" b="b"/>
              <a:pathLst>
                <a:path w="3681" h="768">
                  <a:moveTo>
                    <a:pt x="0" y="768"/>
                  </a:moveTo>
                  <a:lnTo>
                    <a:pt x="2912" y="768"/>
                  </a:lnTo>
                  <a:lnTo>
                    <a:pt x="368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86200" y="3393720"/>
              <a:ext cx="108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223640" y="3443400"/>
            <a:ext cx="1338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indows N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5254560" y="3117960"/>
            <a:ext cx="1854360" cy="949320"/>
            <a:chOff x="5254560" y="3117960"/>
            <a:chExt cx="1854360" cy="949320"/>
          </a:xfrm>
        </p:grpSpPr>
        <p:sp>
          <p:nvSpPr>
            <p:cNvPr id="757" name=""/>
            <p:cNvSpPr/>
            <p:nvPr/>
          </p:nvSpPr>
          <p:spPr>
            <a:xfrm>
              <a:off x="5254560" y="3117960"/>
              <a:ext cx="1854360" cy="949320"/>
            </a:xfrm>
            <a:custGeom>
              <a:avLst/>
              <a:gdLst/>
              <a:ahLst/>
              <a:rect l="l" t="t" r="r" b="b"/>
              <a:pathLst>
                <a:path w="2335" h="1196">
                  <a:moveTo>
                    <a:pt x="769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1566" y="1196"/>
                  </a:lnTo>
                  <a:lnTo>
                    <a:pt x="2335" y="428"/>
                  </a:lnTo>
                  <a:lnTo>
                    <a:pt x="2335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54560" y="3117960"/>
              <a:ext cx="1854360" cy="609840"/>
            </a:xfrm>
            <a:custGeom>
              <a:avLst/>
              <a:gdLst/>
              <a:ahLst/>
              <a:rect l="l" t="t" r="r" b="b"/>
              <a:pathLst>
                <a:path w="2335" h="768">
                  <a:moveTo>
                    <a:pt x="0" y="768"/>
                  </a:moveTo>
                  <a:lnTo>
                    <a:pt x="1566" y="768"/>
                  </a:lnTo>
                  <a:lnTo>
                    <a:pt x="2335" y="0"/>
                  </a:lnTo>
                  <a:lnTo>
                    <a:pt x="769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5b5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97640" y="3117960"/>
              <a:ext cx="611280" cy="94932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292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54560" y="3117960"/>
              <a:ext cx="1854360" cy="949320"/>
            </a:xfrm>
            <a:custGeom>
              <a:avLst/>
              <a:gdLst/>
              <a:ahLst/>
              <a:rect l="l" t="t" r="r" b="b"/>
              <a:pathLst>
                <a:path w="2335" h="1196">
                  <a:moveTo>
                    <a:pt x="769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1566" y="1196"/>
                  </a:lnTo>
                  <a:lnTo>
                    <a:pt x="2335" y="428"/>
                  </a:lnTo>
                  <a:lnTo>
                    <a:pt x="2335" y="0"/>
                  </a:lnTo>
                  <a:lnTo>
                    <a:pt x="76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54560" y="3117960"/>
              <a:ext cx="1854360" cy="609840"/>
            </a:xfrm>
            <a:custGeom>
              <a:avLst/>
              <a:gdLst/>
              <a:ahLst/>
              <a:rect l="l" t="t" r="r" b="b"/>
              <a:pathLst>
                <a:path w="2335" h="768">
                  <a:moveTo>
                    <a:pt x="0" y="768"/>
                  </a:moveTo>
                  <a:lnTo>
                    <a:pt x="1566" y="768"/>
                  </a:lnTo>
                  <a:lnTo>
                    <a:pt x="23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97640" y="3727800"/>
              <a:ext cx="180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5443560" y="3735360"/>
            <a:ext cx="104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I/O Board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4114800" y="2773440"/>
            <a:ext cx="2138400" cy="961920"/>
            <a:chOff x="4114800" y="2773440"/>
            <a:chExt cx="2138400" cy="961920"/>
          </a:xfrm>
        </p:grpSpPr>
        <p:sp>
          <p:nvSpPr>
            <p:cNvPr id="765" name=""/>
            <p:cNvSpPr/>
            <p:nvPr/>
          </p:nvSpPr>
          <p:spPr>
            <a:xfrm>
              <a:off x="4114800" y="2773440"/>
              <a:ext cx="2138400" cy="961920"/>
            </a:xfrm>
            <a:custGeom>
              <a:avLst/>
              <a:gdLst/>
              <a:ahLst/>
              <a:rect l="l" t="t" r="r" b="b"/>
              <a:pathLst>
                <a:path w="2694" h="1211">
                  <a:moveTo>
                    <a:pt x="778" y="0"/>
                  </a:moveTo>
                  <a:lnTo>
                    <a:pt x="0" y="778"/>
                  </a:lnTo>
                  <a:lnTo>
                    <a:pt x="0" y="1211"/>
                  </a:lnTo>
                  <a:lnTo>
                    <a:pt x="1915" y="1211"/>
                  </a:lnTo>
                  <a:lnTo>
                    <a:pt x="2694" y="434"/>
                  </a:lnTo>
                  <a:lnTo>
                    <a:pt x="2694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14800" y="2773440"/>
              <a:ext cx="2138400" cy="617400"/>
            </a:xfrm>
            <a:custGeom>
              <a:avLst/>
              <a:gdLst/>
              <a:ahLst/>
              <a:rect l="l" t="t" r="r" b="b"/>
              <a:pathLst>
                <a:path w="2694" h="778">
                  <a:moveTo>
                    <a:pt x="0" y="778"/>
                  </a:moveTo>
                  <a:lnTo>
                    <a:pt x="1915" y="778"/>
                  </a:lnTo>
                  <a:lnTo>
                    <a:pt x="2694" y="0"/>
                  </a:lnTo>
                  <a:lnTo>
                    <a:pt x="778" y="0"/>
                  </a:lnTo>
                  <a:lnTo>
                    <a:pt x="0" y="778"/>
                  </a:lnTo>
                  <a:close/>
                </a:path>
              </a:pathLst>
            </a:cu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35800" y="2773440"/>
              <a:ext cx="617400" cy="961920"/>
            </a:xfrm>
            <a:custGeom>
              <a:avLst/>
              <a:gdLst/>
              <a:ahLst/>
              <a:rect l="l" t="t" r="r" b="b"/>
              <a:pathLst>
                <a:path w="779" h="1211">
                  <a:moveTo>
                    <a:pt x="0" y="778"/>
                  </a:moveTo>
                  <a:lnTo>
                    <a:pt x="779" y="0"/>
                  </a:lnTo>
                  <a:lnTo>
                    <a:pt x="779" y="434"/>
                  </a:lnTo>
                  <a:lnTo>
                    <a:pt x="0" y="1211"/>
                  </a:lnTo>
                  <a:lnTo>
                    <a:pt x="0" y="778"/>
                  </a:lnTo>
                  <a:close/>
                </a:path>
              </a:pathLst>
            </a:custGeom>
            <a:solidFill>
              <a:srgbClr val="cdc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14800" y="2773440"/>
              <a:ext cx="2138400" cy="961920"/>
            </a:xfrm>
            <a:custGeom>
              <a:avLst/>
              <a:gdLst/>
              <a:ahLst/>
              <a:rect l="l" t="t" r="r" b="b"/>
              <a:pathLst>
                <a:path w="2694" h="1211">
                  <a:moveTo>
                    <a:pt x="778" y="0"/>
                  </a:moveTo>
                  <a:lnTo>
                    <a:pt x="0" y="778"/>
                  </a:lnTo>
                  <a:lnTo>
                    <a:pt x="0" y="1211"/>
                  </a:lnTo>
                  <a:lnTo>
                    <a:pt x="1915" y="1211"/>
                  </a:lnTo>
                  <a:lnTo>
                    <a:pt x="2694" y="434"/>
                  </a:lnTo>
                  <a:lnTo>
                    <a:pt x="2694" y="0"/>
                  </a:lnTo>
                  <a:lnTo>
                    <a:pt x="77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114800" y="2773440"/>
              <a:ext cx="2138400" cy="617400"/>
            </a:xfrm>
            <a:custGeom>
              <a:avLst/>
              <a:gdLst/>
              <a:ahLst/>
              <a:rect l="l" t="t" r="r" b="b"/>
              <a:pathLst>
                <a:path w="2694" h="778">
                  <a:moveTo>
                    <a:pt x="0" y="778"/>
                  </a:moveTo>
                  <a:lnTo>
                    <a:pt x="1915" y="778"/>
                  </a:lnTo>
                  <a:lnTo>
                    <a:pt x="269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35800" y="3390840"/>
              <a:ext cx="144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4213080" y="3402000"/>
            <a:ext cx="1338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indows N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611680" y="2773440"/>
            <a:ext cx="1496880" cy="961920"/>
            <a:chOff x="5611680" y="2773440"/>
            <a:chExt cx="1496880" cy="961920"/>
          </a:xfrm>
        </p:grpSpPr>
        <p:sp>
          <p:nvSpPr>
            <p:cNvPr id="773" name=""/>
            <p:cNvSpPr/>
            <p:nvPr/>
          </p:nvSpPr>
          <p:spPr>
            <a:xfrm>
              <a:off x="5611680" y="2773440"/>
              <a:ext cx="1496880" cy="961920"/>
            </a:xfrm>
            <a:custGeom>
              <a:avLst/>
              <a:gdLst/>
              <a:ahLst/>
              <a:rect l="l" t="t" r="r" b="b"/>
              <a:pathLst>
                <a:path w="1886" h="1211">
                  <a:moveTo>
                    <a:pt x="779" y="0"/>
                  </a:moveTo>
                  <a:lnTo>
                    <a:pt x="0" y="778"/>
                  </a:lnTo>
                  <a:lnTo>
                    <a:pt x="0" y="1211"/>
                  </a:lnTo>
                  <a:lnTo>
                    <a:pt x="1108" y="1211"/>
                  </a:lnTo>
                  <a:lnTo>
                    <a:pt x="1886" y="434"/>
                  </a:lnTo>
                  <a:lnTo>
                    <a:pt x="1886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11680" y="2773440"/>
              <a:ext cx="1496880" cy="617400"/>
            </a:xfrm>
            <a:custGeom>
              <a:avLst/>
              <a:gdLst/>
              <a:ahLst/>
              <a:rect l="l" t="t" r="r" b="b"/>
              <a:pathLst>
                <a:path w="1886" h="778">
                  <a:moveTo>
                    <a:pt x="0" y="778"/>
                  </a:moveTo>
                  <a:lnTo>
                    <a:pt x="1108" y="778"/>
                  </a:lnTo>
                  <a:lnTo>
                    <a:pt x="1886" y="0"/>
                  </a:lnTo>
                  <a:lnTo>
                    <a:pt x="779" y="0"/>
                  </a:lnTo>
                  <a:lnTo>
                    <a:pt x="0" y="778"/>
                  </a:lnTo>
                  <a:close/>
                </a:path>
              </a:pathLst>
            </a:cu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89360" y="2773440"/>
              <a:ext cx="619200" cy="961920"/>
            </a:xfrm>
            <a:custGeom>
              <a:avLst/>
              <a:gdLst/>
              <a:ahLst/>
              <a:rect l="l" t="t" r="r" b="b"/>
              <a:pathLst>
                <a:path w="778" h="1211">
                  <a:moveTo>
                    <a:pt x="0" y="778"/>
                  </a:moveTo>
                  <a:lnTo>
                    <a:pt x="778" y="0"/>
                  </a:lnTo>
                  <a:lnTo>
                    <a:pt x="778" y="434"/>
                  </a:lnTo>
                  <a:lnTo>
                    <a:pt x="0" y="1211"/>
                  </a:lnTo>
                  <a:lnTo>
                    <a:pt x="0" y="778"/>
                  </a:lnTo>
                  <a:close/>
                </a:path>
              </a:pathLst>
            </a:custGeom>
            <a:solidFill>
              <a:srgbClr val="cdc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11680" y="2773440"/>
              <a:ext cx="1496880" cy="961920"/>
            </a:xfrm>
            <a:custGeom>
              <a:avLst/>
              <a:gdLst/>
              <a:ahLst/>
              <a:rect l="l" t="t" r="r" b="b"/>
              <a:pathLst>
                <a:path w="1886" h="1211">
                  <a:moveTo>
                    <a:pt x="779" y="0"/>
                  </a:moveTo>
                  <a:lnTo>
                    <a:pt x="0" y="778"/>
                  </a:lnTo>
                  <a:lnTo>
                    <a:pt x="0" y="1211"/>
                  </a:lnTo>
                  <a:lnTo>
                    <a:pt x="1108" y="1211"/>
                  </a:lnTo>
                  <a:lnTo>
                    <a:pt x="1886" y="434"/>
                  </a:lnTo>
                  <a:lnTo>
                    <a:pt x="1886" y="0"/>
                  </a:lnTo>
                  <a:lnTo>
                    <a:pt x="77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11680" y="2773440"/>
              <a:ext cx="1496880" cy="617400"/>
            </a:xfrm>
            <a:custGeom>
              <a:avLst/>
              <a:gdLst/>
              <a:ahLst/>
              <a:rect l="l" t="t" r="r" b="b"/>
              <a:pathLst>
                <a:path w="1886" h="778">
                  <a:moveTo>
                    <a:pt x="0" y="778"/>
                  </a:moveTo>
                  <a:lnTo>
                    <a:pt x="1108" y="778"/>
                  </a:lnTo>
                  <a:lnTo>
                    <a:pt x="188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89360" y="3390840"/>
              <a:ext cx="144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5813640" y="3416400"/>
            <a:ext cx="413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TX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4953960" y="2722680"/>
            <a:ext cx="45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NCK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6751800" y="3503520"/>
            <a:ext cx="641160" cy="284400"/>
          </a:xfrm>
          <a:custGeom>
            <a:avLst/>
            <a:gdLst/>
            <a:ahLst/>
            <a:rect l="l" t="t" r="r" b="b"/>
            <a:pathLst>
              <a:path w="808" h="358">
                <a:moveTo>
                  <a:pt x="606" y="0"/>
                </a:moveTo>
                <a:lnTo>
                  <a:pt x="606" y="89"/>
                </a:lnTo>
                <a:lnTo>
                  <a:pt x="0" y="89"/>
                </a:lnTo>
                <a:lnTo>
                  <a:pt x="0" y="269"/>
                </a:lnTo>
                <a:lnTo>
                  <a:pt x="606" y="269"/>
                </a:lnTo>
                <a:lnTo>
                  <a:pt x="606" y="358"/>
                </a:lnTo>
                <a:lnTo>
                  <a:pt x="808" y="179"/>
                </a:lnTo>
                <a:lnTo>
                  <a:pt x="606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7464600" y="3260880"/>
            <a:ext cx="895320" cy="6616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7464600" y="3971880"/>
            <a:ext cx="1069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7617240" y="4013280"/>
            <a:ext cx="86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achin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7777800" y="4268880"/>
            <a:ext cx="54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>
            <a:off x="687240" y="2455920"/>
            <a:ext cx="2895840" cy="942840"/>
          </a:xfrm>
          <a:prstGeom prst="cube">
            <a:avLst>
              <a:gd name="adj" fmla="val 62500"/>
            </a:avLst>
          </a:prstGeom>
          <a:solidFill>
            <a:srgbClr val="00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B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>
            <a:off x="685800" y="1905120"/>
            <a:ext cx="2895480" cy="1143000"/>
          </a:xfrm>
          <a:prstGeom prst="cube">
            <a:avLst>
              <a:gd name="adj" fmla="val 51111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osSFP/PosTPG/PosTPV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/PosMM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>
            <a:off x="4116240" y="2446200"/>
            <a:ext cx="2971800" cy="943200"/>
          </a:xfrm>
          <a:prstGeom prst="cube">
            <a:avLst>
              <a:gd name="adj" fmla="val 62500"/>
            </a:avLst>
          </a:prstGeom>
          <a:solidFill>
            <a:srgbClr val="00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BA/Shared Memo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9" name=""/>
          <p:cNvSpPr/>
          <p:nvPr/>
        </p:nvSpPr>
        <p:spPr>
          <a:xfrm>
            <a:off x="4116240" y="2093760"/>
            <a:ext cx="2981520" cy="943200"/>
          </a:xfrm>
          <a:prstGeom prst="cube">
            <a:avLst>
              <a:gd name="adj" fmla="val 6250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osCNC(NCK/PL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A694-4DB3-4FA4-98A8-1A4623042D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SFP" descr=""/>
          <p:cNvPicPr/>
          <p:nvPr/>
        </p:nvPicPr>
        <p:blipFill>
          <a:blip r:embed="rId1"/>
          <a:stretch/>
        </p:blipFill>
        <p:spPr>
          <a:xfrm>
            <a:off x="457200" y="1170000"/>
            <a:ext cx="2362320" cy="1720800"/>
          </a:xfrm>
          <a:prstGeom prst="rect">
            <a:avLst/>
          </a:prstGeom>
          <a:ln w="0">
            <a:noFill/>
          </a:ln>
        </p:spPr>
      </p:pic>
      <p:pic>
        <p:nvPicPr>
          <p:cNvPr id="791" name="viewer" descr=""/>
          <p:cNvPicPr/>
          <p:nvPr/>
        </p:nvPicPr>
        <p:blipFill>
          <a:blip r:embed="rId2"/>
          <a:stretch/>
        </p:blipFill>
        <p:spPr>
          <a:xfrm>
            <a:off x="6477120" y="44910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mo Scenari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3"/>
          <a:stretch/>
        </p:blipFill>
        <p:spPr>
          <a:xfrm>
            <a:off x="388800" y="4633920"/>
            <a:ext cx="2125800" cy="169236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4"/>
          <a:stretch/>
        </p:blipFill>
        <p:spPr>
          <a:xfrm>
            <a:off x="6629400" y="1496880"/>
            <a:ext cx="2224080" cy="15112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995040" y="838080"/>
            <a:ext cx="930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SF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6" name="MMI" descr=""/>
          <p:cNvPicPr/>
          <p:nvPr/>
        </p:nvPicPr>
        <p:blipFill>
          <a:blip r:embed="rId5"/>
          <a:stretch/>
        </p:blipFill>
        <p:spPr>
          <a:xfrm>
            <a:off x="3733920" y="3159000"/>
            <a:ext cx="1726920" cy="19195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 flipH="1" flipV="1">
            <a:off x="2895120" y="2662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2743200" y="28908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486400" y="245412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562720" y="268272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5638680" y="4643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742840" y="4411800"/>
            <a:ext cx="83196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2743200" y="4662000"/>
            <a:ext cx="83196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2743200" y="2128680"/>
            <a:ext cx="175248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Command PosSFP to generate part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617760" y="2662200"/>
            <a:ext cx="1709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te part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5176800"/>
            <a:ext cx="142416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tool-path to main databa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1295280" y="3262320"/>
            <a:ext cx="190512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part program to main databa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1981080" y="3957480"/>
            <a:ext cx="160020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Command PosTPG to generate tool-pat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921240" y="5329080"/>
            <a:ext cx="14104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te tool-pat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5260680" y="5176800"/>
            <a:ext cx="11865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Tool-pat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7335720" y="46674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Visualize TP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52880" y="2073240"/>
            <a:ext cx="129564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tool-path and command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>
            <a:off x="6022800" y="3216240"/>
            <a:ext cx="1997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NC status inform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6634440" y="1235160"/>
            <a:ext cx="210240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ecute machining comman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906120" y="4338720"/>
            <a:ext cx="9946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TP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"/>
          <p:cNvSpPr/>
          <p:nvPr/>
        </p:nvSpPr>
        <p:spPr>
          <a:xfrm>
            <a:off x="7167600" y="4186080"/>
            <a:ext cx="981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TP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"/>
          <p:cNvSpPr/>
          <p:nvPr/>
        </p:nvSpPr>
        <p:spPr>
          <a:xfrm>
            <a:off x="7130160" y="838080"/>
            <a:ext cx="1017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CN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"/>
          <p:cNvSpPr/>
          <p:nvPr/>
        </p:nvSpPr>
        <p:spPr>
          <a:xfrm>
            <a:off x="4043160" y="2819520"/>
            <a:ext cx="1044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MM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"/>
          <p:cNvSpPr/>
          <p:nvPr/>
        </p:nvSpPr>
        <p:spPr>
          <a:xfrm>
            <a:off x="3200400" y="259020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"/>
          <p:cNvSpPr/>
          <p:nvPr/>
        </p:nvSpPr>
        <p:spPr>
          <a:xfrm>
            <a:off x="380880" y="259020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"/>
          <p:cNvSpPr/>
          <p:nvPr/>
        </p:nvSpPr>
        <p:spPr>
          <a:xfrm>
            <a:off x="2819520" y="2971440"/>
            <a:ext cx="304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"/>
          <p:cNvSpPr/>
          <p:nvPr/>
        </p:nvSpPr>
        <p:spPr>
          <a:xfrm>
            <a:off x="2971800" y="441900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"/>
          <p:cNvSpPr/>
          <p:nvPr/>
        </p:nvSpPr>
        <p:spPr>
          <a:xfrm>
            <a:off x="3124080" y="487620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"/>
          <p:cNvSpPr/>
          <p:nvPr/>
        </p:nvSpPr>
        <p:spPr>
          <a:xfrm>
            <a:off x="609480" y="529236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"/>
          <p:cNvSpPr/>
          <p:nvPr/>
        </p:nvSpPr>
        <p:spPr>
          <a:xfrm>
            <a:off x="5715000" y="480024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"/>
          <p:cNvSpPr/>
          <p:nvPr/>
        </p:nvSpPr>
        <p:spPr>
          <a:xfrm>
            <a:off x="5867280" y="291564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"/>
          <p:cNvSpPr/>
          <p:nvPr/>
        </p:nvSpPr>
        <p:spPr>
          <a:xfrm>
            <a:off x="5791320" y="2493360"/>
            <a:ext cx="304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"/>
          <p:cNvSpPr/>
          <p:nvPr/>
        </p:nvSpPr>
        <p:spPr>
          <a:xfrm>
            <a:off x="6172200" y="116316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1F19-65E8-45BE-8B8A-4A47B7E5C2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914400" y="4114800"/>
            <a:ext cx="380880" cy="19810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totype Syste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31" name="system-2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365880" cy="233532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600200" y="411480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SF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464832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TP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>
            <a:off x="1600200" y="518148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TP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>
            <a:off x="5791320" y="480060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CN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>
            <a:off x="5791320" y="419112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MM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837" name=""/>
          <p:cNvCxnSpPr/>
          <p:nvPr/>
        </p:nvCxnSpPr>
        <p:spPr>
          <a:xfrm>
            <a:off x="2400120" y="3219120"/>
            <a:ext cx="1080" cy="648360"/>
          </a:xfrm>
          <a:prstGeom prst="straightConnector1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38" name=""/>
          <p:cNvCxnSpPr/>
          <p:nvPr/>
        </p:nvCxnSpPr>
        <p:spPr>
          <a:xfrm>
            <a:off x="6590880" y="3219120"/>
            <a:ext cx="1080" cy="648360"/>
          </a:xfrm>
          <a:prstGeom prst="straightConnector1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39" name=""/>
          <p:cNvSpPr/>
          <p:nvPr/>
        </p:nvSpPr>
        <p:spPr>
          <a:xfrm>
            <a:off x="919440" y="4477320"/>
            <a:ext cx="4237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0" name=""/>
          <p:cNvSpPr/>
          <p:nvPr/>
        </p:nvSpPr>
        <p:spPr>
          <a:xfrm>
            <a:off x="3744360" y="4114800"/>
            <a:ext cx="4546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1" name=""/>
          <p:cNvSpPr/>
          <p:nvPr/>
        </p:nvSpPr>
        <p:spPr>
          <a:xfrm>
            <a:off x="7772400" y="4191120"/>
            <a:ext cx="380880" cy="19047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2" name=""/>
          <p:cNvSpPr/>
          <p:nvPr/>
        </p:nvSpPr>
        <p:spPr>
          <a:xfrm>
            <a:off x="1219320" y="5715000"/>
            <a:ext cx="6629400" cy="380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3" name=""/>
          <p:cNvSpPr/>
          <p:nvPr/>
        </p:nvSpPr>
        <p:spPr>
          <a:xfrm>
            <a:off x="7805880" y="4494960"/>
            <a:ext cx="4237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4" name=""/>
          <p:cNvSpPr/>
          <p:nvPr/>
        </p:nvSpPr>
        <p:spPr>
          <a:xfrm>
            <a:off x="4040280" y="5715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"/>
          <p:cNvSpPr/>
          <p:nvPr/>
        </p:nvSpPr>
        <p:spPr>
          <a:xfrm>
            <a:off x="1219320" y="4267080"/>
            <a:ext cx="380880" cy="152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"/>
          <p:cNvSpPr/>
          <p:nvPr/>
        </p:nvSpPr>
        <p:spPr>
          <a:xfrm>
            <a:off x="1219320" y="4800600"/>
            <a:ext cx="380880" cy="152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"/>
          <p:cNvSpPr/>
          <p:nvPr/>
        </p:nvSpPr>
        <p:spPr>
          <a:xfrm>
            <a:off x="1219320" y="5334120"/>
            <a:ext cx="380880" cy="152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"/>
          <p:cNvSpPr/>
          <p:nvPr/>
        </p:nvSpPr>
        <p:spPr>
          <a:xfrm>
            <a:off x="7391520" y="4952880"/>
            <a:ext cx="380880" cy="152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"/>
          <p:cNvSpPr/>
          <p:nvPr/>
        </p:nvSpPr>
        <p:spPr>
          <a:xfrm>
            <a:off x="7391520" y="4343400"/>
            <a:ext cx="380880" cy="152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850" name=""/>
          <p:cNvCxnSpPr/>
          <p:nvPr/>
        </p:nvCxnSpPr>
        <p:spPr>
          <a:xfrm rot="5400000">
            <a:off x="3939120" y="3204360"/>
            <a:ext cx="677160" cy="598680"/>
          </a:xfrm>
          <a:prstGeom prst="bentConnector3">
            <a:avLst>
              <a:gd name="adj1" fmla="val 50000"/>
            </a:avLst>
          </a:prstGeom>
          <a:ln w="316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51" name=""/>
          <p:cNvSpPr/>
          <p:nvPr/>
        </p:nvSpPr>
        <p:spPr>
          <a:xfrm>
            <a:off x="4191120" y="5029200"/>
            <a:ext cx="1600200" cy="0"/>
          </a:xfrm>
          <a:prstGeom prst="line">
            <a:avLst/>
          </a:prstGeom>
          <a:ln w="12708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876920" y="4724280"/>
            <a:ext cx="285480" cy="609840"/>
          </a:xfrm>
          <a:prstGeom prst="rect">
            <a:avLst/>
          </a:prstGeom>
          <a:ln w="0">
            <a:noFill/>
          </a:ln>
        </p:spPr>
      </p:pic>
      <p:pic>
        <p:nvPicPr>
          <p:cNvPr id="853" name="motor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276480" cy="609840"/>
          </a:xfrm>
          <a:prstGeom prst="rect">
            <a:avLst/>
          </a:prstGeom>
          <a:ln w="0">
            <a:noFill/>
          </a:ln>
        </p:spPr>
      </p:pic>
      <p:pic>
        <p:nvPicPr>
          <p:cNvPr id="854" name="board" descr=""/>
          <p:cNvPicPr/>
          <p:nvPr/>
        </p:nvPicPr>
        <p:blipFill>
          <a:blip r:embed="rId4"/>
          <a:stretch/>
        </p:blipFill>
        <p:spPr>
          <a:xfrm>
            <a:off x="5229360" y="4724280"/>
            <a:ext cx="257040" cy="6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E091-895F-4F7F-9E2C-3D331EFBED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chined Par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56" name="part-1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940200" cy="2708280"/>
          </a:xfrm>
          <a:prstGeom prst="rect">
            <a:avLst/>
          </a:prstGeom>
          <a:ln w="0">
            <a:noFill/>
          </a:ln>
        </p:spPr>
      </p:pic>
      <p:pic>
        <p:nvPicPr>
          <p:cNvPr id="857" name="STEP%20AP203%20data-1" descr=""/>
          <p:cNvPicPr/>
          <p:nvPr/>
        </p:nvPicPr>
        <p:blipFill>
          <a:blip r:embed="rId2"/>
          <a:stretch/>
        </p:blipFill>
        <p:spPr>
          <a:xfrm>
            <a:off x="380880" y="2336760"/>
            <a:ext cx="4019760" cy="2657520"/>
          </a:xfrm>
          <a:prstGeom prst="rect">
            <a:avLst/>
          </a:prstGeom>
          <a:ln w="0">
            <a:noFill/>
          </a:ln>
        </p:spPr>
      </p:pic>
      <p:cxnSp>
        <p:nvCxnSpPr>
          <p:cNvPr id="858" name=""/>
          <p:cNvCxnSpPr>
            <a:stCxn id="857" idx="0"/>
            <a:endCxn id="856" idx="0"/>
          </p:cNvCxnSpPr>
          <p:nvPr/>
        </p:nvCxnSpPr>
        <p:spPr>
          <a:xfrm flipH="1" rot="16200000">
            <a:off x="4644000" y="83160"/>
            <a:ext cx="102240" cy="4609080"/>
          </a:xfrm>
          <a:prstGeom prst="bentConnector3">
            <a:avLst>
              <a:gd name="adj1" fmla="val -843462"/>
            </a:avLst>
          </a:prstGeom>
          <a:ln w="63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59" name=""/>
          <p:cNvSpPr/>
          <p:nvPr/>
        </p:nvSpPr>
        <p:spPr>
          <a:xfrm>
            <a:off x="1447920" y="522756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203 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"/>
          <p:cNvSpPr/>
          <p:nvPr/>
        </p:nvSpPr>
        <p:spPr>
          <a:xfrm>
            <a:off x="6248520" y="5227560"/>
            <a:ext cx="1752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d par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1" name=""/>
          <p:cNvSpPr/>
          <p:nvPr/>
        </p:nvSpPr>
        <p:spPr>
          <a:xfrm>
            <a:off x="3657600" y="1200240"/>
            <a:ext cx="2286000" cy="55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rea STEP-N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3BD0-2FFE-4E6F-B492-15E6209922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600200"/>
            <a:ext cx="4191120" cy="990720"/>
          </a:xfrm>
          <a:custGeom>
            <a:avLst/>
            <a:gdLst/>
            <a:ahLst/>
            <a:rect l="l" t="t" r="r" b="b"/>
            <a:pathLst>
              <a:path w="2640" h="672">
                <a:moveTo>
                  <a:pt x="0" y="0"/>
                </a:moveTo>
                <a:lnTo>
                  <a:pt x="0" y="240"/>
                </a:lnTo>
                <a:lnTo>
                  <a:pt x="288" y="240"/>
                </a:lnTo>
                <a:lnTo>
                  <a:pt x="288" y="672"/>
                </a:lnTo>
                <a:lnTo>
                  <a:pt x="2640" y="672"/>
                </a:lnTo>
                <a:lnTo>
                  <a:pt x="2640" y="0"/>
                </a:lnTo>
                <a:lnTo>
                  <a:pt x="0" y="0"/>
                </a:lnTo>
                <a:close/>
              </a:path>
            </a:pathLst>
          </a:cu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971800"/>
            <a:ext cx="4267080" cy="129528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Three types of  STEP-compliant CNC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1: Conventional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ISO 14649 to G-co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” post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2: New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preting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ISO 14649 co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ool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ithfully performs as specified in ISO 14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3: New intelligent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c feature 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c tool path for mach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c tool path for switching (approach, retra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hining status and result 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lision avoidance (fixture &amp; in-process geome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mal workingstep sequence                                          (based on non-linear process 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ol 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aptiv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machine measurement (inspe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c part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60840" y="3726000"/>
            <a:ext cx="3122640" cy="493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545160" y="1368360"/>
            <a:ext cx="2095560" cy="20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67080" y="4762440"/>
            <a:ext cx="1069560" cy="1028160"/>
            <a:chOff x="4267080" y="4762440"/>
            <a:chExt cx="1069560" cy="1028160"/>
          </a:xfrm>
        </p:grpSpPr>
        <p:sp>
          <p:nvSpPr>
            <p:cNvPr id="105" name=""/>
            <p:cNvSpPr/>
            <p:nvPr/>
          </p:nvSpPr>
          <p:spPr>
            <a:xfrm>
              <a:off x="4267080" y="5495400"/>
              <a:ext cx="1063440" cy="255960"/>
            </a:xfrm>
            <a:custGeom>
              <a:avLst/>
              <a:gdLst/>
              <a:ahLst/>
              <a:rect l="l" t="t" r="r" b="b"/>
              <a:pathLst>
                <a:path w="353" h="86">
                  <a:moveTo>
                    <a:pt x="13" y="0"/>
                  </a:moveTo>
                  <a:lnTo>
                    <a:pt x="335" y="0"/>
                  </a:lnTo>
                  <a:lnTo>
                    <a:pt x="353" y="86"/>
                  </a:lnTo>
                  <a:lnTo>
                    <a:pt x="0" y="8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84720" y="5495400"/>
              <a:ext cx="1018800" cy="232200"/>
            </a:xfrm>
            <a:custGeom>
              <a:avLst/>
              <a:gdLst/>
              <a:ahLst/>
              <a:rect l="l" t="t" r="r" b="b"/>
              <a:pathLst>
                <a:path w="338" h="78">
                  <a:moveTo>
                    <a:pt x="14" y="0"/>
                  </a:moveTo>
                  <a:lnTo>
                    <a:pt x="0" y="78"/>
                  </a:lnTo>
                  <a:lnTo>
                    <a:pt x="338" y="78"/>
                  </a:lnTo>
                  <a:lnTo>
                    <a:pt x="3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99840" y="5600160"/>
              <a:ext cx="636120" cy="112680"/>
            </a:xfrm>
            <a:custGeom>
              <a:avLst/>
              <a:gdLst/>
              <a:ahLst/>
              <a:rect l="l" t="t" r="r" b="b"/>
              <a:pathLst>
                <a:path w="211" h="38">
                  <a:moveTo>
                    <a:pt x="7" y="0"/>
                  </a:moveTo>
                  <a:lnTo>
                    <a:pt x="0" y="38"/>
                  </a:lnTo>
                  <a:lnTo>
                    <a:pt x="16" y="38"/>
                  </a:lnTo>
                  <a:lnTo>
                    <a:pt x="18" y="30"/>
                  </a:lnTo>
                  <a:lnTo>
                    <a:pt x="34" y="30"/>
                  </a:lnTo>
                  <a:lnTo>
                    <a:pt x="34" y="38"/>
                  </a:lnTo>
                  <a:lnTo>
                    <a:pt x="177" y="38"/>
                  </a:lnTo>
                  <a:lnTo>
                    <a:pt x="177" y="30"/>
                  </a:lnTo>
                  <a:lnTo>
                    <a:pt x="193" y="30"/>
                  </a:lnTo>
                  <a:lnTo>
                    <a:pt x="193" y="38"/>
                  </a:lnTo>
                  <a:lnTo>
                    <a:pt x="211" y="38"/>
                  </a:lnTo>
                  <a:lnTo>
                    <a:pt x="209" y="0"/>
                  </a:lnTo>
                  <a:lnTo>
                    <a:pt x="1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7080" y="5751720"/>
              <a:ext cx="1069560" cy="388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080" y="5769720"/>
              <a:ext cx="10634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84720" y="5727960"/>
              <a:ext cx="1018800" cy="57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27200" y="5540040"/>
              <a:ext cx="934200" cy="118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83560" y="5513760"/>
              <a:ext cx="165240" cy="262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0" y="9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5" y="9"/>
                  </a:lnTo>
                  <a:lnTo>
                    <a:pt x="6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89680" y="5558400"/>
              <a:ext cx="53640" cy="111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43680" y="5558400"/>
              <a:ext cx="53640" cy="111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2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01280" y="5558400"/>
              <a:ext cx="53640" cy="111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2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89680" y="5600160"/>
              <a:ext cx="192600" cy="1126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0" y="0"/>
                  </a:moveTo>
                  <a:lnTo>
                    <a:pt x="2" y="38"/>
                  </a:lnTo>
                  <a:lnTo>
                    <a:pt x="64" y="38"/>
                  </a:lnTo>
                  <a:lnTo>
                    <a:pt x="57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51080" y="5665680"/>
              <a:ext cx="128880" cy="471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2" y="16"/>
                  </a:moveTo>
                  <a:lnTo>
                    <a:pt x="0" y="8"/>
                  </a:lnTo>
                  <a:lnTo>
                    <a:pt x="16" y="8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43" y="8"/>
                  </a:lnTo>
                  <a:lnTo>
                    <a:pt x="43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51080" y="5600160"/>
              <a:ext cx="128880" cy="38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2" y="13"/>
                  </a:lnTo>
                  <a:lnTo>
                    <a:pt x="43" y="13"/>
                  </a:lnTo>
                  <a:lnTo>
                    <a:pt x="41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1080" y="5546160"/>
              <a:ext cx="123480" cy="234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0"/>
                  </a:moveTo>
                  <a:lnTo>
                    <a:pt x="0" y="8"/>
                  </a:lnTo>
                  <a:lnTo>
                    <a:pt x="41" y="8"/>
                  </a:lnTo>
                  <a:lnTo>
                    <a:pt x="3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27200" y="5546160"/>
              <a:ext cx="48240" cy="1800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4" y="0"/>
                  </a:moveTo>
                  <a:lnTo>
                    <a:pt x="0" y="6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08200" y="5546160"/>
              <a:ext cx="162360" cy="23400"/>
            </a:xfrm>
            <a:custGeom>
              <a:avLst/>
              <a:gdLst/>
              <a:ahLst/>
              <a:rect l="l" t="t" r="r" b="b"/>
              <a:pathLst>
                <a:path w="54" h="8">
                  <a:moveTo>
                    <a:pt x="0" y="0"/>
                  </a:moveTo>
                  <a:lnTo>
                    <a:pt x="0" y="8"/>
                  </a:lnTo>
                  <a:lnTo>
                    <a:pt x="54" y="8"/>
                  </a:lnTo>
                  <a:lnTo>
                    <a:pt x="54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89640" y="5546160"/>
              <a:ext cx="165240" cy="23400"/>
            </a:xfrm>
            <a:custGeom>
              <a:avLst/>
              <a:gdLst/>
              <a:ahLst/>
              <a:rect l="l" t="t" r="r" b="b"/>
              <a:pathLst>
                <a:path w="55" h="8">
                  <a:moveTo>
                    <a:pt x="2" y="0"/>
                  </a:moveTo>
                  <a:lnTo>
                    <a:pt x="0" y="8"/>
                  </a:lnTo>
                  <a:lnTo>
                    <a:pt x="55" y="8"/>
                  </a:lnTo>
                  <a:lnTo>
                    <a:pt x="5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70000" y="5546160"/>
              <a:ext cx="165960" cy="23400"/>
            </a:xfrm>
            <a:custGeom>
              <a:avLst/>
              <a:gdLst/>
              <a:ahLst/>
              <a:rect l="l" t="t" r="r" b="b"/>
              <a:pathLst>
                <a:path w="55" h="8">
                  <a:moveTo>
                    <a:pt x="0" y="0"/>
                  </a:moveTo>
                  <a:lnTo>
                    <a:pt x="2" y="8"/>
                  </a:lnTo>
                  <a:lnTo>
                    <a:pt x="55" y="8"/>
                  </a:lnTo>
                  <a:lnTo>
                    <a:pt x="5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99840" y="5689440"/>
              <a:ext cx="54360" cy="234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2" y="0"/>
                  </a:moveTo>
                  <a:lnTo>
                    <a:pt x="0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2080" y="5689440"/>
              <a:ext cx="48240" cy="234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5120" y="5689440"/>
              <a:ext cx="48240" cy="234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16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81240" y="5689440"/>
              <a:ext cx="48240" cy="234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16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1080" y="5689440"/>
              <a:ext cx="128880" cy="23400"/>
            </a:xfrm>
            <a:custGeom>
              <a:avLst/>
              <a:gdLst/>
              <a:ahLst/>
              <a:rect l="l" t="t" r="r" b="b"/>
              <a:pathLst>
                <a:path w="43" h="8">
                  <a:moveTo>
                    <a:pt x="0" y="0"/>
                  </a:moveTo>
                  <a:lnTo>
                    <a:pt x="2" y="8"/>
                  </a:lnTo>
                  <a:lnTo>
                    <a:pt x="43" y="8"/>
                  </a:lnTo>
                  <a:lnTo>
                    <a:pt x="41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93560" y="5665680"/>
              <a:ext cx="41400" cy="23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4" y="0"/>
                  </a:moveTo>
                  <a:lnTo>
                    <a:pt x="14" y="8"/>
                  </a:lnTo>
                  <a:lnTo>
                    <a:pt x="2" y="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53560" y="5689440"/>
              <a:ext cx="331200" cy="23400"/>
            </a:xfrm>
            <a:custGeom>
              <a:avLst/>
              <a:gdLst/>
              <a:ahLst/>
              <a:rect l="l" t="t" r="r" b="b"/>
              <a:pathLst>
                <a:path w="110" h="8">
                  <a:moveTo>
                    <a:pt x="0" y="0"/>
                  </a:moveTo>
                  <a:lnTo>
                    <a:pt x="0" y="8"/>
                  </a:lnTo>
                  <a:lnTo>
                    <a:pt x="108" y="8"/>
                  </a:lnTo>
                  <a:lnTo>
                    <a:pt x="11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45960" y="5638680"/>
              <a:ext cx="83880" cy="2340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28" y="0"/>
                  </a:moveTo>
                  <a:lnTo>
                    <a:pt x="2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4600" y="5587920"/>
              <a:ext cx="74880" cy="2088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5" y="0"/>
                  </a:moveTo>
                  <a:lnTo>
                    <a:pt x="2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75440" y="5638680"/>
              <a:ext cx="464040" cy="23400"/>
            </a:xfrm>
            <a:custGeom>
              <a:avLst/>
              <a:gdLst/>
              <a:ahLst/>
              <a:rect l="l" t="t" r="r" b="b"/>
              <a:pathLst>
                <a:path w="154" h="8">
                  <a:moveTo>
                    <a:pt x="0" y="0"/>
                  </a:moveTo>
                  <a:lnTo>
                    <a:pt x="0" y="8"/>
                  </a:lnTo>
                  <a:lnTo>
                    <a:pt x="154" y="8"/>
                  </a:lnTo>
                  <a:lnTo>
                    <a:pt x="15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66120" y="5615280"/>
              <a:ext cx="63360" cy="1728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1" y="0"/>
                  </a:moveTo>
                  <a:lnTo>
                    <a:pt x="21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0680" y="5615280"/>
              <a:ext cx="500040" cy="17280"/>
            </a:xfrm>
            <a:custGeom>
              <a:avLst/>
              <a:gdLst/>
              <a:ahLst/>
              <a:rect l="l" t="t" r="r" b="b"/>
              <a:pathLst>
                <a:path w="166" h="6">
                  <a:moveTo>
                    <a:pt x="1" y="0"/>
                  </a:moveTo>
                  <a:lnTo>
                    <a:pt x="0" y="6"/>
                  </a:lnTo>
                  <a:lnTo>
                    <a:pt x="166" y="6"/>
                  </a:lnTo>
                  <a:lnTo>
                    <a:pt x="166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18600" y="5665680"/>
              <a:ext cx="111240" cy="2340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7" y="0"/>
                  </a:moveTo>
                  <a:lnTo>
                    <a:pt x="37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95960" y="5665680"/>
              <a:ext cx="416160" cy="23400"/>
            </a:xfrm>
            <a:custGeom>
              <a:avLst/>
              <a:gdLst/>
              <a:ahLst/>
              <a:rect l="l" t="t" r="r" b="b"/>
              <a:pathLst>
                <a:path w="138" h="8">
                  <a:moveTo>
                    <a:pt x="2" y="0"/>
                  </a:moveTo>
                  <a:lnTo>
                    <a:pt x="0" y="8"/>
                  </a:lnTo>
                  <a:lnTo>
                    <a:pt x="138" y="8"/>
                  </a:lnTo>
                  <a:lnTo>
                    <a:pt x="138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5960" y="5665680"/>
              <a:ext cx="90000" cy="2340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3" y="0"/>
                  </a:moveTo>
                  <a:lnTo>
                    <a:pt x="0" y="8"/>
                  </a:lnTo>
                  <a:lnTo>
                    <a:pt x="28" y="8"/>
                  </a:lnTo>
                  <a:lnTo>
                    <a:pt x="3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12080" y="5638680"/>
              <a:ext cx="57240" cy="234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0"/>
                  </a:moveTo>
                  <a:lnTo>
                    <a:pt x="0" y="8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4600" y="5615280"/>
              <a:ext cx="45720" cy="172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2" y="0"/>
                  </a:moveTo>
                  <a:lnTo>
                    <a:pt x="0" y="6"/>
                  </a:lnTo>
                  <a:lnTo>
                    <a:pt x="13" y="6"/>
                  </a:lnTo>
                  <a:lnTo>
                    <a:pt x="1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20720" y="5587920"/>
              <a:ext cx="527400" cy="2088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2" y="0"/>
                  </a:moveTo>
                  <a:lnTo>
                    <a:pt x="0" y="7"/>
                  </a:lnTo>
                  <a:lnTo>
                    <a:pt x="175" y="7"/>
                  </a:lnTo>
                  <a:lnTo>
                    <a:pt x="17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27200" y="5540040"/>
              <a:ext cx="48240" cy="295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8200" y="5540040"/>
              <a:ext cx="159840" cy="2952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0" y="10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10"/>
                  </a:lnTo>
                  <a:lnTo>
                    <a:pt x="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89640" y="5540040"/>
              <a:ext cx="159120" cy="2952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0" y="10"/>
                  </a:moveTo>
                  <a:lnTo>
                    <a:pt x="2" y="0"/>
                  </a:lnTo>
                  <a:lnTo>
                    <a:pt x="53" y="0"/>
                  </a:lnTo>
                  <a:lnTo>
                    <a:pt x="5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597920" y="5569920"/>
              <a:ext cx="1501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70000" y="5540040"/>
              <a:ext cx="159840" cy="2952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0" y="10"/>
                  </a:moveTo>
                  <a:lnTo>
                    <a:pt x="2" y="0"/>
                  </a:lnTo>
                  <a:lnTo>
                    <a:pt x="53" y="0"/>
                  </a:lnTo>
                  <a:lnTo>
                    <a:pt x="53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51080" y="5540040"/>
              <a:ext cx="117360" cy="2952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10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39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1080" y="5615280"/>
              <a:ext cx="123480" cy="234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2" y="8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41" y="8"/>
                  </a:lnTo>
                  <a:lnTo>
                    <a:pt x="4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1080" y="5587920"/>
              <a:ext cx="117360" cy="2088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0" y="7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95800" y="5689440"/>
              <a:ext cx="101520" cy="2340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30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1280" y="5689440"/>
              <a:ext cx="32760" cy="23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8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34040" y="5665680"/>
              <a:ext cx="42120" cy="471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2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4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5800" y="5665680"/>
              <a:ext cx="137880" cy="2340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0" y="8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6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28640" y="5615280"/>
              <a:ext cx="38880" cy="471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2" y="16"/>
                  </a:moveTo>
                  <a:lnTo>
                    <a:pt x="13" y="1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9680" y="5638680"/>
              <a:ext cx="138600" cy="2340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2" y="8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89680" y="5615280"/>
              <a:ext cx="132480" cy="23400"/>
            </a:xfrm>
            <a:custGeom>
              <a:avLst/>
              <a:gdLst/>
              <a:ahLst/>
              <a:rect l="l" t="t" r="r" b="b"/>
              <a:pathLst>
                <a:path w="44" h="8">
                  <a:moveTo>
                    <a:pt x="0" y="8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4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89680" y="5587920"/>
              <a:ext cx="171360" cy="20880"/>
            </a:xfrm>
            <a:custGeom>
              <a:avLst/>
              <a:gdLst/>
              <a:ahLst/>
              <a:rect l="l" t="t" r="r" b="b"/>
              <a:pathLst>
                <a:path w="57" h="7">
                  <a:moveTo>
                    <a:pt x="0" y="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7" y="7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22440" y="5519160"/>
              <a:ext cx="84600" cy="576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0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95800" y="5531400"/>
              <a:ext cx="144000" cy="8640"/>
            </a:xfrm>
            <a:custGeom>
              <a:avLst/>
              <a:gdLst/>
              <a:ahLst/>
              <a:rect l="l" t="t" r="r" b="b"/>
              <a:pathLst>
                <a:path w="48" h="3">
                  <a:moveTo>
                    <a:pt x="0" y="0"/>
                  </a:moveTo>
                  <a:lnTo>
                    <a:pt x="2" y="3"/>
                  </a:lnTo>
                  <a:lnTo>
                    <a:pt x="48" y="3"/>
                  </a:lnTo>
                  <a:lnTo>
                    <a:pt x="4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6160" y="5343480"/>
              <a:ext cx="464040" cy="119520"/>
            </a:xfrm>
            <a:custGeom>
              <a:avLst/>
              <a:gdLst/>
              <a:ahLst/>
              <a:rect l="l" t="t" r="r" b="b"/>
              <a:pathLst>
                <a:path w="154" h="40">
                  <a:moveTo>
                    <a:pt x="23" y="0"/>
                  </a:moveTo>
                  <a:lnTo>
                    <a:pt x="21" y="5"/>
                  </a:lnTo>
                  <a:lnTo>
                    <a:pt x="9" y="9"/>
                  </a:lnTo>
                  <a:lnTo>
                    <a:pt x="7" y="15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54" y="40"/>
                  </a:lnTo>
                  <a:lnTo>
                    <a:pt x="154" y="34"/>
                  </a:lnTo>
                  <a:lnTo>
                    <a:pt x="147" y="9"/>
                  </a:lnTo>
                  <a:lnTo>
                    <a:pt x="135" y="5"/>
                  </a:lnTo>
                  <a:lnTo>
                    <a:pt x="13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56160" y="5444640"/>
              <a:ext cx="464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62280" y="5343480"/>
              <a:ext cx="83880" cy="896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8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7040" y="5358240"/>
              <a:ext cx="42120" cy="295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2" y="4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6160" y="5343480"/>
              <a:ext cx="464040" cy="101160"/>
            </a:xfrm>
            <a:custGeom>
              <a:avLst/>
              <a:gdLst/>
              <a:ahLst/>
              <a:rect l="l" t="t" r="r" b="b"/>
              <a:pathLst>
                <a:path w="154" h="34">
                  <a:moveTo>
                    <a:pt x="126" y="0"/>
                  </a:moveTo>
                  <a:lnTo>
                    <a:pt x="126" y="13"/>
                  </a:lnTo>
                  <a:lnTo>
                    <a:pt x="154" y="30"/>
                  </a:lnTo>
                  <a:lnTo>
                    <a:pt x="154" y="34"/>
                  </a:lnTo>
                  <a:lnTo>
                    <a:pt x="78" y="34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63320" y="5358240"/>
              <a:ext cx="41400" cy="295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lnTo>
                    <a:pt x="12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19520" y="5359320"/>
              <a:ext cx="3459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50680" y="4762440"/>
              <a:ext cx="680400" cy="590400"/>
            </a:xfrm>
            <a:custGeom>
              <a:avLst/>
              <a:gdLst/>
              <a:ahLst/>
              <a:rect l="l" t="t" r="r" b="b"/>
              <a:pathLst>
                <a:path w="226" h="198">
                  <a:moveTo>
                    <a:pt x="14" y="0"/>
                  </a:moveTo>
                  <a:lnTo>
                    <a:pt x="5" y="2"/>
                  </a:lnTo>
                  <a:lnTo>
                    <a:pt x="1" y="7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5"/>
                  </a:lnTo>
                  <a:lnTo>
                    <a:pt x="0" y="187"/>
                  </a:lnTo>
                  <a:lnTo>
                    <a:pt x="1" y="193"/>
                  </a:lnTo>
                  <a:lnTo>
                    <a:pt x="5" y="197"/>
                  </a:lnTo>
                  <a:lnTo>
                    <a:pt x="14" y="198"/>
                  </a:lnTo>
                  <a:lnTo>
                    <a:pt x="212" y="198"/>
                  </a:lnTo>
                  <a:lnTo>
                    <a:pt x="214" y="198"/>
                  </a:lnTo>
                  <a:lnTo>
                    <a:pt x="219" y="197"/>
                  </a:lnTo>
                  <a:lnTo>
                    <a:pt x="225" y="193"/>
                  </a:lnTo>
                  <a:lnTo>
                    <a:pt x="226" y="185"/>
                  </a:lnTo>
                  <a:lnTo>
                    <a:pt x="226" y="15"/>
                  </a:lnTo>
                  <a:lnTo>
                    <a:pt x="226" y="13"/>
                  </a:lnTo>
                  <a:lnTo>
                    <a:pt x="225" y="7"/>
                  </a:lnTo>
                  <a:lnTo>
                    <a:pt x="221" y="2"/>
                  </a:lnTo>
                  <a:lnTo>
                    <a:pt x="2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59680" y="4774320"/>
              <a:ext cx="656640" cy="568800"/>
            </a:xfrm>
            <a:custGeom>
              <a:avLst/>
              <a:gdLst/>
              <a:ahLst/>
              <a:rect l="l" t="t" r="r" b="b"/>
              <a:pathLst>
                <a:path w="218" h="191">
                  <a:moveTo>
                    <a:pt x="13" y="0"/>
                  </a:moveTo>
                  <a:lnTo>
                    <a:pt x="6" y="2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2" y="185"/>
                  </a:lnTo>
                  <a:lnTo>
                    <a:pt x="6" y="189"/>
                  </a:lnTo>
                  <a:lnTo>
                    <a:pt x="13" y="191"/>
                  </a:lnTo>
                  <a:lnTo>
                    <a:pt x="206" y="191"/>
                  </a:lnTo>
                  <a:lnTo>
                    <a:pt x="207" y="191"/>
                  </a:lnTo>
                  <a:lnTo>
                    <a:pt x="213" y="189"/>
                  </a:lnTo>
                  <a:lnTo>
                    <a:pt x="216" y="185"/>
                  </a:lnTo>
                  <a:lnTo>
                    <a:pt x="218" y="177"/>
                  </a:lnTo>
                  <a:lnTo>
                    <a:pt x="218" y="13"/>
                  </a:lnTo>
                  <a:lnTo>
                    <a:pt x="218" y="11"/>
                  </a:lnTo>
                  <a:lnTo>
                    <a:pt x="216" y="7"/>
                  </a:lnTo>
                  <a:lnTo>
                    <a:pt x="213" y="2"/>
                  </a:lnTo>
                  <a:lnTo>
                    <a:pt x="20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83840" y="5302080"/>
              <a:ext cx="63360" cy="47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83840" y="5302080"/>
              <a:ext cx="51120" cy="41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14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17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89960" y="5302080"/>
              <a:ext cx="51120" cy="47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89960" y="5307480"/>
              <a:ext cx="51120" cy="2412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3560" y="5313600"/>
              <a:ext cx="17640" cy="11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78040" y="4789440"/>
              <a:ext cx="623160" cy="500760"/>
            </a:xfrm>
            <a:custGeom>
              <a:avLst/>
              <a:gdLst/>
              <a:ahLst/>
              <a:rect l="l" t="t" r="r" b="b"/>
              <a:pathLst>
                <a:path w="207" h="168">
                  <a:moveTo>
                    <a:pt x="12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157"/>
                  </a:lnTo>
                  <a:lnTo>
                    <a:pt x="1" y="163"/>
                  </a:lnTo>
                  <a:lnTo>
                    <a:pt x="5" y="167"/>
                  </a:lnTo>
                  <a:lnTo>
                    <a:pt x="12" y="168"/>
                  </a:lnTo>
                  <a:lnTo>
                    <a:pt x="194" y="168"/>
                  </a:lnTo>
                  <a:lnTo>
                    <a:pt x="196" y="168"/>
                  </a:lnTo>
                  <a:lnTo>
                    <a:pt x="201" y="167"/>
                  </a:lnTo>
                  <a:lnTo>
                    <a:pt x="205" y="163"/>
                  </a:lnTo>
                  <a:lnTo>
                    <a:pt x="207" y="157"/>
                  </a:lnTo>
                  <a:lnTo>
                    <a:pt x="207" y="12"/>
                  </a:lnTo>
                  <a:lnTo>
                    <a:pt x="205" y="6"/>
                  </a:lnTo>
                  <a:lnTo>
                    <a:pt x="201" y="2"/>
                  </a:lnTo>
                  <a:lnTo>
                    <a:pt x="19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02160" y="4818960"/>
              <a:ext cx="572400" cy="443880"/>
            </a:xfrm>
            <a:custGeom>
              <a:avLst/>
              <a:gdLst/>
              <a:ahLst/>
              <a:rect l="l" t="t" r="r" b="b"/>
              <a:pathLst>
                <a:path w="190" h="149">
                  <a:moveTo>
                    <a:pt x="7" y="0"/>
                  </a:moveTo>
                  <a:lnTo>
                    <a:pt x="2" y="4"/>
                  </a:lnTo>
                  <a:lnTo>
                    <a:pt x="0" y="8"/>
                  </a:lnTo>
                  <a:lnTo>
                    <a:pt x="0" y="141"/>
                  </a:lnTo>
                  <a:lnTo>
                    <a:pt x="2" y="145"/>
                  </a:lnTo>
                  <a:lnTo>
                    <a:pt x="7" y="149"/>
                  </a:lnTo>
                  <a:lnTo>
                    <a:pt x="183" y="149"/>
                  </a:lnTo>
                  <a:lnTo>
                    <a:pt x="186" y="149"/>
                  </a:lnTo>
                  <a:lnTo>
                    <a:pt x="190" y="141"/>
                  </a:lnTo>
                  <a:lnTo>
                    <a:pt x="190" y="8"/>
                  </a:lnTo>
                  <a:lnTo>
                    <a:pt x="190" y="4"/>
                  </a:lnTo>
                  <a:lnTo>
                    <a:pt x="18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13680" y="4831200"/>
              <a:ext cx="548640" cy="396000"/>
            </a:xfrm>
            <a:custGeom>
              <a:avLst/>
              <a:gdLst/>
              <a:ahLst/>
              <a:rect l="l" t="t" r="r" b="b"/>
              <a:pathLst>
                <a:path w="182" h="133">
                  <a:moveTo>
                    <a:pt x="5" y="0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5" y="133"/>
                  </a:lnTo>
                  <a:lnTo>
                    <a:pt x="177" y="133"/>
                  </a:lnTo>
                  <a:lnTo>
                    <a:pt x="181" y="133"/>
                  </a:lnTo>
                  <a:lnTo>
                    <a:pt x="182" y="128"/>
                  </a:lnTo>
                  <a:lnTo>
                    <a:pt x="182" y="5"/>
                  </a:lnTo>
                  <a:lnTo>
                    <a:pt x="182" y="4"/>
                  </a:lnTo>
                  <a:lnTo>
                    <a:pt x="17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054760" y="4697280"/>
            <a:ext cx="95544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100400" y="914400"/>
            <a:ext cx="1528560" cy="1343880"/>
            <a:chOff x="4100400" y="914400"/>
            <a:chExt cx="1528560" cy="1343880"/>
          </a:xfrm>
        </p:grpSpPr>
        <p:sp>
          <p:nvSpPr>
            <p:cNvPr id="179" name=""/>
            <p:cNvSpPr/>
            <p:nvPr/>
          </p:nvSpPr>
          <p:spPr>
            <a:xfrm>
              <a:off x="4100400" y="1540080"/>
              <a:ext cx="339840" cy="201960"/>
            </a:xfrm>
            <a:custGeom>
              <a:avLst/>
              <a:gdLst/>
              <a:ahLst/>
              <a:rect l="l" t="t" r="r" b="b"/>
              <a:pathLst>
                <a:path w="117" h="70">
                  <a:moveTo>
                    <a:pt x="0" y="70"/>
                  </a:moveTo>
                  <a:lnTo>
                    <a:pt x="117" y="9"/>
                  </a:lnTo>
                  <a:lnTo>
                    <a:pt x="117" y="0"/>
                  </a:lnTo>
                  <a:lnTo>
                    <a:pt x="86" y="15"/>
                  </a:lnTo>
                  <a:lnTo>
                    <a:pt x="86" y="3"/>
                  </a:lnTo>
                  <a:lnTo>
                    <a:pt x="76" y="9"/>
                  </a:lnTo>
                  <a:lnTo>
                    <a:pt x="76" y="19"/>
                  </a:lnTo>
                  <a:lnTo>
                    <a:pt x="38" y="38"/>
                  </a:lnTo>
                  <a:lnTo>
                    <a:pt x="38" y="34"/>
                  </a:lnTo>
                  <a:lnTo>
                    <a:pt x="38" y="30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0" y="6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16320" y="1687320"/>
              <a:ext cx="634320" cy="349200"/>
            </a:xfrm>
            <a:custGeom>
              <a:avLst/>
              <a:gdLst/>
              <a:ahLst/>
              <a:rect l="l" t="t" r="r" b="b"/>
              <a:pathLst>
                <a:path w="218" h="121">
                  <a:moveTo>
                    <a:pt x="218" y="121"/>
                  </a:moveTo>
                  <a:lnTo>
                    <a:pt x="218" y="115"/>
                  </a:lnTo>
                  <a:lnTo>
                    <a:pt x="0" y="0"/>
                  </a:lnTo>
                  <a:lnTo>
                    <a:pt x="0" y="6"/>
                  </a:lnTo>
                  <a:lnTo>
                    <a:pt x="218" y="1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5120" y="1687320"/>
              <a:ext cx="61200" cy="464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0"/>
                  </a:moveTo>
                  <a:lnTo>
                    <a:pt x="21" y="6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00400" y="1672920"/>
              <a:ext cx="791640" cy="412560"/>
            </a:xfrm>
            <a:custGeom>
              <a:avLst/>
              <a:gdLst/>
              <a:ahLst/>
              <a:rect l="l" t="t" r="r" b="b"/>
              <a:pathLst>
                <a:path w="272" h="143">
                  <a:moveTo>
                    <a:pt x="17" y="17"/>
                  </a:moveTo>
                  <a:lnTo>
                    <a:pt x="40" y="5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243" y="143"/>
                  </a:lnTo>
                  <a:lnTo>
                    <a:pt x="272" y="126"/>
                  </a:lnTo>
                  <a:lnTo>
                    <a:pt x="258" y="118"/>
                  </a:lnTo>
                  <a:lnTo>
                    <a:pt x="235" y="132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00400" y="1716120"/>
              <a:ext cx="707040" cy="39240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8"/>
                  </a:lnTo>
                  <a:lnTo>
                    <a:pt x="0" y="0"/>
                  </a:lnTo>
                  <a:lnTo>
                    <a:pt x="0" y="9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0400" y="1742400"/>
              <a:ext cx="707040" cy="515880"/>
            </a:xfrm>
            <a:custGeom>
              <a:avLst/>
              <a:gdLst/>
              <a:ahLst/>
              <a:rect l="l" t="t" r="r" b="b"/>
              <a:pathLst>
                <a:path w="243" h="179">
                  <a:moveTo>
                    <a:pt x="0" y="0"/>
                  </a:moveTo>
                  <a:lnTo>
                    <a:pt x="243" y="127"/>
                  </a:lnTo>
                  <a:lnTo>
                    <a:pt x="243" y="179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0560" y="1595160"/>
              <a:ext cx="821160" cy="423720"/>
            </a:xfrm>
            <a:custGeom>
              <a:avLst/>
              <a:gdLst/>
              <a:ahLst/>
              <a:rect l="l" t="t" r="r" b="b"/>
              <a:pathLst>
                <a:path w="282" h="147">
                  <a:moveTo>
                    <a:pt x="38" y="0"/>
                  </a:moveTo>
                  <a:lnTo>
                    <a:pt x="0" y="19"/>
                  </a:lnTo>
                  <a:lnTo>
                    <a:pt x="243" y="147"/>
                  </a:lnTo>
                  <a:lnTo>
                    <a:pt x="282" y="12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83920" y="1644120"/>
              <a:ext cx="707760" cy="39240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4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34720" y="1595160"/>
              <a:ext cx="55440" cy="60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19" y="11"/>
                  </a:lnTo>
                  <a:lnTo>
                    <a:pt x="19" y="21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34720" y="1361520"/>
              <a:ext cx="503640" cy="265320"/>
            </a:xfrm>
            <a:custGeom>
              <a:avLst/>
              <a:gdLst/>
              <a:ahLst/>
              <a:rect l="l" t="t" r="r" b="b"/>
              <a:pathLst>
                <a:path w="173" h="92">
                  <a:moveTo>
                    <a:pt x="17" y="92"/>
                  </a:moveTo>
                  <a:lnTo>
                    <a:pt x="0" y="81"/>
                  </a:lnTo>
                  <a:lnTo>
                    <a:pt x="153" y="0"/>
                  </a:lnTo>
                  <a:lnTo>
                    <a:pt x="173" y="10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90160" y="1390320"/>
              <a:ext cx="448200" cy="265320"/>
            </a:xfrm>
            <a:custGeom>
              <a:avLst/>
              <a:gdLst/>
              <a:ahLst/>
              <a:rect l="l" t="t" r="r" b="b"/>
              <a:pathLst>
                <a:path w="154" h="92">
                  <a:moveTo>
                    <a:pt x="0" y="82"/>
                  </a:moveTo>
                  <a:lnTo>
                    <a:pt x="0" y="92"/>
                  </a:lnTo>
                  <a:lnTo>
                    <a:pt x="154" y="8"/>
                  </a:lnTo>
                  <a:lnTo>
                    <a:pt x="154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6600" y="1107720"/>
              <a:ext cx="148320" cy="507600"/>
            </a:xfrm>
            <a:custGeom>
              <a:avLst/>
              <a:gdLst/>
              <a:ahLst/>
              <a:rect l="l" t="t" r="r" b="b"/>
              <a:pathLst>
                <a:path w="51" h="176">
                  <a:moveTo>
                    <a:pt x="0" y="0"/>
                  </a:moveTo>
                  <a:lnTo>
                    <a:pt x="51" y="27"/>
                  </a:lnTo>
                  <a:lnTo>
                    <a:pt x="51" y="176"/>
                  </a:lnTo>
                  <a:lnTo>
                    <a:pt x="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13200" y="914400"/>
              <a:ext cx="541440" cy="282960"/>
            </a:xfrm>
            <a:custGeom>
              <a:avLst/>
              <a:gdLst/>
              <a:ahLst/>
              <a:rect l="l" t="t" r="r" b="b"/>
              <a:pathLst>
                <a:path w="186" h="98">
                  <a:moveTo>
                    <a:pt x="10" y="65"/>
                  </a:moveTo>
                  <a:lnTo>
                    <a:pt x="40" y="52"/>
                  </a:lnTo>
                  <a:lnTo>
                    <a:pt x="0" y="31"/>
                  </a:lnTo>
                  <a:lnTo>
                    <a:pt x="59" y="0"/>
                  </a:lnTo>
                  <a:lnTo>
                    <a:pt x="186" y="67"/>
                  </a:lnTo>
                  <a:lnTo>
                    <a:pt x="128" y="98"/>
                  </a:lnTo>
                  <a:lnTo>
                    <a:pt x="88" y="79"/>
                  </a:lnTo>
                  <a:lnTo>
                    <a:pt x="59" y="94"/>
                  </a:lnTo>
                  <a:lnTo>
                    <a:pt x="10" y="67"/>
                  </a:lnTo>
                  <a:lnTo>
                    <a:pt x="10" y="6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19320" y="1003680"/>
              <a:ext cx="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5092560" y="1874880"/>
              <a:ext cx="55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95680" y="1474200"/>
              <a:ext cx="1832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54640" y="1427760"/>
              <a:ext cx="2739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29480" y="1185840"/>
              <a:ext cx="55440" cy="464400"/>
            </a:xfrm>
            <a:custGeom>
              <a:avLst/>
              <a:gdLst/>
              <a:ahLst/>
              <a:rect l="l" t="t" r="r" b="b"/>
              <a:pathLst>
                <a:path w="19" h="161">
                  <a:moveTo>
                    <a:pt x="0" y="0"/>
                  </a:moveTo>
                  <a:lnTo>
                    <a:pt x="0" y="151"/>
                  </a:lnTo>
                  <a:lnTo>
                    <a:pt x="19" y="161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84920" y="1197360"/>
              <a:ext cx="28800" cy="45252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0" y="6"/>
                  </a:moveTo>
                  <a:lnTo>
                    <a:pt x="10" y="0"/>
                  </a:lnTo>
                  <a:lnTo>
                    <a:pt x="10" y="153"/>
                  </a:lnTo>
                  <a:lnTo>
                    <a:pt x="0" y="15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29480" y="1168200"/>
              <a:ext cx="84240" cy="4644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19" y="16"/>
                  </a:moveTo>
                  <a:lnTo>
                    <a:pt x="29" y="1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48480" y="1125000"/>
              <a:ext cx="26280" cy="453240"/>
            </a:xfrm>
            <a:custGeom>
              <a:avLst/>
              <a:gdLst/>
              <a:ahLst/>
              <a:rect l="l" t="t" r="r" b="b"/>
              <a:pathLst>
                <a:path w="9" h="157">
                  <a:moveTo>
                    <a:pt x="0" y="6"/>
                  </a:moveTo>
                  <a:lnTo>
                    <a:pt x="9" y="0"/>
                  </a:lnTo>
                  <a:lnTo>
                    <a:pt x="9" y="153"/>
                  </a:lnTo>
                  <a:lnTo>
                    <a:pt x="0" y="15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84400" y="1107720"/>
              <a:ext cx="63720" cy="47016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0" y="0"/>
                  </a:moveTo>
                  <a:lnTo>
                    <a:pt x="0" y="153"/>
                  </a:lnTo>
                  <a:lnTo>
                    <a:pt x="22" y="163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90160" y="1096200"/>
              <a:ext cx="84240" cy="4644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0" y="16"/>
                  </a:moveTo>
                  <a:lnTo>
                    <a:pt x="29" y="1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29480" y="1699200"/>
              <a:ext cx="55440" cy="547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9" y="10"/>
                  </a:lnTo>
                  <a:lnTo>
                    <a:pt x="19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84920" y="1494360"/>
              <a:ext cx="448200" cy="259560"/>
            </a:xfrm>
            <a:custGeom>
              <a:avLst/>
              <a:gdLst/>
              <a:ahLst/>
              <a:rect l="l" t="t" r="r" b="b"/>
              <a:pathLst>
                <a:path w="154" h="90">
                  <a:moveTo>
                    <a:pt x="0" y="81"/>
                  </a:moveTo>
                  <a:lnTo>
                    <a:pt x="0" y="90"/>
                  </a:lnTo>
                  <a:lnTo>
                    <a:pt x="154" y="8"/>
                  </a:lnTo>
                  <a:lnTo>
                    <a:pt x="154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29480" y="1468440"/>
              <a:ext cx="503640" cy="25956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9" y="90"/>
                  </a:moveTo>
                  <a:lnTo>
                    <a:pt x="0" y="80"/>
                  </a:lnTo>
                  <a:lnTo>
                    <a:pt x="155" y="0"/>
                  </a:lnTo>
                  <a:lnTo>
                    <a:pt x="173" y="9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14080" y="1197360"/>
              <a:ext cx="324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984920" y="1197000"/>
              <a:ext cx="2880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02320" y="1396440"/>
              <a:ext cx="366840" cy="169920"/>
            </a:xfrm>
            <a:custGeom>
              <a:avLst/>
              <a:gdLst/>
              <a:ahLst/>
              <a:rect l="l" t="t" r="r" b="b"/>
              <a:pathLst>
                <a:path w="126" h="59">
                  <a:moveTo>
                    <a:pt x="28" y="7"/>
                  </a:moveTo>
                  <a:lnTo>
                    <a:pt x="97" y="42"/>
                  </a:lnTo>
                  <a:lnTo>
                    <a:pt x="107" y="40"/>
                  </a:lnTo>
                  <a:lnTo>
                    <a:pt x="107" y="34"/>
                  </a:lnTo>
                  <a:lnTo>
                    <a:pt x="107" y="28"/>
                  </a:lnTo>
                  <a:lnTo>
                    <a:pt x="126" y="40"/>
                  </a:lnTo>
                  <a:lnTo>
                    <a:pt x="88" y="59"/>
                  </a:lnTo>
                  <a:lnTo>
                    <a:pt x="0" y="13"/>
                  </a:lnTo>
                  <a:lnTo>
                    <a:pt x="30" y="0"/>
                  </a:lnTo>
                  <a:lnTo>
                    <a:pt x="30" y="9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02320" y="1240560"/>
              <a:ext cx="255960" cy="325440"/>
            </a:xfrm>
            <a:custGeom>
              <a:avLst/>
              <a:gdLst/>
              <a:ahLst/>
              <a:rect l="l" t="t" r="r" b="b"/>
              <a:pathLst>
                <a:path w="88" h="113">
                  <a:moveTo>
                    <a:pt x="0" y="0"/>
                  </a:moveTo>
                  <a:lnTo>
                    <a:pt x="88" y="46"/>
                  </a:lnTo>
                  <a:lnTo>
                    <a:pt x="88" y="113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58640" y="1312560"/>
              <a:ext cx="110880" cy="25380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0" y="21"/>
                  </a:moveTo>
                  <a:lnTo>
                    <a:pt x="38" y="0"/>
                  </a:lnTo>
                  <a:lnTo>
                    <a:pt x="38" y="69"/>
                  </a:lnTo>
                  <a:lnTo>
                    <a:pt x="0" y="8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2320" y="1197360"/>
              <a:ext cx="366840" cy="175680"/>
            </a:xfrm>
            <a:custGeom>
              <a:avLst/>
              <a:gdLst/>
              <a:ahLst/>
              <a:rect l="l" t="t" r="r" b="b"/>
              <a:pathLst>
                <a:path w="126" h="61">
                  <a:moveTo>
                    <a:pt x="28" y="11"/>
                  </a:moveTo>
                  <a:lnTo>
                    <a:pt x="97" y="46"/>
                  </a:lnTo>
                  <a:lnTo>
                    <a:pt x="107" y="40"/>
                  </a:lnTo>
                  <a:lnTo>
                    <a:pt x="107" y="36"/>
                  </a:lnTo>
                  <a:lnTo>
                    <a:pt x="107" y="30"/>
                  </a:lnTo>
                  <a:lnTo>
                    <a:pt x="126" y="40"/>
                  </a:lnTo>
                  <a:lnTo>
                    <a:pt x="88" y="61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30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54640" y="1107720"/>
              <a:ext cx="324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8320" y="1595160"/>
              <a:ext cx="177480" cy="8604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2" y="30"/>
                  </a:moveTo>
                  <a:lnTo>
                    <a:pt x="61" y="19"/>
                  </a:lnTo>
                  <a:lnTo>
                    <a:pt x="21" y="0"/>
                  </a:lnTo>
                  <a:lnTo>
                    <a:pt x="0" y="9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8320" y="1615320"/>
              <a:ext cx="122760" cy="1386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23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1" y="23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42" y="48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85800" y="1107720"/>
              <a:ext cx="168840" cy="542160"/>
            </a:xfrm>
            <a:custGeom>
              <a:avLst/>
              <a:gdLst/>
              <a:ahLst/>
              <a:rect l="l" t="t" r="r" b="b"/>
              <a:pathLst>
                <a:path w="58" h="188">
                  <a:moveTo>
                    <a:pt x="0" y="31"/>
                  </a:moveTo>
                  <a:lnTo>
                    <a:pt x="0" y="188"/>
                  </a:lnTo>
                  <a:lnTo>
                    <a:pt x="58" y="157"/>
                  </a:lnTo>
                  <a:lnTo>
                    <a:pt x="5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31080" y="1560600"/>
              <a:ext cx="223560" cy="193320"/>
            </a:xfrm>
            <a:custGeom>
              <a:avLst/>
              <a:gdLst/>
              <a:ahLst/>
              <a:rect l="l" t="t" r="r" b="b"/>
              <a:pathLst>
                <a:path w="77" h="67">
                  <a:moveTo>
                    <a:pt x="77" y="0"/>
                  </a:moveTo>
                  <a:lnTo>
                    <a:pt x="0" y="42"/>
                  </a:lnTo>
                  <a:lnTo>
                    <a:pt x="0" y="67"/>
                  </a:lnTo>
                  <a:lnTo>
                    <a:pt x="77" y="27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9520" y="1142640"/>
              <a:ext cx="115920" cy="507600"/>
            </a:xfrm>
            <a:custGeom>
              <a:avLst/>
              <a:gdLst/>
              <a:ahLst/>
              <a:rect l="l" t="t" r="r" b="b"/>
              <a:pathLst>
                <a:path w="40" h="176">
                  <a:moveTo>
                    <a:pt x="0" y="0"/>
                  </a:moveTo>
                  <a:lnTo>
                    <a:pt x="0" y="157"/>
                  </a:lnTo>
                  <a:lnTo>
                    <a:pt x="40" y="176"/>
                  </a:lnTo>
                  <a:lnTo>
                    <a:pt x="4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014080" y="1595160"/>
              <a:ext cx="5544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1440" y="1566360"/>
              <a:ext cx="710280" cy="3924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244" y="136"/>
                  </a:moveTo>
                  <a:lnTo>
                    <a:pt x="244" y="127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5640" y="1566360"/>
              <a:ext cx="553320" cy="464400"/>
            </a:xfrm>
            <a:custGeom>
              <a:avLst/>
              <a:gdLst/>
              <a:ahLst/>
              <a:rect l="l" t="t" r="r" b="b"/>
              <a:pathLst>
                <a:path w="190" h="161">
                  <a:moveTo>
                    <a:pt x="25" y="161"/>
                  </a:moveTo>
                  <a:lnTo>
                    <a:pt x="190" y="71"/>
                  </a:lnTo>
                  <a:lnTo>
                    <a:pt x="190" y="0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7440" y="1904040"/>
              <a:ext cx="340560" cy="204480"/>
            </a:xfrm>
            <a:custGeom>
              <a:avLst/>
              <a:gdLst/>
              <a:ahLst/>
              <a:rect l="l" t="t" r="r" b="b"/>
              <a:pathLst>
                <a:path w="117" h="71">
                  <a:moveTo>
                    <a:pt x="0" y="71"/>
                  </a:moveTo>
                  <a:lnTo>
                    <a:pt x="117" y="10"/>
                  </a:lnTo>
                  <a:lnTo>
                    <a:pt x="117" y="0"/>
                  </a:lnTo>
                  <a:lnTo>
                    <a:pt x="86" y="15"/>
                  </a:lnTo>
                  <a:lnTo>
                    <a:pt x="86" y="6"/>
                  </a:lnTo>
                  <a:lnTo>
                    <a:pt x="77" y="10"/>
                  </a:lnTo>
                  <a:lnTo>
                    <a:pt x="77" y="19"/>
                  </a:lnTo>
                  <a:lnTo>
                    <a:pt x="38" y="40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0" y="63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7440" y="1932840"/>
              <a:ext cx="340560" cy="325440"/>
            </a:xfrm>
            <a:custGeom>
              <a:avLst/>
              <a:gdLst/>
              <a:ahLst/>
              <a:rect l="l" t="t" r="r" b="b"/>
              <a:pathLst>
                <a:path w="117" h="113">
                  <a:moveTo>
                    <a:pt x="0" y="61"/>
                  </a:moveTo>
                  <a:lnTo>
                    <a:pt x="117" y="0"/>
                  </a:lnTo>
                  <a:lnTo>
                    <a:pt x="117" y="49"/>
                  </a:lnTo>
                  <a:lnTo>
                    <a:pt x="0" y="11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21440" y="1511640"/>
              <a:ext cx="57960" cy="547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0"/>
                  </a:moveTo>
                  <a:lnTo>
                    <a:pt x="20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21440" y="1511640"/>
              <a:ext cx="765000" cy="392400"/>
            </a:xfrm>
            <a:custGeom>
              <a:avLst/>
              <a:gdLst/>
              <a:ahLst/>
              <a:rect l="l" t="t" r="r" b="b"/>
              <a:pathLst>
                <a:path w="263" h="136">
                  <a:moveTo>
                    <a:pt x="244" y="136"/>
                  </a:moveTo>
                  <a:lnTo>
                    <a:pt x="263" y="126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32080" y="1875240"/>
              <a:ext cx="54720" cy="572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10"/>
                  </a:moveTo>
                  <a:lnTo>
                    <a:pt x="19" y="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21440" y="1540080"/>
              <a:ext cx="710280" cy="3924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244" y="136"/>
                  </a:moveTo>
                  <a:lnTo>
                    <a:pt x="244" y="126"/>
                  </a:lnTo>
                  <a:lnTo>
                    <a:pt x="0" y="0"/>
                  </a:lnTo>
                  <a:lnTo>
                    <a:pt x="0" y="9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13200" y="1373400"/>
              <a:ext cx="90360" cy="16668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31" y="0"/>
                  </a:moveTo>
                  <a:lnTo>
                    <a:pt x="31" y="40"/>
                  </a:lnTo>
                  <a:lnTo>
                    <a:pt x="0" y="58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73520" y="1300680"/>
              <a:ext cx="90360" cy="1612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29" y="0"/>
                  </a:moveTo>
                  <a:lnTo>
                    <a:pt x="29" y="40"/>
                  </a:lnTo>
                  <a:lnTo>
                    <a:pt x="0" y="56"/>
                  </a:lnTo>
                  <a:lnTo>
                    <a:pt x="0" y="16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73520" y="1300680"/>
              <a:ext cx="224280" cy="11556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0" y="16"/>
                  </a:moveTo>
                  <a:lnTo>
                    <a:pt x="50" y="40"/>
                  </a:lnTo>
                  <a:lnTo>
                    <a:pt x="77" y="25"/>
                  </a:lnTo>
                  <a:lnTo>
                    <a:pt x="2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73520" y="1347120"/>
              <a:ext cx="145800" cy="192960"/>
            </a:xfrm>
            <a:custGeom>
              <a:avLst/>
              <a:gdLst/>
              <a:ahLst/>
              <a:rect l="l" t="t" r="r" b="b"/>
              <a:pathLst>
                <a:path w="50" h="67">
                  <a:moveTo>
                    <a:pt x="0" y="0"/>
                  </a:moveTo>
                  <a:lnTo>
                    <a:pt x="0" y="40"/>
                  </a:lnTo>
                  <a:lnTo>
                    <a:pt x="50" y="67"/>
                  </a:lnTo>
                  <a:lnTo>
                    <a:pt x="5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17080" y="1578240"/>
              <a:ext cx="113400" cy="4896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17080" y="1578240"/>
              <a:ext cx="113400" cy="4896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7080" y="1578240"/>
              <a:ext cx="113400" cy="4896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17080" y="1578240"/>
              <a:ext cx="1022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7080" y="1529280"/>
              <a:ext cx="113400" cy="54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17080" y="1529280"/>
              <a:ext cx="113400" cy="54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52000" y="1549440"/>
              <a:ext cx="49320" cy="226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2000" y="1549440"/>
              <a:ext cx="49320" cy="226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30480" y="1554480"/>
              <a:ext cx="32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17080" y="1554480"/>
              <a:ext cx="10800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28960" y="1572480"/>
              <a:ext cx="11880" cy="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57760" y="1578240"/>
              <a:ext cx="1764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90160" y="1578240"/>
              <a:ext cx="1692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13200" y="1572480"/>
              <a:ext cx="1692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52000" y="1549440"/>
              <a:ext cx="49320" cy="226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17080" y="1529280"/>
              <a:ext cx="113400" cy="54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801320" y="1529280"/>
              <a:ext cx="324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52000" y="1500480"/>
              <a:ext cx="49320" cy="60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17" y="10"/>
                  </a:lnTo>
                  <a:lnTo>
                    <a:pt x="17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752000" y="1500120"/>
              <a:ext cx="3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17080" y="1554480"/>
              <a:ext cx="32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62880" y="1964880"/>
              <a:ext cx="55440" cy="54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0"/>
                  </a:moveTo>
                  <a:lnTo>
                    <a:pt x="19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55120" y="1600920"/>
              <a:ext cx="55440" cy="547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lnTo>
                    <a:pt x="19" y="0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55120" y="1627200"/>
              <a:ext cx="707760" cy="39168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7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55120" y="1600920"/>
              <a:ext cx="763200" cy="392400"/>
            </a:xfrm>
            <a:custGeom>
              <a:avLst/>
              <a:gdLst/>
              <a:ahLst/>
              <a:rect l="l" t="t" r="r" b="b"/>
              <a:pathLst>
                <a:path w="262" h="136">
                  <a:moveTo>
                    <a:pt x="243" y="136"/>
                  </a:moveTo>
                  <a:lnTo>
                    <a:pt x="262" y="126"/>
                  </a:lnTo>
                  <a:lnTo>
                    <a:pt x="19" y="0"/>
                  </a:lnTo>
                  <a:lnTo>
                    <a:pt x="0" y="9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91160" y="1739880"/>
              <a:ext cx="285120" cy="235800"/>
            </a:xfrm>
            <a:custGeom>
              <a:avLst/>
              <a:gdLst/>
              <a:ahLst/>
              <a:rect l="l" t="t" r="r" b="b"/>
              <a:pathLst>
                <a:path w="98" h="82">
                  <a:moveTo>
                    <a:pt x="0" y="51"/>
                  </a:moveTo>
                  <a:lnTo>
                    <a:pt x="0" y="82"/>
                  </a:lnTo>
                  <a:lnTo>
                    <a:pt x="15" y="74"/>
                  </a:lnTo>
                  <a:lnTo>
                    <a:pt x="9" y="72"/>
                  </a:lnTo>
                  <a:lnTo>
                    <a:pt x="9" y="63"/>
                  </a:lnTo>
                  <a:lnTo>
                    <a:pt x="88" y="23"/>
                  </a:lnTo>
                  <a:lnTo>
                    <a:pt x="98" y="26"/>
                  </a:lnTo>
                  <a:lnTo>
                    <a:pt x="98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14200" y="1869120"/>
              <a:ext cx="20160" cy="22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4716720" y="1875240"/>
              <a:ext cx="1764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4716720" y="1869120"/>
              <a:ext cx="1188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84400" y="1832040"/>
              <a:ext cx="23040" cy="22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2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4789800" y="1837800"/>
              <a:ext cx="16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4789800" y="1837800"/>
              <a:ext cx="111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56760" y="1794240"/>
              <a:ext cx="28800" cy="20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4" y="2"/>
                  </a:moveTo>
                  <a:lnTo>
                    <a:pt x="4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4868640" y="1800000"/>
              <a:ext cx="1692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862520" y="1800000"/>
              <a:ext cx="118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29480" y="1754280"/>
              <a:ext cx="23760" cy="284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2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8" y="6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4935240" y="1759320"/>
              <a:ext cx="1764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4935240" y="1759320"/>
              <a:ext cx="1188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56360" y="1566360"/>
              <a:ext cx="279000" cy="239400"/>
            </a:xfrm>
            <a:custGeom>
              <a:avLst/>
              <a:gdLst/>
              <a:ahLst/>
              <a:rect l="l" t="t" r="r" b="b"/>
              <a:pathLst>
                <a:path w="96" h="83">
                  <a:moveTo>
                    <a:pt x="0" y="52"/>
                  </a:moveTo>
                  <a:lnTo>
                    <a:pt x="0" y="83"/>
                  </a:lnTo>
                  <a:lnTo>
                    <a:pt x="13" y="75"/>
                  </a:lnTo>
                  <a:lnTo>
                    <a:pt x="10" y="73"/>
                  </a:lnTo>
                  <a:lnTo>
                    <a:pt x="10" y="63"/>
                  </a:lnTo>
                  <a:lnTo>
                    <a:pt x="86" y="21"/>
                  </a:lnTo>
                  <a:lnTo>
                    <a:pt x="96" y="27"/>
                  </a:lnTo>
                  <a:lnTo>
                    <a:pt x="96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79400" y="1693440"/>
              <a:ext cx="20160" cy="284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2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7" y="6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4385520" y="1699200"/>
              <a:ext cx="144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4385160" y="1699200"/>
              <a:ext cx="252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46360" y="1656000"/>
              <a:ext cx="26280" cy="25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3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9" y="6"/>
                  </a:lnTo>
                  <a:lnTo>
                    <a:pt x="9" y="2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4455000" y="1661760"/>
              <a:ext cx="1692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4451760" y="1661760"/>
              <a:ext cx="8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22320" y="1621440"/>
              <a:ext cx="23040" cy="22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4527720" y="1627200"/>
              <a:ext cx="16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4528080" y="1621440"/>
              <a:ext cx="576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94680" y="1583280"/>
              <a:ext cx="23040" cy="234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4600440" y="1589400"/>
              <a:ext cx="1692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600800" y="1583280"/>
              <a:ext cx="576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56360" y="1566360"/>
              <a:ext cx="619920" cy="319680"/>
            </a:xfrm>
            <a:custGeom>
              <a:avLst/>
              <a:gdLst/>
              <a:ahLst/>
              <a:rect l="l" t="t" r="r" b="b"/>
              <a:pathLst>
                <a:path w="213" h="111">
                  <a:moveTo>
                    <a:pt x="115" y="111"/>
                  </a:moveTo>
                  <a:lnTo>
                    <a:pt x="0" y="52"/>
                  </a:lnTo>
                  <a:lnTo>
                    <a:pt x="96" y="0"/>
                  </a:lnTo>
                  <a:lnTo>
                    <a:pt x="213" y="60"/>
                  </a:lnTo>
                  <a:lnTo>
                    <a:pt x="115" y="1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606560" y="1583280"/>
              <a:ext cx="34056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600440" y="1583280"/>
              <a:ext cx="33444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534200" y="1615320"/>
              <a:ext cx="340560" cy="17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527720" y="1621080"/>
              <a:ext cx="33444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460760" y="1656000"/>
              <a:ext cx="34056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4451760" y="1661760"/>
              <a:ext cx="33804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388040" y="1693440"/>
              <a:ext cx="34056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385520" y="1699200"/>
              <a:ext cx="3312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56360" y="1716120"/>
              <a:ext cx="334440" cy="25956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0" y="31"/>
                  </a:moveTo>
                  <a:lnTo>
                    <a:pt x="0" y="0"/>
                  </a:lnTo>
                  <a:lnTo>
                    <a:pt x="115" y="59"/>
                  </a:lnTo>
                  <a:lnTo>
                    <a:pt x="115" y="9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637160" y="2171880"/>
            <a:ext cx="917640" cy="815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98920" y="1368360"/>
            <a:ext cx="91764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5454720" y="1430280"/>
            <a:ext cx="82872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5575680" y="1608120"/>
            <a:ext cx="67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5730840" y="172548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052960" y="5326200"/>
            <a:ext cx="104148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5277240" y="5391000"/>
            <a:ext cx="64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D ker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454720" y="3009960"/>
            <a:ext cx="828720" cy="3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5782320" y="30542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5629680" y="3171960"/>
            <a:ext cx="558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6605640" y="1430280"/>
            <a:ext cx="82692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7754760" y="1430280"/>
            <a:ext cx="82728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7754760" y="2301840"/>
            <a:ext cx="82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605640" y="3009960"/>
            <a:ext cx="1976400" cy="3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5454720" y="3718080"/>
            <a:ext cx="3120840" cy="488880"/>
          </a:xfrm>
          <a:custGeom>
            <a:avLst/>
            <a:gdLst/>
            <a:ahLst/>
            <a:rect l="l" t="t" r="r" b="b"/>
            <a:pathLst>
              <a:path w="3932" h="618">
                <a:moveTo>
                  <a:pt x="104" y="0"/>
                </a:moveTo>
                <a:lnTo>
                  <a:pt x="82" y="1"/>
                </a:lnTo>
                <a:lnTo>
                  <a:pt x="64" y="9"/>
                </a:lnTo>
                <a:lnTo>
                  <a:pt x="46" y="17"/>
                </a:lnTo>
                <a:lnTo>
                  <a:pt x="31" y="30"/>
                </a:lnTo>
                <a:lnTo>
                  <a:pt x="18" y="46"/>
                </a:lnTo>
                <a:lnTo>
                  <a:pt x="9" y="63"/>
                </a:lnTo>
                <a:lnTo>
                  <a:pt x="2" y="81"/>
                </a:lnTo>
                <a:lnTo>
                  <a:pt x="0" y="103"/>
                </a:lnTo>
                <a:lnTo>
                  <a:pt x="0" y="515"/>
                </a:lnTo>
                <a:lnTo>
                  <a:pt x="2" y="536"/>
                </a:lnTo>
                <a:lnTo>
                  <a:pt x="9" y="555"/>
                </a:lnTo>
                <a:lnTo>
                  <a:pt x="18" y="572"/>
                </a:lnTo>
                <a:lnTo>
                  <a:pt x="31" y="588"/>
                </a:lnTo>
                <a:lnTo>
                  <a:pt x="46" y="600"/>
                </a:lnTo>
                <a:lnTo>
                  <a:pt x="64" y="609"/>
                </a:lnTo>
                <a:lnTo>
                  <a:pt x="82" y="616"/>
                </a:lnTo>
                <a:lnTo>
                  <a:pt x="104" y="618"/>
                </a:lnTo>
                <a:lnTo>
                  <a:pt x="3829" y="618"/>
                </a:lnTo>
                <a:lnTo>
                  <a:pt x="3850" y="616"/>
                </a:lnTo>
                <a:lnTo>
                  <a:pt x="3869" y="609"/>
                </a:lnTo>
                <a:lnTo>
                  <a:pt x="3886" y="600"/>
                </a:lnTo>
                <a:lnTo>
                  <a:pt x="3902" y="588"/>
                </a:lnTo>
                <a:lnTo>
                  <a:pt x="3915" y="572"/>
                </a:lnTo>
                <a:lnTo>
                  <a:pt x="3924" y="555"/>
                </a:lnTo>
                <a:lnTo>
                  <a:pt x="3931" y="536"/>
                </a:lnTo>
                <a:lnTo>
                  <a:pt x="3932" y="515"/>
                </a:lnTo>
                <a:lnTo>
                  <a:pt x="3932" y="103"/>
                </a:lnTo>
                <a:lnTo>
                  <a:pt x="3931" y="81"/>
                </a:lnTo>
                <a:lnTo>
                  <a:pt x="3924" y="63"/>
                </a:lnTo>
                <a:lnTo>
                  <a:pt x="3915" y="46"/>
                </a:lnTo>
                <a:lnTo>
                  <a:pt x="3902" y="30"/>
                </a:lnTo>
                <a:lnTo>
                  <a:pt x="3886" y="17"/>
                </a:lnTo>
                <a:lnTo>
                  <a:pt x="3869" y="9"/>
                </a:lnTo>
                <a:lnTo>
                  <a:pt x="3850" y="1"/>
                </a:lnTo>
                <a:lnTo>
                  <a:pt x="3829" y="0"/>
                </a:lnTo>
                <a:lnTo>
                  <a:pt x="10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6203880" y="5326200"/>
            <a:ext cx="164304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689880" y="539100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P ker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7954920" y="5326200"/>
            <a:ext cx="104148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8173080" y="5391000"/>
            <a:ext cx="66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 ker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5052960" y="4672080"/>
            <a:ext cx="1041480" cy="65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5052960" y="4672080"/>
            <a:ext cx="87804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5259240" y="5113440"/>
            <a:ext cx="615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5355360" y="514368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D 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141880" y="4905360"/>
            <a:ext cx="631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239080" y="493704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I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5052960" y="4672080"/>
            <a:ext cx="38412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105880" y="472608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20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5437080" y="4672080"/>
            <a:ext cx="38412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490000" y="472608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6203880" y="4672080"/>
            <a:ext cx="1643040" cy="65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6203880" y="4672080"/>
            <a:ext cx="82224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30920" y="5153040"/>
            <a:ext cx="696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6828480" y="5183280"/>
            <a:ext cx="55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P 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6292800" y="4905360"/>
            <a:ext cx="630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6388560" y="493704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I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203880" y="4672080"/>
            <a:ext cx="71280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6418800" y="472608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21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954920" y="4672080"/>
            <a:ext cx="1041480" cy="65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8161200" y="5113440"/>
            <a:ext cx="631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8257680" y="514368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 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7954920" y="4672080"/>
            <a:ext cx="87804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8189280" y="4834080"/>
            <a:ext cx="48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ol path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4672080"/>
            <a:ext cx="104148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6203880" y="4672080"/>
            <a:ext cx="164304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7954920" y="4672080"/>
            <a:ext cx="104148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5454720" y="3879720"/>
            <a:ext cx="312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6451560" y="3718080"/>
            <a:ext cx="103032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6540840" y="3735360"/>
            <a:ext cx="94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O14649 - Millin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7253280" y="3879720"/>
            <a:ext cx="144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8124840" y="3879720"/>
            <a:ext cx="144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6513480" y="3956040"/>
            <a:ext cx="6922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08160" y="398628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7319880" y="3956040"/>
            <a:ext cx="792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7414200" y="398628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8167680" y="3956040"/>
            <a:ext cx="3808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8263080" y="3986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6507000" y="3879720"/>
            <a:ext cx="180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3903840"/>
            <a:ext cx="6066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042240" y="392112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5962680" y="404172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5838840" y="3879720"/>
            <a:ext cx="144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5492880" y="3963960"/>
            <a:ext cx="3459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558792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U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5729400" y="3390840"/>
            <a:ext cx="272880" cy="271440"/>
          </a:xfrm>
          <a:custGeom>
            <a:avLst/>
            <a:gdLst/>
            <a:ahLst/>
            <a:rect l="l" t="t" r="r" b="b"/>
            <a:pathLst>
              <a:path w="345" h="343">
                <a:moveTo>
                  <a:pt x="0" y="86"/>
                </a:moveTo>
                <a:lnTo>
                  <a:pt x="87" y="86"/>
                </a:lnTo>
                <a:lnTo>
                  <a:pt x="87" y="343"/>
                </a:lnTo>
                <a:lnTo>
                  <a:pt x="259" y="343"/>
                </a:lnTo>
                <a:lnTo>
                  <a:pt x="259" y="86"/>
                </a:lnTo>
                <a:lnTo>
                  <a:pt x="345" y="86"/>
                </a:lnTo>
                <a:lnTo>
                  <a:pt x="173" y="0"/>
                </a:lnTo>
                <a:lnTo>
                  <a:pt x="0" y="8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78520" y="3444840"/>
            <a:ext cx="876240" cy="217440"/>
          </a:xfrm>
          <a:custGeom>
            <a:avLst/>
            <a:gdLst/>
            <a:ahLst/>
            <a:rect l="l" t="t" r="r" b="b"/>
            <a:pathLst>
              <a:path w="1104" h="274">
                <a:moveTo>
                  <a:pt x="0" y="173"/>
                </a:moveTo>
                <a:lnTo>
                  <a:pt x="289" y="173"/>
                </a:lnTo>
                <a:lnTo>
                  <a:pt x="289" y="274"/>
                </a:lnTo>
                <a:lnTo>
                  <a:pt x="815" y="274"/>
                </a:lnTo>
                <a:lnTo>
                  <a:pt x="815" y="173"/>
                </a:lnTo>
                <a:lnTo>
                  <a:pt x="1104" y="173"/>
                </a:lnTo>
                <a:lnTo>
                  <a:pt x="552" y="0"/>
                </a:lnTo>
                <a:lnTo>
                  <a:pt x="0" y="17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5673600" y="2682720"/>
            <a:ext cx="384480" cy="271440"/>
          </a:xfrm>
          <a:custGeom>
            <a:avLst/>
            <a:gdLst/>
            <a:ahLst/>
            <a:rect l="l" t="t" r="r" b="b"/>
            <a:pathLst>
              <a:path w="483" h="343">
                <a:moveTo>
                  <a:pt x="0" y="138"/>
                </a:moveTo>
                <a:lnTo>
                  <a:pt x="134" y="138"/>
                </a:lnTo>
                <a:lnTo>
                  <a:pt x="134" y="343"/>
                </a:lnTo>
                <a:lnTo>
                  <a:pt x="350" y="343"/>
                </a:lnTo>
                <a:lnTo>
                  <a:pt x="350" y="138"/>
                </a:lnTo>
                <a:lnTo>
                  <a:pt x="483" y="138"/>
                </a:lnTo>
                <a:lnTo>
                  <a:pt x="242" y="0"/>
                </a:lnTo>
                <a:lnTo>
                  <a:pt x="0" y="1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6745320" y="2082960"/>
            <a:ext cx="272880" cy="871200"/>
          </a:xfrm>
          <a:custGeom>
            <a:avLst/>
            <a:gdLst/>
            <a:ahLst/>
            <a:rect l="l" t="t" r="r" b="b"/>
            <a:pathLst>
              <a:path w="345" h="1097">
                <a:moveTo>
                  <a:pt x="0" y="158"/>
                </a:moveTo>
                <a:lnTo>
                  <a:pt x="86" y="158"/>
                </a:lnTo>
                <a:lnTo>
                  <a:pt x="86" y="1097"/>
                </a:lnTo>
                <a:lnTo>
                  <a:pt x="258" y="1097"/>
                </a:lnTo>
                <a:lnTo>
                  <a:pt x="258" y="158"/>
                </a:lnTo>
                <a:lnTo>
                  <a:pt x="345" y="158"/>
                </a:lnTo>
                <a:lnTo>
                  <a:pt x="172" y="0"/>
                </a:lnTo>
                <a:lnTo>
                  <a:pt x="0" y="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7808760" y="2736720"/>
            <a:ext cx="493920" cy="217440"/>
          </a:xfrm>
          <a:custGeom>
            <a:avLst/>
            <a:gdLst/>
            <a:ahLst/>
            <a:rect l="l" t="t" r="r" b="b"/>
            <a:pathLst>
              <a:path w="620" h="274">
                <a:moveTo>
                  <a:pt x="0" y="173"/>
                </a:moveTo>
                <a:lnTo>
                  <a:pt x="162" y="173"/>
                </a:lnTo>
                <a:lnTo>
                  <a:pt x="162" y="274"/>
                </a:lnTo>
                <a:lnTo>
                  <a:pt x="458" y="274"/>
                </a:lnTo>
                <a:lnTo>
                  <a:pt x="458" y="173"/>
                </a:lnTo>
                <a:lnTo>
                  <a:pt x="620" y="173"/>
                </a:lnTo>
                <a:lnTo>
                  <a:pt x="310" y="0"/>
                </a:lnTo>
                <a:lnTo>
                  <a:pt x="0" y="17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7074000" y="2082960"/>
            <a:ext cx="272880" cy="871200"/>
          </a:xfrm>
          <a:custGeom>
            <a:avLst/>
            <a:gdLst/>
            <a:ahLst/>
            <a:rect l="l" t="t" r="r" b="b"/>
            <a:pathLst>
              <a:path w="345" h="1097">
                <a:moveTo>
                  <a:pt x="0" y="158"/>
                </a:moveTo>
                <a:lnTo>
                  <a:pt x="86" y="158"/>
                </a:lnTo>
                <a:lnTo>
                  <a:pt x="86" y="1097"/>
                </a:lnTo>
                <a:lnTo>
                  <a:pt x="258" y="1097"/>
                </a:lnTo>
                <a:lnTo>
                  <a:pt x="258" y="158"/>
                </a:lnTo>
                <a:lnTo>
                  <a:pt x="345" y="158"/>
                </a:lnTo>
                <a:lnTo>
                  <a:pt x="172" y="0"/>
                </a:lnTo>
                <a:lnTo>
                  <a:pt x="0" y="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7808760" y="2082960"/>
            <a:ext cx="219240" cy="16344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80"/>
                </a:moveTo>
                <a:lnTo>
                  <a:pt x="69" y="80"/>
                </a:lnTo>
                <a:lnTo>
                  <a:pt x="69" y="205"/>
                </a:lnTo>
                <a:lnTo>
                  <a:pt x="207" y="205"/>
                </a:lnTo>
                <a:lnTo>
                  <a:pt x="207" y="80"/>
                </a:lnTo>
                <a:lnTo>
                  <a:pt x="276" y="80"/>
                </a:lnTo>
                <a:lnTo>
                  <a:pt x="138" y="0"/>
                </a:lnTo>
                <a:lnTo>
                  <a:pt x="0" y="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8083440" y="2082960"/>
            <a:ext cx="219240" cy="16344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80"/>
                </a:moveTo>
                <a:lnTo>
                  <a:pt x="69" y="80"/>
                </a:lnTo>
                <a:lnTo>
                  <a:pt x="69" y="205"/>
                </a:lnTo>
                <a:lnTo>
                  <a:pt x="207" y="205"/>
                </a:lnTo>
                <a:lnTo>
                  <a:pt x="207" y="80"/>
                </a:lnTo>
                <a:lnTo>
                  <a:pt x="276" y="80"/>
                </a:lnTo>
                <a:lnTo>
                  <a:pt x="138" y="0"/>
                </a:lnTo>
                <a:lnTo>
                  <a:pt x="0" y="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8356680" y="2082960"/>
            <a:ext cx="218880" cy="16344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125"/>
                </a:moveTo>
                <a:lnTo>
                  <a:pt x="69" y="125"/>
                </a:lnTo>
                <a:lnTo>
                  <a:pt x="69" y="0"/>
                </a:lnTo>
                <a:lnTo>
                  <a:pt x="207" y="0"/>
                </a:lnTo>
                <a:lnTo>
                  <a:pt x="207" y="125"/>
                </a:lnTo>
                <a:lnTo>
                  <a:pt x="276" y="125"/>
                </a:lnTo>
                <a:lnTo>
                  <a:pt x="138" y="205"/>
                </a:lnTo>
                <a:lnTo>
                  <a:pt x="0" y="12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8356680" y="2736720"/>
            <a:ext cx="218880" cy="217440"/>
          </a:xfrm>
          <a:custGeom>
            <a:avLst/>
            <a:gdLst/>
            <a:ahLst/>
            <a:rect l="l" t="t" r="r" b="b"/>
            <a:pathLst>
              <a:path w="276" h="274">
                <a:moveTo>
                  <a:pt x="0" y="167"/>
                </a:moveTo>
                <a:lnTo>
                  <a:pt x="69" y="167"/>
                </a:lnTo>
                <a:lnTo>
                  <a:pt x="69" y="0"/>
                </a:lnTo>
                <a:lnTo>
                  <a:pt x="207" y="0"/>
                </a:lnTo>
                <a:lnTo>
                  <a:pt x="207" y="167"/>
                </a:lnTo>
                <a:lnTo>
                  <a:pt x="276" y="167"/>
                </a:lnTo>
                <a:lnTo>
                  <a:pt x="138" y="274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7808760" y="3444840"/>
            <a:ext cx="493920" cy="217440"/>
          </a:xfrm>
          <a:custGeom>
            <a:avLst/>
            <a:gdLst/>
            <a:ahLst/>
            <a:rect l="l" t="t" r="r" b="b"/>
            <a:pathLst>
              <a:path w="620" h="274">
                <a:moveTo>
                  <a:pt x="0" y="101"/>
                </a:moveTo>
                <a:lnTo>
                  <a:pt x="162" y="101"/>
                </a:lnTo>
                <a:lnTo>
                  <a:pt x="162" y="0"/>
                </a:lnTo>
                <a:lnTo>
                  <a:pt x="458" y="0"/>
                </a:lnTo>
                <a:lnTo>
                  <a:pt x="458" y="101"/>
                </a:lnTo>
                <a:lnTo>
                  <a:pt x="620" y="101"/>
                </a:lnTo>
                <a:lnTo>
                  <a:pt x="310" y="274"/>
                </a:lnTo>
                <a:lnTo>
                  <a:pt x="0" y="10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5454720" y="2266920"/>
            <a:ext cx="82872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5715360" y="231156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-cod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644800" y="2430360"/>
            <a:ext cx="52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5640480" y="2058840"/>
            <a:ext cx="218880" cy="16380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80"/>
                </a:moveTo>
                <a:lnTo>
                  <a:pt x="69" y="80"/>
                </a:lnTo>
                <a:lnTo>
                  <a:pt x="69" y="205"/>
                </a:lnTo>
                <a:lnTo>
                  <a:pt x="207" y="205"/>
                </a:lnTo>
                <a:lnTo>
                  <a:pt x="207" y="80"/>
                </a:lnTo>
                <a:lnTo>
                  <a:pt x="276" y="80"/>
                </a:lnTo>
                <a:lnTo>
                  <a:pt x="138" y="0"/>
                </a:lnTo>
                <a:lnTo>
                  <a:pt x="0" y="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5913360" y="2058840"/>
            <a:ext cx="219240" cy="16380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80"/>
                </a:moveTo>
                <a:lnTo>
                  <a:pt x="69" y="80"/>
                </a:lnTo>
                <a:lnTo>
                  <a:pt x="69" y="205"/>
                </a:lnTo>
                <a:lnTo>
                  <a:pt x="207" y="205"/>
                </a:lnTo>
                <a:lnTo>
                  <a:pt x="207" y="80"/>
                </a:lnTo>
                <a:lnTo>
                  <a:pt x="276" y="80"/>
                </a:lnTo>
                <a:lnTo>
                  <a:pt x="138" y="0"/>
                </a:lnTo>
                <a:lnTo>
                  <a:pt x="0" y="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400720" y="1374840"/>
            <a:ext cx="931680" cy="12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6550200" y="1374840"/>
            <a:ext cx="20811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585200" y="1430280"/>
            <a:ext cx="9360" cy="1497240"/>
            <a:chOff x="7585200" y="1430280"/>
            <a:chExt cx="9360" cy="1497240"/>
          </a:xfrm>
        </p:grpSpPr>
        <p:sp>
          <p:nvSpPr>
            <p:cNvPr id="372" name=""/>
            <p:cNvSpPr/>
            <p:nvPr/>
          </p:nvSpPr>
          <p:spPr>
            <a:xfrm>
              <a:off x="7585200" y="1430280"/>
              <a:ext cx="93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85200" y="1494000"/>
              <a:ext cx="93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85200" y="155736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85200" y="162072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85200" y="168444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85200" y="174780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85200" y="181116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85200" y="187488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85200" y="193824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85200" y="200196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585200" y="206532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85200" y="212868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85200" y="219240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85200" y="225576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85200" y="231948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85200" y="238284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85200" y="244620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85200" y="250992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5200" y="257328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85200" y="263700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85200" y="270036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85200" y="276372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85200" y="282744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85200" y="289080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8172360" y="3390840"/>
            <a:ext cx="5000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8289720" y="342108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6615000" y="5481720"/>
            <a:ext cx="163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6706800" y="55245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8906040" y="4863960"/>
            <a:ext cx="163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8996040" y="4906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7134120" y="4672080"/>
            <a:ext cx="71280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7134120" y="4908600"/>
            <a:ext cx="743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7231680" y="494028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1339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7188120" y="4672080"/>
            <a:ext cx="33012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7233120" y="4726080"/>
            <a:ext cx="30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7516800" y="4672080"/>
            <a:ext cx="33012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7561800" y="4726080"/>
            <a:ext cx="30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 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837560" y="4232160"/>
            <a:ext cx="517320" cy="427320"/>
            <a:chOff x="7837560" y="4232160"/>
            <a:chExt cx="517320" cy="427320"/>
          </a:xfrm>
        </p:grpSpPr>
        <p:sp>
          <p:nvSpPr>
            <p:cNvPr id="410" name=""/>
            <p:cNvSpPr/>
            <p:nvPr/>
          </p:nvSpPr>
          <p:spPr>
            <a:xfrm>
              <a:off x="7910640" y="4289400"/>
              <a:ext cx="372960" cy="314280"/>
            </a:xfrm>
            <a:custGeom>
              <a:avLst/>
              <a:gdLst/>
              <a:ahLst/>
              <a:rect l="l" t="t" r="r" b="b"/>
              <a:pathLst>
                <a:path w="470" h="396">
                  <a:moveTo>
                    <a:pt x="16" y="0"/>
                  </a:moveTo>
                  <a:lnTo>
                    <a:pt x="0" y="20"/>
                  </a:lnTo>
                  <a:lnTo>
                    <a:pt x="455" y="396"/>
                  </a:lnTo>
                  <a:lnTo>
                    <a:pt x="470" y="37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37560" y="4232160"/>
              <a:ext cx="115920" cy="10656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145" y="33"/>
                  </a:moveTo>
                  <a:lnTo>
                    <a:pt x="0" y="0"/>
                  </a:lnTo>
                  <a:lnTo>
                    <a:pt x="58" y="134"/>
                  </a:lnTo>
                  <a:lnTo>
                    <a:pt x="14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0760" y="4552920"/>
              <a:ext cx="114120" cy="10656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0" y="101"/>
                  </a:moveTo>
                  <a:lnTo>
                    <a:pt x="145" y="134"/>
                  </a:lnTo>
                  <a:lnTo>
                    <a:pt x="86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697360" y="4227480"/>
            <a:ext cx="2440080" cy="399960"/>
            <a:chOff x="5697360" y="4227480"/>
            <a:chExt cx="2440080" cy="399960"/>
          </a:xfrm>
        </p:grpSpPr>
        <p:sp>
          <p:nvSpPr>
            <p:cNvPr id="414" name=""/>
            <p:cNvSpPr/>
            <p:nvPr/>
          </p:nvSpPr>
          <p:spPr>
            <a:xfrm>
              <a:off x="5799240" y="4270320"/>
              <a:ext cx="2238120" cy="314280"/>
            </a:xfrm>
            <a:custGeom>
              <a:avLst/>
              <a:gdLst/>
              <a:ahLst/>
              <a:rect l="l" t="t" r="r" b="b"/>
              <a:pathLst>
                <a:path w="2821" h="396">
                  <a:moveTo>
                    <a:pt x="3" y="0"/>
                  </a:moveTo>
                  <a:lnTo>
                    <a:pt x="0" y="25"/>
                  </a:lnTo>
                  <a:lnTo>
                    <a:pt x="2818" y="396"/>
                  </a:lnTo>
                  <a:lnTo>
                    <a:pt x="2821" y="37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97360" y="4227480"/>
              <a:ext cx="111240" cy="1065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139" y="0"/>
                  </a:moveTo>
                  <a:lnTo>
                    <a:pt x="0" y="50"/>
                  </a:lnTo>
                  <a:lnTo>
                    <a:pt x="122" y="1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28000" y="4522680"/>
              <a:ext cx="109440" cy="1047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0" y="133"/>
                  </a:moveTo>
                  <a:lnTo>
                    <a:pt x="139" y="83"/>
                  </a:lnTo>
                  <a:lnTo>
                    <a:pt x="17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724800" y="4238640"/>
            <a:ext cx="833400" cy="396720"/>
            <a:chOff x="6724800" y="4238640"/>
            <a:chExt cx="833400" cy="396720"/>
          </a:xfrm>
        </p:grpSpPr>
        <p:sp>
          <p:nvSpPr>
            <p:cNvPr id="418" name=""/>
            <p:cNvSpPr/>
            <p:nvPr/>
          </p:nvSpPr>
          <p:spPr>
            <a:xfrm>
              <a:off x="6811920" y="4276800"/>
              <a:ext cx="657360" cy="318960"/>
            </a:xfrm>
            <a:custGeom>
              <a:avLst/>
              <a:gdLst/>
              <a:ahLst/>
              <a:rect l="l" t="t" r="r" b="b"/>
              <a:pathLst>
                <a:path w="827" h="403">
                  <a:moveTo>
                    <a:pt x="827" y="23"/>
                  </a:moveTo>
                  <a:lnTo>
                    <a:pt x="816" y="0"/>
                  </a:lnTo>
                  <a:lnTo>
                    <a:pt x="0" y="380"/>
                  </a:lnTo>
                  <a:lnTo>
                    <a:pt x="11" y="403"/>
                  </a:lnTo>
                  <a:lnTo>
                    <a:pt x="8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39040" y="4238640"/>
              <a:ext cx="119160" cy="95400"/>
            </a:xfrm>
            <a:custGeom>
              <a:avLst/>
              <a:gdLst/>
              <a:ahLst/>
              <a:rect l="l" t="t" r="r" b="b"/>
              <a:pathLst>
                <a:path w="148" h="122">
                  <a:moveTo>
                    <a:pt x="57" y="122"/>
                  </a:moveTo>
                  <a:lnTo>
                    <a:pt x="148" y="4"/>
                  </a:lnTo>
                  <a:lnTo>
                    <a:pt x="0" y="0"/>
                  </a:lnTo>
                  <a:lnTo>
                    <a:pt x="57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24800" y="4538520"/>
              <a:ext cx="117360" cy="9684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90" y="0"/>
                  </a:moveTo>
                  <a:lnTo>
                    <a:pt x="0" y="117"/>
                  </a:lnTo>
                  <a:lnTo>
                    <a:pt x="148" y="12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224760" y="4214880"/>
            <a:ext cx="306360" cy="428400"/>
            <a:chOff x="6224760" y="4214880"/>
            <a:chExt cx="306360" cy="428400"/>
          </a:xfrm>
        </p:grpSpPr>
        <p:sp>
          <p:nvSpPr>
            <p:cNvPr id="422" name=""/>
            <p:cNvSpPr/>
            <p:nvPr/>
          </p:nvSpPr>
          <p:spPr>
            <a:xfrm>
              <a:off x="6273720" y="4292640"/>
              <a:ext cx="206280" cy="274680"/>
            </a:xfrm>
            <a:custGeom>
              <a:avLst/>
              <a:gdLst/>
              <a:ahLst/>
              <a:rect l="l" t="t" r="r" b="b"/>
              <a:pathLst>
                <a:path w="260" h="346">
                  <a:moveTo>
                    <a:pt x="20" y="0"/>
                  </a:moveTo>
                  <a:lnTo>
                    <a:pt x="0" y="14"/>
                  </a:lnTo>
                  <a:lnTo>
                    <a:pt x="240" y="346"/>
                  </a:lnTo>
                  <a:lnTo>
                    <a:pt x="260" y="33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24760" y="4214880"/>
              <a:ext cx="102960" cy="115920"/>
            </a:xfrm>
            <a:custGeom>
              <a:avLst/>
              <a:gdLst/>
              <a:ahLst/>
              <a:rect l="l" t="t" r="r" b="b"/>
              <a:pathLst>
                <a:path w="131" h="145">
                  <a:moveTo>
                    <a:pt x="131" y="68"/>
                  </a:moveTo>
                  <a:lnTo>
                    <a:pt x="0" y="0"/>
                  </a:lnTo>
                  <a:lnTo>
                    <a:pt x="23" y="145"/>
                  </a:lnTo>
                  <a:lnTo>
                    <a:pt x="13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26360" y="4529160"/>
              <a:ext cx="104760" cy="11412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0" y="77"/>
                  </a:moveTo>
                  <a:lnTo>
                    <a:pt x="131" y="146"/>
                  </a:lnTo>
                  <a:lnTo>
                    <a:pt x="108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632560" y="4235400"/>
            <a:ext cx="1185840" cy="392040"/>
            <a:chOff x="5632560" y="4235400"/>
            <a:chExt cx="1185840" cy="392040"/>
          </a:xfrm>
        </p:grpSpPr>
        <p:sp>
          <p:nvSpPr>
            <p:cNvPr id="426" name=""/>
            <p:cNvSpPr/>
            <p:nvPr/>
          </p:nvSpPr>
          <p:spPr>
            <a:xfrm>
              <a:off x="5729400" y="4276800"/>
              <a:ext cx="993600" cy="311040"/>
            </a:xfrm>
            <a:custGeom>
              <a:avLst/>
              <a:gdLst/>
              <a:ahLst/>
              <a:rect l="l" t="t" r="r" b="b"/>
              <a:pathLst>
                <a:path w="1254" h="391">
                  <a:moveTo>
                    <a:pt x="1254" y="24"/>
                  </a:moveTo>
                  <a:lnTo>
                    <a:pt x="1246" y="0"/>
                  </a:lnTo>
                  <a:lnTo>
                    <a:pt x="0" y="367"/>
                  </a:lnTo>
                  <a:lnTo>
                    <a:pt x="8" y="391"/>
                  </a:lnTo>
                  <a:lnTo>
                    <a:pt x="12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02480" y="4235400"/>
              <a:ext cx="115920" cy="101520"/>
            </a:xfrm>
            <a:custGeom>
              <a:avLst/>
              <a:gdLst/>
              <a:ahLst/>
              <a:rect l="l" t="t" r="r" b="b"/>
              <a:pathLst>
                <a:path w="145" h="128">
                  <a:moveTo>
                    <a:pt x="37" y="128"/>
                  </a:moveTo>
                  <a:lnTo>
                    <a:pt x="145" y="26"/>
                  </a:lnTo>
                  <a:lnTo>
                    <a:pt x="0" y="0"/>
                  </a:lnTo>
                  <a:lnTo>
                    <a:pt x="37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32560" y="4525920"/>
              <a:ext cx="115920" cy="101520"/>
            </a:xfrm>
            <a:custGeom>
              <a:avLst/>
              <a:gdLst/>
              <a:ahLst/>
              <a:rect l="l" t="t" r="r" b="b"/>
              <a:pathLst>
                <a:path w="145" h="127">
                  <a:moveTo>
                    <a:pt x="107" y="0"/>
                  </a:moveTo>
                  <a:lnTo>
                    <a:pt x="0" y="102"/>
                  </a:lnTo>
                  <a:lnTo>
                    <a:pt x="145" y="127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496280" y="4238640"/>
            <a:ext cx="833400" cy="396720"/>
            <a:chOff x="7496280" y="4238640"/>
            <a:chExt cx="833400" cy="396720"/>
          </a:xfrm>
        </p:grpSpPr>
        <p:sp>
          <p:nvSpPr>
            <p:cNvPr id="430" name=""/>
            <p:cNvSpPr/>
            <p:nvPr/>
          </p:nvSpPr>
          <p:spPr>
            <a:xfrm>
              <a:off x="7585200" y="4276800"/>
              <a:ext cx="657000" cy="318960"/>
            </a:xfrm>
            <a:custGeom>
              <a:avLst/>
              <a:gdLst/>
              <a:ahLst/>
              <a:rect l="l" t="t" r="r" b="b"/>
              <a:pathLst>
                <a:path w="828" h="403">
                  <a:moveTo>
                    <a:pt x="828" y="23"/>
                  </a:moveTo>
                  <a:lnTo>
                    <a:pt x="817" y="0"/>
                  </a:lnTo>
                  <a:lnTo>
                    <a:pt x="0" y="380"/>
                  </a:lnTo>
                  <a:lnTo>
                    <a:pt x="12" y="403"/>
                  </a:lnTo>
                  <a:lnTo>
                    <a:pt x="8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11960" y="4238640"/>
              <a:ext cx="117720" cy="95400"/>
            </a:xfrm>
            <a:custGeom>
              <a:avLst/>
              <a:gdLst/>
              <a:ahLst/>
              <a:rect l="l" t="t" r="r" b="b"/>
              <a:pathLst>
                <a:path w="148" h="122">
                  <a:moveTo>
                    <a:pt x="57" y="122"/>
                  </a:moveTo>
                  <a:lnTo>
                    <a:pt x="148" y="4"/>
                  </a:lnTo>
                  <a:lnTo>
                    <a:pt x="0" y="0"/>
                  </a:lnTo>
                  <a:lnTo>
                    <a:pt x="57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96280" y="4538520"/>
              <a:ext cx="117360" cy="9684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90" y="0"/>
                  </a:moveTo>
                  <a:lnTo>
                    <a:pt x="0" y="117"/>
                  </a:lnTo>
                  <a:lnTo>
                    <a:pt x="148" y="12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481720" y="3889440"/>
            <a:ext cx="992160" cy="309600"/>
          </a:xfrm>
          <a:prstGeom prst="roundRect">
            <a:avLst>
              <a:gd name="adj" fmla="val 2604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 progra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>
            <a:off x="5538960" y="3978360"/>
            <a:ext cx="839520" cy="15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orkpla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6613560" y="1442880"/>
            <a:ext cx="806400" cy="56844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6864840" y="1566720"/>
            <a:ext cx="279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6799680" y="1724040"/>
            <a:ext cx="4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6618240" y="3024360"/>
            <a:ext cx="1951200" cy="29844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6719400" y="3112920"/>
            <a:ext cx="173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O14649 Interpreter/Referencin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7761240" y="1460520"/>
            <a:ext cx="816120" cy="30636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7866720" y="1646280"/>
            <a:ext cx="590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lligent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7944480" y="1803240"/>
            <a:ext cx="4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>
            <a:off x="8011080" y="1487520"/>
            <a:ext cx="279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7761240" y="2309760"/>
            <a:ext cx="811440" cy="18252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7912440" y="2355840"/>
            <a:ext cx="49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ligent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936560" y="2482920"/>
            <a:ext cx="46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63A4-0C73-4252-AB7E-22B88B32C6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4952880" y="1752480"/>
            <a:ext cx="857520" cy="18756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4959360" y="1508040"/>
            <a:ext cx="844560" cy="17460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3759120"/>
            <a:ext cx="604800" cy="628560"/>
          </a:xfrm>
          <a:prstGeom prst="can">
            <a:avLst>
              <a:gd name="adj" fmla="val 24240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6475320" y="2058840"/>
            <a:ext cx="606600" cy="23364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7332840" y="3063960"/>
            <a:ext cx="787320" cy="17136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7332840" y="4154400"/>
            <a:ext cx="787320" cy="30024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6172200" y="4309920"/>
            <a:ext cx="855720" cy="30348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6175440" y="2546280"/>
            <a:ext cx="855720" cy="30312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5013360" y="2903400"/>
            <a:ext cx="793800" cy="24624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4043520" y="1809720"/>
            <a:ext cx="604800" cy="1619280"/>
          </a:xfrm>
          <a:prstGeom prst="can">
            <a:avLst>
              <a:gd name="adj" fmla="val 5444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990720" y="2790720"/>
            <a:ext cx="790560" cy="16668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995400" y="3828960"/>
            <a:ext cx="790560" cy="16668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027160" y="4494240"/>
            <a:ext cx="793800" cy="30312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3251160" y="3156120"/>
            <a:ext cx="484200" cy="726840"/>
          </a:xfrm>
          <a:custGeom>
            <a:avLst/>
            <a:gdLst>
              <a:gd name="textAreaLeft" fmla="*/ 23400 w 484200"/>
              <a:gd name="textAreaRight" fmla="*/ 460800 w 484200"/>
              <a:gd name="textAreaTop" fmla="*/ 23400 h 726840"/>
              <a:gd name="textAreaBottom" fmla="*/ 703440 h 726840"/>
            </a:gdLst>
            <a:ahLst/>
            <a:rect l="textAreaLeft" t="textAreaTop" r="textAreaRight" b="textAreaBottom"/>
            <a:pathLst>
              <a:path w="21600" h="32416">
                <a:moveTo>
                  <a:pt x="3600" y="0"/>
                </a:moveTo>
                <a:arcTo wR="3600" hR="3600" stAng="16200000" swAng="-5400000"/>
                <a:lnTo>
                  <a:pt x="0" y="28816"/>
                </a:lnTo>
                <a:arcTo wR="3600" hR="3600" stAng="10800000" swAng="-5400000"/>
                <a:lnTo>
                  <a:pt x="18000" y="324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1969920" y="3156120"/>
            <a:ext cx="1212840" cy="72684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2941560" y="2365200"/>
            <a:ext cx="793800" cy="30348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2941560" y="2055960"/>
            <a:ext cx="793800" cy="24120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46240" y="1689120"/>
            <a:ext cx="793800" cy="30780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1976400" y="2000160"/>
            <a:ext cx="793800" cy="41292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1965240" y="1508040"/>
            <a:ext cx="793800" cy="42228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333399"/>
                </a:solidFill>
                <a:latin typeface="Arial"/>
              </a:rPr>
              <a:t>Functional architecture of intelligent STEP-compliant CNC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90720" y="1143000"/>
          <a:ext cx="7219800" cy="51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721980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C498-0F44-47BC-8AC3-24B0DEBB8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7301000">
            <a:off x="2057040" y="1066680"/>
            <a:ext cx="4724640" cy="472428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 rot="12948600">
            <a:off x="2056680" y="1066320"/>
            <a:ext cx="4724280" cy="472464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 rot="8701200">
            <a:off x="2057040" y="1066680"/>
            <a:ext cx="4724280" cy="472464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 rot="4358400">
            <a:off x="2056680" y="1066680"/>
            <a:ext cx="4724640" cy="472428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 rot="18600">
            <a:off x="2057400" y="1066680"/>
            <a:ext cx="4724280" cy="472464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2133720" y="243828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CNC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>
            <a:off x="3429000" y="1447920"/>
            <a:ext cx="19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SF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>
            <a:off x="2590920" y="4419720"/>
            <a:ext cx="19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MM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495680"/>
            <a:ext cx="15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TPV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5257800" y="266688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TP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2666880"/>
            <a:ext cx="1676520" cy="16002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2895480"/>
            <a:ext cx="149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rea STEP-NC Syste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543D-60C8-4CA9-A961-A5C0E23B63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SFP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361960" cy="17208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SFP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Shop-Floor Programming System</a:t>
            </a: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85" name="part%20program(15)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2286000" cy="1738440"/>
          </a:xfrm>
          <a:prstGeom prst="rect">
            <a:avLst/>
          </a:prstGeom>
          <a:ln w="0">
            <a:noFill/>
          </a:ln>
        </p:spPr>
      </p:pic>
      <p:pic>
        <p:nvPicPr>
          <p:cNvPr id="486" name="feature%20recogniton-closed_pocket%20dlg(6)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1887480" cy="2057400"/>
          </a:xfrm>
          <a:prstGeom prst="rect">
            <a:avLst/>
          </a:prstGeom>
          <a:ln w="0">
            <a:noFill/>
          </a:ln>
        </p:spPr>
      </p:pic>
      <p:pic>
        <p:nvPicPr>
          <p:cNvPr id="487" name="feature%20list" descr=""/>
          <p:cNvPicPr/>
          <p:nvPr/>
        </p:nvPicPr>
        <p:blipFill>
          <a:blip r:embed="rId4"/>
          <a:stretch/>
        </p:blipFill>
        <p:spPr>
          <a:xfrm>
            <a:off x="3276720" y="1143000"/>
            <a:ext cx="2361960" cy="1494000"/>
          </a:xfrm>
          <a:prstGeom prst="rect">
            <a:avLst/>
          </a:prstGeom>
          <a:ln w="0">
            <a:noFill/>
          </a:ln>
        </p:spPr>
      </p:pic>
      <p:pic>
        <p:nvPicPr>
          <p:cNvPr id="488" name="operation%20list" descr=""/>
          <p:cNvPicPr/>
          <p:nvPr/>
        </p:nvPicPr>
        <p:blipFill>
          <a:blip r:embed="rId5"/>
          <a:stretch/>
        </p:blipFill>
        <p:spPr>
          <a:xfrm>
            <a:off x="6400800" y="3017880"/>
            <a:ext cx="1981080" cy="1422360"/>
          </a:xfrm>
          <a:prstGeom prst="rect">
            <a:avLst/>
          </a:prstGeom>
          <a:ln w="0">
            <a:noFill/>
          </a:ln>
        </p:spPr>
      </p:pic>
      <p:pic>
        <p:nvPicPr>
          <p:cNvPr id="489" name="operation%20attribute" descr=""/>
          <p:cNvPicPr/>
          <p:nvPr/>
        </p:nvPicPr>
        <p:blipFill>
          <a:blip r:embed="rId6"/>
          <a:stretch/>
        </p:blipFill>
        <p:spPr>
          <a:xfrm>
            <a:off x="6934320" y="4694400"/>
            <a:ext cx="1981080" cy="1228680"/>
          </a:xfrm>
          <a:prstGeom prst="rect">
            <a:avLst/>
          </a:prstGeom>
          <a:ln w="0">
            <a:noFill/>
          </a:ln>
        </p:spPr>
      </p:pic>
      <p:pic>
        <p:nvPicPr>
          <p:cNvPr id="490" name="tool%20attribute" descr=""/>
          <p:cNvPicPr/>
          <p:nvPr/>
        </p:nvPicPr>
        <p:blipFill>
          <a:blip r:embed="rId7"/>
          <a:stretch/>
        </p:blipFill>
        <p:spPr>
          <a:xfrm>
            <a:off x="6858000" y="1494000"/>
            <a:ext cx="1981080" cy="1328400"/>
          </a:xfrm>
          <a:prstGeom prst="rect">
            <a:avLst/>
          </a:prstGeom>
          <a:ln w="0">
            <a:noFill/>
          </a:ln>
        </p:spPr>
      </p:pic>
      <p:pic>
        <p:nvPicPr>
          <p:cNvPr id="491" name="workingstep%20list" descr=""/>
          <p:cNvPicPr/>
          <p:nvPr/>
        </p:nvPicPr>
        <p:blipFill>
          <a:blip r:embed="rId8"/>
          <a:stretch/>
        </p:blipFill>
        <p:spPr>
          <a:xfrm>
            <a:off x="3505320" y="4780080"/>
            <a:ext cx="2057400" cy="15145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4041360" y="3246480"/>
            <a:ext cx="19868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eature Recogn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4091760" y="2133720"/>
            <a:ext cx="12398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eature Li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380160" y="1295280"/>
            <a:ext cx="1959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eature Paramet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6884640" y="3780000"/>
            <a:ext cx="1456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ration Li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>
            <a:off x="6105600" y="1295280"/>
            <a:ext cx="2739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ting Operation Attribut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>
            <a:off x="6181920" y="5761080"/>
            <a:ext cx="2739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ting Operation Attribut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>
            <a:off x="3723120" y="5684760"/>
            <a:ext cx="1690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Workingstep Li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>
            <a:off x="1217520" y="4541760"/>
            <a:ext cx="138312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O 14649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 Prog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251460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 rot="8014800">
            <a:off x="5929200" y="2499840"/>
            <a:ext cx="304920" cy="790560"/>
          </a:xfrm>
          <a:prstGeom prst="upArrow">
            <a:avLst>
              <a:gd name="adj1" fmla="val 50000"/>
              <a:gd name="adj2" fmla="val 6481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 rot="13484400">
            <a:off x="5791320" y="4389480"/>
            <a:ext cx="304560" cy="790560"/>
          </a:xfrm>
          <a:prstGeom prst="upArrow">
            <a:avLst>
              <a:gd name="adj1" fmla="val 50000"/>
              <a:gd name="adj2" fmla="val 6489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rot="18411600">
            <a:off x="2833920" y="4831920"/>
            <a:ext cx="304920" cy="790560"/>
          </a:xfrm>
          <a:prstGeom prst="upArrow">
            <a:avLst>
              <a:gd name="adj1" fmla="val 50000"/>
              <a:gd name="adj2" fmla="val 6481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504" name=""/>
          <p:cNvCxnSpPr>
            <a:stCxn id="487" idx="1"/>
          </p:cNvCxnSpPr>
          <p:nvPr/>
        </p:nvCxnSpPr>
        <p:spPr>
          <a:xfrm flipV="1" rot="10800000">
            <a:off x="2742480" y="1889640"/>
            <a:ext cx="534240" cy="25164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488" idx="0"/>
            <a:endCxn id="490" idx="2"/>
          </p:cNvCxnSpPr>
          <p:nvPr/>
        </p:nvCxnSpPr>
        <p:spPr>
          <a:xfrm flipH="1" flipV="1" rot="5400000">
            <a:off x="7522200" y="2691000"/>
            <a:ext cx="196200" cy="457920"/>
          </a:xfrm>
          <a:prstGeom prst="curvedConnector5">
            <a:avLst>
              <a:gd name="adj1" fmla="val 49448"/>
              <a:gd name="adj2" fmla="val 49960"/>
              <a:gd name="adj3" fmla="val 4944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488" idx="2"/>
            <a:endCxn id="489" idx="0"/>
          </p:cNvCxnSpPr>
          <p:nvPr/>
        </p:nvCxnSpPr>
        <p:spPr>
          <a:xfrm flipH="1" rot="16200000">
            <a:off x="7530120" y="4300560"/>
            <a:ext cx="254880" cy="533880"/>
          </a:xfrm>
          <a:prstGeom prst="curvedConnector5">
            <a:avLst>
              <a:gd name="adj1" fmla="val 49929"/>
              <a:gd name="adj2" fmla="val 50000"/>
              <a:gd name="adj3" fmla="val 4992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1066680" y="437436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3809880" y="310896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"/>
          <p:cNvSpPr/>
          <p:nvPr/>
        </p:nvSpPr>
        <p:spPr>
          <a:xfrm>
            <a:off x="3886200" y="196596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6781680" y="361224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559368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DDC6-6D9D-4C66-B182-5B188FFFC1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SFP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Code View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3" name="SNC%20part%20program(18)%20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278240" cy="3084480"/>
          </a:xfrm>
          <a:prstGeom prst="rect">
            <a:avLst/>
          </a:prstGeom>
          <a:ln w="0">
            <a:noFill/>
          </a:ln>
        </p:spPr>
      </p:pic>
      <p:pic>
        <p:nvPicPr>
          <p:cNvPr id="514" name="codeviewer(16)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5899320" cy="41590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419720" y="1143000"/>
            <a:ext cx="3962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tion of a part program by a Code View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 flipV="1" rot="5779800">
            <a:off x="3727440" y="2882880"/>
            <a:ext cx="317520" cy="2286000"/>
          </a:xfrm>
          <a:custGeom>
            <a:avLst/>
            <a:gdLst/>
            <a:ahLst/>
            <a:rect l="l" t="t" r="r" b="b"/>
            <a:pathLst>
              <a:path w="56" h="384">
                <a:moveTo>
                  <a:pt x="8" y="0"/>
                </a:moveTo>
                <a:cubicBezTo>
                  <a:pt x="4" y="88"/>
                  <a:pt x="0" y="176"/>
                  <a:pt x="8" y="240"/>
                </a:cubicBezTo>
                <a:cubicBezTo>
                  <a:pt x="16" y="304"/>
                  <a:pt x="36" y="344"/>
                  <a:pt x="56" y="38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E663-FE8E-45E4-8822-402EEE0EB8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267080" y="1066680"/>
            <a:ext cx="3810240" cy="32004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TPG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Tool-Path Generat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295280" y="1295280"/>
          <a:ext cx="678204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678204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9193-56CB-4D66-B08A-EEF75F1EBC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TPV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Tool-Path View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2" name="viewer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943600" cy="445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3" name="pocket" descr=""/>
          <p:cNvPicPr/>
          <p:nvPr/>
        </p:nvPicPr>
        <p:blipFill>
          <a:blip r:embed="rId2"/>
          <a:srcRect l="27682" t="16407" r="0" b="8204"/>
          <a:stretch/>
        </p:blipFill>
        <p:spPr>
          <a:xfrm>
            <a:off x="5715000" y="3922560"/>
            <a:ext cx="2975040" cy="23259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24" name=""/>
          <p:cNvSpPr/>
          <p:nvPr/>
        </p:nvSpPr>
        <p:spPr>
          <a:xfrm>
            <a:off x="3962520" y="2743200"/>
            <a:ext cx="1447560" cy="838080"/>
          </a:xfrm>
          <a:prstGeom prst="ellipse">
            <a:avLst/>
          </a:prstGeom>
          <a:noFill/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rot="2728800">
            <a:off x="5181840" y="3580200"/>
            <a:ext cx="868320" cy="381240"/>
          </a:xfrm>
          <a:prstGeom prst="rightArrow">
            <a:avLst>
              <a:gd name="adj1" fmla="val 50000"/>
              <a:gd name="adj2" fmla="val 5694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211B-BDB1-4578-BF3F-558FB9B0DD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MMI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Man-Machine Interfa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225080" y="5576760"/>
            <a:ext cx="2360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K/Axis Monitor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5642640" y="5576760"/>
            <a:ext cx="23068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 Program View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9" name="PosMMI-1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289400" cy="4103640"/>
          </a:xfrm>
          <a:prstGeom prst="rect">
            <a:avLst/>
          </a:prstGeom>
          <a:ln w="0">
            <a:noFill/>
          </a:ln>
        </p:spPr>
      </p:pic>
      <p:pic>
        <p:nvPicPr>
          <p:cNvPr id="530" name="PosMMI-2" descr=""/>
          <p:cNvPicPr/>
          <p:nvPr/>
        </p:nvPicPr>
        <p:blipFill>
          <a:blip r:embed="rId2"/>
          <a:stretch/>
        </p:blipFill>
        <p:spPr>
          <a:xfrm>
            <a:off x="4626000" y="1295280"/>
            <a:ext cx="428940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3AD4-2995-46C9-A22A-8E93518BAB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02:12:30Z</dcterms:created>
  <dc:creator>WVMT</dc:creator>
  <dc:description/>
  <dc:language>en-US</dc:language>
  <cp:lastModifiedBy>jhcho</cp:lastModifiedBy>
  <dcterms:modified xsi:type="dcterms:W3CDTF">2001-06-20T02:58:05Z</dcterms:modified>
  <cp:revision>1808</cp:revision>
  <dc:subject/>
  <dc:title>Full system modeling of  Shop Floor System for STEP-NC</dc:title>
</cp:coreProperties>
</file>