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526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52640" y="0"/>
            <a:ext cx="29271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83800" y="750960"/>
            <a:ext cx="4910040" cy="36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319680"/>
            <a:ext cx="2852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52640" y="9319680"/>
            <a:ext cx="2927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B7A6E73-9FE6-41B9-8D14-7AEA28AB4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41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aknas information i process domänen, ex, Generell processplanering (finns en del i 214), saknas koppling mot simulerings modeller (matematiska modell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urs: saknas beskrivning av ”capabilities” hos resurserna, kinematic (koppling mot pro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änger STEP-NC, 213, 214 ihop? Hur bör dom vara kopplade mot MANDATE, PSL, Petr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etriNet, matematiskmodell för … kolla med P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8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440"/>
            <a:ext cx="9144000" cy="534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43800" y="98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Verdana"/>
              </a:rPr>
              <a:t>IIP/D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81240" y="152280"/>
            <a:ext cx="49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Verdana"/>
              </a:rPr>
              <a:t>Olof Nyqvist – olof.nyqvist@iip.kth.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artlogo" descr=""/>
          <p:cNvPicPr/>
          <p:nvPr/>
        </p:nvPicPr>
        <p:blipFill>
          <a:blip r:embed="rId2"/>
          <a:stretch/>
        </p:blipFill>
        <p:spPr>
          <a:xfrm>
            <a:off x="304920" y="0"/>
            <a:ext cx="10666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Standards relevant to Manufactur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What already exists and what is miss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O TC184/SC4 San Fransisco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une 2001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SO 13399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sues with current version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Extensive rework being don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Utilize STEP, P-Lib, RDL, …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Part 1 by Oct, Fundamental Principles and Overview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tandards need to cover the information needs for manufactur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manufacturing system and its us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product, which is being manufactured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WG8 Manufacturing related standard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54" name="JWG8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96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8440" y="660240"/>
          <a:ext cx="9068040" cy="6045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660240"/>
                    <a:ext cx="9068040" cy="604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34000" y="63691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ource: F. Glantschn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ife Cycle Scop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61960" y="5638680"/>
            <a:ext cx="794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996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5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53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2720" y="568656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91840" y="5686560"/>
            <a:ext cx="11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20160" y="56865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78840" y="56865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34760" y="56865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320" y="3429000"/>
            <a:ext cx="13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0996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5760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05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53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82320" y="2133720"/>
            <a:ext cx="132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6600" y="3336840"/>
            <a:ext cx="151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7540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2484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2793960"/>
            <a:ext cx="288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Highlight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addressed by P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320" y="1371600"/>
          <a:ext cx="872172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872172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1362240" y="1828800"/>
            <a:ext cx="6181560" cy="3886200"/>
            <a:chOff x="1362240" y="1828800"/>
            <a:chExt cx="6181560" cy="3886200"/>
          </a:xfrm>
        </p:grpSpPr>
        <p:sp>
          <p:nvSpPr>
            <p:cNvPr id="83" name=""/>
            <p:cNvSpPr/>
            <p:nvPr/>
          </p:nvSpPr>
          <p:spPr>
            <a:xfrm>
              <a:off x="1362240" y="1828800"/>
              <a:ext cx="153324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81680" y="1828800"/>
              <a:ext cx="76212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4191120"/>
              <a:ext cx="1218960" cy="129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ble domain – </a:t>
            </a:r>
            <a:br>
              <a:rPr sz="4000"/>
            </a:b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evel of Detail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1828800"/>
            <a:ext cx="838080" cy="1600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6280" y="1828800"/>
            <a:ext cx="5781600" cy="3429000"/>
            <a:chOff x="1376280" y="1828800"/>
            <a:chExt cx="5781600" cy="3429000"/>
          </a:xfrm>
        </p:grpSpPr>
        <p:sp>
          <p:nvSpPr>
            <p:cNvPr id="89" name=""/>
            <p:cNvSpPr/>
            <p:nvPr/>
          </p:nvSpPr>
          <p:spPr>
            <a:xfrm>
              <a:off x="1376280" y="1828800"/>
              <a:ext cx="98604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1828800"/>
              <a:ext cx="29988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24080" y="1828800"/>
            <a:ext cx="838440" cy="19810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TEP-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514600"/>
            <a:ext cx="83808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10080" y="1828800"/>
            <a:ext cx="3353040" cy="2438280"/>
            <a:chOff x="5410080" y="1828800"/>
            <a:chExt cx="3353040" cy="2438280"/>
          </a:xfrm>
        </p:grpSpPr>
        <p:sp>
          <p:nvSpPr>
            <p:cNvPr id="94" name=""/>
            <p:cNvSpPr/>
            <p:nvPr/>
          </p:nvSpPr>
          <p:spPr>
            <a:xfrm>
              <a:off x="5410080" y="3124080"/>
              <a:ext cx="762120" cy="114300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1828800"/>
              <a:ext cx="533520" cy="19810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362320" y="1828800"/>
            <a:ext cx="5181480" cy="762120"/>
            <a:chOff x="2362320" y="1828800"/>
            <a:chExt cx="5181480" cy="762120"/>
          </a:xfrm>
        </p:grpSpPr>
        <p:sp>
          <p:nvSpPr>
            <p:cNvPr id="97" name=""/>
            <p:cNvSpPr/>
            <p:nvPr/>
          </p:nvSpPr>
          <p:spPr>
            <a:xfrm>
              <a:off x="2362320" y="1828800"/>
              <a:ext cx="3808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1828800"/>
              <a:ext cx="2286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3840" y="1258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800" y="63849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029200" y="4038480"/>
            <a:ext cx="4114800" cy="2006280"/>
            <a:chOff x="5029200" y="4038480"/>
            <a:chExt cx="4114800" cy="2006280"/>
          </a:xfrm>
        </p:grpSpPr>
        <p:sp>
          <p:nvSpPr>
            <p:cNvPr id="102" name="Cloud"/>
            <p:cNvSpPr/>
            <p:nvPr/>
          </p:nvSpPr>
          <p:spPr>
            <a:xfrm>
              <a:off x="5029200" y="40384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642080" y="4800600"/>
              <a:ext cx="1501920" cy="1244160"/>
              <a:chOff x="7642080" y="4800600"/>
              <a:chExt cx="1501920" cy="1244160"/>
            </a:xfrm>
          </p:grpSpPr>
          <p:sp>
            <p:nvSpPr>
              <p:cNvPr id="104" name="Cloud"/>
              <p:cNvSpPr/>
              <p:nvPr/>
            </p:nvSpPr>
            <p:spPr>
              <a:xfrm>
                <a:off x="764208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208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029200" y="4800600"/>
              <a:ext cx="1501920" cy="1244160"/>
              <a:chOff x="5029200" y="4800600"/>
              <a:chExt cx="1501920" cy="1244160"/>
            </a:xfrm>
          </p:grpSpPr>
          <p:sp>
            <p:nvSpPr>
              <p:cNvPr id="107" name="Cloud"/>
              <p:cNvSpPr/>
              <p:nvPr/>
            </p:nvSpPr>
            <p:spPr>
              <a:xfrm>
                <a:off x="502920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2920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533520" y="1828800"/>
            <a:ext cx="6907320" cy="3885840"/>
            <a:chOff x="533520" y="1828800"/>
            <a:chExt cx="6907320" cy="3885840"/>
          </a:xfrm>
        </p:grpSpPr>
        <p:grpSp>
          <p:nvGrpSpPr>
            <p:cNvPr id="110" name=""/>
            <p:cNvGrpSpPr/>
            <p:nvPr/>
          </p:nvGrpSpPr>
          <p:grpSpPr>
            <a:xfrm>
              <a:off x="533520" y="1828800"/>
              <a:ext cx="1600200" cy="3885840"/>
              <a:chOff x="533520" y="1828800"/>
              <a:chExt cx="1600200" cy="388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33520" y="1828800"/>
                <a:ext cx="1600200" cy="3885840"/>
                <a:chOff x="533520" y="1828800"/>
                <a:chExt cx="1600200" cy="388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914400" y="1828800"/>
                  <a:ext cx="838080" cy="2748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3520" y="4388040"/>
                  <a:ext cx="1600200" cy="1326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799560" y="426708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48520" y="1828800"/>
              <a:ext cx="1192320" cy="1599840"/>
              <a:chOff x="6248520" y="1828800"/>
              <a:chExt cx="1192320" cy="1599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248520" y="1828800"/>
                <a:ext cx="990720" cy="1599840"/>
                <a:chOff x="6248520" y="1828800"/>
                <a:chExt cx="990720" cy="1599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484320" y="1828800"/>
                  <a:ext cx="518760" cy="113184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48520" y="2882520"/>
                  <a:ext cx="990720" cy="54612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6414120" y="28321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457200" y="2666880"/>
            <a:ext cx="6934320" cy="1325520"/>
            <a:chOff x="457200" y="2666880"/>
            <a:chExt cx="6934320" cy="1325520"/>
          </a:xfrm>
        </p:grpSpPr>
        <p:sp>
          <p:nvSpPr>
            <p:cNvPr id="121" name="Cloud"/>
            <p:cNvSpPr/>
            <p:nvPr/>
          </p:nvSpPr>
          <p:spPr>
            <a:xfrm>
              <a:off x="457200" y="26668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Cloud"/>
            <p:cNvSpPr/>
            <p:nvPr/>
          </p:nvSpPr>
          <p:spPr>
            <a:xfrm>
              <a:off x="6248520" y="2971800"/>
              <a:ext cx="1143000" cy="102060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90720" y="5257800"/>
            <a:ext cx="6629400" cy="1020600"/>
            <a:chOff x="990720" y="5257800"/>
            <a:chExt cx="6629400" cy="1020600"/>
          </a:xfrm>
        </p:grpSpPr>
        <p:sp>
          <p:nvSpPr>
            <p:cNvPr id="124" name="Cloud"/>
            <p:cNvSpPr/>
            <p:nvPr/>
          </p:nvSpPr>
          <p:spPr>
            <a:xfrm>
              <a:off x="9907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Cloud"/>
            <p:cNvSpPr/>
            <p:nvPr/>
          </p:nvSpPr>
          <p:spPr>
            <a:xfrm>
              <a:off x="64771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20120" y="1828800"/>
            <a:ext cx="152280" cy="29718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33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Digital Plant </a:t>
            </a:r>
            <a:br>
              <a:rPr sz="4000"/>
            </a:b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Information Types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4360" y="2286000"/>
            <a:ext cx="2279880" cy="3490920"/>
            <a:chOff x="684360" y="2286000"/>
            <a:chExt cx="2279880" cy="3490920"/>
          </a:xfrm>
        </p:grpSpPr>
        <p:sp>
          <p:nvSpPr>
            <p:cNvPr id="129" name=""/>
            <p:cNvSpPr/>
            <p:nvPr/>
          </p:nvSpPr>
          <p:spPr>
            <a:xfrm>
              <a:off x="684360" y="2286000"/>
              <a:ext cx="158544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22680" y="2286000"/>
            <a:ext cx="2443680" cy="3490920"/>
            <a:chOff x="6322680" y="2286000"/>
            <a:chExt cx="2443680" cy="3490920"/>
          </a:xfrm>
        </p:grpSpPr>
        <p:sp>
          <p:nvSpPr>
            <p:cNvPr id="132" name=""/>
            <p:cNvSpPr/>
            <p:nvPr/>
          </p:nvSpPr>
          <p:spPr>
            <a:xfrm>
              <a:off x="6322680" y="2286000"/>
              <a:ext cx="2443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Mfg.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6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6840" y="2286000"/>
            <a:ext cx="2636640" cy="3490920"/>
            <a:chOff x="3426840" y="2286000"/>
            <a:chExt cx="2636640" cy="3490920"/>
          </a:xfrm>
        </p:grpSpPr>
        <p:sp>
          <p:nvSpPr>
            <p:cNvPr id="135" name=""/>
            <p:cNvSpPr/>
            <p:nvPr/>
          </p:nvSpPr>
          <p:spPr>
            <a:xfrm>
              <a:off x="3426840" y="2286000"/>
              <a:ext cx="165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c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5840" y="3124080"/>
              <a:ext cx="262764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trol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ehaviour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17520" y="2971800"/>
            <a:ext cx="8597880" cy="3048120"/>
            <a:chOff x="317520" y="2971800"/>
            <a:chExt cx="8597880" cy="3048120"/>
          </a:xfrm>
        </p:grpSpPr>
        <p:grpSp>
          <p:nvGrpSpPr>
            <p:cNvPr id="138" name=""/>
            <p:cNvGrpSpPr/>
            <p:nvPr/>
          </p:nvGrpSpPr>
          <p:grpSpPr>
            <a:xfrm>
              <a:off x="317520" y="2971800"/>
              <a:ext cx="8597880" cy="3048120"/>
              <a:chOff x="317520" y="2971800"/>
              <a:chExt cx="8597880" cy="3048120"/>
            </a:xfrm>
          </p:grpSpPr>
          <p:sp>
            <p:nvSpPr>
              <p:cNvPr id="139" name=""/>
              <p:cNvSpPr/>
              <p:nvPr/>
            </p:nvSpPr>
            <p:spPr>
              <a:xfrm>
                <a:off x="6248520" y="2971800"/>
                <a:ext cx="266688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24080" y="2971800"/>
                <a:ext cx="3124440" cy="205740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7520" y="2971800"/>
                <a:ext cx="280656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16400" y="3124080"/>
              <a:ext cx="4225320" cy="170748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600" spc="-1" strike="noStrike">
                  <a:solidFill>
                    <a:srgbClr val="ffffff"/>
                  </a:solidFill>
                  <a:latin typeface="Arial"/>
                </a:rPr>
                <a:t>AP214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24280" y="6400800"/>
            <a:ext cx="20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Source: Mattias Johans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Process information and plann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90720" y="2286000"/>
            <a:ext cx="6629400" cy="4165560"/>
            <a:chOff x="990720" y="2286000"/>
            <a:chExt cx="6629400" cy="4165560"/>
          </a:xfrm>
        </p:grpSpPr>
        <p:pic>
          <p:nvPicPr>
            <p:cNvPr id="146" name="maho%20dmc%2060%20u" descr=""/>
            <p:cNvPicPr/>
            <p:nvPr/>
          </p:nvPicPr>
          <p:blipFill>
            <a:blip r:embed="rId1"/>
            <a:stretch/>
          </p:blipFill>
          <p:spPr>
            <a:xfrm>
              <a:off x="6095880" y="2362320"/>
              <a:ext cx="152424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aho%20dmc%2060%20u" descr=""/>
            <p:cNvPicPr/>
            <p:nvPr/>
          </p:nvPicPr>
          <p:blipFill>
            <a:blip r:embed="rId2"/>
            <a:stretch/>
          </p:blipFill>
          <p:spPr>
            <a:xfrm>
              <a:off x="990720" y="4952880"/>
              <a:ext cx="15238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aho%20mf%20twin%20300" descr=""/>
            <p:cNvPicPr/>
            <p:nvPr/>
          </p:nvPicPr>
          <p:blipFill>
            <a:blip r:embed="rId3"/>
            <a:stretch/>
          </p:blipFill>
          <p:spPr>
            <a:xfrm>
              <a:off x="1066680" y="2286000"/>
              <a:ext cx="21337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tuf" descr=""/>
            <p:cNvPicPr/>
            <p:nvPr/>
          </p:nvPicPr>
          <p:blipFill>
            <a:blip r:embed="rId4"/>
            <a:stretch/>
          </p:blipFill>
          <p:spPr>
            <a:xfrm>
              <a:off x="5486400" y="4952880"/>
              <a:ext cx="1752480" cy="149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motorSolidModel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17524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357640" y="3224160"/>
            <a:ext cx="3786120" cy="2194920"/>
            <a:chOff x="2357640" y="3224160"/>
            <a:chExt cx="3786120" cy="2194920"/>
          </a:xfrm>
        </p:grpSpPr>
        <p:sp>
          <p:nvSpPr>
            <p:cNvPr id="152" name=""/>
            <p:cNvSpPr/>
            <p:nvPr/>
          </p:nvSpPr>
          <p:spPr>
            <a:xfrm rot="9024000">
              <a:off x="2362320" y="4723920"/>
              <a:ext cx="1371600" cy="381240"/>
            </a:xfrm>
            <a:prstGeom prst="rightArrow">
              <a:avLst>
                <a:gd name="adj1" fmla="val 50000"/>
                <a:gd name="adj2" fmla="val 899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253000">
              <a:off x="4723920" y="480024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539000">
              <a:off x="5105160" y="350496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rot="16200000">
            <a:off x="1028520" y="384768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62720" y="1828800"/>
            <a:ext cx="3124080" cy="2286000"/>
          </a:xfrm>
          <a:prstGeom prst="cloudCallout">
            <a:avLst>
              <a:gd name="adj1" fmla="val 19106"/>
              <a:gd name="adj2" fmla="val 62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tion oriented selec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2640" y="3546360"/>
            <a:ext cx="568440" cy="2149560"/>
            <a:chOff x="1142640" y="3546360"/>
            <a:chExt cx="568440" cy="2149560"/>
          </a:xfrm>
        </p:grpSpPr>
        <p:sp>
          <p:nvSpPr>
            <p:cNvPr id="159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2" y="8"/>
                  </a:ln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d19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0"/>
                  </a:ln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25240" y="5500440"/>
              <a:ext cx="285840" cy="14436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142" y="0"/>
                  </a:moveTo>
                  <a:lnTo>
                    <a:pt x="142" y="5"/>
                  </a:lnTo>
                  <a:lnTo>
                    <a:pt x="138" y="14"/>
                  </a:lnTo>
                  <a:lnTo>
                    <a:pt x="133" y="29"/>
                  </a:lnTo>
                  <a:lnTo>
                    <a:pt x="122" y="42"/>
                  </a:lnTo>
                  <a:lnTo>
                    <a:pt x="112" y="48"/>
                  </a:lnTo>
                  <a:lnTo>
                    <a:pt x="98" y="57"/>
                  </a:lnTo>
                  <a:lnTo>
                    <a:pt x="81" y="68"/>
                  </a:lnTo>
                  <a:lnTo>
                    <a:pt x="65" y="77"/>
                  </a:lnTo>
                  <a:lnTo>
                    <a:pt x="48" y="87"/>
                  </a:lnTo>
                  <a:lnTo>
                    <a:pt x="31" y="96"/>
                  </a:lnTo>
                  <a:lnTo>
                    <a:pt x="18" y="103"/>
                  </a:lnTo>
                  <a:lnTo>
                    <a:pt x="11" y="107"/>
                  </a:lnTo>
                  <a:lnTo>
                    <a:pt x="4" y="115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6" y="152"/>
                  </a:lnTo>
                  <a:lnTo>
                    <a:pt x="17" y="166"/>
                  </a:lnTo>
                  <a:lnTo>
                    <a:pt x="35" y="176"/>
                  </a:lnTo>
                  <a:lnTo>
                    <a:pt x="61" y="181"/>
                  </a:lnTo>
                  <a:lnTo>
                    <a:pt x="96" y="181"/>
                  </a:lnTo>
                  <a:lnTo>
                    <a:pt x="114" y="178"/>
                  </a:lnTo>
                  <a:lnTo>
                    <a:pt x="129" y="176"/>
                  </a:lnTo>
                  <a:lnTo>
                    <a:pt x="144" y="170"/>
                  </a:lnTo>
                  <a:lnTo>
                    <a:pt x="157" y="165"/>
                  </a:lnTo>
                  <a:lnTo>
                    <a:pt x="168" y="159"/>
                  </a:lnTo>
                  <a:lnTo>
                    <a:pt x="179" y="152"/>
                  </a:lnTo>
                  <a:lnTo>
                    <a:pt x="190" y="146"/>
                  </a:lnTo>
                  <a:lnTo>
                    <a:pt x="199" y="139"/>
                  </a:lnTo>
                  <a:lnTo>
                    <a:pt x="208" y="131"/>
                  </a:lnTo>
                  <a:lnTo>
                    <a:pt x="218" y="126"/>
                  </a:lnTo>
                  <a:lnTo>
                    <a:pt x="229" y="118"/>
                  </a:lnTo>
                  <a:lnTo>
                    <a:pt x="240" y="115"/>
                  </a:lnTo>
                  <a:lnTo>
                    <a:pt x="253" y="109"/>
                  </a:lnTo>
                  <a:lnTo>
                    <a:pt x="266" y="105"/>
                  </a:lnTo>
                  <a:lnTo>
                    <a:pt x="280" y="103"/>
                  </a:lnTo>
                  <a:lnTo>
                    <a:pt x="297" y="102"/>
                  </a:lnTo>
                  <a:lnTo>
                    <a:pt x="326" y="98"/>
                  </a:lnTo>
                  <a:lnTo>
                    <a:pt x="347" y="90"/>
                  </a:lnTo>
                  <a:lnTo>
                    <a:pt x="356" y="79"/>
                  </a:lnTo>
                  <a:lnTo>
                    <a:pt x="360" y="68"/>
                  </a:lnTo>
                  <a:lnTo>
                    <a:pt x="360" y="57"/>
                  </a:lnTo>
                  <a:lnTo>
                    <a:pt x="356" y="46"/>
                  </a:lnTo>
                  <a:lnTo>
                    <a:pt x="352" y="39"/>
                  </a:lnTo>
                  <a:lnTo>
                    <a:pt x="350" y="37"/>
                  </a:lnTo>
                  <a:lnTo>
                    <a:pt x="339" y="37"/>
                  </a:lnTo>
                  <a:lnTo>
                    <a:pt x="328" y="37"/>
                  </a:lnTo>
                  <a:lnTo>
                    <a:pt x="313" y="35"/>
                  </a:lnTo>
                  <a:lnTo>
                    <a:pt x="299" y="35"/>
                  </a:lnTo>
                  <a:lnTo>
                    <a:pt x="282" y="33"/>
                  </a:lnTo>
                  <a:lnTo>
                    <a:pt x="267" y="31"/>
                  </a:lnTo>
                  <a:lnTo>
                    <a:pt x="249" y="29"/>
                  </a:lnTo>
                  <a:lnTo>
                    <a:pt x="234" y="29"/>
                  </a:lnTo>
                  <a:lnTo>
                    <a:pt x="218" y="26"/>
                  </a:lnTo>
                  <a:lnTo>
                    <a:pt x="203" y="24"/>
                  </a:lnTo>
                  <a:lnTo>
                    <a:pt x="188" y="20"/>
                  </a:lnTo>
                  <a:lnTo>
                    <a:pt x="175" y="16"/>
                  </a:lnTo>
                  <a:lnTo>
                    <a:pt x="164" y="13"/>
                  </a:lnTo>
                  <a:lnTo>
                    <a:pt x="153" y="9"/>
                  </a:lnTo>
                  <a:lnTo>
                    <a:pt x="148" y="5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205640" y="5538600"/>
              <a:ext cx="225720" cy="15732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116" y="0"/>
                  </a:moveTo>
                  <a:lnTo>
                    <a:pt x="116" y="0"/>
                  </a:lnTo>
                  <a:lnTo>
                    <a:pt x="115" y="5"/>
                  </a:lnTo>
                  <a:lnTo>
                    <a:pt x="111" y="11"/>
                  </a:lnTo>
                  <a:lnTo>
                    <a:pt x="105" y="20"/>
                  </a:lnTo>
                  <a:lnTo>
                    <a:pt x="100" y="29"/>
                  </a:lnTo>
                  <a:lnTo>
                    <a:pt x="93" y="39"/>
                  </a:lnTo>
                  <a:lnTo>
                    <a:pt x="83" y="48"/>
                  </a:lnTo>
                  <a:lnTo>
                    <a:pt x="76" y="57"/>
                  </a:lnTo>
                  <a:lnTo>
                    <a:pt x="65" y="65"/>
                  </a:lnTo>
                  <a:lnTo>
                    <a:pt x="54" y="76"/>
                  </a:lnTo>
                  <a:lnTo>
                    <a:pt x="41" y="87"/>
                  </a:lnTo>
                  <a:lnTo>
                    <a:pt x="30" y="98"/>
                  </a:lnTo>
                  <a:lnTo>
                    <a:pt x="19" y="109"/>
                  </a:lnTo>
                  <a:lnTo>
                    <a:pt x="10" y="122"/>
                  </a:lnTo>
                  <a:lnTo>
                    <a:pt x="4" y="135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4" y="170"/>
                  </a:lnTo>
                  <a:lnTo>
                    <a:pt x="10" y="180"/>
                  </a:lnTo>
                  <a:lnTo>
                    <a:pt x="17" y="187"/>
                  </a:lnTo>
                  <a:lnTo>
                    <a:pt x="28" y="194"/>
                  </a:lnTo>
                  <a:lnTo>
                    <a:pt x="41" y="198"/>
                  </a:lnTo>
                  <a:lnTo>
                    <a:pt x="57" y="198"/>
                  </a:lnTo>
                  <a:lnTo>
                    <a:pt x="76" y="196"/>
                  </a:lnTo>
                  <a:lnTo>
                    <a:pt x="94" y="193"/>
                  </a:lnTo>
                  <a:lnTo>
                    <a:pt x="111" y="189"/>
                  </a:lnTo>
                  <a:lnTo>
                    <a:pt x="128" y="187"/>
                  </a:lnTo>
                  <a:lnTo>
                    <a:pt x="144" y="183"/>
                  </a:lnTo>
                  <a:lnTo>
                    <a:pt x="159" y="176"/>
                  </a:lnTo>
                  <a:lnTo>
                    <a:pt x="172" y="167"/>
                  </a:lnTo>
                  <a:lnTo>
                    <a:pt x="183" y="154"/>
                  </a:lnTo>
                  <a:lnTo>
                    <a:pt x="192" y="137"/>
                  </a:lnTo>
                  <a:lnTo>
                    <a:pt x="199" y="118"/>
                  </a:lnTo>
                  <a:lnTo>
                    <a:pt x="209" y="104"/>
                  </a:lnTo>
                  <a:lnTo>
                    <a:pt x="220" y="93"/>
                  </a:lnTo>
                  <a:lnTo>
                    <a:pt x="229" y="85"/>
                  </a:lnTo>
                  <a:lnTo>
                    <a:pt x="240" y="80"/>
                  </a:lnTo>
                  <a:lnTo>
                    <a:pt x="249" y="74"/>
                  </a:lnTo>
                  <a:lnTo>
                    <a:pt x="258" y="70"/>
                  </a:lnTo>
                  <a:lnTo>
                    <a:pt x="266" y="68"/>
                  </a:lnTo>
                  <a:lnTo>
                    <a:pt x="275" y="57"/>
                  </a:lnTo>
                  <a:lnTo>
                    <a:pt x="282" y="41"/>
                  </a:lnTo>
                  <a:lnTo>
                    <a:pt x="284" y="24"/>
                  </a:lnTo>
                  <a:lnTo>
                    <a:pt x="284" y="13"/>
                  </a:lnTo>
                  <a:lnTo>
                    <a:pt x="277" y="13"/>
                  </a:lnTo>
                  <a:lnTo>
                    <a:pt x="268" y="13"/>
                  </a:lnTo>
                  <a:lnTo>
                    <a:pt x="258" y="11"/>
                  </a:lnTo>
                  <a:lnTo>
                    <a:pt x="247" y="11"/>
                  </a:lnTo>
                  <a:lnTo>
                    <a:pt x="236" y="11"/>
                  </a:lnTo>
                  <a:lnTo>
                    <a:pt x="223" y="9"/>
                  </a:lnTo>
                  <a:lnTo>
                    <a:pt x="211" y="9"/>
                  </a:lnTo>
                  <a:lnTo>
                    <a:pt x="198" y="9"/>
                  </a:lnTo>
                  <a:lnTo>
                    <a:pt x="187" y="7"/>
                  </a:lnTo>
                  <a:lnTo>
                    <a:pt x="174" y="7"/>
                  </a:lnTo>
                  <a:lnTo>
                    <a:pt x="163" y="5"/>
                  </a:lnTo>
                  <a:lnTo>
                    <a:pt x="152" y="4"/>
                  </a:lnTo>
                  <a:lnTo>
                    <a:pt x="140" y="4"/>
                  </a:lnTo>
                  <a:lnTo>
                    <a:pt x="131" y="2"/>
                  </a:lnTo>
                  <a:lnTo>
                    <a:pt x="12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7" y="373"/>
                  </a:ln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22" y="204"/>
                  </a:ln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7" y="557"/>
                  </a:ln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15" y="131"/>
                  </a:ln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0" y="5"/>
                  </a:ln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94720" y="4668840"/>
              <a:ext cx="126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0" y="22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388880" y="3773160"/>
              <a:ext cx="15840" cy="7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0"/>
                  </a:moveTo>
                  <a:lnTo>
                    <a:pt x="21" y="0"/>
                  </a:lnTo>
                  <a:lnTo>
                    <a:pt x="17" y="6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3240" y="3713040"/>
              <a:ext cx="46080" cy="8424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26"/>
                  </a:lnTo>
                  <a:lnTo>
                    <a:pt x="24" y="50"/>
                  </a:lnTo>
                  <a:lnTo>
                    <a:pt x="18" y="72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3"/>
                  </a:lnTo>
                  <a:lnTo>
                    <a:pt x="15" y="98"/>
                  </a:lnTo>
                  <a:lnTo>
                    <a:pt x="15" y="102"/>
                  </a:lnTo>
                  <a:lnTo>
                    <a:pt x="18" y="106"/>
                  </a:lnTo>
                  <a:lnTo>
                    <a:pt x="22" y="108"/>
                  </a:lnTo>
                  <a:lnTo>
                    <a:pt x="31" y="108"/>
                  </a:lnTo>
                  <a:lnTo>
                    <a:pt x="42" y="106"/>
                  </a:lnTo>
                  <a:lnTo>
                    <a:pt x="5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85360" y="372096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4" y="6"/>
                  </a:lnTo>
                  <a:lnTo>
                    <a:pt x="29" y="9"/>
                  </a:lnTo>
                  <a:lnTo>
                    <a:pt x="35" y="11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555200" y="3724200"/>
              <a:ext cx="1404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5"/>
                  </a:moveTo>
                  <a:lnTo>
                    <a:pt x="13" y="4"/>
                  </a:lnTo>
                  <a:lnTo>
                    <a:pt x="7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53" y="493"/>
                  </a:ln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371600" y="1219320"/>
            <a:ext cx="3124080" cy="2286000"/>
          </a:xfrm>
          <a:prstGeom prst="cloudCallout">
            <a:avLst>
              <a:gd name="adj1" fmla="val -45935"/>
              <a:gd name="adj2" fmla="val 4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tools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60020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motorSolidModel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175284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6781680" y="4572000"/>
          <a:ext cx="125892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4572000"/>
                    <a:ext cx="12589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4800600"/>
            <a:ext cx="2286000" cy="685800"/>
          </a:xfrm>
          <a:prstGeom prst="leftRightArrow">
            <a:avLst>
              <a:gd name="adj1" fmla="val 50000"/>
              <a:gd name="adj2" fmla="val 6635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1760" y="57913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anufactur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3360" y="57913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ool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3:33:33Z</dcterms:created>
  <dc:creator>Olof Nyqvist</dc:creator>
  <dc:description/>
  <dc:language>en-US</dc:language>
  <cp:lastModifiedBy>hardwick</cp:lastModifiedBy>
  <dcterms:modified xsi:type="dcterms:W3CDTF">2001-06-26T14:19:32Z</dcterms:modified>
  <cp:revision>35</cp:revision>
  <dc:subject/>
  <dc:title>Manufacturing Taskforce</dc:title>
</cp:coreProperties>
</file>