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323E-2485-493D-B567-FB0D16DACD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e chart showing the same as the previous slide by propor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TED SLID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ws formation of involute pro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erence slide… normally hid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erence slide… normally hid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erence slide… normally hid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 gears rotate, the point of contact moves along a straight line (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ontact lin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). This line at angle alpha (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pressure angl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) is always normal to the 2 mating tooth surfaces at the point of contact and is tangential to the base cir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erence slide… normally hid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e chart showing the same as the previous slide by propor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F7B9-2A55-44A9-8823-E19B984D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D0E4-2F4F-4073-ABAA-3B1F7B32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8A8C-DD54-4BAF-847B-6635B4C1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1D30-2BB4-41E9-BA89-FD1D8E72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C57D-9784-47BC-AAC1-EA7DABBD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79AD-59CC-4702-AA79-86232B68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06B5-5D93-46D1-BA1C-6ED38E0D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3BB8-5A3F-459A-BA05-E55F52F1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5582-D189-44F7-9E71-CBB87451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DBB8-5728-4E40-B941-6EDB56C9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1BDC-1AE2-4E89-AB1B-16B098B1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A81B-7A0E-45AB-9274-9E7CBE36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8943-D3FC-4CA5-879B-5DCA84F30B38}" type="datetime2">
              <a:rPr b="1" lang="en-US" sz="1400" spc="-1" strike="noStrike">
                <a:solidFill>
                  <a:srgbClr val="ffff00"/>
                </a:solidFill>
                <a:latin typeface="Arial"/>
              </a:rPr>
              <a:t>Thursday, 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C5B3-7281-4F21-B923-0F08EA72F846}" type="slidenum">
              <a:rPr b="1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C4 Preliminary Work Item 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4286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P224 - extension for gear manufactu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191120"/>
            <a:ext cx="914400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ony Fry - UK M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ISO TC184 / SC4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10th - 15th June 2001 - San Fran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Dtech_jpg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2057400" cy="1398600"/>
          </a:xfrm>
          <a:prstGeom prst="rect">
            <a:avLst/>
          </a:prstGeom>
          <a:ln w="0">
            <a:noFill/>
          </a:ln>
        </p:spPr>
      </p:pic>
      <p:pic>
        <p:nvPicPr>
          <p:cNvPr id="52" name="dlo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361960" cy="833400"/>
          </a:xfrm>
          <a:prstGeom prst="rect">
            <a:avLst/>
          </a:prstGeom>
          <a:ln w="0">
            <a:noFill/>
          </a:ln>
        </p:spPr>
      </p:pic>
      <p:pic>
        <p:nvPicPr>
          <p:cNvPr id="53" name="Shipsworldwide" descr=""/>
          <p:cNvPicPr/>
          <p:nvPr/>
        </p:nvPicPr>
        <p:blipFill>
          <a:blip r:embed="rId4"/>
          <a:stretch/>
        </p:blipFill>
        <p:spPr>
          <a:xfrm>
            <a:off x="5410080" y="4038480"/>
            <a:ext cx="3581640" cy="275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F9DF-81A1-49C1-A538-348D8862B79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831C6-92BA-486E-BF20-8370B9BC67FB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ored Unit Costs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vs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90440" y="1544760"/>
          <a:ext cx="8763120" cy="428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1544760"/>
                    <a:ext cx="876312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18A2-5FD5-4926-BCFF-28C2DE686DB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C6429-8B12-4DAD-B3EE-1828F186FB34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ored Unit Costs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vs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04920" y="1447920"/>
          <a:ext cx="8458200" cy="455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8458200" cy="45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A2D6-FC85-4171-B82B-F13EA529F8A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34E87-3443-4525-B420-5B89C6D25316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22096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anking of types according to Naval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pur g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Helical g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evel g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orm g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acks / pin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Gear quadrants (various for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view of UK Naval Spares Inven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DDCC-09C0-455E-ADAC-9E9B991C457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90C59-9A9C-458B-9416-0B7165185AC6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Based upon analysis &amp; technical ease of representation within AP2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pur gears / gearshaf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&gt; 50% store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Helical gears / gearshaf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20% store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Others represent &lt; 10% store cost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uggested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 flipH="1">
            <a:off x="7372080" y="3048120"/>
            <a:ext cx="398520" cy="58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 flipH="1">
            <a:off x="7373520" y="4214880"/>
            <a:ext cx="398520" cy="58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46E1-AA3A-46E9-9AA7-E4799938C1B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90487-4E48-4DBA-9B70-6457F565421D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uggested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Arial"/>
              </a:rPr>
              <a:t>Tooth 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nvol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ost common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ully defined by reference to 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utters can be cheaply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asy to obtain correct interme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lerant of centre distance var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1D15-E529-497E-AD87-809AF58744D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3CA40-F14E-432E-B311-E4A0319C5F6D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71824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28800" y="0"/>
            <a:ext cx="571968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7C23-4938-4055-BEE9-4ACF5C88B5B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A1C4E-F376-4DC2-A7D2-A6F9B5BA56B4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Arial"/>
              </a:rPr>
              <a:t>Gear 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pur and helical g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roadest application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Parallel shafting gear tr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Wide range of velocity rat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High speed and load capa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onsideration in representation to be given to future extension to include other gear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A3CB-C1CB-4213-8309-B2F8FC574C5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A9601-E99C-4DF2-A91C-471B2F9EF69B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Overview of representation of spur &amp; helical ge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pecification of basic geo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Number of teeth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Normal module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i="1" lang="en-GB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Reference pressure angle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Rack shift factor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Nominal tooth depth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</a:rPr>
              <a:t>h/m</a:t>
            </a:r>
            <a:r>
              <a:rPr b="0" i="1" lang="en-GB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ace width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ip diameter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GB" sz="28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411264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Not dissimilar to (but more complex than) data required to specify screw threads, knu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EDDF-1108-4844-9F1A-3AB9977376A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96918-565D-40B2-A8E1-2466C1183CDA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ference cylinder,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67040" y="1620720"/>
            <a:ext cx="3076560" cy="2646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62120" y="4419720"/>
            <a:ext cx="80769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eference cylind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reference surface of a cylindrical g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eference diamet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GB" sz="2400" spc="-1" strike="noStrike">
                <a:solidFill>
                  <a:srgbClr val="000000"/>
                </a:solidFill>
                <a:latin typeface="Univers-Light"/>
              </a:rPr>
              <a:t>diameter of the reference 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Univers-Light"/>
              </a:rPr>
              <a:t>Reference surface</a:t>
            </a:r>
            <a:r>
              <a:rPr b="0" lang="en-GB" sz="2400" spc="-1" strike="noStrike">
                <a:solidFill>
                  <a:srgbClr val="000000"/>
                </a:solidFill>
                <a:latin typeface="Univers-Light"/>
              </a:rPr>
              <a:t> = imaginary conventional surface relative to which the dimensions of the teeth of a gear are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B9E3-8376-47C9-98D5-CE6172C9452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69C9F-784A-412E-81CC-6076B90134AA}" type="datetime2">
              <a:rPr lang="en-US"/>
              <a:t>Thursday, July 30, 20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rmal mo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43828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rmal modu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quotient of the pitch at the reference surfa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ressed in millimetres, divided by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419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rmal modu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reference diameter/number of teeth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/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657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15FA-70D2-415D-90E2-474C5AFADE7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DF8433-A17E-4280-B354-87FC215C1CC1}" type="datetime2">
              <a:rPr lang="en-US"/>
              <a:t>Thursday, July 30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P224 - Extension for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Gear Manufacturing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Economic case for inclusion of g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uggested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Gear representation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Other potential AP224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4437-077E-45BB-82D9-4A0D0C04F12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F8E93-EABB-43B8-B2AA-FBBF80663622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ference pressure 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365760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gears rotate, the point of contact moves along a straight line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ontact li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 This line at angl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ressure ang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always normal to the two mating tooth surfaces at the point of contact and is tangential to the base cir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019240" y="1590840"/>
            <a:ext cx="5372280" cy="2066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248520" y="5105520"/>
            <a:ext cx="2743200" cy="158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58C-68B2-4FA6-959C-898E64899BA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13500-3D47-4576-B602-92353BE64EF9}" type="datetime2">
              <a:rPr lang="en-US"/>
              <a:t>Thursday, July 30, 20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oth dep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4710240"/>
            <a:ext cx="77724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ooth dept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GB" sz="2400" spc="-1" strike="noStrike">
                <a:solidFill>
                  <a:srgbClr val="000000"/>
                </a:solidFill>
                <a:latin typeface="Univers-Light"/>
              </a:rPr>
              <a:t>radial distance between the tip and root cir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Univers-Light"/>
              </a:rPr>
              <a:t>Nominal tooth depth = h/m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Univers-Light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696360" cy="2147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819520" y="17524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7339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3505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ot 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2590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p 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E57E-4040-4D44-86CF-AF19951A56F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03D11-A293-4BEC-9B78-262868BB0DCF}" type="datetime2">
              <a:rPr lang="en-US"/>
              <a:t>Thursday, July 30, 20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presentation of basic geometric information for gears 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RM EXPRESS-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943600" cy="55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5915-A9ED-469E-BFA8-A83B854A2EED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99904-0144-42A7-AE58-76F765BCF2A2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Other consid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nspection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urface trea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ccuracy / tole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Meshing inform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rofile &amp; / or helix mod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*Form of explicit geometry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59FF-9F4F-4BFF-A829-16EBC0D9000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7CE93-6470-43D0-A8D8-6B4DF2F00D37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Other Potential AP224 ed3 Enha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ferences to standard p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clude bought-out items in assembl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armonisation with AP2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ast base shape datum harmonis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omposite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Facilitate the use of composite base shap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8482-5B1A-4FDD-A86D-81E661A4355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12BB7-B1CB-492A-93DE-DF2EA24E6FB3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conomic Case for Inclusion of Ge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view of UK naval spares inven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dentification of gears and geared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reakdown into gear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nalysis of numbers of sp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nalysis of value of sp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Justification of suggested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8E93-D8CB-4529-880A-D8854AF433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E5F4C-DE37-4243-92BF-5A527092A350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view of UK Naval Spares Inven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dentification of gears &amp; geared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eview scoped over entire naval inven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echnical data in 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ommercial data in CR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upply classifications indicated good starting poi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NSC 3010 - “torque converters &amp; speed change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8D22-F8EF-451E-A8C8-A65A2EA0FE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43DB6-A579-475F-B0D5-659DFE8AA935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view of UK Naval Spares Inven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dentification of gears &amp; geared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Focused on single piece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ssemblies not consi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Hence, numbers and values are conserv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ide range of s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ood mixer to main driv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55A2-9F20-480F-A44C-25C4E5E305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52742-C0AA-450E-85CF-8CBF2EB0F353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view of UK Naval Spares Inven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Total number of units in store a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6,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Total value of stored units a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£4,000,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815B-D2B5-4682-AF18-3C5D277B61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1F9E6-3963-4449-86DE-63C826D7F8BB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view of UK Naval Spares Inven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Breakdown of gear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pur gears / gearshaf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Helical gears / gearshaf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evel gears / gearshaf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orm gears / gearshaf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Gear quadr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acks &amp; pin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1DC2-2D6D-4BFD-ABEB-5D603DA52A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69D157-0DB6-475D-9ECA-4B57AA8FB365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ores Held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vs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8600" y="1295280"/>
          <a:ext cx="86868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6868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D45F-2928-4250-8140-D1A4B17714F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F67F8-7E41-49E6-944B-0CD22B9A96F2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ores Held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vs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04920" y="1523880"/>
          <a:ext cx="8610480" cy="454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610480" cy="45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E37-CD67-408B-A150-7E66E62515F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A1A9F-373A-47D7-85B8-FB3E5FB66F79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C</cp:lastModifiedBy>
  <cp:lastPrinted>2001-06-08T13:21:08Z</cp:lastPrinted>
  <dcterms:modified xsi:type="dcterms:W3CDTF">2001-06-15T15:23:34Z</dcterms:modified>
  <cp:revision>33</cp:revision>
  <dc:subject/>
  <dc:title>PowerPoint Presentation</dc:title>
</cp:coreProperties>
</file>